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15.jpeg" ContentType="image/jpeg"/>
  <Override PartName="/ppt/media/image13.jpeg" ContentType="image/jpeg"/>
  <Override PartName="/ppt/media/image12.jpeg" ContentType="image/jpeg"/>
  <Override PartName="/ppt/media/image11.jpeg" ContentType="image/jpeg"/>
  <Override PartName="/ppt/media/chimes.wav" ContentType="audio/x-wav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projctor.wav" ContentType="audio/x-wav"/>
  <Override PartName="/ppt/media/image9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358-18A2-43AC-9313-CF3F0E0E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754-8297-4F80-9E9E-E7202C78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12F9D-32C8-420E-8B3B-3601772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DDEE3-E0C0-47ED-9F2A-ED58094F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B8899-A2A1-4A9D-B4BA-DAB5E43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F3099-8580-4D0D-94A0-503677C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A0B36-A029-4E80-9394-AD93AE8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8123-7EAF-48F1-967E-A204F02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21479-9074-46EC-9F57-3B77C35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38D55-3481-4DF2-9D8C-E3E29220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3594-1E00-4495-A7A6-16F5BEA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3D1-0D49-4B81-B612-55BB41AF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E15-6956-44F6-A34D-4DA86046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1BC3-EAD9-4989-BD7B-7536ABC3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D63C-C1CB-490D-B572-46BB9211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19CD-C382-49C9-85D7-30154F7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95C2-207C-4E20-9C42-E47C0C56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4F9E-4225-437E-99A8-9AFB8EC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E8CF-BDB3-441C-A5D4-F2EB93D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7C60-28D8-4788-B9BA-294DA0CE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F5D-6869-4B37-A15F-3B24A5CF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0303-5BD9-41AF-B82F-3940505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DE5A-B670-499E-894C-8E03E6D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7105-1B23-4461-A541-6552CC37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848-FD99-443D-91C2-D4FCBD4F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B43-F76E-4064-A94C-F04283A0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FC8C-BD5E-4BA2-A96A-BB883BF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06D5-C202-4AAF-A47C-D2CB0F85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9F4D-ED8A-41F1-B1DE-0B170D3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9362-AF69-45ED-8A95-BFE9501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6BF4-7758-474A-BFB9-13714E1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0FB-CA64-4579-8ADD-F22DDEEC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A05C-70BA-4D3B-8245-E1D08E9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C7AF-9382-426A-9029-C28D32E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F1D5-8548-48E3-89C5-E44CE5DF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6EE0-9A90-4430-83EC-1DCC434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B6A4-47D9-4EA1-A983-DEB162D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B6EB-44BA-4191-A8EF-06D08400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EA1D-A345-4CE1-A6D2-A069C657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D4B4-4949-4DED-843A-16C41762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F52E-914A-4811-A8E3-085B7F0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0F643-1622-429E-97AE-14B5DDB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066-D5B3-4C8E-811C-CFA6087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6C921-31F5-4FA6-8715-399078E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4E28-1F06-4D35-9091-38AC8C5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48F6-19C1-464C-841E-21ECC8C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3FB1E-DF19-49F8-B10C-ADD4E8BC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C0FA-3679-4BFC-8617-D5363F1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F99A-8A01-4C92-B29F-CE65544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DFA5-04DA-4537-BC5E-CEDD072A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4E06-1844-4F05-9CF0-42C3DA94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5916-A8E8-41EC-9FBB-EAE376B2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C7F4-4E7E-4E6D-B2AA-D6FE2060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F20-2903-4EAD-A03F-D1208E8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7B2A-E9A3-4330-9D58-ECA96683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91172-C5EE-446F-AFAA-16B60693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4B47-245F-427B-929E-4FF796A4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02B8-5856-4DA2-A9EC-AA6AF11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D3A2-1B5B-44D5-9010-E7F78C75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33EC-67AA-4D4C-92CE-C7509C0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E436-0F5B-42AD-B299-85B5C71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9642-BFF7-4282-98E0-5445F7F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0AD0-07E8-4EF8-86F6-1BC7D43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BE80-3A00-4718-9000-9CB54038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1DE-2B68-49EF-862A-F1687C1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573C-4A7B-462E-BC80-21A7528B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1368-2CC0-4BE3-B6E2-F980858B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4C034-C83C-4011-8E8C-4138DF1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38DFF-A8E8-4E6B-8FCA-336EB23B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78CE-FC81-4BC7-80B6-B149B62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9ED2-4995-4490-ADBB-369464C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D08F-2A24-48FC-BEAE-51CDB41A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5AF0-BF30-4E48-86E4-FB048EF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0E7B-D6D2-4064-8165-5BCB396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C8AF2-D9C7-4B93-BB9D-E7443093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A85-045F-4018-A403-F218CBC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ED96-7784-4938-9C3A-065252C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B074-1DA5-406D-B0ED-5B85125D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7954-FDCD-46B3-A2FF-FDBE3727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D22C-AD9F-41D7-B22C-5D5E404A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9982-73BB-42D2-B09A-2ECAC945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5505-A530-4A8E-BDB5-46655099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6108-02FF-4381-8A6E-D9C71C67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77C9-A7DA-4C28-9DE1-58DB5EC6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93F24-5607-499B-9CF9-0244EDA5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2983E-9D35-4B0C-A4A8-8CC779F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C49-1C9A-4493-8036-22B8D7B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CBE6-2A5D-4796-8664-A700278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B804-5CFF-4CDF-931A-C450E03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DD7E-115A-4B17-ABFA-A941A6AF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7809-AB0C-4345-AE9C-ADDA16FC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5F063-BD6A-47F2-84A9-D7C6FF7C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4992E-D307-4E1E-BD30-699DC735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5B501-5E63-4D5F-B1CA-3AB1C05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98461-2178-43B8-884E-903B820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BC9E-169A-4BA5-821E-4ED258F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31D9-F5DD-4708-83D2-640B8C5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8B8-7D55-4561-97B2-2D61760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A8A76-96D6-4F3A-9C3A-F6D5B2CA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BDD8-0AB2-443A-9950-457CDDB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310C-B96E-4111-A745-98D65E0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75F90-D632-4C7A-8298-8418073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D3722-8A47-42C9-8C67-AA1FF69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C001-F947-4358-8941-3B3600DF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4D9E6-7978-4095-9DAE-645A96A5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1C1CC-AE4A-467C-B095-6B485476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6A449-08ED-4B0D-B549-5792A07C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3998F-AC5B-4533-B873-69A65D3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1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D53F-062E-46F5-AB0D-3ACFB4F920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32F-248B-44BE-9BC6-4CB73CFA3A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83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A67-C49B-453D-A298-9156A56290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9915-93D3-43E6-A9D7-FF5D2010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D05-0BE5-4686-9A7C-89FA2BD8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89A9-CA34-4E59-9736-418EC786B4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293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328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3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3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363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B0D-4D04-47CD-9078-F51745ABEF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408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12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5854-CE74-4646-8107-7CA69C6D23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6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6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6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46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FBA-9B83-47D8-817A-3114DB814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826920" y="9079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人教新课标六年级品德与社会下册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4" name="WordArt 6"/>
          <p:cNvSpPr txBox="1"/>
          <p:nvPr/>
        </p:nvSpPr>
        <p:spPr>
          <a:xfrm>
            <a:off x="1123920" y="2892600"/>
            <a:ext cx="67881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7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战争风云下的苦难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矩形 5"/>
          <p:cNvSpPr/>
          <p:nvPr/>
        </p:nvSpPr>
        <p:spPr>
          <a:xfrm>
            <a:off x="1460520" y="17953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  <a:ea typeface="宋体"/>
              </a:rPr>
              <a:t>第三单元　同在一片蓝天下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6" name="文本框 6155"/>
          <p:cNvSpPr/>
          <p:nvPr/>
        </p:nvSpPr>
        <p:spPr>
          <a:xfrm>
            <a:off x="34920" y="5997600"/>
            <a:ext cx="50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3399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msotw9_temp0"/>
          <p:cNvPicPr/>
          <p:nvPr/>
        </p:nvPicPr>
        <p:blipFill>
          <a:blip r:embed="rId1"/>
          <a:stretch/>
        </p:blipFill>
        <p:spPr>
          <a:xfrm>
            <a:off x="304920" y="404640"/>
            <a:ext cx="863100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WordArt 2"/>
          <p:cNvSpPr txBox="1"/>
          <p:nvPr/>
        </p:nvSpPr>
        <p:spPr>
          <a:xfrm>
            <a:off x="611280" y="404640"/>
            <a:ext cx="7272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第二次世界大战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250920" y="3933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德国、意大利、日本发动了一场人类历史上空前最具规模的第二次世界大战，，最后以德、意、日三个法西斯国家的彻底失败告终而结束。 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8507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ahoma"/>
              </a:rPr>
              <a:t>人类历史上最黑暗的一页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ahoma"/>
              </a:rPr>
              <a:t>了解在二战中，法西斯的残暴行径。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</a:rPr>
              <a:t>二战中的三大惨案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奥斯维辛集中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南京大屠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日本广岛原子弹爆炸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0000"/>
                </a:solidFill>
                <a:latin typeface="Garamond"/>
              </a:rPr>
              <a:t>中国人民抵抗侵略的决心</a:t>
            </a:r>
            <a:endParaRPr b="0" lang="en-US" sz="5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人民向来是热爱和平的，我们反对战争，厌恶暴力。但是，当我们的国土被侵略，我们的同胞被屠杀时，每一个中国人都会拿起武器，坚决反抗法西斯的残暴侵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riben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605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0066"/>
                </a:solidFill>
                <a:latin typeface="Arial"/>
              </a:rPr>
              <a:t>二战的结束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4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，日本正式投降。第二次世界大战宣告结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0066"/>
                </a:solidFill>
                <a:latin typeface="Arial"/>
              </a:rPr>
              <a:t>二战的规模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50920" y="1773000"/>
            <a:ext cx="8642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场决定人类命运的生死大搏斗中，先后有六十多个国家和地区参战，波及二十亿人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占当时世界人口的百分之八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战火燃及欧、亚、非、大洋洲和太平洋、印度洋、大西洋、北冰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0066"/>
                </a:solidFill>
                <a:latin typeface="Arial"/>
              </a:rPr>
              <a:t>两次世界大战的对比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468360" y="1557360"/>
          <a:ext cx="8136000" cy="5060880"/>
        </p:xfrm>
        <a:graphic>
          <a:graphicData uri="http://schemas.openxmlformats.org/drawingml/2006/table">
            <a:tbl>
              <a:tblPr/>
              <a:tblGrid>
                <a:gridCol w="2271600"/>
                <a:gridCol w="2932200"/>
                <a:gridCol w="2932200"/>
              </a:tblGrid>
              <a:tr h="64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战中规模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战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战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战争历时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战国家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战争范围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平方千米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平方千米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卷入人口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战人员 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万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万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伤亡人员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万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万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济损失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万亿美元 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亿美元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1080" y="404280"/>
            <a:ext cx="710856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333399"/>
                </a:solidFill>
                <a:latin typeface="Tahoma"/>
              </a:rPr>
              <a:t>战争对于人类</a:t>
            </a:r>
            <a:endParaRPr b="0" lang="en-US" sz="6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战争只能给人类带来死亡、痛苦、贫穷、落后等一系列的恶果。不管是胜利的一方还是失败的一方，它们所付出的代价都是巨大的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img200703201305100991"/>
          <p:cNvPicPr/>
          <p:nvPr/>
        </p:nvPicPr>
        <p:blipFill>
          <a:blip r:embed="rId1"/>
          <a:stretch/>
        </p:blipFill>
        <p:spPr>
          <a:xfrm>
            <a:off x="826920" y="1052640"/>
            <a:ext cx="72741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U2398P28T3D2401870F329DT20090304155729"/>
          <p:cNvPicPr/>
          <p:nvPr/>
        </p:nvPicPr>
        <p:blipFill>
          <a:blip r:embed="rId1"/>
          <a:stretch/>
        </p:blipFill>
        <p:spPr>
          <a:xfrm>
            <a:off x="900000" y="765000"/>
            <a:ext cx="7201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4"/>
          <p:cNvSpPr/>
          <p:nvPr/>
        </p:nvSpPr>
        <p:spPr>
          <a:xfrm>
            <a:off x="324000" y="765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Times New Roman"/>
                <a:ea typeface="新宋体"/>
              </a:rPr>
              <a:t>不能忘记战争的苦难</a:t>
            </a:r>
            <a:endParaRPr b="1" lang="en-US" sz="6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79280" y="1989000"/>
            <a:ext cx="84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现代人类的文明史大约有七千多年，可是从从古至今，战争时有发生，那么战争对人类意味着什么呢？它给我们                             带来了些什么呢？</a:t>
            </a:r>
            <a:endParaRPr b="1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99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7E81-E2CD-426F-A34A-52861ACA0E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200861234544"/>
          <p:cNvPicPr/>
          <p:nvPr/>
        </p:nvPicPr>
        <p:blipFill>
          <a:blip r:embed="rId1"/>
          <a:stretch/>
        </p:blipFill>
        <p:spPr>
          <a:xfrm>
            <a:off x="1714680" y="285840"/>
            <a:ext cx="5619600" cy="60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第一次世界大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解一战的基本情况，并回答下列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战的起止时间是什么时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战争的规模有多大？造成的损失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msotw9_temp0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6916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33"/>
          <p:cNvGrpSpPr/>
          <p:nvPr/>
        </p:nvGrpSpPr>
        <p:grpSpPr>
          <a:xfrm>
            <a:off x="1447920" y="1828800"/>
            <a:ext cx="6095880" cy="2286000"/>
            <a:chOff x="1447920" y="1828800"/>
            <a:chExt cx="6095880" cy="2286000"/>
          </a:xfrm>
        </p:grpSpPr>
        <p:sp>
          <p:nvSpPr>
            <p:cNvPr id="523" name="Oval 6"/>
            <p:cNvSpPr/>
            <p:nvPr/>
          </p:nvSpPr>
          <p:spPr>
            <a:xfrm>
              <a:off x="2514600" y="3657600"/>
              <a:ext cx="685800" cy="457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24" name="Oval 7"/>
            <p:cNvSpPr/>
            <p:nvPr/>
          </p:nvSpPr>
          <p:spPr>
            <a:xfrm>
              <a:off x="1447920" y="1828800"/>
              <a:ext cx="685800" cy="457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25" name="Oval 10"/>
            <p:cNvSpPr/>
            <p:nvPr/>
          </p:nvSpPr>
          <p:spPr>
            <a:xfrm>
              <a:off x="6858000" y="2057400"/>
              <a:ext cx="685800" cy="4572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828800" y="2286000"/>
              <a:ext cx="762120" cy="1447920"/>
              <a:chOff x="1828800" y="2286000"/>
              <a:chExt cx="762120" cy="1447920"/>
            </a:xfrm>
          </p:grpSpPr>
          <p:sp>
            <p:nvSpPr>
              <p:cNvPr id="527" name="Line 18"/>
              <p:cNvSpPr/>
              <p:nvPr/>
            </p:nvSpPr>
            <p:spPr>
              <a:xfrm>
                <a:off x="1828800" y="2286000"/>
                <a:ext cx="76212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1828800" y="2286000"/>
                <a:ext cx="76212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200400" y="2514600"/>
              <a:ext cx="4114800" cy="1295280"/>
              <a:chOff x="3200400" y="2514600"/>
              <a:chExt cx="4114800" cy="1295280"/>
            </a:xfrm>
          </p:grpSpPr>
          <p:sp>
            <p:nvSpPr>
              <p:cNvPr id="530" name="Line 19"/>
              <p:cNvSpPr/>
              <p:nvPr/>
            </p:nvSpPr>
            <p:spPr>
              <a:xfrm flipV="1">
                <a:off x="3200400" y="2514600"/>
                <a:ext cx="4114800" cy="1295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 rot="10800000">
                <a:off x="3200400" y="2514240"/>
                <a:ext cx="41148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133360" y="2057400"/>
              <a:ext cx="4877280" cy="360"/>
              <a:chOff x="2133360" y="2057400"/>
              <a:chExt cx="4877280" cy="360"/>
            </a:xfrm>
          </p:grpSpPr>
          <p:sp>
            <p:nvSpPr>
              <p:cNvPr id="533" name="Line 23"/>
              <p:cNvSpPr/>
              <p:nvPr/>
            </p:nvSpPr>
            <p:spPr>
              <a:xfrm flipH="1">
                <a:off x="2133360" y="2057400"/>
                <a:ext cx="48769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2133720" y="2057400"/>
                <a:ext cx="487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5" name="Group 38"/>
          <p:cNvGrpSpPr/>
          <p:nvPr/>
        </p:nvGrpSpPr>
        <p:grpSpPr>
          <a:xfrm>
            <a:off x="4317840" y="3276720"/>
            <a:ext cx="1549440" cy="520560"/>
            <a:chOff x="4317840" y="3276720"/>
            <a:chExt cx="1549440" cy="520560"/>
          </a:xfrm>
        </p:grpSpPr>
        <p:sp>
          <p:nvSpPr>
            <p:cNvPr id="536" name="Text Box 25"/>
            <p:cNvSpPr/>
            <p:nvPr/>
          </p:nvSpPr>
          <p:spPr>
            <a:xfrm>
              <a:off x="4317840" y="3276720"/>
              <a:ext cx="15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99"/>
                  </a:solidFill>
                  <a:latin typeface="隶书"/>
                  <a:ea typeface="隶书"/>
                </a:rPr>
                <a:t>1882</a:t>
              </a:r>
              <a:r>
                <a:rPr b="1" i="1" lang="zh-CN" sz="2800" spc="-1" strike="noStrike">
                  <a:solidFill>
                    <a:srgbClr val="003399"/>
                  </a:solidFill>
                  <a:latin typeface="隶书"/>
                  <a:ea typeface="隶书"/>
                </a:rPr>
                <a:t>年</a:t>
              </a:r>
              <a:endParaRPr b="1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4495680" y="3733920"/>
              <a:ext cx="1081080" cy="1440"/>
              <a:chOff x="4495680" y="3733920"/>
              <a:chExt cx="1081080" cy="1440"/>
            </a:xfrm>
          </p:grpSpPr>
          <p:sp>
            <p:nvSpPr>
              <p:cNvPr id="538" name="Line 27"/>
              <p:cNvSpPr/>
              <p:nvPr/>
            </p:nvSpPr>
            <p:spPr>
              <a:xfrm>
                <a:off x="4495680" y="3733920"/>
                <a:ext cx="1081080" cy="144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4495680" y="3733920"/>
                <a:ext cx="1081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Group 30"/>
          <p:cNvGrpSpPr/>
          <p:nvPr/>
        </p:nvGrpSpPr>
        <p:grpSpPr>
          <a:xfrm>
            <a:off x="2475360" y="2995560"/>
            <a:ext cx="1333080" cy="520560"/>
            <a:chOff x="2475360" y="2995560"/>
            <a:chExt cx="1333080" cy="520560"/>
          </a:xfrm>
        </p:grpSpPr>
        <p:sp>
          <p:nvSpPr>
            <p:cNvPr id="541" name="Text Box 26"/>
            <p:cNvSpPr/>
            <p:nvPr/>
          </p:nvSpPr>
          <p:spPr>
            <a:xfrm>
              <a:off x="2475360" y="299556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1907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年</a:t>
              </a:r>
              <a:endParaRPr b="1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2590920" y="3505320"/>
              <a:ext cx="1066680" cy="360"/>
              <a:chOff x="2590920" y="3505320"/>
              <a:chExt cx="1066680" cy="360"/>
            </a:xfrm>
          </p:grpSpPr>
          <p:sp>
            <p:nvSpPr>
              <p:cNvPr id="543" name="Line 28"/>
              <p:cNvSpPr/>
              <p:nvPr/>
            </p:nvSpPr>
            <p:spPr>
              <a:xfrm>
                <a:off x="2590920" y="3505320"/>
                <a:ext cx="1066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 txBox="1"/>
              <p:nvPr/>
            </p:nvSpPr>
            <p:spPr>
              <a:xfrm>
                <a:off x="2590920" y="35053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Group 37"/>
          <p:cNvGrpSpPr/>
          <p:nvPr/>
        </p:nvGrpSpPr>
        <p:grpSpPr>
          <a:xfrm>
            <a:off x="4114800" y="2590920"/>
            <a:ext cx="1828800" cy="2057400"/>
            <a:chOff x="4114800" y="2590920"/>
            <a:chExt cx="1828800" cy="2057400"/>
          </a:xfrm>
        </p:grpSpPr>
        <p:grpSp>
          <p:nvGrpSpPr>
            <p:cNvPr id="546" name="Group 36"/>
            <p:cNvGrpSpPr/>
            <p:nvPr/>
          </p:nvGrpSpPr>
          <p:grpSpPr>
            <a:xfrm>
              <a:off x="4114800" y="2590920"/>
              <a:ext cx="1828800" cy="2057400"/>
              <a:chOff x="4114800" y="2590920"/>
              <a:chExt cx="1828800" cy="2057400"/>
            </a:xfrm>
          </p:grpSpPr>
          <p:sp>
            <p:nvSpPr>
              <p:cNvPr id="547" name="Oval 8"/>
              <p:cNvSpPr/>
              <p:nvPr/>
            </p:nvSpPr>
            <p:spPr>
              <a:xfrm>
                <a:off x="4114800" y="4191120"/>
                <a:ext cx="685800" cy="457200"/>
              </a:xfrm>
              <a:prstGeom prst="ellipse">
                <a:avLst/>
              </a:prstGeom>
              <a:noFill/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8" name="Oval 9"/>
              <p:cNvSpPr/>
              <p:nvPr/>
            </p:nvSpPr>
            <p:spPr>
              <a:xfrm>
                <a:off x="5257800" y="3733920"/>
                <a:ext cx="685800" cy="457200"/>
              </a:xfrm>
              <a:prstGeom prst="ellipse">
                <a:avLst/>
              </a:prstGeom>
              <a:noFill/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9" name="Oval 11"/>
              <p:cNvSpPr/>
              <p:nvPr/>
            </p:nvSpPr>
            <p:spPr>
              <a:xfrm>
                <a:off x="4114800" y="2590920"/>
                <a:ext cx="685800" cy="457200"/>
              </a:xfrm>
              <a:prstGeom prst="ellipse">
                <a:avLst/>
              </a:prstGeom>
              <a:noFill/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4800600" y="2895480"/>
                <a:ext cx="838080" cy="838440"/>
                <a:chOff x="4800600" y="2895480"/>
                <a:chExt cx="838080" cy="838440"/>
              </a:xfrm>
            </p:grpSpPr>
            <p:sp>
              <p:nvSpPr>
                <p:cNvPr id="551" name="Line 15"/>
                <p:cNvSpPr/>
                <p:nvPr/>
              </p:nvSpPr>
              <p:spPr>
                <a:xfrm>
                  <a:off x="4800600" y="2895480"/>
                  <a:ext cx="838080" cy="83844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 txBox="1"/>
                <p:nvPr/>
              </p:nvSpPr>
              <p:spPr>
                <a:xfrm>
                  <a:off x="4800600" y="2895480"/>
                  <a:ext cx="83808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4419360" y="3048120"/>
                <a:ext cx="360" cy="1218960"/>
                <a:chOff x="4419360" y="3048120"/>
                <a:chExt cx="360" cy="1218960"/>
              </a:xfrm>
            </p:grpSpPr>
            <p:sp>
              <p:nvSpPr>
                <p:cNvPr id="554" name="Line 16"/>
                <p:cNvSpPr/>
                <p:nvPr/>
              </p:nvSpPr>
              <p:spPr>
                <a:xfrm>
                  <a:off x="4419360" y="3048120"/>
                  <a:ext cx="0" cy="1218960"/>
                </a:xfrm>
                <a:prstGeom prst="line">
                  <a:avLst/>
                </a:prstGeom>
                <a:ln w="57240">
                  <a:solidFill>
                    <a:srgbClr val="00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4419360" y="3048120"/>
                  <a:ext cx="36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6" name=""/>
            <p:cNvGrpSpPr/>
            <p:nvPr/>
          </p:nvGrpSpPr>
          <p:grpSpPr>
            <a:xfrm>
              <a:off x="4800600" y="4038120"/>
              <a:ext cx="457200" cy="304920"/>
              <a:chOff x="4800600" y="4038120"/>
              <a:chExt cx="457200" cy="304920"/>
            </a:xfrm>
          </p:grpSpPr>
          <p:sp>
            <p:nvSpPr>
              <p:cNvPr id="557" name="Line 17"/>
              <p:cNvSpPr/>
              <p:nvPr/>
            </p:nvSpPr>
            <p:spPr>
              <a:xfrm flipV="1">
                <a:off x="4800600" y="4038120"/>
                <a:ext cx="457200" cy="304920"/>
              </a:xfrm>
              <a:prstGeom prst="line">
                <a:avLst/>
              </a:prstGeom>
              <a:ln w="5724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 txBox="1"/>
              <p:nvPr/>
            </p:nvSpPr>
            <p:spPr>
              <a:xfrm rot="10800000">
                <a:off x="4800600" y="4038120"/>
                <a:ext cx="457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59" name="Picture 31" descr="msotw9_temp0"/>
          <p:cNvPicPr/>
          <p:nvPr/>
        </p:nvPicPr>
        <p:blipFill>
          <a:blip r:embed="rId2"/>
          <a:stretch/>
        </p:blipFill>
        <p:spPr>
          <a:xfrm>
            <a:off x="324000" y="1341360"/>
            <a:ext cx="8381880" cy="48006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28600" y="1523880"/>
          <a:ext cx="8686800" cy="4427640"/>
        </p:xfrm>
        <a:graphic>
          <a:graphicData uri="http://schemas.openxmlformats.org/drawingml/2006/table">
            <a:tbl>
              <a:tblPr/>
              <a:tblGrid>
                <a:gridCol w="1974960"/>
                <a:gridCol w="67118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战争历时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年零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多月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4/7/28——1918/11/1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参战国家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（协约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，同盟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）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战争范围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国家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平方千米以上土地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卷入人口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超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亿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参战人员 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万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伤亡人员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万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经济损失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亿美元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Text Box 36"/>
          <p:cNvSpPr/>
          <p:nvPr/>
        </p:nvSpPr>
        <p:spPr>
          <a:xfrm>
            <a:off x="4035600" y="54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Times New Roman"/>
                <a:ea typeface="宋体"/>
              </a:rPr>
              <a:t>第一次世界大战概况表</a:t>
            </a:r>
            <a:endParaRPr b="1" lang="en-US" sz="4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i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一战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</a:t>
            </a:r>
            <a:r>
              <a:rPr b="1" i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生灵涂炭的战争，它虽离我们已经远去，但它留给世人的思考却刻骨铭心！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563" name="Picture 3" descr="图像-04"/>
          <p:cNvPicPr/>
          <p:nvPr/>
        </p:nvPicPr>
        <p:blipFill>
          <a:blip r:embed="rId1"/>
          <a:stretch/>
        </p:blipFill>
        <p:spPr>
          <a:xfrm>
            <a:off x="4724280" y="17524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图像-01"/>
          <p:cNvPicPr/>
          <p:nvPr/>
        </p:nvPicPr>
        <p:blipFill>
          <a:blip r:embed="rId2"/>
          <a:stretch/>
        </p:blipFill>
        <p:spPr>
          <a:xfrm>
            <a:off x="0" y="1752480"/>
            <a:ext cx="4724280" cy="51055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0" y="6035760"/>
            <a:ext cx="4587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英国士兵遭到德军化学武器袭击致盲，正互相扶着去接受疗</a:t>
            </a:r>
            <a:endParaRPr b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5425560" y="6338880"/>
            <a:ext cx="2968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战”后战场上留下的尸骨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0" y="1981080"/>
            <a:ext cx="9144000" cy="360"/>
            <a:chOff x="0" y="1981080"/>
            <a:chExt cx="9144000" cy="360"/>
          </a:xfrm>
        </p:grpSpPr>
        <p:sp>
          <p:nvSpPr>
            <p:cNvPr id="568" name="Line 7"/>
            <p:cNvSpPr/>
            <p:nvPr/>
          </p:nvSpPr>
          <p:spPr>
            <a:xfrm>
              <a:off x="0" y="198108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0" y="1981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724280" y="2057400"/>
            <a:ext cx="360" cy="4800600"/>
            <a:chOff x="4724280" y="2057400"/>
            <a:chExt cx="360" cy="4800600"/>
          </a:xfrm>
        </p:grpSpPr>
        <p:sp>
          <p:nvSpPr>
            <p:cNvPr id="571" name="Line 8"/>
            <p:cNvSpPr/>
            <p:nvPr/>
          </p:nvSpPr>
          <p:spPr>
            <a:xfrm>
              <a:off x="4724280" y="2057400"/>
              <a:ext cx="0" cy="4800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4724280" y="2057400"/>
              <a:ext cx="360" cy="480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msotw9_temp0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msotw9_temp0"/>
          <p:cNvPicPr/>
          <p:nvPr/>
        </p:nvPicPr>
        <p:blipFill>
          <a:blip r:embed="rId1"/>
          <a:stretch/>
        </p:blipFill>
        <p:spPr>
          <a:xfrm>
            <a:off x="380880" y="966960"/>
            <a:ext cx="8382240" cy="4924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msotw9_temp0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msotw9_temp0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577" name="文本框 8199"/>
          <p:cNvSpPr/>
          <p:nvPr/>
        </p:nvSpPr>
        <p:spPr>
          <a:xfrm>
            <a:off x="3076560" y="1119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1:01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9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