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36C-CC01-46F0-A855-BB297DD5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EB0-5308-4B50-ABE8-512C9F3D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B48-3D61-4AD1-B76D-DCE2604E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497-EC7E-4BF6-B5A6-9FE783D4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C86-8CD8-4733-8D51-466F1CE1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FB47-F143-46FF-8095-A413226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7B06-49E3-4A43-BEFC-229306B2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C820-72FC-49A3-BCFA-D845393D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7C3F-1319-47E5-A782-C639A2B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E4A-948F-432D-8CEE-316C525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C15-A11F-47B5-98CA-9912DC2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CD4-6624-493B-A11F-954FE9F2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D763-C5DC-49F9-8889-9CA27FF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17F5-8B6F-4FAD-AB53-A03AE7C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1646-82DF-44DB-8D6E-87414B5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DB7-E011-4564-90DD-DBB560DB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55BC-3B0D-4990-BF69-79E4C763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F5B5-91F2-400C-84ED-CB05372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5F98-E1FA-4260-8CA2-C1D4472B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AB27-9EB4-45B3-A143-C39EF0DA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2692-E029-476F-9D23-BC5F703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C64F-919A-4739-AF07-7B3FB91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2B5-A55F-4F56-B6AE-6711312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8E54-C5FE-4BDC-8136-0D006230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E283-200F-4A91-90BA-F94347D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75CD-AD1F-4C3D-ACCD-529E4A96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3B9B-0A7D-47DA-B1F2-B6993C0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E299-C290-4B34-8F26-8BAE1E95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1A1C-943F-4A7E-AB15-CBC269EB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7BBD-A0FE-4EE1-90DF-B31DE1E6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2639-CDBE-4114-843D-07CE4612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A00D-E428-4BCB-B078-45C86EBF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3BF6-0560-486D-B0BA-39F03B6D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6A2-1EB4-4594-B856-E012A47F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63E1-E616-4867-9F6F-737672FB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4CDE-2496-45A6-A028-660B9A8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C3D0-6ED8-41CB-83A6-3D1D845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BF61-68FE-45EE-A65D-4B10522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75EB-7AF2-491D-BC82-5241032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47C4-DC24-4C76-BD04-C7D5DD2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8A3F-A6A3-4665-8E69-BB7A2FC1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77F2-5DBA-4F4F-97C9-0F546FF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F398-C380-4292-A8E6-09CE422D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8EB3-F2D5-4068-A7F6-829F9ACF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F3B-DAFD-46ED-BD7C-015B17A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97CC-7F3E-428E-B1F2-B3A301B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1FF7-2C83-4073-81AC-E276FABD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9456-11BA-442F-9D3E-C56886F4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E7450-BE5F-4C21-808F-EE6E456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C340-A8F3-48EB-B994-7E38306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B731-09D9-4BAE-BAE5-7A141D2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55B0-57B9-4410-8178-11DFA39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D96D-B5FD-4565-B05B-AE5D86A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A5B3-C76D-43F7-B57E-53DCFF2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919D-9E7C-4EBC-9B9B-94AAABF6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069-A2F4-411B-BBE0-2E88FBD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E7571-D20E-45FD-BE44-C5157C39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A5A-F46D-46DD-BDA2-D5B0994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875-F091-4354-9809-024B1F0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647-CA2D-48FA-8F1D-91696C7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P_AB-1013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FE10-AC05-4941-8AB9-4B0B3B61D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S_AB-1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34F5-940F-404A-939B-0DFD3EBFD9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F65-5B35-4EC5-AA06-D871B94C6D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97C-8FBC-4B09-9081-0977B6DC70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LT_AB-1013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DBE-9F08-439A-8343-AA99719151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826920" y="2476440"/>
            <a:ext cx="75614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660066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尊重他人是我的需要</a:t>
            </a:r>
            <a:r>
              <a:rPr b="1" lang="en-US" sz="4000" spc="1" strike="noStrike">
                <a:ln w="9360">
                  <a:solidFill>
                    <a:srgbClr val="660066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660066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9360">
                <a:solidFill>
                  <a:srgbClr val="660066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328284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年级下册思想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900000" y="189000"/>
            <a:ext cx="6624720" cy="6408720"/>
            <a:chOff x="900000" y="189000"/>
            <a:chExt cx="6624720" cy="6408720"/>
          </a:xfrm>
        </p:grpSpPr>
        <p:sp>
          <p:nvSpPr>
            <p:cNvPr id="257" name="Oval 3"/>
            <p:cNvSpPr/>
            <p:nvPr/>
          </p:nvSpPr>
          <p:spPr>
            <a:xfrm>
              <a:off x="3635280" y="2853000"/>
              <a:ext cx="1368360" cy="1368360"/>
            </a:xfrm>
            <a:prstGeom prst="ellipse">
              <a:avLst/>
            </a:prstGeom>
            <a:solidFill>
              <a:srgbClr val="fa2ece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WordArt 4"/>
            <p:cNvSpPr txBox="1"/>
            <p:nvPr/>
          </p:nvSpPr>
          <p:spPr>
            <a:xfrm>
              <a:off x="3924360" y="3090960"/>
              <a:ext cx="792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solidFill>
                    <a:srgbClr val="affca2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我</a:t>
              </a:r>
              <a:endParaRPr b="0" lang="en-US" sz="1800" spc="-1" strike="noStrike">
                <a:ln w="0">
                  <a:noFill/>
                </a:ln>
                <a:solidFill>
                  <a:srgbClr val="affca2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3348000" y="189000"/>
              <a:ext cx="1368360" cy="1368360"/>
            </a:xfrm>
            <a:prstGeom prst="ellipse">
              <a:avLst/>
            </a:prstGeom>
            <a:solidFill>
              <a:srgbClr val="f7fea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6156360" y="1844640"/>
              <a:ext cx="1368360" cy="13687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5651280" y="4797360"/>
              <a:ext cx="1368360" cy="1368720"/>
            </a:xfrm>
            <a:prstGeom prst="ellipse">
              <a:avLst/>
            </a:prstGeom>
            <a:solidFill>
              <a:srgbClr val="affca2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2411280" y="5229360"/>
              <a:ext cx="1368360" cy="1368360"/>
            </a:xfrm>
            <a:prstGeom prst="ellipse">
              <a:avLst/>
            </a:prstGeom>
            <a:solidFill>
              <a:srgbClr val="fdb5a1"/>
            </a:solidFill>
            <a:ln w="9360">
              <a:solidFill>
                <a:srgbClr val="f7fe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900000" y="2708280"/>
              <a:ext cx="1368360" cy="136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140000" y="1557360"/>
              <a:ext cx="144720" cy="1295640"/>
              <a:chOff x="4140000" y="1557360"/>
              <a:chExt cx="144720" cy="1295640"/>
            </a:xfrm>
          </p:grpSpPr>
          <p:sp>
            <p:nvSpPr>
              <p:cNvPr id="265" name="Line 10"/>
              <p:cNvSpPr/>
              <p:nvPr/>
            </p:nvSpPr>
            <p:spPr>
              <a:xfrm>
                <a:off x="4140000" y="1557360"/>
                <a:ext cx="144720" cy="129564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4140000" y="1557360"/>
                <a:ext cx="144720" cy="12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003640" y="2853000"/>
              <a:ext cx="1222560" cy="504720"/>
              <a:chOff x="5003640" y="2853000"/>
              <a:chExt cx="1222560" cy="504720"/>
            </a:xfrm>
          </p:grpSpPr>
          <p:sp>
            <p:nvSpPr>
              <p:cNvPr id="268" name="Line 11"/>
              <p:cNvSpPr/>
              <p:nvPr/>
            </p:nvSpPr>
            <p:spPr>
              <a:xfrm flipH="1">
                <a:off x="5003640" y="2853000"/>
                <a:ext cx="1222560" cy="50472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5003640" y="2853000"/>
                <a:ext cx="12225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716000" y="4076280"/>
              <a:ext cx="1079640" cy="1008360"/>
              <a:chOff x="4716000" y="4076280"/>
              <a:chExt cx="1079640" cy="1008360"/>
            </a:xfrm>
          </p:grpSpPr>
          <p:sp>
            <p:nvSpPr>
              <p:cNvPr id="271" name="Line 12"/>
              <p:cNvSpPr/>
              <p:nvPr/>
            </p:nvSpPr>
            <p:spPr>
              <a:xfrm flipH="1" flipV="1">
                <a:off x="4716000" y="4076280"/>
                <a:ext cx="1079640" cy="100836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4716000" y="4076280"/>
                <a:ext cx="1079640" cy="10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268360" y="3500640"/>
              <a:ext cx="1366920" cy="73080"/>
              <a:chOff x="2268360" y="3500640"/>
              <a:chExt cx="1366920" cy="73080"/>
            </a:xfrm>
          </p:grpSpPr>
          <p:sp>
            <p:nvSpPr>
              <p:cNvPr id="274" name="Line 13"/>
              <p:cNvSpPr/>
              <p:nvPr/>
            </p:nvSpPr>
            <p:spPr>
              <a:xfrm>
                <a:off x="2268360" y="3500640"/>
                <a:ext cx="1366920" cy="7308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2268360" y="3500640"/>
                <a:ext cx="136692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76360" y="4149360"/>
              <a:ext cx="719280" cy="1079640"/>
              <a:chOff x="3276360" y="4149360"/>
              <a:chExt cx="719280" cy="1079640"/>
            </a:xfrm>
          </p:grpSpPr>
          <p:sp>
            <p:nvSpPr>
              <p:cNvPr id="277" name="Line 14"/>
              <p:cNvSpPr/>
              <p:nvPr/>
            </p:nvSpPr>
            <p:spPr>
              <a:xfrm flipV="1">
                <a:off x="3276360" y="4149360"/>
                <a:ext cx="719280" cy="107964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3276360" y="4149360"/>
                <a:ext cx="71928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WordArt 15"/>
            <p:cNvSpPr txBox="1"/>
            <p:nvPr/>
          </p:nvSpPr>
          <p:spPr>
            <a:xfrm>
              <a:off x="3492360" y="405000"/>
              <a:ext cx="10796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6600ff"/>
                    </a:solidFill>
                    <a:round/>
                  </a:ln>
                  <a:solidFill>
                    <a:srgbClr val="6600ff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父母</a:t>
              </a:r>
              <a:endParaRPr b="0" lang="en-US" sz="1800" spc="1" strike="noStrike">
                <a:ln w="9360">
                  <a:solidFill>
                    <a:srgbClr val="6600ff"/>
                  </a:solidFill>
                  <a:round/>
                </a:ln>
                <a:solidFill>
                  <a:srgbClr val="6600ff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0" name="WordArt 16"/>
            <p:cNvSpPr txBox="1"/>
            <p:nvPr/>
          </p:nvSpPr>
          <p:spPr>
            <a:xfrm>
              <a:off x="6300720" y="2060640"/>
              <a:ext cx="100800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affca2"/>
                    </a:solidFill>
                    <a:round/>
                  </a:ln>
                  <a:solidFill>
                    <a:srgbClr val="affca2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老师</a:t>
              </a:r>
              <a:endParaRPr b="0" lang="en-US" sz="1800" spc="1" strike="noStrike">
                <a:ln w="9360">
                  <a:solidFill>
                    <a:srgbClr val="affca2"/>
                  </a:solidFill>
                  <a:round/>
                </a:ln>
                <a:solidFill>
                  <a:srgbClr val="affca2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5817960" y="5059440"/>
              <a:ext cx="105912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a2ece"/>
                    </a:solidFill>
                    <a:round/>
                  </a:ln>
                  <a:solidFill>
                    <a:srgbClr val="fa2ece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朋友</a:t>
              </a:r>
              <a:endParaRPr b="0" lang="en-US" sz="1800" spc="1" strike="noStrike">
                <a:ln w="9360">
                  <a:solidFill>
                    <a:srgbClr val="fa2ece"/>
                  </a:solidFill>
                  <a:round/>
                </a:ln>
                <a:solidFill>
                  <a:srgbClr val="fa2ece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2" name="WordArt 18"/>
            <p:cNvSpPr txBox="1"/>
            <p:nvPr/>
          </p:nvSpPr>
          <p:spPr>
            <a:xfrm>
              <a:off x="1065240" y="2997360"/>
              <a:ext cx="1130040" cy="74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7fea0"/>
                    </a:solidFill>
                    <a:round/>
                  </a:ln>
                  <a:solidFill>
                    <a:srgbClr val="f7fea0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同学</a:t>
              </a:r>
              <a:endParaRPr b="0" lang="en-US" sz="1800" spc="1" strike="noStrike">
                <a:ln w="9360">
                  <a:solidFill>
                    <a:srgbClr val="f7fea0"/>
                  </a:solidFill>
                  <a:round/>
                </a:ln>
                <a:solidFill>
                  <a:srgbClr val="f7fea0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3" name="WordArt 19"/>
            <p:cNvSpPr txBox="1"/>
            <p:nvPr/>
          </p:nvSpPr>
          <p:spPr>
            <a:xfrm>
              <a:off x="2557440" y="5445360"/>
              <a:ext cx="11509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9999"/>
                    </a:solidFill>
                    <a:round/>
                  </a:ln>
                  <a:solidFill>
                    <a:srgbClr val="009999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其他人</a:t>
              </a:r>
              <a:endParaRPr b="0" lang="en-US" sz="1800" spc="1" strike="noStrike">
                <a:ln w="9360">
                  <a:solidFill>
                    <a:srgbClr val="009999"/>
                  </a:solidFill>
                  <a:round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24360" y="1557000"/>
              <a:ext cx="142560" cy="1366920"/>
              <a:chOff x="3924360" y="1557000"/>
              <a:chExt cx="142560" cy="1366920"/>
            </a:xfrm>
          </p:grpSpPr>
          <p:sp>
            <p:nvSpPr>
              <p:cNvPr id="285" name="Line 20"/>
              <p:cNvSpPr/>
              <p:nvPr/>
            </p:nvSpPr>
            <p:spPr>
              <a:xfrm flipH="1" flipV="1">
                <a:off x="3924360" y="1557000"/>
                <a:ext cx="142560" cy="136692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 rot="10800000">
                <a:off x="3924360" y="1557000"/>
                <a:ext cx="142560" cy="136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858920" y="2637000"/>
              <a:ext cx="1297440" cy="504720"/>
              <a:chOff x="4858920" y="2637000"/>
              <a:chExt cx="1297440" cy="504720"/>
            </a:xfrm>
          </p:grpSpPr>
          <p:sp>
            <p:nvSpPr>
              <p:cNvPr id="288" name="Line 21"/>
              <p:cNvSpPr/>
              <p:nvPr/>
            </p:nvSpPr>
            <p:spPr>
              <a:xfrm flipV="1">
                <a:off x="4859280" y="2637000"/>
                <a:ext cx="1297080" cy="50472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 rot="10800000">
                <a:off x="4858920" y="2637000"/>
                <a:ext cx="129708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859280" y="3934080"/>
              <a:ext cx="1079280" cy="1008000"/>
              <a:chOff x="4859280" y="3934080"/>
              <a:chExt cx="1079280" cy="1008000"/>
            </a:xfrm>
          </p:grpSpPr>
          <p:sp>
            <p:nvSpPr>
              <p:cNvPr id="291" name="Line 22"/>
              <p:cNvSpPr/>
              <p:nvPr/>
            </p:nvSpPr>
            <p:spPr>
              <a:xfrm>
                <a:off x="4859280" y="3934080"/>
                <a:ext cx="1079280" cy="100800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4859280" y="3934080"/>
                <a:ext cx="107928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194920" y="3715920"/>
              <a:ext cx="1513080" cy="73080"/>
              <a:chOff x="2194920" y="3715920"/>
              <a:chExt cx="1513080" cy="73080"/>
            </a:xfrm>
          </p:grpSpPr>
          <p:sp>
            <p:nvSpPr>
              <p:cNvPr id="294" name="Line 23"/>
              <p:cNvSpPr/>
              <p:nvPr/>
            </p:nvSpPr>
            <p:spPr>
              <a:xfrm flipH="1" flipV="1">
                <a:off x="2194920" y="3715920"/>
                <a:ext cx="1513080" cy="7308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0800000">
                <a:off x="2194920" y="3715920"/>
                <a:ext cx="151308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492360" y="4221360"/>
              <a:ext cx="719280" cy="1152360"/>
              <a:chOff x="3492360" y="4221360"/>
              <a:chExt cx="719280" cy="1152360"/>
            </a:xfrm>
          </p:grpSpPr>
          <p:sp>
            <p:nvSpPr>
              <p:cNvPr id="297" name="Line 24"/>
              <p:cNvSpPr/>
              <p:nvPr/>
            </p:nvSpPr>
            <p:spPr>
              <a:xfrm flipH="1">
                <a:off x="3492360" y="4221360"/>
                <a:ext cx="719280" cy="115236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3492360" y="4221360"/>
                <a:ext cx="71928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9" name="Picture 25" descr="12O1JH4520-2E9559"/>
          <p:cNvPicPr/>
          <p:nvPr/>
        </p:nvPicPr>
        <p:blipFill>
          <a:blip r:embed="rId1"/>
          <a:stretch/>
        </p:blipFill>
        <p:spPr>
          <a:xfrm>
            <a:off x="795672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75564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典故事：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天一个女主管带着她的孩子进入公司内部的高级花园散步（只有公司高级管理层才能进的）。在一个地方她们玩起了扔纸看谁扔得远的游戏。那位女主管扔了团，远处的一个老年人就捡一团，扔一团就捡一团。后来扔了许多，老年人捡不过来了，这时那位女主管对她的孩子说：孩子，要是你现在不好好读书以后你就会像那位老年人一样，捡垃圾。这时那位老年人走过来对那位女主管说。麻烦把你的工作证拿过来看下。看完之后，老年人说：能否把你的手机我借用下。这时女主管又说：孩子，你现在要是不好好读书的话，以后你会像这位老年人一样，连手机都买不起，而且还不会使用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这时老年人打了一个电话后把电话还给了这位做妈妈的女主管。等了一会，公司经理过来了，过来之后直接对那位做妈妈的女主管说：你现在不用上班了，你被辞退了。那女的说：为什么？那个男的说：因为这位老年人就是公司的总裁。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  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临走时那位老年人对孩子说：孩子以后无论是见着谁，以后你都要记住要学会尊重别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938760" y="5392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议一议：听了这个故事，你有何感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4"/>
          <p:cNvSpPr txBox="1"/>
          <p:nvPr/>
        </p:nvSpPr>
        <p:spPr>
          <a:xfrm rot="20749800">
            <a:off x="1692360" y="2420640"/>
            <a:ext cx="5715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340000"/>
                </a:gradFill>
                <a:latin typeface="宋体"/>
              </a:rPr>
              <a:t>尊重他人，也就是尊重自己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34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出言不逊"/>
          <p:cNvPicPr/>
          <p:nvPr/>
        </p:nvPicPr>
        <p:blipFill>
          <a:blip r:embed="rId1"/>
          <a:stretch/>
        </p:blipFill>
        <p:spPr>
          <a:xfrm>
            <a:off x="468360" y="907920"/>
            <a:ext cx="3672000" cy="2687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大胖子来了"/>
          <p:cNvPicPr/>
          <p:nvPr/>
        </p:nvPicPr>
        <p:blipFill>
          <a:blip r:embed="rId2"/>
          <a:stretch/>
        </p:blipFill>
        <p:spPr>
          <a:xfrm>
            <a:off x="539640" y="3716280"/>
            <a:ext cx="3816360" cy="2782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难闻的气味"/>
          <p:cNvPicPr/>
          <p:nvPr/>
        </p:nvPicPr>
        <p:blipFill>
          <a:blip r:embed="rId3"/>
          <a:stretch/>
        </p:blipFill>
        <p:spPr>
          <a:xfrm>
            <a:off x="5148360" y="3860640"/>
            <a:ext cx="3760560" cy="2808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1904400" y="2602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遇到以下情况，谈谈你的感受是怎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新图像"/>
          <p:cNvPicPr/>
          <p:nvPr/>
        </p:nvPicPr>
        <p:blipFill>
          <a:blip r:embed="rId4"/>
          <a:stretch/>
        </p:blipFill>
        <p:spPr>
          <a:xfrm>
            <a:off x="5148360" y="836640"/>
            <a:ext cx="30956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900000" y="1844640"/>
            <a:ext cx="72010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3"/>
          <p:cNvSpPr txBox="1"/>
          <p:nvPr/>
        </p:nvSpPr>
        <p:spPr>
          <a:xfrm rot="1231200">
            <a:off x="7092720" y="764640"/>
            <a:ext cx="151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26920" y="1557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可曾想过，你也有可能成为别人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要他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961280" y="3016080"/>
            <a:ext cx="3447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可能会对哪些人产生影响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又该如何对待他人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857600" y="468648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礼貌公正的对待他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维护他人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706200" y="476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、尊重他人，就是尊重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1535040"/>
                <a:gridCol w="1009800"/>
                <a:gridCol w="100944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影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WordArt 34"/>
          <p:cNvSpPr txBox="1"/>
          <p:nvPr/>
        </p:nvSpPr>
        <p:spPr>
          <a:xfrm>
            <a:off x="468360" y="476280"/>
            <a:ext cx="5472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华文新魏"/>
              </a:rPr>
              <a:t>一言一行总关情</a:t>
            </a:r>
            <a:endParaRPr b="0" lang="en-US" sz="96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16" name="Picture 35" descr="ddgz021"/>
          <p:cNvPicPr/>
          <p:nvPr/>
        </p:nvPicPr>
        <p:blipFill>
          <a:blip r:embed="rId1"/>
          <a:stretch/>
        </p:blipFill>
        <p:spPr>
          <a:xfrm>
            <a:off x="6443640" y="189000"/>
            <a:ext cx="2448000" cy="219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7" name="AutoShape 36"/>
          <p:cNvSpPr/>
          <p:nvPr/>
        </p:nvSpPr>
        <p:spPr>
          <a:xfrm>
            <a:off x="5003640" y="2536920"/>
            <a:ext cx="4392720" cy="4321080"/>
          </a:xfrm>
          <a:prstGeom prst="verticalScrol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5867280" y="3213000"/>
            <a:ext cx="280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温暖回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感动续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8" descr="12O1JH4520-2E9559"/>
          <p:cNvPicPr/>
          <p:nvPr/>
        </p:nvPicPr>
        <p:blipFill>
          <a:blip r:embed="rId2"/>
          <a:stretch/>
        </p:blipFill>
        <p:spPr>
          <a:xfrm>
            <a:off x="611280" y="6093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50920" y="162864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要想赢得他人的尊重，首先要尊重他人。不尊重他人的人不可能赢得他人的尊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为了自尊，我们需要借助他人的眼睛作为镜子，来更好地认识自己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 ……在成长的过程中，我们需要他人善意、妥贴与温暖的提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26920" y="476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黑体"/>
              </a:rPr>
              <a:t>为什么要尊重他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668880" y="1452600"/>
            <a:ext cx="8475120" cy="2249280"/>
            <a:chOff x="668880" y="1452600"/>
            <a:chExt cx="8475120" cy="2249280"/>
          </a:xfrm>
        </p:grpSpPr>
        <p:sp>
          <p:nvSpPr>
            <p:cNvPr id="323" name="Text Box 3"/>
            <p:cNvSpPr/>
            <p:nvPr/>
          </p:nvSpPr>
          <p:spPr>
            <a:xfrm>
              <a:off x="668880" y="23335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尊重他人是我的需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4"/>
            <p:cNvSpPr/>
            <p:nvPr/>
          </p:nvSpPr>
          <p:spPr>
            <a:xfrm>
              <a:off x="3348000" y="1773360"/>
              <a:ext cx="360360" cy="1727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3832200" y="1452600"/>
              <a:ext cx="531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同样的自尊               同样的欢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6"/>
            <p:cNvSpPr/>
            <p:nvPr/>
          </p:nvSpPr>
          <p:spPr>
            <a:xfrm>
              <a:off x="5869080" y="1575000"/>
              <a:ext cx="1224000" cy="341280"/>
            </a:xfrm>
            <a:prstGeom prst="leftRightArrow">
              <a:avLst>
                <a:gd name="adj1" fmla="val 50000"/>
                <a:gd name="adj2" fmla="val 71696"/>
              </a:avLst>
            </a:prstGeom>
            <a:solidFill>
              <a:srgbClr val="fa2ec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"/>
            <p:cNvSpPr/>
            <p:nvPr/>
          </p:nvSpPr>
          <p:spPr>
            <a:xfrm>
              <a:off x="4389840" y="3181320"/>
              <a:ext cx="393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尊重他人                      尊重自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8"/>
            <p:cNvSpPr/>
            <p:nvPr/>
          </p:nvSpPr>
          <p:spPr>
            <a:xfrm>
              <a:off x="5869080" y="3284640"/>
              <a:ext cx="1224000" cy="341280"/>
            </a:xfrm>
            <a:prstGeom prst="leftRightArrow">
              <a:avLst>
                <a:gd name="adj1" fmla="val 50000"/>
                <a:gd name="adj2" fmla="val 71696"/>
              </a:avLst>
            </a:prstGeom>
            <a:solidFill>
              <a:srgbClr val="fa2ec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反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762120"/>
            <a:ext cx="830556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明期中考试成绩有点不理想，心理非常害怕，担心父母责怪，但最终回到了家里，父母的反映使他大吃一惊，从此自信心倍增，他的父母表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狠狠地批评了他一顿，但没有打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到家里父母准备了一桌丰盛的晚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到家里父母问了考试情况，并询问他最近的学习情况，并鼓励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92040" y="220968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Ｃ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304920" y="380880"/>
            <a:ext cx="86104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李和小王是七年三班的同学，并且他们的关系非常好，但最近一段时间由于班上的同学互相取绰号，小王和小李也被同学取了绰号，并且他们也在不自觉中喊了起来，两个人关系也逐渐疏远，后来，小王逐渐意识到这样的危害，改掉了，小李也意识到这样的危害，改掉了，两个人也好了。这说明（ 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哪个人尊重我，我就尊重别人，不尊重我，我也不尊重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尊重他人，是我们的需要，也是我们的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取绰号无所谓，不会伤害同学之间的感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781680" y="2468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80880" y="685800"/>
            <a:ext cx="7696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李的同学在一起聚会，他的同学都不抽烟，但他的一个同学的哥哥再一旁抽烟，有的同学劝他不在抽，他却说：“你们玩你们的，我抽我的，各不相干。”这说明（ 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这个同学的哥哥既尊重了自己，也尊重了他的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这个同学的哥哥不懂得尊重他人，只知道自己快乐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同样的自尊，同样的快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4596120" y="190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96720" y="1557360"/>
            <a:ext cx="82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前预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说尊重他人就是尊重自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正尊重别人应该怎么样去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CDD6-5BAE-4B47-B3F1-2659020838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开心每一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2560" y="1628640"/>
            <a:ext cx="72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到家后父母不问情由地就责骂了你一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父母先是询问情由，得知情况后表扬了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826920" y="195120"/>
            <a:ext cx="73044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某天放学后，老师让你留下帮忙搞卫生，所以你回家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73280" y="4797360"/>
            <a:ext cx="74134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这两种情景下，你分别会有怎样的反应，为什么你会有这样的反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059280" y="2421000"/>
            <a:ext cx="4968720" cy="576360"/>
          </a:xfrm>
          <a:prstGeom prst="wedgeRectCallout">
            <a:avLst>
              <a:gd name="adj1" fmla="val -45560"/>
              <a:gd name="adj2" fmla="val -11281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委屈。因为父母没有尊重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059280" y="4005360"/>
            <a:ext cx="4968720" cy="576000"/>
          </a:xfrm>
          <a:prstGeom prst="wedgeRectCallout">
            <a:avLst>
              <a:gd name="adj1" fmla="val -45560"/>
              <a:gd name="adj2" fmla="val -12162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温馨。因为父母给了自己尊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8"/>
          <p:cNvSpPr/>
          <p:nvPr/>
        </p:nvSpPr>
        <p:spPr>
          <a:xfrm>
            <a:off x="2313000" y="4859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yy"/>
          <p:cNvPicPr/>
          <p:nvPr/>
        </p:nvPicPr>
        <p:blipFill>
          <a:blip r:embed="rId1"/>
          <a:stretch/>
        </p:blipFill>
        <p:spPr>
          <a:xfrm>
            <a:off x="0" y="2857680"/>
            <a:ext cx="6095880" cy="4000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同样的自尊 同样的快乐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1360" y="2643120"/>
            <a:ext cx="784548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在我们成长的过程中，总会有很多人、很多事感动着我们，提醒着我们，激励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图片1ko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7622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6"/>
          <p:cNvSpPr/>
          <p:nvPr/>
        </p:nvSpPr>
        <p:spPr>
          <a:xfrm>
            <a:off x="5435640" y="0"/>
            <a:ext cx="2305080" cy="1484280"/>
          </a:xfrm>
          <a:prstGeom prst="cloudCallout">
            <a:avLst>
              <a:gd name="adj1" fmla="val 41736"/>
              <a:gd name="adj2" fmla="val 51175"/>
            </a:avLst>
          </a:prstGeom>
          <a:solidFill>
            <a:srgbClr val="f7fc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这些“他人”是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15640" y="1485720"/>
            <a:ext cx="38098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 </a:t>
            </a: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事件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小威曾沉迷电脑游戏，成绩一落千丈。爸爸没有一味地责怪儿子，而是与小威共同分析了沉迷游戏的得与失，商量订制了学习与游戏的时间表，督促小威执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48360" y="1127160"/>
            <a:ext cx="352728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  </a:t>
            </a: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结果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小威在爸爸的监督下摆正了学习与电脑游戏的关系，成绩又回到了班级前列。小威看着父亲的笑容，他知道那是父亲对自己成功的赞赏，他觉得那真是自己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272840" y="76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057400" y="762120"/>
            <a:ext cx="4724280" cy="360"/>
            <a:chOff x="2057400" y="762120"/>
            <a:chExt cx="4724280" cy="360"/>
          </a:xfrm>
        </p:grpSpPr>
        <p:sp>
          <p:nvSpPr>
            <p:cNvPr id="227" name="Line 5"/>
            <p:cNvSpPr/>
            <p:nvPr/>
          </p:nvSpPr>
          <p:spPr>
            <a:xfrm>
              <a:off x="2057400" y="762120"/>
              <a:ext cx="4724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057400" y="76212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WordArt 6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89080" y="1123560"/>
            <a:ext cx="374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 </a:t>
            </a: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事件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校园里，小威和同学走路的时候说笑打闹，结果一不小心，撞了对面走来的低年级同学。他不仅不道歉，还对小同学骂骂咧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，推推搡搡。结果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被德育处老师狠狠地批评了一顿，许多同学也对小威的做法感到不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23920" y="1125000"/>
            <a:ext cx="4419720" cy="539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  </a:t>
            </a: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结果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班主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老师看到难过又惭愧的小威，并没有过分批评他，而是晓之以理，告诉他身为十三中的学生应该关爱低年级同学，而不是恃强凌弱。老师的教育使小威知道了今后该如何要求自己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981080" y="730080"/>
            <a:ext cx="4724640" cy="360"/>
            <a:chOff x="1981080" y="730080"/>
            <a:chExt cx="4724640" cy="360"/>
          </a:xfrm>
        </p:grpSpPr>
        <p:sp>
          <p:nvSpPr>
            <p:cNvPr id="233" name="Line 4"/>
            <p:cNvSpPr/>
            <p:nvPr/>
          </p:nvSpPr>
          <p:spPr>
            <a:xfrm>
              <a:off x="1981080" y="730080"/>
              <a:ext cx="4724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981080" y="730080"/>
              <a:ext cx="472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5"/>
          <p:cNvSpPr/>
          <p:nvPr/>
        </p:nvSpPr>
        <p:spPr>
          <a:xfrm>
            <a:off x="3471120" y="120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76000" y="1557000"/>
            <a:ext cx="35211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 </a:t>
            </a: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事件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小威的成绩在新学期刚有一点起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他就开始沾沾自喜起来，有意无意间总爱奚落其他同学不如他的天分高。班里的许多同学逐渐疏远小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219640" y="1557000"/>
            <a:ext cx="3456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  </a:t>
            </a: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结果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班长小东找小威谈心，指出他的不足。小威接受了小东的建议，改变了自己以往对同学的态度，很快大家又接纳了这位聪明活泼的小伙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15640" y="76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（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057400" y="762120"/>
            <a:ext cx="4724280" cy="360"/>
            <a:chOff x="2057400" y="762120"/>
            <a:chExt cx="4724280" cy="360"/>
          </a:xfrm>
        </p:grpSpPr>
        <p:sp>
          <p:nvSpPr>
            <p:cNvPr id="241" name="Line 5"/>
            <p:cNvSpPr/>
            <p:nvPr/>
          </p:nvSpPr>
          <p:spPr>
            <a:xfrm>
              <a:off x="2057400" y="762120"/>
              <a:ext cx="4724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057400" y="76212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WordArt 6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057400" y="762120"/>
            <a:ext cx="4724280" cy="360"/>
            <a:chOff x="2057400" y="762120"/>
            <a:chExt cx="4724280" cy="360"/>
          </a:xfrm>
        </p:grpSpPr>
        <p:sp>
          <p:nvSpPr>
            <p:cNvPr id="245" name="Line 2"/>
            <p:cNvSpPr/>
            <p:nvPr/>
          </p:nvSpPr>
          <p:spPr>
            <a:xfrm>
              <a:off x="2057400" y="762120"/>
              <a:ext cx="4724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2057400" y="76212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3"/>
          <p:cNvSpPr/>
          <p:nvPr/>
        </p:nvSpPr>
        <p:spPr>
          <a:xfrm>
            <a:off x="366228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故事（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4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260360" y="1628640"/>
            <a:ext cx="3456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威爸爸由于常年从事强体力的劳动，身体不好病倒了。小威很担心也很难过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课的时候总是走神，放学的时候也是一个人默默地回家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148360" y="1628640"/>
            <a:ext cx="388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朋友小军总是放学主动邀请他一起回家，在路上讲笑话逗他开心，上课的时候提醒她好好听课。随着他爸爸病情的好转，小威脸上露出了久违的笑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" dur="1" fill="hold"/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122920" y="136044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在我们成长的过程中，有哪些人非常重要？他们对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曾有过哪些帮助？我们应该如何对待他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02960" y="2565360"/>
            <a:ext cx="52952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们会因为“他们”的表扬而高兴，因为“他们”的批评而难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他们的呵护和激励中，我们的自尊形成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他们的赞美与欣赏中，我们感受着做人的自豪与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78920" y="47451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也有责任去关注他人的自尊，维护他人的尊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6372360" y="333360"/>
            <a:ext cx="151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文本框 8199"/>
          <p:cNvSpPr/>
          <p:nvPr/>
        </p:nvSpPr>
        <p:spPr>
          <a:xfrm>
            <a:off x="777960" y="82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50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