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FC5C-27FA-4CF6-9ED9-27D3E7366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A654-E812-490D-AAA9-2FFBC0B08E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303C-F046-4114-84CB-FDB88BB240D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5486-6285-4A35-AB6A-DA2BDACF381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41F3-036C-47AC-A2E4-7CB886A5386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46D7-32FE-436C-8329-F707EF4FDBD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54D8-789C-4C21-ACE1-CE0A1A9E98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1DFB-0DD9-4942-A7FB-F153A90AE1E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CE7-4CDE-4C28-AA96-909251C1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2BC-7AA2-48F4-B5BD-DB694B11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589E5-AF74-45AE-AF83-5B695955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4E2C1-88FB-4878-B992-CD8D6719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EE0A2-B3AC-45A5-8EDE-B6FCA270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06282-06AE-4797-AFB6-F4EC3376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7BDFF-F2CE-4827-ACC4-053C22D6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019BC-79E5-42D1-A4E2-D4717AC0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15CD0-633F-4E9D-AC03-4268738C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38752-DDFA-4C9D-8E16-FC6C3531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789D0-E578-444F-AB99-192F4FB9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E13-9158-45C5-9C82-AF838CE0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6A2-4A29-46C1-81D2-AD9B6FFF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1711-46C0-49B9-BEB1-A82EE3B9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0BBA-14C6-409C-AB6F-F9C02794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544C-2473-47B7-AB44-8A37B17B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D2F5-2E98-412E-A6FB-F9FE91D3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E4AD-15F4-418A-A0EB-30A0CD10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AA8A-6669-400D-8116-B98B3CC2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B4BE-80FA-4154-968E-ABFC1C55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512-29D1-4E0B-ABD9-6DBCD51F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3E91-5447-4390-991B-DEB21507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5498-D2E8-4367-8EDC-CE4ECEDD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DBA8-D542-4787-8012-A91A0AAA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E6CC-7FC1-4ABE-8884-AA478FE6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C49C-C1CD-45B7-97A3-F4E45F69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3B421-EB91-478B-BD5F-3F1FB8C2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80CF4-4904-4CBA-98CC-BD3DC4CF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BD0F-5CDD-469D-8480-53BC216A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E7E66-101C-4E92-956F-DED8D484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385B-399B-46AD-8575-780BFB3A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066-6FC6-4D26-BDD4-9B48AA41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0BB8-3857-4896-8FA3-AFE326C1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A8D08-28B5-4B0F-8F81-3A686222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D82EF-EC19-418D-944F-D0F63202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28B70-AB78-4103-A054-BAEE94CC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AD54-73C0-47CE-A2E8-9520FD77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3DCFB-8A37-44D5-99C2-34098AD5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87D5A-DFA6-48F6-913A-BDA14EE2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60FEC-46A6-495C-891B-029B732D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B9CB3-9991-4125-8B3E-EF9A74EA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4AD0F-7DA8-4376-9B6F-8294FB3B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1C28-5115-4013-904D-5AC11145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507DD-9ABA-4455-8716-DDDEB432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82E33-A040-4817-AF39-517EA4CB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7D65A-414D-4718-A1C3-6FA4E808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38945-9F38-4EFE-AE0F-3E4E22F0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1248A-1113-4255-8AC2-7E68CCFB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1602A-4EA0-4CDA-94EA-DB572F69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FC14D-2933-4C23-8382-CD56BE17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F1E0D-45FC-45D2-9811-112C68F7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84884-5741-4ED1-AEB6-C7D49FCF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CD0EF-9380-4DA5-884D-86C7CBEF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D08-98C5-440A-BAD5-42892832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C982C-2AF1-4F20-929D-4ABB079F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2FB73-C382-4914-89FD-DFCD78AF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D5AD1-4454-43BB-88DC-9699A7D0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52502-D506-4AC9-B375-E2F0996E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C10D0-0566-414C-92E3-E00251A3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A8F22-CBFA-45D9-A93B-9B9EF352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45675-48DD-4E5D-A92F-F0E9CB53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FB96F-E759-490B-9E67-FFE652E4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36C3B-8F33-4059-BB93-BE55A5A3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4BDB7-497F-4A7B-9D9E-67AC1AE1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977-F20D-4FBB-ACB3-CB6618DF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60455-95BD-4CB0-9B19-417355D7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8E51D-0771-4F51-8344-AE6BA88E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B9A76-5818-4F9F-A44D-60C67EE1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DC334-80D3-46BA-B3CE-C3B8656F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9BC8D-A84E-49F6-9FD5-5F16E308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16EB7-38B9-44EC-ADA9-F48E3161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BFE6E-1315-403E-B890-C3D5C311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312BE-4D38-4340-8060-85B2E558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3476C-26D5-4716-8EB4-C97B9813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A1EFE-7E69-4348-8160-1AC0625D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5B59-7576-490E-808E-DA80ABFD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8B5ED-2FD2-4D61-AFDC-3533A279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412A5-0C89-4438-BAC7-02F5B2D9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1B15A-007A-4995-B8D4-6088A1B8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AA79A-1A4F-49F4-894B-1525F820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9769A-04F1-4898-BF24-0973E341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D38EB-C89E-4647-91BD-3B8E7B01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DBD19-C757-4876-AD6F-FF7259C2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A95AA-55A6-4A81-B33D-487BA414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63E9F-4360-45F0-8103-B6A51E64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A5C2F-E53F-4BA2-BC82-1EBAF7B4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106-9DD4-408A-A41E-B98E493E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57A4D-8BF8-43E2-95A4-87BEDC66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309AC-190D-4818-B54E-7E7E450B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B99D3-A144-443E-9437-8FDE39E2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41B56-F312-4438-92C0-C57A89B1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AA641-D96B-4361-8CFB-ED3E750F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3D28F-D46E-4AFB-BDA9-8E787F4E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49D84-B5F9-4141-912E-5B8EB289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ED438-F661-4941-8D59-D7BFE57F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26CAD-9438-49E9-9823-F286E0E1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5B7BC-8BD7-487B-9E35-6CAE67E0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0AF-B305-4581-931A-F4B01AB3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FDD6F-82EA-4DC9-A205-D5F813F3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CB71E-19EF-4DA9-B770-9A702E32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CE0CA-5562-462F-BE12-C38FDB7B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D1BAC-F708-4C28-84C2-6E4F9CCC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B03C3-828E-4F44-AA4B-79EA2DDF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B4FD7-C28F-4902-AB0C-8802CAAD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C4DC0-E798-43CD-AFE2-7451CDC3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A4B4E-C3D4-4129-90EC-E4F69D52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A7791-F23B-4997-BFB5-D35A666D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20090-41DF-48DB-8454-7708CC4A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C5E7-E870-47FA-B7F0-57B101022823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29日 星期三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5295-992C-4AB1-810B-7D8661C1400C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6816-48BD-4900-A13E-042FAB5EA143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29日 星期三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BAA7-C3EB-420B-9127-35C319696EA2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2529-81FF-45A2-8C54-F1831387FA6F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29日 星期三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860A-AC6F-4DAF-9B07-BF6ECF209323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6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40E3-2902-4062-A278-DA4C462BE8B7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29日 星期三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B8E1-11A8-4C19-86E7-42C0C17653E5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0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Straight Connector 10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8390-FA07-499B-8CC6-717B0A343DF8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29日 星期三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43DB-5ECB-4BFC-8556-4EDE917BFCE5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7B69-A4D7-40AB-A7D4-DF9044449B89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29日 星期三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2DD8-7A12-4225-8ED4-D24EC8874220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7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2044-D765-4F9F-B027-FD54EC6B4D9C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29日 星期三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756C-4B87-4C2B-A7E0-0A3561BDED1B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D2C6-83E1-422C-9E90-52F17E909C1A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29日 星期三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ABCE-8E38-4CD7-A35E-174B1F819E59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77D1-3BDA-41B8-A96B-D33DFC295BF2}" type="datetime2">
              <a:rPr b="0" lang="zh-CN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2026年7月29日 星期三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79B7-22E7-4029-973B-BA6910ABAE84}" type="slidenum">
              <a:rPr b="0" lang="en-US" sz="1200" spc="-1" strike="noStrike">
                <a:solidFill>
                  <a:srgbClr val="d38e27"/>
                </a:solidFill>
                <a:latin typeface="Franklin Gothic Book"/>
                <a:ea typeface="华文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1" descr=""/>
          <p:cNvPicPr/>
          <p:nvPr/>
        </p:nvPicPr>
        <p:blipFill>
          <a:blip r:embed="rId1"/>
          <a:stretch/>
        </p:blipFill>
        <p:spPr>
          <a:xfrm>
            <a:off x="189000" y="4743360"/>
            <a:ext cx="8650080" cy="13334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43329"/>
                </a:solidFill>
                <a:latin typeface="Franklin Gothic Book"/>
                <a:ea typeface="华文楷体"/>
              </a:rPr>
              <a:t>公司名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43329"/>
                </a:solidFill>
                <a:latin typeface="Franklin Gothic Book"/>
                <a:ea typeface="华文楷体"/>
              </a:rPr>
              <a:t>财务绩效概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076120" y="8380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策略推荐商务管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1" descr=""/>
          <p:cNvPicPr/>
          <p:nvPr/>
        </p:nvPicPr>
        <p:blipFill>
          <a:blip r:embed="rId1"/>
          <a:stretch/>
        </p:blipFill>
        <p:spPr>
          <a:xfrm>
            <a:off x="109440" y="444600"/>
            <a:ext cx="8882280" cy="1152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重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收益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收入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资产负债表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资产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股票绩效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A. Datum 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公司向全世界提供产品和服务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此演示文稿提供了财务绩效概况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除标明“公司机密”以外的所有信息均为公开信息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1" descr=""/>
          <p:cNvPicPr/>
          <p:nvPr/>
        </p:nvPicPr>
        <p:blipFill>
          <a:blip r:embed="rId1"/>
          <a:stretch/>
        </p:blipFill>
        <p:spPr>
          <a:xfrm>
            <a:off x="109440" y="444600"/>
            <a:ext cx="888228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4" name=""/>
          <p:cNvGraphicFramePr/>
          <p:nvPr/>
        </p:nvGraphicFramePr>
        <p:xfrm>
          <a:off x="304920" y="1554120"/>
          <a:ext cx="8686800" cy="2438280"/>
        </p:xfrm>
        <a:graphic>
          <a:graphicData uri="http://schemas.openxmlformats.org/drawingml/2006/table">
            <a:tbl>
              <a:tblPr/>
              <a:tblGrid>
                <a:gridCol w="3619440"/>
                <a:gridCol w="2573280"/>
                <a:gridCol w="2494080"/>
              </a:tblGrid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（单位百万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去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今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净收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净收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每股盈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净收入回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现金和短期投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总资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股东权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1" descr=""/>
          <p:cNvPicPr/>
          <p:nvPr/>
        </p:nvPicPr>
        <p:blipFill>
          <a:blip r:embed="rId1"/>
          <a:stretch/>
        </p:blipFill>
        <p:spPr>
          <a:xfrm>
            <a:off x="109440" y="444600"/>
            <a:ext cx="8882280" cy="1152360"/>
          </a:xfrm>
          <a:prstGeom prst="rect">
            <a:avLst/>
          </a:prstGeom>
          <a:ln w="0">
            <a:noFill/>
          </a:ln>
        </p:spPr>
      </p:pic>
      <p:pic>
        <p:nvPicPr>
          <p:cNvPr id="416" name="Chart 3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1" descr=""/>
          <p:cNvPicPr/>
          <p:nvPr/>
        </p:nvPicPr>
        <p:blipFill>
          <a:blip r:embed="rId1"/>
          <a:stretch/>
        </p:blipFill>
        <p:spPr>
          <a:xfrm>
            <a:off x="109440" y="444600"/>
            <a:ext cx="8882280" cy="1152360"/>
          </a:xfrm>
          <a:prstGeom prst="rect">
            <a:avLst/>
          </a:prstGeom>
          <a:ln w="0">
            <a:noFill/>
          </a:ln>
        </p:spPr>
      </p:pic>
      <p:pic>
        <p:nvPicPr>
          <p:cNvPr id="418" name="Chart 3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1" descr=""/>
          <p:cNvPicPr/>
          <p:nvPr/>
        </p:nvPicPr>
        <p:blipFill>
          <a:blip r:embed="rId1"/>
          <a:stretch/>
        </p:blipFill>
        <p:spPr>
          <a:xfrm>
            <a:off x="109440" y="444600"/>
            <a:ext cx="888228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0" name=""/>
          <p:cNvGraphicFramePr/>
          <p:nvPr/>
        </p:nvGraphicFramePr>
        <p:xfrm>
          <a:off x="304920" y="1554120"/>
          <a:ext cx="8686800" cy="4267080"/>
        </p:xfrm>
        <a:graphic>
          <a:graphicData uri="http://schemas.openxmlformats.org/drawingml/2006/table">
            <a:tbl>
              <a:tblPr/>
              <a:tblGrid>
                <a:gridCol w="3378240"/>
                <a:gridCol w="2735280"/>
                <a:gridCol w="2573280"/>
              </a:tblGrid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去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今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资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现金和短期投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应收帐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库存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其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总资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负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应付帐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应付赔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应付所得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其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总负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华文楷体"/>
                        </a:rPr>
                        <a:t>股东权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21" name="Text Box 6"/>
          <p:cNvSpPr/>
          <p:nvPr/>
        </p:nvSpPr>
        <p:spPr>
          <a:xfrm>
            <a:off x="152280" y="63244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ad1f1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1" descr=""/>
          <p:cNvPicPr/>
          <p:nvPr/>
        </p:nvPicPr>
        <p:blipFill>
          <a:blip r:embed="rId1"/>
          <a:stretch/>
        </p:blipFill>
        <p:spPr>
          <a:xfrm>
            <a:off x="109440" y="444600"/>
            <a:ext cx="8882280" cy="1152360"/>
          </a:xfrm>
          <a:prstGeom prst="rect">
            <a:avLst/>
          </a:prstGeom>
          <a:ln w="0">
            <a:noFill/>
          </a:ln>
        </p:spPr>
      </p:pic>
      <p:pic>
        <p:nvPicPr>
          <p:cNvPr id="423" name="Chart 3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34:00Z</dcterms:created>
  <dc:creator/>
  <dc:description/>
  <dc:language>en-US</dc:language>
  <cp:lastModifiedBy/>
  <dcterms:modified xsi:type="dcterms:W3CDTF">2015-07-25T06:45:25Z</dcterms:modified>
  <cp:revision>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172052</vt:lpwstr>
  </property>
</Properties>
</file>