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9A4-FE2D-44C5-8014-67FF5327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A61-12D9-4760-B35E-7A80E87F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E8A-5B7D-42C4-8CAC-D2C67901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C21-F2B0-40CE-85E6-8A4D842B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7B7-189F-47D3-8CA7-8903573D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4F28-5E24-43BC-A96E-45438230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BA1B-53AE-4CA2-9053-77378A8A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59C-1E09-4D85-AAE3-27EFA2E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9A06-4B14-4FBA-9F11-30216692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6FA-08A4-4675-A566-D90ECB3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C17-CF5E-40B5-899E-2E2E8C7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47F-1475-4558-9394-2479EA1C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6A3-53ED-483E-AAD2-668A7C67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7E7E-76E0-41A9-AAAE-F8CD92E7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EB93-AA8F-4AC6-8F45-E2A432E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4EEF-1DA6-4280-82A7-7EE4CC84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9591-3ADC-4566-A76F-74B38803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7FF6C-4F57-4B16-B1CA-0752C171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D51D-560C-48BD-8A19-A0322DE9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FB5B-4F54-443A-91E5-AB78D044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4C2C-5BCD-408A-94F8-09D820A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0939-414E-481C-A562-BF44EE3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10E-6D97-4617-B1D1-E865486C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09EF-4238-4528-BAD3-F2B83F10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A56B-E70D-4944-8651-84CAE5D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2C34-C5C9-4BE2-A596-9874DC7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BF98-D430-44D1-A2BE-E53A024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A41C-8AC7-457A-A0CA-6BBDF300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183C-704F-479A-B334-B21061BE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6FB0-BF7B-47BA-8073-9A17DD63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B2E-FA25-45A4-95DB-F1E57E1E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614-E031-4512-923C-6CABA6F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200-C8A9-46CC-A134-D0901E3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278-3B03-4A70-8442-E44CCAB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F65-1DDE-4957-8385-85F48D8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0A7-0090-40CD-9D52-8D1D6AD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F5C-EA84-4CF1-BE45-FCB58FA3F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FB87-819C-47C1-B8A9-64F851E51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9070-E19D-45F7-9912-3491BCC9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2076120" y="15238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彩虹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8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21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31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6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51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7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8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3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4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6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8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9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1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2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3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4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6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9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80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2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6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9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4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5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111320" y="4739760"/>
              <a:ext cx="2168280" cy="58824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0"/>
            <p:cNvSpPr/>
            <p:nvPr/>
          </p:nvSpPr>
          <p:spPr>
            <a:xfrm>
              <a:off x="1140120" y="3037680"/>
              <a:ext cx="2131920" cy="5871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5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98360" y="638640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42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44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>
                <a:gd name="textAreaLeft" fmla="*/ 0 w 1464480"/>
                <a:gd name="textAreaRight" fmla="*/ 1464840 w 14644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48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49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54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8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59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0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61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>
                <a:gd name="textAreaLeft" fmla="*/ 0 w 1464480"/>
                <a:gd name="textAreaRight" fmla="*/ 1464840 w 146448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65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66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71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5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76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80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84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>
              <a:gd name="textAreaLeft" fmla="*/ -360 w 1623960"/>
              <a:gd name="textAreaRight" fmla="*/ 162396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8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94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8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602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06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2325600"/>
                <a:gd name="textAreaBottom" fmla="*/ 2325960 h 2325600"/>
              </a:gdLst>
              <a:ahLst/>
              <a:rect l="textAreaLeft" t="textAreaTop" r="textAreaRight" b="textAreaBottom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>
                <a:gd name="textAreaLeft" fmla="*/ 0 w 86400"/>
                <a:gd name="textAreaRight" fmla="*/ 8640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1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44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8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51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62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63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7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71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75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8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9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Puzzle2"/>
              <p:cNvSpPr/>
              <p:nvPr/>
            </p:nvSpPr>
            <p:spPr>
              <a:xfrm>
                <a:off x="4043880" y="3446640"/>
                <a:ext cx="2772360" cy="21258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5800"/>
                  <a:gd name="textAreaBottom" fmla="*/ 2012400 h 212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Puzzle4"/>
              <p:cNvSpPr/>
              <p:nvPr/>
            </p:nvSpPr>
            <p:spPr>
              <a:xfrm>
                <a:off x="2972880" y="3420360"/>
                <a:ext cx="1677600" cy="2708280"/>
              </a:xfrm>
              <a:custGeom>
                <a:avLst/>
                <a:gdLst>
                  <a:gd name="textAreaLeft" fmla="*/ 160560 w 1677600"/>
                  <a:gd name="textAreaRight" fmla="*/ 1568520 w 16776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8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12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16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25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26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31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36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7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42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7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8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53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62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640"/>
              <a:gd name="textAreaBottom" fmla="*/ 396000 h 3956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7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8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73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>
              <a:gd name="textAreaLeft" fmla="*/ -360 w 1717560"/>
              <a:gd name="textAreaRight" fmla="*/ 1717560 w 1717560"/>
              <a:gd name="textAreaTop" fmla="*/ 0 h 538200"/>
              <a:gd name="textAreaBottom" fmla="*/ 538200 h 53820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>
              <a:gd name="textAreaLeft" fmla="*/ -360 w 3240"/>
              <a:gd name="textAreaRight" fmla="*/ 324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>
              <a:gd name="textAreaLeft" fmla="*/ -360 w 657000"/>
              <a:gd name="textAreaRight" fmla="*/ 657000 w 6570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>
              <a:gd name="textAreaLeft" fmla="*/ 360 w 154080"/>
              <a:gd name="textAreaRight" fmla="*/ 154800 w 1540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>
              <a:gd name="textAreaLeft" fmla="*/ -360 w 163800"/>
              <a:gd name="textAreaRight" fmla="*/ 163800 w 1638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>
              <a:gd name="textAreaLeft" fmla="*/ 360 w 712800"/>
              <a:gd name="textAreaRight" fmla="*/ 713520 w 712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>
              <a:gd name="textAreaLeft" fmla="*/ 360 w 15840"/>
              <a:gd name="textAreaRight" fmla="*/ 16560 w 158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>
              <a:gd name="textAreaLeft" fmla="*/ 360 w 1154160"/>
              <a:gd name="textAreaRight" fmla="*/ 1154880 w 11541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>
              <a:gd name="textAreaLeft" fmla="*/ 0 w 55440"/>
              <a:gd name="textAreaRight" fmla="*/ 55440 w 55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>
              <a:gd name="textAreaLeft" fmla="*/ 360 w 15840"/>
              <a:gd name="textAreaRight" fmla="*/ 16560 w 1584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>
              <a:gd name="textAreaLeft" fmla="*/ 360 w 1738080"/>
              <a:gd name="textAreaRight" fmla="*/ 1738800 w 173808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>
              <a:gd name="textAreaLeft" fmla="*/ -360 w 772920"/>
              <a:gd name="textAreaRight" fmla="*/ 772920 w 772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>
              <a:gd name="textAreaLeft" fmla="*/ 0 w 653760"/>
              <a:gd name="textAreaRight" fmla="*/ 653760 w 6537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>
              <a:gd name="textAreaLeft" fmla="*/ 0 w 714240"/>
              <a:gd name="textAreaRight" fmla="*/ 714240 w 714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>
              <a:gd name="textAreaLeft" fmla="*/ 360 w 154080"/>
              <a:gd name="textAreaRight" fmla="*/ 154800 w 1540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>
              <a:gd name="textAreaLeft" fmla="*/ -360 w 1739880"/>
              <a:gd name="textAreaRight" fmla="*/ 1739880 w 17398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>
              <a:gd name="textAreaLeft" fmla="*/ 360 w 1719360"/>
              <a:gd name="textAreaRight" fmla="*/ 1720080 w 17193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05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>
                <a:gd name="textAreaLeft" fmla="*/ 360 w 2233440"/>
                <a:gd name="textAreaRight" fmla="*/ 2234160 w 223344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>
              <a:gd name="textAreaLeft" fmla="*/ 0 w 517320"/>
              <a:gd name="textAreaRight" fmla="*/ 517680 w 517320"/>
              <a:gd name="textAreaTop" fmla="*/ 0 h 1474560"/>
              <a:gd name="textAreaBottom" fmla="*/ 1474920 h 1474560"/>
            </a:gdLst>
            <a:ahLst/>
            <a:rect l="textAreaLeft" t="textAreaTop" r="textAreaRight" b="textAreaBottom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11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14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32920"/>
                <a:gd name="textAreaBottom" fmla="*/ 1133280 h 1132920"/>
              </a:gdLst>
              <a:ahLst/>
              <a:rect l="textAreaLeft" t="textAreaTop" r="textAreaRight" b="textAreaBottom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7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2214360"/>
                <a:gd name="textAreaBottom" fmla="*/ 2214720 h 2214360"/>
              </a:gdLst>
              <a:ahLst/>
              <a:rect l="textAreaLeft" t="textAreaTop" r="textAreaRight" b="textAreaBottom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>
              <a:gd name="textAreaLeft" fmla="*/ 0 w 398520"/>
              <a:gd name="textAreaRight" fmla="*/ 398880 w 398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198360" y="638640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4"/>
          <p:cNvGrpSpPr/>
          <p:nvPr/>
        </p:nvGrpSpPr>
        <p:grpSpPr>
          <a:xfrm>
            <a:off x="1273320" y="1980720"/>
            <a:ext cx="4061880" cy="3859200"/>
            <a:chOff x="1273320" y="1980720"/>
            <a:chExt cx="4061880" cy="3859200"/>
          </a:xfrm>
        </p:grpSpPr>
        <p:sp>
          <p:nvSpPr>
            <p:cNvPr id="852" name="AutoShape 5"/>
            <p:cNvSpPr/>
            <p:nvPr/>
          </p:nvSpPr>
          <p:spPr>
            <a:xfrm rot="16200000">
              <a:off x="3878640" y="32504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6"/>
            <p:cNvSpPr/>
            <p:nvPr/>
          </p:nvSpPr>
          <p:spPr>
            <a:xfrm rot="16200000">
              <a:off x="3195720" y="2082960"/>
              <a:ext cx="1558440" cy="1353960"/>
            </a:xfrm>
            <a:prstGeom prst="hexagon">
              <a:avLst>
                <a:gd name="adj" fmla="val 2877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7"/>
            <p:cNvSpPr/>
            <p:nvPr/>
          </p:nvSpPr>
          <p:spPr>
            <a:xfrm rot="16200000">
              <a:off x="3240360" y="4384440"/>
              <a:ext cx="1558800" cy="1352160"/>
            </a:xfrm>
            <a:prstGeom prst="hexagon">
              <a:avLst>
                <a:gd name="adj" fmla="val 2882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8"/>
            <p:cNvSpPr/>
            <p:nvPr/>
          </p:nvSpPr>
          <p:spPr>
            <a:xfrm rot="16200000">
              <a:off x="2522160" y="325512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9"/>
            <p:cNvSpPr/>
            <p:nvPr/>
          </p:nvSpPr>
          <p:spPr>
            <a:xfrm rot="16200000">
              <a:off x="1843920" y="20836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0"/>
            <p:cNvSpPr/>
            <p:nvPr/>
          </p:nvSpPr>
          <p:spPr>
            <a:xfrm rot="16200000">
              <a:off x="1843920" y="4384440"/>
              <a:ext cx="1558800" cy="1352160"/>
            </a:xfrm>
            <a:prstGeom prst="hexagon">
              <a:avLst>
                <a:gd name="adj" fmla="val 28821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1"/>
            <p:cNvSpPr/>
            <p:nvPr/>
          </p:nvSpPr>
          <p:spPr>
            <a:xfrm rot="16200000">
              <a:off x="1168920" y="32508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62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70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9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81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5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7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40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2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5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7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50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2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7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2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482760"/>
              <a:gd name="textAreaBottom" fmla="*/ 482760 h 482760"/>
            </a:gdLst>
            <a:ahLst/>
            <a:rect l="textAreaLeft" t="textAreaTop" r="textAreaRight" b="textAreaBottom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9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3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7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8360" y="638640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3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4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7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8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9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2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5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91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8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9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300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3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5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6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2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6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9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20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21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4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7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3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40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41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2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5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3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60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4" name="AutoShape 154"/>
              <p:cNvCxnSpPr>
                <a:stCxn id="360" idx="3"/>
                <a:endCxn id="361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5" name="AutoShape 155"/>
              <p:cNvCxnSpPr>
                <a:stCxn id="361" idx="3"/>
                <a:endCxn id="362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6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71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6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80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>
                <a:gd name="textAreaLeft" fmla="*/ 0 w 1595520"/>
                <a:gd name="textAreaRight" fmla="*/ 1595880 w 159552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8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王玉清</cp:lastModifiedBy>
  <dcterms:modified xsi:type="dcterms:W3CDTF">2016-03-06T04:18:5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