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F30-CC1B-461B-8233-BD4F1A15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FDB-C76E-4979-841C-511296FC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974-408F-4CFA-9B6D-F7858AB2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D5B-7D85-4F5B-BE54-BAA21BD3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CCC-DAAF-4B3A-9C9F-1CD5FA48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692-E1D6-48F6-9680-CD739954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9D2-9441-4BCC-B142-B8B7393D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105-D984-41DF-A25D-CFD2BA38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3E8-005F-4271-9DA6-E60F118C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315-F300-4603-B119-905B73EA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643-2AD9-49EE-833D-C1FF1C8A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D05-2C03-44AB-B990-D698FB55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1EBE-14F0-4778-A2C6-16A9DFD22B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1" descr="幻灯封面2"/>
          <p:cNvPicPr/>
          <p:nvPr/>
        </p:nvPicPr>
        <p:blipFill>
          <a:blip r:embed="rId1"/>
          <a:stretch/>
        </p:blipFill>
        <p:spPr>
          <a:xfrm>
            <a:off x="252360" y="44280"/>
            <a:ext cx="7848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2" descr="clip_2"/>
          <p:cNvPicPr/>
          <p:nvPr/>
        </p:nvPicPr>
        <p:blipFill>
          <a:blip r:embed="rId2"/>
          <a:srcRect l="1245" t="5757" r="74852" b="-3640"/>
          <a:stretch/>
        </p:blipFill>
        <p:spPr>
          <a:xfrm>
            <a:off x="7315200" y="0"/>
            <a:ext cx="1465200" cy="6477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29"/>
          <p:cNvSpPr/>
          <p:nvPr/>
        </p:nvSpPr>
        <p:spPr>
          <a:xfrm>
            <a:off x="971640" y="2276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6391440" y="357120"/>
            <a:ext cx="30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26240" y="189000"/>
            <a:ext cx="55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古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8" descr="幻灯封面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9" descr="439723_QWPEJYA4ikvK"/>
          <p:cNvPicPr/>
          <p:nvPr/>
        </p:nvPicPr>
        <p:blipFill>
          <a:blip r:embed="rId1"/>
          <a:srcRect l="9307" t="39004" r="50857" b="29995"/>
          <a:stretch/>
        </p:blipFill>
        <p:spPr>
          <a:xfrm>
            <a:off x="4191120" y="4495680"/>
            <a:ext cx="303516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439723_QWPEJYA4ikvK"/>
          <p:cNvPicPr/>
          <p:nvPr/>
        </p:nvPicPr>
        <p:blipFill>
          <a:blip r:embed="rId2"/>
          <a:srcRect l="4016" t="0" r="52001" b="12992"/>
          <a:stretch/>
        </p:blipFill>
        <p:spPr>
          <a:xfrm>
            <a:off x="5792760" y="304920"/>
            <a:ext cx="3351240" cy="662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幻灯封面no2"/>
          <p:cNvPicPr/>
          <p:nvPr/>
        </p:nvPicPr>
        <p:blipFill>
          <a:blip r:embed="rId3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439723_QWPEJYA4ikvK"/>
          <p:cNvPicPr/>
          <p:nvPr/>
        </p:nvPicPr>
        <p:blipFill>
          <a:blip r:embed="rId4"/>
          <a:srcRect l="4016" t="0" r="66982" b="62999"/>
          <a:stretch/>
        </p:blipFill>
        <p:spPr>
          <a:xfrm>
            <a:off x="5796000" y="404640"/>
            <a:ext cx="2209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幻灯n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幻灯封面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24000" y="1197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A52-54DF-4B52-A549-328C47276E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7:1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1:5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