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6BD5-73A5-4425-AE93-EAA39985F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A95D-AFDB-4C35-8CEF-DEFE55ED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B4D5-DD5F-46D0-9F7C-B7F774557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D414-AB2A-44ED-BADB-6F7348988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3808-614D-4E92-BEF8-7E8EE218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7F6C-A274-4607-947F-96A01C28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682C-6E72-406F-B60A-5BFCC08E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A86F-D900-4EC8-B010-4AA6A546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9B87-E7FC-4B79-B739-00EF081F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A44A-A4FC-4C1F-A088-2C44A544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73B8-95FC-4656-943B-4364D2C4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5D12-7F99-4CD2-80F9-B3C01999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C7EB-3139-44D9-9753-6E1727B132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amy项目\模板\商务\3\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4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grpSp>
        <p:nvGrpSpPr>
          <p:cNvPr id="81" name="组合 15"/>
          <p:cNvGrpSpPr/>
          <p:nvPr/>
        </p:nvGrpSpPr>
        <p:grpSpPr>
          <a:xfrm>
            <a:off x="4684680" y="1406520"/>
            <a:ext cx="3546360" cy="1117440"/>
            <a:chOff x="4684680" y="1406520"/>
            <a:chExt cx="3546360" cy="1117440"/>
          </a:xfrm>
        </p:grpSpPr>
        <p:sp>
          <p:nvSpPr>
            <p:cNvPr id="82" name="TextBox 6"/>
            <p:cNvSpPr/>
            <p:nvPr/>
          </p:nvSpPr>
          <p:spPr>
            <a:xfrm>
              <a:off x="4684680" y="1406520"/>
              <a:ext cx="352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81d3f"/>
                  </a:solidFill>
                  <a:latin typeface="微软雅黑"/>
                  <a:ea typeface="微软雅黑"/>
                </a:rPr>
                <a:t>POWERPOINT</a:t>
              </a:r>
              <a:r>
                <a:rPr b="1" lang="zh-CN" sz="2600" spc="-1" strike="noStrike">
                  <a:solidFill>
                    <a:srgbClr val="381d3f"/>
                  </a:solidFill>
                  <a:latin typeface="微软雅黑"/>
                  <a:ea typeface="微软雅黑"/>
                </a:rPr>
                <a:t>模板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Text Box 7" descr=""/>
            <p:cNvPicPr/>
            <p:nvPr/>
          </p:nvPicPr>
          <p:blipFill>
            <a:blip r:embed="rId2"/>
            <a:stretch/>
          </p:blipFill>
          <p:spPr>
            <a:xfrm>
              <a:off x="5148720" y="2165400"/>
              <a:ext cx="3082320" cy="35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矩形 1"/>
          <p:cNvSpPr/>
          <p:nvPr/>
        </p:nvSpPr>
        <p:spPr>
          <a:xfrm>
            <a:off x="2580840" y="29376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高贵紫瑰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6280" y="52974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4"/>
          <p:cNvSpPr/>
          <p:nvPr/>
        </p:nvSpPr>
        <p:spPr>
          <a:xfrm>
            <a:off x="249120" y="36360"/>
            <a:ext cx="238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组合 5"/>
          <p:cNvGrpSpPr/>
          <p:nvPr/>
        </p:nvGrpSpPr>
        <p:grpSpPr>
          <a:xfrm>
            <a:off x="2252520" y="1724040"/>
            <a:ext cx="4638960" cy="477720"/>
            <a:chOff x="2252520" y="1724040"/>
            <a:chExt cx="4638960" cy="477720"/>
          </a:xfrm>
        </p:grpSpPr>
        <p:grpSp>
          <p:nvGrpSpPr>
            <p:cNvPr id="88" name="AutoShape 3"/>
            <p:cNvGrpSpPr/>
            <p:nvPr/>
          </p:nvGrpSpPr>
          <p:grpSpPr>
            <a:xfrm>
              <a:off x="2252520" y="1724040"/>
              <a:ext cx="4638960" cy="455040"/>
              <a:chOff x="2252520" y="1724040"/>
              <a:chExt cx="4638960" cy="455040"/>
            </a:xfrm>
          </p:grpSpPr>
          <p:pic>
            <p:nvPicPr>
              <p:cNvPr id="89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252520" y="1724040"/>
                <a:ext cx="4638960" cy="45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>
                <a:off x="2337480" y="1768320"/>
                <a:ext cx="446868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AutoShape 3"/>
            <p:cNvGrpSpPr/>
            <p:nvPr/>
          </p:nvGrpSpPr>
          <p:grpSpPr>
            <a:xfrm>
              <a:off x="2252520" y="1742400"/>
              <a:ext cx="4638960" cy="459360"/>
              <a:chOff x="2252520" y="1742400"/>
              <a:chExt cx="4638960" cy="459360"/>
            </a:xfrm>
          </p:grpSpPr>
          <p:pic>
            <p:nvPicPr>
              <p:cNvPr id="92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252520" y="1742400"/>
                <a:ext cx="4638960" cy="45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"/>
              <p:cNvSpPr/>
              <p:nvPr/>
            </p:nvSpPr>
            <p:spPr>
              <a:xfrm>
                <a:off x="2330640" y="1816560"/>
                <a:ext cx="4482360" cy="22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" name="组合 5"/>
          <p:cNvGrpSpPr/>
          <p:nvPr/>
        </p:nvGrpSpPr>
        <p:grpSpPr>
          <a:xfrm>
            <a:off x="2252520" y="2451240"/>
            <a:ext cx="4638960" cy="477720"/>
            <a:chOff x="2252520" y="2451240"/>
            <a:chExt cx="4638960" cy="477720"/>
          </a:xfrm>
        </p:grpSpPr>
        <p:grpSp>
          <p:nvGrpSpPr>
            <p:cNvPr id="95" name="AutoShape 3"/>
            <p:cNvGrpSpPr/>
            <p:nvPr/>
          </p:nvGrpSpPr>
          <p:grpSpPr>
            <a:xfrm>
              <a:off x="2252520" y="2451240"/>
              <a:ext cx="4638960" cy="455040"/>
              <a:chOff x="2252520" y="2451240"/>
              <a:chExt cx="4638960" cy="455040"/>
            </a:xfrm>
          </p:grpSpPr>
          <p:pic>
            <p:nvPicPr>
              <p:cNvPr id="96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2252520" y="2451240"/>
                <a:ext cx="4638960" cy="45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"/>
              <p:cNvSpPr/>
              <p:nvPr/>
            </p:nvSpPr>
            <p:spPr>
              <a:xfrm>
                <a:off x="2337480" y="2496600"/>
                <a:ext cx="446868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AutoShape 3"/>
            <p:cNvGrpSpPr/>
            <p:nvPr/>
          </p:nvGrpSpPr>
          <p:grpSpPr>
            <a:xfrm>
              <a:off x="2252520" y="2469600"/>
              <a:ext cx="4638960" cy="459360"/>
              <a:chOff x="2252520" y="2469600"/>
              <a:chExt cx="4638960" cy="459360"/>
            </a:xfrm>
          </p:grpSpPr>
          <p:pic>
            <p:nvPicPr>
              <p:cNvPr id="99" name="AutoShap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2252520" y="2469600"/>
                <a:ext cx="4638960" cy="45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2330640" y="2545200"/>
                <a:ext cx="4482360" cy="22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组合 5"/>
          <p:cNvGrpSpPr/>
          <p:nvPr/>
        </p:nvGrpSpPr>
        <p:grpSpPr>
          <a:xfrm>
            <a:off x="2252520" y="3179880"/>
            <a:ext cx="4638960" cy="476280"/>
            <a:chOff x="2252520" y="3179880"/>
            <a:chExt cx="4638960" cy="476280"/>
          </a:xfrm>
        </p:grpSpPr>
        <p:grpSp>
          <p:nvGrpSpPr>
            <p:cNvPr id="102" name="AutoShape 3"/>
            <p:cNvGrpSpPr/>
            <p:nvPr/>
          </p:nvGrpSpPr>
          <p:grpSpPr>
            <a:xfrm>
              <a:off x="2252520" y="3179880"/>
              <a:ext cx="4638960" cy="453600"/>
              <a:chOff x="2252520" y="3179880"/>
              <a:chExt cx="4638960" cy="453600"/>
            </a:xfrm>
          </p:grpSpPr>
          <p:pic>
            <p:nvPicPr>
              <p:cNvPr id="103" name="AutoShape 3" descr=""/>
              <p:cNvPicPr/>
              <p:nvPr/>
            </p:nvPicPr>
            <p:blipFill>
              <a:blip r:embed="rId5"/>
              <a:stretch/>
            </p:blipFill>
            <p:spPr>
              <a:xfrm>
                <a:off x="2252520" y="3179880"/>
                <a:ext cx="4638960" cy="45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2337480" y="3223080"/>
                <a:ext cx="4469040" cy="32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AutoShape 3"/>
            <p:cNvGrpSpPr/>
            <p:nvPr/>
          </p:nvGrpSpPr>
          <p:grpSpPr>
            <a:xfrm>
              <a:off x="2252520" y="3193560"/>
              <a:ext cx="4638960" cy="462600"/>
              <a:chOff x="2252520" y="3193560"/>
              <a:chExt cx="4638960" cy="462600"/>
            </a:xfrm>
          </p:grpSpPr>
          <p:pic>
            <p:nvPicPr>
              <p:cNvPr id="106" name="AutoShape 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52520" y="3193560"/>
                <a:ext cx="4638960" cy="46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2330640" y="3270960"/>
                <a:ext cx="4482360" cy="22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" name="组合 5"/>
          <p:cNvGrpSpPr/>
          <p:nvPr/>
        </p:nvGrpSpPr>
        <p:grpSpPr>
          <a:xfrm>
            <a:off x="2252520" y="3906720"/>
            <a:ext cx="4638960" cy="478080"/>
            <a:chOff x="2252520" y="3906720"/>
            <a:chExt cx="4638960" cy="478080"/>
          </a:xfrm>
        </p:grpSpPr>
        <p:grpSp>
          <p:nvGrpSpPr>
            <p:cNvPr id="109" name="AutoShape 3"/>
            <p:cNvGrpSpPr/>
            <p:nvPr/>
          </p:nvGrpSpPr>
          <p:grpSpPr>
            <a:xfrm>
              <a:off x="2252520" y="3906720"/>
              <a:ext cx="4638960" cy="455400"/>
              <a:chOff x="2252520" y="3906720"/>
              <a:chExt cx="4638960" cy="455400"/>
            </a:xfrm>
          </p:grpSpPr>
          <p:pic>
            <p:nvPicPr>
              <p:cNvPr id="110" name="AutoShape 3" descr=""/>
              <p:cNvPicPr/>
              <p:nvPr/>
            </p:nvPicPr>
            <p:blipFill>
              <a:blip r:embed="rId7"/>
              <a:stretch/>
            </p:blipFill>
            <p:spPr>
              <a:xfrm>
                <a:off x="2252520" y="3906720"/>
                <a:ext cx="4638960" cy="45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>
                <a:off x="2337480" y="3951360"/>
                <a:ext cx="4468680" cy="32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AutoShape 3"/>
            <p:cNvGrpSpPr/>
            <p:nvPr/>
          </p:nvGrpSpPr>
          <p:grpSpPr>
            <a:xfrm>
              <a:off x="2252520" y="3925080"/>
              <a:ext cx="4638960" cy="459720"/>
              <a:chOff x="2252520" y="3925080"/>
              <a:chExt cx="4638960" cy="459720"/>
            </a:xfrm>
          </p:grpSpPr>
          <p:pic>
            <p:nvPicPr>
              <p:cNvPr id="113" name="AutoShape 3" descr=""/>
              <p:cNvPicPr/>
              <p:nvPr/>
            </p:nvPicPr>
            <p:blipFill>
              <a:blip r:embed="rId8"/>
              <a:stretch/>
            </p:blipFill>
            <p:spPr>
              <a:xfrm>
                <a:off x="2252520" y="3925080"/>
                <a:ext cx="4638960" cy="45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"/>
              <p:cNvSpPr/>
              <p:nvPr/>
            </p:nvSpPr>
            <p:spPr>
              <a:xfrm>
                <a:off x="2330640" y="3999600"/>
                <a:ext cx="4482360" cy="2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组合 5"/>
          <p:cNvGrpSpPr/>
          <p:nvPr/>
        </p:nvGrpSpPr>
        <p:grpSpPr>
          <a:xfrm>
            <a:off x="2252520" y="2576520"/>
            <a:ext cx="4638960" cy="477720"/>
            <a:chOff x="2252520" y="2576520"/>
            <a:chExt cx="4638960" cy="477720"/>
          </a:xfrm>
        </p:grpSpPr>
        <p:grpSp>
          <p:nvGrpSpPr>
            <p:cNvPr id="116" name="AutoShape 3"/>
            <p:cNvGrpSpPr/>
            <p:nvPr/>
          </p:nvGrpSpPr>
          <p:grpSpPr>
            <a:xfrm>
              <a:off x="2252520" y="2576520"/>
              <a:ext cx="4638960" cy="455040"/>
              <a:chOff x="2252520" y="2576520"/>
              <a:chExt cx="4638960" cy="455040"/>
            </a:xfrm>
          </p:grpSpPr>
          <p:pic>
            <p:nvPicPr>
              <p:cNvPr id="117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252520" y="2576520"/>
                <a:ext cx="4638960" cy="45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"/>
              <p:cNvSpPr/>
              <p:nvPr/>
            </p:nvSpPr>
            <p:spPr>
              <a:xfrm>
                <a:off x="2337480" y="2620080"/>
                <a:ext cx="446868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AutoShape 3"/>
            <p:cNvGrpSpPr/>
            <p:nvPr/>
          </p:nvGrpSpPr>
          <p:grpSpPr>
            <a:xfrm>
              <a:off x="2252520" y="2594880"/>
              <a:ext cx="4638960" cy="459360"/>
              <a:chOff x="2252520" y="2594880"/>
              <a:chExt cx="4638960" cy="459360"/>
            </a:xfrm>
          </p:grpSpPr>
          <p:pic>
            <p:nvPicPr>
              <p:cNvPr id="120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252520" y="2594880"/>
                <a:ext cx="4638960" cy="45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>
                <a:off x="2330640" y="2668320"/>
                <a:ext cx="4482360" cy="22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TextBox 4"/>
          <p:cNvSpPr/>
          <p:nvPr/>
        </p:nvSpPr>
        <p:spPr>
          <a:xfrm>
            <a:off x="249120" y="36360"/>
            <a:ext cx="238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组合 5"/>
          <p:cNvGrpSpPr/>
          <p:nvPr/>
        </p:nvGrpSpPr>
        <p:grpSpPr>
          <a:xfrm>
            <a:off x="839880" y="1643040"/>
            <a:ext cx="7715160" cy="2365560"/>
            <a:chOff x="839880" y="1643040"/>
            <a:chExt cx="7715160" cy="2365560"/>
          </a:xfrm>
        </p:grpSpPr>
        <p:grpSp>
          <p:nvGrpSpPr>
            <p:cNvPr id="124" name="组合 3"/>
            <p:cNvGrpSpPr/>
            <p:nvPr/>
          </p:nvGrpSpPr>
          <p:grpSpPr>
            <a:xfrm>
              <a:off x="839880" y="1643040"/>
              <a:ext cx="7715160" cy="2365560"/>
              <a:chOff x="839880" y="1643040"/>
              <a:chExt cx="7715160" cy="2365560"/>
            </a:xfrm>
          </p:grpSpPr>
          <p:grpSp>
            <p:nvGrpSpPr>
              <p:cNvPr id="125" name="AutoShape 3"/>
              <p:cNvGrpSpPr/>
              <p:nvPr/>
            </p:nvGrpSpPr>
            <p:grpSpPr>
              <a:xfrm>
                <a:off x="839880" y="1643040"/>
                <a:ext cx="7715160" cy="2365560"/>
                <a:chOff x="839880" y="1643040"/>
                <a:chExt cx="7715160" cy="2365560"/>
              </a:xfrm>
            </p:grpSpPr>
            <p:pic>
              <p:nvPicPr>
                <p:cNvPr id="126" name="AutoShape 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39880" y="1643040"/>
                  <a:ext cx="7715160" cy="2365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" name=""/>
                <p:cNvSpPr/>
                <p:nvPr/>
              </p:nvSpPr>
              <p:spPr>
                <a:xfrm>
                  <a:off x="920880" y="1690920"/>
                  <a:ext cx="7553880" cy="221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AutoShape 3"/>
              <p:cNvGrpSpPr/>
              <p:nvPr/>
            </p:nvGrpSpPr>
            <p:grpSpPr>
              <a:xfrm>
                <a:off x="839880" y="1758600"/>
                <a:ext cx="7715160" cy="2122920"/>
                <a:chOff x="839880" y="1758600"/>
                <a:chExt cx="7715160" cy="2122920"/>
              </a:xfrm>
            </p:grpSpPr>
            <p:pic>
              <p:nvPicPr>
                <p:cNvPr id="129" name="AutoShape 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9880" y="1758600"/>
                  <a:ext cx="7715160" cy="2122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" name=""/>
                <p:cNvSpPr/>
                <p:nvPr/>
              </p:nvSpPr>
              <p:spPr>
                <a:xfrm>
                  <a:off x="923760" y="1808280"/>
                  <a:ext cx="7548120" cy="19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" name="Text Box 11"/>
            <p:cNvSpPr/>
            <p:nvPr/>
          </p:nvSpPr>
          <p:spPr>
            <a:xfrm>
              <a:off x="966600" y="1929600"/>
              <a:ext cx="751680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Box 4"/>
          <p:cNvSpPr/>
          <p:nvPr/>
        </p:nvSpPr>
        <p:spPr>
          <a:xfrm>
            <a:off x="249120" y="36360"/>
            <a:ext cx="238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组合 68"/>
          <p:cNvGrpSpPr/>
          <p:nvPr/>
        </p:nvGrpSpPr>
        <p:grpSpPr>
          <a:xfrm>
            <a:off x="4011480" y="2249640"/>
            <a:ext cx="1503360" cy="1546200"/>
            <a:chOff x="4011480" y="2249640"/>
            <a:chExt cx="1503360" cy="1546200"/>
          </a:xfrm>
        </p:grpSpPr>
        <p:grpSp>
          <p:nvGrpSpPr>
            <p:cNvPr id="134" name="组合 31"/>
            <p:cNvGrpSpPr/>
            <p:nvPr/>
          </p:nvGrpSpPr>
          <p:grpSpPr>
            <a:xfrm>
              <a:off x="4011480" y="2249640"/>
              <a:ext cx="1503360" cy="1546200"/>
              <a:chOff x="4011480" y="2249640"/>
              <a:chExt cx="1503360" cy="1546200"/>
            </a:xfrm>
          </p:grpSpPr>
          <p:grpSp>
            <p:nvGrpSpPr>
              <p:cNvPr id="135" name="Oval 93"/>
              <p:cNvGrpSpPr/>
              <p:nvPr/>
            </p:nvGrpSpPr>
            <p:grpSpPr>
              <a:xfrm>
                <a:off x="4011480" y="2249640"/>
                <a:ext cx="1503360" cy="1546200"/>
                <a:chOff x="4011480" y="2249640"/>
                <a:chExt cx="1503360" cy="1546200"/>
              </a:xfrm>
            </p:grpSpPr>
            <p:pic>
              <p:nvPicPr>
                <p:cNvPr id="136" name="Oval 9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011480" y="2249640"/>
                  <a:ext cx="1503360" cy="154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" name=""/>
                <p:cNvSpPr/>
                <p:nvPr/>
              </p:nvSpPr>
              <p:spPr>
                <a:xfrm>
                  <a:off x="4275000" y="2492280"/>
                  <a:ext cx="9745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Oval 94"/>
              <p:cNvGrpSpPr/>
              <p:nvPr/>
            </p:nvGrpSpPr>
            <p:grpSpPr>
              <a:xfrm>
                <a:off x="4067280" y="2294280"/>
                <a:ext cx="1307880" cy="1349640"/>
                <a:chOff x="4067280" y="2294280"/>
                <a:chExt cx="1307880" cy="1349640"/>
              </a:xfrm>
            </p:grpSpPr>
            <p:pic>
              <p:nvPicPr>
                <p:cNvPr id="139" name="Oval 9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67280" y="2294280"/>
                  <a:ext cx="1307880" cy="1349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" name=""/>
                <p:cNvSpPr/>
                <p:nvPr/>
              </p:nvSpPr>
              <p:spPr>
                <a:xfrm>
                  <a:off x="4302360" y="2509920"/>
                  <a:ext cx="839880" cy="86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" name="Text Box 18"/>
            <p:cNvSpPr/>
            <p:nvPr/>
          </p:nvSpPr>
          <p:spPr>
            <a:xfrm>
              <a:off x="4086360" y="2653560"/>
              <a:ext cx="1195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组合 67"/>
          <p:cNvGrpSpPr/>
          <p:nvPr/>
        </p:nvGrpSpPr>
        <p:grpSpPr>
          <a:xfrm>
            <a:off x="2001960" y="1332000"/>
            <a:ext cx="2791800" cy="1305360"/>
            <a:chOff x="2001960" y="1332000"/>
            <a:chExt cx="2791800" cy="1305360"/>
          </a:xfrm>
        </p:grpSpPr>
        <p:grpSp>
          <p:nvGrpSpPr>
            <p:cNvPr id="143" name="组合 8"/>
            <p:cNvGrpSpPr/>
            <p:nvPr/>
          </p:nvGrpSpPr>
          <p:grpSpPr>
            <a:xfrm>
              <a:off x="2001960" y="1332000"/>
              <a:ext cx="2791800" cy="1305360"/>
              <a:chOff x="2001960" y="1332000"/>
              <a:chExt cx="2791800" cy="1305360"/>
            </a:xfrm>
          </p:grpSpPr>
          <p:grpSp>
            <p:nvGrpSpPr>
              <p:cNvPr id="144" name="组合 76"/>
              <p:cNvGrpSpPr/>
              <p:nvPr/>
            </p:nvGrpSpPr>
            <p:grpSpPr>
              <a:xfrm>
                <a:off x="2001960" y="1332000"/>
                <a:ext cx="2791800" cy="1305360"/>
                <a:chOff x="2001960" y="1332000"/>
                <a:chExt cx="2791800" cy="1305360"/>
              </a:xfrm>
            </p:grpSpPr>
            <p:sp>
              <p:nvSpPr>
                <p:cNvPr id="145" name="AutoShape 73"/>
                <p:cNvSpPr/>
                <p:nvPr/>
              </p:nvSpPr>
              <p:spPr>
                <a:xfrm rot="2700000">
                  <a:off x="3769200" y="1513800"/>
                  <a:ext cx="790560" cy="988920"/>
                </a:xfrm>
                <a:prstGeom prst="rightArrow">
                  <a:avLst>
                    <a:gd name="adj1" fmla="val 70389"/>
                    <a:gd name="adj2" fmla="val 63769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圆角矩形 14"/>
                <p:cNvSpPr/>
                <p:nvPr/>
              </p:nvSpPr>
              <p:spPr>
                <a:xfrm>
                  <a:off x="2001960" y="1332000"/>
                  <a:ext cx="1836720" cy="72216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组合 28"/>
              <p:cNvGrpSpPr/>
              <p:nvPr/>
            </p:nvGrpSpPr>
            <p:grpSpPr>
              <a:xfrm>
                <a:off x="3509640" y="1332000"/>
                <a:ext cx="702000" cy="722520"/>
                <a:chOff x="3509640" y="1332000"/>
                <a:chExt cx="702000" cy="722520"/>
              </a:xfrm>
            </p:grpSpPr>
            <p:grpSp>
              <p:nvGrpSpPr>
                <p:cNvPr id="148" name="椭圆 11"/>
                <p:cNvGrpSpPr/>
                <p:nvPr/>
              </p:nvGrpSpPr>
              <p:grpSpPr>
                <a:xfrm>
                  <a:off x="3509640" y="1332000"/>
                  <a:ext cx="702000" cy="722520"/>
                  <a:chOff x="3509640" y="1332000"/>
                  <a:chExt cx="702000" cy="722520"/>
                </a:xfrm>
              </p:grpSpPr>
              <p:pic>
                <p:nvPicPr>
                  <p:cNvPr id="149" name="椭圆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9640" y="1332000"/>
                    <a:ext cx="7020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0" name=""/>
                  <p:cNvSpPr/>
                  <p:nvPr/>
                </p:nvSpPr>
                <p:spPr>
                  <a:xfrm>
                    <a:off x="3650760" y="1455120"/>
                    <a:ext cx="417240" cy="432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椭圆 117"/>
                <p:cNvGrpSpPr/>
                <p:nvPr/>
              </p:nvGrpSpPr>
              <p:grpSpPr>
                <a:xfrm>
                  <a:off x="3524760" y="1352520"/>
                  <a:ext cx="620280" cy="629640"/>
                  <a:chOff x="3524760" y="1352520"/>
                  <a:chExt cx="620280" cy="629640"/>
                </a:xfrm>
              </p:grpSpPr>
              <p:pic>
                <p:nvPicPr>
                  <p:cNvPr id="152" name="椭圆 1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24760" y="1352520"/>
                    <a:ext cx="620280" cy="62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3" name=""/>
                  <p:cNvSpPr/>
                  <p:nvPr/>
                </p:nvSpPr>
                <p:spPr>
                  <a:xfrm>
                    <a:off x="3657240" y="1459440"/>
                    <a:ext cx="356760" cy="37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54" name="Text Box 18"/>
            <p:cNvSpPr/>
            <p:nvPr/>
          </p:nvSpPr>
          <p:spPr>
            <a:xfrm>
              <a:off x="2082240" y="1531440"/>
              <a:ext cx="144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26"/>
            <p:cNvSpPr/>
            <p:nvPr/>
          </p:nvSpPr>
          <p:spPr>
            <a:xfrm>
              <a:off x="3646080" y="15235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组合 69"/>
          <p:cNvGrpSpPr/>
          <p:nvPr/>
        </p:nvGrpSpPr>
        <p:grpSpPr>
          <a:xfrm>
            <a:off x="4805280" y="1332000"/>
            <a:ext cx="2694240" cy="1392480"/>
            <a:chOff x="4805280" y="1332000"/>
            <a:chExt cx="2694240" cy="1392480"/>
          </a:xfrm>
        </p:grpSpPr>
        <p:grpSp>
          <p:nvGrpSpPr>
            <p:cNvPr id="157" name="组合 62"/>
            <p:cNvGrpSpPr/>
            <p:nvPr/>
          </p:nvGrpSpPr>
          <p:grpSpPr>
            <a:xfrm>
              <a:off x="4805280" y="1332000"/>
              <a:ext cx="2694240" cy="1392480"/>
              <a:chOff x="4805280" y="1332000"/>
              <a:chExt cx="2694240" cy="1392480"/>
            </a:xfrm>
          </p:grpSpPr>
          <p:grpSp>
            <p:nvGrpSpPr>
              <p:cNvPr id="158" name="组合 48"/>
              <p:cNvGrpSpPr/>
              <p:nvPr/>
            </p:nvGrpSpPr>
            <p:grpSpPr>
              <a:xfrm>
                <a:off x="4805280" y="1332000"/>
                <a:ext cx="2694240" cy="1392480"/>
                <a:chOff x="4805280" y="1332000"/>
                <a:chExt cx="2694240" cy="1392480"/>
              </a:xfrm>
            </p:grpSpPr>
            <p:grpSp>
              <p:nvGrpSpPr>
                <p:cNvPr id="159" name="组合 74"/>
                <p:cNvGrpSpPr/>
                <p:nvPr/>
              </p:nvGrpSpPr>
              <p:grpSpPr>
                <a:xfrm>
                  <a:off x="4805280" y="1332000"/>
                  <a:ext cx="2694240" cy="1392480"/>
                  <a:chOff x="4805280" y="1332000"/>
                  <a:chExt cx="2694240" cy="1392480"/>
                </a:xfrm>
              </p:grpSpPr>
              <p:sp>
                <p:nvSpPr>
                  <p:cNvPr id="160" name="AutoShape 67"/>
                  <p:cNvSpPr/>
                  <p:nvPr/>
                </p:nvSpPr>
                <p:spPr>
                  <a:xfrm flipH="1" rot="18900000">
                    <a:off x="5011200" y="1607400"/>
                    <a:ext cx="874800" cy="946440"/>
                  </a:xfrm>
                  <a:prstGeom prst="rightArrow">
                    <a:avLst>
                      <a:gd name="adj1" fmla="val 70389"/>
                      <a:gd name="adj2" fmla="val 63769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圆角矩形 54"/>
                  <p:cNvSpPr/>
                  <p:nvPr/>
                </p:nvSpPr>
                <p:spPr>
                  <a:xfrm>
                    <a:off x="5738760" y="1332000"/>
                    <a:ext cx="1760760" cy="79956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组合 44"/>
                <p:cNvGrpSpPr/>
                <p:nvPr/>
              </p:nvGrpSpPr>
              <p:grpSpPr>
                <a:xfrm>
                  <a:off x="5290920" y="1332000"/>
                  <a:ext cx="702000" cy="722880"/>
                  <a:chOff x="5290920" y="1332000"/>
                  <a:chExt cx="702000" cy="722880"/>
                </a:xfrm>
              </p:grpSpPr>
              <p:grpSp>
                <p:nvGrpSpPr>
                  <p:cNvPr id="163" name="椭圆 51"/>
                  <p:cNvGrpSpPr/>
                  <p:nvPr/>
                </p:nvGrpSpPr>
                <p:grpSpPr>
                  <a:xfrm>
                    <a:off x="5290920" y="1332000"/>
                    <a:ext cx="702000" cy="722880"/>
                    <a:chOff x="5290920" y="1332000"/>
                    <a:chExt cx="702000" cy="722880"/>
                  </a:xfrm>
                </p:grpSpPr>
                <p:pic>
                  <p:nvPicPr>
                    <p:cNvPr id="164" name="椭圆 5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290920" y="1332000"/>
                      <a:ext cx="702000" cy="72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5433480" y="1455120"/>
                      <a:ext cx="417240" cy="433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6" name="椭圆 117"/>
                  <p:cNvGrpSpPr/>
                  <p:nvPr/>
                </p:nvGrpSpPr>
                <p:grpSpPr>
                  <a:xfrm>
                    <a:off x="5311080" y="1352520"/>
                    <a:ext cx="614880" cy="630000"/>
                    <a:chOff x="5311080" y="1352520"/>
                    <a:chExt cx="614880" cy="630000"/>
                  </a:xfrm>
                </p:grpSpPr>
                <p:pic>
                  <p:nvPicPr>
                    <p:cNvPr id="167" name="椭圆 11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11080" y="1352520"/>
                      <a:ext cx="614880" cy="63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5438880" y="1459440"/>
                      <a:ext cx="357840" cy="370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69" name="Rectangle 26"/>
              <p:cNvSpPr/>
              <p:nvPr/>
            </p:nvSpPr>
            <p:spPr>
              <a:xfrm>
                <a:off x="5438520" y="15238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Text Box 18"/>
            <p:cNvSpPr/>
            <p:nvPr/>
          </p:nvSpPr>
          <p:spPr>
            <a:xfrm>
              <a:off x="6039720" y="1531440"/>
              <a:ext cx="144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组合 70"/>
          <p:cNvGrpSpPr/>
          <p:nvPr/>
        </p:nvGrpSpPr>
        <p:grpSpPr>
          <a:xfrm>
            <a:off x="5560920" y="2511360"/>
            <a:ext cx="2637000" cy="1017720"/>
            <a:chOff x="5560920" y="2511360"/>
            <a:chExt cx="2637000" cy="1017720"/>
          </a:xfrm>
        </p:grpSpPr>
        <p:grpSp>
          <p:nvGrpSpPr>
            <p:cNvPr id="172" name="组合 63"/>
            <p:cNvGrpSpPr/>
            <p:nvPr/>
          </p:nvGrpSpPr>
          <p:grpSpPr>
            <a:xfrm>
              <a:off x="5560920" y="2511360"/>
              <a:ext cx="2637000" cy="1017720"/>
              <a:chOff x="5560920" y="2511360"/>
              <a:chExt cx="2637000" cy="1017720"/>
            </a:xfrm>
          </p:grpSpPr>
          <p:grpSp>
            <p:nvGrpSpPr>
              <p:cNvPr id="173" name="组合 39"/>
              <p:cNvGrpSpPr/>
              <p:nvPr/>
            </p:nvGrpSpPr>
            <p:grpSpPr>
              <a:xfrm>
                <a:off x="5560920" y="2511360"/>
                <a:ext cx="2637000" cy="1017720"/>
                <a:chOff x="5560920" y="2511360"/>
                <a:chExt cx="2637000" cy="1017720"/>
              </a:xfrm>
            </p:grpSpPr>
            <p:grpSp>
              <p:nvGrpSpPr>
                <p:cNvPr id="174" name="组合 60"/>
                <p:cNvGrpSpPr/>
                <p:nvPr/>
              </p:nvGrpSpPr>
              <p:grpSpPr>
                <a:xfrm>
                  <a:off x="5560920" y="2511360"/>
                  <a:ext cx="2637000" cy="1017720"/>
                  <a:chOff x="5560920" y="2511360"/>
                  <a:chExt cx="2637000" cy="1017720"/>
                </a:xfrm>
              </p:grpSpPr>
              <p:sp>
                <p:nvSpPr>
                  <p:cNvPr id="175" name="AutoShape 49"/>
                  <p:cNvSpPr/>
                  <p:nvPr/>
                </p:nvSpPr>
                <p:spPr>
                  <a:xfrm flipH="1">
                    <a:off x="5560920" y="2511360"/>
                    <a:ext cx="768240" cy="1017720"/>
                  </a:xfrm>
                  <a:prstGeom prst="rightArrow">
                    <a:avLst>
                      <a:gd name="adj1" fmla="val 70389"/>
                      <a:gd name="adj2" fmla="val 68255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圆角矩形 47"/>
                  <p:cNvSpPr/>
                  <p:nvPr/>
                </p:nvSpPr>
                <p:spPr>
                  <a:xfrm>
                    <a:off x="6360840" y="2658960"/>
                    <a:ext cx="1837080" cy="72252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组合 41"/>
                <p:cNvGrpSpPr/>
                <p:nvPr/>
              </p:nvGrpSpPr>
              <p:grpSpPr>
                <a:xfrm>
                  <a:off x="6000480" y="2658960"/>
                  <a:ext cx="702000" cy="722520"/>
                  <a:chOff x="6000480" y="2658960"/>
                  <a:chExt cx="702000" cy="722520"/>
                </a:xfrm>
              </p:grpSpPr>
              <p:grpSp>
                <p:nvGrpSpPr>
                  <p:cNvPr id="178" name="椭圆 42"/>
                  <p:cNvGrpSpPr/>
                  <p:nvPr/>
                </p:nvGrpSpPr>
                <p:grpSpPr>
                  <a:xfrm>
                    <a:off x="6000480" y="2658960"/>
                    <a:ext cx="702000" cy="722520"/>
                    <a:chOff x="6000480" y="2658960"/>
                    <a:chExt cx="702000" cy="722520"/>
                  </a:xfrm>
                </p:grpSpPr>
                <p:pic>
                  <p:nvPicPr>
                    <p:cNvPr id="179" name="椭圆 42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000480" y="2658960"/>
                      <a:ext cx="702000" cy="72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6143760" y="2780280"/>
                      <a:ext cx="414360" cy="432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1" name="椭圆 117"/>
                  <p:cNvGrpSpPr/>
                  <p:nvPr/>
                </p:nvGrpSpPr>
                <p:grpSpPr>
                  <a:xfrm>
                    <a:off x="6020640" y="2674440"/>
                    <a:ext cx="610560" cy="635040"/>
                    <a:chOff x="6020640" y="2674440"/>
                    <a:chExt cx="610560" cy="635040"/>
                  </a:xfrm>
                </p:grpSpPr>
                <p:pic>
                  <p:nvPicPr>
                    <p:cNvPr id="182" name="椭圆 11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20640" y="2674440"/>
                      <a:ext cx="610560" cy="63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6149880" y="2784600"/>
                      <a:ext cx="354240" cy="37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84" name="Rectangle 26"/>
              <p:cNvSpPr/>
              <p:nvPr/>
            </p:nvSpPr>
            <p:spPr>
              <a:xfrm>
                <a:off x="6136560" y="28396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Text Box 18"/>
            <p:cNvSpPr/>
            <p:nvPr/>
          </p:nvSpPr>
          <p:spPr>
            <a:xfrm>
              <a:off x="6710400" y="2858400"/>
              <a:ext cx="144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组合 66"/>
          <p:cNvGrpSpPr/>
          <p:nvPr/>
        </p:nvGrpSpPr>
        <p:grpSpPr>
          <a:xfrm>
            <a:off x="1314360" y="2511360"/>
            <a:ext cx="2648160" cy="1017720"/>
            <a:chOff x="1314360" y="2511360"/>
            <a:chExt cx="2648160" cy="1017720"/>
          </a:xfrm>
        </p:grpSpPr>
        <p:grpSp>
          <p:nvGrpSpPr>
            <p:cNvPr id="187" name="组合 15"/>
            <p:cNvGrpSpPr/>
            <p:nvPr/>
          </p:nvGrpSpPr>
          <p:grpSpPr>
            <a:xfrm>
              <a:off x="1314360" y="2511360"/>
              <a:ext cx="2648160" cy="1017720"/>
              <a:chOff x="1314360" y="2511360"/>
              <a:chExt cx="2648160" cy="1017720"/>
            </a:xfrm>
          </p:grpSpPr>
          <p:grpSp>
            <p:nvGrpSpPr>
              <p:cNvPr id="188" name="组合 57"/>
              <p:cNvGrpSpPr/>
              <p:nvPr/>
            </p:nvGrpSpPr>
            <p:grpSpPr>
              <a:xfrm>
                <a:off x="1314360" y="2511360"/>
                <a:ext cx="2648160" cy="1017720"/>
                <a:chOff x="1314360" y="2511360"/>
                <a:chExt cx="2648160" cy="1017720"/>
              </a:xfrm>
            </p:grpSpPr>
            <p:sp>
              <p:nvSpPr>
                <p:cNvPr id="189" name="AutoShape 71"/>
                <p:cNvSpPr/>
                <p:nvPr/>
              </p:nvSpPr>
              <p:spPr>
                <a:xfrm>
                  <a:off x="3194280" y="2511360"/>
                  <a:ext cx="768240" cy="1017720"/>
                </a:xfrm>
                <a:prstGeom prst="rightArrow">
                  <a:avLst>
                    <a:gd name="adj1" fmla="val 70389"/>
                    <a:gd name="adj2" fmla="val 62116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圆角矩形 21"/>
                <p:cNvSpPr/>
                <p:nvPr/>
              </p:nvSpPr>
              <p:spPr>
                <a:xfrm>
                  <a:off x="1314360" y="2658960"/>
                  <a:ext cx="1837080" cy="72252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组合 24"/>
              <p:cNvGrpSpPr/>
              <p:nvPr/>
            </p:nvGrpSpPr>
            <p:grpSpPr>
              <a:xfrm>
                <a:off x="2822040" y="2658960"/>
                <a:ext cx="702000" cy="722520"/>
                <a:chOff x="2822040" y="2658960"/>
                <a:chExt cx="702000" cy="722520"/>
              </a:xfrm>
            </p:grpSpPr>
            <p:grpSp>
              <p:nvGrpSpPr>
                <p:cNvPr id="192" name="椭圆 18"/>
                <p:cNvGrpSpPr/>
                <p:nvPr/>
              </p:nvGrpSpPr>
              <p:grpSpPr>
                <a:xfrm>
                  <a:off x="2822040" y="2658960"/>
                  <a:ext cx="702000" cy="722520"/>
                  <a:chOff x="2822040" y="2658960"/>
                  <a:chExt cx="702000" cy="722520"/>
                </a:xfrm>
              </p:grpSpPr>
              <p:pic>
                <p:nvPicPr>
                  <p:cNvPr id="193" name="椭圆 1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822040" y="2658960"/>
                    <a:ext cx="7020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4" name=""/>
                  <p:cNvSpPr/>
                  <p:nvPr/>
                </p:nvSpPr>
                <p:spPr>
                  <a:xfrm>
                    <a:off x="2964240" y="2780280"/>
                    <a:ext cx="417240" cy="432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椭圆 117"/>
                <p:cNvGrpSpPr/>
                <p:nvPr/>
              </p:nvGrpSpPr>
              <p:grpSpPr>
                <a:xfrm>
                  <a:off x="2842200" y="2674440"/>
                  <a:ext cx="614880" cy="635040"/>
                  <a:chOff x="2842200" y="2674440"/>
                  <a:chExt cx="614880" cy="635040"/>
                </a:xfrm>
              </p:grpSpPr>
              <p:pic>
                <p:nvPicPr>
                  <p:cNvPr id="196" name="椭圆 1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42200" y="2674440"/>
                    <a:ext cx="61488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7" name=""/>
                  <p:cNvSpPr/>
                  <p:nvPr/>
                </p:nvSpPr>
                <p:spPr>
                  <a:xfrm>
                    <a:off x="2970720" y="2784600"/>
                    <a:ext cx="356760" cy="37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8" name="Text Box 18"/>
            <p:cNvSpPr/>
            <p:nvPr/>
          </p:nvSpPr>
          <p:spPr>
            <a:xfrm>
              <a:off x="1427040" y="2858400"/>
              <a:ext cx="145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6"/>
            <p:cNvSpPr/>
            <p:nvPr/>
          </p:nvSpPr>
          <p:spPr>
            <a:xfrm>
              <a:off x="2958120" y="28396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组合 65"/>
          <p:cNvGrpSpPr/>
          <p:nvPr/>
        </p:nvGrpSpPr>
        <p:grpSpPr>
          <a:xfrm>
            <a:off x="2001960" y="3395880"/>
            <a:ext cx="2793960" cy="1292040"/>
            <a:chOff x="2001960" y="3395880"/>
            <a:chExt cx="2793960" cy="1292040"/>
          </a:xfrm>
        </p:grpSpPr>
        <p:grpSp>
          <p:nvGrpSpPr>
            <p:cNvPr id="201" name="组合 22"/>
            <p:cNvGrpSpPr/>
            <p:nvPr/>
          </p:nvGrpSpPr>
          <p:grpSpPr>
            <a:xfrm>
              <a:off x="2001960" y="3395880"/>
              <a:ext cx="2793960" cy="1292040"/>
              <a:chOff x="2001960" y="3395880"/>
              <a:chExt cx="2793960" cy="1292040"/>
            </a:xfrm>
          </p:grpSpPr>
          <p:grpSp>
            <p:nvGrpSpPr>
              <p:cNvPr id="202" name="组合 78"/>
              <p:cNvGrpSpPr/>
              <p:nvPr/>
            </p:nvGrpSpPr>
            <p:grpSpPr>
              <a:xfrm>
                <a:off x="2001960" y="3395880"/>
                <a:ext cx="2793960" cy="1292040"/>
                <a:chOff x="2001960" y="3395880"/>
                <a:chExt cx="2793960" cy="1292040"/>
              </a:xfrm>
            </p:grpSpPr>
            <p:sp>
              <p:nvSpPr>
                <p:cNvPr id="203" name="AutoShape 75"/>
                <p:cNvSpPr/>
                <p:nvPr/>
              </p:nvSpPr>
              <p:spPr>
                <a:xfrm rot="18900000">
                  <a:off x="3774960" y="3516120"/>
                  <a:ext cx="768240" cy="1031760"/>
                </a:xfrm>
                <a:prstGeom prst="rightArrow">
                  <a:avLst>
                    <a:gd name="adj1" fmla="val 70389"/>
                    <a:gd name="adj2" fmla="val 65694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圆角矩形 31"/>
                <p:cNvSpPr/>
                <p:nvPr/>
              </p:nvSpPr>
              <p:spPr>
                <a:xfrm>
                  <a:off x="2001960" y="3965760"/>
                  <a:ext cx="1836720" cy="72216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组合 35"/>
              <p:cNvGrpSpPr/>
              <p:nvPr/>
            </p:nvGrpSpPr>
            <p:grpSpPr>
              <a:xfrm>
                <a:off x="3509280" y="3965040"/>
                <a:ext cx="702000" cy="722880"/>
                <a:chOff x="3509280" y="3965040"/>
                <a:chExt cx="702000" cy="722880"/>
              </a:xfrm>
            </p:grpSpPr>
            <p:grpSp>
              <p:nvGrpSpPr>
                <p:cNvPr id="206" name="椭圆 26"/>
                <p:cNvGrpSpPr/>
                <p:nvPr/>
              </p:nvGrpSpPr>
              <p:grpSpPr>
                <a:xfrm>
                  <a:off x="3509280" y="3965040"/>
                  <a:ext cx="702000" cy="722880"/>
                  <a:chOff x="3509280" y="3965040"/>
                  <a:chExt cx="702000" cy="722880"/>
                </a:xfrm>
              </p:grpSpPr>
              <p:pic>
                <p:nvPicPr>
                  <p:cNvPr id="207" name="椭圆 2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509280" y="3965040"/>
                    <a:ext cx="702000" cy="7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8" name=""/>
                  <p:cNvSpPr/>
                  <p:nvPr/>
                </p:nvSpPr>
                <p:spPr>
                  <a:xfrm>
                    <a:off x="3650040" y="4087800"/>
                    <a:ext cx="417240" cy="433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椭圆 117"/>
                <p:cNvGrpSpPr/>
                <p:nvPr/>
              </p:nvGrpSpPr>
              <p:grpSpPr>
                <a:xfrm>
                  <a:off x="3524400" y="3985560"/>
                  <a:ext cx="620280" cy="630000"/>
                  <a:chOff x="3524400" y="3985560"/>
                  <a:chExt cx="620280" cy="630000"/>
                </a:xfrm>
              </p:grpSpPr>
              <p:pic>
                <p:nvPicPr>
                  <p:cNvPr id="210" name="椭圆 1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24400" y="3985560"/>
                    <a:ext cx="620280" cy="63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1" name=""/>
                  <p:cNvSpPr/>
                  <p:nvPr/>
                </p:nvSpPr>
                <p:spPr>
                  <a:xfrm>
                    <a:off x="3655800" y="4092840"/>
                    <a:ext cx="357840" cy="37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12" name="Text Box 18"/>
            <p:cNvSpPr/>
            <p:nvPr/>
          </p:nvSpPr>
          <p:spPr>
            <a:xfrm>
              <a:off x="2033640" y="4164480"/>
              <a:ext cx="145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26"/>
            <p:cNvSpPr/>
            <p:nvPr/>
          </p:nvSpPr>
          <p:spPr>
            <a:xfrm>
              <a:off x="3645360" y="4145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71"/>
          <p:cNvGrpSpPr/>
          <p:nvPr/>
        </p:nvGrpSpPr>
        <p:grpSpPr>
          <a:xfrm>
            <a:off x="4657680" y="3484800"/>
            <a:ext cx="2841840" cy="1217160"/>
            <a:chOff x="4657680" y="3484800"/>
            <a:chExt cx="2841840" cy="1217160"/>
          </a:xfrm>
        </p:grpSpPr>
        <p:grpSp>
          <p:nvGrpSpPr>
            <p:cNvPr id="215" name="组合 64"/>
            <p:cNvGrpSpPr/>
            <p:nvPr/>
          </p:nvGrpSpPr>
          <p:grpSpPr>
            <a:xfrm>
              <a:off x="4657680" y="3484800"/>
              <a:ext cx="2841840" cy="1217160"/>
              <a:chOff x="4657680" y="3484800"/>
              <a:chExt cx="2841840" cy="1217160"/>
            </a:xfrm>
          </p:grpSpPr>
          <p:grpSp>
            <p:nvGrpSpPr>
              <p:cNvPr id="216" name="组合 32"/>
              <p:cNvGrpSpPr/>
              <p:nvPr/>
            </p:nvGrpSpPr>
            <p:grpSpPr>
              <a:xfrm>
                <a:off x="4657680" y="3484800"/>
                <a:ext cx="2841840" cy="1217160"/>
                <a:chOff x="4657680" y="3484800"/>
                <a:chExt cx="2841840" cy="1217160"/>
              </a:xfrm>
            </p:grpSpPr>
            <p:grpSp>
              <p:nvGrpSpPr>
                <p:cNvPr id="217" name="组合 72"/>
                <p:cNvGrpSpPr/>
                <p:nvPr/>
              </p:nvGrpSpPr>
              <p:grpSpPr>
                <a:xfrm>
                  <a:off x="4657680" y="3484800"/>
                  <a:ext cx="2841840" cy="1217160"/>
                  <a:chOff x="4657680" y="3484800"/>
                  <a:chExt cx="2841840" cy="1217160"/>
                </a:xfrm>
              </p:grpSpPr>
              <p:sp>
                <p:nvSpPr>
                  <p:cNvPr id="218" name="AutoShape 69"/>
                  <p:cNvSpPr/>
                  <p:nvPr/>
                </p:nvSpPr>
                <p:spPr>
                  <a:xfrm flipH="1" rot="2700000">
                    <a:off x="4864680" y="3633480"/>
                    <a:ext cx="801720" cy="919440"/>
                  </a:xfrm>
                  <a:prstGeom prst="rightArrow">
                    <a:avLst>
                      <a:gd name="adj1" fmla="val 70389"/>
                      <a:gd name="adj2" fmla="val 64583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圆角矩形 38"/>
                  <p:cNvSpPr/>
                  <p:nvPr/>
                </p:nvSpPr>
                <p:spPr>
                  <a:xfrm>
                    <a:off x="5582880" y="4033440"/>
                    <a:ext cx="1916640" cy="65304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组合 38"/>
                <p:cNvGrpSpPr/>
                <p:nvPr/>
              </p:nvGrpSpPr>
              <p:grpSpPr>
                <a:xfrm>
                  <a:off x="5291640" y="3963600"/>
                  <a:ext cx="702000" cy="722880"/>
                  <a:chOff x="5291640" y="3963600"/>
                  <a:chExt cx="702000" cy="722880"/>
                </a:xfrm>
              </p:grpSpPr>
              <p:grpSp>
                <p:nvGrpSpPr>
                  <p:cNvPr id="221" name="椭圆 35"/>
                  <p:cNvGrpSpPr/>
                  <p:nvPr/>
                </p:nvGrpSpPr>
                <p:grpSpPr>
                  <a:xfrm>
                    <a:off x="5291640" y="3963600"/>
                    <a:ext cx="702000" cy="722880"/>
                    <a:chOff x="5291640" y="3963600"/>
                    <a:chExt cx="702000" cy="722880"/>
                  </a:xfrm>
                </p:grpSpPr>
                <p:pic>
                  <p:nvPicPr>
                    <p:cNvPr id="222" name="椭圆 35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291640" y="3963600"/>
                      <a:ext cx="702000" cy="72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5434560" y="4084920"/>
                      <a:ext cx="417240" cy="433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4" name="椭圆 117"/>
                  <p:cNvGrpSpPr/>
                  <p:nvPr/>
                </p:nvGrpSpPr>
                <p:grpSpPr>
                  <a:xfrm>
                    <a:off x="5311800" y="3979080"/>
                    <a:ext cx="614880" cy="635400"/>
                    <a:chOff x="5311800" y="3979080"/>
                    <a:chExt cx="614880" cy="635400"/>
                  </a:xfrm>
                </p:grpSpPr>
                <p:pic>
                  <p:nvPicPr>
                    <p:cNvPr id="225" name="椭圆 117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311800" y="3979080"/>
                      <a:ext cx="614880" cy="63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440320" y="4089240"/>
                      <a:ext cx="356760" cy="371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27" name="Rectangle 26"/>
              <p:cNvSpPr/>
              <p:nvPr/>
            </p:nvSpPr>
            <p:spPr>
              <a:xfrm>
                <a:off x="5427720" y="414432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Text Box 18"/>
            <p:cNvSpPr/>
            <p:nvPr/>
          </p:nvSpPr>
          <p:spPr>
            <a:xfrm>
              <a:off x="5943960" y="4163040"/>
              <a:ext cx="151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Box 4"/>
          <p:cNvSpPr/>
          <p:nvPr/>
        </p:nvSpPr>
        <p:spPr>
          <a:xfrm>
            <a:off x="249120" y="36360"/>
            <a:ext cx="238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12"/>
          <p:cNvSpPr/>
          <p:nvPr/>
        </p:nvSpPr>
        <p:spPr>
          <a:xfrm>
            <a:off x="206280" y="52974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组合 38"/>
          <p:cNvGrpSpPr/>
          <p:nvPr/>
        </p:nvGrpSpPr>
        <p:grpSpPr>
          <a:xfrm>
            <a:off x="949320" y="1425600"/>
            <a:ext cx="7408800" cy="3639960"/>
            <a:chOff x="949320" y="1425600"/>
            <a:chExt cx="7408800" cy="3639960"/>
          </a:xfrm>
        </p:grpSpPr>
        <p:grpSp>
          <p:nvGrpSpPr>
            <p:cNvPr id="232" name="组合 35"/>
            <p:cNvGrpSpPr/>
            <p:nvPr/>
          </p:nvGrpSpPr>
          <p:grpSpPr>
            <a:xfrm>
              <a:off x="949320" y="1425600"/>
              <a:ext cx="7408800" cy="3639960"/>
              <a:chOff x="949320" y="1425600"/>
              <a:chExt cx="7408800" cy="3639960"/>
            </a:xfrm>
          </p:grpSpPr>
          <p:sp>
            <p:nvSpPr>
              <p:cNvPr id="233" name="AutoShape 5"/>
              <p:cNvSpPr/>
              <p:nvPr/>
            </p:nvSpPr>
            <p:spPr>
              <a:xfrm>
                <a:off x="949320" y="1425600"/>
                <a:ext cx="7408800" cy="3639960"/>
              </a:xfrm>
              <a:prstGeom prst="roundRect">
                <a:avLst>
                  <a:gd name="adj" fmla="val 3231"/>
                </a:avLst>
              </a:prstGeom>
              <a:noFill/>
              <a:ln w="25560">
                <a:solidFill>
                  <a:srgbClr val="26262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9"/>
              <p:cNvSpPr/>
              <p:nvPr/>
            </p:nvSpPr>
            <p:spPr>
              <a:xfrm>
                <a:off x="1071000" y="1534680"/>
                <a:ext cx="7165440" cy="3421440"/>
              </a:xfrm>
              <a:prstGeom prst="roundRect">
                <a:avLst>
                  <a:gd name="adj" fmla="val 3486"/>
                </a:avLst>
              </a:prstGeom>
              <a:solidFill>
                <a:srgbClr val="000000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组合 36"/>
            <p:cNvGrpSpPr/>
            <p:nvPr/>
          </p:nvGrpSpPr>
          <p:grpSpPr>
            <a:xfrm>
              <a:off x="1375920" y="2031120"/>
              <a:ext cx="6475680" cy="2741760"/>
              <a:chOff x="1375920" y="2031120"/>
              <a:chExt cx="6475680" cy="2741760"/>
            </a:xfrm>
          </p:grpSpPr>
          <p:sp>
            <p:nvSpPr>
              <p:cNvPr id="236" name="Line 11"/>
              <p:cNvSpPr/>
              <p:nvPr/>
            </p:nvSpPr>
            <p:spPr>
              <a:xfrm>
                <a:off x="2983680" y="2439360"/>
                <a:ext cx="1440" cy="1980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12"/>
              <p:cNvSpPr/>
              <p:nvPr/>
            </p:nvSpPr>
            <p:spPr>
              <a:xfrm>
                <a:off x="4644720" y="2439360"/>
                <a:ext cx="1440" cy="1980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Line 13"/>
              <p:cNvSpPr/>
              <p:nvPr/>
            </p:nvSpPr>
            <p:spPr>
              <a:xfrm>
                <a:off x="6294600" y="2439360"/>
                <a:ext cx="2880" cy="1980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 Box 56"/>
              <p:cNvSpPr/>
              <p:nvPr/>
            </p:nvSpPr>
            <p:spPr>
              <a:xfrm>
                <a:off x="1868400" y="446580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 Box 57"/>
              <p:cNvSpPr/>
              <p:nvPr/>
            </p:nvSpPr>
            <p:spPr>
              <a:xfrm>
                <a:off x="3527640" y="446580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Text Box 58"/>
              <p:cNvSpPr/>
              <p:nvPr/>
            </p:nvSpPr>
            <p:spPr>
              <a:xfrm>
                <a:off x="5189760" y="446580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59"/>
              <p:cNvSpPr/>
              <p:nvPr/>
            </p:nvSpPr>
            <p:spPr>
              <a:xfrm>
                <a:off x="6858360" y="446580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AutoShape 25"/>
              <p:cNvSpPr/>
              <p:nvPr/>
            </p:nvSpPr>
            <p:spPr>
              <a:xfrm>
                <a:off x="1677600" y="4300560"/>
                <a:ext cx="479160" cy="123480"/>
              </a:xfrm>
              <a:prstGeom prst="rect">
                <a:avLst/>
              </a:prstGeom>
              <a:solidFill>
                <a:srgbClr val="ffff00">
                  <a:alpha val="47000"/>
                </a:srgbClr>
              </a:solidFill>
              <a:ln w="12600">
                <a:solidFill>
                  <a:srgbClr val="ffc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AutoShape 26"/>
              <p:cNvSpPr/>
              <p:nvPr/>
            </p:nvSpPr>
            <p:spPr>
              <a:xfrm>
                <a:off x="3331800" y="4013280"/>
                <a:ext cx="476280" cy="411120"/>
              </a:xfrm>
              <a:prstGeom prst="rect">
                <a:avLst/>
              </a:prstGeom>
              <a:solidFill>
                <a:srgbClr val="ffff00">
                  <a:alpha val="47000"/>
                </a:srgbClr>
              </a:solidFill>
              <a:ln w="12600">
                <a:solidFill>
                  <a:srgbClr val="ffc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AutoShape 27"/>
              <p:cNvSpPr/>
              <p:nvPr/>
            </p:nvSpPr>
            <p:spPr>
              <a:xfrm>
                <a:off x="4992480" y="3611520"/>
                <a:ext cx="479160" cy="812880"/>
              </a:xfrm>
              <a:prstGeom prst="rect">
                <a:avLst/>
              </a:prstGeom>
              <a:solidFill>
                <a:srgbClr val="ffff00">
                  <a:alpha val="47000"/>
                </a:srgbClr>
              </a:solidFill>
              <a:ln w="12600">
                <a:solidFill>
                  <a:srgbClr val="ffc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AutoShape 28"/>
              <p:cNvSpPr/>
              <p:nvPr/>
            </p:nvSpPr>
            <p:spPr>
              <a:xfrm>
                <a:off x="6643800" y="3489480"/>
                <a:ext cx="477720" cy="934920"/>
              </a:xfrm>
              <a:prstGeom prst="rect">
                <a:avLst/>
              </a:prstGeom>
              <a:solidFill>
                <a:srgbClr val="ffff00">
                  <a:alpha val="47000"/>
                </a:srgbClr>
              </a:solidFill>
              <a:ln w="12600">
                <a:solidFill>
                  <a:srgbClr val="ffc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AutoShape 29"/>
              <p:cNvSpPr/>
              <p:nvPr/>
            </p:nvSpPr>
            <p:spPr>
              <a:xfrm>
                <a:off x="2157120" y="3408480"/>
                <a:ext cx="466560" cy="1015920"/>
              </a:xfrm>
              <a:prstGeom prst="rect">
                <a:avLst/>
              </a:prstGeom>
              <a:solidFill>
                <a:srgbClr val="7345a1">
                  <a:alpha val="70000"/>
                </a:srgbClr>
              </a:solidFill>
              <a:ln w="12600">
                <a:solidFill>
                  <a:srgbClr val="381d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AutoShape 30"/>
              <p:cNvSpPr/>
              <p:nvPr/>
            </p:nvSpPr>
            <p:spPr>
              <a:xfrm>
                <a:off x="3808080" y="3568680"/>
                <a:ext cx="479160" cy="855720"/>
              </a:xfrm>
              <a:prstGeom prst="rect">
                <a:avLst/>
              </a:prstGeom>
              <a:solidFill>
                <a:srgbClr val="7345a1">
                  <a:alpha val="70000"/>
                </a:srgbClr>
              </a:solidFill>
              <a:ln w="12600">
                <a:solidFill>
                  <a:srgbClr val="381d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AutoShape 31"/>
              <p:cNvSpPr/>
              <p:nvPr/>
            </p:nvSpPr>
            <p:spPr>
              <a:xfrm>
                <a:off x="5472000" y="3076560"/>
                <a:ext cx="465120" cy="1347840"/>
              </a:xfrm>
              <a:prstGeom prst="rect">
                <a:avLst/>
              </a:prstGeom>
              <a:solidFill>
                <a:srgbClr val="7345a1">
                  <a:alpha val="70000"/>
                </a:srgbClr>
              </a:solidFill>
              <a:ln w="12600">
                <a:solidFill>
                  <a:srgbClr val="381d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AutoShape 32"/>
              <p:cNvSpPr/>
              <p:nvPr/>
            </p:nvSpPr>
            <p:spPr>
              <a:xfrm>
                <a:off x="7121520" y="3322440"/>
                <a:ext cx="468000" cy="1101600"/>
              </a:xfrm>
              <a:prstGeom prst="rect">
                <a:avLst/>
              </a:prstGeom>
              <a:solidFill>
                <a:srgbClr val="7345a1">
                  <a:alpha val="70000"/>
                </a:srgbClr>
              </a:solidFill>
              <a:ln w="12600">
                <a:solidFill>
                  <a:srgbClr val="381d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56"/>
              <p:cNvSpPr/>
              <p:nvPr/>
            </p:nvSpPr>
            <p:spPr>
              <a:xfrm>
                <a:off x="2200320" y="313704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 Box 56"/>
              <p:cNvSpPr/>
              <p:nvPr/>
            </p:nvSpPr>
            <p:spPr>
              <a:xfrm>
                <a:off x="1731960" y="403236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 Box 56"/>
              <p:cNvSpPr/>
              <p:nvPr/>
            </p:nvSpPr>
            <p:spPr>
              <a:xfrm>
                <a:off x="3643200" y="3282840"/>
                <a:ext cx="7999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56"/>
              <p:cNvSpPr/>
              <p:nvPr/>
            </p:nvSpPr>
            <p:spPr>
              <a:xfrm>
                <a:off x="3379680" y="373716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56"/>
              <p:cNvSpPr/>
              <p:nvPr/>
            </p:nvSpPr>
            <p:spPr>
              <a:xfrm>
                <a:off x="5357520" y="2770200"/>
                <a:ext cx="7236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 Box 56"/>
              <p:cNvSpPr/>
              <p:nvPr/>
            </p:nvSpPr>
            <p:spPr>
              <a:xfrm>
                <a:off x="5026320" y="333684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Text Box 56"/>
              <p:cNvSpPr/>
              <p:nvPr/>
            </p:nvSpPr>
            <p:spPr>
              <a:xfrm>
                <a:off x="7091280" y="3063960"/>
                <a:ext cx="62388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56"/>
              <p:cNvSpPr/>
              <p:nvPr/>
            </p:nvSpPr>
            <p:spPr>
              <a:xfrm>
                <a:off x="6685200" y="321480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8"/>
              <p:cNvSpPr/>
              <p:nvPr/>
            </p:nvSpPr>
            <p:spPr>
              <a:xfrm>
                <a:off x="1384920" y="2031120"/>
                <a:ext cx="0" cy="2388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8"/>
              <p:cNvSpPr/>
              <p:nvPr/>
            </p:nvSpPr>
            <p:spPr>
              <a:xfrm>
                <a:off x="1375920" y="4420080"/>
                <a:ext cx="6475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组合 34"/>
          <p:cNvGrpSpPr/>
          <p:nvPr/>
        </p:nvGrpSpPr>
        <p:grpSpPr>
          <a:xfrm>
            <a:off x="1627200" y="1192320"/>
            <a:ext cx="6100920" cy="566640"/>
            <a:chOff x="1627200" y="1192320"/>
            <a:chExt cx="6100920" cy="566640"/>
          </a:xfrm>
        </p:grpSpPr>
        <p:grpSp>
          <p:nvGrpSpPr>
            <p:cNvPr id="262" name="组合 53"/>
            <p:cNvGrpSpPr/>
            <p:nvPr/>
          </p:nvGrpSpPr>
          <p:grpSpPr>
            <a:xfrm>
              <a:off x="1627200" y="1192320"/>
              <a:ext cx="6100920" cy="566640"/>
              <a:chOff x="1627200" y="1192320"/>
              <a:chExt cx="6100920" cy="566640"/>
            </a:xfrm>
          </p:grpSpPr>
          <p:grpSp>
            <p:nvGrpSpPr>
              <p:cNvPr id="263" name="AutoShape 3"/>
              <p:cNvGrpSpPr/>
              <p:nvPr/>
            </p:nvGrpSpPr>
            <p:grpSpPr>
              <a:xfrm>
                <a:off x="1627200" y="1192320"/>
                <a:ext cx="6100920" cy="566640"/>
                <a:chOff x="1627200" y="1192320"/>
                <a:chExt cx="6100920" cy="566640"/>
              </a:xfrm>
            </p:grpSpPr>
            <p:pic>
              <p:nvPicPr>
                <p:cNvPr id="264" name="AutoShape 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627200" y="1192320"/>
                  <a:ext cx="6100920" cy="56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5" name=""/>
                <p:cNvSpPr/>
                <p:nvPr/>
              </p:nvSpPr>
              <p:spPr>
                <a:xfrm>
                  <a:off x="1719360" y="1242360"/>
                  <a:ext cx="5914440" cy="41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" name="AutoShape 3"/>
              <p:cNvGrpSpPr/>
              <p:nvPr/>
            </p:nvGrpSpPr>
            <p:grpSpPr>
              <a:xfrm>
                <a:off x="1627200" y="1261800"/>
                <a:ext cx="6095160" cy="422640"/>
                <a:chOff x="1627200" y="1261800"/>
                <a:chExt cx="6095160" cy="422640"/>
              </a:xfrm>
            </p:grpSpPr>
            <p:pic>
              <p:nvPicPr>
                <p:cNvPr id="267" name="AutoShape 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627200" y="1261800"/>
                  <a:ext cx="6095160" cy="422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8" name=""/>
                <p:cNvSpPr/>
                <p:nvPr/>
              </p:nvSpPr>
              <p:spPr>
                <a:xfrm>
                  <a:off x="1711080" y="1305720"/>
                  <a:ext cx="5928840" cy="29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9" name="Rectangle 13"/>
            <p:cNvSpPr/>
            <p:nvPr/>
          </p:nvSpPr>
          <p:spPr>
            <a:xfrm>
              <a:off x="4175640" y="127512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TextBox 4"/>
          <p:cNvSpPr/>
          <p:nvPr/>
        </p:nvSpPr>
        <p:spPr>
          <a:xfrm>
            <a:off x="249120" y="36360"/>
            <a:ext cx="238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6" descr="C:\Documents and Settings\Administrator\My Documents\My Pictures\1018410_153103002_2.jpg"/>
          <p:cNvPicPr/>
          <p:nvPr/>
        </p:nvPicPr>
        <p:blipFill>
          <a:blip r:embed="rId1"/>
          <a:stretch/>
        </p:blipFill>
        <p:spPr>
          <a:xfrm>
            <a:off x="1523880" y="957240"/>
            <a:ext cx="3432240" cy="4065480"/>
          </a:xfrm>
          <a:prstGeom prst="rect">
            <a:avLst/>
          </a:prstGeom>
          <a:ln w="0">
            <a:noFill/>
          </a:ln>
        </p:spPr>
      </p:pic>
      <p:sp>
        <p:nvSpPr>
          <p:cNvPr id="272" name="TextBox 4"/>
          <p:cNvSpPr/>
          <p:nvPr/>
        </p:nvSpPr>
        <p:spPr>
          <a:xfrm>
            <a:off x="249120" y="36360"/>
            <a:ext cx="238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3" descr="E:\amy项目\模板\商务\3\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274" name="TextBox 6"/>
          <p:cNvSpPr/>
          <p:nvPr/>
        </p:nvSpPr>
        <p:spPr>
          <a:xfrm>
            <a:off x="4748040" y="1546200"/>
            <a:ext cx="354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81d3f"/>
                </a:solidFill>
                <a:latin typeface="微软雅黑"/>
                <a:ea typeface="微软雅黑"/>
              </a:rPr>
              <a:t>谢谢观赏  </a:t>
            </a:r>
            <a:r>
              <a:rPr b="1" lang="en-US" sz="2600" spc="-1" strike="noStrike">
                <a:solidFill>
                  <a:srgbClr val="381d3f"/>
                </a:solidFill>
                <a:latin typeface="微软雅黑"/>
                <a:ea typeface="微软雅黑"/>
              </a:rPr>
              <a:t>THANK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08:32:55Z</dcterms:created>
  <dc:creator>番茄花园</dc:creator>
  <dc:description/>
  <dc:language>en-US</dc:language>
  <cp:lastModifiedBy>王玉清</cp:lastModifiedBy>
  <dcterms:modified xsi:type="dcterms:W3CDTF">2016-02-20T04:20:47Z</dcterms:modified>
  <cp:revision>32</cp:revision>
  <dc:subject/>
  <dc:title>幻灯片 1</dc:title>
</cp:coreProperties>
</file>