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0A8-2F1E-4AC1-AC52-D6AE0315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B2F-2153-4FE1-8772-2D8909AE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365-8FD6-4CBE-A423-78DA3E1D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6A1-8AEE-4C2B-908B-7FE965D5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4300-FBBB-47C3-B0F3-0746F996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012F-B038-45CE-BE50-3EFB3C1A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07FA-FF18-4929-B1DA-D85D49D0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1CF8-C83D-45E2-A56F-6FB6D39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74E4-D118-480C-8362-EDF2B734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E2A0-9C0D-4507-8F7E-01834932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0E96-D1AF-4EF3-B82A-5E9E8D0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6CD-8CC3-4CBF-A7DD-C632ADDD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1755-2BDE-4ECB-BB97-15C185D3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E2E3-C06C-40D5-A6DD-130ADDB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73E0-AB55-467E-AA0A-83C1DEBC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C0A6-6FB2-4CF6-9CE8-8F08FE9E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35EB-E7BE-464E-96A0-613367D0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8BCC-7FEA-403E-AD0E-9DBA0BE1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0A86-6574-4946-8775-C414E516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DB405-EF6A-4649-B8AE-F3B4B07E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3A29-630A-44A4-BCD2-FE02577E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ECC6-0CBC-401D-9656-68A315FE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FC3-29B7-4F4F-9DA3-4EBD2EA8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2DCC-C796-44C6-B9AE-270AC9A6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1176-6C4A-4CF6-BFD0-29BE45E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1CC5-E920-4441-BC2E-3FD16822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8B82-94FC-427F-9FAD-6437DC2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87AD-19A4-4F99-A090-DAB8747F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D240-3852-40CB-82EE-FEB7985C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E286-95E0-41A7-B395-7CF36B11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1AE-3991-4F98-8109-D037DCBF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1A2-275D-4866-9882-0DC83196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74D-C3DC-4B4F-89BC-CF41609D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6B5-04B9-40A3-A774-C44C474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07A-3DD5-4F74-A4E8-8B81DE80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501-D5A6-4579-B8D0-E67CE8EE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49D86-A892-4FB5-8A5C-1B67C632BAB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321083-5325-45A1-B051-4812A4768EA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DB8FB2-461E-4F32-BD65-4A69EB0988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9" descr=""/>
          <p:cNvPicPr/>
          <p:nvPr/>
        </p:nvPicPr>
        <p:blipFill>
          <a:blip r:embed="rId1"/>
          <a:srcRect l="17646" t="29658" r="0" b="0"/>
          <a:stretch/>
        </p:blipFill>
        <p:spPr>
          <a:xfrm>
            <a:off x="0" y="0"/>
            <a:ext cx="12191760" cy="6916320"/>
          </a:xfrm>
          <a:prstGeom prst="rect">
            <a:avLst/>
          </a:prstGeom>
          <a:ln w="9525">
            <a:noFill/>
          </a:ln>
        </p:spPr>
      </p:pic>
      <p:sp>
        <p:nvSpPr>
          <p:cNvPr id="124" name="矩形 4"/>
          <p:cNvSpPr/>
          <p:nvPr/>
        </p:nvSpPr>
        <p:spPr>
          <a:xfrm>
            <a:off x="3607200" y="3535200"/>
            <a:ext cx="49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公司发展通用</a:t>
            </a:r>
            <a:r>
              <a:rPr b="0" lang="en-US" sz="4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直接连接符 5"/>
          <p:cNvCxnSpPr/>
          <p:nvPr/>
        </p:nvCxnSpPr>
        <p:spPr>
          <a:xfrm>
            <a:off x="1347480" y="4924080"/>
            <a:ext cx="95666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sp>
        <p:nvSpPr>
          <p:cNvPr id="126" name="矩形 6"/>
          <p:cNvSpPr/>
          <p:nvPr/>
        </p:nvSpPr>
        <p:spPr>
          <a:xfrm>
            <a:off x="10976760" y="4227480"/>
            <a:ext cx="83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201</a:t>
            </a:r>
            <a:r>
              <a:rPr b="0" lang="en-US" sz="16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5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8"/>
          <p:cNvSpPr/>
          <p:nvPr/>
        </p:nvSpPr>
        <p:spPr>
          <a:xfrm>
            <a:off x="4179960" y="5288040"/>
            <a:ext cx="3831840" cy="3885840"/>
          </a:xfrm>
          <a:custGeom>
            <a:avLst/>
            <a:gdLst>
              <a:gd name="textAreaLeft" fmla="*/ 0 w 3831840"/>
              <a:gd name="textAreaRight" fmla="*/ 3832200 w 3831840"/>
              <a:gd name="textAreaTop" fmla="*/ 0 h 3885840"/>
              <a:gd name="textAreaBottom" fmla="*/ 3886200 h 3885840"/>
            </a:gdLst>
            <a:ahLst/>
            <a:rect l="textAreaLeft" t="textAreaTop" r="textAreaRight" b="textAreaBottom"/>
            <a:pathLst>
              <a:path w="3831083" h="3886470">
                <a:moveTo>
                  <a:pt x="1915522" y="3886469"/>
                </a:moveTo>
                <a:lnTo>
                  <a:pt x="1915561" y="3886469"/>
                </a:lnTo>
                <a:lnTo>
                  <a:pt x="1915541" y="3886470"/>
                </a:lnTo>
                <a:close/>
                <a:moveTo>
                  <a:pt x="1915541" y="0"/>
                </a:moveTo>
                <a:cubicBezTo>
                  <a:pt x="2854608" y="0"/>
                  <a:pt x="3638097" y="666106"/>
                  <a:pt x="3819297" y="1551606"/>
                </a:cubicBezTo>
                <a:lnTo>
                  <a:pt x="3831083" y="1628832"/>
                </a:lnTo>
                <a:lnTo>
                  <a:pt x="0" y="1628832"/>
                </a:lnTo>
                <a:lnTo>
                  <a:pt x="11786" y="1551606"/>
                </a:lnTo>
                <a:cubicBezTo>
                  <a:pt x="192985" y="666106"/>
                  <a:pt x="976475" y="0"/>
                  <a:pt x="1915541" y="0"/>
                </a:cubicBezTo>
                <a:close/>
              </a:path>
            </a:pathLst>
          </a:custGeom>
          <a:solidFill>
            <a:schemeClr val="bg1">
              <a:lumMod val="85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4849200" y="5553000"/>
            <a:ext cx="2493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几点思考 </a:t>
            </a: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品牌 </a:t>
            </a: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产品 </a:t>
            </a: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电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2"/>
          <p:cNvSpPr/>
          <p:nvPr/>
        </p:nvSpPr>
        <p:spPr>
          <a:xfrm>
            <a:off x="1260000" y="4248000"/>
            <a:ext cx="9671760" cy="1468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惊喜</a:t>
            </a:r>
            <a:r>
              <a:rPr b="0" lang="en-US" sz="48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 </a:t>
            </a:r>
            <a:r>
              <a:rPr b="0" lang="zh-CN" sz="3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就是金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7"/>
          <p:cNvGrpSpPr/>
          <p:nvPr/>
        </p:nvGrpSpPr>
        <p:grpSpPr>
          <a:xfrm>
            <a:off x="3327480" y="1666800"/>
            <a:ext cx="5536800" cy="2514240"/>
            <a:chOff x="3327480" y="1666800"/>
            <a:chExt cx="5536800" cy="2514240"/>
          </a:xfrm>
        </p:grpSpPr>
        <p:sp>
          <p:nvSpPr>
            <p:cNvPr id="165" name="图片 4"/>
            <p:cNvSpPr/>
            <p:nvPr/>
          </p:nvSpPr>
          <p:spPr>
            <a:xfrm>
              <a:off x="3327480" y="1670040"/>
              <a:ext cx="2510280" cy="2511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图片 6"/>
            <p:cNvSpPr/>
            <p:nvPr/>
          </p:nvSpPr>
          <p:spPr>
            <a:xfrm>
              <a:off x="6350760" y="1666800"/>
              <a:ext cx="2513520" cy="251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5"/>
          <p:cNvSpPr/>
          <p:nvPr/>
        </p:nvSpPr>
        <p:spPr>
          <a:xfrm>
            <a:off x="776160" y="1006560"/>
            <a:ext cx="10639080" cy="7948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运营其实是我们所有资源的合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只有加强微信平台的运营，才能逐渐把流量转化为收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8"/>
          <p:cNvGrpSpPr/>
          <p:nvPr/>
        </p:nvGrpSpPr>
        <p:grpSpPr>
          <a:xfrm>
            <a:off x="4194000" y="2303640"/>
            <a:ext cx="3271680" cy="3358800"/>
            <a:chOff x="4194000" y="2303640"/>
            <a:chExt cx="3271680" cy="3358800"/>
          </a:xfrm>
        </p:grpSpPr>
        <p:sp>
          <p:nvSpPr>
            <p:cNvPr id="169" name="椭圆 9"/>
            <p:cNvSpPr/>
            <p:nvPr/>
          </p:nvSpPr>
          <p:spPr>
            <a:xfrm>
              <a:off x="4194000" y="2867040"/>
              <a:ext cx="1877760" cy="187920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电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0"/>
            <p:cNvSpPr/>
            <p:nvPr/>
          </p:nvSpPr>
          <p:spPr>
            <a:xfrm>
              <a:off x="5587920" y="2303640"/>
              <a:ext cx="1877760" cy="1877760"/>
            </a:xfrm>
            <a:prstGeom prst="ellipse">
              <a:avLst/>
            </a:prstGeom>
            <a:solidFill>
              <a:srgbClr val="018d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品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1"/>
            <p:cNvSpPr/>
            <p:nvPr/>
          </p:nvSpPr>
          <p:spPr>
            <a:xfrm>
              <a:off x="5508720" y="3784680"/>
              <a:ext cx="1877760" cy="1877760"/>
            </a:xfrm>
            <a:prstGeom prst="ellipse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产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12"/>
          <p:cNvSpPr/>
          <p:nvPr/>
        </p:nvSpPr>
        <p:spPr>
          <a:xfrm>
            <a:off x="4176360" y="5921280"/>
            <a:ext cx="3838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多个元素的配合，电商推广可以做到以小博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3"/>
          <p:cNvGrpSpPr/>
          <p:nvPr/>
        </p:nvGrpSpPr>
        <p:grpSpPr>
          <a:xfrm>
            <a:off x="4071960" y="-4956120"/>
            <a:ext cx="9672120" cy="12281400"/>
            <a:chOff x="4071960" y="-4956120"/>
            <a:chExt cx="9672120" cy="12281400"/>
          </a:xfrm>
        </p:grpSpPr>
        <p:sp>
          <p:nvSpPr>
            <p:cNvPr id="174" name="矩形 1"/>
            <p:cNvSpPr/>
            <p:nvPr/>
          </p:nvSpPr>
          <p:spPr>
            <a:xfrm>
              <a:off x="6972840" y="-4956120"/>
              <a:ext cx="2904480" cy="12281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00" spc="-1" strike="noStrike">
                  <a:solidFill>
                    <a:srgbClr val="ff9966"/>
                  </a:solidFill>
                  <a:latin typeface="Arial Unicode MS"/>
                  <a:ea typeface="Arial Unicode MS"/>
                </a:rPr>
                <a:t>,</a:t>
              </a:r>
              <a:endParaRPr b="0" lang="en-US" sz="8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"/>
            <p:cNvSpPr/>
            <p:nvPr/>
          </p:nvSpPr>
          <p:spPr>
            <a:xfrm>
              <a:off x="4071960" y="3876840"/>
              <a:ext cx="9672120" cy="1468440"/>
            </a:xfrm>
            <a:prstGeom prst="rect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50000"/>
                </a:lnSpc>
              </a:pPr>
              <a:r>
                <a:rPr b="0" lang="en-US" sz="6000" spc="-1" strike="noStrike">
                  <a:solidFill>
                    <a:srgbClr val="a6a6a6"/>
                  </a:solidFill>
                  <a:latin typeface="造字工房悦圆演示版常规体"/>
                  <a:ea typeface="造字工房悦圆演示版常规体"/>
                </a:rPr>
                <a:t>We are just </a:t>
              </a:r>
              <a:r>
                <a:rPr b="0" lang="en-US" sz="6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造字工房悦圆演示版常规体"/>
                  <a:ea typeface="造字工房悦圆演示版常规体"/>
                </a:rPr>
                <a:t>on</a:t>
              </a:r>
              <a:r>
                <a:rPr b="0" lang="en-US" sz="6000" spc="-1" strike="noStrike">
                  <a:solidFill>
                    <a:srgbClr val="a6a6a6"/>
                  </a:solidFill>
                  <a:latin typeface="造字工房悦圆演示版常规体"/>
                  <a:ea typeface="造字工房悦圆演示版常规体"/>
                </a:rPr>
                <a:t> the wa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4000" spc="-1" strike="noStrike">
                  <a:solidFill>
                    <a:srgbClr val="ff9966"/>
                  </a:solidFill>
                  <a:latin typeface="造字工房力黑（非商用）常规体"/>
                  <a:ea typeface="造字工房力黑（非商用）常规体"/>
                </a:rPr>
                <a:t>Thank You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9"/>
          <p:cNvSpPr/>
          <p:nvPr/>
        </p:nvSpPr>
        <p:spPr>
          <a:xfrm>
            <a:off x="320760" y="6318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5292720" y="1177200"/>
            <a:ext cx="14155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8000" spc="599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几点思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9"/>
          <p:cNvGrpSpPr/>
          <p:nvPr/>
        </p:nvGrpSpPr>
        <p:grpSpPr>
          <a:xfrm>
            <a:off x="5387760" y="887400"/>
            <a:ext cx="1416240" cy="5082840"/>
            <a:chOff x="5387760" y="887400"/>
            <a:chExt cx="1416240" cy="5082840"/>
          </a:xfrm>
        </p:grpSpPr>
        <p:cxnSp>
          <p:nvCxnSpPr>
            <p:cNvPr id="132" name="直接连接符 7"/>
            <p:cNvCxnSpPr/>
            <p:nvPr/>
          </p:nvCxnSpPr>
          <p:spPr>
            <a:xfrm>
              <a:off x="5387760" y="887400"/>
              <a:ext cx="1416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33" name="直接连接符 8"/>
            <p:cNvCxnSpPr/>
            <p:nvPr/>
          </p:nvCxnSpPr>
          <p:spPr>
            <a:xfrm>
              <a:off x="5387760" y="5970240"/>
              <a:ext cx="1416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50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" descr=""/>
          <p:cNvPicPr/>
          <p:nvPr/>
        </p:nvPicPr>
        <p:blipFill>
          <a:blip r:embed="rId1"/>
          <a:srcRect l="0" t="0" r="0" b="48458"/>
          <a:stretch/>
        </p:blipFill>
        <p:spPr>
          <a:xfrm>
            <a:off x="871560" y="171360"/>
            <a:ext cx="5223960" cy="6879960"/>
          </a:xfrm>
          <a:prstGeom prst="rect">
            <a:avLst/>
          </a:prstGeom>
          <a:ln w="9525">
            <a:noFill/>
          </a:ln>
        </p:spPr>
      </p:pic>
      <p:pic>
        <p:nvPicPr>
          <p:cNvPr id="135" name="图片 4" descr=""/>
          <p:cNvPicPr/>
          <p:nvPr/>
        </p:nvPicPr>
        <p:blipFill>
          <a:blip r:embed="rId2"/>
          <a:srcRect l="0" t="51432" r="0" b="0"/>
          <a:stretch/>
        </p:blipFill>
        <p:spPr>
          <a:xfrm>
            <a:off x="6372360" y="546120"/>
            <a:ext cx="5223960" cy="6482880"/>
          </a:xfrm>
          <a:prstGeom prst="rect">
            <a:avLst/>
          </a:prstGeom>
          <a:ln w="9525">
            <a:noFill/>
          </a:ln>
        </p:spPr>
      </p:pic>
      <p:sp>
        <p:nvSpPr>
          <p:cNvPr id="136" name="矩形 5"/>
          <p:cNvSpPr/>
          <p:nvPr/>
        </p:nvSpPr>
        <p:spPr>
          <a:xfrm>
            <a:off x="3627720" y="3198960"/>
            <a:ext cx="49359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精致的设计，除了凸显品位之外，更能快速传达形象和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5" descr=""/>
          <p:cNvPicPr/>
          <p:nvPr/>
        </p:nvPicPr>
        <p:blipFill>
          <a:blip r:embed="rId1"/>
          <a:stretch/>
        </p:blipFill>
        <p:spPr>
          <a:xfrm>
            <a:off x="0" y="-1432080"/>
            <a:ext cx="12191760" cy="8838720"/>
          </a:xfrm>
          <a:prstGeom prst="rect">
            <a:avLst/>
          </a:prstGeom>
          <a:ln w="9525">
            <a:noFill/>
          </a:ln>
        </p:spPr>
      </p:pic>
      <p:sp>
        <p:nvSpPr>
          <p:cNvPr id="138" name="矩形 7"/>
          <p:cNvSpPr/>
          <p:nvPr/>
        </p:nvSpPr>
        <p:spPr>
          <a:xfrm>
            <a:off x="1371600" y="4691160"/>
            <a:ext cx="4476240" cy="810720"/>
          </a:xfrm>
          <a:prstGeom prst="rect">
            <a:avLst/>
          </a:prstGeom>
          <a:solidFill>
            <a:srgbClr val="0070c0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微利运营，设置透明操作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塑造品牌形象，应对商务谈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1371240" y="3865320"/>
            <a:ext cx="9671760" cy="543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6600" spc="299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零售旗舰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37"/>
          <p:cNvSpPr/>
          <p:nvPr/>
        </p:nvSpPr>
        <p:spPr>
          <a:xfrm>
            <a:off x="2792880" y="2293560"/>
            <a:ext cx="6606000" cy="2125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高端水果既是 </a:t>
            </a:r>
            <a:r>
              <a:rPr b="0" lang="zh-CN" sz="6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产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高端产品服务能力是行业地位的象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也是对我们精细化管理的考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提早布局将会掌握更多话语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5913360" y="2564280"/>
            <a:ext cx="2511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也是我们的 </a:t>
            </a:r>
            <a:r>
              <a:rPr b="0" lang="zh-CN" sz="6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品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20760" y="6318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"/>
          <p:cNvSpPr/>
          <p:nvPr/>
        </p:nvSpPr>
        <p:spPr>
          <a:xfrm>
            <a:off x="2595600" y="1552680"/>
            <a:ext cx="7000560" cy="1243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zh-CN" sz="36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优化用户体验</a:t>
            </a:r>
            <a:r>
              <a:rPr b="0" lang="en-US" sz="36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—— </a:t>
            </a:r>
            <a:r>
              <a:rPr b="0" lang="zh-CN" sz="6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情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2792520" y="3170160"/>
            <a:ext cx="6606720" cy="21254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附加宣传品（如介绍、营养搭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改变水果切块造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改良果盒（避免串味、方便配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提供料包（如沙拉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</a:pPr>
            <a:r>
              <a:rPr b="0" lang="zh-CN" sz="3200" spc="-1" strike="noStrike">
                <a:solidFill>
                  <a:srgbClr val="c00000"/>
                </a:solidFill>
                <a:latin typeface="微软雅黑 Light"/>
                <a:ea typeface="微软雅黑 Light"/>
              </a:rPr>
              <a:t>你不是上帝，是我们的邻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3"/>
          <p:cNvSpPr/>
          <p:nvPr/>
        </p:nvSpPr>
        <p:spPr>
          <a:xfrm>
            <a:off x="5292720" y="2160360"/>
            <a:ext cx="1415520" cy="26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电  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9"/>
          <p:cNvGrpSpPr/>
          <p:nvPr/>
        </p:nvGrpSpPr>
        <p:grpSpPr>
          <a:xfrm>
            <a:off x="5387760" y="1552320"/>
            <a:ext cx="1416240" cy="3886200"/>
            <a:chOff x="5387760" y="1552320"/>
            <a:chExt cx="1416240" cy="3886200"/>
          </a:xfrm>
        </p:grpSpPr>
        <p:cxnSp>
          <p:nvCxnSpPr>
            <p:cNvPr id="147" name="直接连接符 7"/>
            <p:cNvCxnSpPr/>
            <p:nvPr/>
          </p:nvCxnSpPr>
          <p:spPr>
            <a:xfrm>
              <a:off x="5387760" y="1552320"/>
              <a:ext cx="1416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48" name="直接连接符 8"/>
            <p:cNvCxnSpPr/>
            <p:nvPr/>
          </p:nvCxnSpPr>
          <p:spPr>
            <a:xfrm>
              <a:off x="5387760" y="5438520"/>
              <a:ext cx="141660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5"/>
          <p:cNvSpPr/>
          <p:nvPr/>
        </p:nvSpPr>
        <p:spPr>
          <a:xfrm>
            <a:off x="2897640" y="1389600"/>
            <a:ext cx="6606000" cy="2125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两个重要系统</a:t>
            </a:r>
            <a:r>
              <a:rPr b="0" lang="en-US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一是 </a:t>
            </a:r>
            <a:r>
              <a:rPr b="0" lang="zh-CN" sz="66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微信 </a:t>
            </a:r>
            <a:r>
              <a:rPr b="0" lang="zh-CN" sz="32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，二是 </a:t>
            </a:r>
            <a:r>
              <a:rPr b="0" lang="zh-CN" sz="54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网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2743200" y="3733920"/>
            <a:ext cx="670536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595959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我们只是客户生活中很小的一部分，如果能在客户微信列表有一席之地，已属非常难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595959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网站的使用门槛已经明显高于微信，它存在的意义是为了应对商务谈判、将客户引至微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组合 29"/>
          <p:cNvGrpSpPr/>
          <p:nvPr/>
        </p:nvGrpSpPr>
        <p:grpSpPr>
          <a:xfrm>
            <a:off x="5413320" y="2195640"/>
            <a:ext cx="1364760" cy="3898440"/>
            <a:chOff x="5413320" y="2195640"/>
            <a:chExt cx="1364760" cy="3898440"/>
          </a:xfrm>
        </p:grpSpPr>
        <p:sp>
          <p:nvSpPr>
            <p:cNvPr id="152" name="椭圆 22"/>
            <p:cNvSpPr/>
            <p:nvPr/>
          </p:nvSpPr>
          <p:spPr>
            <a:xfrm>
              <a:off x="5413320" y="2195640"/>
              <a:ext cx="1364760" cy="1364760"/>
            </a:xfrm>
            <a:prstGeom prst="ellipse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信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发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25"/>
            <p:cNvSpPr/>
            <p:nvPr/>
          </p:nvSpPr>
          <p:spPr>
            <a:xfrm>
              <a:off x="5413320" y="3462480"/>
              <a:ext cx="1364760" cy="1364760"/>
            </a:xfrm>
            <a:prstGeom prst="ellipse">
              <a:avLst/>
            </a:prstGeom>
            <a:solidFill>
              <a:srgbClr val="018d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微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会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28"/>
            <p:cNvSpPr/>
            <p:nvPr/>
          </p:nvSpPr>
          <p:spPr>
            <a:xfrm>
              <a:off x="5413320" y="4729320"/>
              <a:ext cx="1364760" cy="1364760"/>
            </a:xfrm>
            <a:prstGeom prst="ellipse">
              <a:avLst/>
            </a:prstGeom>
            <a:solidFill>
              <a:srgbClr val="5b9b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在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下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5" name="直接连接符 30"/>
          <p:cNvCxnSpPr/>
          <p:nvPr/>
        </p:nvCxnSpPr>
        <p:spPr>
          <a:xfrm flipH="1">
            <a:off x="6734160" y="2873160"/>
            <a:ext cx="667080" cy="360"/>
          </a:xfrm>
          <a:prstGeom prst="straightConnector1">
            <a:avLst/>
          </a:prstGeom>
          <a:ln w="22225">
            <a:solidFill>
              <a:srgbClr val="ff9966"/>
            </a:solidFill>
            <a:prstDash val="sysDot"/>
            <a:tailEnd len="lg" type="oval" w="lg"/>
          </a:ln>
        </p:spPr>
      </p:cxnSp>
      <p:sp>
        <p:nvSpPr>
          <p:cNvPr id="156" name="矩形 31"/>
          <p:cNvSpPr/>
          <p:nvPr/>
        </p:nvSpPr>
        <p:spPr>
          <a:xfrm>
            <a:off x="7696080" y="2351160"/>
            <a:ext cx="3263400" cy="1113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产品信息投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客户接触、关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接连接符 34"/>
          <p:cNvCxnSpPr/>
          <p:nvPr/>
        </p:nvCxnSpPr>
        <p:spPr>
          <a:xfrm flipH="1">
            <a:off x="6734160" y="5416200"/>
            <a:ext cx="667080" cy="360"/>
          </a:xfrm>
          <a:prstGeom prst="straightConnector1">
            <a:avLst/>
          </a:prstGeom>
          <a:ln w="22225">
            <a:solidFill>
              <a:srgbClr val="ff9966"/>
            </a:solidFill>
            <a:prstDash val="sysDot"/>
            <a:tailEnd len="lg" type="oval" w="lg"/>
          </a:ln>
        </p:spPr>
      </p:cxnSp>
      <p:sp>
        <p:nvSpPr>
          <p:cNvPr id="158" name="矩形 35"/>
          <p:cNvSpPr/>
          <p:nvPr/>
        </p:nvSpPr>
        <p:spPr>
          <a:xfrm>
            <a:off x="7696080" y="4884840"/>
            <a:ext cx="3263400" cy="1113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促使最终成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对接后台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直接连接符 36"/>
          <p:cNvCxnSpPr/>
          <p:nvPr/>
        </p:nvCxnSpPr>
        <p:spPr>
          <a:xfrm>
            <a:off x="4829040" y="4184640"/>
            <a:ext cx="667080" cy="360"/>
          </a:xfrm>
          <a:prstGeom prst="straightConnector1">
            <a:avLst/>
          </a:prstGeom>
          <a:ln w="22225">
            <a:solidFill>
              <a:srgbClr val="ff9966"/>
            </a:solidFill>
            <a:prstDash val="sysDot"/>
            <a:tailEnd len="lg" type="oval" w="lg"/>
          </a:ln>
        </p:spPr>
      </p:cxnSp>
      <p:sp>
        <p:nvSpPr>
          <p:cNvPr id="160" name="矩形 37"/>
          <p:cNvSpPr/>
          <p:nvPr/>
        </p:nvSpPr>
        <p:spPr>
          <a:xfrm>
            <a:off x="1565280" y="3375000"/>
            <a:ext cx="326340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</a:pPr>
            <a:r>
              <a:rPr b="0" lang="zh-CN" sz="40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线上线下打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4000" spc="-1" strike="noStrike">
                <a:solidFill>
                  <a:srgbClr val="ff9966"/>
                </a:solidFill>
                <a:latin typeface="造字工房力黑（非商用）常规体"/>
                <a:ea typeface="造字工房力黑（非商用）常规体"/>
              </a:rPr>
              <a:t>客户引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8"/>
          <p:cNvSpPr/>
          <p:nvPr/>
        </p:nvSpPr>
        <p:spPr>
          <a:xfrm>
            <a:off x="2595600" y="801000"/>
            <a:ext cx="7000560" cy="1243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zh-CN" sz="3600" spc="-1" strike="noStrike">
                <a:solidFill>
                  <a:srgbClr val="0070c0"/>
                </a:solidFill>
                <a:latin typeface="微软雅黑 Light"/>
                <a:ea typeface="微软雅黑 Light"/>
              </a:rPr>
              <a:t>微信平台各功能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20760" y="6318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328</Words>
  <Paragraphs>53</Paragraphs>
  <Company>HNCXK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14:23:47Z</dcterms:created>
  <dc:creator>刘哲涛</dc:creator>
  <dc:description/>
  <dc:language>en-US</dc:language>
  <cp:lastModifiedBy>王玉清</cp:lastModifiedBy>
  <dcterms:modified xsi:type="dcterms:W3CDTF">2016-03-05T09:22:29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