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5BFF-C5F9-44A8-8B6C-41F59027E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B381-9DCD-4E30-BFB3-B72678D3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5F0C-14F6-4167-99B8-608BCB503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F330-7EB9-4E62-9801-48A8C0611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8C89-DAE2-4EE7-91B5-63D25074D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206D-4602-4DDA-80E4-108FEB00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567D-5CB9-4BCD-BFB4-2D3D4DAC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A105-3997-4278-B4A0-238C2D02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4C06-5A40-4788-87D1-492213B7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761760" y="45684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EA54-77B6-496F-8F32-41AB6E96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050B-8D28-47A4-A700-A056FD32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12C5-F582-4273-9212-CB4F5DFC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E4B3-7B67-48B1-96D9-86AFAE86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2EE6-72E4-425C-9BD6-DA116C84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0DBD-7695-435D-8130-5E92250B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D699-91C4-4C95-9835-154636762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C996-EF99-4ADD-95B3-390C0A286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D789-A085-4247-8450-3855C2FA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E2A4-D327-4900-A048-5CF506B4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0267-8F60-45FF-B8F4-D5A8B8A1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761760" y="45684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DB6C-D930-4946-A68E-AAD3B582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A2DF-B54E-415C-8940-25ED4C77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0FA7-E9DF-40E8-B0E1-892B8945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1867-1A85-4A0B-8029-DA1CF974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6ecd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9"/>
          <p:cNvSpPr/>
          <p:nvPr/>
        </p:nvSpPr>
        <p:spPr>
          <a:xfrm>
            <a:off x="1752480" y="5562720"/>
            <a:ext cx="1143000" cy="1066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9cbe9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7238880" y="5943600"/>
            <a:ext cx="1904760" cy="914400"/>
            <a:chOff x="7238880" y="5943600"/>
            <a:chExt cx="1904760" cy="914400"/>
          </a:xfrm>
        </p:grpSpPr>
        <p:pic>
          <p:nvPicPr>
            <p:cNvPr id="3" name="Picture 11" descr="03"/>
            <p:cNvPicPr/>
            <p:nvPr/>
          </p:nvPicPr>
          <p:blipFill>
            <a:blip r:embed="rId2"/>
            <a:stretch/>
          </p:blipFill>
          <p:spPr>
            <a:xfrm rot="3067800">
              <a:off x="8172000" y="6242760"/>
              <a:ext cx="383760" cy="1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12" descr="02"/>
            <p:cNvPicPr/>
            <p:nvPr/>
          </p:nvPicPr>
          <p:blipFill>
            <a:blip r:embed="rId3"/>
            <a:stretch/>
          </p:blipFill>
          <p:spPr>
            <a:xfrm rot="1840200">
              <a:off x="7590960" y="6225120"/>
              <a:ext cx="917280" cy="1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13" descr="02"/>
            <p:cNvPicPr/>
            <p:nvPr/>
          </p:nvPicPr>
          <p:blipFill>
            <a:blip r:embed="rId4"/>
            <a:stretch/>
          </p:blipFill>
          <p:spPr>
            <a:xfrm rot="895200">
              <a:off x="7339680" y="6401880"/>
              <a:ext cx="1067400" cy="1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4" descr="02"/>
            <p:cNvPicPr/>
            <p:nvPr/>
          </p:nvPicPr>
          <p:blipFill>
            <a:blip r:embed="rId5"/>
            <a:stretch/>
          </p:blipFill>
          <p:spPr>
            <a:xfrm>
              <a:off x="7238880" y="6661080"/>
              <a:ext cx="116856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15" descr="04"/>
            <p:cNvPicPr/>
            <p:nvPr/>
          </p:nvPicPr>
          <p:blipFill>
            <a:blip r:embed="rId6"/>
            <a:stretch/>
          </p:blipFill>
          <p:spPr>
            <a:xfrm>
              <a:off x="8172000" y="5943600"/>
              <a:ext cx="97164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274320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4191120" y="6476760"/>
            <a:ext cx="838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9402-8B97-496E-BF0D-8EC7B38B802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Picture 22" descr="07"/>
          <p:cNvPicPr/>
          <p:nvPr/>
        </p:nvPicPr>
        <p:blipFill>
          <a:blip r:embed="rId7"/>
          <a:stretch/>
        </p:blipFill>
        <p:spPr>
          <a:xfrm>
            <a:off x="0" y="0"/>
            <a:ext cx="914400" cy="1066680"/>
          </a:xfrm>
          <a:prstGeom prst="rect">
            <a:avLst/>
          </a:prstGeom>
          <a:ln w="0">
            <a:noFill/>
          </a:ln>
        </p:spPr>
      </p:pic>
      <p:sp>
        <p:nvSpPr>
          <p:cNvPr id="12" name="Oval 29"/>
          <p:cNvSpPr/>
          <p:nvPr/>
        </p:nvSpPr>
        <p:spPr>
          <a:xfrm>
            <a:off x="-457200" y="4343400"/>
            <a:ext cx="2590920" cy="2743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6ecdf">
                  <a:alpha val="24313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" name="Group 30"/>
          <p:cNvGrpSpPr/>
          <p:nvPr/>
        </p:nvGrpSpPr>
        <p:grpSpPr>
          <a:xfrm>
            <a:off x="7696080" y="228600"/>
            <a:ext cx="1219320" cy="1066680"/>
            <a:chOff x="7696080" y="228600"/>
            <a:chExt cx="1219320" cy="1066680"/>
          </a:xfrm>
        </p:grpSpPr>
        <p:sp>
          <p:nvSpPr>
            <p:cNvPr id="14" name="Oval 23"/>
            <p:cNvSpPr/>
            <p:nvPr/>
          </p:nvSpPr>
          <p:spPr>
            <a:xfrm>
              <a:off x="7696080" y="279360"/>
              <a:ext cx="1024200" cy="1015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8c1fa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28"/>
            <p:cNvSpPr/>
            <p:nvPr/>
          </p:nvSpPr>
          <p:spPr>
            <a:xfrm>
              <a:off x="8427600" y="228600"/>
              <a:ext cx="487800" cy="507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9cbe9">
                    <a:alpha val="2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PlaceHolder 5"/>
          <p:cNvSpPr>
            <a:spLocks noGrp="1"/>
          </p:cNvSpPr>
          <p:nvPr>
            <p:ph type="title"/>
          </p:nvPr>
        </p:nvSpPr>
        <p:spPr>
          <a:xfrm>
            <a:off x="76176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6ecd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val 20"/>
          <p:cNvSpPr/>
          <p:nvPr/>
        </p:nvSpPr>
        <p:spPr>
          <a:xfrm>
            <a:off x="1143000" y="1600200"/>
            <a:ext cx="5181480" cy="5257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4e0cc">
                  <a:alpha val="3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7"/>
          <p:cNvSpPr/>
          <p:nvPr/>
        </p:nvSpPr>
        <p:spPr>
          <a:xfrm>
            <a:off x="5562720" y="3581280"/>
            <a:ext cx="2209680" cy="2227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8b888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8"/>
          <p:cNvSpPr/>
          <p:nvPr/>
        </p:nvSpPr>
        <p:spPr>
          <a:xfrm>
            <a:off x="7772400" y="228600"/>
            <a:ext cx="106668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9cbe9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3"/>
          <p:cNvSpPr/>
          <p:nvPr/>
        </p:nvSpPr>
        <p:spPr>
          <a:xfrm>
            <a:off x="7796520" y="536400"/>
            <a:ext cx="10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/O/G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6" descr="09"/>
          <p:cNvPicPr/>
          <p:nvPr/>
        </p:nvPicPr>
        <p:blipFill>
          <a:blip r:embed="rId2"/>
          <a:srcRect l="31973" t="0" r="12269" b="0"/>
          <a:stretch/>
        </p:blipFill>
        <p:spPr>
          <a:xfrm>
            <a:off x="0" y="0"/>
            <a:ext cx="5715000" cy="6854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03"/>
          <p:cNvPicPr/>
          <p:nvPr/>
        </p:nvPicPr>
        <p:blipFill>
          <a:blip r:embed="rId3"/>
          <a:stretch/>
        </p:blipFill>
        <p:spPr>
          <a:xfrm rot="3067800">
            <a:off x="7176600" y="5644800"/>
            <a:ext cx="754200" cy="268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02"/>
          <p:cNvPicPr/>
          <p:nvPr/>
        </p:nvPicPr>
        <p:blipFill>
          <a:blip r:embed="rId4"/>
          <a:stretch/>
        </p:blipFill>
        <p:spPr>
          <a:xfrm rot="1840200">
            <a:off x="5978160" y="5614920"/>
            <a:ext cx="1870200" cy="303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02"/>
          <p:cNvPicPr/>
          <p:nvPr/>
        </p:nvPicPr>
        <p:blipFill>
          <a:blip r:embed="rId5"/>
          <a:stretch/>
        </p:blipFill>
        <p:spPr>
          <a:xfrm rot="895200">
            <a:off x="5463720" y="5962680"/>
            <a:ext cx="2178000" cy="353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02"/>
          <p:cNvPicPr/>
          <p:nvPr/>
        </p:nvPicPr>
        <p:blipFill>
          <a:blip r:embed="rId6"/>
          <a:stretch/>
        </p:blipFill>
        <p:spPr>
          <a:xfrm>
            <a:off x="5257800" y="6470640"/>
            <a:ext cx="2384280" cy="387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04"/>
          <p:cNvPicPr/>
          <p:nvPr/>
        </p:nvPicPr>
        <p:blipFill>
          <a:blip r:embed="rId7"/>
          <a:stretch/>
        </p:blipFill>
        <p:spPr>
          <a:xfrm>
            <a:off x="7162920" y="5059440"/>
            <a:ext cx="1981080" cy="17985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76176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74320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4191120" y="6476760"/>
            <a:ext cx="838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F67D-F564-4E6E-936E-45A3AD1E10B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image" Target="../media/image11.png"/><Relationship Id="rId6" Type="http://schemas.openxmlformats.org/officeDocument/2006/relationships/image" Target="../media/image12.wmf"/><Relationship Id="rId7" Type="http://schemas.openxmlformats.org/officeDocument/2006/relationships/image" Target="../media/image11.png"/><Relationship Id="rId8" Type="http://schemas.openxmlformats.org/officeDocument/2006/relationships/image" Target="../media/image12.wmf"/><Relationship Id="rId9" Type="http://schemas.openxmlformats.org/officeDocument/2006/relationships/image" Target="../media/image11.png"/><Relationship Id="rId10" Type="http://schemas.openxmlformats.org/officeDocument/2006/relationships/image" Target="../media/image12.wmf"/><Relationship Id="rId11" Type="http://schemas.openxmlformats.org/officeDocument/2006/relationships/image" Target="../media/image11.png"/><Relationship Id="rId12" Type="http://schemas.openxmlformats.org/officeDocument/2006/relationships/image" Target="../media/image12.wmf"/><Relationship Id="rId13" Type="http://schemas.openxmlformats.org/officeDocument/2006/relationships/hyperlink" Target="http://www.eeppt.com" TargetMode="Externa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6ecd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63560" y="260280"/>
            <a:ext cx="377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化妆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6ecd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ontents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AutoShape 48"/>
          <p:cNvSpPr/>
          <p:nvPr/>
        </p:nvSpPr>
        <p:spPr>
          <a:xfrm>
            <a:off x="1697040" y="2558880"/>
            <a:ext cx="5311800" cy="457200"/>
          </a:xfrm>
          <a:prstGeom prst="roundRect">
            <a:avLst>
              <a:gd name="adj" fmla="val 7292"/>
            </a:avLst>
          </a:prstGeom>
          <a:gradFill rotWithShape="0">
            <a:gsLst>
              <a:gs pos="0">
                <a:srgbClr val="907254"/>
              </a:gs>
              <a:gs pos="100000">
                <a:srgbClr val="e8b888"/>
              </a:gs>
            </a:gsLst>
            <a:lin ang="5400000"/>
          </a:gradFill>
          <a:ln w="936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9"/>
          <p:cNvSpPr/>
          <p:nvPr/>
        </p:nvSpPr>
        <p:spPr>
          <a:xfrm>
            <a:off x="1697040" y="2558880"/>
            <a:ext cx="5311800" cy="150840"/>
          </a:xfrm>
          <a:prstGeom prst="roundRect">
            <a:avLst>
              <a:gd name="adj" fmla="val 26389"/>
            </a:avLst>
          </a:prstGeom>
          <a:solidFill>
            <a:srgbClr val="f8f8f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0"/>
          <p:cNvSpPr/>
          <p:nvPr/>
        </p:nvSpPr>
        <p:spPr>
          <a:xfrm>
            <a:off x="2476440" y="2557440"/>
            <a:ext cx="41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51"/>
          <p:cNvGrpSpPr/>
          <p:nvPr/>
        </p:nvGrpSpPr>
        <p:grpSpPr>
          <a:xfrm>
            <a:off x="1922400" y="2562120"/>
            <a:ext cx="428760" cy="428760"/>
            <a:chOff x="1922400" y="2562120"/>
            <a:chExt cx="428760" cy="428760"/>
          </a:xfrm>
        </p:grpSpPr>
        <p:sp>
          <p:nvSpPr>
            <p:cNvPr id="111" name="Oval 52"/>
            <p:cNvSpPr/>
            <p:nvPr/>
          </p:nvSpPr>
          <p:spPr>
            <a:xfrm>
              <a:off x="1922400" y="2562120"/>
              <a:ext cx="428760" cy="4287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53"/>
            <p:cNvSpPr/>
            <p:nvPr/>
          </p:nvSpPr>
          <p:spPr>
            <a:xfrm>
              <a:off x="1927800" y="2564280"/>
              <a:ext cx="418680" cy="418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54"/>
            <p:cNvSpPr/>
            <p:nvPr/>
          </p:nvSpPr>
          <p:spPr>
            <a:xfrm>
              <a:off x="1932120" y="2568600"/>
              <a:ext cx="398160" cy="3909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55"/>
            <p:cNvSpPr/>
            <p:nvPr/>
          </p:nvSpPr>
          <p:spPr>
            <a:xfrm>
              <a:off x="1955520" y="2579400"/>
              <a:ext cx="353880" cy="317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 Box 56"/>
          <p:cNvSpPr/>
          <p:nvPr/>
        </p:nvSpPr>
        <p:spPr>
          <a:xfrm>
            <a:off x="1936800" y="25462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57"/>
          <p:cNvGrpSpPr/>
          <p:nvPr/>
        </p:nvGrpSpPr>
        <p:grpSpPr>
          <a:xfrm>
            <a:off x="1698480" y="3213000"/>
            <a:ext cx="5311800" cy="457200"/>
            <a:chOff x="1698480" y="3213000"/>
            <a:chExt cx="5311800" cy="457200"/>
          </a:xfrm>
        </p:grpSpPr>
        <p:sp>
          <p:nvSpPr>
            <p:cNvPr id="117" name="AutoShape 58"/>
            <p:cNvSpPr/>
            <p:nvPr/>
          </p:nvSpPr>
          <p:spPr>
            <a:xfrm>
              <a:off x="1698480" y="3213000"/>
              <a:ext cx="5311800" cy="457200"/>
            </a:xfrm>
            <a:prstGeom prst="roundRect">
              <a:avLst>
                <a:gd name="adj" fmla="val 7292"/>
              </a:avLst>
            </a:prstGeom>
            <a:gradFill rotWithShape="0">
              <a:gsLst>
                <a:gs pos="0">
                  <a:srgbClr val="668c7f"/>
                </a:gs>
                <a:gs pos="100000">
                  <a:srgbClr val="a4e0cc"/>
                </a:gs>
              </a:gsLst>
              <a:lin ang="5400000"/>
            </a:gradFill>
            <a:ln w="9360">
              <a:solidFill>
                <a:srgbClr val="ffffff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59"/>
            <p:cNvSpPr/>
            <p:nvPr/>
          </p:nvSpPr>
          <p:spPr>
            <a:xfrm>
              <a:off x="1698480" y="3213000"/>
              <a:ext cx="5311800" cy="150840"/>
            </a:xfrm>
            <a:prstGeom prst="roundRect">
              <a:avLst>
                <a:gd name="adj" fmla="val 26389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60"/>
          <p:cNvSpPr/>
          <p:nvPr/>
        </p:nvSpPr>
        <p:spPr>
          <a:xfrm>
            <a:off x="2475000" y="3211560"/>
            <a:ext cx="40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61"/>
          <p:cNvGrpSpPr/>
          <p:nvPr/>
        </p:nvGrpSpPr>
        <p:grpSpPr>
          <a:xfrm>
            <a:off x="1901880" y="3216240"/>
            <a:ext cx="428400" cy="428760"/>
            <a:chOff x="1901880" y="3216240"/>
            <a:chExt cx="428400" cy="428760"/>
          </a:xfrm>
        </p:grpSpPr>
        <p:sp>
          <p:nvSpPr>
            <p:cNvPr id="121" name="Oval 62"/>
            <p:cNvSpPr/>
            <p:nvPr/>
          </p:nvSpPr>
          <p:spPr>
            <a:xfrm>
              <a:off x="1901880" y="3216240"/>
              <a:ext cx="428400" cy="4287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63"/>
            <p:cNvSpPr/>
            <p:nvPr/>
          </p:nvSpPr>
          <p:spPr>
            <a:xfrm>
              <a:off x="1907280" y="3218400"/>
              <a:ext cx="418320" cy="418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64"/>
            <p:cNvSpPr/>
            <p:nvPr/>
          </p:nvSpPr>
          <p:spPr>
            <a:xfrm>
              <a:off x="1911600" y="3222720"/>
              <a:ext cx="397800" cy="3909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65"/>
            <p:cNvSpPr/>
            <p:nvPr/>
          </p:nvSpPr>
          <p:spPr>
            <a:xfrm>
              <a:off x="1935000" y="3233520"/>
              <a:ext cx="353520" cy="317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 Box 66"/>
          <p:cNvSpPr/>
          <p:nvPr/>
        </p:nvSpPr>
        <p:spPr>
          <a:xfrm>
            <a:off x="1925640" y="32004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67"/>
          <p:cNvGrpSpPr/>
          <p:nvPr/>
        </p:nvGrpSpPr>
        <p:grpSpPr>
          <a:xfrm>
            <a:off x="1731960" y="3887640"/>
            <a:ext cx="5311800" cy="457200"/>
            <a:chOff x="1731960" y="3887640"/>
            <a:chExt cx="5311800" cy="457200"/>
          </a:xfrm>
        </p:grpSpPr>
        <p:sp>
          <p:nvSpPr>
            <p:cNvPr id="127" name="AutoShape 68"/>
            <p:cNvSpPr/>
            <p:nvPr/>
          </p:nvSpPr>
          <p:spPr>
            <a:xfrm>
              <a:off x="1731960" y="3887640"/>
              <a:ext cx="5311800" cy="457200"/>
            </a:xfrm>
            <a:prstGeom prst="roundRect">
              <a:avLst>
                <a:gd name="adj" fmla="val 7292"/>
              </a:avLst>
            </a:prstGeom>
            <a:gradFill rotWithShape="0">
              <a:gsLst>
                <a:gs pos="0">
                  <a:srgbClr val="976e7f"/>
                </a:gs>
                <a:gs pos="100000">
                  <a:srgbClr val="f2b0cc"/>
                </a:gs>
              </a:gsLst>
              <a:lin ang="5400000"/>
            </a:gradFill>
            <a:ln w="9360">
              <a:solidFill>
                <a:srgbClr val="ffffff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69"/>
            <p:cNvSpPr/>
            <p:nvPr/>
          </p:nvSpPr>
          <p:spPr>
            <a:xfrm>
              <a:off x="1731960" y="3887640"/>
              <a:ext cx="5311800" cy="150840"/>
            </a:xfrm>
            <a:prstGeom prst="roundRect">
              <a:avLst>
                <a:gd name="adj" fmla="val 26389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70"/>
          <p:cNvSpPr/>
          <p:nvPr/>
        </p:nvSpPr>
        <p:spPr>
          <a:xfrm>
            <a:off x="2489040" y="3886200"/>
            <a:ext cx="41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71"/>
          <p:cNvGrpSpPr/>
          <p:nvPr/>
        </p:nvGrpSpPr>
        <p:grpSpPr>
          <a:xfrm>
            <a:off x="1935000" y="3902040"/>
            <a:ext cx="428760" cy="428760"/>
            <a:chOff x="1935000" y="3902040"/>
            <a:chExt cx="428760" cy="428760"/>
          </a:xfrm>
        </p:grpSpPr>
        <p:sp>
          <p:nvSpPr>
            <p:cNvPr id="131" name="Oval 72"/>
            <p:cNvSpPr/>
            <p:nvPr/>
          </p:nvSpPr>
          <p:spPr>
            <a:xfrm>
              <a:off x="1935000" y="3902040"/>
              <a:ext cx="428760" cy="4287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73"/>
            <p:cNvSpPr/>
            <p:nvPr/>
          </p:nvSpPr>
          <p:spPr>
            <a:xfrm>
              <a:off x="1940400" y="3904200"/>
              <a:ext cx="418680" cy="418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74"/>
            <p:cNvSpPr/>
            <p:nvPr/>
          </p:nvSpPr>
          <p:spPr>
            <a:xfrm>
              <a:off x="1944720" y="3908520"/>
              <a:ext cx="398160" cy="3909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75"/>
            <p:cNvSpPr/>
            <p:nvPr/>
          </p:nvSpPr>
          <p:spPr>
            <a:xfrm>
              <a:off x="1968120" y="3919320"/>
              <a:ext cx="353880" cy="317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 Box 76"/>
          <p:cNvSpPr/>
          <p:nvPr/>
        </p:nvSpPr>
        <p:spPr>
          <a:xfrm>
            <a:off x="1959120" y="38862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77"/>
          <p:cNvGrpSpPr/>
          <p:nvPr/>
        </p:nvGrpSpPr>
        <p:grpSpPr>
          <a:xfrm>
            <a:off x="1763640" y="4508640"/>
            <a:ext cx="5311800" cy="457200"/>
            <a:chOff x="1763640" y="4508640"/>
            <a:chExt cx="5311800" cy="457200"/>
          </a:xfrm>
        </p:grpSpPr>
        <p:sp>
          <p:nvSpPr>
            <p:cNvPr id="137" name="AutoShape 78"/>
            <p:cNvSpPr/>
            <p:nvPr/>
          </p:nvSpPr>
          <p:spPr>
            <a:xfrm>
              <a:off x="1763640" y="4508640"/>
              <a:ext cx="5311800" cy="457200"/>
            </a:xfrm>
            <a:prstGeom prst="roundRect">
              <a:avLst>
                <a:gd name="adj" fmla="val 7292"/>
              </a:avLst>
            </a:prstGeom>
            <a:gradFill rotWithShape="0">
              <a:gsLst>
                <a:gs pos="0">
                  <a:srgbClr val="697f91"/>
                </a:gs>
                <a:gs pos="100000">
                  <a:srgbClr val="a9cbe9"/>
                </a:gs>
              </a:gsLst>
              <a:lin ang="5400000"/>
            </a:gradFill>
            <a:ln w="9360">
              <a:solidFill>
                <a:srgbClr val="fffff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79"/>
            <p:cNvSpPr/>
            <p:nvPr/>
          </p:nvSpPr>
          <p:spPr>
            <a:xfrm>
              <a:off x="1763640" y="4508640"/>
              <a:ext cx="5311800" cy="150840"/>
            </a:xfrm>
            <a:prstGeom prst="roundRect">
              <a:avLst>
                <a:gd name="adj" fmla="val 26389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Text Box 80"/>
          <p:cNvSpPr/>
          <p:nvPr/>
        </p:nvSpPr>
        <p:spPr>
          <a:xfrm>
            <a:off x="2511360" y="4495680"/>
            <a:ext cx="39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81"/>
          <p:cNvGrpSpPr/>
          <p:nvPr/>
        </p:nvGrpSpPr>
        <p:grpSpPr>
          <a:xfrm>
            <a:off x="1967040" y="4511520"/>
            <a:ext cx="428400" cy="428760"/>
            <a:chOff x="1967040" y="4511520"/>
            <a:chExt cx="428400" cy="428760"/>
          </a:xfrm>
        </p:grpSpPr>
        <p:sp>
          <p:nvSpPr>
            <p:cNvPr id="141" name="Oval 82"/>
            <p:cNvSpPr/>
            <p:nvPr/>
          </p:nvSpPr>
          <p:spPr>
            <a:xfrm>
              <a:off x="1967040" y="4511520"/>
              <a:ext cx="428400" cy="4287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83"/>
            <p:cNvSpPr/>
            <p:nvPr/>
          </p:nvSpPr>
          <p:spPr>
            <a:xfrm>
              <a:off x="1972440" y="4513680"/>
              <a:ext cx="418320" cy="418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84"/>
            <p:cNvSpPr/>
            <p:nvPr/>
          </p:nvSpPr>
          <p:spPr>
            <a:xfrm>
              <a:off x="1976760" y="4518000"/>
              <a:ext cx="397800" cy="3909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85"/>
            <p:cNvSpPr/>
            <p:nvPr/>
          </p:nvSpPr>
          <p:spPr>
            <a:xfrm>
              <a:off x="2000160" y="4528800"/>
              <a:ext cx="353520" cy="317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ext Box 86"/>
          <p:cNvSpPr/>
          <p:nvPr/>
        </p:nvSpPr>
        <p:spPr>
          <a:xfrm>
            <a:off x="1981080" y="44956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6ecd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Hot Tip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086600" cy="33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371600" y="5394240"/>
            <a:ext cx="5867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Image information in product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itle Image : www.1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Note to customers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may not extract the image for any other use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6ecd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Freeform 3"/>
          <p:cNvSpPr/>
          <p:nvPr/>
        </p:nvSpPr>
        <p:spPr>
          <a:xfrm flipH="1">
            <a:off x="1065960" y="1828800"/>
            <a:ext cx="2063880" cy="172872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a4e0cc"/>
              </a:gs>
              <a:gs pos="100000">
                <a:srgbClr val="d1efe5"/>
              </a:gs>
            </a:gsLst>
            <a:lin ang="135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4"/>
          <p:cNvSpPr/>
          <p:nvPr/>
        </p:nvSpPr>
        <p:spPr>
          <a:xfrm>
            <a:off x="3368520" y="1828800"/>
            <a:ext cx="2063880" cy="172872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e8b888"/>
              </a:gs>
              <a:gs pos="100000">
                <a:srgbClr val="f6e3cf"/>
              </a:gs>
            </a:gsLst>
            <a:lin ang="135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5"/>
          <p:cNvSpPr/>
          <p:nvPr/>
        </p:nvSpPr>
        <p:spPr>
          <a:xfrm>
            <a:off x="1066680" y="3843360"/>
            <a:ext cx="2063880" cy="172872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f9dce9"/>
              </a:gs>
              <a:gs pos="100000">
                <a:srgbClr val="f2b0cc"/>
              </a:gs>
            </a:gsLst>
            <a:lin ang="135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6"/>
          <p:cNvSpPr/>
          <p:nvPr/>
        </p:nvSpPr>
        <p:spPr>
          <a:xfrm flipH="1">
            <a:off x="3367800" y="3843360"/>
            <a:ext cx="2063880" cy="172872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d1e3f3"/>
              </a:gs>
              <a:gs pos="100000">
                <a:srgbClr val="a9cbe9"/>
              </a:gs>
            </a:gsLst>
            <a:lin ang="135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7"/>
          <p:cNvSpPr/>
          <p:nvPr/>
        </p:nvSpPr>
        <p:spPr>
          <a:xfrm>
            <a:off x="2209680" y="2646360"/>
            <a:ext cx="2081160" cy="2082960"/>
          </a:xfrm>
          <a:prstGeom prst="ellipse">
            <a:avLst/>
          </a:prstGeom>
          <a:solidFill>
            <a:srgbClr val="fe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1268280" y="2232000"/>
            <a:ext cx="157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3619440" y="2232000"/>
            <a:ext cx="157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1276200" y="4782960"/>
            <a:ext cx="157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3619440" y="4782960"/>
            <a:ext cx="157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2478240" y="3105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3581640" y="3105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4"/>
          <p:cNvSpPr/>
          <p:nvPr/>
        </p:nvSpPr>
        <p:spPr>
          <a:xfrm>
            <a:off x="2478240" y="40482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5"/>
          <p:cNvSpPr/>
          <p:nvPr/>
        </p:nvSpPr>
        <p:spPr>
          <a:xfrm>
            <a:off x="3581640" y="40482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5638680" y="2819520"/>
            <a:ext cx="28195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  <a:ea typeface="宋体"/>
              </a:rPr>
              <a:t>Design Digital Content &amp; Contents mal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 developed by Guild Design In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5640" y="981000"/>
            <a:ext cx="503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9cbe9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6ecd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Oval 3"/>
          <p:cNvSpPr/>
          <p:nvPr/>
        </p:nvSpPr>
        <p:spPr>
          <a:xfrm>
            <a:off x="5221440" y="2133720"/>
            <a:ext cx="2971800" cy="2971800"/>
          </a:xfrm>
          <a:prstGeom prst="ellipse">
            <a:avLst/>
          </a:prstGeom>
          <a:noFill/>
          <a:ln w="38160">
            <a:solidFill>
              <a:srgbClr val="f2b0cc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860400" y="2133720"/>
            <a:ext cx="2971800" cy="2971800"/>
          </a:xfrm>
          <a:prstGeom prst="ellipse">
            <a:avLst/>
          </a:prstGeom>
          <a:noFill/>
          <a:ln w="38160">
            <a:solidFill>
              <a:srgbClr val="a9cbe9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1365120" y="3156120"/>
            <a:ext cx="164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15"/>
          <p:cNvGrpSpPr/>
          <p:nvPr/>
        </p:nvGrpSpPr>
        <p:grpSpPr>
          <a:xfrm>
            <a:off x="1285920" y="1744560"/>
            <a:ext cx="1000080" cy="978120"/>
            <a:chOff x="1285920" y="1744560"/>
            <a:chExt cx="1000080" cy="978120"/>
          </a:xfrm>
        </p:grpSpPr>
        <p:grpSp>
          <p:nvGrpSpPr>
            <p:cNvPr id="170" name="Group 16"/>
            <p:cNvGrpSpPr/>
            <p:nvPr/>
          </p:nvGrpSpPr>
          <p:grpSpPr>
            <a:xfrm>
              <a:off x="1285920" y="1744560"/>
              <a:ext cx="1000080" cy="978120"/>
              <a:chOff x="1285920" y="1744560"/>
              <a:chExt cx="1000080" cy="978120"/>
            </a:xfrm>
          </p:grpSpPr>
          <p:pic>
            <p:nvPicPr>
              <p:cNvPr id="171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285920" y="174456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" name="Oval 18"/>
              <p:cNvSpPr/>
              <p:nvPr/>
            </p:nvSpPr>
            <p:spPr>
              <a:xfrm>
                <a:off x="1285920" y="174456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a9cbe9"/>
                  </a:gs>
                  <a:gs pos="50000">
                    <a:srgbClr val="4e5e6c"/>
                  </a:gs>
                  <a:gs pos="100000">
                    <a:srgbClr val="a9cb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3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385640" y="1753920"/>
              <a:ext cx="789840" cy="34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Text Box 9"/>
          <p:cNvSpPr/>
          <p:nvPr/>
        </p:nvSpPr>
        <p:spPr>
          <a:xfrm>
            <a:off x="6072120" y="3156120"/>
            <a:ext cx="164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45"/>
          <p:cNvGrpSpPr/>
          <p:nvPr/>
        </p:nvGrpSpPr>
        <p:grpSpPr>
          <a:xfrm>
            <a:off x="6799320" y="1774800"/>
            <a:ext cx="1000080" cy="977760"/>
            <a:chOff x="6799320" y="1774800"/>
            <a:chExt cx="1000080" cy="977760"/>
          </a:xfrm>
        </p:grpSpPr>
        <p:grpSp>
          <p:nvGrpSpPr>
            <p:cNvPr id="176" name="Group 46"/>
            <p:cNvGrpSpPr/>
            <p:nvPr/>
          </p:nvGrpSpPr>
          <p:grpSpPr>
            <a:xfrm>
              <a:off x="6799320" y="1774800"/>
              <a:ext cx="1000080" cy="977760"/>
              <a:chOff x="6799320" y="1774800"/>
              <a:chExt cx="1000080" cy="977760"/>
            </a:xfrm>
          </p:grpSpPr>
          <p:pic>
            <p:nvPicPr>
              <p:cNvPr id="177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799320" y="1774800"/>
                <a:ext cx="1000080" cy="97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Oval 48"/>
              <p:cNvSpPr/>
              <p:nvPr/>
            </p:nvSpPr>
            <p:spPr>
              <a:xfrm>
                <a:off x="6799320" y="17748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f2b0cc"/>
                  </a:gs>
                  <a:gs pos="50000">
                    <a:srgbClr val="835f6e"/>
                  </a:gs>
                  <a:gs pos="100000">
                    <a:srgbClr val="f2b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9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899040" y="17841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Text Box 50"/>
          <p:cNvSpPr/>
          <p:nvPr/>
        </p:nvSpPr>
        <p:spPr>
          <a:xfrm>
            <a:off x="6765840" y="198432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1387440" y="5607000"/>
            <a:ext cx="62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15"/>
          <p:cNvGrpSpPr/>
          <p:nvPr/>
        </p:nvGrpSpPr>
        <p:grpSpPr>
          <a:xfrm>
            <a:off x="1285920" y="4497480"/>
            <a:ext cx="1000080" cy="977760"/>
            <a:chOff x="1285920" y="4497480"/>
            <a:chExt cx="1000080" cy="977760"/>
          </a:xfrm>
        </p:grpSpPr>
        <p:grpSp>
          <p:nvGrpSpPr>
            <p:cNvPr id="183" name="Group 16"/>
            <p:cNvGrpSpPr/>
            <p:nvPr/>
          </p:nvGrpSpPr>
          <p:grpSpPr>
            <a:xfrm>
              <a:off x="1285920" y="4497480"/>
              <a:ext cx="1000080" cy="977760"/>
              <a:chOff x="1285920" y="4497480"/>
              <a:chExt cx="1000080" cy="977760"/>
            </a:xfrm>
          </p:grpSpPr>
          <p:pic>
            <p:nvPicPr>
              <p:cNvPr id="184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285920" y="4497480"/>
                <a:ext cx="1000080" cy="97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Oval 18"/>
              <p:cNvSpPr/>
              <p:nvPr/>
            </p:nvSpPr>
            <p:spPr>
              <a:xfrm>
                <a:off x="1285920" y="449748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9cbe9"/>
                  </a:gs>
                  <a:gs pos="50000">
                    <a:srgbClr val="5f7283"/>
                  </a:gs>
                  <a:gs pos="100000">
                    <a:srgbClr val="a9cb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6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385640" y="45068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7" name="Group 15"/>
          <p:cNvGrpSpPr/>
          <p:nvPr/>
        </p:nvGrpSpPr>
        <p:grpSpPr>
          <a:xfrm>
            <a:off x="380880" y="3201840"/>
            <a:ext cx="1000080" cy="978120"/>
            <a:chOff x="380880" y="3201840"/>
            <a:chExt cx="1000080" cy="978120"/>
          </a:xfrm>
        </p:grpSpPr>
        <p:grpSp>
          <p:nvGrpSpPr>
            <p:cNvPr id="188" name="Group 16"/>
            <p:cNvGrpSpPr/>
            <p:nvPr/>
          </p:nvGrpSpPr>
          <p:grpSpPr>
            <a:xfrm>
              <a:off x="380880" y="3201840"/>
              <a:ext cx="1000080" cy="978120"/>
              <a:chOff x="380880" y="3201840"/>
              <a:chExt cx="1000080" cy="978120"/>
            </a:xfrm>
          </p:grpSpPr>
          <p:pic>
            <p:nvPicPr>
              <p:cNvPr id="189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380880" y="32018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Oval 18"/>
              <p:cNvSpPr/>
              <p:nvPr/>
            </p:nvSpPr>
            <p:spPr>
              <a:xfrm>
                <a:off x="380880" y="320184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a9cbe9"/>
                  </a:gs>
                  <a:gs pos="50000">
                    <a:srgbClr val="5f7283"/>
                  </a:gs>
                  <a:gs pos="100000">
                    <a:srgbClr val="a9cb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1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480600" y="3211200"/>
              <a:ext cx="789840" cy="34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2" name="Group 45"/>
          <p:cNvGrpSpPr/>
          <p:nvPr/>
        </p:nvGrpSpPr>
        <p:grpSpPr>
          <a:xfrm>
            <a:off x="6799320" y="4384800"/>
            <a:ext cx="1000080" cy="977760"/>
            <a:chOff x="6799320" y="4384800"/>
            <a:chExt cx="1000080" cy="977760"/>
          </a:xfrm>
        </p:grpSpPr>
        <p:grpSp>
          <p:nvGrpSpPr>
            <p:cNvPr id="193" name="Group 46"/>
            <p:cNvGrpSpPr/>
            <p:nvPr/>
          </p:nvGrpSpPr>
          <p:grpSpPr>
            <a:xfrm>
              <a:off x="6799320" y="4384800"/>
              <a:ext cx="1000080" cy="977760"/>
              <a:chOff x="6799320" y="4384800"/>
              <a:chExt cx="1000080" cy="977760"/>
            </a:xfrm>
          </p:grpSpPr>
          <p:pic>
            <p:nvPicPr>
              <p:cNvPr id="194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799320" y="4384800"/>
                <a:ext cx="1000080" cy="97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Oval 48"/>
              <p:cNvSpPr/>
              <p:nvPr/>
            </p:nvSpPr>
            <p:spPr>
              <a:xfrm>
                <a:off x="6799320" y="43848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f2b0cc"/>
                  </a:gs>
                  <a:gs pos="50000">
                    <a:srgbClr val="835f6e"/>
                  </a:gs>
                  <a:gs pos="100000">
                    <a:srgbClr val="f2b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6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899040" y="43941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Text Box 50"/>
          <p:cNvSpPr/>
          <p:nvPr/>
        </p:nvSpPr>
        <p:spPr>
          <a:xfrm>
            <a:off x="6765840" y="459432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45"/>
          <p:cNvGrpSpPr/>
          <p:nvPr/>
        </p:nvGrpSpPr>
        <p:grpSpPr>
          <a:xfrm>
            <a:off x="7647120" y="3146400"/>
            <a:ext cx="1000080" cy="977760"/>
            <a:chOff x="7647120" y="3146400"/>
            <a:chExt cx="1000080" cy="977760"/>
          </a:xfrm>
        </p:grpSpPr>
        <p:grpSp>
          <p:nvGrpSpPr>
            <p:cNvPr id="199" name="Group 46"/>
            <p:cNvGrpSpPr/>
            <p:nvPr/>
          </p:nvGrpSpPr>
          <p:grpSpPr>
            <a:xfrm>
              <a:off x="7647120" y="3146400"/>
              <a:ext cx="1000080" cy="977760"/>
              <a:chOff x="7647120" y="3146400"/>
              <a:chExt cx="1000080" cy="977760"/>
            </a:xfrm>
          </p:grpSpPr>
          <p:pic>
            <p:nvPicPr>
              <p:cNvPr id="200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647120" y="3146400"/>
                <a:ext cx="1000080" cy="97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Oval 48"/>
              <p:cNvSpPr/>
              <p:nvPr/>
            </p:nvSpPr>
            <p:spPr>
              <a:xfrm>
                <a:off x="7647120" y="31464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f2b0cc"/>
                  </a:gs>
                  <a:gs pos="50000">
                    <a:srgbClr val="835f6e"/>
                  </a:gs>
                  <a:gs pos="100000">
                    <a:srgbClr val="f2b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2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746840" y="31557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3" name="Text Box 50"/>
          <p:cNvSpPr/>
          <p:nvPr/>
        </p:nvSpPr>
        <p:spPr>
          <a:xfrm>
            <a:off x="7613640" y="335592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4"/>
          <p:cNvSpPr/>
          <p:nvPr/>
        </p:nvSpPr>
        <p:spPr>
          <a:xfrm>
            <a:off x="3832200" y="220968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2942" h="10292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548" y="2669"/>
                  <a:pt x="3014" y="5945"/>
                  <a:pt x="2693" y="10185"/>
                </a:cubicBezTo>
                <a:lnTo>
                  <a:pt x="30" y="9983"/>
                </a:lnTo>
                <a:cubicBezTo>
                  <a:pt x="458" y="4351"/>
                  <a:pt x="5152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a9cbe9">
                  <a:alpha val="80000"/>
                </a:srgbClr>
              </a:gs>
              <a:gs pos="100000">
                <a:srgbClr val="d0e3f3">
                  <a:alpha val="8000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45"/>
          <p:cNvGrpSpPr/>
          <p:nvPr/>
        </p:nvGrpSpPr>
        <p:grpSpPr>
          <a:xfrm>
            <a:off x="4565520" y="2916360"/>
            <a:ext cx="1676520" cy="1403280"/>
            <a:chOff x="4565520" y="2916360"/>
            <a:chExt cx="1676520" cy="1403280"/>
          </a:xfrm>
        </p:grpSpPr>
        <p:sp>
          <p:nvSpPr>
            <p:cNvPr id="206" name="AutoShape 46"/>
            <p:cNvSpPr/>
            <p:nvPr/>
          </p:nvSpPr>
          <p:spPr>
            <a:xfrm>
              <a:off x="4565520" y="2916360"/>
              <a:ext cx="1676520" cy="14032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2b0cc"/>
                </a:gs>
                <a:gs pos="100000">
                  <a:srgbClr val="fadeea"/>
                </a:gs>
              </a:gsLst>
              <a:lin ang="135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47"/>
            <p:cNvSpPr/>
            <p:nvPr/>
          </p:nvSpPr>
          <p:spPr>
            <a:xfrm>
              <a:off x="4620600" y="2971800"/>
              <a:ext cx="1551240" cy="128772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287720"/>
                <a:gd name="textAreaBottom" fmla="*/ 1288080 h 128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2b0cc"/>
                </a:gs>
                <a:gs pos="100000">
                  <a:srgbClr val="a97b8e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48"/>
          <p:cNvGrpSpPr/>
          <p:nvPr/>
        </p:nvGrpSpPr>
        <p:grpSpPr>
          <a:xfrm>
            <a:off x="2841120" y="2933640"/>
            <a:ext cx="1676520" cy="1403280"/>
            <a:chOff x="2841120" y="2933640"/>
            <a:chExt cx="1676520" cy="1403280"/>
          </a:xfrm>
        </p:grpSpPr>
        <p:sp>
          <p:nvSpPr>
            <p:cNvPr id="209" name="AutoShape 49"/>
            <p:cNvSpPr/>
            <p:nvPr/>
          </p:nvSpPr>
          <p:spPr>
            <a:xfrm flipH="1">
              <a:off x="2840760" y="2933640"/>
              <a:ext cx="1676520" cy="1403280"/>
            </a:xfrm>
            <a:custGeom>
              <a:avLst/>
              <a:gdLst>
                <a:gd name="textAreaLeft" fmla="*/ -360 w 1676520"/>
                <a:gd name="textAreaRight" fmla="*/ 167652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3e4f4"/>
                </a:gs>
                <a:gs pos="100000">
                  <a:srgbClr val="a9cbe9"/>
                </a:gs>
              </a:gsLst>
              <a:lin ang="81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50"/>
            <p:cNvSpPr/>
            <p:nvPr/>
          </p:nvSpPr>
          <p:spPr>
            <a:xfrm flipH="1">
              <a:off x="2910960" y="2989080"/>
              <a:ext cx="1551240" cy="1287720"/>
            </a:xfrm>
            <a:custGeom>
              <a:avLst/>
              <a:gdLst>
                <a:gd name="textAreaLeft" fmla="*/ -360 w 1551240"/>
                <a:gd name="textAreaRight" fmla="*/ 1551240 w 1551240"/>
                <a:gd name="textAreaTop" fmla="*/ 0 h 1287720"/>
                <a:gd name="textAreaBottom" fmla="*/ 1288080 h 128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1879b"/>
                </a:gs>
                <a:gs pos="100000">
                  <a:srgbClr val="a9cbe9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 Box 8"/>
          <p:cNvSpPr/>
          <p:nvPr/>
        </p:nvSpPr>
        <p:spPr>
          <a:xfrm>
            <a:off x="3106800" y="3211560"/>
            <a:ext cx="1280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4692600" y="321156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3603600" y="1828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0"/>
          <p:cNvSpPr/>
          <p:nvPr/>
        </p:nvSpPr>
        <p:spPr>
          <a:xfrm>
            <a:off x="3603600" y="50594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5"/>
          <p:cNvSpPr/>
          <p:nvPr/>
        </p:nvSpPr>
        <p:spPr>
          <a:xfrm flipH="1" flipV="1">
            <a:off x="3832200" y="386712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2942" h="10292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776" y="2669"/>
                  <a:pt x="3358" y="5613"/>
                  <a:pt x="2760" y="9591"/>
                </a:cubicBezTo>
                <a:lnTo>
                  <a:pt x="119" y="9195"/>
                </a:lnTo>
                <a:cubicBezTo>
                  <a:pt x="914" y="3909"/>
                  <a:pt x="5455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f2b0cc">
                  <a:alpha val="80000"/>
                </a:srgbClr>
              </a:gs>
              <a:gs pos="100000">
                <a:srgbClr val="f7cddf">
                  <a:alpha val="8000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0"/>
          <p:cNvSpPr/>
          <p:nvPr/>
        </p:nvSpPr>
        <p:spPr>
          <a:xfrm>
            <a:off x="1314360" y="195408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0"/>
          <p:cNvSpPr/>
          <p:nvPr/>
        </p:nvSpPr>
        <p:spPr>
          <a:xfrm>
            <a:off x="1314360" y="470700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0"/>
          <p:cNvSpPr/>
          <p:nvPr/>
        </p:nvSpPr>
        <p:spPr>
          <a:xfrm>
            <a:off x="409680" y="3411360"/>
            <a:ext cx="93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5640" y="1270080"/>
            <a:ext cx="56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9cbe9"/>
                </a:solidFill>
                <a:uFillTx/>
                <a:latin typeface="Arial"/>
                <a:hlinkClick r:id="rId1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6ecd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742840" y="2743200"/>
            <a:ext cx="624852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  <a:ea typeface="宋体"/>
              </a:rPr>
              <a:t>Thank You!</a:t>
            </a: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46C4-5EF3-4C7F-B293-387FA7C669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05:36:0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1:51:35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