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57A-8CC2-44ED-B972-A14CEFE8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6C2-2B2C-4932-BA7F-C3EB73B7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3EFA-63E8-4828-8707-43622F73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871-220F-4062-926C-EC190053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305-12CB-4073-9C16-33EC4B9F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716-429A-4F5E-B442-EDC156CB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776-E507-4B8D-8080-8B026CEA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5A9-581C-486C-9BDC-99F3437C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7FF-25FC-4654-8749-937F52D8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E5B-CB19-421D-9F33-18EEEF6D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AD6C-EC8D-4633-8FD6-A8B52494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2BF-15E3-4EF3-9A6A-2F3FA3B9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C569-C079-4706-AFCA-17C9A8A48A8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1045-8B30-4131-B845-A76B26B266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0" t="450" r="0" b="954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hyperlink" Target="http://www.eeppt.com/" TargetMode="External"/><Relationship Id="rId9" Type="http://schemas.openxmlformats.org/officeDocument/2006/relationships/hyperlink" Target="http://www.eeppt.com/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hyperlink" Target="http://www.eeppt.com/" TargetMode="External"/><Relationship Id="rId8" Type="http://schemas.openxmlformats.org/officeDocument/2006/relationships/hyperlink" Target="http://www.eeppt.com/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45" name="TextBox 19">
              <a:hlinkClick r:id="rId1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21">
              <a:hlinkClick r:id="rId2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22">
              <a:hlinkClick r:id="rId3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23">
              <a:hlinkClick r:id="rId4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24">
              <a:hlinkClick r:id="rId5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1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52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"/>
          <p:cNvPicPr/>
          <p:nvPr/>
        </p:nvPicPr>
        <p:blipFill>
          <a:blip r:embed="rId6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55" name="矩形 1"/>
          <p:cNvSpPr/>
          <p:nvPr/>
        </p:nvSpPr>
        <p:spPr>
          <a:xfrm>
            <a:off x="2105640" y="12002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简黑酷炫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277560" y="47102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燕尾形 1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燕尾形 2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燕尾形 5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1773360" y="2557440"/>
            <a:ext cx="599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c0c0c"/>
                </a:solidFill>
                <a:latin typeface="Calibri"/>
              </a:rPr>
              <a:t>www.1ppt.co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1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1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1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1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1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15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15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15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E-006 3.58025E-006 L 0.03438 3.58025E-006 E">
                                      <p:cBhvr>
                                        <p:cTn id="52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34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37" name="TextBox 20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25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7"/>
          <p:cNvSpPr/>
          <p:nvPr/>
        </p:nvSpPr>
        <p:spPr>
          <a:xfrm>
            <a:off x="685800" y="458136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网站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燕尾形 1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燕尾形 2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燕尾形 5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5" dur="1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3" dur="15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1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15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9" dur="1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3" dur="1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15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1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1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15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5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1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61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3" descr=""/>
          <p:cNvPicPr/>
          <p:nvPr/>
        </p:nvPicPr>
        <p:blipFill>
          <a:blip r:embed="rId1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65" name="燕尾形 39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燕尾形 4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燕尾形 41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燕尾形 42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燕尾形 43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燕尾形 44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燕尾形 45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燕尾形 46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燕尾形 47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燕尾形 48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燕尾形 49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燕尾形 50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78" name="TextBox 52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53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54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55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56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5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5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5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5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5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87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91" name="TextBox 17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0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5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31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32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16"/>
          <p:cNvSpPr/>
          <p:nvPr/>
        </p:nvSpPr>
        <p:spPr>
          <a:xfrm>
            <a:off x="1440" y="4913280"/>
            <a:ext cx="71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01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rcRect l="215" t="23654" r="-204" b="35036"/>
          <a:stretch/>
        </p:blipFill>
        <p:spPr>
          <a:xfrm>
            <a:off x="-7920" y="1851120"/>
            <a:ext cx="9163080" cy="2520720"/>
          </a:xfrm>
          <a:prstGeom prst="rect">
            <a:avLst/>
          </a:prstGeom>
          <a:ln w="0">
            <a:noFill/>
          </a:ln>
        </p:spPr>
      </p:pic>
      <p:sp>
        <p:nvSpPr>
          <p:cNvPr id="105" name="燕尾形 17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2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18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5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5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27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7920" y="1851120"/>
            <a:ext cx="916308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31" name="TextBox 20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5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1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32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33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40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7920" y="1851120"/>
            <a:ext cx="9163080" cy="252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44" name="燕尾形 17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燕尾形 2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57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7"/>
          <p:cNvSpPr/>
          <p:nvPr/>
        </p:nvSpPr>
        <p:spPr>
          <a:xfrm>
            <a:off x="685800" y="4581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模板网站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5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67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71" name="TextBox 20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25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31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2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3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80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84" name="燕尾形 17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燕尾形 2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97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5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06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0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11" name="TextBox 20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25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31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32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7"/>
          <p:cNvSpPr/>
          <p:nvPr/>
        </p:nvSpPr>
        <p:spPr>
          <a:xfrm>
            <a:off x="685800" y="4581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模板网站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8T13:34:00Z</dcterms:created>
  <dc:creator>微软中国</dc:creator>
  <dc:description/>
  <cp:keywords/>
  <dc:language>en-US</dc:language>
  <cp:lastModifiedBy>王玉清</cp:lastModifiedBy>
  <cp:lastPrinted>1899-12-30T00:00:00Z</cp:lastPrinted>
  <dcterms:modified xsi:type="dcterms:W3CDTF">2016-02-21T03:43:31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