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BB4-49C6-444E-A328-9A0AE92D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6CC-1EBB-4E88-8294-E9CEE726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D04-C51D-495D-B70E-C6DA2565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A20-DB45-488D-9EBD-75387CFE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19D-7660-4EA8-B3E6-44B1D5E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9E7-8E80-4ADC-925E-E6FC556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D02-760D-45E1-9575-92B0B33D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A38-8C6E-451A-AF54-42E5C03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FE9-501B-4998-8A7B-074A3DE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A97-9A9C-46D5-A65E-B8AF2FE1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33F-B80E-4F85-8E7A-DE19643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BFD-F203-4901-8AD1-753FE2F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66FC-CB9E-458B-A91F-5A02EDED8C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8"/>
          <p:cNvSpPr/>
          <p:nvPr/>
        </p:nvSpPr>
        <p:spPr>
          <a:xfrm>
            <a:off x="0" y="1685880"/>
            <a:ext cx="6073920" cy="26370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27"/>
          <p:cNvSpPr/>
          <p:nvPr/>
        </p:nvSpPr>
        <p:spPr>
          <a:xfrm>
            <a:off x="5864400" y="2174760"/>
            <a:ext cx="2747880" cy="993960"/>
          </a:xfrm>
          <a:custGeom>
            <a:avLst/>
            <a:gdLst/>
            <a:ahLst/>
            <a:rect l="l" t="t" r="r" b="b"/>
            <a:pathLst>
              <a:path w="2748135" h="993613">
                <a:moveTo>
                  <a:pt x="1084450" y="616905"/>
                </a:moveTo>
                <a:lnTo>
                  <a:pt x="1115253" y="616905"/>
                </a:lnTo>
                <a:cubicBezTo>
                  <a:pt x="1140951" y="616905"/>
                  <a:pt x="1161830" y="624333"/>
                  <a:pt x="1177891" y="639189"/>
                </a:cubicBezTo>
                <a:cubicBezTo>
                  <a:pt x="1193952" y="654046"/>
                  <a:pt x="1201983" y="674724"/>
                  <a:pt x="1201983" y="701225"/>
                </a:cubicBezTo>
                <a:cubicBezTo>
                  <a:pt x="1201983" y="728644"/>
                  <a:pt x="1194296" y="750383"/>
                  <a:pt x="1178924" y="766444"/>
                </a:cubicBezTo>
                <a:cubicBezTo>
                  <a:pt x="1163551" y="782505"/>
                  <a:pt x="1142385" y="790536"/>
                  <a:pt x="1115425" y="790536"/>
                </a:cubicBezTo>
                <a:lnTo>
                  <a:pt x="1084450" y="790536"/>
                </a:lnTo>
                <a:lnTo>
                  <a:pt x="1084450" y="616905"/>
                </a:lnTo>
                <a:close/>
                <a:moveTo>
                  <a:pt x="2227813" y="570442"/>
                </a:moveTo>
                <a:lnTo>
                  <a:pt x="2227813" y="836998"/>
                </a:lnTo>
                <a:lnTo>
                  <a:pt x="2385612" y="836998"/>
                </a:lnTo>
                <a:lnTo>
                  <a:pt x="2385612" y="790536"/>
                </a:lnTo>
                <a:lnTo>
                  <a:pt x="2284600" y="790536"/>
                </a:lnTo>
                <a:lnTo>
                  <a:pt x="2284600" y="726005"/>
                </a:lnTo>
                <a:lnTo>
                  <a:pt x="2372706" y="726005"/>
                </a:lnTo>
                <a:lnTo>
                  <a:pt x="2372706" y="679715"/>
                </a:lnTo>
                <a:lnTo>
                  <a:pt x="2284600" y="679715"/>
                </a:lnTo>
                <a:lnTo>
                  <a:pt x="2284600" y="616905"/>
                </a:lnTo>
                <a:lnTo>
                  <a:pt x="2379418" y="616905"/>
                </a:lnTo>
                <a:lnTo>
                  <a:pt x="2379418" y="570442"/>
                </a:lnTo>
                <a:lnTo>
                  <a:pt x="2227813" y="570442"/>
                </a:lnTo>
                <a:close/>
                <a:moveTo>
                  <a:pt x="1865863" y="570442"/>
                </a:moveTo>
                <a:lnTo>
                  <a:pt x="1865863" y="836998"/>
                </a:lnTo>
                <a:lnTo>
                  <a:pt x="1917143" y="836998"/>
                </a:lnTo>
                <a:lnTo>
                  <a:pt x="1917143" y="686254"/>
                </a:lnTo>
                <a:cubicBezTo>
                  <a:pt x="1917143" y="663768"/>
                  <a:pt x="1916398" y="641340"/>
                  <a:pt x="1914906" y="618970"/>
                </a:cubicBezTo>
                <a:lnTo>
                  <a:pt x="1916455" y="618970"/>
                </a:lnTo>
                <a:cubicBezTo>
                  <a:pt x="1920470" y="638587"/>
                  <a:pt x="1923281" y="650575"/>
                  <a:pt x="1924887" y="654935"/>
                </a:cubicBezTo>
                <a:lnTo>
                  <a:pt x="1991483" y="836998"/>
                </a:lnTo>
                <a:lnTo>
                  <a:pt x="2036741" y="836998"/>
                </a:lnTo>
                <a:lnTo>
                  <a:pt x="2102476" y="653214"/>
                </a:lnTo>
                <a:cubicBezTo>
                  <a:pt x="2104541" y="647478"/>
                  <a:pt x="2107295" y="636063"/>
                  <a:pt x="2110736" y="618970"/>
                </a:cubicBezTo>
                <a:lnTo>
                  <a:pt x="2112113" y="618970"/>
                </a:lnTo>
                <a:cubicBezTo>
                  <a:pt x="2110622" y="641570"/>
                  <a:pt x="2109876" y="660327"/>
                  <a:pt x="2109876" y="675241"/>
                </a:cubicBezTo>
                <a:lnTo>
                  <a:pt x="2109876" y="836998"/>
                </a:lnTo>
                <a:lnTo>
                  <a:pt x="2165975" y="836998"/>
                </a:lnTo>
                <a:lnTo>
                  <a:pt x="2165975" y="570442"/>
                </a:lnTo>
                <a:lnTo>
                  <a:pt x="2085612" y="570442"/>
                </a:lnTo>
                <a:lnTo>
                  <a:pt x="2027965" y="731167"/>
                </a:lnTo>
                <a:cubicBezTo>
                  <a:pt x="2024179" y="741837"/>
                  <a:pt x="2020508" y="754456"/>
                  <a:pt x="2016951" y="769026"/>
                </a:cubicBezTo>
                <a:lnTo>
                  <a:pt x="2015747" y="769026"/>
                </a:lnTo>
                <a:cubicBezTo>
                  <a:pt x="2014026" y="757324"/>
                  <a:pt x="2010756" y="744819"/>
                  <a:pt x="2005938" y="731512"/>
                </a:cubicBezTo>
                <a:lnTo>
                  <a:pt x="1948462" y="570442"/>
                </a:lnTo>
                <a:lnTo>
                  <a:pt x="1865863" y="570442"/>
                </a:lnTo>
                <a:close/>
                <a:moveTo>
                  <a:pt x="1404998" y="570442"/>
                </a:moveTo>
                <a:lnTo>
                  <a:pt x="1404998" y="614668"/>
                </a:lnTo>
                <a:lnTo>
                  <a:pt x="1427541" y="614668"/>
                </a:lnTo>
                <a:lnTo>
                  <a:pt x="1427541" y="792773"/>
                </a:lnTo>
                <a:lnTo>
                  <a:pt x="1404998" y="792773"/>
                </a:lnTo>
                <a:lnTo>
                  <a:pt x="1404998" y="836998"/>
                </a:lnTo>
                <a:lnTo>
                  <a:pt x="1507215" y="836998"/>
                </a:lnTo>
                <a:lnTo>
                  <a:pt x="1507215" y="792773"/>
                </a:lnTo>
                <a:lnTo>
                  <a:pt x="1484328" y="792773"/>
                </a:lnTo>
                <a:lnTo>
                  <a:pt x="1484328" y="614668"/>
                </a:lnTo>
                <a:lnTo>
                  <a:pt x="1507215" y="614668"/>
                </a:lnTo>
                <a:lnTo>
                  <a:pt x="1507215" y="570442"/>
                </a:lnTo>
                <a:lnTo>
                  <a:pt x="1404998" y="570442"/>
                </a:lnTo>
                <a:close/>
                <a:moveTo>
                  <a:pt x="1027663" y="570442"/>
                </a:moveTo>
                <a:lnTo>
                  <a:pt x="1027663" y="836998"/>
                </a:lnTo>
                <a:lnTo>
                  <a:pt x="1119383" y="836998"/>
                </a:lnTo>
                <a:cubicBezTo>
                  <a:pt x="1161256" y="836998"/>
                  <a:pt x="1195443" y="824522"/>
                  <a:pt x="1221944" y="799570"/>
                </a:cubicBezTo>
                <a:cubicBezTo>
                  <a:pt x="1248445" y="774618"/>
                  <a:pt x="1261695" y="741550"/>
                  <a:pt x="1261695" y="700365"/>
                </a:cubicBezTo>
                <a:cubicBezTo>
                  <a:pt x="1261695" y="613750"/>
                  <a:pt x="1214373" y="570442"/>
                  <a:pt x="1119727" y="570442"/>
                </a:cubicBezTo>
                <a:lnTo>
                  <a:pt x="1027663" y="570442"/>
                </a:lnTo>
                <a:close/>
                <a:moveTo>
                  <a:pt x="827638" y="570442"/>
                </a:moveTo>
                <a:lnTo>
                  <a:pt x="827638" y="836998"/>
                </a:lnTo>
                <a:lnTo>
                  <a:pt x="985438" y="836998"/>
                </a:lnTo>
                <a:lnTo>
                  <a:pt x="985438" y="790536"/>
                </a:lnTo>
                <a:lnTo>
                  <a:pt x="884425" y="790536"/>
                </a:lnTo>
                <a:lnTo>
                  <a:pt x="884425" y="726005"/>
                </a:lnTo>
                <a:lnTo>
                  <a:pt x="972531" y="726005"/>
                </a:lnTo>
                <a:lnTo>
                  <a:pt x="972531" y="679715"/>
                </a:lnTo>
                <a:lnTo>
                  <a:pt x="884425" y="679715"/>
                </a:lnTo>
                <a:lnTo>
                  <a:pt x="884425" y="616905"/>
                </a:lnTo>
                <a:lnTo>
                  <a:pt x="979243" y="616905"/>
                </a:lnTo>
                <a:lnTo>
                  <a:pt x="979243" y="570442"/>
                </a:lnTo>
                <a:lnTo>
                  <a:pt x="827638" y="570442"/>
                </a:lnTo>
                <a:close/>
                <a:moveTo>
                  <a:pt x="627613" y="570442"/>
                </a:moveTo>
                <a:lnTo>
                  <a:pt x="627613" y="836998"/>
                </a:lnTo>
                <a:lnTo>
                  <a:pt x="785413" y="836998"/>
                </a:lnTo>
                <a:lnTo>
                  <a:pt x="785413" y="790536"/>
                </a:lnTo>
                <a:lnTo>
                  <a:pt x="684400" y="790536"/>
                </a:lnTo>
                <a:lnTo>
                  <a:pt x="684400" y="726005"/>
                </a:lnTo>
                <a:lnTo>
                  <a:pt x="772506" y="726005"/>
                </a:lnTo>
                <a:lnTo>
                  <a:pt x="772506" y="679715"/>
                </a:lnTo>
                <a:lnTo>
                  <a:pt x="684400" y="679715"/>
                </a:lnTo>
                <a:lnTo>
                  <a:pt x="684400" y="616905"/>
                </a:lnTo>
                <a:lnTo>
                  <a:pt x="779218" y="616905"/>
                </a:lnTo>
                <a:lnTo>
                  <a:pt x="779218" y="570442"/>
                </a:lnTo>
                <a:lnTo>
                  <a:pt x="627613" y="570442"/>
                </a:lnTo>
                <a:close/>
                <a:moveTo>
                  <a:pt x="332338" y="570442"/>
                </a:moveTo>
                <a:lnTo>
                  <a:pt x="332338" y="836998"/>
                </a:lnTo>
                <a:lnTo>
                  <a:pt x="386200" y="836998"/>
                </a:lnTo>
                <a:lnTo>
                  <a:pt x="386200" y="685393"/>
                </a:lnTo>
                <a:cubicBezTo>
                  <a:pt x="386200" y="666235"/>
                  <a:pt x="385684" y="652067"/>
                  <a:pt x="384651" y="642889"/>
                </a:cubicBezTo>
                <a:lnTo>
                  <a:pt x="385512" y="642889"/>
                </a:lnTo>
                <a:cubicBezTo>
                  <a:pt x="388150" y="648396"/>
                  <a:pt x="392395" y="655623"/>
                  <a:pt x="398246" y="664572"/>
                </a:cubicBezTo>
                <a:lnTo>
                  <a:pt x="511132" y="836998"/>
                </a:lnTo>
                <a:lnTo>
                  <a:pt x="569296" y="836998"/>
                </a:lnTo>
                <a:lnTo>
                  <a:pt x="569296" y="570442"/>
                </a:lnTo>
                <a:lnTo>
                  <a:pt x="515434" y="570442"/>
                </a:lnTo>
                <a:lnTo>
                  <a:pt x="515434" y="722391"/>
                </a:lnTo>
                <a:cubicBezTo>
                  <a:pt x="515434" y="740517"/>
                  <a:pt x="516007" y="752792"/>
                  <a:pt x="517155" y="759217"/>
                </a:cubicBezTo>
                <a:lnTo>
                  <a:pt x="516294" y="759217"/>
                </a:lnTo>
                <a:cubicBezTo>
                  <a:pt x="514688" y="756234"/>
                  <a:pt x="510271" y="749179"/>
                  <a:pt x="503044" y="738051"/>
                </a:cubicBezTo>
                <a:lnTo>
                  <a:pt x="394288" y="570442"/>
                </a:lnTo>
                <a:lnTo>
                  <a:pt x="332338" y="570442"/>
                </a:lnTo>
                <a:close/>
                <a:moveTo>
                  <a:pt x="1632012" y="565968"/>
                </a:moveTo>
                <a:cubicBezTo>
                  <a:pt x="1600922" y="565968"/>
                  <a:pt x="1575942" y="572823"/>
                  <a:pt x="1557070" y="586532"/>
                </a:cubicBezTo>
                <a:cubicBezTo>
                  <a:pt x="1538199" y="600241"/>
                  <a:pt x="1528763" y="619486"/>
                  <a:pt x="1528763" y="644266"/>
                </a:cubicBezTo>
                <a:cubicBezTo>
                  <a:pt x="1528763" y="677994"/>
                  <a:pt x="1549585" y="703692"/>
                  <a:pt x="1591228" y="721359"/>
                </a:cubicBezTo>
                <a:cubicBezTo>
                  <a:pt x="1617729" y="732372"/>
                  <a:pt x="1634077" y="741091"/>
                  <a:pt x="1640272" y="747515"/>
                </a:cubicBezTo>
                <a:cubicBezTo>
                  <a:pt x="1646467" y="753940"/>
                  <a:pt x="1649564" y="760766"/>
                  <a:pt x="1649564" y="767993"/>
                </a:cubicBezTo>
                <a:cubicBezTo>
                  <a:pt x="1649564" y="776368"/>
                  <a:pt x="1645664" y="783222"/>
                  <a:pt x="1637863" y="788557"/>
                </a:cubicBezTo>
                <a:cubicBezTo>
                  <a:pt x="1630062" y="793892"/>
                  <a:pt x="1618418" y="796559"/>
                  <a:pt x="1602930" y="796559"/>
                </a:cubicBezTo>
                <a:cubicBezTo>
                  <a:pt x="1575627" y="796559"/>
                  <a:pt x="1551248" y="787668"/>
                  <a:pt x="1529795" y="769886"/>
                </a:cubicBezTo>
                <a:lnTo>
                  <a:pt x="1529795" y="826845"/>
                </a:lnTo>
                <a:cubicBezTo>
                  <a:pt x="1549298" y="836711"/>
                  <a:pt x="1574307" y="841644"/>
                  <a:pt x="1604823" y="841644"/>
                </a:cubicBezTo>
                <a:cubicBezTo>
                  <a:pt x="1638207" y="841644"/>
                  <a:pt x="1663962" y="834933"/>
                  <a:pt x="1682088" y="821511"/>
                </a:cubicBezTo>
                <a:cubicBezTo>
                  <a:pt x="1700214" y="808088"/>
                  <a:pt x="1709277" y="788586"/>
                  <a:pt x="1709277" y="763003"/>
                </a:cubicBezTo>
                <a:cubicBezTo>
                  <a:pt x="1709277" y="745565"/>
                  <a:pt x="1704315" y="730536"/>
                  <a:pt x="1694392" y="717917"/>
                </a:cubicBezTo>
                <a:cubicBezTo>
                  <a:pt x="1684468" y="705298"/>
                  <a:pt x="1666256" y="693309"/>
                  <a:pt x="1639756" y="681952"/>
                </a:cubicBezTo>
                <a:cubicBezTo>
                  <a:pt x="1617156" y="672086"/>
                  <a:pt x="1602988" y="664256"/>
                  <a:pt x="1597251" y="658463"/>
                </a:cubicBezTo>
                <a:cubicBezTo>
                  <a:pt x="1591515" y="652669"/>
                  <a:pt x="1588647" y="646331"/>
                  <a:pt x="1588647" y="639447"/>
                </a:cubicBezTo>
                <a:cubicBezTo>
                  <a:pt x="1588647" y="630843"/>
                  <a:pt x="1592835" y="623989"/>
                  <a:pt x="1601209" y="618884"/>
                </a:cubicBezTo>
                <a:cubicBezTo>
                  <a:pt x="1609584" y="613778"/>
                  <a:pt x="1620769" y="611226"/>
                  <a:pt x="1634765" y="611226"/>
                </a:cubicBezTo>
                <a:cubicBezTo>
                  <a:pt x="1658742" y="611226"/>
                  <a:pt x="1679679" y="617306"/>
                  <a:pt x="1697575" y="629467"/>
                </a:cubicBezTo>
                <a:lnTo>
                  <a:pt x="1697575" y="576121"/>
                </a:lnTo>
                <a:cubicBezTo>
                  <a:pt x="1679908" y="569352"/>
                  <a:pt x="1658054" y="565968"/>
                  <a:pt x="1632012" y="565968"/>
                </a:cubicBezTo>
                <a:close/>
                <a:moveTo>
                  <a:pt x="1518168" y="187763"/>
                </a:moveTo>
                <a:lnTo>
                  <a:pt x="1519717" y="187763"/>
                </a:lnTo>
                <a:cubicBezTo>
                  <a:pt x="1520520" y="197400"/>
                  <a:pt x="1521896" y="205144"/>
                  <a:pt x="1523847" y="210994"/>
                </a:cubicBezTo>
                <a:lnTo>
                  <a:pt x="1554133" y="303403"/>
                </a:lnTo>
                <a:lnTo>
                  <a:pt x="1483063" y="303403"/>
                </a:lnTo>
                <a:lnTo>
                  <a:pt x="1513522" y="210306"/>
                </a:lnTo>
                <a:cubicBezTo>
                  <a:pt x="1515931" y="203079"/>
                  <a:pt x="1517480" y="195564"/>
                  <a:pt x="1518168" y="187763"/>
                </a:cubicBezTo>
                <a:close/>
                <a:moveTo>
                  <a:pt x="937143" y="187763"/>
                </a:moveTo>
                <a:lnTo>
                  <a:pt x="938692" y="187763"/>
                </a:lnTo>
                <a:cubicBezTo>
                  <a:pt x="939495" y="197400"/>
                  <a:pt x="940871" y="205144"/>
                  <a:pt x="942822" y="210994"/>
                </a:cubicBezTo>
                <a:lnTo>
                  <a:pt x="973108" y="303403"/>
                </a:lnTo>
                <a:lnTo>
                  <a:pt x="902038" y="303403"/>
                </a:lnTo>
                <a:lnTo>
                  <a:pt x="932497" y="210306"/>
                </a:lnTo>
                <a:cubicBezTo>
                  <a:pt x="934906" y="203079"/>
                  <a:pt x="936455" y="195564"/>
                  <a:pt x="937143" y="187763"/>
                </a:cubicBezTo>
                <a:close/>
                <a:moveTo>
                  <a:pt x="2177434" y="141817"/>
                </a:moveTo>
                <a:lnTo>
                  <a:pt x="2177434" y="296864"/>
                </a:lnTo>
                <a:cubicBezTo>
                  <a:pt x="2177434" y="374301"/>
                  <a:pt x="2213113" y="413019"/>
                  <a:pt x="2284470" y="413019"/>
                </a:cubicBezTo>
                <a:cubicBezTo>
                  <a:pt x="2358350" y="413019"/>
                  <a:pt x="2395291" y="373268"/>
                  <a:pt x="2395291" y="293766"/>
                </a:cubicBezTo>
                <a:lnTo>
                  <a:pt x="2395291" y="141817"/>
                </a:lnTo>
                <a:lnTo>
                  <a:pt x="2338504" y="141817"/>
                </a:lnTo>
                <a:lnTo>
                  <a:pt x="2338504" y="299617"/>
                </a:lnTo>
                <a:cubicBezTo>
                  <a:pt x="2338504" y="342408"/>
                  <a:pt x="2321296" y="363804"/>
                  <a:pt x="2286879" y="363804"/>
                </a:cubicBezTo>
                <a:cubicBezTo>
                  <a:pt x="2251889" y="363804"/>
                  <a:pt x="2234394" y="341605"/>
                  <a:pt x="2234394" y="297208"/>
                </a:cubicBezTo>
                <a:lnTo>
                  <a:pt x="2234394" y="141817"/>
                </a:lnTo>
                <a:lnTo>
                  <a:pt x="2177434" y="141817"/>
                </a:lnTo>
                <a:close/>
                <a:moveTo>
                  <a:pt x="1875388" y="141817"/>
                </a:moveTo>
                <a:lnTo>
                  <a:pt x="1875388" y="408373"/>
                </a:lnTo>
                <a:lnTo>
                  <a:pt x="2031811" y="408373"/>
                </a:lnTo>
                <a:lnTo>
                  <a:pt x="2031811" y="361911"/>
                </a:lnTo>
                <a:lnTo>
                  <a:pt x="1932175" y="361911"/>
                </a:lnTo>
                <a:lnTo>
                  <a:pt x="1932175" y="141817"/>
                </a:lnTo>
                <a:lnTo>
                  <a:pt x="1875388" y="141817"/>
                </a:lnTo>
                <a:close/>
                <a:moveTo>
                  <a:pt x="1684888" y="141817"/>
                </a:moveTo>
                <a:lnTo>
                  <a:pt x="1684888" y="408373"/>
                </a:lnTo>
                <a:lnTo>
                  <a:pt x="1841311" y="408373"/>
                </a:lnTo>
                <a:lnTo>
                  <a:pt x="1841311" y="361911"/>
                </a:lnTo>
                <a:lnTo>
                  <a:pt x="1741675" y="361911"/>
                </a:lnTo>
                <a:lnTo>
                  <a:pt x="1741675" y="141817"/>
                </a:lnTo>
                <a:lnTo>
                  <a:pt x="1684888" y="141817"/>
                </a:lnTo>
                <a:close/>
                <a:moveTo>
                  <a:pt x="1487021" y="141817"/>
                </a:moveTo>
                <a:lnTo>
                  <a:pt x="1389450" y="408373"/>
                </a:lnTo>
                <a:lnTo>
                  <a:pt x="1451056" y="408373"/>
                </a:lnTo>
                <a:lnTo>
                  <a:pt x="1470673" y="347284"/>
                </a:lnTo>
                <a:lnTo>
                  <a:pt x="1567556" y="347284"/>
                </a:lnTo>
                <a:lnTo>
                  <a:pt x="1587517" y="408373"/>
                </a:lnTo>
                <a:lnTo>
                  <a:pt x="1649467" y="408373"/>
                </a:lnTo>
                <a:lnTo>
                  <a:pt x="1553789" y="141817"/>
                </a:lnTo>
                <a:lnTo>
                  <a:pt x="1487021" y="141817"/>
                </a:lnTo>
                <a:close/>
                <a:moveTo>
                  <a:pt x="1050336" y="141817"/>
                </a:moveTo>
                <a:lnTo>
                  <a:pt x="1050336" y="188280"/>
                </a:lnTo>
                <a:lnTo>
                  <a:pt x="1126224" y="188280"/>
                </a:lnTo>
                <a:lnTo>
                  <a:pt x="1126224" y="408373"/>
                </a:lnTo>
                <a:lnTo>
                  <a:pt x="1183184" y="408373"/>
                </a:lnTo>
                <a:lnTo>
                  <a:pt x="1183184" y="188280"/>
                </a:lnTo>
                <a:lnTo>
                  <a:pt x="1259244" y="188280"/>
                </a:lnTo>
                <a:lnTo>
                  <a:pt x="1259244" y="141817"/>
                </a:lnTo>
                <a:lnTo>
                  <a:pt x="1050336" y="141817"/>
                </a:lnTo>
                <a:close/>
                <a:moveTo>
                  <a:pt x="905996" y="141817"/>
                </a:moveTo>
                <a:lnTo>
                  <a:pt x="808425" y="408373"/>
                </a:lnTo>
                <a:lnTo>
                  <a:pt x="870031" y="408373"/>
                </a:lnTo>
                <a:lnTo>
                  <a:pt x="889648" y="347284"/>
                </a:lnTo>
                <a:lnTo>
                  <a:pt x="986531" y="347284"/>
                </a:lnTo>
                <a:lnTo>
                  <a:pt x="1006492" y="408373"/>
                </a:lnTo>
                <a:lnTo>
                  <a:pt x="1068442" y="408373"/>
                </a:lnTo>
                <a:lnTo>
                  <a:pt x="972764" y="141817"/>
                </a:lnTo>
                <a:lnTo>
                  <a:pt x="905996" y="141817"/>
                </a:lnTo>
                <a:close/>
                <a:moveTo>
                  <a:pt x="551413" y="141817"/>
                </a:moveTo>
                <a:lnTo>
                  <a:pt x="551413" y="408373"/>
                </a:lnTo>
                <a:lnTo>
                  <a:pt x="608200" y="408373"/>
                </a:lnTo>
                <a:lnTo>
                  <a:pt x="608200" y="298412"/>
                </a:lnTo>
                <a:lnTo>
                  <a:pt x="721775" y="298412"/>
                </a:lnTo>
                <a:lnTo>
                  <a:pt x="721775" y="408373"/>
                </a:lnTo>
                <a:lnTo>
                  <a:pt x="778562" y="408373"/>
                </a:lnTo>
                <a:lnTo>
                  <a:pt x="778562" y="141817"/>
                </a:lnTo>
                <a:lnTo>
                  <a:pt x="721775" y="141817"/>
                </a:lnTo>
                <a:lnTo>
                  <a:pt x="721775" y="249369"/>
                </a:lnTo>
                <a:lnTo>
                  <a:pt x="608200" y="249369"/>
                </a:lnTo>
                <a:lnTo>
                  <a:pt x="608200" y="141817"/>
                </a:lnTo>
                <a:lnTo>
                  <a:pt x="551413" y="141817"/>
                </a:lnTo>
                <a:close/>
                <a:moveTo>
                  <a:pt x="307386" y="141817"/>
                </a:moveTo>
                <a:lnTo>
                  <a:pt x="307386" y="188280"/>
                </a:lnTo>
                <a:lnTo>
                  <a:pt x="383274" y="188280"/>
                </a:lnTo>
                <a:lnTo>
                  <a:pt x="383274" y="408373"/>
                </a:lnTo>
                <a:lnTo>
                  <a:pt x="440234" y="408373"/>
                </a:lnTo>
                <a:lnTo>
                  <a:pt x="440234" y="188280"/>
                </a:lnTo>
                <a:lnTo>
                  <a:pt x="516294" y="188280"/>
                </a:lnTo>
                <a:lnTo>
                  <a:pt x="516294" y="141817"/>
                </a:lnTo>
                <a:lnTo>
                  <a:pt x="307386" y="141817"/>
                </a:lnTo>
                <a:close/>
                <a:moveTo>
                  <a:pt x="0" y="0"/>
                </a:moveTo>
                <a:lnTo>
                  <a:pt x="2748135" y="0"/>
                </a:lnTo>
                <a:lnTo>
                  <a:pt x="2748135" y="993613"/>
                </a:lnTo>
                <a:lnTo>
                  <a:pt x="0" y="993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3903480" y="3429000"/>
            <a:ext cx="47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历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0" y="5364000"/>
            <a:ext cx="12192120" cy="150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5"/>
          <p:cNvSpPr/>
          <p:nvPr/>
        </p:nvSpPr>
        <p:spPr>
          <a:xfrm>
            <a:off x="5865840" y="5610240"/>
            <a:ext cx="460440" cy="376200"/>
          </a:xfrm>
          <a:custGeom>
            <a:avLst/>
            <a:gdLst>
              <a:gd name="textAreaLeft" fmla="*/ 0 w 460440"/>
              <a:gd name="textAreaRight" fmla="*/ 460800 w 4604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1"/>
          <p:cNvSpPr/>
          <p:nvPr/>
        </p:nvSpPr>
        <p:spPr>
          <a:xfrm>
            <a:off x="1720800" y="5576760"/>
            <a:ext cx="304920" cy="44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组合 4" descr=""/>
          <p:cNvPicPr/>
          <p:nvPr/>
        </p:nvPicPr>
        <p:blipFill>
          <a:blip r:embed="rId1"/>
          <a:stretch/>
        </p:blipFill>
        <p:spPr>
          <a:xfrm>
            <a:off x="10051920" y="5651640"/>
            <a:ext cx="403200" cy="29196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10"/>
          <p:cNvSpPr/>
          <p:nvPr/>
        </p:nvSpPr>
        <p:spPr>
          <a:xfrm>
            <a:off x="668880" y="617688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1"/>
          <p:cNvSpPr/>
          <p:nvPr/>
        </p:nvSpPr>
        <p:spPr>
          <a:xfrm>
            <a:off x="4695840" y="62085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12"/>
          <p:cNvSpPr/>
          <p:nvPr/>
        </p:nvSpPr>
        <p:spPr>
          <a:xfrm>
            <a:off x="9115560" y="620856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7"/>
          <p:cNvGrpSpPr/>
          <p:nvPr/>
        </p:nvGrpSpPr>
        <p:grpSpPr>
          <a:xfrm>
            <a:off x="3679920" y="5626080"/>
            <a:ext cx="4832280" cy="1058760"/>
            <a:chOff x="3679920" y="5626080"/>
            <a:chExt cx="4832280" cy="1058760"/>
          </a:xfrm>
        </p:grpSpPr>
        <p:sp>
          <p:nvSpPr>
            <p:cNvPr id="202" name="直接连接符 15"/>
            <p:cNvSpPr/>
            <p:nvPr/>
          </p:nvSpPr>
          <p:spPr>
            <a:xfrm>
              <a:off x="367992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直接连接符 16"/>
            <p:cNvSpPr/>
            <p:nvPr/>
          </p:nvSpPr>
          <p:spPr>
            <a:xfrm>
              <a:off x="851220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3"/>
          <p:cNvGrpSpPr/>
          <p:nvPr/>
        </p:nvGrpSpPr>
        <p:grpSpPr>
          <a:xfrm>
            <a:off x="1027080" y="2467080"/>
            <a:ext cx="1693800" cy="1830240"/>
            <a:chOff x="1027080" y="2467080"/>
            <a:chExt cx="1693800" cy="1830240"/>
          </a:xfrm>
        </p:grpSpPr>
        <p:pic>
          <p:nvPicPr>
            <p:cNvPr id="205" name="组合 23" descr=""/>
            <p:cNvPicPr/>
            <p:nvPr/>
          </p:nvPicPr>
          <p:blipFill>
            <a:blip r:embed="rId2"/>
            <a:stretch/>
          </p:blipFill>
          <p:spPr>
            <a:xfrm>
              <a:off x="1027080" y="2467080"/>
              <a:ext cx="11624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梯形 30"/>
            <p:cNvSpPr/>
            <p:nvPr/>
          </p:nvSpPr>
          <p:spPr>
            <a:xfrm rot="10800000">
              <a:off x="2010960" y="3521880"/>
              <a:ext cx="709920" cy="775440"/>
            </a:xfrm>
            <a:custGeom>
              <a:avLst/>
              <a:gdLst/>
              <a:ahLst/>
              <a:rect l="l" t="t" r="r" b="b"/>
              <a:pathLst>
                <a:path w="710680" h="774665">
                  <a:moveTo>
                    <a:pt x="0" y="774665"/>
                  </a:moveTo>
                  <a:lnTo>
                    <a:pt x="177670" y="0"/>
                  </a:lnTo>
                  <a:lnTo>
                    <a:pt x="533010" y="0"/>
                  </a:lnTo>
                  <a:lnTo>
                    <a:pt x="710680" y="774665"/>
                  </a:lnTo>
                  <a:lnTo>
                    <a:pt x="0" y="7746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1"/>
            <p:cNvSpPr/>
            <p:nvPr/>
          </p:nvSpPr>
          <p:spPr>
            <a:xfrm rot="1743000">
              <a:off x="2091600" y="3246480"/>
              <a:ext cx="2534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2"/>
          <p:cNvGrpSpPr/>
          <p:nvPr/>
        </p:nvGrpSpPr>
        <p:grpSpPr>
          <a:xfrm>
            <a:off x="9337680" y="2467080"/>
            <a:ext cx="1649520" cy="1830240"/>
            <a:chOff x="9337680" y="2467080"/>
            <a:chExt cx="1649520" cy="1830240"/>
          </a:xfrm>
        </p:grpSpPr>
        <p:pic>
          <p:nvPicPr>
            <p:cNvPr id="209" name="组合 24" descr=""/>
            <p:cNvPicPr/>
            <p:nvPr/>
          </p:nvPicPr>
          <p:blipFill>
            <a:blip r:embed="rId3"/>
            <a:stretch/>
          </p:blipFill>
          <p:spPr>
            <a:xfrm>
              <a:off x="9337680" y="2467080"/>
              <a:ext cx="11592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组合 37" descr=""/>
            <p:cNvPicPr/>
            <p:nvPr/>
          </p:nvPicPr>
          <p:blipFill>
            <a:blip r:embed="rId4"/>
            <a:stretch/>
          </p:blipFill>
          <p:spPr>
            <a:xfrm>
              <a:off x="10558080" y="3132000"/>
              <a:ext cx="3844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38"/>
            <p:cNvSpPr/>
            <p:nvPr/>
          </p:nvSpPr>
          <p:spPr>
            <a:xfrm>
              <a:off x="10517040" y="3521880"/>
              <a:ext cx="47016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44"/>
          <p:cNvSpPr/>
          <p:nvPr/>
        </p:nvSpPr>
        <p:spPr>
          <a:xfrm>
            <a:off x="4513320" y="0"/>
            <a:ext cx="3165480" cy="303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41"/>
          <p:cNvSpPr/>
          <p:nvPr/>
        </p:nvSpPr>
        <p:spPr>
          <a:xfrm>
            <a:off x="4613400" y="2359080"/>
            <a:ext cx="2964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 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o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泪滴形 45"/>
          <p:cNvSpPr/>
          <p:nvPr/>
        </p:nvSpPr>
        <p:spPr>
          <a:xfrm>
            <a:off x="5195880" y="511200"/>
            <a:ext cx="1800360" cy="1800360"/>
          </a:xfrm>
          <a:custGeom>
            <a:avLst/>
            <a:gdLst/>
            <a:ahLst/>
            <a:rect l="l" t="t" r="r" b="b"/>
            <a:pathLst>
              <a:path w="1800225" h="1800225">
                <a:moveTo>
                  <a:pt x="0" y="900113"/>
                </a:moveTo>
                <a:cubicBezTo>
                  <a:pt x="0" y="402994"/>
                  <a:pt x="402994" y="0"/>
                  <a:pt x="900113" y="0"/>
                </a:cubicBezTo>
                <a:lnTo>
                  <a:pt x="1800225" y="0"/>
                </a:lnTo>
                <a:lnTo>
                  <a:pt x="1800225" y="900113"/>
                </a:lnTo>
                <a:cubicBezTo>
                  <a:pt x="1800225" y="1397232"/>
                  <a:pt x="1397231" y="1800226"/>
                  <a:pt x="900112" y="1800226"/>
                </a:cubicBezTo>
                <a:cubicBezTo>
                  <a:pt x="402993" y="1800226"/>
                  <a:pt x="-1" y="1397232"/>
                  <a:pt x="-1" y="900113"/>
                </a:cubicBezTo>
                <a:lnTo>
                  <a:pt x="0" y="900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6"/>
          <p:cNvSpPr/>
          <p:nvPr/>
        </p:nvSpPr>
        <p:spPr>
          <a:xfrm>
            <a:off x="5270040" y="11127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44440" y="63230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14"/>
          <p:cNvSpPr/>
          <p:nvPr/>
        </p:nvSpPr>
        <p:spPr>
          <a:xfrm>
            <a:off x="1336320" y="2367000"/>
            <a:ext cx="3201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1344240" y="1539720"/>
            <a:ext cx="232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38"/>
          <p:cNvGrpSpPr/>
          <p:nvPr/>
        </p:nvGrpSpPr>
        <p:grpSpPr>
          <a:xfrm>
            <a:off x="7156440" y="519120"/>
            <a:ext cx="2678040" cy="3209760"/>
            <a:chOff x="7156440" y="519120"/>
            <a:chExt cx="2678040" cy="3209760"/>
          </a:xfrm>
        </p:grpSpPr>
        <p:sp>
          <p:nvSpPr>
            <p:cNvPr id="50" name="椭圆 19"/>
            <p:cNvSpPr/>
            <p:nvPr/>
          </p:nvSpPr>
          <p:spPr>
            <a:xfrm>
              <a:off x="7156440" y="519120"/>
              <a:ext cx="26780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组合 20"/>
            <p:cNvGrpSpPr/>
            <p:nvPr/>
          </p:nvGrpSpPr>
          <p:grpSpPr>
            <a:xfrm>
              <a:off x="7591320" y="901440"/>
              <a:ext cx="1808280" cy="2827440"/>
              <a:chOff x="7591320" y="901440"/>
              <a:chExt cx="1808280" cy="2827440"/>
            </a:xfrm>
          </p:grpSpPr>
          <p:sp>
            <p:nvSpPr>
              <p:cNvPr id="52" name="弦形 17"/>
              <p:cNvSpPr/>
              <p:nvPr/>
            </p:nvSpPr>
            <p:spPr>
              <a:xfrm>
                <a:off x="7591320" y="1919160"/>
                <a:ext cx="1808280" cy="1809720"/>
              </a:xfrm>
              <a:custGeom>
                <a:avLst/>
                <a:gdLst/>
                <a:ahLst/>
                <a:rect l="l" t="t" r="r" b="b"/>
                <a:pathLst>
                  <a:path w="2519728" h="2520737">
                    <a:moveTo>
                      <a:pt x="59121" y="878805"/>
                    </a:moveTo>
                    <a:cubicBezTo>
                      <a:pt x="224646" y="357498"/>
                      <a:pt x="707383" y="2501"/>
                      <a:pt x="1254133" y="13"/>
                    </a:cubicBezTo>
                    <a:cubicBezTo>
                      <a:pt x="1800886" y="-2475"/>
                      <a:pt x="2286834" y="348118"/>
                      <a:pt x="2457089" y="867901"/>
                    </a:cubicBezTo>
                    <a:lnTo>
                      <a:pt x="59121" y="8788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椭圆 18"/>
              <p:cNvSpPr/>
              <p:nvPr/>
            </p:nvSpPr>
            <p:spPr>
              <a:xfrm>
                <a:off x="7941960" y="901440"/>
                <a:ext cx="110664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文本框 23"/>
          <p:cNvSpPr/>
          <p:nvPr/>
        </p:nvSpPr>
        <p:spPr>
          <a:xfrm>
            <a:off x="1968120" y="3205080"/>
            <a:ext cx="376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张马桶            年龄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男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院校：成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广告经营与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意向：公关活动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住地：成都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巷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5"/>
          <p:cNvSpPr/>
          <p:nvPr/>
        </p:nvSpPr>
        <p:spPr>
          <a:xfrm>
            <a:off x="8085240" y="4705200"/>
            <a:ext cx="461880" cy="374760"/>
          </a:xfrm>
          <a:custGeom>
            <a:avLst/>
            <a:gdLst>
              <a:gd name="textAreaLeft" fmla="*/ 0 w 461880"/>
              <a:gd name="textAreaRight" fmla="*/ 462240 w 4618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8163000" y="3992400"/>
            <a:ext cx="304560" cy="443160"/>
          </a:xfrm>
          <a:custGeom>
            <a:avLst/>
            <a:gdLst>
              <a:gd name="textAreaLeft" fmla="*/ 0 w 304560"/>
              <a:gd name="textAreaRight" fmla="*/ 304920 w 304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29" descr=""/>
          <p:cNvPicPr/>
          <p:nvPr/>
        </p:nvPicPr>
        <p:blipFill>
          <a:blip r:embed="rId2"/>
          <a:stretch/>
        </p:blipFill>
        <p:spPr>
          <a:xfrm>
            <a:off x="8113680" y="5407200"/>
            <a:ext cx="401760" cy="2984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5"/>
          <p:cNvSpPr/>
          <p:nvPr/>
        </p:nvSpPr>
        <p:spPr>
          <a:xfrm>
            <a:off x="8841240" y="3967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6"/>
          <p:cNvSpPr/>
          <p:nvPr/>
        </p:nvSpPr>
        <p:spPr>
          <a:xfrm>
            <a:off x="8746200" y="4664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37"/>
          <p:cNvSpPr/>
          <p:nvPr/>
        </p:nvSpPr>
        <p:spPr>
          <a:xfrm>
            <a:off x="8760600" y="53244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9438840" y="4495680"/>
            <a:ext cx="22060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11"/>
          <p:cNvGrpSpPr/>
          <p:nvPr/>
        </p:nvGrpSpPr>
        <p:grpSpPr>
          <a:xfrm>
            <a:off x="406440" y="604800"/>
            <a:ext cx="2679840" cy="2978280"/>
            <a:chOff x="406440" y="604800"/>
            <a:chExt cx="2679840" cy="2978280"/>
          </a:xfrm>
        </p:grpSpPr>
        <p:sp>
          <p:nvSpPr>
            <p:cNvPr id="64" name="椭圆 3"/>
            <p:cNvSpPr/>
            <p:nvPr/>
          </p:nvSpPr>
          <p:spPr>
            <a:xfrm>
              <a:off x="406440" y="604800"/>
              <a:ext cx="2679840" cy="267840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组合 10"/>
            <p:cNvGrpSpPr/>
            <p:nvPr/>
          </p:nvGrpSpPr>
          <p:grpSpPr>
            <a:xfrm>
              <a:off x="642600" y="1387440"/>
              <a:ext cx="2207160" cy="2195640"/>
              <a:chOff x="642600" y="1387440"/>
              <a:chExt cx="2207160" cy="2195640"/>
            </a:xfrm>
          </p:grpSpPr>
          <p:sp>
            <p:nvSpPr>
              <p:cNvPr id="66" name="弦形 4"/>
              <p:cNvSpPr/>
              <p:nvPr/>
            </p:nvSpPr>
            <p:spPr>
              <a:xfrm>
                <a:off x="1028520" y="1500120"/>
                <a:ext cx="1435320" cy="2082960"/>
              </a:xfrm>
              <a:custGeom>
                <a:avLst/>
                <a:gdLst/>
                <a:ahLst/>
                <a:rect l="l" t="t" r="r" b="b"/>
                <a:pathLst>
                  <a:path w="2538071" h="2537558">
                    <a:moveTo>
                      <a:pt x="4" y="1265454"/>
                    </a:moveTo>
                    <a:cubicBezTo>
                      <a:pt x="1836" y="566486"/>
                      <a:pt x="568748" y="649"/>
                      <a:pt x="1267859" y="0"/>
                    </a:cubicBezTo>
                    <a:cubicBezTo>
                      <a:pt x="1966970" y="-648"/>
                      <a:pt x="2534930" y="564137"/>
                      <a:pt x="2538059" y="1263100"/>
                    </a:cubicBezTo>
                    <a:lnTo>
                      <a:pt x="4" y="1265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" name="组合 9"/>
              <p:cNvGrpSpPr/>
              <p:nvPr/>
            </p:nvGrpSpPr>
            <p:grpSpPr>
              <a:xfrm>
                <a:off x="642600" y="1387440"/>
                <a:ext cx="2207160" cy="1064160"/>
                <a:chOff x="642600" y="1387440"/>
                <a:chExt cx="2207160" cy="1064160"/>
              </a:xfrm>
            </p:grpSpPr>
            <p:sp>
              <p:nvSpPr>
                <p:cNvPr id="68" name="矩形 5"/>
                <p:cNvSpPr/>
                <p:nvPr/>
              </p:nvSpPr>
              <p:spPr>
                <a:xfrm>
                  <a:off x="642600" y="1387440"/>
                  <a:ext cx="2207160" cy="20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直接连接符 7"/>
                <p:cNvSpPr/>
                <p:nvPr/>
              </p:nvSpPr>
              <p:spPr>
                <a:xfrm>
                  <a:off x="2679840" y="1487520"/>
                  <a:ext cx="0" cy="6624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流程图: 离页连接符 8"/>
                <p:cNvSpPr/>
                <p:nvPr/>
              </p:nvSpPr>
              <p:spPr>
                <a:xfrm rot="10800000">
                  <a:off x="2614680" y="2059200"/>
                  <a:ext cx="129960" cy="392400"/>
                </a:xfrm>
                <a:prstGeom prst="flowChartOffpage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1" name="Content Placeholder 2"/>
          <p:cNvSpPr/>
          <p:nvPr/>
        </p:nvSpPr>
        <p:spPr>
          <a:xfrm>
            <a:off x="3957480" y="5694480"/>
            <a:ext cx="7859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3"/>
          <p:cNvSpPr/>
          <p:nvPr/>
        </p:nvSpPr>
        <p:spPr>
          <a:xfrm>
            <a:off x="9058680" y="508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经营与管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2189160" y="2142720"/>
            <a:ext cx="8174160" cy="3963960"/>
            <a:chOff x="2189160" y="2142720"/>
            <a:chExt cx="8174160" cy="3963960"/>
          </a:xfrm>
        </p:grpSpPr>
        <p:sp>
          <p:nvSpPr>
            <p:cNvPr id="74" name="直接连接符 19"/>
            <p:cNvSpPr/>
            <p:nvPr/>
          </p:nvSpPr>
          <p:spPr>
            <a:xfrm flipV="1">
              <a:off x="4265640" y="4195440"/>
              <a:ext cx="0" cy="9205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25"/>
            <p:cNvGrpSpPr/>
            <p:nvPr/>
          </p:nvGrpSpPr>
          <p:grpSpPr>
            <a:xfrm>
              <a:off x="2189160" y="2142720"/>
              <a:ext cx="8174160" cy="3963960"/>
              <a:chOff x="2189160" y="2142720"/>
              <a:chExt cx="8174160" cy="3963960"/>
            </a:xfrm>
          </p:grpSpPr>
          <p:sp>
            <p:nvSpPr>
              <p:cNvPr id="76" name="直接连接符 15"/>
              <p:cNvSpPr/>
              <p:nvPr/>
            </p:nvSpPr>
            <p:spPr>
              <a:xfrm flipV="1">
                <a:off x="2189160" y="51876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接连接符 17"/>
              <p:cNvSpPr/>
              <p:nvPr/>
            </p:nvSpPr>
            <p:spPr>
              <a:xfrm flipH="1" flipV="1">
                <a:off x="2189160" y="5151600"/>
                <a:ext cx="197640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0"/>
              <p:cNvSpPr/>
              <p:nvPr/>
            </p:nvSpPr>
            <p:spPr>
              <a:xfrm flipH="1" flipV="1">
                <a:off x="4265640" y="4160520"/>
                <a:ext cx="197784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21"/>
              <p:cNvSpPr/>
              <p:nvPr/>
            </p:nvSpPr>
            <p:spPr>
              <a:xfrm flipV="1">
                <a:off x="6308640" y="31698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接连接符 22"/>
              <p:cNvSpPr/>
              <p:nvPr/>
            </p:nvSpPr>
            <p:spPr>
              <a:xfrm flipH="1" flipV="1">
                <a:off x="6308640" y="3133440"/>
                <a:ext cx="197784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接连接符 23"/>
              <p:cNvSpPr/>
              <p:nvPr/>
            </p:nvSpPr>
            <p:spPr>
              <a:xfrm flipV="1">
                <a:off x="8386920" y="2177640"/>
                <a:ext cx="0" cy="920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接连接符 24"/>
              <p:cNvSpPr/>
              <p:nvPr/>
            </p:nvSpPr>
            <p:spPr>
              <a:xfrm flipH="1" flipV="1">
                <a:off x="8386920" y="2142720"/>
                <a:ext cx="197640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文本框 27"/>
          <p:cNvSpPr/>
          <p:nvPr/>
        </p:nvSpPr>
        <p:spPr>
          <a:xfrm>
            <a:off x="2214360" y="582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8"/>
          <p:cNvSpPr/>
          <p:nvPr/>
        </p:nvSpPr>
        <p:spPr>
          <a:xfrm>
            <a:off x="4290840" y="4818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29"/>
          <p:cNvSpPr/>
          <p:nvPr/>
        </p:nvSpPr>
        <p:spPr>
          <a:xfrm>
            <a:off x="6386400" y="3798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0"/>
          <p:cNvSpPr/>
          <p:nvPr/>
        </p:nvSpPr>
        <p:spPr>
          <a:xfrm>
            <a:off x="8402400" y="2832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2198520" y="3706920"/>
            <a:ext cx="2043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4151160" y="2549520"/>
            <a:ext cx="2044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6222960" y="1498680"/>
            <a:ext cx="2043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8402760" y="569880"/>
            <a:ext cx="2044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438840" y="5589720"/>
            <a:ext cx="36068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33"/>
          <p:cNvSpPr/>
          <p:nvPr/>
        </p:nvSpPr>
        <p:spPr>
          <a:xfrm>
            <a:off x="5410080" y="-695160"/>
            <a:ext cx="1390680" cy="13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34"/>
          <p:cNvSpPr/>
          <p:nvPr/>
        </p:nvSpPr>
        <p:spPr>
          <a:xfrm flipH="1">
            <a:off x="1562040" y="0"/>
            <a:ext cx="4533840" cy="1714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35"/>
          <p:cNvSpPr/>
          <p:nvPr/>
        </p:nvSpPr>
        <p:spPr>
          <a:xfrm>
            <a:off x="1562040" y="1714680"/>
            <a:ext cx="912492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36"/>
          <p:cNvSpPr/>
          <p:nvPr/>
        </p:nvSpPr>
        <p:spPr>
          <a:xfrm flipH="1">
            <a:off x="5930640" y="5143680"/>
            <a:ext cx="4755960" cy="177624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38"/>
          <p:cNvSpPr/>
          <p:nvPr/>
        </p:nvSpPr>
        <p:spPr>
          <a:xfrm>
            <a:off x="8577360" y="3724200"/>
            <a:ext cx="283824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9"/>
          <p:cNvSpPr/>
          <p:nvPr/>
        </p:nvSpPr>
        <p:spPr>
          <a:xfrm>
            <a:off x="8620920" y="43783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0"/>
          <p:cNvSpPr/>
          <p:nvPr/>
        </p:nvSpPr>
        <p:spPr>
          <a:xfrm>
            <a:off x="9155520" y="550872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5"/>
          <p:cNvSpPr/>
          <p:nvPr/>
        </p:nvSpPr>
        <p:spPr>
          <a:xfrm>
            <a:off x="858960" y="90180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6"/>
          <p:cNvSpPr/>
          <p:nvPr/>
        </p:nvSpPr>
        <p:spPr>
          <a:xfrm>
            <a:off x="1501560" y="203184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7315200" y="162000"/>
            <a:ext cx="46944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32"/>
          <p:cNvGrpSpPr/>
          <p:nvPr/>
        </p:nvGrpSpPr>
        <p:grpSpPr>
          <a:xfrm>
            <a:off x="4635360" y="2065320"/>
            <a:ext cx="2679840" cy="2679840"/>
            <a:chOff x="4635360" y="2065320"/>
            <a:chExt cx="2679840" cy="2679840"/>
          </a:xfrm>
        </p:grpSpPr>
        <p:sp>
          <p:nvSpPr>
            <p:cNvPr id="105" name="椭圆 10"/>
            <p:cNvSpPr/>
            <p:nvPr/>
          </p:nvSpPr>
          <p:spPr>
            <a:xfrm>
              <a:off x="4635360" y="2065320"/>
              <a:ext cx="26798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8"/>
            <p:cNvGrpSpPr/>
            <p:nvPr/>
          </p:nvGrpSpPr>
          <p:grpSpPr>
            <a:xfrm>
              <a:off x="5265360" y="2894040"/>
              <a:ext cx="1430280" cy="1021320"/>
              <a:chOff x="5265360" y="2894040"/>
              <a:chExt cx="1430280" cy="1021320"/>
            </a:xfrm>
          </p:grpSpPr>
          <p:sp>
            <p:nvSpPr>
              <p:cNvPr id="107" name="矩形 2"/>
              <p:cNvSpPr/>
              <p:nvPr/>
            </p:nvSpPr>
            <p:spPr>
              <a:xfrm>
                <a:off x="5265360" y="3497760"/>
                <a:ext cx="143028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任意多边形 5"/>
              <p:cNvSpPr/>
              <p:nvPr/>
            </p:nvSpPr>
            <p:spPr>
              <a:xfrm>
                <a:off x="5265360" y="3041640"/>
                <a:ext cx="1430280" cy="417600"/>
              </a:xfrm>
              <a:custGeom>
                <a:avLst/>
                <a:gdLst/>
                <a:ahLst/>
                <a:rect l="l" t="t" r="r" b="b"/>
                <a:pathLst>
                  <a:path w="4307304" h="1070810">
                    <a:moveTo>
                      <a:pt x="0" y="0"/>
                    </a:moveTo>
                    <a:lnTo>
                      <a:pt x="4307304" y="0"/>
                    </a:lnTo>
                    <a:lnTo>
                      <a:pt x="4307304" y="1070810"/>
                    </a:lnTo>
                    <a:lnTo>
                      <a:pt x="2425471" y="1070810"/>
                    </a:lnTo>
                    <a:lnTo>
                      <a:pt x="2439399" y="1050152"/>
                    </a:lnTo>
                    <a:cubicBezTo>
                      <a:pt x="2449085" y="1027251"/>
                      <a:pt x="2454441" y="1002073"/>
                      <a:pt x="2454441" y="975644"/>
                    </a:cubicBezTo>
                    <a:lnTo>
                      <a:pt x="2454441" y="756897"/>
                    </a:lnTo>
                    <a:cubicBezTo>
                      <a:pt x="2454441" y="651181"/>
                      <a:pt x="2368741" y="565481"/>
                      <a:pt x="2263025" y="565481"/>
                    </a:cubicBezTo>
                    <a:lnTo>
                      <a:pt x="2044278" y="565481"/>
                    </a:lnTo>
                    <a:cubicBezTo>
                      <a:pt x="1938562" y="565481"/>
                      <a:pt x="1852862" y="651181"/>
                      <a:pt x="1852862" y="756897"/>
                    </a:cubicBezTo>
                    <a:lnTo>
                      <a:pt x="1852862" y="975644"/>
                    </a:lnTo>
                    <a:cubicBezTo>
                      <a:pt x="1852862" y="1002073"/>
                      <a:pt x="1858219" y="1027251"/>
                      <a:pt x="1867905" y="1050152"/>
                    </a:cubicBezTo>
                    <a:lnTo>
                      <a:pt x="1881833" y="1070810"/>
                    </a:lnTo>
                    <a:lnTo>
                      <a:pt x="0" y="10708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椭圆 6"/>
              <p:cNvSpPr/>
              <p:nvPr/>
            </p:nvSpPr>
            <p:spPr>
              <a:xfrm>
                <a:off x="5955840" y="3403800"/>
                <a:ext cx="4896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椭圆 7"/>
              <p:cNvSpPr/>
              <p:nvPr/>
            </p:nvSpPr>
            <p:spPr>
              <a:xfrm>
                <a:off x="5797080" y="2894040"/>
                <a:ext cx="366480" cy="335160"/>
              </a:xfrm>
              <a:prstGeom prst="ellipse">
                <a:avLst/>
              </a:prstGeom>
              <a:noFill/>
              <a:ln w="88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Content Placeholder 2"/>
          <p:cNvSpPr/>
          <p:nvPr/>
        </p:nvSpPr>
        <p:spPr>
          <a:xfrm>
            <a:off x="406440" y="3456000"/>
            <a:ext cx="367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9"/>
          <p:cNvSpPr/>
          <p:nvPr/>
        </p:nvSpPr>
        <p:spPr>
          <a:xfrm>
            <a:off x="3535200" y="1200240"/>
            <a:ext cx="2560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0"/>
          <p:cNvSpPr/>
          <p:nvPr/>
        </p:nvSpPr>
        <p:spPr>
          <a:xfrm>
            <a:off x="3939480" y="130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1"/>
          <p:cNvSpPr/>
          <p:nvPr/>
        </p:nvSpPr>
        <p:spPr>
          <a:xfrm>
            <a:off x="6067440" y="4843440"/>
            <a:ext cx="25621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2"/>
          <p:cNvSpPr/>
          <p:nvPr/>
        </p:nvSpPr>
        <p:spPr>
          <a:xfrm>
            <a:off x="6582960" y="4948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角三角形 53"/>
          <p:cNvSpPr/>
          <p:nvPr/>
        </p:nvSpPr>
        <p:spPr>
          <a:xfrm rot="13500000">
            <a:off x="3821040" y="4771800"/>
            <a:ext cx="528480" cy="52884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角三角形 54"/>
          <p:cNvSpPr/>
          <p:nvPr/>
        </p:nvSpPr>
        <p:spPr>
          <a:xfrm rot="2700000">
            <a:off x="6992640" y="40464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22"/>
          <p:cNvSpPr/>
          <p:nvPr/>
        </p:nvSpPr>
        <p:spPr>
          <a:xfrm>
            <a:off x="8445600" y="3722760"/>
            <a:ext cx="2838240" cy="28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"/>
          <p:cNvSpPr/>
          <p:nvPr/>
        </p:nvSpPr>
        <p:spPr>
          <a:xfrm flipH="1">
            <a:off x="1504800" y="-108000"/>
            <a:ext cx="4880160" cy="1822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2"/>
          <p:cNvSpPr/>
          <p:nvPr/>
        </p:nvSpPr>
        <p:spPr>
          <a:xfrm>
            <a:off x="1504800" y="1714680"/>
            <a:ext cx="918216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3"/>
          <p:cNvSpPr/>
          <p:nvPr/>
        </p:nvSpPr>
        <p:spPr>
          <a:xfrm flipH="1">
            <a:off x="5875200" y="5143680"/>
            <a:ext cx="4811760" cy="179676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椭圆 4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1252080" y="495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1352520" y="133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1252080" y="17604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2347560" y="24559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0"/>
          <p:cNvSpPr/>
          <p:nvPr/>
        </p:nvSpPr>
        <p:spPr>
          <a:xfrm>
            <a:off x="2022480" y="1349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8972640" y="41338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2"/>
          <p:cNvSpPr/>
          <p:nvPr/>
        </p:nvSpPr>
        <p:spPr>
          <a:xfrm>
            <a:off x="9343440" y="4883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3"/>
          <p:cNvSpPr/>
          <p:nvPr/>
        </p:nvSpPr>
        <p:spPr>
          <a:xfrm>
            <a:off x="8972640" y="51814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4"/>
          <p:cNvSpPr/>
          <p:nvPr/>
        </p:nvSpPr>
        <p:spPr>
          <a:xfrm>
            <a:off x="10070640" y="5896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15"/>
          <p:cNvSpPr/>
          <p:nvPr/>
        </p:nvSpPr>
        <p:spPr>
          <a:xfrm>
            <a:off x="9836640" y="488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849240" y="3378240"/>
            <a:ext cx="46958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6192720" y="585720"/>
            <a:ext cx="3672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5"/>
          <p:cNvSpPr/>
          <p:nvPr/>
        </p:nvSpPr>
        <p:spPr>
          <a:xfrm rot="20272200">
            <a:off x="6192360" y="5167440"/>
            <a:ext cx="2560680" cy="64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6"/>
          <p:cNvSpPr/>
          <p:nvPr/>
        </p:nvSpPr>
        <p:spPr>
          <a:xfrm rot="20272200">
            <a:off x="6706080" y="52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7"/>
          <p:cNvSpPr/>
          <p:nvPr/>
        </p:nvSpPr>
        <p:spPr>
          <a:xfrm rot="919800">
            <a:off x="3373200" y="1655640"/>
            <a:ext cx="25606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8"/>
          <p:cNvSpPr/>
          <p:nvPr/>
        </p:nvSpPr>
        <p:spPr>
          <a:xfrm rot="919800">
            <a:off x="3886920" y="176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角三角形 30"/>
          <p:cNvSpPr/>
          <p:nvPr/>
        </p:nvSpPr>
        <p:spPr>
          <a:xfrm rot="2700000">
            <a:off x="5900760" y="782640"/>
            <a:ext cx="52848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角三角形 31"/>
          <p:cNvSpPr/>
          <p:nvPr/>
        </p:nvSpPr>
        <p:spPr>
          <a:xfrm rot="13500000">
            <a:off x="5360760" y="406512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3"/>
          <p:cNvSpPr/>
          <p:nvPr/>
        </p:nvSpPr>
        <p:spPr>
          <a:xfrm>
            <a:off x="2309760" y="-349200"/>
            <a:ext cx="757224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48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4570920" y="3137040"/>
            <a:ext cx="30502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T 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1272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694548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61272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694548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11"/>
          <p:cNvGrpSpPr/>
          <p:nvPr/>
        </p:nvGrpSpPr>
        <p:grpSpPr>
          <a:xfrm>
            <a:off x="6091200" y="206280"/>
            <a:ext cx="9720" cy="6445440"/>
            <a:chOff x="6091200" y="206280"/>
            <a:chExt cx="9720" cy="6445440"/>
          </a:xfrm>
        </p:grpSpPr>
        <p:sp>
          <p:nvSpPr>
            <p:cNvPr id="150" name="直接连接符 9"/>
            <p:cNvSpPr/>
            <p:nvPr/>
          </p:nvSpPr>
          <p:spPr>
            <a:xfrm>
              <a:off x="6095880" y="206280"/>
              <a:ext cx="504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直接连接符 10"/>
            <p:cNvSpPr/>
            <p:nvPr/>
          </p:nvSpPr>
          <p:spPr>
            <a:xfrm>
              <a:off x="6091200" y="4022640"/>
              <a:ext cx="468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8"/>
          <p:cNvGrpSpPr/>
          <p:nvPr/>
        </p:nvGrpSpPr>
        <p:grpSpPr>
          <a:xfrm>
            <a:off x="390600" y="3423960"/>
            <a:ext cx="11410920" cy="3240"/>
            <a:chOff x="390600" y="3423960"/>
            <a:chExt cx="11410920" cy="3240"/>
          </a:xfrm>
        </p:grpSpPr>
        <p:sp>
          <p:nvSpPr>
            <p:cNvPr id="153" name="直接连接符 16"/>
            <p:cNvSpPr/>
            <p:nvPr/>
          </p:nvSpPr>
          <p:spPr>
            <a:xfrm flipV="1">
              <a:off x="39060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17"/>
            <p:cNvSpPr/>
            <p:nvPr/>
          </p:nvSpPr>
          <p:spPr>
            <a:xfrm flipV="1">
              <a:off x="791388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 Box 4"/>
          <p:cNvSpPr/>
          <p:nvPr/>
        </p:nvSpPr>
        <p:spPr>
          <a:xfrm>
            <a:off x="244440" y="63230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5014800" y="833400"/>
            <a:ext cx="115272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646440" y="833400"/>
            <a:ext cx="1152720" cy="4318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911160" y="833400"/>
            <a:ext cx="1152720" cy="431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2279520" y="833400"/>
            <a:ext cx="1150920" cy="43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911160" y="1407960"/>
            <a:ext cx="1152720" cy="37436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2279520" y="3711600"/>
            <a:ext cx="1150920" cy="144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3646440" y="2703600"/>
            <a:ext cx="115272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5014800" y="1984320"/>
            <a:ext cx="1152720" cy="3167280"/>
          </a:xfrm>
          <a:prstGeom prst="rect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917640" y="151128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28"/>
          <p:cNvSpPr/>
          <p:nvPr/>
        </p:nvSpPr>
        <p:spPr>
          <a:xfrm>
            <a:off x="2279520" y="3711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C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29"/>
          <p:cNvSpPr/>
          <p:nvPr/>
        </p:nvSpPr>
        <p:spPr>
          <a:xfrm>
            <a:off x="3660840" y="2703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30"/>
          <p:cNvSpPr/>
          <p:nvPr/>
        </p:nvSpPr>
        <p:spPr>
          <a:xfrm>
            <a:off x="5029200" y="198432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5"/>
          <p:cNvSpPr/>
          <p:nvPr/>
        </p:nvSpPr>
        <p:spPr>
          <a:xfrm>
            <a:off x="7334280" y="19684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56"/>
          <p:cNvSpPr/>
          <p:nvPr/>
        </p:nvSpPr>
        <p:spPr>
          <a:xfrm>
            <a:off x="7334280" y="3441600"/>
            <a:ext cx="3722760" cy="118908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57"/>
          <p:cNvSpPr/>
          <p:nvPr/>
        </p:nvSpPr>
        <p:spPr>
          <a:xfrm>
            <a:off x="7334280" y="49132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921960" y="5780160"/>
            <a:ext cx="1293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7376400" y="13701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5"/>
          <p:cNvSpPr/>
          <p:nvPr/>
        </p:nvSpPr>
        <p:spPr>
          <a:xfrm>
            <a:off x="9219600" y="13701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0" y="2562120"/>
            <a:ext cx="12192120" cy="173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图片 3" descr=""/>
          <p:cNvPicPr/>
          <p:nvPr/>
        </p:nvPicPr>
        <p:blipFill>
          <a:blip r:embed="rId1"/>
          <a:stretch/>
        </p:blipFill>
        <p:spPr>
          <a:xfrm>
            <a:off x="3927600" y="3586320"/>
            <a:ext cx="2081160" cy="3092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"/>
          <p:cNvPicPr/>
          <p:nvPr/>
        </p:nvPicPr>
        <p:blipFill>
          <a:blip r:embed="rId2"/>
          <a:stretch/>
        </p:blipFill>
        <p:spPr>
          <a:xfrm>
            <a:off x="6203880" y="3586320"/>
            <a:ext cx="2185920" cy="30924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5" descr=""/>
          <p:cNvPicPr/>
          <p:nvPr/>
        </p:nvPicPr>
        <p:blipFill>
          <a:blip r:embed="rId3"/>
          <a:stretch/>
        </p:blipFill>
        <p:spPr>
          <a:xfrm>
            <a:off x="8596440" y="3586320"/>
            <a:ext cx="2217600" cy="3136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" descr=""/>
          <p:cNvPicPr/>
          <p:nvPr/>
        </p:nvPicPr>
        <p:blipFill>
          <a:blip r:embed="rId4"/>
          <a:stretch/>
        </p:blipFill>
        <p:spPr>
          <a:xfrm>
            <a:off x="1550880" y="3586320"/>
            <a:ext cx="2179800" cy="30924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" descr=""/>
          <p:cNvPicPr/>
          <p:nvPr/>
        </p:nvPicPr>
        <p:blipFill>
          <a:blip r:embed="rId5"/>
          <a:stretch/>
        </p:blipFill>
        <p:spPr>
          <a:xfrm>
            <a:off x="1550880" y="289080"/>
            <a:ext cx="188604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"/>
          <p:cNvPicPr/>
          <p:nvPr/>
        </p:nvPicPr>
        <p:blipFill>
          <a:blip r:embed="rId6"/>
          <a:stretch/>
        </p:blipFill>
        <p:spPr>
          <a:xfrm>
            <a:off x="3730680" y="289080"/>
            <a:ext cx="20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9" descr=""/>
          <p:cNvPicPr/>
          <p:nvPr/>
        </p:nvPicPr>
        <p:blipFill>
          <a:blip r:embed="rId7"/>
          <a:stretch/>
        </p:blipFill>
        <p:spPr>
          <a:xfrm>
            <a:off x="6130800" y="289080"/>
            <a:ext cx="2067120" cy="2922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0" descr=""/>
          <p:cNvPicPr/>
          <p:nvPr/>
        </p:nvPicPr>
        <p:blipFill>
          <a:blip r:embed="rId8"/>
          <a:stretch/>
        </p:blipFill>
        <p:spPr>
          <a:xfrm>
            <a:off x="8508960" y="289080"/>
            <a:ext cx="2305080" cy="2922480"/>
          </a:xfrm>
          <a:prstGeom prst="rect">
            <a:avLst/>
          </a:prstGeom>
          <a:ln w="0">
            <a:noFill/>
          </a:ln>
        </p:spPr>
      </p:pic>
      <p:sp>
        <p:nvSpPr>
          <p:cNvPr id="185" name="矩形 1"/>
          <p:cNvSpPr/>
          <p:nvPr/>
        </p:nvSpPr>
        <p:spPr>
          <a:xfrm>
            <a:off x="4979160" y="3137040"/>
            <a:ext cx="223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1387440" y="612720"/>
            <a:ext cx="2743200" cy="312264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" descr=""/>
          <p:cNvPicPr/>
          <p:nvPr/>
        </p:nvPicPr>
        <p:blipFill>
          <a:blip r:embed="rId2"/>
          <a:stretch/>
        </p:blipFill>
        <p:spPr>
          <a:xfrm>
            <a:off x="138744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3"/>
          <a:stretch/>
        </p:blipFill>
        <p:spPr>
          <a:xfrm>
            <a:off x="446868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4" descr=""/>
          <p:cNvPicPr/>
          <p:nvPr/>
        </p:nvPicPr>
        <p:blipFill>
          <a:blip r:embed="rId4"/>
          <a:stretch/>
        </p:blipFill>
        <p:spPr>
          <a:xfrm>
            <a:off x="7413480" y="3848040"/>
            <a:ext cx="2743200" cy="27766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5" descr=""/>
          <p:cNvPicPr/>
          <p:nvPr/>
        </p:nvPicPr>
        <p:blipFill>
          <a:blip r:embed="rId5"/>
          <a:stretch/>
        </p:blipFill>
        <p:spPr>
          <a:xfrm>
            <a:off x="4468680" y="612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6" descr=""/>
          <p:cNvPicPr/>
          <p:nvPr/>
        </p:nvPicPr>
        <p:blipFill>
          <a:blip r:embed="rId6"/>
          <a:stretch/>
        </p:blipFill>
        <p:spPr>
          <a:xfrm>
            <a:off x="7413480" y="612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9:54:12Z</dcterms:created>
  <dc:creator>张京</dc:creator>
  <dc:description/>
  <dc:language>en-US</dc:language>
  <cp:lastModifiedBy>王玉清</cp:lastModifiedBy>
  <dcterms:modified xsi:type="dcterms:W3CDTF">2016-03-05T12:41:16Z</dcterms:modified>
  <cp:revision>33</cp:revision>
  <dc:subject/>
  <dc:title>PowerPoint 演示文稿</dc:title>
</cp:coreProperties>
</file>