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1.jpeg" ContentType="image/jpeg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CE7-08DC-45A1-94C2-F11DA62B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FDB-D965-43C0-8DC4-66EAD68A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75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7F3-3EBA-4098-B79E-20568379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92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05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92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05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832-6DCC-4F9C-A3EC-E3AFEF25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4E1D-F21B-486B-BB6C-982A4778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7003-374B-401B-9B55-3BDC6B6B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1519-0819-4859-BA42-B50B5B2F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EEF3-2B4D-451E-8D9B-78C31E02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CA17-9752-4124-B50B-3BD19574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FF3A-5F6C-453B-97F1-74A93091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61C0-CB9C-4144-A7DD-9471D38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8E5-04DB-4DAF-8572-3A5169BB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75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3677-17EE-4542-8ACC-FF9C547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A312-027F-469F-AF74-0A7A53B4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C63F-952A-47DB-AD97-53882235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75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D2EE-26AE-4C25-98DA-1691F4B9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92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05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92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05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B460-E7C5-4C0A-9261-4874B112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BD7-A74E-4E44-90AD-60B4F5EA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F21-FDF2-487F-A41E-A4C0B7C5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54C-CDCB-47F8-B925-09FC7177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83E-87C3-4D97-A7F9-28917A9A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78A-B8A9-444A-9AC1-BB7749A2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75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E81-555E-4A50-9C0F-A314C55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301-7153-4295-9D98-9E26C45B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Demi Con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ras Bold ITC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ras Bold ITC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ras Bold ITC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ras Bold ITC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ras Bold ITC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EE86-4A7E-4669-8D52-6C160AEC9724}" type="slidenum">
              <a:rPr b="0" lang="zh-CN" sz="1000" spc="-1" strike="noStrike">
                <a:solidFill>
                  <a:srgbClr val="000000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ranklin Gothic Demi Cond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02FA-574E-4213-8BA0-6371F3925AD3}" type="slidenum"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2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25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3.gif"/><Relationship Id="rId7" Type="http://schemas.openxmlformats.org/officeDocument/2006/relationships/image" Target="../media/image8.gif"/><Relationship Id="rId8" Type="http://schemas.openxmlformats.org/officeDocument/2006/relationships/image" Target="../media/image5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357336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2040" y="260280"/>
            <a:ext cx="40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卡通人物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在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301464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Transitional Page</a:t>
            </a:r>
            <a:endParaRPr b="0" lang="en-US" sz="6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95480" y="1295280"/>
            <a:ext cx="343548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918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3668760" cy="414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3573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Elements</a:t>
            </a:r>
            <a:endParaRPr b="0" lang="en-US" sz="6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61040" y="152280"/>
            <a:ext cx="2830680" cy="212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61040" y="2367000"/>
            <a:ext cx="283068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161040" y="4583160"/>
            <a:ext cx="2830680" cy="212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80880" y="2819520"/>
            <a:ext cx="3443400" cy="3886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191120" y="2819520"/>
            <a:ext cx="1831680" cy="3886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0" y="1371600"/>
            <a:ext cx="9428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066680" y="13716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2590920" y="1295280"/>
            <a:ext cx="988920" cy="144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581280" y="1295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5029200" y="1295280"/>
            <a:ext cx="942840" cy="1447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ranklin Gothic Demi Cond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D30-B396-4E95-8DC8-8953B95B1FD3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2:35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08:0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b413000000000001024140</vt:lpwstr>
  </property>
</Properties>
</file>