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BFD-122C-4972-9DF2-55907E3A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97D-A0AF-48AD-973F-2CE9711F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A0B-E530-4726-87CA-2C8736DB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6BD-BBA5-4F38-B484-4400C900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FA87-5F6C-40C7-A1D9-896879E9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DEDE-38F2-4388-B2DB-A9E03828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6D22-7228-4108-A95C-D3C6455C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98E0-7EFE-4C9F-B8B1-7A65938B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874F-66A4-43F9-997E-423E7F82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6876-F4D9-4539-AC63-13D3B94C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5E46-23BF-4BD5-8BF2-F0D07082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240-6FE6-442B-994F-9D90BA88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69F9-2EEF-4128-8481-FC5E852C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CF88-890B-4759-BE7B-26528EC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BF0B-8BD5-4974-A5ED-7AA23953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8344-F1C4-4CE9-A0BF-0968BED1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25CC-89B8-4455-AF5C-C7EAF5B7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18B5-C9B1-4472-88F3-B0CFCE40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A8519-1009-477C-9B24-FF02480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BBABE-1258-4CF7-8A50-24A027F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0C28-5547-4956-BB31-FB8F4E2B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EFCF-E04B-434E-820E-945A394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9FA-E6C5-453C-BA54-BAAE8451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CE62-F6F7-4D64-AAB4-D0B9F59A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CDCD7-DEF3-44C7-A94A-9C029BF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DD00-5699-48AC-8C1B-A15B0C6A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8927A-D1F2-42E4-8177-DB16E0A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AC2FB-A674-4C91-9732-B55F665C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BEB5-D048-41D7-9C59-473F702E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B3F0-4809-419B-A0F9-F04F37B0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9A7-54E9-429F-9174-E97DC756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277-06ED-4827-A3C5-79A61397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06E-27C2-413C-A8DB-9F52034A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05A-ECDD-42F5-A77E-6215C03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23B-49FE-4667-BC73-241D0F3C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685-4F8F-4029-B69D-26134BAD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713CC8-B594-402D-BCA1-029D831A8A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DEB67A-E9AC-4E2C-9500-7BC5CD70614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0B8BF2-D28E-4613-81B3-4517582577A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" descr=""/>
          <p:cNvPicPr/>
          <p:nvPr/>
        </p:nvPicPr>
        <p:blipFill>
          <a:blip r:embed="rId1"/>
          <a:stretch/>
        </p:blipFill>
        <p:spPr>
          <a:xfrm>
            <a:off x="2179800" y="836280"/>
            <a:ext cx="7754040" cy="525348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8"/>
          <p:cNvSpPr/>
          <p:nvPr/>
        </p:nvSpPr>
        <p:spPr>
          <a:xfrm>
            <a:off x="6161040" y="3523320"/>
            <a:ext cx="3039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微软雅黑"/>
              </a:rPr>
              <a:t>工作汇报展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9"/>
          <p:cNvSpPr/>
          <p:nvPr/>
        </p:nvSpPr>
        <p:spPr>
          <a:xfrm>
            <a:off x="5478480" y="3585240"/>
            <a:ext cx="79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2"/>
          <p:cNvSpPr/>
          <p:nvPr/>
        </p:nvSpPr>
        <p:spPr>
          <a:xfrm>
            <a:off x="6269040" y="4255200"/>
            <a:ext cx="282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华文细黑"/>
                <a:ea typeface="华文细黑"/>
              </a:rPr>
              <a:t>这里输入演示者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7634160" y="45666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华文细黑"/>
                <a:ea typeface="华文细黑"/>
              </a:rPr>
              <a:t>2015/05/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0"/>
          <p:cNvSpPr/>
          <p:nvPr/>
        </p:nvSpPr>
        <p:spPr>
          <a:xfrm>
            <a:off x="55080" y="1213200"/>
            <a:ext cx="12211920" cy="1850760"/>
          </a:xfrm>
          <a:prstGeom prst="rect">
            <a:avLst/>
          </a:prstGeom>
          <a:solidFill>
            <a:schemeClr val="tx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3151080" y="1421280"/>
            <a:ext cx="5608800" cy="4852800"/>
            <a:chOff x="3151080" y="1421280"/>
            <a:chExt cx="5608800" cy="4852800"/>
          </a:xfrm>
        </p:grpSpPr>
        <p:sp>
          <p:nvSpPr>
            <p:cNvPr id="130" name="矩形 42"/>
            <p:cNvSpPr/>
            <p:nvPr/>
          </p:nvSpPr>
          <p:spPr>
            <a:xfrm>
              <a:off x="3151080" y="1421280"/>
              <a:ext cx="560880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黑体"/>
                  <a:ea typeface="黑体"/>
                </a:rPr>
                <a:t>蓝色背景商务工作汇报展望</a:t>
              </a:r>
              <a:r>
                <a:rPr b="0" lang="en-US" sz="4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黑体"/>
                  <a:ea typeface="黑体"/>
                </a:rPr>
                <a:t>PPT</a:t>
              </a:r>
              <a:r>
                <a:rPr b="0" lang="zh-CN" sz="4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黑体"/>
                  <a:ea typeface="黑体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43"/>
            <p:cNvSpPr/>
            <p:nvPr/>
          </p:nvSpPr>
          <p:spPr>
            <a:xfrm>
              <a:off x="5769720" y="5695560"/>
              <a:ext cx="28908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Segoe Media Center Ligh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3" descr=""/>
          <p:cNvPicPr/>
          <p:nvPr/>
        </p:nvPicPr>
        <p:blipFill>
          <a:blip r:embed="rId1"/>
          <a:stretch/>
        </p:blipFill>
        <p:spPr>
          <a:xfrm>
            <a:off x="2179800" y="836280"/>
            <a:ext cx="7754040" cy="525348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4054320" y="1450800"/>
            <a:ext cx="564840" cy="593280"/>
          </a:xfrm>
          <a:prstGeom prst="rect">
            <a:avLst/>
          </a:prstGeom>
          <a:solidFill>
            <a:srgbClr val="70ad47"/>
          </a:solidFill>
          <a:ln>
            <a:solidFill>
              <a:srgbClr val="527f34"/>
            </a:solidFill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15"/>
          <p:cNvSpPr/>
          <p:nvPr/>
        </p:nvSpPr>
        <p:spPr>
          <a:xfrm>
            <a:off x="4151160" y="1424160"/>
            <a:ext cx="46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 形 16"/>
          <p:cNvSpPr/>
          <p:nvPr/>
        </p:nvSpPr>
        <p:spPr>
          <a:xfrm rot="16200000">
            <a:off x="4091760" y="1521720"/>
            <a:ext cx="612360" cy="607680"/>
          </a:xfrm>
          <a:custGeom>
            <a:avLst/>
            <a:gdLst>
              <a:gd name="textAreaLeft" fmla="*/ 0 w 612360"/>
              <a:gd name="textAreaRight" fmla="*/ 612720 w 6123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613411" h="607845">
                <a:moveTo>
                  <a:pt x="0" y="0"/>
                </a:moveTo>
                <a:lnTo>
                  <a:pt x="0" y="0"/>
                </a:lnTo>
                <a:lnTo>
                  <a:pt x="0" y="607845"/>
                </a:lnTo>
                <a:lnTo>
                  <a:pt x="613411" y="607845"/>
                </a:lnTo>
                <a:lnTo>
                  <a:pt x="0" y="607845"/>
                </a:lnTo>
                <a:lnTo>
                  <a:pt x="0" y="0"/>
                </a:lnTo>
                <a:close/>
              </a:path>
            </a:pathLst>
          </a:custGeom>
          <a:solidFill>
            <a:srgbClr val="afabab"/>
          </a:solidFill>
          <a:ln w="127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38"/>
          <p:cNvSpPr/>
          <p:nvPr/>
        </p:nvSpPr>
        <p:spPr>
          <a:xfrm>
            <a:off x="5051520" y="1517760"/>
            <a:ext cx="224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8"/>
          <p:cNvSpPr/>
          <p:nvPr/>
        </p:nvSpPr>
        <p:spPr>
          <a:xfrm>
            <a:off x="5051520" y="1994040"/>
            <a:ext cx="512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添加内容。这里添加内容。这里添加内容。这里添加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5"/>
          <p:cNvSpPr/>
          <p:nvPr/>
        </p:nvSpPr>
        <p:spPr>
          <a:xfrm>
            <a:off x="4054320" y="2990880"/>
            <a:ext cx="564840" cy="59184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36"/>
          <p:cNvSpPr/>
          <p:nvPr/>
        </p:nvSpPr>
        <p:spPr>
          <a:xfrm>
            <a:off x="4127400" y="2946240"/>
            <a:ext cx="46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 形 37"/>
          <p:cNvSpPr/>
          <p:nvPr/>
        </p:nvSpPr>
        <p:spPr>
          <a:xfrm rot="16200000">
            <a:off x="4091040" y="3061080"/>
            <a:ext cx="614160" cy="607680"/>
          </a:xfrm>
          <a:custGeom>
            <a:avLst/>
            <a:gdLst>
              <a:gd name="textAreaLeft" fmla="*/ 0 w 614160"/>
              <a:gd name="textAreaRight" fmla="*/ 614520 w 614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613411" h="607845">
                <a:moveTo>
                  <a:pt x="0" y="0"/>
                </a:moveTo>
                <a:lnTo>
                  <a:pt x="0" y="0"/>
                </a:lnTo>
                <a:lnTo>
                  <a:pt x="0" y="607845"/>
                </a:lnTo>
                <a:lnTo>
                  <a:pt x="613411" y="607845"/>
                </a:lnTo>
                <a:lnTo>
                  <a:pt x="0" y="607845"/>
                </a:lnTo>
                <a:lnTo>
                  <a:pt x="0" y="0"/>
                </a:lnTo>
                <a:close/>
              </a:path>
            </a:pathLst>
          </a:custGeom>
          <a:solidFill>
            <a:srgbClr val="afabab"/>
          </a:solidFill>
          <a:ln w="127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38"/>
          <p:cNvSpPr/>
          <p:nvPr/>
        </p:nvSpPr>
        <p:spPr>
          <a:xfrm>
            <a:off x="5051520" y="3057480"/>
            <a:ext cx="224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8"/>
          <p:cNvSpPr/>
          <p:nvPr/>
        </p:nvSpPr>
        <p:spPr>
          <a:xfrm>
            <a:off x="5051520" y="3533760"/>
            <a:ext cx="4909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添加内容。这里添加内容。这里添加内容。这里添加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0"/>
          <p:cNvSpPr/>
          <p:nvPr/>
        </p:nvSpPr>
        <p:spPr>
          <a:xfrm>
            <a:off x="4054320" y="4449600"/>
            <a:ext cx="564840" cy="593280"/>
          </a:xfrm>
          <a:prstGeom prst="rect">
            <a:avLst/>
          </a:prstGeom>
          <a:solidFill>
            <a:srgbClr val="4472c4"/>
          </a:solidFill>
          <a:ln>
            <a:solidFill>
              <a:srgbClr val="ffffff"/>
            </a:solidFill>
          </a:ln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41"/>
          <p:cNvSpPr/>
          <p:nvPr/>
        </p:nvSpPr>
        <p:spPr>
          <a:xfrm>
            <a:off x="4127400" y="4406760"/>
            <a:ext cx="46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 形 42"/>
          <p:cNvSpPr/>
          <p:nvPr/>
        </p:nvSpPr>
        <p:spPr>
          <a:xfrm rot="16200000">
            <a:off x="4091040" y="4521600"/>
            <a:ext cx="614160" cy="607680"/>
          </a:xfrm>
          <a:custGeom>
            <a:avLst/>
            <a:gdLst>
              <a:gd name="textAreaLeft" fmla="*/ 0 w 614160"/>
              <a:gd name="textAreaRight" fmla="*/ 614520 w 614160"/>
              <a:gd name="textAreaTop" fmla="*/ 0 h 607680"/>
              <a:gd name="textAreaBottom" fmla="*/ 608040 h 607680"/>
            </a:gdLst>
            <a:ahLst/>
            <a:rect l="textAreaLeft" t="textAreaTop" r="textAreaRight" b="textAreaBottom"/>
            <a:pathLst>
              <a:path w="613411" h="607845">
                <a:moveTo>
                  <a:pt x="0" y="0"/>
                </a:moveTo>
                <a:lnTo>
                  <a:pt x="0" y="0"/>
                </a:lnTo>
                <a:lnTo>
                  <a:pt x="0" y="607845"/>
                </a:lnTo>
                <a:lnTo>
                  <a:pt x="613411" y="607845"/>
                </a:lnTo>
                <a:lnTo>
                  <a:pt x="0" y="607845"/>
                </a:lnTo>
                <a:lnTo>
                  <a:pt x="0" y="0"/>
                </a:lnTo>
                <a:close/>
              </a:path>
            </a:pathLst>
          </a:custGeom>
          <a:solidFill>
            <a:srgbClr val="afabab"/>
          </a:solidFill>
          <a:ln w="127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43"/>
          <p:cNvSpPr/>
          <p:nvPr/>
        </p:nvSpPr>
        <p:spPr>
          <a:xfrm>
            <a:off x="5051520" y="4518000"/>
            <a:ext cx="2241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404040"/>
                </a:solidFill>
                <a:latin typeface="华文细黑"/>
                <a:ea typeface="华文细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5051520" y="4994280"/>
            <a:ext cx="4909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添加内容。这里添加内容。这里添加内容。这里添加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7"/>
          <p:cNvSpPr/>
          <p:nvPr/>
        </p:nvSpPr>
        <p:spPr>
          <a:xfrm>
            <a:off x="0" y="411480"/>
            <a:ext cx="539280" cy="575640"/>
          </a:xfrm>
          <a:prstGeom prst="rect">
            <a:avLst/>
          </a:prstGeom>
          <a:solidFill>
            <a:srgbClr val="3461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50" name="直接连接符 28"/>
          <p:cNvCxnSpPr/>
          <p:nvPr/>
        </p:nvCxnSpPr>
        <p:spPr>
          <a:xfrm>
            <a:off x="600480" y="411480"/>
            <a:ext cx="360" cy="576360"/>
          </a:xfrm>
          <a:prstGeom prst="straightConnector1">
            <a:avLst/>
          </a:prstGeom>
          <a:ln w="28575">
            <a:solidFill>
              <a:srgbClr val="346182"/>
            </a:solidFill>
          </a:ln>
        </p:spPr>
      </p:cxnSp>
      <p:sp>
        <p:nvSpPr>
          <p:cNvPr id="151" name="TextBox 7"/>
          <p:cNvSpPr/>
          <p:nvPr/>
        </p:nvSpPr>
        <p:spPr>
          <a:xfrm>
            <a:off x="661680" y="349920"/>
            <a:ext cx="140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2071080" y="574200"/>
            <a:ext cx="2284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3" descr=""/>
          <p:cNvPicPr/>
          <p:nvPr/>
        </p:nvPicPr>
        <p:blipFill>
          <a:blip r:embed="rId1"/>
          <a:stretch/>
        </p:blipFill>
        <p:spPr>
          <a:xfrm>
            <a:off x="2179800" y="836280"/>
            <a:ext cx="7754040" cy="5253480"/>
          </a:xfrm>
          <a:prstGeom prst="rect">
            <a:avLst/>
          </a:prstGeom>
          <a:ln w="0">
            <a:noFill/>
          </a:ln>
        </p:spPr>
      </p:pic>
      <p:cxnSp>
        <p:nvCxnSpPr>
          <p:cNvPr id="154" name="直接连接符 14"/>
          <p:cNvCxnSpPr/>
          <p:nvPr/>
        </p:nvCxnSpPr>
        <p:spPr>
          <a:xfrm>
            <a:off x="796320" y="787680"/>
            <a:ext cx="78976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sp>
        <p:nvSpPr>
          <p:cNvPr id="155" name="平行四边形 15"/>
          <p:cNvSpPr/>
          <p:nvPr/>
        </p:nvSpPr>
        <p:spPr>
          <a:xfrm>
            <a:off x="361440" y="316080"/>
            <a:ext cx="1038600" cy="478800"/>
          </a:xfrm>
          <a:prstGeom prst="parallelogram">
            <a:avLst>
              <a:gd name="adj" fmla="val 25000"/>
            </a:avLst>
          </a:prstGeom>
          <a:solidFill>
            <a:srgbClr val="3461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文本框 41"/>
          <p:cNvSpPr/>
          <p:nvPr/>
        </p:nvSpPr>
        <p:spPr>
          <a:xfrm>
            <a:off x="370800" y="294120"/>
            <a:ext cx="1020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7"/>
          <p:cNvSpPr/>
          <p:nvPr/>
        </p:nvSpPr>
        <p:spPr>
          <a:xfrm>
            <a:off x="2514600" y="344880"/>
            <a:ext cx="21927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346182"/>
                </a:solidFill>
                <a:latin typeface="微软雅黑"/>
                <a:ea typeface="微软雅黑"/>
              </a:rPr>
              <a:t>关键词：文本框；文本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18"/>
          <p:cNvGrpSpPr/>
          <p:nvPr/>
        </p:nvGrpSpPr>
        <p:grpSpPr>
          <a:xfrm>
            <a:off x="1285560" y="1772280"/>
            <a:ext cx="7135200" cy="3572280"/>
            <a:chOff x="1285560" y="1772280"/>
            <a:chExt cx="7135200" cy="3572280"/>
          </a:xfrm>
        </p:grpSpPr>
        <p:sp>
          <p:nvSpPr>
            <p:cNvPr id="159" name="矩形 19"/>
            <p:cNvSpPr/>
            <p:nvPr/>
          </p:nvSpPr>
          <p:spPr>
            <a:xfrm>
              <a:off x="1285560" y="2104560"/>
              <a:ext cx="7135200" cy="3240000"/>
            </a:xfrm>
            <a:prstGeom prst="rect">
              <a:avLst/>
            </a:prstGeom>
            <a:noFill/>
            <a:ln>
              <a:solidFill>
                <a:srgbClr val="346182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20"/>
            <p:cNvSpPr/>
            <p:nvPr/>
          </p:nvSpPr>
          <p:spPr>
            <a:xfrm>
              <a:off x="1285560" y="1772280"/>
              <a:ext cx="4388760" cy="338040"/>
            </a:xfrm>
            <a:prstGeom prst="rect">
              <a:avLst/>
            </a:prstGeom>
            <a:solidFill>
              <a:srgbClr val="34618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1" name="TextBox 2063"/>
          <p:cNvSpPr/>
          <p:nvPr/>
        </p:nvSpPr>
        <p:spPr>
          <a:xfrm>
            <a:off x="1356840" y="1764000"/>
            <a:ext cx="472536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：文本框；文本框；文本框；文本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2"/>
          <p:cNvSpPr/>
          <p:nvPr/>
        </p:nvSpPr>
        <p:spPr>
          <a:xfrm>
            <a:off x="1485000" y="2524680"/>
            <a:ext cx="67363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zh-CN" sz="2800" spc="-1" strike="noStrike">
                <a:solidFill>
                  <a:srgbClr val="ed6e64"/>
                </a:solidFill>
                <a:latin typeface="微软雅黑"/>
                <a:ea typeface="微软雅黑"/>
              </a:rPr>
              <a:t>摘要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又称概要、内容提要。摘要是以提供文献内容梗概为目的，不加评论和补充解释，简明、确切地记述文献重要内容的短文。其基本要素包括研究目的、方法、结果和结论。具体地讲就是研究工作的主要对象和范围，采用的手段和方法，得出的结果和重要的结论，有时也包括具有情报价值的其它重要的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3" descr=""/>
          <p:cNvPicPr/>
          <p:nvPr/>
        </p:nvPicPr>
        <p:blipFill>
          <a:blip r:embed="rId1"/>
          <a:stretch/>
        </p:blipFill>
        <p:spPr>
          <a:xfrm>
            <a:off x="2179800" y="836280"/>
            <a:ext cx="7754040" cy="5253480"/>
          </a:xfrm>
          <a:prstGeom prst="rect">
            <a:avLst/>
          </a:prstGeom>
          <a:ln w="0">
            <a:noFill/>
          </a:ln>
        </p:spPr>
      </p:pic>
      <p:sp>
        <p:nvSpPr>
          <p:cNvPr id="164" name="矩形 14"/>
          <p:cNvSpPr/>
          <p:nvPr/>
        </p:nvSpPr>
        <p:spPr>
          <a:xfrm>
            <a:off x="2750040" y="1335600"/>
            <a:ext cx="7014960" cy="59184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 形 16"/>
          <p:cNvSpPr/>
          <p:nvPr/>
        </p:nvSpPr>
        <p:spPr>
          <a:xfrm rot="16200000">
            <a:off x="6015600" y="-1829160"/>
            <a:ext cx="612360" cy="7143480"/>
          </a:xfrm>
          <a:custGeom>
            <a:avLst/>
            <a:gdLst>
              <a:gd name="textAreaLeft" fmla="*/ 0 w 612360"/>
              <a:gd name="textAreaRight" fmla="*/ 612720 w 612360"/>
              <a:gd name="textAreaTop" fmla="*/ 0 h 7143480"/>
              <a:gd name="textAreaBottom" fmla="*/ 7143840 h 7143480"/>
            </a:gdLst>
            <a:ahLst/>
            <a:rect l="textAreaLeft" t="textAreaTop" r="textAreaRight" b="textAreaBottom"/>
            <a:pathLst>
              <a:path w="613411" h="7143875">
                <a:moveTo>
                  <a:pt x="0" y="0"/>
                </a:moveTo>
                <a:lnTo>
                  <a:pt x="0" y="0"/>
                </a:lnTo>
                <a:lnTo>
                  <a:pt x="0" y="7143875"/>
                </a:lnTo>
                <a:lnTo>
                  <a:pt x="613411" y="7143875"/>
                </a:lnTo>
                <a:lnTo>
                  <a:pt x="0" y="7143875"/>
                </a:lnTo>
                <a:lnTo>
                  <a:pt x="0" y="0"/>
                </a:lnTo>
                <a:close/>
              </a:path>
            </a:pathLst>
          </a:custGeom>
          <a:solidFill>
            <a:srgbClr val="afabab"/>
          </a:solidFill>
          <a:ln w="127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文本框 18"/>
          <p:cNvSpPr/>
          <p:nvPr/>
        </p:nvSpPr>
        <p:spPr>
          <a:xfrm>
            <a:off x="3950280" y="1357920"/>
            <a:ext cx="461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2697480" y="3075480"/>
            <a:ext cx="3656160" cy="2476440"/>
            <a:chOff x="2697480" y="3075480"/>
            <a:chExt cx="3656160" cy="2476440"/>
          </a:xfrm>
        </p:grpSpPr>
        <p:sp>
          <p:nvSpPr>
            <p:cNvPr id="168" name="流程图: 过程 10"/>
            <p:cNvSpPr/>
            <p:nvPr/>
          </p:nvSpPr>
          <p:spPr>
            <a:xfrm>
              <a:off x="2697840" y="3075480"/>
              <a:ext cx="3655800" cy="2476080"/>
            </a:xfrm>
            <a:prstGeom prst="flowChartProcess">
              <a:avLst/>
            </a:prstGeom>
            <a:noFill/>
            <a:ln w="9525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cxnSp>
          <p:nvCxnSpPr>
            <p:cNvPr id="169" name="直接连接符 11"/>
            <p:cNvCxnSpPr/>
            <p:nvPr/>
          </p:nvCxnSpPr>
          <p:spPr>
            <a:xfrm>
              <a:off x="2697480" y="3075480"/>
              <a:ext cx="3656520" cy="2476800"/>
            </a:xfrm>
            <a:prstGeom prst="straightConnector1">
              <a:avLst/>
            </a:prstGeom>
            <a:ln w="6350">
              <a:solidFill>
                <a:srgbClr val="a6a6a6">
                  <a:alpha val="25000"/>
                </a:srgbClr>
              </a:solidFill>
              <a:round/>
            </a:ln>
          </p:spPr>
        </p:cxnSp>
        <p:cxnSp>
          <p:nvCxnSpPr>
            <p:cNvPr id="170" name="直接连接符 12"/>
            <p:cNvCxnSpPr/>
            <p:nvPr/>
          </p:nvCxnSpPr>
          <p:spPr>
            <a:xfrm flipV="1">
              <a:off x="2697480" y="3075480"/>
              <a:ext cx="3656520" cy="2476800"/>
            </a:xfrm>
            <a:prstGeom prst="straightConnector1">
              <a:avLst/>
            </a:prstGeom>
            <a:ln w="6350">
              <a:solidFill>
                <a:srgbClr val="a6a6a6">
                  <a:alpha val="25000"/>
                </a:srgbClr>
              </a:solidFill>
              <a:round/>
            </a:ln>
          </p:spPr>
        </p:cxnSp>
      </p:grpSp>
      <p:sp>
        <p:nvSpPr>
          <p:cNvPr id="171" name="文本框 17"/>
          <p:cNvSpPr/>
          <p:nvPr/>
        </p:nvSpPr>
        <p:spPr>
          <a:xfrm>
            <a:off x="3950280" y="4394880"/>
            <a:ext cx="1679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8"/>
          <p:cNvSpPr/>
          <p:nvPr/>
        </p:nvSpPr>
        <p:spPr>
          <a:xfrm>
            <a:off x="6574320" y="4178880"/>
            <a:ext cx="31665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输入可长可短的标题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在这里输入可长可短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任意多边形 2"/>
          <p:cNvSpPr/>
          <p:nvPr/>
        </p:nvSpPr>
        <p:spPr>
          <a:xfrm>
            <a:off x="6574320" y="3407400"/>
            <a:ext cx="1612440" cy="650520"/>
          </a:xfrm>
          <a:custGeom>
            <a:avLst/>
            <a:gdLst>
              <a:gd name="textAreaLeft" fmla="*/ 0 w 1612440"/>
              <a:gd name="textAreaRight" fmla="*/ 1612800 w 1612440"/>
              <a:gd name="textAreaTop" fmla="*/ 0 h 650520"/>
              <a:gd name="textAreaBottom" fmla="*/ 650880 h 650520"/>
            </a:gdLst>
            <a:ahLst/>
            <a:rect l="textAreaLeft" t="textAreaTop" r="textAreaRight" b="textAreaBottom"/>
            <a:pathLst>
              <a:path w="1612232" h="650670">
                <a:moveTo>
                  <a:pt x="0" y="61123"/>
                </a:moveTo>
                <a:cubicBezTo>
                  <a:pt x="231608" y="29038"/>
                  <a:pt x="463216" y="-3046"/>
                  <a:pt x="625642" y="37059"/>
                </a:cubicBezTo>
                <a:cubicBezTo>
                  <a:pt x="788068" y="77164"/>
                  <a:pt x="972553" y="231570"/>
                  <a:pt x="974558" y="301754"/>
                </a:cubicBezTo>
                <a:cubicBezTo>
                  <a:pt x="976563" y="371938"/>
                  <a:pt x="701842" y="474207"/>
                  <a:pt x="637674" y="458165"/>
                </a:cubicBezTo>
                <a:cubicBezTo>
                  <a:pt x="573506" y="442123"/>
                  <a:pt x="525379" y="281702"/>
                  <a:pt x="589547" y="205502"/>
                </a:cubicBezTo>
                <a:cubicBezTo>
                  <a:pt x="653715" y="129302"/>
                  <a:pt x="874295" y="-13072"/>
                  <a:pt x="1022684" y="965"/>
                </a:cubicBezTo>
                <a:cubicBezTo>
                  <a:pt x="1171073" y="15002"/>
                  <a:pt x="1381626" y="181439"/>
                  <a:pt x="1479884" y="289723"/>
                </a:cubicBezTo>
                <a:cubicBezTo>
                  <a:pt x="1578142" y="398007"/>
                  <a:pt x="1612232" y="650670"/>
                  <a:pt x="1612232" y="650670"/>
                </a:cubicBezTo>
              </a:path>
            </a:pathLst>
          </a:custGeom>
          <a:noFill/>
          <a:ln w="12700">
            <a:solidFill>
              <a:srgbClr val="40404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2851920" y="3135960"/>
            <a:ext cx="33433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5c7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4"/>
          <p:cNvSpPr/>
          <p:nvPr/>
        </p:nvSpPr>
        <p:spPr>
          <a:xfrm>
            <a:off x="2576160" y="1451520"/>
            <a:ext cx="7039080" cy="2612160"/>
          </a:xfrm>
          <a:prstGeom prst="rect">
            <a:avLst/>
          </a:prstGeom>
          <a:solidFill>
            <a:srgbClr val="398e87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lIns="45720" rIns="45720" tIns="91440" bIns="9144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chemeClr val="lt1"/>
              </a:solidFill>
              <a:latin typeface="方正兰亭纤黑_GBK"/>
              <a:ea typeface="方正兰亭纤黑_GBK"/>
            </a:endParaRPr>
          </a:p>
        </p:txBody>
      </p:sp>
      <p:sp>
        <p:nvSpPr>
          <p:cNvPr id="176" name="文本框 3"/>
          <p:cNvSpPr/>
          <p:nvPr/>
        </p:nvSpPr>
        <p:spPr>
          <a:xfrm>
            <a:off x="2576160" y="2003760"/>
            <a:ext cx="7039080" cy="1430280"/>
          </a:xfrm>
          <a:prstGeom prst="rect">
            <a:avLst/>
          </a:prstGeom>
          <a:solidFill>
            <a:srgbClr val="398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THANK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5"/>
          <p:cNvSpPr/>
          <p:nvPr/>
        </p:nvSpPr>
        <p:spPr>
          <a:xfrm>
            <a:off x="5666040" y="4647240"/>
            <a:ext cx="985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方正兰亭超细黑简体"/>
                <a:ea typeface="方正兰亭超细黑简体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  <Words>238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3:28:03Z</dcterms:created>
  <dc:creator>www.pptbz.com</dc:creator>
  <dc:description/>
  <dc:language>en-US</dc:language>
  <cp:lastModifiedBy>a</cp:lastModifiedBy>
  <dcterms:modified xsi:type="dcterms:W3CDTF">2015-07-25T12:08:53Z</dcterms:modified>
  <cp:revision>2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5</vt:r8>
  </property>
</Properties>
</file>