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embeddings/oleObject1.xls" ContentType="application/vnd.ms-exce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906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C84009-6EBB-4309-B9FE-EFF979EB5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52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A879DD-25BA-446E-B992-ED740BC8B79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BDBC-E92E-498E-9BBD-C23CC739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5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5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F5A-BD9A-4769-A041-CD95E719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54A0-FBE4-4B6F-A458-3C81F716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3560" y="160020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3560" y="396432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1198-2C73-4B44-9054-F6EF8DAA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691B-04BF-4004-BB41-9AAFFC76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5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62F5-5B05-4191-B9EF-627E9497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5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2ED6-38A3-4D97-8110-A4412FA4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435F-2B37-4557-90E1-8461BB4A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1239-AA5E-45BE-8404-A2ED4781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360" y="274680"/>
            <a:ext cx="8915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B5AF-5B80-4F6C-A5F6-004E12C1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5264-42A1-4BA6-AC2E-8C93C94B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5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AD22-89A9-44E6-83D0-1E318067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1005-E40F-4443-84F5-5AC5D18A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5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146A-1862-4257-A04F-CD33AA12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5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5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7280-C718-4CA9-A5AD-36993381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9E39-9D35-4F6C-8F8A-3B146169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3560" y="160020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3560" y="396432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C32C-D043-4F7A-831F-8A3924B2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5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3278-96AB-4135-8A7F-3A7D857E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26C-5F05-4B3C-AF04-BE16FA13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E129-2B6F-4B0E-A0FC-1CE388D4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4680"/>
            <a:ext cx="8915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5689-CD2C-4E93-9F38-204EB850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D26-B0CC-4ED0-A866-100C5413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8176-91B1-47C0-A975-72892B25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5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3A4D-C2FC-4E3E-BB60-D1C42797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2130480"/>
            <a:ext cx="841968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03320" rIns="103320" tIns="51480" bIns="514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50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4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384720" y="6356520"/>
            <a:ext cx="3136680" cy="364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99200" y="6356520"/>
            <a:ext cx="2311200" cy="364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C15AC1-2B30-4C67-B7A0-74E7CF5F2BDE}" type="slidenum">
              <a:rPr b="0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03320" rIns="103320" tIns="51480" bIns="514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50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50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03320" rIns="103320" tIns="51480" bIns="51480" anchor="t">
            <a:noAutofit/>
          </a:bodyPr>
          <a:p>
            <a:pPr marL="385920" indent="-38592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36640" indent="-322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89160" indent="-257040">
              <a:lnSpc>
                <a:spcPct val="100000"/>
              </a:lnSpc>
              <a:spcBef>
                <a:spcPts val="5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805040" indent="-257040">
              <a:lnSpc>
                <a:spcPct val="100000"/>
              </a:lnSpc>
              <a:spcBef>
                <a:spcPts val="459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2320920" indent="-257040">
              <a:lnSpc>
                <a:spcPct val="100000"/>
              </a:lnSpc>
              <a:spcBef>
                <a:spcPts val="459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4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720" y="6356520"/>
            <a:ext cx="3136680" cy="364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9200" y="6356520"/>
            <a:ext cx="2311200" cy="364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FFD3C3-5D99-42E9-818F-813BBD5B3C58}" type="slidenum">
              <a:rPr b="0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xls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xls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LINCOLN\Desktop\doing buz in china\16-9-1.jpg"/>
          <p:cNvPicPr/>
          <p:nvPr/>
        </p:nvPicPr>
        <p:blipFill>
          <a:blip r:embed="rId1">
            <a:grayscl/>
          </a:blip>
          <a:stretch/>
        </p:blipFill>
        <p:spPr>
          <a:xfrm>
            <a:off x="4998960" y="863640"/>
            <a:ext cx="2360160" cy="1631520"/>
          </a:xfrm>
          <a:prstGeom prst="rect">
            <a:avLst/>
          </a:prstGeom>
          <a:ln w="12700">
            <a:solidFill>
              <a:srgbClr val="ffffff">
                <a:lumMod val="95000"/>
              </a:srgbClr>
            </a:solidFill>
            <a:round/>
          </a:ln>
        </p:spPr>
      </p:pic>
      <p:pic>
        <p:nvPicPr>
          <p:cNvPr id="89" name="Picture 3" descr="C:\Users\LINCOLN\Desktop\doing buz in china\16-9-2.jpg"/>
          <p:cNvPicPr/>
          <p:nvPr/>
        </p:nvPicPr>
        <p:blipFill>
          <a:blip r:embed="rId2">
            <a:grayscl/>
          </a:blip>
          <a:stretch/>
        </p:blipFill>
        <p:spPr>
          <a:xfrm>
            <a:off x="115920" y="863640"/>
            <a:ext cx="2355480" cy="1631520"/>
          </a:xfrm>
          <a:prstGeom prst="rect">
            <a:avLst/>
          </a:prstGeom>
          <a:ln w="12700">
            <a:solidFill>
              <a:srgbClr val="ffffff">
                <a:lumMod val="95000"/>
              </a:srgbClr>
            </a:solidFill>
            <a:round/>
          </a:ln>
        </p:spPr>
      </p:pic>
      <p:pic>
        <p:nvPicPr>
          <p:cNvPr id="90" name="Picture 4" descr="C:\Users\LINCOLN\Desktop\doing buz in china\16-9-3.jpg"/>
          <p:cNvPicPr/>
          <p:nvPr/>
        </p:nvPicPr>
        <p:blipFill>
          <a:blip r:embed="rId3">
            <a:grayscl/>
          </a:blip>
          <a:stretch/>
        </p:blipFill>
        <p:spPr>
          <a:xfrm>
            <a:off x="2562120" y="863640"/>
            <a:ext cx="2346120" cy="1620360"/>
          </a:xfrm>
          <a:prstGeom prst="rect">
            <a:avLst/>
          </a:prstGeom>
          <a:ln w="12700">
            <a:solidFill>
              <a:srgbClr val="ffffff">
                <a:lumMod val="95000"/>
              </a:srgbClr>
            </a:solidFill>
            <a:round/>
          </a:ln>
        </p:spPr>
      </p:pic>
      <p:pic>
        <p:nvPicPr>
          <p:cNvPr id="91" name="Picture 5" descr="C:\Users\LINCOLN\Desktop\doing buz in china\16-9-4.jpg"/>
          <p:cNvPicPr/>
          <p:nvPr/>
        </p:nvPicPr>
        <p:blipFill>
          <a:blip r:embed="rId4">
            <a:grayscl/>
          </a:blip>
          <a:stretch/>
        </p:blipFill>
        <p:spPr>
          <a:xfrm>
            <a:off x="7448400" y="863640"/>
            <a:ext cx="2352240" cy="1631520"/>
          </a:xfrm>
          <a:prstGeom prst="rect">
            <a:avLst/>
          </a:prstGeom>
          <a:ln w="12700">
            <a:solidFill>
              <a:srgbClr val="ffffff">
                <a:lumMod val="95000"/>
              </a:srgbClr>
            </a:solidFill>
            <a:round/>
          </a:ln>
        </p:spPr>
      </p:pic>
      <p:sp>
        <p:nvSpPr>
          <p:cNvPr id="92" name="TextBox 1"/>
          <p:cNvSpPr/>
          <p:nvPr/>
        </p:nvSpPr>
        <p:spPr>
          <a:xfrm>
            <a:off x="3395520" y="4589640"/>
            <a:ext cx="351108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MAY,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950120" y="3717000"/>
            <a:ext cx="6402240" cy="712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蓝色简洁电子商务</a:t>
            </a:r>
            <a:r>
              <a:rPr b="0" lang="en-US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4" descr=""/>
          <p:cNvPicPr/>
          <p:nvPr/>
        </p:nvPicPr>
        <p:blipFill>
          <a:blip r:embed="rId5">
            <a:grayscl/>
          </a:blip>
          <a:srcRect l="0" t="0" r="0" b="6131"/>
          <a:stretch/>
        </p:blipFill>
        <p:spPr>
          <a:xfrm>
            <a:off x="4998960" y="849240"/>
            <a:ext cx="2360160" cy="1634760"/>
          </a:xfrm>
          <a:prstGeom prst="rect">
            <a:avLst/>
          </a:prstGeom>
          <a:ln w="12700">
            <a:solidFill>
              <a:srgbClr val="ffffff">
                <a:lumMod val="95000"/>
              </a:srgbClr>
            </a:solidFill>
            <a:round/>
          </a:ln>
        </p:spPr>
      </p:pic>
      <p:pic>
        <p:nvPicPr>
          <p:cNvPr id="95" name="图片 6" descr=""/>
          <p:cNvPicPr/>
          <p:nvPr/>
        </p:nvPicPr>
        <p:blipFill>
          <a:blip r:embed="rId6">
            <a:grayscl/>
          </a:blip>
          <a:srcRect l="0" t="0" r="0" b="16443"/>
          <a:stretch/>
        </p:blipFill>
        <p:spPr>
          <a:xfrm>
            <a:off x="115920" y="849240"/>
            <a:ext cx="2355480" cy="1634760"/>
          </a:xfrm>
          <a:prstGeom prst="rect">
            <a:avLst/>
          </a:prstGeom>
          <a:ln w="12700">
            <a:solidFill>
              <a:srgbClr val="ffffff">
                <a:lumMod val="95000"/>
              </a:srgbClr>
            </a:solidFill>
            <a:round/>
          </a:ln>
        </p:spPr>
      </p:pic>
      <p:sp>
        <p:nvSpPr>
          <p:cNvPr id="96" name="矩形 12"/>
          <p:cNvSpPr/>
          <p:nvPr/>
        </p:nvSpPr>
        <p:spPr>
          <a:xfrm>
            <a:off x="209160" y="65494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2"/>
          <p:cNvSpPr/>
          <p:nvPr/>
        </p:nvSpPr>
        <p:spPr>
          <a:xfrm>
            <a:off x="0" y="6270480"/>
            <a:ext cx="661680" cy="38376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399960" y="6200640"/>
            <a:ext cx="46800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Raleway"/>
                <a:ea typeface="Raleway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1708200" y="836640"/>
            <a:ext cx="8197560" cy="4992480"/>
          </a:xfrm>
          <a:custGeom>
            <a:avLst/>
            <a:gdLst>
              <a:gd name="textAreaLeft" fmla="*/ 0 w 8197560"/>
              <a:gd name="textAreaRight" fmla="*/ 8197920 w 8197560"/>
              <a:gd name="textAreaTop" fmla="*/ 0 h 4992480"/>
              <a:gd name="textAreaBottom" fmla="*/ 4992840 h 4992480"/>
            </a:gdLst>
            <a:ahLst/>
            <a:rect l="textAreaLeft" t="textAreaTop" r="textAreaRight" b="textAreaBottom"/>
            <a:pathLst>
              <a:path w="7566734" h="3744416">
                <a:moveTo>
                  <a:pt x="0" y="134753"/>
                </a:moveTo>
                <a:lnTo>
                  <a:pt x="7566734" y="0"/>
                </a:lnTo>
                <a:lnTo>
                  <a:pt x="7566734" y="3744416"/>
                </a:lnTo>
                <a:lnTo>
                  <a:pt x="404261" y="3426783"/>
                </a:lnTo>
                <a:lnTo>
                  <a:pt x="0" y="134753"/>
                </a:lnTo>
                <a:close/>
              </a:path>
            </a:pathLst>
          </a:cu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8024760" y="1143000"/>
            <a:ext cx="1499760" cy="65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3381480" y="2143080"/>
            <a:ext cx="1928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3381480" y="2643120"/>
            <a:ext cx="1928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3381480" y="3171960"/>
            <a:ext cx="1928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3381480" y="3672000"/>
            <a:ext cx="1928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6"/>
          <p:cNvSpPr/>
          <p:nvPr/>
        </p:nvSpPr>
        <p:spPr>
          <a:xfrm rot="20202000">
            <a:off x="-75960" y="798480"/>
            <a:ext cx="4016160" cy="44424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8"/>
          <p:cNvSpPr/>
          <p:nvPr/>
        </p:nvSpPr>
        <p:spPr>
          <a:xfrm>
            <a:off x="5688000" y="1617840"/>
            <a:ext cx="1560240" cy="172692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Impact"/>
              <a:ea typeface="宋体"/>
            </a:endParaRPr>
          </a:p>
        </p:txBody>
      </p:sp>
      <p:sp>
        <p:nvSpPr>
          <p:cNvPr id="107" name="矩形 9"/>
          <p:cNvSpPr/>
          <p:nvPr/>
        </p:nvSpPr>
        <p:spPr>
          <a:xfrm>
            <a:off x="6149160" y="2259000"/>
            <a:ext cx="66492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互联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10"/>
          <p:cNvSpPr/>
          <p:nvPr/>
        </p:nvSpPr>
        <p:spPr>
          <a:xfrm>
            <a:off x="7683480" y="2390760"/>
            <a:ext cx="1325160" cy="1469520"/>
          </a:xfrm>
          <a:prstGeom prst="ellipse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Impact"/>
              <a:ea typeface="宋体"/>
            </a:endParaRPr>
          </a:p>
        </p:txBody>
      </p:sp>
      <p:sp>
        <p:nvSpPr>
          <p:cNvPr id="109" name="矩形 11"/>
          <p:cNvSpPr/>
          <p:nvPr/>
        </p:nvSpPr>
        <p:spPr>
          <a:xfrm>
            <a:off x="7965720" y="2903400"/>
            <a:ext cx="81720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业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2"/>
          <p:cNvSpPr/>
          <p:nvPr/>
        </p:nvSpPr>
        <p:spPr>
          <a:xfrm>
            <a:off x="6357960" y="3605040"/>
            <a:ext cx="1325160" cy="146808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Impact"/>
              <a:ea typeface="宋体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6554880" y="4118040"/>
            <a:ext cx="96984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虚拟数字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7"/>
          <p:cNvSpPr/>
          <p:nvPr/>
        </p:nvSpPr>
        <p:spPr>
          <a:xfrm>
            <a:off x="351000" y="3349800"/>
            <a:ext cx="5360760" cy="345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商务是基于互联网及移动互联网诞生的一种全新的商业模式，用户不需要进入实体店面，通过虚拟数字化电子方式完成交易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8"/>
          <p:cNvSpPr/>
          <p:nvPr/>
        </p:nvSpPr>
        <p:spPr>
          <a:xfrm>
            <a:off x="0" y="6270480"/>
            <a:ext cx="661680" cy="38376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4" name="TextBox 19"/>
          <p:cNvSpPr/>
          <p:nvPr/>
        </p:nvSpPr>
        <p:spPr>
          <a:xfrm>
            <a:off x="399960" y="6200640"/>
            <a:ext cx="46800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Raleway"/>
                <a:ea typeface="Raleway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32"/>
          <p:cNvSpPr/>
          <p:nvPr/>
        </p:nvSpPr>
        <p:spPr>
          <a:xfrm>
            <a:off x="351000" y="1420920"/>
            <a:ext cx="5538600" cy="492408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6" name="矩形 30"/>
          <p:cNvSpPr/>
          <p:nvPr/>
        </p:nvSpPr>
        <p:spPr>
          <a:xfrm>
            <a:off x="6357960" y="1420920"/>
            <a:ext cx="3103200" cy="492408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585720" y="0"/>
            <a:ext cx="310680" cy="66312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876240" y="297000"/>
            <a:ext cx="129024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图表 12"/>
          <p:cNvGraphicFramePr/>
          <p:nvPr/>
        </p:nvGraphicFramePr>
        <p:xfrm>
          <a:off x="351000" y="2565360"/>
          <a:ext cx="6170400" cy="380160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120" name="图表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2565360"/>
                    <a:ext cx="6170400" cy="38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矩形 20"/>
          <p:cNvSpPr/>
          <p:nvPr/>
        </p:nvSpPr>
        <p:spPr>
          <a:xfrm>
            <a:off x="6669000" y="3263760"/>
            <a:ext cx="1091880" cy="23252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2" name="矩形 21"/>
          <p:cNvSpPr/>
          <p:nvPr/>
        </p:nvSpPr>
        <p:spPr>
          <a:xfrm>
            <a:off x="8151840" y="2575080"/>
            <a:ext cx="1091880" cy="301428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3" name="TextBox 22"/>
          <p:cNvSpPr/>
          <p:nvPr/>
        </p:nvSpPr>
        <p:spPr>
          <a:xfrm>
            <a:off x="6669000" y="5589720"/>
            <a:ext cx="27921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电子商务拉动网络经济</a:t>
            </a: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19.7%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增长，贡献率最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4"/>
          <p:cNvSpPr/>
          <p:nvPr/>
        </p:nvSpPr>
        <p:spPr>
          <a:xfrm>
            <a:off x="6824520" y="3695760"/>
            <a:ext cx="109188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5"/>
          <p:cNvSpPr/>
          <p:nvPr/>
        </p:nvSpPr>
        <p:spPr>
          <a:xfrm>
            <a:off x="8369280" y="3695760"/>
            <a:ext cx="109188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6"/>
          <p:cNvSpPr/>
          <p:nvPr/>
        </p:nvSpPr>
        <p:spPr>
          <a:xfrm>
            <a:off x="6777720" y="4133880"/>
            <a:ext cx="92844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5.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7"/>
          <p:cNvSpPr/>
          <p:nvPr/>
        </p:nvSpPr>
        <p:spPr>
          <a:xfrm>
            <a:off x="8322840" y="4145040"/>
            <a:ext cx="92844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4.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9"/>
          <p:cNvSpPr/>
          <p:nvPr/>
        </p:nvSpPr>
        <p:spPr>
          <a:xfrm>
            <a:off x="573120" y="5459400"/>
            <a:ext cx="5187600" cy="83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中国电子商务整体交易规模达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，较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增长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2.4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前三年中国电子商务市场交易规模总额已超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全年的水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3"/>
          <p:cNvSpPr/>
          <p:nvPr/>
        </p:nvSpPr>
        <p:spPr>
          <a:xfrm>
            <a:off x="351000" y="1420920"/>
            <a:ext cx="4952520" cy="712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EXPON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34"/>
          <p:cNvSpPr/>
          <p:nvPr/>
        </p:nvSpPr>
        <p:spPr>
          <a:xfrm>
            <a:off x="6357960" y="1415880"/>
            <a:ext cx="4952520" cy="712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7"/>
          <p:cNvSpPr/>
          <p:nvPr/>
        </p:nvSpPr>
        <p:spPr>
          <a:xfrm>
            <a:off x="5781600" y="1420920"/>
            <a:ext cx="107640" cy="423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2" name="矩形 39"/>
          <p:cNvSpPr/>
          <p:nvPr/>
        </p:nvSpPr>
        <p:spPr>
          <a:xfrm>
            <a:off x="9342360" y="1413000"/>
            <a:ext cx="107640" cy="423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C:\Users\LINCOLN\Desktop\e-commerce\Enterprise-e-Commerce.png"/>
          <p:cNvPicPr/>
          <p:nvPr/>
        </p:nvPicPr>
        <p:blipFill>
          <a:blip r:embed="rId1"/>
          <a:stretch/>
        </p:blipFill>
        <p:spPr>
          <a:xfrm>
            <a:off x="2457360" y="2239920"/>
            <a:ext cx="1552320" cy="228096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34" name="图表 8"/>
          <p:cNvGraphicFramePr/>
          <p:nvPr/>
        </p:nvGraphicFramePr>
        <p:xfrm>
          <a:off x="-272880" y="527040"/>
          <a:ext cx="7017840" cy="7949880"/>
        </p:xfrm>
        <a:graphic>
          <a:graphicData uri="http://schemas.openxmlformats.org/presentationml/2006/ole">
            <p:oleObj progId="Excel.Sheet.8" r:id="rId2" spid="">
              <p:embed/>
              <p:pic>
                <p:nvPicPr>
                  <p:cNvPr id="135" name="图表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72880" y="527040"/>
                    <a:ext cx="7017840" cy="79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矩形 13"/>
          <p:cNvSpPr/>
          <p:nvPr/>
        </p:nvSpPr>
        <p:spPr>
          <a:xfrm>
            <a:off x="585720" y="0"/>
            <a:ext cx="310680" cy="66312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7" name="矩形 11"/>
          <p:cNvSpPr/>
          <p:nvPr/>
        </p:nvSpPr>
        <p:spPr>
          <a:xfrm>
            <a:off x="5732640" y="2368440"/>
            <a:ext cx="3354120" cy="235548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5732640" y="3048120"/>
            <a:ext cx="3354120" cy="345960"/>
          </a:xfrm>
          <a:prstGeom prst="rect">
            <a:avLst/>
          </a:prstGeom>
          <a:solidFill>
            <a:srgbClr val="0070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2B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仍然是未来电子商务交易规模的最主要组成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5732640" y="3825720"/>
            <a:ext cx="3354120" cy="589320"/>
          </a:xfrm>
          <a:prstGeom prst="rect">
            <a:avLst/>
          </a:prstGeom>
          <a:solidFill>
            <a:srgbClr val="0070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消费领域的网上交易规模增速略快于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2B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商务市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6"/>
          <p:cNvSpPr/>
          <p:nvPr/>
        </p:nvSpPr>
        <p:spPr>
          <a:xfrm>
            <a:off x="8978760" y="2357280"/>
            <a:ext cx="107640" cy="423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1" name="TextBox 12"/>
          <p:cNvSpPr/>
          <p:nvPr/>
        </p:nvSpPr>
        <p:spPr>
          <a:xfrm>
            <a:off x="5732640" y="2368440"/>
            <a:ext cx="156024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HIGH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876240" y="297000"/>
            <a:ext cx="129024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8"/>
          <p:cNvSpPr/>
          <p:nvPr/>
        </p:nvSpPr>
        <p:spPr>
          <a:xfrm>
            <a:off x="136440" y="1441440"/>
            <a:ext cx="4428720" cy="4812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4" name="矩形 9"/>
          <p:cNvSpPr/>
          <p:nvPr/>
        </p:nvSpPr>
        <p:spPr>
          <a:xfrm>
            <a:off x="130320" y="1758960"/>
            <a:ext cx="232920" cy="69192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5" name="矩形 10"/>
          <p:cNvSpPr/>
          <p:nvPr/>
        </p:nvSpPr>
        <p:spPr>
          <a:xfrm>
            <a:off x="130320" y="2968560"/>
            <a:ext cx="232920" cy="69192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6" name="矩形 11"/>
          <p:cNvSpPr/>
          <p:nvPr/>
        </p:nvSpPr>
        <p:spPr>
          <a:xfrm>
            <a:off x="130320" y="4178160"/>
            <a:ext cx="232920" cy="69192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7" name="矩形 24"/>
          <p:cNvSpPr/>
          <p:nvPr/>
        </p:nvSpPr>
        <p:spPr>
          <a:xfrm>
            <a:off x="130320" y="5286240"/>
            <a:ext cx="232920" cy="69192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8" name="矩形 27"/>
          <p:cNvSpPr/>
          <p:nvPr/>
        </p:nvSpPr>
        <p:spPr>
          <a:xfrm>
            <a:off x="0" y="357120"/>
            <a:ext cx="896400" cy="3315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9" name="矩形 30"/>
          <p:cNvSpPr/>
          <p:nvPr/>
        </p:nvSpPr>
        <p:spPr>
          <a:xfrm>
            <a:off x="4457880" y="1441440"/>
            <a:ext cx="107640" cy="423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150" name="图片 34" descr=""/>
          <p:cNvPicPr/>
          <p:nvPr/>
        </p:nvPicPr>
        <p:blipFill>
          <a:blip r:embed="rId1"/>
          <a:stretch/>
        </p:blipFill>
        <p:spPr>
          <a:xfrm>
            <a:off x="4719600" y="3890880"/>
            <a:ext cx="2484000" cy="2323800"/>
          </a:xfrm>
          <a:prstGeom prst="rect">
            <a:avLst/>
          </a:prstGeom>
          <a:ln w="9525">
            <a:noFill/>
          </a:ln>
        </p:spPr>
      </p:pic>
      <p:pic>
        <p:nvPicPr>
          <p:cNvPr id="151" name="图片 37" descr=""/>
          <p:cNvPicPr/>
          <p:nvPr/>
        </p:nvPicPr>
        <p:blipFill>
          <a:blip r:embed="rId2"/>
          <a:stretch/>
        </p:blipFill>
        <p:spPr>
          <a:xfrm>
            <a:off x="7292880" y="3884760"/>
            <a:ext cx="2484000" cy="2322000"/>
          </a:xfrm>
          <a:prstGeom prst="rect">
            <a:avLst/>
          </a:prstGeom>
          <a:ln w="9525">
            <a:noFill/>
          </a:ln>
        </p:spPr>
      </p:pic>
      <p:pic>
        <p:nvPicPr>
          <p:cNvPr id="152" name="Picture 2" descr="C:\Users\LINCOLN\Desktop\2012.4.7 桌面\doing buz in china\china-flag.jpg"/>
          <p:cNvPicPr/>
          <p:nvPr/>
        </p:nvPicPr>
        <p:blipFill>
          <a:blip r:embed="rId3"/>
          <a:srcRect l="0" t="0" r="5202" b="0"/>
          <a:stretch/>
        </p:blipFill>
        <p:spPr>
          <a:xfrm>
            <a:off x="4719600" y="1441440"/>
            <a:ext cx="2484000" cy="2323800"/>
          </a:xfrm>
          <a:prstGeom prst="rect">
            <a:avLst/>
          </a:prstGeom>
          <a:ln w="9525">
            <a:noFill/>
          </a:ln>
        </p:spPr>
      </p:pic>
      <p:pic>
        <p:nvPicPr>
          <p:cNvPr id="153" name="图片 39" descr=""/>
          <p:cNvPicPr/>
          <p:nvPr/>
        </p:nvPicPr>
        <p:blipFill>
          <a:blip r:embed="rId4"/>
          <a:srcRect l="10915" t="0" r="0" b="0"/>
          <a:stretch/>
        </p:blipFill>
        <p:spPr>
          <a:xfrm>
            <a:off x="7292880" y="3860640"/>
            <a:ext cx="2496600" cy="2346120"/>
          </a:xfrm>
          <a:prstGeom prst="rect">
            <a:avLst/>
          </a:prstGeom>
          <a:ln w="9525">
            <a:noFill/>
          </a:ln>
        </p:spPr>
      </p:pic>
      <p:pic>
        <p:nvPicPr>
          <p:cNvPr id="154" name="图片 41" descr=""/>
          <p:cNvPicPr/>
          <p:nvPr/>
        </p:nvPicPr>
        <p:blipFill>
          <a:blip r:embed="rId5"/>
          <a:srcRect l="16603" t="0" r="0" b="0"/>
          <a:stretch/>
        </p:blipFill>
        <p:spPr>
          <a:xfrm>
            <a:off x="4719600" y="3884760"/>
            <a:ext cx="2484000" cy="2315880"/>
          </a:xfrm>
          <a:prstGeom prst="rect">
            <a:avLst/>
          </a:prstGeom>
          <a:ln w="9525">
            <a:noFill/>
          </a:ln>
        </p:spPr>
      </p:pic>
      <p:pic>
        <p:nvPicPr>
          <p:cNvPr id="155" name="图片 42" descr=""/>
          <p:cNvPicPr/>
          <p:nvPr/>
        </p:nvPicPr>
        <p:blipFill>
          <a:blip r:embed="rId6"/>
          <a:srcRect l="11055" t="0" r="0" b="0"/>
          <a:stretch/>
        </p:blipFill>
        <p:spPr>
          <a:xfrm>
            <a:off x="7292880" y="1440000"/>
            <a:ext cx="2499840" cy="2334960"/>
          </a:xfrm>
          <a:prstGeom prst="rect">
            <a:avLst/>
          </a:prstGeom>
          <a:ln w="9525">
            <a:noFill/>
          </a:ln>
        </p:spPr>
      </p:pic>
      <p:sp>
        <p:nvSpPr>
          <p:cNvPr id="156" name="TextBox 23"/>
          <p:cNvSpPr/>
          <p:nvPr/>
        </p:nvSpPr>
        <p:spPr>
          <a:xfrm>
            <a:off x="876240" y="297000"/>
            <a:ext cx="129024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9"/>
          <p:cNvSpPr/>
          <p:nvPr/>
        </p:nvSpPr>
        <p:spPr>
          <a:xfrm>
            <a:off x="880920" y="1928880"/>
            <a:ext cx="1928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1"/>
          <p:cNvSpPr/>
          <p:nvPr/>
        </p:nvSpPr>
        <p:spPr>
          <a:xfrm>
            <a:off x="880920" y="3143160"/>
            <a:ext cx="1928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2"/>
          <p:cNvSpPr/>
          <p:nvPr/>
        </p:nvSpPr>
        <p:spPr>
          <a:xfrm>
            <a:off x="880920" y="4286160"/>
            <a:ext cx="1928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3"/>
          <p:cNvSpPr/>
          <p:nvPr/>
        </p:nvSpPr>
        <p:spPr>
          <a:xfrm>
            <a:off x="880920" y="5500800"/>
            <a:ext cx="1928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776520" y="63198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8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C:\Users\LINCOLN\Desktop\e-commerce\Enterprise-e-Commerce.png"/>
          <p:cNvPicPr/>
          <p:nvPr/>
        </p:nvPicPr>
        <p:blipFill>
          <a:blip r:embed="rId1"/>
          <a:stretch/>
        </p:blipFill>
        <p:spPr>
          <a:xfrm>
            <a:off x="2457360" y="2239920"/>
            <a:ext cx="1552320" cy="228096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63" name="图表 3"/>
          <p:cNvGraphicFramePr/>
          <p:nvPr/>
        </p:nvGraphicFramePr>
        <p:xfrm>
          <a:off x="-272880" y="527040"/>
          <a:ext cx="7017840" cy="7949880"/>
        </p:xfrm>
        <a:graphic>
          <a:graphicData uri="http://schemas.openxmlformats.org/presentationml/2006/ole">
            <p:oleObj progId="Excel.Sheet.8" r:id="rId2" spid="">
              <p:embed/>
              <p:pic>
                <p:nvPicPr>
                  <p:cNvPr id="164" name="图表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72880" y="527040"/>
                    <a:ext cx="7017840" cy="79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矩形 4"/>
          <p:cNvSpPr/>
          <p:nvPr/>
        </p:nvSpPr>
        <p:spPr>
          <a:xfrm>
            <a:off x="585720" y="0"/>
            <a:ext cx="310680" cy="66312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5732640" y="1798560"/>
            <a:ext cx="3354120" cy="31334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5732640" y="2478240"/>
            <a:ext cx="3354120" cy="345960"/>
          </a:xfrm>
          <a:prstGeom prst="rect">
            <a:avLst/>
          </a:prstGeom>
          <a:solidFill>
            <a:srgbClr val="0070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寡头垄断型市场格局已经形成，很难在短期内打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5732640" y="3255840"/>
            <a:ext cx="3354120" cy="1076040"/>
          </a:xfrm>
          <a:prstGeom prst="rect">
            <a:avLst/>
          </a:prstGeom>
          <a:solidFill>
            <a:srgbClr val="0070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计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2C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商务市场交易规模会突破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亿元，但占总体网络购物规模的比重将由目前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7%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降至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－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复合增长率降至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9"/>
          <p:cNvSpPr/>
          <p:nvPr/>
        </p:nvSpPr>
        <p:spPr>
          <a:xfrm>
            <a:off x="8978760" y="1787400"/>
            <a:ext cx="107640" cy="423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5732640" y="1798560"/>
            <a:ext cx="156024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HIGH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876240" y="297000"/>
            <a:ext cx="129024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</TotalTime>
  <Application>LibreOffice/7.4.7.2$Linux_X86_64 LibreOffice_project/40$Build-2</Application>
  <AppVersion>15.0000</AppVersion>
  <Words>243</Words>
  <Paragraphs>4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4:28:07Z</dcterms:created>
  <dc:creator>www.pptbz.com</dc:creator>
  <dc:description/>
  <dc:language>en-US</dc:language>
  <cp:lastModifiedBy>a</cp:lastModifiedBy>
  <dcterms:modified xsi:type="dcterms:W3CDTF">2015-07-25T12:00:42Z</dcterms:modified>
  <cp:revision>1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A4 纸张(210x297 毫米)</vt:lpwstr>
  </property>
  <property fmtid="{D5CDD505-2E9C-101B-9397-08002B2CF9AE}" pid="4" name="Slides">
    <vt:r8>7</vt:r8>
  </property>
</Properties>
</file>