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EE29-4DA3-4859-B9D9-BB26A74A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2965-9324-460A-8879-B758CA07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2A87-1CE3-4EC0-8356-81FC5769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FD64-0AB5-4AA4-A926-CF43E212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9295-068F-4150-BF08-F3E6A6DC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21F0-BD98-480E-943F-2682FA47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27EA-6C05-40A8-A46E-82E3C20F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BC3F-32A3-4DFA-B9E9-3351F4E5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33C-3BB5-43FD-B6EA-945AF58A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61EF-6D82-4B2C-B2D8-72A69020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84CD-9CAD-45D3-A72E-1D318682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9179-A9DB-4B1A-AE03-B9F5B444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63FB-8EB9-4D8D-B7BB-5ECA782917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-324000" y="1125360"/>
            <a:ext cx="96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蓝色小花朵爱心花环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214880" y="4024440"/>
            <a:ext cx="4143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85880" y="7826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34261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50695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36406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975240" y="71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5691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46407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938520" y="71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23547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42836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3550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975240" y="71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6215040" y="2786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19976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1010160" y="71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44978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69980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1497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324000" y="63086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903600" y="6429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6409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1568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39978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1T07:09:10Z</dcterms:modified>
  <cp:revision>50</cp:revision>
  <dc:subject/>
  <dc:title>幻灯片 1</dc:title>
</cp:coreProperties>
</file>