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B072-55E8-4C53-B639-693FA570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D44E-3EA7-4684-8435-FCAD80CD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8DD5-61CF-4C49-BD2B-73C3ECF6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331E-B1CA-4ECC-A72F-7174FB12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F48A-C49D-42BA-9D77-7907751A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4189-4FE1-4EA2-928D-34D45F13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66C9-1953-4F01-8F6E-669D4ED2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4C7B-610B-42FD-920E-22450637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2423-EE06-4D81-A48F-48D451BB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76CD-A5C5-45C9-8592-55F2BCBF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6D60-C9B0-4C83-8B56-2B2128AD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3D37-469E-4E80-82D4-5D739DEF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901E-9DD9-4962-A095-88B668F5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02F8-C353-4D1B-A619-F673B4D6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2834-0A45-43F0-99C1-B2C97238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BD1F-1AB5-4878-B2FD-CFA11A64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C6FF-C354-4280-B7EA-A2B0F613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1F486-2327-4709-BDCC-151C5E33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8BDEF-5070-4773-8C9C-19F82648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3F9C6-4AB6-4A97-8177-3F27DF11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98194-510D-411F-8A42-32CB294B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CC11F-60E7-4BE3-870A-D2CA6AA2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EC2-C7A4-43DD-9009-AF399F82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6DFBF-7046-45A4-A65C-9CF125EE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D8048-C0B2-4B44-9731-1EB16BD9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78530-3B63-4E17-A8F2-9B0A43C8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993A7-DD0F-40D9-8D2E-B0703F81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496E5-053D-4E4B-9350-FFFE57DB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6A320-1254-49EC-9C7A-97D5F3DF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84416-260E-43AE-AD42-C5B175CD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0D6A2-F2BA-4919-9F1F-8DB5673D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44DBA-E448-4CB4-A4A4-B16DD068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97E8D-4133-4952-9938-E2972B44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8000-262C-43F4-A751-F97A68B8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D04A4-51E3-4FD5-A24F-4480F7A2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D63A6-E919-465A-BD67-1485CCA9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11EC4-35D4-41B7-93DD-0EC680E0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6F30E-5641-42AC-B838-4E154976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81BDA-B88D-4BE6-9265-01F7758B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97960-4842-40C7-B65C-A715ADDF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DA71A-27AE-4CF9-A793-88E0302B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EC19F-4F4C-443A-8A17-335E5C9C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E5D1A-3F46-4BC5-AB3F-8E18E714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E402F-0A7D-4176-83B7-AAB526DC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DA7-E3B4-4709-B9D5-F9C1E845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8B226-0C5F-490A-8EA2-FCCC7FD7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14E81-1CE9-434A-BDC2-222EE225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105E4-E88B-44D7-B39A-11ECDDBE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454DD-E8B1-448F-92A7-6BCB5689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8B04A-C9A2-46FB-97DC-E6F70275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B564A-529B-4238-9844-6EC08201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833E0-AA54-4B33-B190-EAA8BA01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823ED-D8CD-41DA-8866-08F124CE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A5E3C-3C3A-48BB-B61B-00C57EC1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5A963-C1B6-494F-8A27-A8BDB949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16AC-E9D8-41AB-8A89-22B10849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6F401-A602-4D6F-876B-A28F9A22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9D7-F282-4926-98A7-CFCDC046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4E2A-4A6B-4FD6-9991-E0B6F5BF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0C8B-A4A0-4F4D-8CE7-3C7B36ED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D071-115B-4447-8BB7-CEB5CE1776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F12C-67E4-4955-880E-671AFCC1E8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B9ED-FC86-4B46-A564-D38BECAE1A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7945-4DD3-49FC-A875-819064B6F9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86AB-5C72-48AE-A034-4A906A5474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3746520" cy="5300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411280" y="213336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02840" y="1173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漫画人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1682640" cy="45086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联素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3lian.com/[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0360" y="4797360"/>
            <a:ext cx="44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5905440" cy="59058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808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Arial"/>
                <a:ea typeface="华文彩云"/>
              </a:rPr>
              <a:t>  </a:t>
            </a:r>
            <a:r>
              <a:rPr b="1" i="1" lang="zh-CN" sz="7200" spc="-1" strike="noStrike">
                <a:solidFill>
                  <a:srgbClr val="000000"/>
                </a:solidFill>
                <a:latin typeface="Arial"/>
                <a:ea typeface="华文彩云"/>
              </a:rPr>
              <a:t>谢谢观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D92-80AB-4A4D-A5AF-1E3BE76714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08:42:4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9:14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