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14.jpeg" ContentType="image/jpeg"/>
  <Override PartName="/ppt/media/image5.gif" ContentType="image/gif"/>
  <Override PartName="/ppt/media/image7.gif" ContentType="image/gif"/>
  <Override PartName="/ppt/media/image13.jpeg" ContentType="image/jpeg"/>
  <Override PartName="/ppt/media/image10.jpeg" ContentType="image/jpeg"/>
  <Override PartName="/ppt/media/image2.gif" ContentType="image/gif"/>
  <Override PartName="/ppt/media/image8.jpeg" ContentType="image/jpe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D9DE-336E-4D81-9DB6-6ECD4778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7631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3670560"/>
            <a:ext cx="87631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5EAE-2118-4C67-8A77-F99724F0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2560" y="68544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367056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2560" y="367056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4F1C-400A-41EB-8A76-D7A74FC95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2821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5080" y="685440"/>
            <a:ext cx="2821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7880" y="685440"/>
            <a:ext cx="2821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3670560"/>
            <a:ext cx="2821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5080" y="3670560"/>
            <a:ext cx="2821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7880" y="3670560"/>
            <a:ext cx="2821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EEA3-8F3F-4F5F-8EB2-971ABC91F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6854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1226-233F-49CA-A137-6EF16B47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0F9A-ED56-4880-8739-5266C333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427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2560" y="685440"/>
            <a:ext cx="427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B518-8126-40CF-BCA2-640E3B2E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3FD1-69FA-45C6-A509-FB3765B6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90676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0AF2-C6E4-4D82-9327-E3467CEF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2560" y="685440"/>
            <a:ext cx="427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367056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D586-8326-4FC9-81FD-4D0D0F45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427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2560" y="68544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2560" y="367056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76A6-FFED-41A8-A10D-B8E2F430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2560" y="68544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3670560"/>
            <a:ext cx="87631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431A-31FC-4C85-9C27-EC346152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ras Bold IT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6854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308560"/>
              <a:buBlip>
                <a:blip r:embed="rId3"/>
              </a:buBlip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SzPct val="264459"/>
              <a:buBlip>
                <a:blip r:embed="rId4"/>
              </a:buBlip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  <a:p>
            <a:pPr lvl="2" marL="1143000" indent="-228600">
              <a:spcBef>
                <a:spcPts val="700"/>
              </a:spcBef>
              <a:buSzPct val="220359"/>
              <a:buBlip>
                <a:blip r:embed="rId5"/>
              </a:buBlip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  <a:p>
            <a:pPr lvl="3" marL="1600200" indent="-228600">
              <a:spcBef>
                <a:spcPts val="700"/>
              </a:spcBef>
              <a:buSzPct val="198381"/>
              <a:buBlip>
                <a:blip r:embed="rId6"/>
              </a:buBlip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  <a:p>
            <a:pPr lvl="4" marL="2057400" indent="-228600">
              <a:spcBef>
                <a:spcPts val="700"/>
              </a:spcBef>
              <a:buSzPct val="198381"/>
              <a:buBlip>
                <a:blip r:embed="rId7"/>
              </a:buBlip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  <a:p>
            <a:pPr lvl="5" marL="2057400" indent="-228600">
              <a:spcBef>
                <a:spcPts val="700"/>
              </a:spcBef>
              <a:buSzPct val="198381"/>
              <a:buBlip>
                <a:blip r:embed="rId8"/>
              </a:buBlip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  <a:p>
            <a:pPr lvl="6" marL="2057400" indent="-228600">
              <a:spcBef>
                <a:spcPts val="700"/>
              </a:spcBef>
              <a:buSzPct val="198381"/>
              <a:buBlip>
                <a:blip r:embed="rId9"/>
              </a:buBlip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Eras Bold ITC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90D7-8840-4A08-88BA-D81608EC3480}" type="slidenum">
              <a:rPr b="0" lang="zh-CN" sz="1000" spc="-1" strike="noStrike">
                <a:solidFill>
                  <a:srgbClr val="ffffff"/>
                </a:solidFill>
                <a:latin typeface="Eras Bold ITC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7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815040"/>
            <a:ext cx="91440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42" name="Picture 33" descr="eskimo_ice_skating_hg_clr"/>
          <p:cNvPicPr/>
          <p:nvPr/>
        </p:nvPicPr>
        <p:blipFill>
          <a:blip r:embed="rId2"/>
          <a:stretch/>
        </p:blipFill>
        <p:spPr>
          <a:xfrm>
            <a:off x="2971800" y="236232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8560" y="117360"/>
            <a:ext cx="628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漫画人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ras Bold ITC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2280" y="6854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SzPct val="308484"/>
              <a:buBlip>
                <a:blip r:embed="rId2"/>
              </a:buBlip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  <a:ea typeface="宋体"/>
              </a:rPr>
              <a:t>Your subtopic goes here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47" name="Picture 37" descr="eskimo_riding_toboggan_hg_clr"/>
          <p:cNvPicPr/>
          <p:nvPr/>
        </p:nvPicPr>
        <p:blipFill>
          <a:blip r:embed="rId3"/>
          <a:stretch/>
        </p:blipFill>
        <p:spPr>
          <a:xfrm>
            <a:off x="5810400" y="352440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ras Bold ITC"/>
                <a:ea typeface="宋体"/>
              </a:rPr>
              <a:t>Transitional Page</a:t>
            </a: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8150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</a:pPr>
            <a:endParaRPr b="0" lang="en-US" sz="1000" spc="-1" strike="noStrike">
              <a:solidFill>
                <a:srgbClr val="003366"/>
              </a:solidFill>
              <a:latin typeface="Arial Black"/>
              <a:ea typeface="宋体"/>
            </a:endParaRPr>
          </a:p>
        </p:txBody>
      </p:sp>
      <p:pic>
        <p:nvPicPr>
          <p:cNvPr id="50" name="Picture 7" descr="eskimo_grilling_outside_of_igloo_hg_clr"/>
          <p:cNvPicPr/>
          <p:nvPr/>
        </p:nvPicPr>
        <p:blipFill>
          <a:blip r:embed="rId2"/>
          <a:stretch/>
        </p:blipFill>
        <p:spPr>
          <a:xfrm>
            <a:off x="2286000" y="2362320"/>
            <a:ext cx="4648320" cy="3609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ras Bold ITC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2280" y="6854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SzPct val="308484"/>
              <a:buBlip>
                <a:blip r:embed="rId2"/>
              </a:buBlip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  <a:ea typeface="宋体"/>
              </a:rPr>
              <a:t>Your subtopic goes here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54" name="Picture 10" descr="eskimo_walking_snow_shoes_hg_clr"/>
          <p:cNvPicPr/>
          <p:nvPr/>
        </p:nvPicPr>
        <p:blipFill>
          <a:blip r:embed="rId3"/>
          <a:stretch/>
        </p:blipFill>
        <p:spPr>
          <a:xfrm>
            <a:off x="6810480" y="3524400"/>
            <a:ext cx="2333520" cy="33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08" descr="way_way_up_north_sld"/>
          <p:cNvPicPr/>
          <p:nvPr/>
        </p:nvPicPr>
        <p:blipFill>
          <a:blip r:embed="rId1"/>
          <a:stretch/>
        </p:blipFill>
        <p:spPr>
          <a:xfrm>
            <a:off x="2384280" y="5099040"/>
            <a:ext cx="2143440" cy="1606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9" descr="way_way_up_north_trs"/>
          <p:cNvPicPr/>
          <p:nvPr/>
        </p:nvPicPr>
        <p:blipFill>
          <a:blip r:embed="rId2"/>
          <a:stretch/>
        </p:blipFill>
        <p:spPr>
          <a:xfrm>
            <a:off x="4616280" y="5099040"/>
            <a:ext cx="2143440" cy="1606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10" descr="way_way_up_north_prt"/>
          <p:cNvPicPr/>
          <p:nvPr/>
        </p:nvPicPr>
        <p:blipFill>
          <a:blip r:embed="rId3"/>
          <a:stretch/>
        </p:blipFill>
        <p:spPr>
          <a:xfrm>
            <a:off x="6848640" y="5099040"/>
            <a:ext cx="2143080" cy="1606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11" descr="way_way_up_north_qx"/>
          <p:cNvPicPr/>
          <p:nvPr/>
        </p:nvPicPr>
        <p:blipFill>
          <a:blip r:embed="rId4"/>
          <a:stretch/>
        </p:blipFill>
        <p:spPr>
          <a:xfrm>
            <a:off x="152280" y="5099040"/>
            <a:ext cx="2143080" cy="1606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13" descr="eskimo_grilling_outside_of_igloo_hg_clr"/>
          <p:cNvPicPr/>
          <p:nvPr/>
        </p:nvPicPr>
        <p:blipFill>
          <a:blip r:embed="rId5"/>
          <a:stretch/>
        </p:blipFill>
        <p:spPr>
          <a:xfrm>
            <a:off x="152280" y="2819520"/>
            <a:ext cx="2133720" cy="1657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14" descr="eskimo_ice_skating_hg_clr"/>
          <p:cNvPicPr/>
          <p:nvPr/>
        </p:nvPicPr>
        <p:blipFill>
          <a:blip r:embed="rId6"/>
          <a:stretch/>
        </p:blipFill>
        <p:spPr>
          <a:xfrm>
            <a:off x="2514600" y="27432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15" descr="eskimo_riding_toboggan_hg_clr"/>
          <p:cNvPicPr/>
          <p:nvPr/>
        </p:nvPicPr>
        <p:blipFill>
          <a:blip r:embed="rId7"/>
          <a:stretch/>
        </p:blipFill>
        <p:spPr>
          <a:xfrm>
            <a:off x="4572000" y="26668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16" descr="eskimo_walking_snow_shoes_hg_clr"/>
          <p:cNvPicPr/>
          <p:nvPr/>
        </p:nvPicPr>
        <p:blipFill>
          <a:blip r:embed="rId8"/>
          <a:stretch/>
        </p:blipFill>
        <p:spPr>
          <a:xfrm>
            <a:off x="7162920" y="2743200"/>
            <a:ext cx="1493640" cy="21337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0" y="815040"/>
            <a:ext cx="9144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 Black"/>
              <a:ea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0" y="8244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ffff"/>
              </a:solidFill>
              <a:latin typeface="Eras Bold ITC"/>
              <a:ea typeface="宋体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Eras Bold ITC"/>
              </a:rPr>
              <a:t>使用规范说明</a:t>
            </a: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站点介绍：</a:t>
            </a:r>
            <a:endParaRPr b="0" lang="en-US" sz="14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特别说明：</a:t>
            </a:r>
            <a:endParaRPr b="0" lang="en-US" sz="14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栏目推荐：</a:t>
            </a:r>
            <a:endParaRPr b="0" lang="en-US" sz="14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1EE8-23BB-4010-9D69-72826173DFE2}" type="slidenum">
              <a:t>6</a:t>
            </a:fld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1T13:10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1:16:3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