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0FF3-13FF-4E11-B6E0-5F472435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3247-E247-4895-AD58-B85397A7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6E26-A14C-4E0C-8E16-F20FE698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C1A7-9D63-45E4-B1FE-05EACDB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69F0-1D9C-44F0-83DA-6A2FCCA8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8191-54B0-496B-AE9D-D390DC4D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A7EFA-AB72-4DC2-981A-736386D4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A605-A000-42F6-9F40-0FE83B0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AC4D2-F511-431D-B172-D36BC53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8AFF5-C1BE-4EE6-8664-F525B09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B6040-A37E-43D7-A847-40230587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A66E-1CB5-4847-8BA2-37CCD6D7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D059B-3066-4B4F-8EEF-C2093C3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7A33-472D-4371-B153-77BB3E4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111B-6AFC-4628-BC76-1BDDB87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6A2D-71EB-4B26-8860-E160632B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37A22-189E-437D-99BA-6EB67556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57BF-7B34-49DB-B137-460C995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A0E1-1C7D-4528-B10D-0119FD34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F92A-598D-4D48-8EE1-3E4D25A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1D0F-0153-4DBA-B819-B28BB3C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137C-55E4-46A2-853F-F7BFA0C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B05B-7832-43BC-853E-7D1642F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EF1C-7993-42D3-9985-5B38D56C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素材天下 </a:t>
            </a:r>
            <a:r>
              <a:rPr b="1" lang="en-US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sucaitianxia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4FB-0005-415E-A86B-F967142BECD0}" type="slidenum">
              <a: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0311d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F5A3-856E-4133-AEF9-F67F44FDAAFD}" type="slidenum"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0311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6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7c5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0311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0" y="4572000"/>
            <a:ext cx="75744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5160" y="15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11d"/>
                </a:solidFill>
                <a:latin typeface="Arial"/>
              </a:rPr>
              <a:t>美食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30311d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00240" y="22093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11d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05520" y="2590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7c57"/>
                    </a:gs>
                    <a:gs pos="100000">
                      <a:srgbClr val="facf67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7c57"/>
                  </a:gs>
                  <a:gs pos="100000">
                    <a:srgbClr val="facf67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24852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54b0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605C-A729-4851-A1C8-3717506737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30:2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