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1.wmf" ContentType="image/x-wmf"/>
  <Override PartName="/ppt/media/image9.jpeg" ContentType="image/jpeg"/>
  <Override PartName="/ppt/media/image8.wmf" ContentType="image/x-wmf"/>
  <Override PartName="/ppt/media/image12.jpeg" ContentType="image/jpeg"/>
  <Override PartName="/ppt/media/image7.jpeg" ContentType="image/jpeg"/>
  <Override PartName="/ppt/media/image20.jpeg" ContentType="image/jpeg"/>
  <Override PartName="/ppt/media/image17.wmf" ContentType="image/x-wmf"/>
  <Override PartName="/ppt/media/image15.jpeg" ContentType="image/jpeg"/>
  <Override PartName="/ppt/media/image19.png" ContentType="image/png"/>
  <Override PartName="/ppt/media/image3.jpeg" ContentType="image/jpeg"/>
  <Override PartName="/ppt/media/image18.jpeg" ContentType="image/jpeg"/>
  <Override PartName="/ppt/media/image16.jpeg" ContentType="image/jpeg"/>
  <Override PartName="/ppt/media/image14.wmf" ContentType="image/x-wmf"/>
  <Override PartName="/ppt/media/image5.jpeg" ContentType="image/jpeg"/>
  <Override PartName="/ppt/media/image1.jpeg" ContentType="image/jpeg"/>
  <Override PartName="/ppt/media/image6.jpeg" ContentType="image/jpeg"/>
  <Override PartName="/ppt/media/image10.png" ContentType="image/png"/>
  <Override PartName="/ppt/media/image2.jpeg" ContentType="image/jpeg"/>
  <Override PartName="/ppt/media/image4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1C0EE5-0D2F-4797-810D-8F8BF26AB72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2d46"/>
                </a:solidFill>
                <a:latin typeface="Arial (Headings)"/>
              </a:rPr>
              <a:t>Click to move the slide</a:t>
            </a:r>
            <a:endParaRPr b="1" lang="en-US" sz="3200" spc="-1" strike="noStrike">
              <a:solidFill>
                <a:srgbClr val="002d46"/>
              </a:solidFill>
              <a:latin typeface="Arial (Headings)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9484C8-04D2-410A-A5BF-7B91AB6441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- </a:t>
            </a:r>
            <a:fld id="{F2100364-D2E8-4126-96F3-EA46004627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67320" cy="342612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39800"/>
            <a:ext cx="5486400" cy="411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pending on level you may follow this cycle many tim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ore repetitions the better your are at someth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EAC6EA-89B0-4DEE-AF8B-E37EED11F1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ory??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vid Barram or FBI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Y THE BOOK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0A91E5-3579-4621-93A5-2138FB6ECA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5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2d46"/>
              </a:solidFill>
              <a:latin typeface="Arial (Headings)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72720"/>
            <a:ext cx="82296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F4E88E-9AED-4749-A859-094809C385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65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2d46"/>
              </a:solidFill>
              <a:latin typeface="Arial (Headings)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72720"/>
            <a:ext cx="40158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72720"/>
            <a:ext cx="40158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DAF649-5562-420C-A9A5-BD904F4438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65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2d46"/>
              </a:solidFill>
              <a:latin typeface="Arial (Headings)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6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990360"/>
            <a:ext cx="26496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990360"/>
            <a:ext cx="26496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72720"/>
            <a:ext cx="26496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72720"/>
            <a:ext cx="26496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72720"/>
            <a:ext cx="26496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7F9BBB-319F-4A18-AF59-32A82066DE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44CB7C-18BE-4C0D-8B47-213E3B0D704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65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2d46"/>
              </a:solidFill>
              <a:latin typeface="Arial (Headings)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74D6EC-0EDD-4E43-B520-318FD4F165B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65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2d46"/>
              </a:solidFill>
              <a:latin typeface="Arial (Headings)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E684EE-CEF3-4747-B824-F41594E7E00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5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2d46"/>
              </a:solidFill>
              <a:latin typeface="Arial (Headings)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B12F7B-7379-419A-8ED4-05FC48E278B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65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2d46"/>
              </a:solidFill>
              <a:latin typeface="Arial (Headings)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C437F9-0B2A-430D-9701-17AA1568928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B1AC3F-55BD-4568-84CE-332C36D75BE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5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2d46"/>
              </a:solidFill>
              <a:latin typeface="Arial (Headings)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72720"/>
            <a:ext cx="40158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96D204-67D3-4E82-B90A-DDE11FE6203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65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2d46"/>
              </a:solidFill>
              <a:latin typeface="Arial (Headings)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6889A9-7C97-4F86-B673-B6F67874D0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5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2d46"/>
              </a:solidFill>
              <a:latin typeface="Arial (Headings)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672720"/>
            <a:ext cx="40158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C78363-B5D3-4448-85D4-8383876F4E6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65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2d46"/>
              </a:solidFill>
              <a:latin typeface="Arial (Headings)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72720"/>
            <a:ext cx="82296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EE89E8-E9B5-45FC-A939-FA04ED46B2E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65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2d46"/>
              </a:solidFill>
              <a:latin typeface="Arial (Headings)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672720"/>
            <a:ext cx="82296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A3ED4F-BFF7-47CC-BC2C-4B4E845DDCC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65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2d46"/>
              </a:solidFill>
              <a:latin typeface="Arial (Headings)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72720"/>
            <a:ext cx="40158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672720"/>
            <a:ext cx="40158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67EF78-2C37-4646-9955-2F563290176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65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2d46"/>
              </a:solidFill>
              <a:latin typeface="Arial (Headings)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6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990360"/>
            <a:ext cx="26496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990360"/>
            <a:ext cx="26496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672720"/>
            <a:ext cx="26496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672720"/>
            <a:ext cx="26496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672720"/>
            <a:ext cx="26496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465FE6-D54B-430E-BB82-754DC3E2D35B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E364E-991B-4DA3-B3EA-56C81F20D4F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65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2d46"/>
              </a:solidFill>
              <a:latin typeface="Arial (Headings)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D206A-79EE-4AD2-9475-7F87A78CC5C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65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2d46"/>
              </a:solidFill>
              <a:latin typeface="Arial (Headings)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110E3-C009-47C9-9BE7-4132E7E92E8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65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2d46"/>
              </a:solidFill>
              <a:latin typeface="Arial (Headings)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343A1-16DA-4F2D-9C63-D76A4F658AF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65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2d46"/>
              </a:solidFill>
              <a:latin typeface="Arial (Headings)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296BF-FB62-459D-A21D-900D5BFA79F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65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2d46"/>
              </a:solidFill>
              <a:latin typeface="Arial (Headings)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77DAF6-1A21-4539-83B2-FD4E6F0C3B0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E7AFE-F6DE-4A81-8FB5-A3B9D7CE4AE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65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2d46"/>
              </a:solidFill>
              <a:latin typeface="Arial (Headings)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72720"/>
            <a:ext cx="40158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EED63-F75B-4298-90EF-3E3EC7F3481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5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2d46"/>
              </a:solidFill>
              <a:latin typeface="Arial (Headings)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672720"/>
            <a:ext cx="40158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10264-8DCF-489C-A60A-ECF1F8EE1E7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5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2d46"/>
              </a:solidFill>
              <a:latin typeface="Arial (Headings)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72720"/>
            <a:ext cx="82296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B819F-D444-4A78-BF00-DCD5B597FBE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65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2d46"/>
              </a:solidFill>
              <a:latin typeface="Arial (Headings)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672720"/>
            <a:ext cx="82296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BA49E-199F-439A-867C-45EE864EC6C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65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2d46"/>
              </a:solidFill>
              <a:latin typeface="Arial (Headings)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72720"/>
            <a:ext cx="40158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672720"/>
            <a:ext cx="40158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11400-2286-4A27-8414-A98BCF7FBBE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65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2d46"/>
              </a:solidFill>
              <a:latin typeface="Arial (Headings)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6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990360"/>
            <a:ext cx="26496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990360"/>
            <a:ext cx="26496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672720"/>
            <a:ext cx="26496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672720"/>
            <a:ext cx="26496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672720"/>
            <a:ext cx="26496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025C0-0F00-4D7B-88C1-133A50F17B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5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2d46"/>
              </a:solidFill>
              <a:latin typeface="Arial (Headings)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00A586-66A7-4748-8722-15E70FC610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65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2d46"/>
              </a:solidFill>
              <a:latin typeface="Arial (Headings)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2E90C8-F9D6-43F5-9A89-98763C9BA2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34B140-42A7-42B5-968D-0F81095F21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65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2d46"/>
              </a:solidFill>
              <a:latin typeface="Arial (Headings)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72720"/>
            <a:ext cx="40158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C02DBF-9E1E-4733-9994-A57234EFFA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5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2d46"/>
              </a:solidFill>
              <a:latin typeface="Arial (Headings)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72720"/>
            <a:ext cx="40158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CB9F1D-2E8F-417D-B494-8C0F2070C9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5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2d46"/>
              </a:solidFill>
              <a:latin typeface="Arial (Headings)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72720"/>
            <a:ext cx="82296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E396A4-C558-4599-BA02-A15C75667D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2d46"/>
                </a:solidFill>
                <a:latin typeface="Arial (Headings)"/>
              </a:rPr>
              <a:t>Click to edit the title text format</a:t>
            </a:r>
            <a:endParaRPr b="1" lang="en-US" sz="3200" spc="-1" strike="noStrike">
              <a:solidFill>
                <a:srgbClr val="002d46"/>
              </a:solidFill>
              <a:latin typeface="Arial (Headings)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1676160" y="6492960"/>
            <a:ext cx="6019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6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  <a:ea typeface="Arial"/>
              </a:rPr>
              <a:t>© 2009 Guidon Performance Solutions, LLC.  All rights reserved. Guidon Performance Solutions is a licensee of LeanSigma®, a service mark of TBM Consulting Group.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772400" y="617220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8B548B-737F-4B17-871A-1BE64A3E9B0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2d46"/>
                </a:solidFill>
                <a:latin typeface="Arial (Headings)"/>
              </a:rPr>
              <a:t>Click to edit the title text format</a:t>
            </a:r>
            <a:endParaRPr b="1" lang="en-US" sz="3200" spc="-1" strike="noStrike">
              <a:solidFill>
                <a:srgbClr val="002d46"/>
              </a:solidFill>
              <a:latin typeface="Arial (Headings)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3"/>
          </p:nvPr>
        </p:nvSpPr>
        <p:spPr>
          <a:xfrm>
            <a:off x="1676160" y="6492960"/>
            <a:ext cx="6019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6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  <a:ea typeface="Arial"/>
              </a:rPr>
              <a:t>© 2009 Guidon Performance Solutions, LLC.  All rights reserved. Guidon Performance Solutions is a licensee of LeanSigma®, a service mark of TBM Consulting Group.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4"/>
          </p:nvPr>
        </p:nvSpPr>
        <p:spPr>
          <a:xfrm>
            <a:off x="7772400" y="617220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86A7102-3A5E-44A2-8E9A-23B46A7596C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2d46"/>
                </a:solidFill>
                <a:latin typeface="Arial (Headings)"/>
              </a:rPr>
              <a:t>Click to edit the title text format</a:t>
            </a:r>
            <a:endParaRPr b="1" lang="en-US" sz="3200" spc="-1" strike="noStrike">
              <a:solidFill>
                <a:srgbClr val="002d46"/>
              </a:solidFill>
              <a:latin typeface="Arial (Headings)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ftr" idx="5"/>
          </p:nvPr>
        </p:nvSpPr>
        <p:spPr>
          <a:xfrm>
            <a:off x="1676160" y="6492960"/>
            <a:ext cx="6019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6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  <a:ea typeface="Arial"/>
              </a:rPr>
              <a:t>© 2009 Guidon Performance Solutions, LLC.  All rights reserved. Guidon Performance Solutions is a licensee of LeanSigma®, a service mark of TBM Consulting Group.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sldNum" idx="6"/>
          </p:nvPr>
        </p:nvSpPr>
        <p:spPr>
          <a:xfrm>
            <a:off x="7772400" y="617220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FE019B-E654-42C3-A4D5-97D2890F67F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image" Target="../media/image6.jpeg"/><Relationship Id="rId6" Type="http://schemas.openxmlformats.org/officeDocument/2006/relationships/image" Target="../media/image6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80520" y="1066680"/>
            <a:ext cx="769644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000" spc="-1" strike="noStrike">
                <a:solidFill>
                  <a:srgbClr val="002d46"/>
                </a:solidFill>
                <a:latin typeface="Arial (Headings)"/>
                <a:ea typeface="宋体"/>
              </a:rPr>
              <a:t>欧美商业完整版</a:t>
            </a:r>
            <a:r>
              <a:rPr b="1" lang="en-US" sz="4000" spc="-1" strike="noStrike">
                <a:solidFill>
                  <a:srgbClr val="002d46"/>
                </a:solidFill>
                <a:latin typeface="Arial (Headings)"/>
                <a:ea typeface="宋体"/>
              </a:rPr>
              <a:t>PPT</a:t>
            </a:r>
            <a:r>
              <a:rPr b="1" lang="zh-CN" sz="4000" spc="-1" strike="noStrike">
                <a:solidFill>
                  <a:srgbClr val="002d46"/>
                </a:solidFill>
                <a:latin typeface="Arial (Headings)"/>
                <a:ea typeface="宋体"/>
              </a:rPr>
              <a:t>模板免费下载</a:t>
            </a:r>
            <a:endParaRPr b="1" lang="en-US" sz="4000" spc="-1" strike="noStrike">
              <a:solidFill>
                <a:srgbClr val="002d46"/>
              </a:solidFill>
              <a:latin typeface="Arial (Headings)"/>
            </a:endParaRPr>
          </a:p>
        </p:txBody>
      </p:sp>
      <p:sp>
        <p:nvSpPr>
          <p:cNvPr id="128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Footer Placeholder 2"/>
          <p:cNvSpPr/>
          <p:nvPr/>
        </p:nvSpPr>
        <p:spPr>
          <a:xfrm>
            <a:off x="1676520" y="6492960"/>
            <a:ext cx="6019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© 2009 Guidon Performance Solutions, LLC.  All rights reserved. Guidon Performance Solutions is a licensee of LeanSigma®, a service mark of TBM Consulting Group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7772400" y="617220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D6CBCE-784B-4663-AD21-C856C707865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2d46"/>
                </a:solidFill>
                <a:latin typeface="Arial (Headings)"/>
                <a:ea typeface="宋体"/>
              </a:rPr>
              <a:t>Structure of Corporate Culture</a:t>
            </a:r>
            <a:endParaRPr b="1" lang="en-US" sz="3200" spc="-1" strike="noStrike">
              <a:solidFill>
                <a:srgbClr val="002d46"/>
              </a:solidFill>
              <a:latin typeface="Arial (Headings)"/>
            </a:endParaRPr>
          </a:p>
        </p:txBody>
      </p:sp>
      <p:pic>
        <p:nvPicPr>
          <p:cNvPr id="188" name="Picture 2" descr=""/>
          <p:cNvPicPr/>
          <p:nvPr/>
        </p:nvPicPr>
        <p:blipFill>
          <a:blip r:embed="rId1"/>
          <a:stretch/>
        </p:blipFill>
        <p:spPr>
          <a:xfrm>
            <a:off x="1085760" y="860400"/>
            <a:ext cx="6991560" cy="4473720"/>
          </a:xfrm>
          <a:prstGeom prst="rect">
            <a:avLst/>
          </a:prstGeom>
          <a:ln w="0">
            <a:noFill/>
          </a:ln>
        </p:spPr>
      </p:pic>
      <p:sp>
        <p:nvSpPr>
          <p:cNvPr id="189" name="Rectangle 2"/>
          <p:cNvSpPr/>
          <p:nvPr/>
        </p:nvSpPr>
        <p:spPr>
          <a:xfrm>
            <a:off x="1085760" y="5456160"/>
            <a:ext cx="6991560" cy="563760"/>
          </a:xfrm>
          <a:prstGeom prst="roundRect">
            <a:avLst>
              <a:gd name="adj" fmla="val 16667"/>
            </a:avLst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(Headings)"/>
              </a:rPr>
              <a:t>Changing the culture requires a focus on the Social Architecture and Operating Sys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Footer Placeholder 4"/>
          <p:cNvSpPr/>
          <p:nvPr/>
        </p:nvSpPr>
        <p:spPr>
          <a:xfrm>
            <a:off x="1676520" y="6492960"/>
            <a:ext cx="6019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© 2009 Guidon Performance Solutions, LLC.  All rights reserved. Guidon Performance Solutions is a licensee of LeanSigma®, a service mark of TBM Consulting Group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Slide Number Placeholder 5"/>
          <p:cNvSpPr/>
          <p:nvPr/>
        </p:nvSpPr>
        <p:spPr>
          <a:xfrm>
            <a:off x="7772400" y="617220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13973C-F647-43EE-AEF1-7955FAC47B4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2d46"/>
                </a:solidFill>
                <a:latin typeface="Arial (Headings)"/>
                <a:ea typeface="宋体"/>
              </a:rPr>
              <a:t>Social Architecture</a:t>
            </a:r>
            <a:endParaRPr b="1" lang="en-US" sz="3200" spc="-1" strike="noStrike">
              <a:solidFill>
                <a:srgbClr val="002d46"/>
              </a:solidFill>
              <a:latin typeface="Arial (Headings)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5554440" y="1055520"/>
            <a:ext cx="2835000" cy="4587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1080" rIns="91080" anchor="t">
            <a:normAutofit/>
          </a:bodyPr>
          <a:p>
            <a:pPr marL="166680" indent="-16344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“real” social architectur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66680" indent="-16344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66680" indent="-16344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fined by those attributes and behaviors which are seen to lead to promotion and advancement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66680" indent="-16344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66680" indent="-16344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ame as the attributes and behaviors espoused by the leadership as being desir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66680" indent="-16344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7" descr="HPC Toolset.jpg"/>
          <p:cNvPicPr/>
          <p:nvPr/>
        </p:nvPicPr>
        <p:blipFill>
          <a:blip r:embed="rId1"/>
          <a:stretch/>
        </p:blipFill>
        <p:spPr>
          <a:xfrm>
            <a:off x="304920" y="987480"/>
            <a:ext cx="5181480" cy="496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Footer Placeholder 2"/>
          <p:cNvSpPr/>
          <p:nvPr/>
        </p:nvSpPr>
        <p:spPr>
          <a:xfrm>
            <a:off x="1676520" y="6492960"/>
            <a:ext cx="6019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© 2009 Guidon Performance Solutions, LLC.  All rights reserved. Guidon Performance Solutions is a licensee of LeanSigma®, a service mark of TBM Consulting Group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Slide Number Placeholder 3"/>
          <p:cNvSpPr/>
          <p:nvPr/>
        </p:nvSpPr>
        <p:spPr>
          <a:xfrm>
            <a:off x="7772400" y="617220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B5D1D1-E911-487F-BC17-B4A79C9E86B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2d46"/>
                </a:solidFill>
                <a:latin typeface="Arial (Headings)"/>
                <a:ea typeface="宋体"/>
              </a:rPr>
              <a:t>Operating System</a:t>
            </a:r>
            <a:endParaRPr b="1" lang="en-US" sz="3200" spc="-1" strike="noStrike">
              <a:solidFill>
                <a:srgbClr val="002d46"/>
              </a:solidFill>
              <a:latin typeface="Arial (Headings)"/>
            </a:endParaRPr>
          </a:p>
        </p:txBody>
      </p:sp>
      <p:sp>
        <p:nvSpPr>
          <p:cNvPr id="198" name="Rectangle 5"/>
          <p:cNvSpPr/>
          <p:nvPr/>
        </p:nvSpPr>
        <p:spPr>
          <a:xfrm>
            <a:off x="5486400" y="987480"/>
            <a:ext cx="3048120" cy="4952880"/>
          </a:xfrm>
          <a:custGeom>
            <a:avLst/>
            <a:gdLst>
              <a:gd name="textAreaLeft" fmla="*/ 75600 w 3048120"/>
              <a:gd name="textAreaRight" fmla="*/ 2972520 w 3048120"/>
              <a:gd name="textAreaTop" fmla="*/ 75600 h 4952880"/>
              <a:gd name="textAreaBottom" fmla="*/ 4877280 h 4952880"/>
            </a:gdLst>
            <a:ahLst/>
            <a:rect l="textAreaLeft" t="textAreaTop" r="textAreaRight" b="textAreaBottom"/>
            <a:pathLst>
              <a:path w="21600" h="35096">
                <a:moveTo>
                  <a:pt x="1837" y="0"/>
                </a:moveTo>
                <a:arcTo wR="1837" hR="1837" stAng="16200000" swAng="-5400000"/>
                <a:lnTo>
                  <a:pt x="0" y="33259"/>
                </a:lnTo>
                <a:arcTo wR="1837" hR="1837" stAng="10800000" swAng="-5400000"/>
                <a:lnTo>
                  <a:pt x="19763" y="35096"/>
                </a:lnTo>
                <a:arcTo wR="1837" hR="1837" stAng="5400000" swAng="-5400000"/>
                <a:lnTo>
                  <a:pt x="21600" y="1837"/>
                </a:lnTo>
                <a:arcTo wR="1837" hR="1837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t">
            <a:normAutofit/>
          </a:bodyPr>
          <a:p>
            <a:pPr marL="115920" indent="-11592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“real” operating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fined by the activities to which leadership gives highest priority and devotes most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monly used management practices and t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edictable sequence of events used year after year to run the organiz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rivers of day-to-day priorities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ools, techniques and processes at Levels 1 –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8" descr="HPC Toolset.jpg"/>
          <p:cNvPicPr/>
          <p:nvPr/>
        </p:nvPicPr>
        <p:blipFill>
          <a:blip r:embed="rId1"/>
          <a:stretch/>
        </p:blipFill>
        <p:spPr>
          <a:xfrm>
            <a:off x="304920" y="987480"/>
            <a:ext cx="5181480" cy="496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2d46"/>
                </a:solidFill>
                <a:latin typeface="Arial (Headings)"/>
                <a:ea typeface="宋体"/>
              </a:rPr>
              <a:t>Start with Roles of Leadership</a:t>
            </a:r>
            <a:endParaRPr b="1" lang="en-US" sz="3200" spc="-1" strike="noStrike">
              <a:solidFill>
                <a:srgbClr val="002d46"/>
              </a:solidFill>
              <a:latin typeface="Arial (Headings)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648320" y="11426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ponsible for Strategic Planning and Leadersh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lent 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ition to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ecution on Annual Commit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lent 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ition for Improv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aging Ch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ecution of Daily Operational Commit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inuous Improv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Footer Placeholder 4"/>
          <p:cNvSpPr/>
          <p:nvPr/>
        </p:nvSpPr>
        <p:spPr>
          <a:xfrm>
            <a:off x="1676520" y="6492960"/>
            <a:ext cx="6019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© 2009 Guidon Performance Solutions, LLC.  All rights reserved. Guidon Performance Solutions is a licensee of LeanSigma®, a service mark of TBM Consulting Group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Slide Number Placeholder 5"/>
          <p:cNvSpPr/>
          <p:nvPr/>
        </p:nvSpPr>
        <p:spPr>
          <a:xfrm>
            <a:off x="7772400" y="617220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8F2ADB-12F2-43B2-84A7-2DE028E4335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6"/>
          <p:cNvSpPr/>
          <p:nvPr/>
        </p:nvSpPr>
        <p:spPr>
          <a:xfrm>
            <a:off x="888840" y="5334120"/>
            <a:ext cx="7264440" cy="685800"/>
          </a:xfrm>
          <a:prstGeom prst="roundRect">
            <a:avLst>
              <a:gd name="adj" fmla="val 16667"/>
            </a:avLst>
          </a:prstGeom>
          <a:solidFill>
            <a:srgbClr val="cf7622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7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(Headings)"/>
              </a:rPr>
              <a:t>Establishing culture begins with clarifying leadersh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(Headings)"/>
              </a:rPr>
              <a:t>roles &amp; responsibilit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ight Brace 7"/>
          <p:cNvSpPr/>
          <p:nvPr/>
        </p:nvSpPr>
        <p:spPr>
          <a:xfrm flipH="1">
            <a:off x="4274280" y="1143000"/>
            <a:ext cx="297000" cy="1066680"/>
          </a:xfrm>
          <a:custGeom>
            <a:avLst/>
            <a:gdLst>
              <a:gd name="textAreaLeft" fmla="*/ -360 w 297000"/>
              <a:gd name="textAreaRight" fmla="*/ 106920 w 297000"/>
              <a:gd name="textAreaTop" fmla="*/ 7560 h 1066680"/>
              <a:gd name="textAreaBottom" fmla="*/ 105912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51"/>
                  <a:pt x="10800" y="501"/>
                </a:cubicBezTo>
                <a:lnTo>
                  <a:pt x="10800" y="10299"/>
                </a:lnTo>
                <a:cubicBezTo>
                  <a:pt x="10800" y="10550"/>
                  <a:pt x="16200" y="10800"/>
                  <a:pt x="21600" y="10800"/>
                </a:cubicBezTo>
                <a:cubicBezTo>
                  <a:pt x="16200" y="10800"/>
                  <a:pt x="10800" y="11051"/>
                  <a:pt x="10800" y="11301"/>
                </a:cubicBezTo>
                <a:lnTo>
                  <a:pt x="10800" y="21099"/>
                </a:lnTo>
                <a:cubicBezTo>
                  <a:pt x="10800" y="2135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cf7622"/>
            </a:solidFill>
            <a:miter/>
          </a:ln>
          <a:effectLst>
            <a:outerShdw dist="20160" dir="5400000" blurRad="0" rotWithShape="0">
              <a:srgbClr val="808080">
                <a:alpha val="3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ight Brace 8"/>
          <p:cNvSpPr/>
          <p:nvPr/>
        </p:nvSpPr>
        <p:spPr>
          <a:xfrm flipH="1">
            <a:off x="4266360" y="2514600"/>
            <a:ext cx="297000" cy="1066680"/>
          </a:xfrm>
          <a:custGeom>
            <a:avLst/>
            <a:gdLst>
              <a:gd name="textAreaLeft" fmla="*/ -360 w 297000"/>
              <a:gd name="textAreaRight" fmla="*/ 106920 w 297000"/>
              <a:gd name="textAreaTop" fmla="*/ 7560 h 1066680"/>
              <a:gd name="textAreaBottom" fmla="*/ 105912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51"/>
                  <a:pt x="10800" y="501"/>
                </a:cubicBezTo>
                <a:lnTo>
                  <a:pt x="10800" y="10299"/>
                </a:lnTo>
                <a:cubicBezTo>
                  <a:pt x="10800" y="10550"/>
                  <a:pt x="16200" y="10800"/>
                  <a:pt x="21600" y="10800"/>
                </a:cubicBezTo>
                <a:cubicBezTo>
                  <a:pt x="16200" y="10800"/>
                  <a:pt x="10800" y="11051"/>
                  <a:pt x="10800" y="11301"/>
                </a:cubicBezTo>
                <a:lnTo>
                  <a:pt x="10800" y="21099"/>
                </a:lnTo>
                <a:cubicBezTo>
                  <a:pt x="10800" y="2135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cf7622"/>
            </a:solidFill>
            <a:miter/>
          </a:ln>
          <a:effectLst>
            <a:outerShdw dist="20160" dir="5400000" blurRad="0" rotWithShape="0">
              <a:srgbClr val="808080">
                <a:alpha val="3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ight Brace 9"/>
          <p:cNvSpPr/>
          <p:nvPr/>
        </p:nvSpPr>
        <p:spPr>
          <a:xfrm flipH="1">
            <a:off x="4266360" y="3886200"/>
            <a:ext cx="297000" cy="1066680"/>
          </a:xfrm>
          <a:custGeom>
            <a:avLst/>
            <a:gdLst>
              <a:gd name="textAreaLeft" fmla="*/ -360 w 297000"/>
              <a:gd name="textAreaRight" fmla="*/ 106920 w 297000"/>
              <a:gd name="textAreaTop" fmla="*/ 7560 h 1066680"/>
              <a:gd name="textAreaBottom" fmla="*/ 105912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51"/>
                  <a:pt x="10800" y="501"/>
                </a:cubicBezTo>
                <a:lnTo>
                  <a:pt x="10800" y="10299"/>
                </a:lnTo>
                <a:cubicBezTo>
                  <a:pt x="10800" y="10550"/>
                  <a:pt x="16200" y="10800"/>
                  <a:pt x="21600" y="10800"/>
                </a:cubicBezTo>
                <a:cubicBezTo>
                  <a:pt x="16200" y="10800"/>
                  <a:pt x="10800" y="11051"/>
                  <a:pt x="10800" y="11301"/>
                </a:cubicBezTo>
                <a:lnTo>
                  <a:pt x="10800" y="21099"/>
                </a:lnTo>
                <a:cubicBezTo>
                  <a:pt x="10800" y="2135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cf7622"/>
            </a:solidFill>
            <a:miter/>
          </a:ln>
          <a:effectLst>
            <a:outerShdw dist="20160" dir="5400000" blurRad="0" rotWithShape="0">
              <a:srgbClr val="808080">
                <a:alpha val="3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685440" y="1447920"/>
            <a:ext cx="35053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nior Leadersh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Content Placeholder 10"/>
          <p:cNvSpPr/>
          <p:nvPr/>
        </p:nvSpPr>
        <p:spPr>
          <a:xfrm>
            <a:off x="304920" y="281952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iddle Management/Leadersh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Content Placeholder 10"/>
          <p:cNvSpPr/>
          <p:nvPr/>
        </p:nvSpPr>
        <p:spPr>
          <a:xfrm>
            <a:off x="304920" y="419112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upervisor/Front Line Leadersh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Footer Placeholder 2"/>
          <p:cNvSpPr/>
          <p:nvPr/>
        </p:nvSpPr>
        <p:spPr>
          <a:xfrm>
            <a:off x="1676520" y="6492960"/>
            <a:ext cx="6019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© 2009 Guidon Performance Solutions, LLC.  All rights reserved. Guidon Performance Solutions is a licensee of LeanSigma®, a service mark of TBM Consulting Group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lide Number Placeholder 3"/>
          <p:cNvSpPr/>
          <p:nvPr/>
        </p:nvSpPr>
        <p:spPr>
          <a:xfrm>
            <a:off x="7772400" y="617220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4DB4E0-2C58-4316-8AB5-A8DFB194658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2d46"/>
                </a:solidFill>
                <a:latin typeface="Arial (Headings)"/>
                <a:ea typeface="宋体"/>
              </a:rPr>
              <a:t>Culture Transformation</a:t>
            </a:r>
            <a:endParaRPr b="1" lang="en-US" sz="3200" spc="-1" strike="noStrike">
              <a:solidFill>
                <a:srgbClr val="002d46"/>
              </a:solidFill>
              <a:latin typeface="Arial (Headings)"/>
            </a:endParaRPr>
          </a:p>
        </p:txBody>
      </p:sp>
      <p:sp>
        <p:nvSpPr>
          <p:cNvPr id="214" name="Text Box 3"/>
          <p:cNvSpPr/>
          <p:nvPr/>
        </p:nvSpPr>
        <p:spPr>
          <a:xfrm>
            <a:off x="609480" y="4952880"/>
            <a:ext cx="7925040" cy="779400"/>
          </a:xfrm>
          <a:prstGeom prst="roundRect">
            <a:avLst>
              <a:gd name="adj" fmla="val 16667"/>
            </a:avLst>
          </a:prstGeom>
          <a:solidFill>
            <a:srgbClr val="cf7622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Cycle must occur at each level of the organization, however, with different tools and practi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6"/>
          <p:cNvSpPr/>
          <p:nvPr/>
        </p:nvSpPr>
        <p:spPr>
          <a:xfrm>
            <a:off x="457200" y="1143000"/>
            <a:ext cx="4165560" cy="2514600"/>
          </a:xfrm>
          <a:prstGeom prst="roundRect">
            <a:avLst>
              <a:gd name="adj" fmla="val 10352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153360" indent="-153360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ycles of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53360" indent="-153360" algn="ct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3360" indent="-153360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3360" indent="-15336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ing tools and practices (operating system) with the values of an organization (social architectur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53360" indent="-15336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53360" indent="-15336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tandard Playbook for creating the leadership culture which will drive high perform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7" descr="HPC Toolset.jpg"/>
          <p:cNvPicPr/>
          <p:nvPr/>
        </p:nvPicPr>
        <p:blipFill>
          <a:blip r:embed="rId1"/>
          <a:stretch/>
        </p:blipFill>
        <p:spPr>
          <a:xfrm>
            <a:off x="4648320" y="828720"/>
            <a:ext cx="4064040" cy="3895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2d46"/>
                </a:solidFill>
                <a:latin typeface="Arial (Headings)"/>
                <a:ea typeface="宋体"/>
              </a:rPr>
              <a:t>Cycles of Use Ecosystem</a:t>
            </a:r>
            <a:endParaRPr b="1" lang="en-US" sz="3200" spc="-1" strike="noStrike">
              <a:solidFill>
                <a:srgbClr val="002d46"/>
              </a:solidFill>
              <a:latin typeface="Arial (Headings)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3200400" y="941400"/>
            <a:ext cx="5486400" cy="43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Goal Settin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63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ools to plan, establish and target initiativ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Communicate, Translate and Deplo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hare goals and targets with L2 and L3 Leadership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ranslate into executable plan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Deploy resourc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Measuring Performance and Result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ools, forums to discuss and evaluate performance to target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Identify gaps, create plans to improve and assign responsibilit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Executing to Close Gap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ollaborative problem solving Lean, Six Sigma, FOCU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cent &amp; Celebrating Success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63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Reinforcing methods for desired results (repeatable) and behavior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63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Problem solving methods &amp; tool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3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3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Footer Placeholder 4"/>
          <p:cNvSpPr/>
          <p:nvPr/>
        </p:nvSpPr>
        <p:spPr>
          <a:xfrm>
            <a:off x="1676520" y="6492960"/>
            <a:ext cx="6019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© 2009 Guidon Performance Solutions, LLC.  All rights reserved. Guidon Performance Solutions is a licensee of LeanSigma®, a service mark of TBM Consulting Group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Slide Number Placeholder 5"/>
          <p:cNvSpPr/>
          <p:nvPr/>
        </p:nvSpPr>
        <p:spPr>
          <a:xfrm>
            <a:off x="7772400" y="617220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F6119C-0FE7-4F71-BEB5-AC8D60B7693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3"/>
          <p:cNvSpPr/>
          <p:nvPr/>
        </p:nvSpPr>
        <p:spPr>
          <a:xfrm>
            <a:off x="3276720" y="5313240"/>
            <a:ext cx="4724280" cy="779400"/>
          </a:xfrm>
          <a:prstGeom prst="roundRect">
            <a:avLst>
              <a:gd name="adj" fmla="val 16667"/>
            </a:avLst>
          </a:prstGeom>
          <a:solidFill>
            <a:srgbClr val="cf7622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 High Performing Culture is simil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to an ecosyst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Group 7"/>
          <p:cNvGrpSpPr/>
          <p:nvPr/>
        </p:nvGrpSpPr>
        <p:grpSpPr>
          <a:xfrm>
            <a:off x="380880" y="990720"/>
            <a:ext cx="2486160" cy="5257800"/>
            <a:chOff x="380880" y="990720"/>
            <a:chExt cx="2486160" cy="5257800"/>
          </a:xfrm>
        </p:grpSpPr>
        <p:sp>
          <p:nvSpPr>
            <p:cNvPr id="223" name="Curved Right Arrow 8"/>
            <p:cNvSpPr/>
            <p:nvPr/>
          </p:nvSpPr>
          <p:spPr>
            <a:xfrm flipH="1" rot="10800000">
              <a:off x="1176120" y="2027160"/>
              <a:ext cx="519120" cy="861840"/>
            </a:xfrm>
            <a:custGeom>
              <a:avLst/>
              <a:gdLst>
                <a:gd name="textAreaLeft" fmla="*/ 69480 w 519120"/>
                <a:gd name="textAreaRight" fmla="*/ 449640 w 519120"/>
                <a:gd name="textAreaTop" fmla="*/ 166680 h 861840"/>
                <a:gd name="textAreaBottom" fmla="*/ 630360 h 861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8362" stAng="-5400000" swAng="-5400000"/>
                  <a:lnTo>
                    <a:pt x="0" y="11613"/>
                  </a:lnTo>
                  <a:arcTo wR="21600" hR="8362" stAng="10800000" swAng="-3377810"/>
                  <a:lnTo>
                    <a:pt x="16200" y="21334"/>
                  </a:lnTo>
                  <a:lnTo>
                    <a:pt x="21600" y="18349"/>
                  </a:lnTo>
                  <a:lnTo>
                    <a:pt x="16200" y="14831"/>
                  </a:lnTo>
                  <a:lnTo>
                    <a:pt x="16200" y="16457"/>
                  </a:lnTo>
                  <a:arcTo wR="21600" hR="8362" stAng="7422190" swAng="3114587"/>
                  <a:lnTo>
                    <a:pt x="412" y="9987"/>
                  </a:lnTo>
                  <a:arcTo wR="21600" hR="8362" stAng="-10536778" swAng="5136778"/>
                  <a:close/>
                </a:path>
                <a:path fill="darkenLess" w="21600" h="21600">
                  <a:moveTo>
                    <a:pt x="21600" y="0"/>
                  </a:moveTo>
                  <a:arcTo wR="21600" hR="8362" stAng="-5400000" swAng="-5400000"/>
                  <a:lnTo>
                    <a:pt x="0" y="8362"/>
                  </a:lnTo>
                  <a:arcTo wR="21600" hR="8362" stAng="10800000" swAng="-263222"/>
                  <a:lnTo>
                    <a:pt x="412" y="9987"/>
                  </a:lnTo>
                  <a:arcTo wR="21600" hR="8362" stAng="-10536778" swAng="5136778"/>
                  <a:close/>
                </a:path>
              </a:pathLst>
            </a:custGeom>
            <a:gradFill rotWithShape="0">
              <a:gsLst>
                <a:gs pos="0">
                  <a:srgbClr val="9bc1ff"/>
                </a:gs>
                <a:gs pos="100000">
                  <a:srgbClr val="002d46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3040" dir="5400000" blurRad="0" rotWithShape="0">
                <a:srgbClr val="808080">
                  <a:alpha val="3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Curved Left Arrow 9"/>
            <p:cNvSpPr/>
            <p:nvPr/>
          </p:nvSpPr>
          <p:spPr>
            <a:xfrm>
              <a:off x="1770120" y="2102040"/>
              <a:ext cx="517320" cy="860400"/>
            </a:xfrm>
            <a:custGeom>
              <a:avLst/>
              <a:gdLst>
                <a:gd name="textAreaLeft" fmla="*/ 69120 w 517320"/>
                <a:gd name="textAreaRight" fmla="*/ 448200 w 517320"/>
                <a:gd name="textAreaTop" fmla="*/ 166320 h 860400"/>
                <a:gd name="textAreaBottom" fmla="*/ 629280 h 860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8365" stAng="-5400000" swAng="5400000"/>
                  <a:lnTo>
                    <a:pt x="21600" y="11612"/>
                  </a:lnTo>
                  <a:arcTo wR="21600" hR="8365" stAng="0" swAng="3378379"/>
                  <a:lnTo>
                    <a:pt x="5400" y="21334"/>
                  </a:lnTo>
                  <a:lnTo>
                    <a:pt x="0" y="18353"/>
                  </a:lnTo>
                  <a:lnTo>
                    <a:pt x="5400" y="14839"/>
                  </a:lnTo>
                  <a:lnTo>
                    <a:pt x="5400" y="16463"/>
                  </a:lnTo>
                  <a:arcTo wR="21600" hR="8365" stAng="3378379" swAng="-3115495"/>
                  <a:lnTo>
                    <a:pt x="21189" y="9988"/>
                  </a:lnTo>
                  <a:arcTo wR="21600" hR="8365" stAng="-262883" swAng="-5137117"/>
                  <a:close/>
                </a:path>
                <a:path fill="darkenLess" w="21600" h="21600">
                  <a:moveTo>
                    <a:pt x="0" y="0"/>
                  </a:moveTo>
                  <a:arcTo wR="21600" hR="8365" stAng="-5400000" swAng="5400000"/>
                  <a:lnTo>
                    <a:pt x="21600" y="11612"/>
                  </a:lnTo>
                  <a:arcTo wR="21600" hR="8365" stAng="0" swAng="-262883"/>
                  <a:lnTo>
                    <a:pt x="21189" y="9988"/>
                  </a:lnTo>
                  <a:arcTo wR="21600" hR="8365" stAng="-262883" swAng="-5137117"/>
                  <a:close/>
                </a:path>
              </a:pathLst>
            </a:custGeom>
            <a:gradFill rotWithShape="0">
              <a:gsLst>
                <a:gs pos="0">
                  <a:srgbClr val="9bc1ff"/>
                </a:gs>
                <a:gs pos="100000">
                  <a:srgbClr val="002d46"/>
                </a:gs>
              </a:gsLst>
              <a:lin ang="5400000"/>
            </a:gradFill>
            <a:ln w="9360">
              <a:solidFill>
                <a:srgbClr val="4a7ebb"/>
              </a:solidFill>
              <a:miter/>
            </a:ln>
            <a:effectLst>
              <a:outerShdw dist="23040" dir="5400000" blurRad="0" rotWithShape="0">
                <a:srgbClr val="808080">
                  <a:alpha val="3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TextBox 10"/>
            <p:cNvSpPr/>
            <p:nvPr/>
          </p:nvSpPr>
          <p:spPr>
            <a:xfrm>
              <a:off x="380880" y="2025720"/>
              <a:ext cx="940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peci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TextBox 11"/>
            <p:cNvSpPr/>
            <p:nvPr/>
          </p:nvSpPr>
          <p:spPr>
            <a:xfrm>
              <a:off x="1297080" y="1734120"/>
              <a:ext cx="795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i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TextBox 12"/>
            <p:cNvSpPr/>
            <p:nvPr/>
          </p:nvSpPr>
          <p:spPr>
            <a:xfrm>
              <a:off x="2071080" y="2025720"/>
              <a:ext cx="795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oi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TextBox 13"/>
            <p:cNvSpPr/>
            <p:nvPr/>
          </p:nvSpPr>
          <p:spPr>
            <a:xfrm>
              <a:off x="483120" y="2816640"/>
              <a:ext cx="1081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utrien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TextBox 14"/>
            <p:cNvSpPr/>
            <p:nvPr/>
          </p:nvSpPr>
          <p:spPr>
            <a:xfrm>
              <a:off x="1926360" y="2816640"/>
              <a:ext cx="738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Wat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Rectangle 15"/>
            <p:cNvSpPr/>
            <p:nvPr/>
          </p:nvSpPr>
          <p:spPr>
            <a:xfrm>
              <a:off x="453600" y="1617480"/>
              <a:ext cx="2387880" cy="1663560"/>
            </a:xfrm>
            <a:prstGeom prst="rect">
              <a:avLst/>
            </a:prstGeom>
            <a:noFill/>
            <a:ln w="9360">
              <a:solidFill>
                <a:srgbClr val="002d46"/>
              </a:solidFill>
              <a:miter/>
            </a:ln>
            <a:effectLst>
              <a:outerShdw dist="23040" dir="5400000" blurRad="0" rotWithShape="0">
                <a:srgbClr val="808080">
                  <a:alpha val="3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Down Arrow 16"/>
            <p:cNvSpPr/>
            <p:nvPr/>
          </p:nvSpPr>
          <p:spPr>
            <a:xfrm>
              <a:off x="1393560" y="3380040"/>
              <a:ext cx="579240" cy="50616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cf7622"/>
            </a:solidFill>
            <a:ln w="9360">
              <a:solidFill>
                <a:srgbClr val="cf7622"/>
              </a:solidFill>
              <a:miter/>
            </a:ln>
            <a:effectLst>
              <a:outerShdw dist="23040" dir="5400000" blurRad="0" rotWithShape="0">
                <a:srgbClr val="808080">
                  <a:alpha val="3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TextBox 17"/>
            <p:cNvSpPr/>
            <p:nvPr/>
          </p:nvSpPr>
          <p:spPr>
            <a:xfrm>
              <a:off x="453240" y="990720"/>
              <a:ext cx="2387880" cy="580680"/>
            </a:xfrm>
            <a:prstGeom prst="rect">
              <a:avLst/>
            </a:prstGeom>
            <a:solidFill>
              <a:srgbClr val="002d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Five Elements of a Forest Syste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Rectangle 18"/>
            <p:cNvSpPr/>
            <p:nvPr/>
          </p:nvSpPr>
          <p:spPr>
            <a:xfrm>
              <a:off x="453600" y="4584960"/>
              <a:ext cx="2387880" cy="1663560"/>
            </a:xfrm>
            <a:prstGeom prst="rect">
              <a:avLst/>
            </a:prstGeom>
            <a:noFill/>
            <a:ln w="9360">
              <a:solidFill>
                <a:srgbClr val="002d46"/>
              </a:solidFill>
              <a:miter/>
            </a:ln>
            <a:effectLst>
              <a:outerShdw dist="23040" dir="5400000" blurRad="0" rotWithShape="0">
                <a:srgbClr val="808080">
                  <a:alpha val="3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TextBox 19"/>
            <p:cNvSpPr/>
            <p:nvPr/>
          </p:nvSpPr>
          <p:spPr>
            <a:xfrm>
              <a:off x="453240" y="3957120"/>
              <a:ext cx="2387880" cy="580680"/>
            </a:xfrm>
            <a:prstGeom prst="rect">
              <a:avLst/>
            </a:prstGeom>
            <a:solidFill>
              <a:srgbClr val="002d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Five Elements of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Cycle of Us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5" name="Picture 20" descr="HPC Toolset.jpg"/>
            <p:cNvPicPr/>
            <p:nvPr/>
          </p:nvPicPr>
          <p:blipFill>
            <a:blip r:embed="rId1"/>
            <a:stretch/>
          </p:blipFill>
          <p:spPr>
            <a:xfrm>
              <a:off x="803160" y="4608000"/>
              <a:ext cx="1676160" cy="160668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6104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2d46"/>
                </a:solidFill>
                <a:latin typeface="Arial (Headings)"/>
                <a:ea typeface="宋体"/>
              </a:rPr>
              <a:t>Senior Leadership Cycles of Use – Example</a:t>
            </a:r>
            <a:endParaRPr b="1" lang="en-US" sz="2800" spc="-1" strike="noStrike">
              <a:solidFill>
                <a:srgbClr val="002d46"/>
              </a:solidFill>
              <a:latin typeface="Arial (Headings)"/>
            </a:endParaRPr>
          </a:p>
        </p:txBody>
      </p:sp>
      <p:sp>
        <p:nvSpPr>
          <p:cNvPr id="237" name="Footer Placeholder 2"/>
          <p:cNvSpPr/>
          <p:nvPr/>
        </p:nvSpPr>
        <p:spPr>
          <a:xfrm>
            <a:off x="1676520" y="6492960"/>
            <a:ext cx="6019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© 2009 Guidon Performance Solutions, LLC.  All rights reserved. Guidon Performance Solutions is a licensee of LeanSigma®, a service mark of TBM Consulting Group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7772400" y="617220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D6EBC5-EFC3-493D-8A6D-CB0E06700DD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5" descr=""/>
          <p:cNvPicPr/>
          <p:nvPr/>
        </p:nvPicPr>
        <p:blipFill>
          <a:blip r:embed="rId1"/>
          <a:stretch/>
        </p:blipFill>
        <p:spPr>
          <a:xfrm>
            <a:off x="457200" y="1219320"/>
            <a:ext cx="8077320" cy="428148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8"/>
          <p:cNvSpPr/>
          <p:nvPr/>
        </p:nvSpPr>
        <p:spPr>
          <a:xfrm>
            <a:off x="1600200" y="6172200"/>
            <a:ext cx="453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模版免费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Footer Placeholder 3"/>
          <p:cNvSpPr/>
          <p:nvPr/>
        </p:nvSpPr>
        <p:spPr>
          <a:xfrm>
            <a:off x="1676520" y="6492960"/>
            <a:ext cx="6019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© 2009 Guidon Performance Solutions, LLC.  All rights reserved. Guidon Performance Solutions is a licensee of LeanSigma®, a service mark of TBM Consulting Group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Slide Number Placeholder 4"/>
          <p:cNvSpPr/>
          <p:nvPr/>
        </p:nvSpPr>
        <p:spPr>
          <a:xfrm>
            <a:off x="7772400" y="617220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834018-0A46-4A4B-B8C7-A781B43A093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AutoShape 2"/>
          <p:cNvSpPr/>
          <p:nvPr/>
        </p:nvSpPr>
        <p:spPr>
          <a:xfrm>
            <a:off x="380880" y="3352680"/>
            <a:ext cx="2210040" cy="2667240"/>
          </a:xfrm>
          <a:custGeom>
            <a:avLst/>
            <a:gdLst>
              <a:gd name="textAreaLeft" fmla="*/ 295920 w 2210040"/>
              <a:gd name="textAreaRight" fmla="*/ 1914120 w 2210040"/>
              <a:gd name="textAreaTop" fmla="*/ 448920 h 2667240"/>
              <a:gd name="textAreaBottom" fmla="*/ 2022840 h 2667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272" stAng="-5400000" swAng="-5400000"/>
                <a:lnTo>
                  <a:pt x="0" y="12744"/>
                </a:lnTo>
                <a:arcTo wR="21600" hR="7272" stAng="10800000" swAng="-2615910"/>
                <a:lnTo>
                  <a:pt x="14400" y="21184"/>
                </a:lnTo>
                <a:lnTo>
                  <a:pt x="21600" y="17280"/>
                </a:lnTo>
                <a:lnTo>
                  <a:pt x="14400" y="12544"/>
                </a:lnTo>
                <a:lnTo>
                  <a:pt x="14400" y="14128"/>
                </a:lnTo>
                <a:arcTo wR="21600" hR="7272" stAng="8184090" swAng="2148825"/>
                <a:lnTo>
                  <a:pt x="1587" y="10008"/>
                </a:lnTo>
                <a:arcTo wR="21600" hR="7272" stAng="-10332915" swAng="4932915"/>
                <a:close/>
              </a:path>
              <a:path fill="darkenLess" w="21600" h="21600">
                <a:moveTo>
                  <a:pt x="21600" y="0"/>
                </a:moveTo>
                <a:arcTo wR="21600" hR="7272" stAng="-5400000" swAng="-5400000"/>
                <a:lnTo>
                  <a:pt x="0" y="7272"/>
                </a:lnTo>
                <a:arcTo wR="21600" hR="7272" stAng="10800000" swAng="-467085"/>
                <a:lnTo>
                  <a:pt x="1587" y="10008"/>
                </a:lnTo>
                <a:arcTo wR="21600" hR="7272" stAng="-10332915" swAng="4932915"/>
                <a:close/>
              </a:path>
            </a:pathLst>
          </a:custGeom>
          <a:solidFill>
            <a:srgbClr val="cf76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AutoShape 3"/>
          <p:cNvSpPr/>
          <p:nvPr/>
        </p:nvSpPr>
        <p:spPr>
          <a:xfrm flipH="1">
            <a:off x="6552360" y="3352680"/>
            <a:ext cx="2210040" cy="2667240"/>
          </a:xfrm>
          <a:custGeom>
            <a:avLst/>
            <a:gdLst>
              <a:gd name="textAreaLeft" fmla="*/ 295920 w 2210040"/>
              <a:gd name="textAreaRight" fmla="*/ 1914120 w 2210040"/>
              <a:gd name="textAreaTop" fmla="*/ 448920 h 2667240"/>
              <a:gd name="textAreaBottom" fmla="*/ 2022840 h 2667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272" stAng="-5400000" swAng="-5400000"/>
                <a:lnTo>
                  <a:pt x="0" y="12744"/>
                </a:lnTo>
                <a:arcTo wR="21600" hR="7272" stAng="10800000" swAng="-2615910"/>
                <a:lnTo>
                  <a:pt x="14400" y="21184"/>
                </a:lnTo>
                <a:lnTo>
                  <a:pt x="21600" y="17280"/>
                </a:lnTo>
                <a:lnTo>
                  <a:pt x="14400" y="12544"/>
                </a:lnTo>
                <a:lnTo>
                  <a:pt x="14400" y="14128"/>
                </a:lnTo>
                <a:arcTo wR="21600" hR="7272" stAng="8184090" swAng="2148825"/>
                <a:lnTo>
                  <a:pt x="1587" y="10008"/>
                </a:lnTo>
                <a:arcTo wR="21600" hR="7272" stAng="-10332915" swAng="4932915"/>
                <a:close/>
              </a:path>
              <a:path fill="darkenLess" w="21600" h="21600">
                <a:moveTo>
                  <a:pt x="21600" y="0"/>
                </a:moveTo>
                <a:arcTo wR="21600" hR="7272" stAng="-5400000" swAng="-5400000"/>
                <a:lnTo>
                  <a:pt x="0" y="7272"/>
                </a:lnTo>
                <a:arcTo wR="21600" hR="7272" stAng="10800000" swAng="-467085"/>
                <a:lnTo>
                  <a:pt x="1587" y="10008"/>
                </a:lnTo>
                <a:arcTo wR="21600" hR="7272" stAng="-10332915" swAng="4932915"/>
                <a:close/>
              </a:path>
            </a:pathLst>
          </a:custGeom>
          <a:solidFill>
            <a:srgbClr val="cf76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2d46"/>
                </a:solidFill>
                <a:latin typeface="Arial (Headings)"/>
                <a:ea typeface="宋体"/>
              </a:rPr>
              <a:t>Mid-Level Leadership Cycles of Use</a:t>
            </a:r>
            <a:endParaRPr b="1" lang="en-US" sz="3200" spc="-1" strike="noStrike">
              <a:solidFill>
                <a:srgbClr val="002d46"/>
              </a:solidFill>
              <a:latin typeface="Arial (Headings)"/>
            </a:endParaRPr>
          </a:p>
        </p:txBody>
      </p:sp>
      <p:grpSp>
        <p:nvGrpSpPr>
          <p:cNvPr id="246" name="Group 7"/>
          <p:cNvGrpSpPr/>
          <p:nvPr/>
        </p:nvGrpSpPr>
        <p:grpSpPr>
          <a:xfrm>
            <a:off x="304920" y="990720"/>
            <a:ext cx="8533440" cy="3199680"/>
            <a:chOff x="304920" y="990720"/>
            <a:chExt cx="8533440" cy="3199680"/>
          </a:xfrm>
        </p:grpSpPr>
        <p:sp>
          <p:nvSpPr>
            <p:cNvPr id="247" name="AutoShape 3"/>
            <p:cNvSpPr/>
            <p:nvPr/>
          </p:nvSpPr>
          <p:spPr>
            <a:xfrm>
              <a:off x="304920" y="990720"/>
              <a:ext cx="8533440" cy="319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48" name="_s6148"/>
            <p:cNvCxnSpPr>
              <a:stCxn id="249" idx="0"/>
              <a:endCxn id="250" idx="2"/>
            </p:cNvCxnSpPr>
            <p:nvPr/>
          </p:nvCxnSpPr>
          <p:spPr>
            <a:xfrm flipV="1" rot="16200000">
              <a:off x="5400000" y="1441080"/>
              <a:ext cx="640440" cy="2297520"/>
            </a:xfrm>
            <a:prstGeom prst="bentConnector3">
              <a:avLst>
                <a:gd name="adj1" fmla="val 1777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51" name="_s6149"/>
            <p:cNvCxnSpPr>
              <a:stCxn id="252" idx="0"/>
              <a:endCxn id="250" idx="2"/>
            </p:cNvCxnSpPr>
            <p:nvPr/>
          </p:nvCxnSpPr>
          <p:spPr>
            <a:xfrm flipH="1" flipV="1" rot="5400000">
              <a:off x="3102840" y="1440720"/>
              <a:ext cx="640440" cy="2298600"/>
            </a:xfrm>
            <a:prstGeom prst="bentConnector3">
              <a:avLst>
                <a:gd name="adj1" fmla="val 17772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50" name="_s6150"/>
            <p:cNvSpPr/>
            <p:nvPr/>
          </p:nvSpPr>
          <p:spPr>
            <a:xfrm>
              <a:off x="2602800" y="990720"/>
              <a:ext cx="3938400" cy="12798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nage the Process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“</a:t>
              </a:r>
              <a:r>
                <a:rPr b="1" lang="en-US" sz="2100" spc="-1" strike="noStrike">
                  <a:solidFill>
                    <a:srgbClr val="000000"/>
                  </a:solidFill>
                  <a:latin typeface="Arial"/>
                  <a:ea typeface="Arial"/>
                </a:rPr>
                <a:t>Balanced  Focus”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_s6151"/>
            <p:cNvSpPr/>
            <p:nvPr/>
          </p:nvSpPr>
          <p:spPr>
            <a:xfrm>
              <a:off x="304920" y="2910240"/>
              <a:ext cx="3938400" cy="12798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6809chargen"/>
                </a:rPr>
                <a:t>Strategic Deployment Implementation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6809chargen"/>
                </a:rPr>
                <a:t>“</a:t>
              </a:r>
              <a:r>
                <a:rPr b="0" lang="en-US" sz="1300" spc="-1" strike="noStrike">
                  <a:solidFill>
                    <a:srgbClr val="000000"/>
                  </a:solidFill>
                  <a:latin typeface="6809chargen"/>
                </a:rPr>
                <a:t>Critical Few” Processe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6809chargen"/>
                </a:rPr>
                <a:t>Action Plan at Point of Impact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6809chargen"/>
                </a:rPr>
                <a:t> </a:t>
              </a:r>
              <a:r>
                <a:rPr b="0" lang="en-US" sz="1300" spc="-1" strike="noStrike">
                  <a:solidFill>
                    <a:srgbClr val="000000"/>
                  </a:solidFill>
                  <a:latin typeface="6809chargen"/>
                </a:rPr>
                <a:t>Bowling Chart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_s6152"/>
            <p:cNvSpPr/>
            <p:nvPr/>
          </p:nvSpPr>
          <p:spPr>
            <a:xfrm>
              <a:off x="4899600" y="2910240"/>
              <a:ext cx="3938400" cy="12798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6809chargen"/>
                </a:rPr>
                <a:t>Daily Management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6809chargen"/>
                </a:rPr>
                <a:t>Operating Unit Responsibility </a:t>
              </a:r>
              <a:r>
                <a:rPr b="0" lang="en-US" sz="1300" spc="-1" strike="noStrike">
                  <a:solidFill>
                    <a:srgbClr val="000000"/>
                  </a:solidFill>
                  <a:latin typeface="Lucida Grande"/>
                </a:rPr>
                <a:t>–</a:t>
              </a:r>
              <a:r>
                <a:rPr b="0" lang="en-US" sz="1300" spc="-1" strike="noStrike">
                  <a:solidFill>
                    <a:srgbClr val="000000"/>
                  </a:solidFill>
                  <a:latin typeface="6809chargen"/>
                </a:rPr>
                <a:t> SQDC KPI’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6809chargen"/>
                </a:rPr>
                <a:t>KPI Bowling Chart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3" name="AutoShape 12"/>
          <p:cNvSpPr/>
          <p:nvPr/>
        </p:nvSpPr>
        <p:spPr>
          <a:xfrm>
            <a:off x="2629080" y="4648320"/>
            <a:ext cx="3886200" cy="1523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MONTHLY OPERATIONS REVIEW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eparate SD and KPI Review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xception Reporting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orward Focus on Potentia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roblems &amp; Opportuniti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Quick Response Countermeasur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2d46"/>
                </a:solidFill>
                <a:latin typeface="Arial (Headings)"/>
                <a:ea typeface="宋体"/>
              </a:rPr>
              <a:t>Front Line Leadership Cycles of Use</a:t>
            </a:r>
            <a:endParaRPr b="1" lang="en-US" sz="3200" spc="-1" strike="noStrike">
              <a:solidFill>
                <a:srgbClr val="002d46"/>
              </a:solidFill>
              <a:latin typeface="Arial (Headings)"/>
            </a:endParaRPr>
          </a:p>
        </p:txBody>
      </p:sp>
      <p:sp>
        <p:nvSpPr>
          <p:cNvPr id="255" name="Footer Placeholder 3"/>
          <p:cNvSpPr/>
          <p:nvPr/>
        </p:nvSpPr>
        <p:spPr>
          <a:xfrm>
            <a:off x="1676520" y="6492960"/>
            <a:ext cx="6019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© 2009 Guidon Performance Solutions, LLC.  All rights reserved. Guidon Performance Solutions is a licensee of LeanSigma®, a service mark of TBM Consulting Group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lide Number Placeholder 4"/>
          <p:cNvSpPr/>
          <p:nvPr/>
        </p:nvSpPr>
        <p:spPr>
          <a:xfrm>
            <a:off x="7772400" y="617220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F8A3019-E440-455F-9297-0F13019B9FF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5" descr="DSC00078"/>
          <p:cNvPicPr/>
          <p:nvPr/>
        </p:nvPicPr>
        <p:blipFill>
          <a:blip r:embed="rId1"/>
          <a:srcRect l="0" t="0" r="7874" b="0"/>
          <a:stretch/>
        </p:blipFill>
        <p:spPr>
          <a:xfrm>
            <a:off x="3632040" y="1562040"/>
            <a:ext cx="5054760" cy="368316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808080">
                <a:alpha val="41000"/>
              </a:srgbClr>
            </a:outerShdw>
          </a:effectLst>
        </p:spPr>
      </p:pic>
      <p:sp>
        <p:nvSpPr>
          <p:cNvPr id="258" name="Rectangle 7"/>
          <p:cNvSpPr/>
          <p:nvPr/>
        </p:nvSpPr>
        <p:spPr>
          <a:xfrm>
            <a:off x="571680" y="1523880"/>
            <a:ext cx="2831760" cy="37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Front-Line “Scorecard” &amp; Performance Management System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Identify opportunities in Operations Performance Reviews (OPR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Problem solving to address gaps and align to business need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2d46"/>
                </a:solidFill>
                <a:latin typeface="Arial"/>
                <a:ea typeface="宋体"/>
              </a:rPr>
              <a:t>Leadership Talent Development</a:t>
            </a:r>
            <a:endParaRPr b="1" lang="en-US" sz="3200" spc="-1" strike="noStrike">
              <a:solidFill>
                <a:srgbClr val="002d46"/>
              </a:solidFill>
              <a:latin typeface="Arial (Headings)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5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three basic objectives of talent are help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Employe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understand where they can be most successful as well as how they can best develop within the organiz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Leader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erform better by making better hiring and promotion decisions and managing employees more effectively through improved mentoring and coach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Organization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lace talent correctly, maximizing employee productivity and being more proactive in succession pla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ic components of an effective talent development system are recruitment, assessment, on-boarding, development planning, performance management and career “path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Slide Number Placeholder 3"/>
          <p:cNvSpPr/>
          <p:nvPr/>
        </p:nvSpPr>
        <p:spPr>
          <a:xfrm>
            <a:off x="7772400" y="617220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6C76B9F-294C-45F1-A661-C63EF5E72B3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Footer Placeholder 4"/>
          <p:cNvSpPr/>
          <p:nvPr/>
        </p:nvSpPr>
        <p:spPr>
          <a:xfrm>
            <a:off x="1676520" y="6492960"/>
            <a:ext cx="6019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© 2009 Guidon Performance Solutions, LLC.  All rights reserved. Guidon Performance Solutions is a licensee of LeanSigma®, a service mark of TBM Consulting Group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2d46"/>
                </a:solidFill>
                <a:latin typeface="Arial (Headings)"/>
                <a:ea typeface="宋体"/>
              </a:rPr>
              <a:t>Agenda</a:t>
            </a:r>
            <a:endParaRPr b="1" lang="en-US" sz="3200" spc="-1" strike="noStrike">
              <a:solidFill>
                <a:srgbClr val="002d46"/>
              </a:solidFill>
              <a:latin typeface="Arial (Headings)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lture and Its Imp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ing High Performance Cul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ing a High Performance Cul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ycles of Use Eco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formance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lent Develo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se Stu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Footer Placeholder 4"/>
          <p:cNvSpPr/>
          <p:nvPr/>
        </p:nvSpPr>
        <p:spPr>
          <a:xfrm>
            <a:off x="1676520" y="6492960"/>
            <a:ext cx="6019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© 2009 Guidon Performance Solutions, LLC.  All rights reserved. Guidon Performance Solutions is a licensee of LeanSigma®, a service mark of TBM Consulting Group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7772400" y="617220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D706DD6-6F36-4D9F-BDB3-7E82AABB942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2d46"/>
                </a:solidFill>
                <a:latin typeface="Arial (Headings)"/>
                <a:ea typeface="宋体"/>
              </a:rPr>
              <a:t>The Reality Is…</a:t>
            </a:r>
            <a:endParaRPr b="1" lang="en-US" sz="3200" spc="-1" strike="noStrike">
              <a:solidFill>
                <a:srgbClr val="002d46"/>
              </a:solidFill>
              <a:latin typeface="Arial (Headings)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6840" y="987120"/>
            <a:ext cx="8056440" cy="359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The changes with Leadership are not just technical / process oriented. The reality is that the challenge is with…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300" spc="-1" strike="noStrike">
                <a:solidFill>
                  <a:srgbClr val="cf7622"/>
                </a:solidFill>
                <a:latin typeface="Arial"/>
              </a:rPr>
              <a:t>PEOPLE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5" name="Group 4"/>
          <p:cNvGrpSpPr/>
          <p:nvPr/>
        </p:nvGrpSpPr>
        <p:grpSpPr>
          <a:xfrm>
            <a:off x="2133720" y="4019400"/>
            <a:ext cx="5092560" cy="1467000"/>
            <a:chOff x="2133720" y="4019400"/>
            <a:chExt cx="5092560" cy="1467000"/>
          </a:xfrm>
        </p:grpSpPr>
        <p:pic>
          <p:nvPicPr>
            <p:cNvPr id="266" name="Picture 22" descr="agencyby060600005"/>
            <p:cNvPicPr/>
            <p:nvPr/>
          </p:nvPicPr>
          <p:blipFill>
            <a:blip r:embed="rId1"/>
            <a:srcRect l="0" t="0" r="0" b="47720"/>
            <a:stretch/>
          </p:blipFill>
          <p:spPr>
            <a:xfrm>
              <a:off x="2133720" y="4019400"/>
              <a:ext cx="2768760" cy="137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7" name="Picture 23" descr="agencyby060600005"/>
            <p:cNvPicPr/>
            <p:nvPr/>
          </p:nvPicPr>
          <p:blipFill>
            <a:blip r:embed="rId2"/>
            <a:srcRect l="5962" t="53036" r="0" b="0"/>
            <a:stretch/>
          </p:blipFill>
          <p:spPr>
            <a:xfrm>
              <a:off x="4622760" y="4248000"/>
              <a:ext cx="2603520" cy="1238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8" name="Slide Number Placeholder 6"/>
          <p:cNvSpPr/>
          <p:nvPr/>
        </p:nvSpPr>
        <p:spPr>
          <a:xfrm>
            <a:off x="7772400" y="617220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B1D89E-7534-461D-96BD-AC41E2A488B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Footer Placeholder 7"/>
          <p:cNvSpPr/>
          <p:nvPr/>
        </p:nvSpPr>
        <p:spPr>
          <a:xfrm>
            <a:off x="1676520" y="6492960"/>
            <a:ext cx="6019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© 2009 Guidon Performance Solutions, LLC.  All rights reserved. Guidon Performance Solutions is a licensee of LeanSigma®, a service mark of TBM Consulting Group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Footer Placeholder 2"/>
          <p:cNvSpPr/>
          <p:nvPr/>
        </p:nvSpPr>
        <p:spPr>
          <a:xfrm>
            <a:off x="1676520" y="6492960"/>
            <a:ext cx="6019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© 2009 Guidon Performance Solutions, LLC.  All rights reserved. Guidon Performance Solutions is a licensee of LeanSigma®, a service mark of TBM Consulting Group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7772400" y="615636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EC077E-364C-4242-B930-AE926A6AEE0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2d46"/>
                </a:solidFill>
                <a:latin typeface="Arial (Headings)"/>
                <a:ea typeface="宋体"/>
              </a:rPr>
              <a:t>High Performance Leadership Roadmap</a:t>
            </a:r>
            <a:endParaRPr b="1" lang="en-US" sz="3200" spc="-1" strike="noStrike">
              <a:solidFill>
                <a:srgbClr val="002d46"/>
              </a:solidFill>
              <a:latin typeface="Arial (Headings)"/>
            </a:endParaRPr>
          </a:p>
        </p:txBody>
      </p:sp>
      <p:sp>
        <p:nvSpPr>
          <p:cNvPr id="273" name="Freeform 3"/>
          <p:cNvSpPr/>
          <p:nvPr/>
        </p:nvSpPr>
        <p:spPr>
          <a:xfrm>
            <a:off x="684360" y="1981080"/>
            <a:ext cx="1676160" cy="1397160"/>
          </a:xfrm>
          <a:custGeom>
            <a:avLst/>
            <a:gdLst>
              <a:gd name="textAreaLeft" fmla="*/ 0 w 1676160"/>
              <a:gd name="textAreaRight" fmla="*/ 1676520 w 1676160"/>
              <a:gd name="textAreaTop" fmla="*/ 0 h 1397160"/>
              <a:gd name="textAreaBottom" fmla="*/ 1397520 h 1397160"/>
            </a:gdLst>
            <a:ahLst/>
            <a:rect l="textAreaLeft" t="textAreaTop" r="textAreaRight" b="textAreaBottom"/>
            <a:pathLst>
              <a:path w="1056" h="880">
                <a:moveTo>
                  <a:pt x="761" y="0"/>
                </a:moveTo>
                <a:lnTo>
                  <a:pt x="0" y="0"/>
                </a:lnTo>
                <a:lnTo>
                  <a:pt x="0" y="880"/>
                </a:lnTo>
                <a:lnTo>
                  <a:pt x="769" y="880"/>
                </a:lnTo>
                <a:lnTo>
                  <a:pt x="1056" y="436"/>
                </a:lnTo>
                <a:lnTo>
                  <a:pt x="761" y="0"/>
                </a:lnTo>
              </a:path>
            </a:pathLst>
          </a:custGeom>
          <a:solidFill>
            <a:srgbClr val="95b3d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4" name="Group 6"/>
          <p:cNvGrpSpPr/>
          <p:nvPr/>
        </p:nvGrpSpPr>
        <p:grpSpPr>
          <a:xfrm>
            <a:off x="5256360" y="1981080"/>
            <a:ext cx="1677960" cy="1395360"/>
            <a:chOff x="5256360" y="1981080"/>
            <a:chExt cx="1677960" cy="1395360"/>
          </a:xfrm>
        </p:grpSpPr>
        <p:sp>
          <p:nvSpPr>
            <p:cNvPr id="275" name="Freeform 5"/>
            <p:cNvSpPr/>
            <p:nvPr/>
          </p:nvSpPr>
          <p:spPr>
            <a:xfrm>
              <a:off x="5256360" y="1981080"/>
              <a:ext cx="1677960" cy="1395360"/>
            </a:xfrm>
            <a:custGeom>
              <a:avLst/>
              <a:gdLst>
                <a:gd name="textAreaLeft" fmla="*/ 0 w 1677960"/>
                <a:gd name="textAreaRight" fmla="*/ 1678320 w 1677960"/>
                <a:gd name="textAreaTop" fmla="*/ 0 h 1395360"/>
                <a:gd name="textAreaBottom" fmla="*/ 1395720 h 1395360"/>
              </a:gdLst>
              <a:ahLst/>
              <a:rect l="textAreaLeft" t="textAreaTop" r="textAreaRight" b="textAreaBottom"/>
              <a:pathLst>
                <a:path w="1057" h="879">
                  <a:moveTo>
                    <a:pt x="763" y="0"/>
                  </a:moveTo>
                  <a:lnTo>
                    <a:pt x="0" y="0"/>
                  </a:lnTo>
                  <a:lnTo>
                    <a:pt x="287" y="438"/>
                  </a:lnTo>
                  <a:lnTo>
                    <a:pt x="0" y="879"/>
                  </a:lnTo>
                  <a:lnTo>
                    <a:pt x="771" y="879"/>
                  </a:lnTo>
                  <a:lnTo>
                    <a:pt x="1057" y="435"/>
                  </a:lnTo>
                  <a:lnTo>
                    <a:pt x="763" y="0"/>
                  </a:lnTo>
                  <a:close/>
                </a:path>
              </a:pathLst>
            </a:custGeom>
            <a:solidFill>
              <a:srgbClr val="008e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6"/>
            <p:cNvSpPr/>
            <p:nvPr/>
          </p:nvSpPr>
          <p:spPr>
            <a:xfrm>
              <a:off x="5256360" y="1981080"/>
              <a:ext cx="1677960" cy="1395360"/>
            </a:xfrm>
            <a:custGeom>
              <a:avLst/>
              <a:gdLst>
                <a:gd name="textAreaLeft" fmla="*/ 0 w 1677960"/>
                <a:gd name="textAreaRight" fmla="*/ 1678320 w 1677960"/>
                <a:gd name="textAreaTop" fmla="*/ 0 h 1395360"/>
                <a:gd name="textAreaBottom" fmla="*/ 1395720 h 1395360"/>
              </a:gdLst>
              <a:ahLst/>
              <a:rect l="textAreaLeft" t="textAreaTop" r="textAreaRight" b="textAreaBottom"/>
              <a:pathLst>
                <a:path w="1057" h="879">
                  <a:moveTo>
                    <a:pt x="763" y="0"/>
                  </a:moveTo>
                  <a:lnTo>
                    <a:pt x="0" y="0"/>
                  </a:lnTo>
                  <a:lnTo>
                    <a:pt x="287" y="438"/>
                  </a:lnTo>
                  <a:lnTo>
                    <a:pt x="0" y="879"/>
                  </a:lnTo>
                  <a:lnTo>
                    <a:pt x="771" y="879"/>
                  </a:lnTo>
                  <a:lnTo>
                    <a:pt x="1057" y="435"/>
                  </a:lnTo>
                  <a:lnTo>
                    <a:pt x="763" y="0"/>
                  </a:lnTo>
                </a:path>
              </a:pathLst>
            </a:custGeom>
            <a:solidFill>
              <a:srgbClr val="ed9f4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7" name="Group 9"/>
          <p:cNvGrpSpPr/>
          <p:nvPr/>
        </p:nvGrpSpPr>
        <p:grpSpPr>
          <a:xfrm>
            <a:off x="2208240" y="1981080"/>
            <a:ext cx="1677960" cy="1397160"/>
            <a:chOff x="2208240" y="1981080"/>
            <a:chExt cx="1677960" cy="1397160"/>
          </a:xfrm>
        </p:grpSpPr>
        <p:sp>
          <p:nvSpPr>
            <p:cNvPr id="278" name="Freeform 8"/>
            <p:cNvSpPr/>
            <p:nvPr/>
          </p:nvSpPr>
          <p:spPr>
            <a:xfrm>
              <a:off x="2208240" y="1981080"/>
              <a:ext cx="1677960" cy="1397160"/>
            </a:xfrm>
            <a:custGeom>
              <a:avLst/>
              <a:gdLst>
                <a:gd name="textAreaLeft" fmla="*/ 0 w 1677960"/>
                <a:gd name="textAreaRight" fmla="*/ 1678320 w 1677960"/>
                <a:gd name="textAreaTop" fmla="*/ 0 h 1397160"/>
                <a:gd name="textAreaBottom" fmla="*/ 1397520 h 1397160"/>
              </a:gdLst>
              <a:ahLst/>
              <a:rect l="textAreaLeft" t="textAreaTop" r="textAreaRight" b="textAreaBottom"/>
              <a:pathLst>
                <a:path w="1057" h="880">
                  <a:moveTo>
                    <a:pt x="762" y="0"/>
                  </a:moveTo>
                  <a:lnTo>
                    <a:pt x="0" y="0"/>
                  </a:lnTo>
                  <a:lnTo>
                    <a:pt x="286" y="438"/>
                  </a:lnTo>
                  <a:lnTo>
                    <a:pt x="0" y="880"/>
                  </a:lnTo>
                  <a:lnTo>
                    <a:pt x="771" y="880"/>
                  </a:lnTo>
                  <a:lnTo>
                    <a:pt x="1057" y="436"/>
                  </a:lnTo>
                  <a:lnTo>
                    <a:pt x="762" y="0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9"/>
            <p:cNvSpPr/>
            <p:nvPr/>
          </p:nvSpPr>
          <p:spPr>
            <a:xfrm>
              <a:off x="2208240" y="1981080"/>
              <a:ext cx="1677960" cy="1397160"/>
            </a:xfrm>
            <a:custGeom>
              <a:avLst/>
              <a:gdLst>
                <a:gd name="textAreaLeft" fmla="*/ 0 w 1677960"/>
                <a:gd name="textAreaRight" fmla="*/ 1678320 w 1677960"/>
                <a:gd name="textAreaTop" fmla="*/ 0 h 1397160"/>
                <a:gd name="textAreaBottom" fmla="*/ 1397520 h 1397160"/>
              </a:gdLst>
              <a:ahLst/>
              <a:rect l="textAreaLeft" t="textAreaTop" r="textAreaRight" b="textAreaBottom"/>
              <a:pathLst>
                <a:path w="1057" h="880">
                  <a:moveTo>
                    <a:pt x="762" y="0"/>
                  </a:moveTo>
                  <a:lnTo>
                    <a:pt x="0" y="0"/>
                  </a:lnTo>
                  <a:lnTo>
                    <a:pt x="286" y="438"/>
                  </a:lnTo>
                  <a:lnTo>
                    <a:pt x="0" y="880"/>
                  </a:lnTo>
                  <a:lnTo>
                    <a:pt x="771" y="880"/>
                  </a:lnTo>
                  <a:lnTo>
                    <a:pt x="1057" y="436"/>
                  </a:lnTo>
                  <a:lnTo>
                    <a:pt x="762" y="0"/>
                  </a:lnTo>
                </a:path>
              </a:pathLst>
            </a:custGeom>
            <a:solidFill>
              <a:srgbClr val="376092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0" name="Rectangle 10"/>
          <p:cNvSpPr/>
          <p:nvPr/>
        </p:nvSpPr>
        <p:spPr>
          <a:xfrm>
            <a:off x="690480" y="2374920"/>
            <a:ext cx="13971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11"/>
          <p:cNvSpPr/>
          <p:nvPr/>
        </p:nvSpPr>
        <p:spPr>
          <a:xfrm>
            <a:off x="988920" y="2438280"/>
            <a:ext cx="855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uccession Plan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12"/>
          <p:cNvSpPr/>
          <p:nvPr/>
        </p:nvSpPr>
        <p:spPr>
          <a:xfrm>
            <a:off x="2611440" y="2355840"/>
            <a:ext cx="10796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13"/>
          <p:cNvSpPr/>
          <p:nvPr/>
        </p:nvSpPr>
        <p:spPr>
          <a:xfrm>
            <a:off x="2712960" y="2409840"/>
            <a:ext cx="978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Identify Candid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14"/>
          <p:cNvSpPr/>
          <p:nvPr/>
        </p:nvSpPr>
        <p:spPr>
          <a:xfrm>
            <a:off x="6075360" y="2514600"/>
            <a:ext cx="331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il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15"/>
          <p:cNvSpPr/>
          <p:nvPr/>
        </p:nvSpPr>
        <p:spPr>
          <a:xfrm>
            <a:off x="1079640" y="3387600"/>
            <a:ext cx="17478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16"/>
          <p:cNvSpPr/>
          <p:nvPr/>
        </p:nvSpPr>
        <p:spPr>
          <a:xfrm>
            <a:off x="684360" y="3429000"/>
            <a:ext cx="1371600" cy="12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15920" indent="-11592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3 develops succession p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 leadership rol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 skills for success and create skills matri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pected future opportunit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17"/>
          <p:cNvSpPr/>
          <p:nvPr/>
        </p:nvSpPr>
        <p:spPr>
          <a:xfrm>
            <a:off x="2800440" y="3373560"/>
            <a:ext cx="16477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18"/>
          <p:cNvSpPr/>
          <p:nvPr/>
        </p:nvSpPr>
        <p:spPr>
          <a:xfrm>
            <a:off x="2284560" y="3429000"/>
            <a:ext cx="1143000" cy="9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15920" indent="-11592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tilize Cycle of Use outcomes to identify key L1 and L2 candid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19"/>
          <p:cNvSpPr/>
          <p:nvPr/>
        </p:nvSpPr>
        <p:spPr>
          <a:xfrm>
            <a:off x="6019920" y="3373560"/>
            <a:ext cx="21906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20"/>
          <p:cNvSpPr/>
          <p:nvPr/>
        </p:nvSpPr>
        <p:spPr>
          <a:xfrm>
            <a:off x="5180040" y="3429000"/>
            <a:ext cx="1371600" cy="10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15920" indent="-11592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move pilot candidates from existing role and begin rot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ssign L3 men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view progress each trimes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1" name="Group 23"/>
          <p:cNvGrpSpPr/>
          <p:nvPr/>
        </p:nvGrpSpPr>
        <p:grpSpPr>
          <a:xfrm>
            <a:off x="3732120" y="1981080"/>
            <a:ext cx="1677960" cy="1397160"/>
            <a:chOff x="3732120" y="1981080"/>
            <a:chExt cx="1677960" cy="1397160"/>
          </a:xfrm>
        </p:grpSpPr>
        <p:sp>
          <p:nvSpPr>
            <p:cNvPr id="292" name="Freeform 22"/>
            <p:cNvSpPr/>
            <p:nvPr/>
          </p:nvSpPr>
          <p:spPr>
            <a:xfrm>
              <a:off x="3732120" y="1981080"/>
              <a:ext cx="1677960" cy="1397160"/>
            </a:xfrm>
            <a:custGeom>
              <a:avLst/>
              <a:gdLst>
                <a:gd name="textAreaLeft" fmla="*/ 0 w 1677960"/>
                <a:gd name="textAreaRight" fmla="*/ 1678320 w 1677960"/>
                <a:gd name="textAreaTop" fmla="*/ 0 h 1397160"/>
                <a:gd name="textAreaBottom" fmla="*/ 1397520 h 1397160"/>
              </a:gdLst>
              <a:ahLst/>
              <a:rect l="textAreaLeft" t="textAreaTop" r="textAreaRight" b="textAreaBottom"/>
              <a:pathLst>
                <a:path w="1057" h="880">
                  <a:moveTo>
                    <a:pt x="762" y="0"/>
                  </a:moveTo>
                  <a:lnTo>
                    <a:pt x="0" y="0"/>
                  </a:lnTo>
                  <a:lnTo>
                    <a:pt x="286" y="438"/>
                  </a:lnTo>
                  <a:lnTo>
                    <a:pt x="0" y="880"/>
                  </a:lnTo>
                  <a:lnTo>
                    <a:pt x="771" y="880"/>
                  </a:lnTo>
                  <a:lnTo>
                    <a:pt x="1057" y="436"/>
                  </a:lnTo>
                  <a:lnTo>
                    <a:pt x="762" y="0"/>
                  </a:lnTo>
                  <a:close/>
                </a:path>
              </a:pathLst>
            </a:custGeom>
            <a:solidFill>
              <a:srgbClr val="e7e2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23"/>
            <p:cNvSpPr/>
            <p:nvPr/>
          </p:nvSpPr>
          <p:spPr>
            <a:xfrm>
              <a:off x="3732120" y="1981080"/>
              <a:ext cx="1677960" cy="1397160"/>
            </a:xfrm>
            <a:custGeom>
              <a:avLst/>
              <a:gdLst>
                <a:gd name="textAreaLeft" fmla="*/ 0 w 1677960"/>
                <a:gd name="textAreaRight" fmla="*/ 1678320 w 1677960"/>
                <a:gd name="textAreaTop" fmla="*/ 0 h 1397160"/>
                <a:gd name="textAreaBottom" fmla="*/ 1397520 h 1397160"/>
              </a:gdLst>
              <a:ahLst/>
              <a:rect l="textAreaLeft" t="textAreaTop" r="textAreaRight" b="textAreaBottom"/>
              <a:pathLst>
                <a:path w="1057" h="880">
                  <a:moveTo>
                    <a:pt x="762" y="0"/>
                  </a:moveTo>
                  <a:lnTo>
                    <a:pt x="0" y="0"/>
                  </a:lnTo>
                  <a:lnTo>
                    <a:pt x="286" y="438"/>
                  </a:lnTo>
                  <a:lnTo>
                    <a:pt x="0" y="880"/>
                  </a:lnTo>
                  <a:lnTo>
                    <a:pt x="771" y="880"/>
                  </a:lnTo>
                  <a:lnTo>
                    <a:pt x="1057" y="436"/>
                  </a:lnTo>
                  <a:lnTo>
                    <a:pt x="762" y="0"/>
                  </a:lnTo>
                </a:path>
              </a:pathLst>
            </a:custGeom>
            <a:solidFill>
              <a:srgbClr val="002d4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Rectangle 24"/>
          <p:cNvSpPr/>
          <p:nvPr/>
        </p:nvSpPr>
        <p:spPr>
          <a:xfrm>
            <a:off x="4295880" y="2433600"/>
            <a:ext cx="9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ssess Capabi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5" name="Group 27"/>
          <p:cNvGrpSpPr/>
          <p:nvPr/>
        </p:nvGrpSpPr>
        <p:grpSpPr>
          <a:xfrm>
            <a:off x="6780240" y="1981080"/>
            <a:ext cx="1677960" cy="1397160"/>
            <a:chOff x="6780240" y="1981080"/>
            <a:chExt cx="1677960" cy="1397160"/>
          </a:xfrm>
        </p:grpSpPr>
        <p:sp>
          <p:nvSpPr>
            <p:cNvPr id="296" name="Freeform 26"/>
            <p:cNvSpPr/>
            <p:nvPr/>
          </p:nvSpPr>
          <p:spPr>
            <a:xfrm>
              <a:off x="6780240" y="1981080"/>
              <a:ext cx="1677960" cy="1397160"/>
            </a:xfrm>
            <a:custGeom>
              <a:avLst/>
              <a:gdLst>
                <a:gd name="textAreaLeft" fmla="*/ 0 w 1677960"/>
                <a:gd name="textAreaRight" fmla="*/ 1678320 w 1677960"/>
                <a:gd name="textAreaTop" fmla="*/ 0 h 1397160"/>
                <a:gd name="textAreaBottom" fmla="*/ 1397520 h 1397160"/>
              </a:gdLst>
              <a:ahLst/>
              <a:rect l="textAreaLeft" t="textAreaTop" r="textAreaRight" b="textAreaBottom"/>
              <a:pathLst>
                <a:path w="1057" h="880">
                  <a:moveTo>
                    <a:pt x="762" y="0"/>
                  </a:moveTo>
                  <a:lnTo>
                    <a:pt x="0" y="0"/>
                  </a:lnTo>
                  <a:lnTo>
                    <a:pt x="286" y="438"/>
                  </a:lnTo>
                  <a:lnTo>
                    <a:pt x="0" y="880"/>
                  </a:lnTo>
                  <a:lnTo>
                    <a:pt x="771" y="880"/>
                  </a:lnTo>
                  <a:lnTo>
                    <a:pt x="1057" y="436"/>
                  </a:lnTo>
                  <a:lnTo>
                    <a:pt x="762" y="0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27"/>
            <p:cNvSpPr/>
            <p:nvPr/>
          </p:nvSpPr>
          <p:spPr>
            <a:xfrm>
              <a:off x="6780240" y="1981080"/>
              <a:ext cx="1677960" cy="1397160"/>
            </a:xfrm>
            <a:custGeom>
              <a:avLst/>
              <a:gdLst>
                <a:gd name="textAreaLeft" fmla="*/ 0 w 1677960"/>
                <a:gd name="textAreaRight" fmla="*/ 1678320 w 1677960"/>
                <a:gd name="textAreaTop" fmla="*/ 0 h 1397160"/>
                <a:gd name="textAreaBottom" fmla="*/ 1397520 h 1397160"/>
              </a:gdLst>
              <a:ahLst/>
              <a:rect l="textAreaLeft" t="textAreaTop" r="textAreaRight" b="textAreaBottom"/>
              <a:pathLst>
                <a:path w="1057" h="880">
                  <a:moveTo>
                    <a:pt x="762" y="0"/>
                  </a:moveTo>
                  <a:lnTo>
                    <a:pt x="0" y="0"/>
                  </a:lnTo>
                  <a:lnTo>
                    <a:pt x="286" y="438"/>
                  </a:lnTo>
                  <a:lnTo>
                    <a:pt x="0" y="880"/>
                  </a:lnTo>
                  <a:lnTo>
                    <a:pt x="771" y="880"/>
                  </a:lnTo>
                  <a:lnTo>
                    <a:pt x="1057" y="436"/>
                  </a:lnTo>
                  <a:lnTo>
                    <a:pt x="762" y="0"/>
                  </a:lnTo>
                </a:path>
              </a:pathLst>
            </a:custGeom>
            <a:solidFill>
              <a:srgbClr val="cf7622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8" name="Rectangle 28"/>
          <p:cNvSpPr/>
          <p:nvPr/>
        </p:nvSpPr>
        <p:spPr>
          <a:xfrm>
            <a:off x="7389720" y="2438280"/>
            <a:ext cx="835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Ongoing Ro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29"/>
          <p:cNvSpPr/>
          <p:nvPr/>
        </p:nvSpPr>
        <p:spPr>
          <a:xfrm>
            <a:off x="3732120" y="3429000"/>
            <a:ext cx="1143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15920" indent="-11592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ssess Candidates relative to skills matri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30"/>
          <p:cNvSpPr/>
          <p:nvPr/>
        </p:nvSpPr>
        <p:spPr>
          <a:xfrm>
            <a:off x="6780240" y="350532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15920" indent="-11592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egin rotation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31"/>
          <p:cNvSpPr/>
          <p:nvPr/>
        </p:nvSpPr>
        <p:spPr>
          <a:xfrm>
            <a:off x="608040" y="1143000"/>
            <a:ext cx="7696080" cy="533520"/>
          </a:xfrm>
          <a:prstGeom prst="rect">
            <a:avLst/>
          </a:prstGeom>
          <a:solidFill>
            <a:srgbClr val="002d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vel 3 Leadership and Mento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32"/>
          <p:cNvSpPr/>
          <p:nvPr/>
        </p:nvSpPr>
        <p:spPr>
          <a:xfrm>
            <a:off x="531720" y="5143680"/>
            <a:ext cx="7848720" cy="761760"/>
          </a:xfrm>
          <a:prstGeom prst="rect">
            <a:avLst/>
          </a:prstGeom>
          <a:solidFill>
            <a:srgbClr val="002d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uman Resources Overs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AutoShape 33"/>
          <p:cNvSpPr/>
          <p:nvPr/>
        </p:nvSpPr>
        <p:spPr>
          <a:xfrm>
            <a:off x="1065240" y="4800600"/>
            <a:ext cx="609480" cy="3430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cf76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AutoShape 34"/>
          <p:cNvSpPr/>
          <p:nvPr/>
        </p:nvSpPr>
        <p:spPr>
          <a:xfrm>
            <a:off x="2589120" y="4800600"/>
            <a:ext cx="609840" cy="3430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cf76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AutoShape 35"/>
          <p:cNvSpPr/>
          <p:nvPr/>
        </p:nvSpPr>
        <p:spPr>
          <a:xfrm>
            <a:off x="4113360" y="4800600"/>
            <a:ext cx="609480" cy="3430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cf76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AutoShape 36"/>
          <p:cNvSpPr/>
          <p:nvPr/>
        </p:nvSpPr>
        <p:spPr>
          <a:xfrm>
            <a:off x="5637240" y="4800600"/>
            <a:ext cx="609480" cy="3430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cf76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AutoShape 37"/>
          <p:cNvSpPr/>
          <p:nvPr/>
        </p:nvSpPr>
        <p:spPr>
          <a:xfrm>
            <a:off x="7161120" y="4800600"/>
            <a:ext cx="609840" cy="3430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cf76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Footer Placeholder 2"/>
          <p:cNvSpPr/>
          <p:nvPr/>
        </p:nvSpPr>
        <p:spPr>
          <a:xfrm>
            <a:off x="1676520" y="6492960"/>
            <a:ext cx="6019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© 2009 Guidon Performance Solutions, LLC.  All rights reserved. Guidon Performance Solutions is a licensee of LeanSigma®, a service mark of TBM Consulting Group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lide Number Placeholder 3"/>
          <p:cNvSpPr/>
          <p:nvPr/>
        </p:nvSpPr>
        <p:spPr>
          <a:xfrm>
            <a:off x="7772400" y="617220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172A4EE-4B8F-44A5-AAE4-AC3A1B54E7A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Picture 2" descr=""/>
          <p:cNvPicPr/>
          <p:nvPr/>
        </p:nvPicPr>
        <p:blipFill>
          <a:blip r:embed="rId1"/>
          <a:stretch/>
        </p:blipFill>
        <p:spPr>
          <a:xfrm>
            <a:off x="457200" y="1066680"/>
            <a:ext cx="8001000" cy="4038840"/>
          </a:xfrm>
          <a:prstGeom prst="rect">
            <a:avLst/>
          </a:prstGeom>
          <a:ln w="0">
            <a:noFill/>
          </a:ln>
        </p:spPr>
      </p:pic>
      <p:sp>
        <p:nvSpPr>
          <p:cNvPr id="311" name="Rectangle 3"/>
          <p:cNvSpPr/>
          <p:nvPr/>
        </p:nvSpPr>
        <p:spPr>
          <a:xfrm>
            <a:off x="12600" y="1727280"/>
            <a:ext cx="203400" cy="392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002d46"/>
                </a:solidFill>
                <a:latin typeface="Arial (Headings)"/>
                <a:ea typeface="宋体"/>
              </a:rPr>
              <a:t>Leadership Development Skills Matrix – Example</a:t>
            </a:r>
            <a:endParaRPr b="1" lang="en-US" sz="2600" spc="-1" strike="noStrike">
              <a:solidFill>
                <a:srgbClr val="002d46"/>
              </a:solidFill>
              <a:latin typeface="Arial (Headings)"/>
            </a:endParaRPr>
          </a:p>
        </p:txBody>
      </p:sp>
      <p:sp>
        <p:nvSpPr>
          <p:cNvPr id="313" name="Text Box 5"/>
          <p:cNvSpPr/>
          <p:nvPr/>
        </p:nvSpPr>
        <p:spPr>
          <a:xfrm>
            <a:off x="609480" y="5257800"/>
            <a:ext cx="7848720" cy="609480"/>
          </a:xfrm>
          <a:prstGeom prst="roundRect">
            <a:avLst>
              <a:gd name="adj" fmla="val 16667"/>
            </a:avLst>
          </a:prstGeom>
          <a:solidFill>
            <a:srgbClr val="cf7622"/>
          </a:solidFill>
          <a:ln w="25560">
            <a:solidFill>
              <a:srgbClr val="cf762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ased on required skills for succession pos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Footer Placeholder 2"/>
          <p:cNvSpPr/>
          <p:nvPr/>
        </p:nvSpPr>
        <p:spPr>
          <a:xfrm>
            <a:off x="1676520" y="6492960"/>
            <a:ext cx="6019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© 2009 Guidon Performance Solutions, LLC.  All rights reserved. Guidon Performance Solutions is a licensee of LeanSigma®, a service mark of TBM Consulting Group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Slide Number Placeholder 3"/>
          <p:cNvSpPr/>
          <p:nvPr/>
        </p:nvSpPr>
        <p:spPr>
          <a:xfrm>
            <a:off x="7772400" y="617220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9235B2E-D13B-4DC3-B999-00C2DCA37AA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2"/>
          <p:cNvSpPr/>
          <p:nvPr/>
        </p:nvSpPr>
        <p:spPr>
          <a:xfrm>
            <a:off x="3492360" y="2965320"/>
            <a:ext cx="184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3"/>
          <p:cNvSpPr/>
          <p:nvPr/>
        </p:nvSpPr>
        <p:spPr>
          <a:xfrm>
            <a:off x="4038480" y="2793960"/>
            <a:ext cx="53341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2d46"/>
                </a:solidFill>
                <a:latin typeface="Arial"/>
              </a:rPr>
              <a:t>High Performance Cultu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2d46"/>
                </a:solidFill>
                <a:latin typeface="Arial"/>
              </a:rPr>
              <a:t>Case Stud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Picture 5" descr="meeting_manandwoman.jpg"/>
          <p:cNvPicPr/>
          <p:nvPr/>
        </p:nvPicPr>
        <p:blipFill>
          <a:blip r:embed="rId1"/>
          <a:stretch/>
        </p:blipFill>
        <p:spPr>
          <a:xfrm>
            <a:off x="457200" y="689040"/>
            <a:ext cx="3444840" cy="517824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808080">
                <a:alpha val="41000"/>
              </a:srgbClr>
            </a:outerShdw>
          </a:effectLst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2d46"/>
                </a:solidFill>
                <a:latin typeface="Arial (Headings)"/>
                <a:ea typeface="宋体"/>
              </a:rPr>
              <a:t>Client Case Study: Financial Services</a:t>
            </a:r>
            <a:endParaRPr b="1" lang="en-US" sz="3200" spc="-1" strike="noStrike">
              <a:solidFill>
                <a:srgbClr val="002d46"/>
              </a:solidFill>
              <a:latin typeface="Arial (Headings)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456840" y="990360"/>
            <a:ext cx="52578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mployees: 20,00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lobal Footprint: 50 Countr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ine of Business: Treasury and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urities Servi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gacy: Growth by M &amp; 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tuation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 35 systems platfor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se confederation of state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management tied only to financ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ly complex and non-standardized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Footer Placeholder 3"/>
          <p:cNvSpPr/>
          <p:nvPr/>
        </p:nvSpPr>
        <p:spPr>
          <a:xfrm>
            <a:off x="1676520" y="6492960"/>
            <a:ext cx="6019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© 2009 Guidon Performance Solutions, LLC.  All rights reserved. Guidon Performance Solutions is a licensee of LeanSigma®, a service mark of TBM Consulting Group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Slide Number Placeholder 4"/>
          <p:cNvSpPr/>
          <p:nvPr/>
        </p:nvSpPr>
        <p:spPr>
          <a:xfrm>
            <a:off x="7772400" y="617220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5829D7-9FC6-4399-9938-89FC7F2555C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Picture 4" descr="Currency2"/>
          <p:cNvPicPr/>
          <p:nvPr/>
        </p:nvPicPr>
        <p:blipFill>
          <a:blip r:embed="rId1"/>
          <a:stretch/>
        </p:blipFill>
        <p:spPr>
          <a:xfrm>
            <a:off x="6043680" y="1914480"/>
            <a:ext cx="2490840" cy="31147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808080">
                <a:alpha val="41000"/>
              </a:srgbClr>
            </a:outerShdw>
          </a:effectLst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Footer Placeholder 2"/>
          <p:cNvSpPr/>
          <p:nvPr/>
        </p:nvSpPr>
        <p:spPr>
          <a:xfrm>
            <a:off x="1676520" y="6492960"/>
            <a:ext cx="6019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© 2009 Guidon Performance Solutions, LLC.  All rights reserved. Guidon Performance Solutions is a licensee of LeanSigma®, a service mark of TBM Consulting Group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Slide Number Placeholder 3"/>
          <p:cNvSpPr/>
          <p:nvPr/>
        </p:nvSpPr>
        <p:spPr>
          <a:xfrm>
            <a:off x="7772400" y="617220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15C3C3-CB2A-4DA9-81C0-E7762E6362E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2d46"/>
                </a:solidFill>
                <a:latin typeface="Arial (Headings)"/>
                <a:ea typeface="宋体"/>
              </a:rPr>
              <a:t>The Journey</a:t>
            </a:r>
            <a:endParaRPr b="1" lang="en-US" sz="3200" spc="-1" strike="noStrike">
              <a:solidFill>
                <a:srgbClr val="002d46"/>
              </a:solidFill>
              <a:latin typeface="Arial (Headings)"/>
            </a:endParaRPr>
          </a:p>
        </p:txBody>
      </p:sp>
      <p:pic>
        <p:nvPicPr>
          <p:cNvPr id="327" name="Picture 4" descr=""/>
          <p:cNvPicPr/>
          <p:nvPr/>
        </p:nvPicPr>
        <p:blipFill>
          <a:blip r:embed="rId1"/>
          <a:srcRect l="0" t="12417" r="0" b="0"/>
          <a:stretch/>
        </p:blipFill>
        <p:spPr>
          <a:xfrm>
            <a:off x="990720" y="1685880"/>
            <a:ext cx="7162560" cy="4300560"/>
          </a:xfrm>
          <a:prstGeom prst="rect">
            <a:avLst/>
          </a:prstGeom>
          <a:ln w="0">
            <a:noFill/>
          </a:ln>
        </p:spPr>
      </p:pic>
      <p:sp>
        <p:nvSpPr>
          <p:cNvPr id="328" name="Rounded Rectangle 6"/>
          <p:cNvSpPr/>
          <p:nvPr/>
        </p:nvSpPr>
        <p:spPr>
          <a:xfrm>
            <a:off x="914400" y="1066680"/>
            <a:ext cx="1447920" cy="609840"/>
          </a:xfrm>
          <a:prstGeom prst="roundRect">
            <a:avLst>
              <a:gd name="adj" fmla="val 16667"/>
            </a:avLst>
          </a:prstGeom>
          <a:solidFill>
            <a:srgbClr val="002d46"/>
          </a:solidFill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Box 7"/>
          <p:cNvSpPr/>
          <p:nvPr/>
        </p:nvSpPr>
        <p:spPr>
          <a:xfrm>
            <a:off x="838080" y="1076400"/>
            <a:ext cx="1524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e Journey Beg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ounded Rectangle 8"/>
          <p:cNvSpPr/>
          <p:nvPr/>
        </p:nvSpPr>
        <p:spPr>
          <a:xfrm>
            <a:off x="2438280" y="1066680"/>
            <a:ext cx="1371600" cy="609840"/>
          </a:xfrm>
          <a:prstGeom prst="roundRect">
            <a:avLst>
              <a:gd name="adj" fmla="val 16667"/>
            </a:avLst>
          </a:prstGeom>
          <a:solidFill>
            <a:srgbClr val="002d46"/>
          </a:solidFill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Box 9"/>
          <p:cNvSpPr/>
          <p:nvPr/>
        </p:nvSpPr>
        <p:spPr>
          <a:xfrm>
            <a:off x="2362320" y="122724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ear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ounded Rectangle 12"/>
          <p:cNvSpPr/>
          <p:nvPr/>
        </p:nvSpPr>
        <p:spPr>
          <a:xfrm>
            <a:off x="3886200" y="1076400"/>
            <a:ext cx="1371600" cy="609480"/>
          </a:xfrm>
          <a:prstGeom prst="roundRect">
            <a:avLst>
              <a:gd name="adj" fmla="val 16667"/>
            </a:avLst>
          </a:prstGeom>
          <a:solidFill>
            <a:srgbClr val="002d46"/>
          </a:solidFill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Box 13"/>
          <p:cNvSpPr/>
          <p:nvPr/>
        </p:nvSpPr>
        <p:spPr>
          <a:xfrm>
            <a:off x="3809880" y="1236600"/>
            <a:ext cx="15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uild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ounded Rectangle 14"/>
          <p:cNvSpPr/>
          <p:nvPr/>
        </p:nvSpPr>
        <p:spPr>
          <a:xfrm>
            <a:off x="5334120" y="1076400"/>
            <a:ext cx="1371600" cy="609480"/>
          </a:xfrm>
          <a:prstGeom prst="roundRect">
            <a:avLst>
              <a:gd name="adj" fmla="val 16667"/>
            </a:avLst>
          </a:prstGeom>
          <a:solidFill>
            <a:srgbClr val="002d46"/>
          </a:solidFill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Box 15"/>
          <p:cNvSpPr/>
          <p:nvPr/>
        </p:nvSpPr>
        <p:spPr>
          <a:xfrm>
            <a:off x="5257800" y="123660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ustai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ounded Rectangle 16"/>
          <p:cNvSpPr/>
          <p:nvPr/>
        </p:nvSpPr>
        <p:spPr>
          <a:xfrm>
            <a:off x="6781680" y="1076400"/>
            <a:ext cx="1371600" cy="609480"/>
          </a:xfrm>
          <a:prstGeom prst="roundRect">
            <a:avLst>
              <a:gd name="adj" fmla="val 16667"/>
            </a:avLst>
          </a:prstGeom>
          <a:solidFill>
            <a:srgbClr val="002d46"/>
          </a:solidFill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Box 17"/>
          <p:cNvSpPr/>
          <p:nvPr/>
        </p:nvSpPr>
        <p:spPr>
          <a:xfrm>
            <a:off x="6705720" y="123660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dvanc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2d46"/>
                </a:solidFill>
                <a:latin typeface="Arial (Headings)"/>
                <a:ea typeface="宋体"/>
              </a:rPr>
              <a:t>Before Cultural Transformation</a:t>
            </a:r>
            <a:endParaRPr b="1" lang="en-US" sz="3200" spc="-1" strike="noStrike">
              <a:solidFill>
                <a:srgbClr val="002d46"/>
              </a:solidFill>
              <a:latin typeface="Arial (Headings)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ognize the need for cultural ch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ose confederation of “state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ographic / functional differ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onsistent service delivery / High Performance concep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essed the Performance Culture across organ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servation / interviews – all levels &amp; geograph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cial and operating parameters evalu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Footer Placeholder 2"/>
          <p:cNvSpPr/>
          <p:nvPr/>
        </p:nvSpPr>
        <p:spPr>
          <a:xfrm>
            <a:off x="1676520" y="6492960"/>
            <a:ext cx="6019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© 2009 Guidon Performance Solutions, LLC.  All rights reserved. Guidon Performance Solutions is a licensee of LeanSigma®, a service mark of TBM Consulting Group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Slide Number Placeholder 3"/>
          <p:cNvSpPr/>
          <p:nvPr/>
        </p:nvSpPr>
        <p:spPr>
          <a:xfrm>
            <a:off x="7772400" y="617220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FB43C6E-80A7-4F3D-AD0E-CCA5F00E9A1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4"/>
          <p:cNvSpPr/>
          <p:nvPr/>
        </p:nvSpPr>
        <p:spPr>
          <a:xfrm>
            <a:off x="914400" y="5029200"/>
            <a:ext cx="7405560" cy="650880"/>
          </a:xfrm>
          <a:prstGeom prst="roundRect">
            <a:avLst>
              <a:gd name="adj" fmla="val 16667"/>
            </a:avLst>
          </a:prstGeom>
          <a:solidFill>
            <a:srgbClr val="cf7622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 levels participated in survey to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help us better understand our opportuniti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2d46"/>
                </a:solidFill>
                <a:latin typeface="Arial (Headings)"/>
                <a:ea typeface="宋体"/>
              </a:rPr>
              <a:t>General Assessment Outcomes</a:t>
            </a:r>
            <a:endParaRPr b="1" lang="en-US" sz="3200" spc="-1" strike="noStrike">
              <a:solidFill>
                <a:srgbClr val="002d46"/>
              </a:solidFill>
              <a:latin typeface="Arial (Headings)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bust performance repor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stomer service ori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inuous improvement orga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ization team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gnizing and rewarding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Footer Placeholder 3"/>
          <p:cNvSpPr/>
          <p:nvPr/>
        </p:nvSpPr>
        <p:spPr>
          <a:xfrm>
            <a:off x="1676520" y="6492960"/>
            <a:ext cx="6019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© 2009 Guidon Performance Solutions, LLC.  All rights reserved. Guidon Performance Solutions is a licensee of LeanSigma®, a service mark of TBM Consulting Group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Slide Number Placeholder 4"/>
          <p:cNvSpPr/>
          <p:nvPr/>
        </p:nvSpPr>
        <p:spPr>
          <a:xfrm>
            <a:off x="7772400" y="617220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8172CD-78C0-4282-A13C-1DA99338B07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4"/>
          <p:cNvSpPr/>
          <p:nvPr/>
        </p:nvSpPr>
        <p:spPr>
          <a:xfrm>
            <a:off x="762120" y="4267080"/>
            <a:ext cx="7543800" cy="609840"/>
          </a:xfrm>
          <a:prstGeom prst="roundRect">
            <a:avLst>
              <a:gd name="adj" fmla="val 16667"/>
            </a:avLst>
          </a:prstGeom>
          <a:solidFill>
            <a:srgbClr val="cf7622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Strengths from surv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8"/>
          <p:cNvSpPr/>
          <p:nvPr/>
        </p:nvSpPr>
        <p:spPr>
          <a:xfrm>
            <a:off x="1523880" y="5987880"/>
            <a:ext cx="453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模版免费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900" spc="-1" strike="noStrike">
                <a:solidFill>
                  <a:srgbClr val="002d46"/>
                </a:solidFill>
                <a:latin typeface="Arial (Headings)"/>
                <a:ea typeface="宋体"/>
              </a:rPr>
              <a:t>Some Social / Cultural Assessment Outcomes</a:t>
            </a:r>
            <a:endParaRPr b="1" lang="en-US" sz="2900" spc="-1" strike="noStrike">
              <a:solidFill>
                <a:srgbClr val="002d46"/>
              </a:solidFill>
              <a:latin typeface="Arial (Headings)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457200" y="98712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ong, but inconsistent, messages across the orga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emphasis on valuing employees / sustaining a positive work 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amwork is not a cultural str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ong theme of cynicism at larger si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istent definition of values; inconsistent definition of tools/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Footer Placeholder 3"/>
          <p:cNvSpPr/>
          <p:nvPr/>
        </p:nvSpPr>
        <p:spPr>
          <a:xfrm>
            <a:off x="1676520" y="6492960"/>
            <a:ext cx="6019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© 2009 Guidon Performance Solutions, LLC.  All rights reserved. Guidon Performance Solutions is a licensee of LeanSigma®, a service mark of TBM Consulting Group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Slide Number Placeholder 4"/>
          <p:cNvSpPr/>
          <p:nvPr/>
        </p:nvSpPr>
        <p:spPr>
          <a:xfrm>
            <a:off x="7772400" y="617220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1E0AE2-54D1-450E-A7E8-9BC18063C44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4"/>
          <p:cNvSpPr/>
          <p:nvPr/>
        </p:nvSpPr>
        <p:spPr>
          <a:xfrm>
            <a:off x="914400" y="4911840"/>
            <a:ext cx="7272360" cy="650880"/>
          </a:xfrm>
          <a:prstGeom prst="roundRect">
            <a:avLst>
              <a:gd name="adj" fmla="val 16667"/>
            </a:avLst>
          </a:prstGeom>
          <a:solidFill>
            <a:srgbClr val="cf7622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 negative work environment results in cynic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ehavior and a lack of company pri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2d46"/>
                </a:solidFill>
                <a:latin typeface="Arial (Headings)"/>
                <a:ea typeface="宋体"/>
              </a:rPr>
              <a:t>Some Operating Assessment Outcomes</a:t>
            </a:r>
            <a:endParaRPr b="1" lang="en-US" sz="3200" spc="-1" strike="noStrike">
              <a:solidFill>
                <a:srgbClr val="002d46"/>
              </a:solidFill>
              <a:latin typeface="Arial (Headings)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or alignment of goals perceived as performance barr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isting reviews skewed toward financial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gnize front line resources not tapped to drive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ck of accountability, follow-through driver of poor deliv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entive compensation not linked to individual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Footer Placeholder 3"/>
          <p:cNvSpPr/>
          <p:nvPr/>
        </p:nvSpPr>
        <p:spPr>
          <a:xfrm>
            <a:off x="1676520" y="6492960"/>
            <a:ext cx="6019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© 2009 Guidon Performance Solutions, LLC.  All rights reserved. Guidon Performance Solutions is a licensee of LeanSigma®, a service mark of TBM Consulting Group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Slide Number Placeholder 4"/>
          <p:cNvSpPr/>
          <p:nvPr/>
        </p:nvSpPr>
        <p:spPr>
          <a:xfrm>
            <a:off x="7772400" y="617220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CCC7BE-673E-462B-A536-81F9CA68B4F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2"/>
          <p:cNvSpPr/>
          <p:nvPr/>
        </p:nvSpPr>
        <p:spPr>
          <a:xfrm>
            <a:off x="380880" y="4944960"/>
            <a:ext cx="8372520" cy="770040"/>
          </a:xfrm>
          <a:prstGeom prst="roundRect">
            <a:avLst>
              <a:gd name="adj" fmla="val 16667"/>
            </a:avLst>
          </a:prstGeom>
          <a:solidFill>
            <a:srgbClr val="cf7622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Operational opportunities at the beginning of our journ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2d46"/>
                </a:solidFill>
                <a:latin typeface="Arial (Headings)"/>
                <a:ea typeface="宋体"/>
              </a:rPr>
              <a:t>With You Today</a:t>
            </a:r>
            <a:endParaRPr b="1" lang="en-US" sz="3200" spc="-1" strike="noStrike">
              <a:solidFill>
                <a:srgbClr val="002d46"/>
              </a:solidFill>
              <a:latin typeface="Arial (Headings)"/>
            </a:endParaRPr>
          </a:p>
        </p:txBody>
      </p:sp>
      <p:sp>
        <p:nvSpPr>
          <p:cNvPr id="134" name="Footer Placeholder 3"/>
          <p:cNvSpPr/>
          <p:nvPr/>
        </p:nvSpPr>
        <p:spPr>
          <a:xfrm>
            <a:off x="1676520" y="6492960"/>
            <a:ext cx="6019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© 2009 Guidon Performance Solutions, LLC.  All rights reserved. Guidon Performance Solutions is a licensee of LeanSigma®, a service mark of TBM Consulting Group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lide Number Placeholder 4"/>
          <p:cNvSpPr/>
          <p:nvPr/>
        </p:nvSpPr>
        <p:spPr>
          <a:xfrm>
            <a:off x="7772400" y="617220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B37EA13-32DD-4BD9-9A06-9524782F1A7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2971800" y="1066680"/>
            <a:ext cx="6019920" cy="24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rent James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Vice-President, Guidon Performance Solutions, LL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ver 15 years experience in application of Lean and Six Sigm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tensive experience migrating Kaizen and Lean thinking from manufacturing to front and back office oper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experience in retail, healthcare, financial services, information technology, and telecommunic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7" descr="JimDickey2072_lowres.jpg"/>
          <p:cNvPicPr/>
          <p:nvPr/>
        </p:nvPicPr>
        <p:blipFill>
          <a:blip r:embed="rId1"/>
          <a:stretch/>
        </p:blipFill>
        <p:spPr>
          <a:xfrm>
            <a:off x="762120" y="3429000"/>
            <a:ext cx="1828800" cy="2743200"/>
          </a:xfrm>
          <a:prstGeom prst="rect">
            <a:avLst/>
          </a:prstGeom>
          <a:ln w="0">
            <a:noFill/>
          </a:ln>
        </p:spPr>
      </p:pic>
      <p:sp>
        <p:nvSpPr>
          <p:cNvPr id="138" name="Content Placeholder 15"/>
          <p:cNvSpPr/>
          <p:nvPr/>
        </p:nvSpPr>
        <p:spPr>
          <a:xfrm>
            <a:off x="2971800" y="3809880"/>
            <a:ext cx="5715000" cy="24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Jim Dicke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Vice-President, Guidon Performance Solutions, LL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ver 15 years experience in application of Lean and Six Sigm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-founder of Guidon Performance Solutions – the pioneer in applying LeanSigma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 non-industrial and non-traditional compan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experience in retail, healthcare, financial services, telecommunications and gover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ioneered groundbreaking approach to managing capacity and staffing in highly complex, highly variable operating environment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9" descr="BrentJameson2651_lowres.jpg"/>
          <p:cNvPicPr/>
          <p:nvPr/>
        </p:nvPicPr>
        <p:blipFill>
          <a:blip r:embed="rId2"/>
          <a:stretch/>
        </p:blipFill>
        <p:spPr>
          <a:xfrm>
            <a:off x="762120" y="838080"/>
            <a:ext cx="18288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Footer Placeholder 3"/>
          <p:cNvSpPr/>
          <p:nvPr/>
        </p:nvSpPr>
        <p:spPr>
          <a:xfrm>
            <a:off x="1676520" y="6492960"/>
            <a:ext cx="6019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© 2009 Guidon Performance Solutions, LLC.  All rights reserved. Guidon Performance Solutions is a licensee of LeanSigma®, a service mark of TBM Consulting Group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Slide Number Placeholder 4"/>
          <p:cNvSpPr/>
          <p:nvPr/>
        </p:nvSpPr>
        <p:spPr>
          <a:xfrm>
            <a:off x="7772400" y="617220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2D02AD6-88BD-4D06-B640-F3C73E3E00E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2d46"/>
                </a:solidFill>
                <a:latin typeface="Arial (Headings)"/>
                <a:ea typeface="宋体"/>
              </a:rPr>
              <a:t>Year 3 Outcomes</a:t>
            </a:r>
            <a:endParaRPr b="1" lang="en-US" sz="3200" spc="-1" strike="noStrike">
              <a:solidFill>
                <a:srgbClr val="002d46"/>
              </a:solidFill>
              <a:latin typeface="Arial (Headings)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987120"/>
            <a:ext cx="4572000" cy="477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ployee Engagement Survey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sults improved by 15% annu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sets under management grew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y 18% over the same perio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T System Platforms reduced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 6 from over 3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liminated the need for over 1 million square feet of operations spa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umber of associates remained flat at 20,0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3" name="Picture 4" descr="office call center"/>
          <p:cNvPicPr/>
          <p:nvPr/>
        </p:nvPicPr>
        <p:blipFill>
          <a:blip r:embed="rId1"/>
          <a:stretch/>
        </p:blipFill>
        <p:spPr>
          <a:xfrm>
            <a:off x="5549760" y="1752480"/>
            <a:ext cx="2679840" cy="278316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808080">
                <a:alpha val="41000"/>
              </a:srgbClr>
            </a:outerShdw>
          </a:effectLst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Footer Placeholder 2"/>
          <p:cNvSpPr/>
          <p:nvPr/>
        </p:nvSpPr>
        <p:spPr>
          <a:xfrm>
            <a:off x="1676520" y="6492960"/>
            <a:ext cx="6019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© 2009 Guidon Performance Solutions, LLC.  All rights reserved. Guidon Performance Solutions is a licensee of LeanSigma®, a service mark of TBM Consulting Group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Slide Number Placeholder 3"/>
          <p:cNvSpPr/>
          <p:nvPr/>
        </p:nvSpPr>
        <p:spPr>
          <a:xfrm>
            <a:off x="7772400" y="617220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D0FEBD-E7DA-4CCE-9026-5D83C042726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2d46"/>
                </a:solidFill>
                <a:latin typeface="Arial (Headings)"/>
                <a:ea typeface="宋体"/>
              </a:rPr>
              <a:t>Client Case Study: Business Results</a:t>
            </a:r>
            <a:endParaRPr b="1" lang="en-US" sz="3200" spc="-1" strike="noStrike">
              <a:solidFill>
                <a:srgbClr val="002d46"/>
              </a:solidFill>
              <a:latin typeface="Arial (Headings)"/>
            </a:endParaRPr>
          </a:p>
        </p:txBody>
      </p:sp>
      <p:sp>
        <p:nvSpPr>
          <p:cNvPr id="367" name="Text Box 3"/>
          <p:cNvSpPr/>
          <p:nvPr/>
        </p:nvSpPr>
        <p:spPr>
          <a:xfrm>
            <a:off x="1084320" y="2048040"/>
            <a:ext cx="340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% Annualized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6"/>
          <p:cNvSpPr/>
          <p:nvPr/>
        </p:nvSpPr>
        <p:spPr>
          <a:xfrm>
            <a:off x="1930320" y="1000080"/>
            <a:ext cx="427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 u="sng">
                <a:solidFill>
                  <a:srgbClr val="002d46"/>
                </a:solidFill>
                <a:uFillTx/>
                <a:latin typeface="Arial"/>
              </a:rPr>
              <a:t>Net Reven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7"/>
          <p:cNvSpPr/>
          <p:nvPr/>
        </p:nvSpPr>
        <p:spPr>
          <a:xfrm>
            <a:off x="1720800" y="3770280"/>
            <a:ext cx="459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 u="sng">
                <a:solidFill>
                  <a:srgbClr val="002d46"/>
                </a:solidFill>
                <a:uFillTx/>
                <a:latin typeface="Arial"/>
              </a:rPr>
              <a:t>Net Inc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8"/>
          <p:cNvSpPr/>
          <p:nvPr/>
        </p:nvSpPr>
        <p:spPr>
          <a:xfrm>
            <a:off x="1192320" y="4745160"/>
            <a:ext cx="345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3% Annualized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AutoShape 9"/>
          <p:cNvSpPr/>
          <p:nvPr/>
        </p:nvSpPr>
        <p:spPr>
          <a:xfrm>
            <a:off x="380880" y="1916280"/>
            <a:ext cx="595440" cy="625320"/>
          </a:xfrm>
          <a:prstGeom prst="upArrow">
            <a:avLst>
              <a:gd name="adj1" fmla="val 50000"/>
              <a:gd name="adj2" fmla="val 26255"/>
            </a:avLst>
          </a:prstGeom>
          <a:solidFill>
            <a:srgbClr val="002d4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AutoShape 10"/>
          <p:cNvSpPr/>
          <p:nvPr/>
        </p:nvSpPr>
        <p:spPr>
          <a:xfrm>
            <a:off x="452520" y="4567320"/>
            <a:ext cx="595080" cy="625320"/>
          </a:xfrm>
          <a:prstGeom prst="upArrow">
            <a:avLst>
              <a:gd name="adj1" fmla="val 50000"/>
              <a:gd name="adj2" fmla="val 26270"/>
            </a:avLst>
          </a:prstGeom>
          <a:solidFill>
            <a:srgbClr val="002d4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Oval 16"/>
          <p:cNvSpPr/>
          <p:nvPr/>
        </p:nvSpPr>
        <p:spPr>
          <a:xfrm>
            <a:off x="4567320" y="1852560"/>
            <a:ext cx="1066680" cy="1066680"/>
          </a:xfrm>
          <a:prstGeom prst="ellipse">
            <a:avLst/>
          </a:prstGeom>
          <a:solidFill>
            <a:srgbClr val="95b3d7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Oval 17"/>
          <p:cNvSpPr/>
          <p:nvPr/>
        </p:nvSpPr>
        <p:spPr>
          <a:xfrm>
            <a:off x="6678720" y="1143000"/>
            <a:ext cx="1838160" cy="1838160"/>
          </a:xfrm>
          <a:prstGeom prst="ellipse">
            <a:avLst/>
          </a:prstGeom>
          <a:solidFill>
            <a:srgbClr val="002d46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Box 18"/>
          <p:cNvSpPr/>
          <p:nvPr/>
        </p:nvSpPr>
        <p:spPr>
          <a:xfrm>
            <a:off x="4795920" y="222084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Box 19"/>
          <p:cNvSpPr/>
          <p:nvPr/>
        </p:nvSpPr>
        <p:spPr>
          <a:xfrm>
            <a:off x="7254720" y="18781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ight Arrow 20"/>
          <p:cNvSpPr/>
          <p:nvPr/>
        </p:nvSpPr>
        <p:spPr>
          <a:xfrm>
            <a:off x="5829480" y="1916280"/>
            <a:ext cx="642600" cy="9730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f7622"/>
          </a:solidFill>
          <a:ln w="0">
            <a:noFill/>
          </a:ln>
          <a:effectLst>
            <a:outerShdw dist="23040" dir="5400000" blurRad="0" rotWithShape="0">
              <a:srgbClr val="808080">
                <a:alpha val="3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Box 21"/>
          <p:cNvSpPr/>
          <p:nvPr/>
        </p:nvSpPr>
        <p:spPr>
          <a:xfrm>
            <a:off x="4467240" y="3103560"/>
            <a:ext cx="136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4.6 Bill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Box 22"/>
          <p:cNvSpPr/>
          <p:nvPr/>
        </p:nvSpPr>
        <p:spPr>
          <a:xfrm>
            <a:off x="7005600" y="3103560"/>
            <a:ext cx="136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6.4 Bill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Rectangle 23"/>
          <p:cNvSpPr/>
          <p:nvPr/>
        </p:nvSpPr>
        <p:spPr>
          <a:xfrm>
            <a:off x="4438800" y="4560840"/>
            <a:ext cx="1033200" cy="990720"/>
          </a:xfrm>
          <a:prstGeom prst="rect">
            <a:avLst/>
          </a:prstGeom>
          <a:solidFill>
            <a:srgbClr val="95b3d7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Box 24"/>
          <p:cNvSpPr/>
          <p:nvPr/>
        </p:nvSpPr>
        <p:spPr>
          <a:xfrm>
            <a:off x="4643280" y="48718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25"/>
          <p:cNvSpPr/>
          <p:nvPr/>
        </p:nvSpPr>
        <p:spPr>
          <a:xfrm>
            <a:off x="6737400" y="3857760"/>
            <a:ext cx="1779480" cy="1704960"/>
          </a:xfrm>
          <a:prstGeom prst="rect">
            <a:avLst/>
          </a:prstGeom>
          <a:solidFill>
            <a:srgbClr val="002d46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ight Arrow 26"/>
          <p:cNvSpPr/>
          <p:nvPr/>
        </p:nvSpPr>
        <p:spPr>
          <a:xfrm>
            <a:off x="5829480" y="4589640"/>
            <a:ext cx="642600" cy="9730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f7622"/>
          </a:solidFill>
          <a:ln w="0">
            <a:noFill/>
          </a:ln>
          <a:effectLst>
            <a:outerShdw dist="23040" dir="5400000" blurRad="0" rotWithShape="0">
              <a:srgbClr val="808080">
                <a:alpha val="3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Box 27"/>
          <p:cNvSpPr/>
          <p:nvPr/>
        </p:nvSpPr>
        <p:spPr>
          <a:xfrm>
            <a:off x="7257960" y="456084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Box 28"/>
          <p:cNvSpPr/>
          <p:nvPr/>
        </p:nvSpPr>
        <p:spPr>
          <a:xfrm>
            <a:off x="4365720" y="5638680"/>
            <a:ext cx="157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153 Mill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Box 29"/>
          <p:cNvSpPr/>
          <p:nvPr/>
        </p:nvSpPr>
        <p:spPr>
          <a:xfrm>
            <a:off x="6700680" y="5649840"/>
            <a:ext cx="154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316 Mill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2d46"/>
                </a:solidFill>
                <a:latin typeface="Arial (Headings)"/>
                <a:ea typeface="宋体"/>
              </a:rPr>
              <a:t>And Finally…</a:t>
            </a:r>
            <a:endParaRPr b="1" lang="en-US" sz="3200" spc="-1" strike="noStrike">
              <a:solidFill>
                <a:srgbClr val="002d46"/>
              </a:solidFill>
              <a:latin typeface="Arial (Headings)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76320" y="2057040"/>
            <a:ext cx="5262480" cy="35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ery day you may make progress.  Every step may be fruitful.  Yet there will stretch out before you an ever-lengthening, ever-ascending, ever-improving path.  You know you will never get to the end of the journey.  But this, so far from discouraging, only adds to the joy and glory of the climb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-Winston Churchill on Perseveranc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Picture 3" descr="Churchill-in-quebec-1944-23-0201a.gif"/>
          <p:cNvPicPr/>
          <p:nvPr/>
        </p:nvPicPr>
        <p:blipFill>
          <a:blip r:embed="rId1"/>
          <a:stretch/>
        </p:blipFill>
        <p:spPr>
          <a:xfrm>
            <a:off x="5638680" y="1676520"/>
            <a:ext cx="2819520" cy="35575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808080">
                <a:alpha val="41000"/>
              </a:srgbClr>
            </a:outerShdw>
          </a:effectLst>
        </p:spPr>
      </p:pic>
      <p:sp>
        <p:nvSpPr>
          <p:cNvPr id="390" name="Slide Number Placeholder 4"/>
          <p:cNvSpPr/>
          <p:nvPr/>
        </p:nvSpPr>
        <p:spPr>
          <a:xfrm>
            <a:off x="7772400" y="617220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E456197-367C-4AF1-85CC-F68593EC388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Footer Placeholder 5"/>
          <p:cNvSpPr/>
          <p:nvPr/>
        </p:nvSpPr>
        <p:spPr>
          <a:xfrm>
            <a:off x="1676520" y="6492960"/>
            <a:ext cx="6019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© 2009 Guidon Performance Solutions, LLC.  All rights reserved. Guidon Performance Solutions is a licensee of LeanSigma®, a service mark of TBM Consulting Group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2d46"/>
                </a:solidFill>
                <a:latin typeface="Arial (Headings)"/>
                <a:ea typeface="宋体"/>
              </a:rPr>
              <a:t>Questions?</a:t>
            </a:r>
            <a:endParaRPr b="1" lang="en-US" sz="3200" spc="-1" strike="noStrike">
              <a:solidFill>
                <a:srgbClr val="002d46"/>
              </a:solidFill>
              <a:latin typeface="Arial (Headings)"/>
            </a:endParaRPr>
          </a:p>
        </p:txBody>
      </p:sp>
      <p:sp>
        <p:nvSpPr>
          <p:cNvPr id="393" name="Footer Placeholder 6"/>
          <p:cNvSpPr/>
          <p:nvPr/>
        </p:nvSpPr>
        <p:spPr>
          <a:xfrm>
            <a:off x="1955880" y="6669000"/>
            <a:ext cx="6005520" cy="1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Arial"/>
              </a:rPr>
              <a:t>© 2008 Guidon Performance Solutions, LLC.  All rights reserved. Guidon Performance Solutions is a licensee of LeanSigma®, a service mark of TBM Consulting Group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Slide Number Placeholder 4"/>
          <p:cNvSpPr/>
          <p:nvPr/>
        </p:nvSpPr>
        <p:spPr>
          <a:xfrm>
            <a:off x="7772400" y="617220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6B78BED-6CD4-42E1-BEE6-1B68640486A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Footer Placeholder 5"/>
          <p:cNvSpPr/>
          <p:nvPr/>
        </p:nvSpPr>
        <p:spPr>
          <a:xfrm>
            <a:off x="1676520" y="6492960"/>
            <a:ext cx="6019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© 2009 Guidon Performance Solutions, LLC.  All rights reserved. Guidon Performance Solutions is a licensee of LeanSigma®, a service mark of TBM Consulting Group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6" name="Content Placeholder 8" descr="1009933_45151285.jpg"/>
          <p:cNvPicPr/>
          <p:nvPr/>
        </p:nvPicPr>
        <p:blipFill>
          <a:blip r:embed="rId1"/>
          <a:srcRect l="-36538" t="0" r="-36538" b="0"/>
          <a:stretch/>
        </p:blipFill>
        <p:spPr>
          <a:xfrm>
            <a:off x="457200" y="1371600"/>
            <a:ext cx="8229600" cy="47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Footer Placeholder 2"/>
          <p:cNvSpPr/>
          <p:nvPr/>
        </p:nvSpPr>
        <p:spPr>
          <a:xfrm>
            <a:off x="1676520" y="6492960"/>
            <a:ext cx="6019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© 2009 Guidon Performance Solutions, LLC.  All rights reserved. Guidon Performance Solutions is a licensee of LeanSigma®, a service mark of TBM Consulting Group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7772400" y="617220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CC958A3-C36E-4F36-B118-E48E17083F4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2d46"/>
                </a:solidFill>
                <a:latin typeface="Arial (Headings)"/>
                <a:ea typeface="宋体"/>
              </a:rPr>
              <a:t>Corporate Culture</a:t>
            </a:r>
            <a:endParaRPr b="1" lang="en-US" sz="3200" spc="-1" strike="noStrike">
              <a:solidFill>
                <a:srgbClr val="002d46"/>
              </a:solidFill>
              <a:latin typeface="Arial (Headings)"/>
            </a:endParaRPr>
          </a:p>
        </p:txBody>
      </p:sp>
      <p:sp>
        <p:nvSpPr>
          <p:cNvPr id="143" name="Text Box 3"/>
          <p:cNvSpPr/>
          <p:nvPr/>
        </p:nvSpPr>
        <p:spPr>
          <a:xfrm>
            <a:off x="609480" y="2343240"/>
            <a:ext cx="7925040" cy="23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ul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·ture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he set of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har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ttitudes, values, goals and practices that characterizes a company or corpor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Webster’s Diction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Footer Placeholder 3"/>
          <p:cNvSpPr/>
          <p:nvPr/>
        </p:nvSpPr>
        <p:spPr>
          <a:xfrm>
            <a:off x="1676520" y="6492960"/>
            <a:ext cx="6019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© 2009 Guidon Performance Solutions, LLC.  All rights reserved. Guidon Performance Solutions is a licensee of LeanSigma®, a service mark of TBM Consulting Group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Slide Number Placeholder 4"/>
          <p:cNvSpPr/>
          <p:nvPr/>
        </p:nvSpPr>
        <p:spPr>
          <a:xfrm>
            <a:off x="7772400" y="617220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D7FDC6-F265-4578-A9D5-CDF5B29E7EE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2d46"/>
                </a:solidFill>
                <a:latin typeface="Arial (Headings)"/>
                <a:ea typeface="宋体"/>
              </a:rPr>
              <a:t>What Is Corporate Culture</a:t>
            </a:r>
            <a:endParaRPr b="1" lang="en-US" sz="3200" spc="-1" strike="noStrike">
              <a:solidFill>
                <a:srgbClr val="002d46"/>
              </a:solidFill>
              <a:latin typeface="Arial (Headings)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lture is represented in the norms and unwritten rules that guide employee 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porate cultures are shaped by a variety of influen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ture of the busi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ograph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gerprints of the company founders, current leaders and associ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lture “happen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533520" y="4648320"/>
            <a:ext cx="7924680" cy="761760"/>
          </a:xfrm>
          <a:prstGeom prst="roundRect">
            <a:avLst>
              <a:gd name="adj" fmla="val 16667"/>
            </a:avLst>
          </a:prstGeom>
          <a:solidFill>
            <a:srgbClr val="cf7622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You can accept the hand you have been dealt or you can take action to change i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8"/>
          <p:cNvSpPr/>
          <p:nvPr/>
        </p:nvSpPr>
        <p:spPr>
          <a:xfrm>
            <a:off x="1219320" y="6189840"/>
            <a:ext cx="453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模版免费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2d46"/>
                </a:solidFill>
                <a:latin typeface="Arial (Headings)"/>
                <a:ea typeface="宋体"/>
              </a:rPr>
              <a:t>The Power of Culture</a:t>
            </a:r>
            <a:endParaRPr b="1" lang="en-US" sz="3200" spc="-1" strike="noStrike">
              <a:solidFill>
                <a:srgbClr val="002d46"/>
              </a:solidFill>
              <a:latin typeface="Arial (Headings)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526680" y="1155240"/>
            <a:ext cx="4081320" cy="501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rporate culture can have a significant impact on a firm's long-term economic performan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rporate cultures inhibiting strong performance are not rare; they develop easily, even in firms full of reasonable and intelligent peop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though tough to change, corporate cultures can be made more performance-enhanc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ooter Placeholder 3"/>
          <p:cNvSpPr/>
          <p:nvPr/>
        </p:nvSpPr>
        <p:spPr>
          <a:xfrm>
            <a:off x="1676520" y="6492960"/>
            <a:ext cx="6019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© 2009 Guidon Performance Solutions, LLC.  All rights reserved. Guidon Performance Solutions is a licensee of LeanSigma®, a service mark of TBM Consulting Group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Slide Number Placeholder 4"/>
          <p:cNvSpPr/>
          <p:nvPr/>
        </p:nvSpPr>
        <p:spPr>
          <a:xfrm>
            <a:off x="7772400" y="617220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8E87ABD-E184-4443-8068-61D59823DA6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2"/>
          <p:cNvSpPr/>
          <p:nvPr/>
        </p:nvSpPr>
        <p:spPr>
          <a:xfrm>
            <a:off x="228600" y="228600"/>
            <a:ext cx="8758080" cy="7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3"/>
          <p:cNvSpPr/>
          <p:nvPr/>
        </p:nvSpPr>
        <p:spPr>
          <a:xfrm>
            <a:off x="304920" y="1219320"/>
            <a:ext cx="826776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208080" indent="-208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0000"/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4"/>
          <p:cNvSpPr/>
          <p:nvPr/>
        </p:nvSpPr>
        <p:spPr>
          <a:xfrm>
            <a:off x="4419720" y="4572000"/>
            <a:ext cx="4343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83000"/>
          </a:bodyPr>
          <a:p>
            <a:pPr algn="r">
              <a:tabLst>
                <a:tab algn="l" pos="0"/>
                <a:tab algn="l" pos="422280"/>
                <a:tab algn="l" pos="844560"/>
                <a:tab algn="l" pos="1266840"/>
                <a:tab algn="l" pos="1689120"/>
                <a:tab algn="l" pos="2111400"/>
                <a:tab algn="l" pos="2533680"/>
                <a:tab algn="l" pos="2955960"/>
                <a:tab algn="l" pos="3378240"/>
                <a:tab algn="l" pos="3800520"/>
                <a:tab algn="l" pos="4222800"/>
                <a:tab algn="l" pos="4645080"/>
                <a:tab algn="l" pos="5067360"/>
                <a:tab algn="l" pos="5489640"/>
                <a:tab algn="l" pos="5911920"/>
                <a:tab algn="l" pos="6334200"/>
                <a:tab algn="l" pos="6756480"/>
                <a:tab algn="l" pos="7178760"/>
                <a:tab algn="l" pos="7601040"/>
                <a:tab algn="l" pos="8023320"/>
                <a:tab algn="l" pos="844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Kotter and James Heskett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22280"/>
                <a:tab algn="l" pos="844560"/>
                <a:tab algn="l" pos="1266840"/>
                <a:tab algn="l" pos="1689120"/>
                <a:tab algn="l" pos="2111400"/>
                <a:tab algn="l" pos="2533680"/>
                <a:tab algn="l" pos="2955960"/>
                <a:tab algn="l" pos="3378240"/>
                <a:tab algn="l" pos="3800520"/>
                <a:tab algn="l" pos="4222800"/>
                <a:tab algn="l" pos="4645080"/>
                <a:tab algn="l" pos="5067360"/>
                <a:tab algn="l" pos="5489640"/>
                <a:tab algn="l" pos="5911920"/>
                <a:tab algn="l" pos="6334200"/>
                <a:tab algn="l" pos="6756480"/>
                <a:tab algn="l" pos="7178760"/>
                <a:tab algn="l" pos="7601040"/>
                <a:tab algn="l" pos="8023320"/>
                <a:tab algn="l" pos="84456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orporate Culture and Perform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7" descr="752px-TourDeFrance_2005_07_09"/>
          <p:cNvPicPr/>
          <p:nvPr/>
        </p:nvPicPr>
        <p:blipFill>
          <a:blip r:embed="rId1"/>
          <a:stretch/>
        </p:blipFill>
        <p:spPr>
          <a:xfrm>
            <a:off x="5105520" y="1371600"/>
            <a:ext cx="3657600" cy="3100320"/>
          </a:xfrm>
          <a:prstGeom prst="rect">
            <a:avLst/>
          </a:prstGeom>
          <a:ln w="0">
            <a:noFill/>
          </a:ln>
        </p:spPr>
      </p:pic>
      <p:sp>
        <p:nvSpPr>
          <p:cNvPr id="158" name="Down Arrow 10"/>
          <p:cNvSpPr/>
          <p:nvPr/>
        </p:nvSpPr>
        <p:spPr>
          <a:xfrm>
            <a:off x="1066680" y="2286000"/>
            <a:ext cx="2362320" cy="6094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cf76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Down Arrow 11"/>
          <p:cNvSpPr/>
          <p:nvPr/>
        </p:nvSpPr>
        <p:spPr>
          <a:xfrm>
            <a:off x="1066680" y="4495680"/>
            <a:ext cx="2362320" cy="6098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cf76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Footer Placeholder 2"/>
          <p:cNvSpPr/>
          <p:nvPr/>
        </p:nvSpPr>
        <p:spPr>
          <a:xfrm>
            <a:off x="1676520" y="6492960"/>
            <a:ext cx="6019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© 2009 Guidon Performance Solutions, LLC.  All rights reserved. Guidon Performance Solutions is a licensee of LeanSigma®, a service mark of TBM Consulting Group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7772400" y="617220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9C78335-A3E7-4D06-9567-FAD28574C58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2d46"/>
                </a:solidFill>
                <a:latin typeface="Arial (Headings)"/>
                <a:ea typeface="宋体"/>
              </a:rPr>
              <a:t>Creating a High Performance Culture</a:t>
            </a:r>
            <a:endParaRPr b="1" lang="en-US" sz="3200" spc="-1" strike="noStrike">
              <a:solidFill>
                <a:srgbClr val="002d46"/>
              </a:solidFill>
              <a:latin typeface="Arial (Headings)"/>
            </a:endParaRPr>
          </a:p>
        </p:txBody>
      </p:sp>
      <p:sp>
        <p:nvSpPr>
          <p:cNvPr id="163" name="Text Box 3"/>
          <p:cNvSpPr/>
          <p:nvPr/>
        </p:nvSpPr>
        <p:spPr>
          <a:xfrm>
            <a:off x="1066680" y="4267080"/>
            <a:ext cx="6858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ulture of a company is the behavior of its leaders.  Leaders get the behavior they exhibit and tolerate.  You change the culture of a company by changing the behavior of its leaders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4"/>
          <p:cNvSpPr/>
          <p:nvPr/>
        </p:nvSpPr>
        <p:spPr>
          <a:xfrm>
            <a:off x="4800600" y="5275440"/>
            <a:ext cx="3429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Larry Bossi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ormer CEO, Honeyw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ounded Rectangle 10"/>
          <p:cNvSpPr/>
          <p:nvPr/>
        </p:nvSpPr>
        <p:spPr>
          <a:xfrm>
            <a:off x="533520" y="1284120"/>
            <a:ext cx="8153280" cy="1839960"/>
          </a:xfrm>
          <a:prstGeom prst="roundRect">
            <a:avLst>
              <a:gd name="adj" fmla="val 16667"/>
            </a:avLst>
          </a:prstGeom>
          <a:solidFill>
            <a:srgbClr val="002d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6"/>
          <p:cNvSpPr/>
          <p:nvPr/>
        </p:nvSpPr>
        <p:spPr>
          <a:xfrm>
            <a:off x="609480" y="1817640"/>
            <a:ext cx="7925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set of shared beliefs, values, attitudes, goals and actions at all levels focused on superior exec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7"/>
          <p:cNvSpPr/>
          <p:nvPr/>
        </p:nvSpPr>
        <p:spPr>
          <a:xfrm>
            <a:off x="1143000" y="1284120"/>
            <a:ext cx="701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cf7622"/>
                </a:solidFill>
                <a:latin typeface="Arial"/>
              </a:rPr>
              <a:t>High Performance Cul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Down Arrow 8"/>
          <p:cNvSpPr/>
          <p:nvPr/>
        </p:nvSpPr>
        <p:spPr>
          <a:xfrm>
            <a:off x="1752480" y="3409920"/>
            <a:ext cx="5639040" cy="704880"/>
          </a:xfrm>
          <a:prstGeom prst="downArrow">
            <a:avLst>
              <a:gd name="adj1" fmla="val 50000"/>
              <a:gd name="adj2" fmla="val 48481"/>
            </a:avLst>
          </a:prstGeom>
          <a:solidFill>
            <a:srgbClr val="cf7622"/>
          </a:solidFill>
          <a:ln w="25560">
            <a:solidFill>
              <a:srgbClr val="cf762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5029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2d46"/>
                </a:solidFill>
                <a:latin typeface="Arial (Headings)"/>
                <a:ea typeface="宋体"/>
              </a:rPr>
              <a:t>Transformation Will Require a Change In Thinking…</a:t>
            </a:r>
            <a:endParaRPr b="1" lang="en-US" sz="3200" spc="-1" strike="noStrike">
              <a:solidFill>
                <a:srgbClr val="002d46"/>
              </a:solidFill>
              <a:latin typeface="Arial (Headings)"/>
            </a:endParaRPr>
          </a:p>
        </p:txBody>
      </p:sp>
      <p:sp>
        <p:nvSpPr>
          <p:cNvPr id="170" name="Rectangle 3"/>
          <p:cNvSpPr/>
          <p:nvPr/>
        </p:nvSpPr>
        <p:spPr>
          <a:xfrm>
            <a:off x="685800" y="2176560"/>
            <a:ext cx="7467480" cy="95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eople are very open minded about new things. As long as they are exactly like the old ones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4"/>
          <p:cNvSpPr/>
          <p:nvPr/>
        </p:nvSpPr>
        <p:spPr>
          <a:xfrm>
            <a:off x="6167160" y="3203640"/>
            <a:ext cx="199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- Charles Kett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5" descr="R2D2"/>
          <p:cNvPicPr/>
          <p:nvPr/>
        </p:nvPicPr>
        <p:blipFill>
          <a:blip r:embed="rId1"/>
          <a:stretch/>
        </p:blipFill>
        <p:spPr>
          <a:xfrm>
            <a:off x="528480" y="3990960"/>
            <a:ext cx="1130400" cy="166356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6" descr="R2D2"/>
          <p:cNvPicPr/>
          <p:nvPr/>
        </p:nvPicPr>
        <p:blipFill>
          <a:blip r:embed="rId2"/>
          <a:stretch/>
        </p:blipFill>
        <p:spPr>
          <a:xfrm>
            <a:off x="1724040" y="4024440"/>
            <a:ext cx="1130400" cy="166356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7" descr="R2D2"/>
          <p:cNvPicPr/>
          <p:nvPr/>
        </p:nvPicPr>
        <p:blipFill>
          <a:blip r:embed="rId3"/>
          <a:stretch/>
        </p:blipFill>
        <p:spPr>
          <a:xfrm>
            <a:off x="2830680" y="3987720"/>
            <a:ext cx="1130040" cy="166392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8" descr="R2D2"/>
          <p:cNvPicPr/>
          <p:nvPr/>
        </p:nvPicPr>
        <p:blipFill>
          <a:blip r:embed="rId4"/>
          <a:stretch/>
        </p:blipFill>
        <p:spPr>
          <a:xfrm>
            <a:off x="3978360" y="4002120"/>
            <a:ext cx="1130040" cy="16635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9" descr="R2D2"/>
          <p:cNvPicPr/>
          <p:nvPr/>
        </p:nvPicPr>
        <p:blipFill>
          <a:blip r:embed="rId5"/>
          <a:stretch/>
        </p:blipFill>
        <p:spPr>
          <a:xfrm>
            <a:off x="5133960" y="3975120"/>
            <a:ext cx="1130400" cy="16635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0" descr="R2D2"/>
          <p:cNvPicPr/>
          <p:nvPr/>
        </p:nvPicPr>
        <p:blipFill>
          <a:blip r:embed="rId6"/>
          <a:stretch/>
        </p:blipFill>
        <p:spPr>
          <a:xfrm>
            <a:off x="6270480" y="3962520"/>
            <a:ext cx="1130400" cy="16635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1" descr="R2D2"/>
          <p:cNvPicPr/>
          <p:nvPr/>
        </p:nvPicPr>
        <p:blipFill>
          <a:blip r:embed="rId7"/>
          <a:stretch/>
        </p:blipFill>
        <p:spPr>
          <a:xfrm>
            <a:off x="7404120" y="3975120"/>
            <a:ext cx="1130400" cy="1663560"/>
          </a:xfrm>
          <a:prstGeom prst="rect">
            <a:avLst/>
          </a:prstGeom>
          <a:ln w="0">
            <a:noFill/>
          </a:ln>
        </p:spPr>
      </p:pic>
      <p:sp>
        <p:nvSpPr>
          <p:cNvPr id="179" name="Slide Number Placeholder 11"/>
          <p:cNvSpPr/>
          <p:nvPr/>
        </p:nvSpPr>
        <p:spPr>
          <a:xfrm>
            <a:off x="7772400" y="617220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87D30B-461D-4C3E-99BA-5B38A07F92A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Footer Placeholder 12"/>
          <p:cNvSpPr/>
          <p:nvPr/>
        </p:nvSpPr>
        <p:spPr>
          <a:xfrm>
            <a:off x="1676520" y="6492960"/>
            <a:ext cx="6019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© 2009 Guidon Performance Solutions, LLC.  All rights reserved. Guidon Performance Solutions is a licensee of LeanSigma®, a service mark of TBM Consulting Group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Footer Placeholder 1"/>
          <p:cNvSpPr/>
          <p:nvPr/>
        </p:nvSpPr>
        <p:spPr>
          <a:xfrm>
            <a:off x="1676520" y="6492960"/>
            <a:ext cx="6019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© 2009 Guidon Performance Solutions, LLC.  All rights reserved. Guidon Performance Solutions is a licensee of LeanSigma®, a service mark of TBM Consulting Group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Slide Number Placeholder 2"/>
          <p:cNvSpPr/>
          <p:nvPr/>
        </p:nvSpPr>
        <p:spPr>
          <a:xfrm>
            <a:off x="7772400" y="617220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20F3043-06AB-4E9A-A0A2-47D35AAF3D7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2"/>
          <p:cNvSpPr/>
          <p:nvPr/>
        </p:nvSpPr>
        <p:spPr>
          <a:xfrm>
            <a:off x="380880" y="2838600"/>
            <a:ext cx="6553440" cy="16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wo fundamental forces that drive GE…a common operating system and common social architecture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50000"/>
              </a:lnSpc>
              <a:spcBef>
                <a:spcPts val="788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Jack Wel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50000"/>
              </a:lnSpc>
              <a:spcBef>
                <a:spcPts val="788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E 1999 Annual 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3" descr="200px-Jack-welch"/>
          <p:cNvPicPr/>
          <p:nvPr/>
        </p:nvPicPr>
        <p:blipFill>
          <a:blip r:embed="rId1"/>
          <a:stretch/>
        </p:blipFill>
        <p:spPr>
          <a:xfrm>
            <a:off x="6934320" y="1619280"/>
            <a:ext cx="1673280" cy="21337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808080">
                <a:alpha val="41000"/>
              </a:srgbClr>
            </a:outerShdw>
          </a:effectLst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8T15:10:14Z</dcterms:created>
  <dc:creator>ppt宝藏</dc:creator>
  <dc:description/>
  <dc:language>en-US</dc:language>
  <cp:lastModifiedBy>a</cp:lastModifiedBy>
  <cp:lastPrinted>2009-07-28T16:42:27Z</cp:lastPrinted>
  <dcterms:modified xsi:type="dcterms:W3CDTF">2015-07-25T02:54:42Z</dcterms:modified>
  <cp:revision>139</cp:revision>
  <dc:subject/>
  <dc:title>www.pptbz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877</vt:lpwstr>
  </property>
</Properties>
</file>