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hdphoto2.wdp" ContentType="image/vnd.ms-photo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10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微软用户" initials="微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4-01-26T11:38:12.265000000" idx="1">
    <p:pos x="0" y="0"/>
    <p:text>保留</p:text>
  </p:cm>
</p:cmLst>
</file>

<file path=ppt/comments/comment12.xml><?xml version="1.0" encoding="utf-8"?>
<p:cmLst xmlns:p="http://schemas.openxmlformats.org/presentationml/2006/main">
  <p:cm authorId="0" dt="2014-01-26T11:38:24.406000000" idx="2">
    <p:pos x="0" y="0"/>
    <p:text>保留</p:text>
  </p:cm>
</p:cmLst>
</file>

<file path=ppt/comments/comment13.xml><?xml version="1.0" encoding="utf-8"?>
<p:cmLst xmlns:p="http://schemas.openxmlformats.org/presentationml/2006/main">
  <p:cm authorId="0" dt="2014-01-26T15:28:05.468000000" idx="3">
    <p:pos x="0" y="0"/>
    <p:text>保留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170F8E-D208-4D8D-9754-B32883992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6A60DC-F3A7-4928-BF48-309D0A6F188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弧形 8"/>
          <p:cNvSpPr/>
          <p:nvPr/>
        </p:nvSpPr>
        <p:spPr>
          <a:xfrm>
            <a:off x="8369280" y="6309360"/>
            <a:ext cx="431640" cy="431640"/>
          </a:xfrm>
          <a:prstGeom prst="arc">
            <a:avLst>
              <a:gd name="adj1" fmla="val 5215784"/>
              <a:gd name="adj2" fmla="val 0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fld id="{6C2A7EFA-12D5-4932-9E75-7C31BA0A39F7}" type="slidenum">
              <a:rPr b="1" lang="en-US" sz="1200" spc="-1" strike="noStrike">
                <a:solidFill>
                  <a:srgbClr val="ff0000"/>
                </a:solidFill>
                <a:latin typeface="MV Bol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13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microsoft.com/office/2007/relationships/hdphoto" Target="../media/hdphoto2.wdp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12"/>
          <p:cNvGrpSpPr/>
          <p:nvPr/>
        </p:nvGrpSpPr>
        <p:grpSpPr>
          <a:xfrm>
            <a:off x="323640" y="-41760"/>
            <a:ext cx="8932680" cy="6554880"/>
            <a:chOff x="323640" y="-41760"/>
            <a:chExt cx="8932680" cy="6554880"/>
          </a:xfrm>
        </p:grpSpPr>
        <p:sp>
          <p:nvSpPr>
            <p:cNvPr id="48" name="标题 1"/>
            <p:cNvSpPr/>
            <p:nvPr/>
          </p:nvSpPr>
          <p:spPr>
            <a:xfrm>
              <a:off x="5508000" y="2529000"/>
              <a:ext cx="33282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8000"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Mistral"/>
                </a:rPr>
                <a:t>THE ART O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副标题 2"/>
            <p:cNvSpPr/>
            <p:nvPr/>
          </p:nvSpPr>
          <p:spPr>
            <a:xfrm>
              <a:off x="5508000" y="4015440"/>
              <a:ext cx="34560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78000"/>
            </a:bodyPr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Making Your Ideas, Produc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And Services Easier To Underst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图片 5" descr=""/>
            <p:cNvPicPr/>
            <p:nvPr/>
          </p:nvPicPr>
          <p:blipFill>
            <a:blip r:embed="rId1"/>
            <a:srcRect l="0" t="12993" r="0" b="14095"/>
            <a:stretch/>
          </p:blipFill>
          <p:spPr>
            <a:xfrm>
              <a:off x="1268280" y="1798200"/>
              <a:ext cx="3591360" cy="3550680"/>
            </a:xfrm>
            <a:prstGeom prst="rect">
              <a:avLst/>
            </a:prstGeom>
            <a:ln w="0">
              <a:noFill/>
            </a:ln>
            <a:effectLst>
              <a:softEdge rad="88920"/>
            </a:effectLst>
          </p:spPr>
        </p:pic>
        <p:sp>
          <p:nvSpPr>
            <p:cNvPr id="51" name="弧形 6"/>
            <p:cNvSpPr/>
            <p:nvPr/>
          </p:nvSpPr>
          <p:spPr>
            <a:xfrm>
              <a:off x="323640" y="608760"/>
              <a:ext cx="6192360" cy="5904360"/>
            </a:xfrm>
            <a:prstGeom prst="arc">
              <a:avLst>
                <a:gd name="adj1" fmla="val 2102127"/>
                <a:gd name="adj2" fmla="val 19482424"/>
              </a:avLst>
            </a:prstGeom>
            <a:noFill/>
            <a:ln w="22225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2" name="直接连接符 7"/>
            <p:cNvCxnSpPr/>
            <p:nvPr/>
          </p:nvCxnSpPr>
          <p:spPr>
            <a:xfrm flipV="1">
              <a:off x="5059800" y="1340640"/>
              <a:ext cx="2475000" cy="1296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53" name="直接连接符 8"/>
            <p:cNvCxnSpPr/>
            <p:nvPr/>
          </p:nvCxnSpPr>
          <p:spPr>
            <a:xfrm>
              <a:off x="5092200" y="4710960"/>
              <a:ext cx="2442600" cy="864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54" name="标题 1"/>
            <p:cNvSpPr/>
            <p:nvPr/>
          </p:nvSpPr>
          <p:spPr>
            <a:xfrm>
              <a:off x="6156000" y="3212640"/>
              <a:ext cx="310032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5000"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Mistral"/>
                </a:rPr>
                <a:t>EXPLAN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10" descr=""/>
            <p:cNvPicPr/>
            <p:nvPr/>
          </p:nvPicPr>
          <p:blipFill>
            <a:blip r:embed="rId2"/>
            <a:stretch/>
          </p:blipFill>
          <p:spPr>
            <a:xfrm rot="19805400">
              <a:off x="921960" y="366840"/>
              <a:ext cx="1878840" cy="89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Box 11"/>
          <p:cNvSpPr/>
          <p:nvPr/>
        </p:nvSpPr>
        <p:spPr>
          <a:xfrm>
            <a:off x="7706520" y="4773600"/>
            <a:ext cx="12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@</a:t>
            </a:r>
            <a:r>
              <a:rPr b="1" lang="en-US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zel_</a:t>
            </a:r>
            <a:r>
              <a:rPr b="1" lang="zh-CN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每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3" descr=""/>
          <p:cNvPicPr/>
          <p:nvPr/>
        </p:nvPicPr>
        <p:blipFill>
          <a:blip r:embed="rId3"/>
          <a:stretch/>
        </p:blipFill>
        <p:spPr>
          <a:xfrm>
            <a:off x="7862040" y="212760"/>
            <a:ext cx="1114560" cy="1114560"/>
          </a:xfrm>
          <a:prstGeom prst="rect">
            <a:avLst/>
          </a:prstGeom>
          <a:ln w="0">
            <a:noFill/>
          </a:ln>
        </p:spPr>
      </p:pic>
      <p:sp>
        <p:nvSpPr>
          <p:cNvPr id="58" name="矩形 1"/>
          <p:cNvSpPr/>
          <p:nvPr/>
        </p:nvSpPr>
        <p:spPr>
          <a:xfrm>
            <a:off x="1636560" y="1416240"/>
            <a:ext cx="6070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铅笔手写描绘风格读书笔记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62760" y="274680"/>
            <a:ext cx="822924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做出精彩演示的超实用工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8"/>
          <p:cNvSpPr/>
          <p:nvPr/>
        </p:nvSpPr>
        <p:spPr>
          <a:xfrm>
            <a:off x="971640" y="1268640"/>
            <a:ext cx="6311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演示标尺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一定要掌握的演示思考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"/>
          <p:cNvGrpSpPr/>
          <p:nvPr/>
        </p:nvGrpSpPr>
        <p:grpSpPr>
          <a:xfrm>
            <a:off x="536760" y="2205000"/>
            <a:ext cx="8139600" cy="3666960"/>
            <a:chOff x="536760" y="2205000"/>
            <a:chExt cx="8139600" cy="3666960"/>
          </a:xfrm>
        </p:grpSpPr>
        <p:cxnSp>
          <p:nvCxnSpPr>
            <p:cNvPr id="169" name="直接连接符 5"/>
            <p:cNvCxnSpPr/>
            <p:nvPr/>
          </p:nvCxnSpPr>
          <p:spPr>
            <a:xfrm>
              <a:off x="683280" y="546588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cxnSp>
          <p:nvCxnSpPr>
            <p:cNvPr id="170" name="直接连接符 6"/>
            <p:cNvCxnSpPr/>
            <p:nvPr/>
          </p:nvCxnSpPr>
          <p:spPr>
            <a:xfrm flipH="1">
              <a:off x="6228000" y="546588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sp>
          <p:nvSpPr>
            <p:cNvPr id="171" name="TextBox 14"/>
            <p:cNvSpPr/>
            <p:nvPr/>
          </p:nvSpPr>
          <p:spPr>
            <a:xfrm>
              <a:off x="683640" y="550800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5"/>
            <p:cNvSpPr/>
            <p:nvPr/>
          </p:nvSpPr>
          <p:spPr>
            <a:xfrm>
              <a:off x="6228360" y="550800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直接连接符 20"/>
            <p:cNvCxnSpPr/>
            <p:nvPr/>
          </p:nvCxnSpPr>
          <p:spPr>
            <a:xfrm flipH="1">
              <a:off x="2411640" y="3140640"/>
              <a:ext cx="4320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pic>
          <p:nvPicPr>
            <p:cNvPr id="174" name="图片 2" descr=""/>
            <p:cNvPicPr/>
            <p:nvPr/>
          </p:nvPicPr>
          <p:blipFill>
            <a:blip r:embed="rId1"/>
            <a:srcRect l="0" t="12752" r="0" b="16913"/>
            <a:stretch/>
          </p:blipFill>
          <p:spPr>
            <a:xfrm>
              <a:off x="536760" y="4509000"/>
              <a:ext cx="8070120" cy="75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组合 1"/>
            <p:cNvGrpSpPr/>
            <p:nvPr/>
          </p:nvGrpSpPr>
          <p:grpSpPr>
            <a:xfrm>
              <a:off x="828720" y="2205000"/>
              <a:ext cx="909720" cy="1792080"/>
              <a:chOff x="828720" y="2205000"/>
              <a:chExt cx="909720" cy="1792080"/>
            </a:xfrm>
          </p:grpSpPr>
          <p:pic>
            <p:nvPicPr>
              <p:cNvPr id="176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2840" y="2205000"/>
                <a:ext cx="293760" cy="80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2607840"/>
                <a:ext cx="293760" cy="80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4680" y="2579040"/>
                <a:ext cx="293760" cy="80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69640" y="3191400"/>
                <a:ext cx="293760" cy="80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TextBox 21"/>
            <p:cNvSpPr/>
            <p:nvPr/>
          </p:nvSpPr>
          <p:spPr>
            <a:xfrm>
              <a:off x="3420000" y="2637000"/>
              <a:ext cx="244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通过演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22"/>
            <p:cNvGrpSpPr/>
            <p:nvPr/>
          </p:nvGrpSpPr>
          <p:grpSpPr>
            <a:xfrm>
              <a:off x="7612200" y="2252160"/>
              <a:ext cx="647640" cy="1680480"/>
              <a:chOff x="7612200" y="2252160"/>
              <a:chExt cx="647640" cy="1680480"/>
            </a:xfrm>
          </p:grpSpPr>
          <p:sp>
            <p:nvSpPr>
              <p:cNvPr id="182" name="椭圆 23"/>
              <p:cNvSpPr/>
              <p:nvPr/>
            </p:nvSpPr>
            <p:spPr>
              <a:xfrm>
                <a:off x="7612200" y="2277000"/>
                <a:ext cx="579960" cy="595800"/>
              </a:xfrm>
              <a:prstGeom prst="ellipse">
                <a:avLst/>
              </a:prstGeom>
              <a:noFill/>
              <a:ln>
                <a:solidFill>
                  <a:srgbClr val="ff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" name="椭圆 21"/>
              <p:cNvSpPr/>
              <p:nvPr/>
            </p:nvSpPr>
            <p:spPr>
              <a:xfrm>
                <a:off x="7612200" y="2277000"/>
                <a:ext cx="365040" cy="34344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343440"/>
                  <a:gd name="textAreaBottom" fmla="*/ 343800 h 343440"/>
                </a:gdLst>
                <a:ahLst/>
                <a:rect l="textAreaLeft" t="textAreaTop" r="textAreaRight" b="textAreaBottom"/>
                <a:pathLst>
                  <a:path w="408222" h="373555">
                    <a:moveTo>
                      <a:pt x="324036" y="0"/>
                    </a:moveTo>
                    <a:cubicBezTo>
                      <a:pt x="351695" y="0"/>
                      <a:pt x="378545" y="3466"/>
                      <a:pt x="403891" y="11100"/>
                    </a:cubicBezTo>
                    <a:cubicBezTo>
                      <a:pt x="424763" y="86681"/>
                      <a:pt x="368975" y="198778"/>
                      <a:pt x="263162" y="282641"/>
                    </a:cubicBezTo>
                    <a:cubicBezTo>
                      <a:pt x="174803" y="352671"/>
                      <a:pt x="75244" y="384243"/>
                      <a:pt x="4668" y="370344"/>
                    </a:cubicBezTo>
                    <a:cubicBezTo>
                      <a:pt x="1130" y="355353"/>
                      <a:pt x="0" y="339826"/>
                      <a:pt x="0" y="324036"/>
                    </a:cubicBezTo>
                    <a:cubicBezTo>
                      <a:pt x="0" y="145076"/>
                      <a:pt x="145076" y="0"/>
                      <a:pt x="324036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" name="椭圆 23"/>
              <p:cNvSpPr/>
              <p:nvPr/>
            </p:nvSpPr>
            <p:spPr>
              <a:xfrm rot="2143800">
                <a:off x="7867080" y="2354760"/>
                <a:ext cx="393120" cy="1260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439377" h="137394">
                    <a:moveTo>
                      <a:pt x="6383" y="60934"/>
                    </a:moveTo>
                    <a:cubicBezTo>
                      <a:pt x="143699" y="-37843"/>
                      <a:pt x="332129" y="-13725"/>
                      <a:pt x="439377" y="112964"/>
                    </a:cubicBezTo>
                    <a:cubicBezTo>
                      <a:pt x="391958" y="128781"/>
                      <a:pt x="330412" y="137394"/>
                      <a:pt x="263271" y="137394"/>
                    </a:cubicBezTo>
                    <a:cubicBezTo>
                      <a:pt x="138968" y="137394"/>
                      <a:pt x="33844" y="107873"/>
                      <a:pt x="0" y="66578"/>
                    </a:cubicBezTo>
                    <a:cubicBezTo>
                      <a:pt x="1799" y="64276"/>
                      <a:pt x="4077" y="62593"/>
                      <a:pt x="6383" y="60934"/>
                    </a:cubicBezTo>
                    <a:close/>
                  </a:path>
                </a:pathLst>
              </a:cu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" name="圆角矩形 26"/>
              <p:cNvSpPr/>
              <p:nvPr/>
            </p:nvSpPr>
            <p:spPr>
              <a:xfrm>
                <a:off x="7628400" y="2939400"/>
                <a:ext cx="582480" cy="99324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993240"/>
                  <a:gd name="textAreaBottom" fmla="*/ 993600 h 993240"/>
                </a:gdLst>
                <a:ahLst/>
                <a:rect l="textAreaLeft" t="textAreaTop" r="textAreaRight" b="textAreaBottom"/>
                <a:pathLst>
                  <a:path w="650775" h="1080120">
                    <a:moveTo>
                      <a:pt x="108465" y="0"/>
                    </a:moveTo>
                    <a:lnTo>
                      <a:pt x="542310" y="0"/>
                    </a:lnTo>
                    <a:cubicBezTo>
                      <a:pt x="602214" y="0"/>
                      <a:pt x="650775" y="48561"/>
                      <a:pt x="650775" y="108465"/>
                    </a:cubicBezTo>
                    <a:lnTo>
                      <a:pt x="650775" y="611615"/>
                    </a:lnTo>
                    <a:cubicBezTo>
                      <a:pt x="650775" y="671519"/>
                      <a:pt x="602214" y="720080"/>
                      <a:pt x="542310" y="720080"/>
                    </a:cubicBezTo>
                    <a:lnTo>
                      <a:pt x="486154" y="720080"/>
                    </a:lnTo>
                    <a:lnTo>
                      <a:pt x="486154" y="1030121"/>
                    </a:lnTo>
                    <a:cubicBezTo>
                      <a:pt x="486154" y="1057735"/>
                      <a:pt x="463769" y="1080120"/>
                      <a:pt x="436155" y="1080120"/>
                    </a:cubicBezTo>
                    <a:lnTo>
                      <a:pt x="236167" y="1080120"/>
                    </a:lnTo>
                    <a:cubicBezTo>
                      <a:pt x="208553" y="1080120"/>
                      <a:pt x="186168" y="1057735"/>
                      <a:pt x="186168" y="1030121"/>
                    </a:cubicBezTo>
                    <a:lnTo>
                      <a:pt x="186168" y="720080"/>
                    </a:lnTo>
                    <a:lnTo>
                      <a:pt x="108465" y="720080"/>
                    </a:lnTo>
                    <a:cubicBezTo>
                      <a:pt x="48561" y="720080"/>
                      <a:pt x="0" y="671519"/>
                      <a:pt x="0" y="611615"/>
                    </a:cubicBezTo>
                    <a:lnTo>
                      <a:pt x="0" y="108465"/>
                    </a:lnTo>
                    <a:cubicBezTo>
                      <a:pt x="0" y="48561"/>
                      <a:pt x="48561" y="0"/>
                      <a:pt x="10846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86" name="TextBox 27"/>
            <p:cNvSpPr/>
            <p:nvPr/>
          </p:nvSpPr>
          <p:spPr>
            <a:xfrm>
              <a:off x="731880" y="4139640"/>
              <a:ext cx="1103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受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28"/>
            <p:cNvSpPr/>
            <p:nvPr/>
          </p:nvSpPr>
          <p:spPr>
            <a:xfrm>
              <a:off x="7380360" y="4139640"/>
              <a:ext cx="1111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演示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14"/>
          <p:cNvGrpSpPr/>
          <p:nvPr/>
        </p:nvGrpSpPr>
        <p:grpSpPr>
          <a:xfrm>
            <a:off x="323640" y="-41760"/>
            <a:ext cx="8932680" cy="6554880"/>
            <a:chOff x="323640" y="-41760"/>
            <a:chExt cx="8932680" cy="6554880"/>
          </a:xfrm>
        </p:grpSpPr>
        <p:sp>
          <p:nvSpPr>
            <p:cNvPr id="189" name="标题 1"/>
            <p:cNvSpPr/>
            <p:nvPr/>
          </p:nvSpPr>
          <p:spPr>
            <a:xfrm>
              <a:off x="5508000" y="2529000"/>
              <a:ext cx="33282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8000"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Mistral"/>
                </a:rPr>
                <a:t>THE ART O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副标题 2"/>
            <p:cNvSpPr/>
            <p:nvPr/>
          </p:nvSpPr>
          <p:spPr>
            <a:xfrm>
              <a:off x="5508000" y="4015440"/>
              <a:ext cx="34560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78000"/>
            </a:bodyPr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Making Your Ideas, Produc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And Services Easier To Underst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弧形 5"/>
            <p:cNvSpPr/>
            <p:nvPr/>
          </p:nvSpPr>
          <p:spPr>
            <a:xfrm>
              <a:off x="323640" y="608760"/>
              <a:ext cx="6192360" cy="5904360"/>
            </a:xfrm>
            <a:prstGeom prst="arc">
              <a:avLst>
                <a:gd name="adj1" fmla="val 2102127"/>
                <a:gd name="adj2" fmla="val 19482424"/>
              </a:avLst>
            </a:prstGeom>
            <a:noFill/>
            <a:ln w="22225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2" name="直接连接符 6"/>
            <p:cNvCxnSpPr/>
            <p:nvPr/>
          </p:nvCxnSpPr>
          <p:spPr>
            <a:xfrm flipV="1">
              <a:off x="5059800" y="1340640"/>
              <a:ext cx="2475000" cy="1296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193" name="直接连接符 7"/>
            <p:cNvCxnSpPr/>
            <p:nvPr/>
          </p:nvCxnSpPr>
          <p:spPr>
            <a:xfrm>
              <a:off x="5092200" y="4710960"/>
              <a:ext cx="2442600" cy="864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194" name="标题 1"/>
            <p:cNvSpPr/>
            <p:nvPr/>
          </p:nvSpPr>
          <p:spPr>
            <a:xfrm>
              <a:off x="6156000" y="3212640"/>
              <a:ext cx="310032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5000"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Mistral"/>
                </a:rPr>
                <a:t>EXPLAN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"/>
            <p:cNvSpPr/>
            <p:nvPr/>
          </p:nvSpPr>
          <p:spPr>
            <a:xfrm>
              <a:off x="1690560" y="3431880"/>
              <a:ext cx="324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让你的演示非同凡“想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10"/>
            <p:cNvGrpSpPr/>
            <p:nvPr/>
          </p:nvGrpSpPr>
          <p:grpSpPr>
            <a:xfrm>
              <a:off x="2566080" y="1803600"/>
              <a:ext cx="1488600" cy="1308960"/>
              <a:chOff x="2566080" y="1803600"/>
              <a:chExt cx="1488600" cy="1308960"/>
            </a:xfrm>
          </p:grpSpPr>
          <p:sp>
            <p:nvSpPr>
              <p:cNvPr id="197" name="椭圆 11"/>
              <p:cNvSpPr/>
              <p:nvPr/>
            </p:nvSpPr>
            <p:spPr>
              <a:xfrm>
                <a:off x="2626560" y="180360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98" name="TextBox 12"/>
              <p:cNvSpPr/>
              <p:nvPr/>
            </p:nvSpPr>
            <p:spPr>
              <a:xfrm>
                <a:off x="2566080" y="2155680"/>
                <a:ext cx="14886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2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图片 13" descr=""/>
            <p:cNvPicPr/>
            <p:nvPr/>
          </p:nvPicPr>
          <p:blipFill>
            <a:blip r:embed="rId1"/>
            <a:stretch/>
          </p:blipFill>
          <p:spPr>
            <a:xfrm rot="19805400">
              <a:off x="921960" y="366840"/>
              <a:ext cx="1878840" cy="89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2760" y="260640"/>
            <a:ext cx="822924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有好的创意，更要有绝妙的包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1721160" y="1268640"/>
            <a:ext cx="2192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跳板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让你的演示水准节节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11"/>
          <p:cNvGrpSpPr/>
          <p:nvPr/>
        </p:nvGrpSpPr>
        <p:grpSpPr>
          <a:xfrm>
            <a:off x="504360" y="2665440"/>
            <a:ext cx="8171640" cy="2846520"/>
            <a:chOff x="504360" y="2665440"/>
            <a:chExt cx="8171640" cy="2846520"/>
          </a:xfrm>
        </p:grpSpPr>
        <p:cxnSp>
          <p:nvCxnSpPr>
            <p:cNvPr id="204" name="直接连接符 5"/>
            <p:cNvCxnSpPr/>
            <p:nvPr/>
          </p:nvCxnSpPr>
          <p:spPr>
            <a:xfrm>
              <a:off x="611280" y="510588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cxnSp>
          <p:nvCxnSpPr>
            <p:cNvPr id="205" name="直接连接符 6"/>
            <p:cNvCxnSpPr/>
            <p:nvPr/>
          </p:nvCxnSpPr>
          <p:spPr>
            <a:xfrm flipH="1">
              <a:off x="6156000" y="510588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sp>
          <p:nvSpPr>
            <p:cNvPr id="206" name="TextBox 14"/>
            <p:cNvSpPr/>
            <p:nvPr/>
          </p:nvSpPr>
          <p:spPr>
            <a:xfrm>
              <a:off x="611640" y="514800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5"/>
            <p:cNvSpPr/>
            <p:nvPr/>
          </p:nvSpPr>
          <p:spPr>
            <a:xfrm>
              <a:off x="6156000" y="514800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组合 7"/>
            <p:cNvGrpSpPr/>
            <p:nvPr/>
          </p:nvGrpSpPr>
          <p:grpSpPr>
            <a:xfrm>
              <a:off x="504360" y="2665440"/>
              <a:ext cx="1834920" cy="907200"/>
              <a:chOff x="504360" y="2665440"/>
              <a:chExt cx="1834920" cy="907200"/>
            </a:xfrm>
          </p:grpSpPr>
          <p:sp>
            <p:nvSpPr>
              <p:cNvPr id="209" name="任意多边形 1"/>
              <p:cNvSpPr/>
              <p:nvPr/>
            </p:nvSpPr>
            <p:spPr>
              <a:xfrm>
                <a:off x="576360" y="2665440"/>
                <a:ext cx="1690920" cy="907200"/>
              </a:xfrm>
              <a:custGeom>
                <a:avLst/>
                <a:gdLst>
                  <a:gd name="textAreaLeft" fmla="*/ 0 w 1690920"/>
                  <a:gd name="textAreaRight" fmla="*/ 1691280 w 1690920"/>
                  <a:gd name="textAreaTop" fmla="*/ 0 h 907200"/>
                  <a:gd name="textAreaBottom" fmla="*/ 907560 h 907200"/>
                </a:gdLst>
                <a:ahLst/>
                <a:rect l="textAreaLeft" t="textAreaTop" r="textAreaRight" b="textAreaBottom"/>
                <a:pathLst>
                  <a:path w="1691722" h="900726">
                    <a:moveTo>
                      <a:pt x="899160" y="883920"/>
                    </a:moveTo>
                    <a:lnTo>
                      <a:pt x="899160" y="883920"/>
                    </a:lnTo>
                    <a:cubicBezTo>
                      <a:pt x="756703" y="894095"/>
                      <a:pt x="583197" y="916019"/>
                      <a:pt x="441960" y="883920"/>
                    </a:cubicBezTo>
                    <a:cubicBezTo>
                      <a:pt x="406239" y="875801"/>
                      <a:pt x="381000" y="843280"/>
                      <a:pt x="350520" y="822960"/>
                    </a:cubicBezTo>
                    <a:cubicBezTo>
                      <a:pt x="202397" y="724212"/>
                      <a:pt x="474339" y="909823"/>
                      <a:pt x="213360" y="701040"/>
                    </a:cubicBezTo>
                    <a:cubicBezTo>
                      <a:pt x="165185" y="662500"/>
                      <a:pt x="78417" y="597686"/>
                      <a:pt x="45720" y="548640"/>
                    </a:cubicBezTo>
                    <a:lnTo>
                      <a:pt x="15240" y="502920"/>
                    </a:lnTo>
                    <a:cubicBezTo>
                      <a:pt x="10160" y="482600"/>
                      <a:pt x="0" y="462905"/>
                      <a:pt x="0" y="441960"/>
                    </a:cubicBezTo>
                    <a:cubicBezTo>
                      <a:pt x="0" y="411060"/>
                      <a:pt x="-330" y="377211"/>
                      <a:pt x="15240" y="350520"/>
                    </a:cubicBezTo>
                    <a:cubicBezTo>
                      <a:pt x="36959" y="313287"/>
                      <a:pt x="65787" y="272711"/>
                      <a:pt x="106680" y="259080"/>
                    </a:cubicBezTo>
                    <a:cubicBezTo>
                      <a:pt x="323981" y="186646"/>
                      <a:pt x="97853" y="259425"/>
                      <a:pt x="259080" y="213360"/>
                    </a:cubicBezTo>
                    <a:cubicBezTo>
                      <a:pt x="412125" y="169633"/>
                      <a:pt x="175189" y="230523"/>
                      <a:pt x="365760" y="182880"/>
                    </a:cubicBezTo>
                    <a:cubicBezTo>
                      <a:pt x="381000" y="172720"/>
                      <a:pt x="395400" y="161171"/>
                      <a:pt x="411480" y="152400"/>
                    </a:cubicBezTo>
                    <a:cubicBezTo>
                      <a:pt x="451369" y="130642"/>
                      <a:pt x="495594" y="116644"/>
                      <a:pt x="533400" y="91440"/>
                    </a:cubicBezTo>
                    <a:cubicBezTo>
                      <a:pt x="548640" y="81280"/>
                      <a:pt x="562737" y="69151"/>
                      <a:pt x="579120" y="60960"/>
                    </a:cubicBezTo>
                    <a:cubicBezTo>
                      <a:pt x="593488" y="53776"/>
                      <a:pt x="610472" y="52904"/>
                      <a:pt x="624840" y="45720"/>
                    </a:cubicBezTo>
                    <a:cubicBezTo>
                      <a:pt x="743013" y="-13366"/>
                      <a:pt x="601362" y="38306"/>
                      <a:pt x="716280" y="0"/>
                    </a:cubicBezTo>
                    <a:cubicBezTo>
                      <a:pt x="797560" y="5080"/>
                      <a:pt x="879310" y="5139"/>
                      <a:pt x="960120" y="15240"/>
                    </a:cubicBezTo>
                    <a:cubicBezTo>
                      <a:pt x="1001687" y="20436"/>
                      <a:pt x="1040405" y="41094"/>
                      <a:pt x="1082040" y="45720"/>
                    </a:cubicBezTo>
                    <a:lnTo>
                      <a:pt x="1219200" y="60960"/>
                    </a:lnTo>
                    <a:cubicBezTo>
                      <a:pt x="1239520" y="66040"/>
                      <a:pt x="1259552" y="72453"/>
                      <a:pt x="1280160" y="76200"/>
                    </a:cubicBezTo>
                    <a:cubicBezTo>
                      <a:pt x="1392470" y="96620"/>
                      <a:pt x="1393787" y="83596"/>
                      <a:pt x="1508760" y="121920"/>
                    </a:cubicBezTo>
                    <a:lnTo>
                      <a:pt x="1600200" y="152400"/>
                    </a:lnTo>
                    <a:cubicBezTo>
                      <a:pt x="1630680" y="182880"/>
                      <a:pt x="1694329" y="200819"/>
                      <a:pt x="1691640" y="243840"/>
                    </a:cubicBezTo>
                    <a:cubicBezTo>
                      <a:pt x="1686560" y="325120"/>
                      <a:pt x="1684925" y="406689"/>
                      <a:pt x="1676400" y="487680"/>
                    </a:cubicBezTo>
                    <a:cubicBezTo>
                      <a:pt x="1674718" y="503656"/>
                      <a:pt x="1668962" y="519357"/>
                      <a:pt x="1661160" y="533400"/>
                    </a:cubicBezTo>
                    <a:cubicBezTo>
                      <a:pt x="1643370" y="565422"/>
                      <a:pt x="1626103" y="598937"/>
                      <a:pt x="1600200" y="624840"/>
                    </a:cubicBezTo>
                    <a:cubicBezTo>
                      <a:pt x="1569720" y="655320"/>
                      <a:pt x="1549653" y="702649"/>
                      <a:pt x="1508760" y="716280"/>
                    </a:cubicBezTo>
                    <a:cubicBezTo>
                      <a:pt x="1462938" y="731554"/>
                      <a:pt x="1456711" y="729174"/>
                      <a:pt x="1417320" y="762000"/>
                    </a:cubicBezTo>
                    <a:cubicBezTo>
                      <a:pt x="1376304" y="796180"/>
                      <a:pt x="1374529" y="816578"/>
                      <a:pt x="1325880" y="838200"/>
                    </a:cubicBezTo>
                    <a:cubicBezTo>
                      <a:pt x="1296520" y="851249"/>
                      <a:pt x="1264920" y="858520"/>
                      <a:pt x="1234440" y="868680"/>
                    </a:cubicBezTo>
                    <a:lnTo>
                      <a:pt x="1188720" y="883920"/>
                    </a:lnTo>
                    <a:cubicBezTo>
                      <a:pt x="965275" y="866732"/>
                      <a:pt x="947420" y="883920"/>
                      <a:pt x="899160" y="883920"/>
                    </a:cubicBezTo>
                    <a:close/>
                  </a:path>
                </a:pathLst>
              </a:custGeom>
              <a:noFill/>
              <a:ln>
                <a:solidFill>
                  <a:srgbClr val="000000"/>
                </a:solidFill>
                <a:round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" name="TextBox 3"/>
              <p:cNvSpPr/>
              <p:nvPr/>
            </p:nvSpPr>
            <p:spPr>
              <a:xfrm>
                <a:off x="504360" y="2881440"/>
                <a:ext cx="18349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认同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+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背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8"/>
            <p:cNvGrpSpPr/>
            <p:nvPr/>
          </p:nvGrpSpPr>
          <p:grpSpPr>
            <a:xfrm>
              <a:off x="2616840" y="2665440"/>
              <a:ext cx="1834920" cy="907200"/>
              <a:chOff x="2616840" y="2665440"/>
              <a:chExt cx="1834920" cy="907200"/>
            </a:xfrm>
          </p:grpSpPr>
          <p:sp>
            <p:nvSpPr>
              <p:cNvPr id="212" name="任意多边形 24"/>
              <p:cNvSpPr/>
              <p:nvPr/>
            </p:nvSpPr>
            <p:spPr>
              <a:xfrm>
                <a:off x="2688840" y="2665440"/>
                <a:ext cx="1690920" cy="907200"/>
              </a:xfrm>
              <a:custGeom>
                <a:avLst/>
                <a:gdLst>
                  <a:gd name="textAreaLeft" fmla="*/ 0 w 1690920"/>
                  <a:gd name="textAreaRight" fmla="*/ 1691280 w 1690920"/>
                  <a:gd name="textAreaTop" fmla="*/ 0 h 907200"/>
                  <a:gd name="textAreaBottom" fmla="*/ 907560 h 907200"/>
                </a:gdLst>
                <a:ahLst/>
                <a:rect l="textAreaLeft" t="textAreaTop" r="textAreaRight" b="textAreaBottom"/>
                <a:pathLst>
                  <a:path w="1691722" h="900726">
                    <a:moveTo>
                      <a:pt x="899160" y="883920"/>
                    </a:moveTo>
                    <a:lnTo>
                      <a:pt x="899160" y="883920"/>
                    </a:lnTo>
                    <a:cubicBezTo>
                      <a:pt x="756703" y="894095"/>
                      <a:pt x="583197" y="916019"/>
                      <a:pt x="441960" y="883920"/>
                    </a:cubicBezTo>
                    <a:cubicBezTo>
                      <a:pt x="406239" y="875801"/>
                      <a:pt x="381000" y="843280"/>
                      <a:pt x="350520" y="822960"/>
                    </a:cubicBezTo>
                    <a:cubicBezTo>
                      <a:pt x="202397" y="724212"/>
                      <a:pt x="474339" y="909823"/>
                      <a:pt x="213360" y="701040"/>
                    </a:cubicBezTo>
                    <a:cubicBezTo>
                      <a:pt x="165185" y="662500"/>
                      <a:pt x="78417" y="597686"/>
                      <a:pt x="45720" y="548640"/>
                    </a:cubicBezTo>
                    <a:lnTo>
                      <a:pt x="15240" y="502920"/>
                    </a:lnTo>
                    <a:cubicBezTo>
                      <a:pt x="10160" y="482600"/>
                      <a:pt x="0" y="462905"/>
                      <a:pt x="0" y="441960"/>
                    </a:cubicBezTo>
                    <a:cubicBezTo>
                      <a:pt x="0" y="411060"/>
                      <a:pt x="-330" y="377211"/>
                      <a:pt x="15240" y="350520"/>
                    </a:cubicBezTo>
                    <a:cubicBezTo>
                      <a:pt x="36959" y="313287"/>
                      <a:pt x="65787" y="272711"/>
                      <a:pt x="106680" y="259080"/>
                    </a:cubicBezTo>
                    <a:cubicBezTo>
                      <a:pt x="323981" y="186646"/>
                      <a:pt x="97853" y="259425"/>
                      <a:pt x="259080" y="213360"/>
                    </a:cubicBezTo>
                    <a:cubicBezTo>
                      <a:pt x="412125" y="169633"/>
                      <a:pt x="175189" y="230523"/>
                      <a:pt x="365760" y="182880"/>
                    </a:cubicBezTo>
                    <a:cubicBezTo>
                      <a:pt x="381000" y="172720"/>
                      <a:pt x="395400" y="161171"/>
                      <a:pt x="411480" y="152400"/>
                    </a:cubicBezTo>
                    <a:cubicBezTo>
                      <a:pt x="451369" y="130642"/>
                      <a:pt x="495594" y="116644"/>
                      <a:pt x="533400" y="91440"/>
                    </a:cubicBezTo>
                    <a:cubicBezTo>
                      <a:pt x="548640" y="81280"/>
                      <a:pt x="562737" y="69151"/>
                      <a:pt x="579120" y="60960"/>
                    </a:cubicBezTo>
                    <a:cubicBezTo>
                      <a:pt x="593488" y="53776"/>
                      <a:pt x="610472" y="52904"/>
                      <a:pt x="624840" y="45720"/>
                    </a:cubicBezTo>
                    <a:cubicBezTo>
                      <a:pt x="743013" y="-13366"/>
                      <a:pt x="601362" y="38306"/>
                      <a:pt x="716280" y="0"/>
                    </a:cubicBezTo>
                    <a:cubicBezTo>
                      <a:pt x="797560" y="5080"/>
                      <a:pt x="879310" y="5139"/>
                      <a:pt x="960120" y="15240"/>
                    </a:cubicBezTo>
                    <a:cubicBezTo>
                      <a:pt x="1001687" y="20436"/>
                      <a:pt x="1040405" y="41094"/>
                      <a:pt x="1082040" y="45720"/>
                    </a:cubicBezTo>
                    <a:lnTo>
                      <a:pt x="1219200" y="60960"/>
                    </a:lnTo>
                    <a:cubicBezTo>
                      <a:pt x="1239520" y="66040"/>
                      <a:pt x="1259552" y="72453"/>
                      <a:pt x="1280160" y="76200"/>
                    </a:cubicBezTo>
                    <a:cubicBezTo>
                      <a:pt x="1392470" y="96620"/>
                      <a:pt x="1393787" y="83596"/>
                      <a:pt x="1508760" y="121920"/>
                    </a:cubicBezTo>
                    <a:lnTo>
                      <a:pt x="1600200" y="152400"/>
                    </a:lnTo>
                    <a:cubicBezTo>
                      <a:pt x="1630680" y="182880"/>
                      <a:pt x="1694329" y="200819"/>
                      <a:pt x="1691640" y="243840"/>
                    </a:cubicBezTo>
                    <a:cubicBezTo>
                      <a:pt x="1686560" y="325120"/>
                      <a:pt x="1684925" y="406689"/>
                      <a:pt x="1676400" y="487680"/>
                    </a:cubicBezTo>
                    <a:cubicBezTo>
                      <a:pt x="1674718" y="503656"/>
                      <a:pt x="1668962" y="519357"/>
                      <a:pt x="1661160" y="533400"/>
                    </a:cubicBezTo>
                    <a:cubicBezTo>
                      <a:pt x="1643370" y="565422"/>
                      <a:pt x="1626103" y="598937"/>
                      <a:pt x="1600200" y="624840"/>
                    </a:cubicBezTo>
                    <a:cubicBezTo>
                      <a:pt x="1569720" y="655320"/>
                      <a:pt x="1549653" y="702649"/>
                      <a:pt x="1508760" y="716280"/>
                    </a:cubicBezTo>
                    <a:cubicBezTo>
                      <a:pt x="1462938" y="731554"/>
                      <a:pt x="1456711" y="729174"/>
                      <a:pt x="1417320" y="762000"/>
                    </a:cubicBezTo>
                    <a:cubicBezTo>
                      <a:pt x="1376304" y="796180"/>
                      <a:pt x="1374529" y="816578"/>
                      <a:pt x="1325880" y="838200"/>
                    </a:cubicBezTo>
                    <a:cubicBezTo>
                      <a:pt x="1296520" y="851249"/>
                      <a:pt x="1264920" y="858520"/>
                      <a:pt x="1234440" y="868680"/>
                    </a:cubicBezTo>
                    <a:lnTo>
                      <a:pt x="1188720" y="883920"/>
                    </a:lnTo>
                    <a:cubicBezTo>
                      <a:pt x="965275" y="866732"/>
                      <a:pt x="947420" y="883920"/>
                      <a:pt x="899160" y="883920"/>
                    </a:cubicBezTo>
                    <a:close/>
                  </a:path>
                </a:pathLst>
              </a:custGeom>
              <a:noFill/>
              <a:ln>
                <a:solidFill>
                  <a:srgbClr val="000000"/>
                </a:solidFill>
                <a:round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" name="TextBox 25"/>
              <p:cNvSpPr/>
              <p:nvPr/>
            </p:nvSpPr>
            <p:spPr>
              <a:xfrm>
                <a:off x="2616840" y="2868120"/>
                <a:ext cx="18349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讲故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组合 9"/>
            <p:cNvGrpSpPr/>
            <p:nvPr/>
          </p:nvGrpSpPr>
          <p:grpSpPr>
            <a:xfrm>
              <a:off x="4728960" y="2665440"/>
              <a:ext cx="1834920" cy="907200"/>
              <a:chOff x="4728960" y="2665440"/>
              <a:chExt cx="1834920" cy="907200"/>
            </a:xfrm>
          </p:grpSpPr>
          <p:sp>
            <p:nvSpPr>
              <p:cNvPr id="215" name="任意多边形 26"/>
              <p:cNvSpPr/>
              <p:nvPr/>
            </p:nvSpPr>
            <p:spPr>
              <a:xfrm>
                <a:off x="4800960" y="2665440"/>
                <a:ext cx="1690920" cy="907200"/>
              </a:xfrm>
              <a:custGeom>
                <a:avLst/>
                <a:gdLst>
                  <a:gd name="textAreaLeft" fmla="*/ 0 w 1690920"/>
                  <a:gd name="textAreaRight" fmla="*/ 1691280 w 1690920"/>
                  <a:gd name="textAreaTop" fmla="*/ 0 h 907200"/>
                  <a:gd name="textAreaBottom" fmla="*/ 907560 h 907200"/>
                </a:gdLst>
                <a:ahLst/>
                <a:rect l="textAreaLeft" t="textAreaTop" r="textAreaRight" b="textAreaBottom"/>
                <a:pathLst>
                  <a:path w="1691722" h="900726">
                    <a:moveTo>
                      <a:pt x="899160" y="883920"/>
                    </a:moveTo>
                    <a:lnTo>
                      <a:pt x="899160" y="883920"/>
                    </a:lnTo>
                    <a:cubicBezTo>
                      <a:pt x="756703" y="894095"/>
                      <a:pt x="583197" y="916019"/>
                      <a:pt x="441960" y="883920"/>
                    </a:cubicBezTo>
                    <a:cubicBezTo>
                      <a:pt x="406239" y="875801"/>
                      <a:pt x="381000" y="843280"/>
                      <a:pt x="350520" y="822960"/>
                    </a:cubicBezTo>
                    <a:cubicBezTo>
                      <a:pt x="202397" y="724212"/>
                      <a:pt x="474339" y="909823"/>
                      <a:pt x="213360" y="701040"/>
                    </a:cubicBezTo>
                    <a:cubicBezTo>
                      <a:pt x="165185" y="662500"/>
                      <a:pt x="78417" y="597686"/>
                      <a:pt x="45720" y="548640"/>
                    </a:cubicBezTo>
                    <a:lnTo>
                      <a:pt x="15240" y="502920"/>
                    </a:lnTo>
                    <a:cubicBezTo>
                      <a:pt x="10160" y="482600"/>
                      <a:pt x="0" y="462905"/>
                      <a:pt x="0" y="441960"/>
                    </a:cubicBezTo>
                    <a:cubicBezTo>
                      <a:pt x="0" y="411060"/>
                      <a:pt x="-330" y="377211"/>
                      <a:pt x="15240" y="350520"/>
                    </a:cubicBezTo>
                    <a:cubicBezTo>
                      <a:pt x="36959" y="313287"/>
                      <a:pt x="65787" y="272711"/>
                      <a:pt x="106680" y="259080"/>
                    </a:cubicBezTo>
                    <a:cubicBezTo>
                      <a:pt x="323981" y="186646"/>
                      <a:pt x="97853" y="259425"/>
                      <a:pt x="259080" y="213360"/>
                    </a:cubicBezTo>
                    <a:cubicBezTo>
                      <a:pt x="412125" y="169633"/>
                      <a:pt x="175189" y="230523"/>
                      <a:pt x="365760" y="182880"/>
                    </a:cubicBezTo>
                    <a:cubicBezTo>
                      <a:pt x="381000" y="172720"/>
                      <a:pt x="395400" y="161171"/>
                      <a:pt x="411480" y="152400"/>
                    </a:cubicBezTo>
                    <a:cubicBezTo>
                      <a:pt x="451369" y="130642"/>
                      <a:pt x="495594" y="116644"/>
                      <a:pt x="533400" y="91440"/>
                    </a:cubicBezTo>
                    <a:cubicBezTo>
                      <a:pt x="548640" y="81280"/>
                      <a:pt x="562737" y="69151"/>
                      <a:pt x="579120" y="60960"/>
                    </a:cubicBezTo>
                    <a:cubicBezTo>
                      <a:pt x="593488" y="53776"/>
                      <a:pt x="610472" y="52904"/>
                      <a:pt x="624840" y="45720"/>
                    </a:cubicBezTo>
                    <a:cubicBezTo>
                      <a:pt x="743013" y="-13366"/>
                      <a:pt x="601362" y="38306"/>
                      <a:pt x="716280" y="0"/>
                    </a:cubicBezTo>
                    <a:cubicBezTo>
                      <a:pt x="797560" y="5080"/>
                      <a:pt x="879310" y="5139"/>
                      <a:pt x="960120" y="15240"/>
                    </a:cubicBezTo>
                    <a:cubicBezTo>
                      <a:pt x="1001687" y="20436"/>
                      <a:pt x="1040405" y="41094"/>
                      <a:pt x="1082040" y="45720"/>
                    </a:cubicBezTo>
                    <a:lnTo>
                      <a:pt x="1219200" y="60960"/>
                    </a:lnTo>
                    <a:cubicBezTo>
                      <a:pt x="1239520" y="66040"/>
                      <a:pt x="1259552" y="72453"/>
                      <a:pt x="1280160" y="76200"/>
                    </a:cubicBezTo>
                    <a:cubicBezTo>
                      <a:pt x="1392470" y="96620"/>
                      <a:pt x="1393787" y="83596"/>
                      <a:pt x="1508760" y="121920"/>
                    </a:cubicBezTo>
                    <a:lnTo>
                      <a:pt x="1600200" y="152400"/>
                    </a:lnTo>
                    <a:cubicBezTo>
                      <a:pt x="1630680" y="182880"/>
                      <a:pt x="1694329" y="200819"/>
                      <a:pt x="1691640" y="243840"/>
                    </a:cubicBezTo>
                    <a:cubicBezTo>
                      <a:pt x="1686560" y="325120"/>
                      <a:pt x="1684925" y="406689"/>
                      <a:pt x="1676400" y="487680"/>
                    </a:cubicBezTo>
                    <a:cubicBezTo>
                      <a:pt x="1674718" y="503656"/>
                      <a:pt x="1668962" y="519357"/>
                      <a:pt x="1661160" y="533400"/>
                    </a:cubicBezTo>
                    <a:cubicBezTo>
                      <a:pt x="1643370" y="565422"/>
                      <a:pt x="1626103" y="598937"/>
                      <a:pt x="1600200" y="624840"/>
                    </a:cubicBezTo>
                    <a:cubicBezTo>
                      <a:pt x="1569720" y="655320"/>
                      <a:pt x="1549653" y="702649"/>
                      <a:pt x="1508760" y="716280"/>
                    </a:cubicBezTo>
                    <a:cubicBezTo>
                      <a:pt x="1462938" y="731554"/>
                      <a:pt x="1456711" y="729174"/>
                      <a:pt x="1417320" y="762000"/>
                    </a:cubicBezTo>
                    <a:cubicBezTo>
                      <a:pt x="1376304" y="796180"/>
                      <a:pt x="1374529" y="816578"/>
                      <a:pt x="1325880" y="838200"/>
                    </a:cubicBezTo>
                    <a:cubicBezTo>
                      <a:pt x="1296520" y="851249"/>
                      <a:pt x="1264920" y="858520"/>
                      <a:pt x="1234440" y="868680"/>
                    </a:cubicBezTo>
                    <a:lnTo>
                      <a:pt x="1188720" y="883920"/>
                    </a:lnTo>
                    <a:cubicBezTo>
                      <a:pt x="965275" y="866732"/>
                      <a:pt x="947420" y="883920"/>
                      <a:pt x="899160" y="883920"/>
                    </a:cubicBezTo>
                    <a:close/>
                  </a:path>
                </a:pathLst>
              </a:custGeom>
              <a:noFill/>
              <a:ln>
                <a:solidFill>
                  <a:srgbClr val="000000"/>
                </a:solidFill>
                <a:round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" name="TextBox 27"/>
              <p:cNvSpPr/>
              <p:nvPr/>
            </p:nvSpPr>
            <p:spPr>
              <a:xfrm>
                <a:off x="4728960" y="2881440"/>
                <a:ext cx="18349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建立联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组合 10"/>
            <p:cNvGrpSpPr/>
            <p:nvPr/>
          </p:nvGrpSpPr>
          <p:grpSpPr>
            <a:xfrm>
              <a:off x="6841080" y="2665440"/>
              <a:ext cx="1834920" cy="907200"/>
              <a:chOff x="6841080" y="2665440"/>
              <a:chExt cx="1834920" cy="907200"/>
            </a:xfrm>
          </p:grpSpPr>
          <p:sp>
            <p:nvSpPr>
              <p:cNvPr id="218" name="任意多边形 28"/>
              <p:cNvSpPr/>
              <p:nvPr/>
            </p:nvSpPr>
            <p:spPr>
              <a:xfrm>
                <a:off x="6913080" y="2665440"/>
                <a:ext cx="1690920" cy="907200"/>
              </a:xfrm>
              <a:custGeom>
                <a:avLst/>
                <a:gdLst>
                  <a:gd name="textAreaLeft" fmla="*/ 0 w 1690920"/>
                  <a:gd name="textAreaRight" fmla="*/ 1691280 w 1690920"/>
                  <a:gd name="textAreaTop" fmla="*/ 0 h 907200"/>
                  <a:gd name="textAreaBottom" fmla="*/ 907560 h 907200"/>
                </a:gdLst>
                <a:ahLst/>
                <a:rect l="textAreaLeft" t="textAreaTop" r="textAreaRight" b="textAreaBottom"/>
                <a:pathLst>
                  <a:path w="1691722" h="900726">
                    <a:moveTo>
                      <a:pt x="899160" y="883920"/>
                    </a:moveTo>
                    <a:lnTo>
                      <a:pt x="899160" y="883920"/>
                    </a:lnTo>
                    <a:cubicBezTo>
                      <a:pt x="756703" y="894095"/>
                      <a:pt x="583197" y="916019"/>
                      <a:pt x="441960" y="883920"/>
                    </a:cubicBezTo>
                    <a:cubicBezTo>
                      <a:pt x="406239" y="875801"/>
                      <a:pt x="381000" y="843280"/>
                      <a:pt x="350520" y="822960"/>
                    </a:cubicBezTo>
                    <a:cubicBezTo>
                      <a:pt x="202397" y="724212"/>
                      <a:pt x="474339" y="909823"/>
                      <a:pt x="213360" y="701040"/>
                    </a:cubicBezTo>
                    <a:cubicBezTo>
                      <a:pt x="165185" y="662500"/>
                      <a:pt x="78417" y="597686"/>
                      <a:pt x="45720" y="548640"/>
                    </a:cubicBezTo>
                    <a:lnTo>
                      <a:pt x="15240" y="502920"/>
                    </a:lnTo>
                    <a:cubicBezTo>
                      <a:pt x="10160" y="482600"/>
                      <a:pt x="0" y="462905"/>
                      <a:pt x="0" y="441960"/>
                    </a:cubicBezTo>
                    <a:cubicBezTo>
                      <a:pt x="0" y="411060"/>
                      <a:pt x="-330" y="377211"/>
                      <a:pt x="15240" y="350520"/>
                    </a:cubicBezTo>
                    <a:cubicBezTo>
                      <a:pt x="36959" y="313287"/>
                      <a:pt x="65787" y="272711"/>
                      <a:pt x="106680" y="259080"/>
                    </a:cubicBezTo>
                    <a:cubicBezTo>
                      <a:pt x="323981" y="186646"/>
                      <a:pt x="97853" y="259425"/>
                      <a:pt x="259080" y="213360"/>
                    </a:cubicBezTo>
                    <a:cubicBezTo>
                      <a:pt x="412125" y="169633"/>
                      <a:pt x="175189" y="230523"/>
                      <a:pt x="365760" y="182880"/>
                    </a:cubicBezTo>
                    <a:cubicBezTo>
                      <a:pt x="381000" y="172720"/>
                      <a:pt x="395400" y="161171"/>
                      <a:pt x="411480" y="152400"/>
                    </a:cubicBezTo>
                    <a:cubicBezTo>
                      <a:pt x="451369" y="130642"/>
                      <a:pt x="495594" y="116644"/>
                      <a:pt x="533400" y="91440"/>
                    </a:cubicBezTo>
                    <a:cubicBezTo>
                      <a:pt x="548640" y="81280"/>
                      <a:pt x="562737" y="69151"/>
                      <a:pt x="579120" y="60960"/>
                    </a:cubicBezTo>
                    <a:cubicBezTo>
                      <a:pt x="593488" y="53776"/>
                      <a:pt x="610472" y="52904"/>
                      <a:pt x="624840" y="45720"/>
                    </a:cubicBezTo>
                    <a:cubicBezTo>
                      <a:pt x="743013" y="-13366"/>
                      <a:pt x="601362" y="38306"/>
                      <a:pt x="716280" y="0"/>
                    </a:cubicBezTo>
                    <a:cubicBezTo>
                      <a:pt x="797560" y="5080"/>
                      <a:pt x="879310" y="5139"/>
                      <a:pt x="960120" y="15240"/>
                    </a:cubicBezTo>
                    <a:cubicBezTo>
                      <a:pt x="1001687" y="20436"/>
                      <a:pt x="1040405" y="41094"/>
                      <a:pt x="1082040" y="45720"/>
                    </a:cubicBezTo>
                    <a:lnTo>
                      <a:pt x="1219200" y="60960"/>
                    </a:lnTo>
                    <a:cubicBezTo>
                      <a:pt x="1239520" y="66040"/>
                      <a:pt x="1259552" y="72453"/>
                      <a:pt x="1280160" y="76200"/>
                    </a:cubicBezTo>
                    <a:cubicBezTo>
                      <a:pt x="1392470" y="96620"/>
                      <a:pt x="1393787" y="83596"/>
                      <a:pt x="1508760" y="121920"/>
                    </a:cubicBezTo>
                    <a:lnTo>
                      <a:pt x="1600200" y="152400"/>
                    </a:lnTo>
                    <a:cubicBezTo>
                      <a:pt x="1630680" y="182880"/>
                      <a:pt x="1694329" y="200819"/>
                      <a:pt x="1691640" y="243840"/>
                    </a:cubicBezTo>
                    <a:cubicBezTo>
                      <a:pt x="1686560" y="325120"/>
                      <a:pt x="1684925" y="406689"/>
                      <a:pt x="1676400" y="487680"/>
                    </a:cubicBezTo>
                    <a:cubicBezTo>
                      <a:pt x="1674718" y="503656"/>
                      <a:pt x="1668962" y="519357"/>
                      <a:pt x="1661160" y="533400"/>
                    </a:cubicBezTo>
                    <a:cubicBezTo>
                      <a:pt x="1643370" y="565422"/>
                      <a:pt x="1626103" y="598937"/>
                      <a:pt x="1600200" y="624840"/>
                    </a:cubicBezTo>
                    <a:cubicBezTo>
                      <a:pt x="1569720" y="655320"/>
                      <a:pt x="1549653" y="702649"/>
                      <a:pt x="1508760" y="716280"/>
                    </a:cubicBezTo>
                    <a:cubicBezTo>
                      <a:pt x="1462938" y="731554"/>
                      <a:pt x="1456711" y="729174"/>
                      <a:pt x="1417320" y="762000"/>
                    </a:cubicBezTo>
                    <a:cubicBezTo>
                      <a:pt x="1376304" y="796180"/>
                      <a:pt x="1374529" y="816578"/>
                      <a:pt x="1325880" y="838200"/>
                    </a:cubicBezTo>
                    <a:cubicBezTo>
                      <a:pt x="1296520" y="851249"/>
                      <a:pt x="1264920" y="858520"/>
                      <a:pt x="1234440" y="868680"/>
                    </a:cubicBezTo>
                    <a:lnTo>
                      <a:pt x="1188720" y="883920"/>
                    </a:lnTo>
                    <a:cubicBezTo>
                      <a:pt x="965275" y="866732"/>
                      <a:pt x="947420" y="883920"/>
                      <a:pt x="899160" y="883920"/>
                    </a:cubicBezTo>
                    <a:close/>
                  </a:path>
                </a:pathLst>
              </a:custGeom>
              <a:noFill/>
              <a:ln>
                <a:solidFill>
                  <a:srgbClr val="000000"/>
                </a:solidFill>
                <a:round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" name="TextBox 29"/>
              <p:cNvSpPr/>
              <p:nvPr/>
            </p:nvSpPr>
            <p:spPr>
              <a:xfrm>
                <a:off x="6841080" y="2881440"/>
                <a:ext cx="18349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描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图片 21" descr=""/>
            <p:cNvPicPr/>
            <p:nvPr/>
          </p:nvPicPr>
          <p:blipFill>
            <a:blip r:embed="rId1"/>
            <a:srcRect l="0" t="12752" r="0" b="16913"/>
            <a:stretch/>
          </p:blipFill>
          <p:spPr>
            <a:xfrm>
              <a:off x="536760" y="4149000"/>
              <a:ext cx="8070120" cy="75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1"/>
          <p:cNvSpPr/>
          <p:nvPr/>
        </p:nvSpPr>
        <p:spPr>
          <a:xfrm>
            <a:off x="971640" y="1268640"/>
            <a:ext cx="518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演示一开头就要取得受众的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认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2"/>
          <p:cNvGrpSpPr/>
          <p:nvPr/>
        </p:nvGrpSpPr>
        <p:grpSpPr>
          <a:xfrm>
            <a:off x="565200" y="2094480"/>
            <a:ext cx="7575480" cy="4060080"/>
            <a:chOff x="565200" y="2094480"/>
            <a:chExt cx="7575480" cy="4060080"/>
          </a:xfrm>
        </p:grpSpPr>
        <p:pic>
          <p:nvPicPr>
            <p:cNvPr id="224" name="图片 38" descr=""/>
            <p:cNvPicPr/>
            <p:nvPr/>
          </p:nvPicPr>
          <p:blipFill>
            <a:blip r:embed="rId1"/>
            <a:stretch/>
          </p:blipFill>
          <p:spPr>
            <a:xfrm rot="13372200">
              <a:off x="6038280" y="4314960"/>
              <a:ext cx="7488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图片 37" descr=""/>
            <p:cNvPicPr/>
            <p:nvPr/>
          </p:nvPicPr>
          <p:blipFill>
            <a:blip r:embed="rId2"/>
            <a:stretch/>
          </p:blipFill>
          <p:spPr>
            <a:xfrm rot="2410200">
              <a:off x="4528440" y="3316680"/>
              <a:ext cx="7488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36" descr=""/>
            <p:cNvPicPr/>
            <p:nvPr/>
          </p:nvPicPr>
          <p:blipFill>
            <a:blip r:embed="rId3"/>
            <a:stretch/>
          </p:blipFill>
          <p:spPr>
            <a:xfrm rot="13166400">
              <a:off x="2426040" y="4613760"/>
              <a:ext cx="7488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39" descr=""/>
            <p:cNvPicPr/>
            <p:nvPr/>
          </p:nvPicPr>
          <p:blipFill>
            <a:blip r:embed="rId4"/>
            <a:stretch/>
          </p:blipFill>
          <p:spPr>
            <a:xfrm rot="5025000">
              <a:off x="7139160" y="2824560"/>
              <a:ext cx="7488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24" descr=""/>
            <p:cNvPicPr/>
            <p:nvPr/>
          </p:nvPicPr>
          <p:blipFill>
            <a:blip r:embed="rId5"/>
            <a:stretch/>
          </p:blipFill>
          <p:spPr>
            <a:xfrm>
              <a:off x="1403640" y="3539880"/>
              <a:ext cx="74880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椭圆 12"/>
            <p:cNvSpPr/>
            <p:nvPr/>
          </p:nvSpPr>
          <p:spPr>
            <a:xfrm>
              <a:off x="1511640" y="3707640"/>
              <a:ext cx="539640" cy="45396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Mistr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直接连接符 3"/>
            <p:cNvCxnSpPr>
              <a:stCxn id="229" idx="5"/>
              <a:endCxn id="226" idx="3"/>
            </p:cNvCxnSpPr>
            <p:nvPr/>
          </p:nvCxnSpPr>
          <p:spPr>
            <a:xfrm>
              <a:off x="1972440" y="4095000"/>
              <a:ext cx="538560" cy="6634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  <p:cxnSp>
          <p:nvCxnSpPr>
            <p:cNvPr id="231" name="直接连接符 9"/>
            <p:cNvCxnSpPr>
              <a:stCxn id="226" idx="2"/>
              <a:endCxn id="225" idx="2"/>
            </p:cNvCxnSpPr>
            <p:nvPr/>
          </p:nvCxnSpPr>
          <p:spPr>
            <a:xfrm flipV="1">
              <a:off x="3043440" y="3992040"/>
              <a:ext cx="1612440" cy="70884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  <p:cxnSp>
          <p:nvCxnSpPr>
            <p:cNvPr id="232" name="直接连接符 11"/>
            <p:cNvCxnSpPr>
              <a:stCxn id="225" idx="3"/>
              <a:endCxn id="224" idx="3"/>
            </p:cNvCxnSpPr>
            <p:nvPr/>
          </p:nvCxnSpPr>
          <p:spPr>
            <a:xfrm>
              <a:off x="5189040" y="3941280"/>
              <a:ext cx="949680" cy="5014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  <p:cxnSp>
          <p:nvCxnSpPr>
            <p:cNvPr id="233" name="直接连接符 22"/>
            <p:cNvCxnSpPr>
              <a:stCxn id="224" idx="2"/>
            </p:cNvCxnSpPr>
            <p:nvPr/>
          </p:nvCxnSpPr>
          <p:spPr>
            <a:xfrm flipV="1">
              <a:off x="6673680" y="3468960"/>
              <a:ext cx="657720" cy="9478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  <p:sp>
          <p:nvSpPr>
            <p:cNvPr id="234" name="矩形 23"/>
            <p:cNvSpPr/>
            <p:nvPr/>
          </p:nvSpPr>
          <p:spPr>
            <a:xfrm>
              <a:off x="565200" y="2313360"/>
              <a:ext cx="2705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spcAft>
                  <a:spcPts val="1199"/>
                </a:spcAf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介绍一些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不会引起争议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的观点，只要大多数受众觉得它们是准确的、能被证实的就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26"/>
            <p:cNvSpPr/>
            <p:nvPr/>
          </p:nvSpPr>
          <p:spPr>
            <a:xfrm>
              <a:off x="1511640" y="5517360"/>
              <a:ext cx="1841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1199"/>
                </a:spcAf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为发言准备一些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原始资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27"/>
            <p:cNvSpPr/>
            <p:nvPr/>
          </p:nvSpPr>
          <p:spPr>
            <a:xfrm>
              <a:off x="3934440" y="2567520"/>
              <a:ext cx="2053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1199"/>
                </a:spcAf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让受众了解演示的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发展方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28"/>
            <p:cNvSpPr/>
            <p:nvPr/>
          </p:nvSpPr>
          <p:spPr>
            <a:xfrm>
              <a:off x="5076000" y="5241960"/>
              <a:ext cx="26164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让受众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建立信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认为演示是关于他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或者感兴趣的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0"/>
            <p:cNvSpPr/>
            <p:nvPr/>
          </p:nvSpPr>
          <p:spPr>
            <a:xfrm>
              <a:off x="6521400" y="2094480"/>
              <a:ext cx="1619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spcAft>
                  <a:spcPts val="1199"/>
                </a:spcAf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解释受众应该关注的</a:t>
              </a:r>
              <a:r>
                <a:rPr b="1" lang="en-US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“森林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42"/>
            <p:cNvSpPr/>
            <p:nvPr/>
          </p:nvSpPr>
          <p:spPr>
            <a:xfrm>
              <a:off x="2550600" y="4762440"/>
              <a:ext cx="467640" cy="46764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Mistr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43"/>
            <p:cNvSpPr/>
            <p:nvPr/>
          </p:nvSpPr>
          <p:spPr>
            <a:xfrm>
              <a:off x="4668840" y="3475080"/>
              <a:ext cx="467640" cy="46764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Mistr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44"/>
            <p:cNvSpPr/>
            <p:nvPr/>
          </p:nvSpPr>
          <p:spPr>
            <a:xfrm>
              <a:off x="6179040" y="4429080"/>
              <a:ext cx="467640" cy="46764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Mistr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45"/>
            <p:cNvSpPr/>
            <p:nvPr/>
          </p:nvSpPr>
          <p:spPr>
            <a:xfrm>
              <a:off x="7224840" y="3000960"/>
              <a:ext cx="467640" cy="46764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Mistr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标题 1"/>
          <p:cNvSpPr/>
          <p:nvPr/>
        </p:nvSpPr>
        <p:spPr>
          <a:xfrm>
            <a:off x="3192120" y="260640"/>
            <a:ext cx="5699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内容是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“国王”，</a:t>
            </a: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背景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是“王国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8"/>
          <p:cNvSpPr/>
          <p:nvPr/>
        </p:nvSpPr>
        <p:spPr>
          <a:xfrm>
            <a:off x="971640" y="1268640"/>
            <a:ext cx="432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既打动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专家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又打动 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门外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"/>
          <p:cNvGrpSpPr/>
          <p:nvPr/>
        </p:nvGrpSpPr>
        <p:grpSpPr>
          <a:xfrm>
            <a:off x="875880" y="1989000"/>
            <a:ext cx="7392240" cy="4342680"/>
            <a:chOff x="875880" y="1989000"/>
            <a:chExt cx="7392240" cy="4342680"/>
          </a:xfrm>
        </p:grpSpPr>
        <p:pic>
          <p:nvPicPr>
            <p:cNvPr id="246" name="Picture 2" descr=""/>
            <p:cNvPicPr/>
            <p:nvPr/>
          </p:nvPicPr>
          <p:blipFill>
            <a:blip r:embed="rId1"/>
            <a:stretch/>
          </p:blipFill>
          <p:spPr>
            <a:xfrm>
              <a:off x="1624680" y="373716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" descr=""/>
            <p:cNvPicPr/>
            <p:nvPr/>
          </p:nvPicPr>
          <p:blipFill>
            <a:blip r:embed="rId2"/>
            <a:stretch/>
          </p:blipFill>
          <p:spPr>
            <a:xfrm>
              <a:off x="5051520" y="392688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" descr=""/>
            <p:cNvPicPr/>
            <p:nvPr/>
          </p:nvPicPr>
          <p:blipFill>
            <a:blip r:embed="rId3"/>
            <a:stretch/>
          </p:blipFill>
          <p:spPr>
            <a:xfrm>
              <a:off x="2470680" y="373716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" descr=""/>
            <p:cNvPicPr/>
            <p:nvPr/>
          </p:nvPicPr>
          <p:blipFill>
            <a:blip r:embed="rId4"/>
            <a:stretch/>
          </p:blipFill>
          <p:spPr>
            <a:xfrm>
              <a:off x="4480920" y="392688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2" descr=""/>
            <p:cNvPicPr/>
            <p:nvPr/>
          </p:nvPicPr>
          <p:blipFill>
            <a:blip r:embed="rId5"/>
            <a:stretch/>
          </p:blipFill>
          <p:spPr>
            <a:xfrm>
              <a:off x="5566680" y="392688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" descr=""/>
            <p:cNvPicPr/>
            <p:nvPr/>
          </p:nvPicPr>
          <p:blipFill>
            <a:blip r:embed="rId6"/>
            <a:stretch/>
          </p:blipFill>
          <p:spPr>
            <a:xfrm>
              <a:off x="4230720" y="347256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2" descr=""/>
            <p:cNvPicPr/>
            <p:nvPr/>
          </p:nvPicPr>
          <p:blipFill>
            <a:blip r:embed="rId7"/>
            <a:stretch/>
          </p:blipFill>
          <p:spPr>
            <a:xfrm>
              <a:off x="5308920" y="344412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" descr=""/>
            <p:cNvPicPr/>
            <p:nvPr/>
          </p:nvPicPr>
          <p:blipFill>
            <a:blip r:embed="rId8"/>
            <a:stretch/>
          </p:blipFill>
          <p:spPr>
            <a:xfrm>
              <a:off x="4731120" y="346320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" descr=""/>
            <p:cNvPicPr/>
            <p:nvPr/>
          </p:nvPicPr>
          <p:blipFill>
            <a:blip r:embed="rId9"/>
            <a:stretch/>
          </p:blipFill>
          <p:spPr>
            <a:xfrm>
              <a:off x="7301160" y="375120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2" descr=""/>
            <p:cNvPicPr/>
            <p:nvPr/>
          </p:nvPicPr>
          <p:blipFill>
            <a:blip r:embed="rId10"/>
            <a:stretch/>
          </p:blipFill>
          <p:spPr>
            <a:xfrm>
              <a:off x="7733160" y="375120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图片 40" descr=""/>
            <p:cNvPicPr/>
            <p:nvPr/>
          </p:nvPicPr>
          <p:blipFill>
            <a:blip r:embed="rId11"/>
            <a:stretch/>
          </p:blipFill>
          <p:spPr>
            <a:xfrm>
              <a:off x="1620000" y="3088080"/>
              <a:ext cx="27288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图片 41" descr=""/>
            <p:cNvPicPr/>
            <p:nvPr/>
          </p:nvPicPr>
          <p:blipFill>
            <a:blip r:embed="rId12"/>
            <a:stretch/>
          </p:blipFill>
          <p:spPr>
            <a:xfrm>
              <a:off x="2470680" y="3088080"/>
              <a:ext cx="27288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图片 42" descr=""/>
            <p:cNvPicPr/>
            <p:nvPr/>
          </p:nvPicPr>
          <p:blipFill>
            <a:blip r:embed="rId13"/>
            <a:stretch/>
          </p:blipFill>
          <p:spPr>
            <a:xfrm>
              <a:off x="4376520" y="2997000"/>
              <a:ext cx="27288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图片 43" descr=""/>
            <p:cNvPicPr/>
            <p:nvPr/>
          </p:nvPicPr>
          <p:blipFill>
            <a:blip r:embed="rId14"/>
            <a:stretch/>
          </p:blipFill>
          <p:spPr>
            <a:xfrm>
              <a:off x="5577120" y="3065040"/>
              <a:ext cx="27288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图片 44" descr=""/>
            <p:cNvPicPr/>
            <p:nvPr/>
          </p:nvPicPr>
          <p:blipFill>
            <a:blip r:embed="rId15"/>
            <a:stretch/>
          </p:blipFill>
          <p:spPr>
            <a:xfrm>
              <a:off x="7116840" y="31032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图片 45" descr=""/>
            <p:cNvPicPr/>
            <p:nvPr/>
          </p:nvPicPr>
          <p:blipFill>
            <a:blip r:embed="rId16"/>
            <a:stretch/>
          </p:blipFill>
          <p:spPr>
            <a:xfrm>
              <a:off x="7661160" y="31032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62" name="直接连接符 46"/>
            <p:cNvCxnSpPr/>
            <p:nvPr/>
          </p:nvCxnSpPr>
          <p:spPr>
            <a:xfrm>
              <a:off x="2088360" y="2502000"/>
              <a:ext cx="312444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63" name="直接连接符 47"/>
            <p:cNvCxnSpPr/>
            <p:nvPr/>
          </p:nvCxnSpPr>
          <p:spPr>
            <a:xfrm>
              <a:off x="2088360" y="2502000"/>
              <a:ext cx="360" cy="3351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64" name="直接连接符 48"/>
            <p:cNvCxnSpPr/>
            <p:nvPr/>
          </p:nvCxnSpPr>
          <p:spPr>
            <a:xfrm>
              <a:off x="5212440" y="2502000"/>
              <a:ext cx="360" cy="3351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265" name="TextBox 49"/>
            <p:cNvSpPr/>
            <p:nvPr/>
          </p:nvSpPr>
          <p:spPr>
            <a:xfrm>
              <a:off x="875880" y="3457800"/>
              <a:ext cx="608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不感兴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50"/>
            <p:cNvSpPr/>
            <p:nvPr/>
          </p:nvSpPr>
          <p:spPr>
            <a:xfrm>
              <a:off x="3654720" y="3610440"/>
              <a:ext cx="3668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感兴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1"/>
            <p:cNvSpPr/>
            <p:nvPr/>
          </p:nvSpPr>
          <p:spPr>
            <a:xfrm>
              <a:off x="6657120" y="3825720"/>
              <a:ext cx="431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专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2"/>
            <p:cNvSpPr/>
            <p:nvPr/>
          </p:nvSpPr>
          <p:spPr>
            <a:xfrm>
              <a:off x="2088360" y="1989000"/>
              <a:ext cx="3132360" cy="9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代价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关注专家会把</a:t>
              </a:r>
              <a:r>
                <a:rPr b="0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8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个人抛之脑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9" name="直接连接符 27"/>
            <p:cNvCxnSpPr/>
            <p:nvPr/>
          </p:nvCxnSpPr>
          <p:spPr>
            <a:xfrm>
              <a:off x="2021760" y="5813280"/>
              <a:ext cx="550692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70" name="直接连接符 28"/>
            <p:cNvCxnSpPr/>
            <p:nvPr/>
          </p:nvCxnSpPr>
          <p:spPr>
            <a:xfrm>
              <a:off x="2021760" y="5478480"/>
              <a:ext cx="360" cy="3351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71" name="直接连接符 29"/>
            <p:cNvCxnSpPr/>
            <p:nvPr/>
          </p:nvCxnSpPr>
          <p:spPr>
            <a:xfrm>
              <a:off x="7534440" y="5478480"/>
              <a:ext cx="360" cy="3351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272" name="TextBox 30"/>
            <p:cNvSpPr/>
            <p:nvPr/>
          </p:nvSpPr>
          <p:spPr>
            <a:xfrm>
              <a:off x="3015720" y="5373360"/>
              <a:ext cx="3518280" cy="9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代价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介绍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基础知识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能满足大家的需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图片 31" descr=""/>
            <p:cNvPicPr/>
            <p:nvPr/>
          </p:nvPicPr>
          <p:blipFill>
            <a:blip r:embed="rId17"/>
            <a:stretch/>
          </p:blipFill>
          <p:spPr>
            <a:xfrm>
              <a:off x="717984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图片 32" descr=""/>
            <p:cNvPicPr/>
            <p:nvPr/>
          </p:nvPicPr>
          <p:blipFill>
            <a:blip r:embed="rId18"/>
            <a:stretch/>
          </p:blipFill>
          <p:spPr>
            <a:xfrm>
              <a:off x="772416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图片 33" descr=""/>
            <p:cNvPicPr/>
            <p:nvPr/>
          </p:nvPicPr>
          <p:blipFill>
            <a:blip r:embed="rId19"/>
            <a:stretch/>
          </p:blipFill>
          <p:spPr>
            <a:xfrm>
              <a:off x="160740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图片 34" descr=""/>
            <p:cNvPicPr/>
            <p:nvPr/>
          </p:nvPicPr>
          <p:blipFill>
            <a:blip r:embed="rId20"/>
            <a:stretch/>
          </p:blipFill>
          <p:spPr>
            <a:xfrm>
              <a:off x="241884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图片 35" descr=""/>
            <p:cNvPicPr/>
            <p:nvPr/>
          </p:nvPicPr>
          <p:blipFill>
            <a:blip r:embed="rId21"/>
            <a:stretch/>
          </p:blipFill>
          <p:spPr>
            <a:xfrm>
              <a:off x="452844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图片 53" descr=""/>
            <p:cNvPicPr/>
            <p:nvPr/>
          </p:nvPicPr>
          <p:blipFill>
            <a:blip r:embed="rId22"/>
            <a:stretch/>
          </p:blipFill>
          <p:spPr>
            <a:xfrm>
              <a:off x="529452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标题 1"/>
          <p:cNvSpPr/>
          <p:nvPr/>
        </p:nvSpPr>
        <p:spPr>
          <a:xfrm>
            <a:off x="3192120" y="260640"/>
            <a:ext cx="5699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内容是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“国王”，</a:t>
            </a: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背景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是“王国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3"/>
          <p:cNvSpPr/>
          <p:nvPr/>
        </p:nvSpPr>
        <p:spPr>
          <a:xfrm>
            <a:off x="971640" y="1268640"/>
            <a:ext cx="741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鼓励人们从一个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新的更加自然的角度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来了解你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3687120" y="260640"/>
            <a:ext cx="5204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会</a:t>
            </a: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讲故事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演示才是好演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"/>
          <p:cNvSpPr/>
          <p:nvPr/>
        </p:nvSpPr>
        <p:spPr>
          <a:xfrm>
            <a:off x="971640" y="3717000"/>
            <a:ext cx="3715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哪些情况下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不适合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讲故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971640" y="2937240"/>
            <a:ext cx="763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一个产品、观点或服务，如果从本质上讲是面向人的，往往适合被以讲故事这种方法来演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491120" y="4509000"/>
            <a:ext cx="2027880" cy="43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SzPct val="100000"/>
              <a:buBlip>
                <a:blip r:embed="rId1"/>
              </a:buBlip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演示某个过程：换轮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1287720" y="5061600"/>
            <a:ext cx="1418400" cy="43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SzPct val="100000"/>
              <a:buBlip>
                <a:blip r:embed="rId2"/>
              </a:buBlip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有时间的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1"/>
          <p:cNvSpPr/>
          <p:nvPr/>
        </p:nvSpPr>
        <p:spPr>
          <a:xfrm>
            <a:off x="971640" y="5595480"/>
            <a:ext cx="3502800" cy="43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SzPct val="100000"/>
              <a:buBlip>
                <a:blip r:embed="rId3"/>
              </a:buBlip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不赞赏讲故事的机构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"/>
          <p:cNvGrpSpPr/>
          <p:nvPr/>
        </p:nvGrpSpPr>
        <p:grpSpPr>
          <a:xfrm>
            <a:off x="1115640" y="2089080"/>
            <a:ext cx="4752360" cy="589320"/>
            <a:chOff x="1115640" y="2089080"/>
            <a:chExt cx="4752360" cy="589320"/>
          </a:xfrm>
        </p:grpSpPr>
        <p:sp>
          <p:nvSpPr>
            <p:cNvPr id="290" name="矩形 6"/>
            <p:cNvSpPr/>
            <p:nvPr/>
          </p:nvSpPr>
          <p:spPr>
            <a:xfrm>
              <a:off x="1690920" y="2101320"/>
              <a:ext cx="4177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无论何时，</a:t>
              </a: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讲故事</a:t>
              </a:r>
              <a:r>
                <a:rPr b="1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都非常有用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图片 12" descr=""/>
            <p:cNvPicPr/>
            <p:nvPr/>
          </p:nvPicPr>
          <p:blipFill>
            <a:blip r:embed="rId4"/>
            <a:stretch/>
          </p:blipFill>
          <p:spPr>
            <a:xfrm>
              <a:off x="1115640" y="2089080"/>
              <a:ext cx="569880" cy="54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2" name="图片 16" descr=""/>
          <p:cNvPicPr/>
          <p:nvPr/>
        </p:nvPicPr>
        <p:blipFill>
          <a:blip r:embed="rId5"/>
          <a:srcRect l="0" t="0" r="0" b="18354"/>
          <a:stretch/>
        </p:blipFill>
        <p:spPr>
          <a:xfrm>
            <a:off x="5482080" y="3645000"/>
            <a:ext cx="21859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3"/>
          <p:cNvSpPr/>
          <p:nvPr/>
        </p:nvSpPr>
        <p:spPr>
          <a:xfrm>
            <a:off x="971640" y="1268640"/>
            <a:ext cx="56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如何演示的主体是物品，怎样为它编故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3024720" y="2455920"/>
            <a:ext cx="2671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拟人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の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8"/>
          <p:cNvSpPr/>
          <p:nvPr/>
        </p:nvSpPr>
        <p:spPr>
          <a:xfrm>
            <a:off x="982080" y="4437000"/>
            <a:ext cx="5533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让观众从故事中看到自己的影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9"/>
          <p:cNvSpPr/>
          <p:nvPr/>
        </p:nvSpPr>
        <p:spPr>
          <a:xfrm>
            <a:off x="971640" y="3717000"/>
            <a:ext cx="49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加入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人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元素，你就是讲故事高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1" descr=""/>
          <p:cNvPicPr/>
          <p:nvPr/>
        </p:nvPicPr>
        <p:blipFill>
          <a:blip r:embed="rId1"/>
          <a:srcRect l="0" t="0" r="71784" b="56018"/>
          <a:stretch/>
        </p:blipFill>
        <p:spPr>
          <a:xfrm>
            <a:off x="1331640" y="1839240"/>
            <a:ext cx="1729440" cy="17510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2" descr=""/>
          <p:cNvPicPr/>
          <p:nvPr/>
        </p:nvPicPr>
        <p:blipFill>
          <a:blip r:embed="rId2"/>
          <a:srcRect l="67170" t="49994" r="0" b="0"/>
          <a:stretch/>
        </p:blipFill>
        <p:spPr>
          <a:xfrm>
            <a:off x="5659560" y="1784880"/>
            <a:ext cx="1879920" cy="18597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6" descr=""/>
          <p:cNvPicPr/>
          <p:nvPr/>
        </p:nvPicPr>
        <p:blipFill>
          <a:blip r:embed="rId3"/>
          <a:srcRect l="22817" t="23825" r="0" b="50574"/>
          <a:stretch/>
        </p:blipFill>
        <p:spPr>
          <a:xfrm>
            <a:off x="1042920" y="4869000"/>
            <a:ext cx="7057080" cy="1423440"/>
          </a:xfrm>
          <a:prstGeom prst="rect">
            <a:avLst/>
          </a:prstGeom>
          <a:ln w="0">
            <a:noFill/>
          </a:ln>
        </p:spPr>
      </p:pic>
      <p:sp>
        <p:nvSpPr>
          <p:cNvPr id="300" name="标题 1"/>
          <p:cNvSpPr/>
          <p:nvPr/>
        </p:nvSpPr>
        <p:spPr>
          <a:xfrm>
            <a:off x="3687120" y="260640"/>
            <a:ext cx="5204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会</a:t>
            </a: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讲故事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演示才是好演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3"/>
          <p:cNvSpPr/>
          <p:nvPr/>
        </p:nvSpPr>
        <p:spPr>
          <a:xfrm>
            <a:off x="1583640" y="2061000"/>
            <a:ext cx="59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我们来看一看鲍勃的故事    </a:t>
            </a:r>
            <a:r>
              <a:rPr b="0" lang="zh-CN" sz="3200" spc="-1" strike="noStrike">
                <a:solidFill>
                  <a:srgbClr val="00b050"/>
                </a:solidFill>
                <a:latin typeface="方正喵呜体"/>
                <a:ea typeface="方正喵呜体"/>
              </a:rPr>
              <a:t>他就和你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1"/>
          <p:cNvSpPr/>
          <p:nvPr/>
        </p:nvSpPr>
        <p:spPr>
          <a:xfrm>
            <a:off x="3871080" y="5589360"/>
            <a:ext cx="156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b050"/>
                </a:solidFill>
                <a:latin typeface="方正喵呜体"/>
                <a:ea typeface="方正喵呜体"/>
              </a:rPr>
              <a:t>你难道不想和鲍勃一样感到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愉快</a:t>
            </a:r>
            <a:r>
              <a:rPr b="0" lang="zh-CN" sz="3200" spc="-1" strike="noStrike">
                <a:solidFill>
                  <a:srgbClr val="00b050"/>
                </a:solidFill>
                <a:latin typeface="方正喵呜体"/>
                <a:ea typeface="方正喵呜体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971640" y="1268640"/>
            <a:ext cx="417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让演示出彩的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故事格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"/>
          <p:cNvGrpSpPr/>
          <p:nvPr/>
        </p:nvGrpSpPr>
        <p:grpSpPr>
          <a:xfrm>
            <a:off x="1786320" y="2926800"/>
            <a:ext cx="5521680" cy="2446200"/>
            <a:chOff x="1786320" y="2926800"/>
            <a:chExt cx="5521680" cy="2446200"/>
          </a:xfrm>
        </p:grpSpPr>
        <p:sp>
          <p:nvSpPr>
            <p:cNvPr id="306" name="TextBox 8"/>
            <p:cNvSpPr/>
            <p:nvPr/>
          </p:nvSpPr>
          <p:spPr>
            <a:xfrm>
              <a:off x="1786320" y="2926800"/>
              <a:ext cx="2410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Wingdings 2"/>
                  <a:ea typeface="方正喵呜体"/>
                </a:rPr>
                <a:t>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鲍勃遇到一个难题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心情很不好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9"/>
            <p:cNvSpPr/>
            <p:nvPr/>
          </p:nvSpPr>
          <p:spPr>
            <a:xfrm>
              <a:off x="4845600" y="2926800"/>
              <a:ext cx="2462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Wingdings 2"/>
                  <a:ea typeface="方正喵呜体"/>
                </a:rPr>
                <a:t>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现在，鲍勃找到了解决方法，感觉好极了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图片 26" descr=""/>
            <p:cNvPicPr/>
            <p:nvPr/>
          </p:nvPicPr>
          <p:blipFill>
            <a:blip r:embed="rId1"/>
            <a:srcRect l="27335" t="25892" r="45320" b="45657"/>
            <a:stretch/>
          </p:blipFill>
          <p:spPr>
            <a:xfrm>
              <a:off x="5457960" y="3777120"/>
              <a:ext cx="123732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图片 27" descr=""/>
            <p:cNvPicPr/>
            <p:nvPr/>
          </p:nvPicPr>
          <p:blipFill>
            <a:blip r:embed="rId2"/>
            <a:srcRect l="-493" t="26420" r="72190" b="48172"/>
            <a:stretch/>
          </p:blipFill>
          <p:spPr>
            <a:xfrm>
              <a:off x="2333520" y="3842640"/>
              <a:ext cx="1316880" cy="14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标题 1"/>
          <p:cNvSpPr/>
          <p:nvPr/>
        </p:nvSpPr>
        <p:spPr>
          <a:xfrm>
            <a:off x="3687120" y="260640"/>
            <a:ext cx="5204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会</a:t>
            </a: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讲故事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演示才是好演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3"/>
          <p:cNvSpPr/>
          <p:nvPr/>
        </p:nvSpPr>
        <p:spPr>
          <a:xfrm>
            <a:off x="971640" y="1268640"/>
            <a:ext cx="5524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建立联系</a:t>
            </a:r>
            <a:r>
              <a:rPr b="1" lang="en-US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类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标题 1"/>
          <p:cNvSpPr/>
          <p:nvPr/>
        </p:nvSpPr>
        <p:spPr>
          <a:xfrm>
            <a:off x="6660360" y="260640"/>
            <a:ext cx="2232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建立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16"/>
          <p:cNvGrpSpPr/>
          <p:nvPr/>
        </p:nvGrpSpPr>
        <p:grpSpPr>
          <a:xfrm>
            <a:off x="1187640" y="3517200"/>
            <a:ext cx="6696360" cy="2192400"/>
            <a:chOff x="1187640" y="3517200"/>
            <a:chExt cx="6696360" cy="2192400"/>
          </a:xfrm>
        </p:grpSpPr>
        <p:sp>
          <p:nvSpPr>
            <p:cNvPr id="316" name="矩形 14"/>
            <p:cNvSpPr/>
            <p:nvPr/>
          </p:nvSpPr>
          <p:spPr>
            <a:xfrm>
              <a:off x="1187640" y="3902040"/>
              <a:ext cx="21600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异形</a:t>
              </a:r>
              <a:r>
                <a:rPr b="1" lang="en-US" sz="72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 </a:t>
              </a:r>
              <a:r>
                <a:rPr b="1" lang="en-US" sz="8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 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11"/>
            <p:cNvSpPr/>
            <p:nvPr/>
          </p:nvSpPr>
          <p:spPr>
            <a:xfrm>
              <a:off x="4531680" y="4025160"/>
              <a:ext cx="32216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大白鲨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15"/>
            <p:cNvSpPr/>
            <p:nvPr/>
          </p:nvSpPr>
          <p:spPr>
            <a:xfrm>
              <a:off x="2989440" y="3517200"/>
              <a:ext cx="216000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3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=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组合 13"/>
            <p:cNvGrpSpPr/>
            <p:nvPr/>
          </p:nvGrpSpPr>
          <p:grpSpPr>
            <a:xfrm>
              <a:off x="7376400" y="3682800"/>
              <a:ext cx="507600" cy="915120"/>
              <a:chOff x="7376400" y="3682800"/>
              <a:chExt cx="507600" cy="915120"/>
            </a:xfrm>
          </p:grpSpPr>
          <p:sp>
            <p:nvSpPr>
              <p:cNvPr id="320" name="弦形 12"/>
              <p:cNvSpPr/>
              <p:nvPr/>
            </p:nvSpPr>
            <p:spPr>
              <a:xfrm>
                <a:off x="7376400" y="3682800"/>
                <a:ext cx="486360" cy="853560"/>
              </a:xfrm>
              <a:custGeom>
                <a:avLst/>
                <a:gdLst>
                  <a:gd name="textAreaLeft" fmla="*/ 0 w 486360"/>
                  <a:gd name="textAreaRight" fmla="*/ 486720 w 486360"/>
                  <a:gd name="textAreaTop" fmla="*/ 0 h 853560"/>
                  <a:gd name="textAreaBottom" fmla="*/ 853920 h 853560"/>
                </a:gdLst>
                <a:ahLst/>
                <a:rect l="textAreaLeft" t="textAreaTop" r="textAreaRight" b="textAreaBottom"/>
                <a:pathLst>
                  <a:path w="529581" h="715780">
                    <a:moveTo>
                      <a:pt x="487276" y="639163"/>
                    </a:moveTo>
                    <a:cubicBezTo>
                      <a:pt x="396218" y="722667"/>
                      <a:pt x="259032" y="739755"/>
                      <a:pt x="148696" y="681338"/>
                    </a:cubicBezTo>
                    <a:cubicBezTo>
                      <a:pt x="31829" y="619462"/>
                      <a:pt x="-25300" y="488777"/>
                      <a:pt x="10683" y="365626"/>
                    </a:cubicBezTo>
                    <a:cubicBezTo>
                      <a:pt x="45493" y="246491"/>
                      <a:pt x="205769" y="0"/>
                      <a:pt x="334954" y="0"/>
                    </a:cubicBezTo>
                    <a:cubicBezTo>
                      <a:pt x="553759" y="170070"/>
                      <a:pt x="561548" y="480816"/>
                      <a:pt x="487276" y="639163"/>
                    </a:cubicBezTo>
                    <a:close/>
                  </a:path>
                </a:pathLst>
              </a:custGeom>
              <a:solidFill>
                <a:srgbClr val="ff0000"/>
              </a:solidFill>
              <a:ln>
                <a:solidFill>
                  <a:srgbClr val="ff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1" name="矩形 6"/>
              <p:cNvSpPr/>
              <p:nvPr/>
            </p:nvSpPr>
            <p:spPr>
              <a:xfrm>
                <a:off x="7431120" y="3685320"/>
                <a:ext cx="45288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方正喵呜体"/>
                    <a:ea typeface="方正喵呜体"/>
                  </a:rPr>
                  <a:t>太空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矩形 17"/>
          <p:cNvSpPr/>
          <p:nvPr/>
        </p:nvSpPr>
        <p:spPr>
          <a:xfrm>
            <a:off x="971640" y="2421000"/>
            <a:ext cx="5256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知道甲吧，那就行，乙就像甲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为什么这么说呢？原因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36160" y="6526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标题 1"/>
          <p:cNvSpPr/>
          <p:nvPr/>
        </p:nvSpPr>
        <p:spPr>
          <a:xfrm>
            <a:off x="971640" y="260640"/>
            <a:ext cx="792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除了解释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“为什么”，还要回答</a:t>
            </a:r>
            <a:r>
              <a:rPr b="1" lang="en-US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“怎么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"/>
          <p:cNvSpPr/>
          <p:nvPr/>
        </p:nvSpPr>
        <p:spPr>
          <a:xfrm>
            <a:off x="971640" y="1268640"/>
            <a:ext cx="75603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问题由“ </a:t>
            </a:r>
            <a:r>
              <a:rPr b="1" lang="zh-CN" sz="20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我为什么应该关注这个 ？</a:t>
            </a:r>
            <a:r>
              <a:rPr b="1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”转化成“ </a:t>
            </a:r>
            <a:r>
              <a:rPr b="1" lang="zh-CN" sz="20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我该怎么使用 ？</a:t>
            </a:r>
            <a:r>
              <a:rPr b="0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2"/>
          <p:cNvGrpSpPr/>
          <p:nvPr/>
        </p:nvGrpSpPr>
        <p:grpSpPr>
          <a:xfrm>
            <a:off x="533880" y="2111400"/>
            <a:ext cx="8070120" cy="4120560"/>
            <a:chOff x="533880" y="2111400"/>
            <a:chExt cx="8070120" cy="4120560"/>
          </a:xfrm>
        </p:grpSpPr>
        <p:cxnSp>
          <p:nvCxnSpPr>
            <p:cNvPr id="328" name="直接连接符 6"/>
            <p:cNvCxnSpPr/>
            <p:nvPr/>
          </p:nvCxnSpPr>
          <p:spPr>
            <a:xfrm>
              <a:off x="533880" y="578196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cxnSp>
          <p:nvCxnSpPr>
            <p:cNvPr id="329" name="直接连接符 7"/>
            <p:cNvCxnSpPr/>
            <p:nvPr/>
          </p:nvCxnSpPr>
          <p:spPr>
            <a:xfrm flipH="1">
              <a:off x="6122880" y="580500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sp>
          <p:nvSpPr>
            <p:cNvPr id="330" name="TextBox 8"/>
            <p:cNvSpPr/>
            <p:nvPr/>
          </p:nvSpPr>
          <p:spPr>
            <a:xfrm>
              <a:off x="580680" y="586800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9"/>
            <p:cNvSpPr/>
            <p:nvPr/>
          </p:nvSpPr>
          <p:spPr>
            <a:xfrm>
              <a:off x="6105960" y="578592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图片 10" descr=""/>
            <p:cNvPicPr/>
            <p:nvPr/>
          </p:nvPicPr>
          <p:blipFill>
            <a:blip r:embed="rId1"/>
            <a:stretch/>
          </p:blipFill>
          <p:spPr>
            <a:xfrm>
              <a:off x="533880" y="4804560"/>
              <a:ext cx="807012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图片 23" descr=""/>
            <p:cNvPicPr/>
            <p:nvPr/>
          </p:nvPicPr>
          <p:blipFill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artisticPencilGrayscale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689760" y="2111400"/>
              <a:ext cx="7792200" cy="27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椭圆 18"/>
            <p:cNvSpPr/>
            <p:nvPr/>
          </p:nvSpPr>
          <p:spPr>
            <a:xfrm>
              <a:off x="3722760" y="3637800"/>
              <a:ext cx="150840" cy="15084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任意多边形 24"/>
            <p:cNvSpPr/>
            <p:nvPr/>
          </p:nvSpPr>
          <p:spPr>
            <a:xfrm>
              <a:off x="3760560" y="2111400"/>
              <a:ext cx="45360" cy="25974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597400"/>
                <a:gd name="textAreaBottom" fmla="*/ 2597760 h 2597400"/>
              </a:gdLst>
              <a:ahLst/>
              <a:rect l="textAreaLeft" t="textAreaTop" r="textAreaRight" b="textAreaBottom"/>
              <a:pathLst>
                <a:path w="15782" h="152400">
                  <a:moveTo>
                    <a:pt x="0" y="152400"/>
                  </a:moveTo>
                  <a:cubicBezTo>
                    <a:pt x="20221" y="51293"/>
                    <a:pt x="15240" y="102103"/>
                    <a:pt x="15240" y="0"/>
                  </a:cubicBezTo>
                </a:path>
              </a:pathLst>
            </a:custGeom>
            <a:noFill/>
            <a:ln>
              <a:solidFill>
                <a:srgbClr val="000000"/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任意多边形 29"/>
            <p:cNvSpPr/>
            <p:nvPr/>
          </p:nvSpPr>
          <p:spPr>
            <a:xfrm>
              <a:off x="725400" y="2111400"/>
              <a:ext cx="7756920" cy="2726280"/>
            </a:xfrm>
            <a:custGeom>
              <a:avLst/>
              <a:gdLst>
                <a:gd name="textAreaLeft" fmla="*/ 0 w 7756920"/>
                <a:gd name="textAreaRight" fmla="*/ 7757280 w 7756920"/>
                <a:gd name="textAreaTop" fmla="*/ 0 h 2726280"/>
                <a:gd name="textAreaBottom" fmla="*/ 2726640 h 2726280"/>
              </a:gdLst>
              <a:ahLst/>
              <a:rect l="textAreaLeft" t="textAreaTop" r="textAreaRight" b="textAreaBottom"/>
              <a:pathLst>
                <a:path w="7757160" h="2697480">
                  <a:moveTo>
                    <a:pt x="7513320" y="30480"/>
                  </a:moveTo>
                  <a:lnTo>
                    <a:pt x="7513320" y="30480"/>
                  </a:lnTo>
                  <a:lnTo>
                    <a:pt x="536448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720" y="2621280"/>
                  </a:lnTo>
                  <a:lnTo>
                    <a:pt x="7757160" y="2697480"/>
                  </a:lnTo>
                  <a:lnTo>
                    <a:pt x="7680960" y="15240"/>
                  </a:lnTo>
                  <a:lnTo>
                    <a:pt x="7513320" y="30480"/>
                  </a:ln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任意多边形 31"/>
            <p:cNvSpPr/>
            <p:nvPr/>
          </p:nvSpPr>
          <p:spPr>
            <a:xfrm>
              <a:off x="777600" y="2111400"/>
              <a:ext cx="7632360" cy="2613240"/>
            </a:xfrm>
            <a:custGeom>
              <a:avLst/>
              <a:gdLst>
                <a:gd name="textAreaLeft" fmla="*/ 0 w 7632360"/>
                <a:gd name="textAreaRight" fmla="*/ 7632720 w 7632360"/>
                <a:gd name="textAreaTop" fmla="*/ 0 h 2613240"/>
                <a:gd name="textAreaBottom" fmla="*/ 2613600 h 2613240"/>
              </a:gdLst>
              <a:ahLst/>
              <a:rect l="textAreaLeft" t="textAreaTop" r="textAreaRight" b="textAreaBottom"/>
              <a:pathLst>
                <a:path w="7498119" h="2514600">
                  <a:moveTo>
                    <a:pt x="0" y="2514600"/>
                  </a:moveTo>
                  <a:lnTo>
                    <a:pt x="0" y="2514600"/>
                  </a:lnTo>
                  <a:cubicBezTo>
                    <a:pt x="40640" y="2494280"/>
                    <a:pt x="80157" y="2471538"/>
                    <a:pt x="121920" y="2453640"/>
                  </a:cubicBezTo>
                  <a:cubicBezTo>
                    <a:pt x="151451" y="2440984"/>
                    <a:pt x="186627" y="2440982"/>
                    <a:pt x="213360" y="2423160"/>
                  </a:cubicBezTo>
                  <a:cubicBezTo>
                    <a:pt x="263454" y="2389764"/>
                    <a:pt x="249591" y="2393214"/>
                    <a:pt x="304800" y="2377440"/>
                  </a:cubicBezTo>
                  <a:cubicBezTo>
                    <a:pt x="414313" y="2346151"/>
                    <a:pt x="316254" y="2378387"/>
                    <a:pt x="441960" y="2346960"/>
                  </a:cubicBezTo>
                  <a:cubicBezTo>
                    <a:pt x="457545" y="2343064"/>
                    <a:pt x="471875" y="2334594"/>
                    <a:pt x="487680" y="2331720"/>
                  </a:cubicBezTo>
                  <a:cubicBezTo>
                    <a:pt x="615690" y="2308446"/>
                    <a:pt x="577381" y="2329194"/>
                    <a:pt x="670560" y="2301240"/>
                  </a:cubicBezTo>
                  <a:cubicBezTo>
                    <a:pt x="701334" y="2292008"/>
                    <a:pt x="731520" y="2280920"/>
                    <a:pt x="762000" y="2270760"/>
                  </a:cubicBezTo>
                  <a:cubicBezTo>
                    <a:pt x="832452" y="2247276"/>
                    <a:pt x="901503" y="2222110"/>
                    <a:pt x="975360" y="2209800"/>
                  </a:cubicBezTo>
                  <a:cubicBezTo>
                    <a:pt x="1036320" y="2199640"/>
                    <a:pt x="1099611" y="2198863"/>
                    <a:pt x="1158240" y="2179320"/>
                  </a:cubicBezTo>
                  <a:cubicBezTo>
                    <a:pt x="1216555" y="2159882"/>
                    <a:pt x="1253059" y="2145116"/>
                    <a:pt x="1310640" y="2133600"/>
                  </a:cubicBezTo>
                  <a:cubicBezTo>
                    <a:pt x="1340940" y="2127540"/>
                    <a:pt x="1371600" y="2123440"/>
                    <a:pt x="1402080" y="2118360"/>
                  </a:cubicBezTo>
                  <a:cubicBezTo>
                    <a:pt x="1478147" y="2067649"/>
                    <a:pt x="1421911" y="2096106"/>
                    <a:pt x="1539240" y="2072640"/>
                  </a:cubicBezTo>
                  <a:cubicBezTo>
                    <a:pt x="1618645" y="2056759"/>
                    <a:pt x="1578136" y="2061527"/>
                    <a:pt x="1645920" y="2042160"/>
                  </a:cubicBezTo>
                  <a:cubicBezTo>
                    <a:pt x="1666059" y="2036406"/>
                    <a:pt x="1686818" y="2032939"/>
                    <a:pt x="1706880" y="2026920"/>
                  </a:cubicBezTo>
                  <a:cubicBezTo>
                    <a:pt x="1737654" y="2017688"/>
                    <a:pt x="1767151" y="2004232"/>
                    <a:pt x="1798320" y="1996440"/>
                  </a:cubicBezTo>
                  <a:cubicBezTo>
                    <a:pt x="1818640" y="1991360"/>
                    <a:pt x="1839218" y="1987219"/>
                    <a:pt x="1859280" y="1981200"/>
                  </a:cubicBezTo>
                  <a:cubicBezTo>
                    <a:pt x="1890054" y="1971968"/>
                    <a:pt x="1920240" y="1960880"/>
                    <a:pt x="1950720" y="1950720"/>
                  </a:cubicBezTo>
                  <a:lnTo>
                    <a:pt x="2042160" y="1920240"/>
                  </a:lnTo>
                  <a:cubicBezTo>
                    <a:pt x="2057400" y="1915160"/>
                    <a:pt x="2073512" y="1912184"/>
                    <a:pt x="2087880" y="1905000"/>
                  </a:cubicBezTo>
                  <a:cubicBezTo>
                    <a:pt x="2108200" y="1894840"/>
                    <a:pt x="2126800" y="1880030"/>
                    <a:pt x="2148840" y="1874520"/>
                  </a:cubicBezTo>
                  <a:cubicBezTo>
                    <a:pt x="2188573" y="1864587"/>
                    <a:pt x="2230120" y="1864360"/>
                    <a:pt x="2270760" y="1859280"/>
                  </a:cubicBezTo>
                  <a:cubicBezTo>
                    <a:pt x="2488061" y="1786846"/>
                    <a:pt x="2261933" y="1859625"/>
                    <a:pt x="2423160" y="1813560"/>
                  </a:cubicBezTo>
                  <a:cubicBezTo>
                    <a:pt x="2438606" y="1809147"/>
                    <a:pt x="2453434" y="1802733"/>
                    <a:pt x="2468880" y="1798320"/>
                  </a:cubicBezTo>
                  <a:cubicBezTo>
                    <a:pt x="2489019" y="1792566"/>
                    <a:pt x="2510228" y="1790434"/>
                    <a:pt x="2529840" y="1783080"/>
                  </a:cubicBezTo>
                  <a:cubicBezTo>
                    <a:pt x="2551112" y="1775103"/>
                    <a:pt x="2569706" y="1761037"/>
                    <a:pt x="2590800" y="1752600"/>
                  </a:cubicBezTo>
                  <a:cubicBezTo>
                    <a:pt x="2620631" y="1740668"/>
                    <a:pt x="2655507" y="1739942"/>
                    <a:pt x="2682240" y="1722120"/>
                  </a:cubicBezTo>
                  <a:cubicBezTo>
                    <a:pt x="2813267" y="1634769"/>
                    <a:pt x="2647487" y="1739496"/>
                    <a:pt x="2773680" y="1676400"/>
                  </a:cubicBezTo>
                  <a:cubicBezTo>
                    <a:pt x="2862111" y="1632184"/>
                    <a:pt x="2773487" y="1655517"/>
                    <a:pt x="2880360" y="1615440"/>
                  </a:cubicBezTo>
                  <a:cubicBezTo>
                    <a:pt x="2899972" y="1608086"/>
                    <a:pt x="2921595" y="1607245"/>
                    <a:pt x="2941320" y="1600200"/>
                  </a:cubicBezTo>
                  <a:cubicBezTo>
                    <a:pt x="2992846" y="1581798"/>
                    <a:pt x="3041814" y="1556542"/>
                    <a:pt x="3093720" y="1539240"/>
                  </a:cubicBezTo>
                  <a:lnTo>
                    <a:pt x="3185160" y="1508760"/>
                  </a:lnTo>
                  <a:cubicBezTo>
                    <a:pt x="3200400" y="1503680"/>
                    <a:pt x="3216512" y="1500704"/>
                    <a:pt x="3230880" y="1493520"/>
                  </a:cubicBezTo>
                  <a:cubicBezTo>
                    <a:pt x="3433059" y="1392431"/>
                    <a:pt x="3180591" y="1515073"/>
                    <a:pt x="3337560" y="1447800"/>
                  </a:cubicBezTo>
                  <a:cubicBezTo>
                    <a:pt x="3358442" y="1438851"/>
                    <a:pt x="3377248" y="1425297"/>
                    <a:pt x="3398520" y="1417320"/>
                  </a:cubicBezTo>
                  <a:cubicBezTo>
                    <a:pt x="3418132" y="1409966"/>
                    <a:pt x="3440146" y="1410136"/>
                    <a:pt x="3459480" y="1402080"/>
                  </a:cubicBezTo>
                  <a:cubicBezTo>
                    <a:pt x="3501422" y="1384604"/>
                    <a:pt x="3538295" y="1355488"/>
                    <a:pt x="3581400" y="1341120"/>
                  </a:cubicBezTo>
                  <a:cubicBezTo>
                    <a:pt x="3596640" y="1336040"/>
                    <a:pt x="3612496" y="1332527"/>
                    <a:pt x="3627120" y="1325880"/>
                  </a:cubicBezTo>
                  <a:cubicBezTo>
                    <a:pt x="3668484" y="1307078"/>
                    <a:pt x="3705935" y="1279288"/>
                    <a:pt x="3749040" y="1264920"/>
                  </a:cubicBezTo>
                  <a:cubicBezTo>
                    <a:pt x="3764280" y="1259840"/>
                    <a:pt x="3780392" y="1256864"/>
                    <a:pt x="3794760" y="1249680"/>
                  </a:cubicBezTo>
                  <a:cubicBezTo>
                    <a:pt x="3900006" y="1197057"/>
                    <a:pt x="3774569" y="1235678"/>
                    <a:pt x="3901440" y="1203960"/>
                  </a:cubicBezTo>
                  <a:cubicBezTo>
                    <a:pt x="3916680" y="1193800"/>
                    <a:pt x="3930422" y="1180919"/>
                    <a:pt x="3947160" y="1173480"/>
                  </a:cubicBezTo>
                  <a:cubicBezTo>
                    <a:pt x="3976520" y="1160431"/>
                    <a:pt x="4008120" y="1153160"/>
                    <a:pt x="4038600" y="1143000"/>
                  </a:cubicBezTo>
                  <a:cubicBezTo>
                    <a:pt x="4053840" y="1137920"/>
                    <a:pt x="4069952" y="1134944"/>
                    <a:pt x="4084320" y="1127760"/>
                  </a:cubicBezTo>
                  <a:cubicBezTo>
                    <a:pt x="4104640" y="1117600"/>
                    <a:pt x="4124186" y="1105717"/>
                    <a:pt x="4145280" y="1097280"/>
                  </a:cubicBezTo>
                  <a:lnTo>
                    <a:pt x="4282440" y="1051560"/>
                  </a:lnTo>
                  <a:lnTo>
                    <a:pt x="4328160" y="1036320"/>
                  </a:lnTo>
                  <a:cubicBezTo>
                    <a:pt x="4343400" y="1031240"/>
                    <a:pt x="4358295" y="1024976"/>
                    <a:pt x="4373880" y="1021080"/>
                  </a:cubicBezTo>
                  <a:lnTo>
                    <a:pt x="4434840" y="1005840"/>
                  </a:lnTo>
                  <a:cubicBezTo>
                    <a:pt x="4507376" y="957483"/>
                    <a:pt x="4452055" y="986960"/>
                    <a:pt x="4541520" y="960120"/>
                  </a:cubicBezTo>
                  <a:cubicBezTo>
                    <a:pt x="4572294" y="950888"/>
                    <a:pt x="4602480" y="939800"/>
                    <a:pt x="4632960" y="929640"/>
                  </a:cubicBezTo>
                  <a:cubicBezTo>
                    <a:pt x="4652831" y="923016"/>
                    <a:pt x="4673781" y="920154"/>
                    <a:pt x="4693920" y="914400"/>
                  </a:cubicBezTo>
                  <a:cubicBezTo>
                    <a:pt x="4709366" y="909987"/>
                    <a:pt x="4723835" y="902034"/>
                    <a:pt x="4739640" y="899160"/>
                  </a:cubicBezTo>
                  <a:cubicBezTo>
                    <a:pt x="4779936" y="891834"/>
                    <a:pt x="4821015" y="889712"/>
                    <a:pt x="4861560" y="883920"/>
                  </a:cubicBezTo>
                  <a:cubicBezTo>
                    <a:pt x="4892150" y="879550"/>
                    <a:pt x="4922835" y="875383"/>
                    <a:pt x="4953000" y="868680"/>
                  </a:cubicBezTo>
                  <a:cubicBezTo>
                    <a:pt x="4968682" y="865195"/>
                    <a:pt x="4983274" y="857853"/>
                    <a:pt x="4998720" y="853440"/>
                  </a:cubicBezTo>
                  <a:cubicBezTo>
                    <a:pt x="5018859" y="847686"/>
                    <a:pt x="5039233" y="842744"/>
                    <a:pt x="5059680" y="838200"/>
                  </a:cubicBezTo>
                  <a:cubicBezTo>
                    <a:pt x="5084966" y="832581"/>
                    <a:pt x="5110750" y="829242"/>
                    <a:pt x="5135880" y="822960"/>
                  </a:cubicBezTo>
                  <a:cubicBezTo>
                    <a:pt x="5151465" y="819064"/>
                    <a:pt x="5166015" y="811616"/>
                    <a:pt x="5181600" y="807720"/>
                  </a:cubicBezTo>
                  <a:cubicBezTo>
                    <a:pt x="5206730" y="801438"/>
                    <a:pt x="5232810" y="799296"/>
                    <a:pt x="5257800" y="792480"/>
                  </a:cubicBezTo>
                  <a:cubicBezTo>
                    <a:pt x="5288797" y="784026"/>
                    <a:pt x="5318760" y="772160"/>
                    <a:pt x="5349240" y="762000"/>
                  </a:cubicBezTo>
                  <a:cubicBezTo>
                    <a:pt x="5364480" y="756920"/>
                    <a:pt x="5381594" y="755671"/>
                    <a:pt x="5394960" y="746760"/>
                  </a:cubicBezTo>
                  <a:cubicBezTo>
                    <a:pt x="5410200" y="736600"/>
                    <a:pt x="5423942" y="723719"/>
                    <a:pt x="5440680" y="716280"/>
                  </a:cubicBezTo>
                  <a:cubicBezTo>
                    <a:pt x="5470040" y="703231"/>
                    <a:pt x="5505387" y="703622"/>
                    <a:pt x="5532120" y="685800"/>
                  </a:cubicBezTo>
                  <a:cubicBezTo>
                    <a:pt x="5735088" y="550488"/>
                    <a:pt x="5434271" y="745240"/>
                    <a:pt x="5623560" y="640080"/>
                  </a:cubicBezTo>
                  <a:cubicBezTo>
                    <a:pt x="5655582" y="622290"/>
                    <a:pt x="5680247" y="590704"/>
                    <a:pt x="5715000" y="579120"/>
                  </a:cubicBezTo>
                  <a:cubicBezTo>
                    <a:pt x="5829918" y="540814"/>
                    <a:pt x="5688267" y="592486"/>
                    <a:pt x="5806440" y="533400"/>
                  </a:cubicBezTo>
                  <a:cubicBezTo>
                    <a:pt x="5820808" y="526216"/>
                    <a:pt x="5837792" y="525344"/>
                    <a:pt x="5852160" y="518160"/>
                  </a:cubicBezTo>
                  <a:cubicBezTo>
                    <a:pt x="5868543" y="509969"/>
                    <a:pt x="5881497" y="495871"/>
                    <a:pt x="5897880" y="487680"/>
                  </a:cubicBezTo>
                  <a:cubicBezTo>
                    <a:pt x="5941483" y="465878"/>
                    <a:pt x="5988214" y="468907"/>
                    <a:pt x="6035040" y="457200"/>
                  </a:cubicBezTo>
                  <a:cubicBezTo>
                    <a:pt x="6066209" y="449408"/>
                    <a:pt x="6094975" y="433021"/>
                    <a:pt x="6126480" y="426720"/>
                  </a:cubicBezTo>
                  <a:cubicBezTo>
                    <a:pt x="6151880" y="421640"/>
                    <a:pt x="6177394" y="417099"/>
                    <a:pt x="6202680" y="411480"/>
                  </a:cubicBezTo>
                  <a:cubicBezTo>
                    <a:pt x="6284880" y="393213"/>
                    <a:pt x="6247911" y="396321"/>
                    <a:pt x="6339840" y="381000"/>
                  </a:cubicBezTo>
                  <a:cubicBezTo>
                    <a:pt x="6375272" y="375095"/>
                    <a:pt x="6411088" y="371665"/>
                    <a:pt x="6446520" y="365760"/>
                  </a:cubicBezTo>
                  <a:cubicBezTo>
                    <a:pt x="6655970" y="330852"/>
                    <a:pt x="6349831" y="372131"/>
                    <a:pt x="6644640" y="335280"/>
                  </a:cubicBezTo>
                  <a:cubicBezTo>
                    <a:pt x="6659880" y="330200"/>
                    <a:pt x="6674914" y="324453"/>
                    <a:pt x="6690360" y="320040"/>
                  </a:cubicBezTo>
                  <a:cubicBezTo>
                    <a:pt x="6710499" y="314286"/>
                    <a:pt x="6732068" y="313051"/>
                    <a:pt x="6751320" y="304800"/>
                  </a:cubicBezTo>
                  <a:cubicBezTo>
                    <a:pt x="6768155" y="297585"/>
                    <a:pt x="6780657" y="282511"/>
                    <a:pt x="6797040" y="274320"/>
                  </a:cubicBezTo>
                  <a:cubicBezTo>
                    <a:pt x="6811408" y="267136"/>
                    <a:pt x="6828717" y="266882"/>
                    <a:pt x="6842760" y="259080"/>
                  </a:cubicBezTo>
                  <a:cubicBezTo>
                    <a:pt x="6934766" y="207965"/>
                    <a:pt x="6912807" y="200581"/>
                    <a:pt x="6995160" y="167640"/>
                  </a:cubicBezTo>
                  <a:lnTo>
                    <a:pt x="7132320" y="121920"/>
                  </a:lnTo>
                  <a:cubicBezTo>
                    <a:pt x="7147560" y="116840"/>
                    <a:pt x="7164674" y="115591"/>
                    <a:pt x="7178040" y="106680"/>
                  </a:cubicBezTo>
                  <a:cubicBezTo>
                    <a:pt x="7213146" y="83276"/>
                    <a:pt x="7227416" y="67971"/>
                    <a:pt x="7269480" y="60960"/>
                  </a:cubicBezTo>
                  <a:cubicBezTo>
                    <a:pt x="7314855" y="53397"/>
                    <a:pt x="7360920" y="50800"/>
                    <a:pt x="7406640" y="45720"/>
                  </a:cubicBezTo>
                  <a:cubicBezTo>
                    <a:pt x="7502899" y="13634"/>
                    <a:pt x="7498080" y="47369"/>
                    <a:pt x="7498080" y="0"/>
                  </a:cubicBezTo>
                  <a:lnTo>
                    <a:pt x="7498080" y="0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8" name="TextBox 32"/>
            <p:cNvSpPr/>
            <p:nvPr/>
          </p:nvSpPr>
          <p:spPr>
            <a:xfrm>
              <a:off x="6171480" y="3304440"/>
              <a:ext cx="1401120" cy="455400"/>
            </a:xfrm>
            <a:custGeom>
              <a:avLst/>
              <a:gdLst>
                <a:gd name="textAreaLeft" fmla="*/ 0 w 1401120"/>
                <a:gd name="textAreaRight" fmla="*/ 1401480 w 140112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01595" h="492145">
                  <a:moveTo>
                    <a:pt x="30480" y="0"/>
                  </a:moveTo>
                  <a:lnTo>
                    <a:pt x="1386355" y="30480"/>
                  </a:lnTo>
                  <a:lnTo>
                    <a:pt x="1401595" y="461665"/>
                  </a:lnTo>
                  <a:lnTo>
                    <a:pt x="0" y="492145"/>
                  </a:lnTo>
                  <a:lnTo>
                    <a:pt x="3048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怎么做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3"/>
            <p:cNvSpPr/>
            <p:nvPr/>
          </p:nvSpPr>
          <p:spPr>
            <a:xfrm>
              <a:off x="1209600" y="3255480"/>
              <a:ext cx="1431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为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4"/>
            <p:cNvSpPr/>
            <p:nvPr/>
          </p:nvSpPr>
          <p:spPr>
            <a:xfrm>
              <a:off x="3867840" y="2135520"/>
              <a:ext cx="20523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0000"/>
                  </a:solidFill>
                  <a:latin typeface="方正静蕾简体"/>
                  <a:ea typeface="方正静蕾简体"/>
                </a:rPr>
                <a:t>“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静蕾简体"/>
                  <a:ea typeface="方正静蕾简体"/>
                </a:rPr>
                <a:t>怎么做”超过“为什么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1" name="曲线连接符 36"/>
            <p:cNvCxnSpPr/>
            <p:nvPr/>
          </p:nvCxnSpPr>
          <p:spPr>
            <a:xfrm flipV="1" rot="10800000">
              <a:off x="3873960" y="2843280"/>
              <a:ext cx="432360" cy="794520"/>
            </a:xfrm>
            <a:prstGeom prst="curvedConnector2">
              <a:avLst/>
            </a:prstGeom>
            <a:ln w="28575">
              <a:solidFill>
                <a:srgbClr val="ff0000"/>
              </a:solidFill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15120" y="-27360"/>
            <a:ext cx="2577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8"/>
          <p:cNvGrpSpPr/>
          <p:nvPr/>
        </p:nvGrpSpPr>
        <p:grpSpPr>
          <a:xfrm>
            <a:off x="285840" y="2526480"/>
            <a:ext cx="3024000" cy="2565360"/>
            <a:chOff x="285840" y="2526480"/>
            <a:chExt cx="3024000" cy="2565360"/>
          </a:xfrm>
        </p:grpSpPr>
        <p:grpSp>
          <p:nvGrpSpPr>
            <p:cNvPr id="63" name="组合 5"/>
            <p:cNvGrpSpPr/>
            <p:nvPr/>
          </p:nvGrpSpPr>
          <p:grpSpPr>
            <a:xfrm>
              <a:off x="1113840" y="2526480"/>
              <a:ext cx="1368000" cy="1308960"/>
              <a:chOff x="1113840" y="2526480"/>
              <a:chExt cx="1368000" cy="1308960"/>
            </a:xfrm>
          </p:grpSpPr>
          <p:sp>
            <p:nvSpPr>
              <p:cNvPr id="64" name="椭圆 6"/>
              <p:cNvSpPr/>
              <p:nvPr/>
            </p:nvSpPr>
            <p:spPr>
              <a:xfrm>
                <a:off x="1113840" y="252648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5" name="TextBox 7"/>
              <p:cNvSpPr/>
              <p:nvPr/>
            </p:nvSpPr>
            <p:spPr>
              <a:xfrm>
                <a:off x="1158120" y="2878560"/>
                <a:ext cx="1323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1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14"/>
            <p:cNvSpPr/>
            <p:nvPr/>
          </p:nvSpPr>
          <p:spPr>
            <a:xfrm>
              <a:off x="285840" y="4149000"/>
              <a:ext cx="302400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为演示制定计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步步为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9"/>
          <p:cNvGrpSpPr/>
          <p:nvPr/>
        </p:nvGrpSpPr>
        <p:grpSpPr>
          <a:xfrm>
            <a:off x="3702600" y="2547360"/>
            <a:ext cx="2219040" cy="2565720"/>
            <a:chOff x="3702600" y="2547360"/>
            <a:chExt cx="2219040" cy="2565720"/>
          </a:xfrm>
        </p:grpSpPr>
        <p:grpSp>
          <p:nvGrpSpPr>
            <p:cNvPr id="68" name="组合 8"/>
            <p:cNvGrpSpPr/>
            <p:nvPr/>
          </p:nvGrpSpPr>
          <p:grpSpPr>
            <a:xfrm>
              <a:off x="4056480" y="2547360"/>
              <a:ext cx="1511640" cy="1308960"/>
              <a:chOff x="4056480" y="2547360"/>
              <a:chExt cx="1511640" cy="1308960"/>
            </a:xfrm>
          </p:grpSpPr>
          <p:sp>
            <p:nvSpPr>
              <p:cNvPr id="69" name="椭圆 9"/>
              <p:cNvSpPr/>
              <p:nvPr/>
            </p:nvSpPr>
            <p:spPr>
              <a:xfrm>
                <a:off x="4128480" y="254736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0" name="TextBox 10"/>
              <p:cNvSpPr/>
              <p:nvPr/>
            </p:nvSpPr>
            <p:spPr>
              <a:xfrm>
                <a:off x="4056480" y="2878560"/>
                <a:ext cx="15116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2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Box 15"/>
            <p:cNvSpPr/>
            <p:nvPr/>
          </p:nvSpPr>
          <p:spPr>
            <a:xfrm>
              <a:off x="3702600" y="4170240"/>
              <a:ext cx="221904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让你的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非同凡“想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0"/>
          <p:cNvGrpSpPr/>
          <p:nvPr/>
        </p:nvGrpSpPr>
        <p:grpSpPr>
          <a:xfrm>
            <a:off x="6432120" y="2526480"/>
            <a:ext cx="2369520" cy="2565360"/>
            <a:chOff x="6432120" y="2526480"/>
            <a:chExt cx="2369520" cy="2565360"/>
          </a:xfrm>
        </p:grpSpPr>
        <p:grpSp>
          <p:nvGrpSpPr>
            <p:cNvPr id="73" name="组合 11"/>
            <p:cNvGrpSpPr/>
            <p:nvPr/>
          </p:nvGrpSpPr>
          <p:grpSpPr>
            <a:xfrm>
              <a:off x="6860880" y="2526480"/>
              <a:ext cx="1511640" cy="1308960"/>
              <a:chOff x="6860880" y="2526480"/>
              <a:chExt cx="1511640" cy="1308960"/>
            </a:xfrm>
          </p:grpSpPr>
          <p:sp>
            <p:nvSpPr>
              <p:cNvPr id="74" name="椭圆 12"/>
              <p:cNvSpPr/>
              <p:nvPr/>
            </p:nvSpPr>
            <p:spPr>
              <a:xfrm>
                <a:off x="6932880" y="252648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5" name="TextBox 13"/>
              <p:cNvSpPr/>
              <p:nvPr/>
            </p:nvSpPr>
            <p:spPr>
              <a:xfrm>
                <a:off x="6860880" y="2849760"/>
                <a:ext cx="15116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3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Box 16"/>
            <p:cNvSpPr/>
            <p:nvPr/>
          </p:nvSpPr>
          <p:spPr>
            <a:xfrm>
              <a:off x="6432120" y="4149000"/>
              <a:ext cx="236952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时间到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秀出你的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1"/>
          <p:cNvGrpSpPr/>
          <p:nvPr/>
        </p:nvGrpSpPr>
        <p:grpSpPr>
          <a:xfrm>
            <a:off x="467640" y="1710360"/>
            <a:ext cx="8136360" cy="4448520"/>
            <a:chOff x="467640" y="1710360"/>
            <a:chExt cx="8136360" cy="4448520"/>
          </a:xfrm>
        </p:grpSpPr>
        <p:sp>
          <p:nvSpPr>
            <p:cNvPr id="343" name="任意多边形 6"/>
            <p:cNvSpPr/>
            <p:nvPr/>
          </p:nvSpPr>
          <p:spPr>
            <a:xfrm>
              <a:off x="467640" y="1818720"/>
              <a:ext cx="1690920" cy="907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1691722" h="900726">
                  <a:moveTo>
                    <a:pt x="899160" y="883920"/>
                  </a:moveTo>
                  <a:lnTo>
                    <a:pt x="899160" y="883920"/>
                  </a:lnTo>
                  <a:cubicBezTo>
                    <a:pt x="756703" y="894095"/>
                    <a:pt x="583197" y="916019"/>
                    <a:pt x="441960" y="883920"/>
                  </a:cubicBezTo>
                  <a:cubicBezTo>
                    <a:pt x="406239" y="875801"/>
                    <a:pt x="381000" y="843280"/>
                    <a:pt x="350520" y="822960"/>
                  </a:cubicBezTo>
                  <a:cubicBezTo>
                    <a:pt x="202397" y="724212"/>
                    <a:pt x="474339" y="909823"/>
                    <a:pt x="213360" y="701040"/>
                  </a:cubicBezTo>
                  <a:cubicBezTo>
                    <a:pt x="165185" y="662500"/>
                    <a:pt x="78417" y="597686"/>
                    <a:pt x="45720" y="548640"/>
                  </a:cubicBezTo>
                  <a:lnTo>
                    <a:pt x="15240" y="502920"/>
                  </a:lnTo>
                  <a:cubicBezTo>
                    <a:pt x="10160" y="482600"/>
                    <a:pt x="0" y="462905"/>
                    <a:pt x="0" y="441960"/>
                  </a:cubicBezTo>
                  <a:cubicBezTo>
                    <a:pt x="0" y="411060"/>
                    <a:pt x="-330" y="377211"/>
                    <a:pt x="15240" y="350520"/>
                  </a:cubicBezTo>
                  <a:cubicBezTo>
                    <a:pt x="36959" y="313287"/>
                    <a:pt x="65787" y="272711"/>
                    <a:pt x="106680" y="259080"/>
                  </a:cubicBezTo>
                  <a:cubicBezTo>
                    <a:pt x="323981" y="186646"/>
                    <a:pt x="97853" y="259425"/>
                    <a:pt x="259080" y="213360"/>
                  </a:cubicBezTo>
                  <a:cubicBezTo>
                    <a:pt x="412125" y="169633"/>
                    <a:pt x="175189" y="230523"/>
                    <a:pt x="365760" y="182880"/>
                  </a:cubicBezTo>
                  <a:cubicBezTo>
                    <a:pt x="381000" y="172720"/>
                    <a:pt x="395400" y="161171"/>
                    <a:pt x="411480" y="152400"/>
                  </a:cubicBezTo>
                  <a:cubicBezTo>
                    <a:pt x="451369" y="130642"/>
                    <a:pt x="495594" y="116644"/>
                    <a:pt x="533400" y="91440"/>
                  </a:cubicBezTo>
                  <a:cubicBezTo>
                    <a:pt x="548640" y="81280"/>
                    <a:pt x="562737" y="69151"/>
                    <a:pt x="579120" y="60960"/>
                  </a:cubicBezTo>
                  <a:cubicBezTo>
                    <a:pt x="593488" y="53776"/>
                    <a:pt x="610472" y="52904"/>
                    <a:pt x="624840" y="45720"/>
                  </a:cubicBezTo>
                  <a:cubicBezTo>
                    <a:pt x="743013" y="-13366"/>
                    <a:pt x="601362" y="38306"/>
                    <a:pt x="716280" y="0"/>
                  </a:cubicBezTo>
                  <a:cubicBezTo>
                    <a:pt x="797560" y="5080"/>
                    <a:pt x="879310" y="5139"/>
                    <a:pt x="960120" y="15240"/>
                  </a:cubicBezTo>
                  <a:cubicBezTo>
                    <a:pt x="1001687" y="20436"/>
                    <a:pt x="1040405" y="41094"/>
                    <a:pt x="1082040" y="45720"/>
                  </a:cubicBezTo>
                  <a:lnTo>
                    <a:pt x="1219200" y="60960"/>
                  </a:lnTo>
                  <a:cubicBezTo>
                    <a:pt x="1239520" y="66040"/>
                    <a:pt x="1259552" y="72453"/>
                    <a:pt x="1280160" y="76200"/>
                  </a:cubicBezTo>
                  <a:cubicBezTo>
                    <a:pt x="1392470" y="96620"/>
                    <a:pt x="1393787" y="83596"/>
                    <a:pt x="1508760" y="121920"/>
                  </a:cubicBezTo>
                  <a:lnTo>
                    <a:pt x="1600200" y="152400"/>
                  </a:lnTo>
                  <a:cubicBezTo>
                    <a:pt x="1630680" y="182880"/>
                    <a:pt x="1694329" y="200819"/>
                    <a:pt x="1691640" y="243840"/>
                  </a:cubicBezTo>
                  <a:cubicBezTo>
                    <a:pt x="1686560" y="325120"/>
                    <a:pt x="1684925" y="406689"/>
                    <a:pt x="1676400" y="487680"/>
                  </a:cubicBezTo>
                  <a:cubicBezTo>
                    <a:pt x="1674718" y="503656"/>
                    <a:pt x="1668962" y="519357"/>
                    <a:pt x="1661160" y="533400"/>
                  </a:cubicBezTo>
                  <a:cubicBezTo>
                    <a:pt x="1643370" y="565422"/>
                    <a:pt x="1626103" y="598937"/>
                    <a:pt x="1600200" y="624840"/>
                  </a:cubicBezTo>
                  <a:cubicBezTo>
                    <a:pt x="1569720" y="655320"/>
                    <a:pt x="1549653" y="702649"/>
                    <a:pt x="1508760" y="716280"/>
                  </a:cubicBezTo>
                  <a:cubicBezTo>
                    <a:pt x="1462938" y="731554"/>
                    <a:pt x="1456711" y="729174"/>
                    <a:pt x="1417320" y="762000"/>
                  </a:cubicBezTo>
                  <a:cubicBezTo>
                    <a:pt x="1376304" y="796180"/>
                    <a:pt x="1374529" y="816578"/>
                    <a:pt x="1325880" y="838200"/>
                  </a:cubicBezTo>
                  <a:cubicBezTo>
                    <a:pt x="1296520" y="851249"/>
                    <a:pt x="1264920" y="858520"/>
                    <a:pt x="1234440" y="868680"/>
                  </a:cubicBezTo>
                  <a:lnTo>
                    <a:pt x="1188720" y="883920"/>
                  </a:lnTo>
                  <a:cubicBezTo>
                    <a:pt x="965275" y="866732"/>
                    <a:pt x="947420" y="883920"/>
                    <a:pt x="899160" y="88392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MV Boli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7"/>
            <p:cNvSpPr/>
            <p:nvPr/>
          </p:nvSpPr>
          <p:spPr>
            <a:xfrm>
              <a:off x="2298240" y="3296160"/>
              <a:ext cx="1690920" cy="907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1691722" h="900726">
                  <a:moveTo>
                    <a:pt x="899160" y="883920"/>
                  </a:moveTo>
                  <a:lnTo>
                    <a:pt x="899160" y="883920"/>
                  </a:lnTo>
                  <a:cubicBezTo>
                    <a:pt x="756703" y="894095"/>
                    <a:pt x="583197" y="916019"/>
                    <a:pt x="441960" y="883920"/>
                  </a:cubicBezTo>
                  <a:cubicBezTo>
                    <a:pt x="406239" y="875801"/>
                    <a:pt x="381000" y="843280"/>
                    <a:pt x="350520" y="822960"/>
                  </a:cubicBezTo>
                  <a:cubicBezTo>
                    <a:pt x="202397" y="724212"/>
                    <a:pt x="474339" y="909823"/>
                    <a:pt x="213360" y="701040"/>
                  </a:cubicBezTo>
                  <a:cubicBezTo>
                    <a:pt x="165185" y="662500"/>
                    <a:pt x="78417" y="597686"/>
                    <a:pt x="45720" y="548640"/>
                  </a:cubicBezTo>
                  <a:lnTo>
                    <a:pt x="15240" y="502920"/>
                  </a:lnTo>
                  <a:cubicBezTo>
                    <a:pt x="10160" y="482600"/>
                    <a:pt x="0" y="462905"/>
                    <a:pt x="0" y="441960"/>
                  </a:cubicBezTo>
                  <a:cubicBezTo>
                    <a:pt x="0" y="411060"/>
                    <a:pt x="-330" y="377211"/>
                    <a:pt x="15240" y="350520"/>
                  </a:cubicBezTo>
                  <a:cubicBezTo>
                    <a:pt x="36959" y="313287"/>
                    <a:pt x="65787" y="272711"/>
                    <a:pt x="106680" y="259080"/>
                  </a:cubicBezTo>
                  <a:cubicBezTo>
                    <a:pt x="323981" y="186646"/>
                    <a:pt x="97853" y="259425"/>
                    <a:pt x="259080" y="213360"/>
                  </a:cubicBezTo>
                  <a:cubicBezTo>
                    <a:pt x="412125" y="169633"/>
                    <a:pt x="175189" y="230523"/>
                    <a:pt x="365760" y="182880"/>
                  </a:cubicBezTo>
                  <a:cubicBezTo>
                    <a:pt x="381000" y="172720"/>
                    <a:pt x="395400" y="161171"/>
                    <a:pt x="411480" y="152400"/>
                  </a:cubicBezTo>
                  <a:cubicBezTo>
                    <a:pt x="451369" y="130642"/>
                    <a:pt x="495594" y="116644"/>
                    <a:pt x="533400" y="91440"/>
                  </a:cubicBezTo>
                  <a:cubicBezTo>
                    <a:pt x="548640" y="81280"/>
                    <a:pt x="562737" y="69151"/>
                    <a:pt x="579120" y="60960"/>
                  </a:cubicBezTo>
                  <a:cubicBezTo>
                    <a:pt x="593488" y="53776"/>
                    <a:pt x="610472" y="52904"/>
                    <a:pt x="624840" y="45720"/>
                  </a:cubicBezTo>
                  <a:cubicBezTo>
                    <a:pt x="743013" y="-13366"/>
                    <a:pt x="601362" y="38306"/>
                    <a:pt x="716280" y="0"/>
                  </a:cubicBezTo>
                  <a:cubicBezTo>
                    <a:pt x="797560" y="5080"/>
                    <a:pt x="879310" y="5139"/>
                    <a:pt x="960120" y="15240"/>
                  </a:cubicBezTo>
                  <a:cubicBezTo>
                    <a:pt x="1001687" y="20436"/>
                    <a:pt x="1040405" y="41094"/>
                    <a:pt x="1082040" y="45720"/>
                  </a:cubicBezTo>
                  <a:lnTo>
                    <a:pt x="1219200" y="60960"/>
                  </a:lnTo>
                  <a:cubicBezTo>
                    <a:pt x="1239520" y="66040"/>
                    <a:pt x="1259552" y="72453"/>
                    <a:pt x="1280160" y="76200"/>
                  </a:cubicBezTo>
                  <a:cubicBezTo>
                    <a:pt x="1392470" y="96620"/>
                    <a:pt x="1393787" y="83596"/>
                    <a:pt x="1508760" y="121920"/>
                  </a:cubicBezTo>
                  <a:lnTo>
                    <a:pt x="1600200" y="152400"/>
                  </a:lnTo>
                  <a:cubicBezTo>
                    <a:pt x="1630680" y="182880"/>
                    <a:pt x="1694329" y="200819"/>
                    <a:pt x="1691640" y="243840"/>
                  </a:cubicBezTo>
                  <a:cubicBezTo>
                    <a:pt x="1686560" y="325120"/>
                    <a:pt x="1684925" y="406689"/>
                    <a:pt x="1676400" y="487680"/>
                  </a:cubicBezTo>
                  <a:cubicBezTo>
                    <a:pt x="1674718" y="503656"/>
                    <a:pt x="1668962" y="519357"/>
                    <a:pt x="1661160" y="533400"/>
                  </a:cubicBezTo>
                  <a:cubicBezTo>
                    <a:pt x="1643370" y="565422"/>
                    <a:pt x="1626103" y="598937"/>
                    <a:pt x="1600200" y="624840"/>
                  </a:cubicBezTo>
                  <a:cubicBezTo>
                    <a:pt x="1569720" y="655320"/>
                    <a:pt x="1549653" y="702649"/>
                    <a:pt x="1508760" y="716280"/>
                  </a:cubicBezTo>
                  <a:cubicBezTo>
                    <a:pt x="1462938" y="731554"/>
                    <a:pt x="1456711" y="729174"/>
                    <a:pt x="1417320" y="762000"/>
                  </a:cubicBezTo>
                  <a:cubicBezTo>
                    <a:pt x="1376304" y="796180"/>
                    <a:pt x="1374529" y="816578"/>
                    <a:pt x="1325880" y="838200"/>
                  </a:cubicBezTo>
                  <a:cubicBezTo>
                    <a:pt x="1296520" y="851249"/>
                    <a:pt x="1264920" y="858520"/>
                    <a:pt x="1234440" y="868680"/>
                  </a:cubicBezTo>
                  <a:lnTo>
                    <a:pt x="1188720" y="883920"/>
                  </a:lnTo>
                  <a:cubicBezTo>
                    <a:pt x="965275" y="866732"/>
                    <a:pt x="947420" y="883920"/>
                    <a:pt x="899160" y="88392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MV Boli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8"/>
            <p:cNvSpPr/>
            <p:nvPr/>
          </p:nvSpPr>
          <p:spPr>
            <a:xfrm>
              <a:off x="4788000" y="4623480"/>
              <a:ext cx="1690920" cy="907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1691722" h="900726">
                  <a:moveTo>
                    <a:pt x="899160" y="883920"/>
                  </a:moveTo>
                  <a:lnTo>
                    <a:pt x="899160" y="883920"/>
                  </a:lnTo>
                  <a:cubicBezTo>
                    <a:pt x="756703" y="894095"/>
                    <a:pt x="583197" y="916019"/>
                    <a:pt x="441960" y="883920"/>
                  </a:cubicBezTo>
                  <a:cubicBezTo>
                    <a:pt x="406239" y="875801"/>
                    <a:pt x="381000" y="843280"/>
                    <a:pt x="350520" y="822960"/>
                  </a:cubicBezTo>
                  <a:cubicBezTo>
                    <a:pt x="202397" y="724212"/>
                    <a:pt x="474339" y="909823"/>
                    <a:pt x="213360" y="701040"/>
                  </a:cubicBezTo>
                  <a:cubicBezTo>
                    <a:pt x="165185" y="662500"/>
                    <a:pt x="78417" y="597686"/>
                    <a:pt x="45720" y="548640"/>
                  </a:cubicBezTo>
                  <a:lnTo>
                    <a:pt x="15240" y="502920"/>
                  </a:lnTo>
                  <a:cubicBezTo>
                    <a:pt x="10160" y="482600"/>
                    <a:pt x="0" y="462905"/>
                    <a:pt x="0" y="441960"/>
                  </a:cubicBezTo>
                  <a:cubicBezTo>
                    <a:pt x="0" y="411060"/>
                    <a:pt x="-330" y="377211"/>
                    <a:pt x="15240" y="350520"/>
                  </a:cubicBezTo>
                  <a:cubicBezTo>
                    <a:pt x="36959" y="313287"/>
                    <a:pt x="65787" y="272711"/>
                    <a:pt x="106680" y="259080"/>
                  </a:cubicBezTo>
                  <a:cubicBezTo>
                    <a:pt x="323981" y="186646"/>
                    <a:pt x="97853" y="259425"/>
                    <a:pt x="259080" y="213360"/>
                  </a:cubicBezTo>
                  <a:cubicBezTo>
                    <a:pt x="412125" y="169633"/>
                    <a:pt x="175189" y="230523"/>
                    <a:pt x="365760" y="182880"/>
                  </a:cubicBezTo>
                  <a:cubicBezTo>
                    <a:pt x="381000" y="172720"/>
                    <a:pt x="395400" y="161171"/>
                    <a:pt x="411480" y="152400"/>
                  </a:cubicBezTo>
                  <a:cubicBezTo>
                    <a:pt x="451369" y="130642"/>
                    <a:pt x="495594" y="116644"/>
                    <a:pt x="533400" y="91440"/>
                  </a:cubicBezTo>
                  <a:cubicBezTo>
                    <a:pt x="548640" y="81280"/>
                    <a:pt x="562737" y="69151"/>
                    <a:pt x="579120" y="60960"/>
                  </a:cubicBezTo>
                  <a:cubicBezTo>
                    <a:pt x="593488" y="53776"/>
                    <a:pt x="610472" y="52904"/>
                    <a:pt x="624840" y="45720"/>
                  </a:cubicBezTo>
                  <a:cubicBezTo>
                    <a:pt x="743013" y="-13366"/>
                    <a:pt x="601362" y="38306"/>
                    <a:pt x="716280" y="0"/>
                  </a:cubicBezTo>
                  <a:cubicBezTo>
                    <a:pt x="797560" y="5080"/>
                    <a:pt x="879310" y="5139"/>
                    <a:pt x="960120" y="15240"/>
                  </a:cubicBezTo>
                  <a:cubicBezTo>
                    <a:pt x="1001687" y="20436"/>
                    <a:pt x="1040405" y="41094"/>
                    <a:pt x="1082040" y="45720"/>
                  </a:cubicBezTo>
                  <a:lnTo>
                    <a:pt x="1219200" y="60960"/>
                  </a:lnTo>
                  <a:cubicBezTo>
                    <a:pt x="1239520" y="66040"/>
                    <a:pt x="1259552" y="72453"/>
                    <a:pt x="1280160" y="76200"/>
                  </a:cubicBezTo>
                  <a:cubicBezTo>
                    <a:pt x="1392470" y="96620"/>
                    <a:pt x="1393787" y="83596"/>
                    <a:pt x="1508760" y="121920"/>
                  </a:cubicBezTo>
                  <a:lnTo>
                    <a:pt x="1600200" y="152400"/>
                  </a:lnTo>
                  <a:cubicBezTo>
                    <a:pt x="1630680" y="182880"/>
                    <a:pt x="1694329" y="200819"/>
                    <a:pt x="1691640" y="243840"/>
                  </a:cubicBezTo>
                  <a:cubicBezTo>
                    <a:pt x="1686560" y="325120"/>
                    <a:pt x="1684925" y="406689"/>
                    <a:pt x="1676400" y="487680"/>
                  </a:cubicBezTo>
                  <a:cubicBezTo>
                    <a:pt x="1674718" y="503656"/>
                    <a:pt x="1668962" y="519357"/>
                    <a:pt x="1661160" y="533400"/>
                  </a:cubicBezTo>
                  <a:cubicBezTo>
                    <a:pt x="1643370" y="565422"/>
                    <a:pt x="1626103" y="598937"/>
                    <a:pt x="1600200" y="624840"/>
                  </a:cubicBezTo>
                  <a:cubicBezTo>
                    <a:pt x="1569720" y="655320"/>
                    <a:pt x="1549653" y="702649"/>
                    <a:pt x="1508760" y="716280"/>
                  </a:cubicBezTo>
                  <a:cubicBezTo>
                    <a:pt x="1462938" y="731554"/>
                    <a:pt x="1456711" y="729174"/>
                    <a:pt x="1417320" y="762000"/>
                  </a:cubicBezTo>
                  <a:cubicBezTo>
                    <a:pt x="1376304" y="796180"/>
                    <a:pt x="1374529" y="816578"/>
                    <a:pt x="1325880" y="838200"/>
                  </a:cubicBezTo>
                  <a:cubicBezTo>
                    <a:pt x="1296520" y="851249"/>
                    <a:pt x="1264920" y="858520"/>
                    <a:pt x="1234440" y="868680"/>
                  </a:cubicBezTo>
                  <a:lnTo>
                    <a:pt x="1188720" y="883920"/>
                  </a:lnTo>
                  <a:cubicBezTo>
                    <a:pt x="965275" y="866732"/>
                    <a:pt x="947420" y="883920"/>
                    <a:pt x="899160" y="88392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MV Boli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9"/>
            <p:cNvSpPr/>
            <p:nvPr/>
          </p:nvSpPr>
          <p:spPr>
            <a:xfrm>
              <a:off x="5950440" y="2769840"/>
              <a:ext cx="1690920" cy="907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1691722" h="900726">
                  <a:moveTo>
                    <a:pt x="899160" y="883920"/>
                  </a:moveTo>
                  <a:lnTo>
                    <a:pt x="899160" y="883920"/>
                  </a:lnTo>
                  <a:cubicBezTo>
                    <a:pt x="756703" y="894095"/>
                    <a:pt x="583197" y="916019"/>
                    <a:pt x="441960" y="883920"/>
                  </a:cubicBezTo>
                  <a:cubicBezTo>
                    <a:pt x="406239" y="875801"/>
                    <a:pt x="381000" y="843280"/>
                    <a:pt x="350520" y="822960"/>
                  </a:cubicBezTo>
                  <a:cubicBezTo>
                    <a:pt x="202397" y="724212"/>
                    <a:pt x="474339" y="909823"/>
                    <a:pt x="213360" y="701040"/>
                  </a:cubicBezTo>
                  <a:cubicBezTo>
                    <a:pt x="165185" y="662500"/>
                    <a:pt x="78417" y="597686"/>
                    <a:pt x="45720" y="548640"/>
                  </a:cubicBezTo>
                  <a:lnTo>
                    <a:pt x="15240" y="502920"/>
                  </a:lnTo>
                  <a:cubicBezTo>
                    <a:pt x="10160" y="482600"/>
                    <a:pt x="0" y="462905"/>
                    <a:pt x="0" y="441960"/>
                  </a:cubicBezTo>
                  <a:cubicBezTo>
                    <a:pt x="0" y="411060"/>
                    <a:pt x="-330" y="377211"/>
                    <a:pt x="15240" y="350520"/>
                  </a:cubicBezTo>
                  <a:cubicBezTo>
                    <a:pt x="36959" y="313287"/>
                    <a:pt x="65787" y="272711"/>
                    <a:pt x="106680" y="259080"/>
                  </a:cubicBezTo>
                  <a:cubicBezTo>
                    <a:pt x="323981" y="186646"/>
                    <a:pt x="97853" y="259425"/>
                    <a:pt x="259080" y="213360"/>
                  </a:cubicBezTo>
                  <a:cubicBezTo>
                    <a:pt x="412125" y="169633"/>
                    <a:pt x="175189" y="230523"/>
                    <a:pt x="365760" y="182880"/>
                  </a:cubicBezTo>
                  <a:cubicBezTo>
                    <a:pt x="381000" y="172720"/>
                    <a:pt x="395400" y="161171"/>
                    <a:pt x="411480" y="152400"/>
                  </a:cubicBezTo>
                  <a:cubicBezTo>
                    <a:pt x="451369" y="130642"/>
                    <a:pt x="495594" y="116644"/>
                    <a:pt x="533400" y="91440"/>
                  </a:cubicBezTo>
                  <a:cubicBezTo>
                    <a:pt x="548640" y="81280"/>
                    <a:pt x="562737" y="69151"/>
                    <a:pt x="579120" y="60960"/>
                  </a:cubicBezTo>
                  <a:cubicBezTo>
                    <a:pt x="593488" y="53776"/>
                    <a:pt x="610472" y="52904"/>
                    <a:pt x="624840" y="45720"/>
                  </a:cubicBezTo>
                  <a:cubicBezTo>
                    <a:pt x="743013" y="-13366"/>
                    <a:pt x="601362" y="38306"/>
                    <a:pt x="716280" y="0"/>
                  </a:cubicBezTo>
                  <a:cubicBezTo>
                    <a:pt x="797560" y="5080"/>
                    <a:pt x="879310" y="5139"/>
                    <a:pt x="960120" y="15240"/>
                  </a:cubicBezTo>
                  <a:cubicBezTo>
                    <a:pt x="1001687" y="20436"/>
                    <a:pt x="1040405" y="41094"/>
                    <a:pt x="1082040" y="45720"/>
                  </a:cubicBezTo>
                  <a:lnTo>
                    <a:pt x="1219200" y="60960"/>
                  </a:lnTo>
                  <a:cubicBezTo>
                    <a:pt x="1239520" y="66040"/>
                    <a:pt x="1259552" y="72453"/>
                    <a:pt x="1280160" y="76200"/>
                  </a:cubicBezTo>
                  <a:cubicBezTo>
                    <a:pt x="1392470" y="96620"/>
                    <a:pt x="1393787" y="83596"/>
                    <a:pt x="1508760" y="121920"/>
                  </a:cubicBezTo>
                  <a:lnTo>
                    <a:pt x="1600200" y="152400"/>
                  </a:lnTo>
                  <a:cubicBezTo>
                    <a:pt x="1630680" y="182880"/>
                    <a:pt x="1694329" y="200819"/>
                    <a:pt x="1691640" y="243840"/>
                  </a:cubicBezTo>
                  <a:cubicBezTo>
                    <a:pt x="1686560" y="325120"/>
                    <a:pt x="1684925" y="406689"/>
                    <a:pt x="1676400" y="487680"/>
                  </a:cubicBezTo>
                  <a:cubicBezTo>
                    <a:pt x="1674718" y="503656"/>
                    <a:pt x="1668962" y="519357"/>
                    <a:pt x="1661160" y="533400"/>
                  </a:cubicBezTo>
                  <a:cubicBezTo>
                    <a:pt x="1643370" y="565422"/>
                    <a:pt x="1626103" y="598937"/>
                    <a:pt x="1600200" y="624840"/>
                  </a:cubicBezTo>
                  <a:cubicBezTo>
                    <a:pt x="1569720" y="655320"/>
                    <a:pt x="1549653" y="702649"/>
                    <a:pt x="1508760" y="716280"/>
                  </a:cubicBezTo>
                  <a:cubicBezTo>
                    <a:pt x="1462938" y="731554"/>
                    <a:pt x="1456711" y="729174"/>
                    <a:pt x="1417320" y="762000"/>
                  </a:cubicBezTo>
                  <a:cubicBezTo>
                    <a:pt x="1376304" y="796180"/>
                    <a:pt x="1374529" y="816578"/>
                    <a:pt x="1325880" y="838200"/>
                  </a:cubicBezTo>
                  <a:cubicBezTo>
                    <a:pt x="1296520" y="851249"/>
                    <a:pt x="1264920" y="858520"/>
                    <a:pt x="1234440" y="868680"/>
                  </a:cubicBezTo>
                  <a:lnTo>
                    <a:pt x="1188720" y="883920"/>
                  </a:lnTo>
                  <a:cubicBezTo>
                    <a:pt x="965275" y="866732"/>
                    <a:pt x="947420" y="883920"/>
                    <a:pt x="899160" y="883920"/>
                  </a:cubicBezTo>
                  <a:close/>
                </a:path>
              </a:pathLst>
            </a:custGeom>
            <a:noFill/>
            <a:ln>
              <a:solidFill>
                <a:srgbClr val="ff0000"/>
              </a:solidFill>
              <a:round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MV Boli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弧形 19"/>
            <p:cNvSpPr/>
            <p:nvPr/>
          </p:nvSpPr>
          <p:spPr>
            <a:xfrm>
              <a:off x="1313280" y="1810800"/>
              <a:ext cx="1927440" cy="2658240"/>
            </a:xfrm>
            <a:prstGeom prst="arc">
              <a:avLst>
                <a:gd name="adj1" fmla="val 15913272"/>
                <a:gd name="adj2" fmla="val 0"/>
              </a:avLst>
            </a:prstGeom>
            <a:noFill/>
            <a:ln w="28575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弧形 20"/>
            <p:cNvSpPr/>
            <p:nvPr/>
          </p:nvSpPr>
          <p:spPr>
            <a:xfrm>
              <a:off x="3420000" y="3749400"/>
              <a:ext cx="1692000" cy="143964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28575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弧形 21"/>
            <p:cNvSpPr/>
            <p:nvPr/>
          </p:nvSpPr>
          <p:spPr>
            <a:xfrm rot="4999200">
              <a:off x="4614480" y="2835360"/>
              <a:ext cx="1607040" cy="2585880"/>
            </a:xfrm>
            <a:prstGeom prst="arc">
              <a:avLst>
                <a:gd name="adj1" fmla="val 15913272"/>
                <a:gd name="adj2" fmla="val 18626076"/>
              </a:avLst>
            </a:prstGeom>
            <a:noFill/>
            <a:ln w="28575">
              <a:solidFill>
                <a:srgbClr val="000000"/>
              </a:solidFill>
              <a:prstDash val="lgDash"/>
              <a:round/>
              <a:headEnd len="med" type="triangle" w="med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22"/>
            <p:cNvSpPr/>
            <p:nvPr/>
          </p:nvSpPr>
          <p:spPr>
            <a:xfrm>
              <a:off x="814320" y="294912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介绍背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3"/>
            <p:cNvSpPr/>
            <p:nvPr/>
          </p:nvSpPr>
          <p:spPr>
            <a:xfrm>
              <a:off x="2556720" y="4407480"/>
              <a:ext cx="1278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迅速建立联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24"/>
            <p:cNvSpPr/>
            <p:nvPr/>
          </p:nvSpPr>
          <p:spPr>
            <a:xfrm>
              <a:off x="5488560" y="570348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讲一些小故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25"/>
            <p:cNvSpPr/>
            <p:nvPr/>
          </p:nvSpPr>
          <p:spPr>
            <a:xfrm>
              <a:off x="4040280" y="1710360"/>
              <a:ext cx="4563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不仅告诉受众怎么完成一项任务，还要告诉他们为什么完成这项任务是有意义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标题 1"/>
          <p:cNvSpPr/>
          <p:nvPr/>
        </p:nvSpPr>
        <p:spPr>
          <a:xfrm>
            <a:off x="971640" y="260640"/>
            <a:ext cx="792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除了解释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“为什么”，还要回答</a:t>
            </a:r>
            <a:r>
              <a:rPr b="1" lang="en-US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“怎么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4"/>
          <p:cNvSpPr/>
          <p:nvPr/>
        </p:nvSpPr>
        <p:spPr>
          <a:xfrm>
            <a:off x="3475800" y="260640"/>
            <a:ext cx="5416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做减法，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把复杂的概念简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表格 1"/>
          <p:cNvGraphicFramePr/>
          <p:nvPr/>
        </p:nvGraphicFramePr>
        <p:xfrm>
          <a:off x="611640" y="1628640"/>
          <a:ext cx="8080560" cy="3960000"/>
        </p:xfrm>
        <a:graphic>
          <a:graphicData uri="http://schemas.openxmlformats.org/drawingml/2006/table">
            <a:tbl>
              <a:tblPr/>
              <a:tblGrid>
                <a:gridCol w="624600"/>
                <a:gridCol w="7455960"/>
              </a:tblGrid>
              <a:tr h="65988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方正喵呜体"/>
                          <a:ea typeface="方正喵呜体"/>
                        </a:rPr>
                        <a:t>把基本概念与受众已经掌握的概念联系起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chemeClr val="dk1"/>
                          </a:solidFill>
                          <a:latin typeface="方正喵呜体"/>
                          <a:ea typeface="方正喵呜体"/>
                        </a:rPr>
                        <a:t>尽可能地用最宽广的视角来看这些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chemeClr val="dk1"/>
                          </a:solidFill>
                          <a:latin typeface="方正喵呜体"/>
                          <a:ea typeface="方正喵呜体"/>
                        </a:rPr>
                        <a:t>为了让演示易于理解，可以放弃准确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chemeClr val="dk1"/>
                          </a:solidFill>
                          <a:latin typeface="方正喵呜体"/>
                          <a:ea typeface="方正喵呜体"/>
                        </a:rPr>
                        <a:t>忘掉细枝末节的内容和那些例外的情况，重点关注最重要的概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chemeClr val="dk1"/>
                          </a:solidFill>
                          <a:latin typeface="方正喵呜体"/>
                          <a:ea typeface="方正喵呜体"/>
                        </a:rPr>
                        <a:t>不要假设人们已经了解哪些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chemeClr val="dk1"/>
                          </a:solidFill>
                          <a:latin typeface="方正喵呜体"/>
                          <a:ea typeface="方正喵呜体"/>
                        </a:rPr>
                        <a:t>尽可能使用最简单的语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9" name="图片 7" descr=""/>
          <p:cNvPicPr/>
          <p:nvPr/>
        </p:nvPicPr>
        <p:blipFill>
          <a:blip r:embed="rId1"/>
          <a:stretch/>
        </p:blipFill>
        <p:spPr>
          <a:xfrm>
            <a:off x="4615200" y="4021560"/>
            <a:ext cx="4065480" cy="2622960"/>
          </a:xfrm>
          <a:prstGeom prst="rect">
            <a:avLst/>
          </a:prstGeom>
          <a:ln w="0">
            <a:noFill/>
          </a:ln>
        </p:spPr>
      </p:pic>
      <p:grpSp>
        <p:nvGrpSpPr>
          <p:cNvPr id="360" name="组合 33"/>
          <p:cNvGrpSpPr/>
          <p:nvPr/>
        </p:nvGrpSpPr>
        <p:grpSpPr>
          <a:xfrm>
            <a:off x="755280" y="1803600"/>
            <a:ext cx="255240" cy="327600"/>
            <a:chOff x="755280" y="1803600"/>
            <a:chExt cx="255240" cy="327600"/>
          </a:xfrm>
        </p:grpSpPr>
        <p:sp>
          <p:nvSpPr>
            <p:cNvPr id="361" name="任意多边形 34"/>
            <p:cNvSpPr/>
            <p:nvPr/>
          </p:nvSpPr>
          <p:spPr>
            <a:xfrm>
              <a:off x="755280" y="180360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2" name="任意多边形 35"/>
            <p:cNvSpPr/>
            <p:nvPr/>
          </p:nvSpPr>
          <p:spPr>
            <a:xfrm>
              <a:off x="916560" y="195588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63" name="组合 44"/>
          <p:cNvGrpSpPr/>
          <p:nvPr/>
        </p:nvGrpSpPr>
        <p:grpSpPr>
          <a:xfrm>
            <a:off x="755280" y="2493000"/>
            <a:ext cx="255240" cy="327600"/>
            <a:chOff x="755280" y="2493000"/>
            <a:chExt cx="255240" cy="327600"/>
          </a:xfrm>
        </p:grpSpPr>
        <p:sp>
          <p:nvSpPr>
            <p:cNvPr id="364" name="任意多边形 45"/>
            <p:cNvSpPr/>
            <p:nvPr/>
          </p:nvSpPr>
          <p:spPr>
            <a:xfrm>
              <a:off x="755280" y="249300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5" name="任意多边形 46"/>
            <p:cNvSpPr/>
            <p:nvPr/>
          </p:nvSpPr>
          <p:spPr>
            <a:xfrm>
              <a:off x="916560" y="264528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66" name="组合 47"/>
          <p:cNvGrpSpPr/>
          <p:nvPr/>
        </p:nvGrpSpPr>
        <p:grpSpPr>
          <a:xfrm>
            <a:off x="755280" y="3141000"/>
            <a:ext cx="255240" cy="327600"/>
            <a:chOff x="755280" y="3141000"/>
            <a:chExt cx="255240" cy="327600"/>
          </a:xfrm>
        </p:grpSpPr>
        <p:sp>
          <p:nvSpPr>
            <p:cNvPr id="367" name="任意多边形 48"/>
            <p:cNvSpPr/>
            <p:nvPr/>
          </p:nvSpPr>
          <p:spPr>
            <a:xfrm>
              <a:off x="755280" y="314100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8" name="任意多边形 49"/>
            <p:cNvSpPr/>
            <p:nvPr/>
          </p:nvSpPr>
          <p:spPr>
            <a:xfrm>
              <a:off x="916560" y="329328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69" name="组合 50"/>
          <p:cNvGrpSpPr/>
          <p:nvPr/>
        </p:nvGrpSpPr>
        <p:grpSpPr>
          <a:xfrm>
            <a:off x="755280" y="3765240"/>
            <a:ext cx="255240" cy="327600"/>
            <a:chOff x="755280" y="3765240"/>
            <a:chExt cx="255240" cy="327600"/>
          </a:xfrm>
        </p:grpSpPr>
        <p:sp>
          <p:nvSpPr>
            <p:cNvPr id="370" name="任意多边形 51"/>
            <p:cNvSpPr/>
            <p:nvPr/>
          </p:nvSpPr>
          <p:spPr>
            <a:xfrm>
              <a:off x="755280" y="376524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1" name="任意多边形 52"/>
            <p:cNvSpPr/>
            <p:nvPr/>
          </p:nvSpPr>
          <p:spPr>
            <a:xfrm>
              <a:off x="916560" y="391752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72" name="组合 53"/>
          <p:cNvGrpSpPr/>
          <p:nvPr/>
        </p:nvGrpSpPr>
        <p:grpSpPr>
          <a:xfrm>
            <a:off x="755280" y="4437000"/>
            <a:ext cx="255240" cy="327960"/>
            <a:chOff x="755280" y="4437000"/>
            <a:chExt cx="255240" cy="327960"/>
          </a:xfrm>
        </p:grpSpPr>
        <p:sp>
          <p:nvSpPr>
            <p:cNvPr id="373" name="任意多边形 54"/>
            <p:cNvSpPr/>
            <p:nvPr/>
          </p:nvSpPr>
          <p:spPr>
            <a:xfrm>
              <a:off x="755280" y="443700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任意多边形 55"/>
            <p:cNvSpPr/>
            <p:nvPr/>
          </p:nvSpPr>
          <p:spPr>
            <a:xfrm>
              <a:off x="916560" y="458964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75" name="组合 56"/>
          <p:cNvGrpSpPr/>
          <p:nvPr/>
        </p:nvGrpSpPr>
        <p:grpSpPr>
          <a:xfrm>
            <a:off x="755280" y="5107680"/>
            <a:ext cx="255240" cy="327960"/>
            <a:chOff x="755280" y="5107680"/>
            <a:chExt cx="255240" cy="327960"/>
          </a:xfrm>
        </p:grpSpPr>
        <p:sp>
          <p:nvSpPr>
            <p:cNvPr id="376" name="任意多边形 57"/>
            <p:cNvSpPr/>
            <p:nvPr/>
          </p:nvSpPr>
          <p:spPr>
            <a:xfrm>
              <a:off x="755280" y="510768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7" name="任意多边形 58"/>
            <p:cNvSpPr/>
            <p:nvPr/>
          </p:nvSpPr>
          <p:spPr>
            <a:xfrm>
              <a:off x="916560" y="526032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4"/>
          <p:cNvSpPr/>
          <p:nvPr/>
        </p:nvSpPr>
        <p:spPr>
          <a:xfrm>
            <a:off x="4140000" y="260640"/>
            <a:ext cx="47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有限制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才会有成功的演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"/>
          <p:cNvSpPr/>
          <p:nvPr/>
        </p:nvSpPr>
        <p:spPr>
          <a:xfrm>
            <a:off x="971640" y="1268640"/>
            <a:ext cx="5295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想创造什么吗？先设定</a:t>
            </a:r>
            <a:r>
              <a:rPr b="1" lang="en-US" sz="32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限制条件 </a:t>
            </a:r>
            <a:r>
              <a:rPr b="1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9"/>
          <p:cNvGrpSpPr/>
          <p:nvPr/>
        </p:nvGrpSpPr>
        <p:grpSpPr>
          <a:xfrm>
            <a:off x="1331640" y="5805360"/>
            <a:ext cx="6048360" cy="980280"/>
            <a:chOff x="1331640" y="5805360"/>
            <a:chExt cx="6048360" cy="980280"/>
          </a:xfrm>
        </p:grpSpPr>
        <p:pic>
          <p:nvPicPr>
            <p:cNvPr id="382" name="图片 10" descr=""/>
            <p:cNvPicPr/>
            <p:nvPr/>
          </p:nvPicPr>
          <p:blipFill>
            <a:blip r:embed="rId1"/>
            <a:stretch/>
          </p:blipFill>
          <p:spPr>
            <a:xfrm>
              <a:off x="1331640" y="5805360"/>
              <a:ext cx="1100520" cy="9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1"/>
            <p:cNvSpPr/>
            <p:nvPr/>
          </p:nvSpPr>
          <p:spPr>
            <a:xfrm>
              <a:off x="2123640" y="6064920"/>
              <a:ext cx="525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把不是重点的东西拖到屋子后面扔掉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11"/>
          <p:cNvGrpSpPr/>
          <p:nvPr/>
        </p:nvGrpSpPr>
        <p:grpSpPr>
          <a:xfrm>
            <a:off x="799200" y="2009160"/>
            <a:ext cx="7733160" cy="4176360"/>
            <a:chOff x="799200" y="2009160"/>
            <a:chExt cx="7733160" cy="4176360"/>
          </a:xfrm>
        </p:grpSpPr>
        <p:sp>
          <p:nvSpPr>
            <p:cNvPr id="385" name="椭圆 38"/>
            <p:cNvSpPr/>
            <p:nvPr/>
          </p:nvSpPr>
          <p:spPr>
            <a:xfrm>
              <a:off x="2846880" y="2369520"/>
              <a:ext cx="1625040" cy="162504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 w="762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6" name="TextBox 23"/>
            <p:cNvSpPr/>
            <p:nvPr/>
          </p:nvSpPr>
          <p:spPr>
            <a:xfrm>
              <a:off x="2952000" y="2705400"/>
              <a:ext cx="14144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概念の数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椭圆 37"/>
            <p:cNvSpPr/>
            <p:nvPr/>
          </p:nvSpPr>
          <p:spPr>
            <a:xfrm>
              <a:off x="4498920" y="4125240"/>
              <a:ext cx="1495440" cy="14954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 w="762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" name="TextBox 29"/>
            <p:cNvSpPr/>
            <p:nvPr/>
          </p:nvSpPr>
          <p:spPr>
            <a:xfrm>
              <a:off x="4973400" y="464220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语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椭圆 36"/>
            <p:cNvSpPr/>
            <p:nvPr/>
          </p:nvSpPr>
          <p:spPr>
            <a:xfrm>
              <a:off x="6719400" y="3187800"/>
              <a:ext cx="1625040" cy="162504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762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TextBox 30"/>
            <p:cNvSpPr/>
            <p:nvPr/>
          </p:nvSpPr>
          <p:spPr>
            <a:xfrm>
              <a:off x="7121160" y="373896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时间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35"/>
            <p:cNvSpPr/>
            <p:nvPr/>
          </p:nvSpPr>
          <p:spPr>
            <a:xfrm>
              <a:off x="5188320" y="2553840"/>
              <a:ext cx="1119960" cy="11199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 w="571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2" name="TextBox 31"/>
            <p:cNvSpPr/>
            <p:nvPr/>
          </p:nvSpPr>
          <p:spPr>
            <a:xfrm>
              <a:off x="5474520" y="2883240"/>
              <a:ext cx="546840" cy="4554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形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3"/>
            <p:cNvSpPr/>
            <p:nvPr/>
          </p:nvSpPr>
          <p:spPr>
            <a:xfrm>
              <a:off x="941400" y="2910600"/>
              <a:ext cx="1182240" cy="118224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 w="571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4" name="TextBox 32"/>
            <p:cNvSpPr/>
            <p:nvPr/>
          </p:nvSpPr>
          <p:spPr>
            <a:xfrm>
              <a:off x="1258920" y="327096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长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34"/>
            <p:cNvSpPr/>
            <p:nvPr/>
          </p:nvSpPr>
          <p:spPr>
            <a:xfrm>
              <a:off x="2124000" y="4228920"/>
              <a:ext cx="1279080" cy="12790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 w="571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TextBox 33"/>
            <p:cNvSpPr/>
            <p:nvPr/>
          </p:nvSpPr>
          <p:spPr>
            <a:xfrm>
              <a:off x="2489760" y="463752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地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椭圆 39"/>
            <p:cNvSpPr/>
            <p:nvPr/>
          </p:nvSpPr>
          <p:spPr>
            <a:xfrm>
              <a:off x="6749640" y="2603520"/>
              <a:ext cx="486360" cy="4863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 w="381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8" name="椭圆 40"/>
            <p:cNvSpPr/>
            <p:nvPr/>
          </p:nvSpPr>
          <p:spPr>
            <a:xfrm>
              <a:off x="7425000" y="2297160"/>
              <a:ext cx="243000" cy="24300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 w="285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9" name="椭圆 43"/>
            <p:cNvSpPr/>
            <p:nvPr/>
          </p:nvSpPr>
          <p:spPr>
            <a:xfrm>
              <a:off x="6732360" y="5264640"/>
              <a:ext cx="243000" cy="243000"/>
            </a:xfrm>
            <a:prstGeom prst="ellipse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0" name="TextBox 24"/>
            <p:cNvSpPr txBox="1"/>
            <p:nvPr/>
          </p:nvSpPr>
          <p:spPr>
            <a:xfrm>
              <a:off x="6516360" y="3305520"/>
              <a:ext cx="2016000" cy="1760400"/>
            </a:xfrm>
            <a:prstGeom prst="rect">
              <a:avLst/>
            </a:prstGeom>
          </p:spPr>
          <p:txBody>
            <a:bodyPr wrap="none" lIns="90000" rIns="90000" tIns="45000" bIns="45000" anchor="t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演示应该在什么时候准备好？</a:t>
              </a:r>
              <a:endParaRPr b="0" lang="en-US" sz="20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01" name="TextBox 25"/>
            <p:cNvSpPr txBox="1"/>
            <p:nvPr/>
          </p:nvSpPr>
          <p:spPr>
            <a:xfrm rot="20667600">
              <a:off x="2693880" y="2235960"/>
              <a:ext cx="1949760" cy="187524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在特定时间里能演示多少概念？</a:t>
              </a:r>
              <a:endParaRPr b="0" lang="en-US" sz="20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02" name="TextBox 26"/>
            <p:cNvSpPr txBox="1"/>
            <p:nvPr/>
          </p:nvSpPr>
          <p:spPr>
            <a:xfrm>
              <a:off x="799200" y="2801160"/>
              <a:ext cx="1468440" cy="142704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演示耗时多长？</a:t>
              </a:r>
              <a:endParaRPr b="0" lang="en-US" sz="20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03" name="TextBox 27"/>
            <p:cNvSpPr txBox="1"/>
            <p:nvPr/>
          </p:nvSpPr>
          <p:spPr>
            <a:xfrm rot="19039800">
              <a:off x="1999800" y="4146840"/>
              <a:ext cx="1490040" cy="143568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演示在哪儿进行？</a:t>
              </a:r>
              <a:endParaRPr b="0" lang="en-US" sz="20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04" name="TextBox 28"/>
            <p:cNvSpPr txBox="1"/>
            <p:nvPr/>
          </p:nvSpPr>
          <p:spPr>
            <a:xfrm>
              <a:off x="5076000" y="2432160"/>
              <a:ext cx="1334160" cy="130464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怎么展示这些信息？</a:t>
              </a:r>
              <a:endParaRPr b="0" lang="en-US" sz="20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05" name="TextBox 41"/>
            <p:cNvSpPr txBox="1"/>
            <p:nvPr/>
          </p:nvSpPr>
          <p:spPr>
            <a:xfrm rot="19138200">
              <a:off x="4302720" y="3957840"/>
              <a:ext cx="1850040" cy="184716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目标受众使用的语言带有多少技术性</a:t>
              </a:r>
              <a:r>
                <a:rPr b="0" lang="zh-CN" sz="24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？</a:t>
              </a:r>
              <a:endParaRPr b="0" lang="en-US" sz="24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4"/>
          <p:cNvSpPr/>
          <p:nvPr/>
        </p:nvSpPr>
        <p:spPr>
          <a:xfrm>
            <a:off x="4140000" y="260640"/>
            <a:ext cx="47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演示脚本的准备与编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"/>
          <p:cNvSpPr/>
          <p:nvPr/>
        </p:nvSpPr>
        <p:spPr>
          <a:xfrm>
            <a:off x="971640" y="1268640"/>
            <a:ext cx="49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精彩的演示词会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自己</a:t>
            </a:r>
            <a:r>
              <a:rPr b="1" lang="en-US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“说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组合 44"/>
          <p:cNvGrpSpPr/>
          <p:nvPr/>
        </p:nvGrpSpPr>
        <p:grpSpPr>
          <a:xfrm>
            <a:off x="1082160" y="2151360"/>
            <a:ext cx="5038200" cy="3797640"/>
            <a:chOff x="1082160" y="2151360"/>
            <a:chExt cx="5038200" cy="3797640"/>
          </a:xfrm>
        </p:grpSpPr>
        <p:sp>
          <p:nvSpPr>
            <p:cNvPr id="410" name="矩形 3"/>
            <p:cNvSpPr/>
            <p:nvPr/>
          </p:nvSpPr>
          <p:spPr>
            <a:xfrm>
              <a:off x="2522520" y="218556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明确重要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6"/>
            <p:cNvSpPr/>
            <p:nvPr/>
          </p:nvSpPr>
          <p:spPr>
            <a:xfrm>
              <a:off x="2917800" y="2637000"/>
              <a:ext cx="26193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我们准备制作的视频是介绍什么的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7"/>
            <p:cNvSpPr/>
            <p:nvPr/>
          </p:nvSpPr>
          <p:spPr>
            <a:xfrm>
              <a:off x="2449440" y="3625920"/>
              <a:ext cx="1247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研究和发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10"/>
            <p:cNvSpPr/>
            <p:nvPr/>
          </p:nvSpPr>
          <p:spPr>
            <a:xfrm>
              <a:off x="2761920" y="4077000"/>
              <a:ext cx="2162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我们需要介绍哪些主要观点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11"/>
            <p:cNvSpPr/>
            <p:nvPr/>
          </p:nvSpPr>
          <p:spPr>
            <a:xfrm>
              <a:off x="2376720" y="50853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脚本编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2"/>
            <p:cNvSpPr/>
            <p:nvPr/>
          </p:nvSpPr>
          <p:spPr>
            <a:xfrm>
              <a:off x="2657520" y="551736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怎么才能做到通俗易懂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14"/>
            <p:cNvSpPr/>
            <p:nvPr/>
          </p:nvSpPr>
          <p:spPr>
            <a:xfrm>
              <a:off x="1269000" y="2381400"/>
              <a:ext cx="539640" cy="45396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Mistr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15"/>
            <p:cNvSpPr/>
            <p:nvPr/>
          </p:nvSpPr>
          <p:spPr>
            <a:xfrm>
              <a:off x="1269000" y="3823200"/>
              <a:ext cx="539640" cy="45396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Mistr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16"/>
            <p:cNvSpPr/>
            <p:nvPr/>
          </p:nvSpPr>
          <p:spPr>
            <a:xfrm>
              <a:off x="1269000" y="5265000"/>
              <a:ext cx="539640" cy="45396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Mistr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弧形 33"/>
            <p:cNvSpPr/>
            <p:nvPr/>
          </p:nvSpPr>
          <p:spPr>
            <a:xfrm>
              <a:off x="1082160" y="2151360"/>
              <a:ext cx="914040" cy="914040"/>
            </a:xfrm>
            <a:prstGeom prst="arc">
              <a:avLst>
                <a:gd name="adj1" fmla="val 4965786"/>
                <a:gd name="adj2" fmla="val 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20" name="直接连接符 35"/>
            <p:cNvCxnSpPr/>
            <p:nvPr/>
          </p:nvCxnSpPr>
          <p:spPr>
            <a:xfrm>
              <a:off x="1996200" y="2608200"/>
              <a:ext cx="41245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421" name="弧形 39"/>
            <p:cNvSpPr/>
            <p:nvPr/>
          </p:nvSpPr>
          <p:spPr>
            <a:xfrm>
              <a:off x="1082160" y="3593160"/>
              <a:ext cx="914040" cy="914040"/>
            </a:xfrm>
            <a:prstGeom prst="arc">
              <a:avLst>
                <a:gd name="adj1" fmla="val 4965786"/>
                <a:gd name="adj2" fmla="val 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22" name="直接连接符 40"/>
            <p:cNvCxnSpPr/>
            <p:nvPr/>
          </p:nvCxnSpPr>
          <p:spPr>
            <a:xfrm>
              <a:off x="1996200" y="4050000"/>
              <a:ext cx="41245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423" name="弧形 41"/>
            <p:cNvSpPr/>
            <p:nvPr/>
          </p:nvSpPr>
          <p:spPr>
            <a:xfrm>
              <a:off x="1082160" y="5034960"/>
              <a:ext cx="914040" cy="914040"/>
            </a:xfrm>
            <a:prstGeom prst="arc">
              <a:avLst>
                <a:gd name="adj1" fmla="val 4965786"/>
                <a:gd name="adj2" fmla="val 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24" name="直接连接符 42"/>
            <p:cNvCxnSpPr/>
            <p:nvPr/>
          </p:nvCxnSpPr>
          <p:spPr>
            <a:xfrm>
              <a:off x="1996200" y="5491800"/>
              <a:ext cx="41245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4"/>
          <p:cNvSpPr/>
          <p:nvPr/>
        </p:nvSpPr>
        <p:spPr>
          <a:xfrm>
            <a:off x="4140000" y="260640"/>
            <a:ext cx="47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演示脚本的准备与编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555920" y="1268640"/>
            <a:ext cx="1888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脚本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是所有演示的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31"/>
          <p:cNvGrpSpPr/>
          <p:nvPr/>
        </p:nvGrpSpPr>
        <p:grpSpPr>
          <a:xfrm>
            <a:off x="780120" y="1894680"/>
            <a:ext cx="7895880" cy="4702320"/>
            <a:chOff x="780120" y="1894680"/>
            <a:chExt cx="7895880" cy="4702320"/>
          </a:xfrm>
        </p:grpSpPr>
        <p:sp>
          <p:nvSpPr>
            <p:cNvPr id="429" name="任意多边形 29"/>
            <p:cNvSpPr/>
            <p:nvPr/>
          </p:nvSpPr>
          <p:spPr>
            <a:xfrm>
              <a:off x="780120" y="1894680"/>
              <a:ext cx="7620120" cy="4702320"/>
            </a:xfrm>
            <a:custGeom>
              <a:avLst/>
              <a:gdLst>
                <a:gd name="textAreaLeft" fmla="*/ 0 w 7620120"/>
                <a:gd name="textAreaRight" fmla="*/ 7620480 w 7620120"/>
                <a:gd name="textAreaTop" fmla="*/ 0 h 4702320"/>
                <a:gd name="textAreaBottom" fmla="*/ 4702680 h 4702320"/>
              </a:gdLst>
              <a:ahLst/>
              <a:rect l="textAreaLeft" t="textAreaTop" r="textAreaRight" b="textAreaBottom"/>
              <a:pathLst>
                <a:path w="8003375" h="4831965">
                  <a:moveTo>
                    <a:pt x="528574" y="212154"/>
                  </a:moveTo>
                  <a:cubicBezTo>
                    <a:pt x="-66405" y="667957"/>
                    <a:pt x="231600" y="2143290"/>
                    <a:pt x="235611" y="2847137"/>
                  </a:cubicBezTo>
                  <a:cubicBezTo>
                    <a:pt x="178060" y="3599163"/>
                    <a:pt x="-247092" y="4106335"/>
                    <a:pt x="207901" y="4495463"/>
                  </a:cubicBezTo>
                  <a:cubicBezTo>
                    <a:pt x="662894" y="4884591"/>
                    <a:pt x="3192429" y="4603754"/>
                    <a:pt x="4443017" y="4603747"/>
                  </a:cubicBezTo>
                  <a:cubicBezTo>
                    <a:pt x="5693605" y="4603740"/>
                    <a:pt x="7218132" y="5183228"/>
                    <a:pt x="7711427" y="4495423"/>
                  </a:cubicBezTo>
                  <a:cubicBezTo>
                    <a:pt x="8204722" y="3807618"/>
                    <a:pt x="8053776" y="1207433"/>
                    <a:pt x="7402785" y="476916"/>
                  </a:cubicBezTo>
                  <a:cubicBezTo>
                    <a:pt x="6751794" y="-253601"/>
                    <a:pt x="4963497" y="228716"/>
                    <a:pt x="3805483" y="112319"/>
                  </a:cubicBezTo>
                  <a:cubicBezTo>
                    <a:pt x="2672093" y="188640"/>
                    <a:pt x="1123553" y="-243649"/>
                    <a:pt x="528574" y="212154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矩形 3"/>
            <p:cNvSpPr/>
            <p:nvPr/>
          </p:nvSpPr>
          <p:spPr>
            <a:xfrm>
              <a:off x="1135440" y="2014920"/>
              <a:ext cx="7540560" cy="32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如何编写出精彩的演示脚本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①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认同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用一些不会引起争议的的句子给出演示的发展方向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②</a:t>
              </a:r>
              <a:r>
                <a:rPr b="1" lang="zh-CN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背景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问题</a:t>
              </a:r>
              <a:r>
                <a:rPr b="0" lang="en-US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痛苦以及对解决方案的展望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③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故事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引入一个人物，并简单介绍改人物的一些基本情况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④</a:t>
              </a:r>
              <a:r>
                <a:rPr b="1" lang="zh-CN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联系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用间接的方式来表达演示中的重要观点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⑤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描述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介绍如何完成特定任务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⑥</a:t>
              </a:r>
              <a:r>
                <a:rPr b="1" lang="zh-CN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解决方案的实现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告知最后的结果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"/>
            <p:cNvSpPr/>
            <p:nvPr/>
          </p:nvSpPr>
          <p:spPr>
            <a:xfrm>
              <a:off x="1099440" y="5462640"/>
              <a:ext cx="4032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⑦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呼吁行动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图片 6" descr=""/>
            <p:cNvPicPr/>
            <p:nvPr/>
          </p:nvPicPr>
          <p:blipFill>
            <a:blip r:embed="rId1"/>
            <a:stretch/>
          </p:blipFill>
          <p:spPr>
            <a:xfrm>
              <a:off x="1775520" y="5278680"/>
              <a:ext cx="95220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任意多边形 17"/>
            <p:cNvSpPr/>
            <p:nvPr/>
          </p:nvSpPr>
          <p:spPr>
            <a:xfrm>
              <a:off x="1271520" y="290484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4" name="任意多边形 18"/>
            <p:cNvSpPr/>
            <p:nvPr/>
          </p:nvSpPr>
          <p:spPr>
            <a:xfrm>
              <a:off x="1271520" y="338292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5" name="任意多边形 19"/>
            <p:cNvSpPr/>
            <p:nvPr/>
          </p:nvSpPr>
          <p:spPr>
            <a:xfrm>
              <a:off x="1271520" y="381492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6" name="任意多边形 20"/>
            <p:cNvSpPr/>
            <p:nvPr/>
          </p:nvSpPr>
          <p:spPr>
            <a:xfrm>
              <a:off x="1271520" y="424692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7" name="任意多边形 21"/>
            <p:cNvSpPr/>
            <p:nvPr/>
          </p:nvSpPr>
          <p:spPr>
            <a:xfrm>
              <a:off x="1271520" y="475128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8" name="任意多边形 22"/>
            <p:cNvSpPr/>
            <p:nvPr/>
          </p:nvSpPr>
          <p:spPr>
            <a:xfrm>
              <a:off x="1271520" y="523728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9" name="任意多边形 23"/>
            <p:cNvSpPr/>
            <p:nvPr/>
          </p:nvSpPr>
          <p:spPr>
            <a:xfrm>
              <a:off x="1271520" y="624132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14"/>
          <p:cNvGrpSpPr/>
          <p:nvPr/>
        </p:nvGrpSpPr>
        <p:grpSpPr>
          <a:xfrm>
            <a:off x="323640" y="-41760"/>
            <a:ext cx="8932680" cy="6554880"/>
            <a:chOff x="323640" y="-41760"/>
            <a:chExt cx="8932680" cy="6554880"/>
          </a:xfrm>
        </p:grpSpPr>
        <p:sp>
          <p:nvSpPr>
            <p:cNvPr id="441" name="标题 1"/>
            <p:cNvSpPr/>
            <p:nvPr/>
          </p:nvSpPr>
          <p:spPr>
            <a:xfrm>
              <a:off x="5508000" y="2529000"/>
              <a:ext cx="33282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8000"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Mistral"/>
                </a:rPr>
                <a:t>THE ART O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副标题 2"/>
            <p:cNvSpPr/>
            <p:nvPr/>
          </p:nvSpPr>
          <p:spPr>
            <a:xfrm>
              <a:off x="5508000" y="4015440"/>
              <a:ext cx="34560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78000"/>
            </a:bodyPr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Making Your Ideas, Produc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And Services Easier To Underst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弧形 5"/>
            <p:cNvSpPr/>
            <p:nvPr/>
          </p:nvSpPr>
          <p:spPr>
            <a:xfrm>
              <a:off x="323640" y="608760"/>
              <a:ext cx="6192360" cy="5904360"/>
            </a:xfrm>
            <a:prstGeom prst="arc">
              <a:avLst>
                <a:gd name="adj1" fmla="val 2102127"/>
                <a:gd name="adj2" fmla="val 19482424"/>
              </a:avLst>
            </a:prstGeom>
            <a:noFill/>
            <a:ln w="22225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44" name="直接连接符 6"/>
            <p:cNvCxnSpPr/>
            <p:nvPr/>
          </p:nvCxnSpPr>
          <p:spPr>
            <a:xfrm flipV="1">
              <a:off x="5059800" y="1340640"/>
              <a:ext cx="2475000" cy="1296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445" name="直接连接符 7"/>
            <p:cNvCxnSpPr/>
            <p:nvPr/>
          </p:nvCxnSpPr>
          <p:spPr>
            <a:xfrm>
              <a:off x="5092200" y="4710960"/>
              <a:ext cx="2442600" cy="864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446" name="标题 1"/>
            <p:cNvSpPr/>
            <p:nvPr/>
          </p:nvSpPr>
          <p:spPr>
            <a:xfrm>
              <a:off x="6156000" y="3212640"/>
              <a:ext cx="310032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5000"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Mistral"/>
                </a:rPr>
                <a:t>EXPLAN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组合 9"/>
            <p:cNvGrpSpPr/>
            <p:nvPr/>
          </p:nvGrpSpPr>
          <p:grpSpPr>
            <a:xfrm>
              <a:off x="2532600" y="1960200"/>
              <a:ext cx="1511640" cy="1308960"/>
              <a:chOff x="2532600" y="1960200"/>
              <a:chExt cx="1511640" cy="1308960"/>
            </a:xfrm>
          </p:grpSpPr>
          <p:sp>
            <p:nvSpPr>
              <p:cNvPr id="448" name="椭圆 10"/>
              <p:cNvSpPr/>
              <p:nvPr/>
            </p:nvSpPr>
            <p:spPr>
              <a:xfrm>
                <a:off x="2604600" y="196020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49" name="TextBox 11"/>
              <p:cNvSpPr/>
              <p:nvPr/>
            </p:nvSpPr>
            <p:spPr>
              <a:xfrm>
                <a:off x="2532600" y="2283480"/>
                <a:ext cx="15116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3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Box 12"/>
            <p:cNvSpPr/>
            <p:nvPr/>
          </p:nvSpPr>
          <p:spPr>
            <a:xfrm>
              <a:off x="1683360" y="3431880"/>
              <a:ext cx="321048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时间到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秀出你的演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图片 13" descr=""/>
            <p:cNvPicPr/>
            <p:nvPr/>
          </p:nvPicPr>
          <p:blipFill>
            <a:blip r:embed="rId1"/>
            <a:stretch/>
          </p:blipFill>
          <p:spPr>
            <a:xfrm rot="19805400">
              <a:off x="921960" y="366840"/>
              <a:ext cx="1878840" cy="89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2"/>
          <p:cNvSpPr/>
          <p:nvPr/>
        </p:nvSpPr>
        <p:spPr>
          <a:xfrm>
            <a:off x="3060000" y="260640"/>
            <a:ext cx="583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为你的演示寻找合适的展示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"/>
          <p:cNvSpPr/>
          <p:nvPr/>
        </p:nvSpPr>
        <p:spPr>
          <a:xfrm>
            <a:off x="1982880" y="1268640"/>
            <a:ext cx="313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没选对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展示方案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再好的演示也不会成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5"/>
          <p:cNvGrpSpPr/>
          <p:nvPr/>
        </p:nvGrpSpPr>
        <p:grpSpPr>
          <a:xfrm>
            <a:off x="35640" y="1592640"/>
            <a:ext cx="8927280" cy="4760640"/>
            <a:chOff x="35640" y="1592640"/>
            <a:chExt cx="8927280" cy="4760640"/>
          </a:xfrm>
        </p:grpSpPr>
        <p:sp>
          <p:nvSpPr>
            <p:cNvPr id="456" name="TextBox 14"/>
            <p:cNvSpPr/>
            <p:nvPr/>
          </p:nvSpPr>
          <p:spPr>
            <a:xfrm>
              <a:off x="3998880" y="4589640"/>
              <a:ext cx="1266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28"/>
            <p:cNvSpPr/>
            <p:nvPr/>
          </p:nvSpPr>
          <p:spPr>
            <a:xfrm>
              <a:off x="1150920" y="2637000"/>
              <a:ext cx="1619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捕捉演示的可能性和传播给更多受众的可能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29"/>
            <p:cNvSpPr/>
            <p:nvPr/>
          </p:nvSpPr>
          <p:spPr>
            <a:xfrm>
              <a:off x="6532200" y="2681640"/>
              <a:ext cx="1583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在把文本转化成其他媒介时有哪些可选方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30"/>
            <p:cNvSpPr/>
            <p:nvPr/>
          </p:nvSpPr>
          <p:spPr>
            <a:xfrm>
              <a:off x="3706560" y="5653800"/>
              <a:ext cx="2213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262626"/>
                  </a:solidFill>
                  <a:latin typeface="方正喵呜体"/>
                  <a:ea typeface="方正喵呜体"/>
                </a:rPr>
                <a:t>在共享包含多种媒介的演示时有哪些平台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图片 7" descr="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PencilGrayscale/>
                      </a14:imgEffect>
                    </a14:imgLayer>
                  </a14:imgProps>
                </a:ext>
              </a:extLst>
            </a:blip>
            <a:stretch/>
          </p:blipFill>
          <p:spPr>
            <a:xfrm rot="20643000">
              <a:off x="4603320" y="1778760"/>
              <a:ext cx="1761840" cy="29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图片 16" descr=""/>
            <p:cNvPicPr/>
            <p:nvPr/>
          </p:nvPicPr>
          <p:blipFill>
            <a:blip r:embed="rId3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PencilGrayscale/>
                      </a14:imgEffect>
                    </a14:imgLayer>
                  </a14:imgProps>
                </a:ext>
              </a:extLst>
            </a:blip>
            <a:stretch/>
          </p:blipFill>
          <p:spPr>
            <a:xfrm rot="13480800">
              <a:off x="2856960" y="1828800"/>
              <a:ext cx="1761840" cy="29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图片 17" descr=""/>
            <p:cNvPicPr/>
            <p:nvPr/>
          </p:nvPicPr>
          <p:blipFill>
            <a:blip r:embed="rId4">
              <a:grayscl/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PencilGrayscale/>
                      </a14:imgEffect>
                    </a14:imgLayer>
                  </a14:imgProps>
                </a:ext>
              </a:extLst>
            </a:blip>
            <a:stretch/>
          </p:blipFill>
          <p:spPr>
            <a:xfrm rot="6246600">
              <a:off x="3751200" y="3289320"/>
              <a:ext cx="1761840" cy="29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Box 18"/>
            <p:cNvSpPr/>
            <p:nvPr/>
          </p:nvSpPr>
          <p:spPr>
            <a:xfrm>
              <a:off x="3270240" y="2958120"/>
              <a:ext cx="855000" cy="455400"/>
            </a:xfrm>
            <a:custGeom>
              <a:avLst/>
              <a:gdLst>
                <a:gd name="textAreaLeft" fmla="*/ 0 w 855000"/>
                <a:gd name="textAreaRight" fmla="*/ 855360 w 855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01595" h="492145">
                  <a:moveTo>
                    <a:pt x="30480" y="0"/>
                  </a:moveTo>
                  <a:lnTo>
                    <a:pt x="1386355" y="30480"/>
                  </a:lnTo>
                  <a:lnTo>
                    <a:pt x="1401595" y="461665"/>
                  </a:lnTo>
                  <a:lnTo>
                    <a:pt x="0" y="492145"/>
                  </a:lnTo>
                  <a:lnTo>
                    <a:pt x="3048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传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Box 19"/>
            <p:cNvSpPr/>
            <p:nvPr/>
          </p:nvSpPr>
          <p:spPr>
            <a:xfrm>
              <a:off x="5204880" y="2984760"/>
              <a:ext cx="855000" cy="455400"/>
            </a:xfrm>
            <a:custGeom>
              <a:avLst/>
              <a:gdLst>
                <a:gd name="textAreaLeft" fmla="*/ 0 w 855000"/>
                <a:gd name="textAreaRight" fmla="*/ 855360 w 855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01595" h="492145">
                  <a:moveTo>
                    <a:pt x="30480" y="0"/>
                  </a:moveTo>
                  <a:lnTo>
                    <a:pt x="1386355" y="30480"/>
                  </a:lnTo>
                  <a:lnTo>
                    <a:pt x="1401595" y="461665"/>
                  </a:lnTo>
                  <a:lnTo>
                    <a:pt x="0" y="492145"/>
                  </a:lnTo>
                  <a:lnTo>
                    <a:pt x="3048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媒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20"/>
            <p:cNvSpPr/>
            <p:nvPr/>
          </p:nvSpPr>
          <p:spPr>
            <a:xfrm>
              <a:off x="4248360" y="4533480"/>
              <a:ext cx="855000" cy="455400"/>
            </a:xfrm>
            <a:custGeom>
              <a:avLst/>
              <a:gdLst>
                <a:gd name="textAreaLeft" fmla="*/ 0 w 855000"/>
                <a:gd name="textAreaRight" fmla="*/ 855360 w 855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01595" h="492145">
                  <a:moveTo>
                    <a:pt x="30480" y="0"/>
                  </a:moveTo>
                  <a:lnTo>
                    <a:pt x="1386355" y="30480"/>
                  </a:lnTo>
                  <a:lnTo>
                    <a:pt x="1401595" y="461665"/>
                  </a:lnTo>
                  <a:lnTo>
                    <a:pt x="0" y="492145"/>
                  </a:lnTo>
                  <a:lnTo>
                    <a:pt x="3048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262626"/>
                  </a:solidFill>
                  <a:latin typeface="方正喵呜体"/>
                  <a:ea typeface="方正喵呜体"/>
                </a:rPr>
                <a:t>展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矩形 15"/>
            <p:cNvSpPr/>
            <p:nvPr/>
          </p:nvSpPr>
          <p:spPr>
            <a:xfrm>
              <a:off x="6748920" y="1917000"/>
              <a:ext cx="11340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现场展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21"/>
            <p:cNvSpPr/>
            <p:nvPr/>
          </p:nvSpPr>
          <p:spPr>
            <a:xfrm>
              <a:off x="8044920" y="2183400"/>
              <a:ext cx="645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矩形 22"/>
            <p:cNvSpPr/>
            <p:nvPr/>
          </p:nvSpPr>
          <p:spPr>
            <a:xfrm>
              <a:off x="6730920" y="4217400"/>
              <a:ext cx="1284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影像</a:t>
              </a:r>
              <a:r>
                <a:rPr b="0" lang="en-US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/</a:t>
              </a: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图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23"/>
            <p:cNvSpPr/>
            <p:nvPr/>
          </p:nvSpPr>
          <p:spPr>
            <a:xfrm>
              <a:off x="7848000" y="3713400"/>
              <a:ext cx="110772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听觉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24"/>
            <p:cNvSpPr/>
            <p:nvPr/>
          </p:nvSpPr>
          <p:spPr>
            <a:xfrm>
              <a:off x="8171280" y="2993040"/>
              <a:ext cx="7916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视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25"/>
            <p:cNvSpPr/>
            <p:nvPr/>
          </p:nvSpPr>
          <p:spPr>
            <a:xfrm>
              <a:off x="1041840" y="4294800"/>
              <a:ext cx="1438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基于万维网的展示程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26"/>
            <p:cNvSpPr/>
            <p:nvPr/>
          </p:nvSpPr>
          <p:spPr>
            <a:xfrm>
              <a:off x="275400" y="3440520"/>
              <a:ext cx="645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文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7"/>
            <p:cNvSpPr/>
            <p:nvPr/>
          </p:nvSpPr>
          <p:spPr>
            <a:xfrm>
              <a:off x="1475640" y="1948320"/>
              <a:ext cx="930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幻灯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31"/>
            <p:cNvSpPr/>
            <p:nvPr/>
          </p:nvSpPr>
          <p:spPr>
            <a:xfrm>
              <a:off x="172080" y="2976840"/>
              <a:ext cx="645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网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32"/>
            <p:cNvSpPr/>
            <p:nvPr/>
          </p:nvSpPr>
          <p:spPr>
            <a:xfrm>
              <a:off x="35640" y="2207520"/>
              <a:ext cx="143892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在线研讨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33"/>
            <p:cNvSpPr/>
            <p:nvPr/>
          </p:nvSpPr>
          <p:spPr>
            <a:xfrm>
              <a:off x="1559880" y="5745960"/>
              <a:ext cx="1979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把演示记录下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1"/>
            <p:cNvSpPr/>
            <p:nvPr/>
          </p:nvSpPr>
          <p:spPr>
            <a:xfrm>
              <a:off x="5975280" y="5653800"/>
              <a:ext cx="2285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将来就有可能将它传播出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8" name="曲线连接符 6"/>
            <p:cNvCxnSpPr>
              <a:stCxn id="457" idx="0"/>
              <a:endCxn id="473" idx="2"/>
            </p:cNvCxnSpPr>
            <p:nvPr/>
          </p:nvCxnSpPr>
          <p:spPr>
            <a:xfrm rot="10800000">
              <a:off x="1941120" y="2418480"/>
              <a:ext cx="19800" cy="21852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479" name="曲线连接符 13"/>
            <p:cNvCxnSpPr>
              <a:stCxn id="457" idx="1"/>
              <a:endCxn id="475" idx="2"/>
            </p:cNvCxnSpPr>
            <p:nvPr/>
          </p:nvCxnSpPr>
          <p:spPr>
            <a:xfrm rot="10800000">
              <a:off x="754560" y="2676960"/>
              <a:ext cx="396000" cy="62136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480" name="曲线连接符 35"/>
            <p:cNvCxnSpPr>
              <a:stCxn id="457" idx="1"/>
            </p:cNvCxnSpPr>
            <p:nvPr/>
          </p:nvCxnSpPr>
          <p:spPr>
            <a:xfrm rot="10800000">
              <a:off x="754560" y="3256560"/>
              <a:ext cx="396000" cy="4176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481" name="曲线连接符 38"/>
            <p:cNvCxnSpPr>
              <a:stCxn id="457" idx="1"/>
              <a:endCxn id="472" idx="3"/>
            </p:cNvCxnSpPr>
            <p:nvPr/>
          </p:nvCxnSpPr>
          <p:spPr>
            <a:xfrm flipV="1" rot="10800000">
              <a:off x="921600" y="3298320"/>
              <a:ext cx="229320" cy="37764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482" name="曲线连接符 40"/>
            <p:cNvCxnSpPr>
              <a:stCxn id="457" idx="2"/>
              <a:endCxn id="471" idx="0"/>
            </p:cNvCxnSpPr>
            <p:nvPr/>
          </p:nvCxnSpPr>
          <p:spPr>
            <a:xfrm flipV="1" rot="10800000">
              <a:off x="1760400" y="3960000"/>
              <a:ext cx="200160" cy="33516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483" name="曲线连接符 42"/>
            <p:cNvCxnSpPr>
              <a:stCxn id="458" idx="0"/>
              <a:endCxn id="466" idx="2"/>
            </p:cNvCxnSpPr>
            <p:nvPr/>
          </p:nvCxnSpPr>
          <p:spPr>
            <a:xfrm rot="10800000">
              <a:off x="7315560" y="2386800"/>
              <a:ext cx="8640" cy="29484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484" name="曲线连接符 44"/>
            <p:cNvCxnSpPr>
              <a:endCxn id="467" idx="2"/>
            </p:cNvCxnSpPr>
            <p:nvPr/>
          </p:nvCxnSpPr>
          <p:spPr>
            <a:xfrm flipV="1">
              <a:off x="7990560" y="2691000"/>
              <a:ext cx="378000" cy="49356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485" name="曲线连接符 51"/>
            <p:cNvCxnSpPr/>
            <p:nvPr/>
          </p:nvCxnSpPr>
          <p:spPr>
            <a:xfrm>
              <a:off x="7990560" y="3197880"/>
              <a:ext cx="252720" cy="4932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486" name="曲线连接符 55"/>
            <p:cNvCxnSpPr/>
            <p:nvPr/>
          </p:nvCxnSpPr>
          <p:spPr>
            <a:xfrm flipV="1" rot="10800000">
              <a:off x="7882560" y="3197880"/>
              <a:ext cx="108000" cy="80748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487" name="曲线连接符 57"/>
            <p:cNvCxnSpPr>
              <a:stCxn id="458" idx="2"/>
              <a:endCxn id="468" idx="0"/>
            </p:cNvCxnSpPr>
            <p:nvPr/>
          </p:nvCxnSpPr>
          <p:spPr>
            <a:xfrm>
              <a:off x="7324200" y="4005000"/>
              <a:ext cx="49680" cy="21240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488" name="曲线连接符 61"/>
            <p:cNvCxnSpPr>
              <a:stCxn id="459" idx="1"/>
            </p:cNvCxnSpPr>
            <p:nvPr/>
          </p:nvCxnSpPr>
          <p:spPr>
            <a:xfrm rot="10800000">
              <a:off x="3202560" y="5976360"/>
              <a:ext cx="504360" cy="185040"/>
            </a:xfrm>
            <a:prstGeom prst="curvedConnector2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489" name="曲线连接符 63"/>
            <p:cNvCxnSpPr>
              <a:endCxn id="477" idx="1"/>
            </p:cNvCxnSpPr>
            <p:nvPr/>
          </p:nvCxnSpPr>
          <p:spPr>
            <a:xfrm flipV="1">
              <a:off x="5632560" y="5976720"/>
              <a:ext cx="342720" cy="185040"/>
            </a:xfrm>
            <a:prstGeom prst="curvedConnector2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3"/>
          <p:cNvSpPr/>
          <p:nvPr/>
        </p:nvSpPr>
        <p:spPr>
          <a:xfrm>
            <a:off x="971640" y="126864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只需要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会画线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就可以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12"/>
          <p:cNvSpPr/>
          <p:nvPr/>
        </p:nvSpPr>
        <p:spPr>
          <a:xfrm>
            <a:off x="3060000" y="260640"/>
            <a:ext cx="583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条线就能讲清楚“长尾理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22"/>
          <p:cNvGrpSpPr/>
          <p:nvPr/>
        </p:nvGrpSpPr>
        <p:grpSpPr>
          <a:xfrm>
            <a:off x="1115640" y="2267640"/>
            <a:ext cx="6120360" cy="3820320"/>
            <a:chOff x="1115640" y="2267640"/>
            <a:chExt cx="6120360" cy="3820320"/>
          </a:xfrm>
        </p:grpSpPr>
        <p:sp>
          <p:nvSpPr>
            <p:cNvPr id="494" name="矩形 14"/>
            <p:cNvSpPr/>
            <p:nvPr/>
          </p:nvSpPr>
          <p:spPr>
            <a:xfrm>
              <a:off x="5872320" y="5724000"/>
              <a:ext cx="1231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商品种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15"/>
            <p:cNvSpPr/>
            <p:nvPr/>
          </p:nvSpPr>
          <p:spPr>
            <a:xfrm>
              <a:off x="1115640" y="2327400"/>
              <a:ext cx="935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销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10"/>
            <p:cNvSpPr/>
            <p:nvPr/>
          </p:nvSpPr>
          <p:spPr>
            <a:xfrm>
              <a:off x="4568400" y="3758040"/>
              <a:ext cx="1712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长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直接连接符 6"/>
            <p:cNvCxnSpPr/>
            <p:nvPr/>
          </p:nvCxnSpPr>
          <p:spPr>
            <a:xfrm>
              <a:off x="1907640" y="2267640"/>
              <a:ext cx="360" cy="32281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498" name="直接连接符 8"/>
            <p:cNvCxnSpPr/>
            <p:nvPr/>
          </p:nvCxnSpPr>
          <p:spPr>
            <a:xfrm>
              <a:off x="1907640" y="5495400"/>
              <a:ext cx="5328720" cy="36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sp>
          <p:nvSpPr>
            <p:cNvPr id="499" name="任意多边形 11"/>
            <p:cNvSpPr/>
            <p:nvPr/>
          </p:nvSpPr>
          <p:spPr>
            <a:xfrm>
              <a:off x="2045880" y="2332080"/>
              <a:ext cx="4965120" cy="3014280"/>
            </a:xfrm>
            <a:custGeom>
              <a:avLst/>
              <a:gdLst>
                <a:gd name="textAreaLeft" fmla="*/ 0 w 4965120"/>
                <a:gd name="textAreaRight" fmla="*/ 4965480 w 4965120"/>
                <a:gd name="textAreaTop" fmla="*/ 0 h 3014280"/>
                <a:gd name="textAreaBottom" fmla="*/ 3014640 h 3014280"/>
              </a:gdLst>
              <a:ahLst/>
              <a:rect l="textAreaLeft" t="textAreaTop" r="textAreaRight" b="textAreaBottom"/>
              <a:pathLst>
                <a:path w="4191000" h="3093720">
                  <a:moveTo>
                    <a:pt x="0" y="0"/>
                  </a:moveTo>
                  <a:cubicBezTo>
                    <a:pt x="31750" y="1022350"/>
                    <a:pt x="63500" y="2044700"/>
                    <a:pt x="762000" y="2560320"/>
                  </a:cubicBezTo>
                  <a:cubicBezTo>
                    <a:pt x="1460500" y="3075940"/>
                    <a:pt x="2825750" y="3084830"/>
                    <a:pt x="4191000" y="3093720"/>
                  </a:cubicBez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00" name="直接连接符 17"/>
            <p:cNvCxnSpPr/>
            <p:nvPr/>
          </p:nvCxnSpPr>
          <p:spPr>
            <a:xfrm>
              <a:off x="2948400" y="4847400"/>
              <a:ext cx="360" cy="668880"/>
            </a:xfrm>
            <a:prstGeom prst="straightConnector1">
              <a:avLst/>
            </a:prstGeom>
            <a:ln w="28575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501" name="曲线连接符 2"/>
            <p:cNvCxnSpPr/>
            <p:nvPr/>
          </p:nvCxnSpPr>
          <p:spPr>
            <a:xfrm flipV="1" rot="10800000">
              <a:off x="4083480" y="4161960"/>
              <a:ext cx="750960" cy="999360"/>
            </a:xfrm>
            <a:prstGeom prst="curvedConnector2">
              <a:avLst/>
            </a:prstGeom>
            <a:ln w="28575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502" name="矩形 18"/>
            <p:cNvSpPr/>
            <p:nvPr/>
          </p:nvSpPr>
          <p:spPr>
            <a:xfrm>
              <a:off x="1882080" y="5724000"/>
              <a:ext cx="115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畅销商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9"/>
            <p:cNvSpPr/>
            <p:nvPr/>
          </p:nvSpPr>
          <p:spPr>
            <a:xfrm>
              <a:off x="3508200" y="5724000"/>
              <a:ext cx="115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冷门商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矩形 16"/>
          <p:cNvSpPr/>
          <p:nvPr/>
        </p:nvSpPr>
        <p:spPr>
          <a:xfrm>
            <a:off x="3586320" y="270900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去除你所用视觉材料中的</a:t>
            </a:r>
            <a:r>
              <a:rPr b="1" lang="en-US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“噪音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4"/>
          <p:cNvSpPr/>
          <p:nvPr/>
        </p:nvSpPr>
        <p:spPr>
          <a:xfrm>
            <a:off x="3754440" y="2052000"/>
            <a:ext cx="668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b050"/>
                </a:solidFill>
                <a:latin typeface="方正喵呜体"/>
                <a:ea typeface="方正喵呜体"/>
              </a:rPr>
              <a:t>并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99"/>
          <p:cNvSpPr/>
          <p:nvPr/>
        </p:nvSpPr>
        <p:spPr>
          <a:xfrm>
            <a:off x="3060000" y="260640"/>
            <a:ext cx="583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条线就能讲清楚“长尾理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01"/>
          <p:cNvSpPr/>
          <p:nvPr/>
        </p:nvSpPr>
        <p:spPr>
          <a:xfrm>
            <a:off x="1810440" y="1268640"/>
            <a:ext cx="3346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遇到的所有难题都能通过画</a:t>
            </a:r>
            <a:r>
              <a:rPr b="1" lang="en-US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种图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解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1"/>
          <p:cNvGrpSpPr/>
          <p:nvPr/>
        </p:nvGrpSpPr>
        <p:grpSpPr>
          <a:xfrm>
            <a:off x="108000" y="1828080"/>
            <a:ext cx="8843040" cy="4907880"/>
            <a:chOff x="108000" y="1828080"/>
            <a:chExt cx="8843040" cy="4907880"/>
          </a:xfrm>
        </p:grpSpPr>
        <p:cxnSp>
          <p:nvCxnSpPr>
            <p:cNvPr id="510" name="直接连接符 4"/>
            <p:cNvCxnSpPr/>
            <p:nvPr/>
          </p:nvCxnSpPr>
          <p:spPr>
            <a:xfrm>
              <a:off x="3095640" y="3436200"/>
              <a:ext cx="3189960" cy="17143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11" name="直接连接符 6"/>
            <p:cNvCxnSpPr>
              <a:stCxn id="512" idx="0"/>
              <a:endCxn id="512" idx="4"/>
            </p:cNvCxnSpPr>
            <p:nvPr/>
          </p:nvCxnSpPr>
          <p:spPr>
            <a:xfrm>
              <a:off x="4680000" y="2483640"/>
              <a:ext cx="360" cy="36727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13" name="直接连接符 10"/>
            <p:cNvCxnSpPr/>
            <p:nvPr/>
          </p:nvCxnSpPr>
          <p:spPr>
            <a:xfrm flipV="1">
              <a:off x="2960280" y="3568320"/>
              <a:ext cx="3432600" cy="145008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sp>
          <p:nvSpPr>
            <p:cNvPr id="512" name="椭圆 14"/>
            <p:cNvSpPr/>
            <p:nvPr/>
          </p:nvSpPr>
          <p:spPr>
            <a:xfrm>
              <a:off x="2843640" y="2484000"/>
              <a:ext cx="3672000" cy="367200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4" name="TextBox 39"/>
            <p:cNvSpPr/>
            <p:nvPr/>
          </p:nvSpPr>
          <p:spPr>
            <a:xfrm>
              <a:off x="3492000" y="316296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为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40"/>
            <p:cNvSpPr/>
            <p:nvPr/>
          </p:nvSpPr>
          <p:spPr>
            <a:xfrm>
              <a:off x="4823640" y="316296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谁</a:t>
              </a:r>
              <a:r>
                <a:rPr b="1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41"/>
            <p:cNvSpPr/>
            <p:nvPr/>
          </p:nvSpPr>
          <p:spPr>
            <a:xfrm>
              <a:off x="5399640" y="413064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有多少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42"/>
            <p:cNvSpPr/>
            <p:nvPr/>
          </p:nvSpPr>
          <p:spPr>
            <a:xfrm>
              <a:off x="4823640" y="503532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在哪里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43"/>
            <p:cNvSpPr/>
            <p:nvPr/>
          </p:nvSpPr>
          <p:spPr>
            <a:xfrm>
              <a:off x="3527280" y="496332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在什么时候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44"/>
            <p:cNvSpPr/>
            <p:nvPr/>
          </p:nvSpPr>
          <p:spPr>
            <a:xfrm>
              <a:off x="3022920" y="408996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怎么样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笑脸 45"/>
            <p:cNvSpPr/>
            <p:nvPr/>
          </p:nvSpPr>
          <p:spPr>
            <a:xfrm>
              <a:off x="5364000" y="2052000"/>
              <a:ext cx="503640" cy="431640"/>
            </a:xfrm>
            <a:prstGeom prst="smileyFace">
              <a:avLst>
                <a:gd name="adj" fmla="val 4653"/>
              </a:avLst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1" name="立方体 46"/>
            <p:cNvSpPr/>
            <p:nvPr/>
          </p:nvSpPr>
          <p:spPr>
            <a:xfrm>
              <a:off x="5985720" y="2387520"/>
              <a:ext cx="503640" cy="431640"/>
            </a:xfrm>
            <a:prstGeom prst="cube">
              <a:avLst>
                <a:gd name="adj" fmla="val 25000"/>
              </a:avLst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2" name="TextBox 47"/>
            <p:cNvSpPr/>
            <p:nvPr/>
          </p:nvSpPr>
          <p:spPr>
            <a:xfrm>
              <a:off x="6012720" y="1889640"/>
              <a:ext cx="79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画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直接连接符 49"/>
            <p:cNvCxnSpPr/>
            <p:nvPr/>
          </p:nvCxnSpPr>
          <p:spPr>
            <a:xfrm>
              <a:off x="6840720" y="3537000"/>
              <a:ext cx="360" cy="10087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24" name="直接连接符 51"/>
            <p:cNvCxnSpPr/>
            <p:nvPr/>
          </p:nvCxnSpPr>
          <p:spPr>
            <a:xfrm>
              <a:off x="6840720" y="4545360"/>
              <a:ext cx="1296360" cy="36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sp>
          <p:nvSpPr>
            <p:cNvPr id="525" name="矩形 53"/>
            <p:cNvSpPr/>
            <p:nvPr/>
          </p:nvSpPr>
          <p:spPr>
            <a:xfrm>
              <a:off x="7488720" y="3982680"/>
              <a:ext cx="243000" cy="56268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6" name="TextBox 54"/>
            <p:cNvSpPr/>
            <p:nvPr/>
          </p:nvSpPr>
          <p:spPr>
            <a:xfrm>
              <a:off x="6809760" y="4617720"/>
              <a:ext cx="1331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数量型图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55"/>
            <p:cNvSpPr/>
            <p:nvPr/>
          </p:nvSpPr>
          <p:spPr>
            <a:xfrm>
              <a:off x="1512000" y="3811680"/>
              <a:ext cx="431640" cy="36432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8" name="椭圆 56"/>
            <p:cNvSpPr/>
            <p:nvPr/>
          </p:nvSpPr>
          <p:spPr>
            <a:xfrm>
              <a:off x="1944360" y="4325040"/>
              <a:ext cx="431640" cy="43164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29" name="肘形连接符 58"/>
            <p:cNvCxnSpPr>
              <a:stCxn id="527" idx="3"/>
            </p:cNvCxnSpPr>
            <p:nvPr/>
          </p:nvCxnSpPr>
          <p:spPr>
            <a:xfrm>
              <a:off x="1944000" y="3993840"/>
              <a:ext cx="216360" cy="475200"/>
            </a:xfrm>
            <a:prstGeom prst="bentConnector2">
              <a:avLst/>
            </a:prstGeom>
            <a:ln w="28575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530" name="肘形连接符 61"/>
            <p:cNvCxnSpPr>
              <a:stCxn id="528" idx="2"/>
              <a:endCxn id="527" idx="2"/>
            </p:cNvCxnSpPr>
            <p:nvPr/>
          </p:nvCxnSpPr>
          <p:spPr>
            <a:xfrm rot="10800000">
              <a:off x="1728000" y="4175640"/>
              <a:ext cx="216360" cy="365040"/>
            </a:xfrm>
            <a:prstGeom prst="bentConnector2">
              <a:avLst/>
            </a:prstGeom>
            <a:ln w="28575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531" name="TextBox 63"/>
            <p:cNvSpPr/>
            <p:nvPr/>
          </p:nvSpPr>
          <p:spPr>
            <a:xfrm>
              <a:off x="756000" y="4225320"/>
              <a:ext cx="871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流程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右箭头 64"/>
            <p:cNvSpPr/>
            <p:nvPr/>
          </p:nvSpPr>
          <p:spPr>
            <a:xfrm>
              <a:off x="2447640" y="6156360"/>
              <a:ext cx="431640" cy="3596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右箭头 65"/>
            <p:cNvSpPr/>
            <p:nvPr/>
          </p:nvSpPr>
          <p:spPr>
            <a:xfrm>
              <a:off x="2915640" y="6156360"/>
              <a:ext cx="431640" cy="3596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右箭头 66"/>
            <p:cNvSpPr/>
            <p:nvPr/>
          </p:nvSpPr>
          <p:spPr>
            <a:xfrm>
              <a:off x="3348000" y="6156360"/>
              <a:ext cx="431640" cy="3596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TextBox 67"/>
            <p:cNvSpPr/>
            <p:nvPr/>
          </p:nvSpPr>
          <p:spPr>
            <a:xfrm>
              <a:off x="1527480" y="6196680"/>
              <a:ext cx="91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时间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6" name="直接连接符 69"/>
            <p:cNvCxnSpPr/>
            <p:nvPr/>
          </p:nvCxnSpPr>
          <p:spPr>
            <a:xfrm flipH="1">
              <a:off x="5750280" y="5899680"/>
              <a:ext cx="190800" cy="1897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37" name="直接连接符 72"/>
            <p:cNvCxnSpPr/>
            <p:nvPr/>
          </p:nvCxnSpPr>
          <p:spPr>
            <a:xfrm>
              <a:off x="5904360" y="5899680"/>
              <a:ext cx="216360" cy="1897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38" name="直接连接符 74"/>
            <p:cNvCxnSpPr/>
            <p:nvPr/>
          </p:nvCxnSpPr>
          <p:spPr>
            <a:xfrm>
              <a:off x="5814720" y="6053040"/>
              <a:ext cx="360" cy="18504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39" name="直接连接符 76"/>
            <p:cNvCxnSpPr/>
            <p:nvPr/>
          </p:nvCxnSpPr>
          <p:spPr>
            <a:xfrm>
              <a:off x="6048360" y="5999040"/>
              <a:ext cx="360" cy="27036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sp>
          <p:nvSpPr>
            <p:cNvPr id="540" name="矩形 80"/>
            <p:cNvSpPr/>
            <p:nvPr/>
          </p:nvSpPr>
          <p:spPr>
            <a:xfrm>
              <a:off x="5879160" y="6134040"/>
              <a:ext cx="123120" cy="13464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1" name="任意多边形 82"/>
            <p:cNvSpPr/>
            <p:nvPr/>
          </p:nvSpPr>
          <p:spPr>
            <a:xfrm>
              <a:off x="5688720" y="5909040"/>
              <a:ext cx="1005480" cy="59904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1005840" h="599323">
                  <a:moveTo>
                    <a:pt x="0" y="579120"/>
                  </a:moveTo>
                  <a:cubicBezTo>
                    <a:pt x="25400" y="574040"/>
                    <a:pt x="50403" y="561535"/>
                    <a:pt x="76200" y="563880"/>
                  </a:cubicBezTo>
                  <a:cubicBezTo>
                    <a:pt x="108197" y="566789"/>
                    <a:pt x="167640" y="594360"/>
                    <a:pt x="167640" y="594360"/>
                  </a:cubicBezTo>
                  <a:cubicBezTo>
                    <a:pt x="200807" y="592409"/>
                    <a:pt x="406443" y="624065"/>
                    <a:pt x="472440" y="548640"/>
                  </a:cubicBezTo>
                  <a:cubicBezTo>
                    <a:pt x="496563" y="521071"/>
                    <a:pt x="513080" y="487680"/>
                    <a:pt x="533400" y="457200"/>
                  </a:cubicBezTo>
                  <a:cubicBezTo>
                    <a:pt x="543560" y="441960"/>
                    <a:pt x="558088" y="428856"/>
                    <a:pt x="563880" y="411480"/>
                  </a:cubicBezTo>
                  <a:cubicBezTo>
                    <a:pt x="574040" y="381000"/>
                    <a:pt x="576538" y="346773"/>
                    <a:pt x="594360" y="320040"/>
                  </a:cubicBezTo>
                  <a:lnTo>
                    <a:pt x="655320" y="228600"/>
                  </a:lnTo>
                  <a:cubicBezTo>
                    <a:pt x="665480" y="213360"/>
                    <a:pt x="672848" y="195832"/>
                    <a:pt x="685800" y="182880"/>
                  </a:cubicBezTo>
                  <a:cubicBezTo>
                    <a:pt x="728243" y="140437"/>
                    <a:pt x="805027" y="51698"/>
                    <a:pt x="868680" y="30480"/>
                  </a:cubicBezTo>
                  <a:cubicBezTo>
                    <a:pt x="899160" y="20320"/>
                    <a:pt x="927991" y="0"/>
                    <a:pt x="960120" y="0"/>
                  </a:cubicBezTo>
                  <a:lnTo>
                    <a:pt x="1005840" y="0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2" name="任意多边形 83"/>
            <p:cNvSpPr/>
            <p:nvPr/>
          </p:nvSpPr>
          <p:spPr>
            <a:xfrm>
              <a:off x="5782320" y="6072480"/>
              <a:ext cx="1005480" cy="59904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1005840" h="599323">
                  <a:moveTo>
                    <a:pt x="0" y="579120"/>
                  </a:moveTo>
                  <a:cubicBezTo>
                    <a:pt x="25400" y="574040"/>
                    <a:pt x="50403" y="561535"/>
                    <a:pt x="76200" y="563880"/>
                  </a:cubicBezTo>
                  <a:cubicBezTo>
                    <a:pt x="108197" y="566789"/>
                    <a:pt x="167640" y="594360"/>
                    <a:pt x="167640" y="594360"/>
                  </a:cubicBezTo>
                  <a:cubicBezTo>
                    <a:pt x="200807" y="592409"/>
                    <a:pt x="406443" y="624065"/>
                    <a:pt x="472440" y="548640"/>
                  </a:cubicBezTo>
                  <a:cubicBezTo>
                    <a:pt x="496563" y="521071"/>
                    <a:pt x="513080" y="487680"/>
                    <a:pt x="533400" y="457200"/>
                  </a:cubicBezTo>
                  <a:cubicBezTo>
                    <a:pt x="543560" y="441960"/>
                    <a:pt x="558088" y="428856"/>
                    <a:pt x="563880" y="411480"/>
                  </a:cubicBezTo>
                  <a:cubicBezTo>
                    <a:pt x="574040" y="381000"/>
                    <a:pt x="576538" y="346773"/>
                    <a:pt x="594360" y="320040"/>
                  </a:cubicBezTo>
                  <a:lnTo>
                    <a:pt x="655320" y="228600"/>
                  </a:lnTo>
                  <a:cubicBezTo>
                    <a:pt x="665480" y="213360"/>
                    <a:pt x="672848" y="195832"/>
                    <a:pt x="685800" y="182880"/>
                  </a:cubicBezTo>
                  <a:cubicBezTo>
                    <a:pt x="728243" y="140437"/>
                    <a:pt x="805027" y="51698"/>
                    <a:pt x="868680" y="30480"/>
                  </a:cubicBezTo>
                  <a:cubicBezTo>
                    <a:pt x="899160" y="20320"/>
                    <a:pt x="927991" y="0"/>
                    <a:pt x="960120" y="0"/>
                  </a:cubicBezTo>
                  <a:lnTo>
                    <a:pt x="1005840" y="0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3" name="矩形 86"/>
            <p:cNvSpPr/>
            <p:nvPr/>
          </p:nvSpPr>
          <p:spPr>
            <a:xfrm>
              <a:off x="6468480" y="6372000"/>
              <a:ext cx="295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87"/>
            <p:cNvSpPr/>
            <p:nvPr/>
          </p:nvSpPr>
          <p:spPr>
            <a:xfrm>
              <a:off x="6813360" y="6350040"/>
              <a:ext cx="91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分布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直接连接符 90"/>
            <p:cNvCxnSpPr/>
            <p:nvPr/>
          </p:nvCxnSpPr>
          <p:spPr>
            <a:xfrm>
              <a:off x="2247840" y="1889280"/>
              <a:ext cx="360" cy="10087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46" name="直接连接符 91"/>
            <p:cNvCxnSpPr/>
            <p:nvPr/>
          </p:nvCxnSpPr>
          <p:spPr>
            <a:xfrm>
              <a:off x="2123640" y="2843640"/>
              <a:ext cx="1296360" cy="36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sp>
          <p:nvSpPr>
            <p:cNvPr id="547" name="椭圆 92"/>
            <p:cNvSpPr/>
            <p:nvPr/>
          </p:nvSpPr>
          <p:spPr>
            <a:xfrm>
              <a:off x="2452320" y="2042640"/>
              <a:ext cx="431640" cy="43164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8" name="椭圆 94"/>
            <p:cNvSpPr/>
            <p:nvPr/>
          </p:nvSpPr>
          <p:spPr>
            <a:xfrm>
              <a:off x="2992320" y="2475000"/>
              <a:ext cx="215640" cy="21564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9" name="椭圆 95"/>
            <p:cNvSpPr/>
            <p:nvPr/>
          </p:nvSpPr>
          <p:spPr>
            <a:xfrm>
              <a:off x="3069000" y="2023560"/>
              <a:ext cx="278280" cy="27828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0" name="TextBox 96"/>
            <p:cNvSpPr/>
            <p:nvPr/>
          </p:nvSpPr>
          <p:spPr>
            <a:xfrm>
              <a:off x="2637000" y="2780640"/>
              <a:ext cx="431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600" spc="-1" strike="noStrike">
                  <a:solidFill>
                    <a:srgbClr val="000000"/>
                  </a:solidFill>
                  <a:latin typeface="Mistr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97"/>
            <p:cNvSpPr/>
            <p:nvPr/>
          </p:nvSpPr>
          <p:spPr>
            <a:xfrm>
              <a:off x="1944360" y="1828080"/>
              <a:ext cx="431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600" spc="-1" strike="noStrike">
                  <a:solidFill>
                    <a:srgbClr val="000000"/>
                  </a:solidFill>
                  <a:latin typeface="Mistral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98"/>
            <p:cNvSpPr/>
            <p:nvPr/>
          </p:nvSpPr>
          <p:spPr>
            <a:xfrm>
              <a:off x="683640" y="1828080"/>
              <a:ext cx="1439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科学变量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103"/>
            <p:cNvSpPr/>
            <p:nvPr/>
          </p:nvSpPr>
          <p:spPr>
            <a:xfrm>
              <a:off x="7049160" y="3677040"/>
              <a:ext cx="243000" cy="86832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4" name="矩形 104"/>
            <p:cNvSpPr/>
            <p:nvPr/>
          </p:nvSpPr>
          <p:spPr>
            <a:xfrm>
              <a:off x="6561360" y="2238120"/>
              <a:ext cx="2131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事物、人和角色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105"/>
            <p:cNvSpPr/>
            <p:nvPr/>
          </p:nvSpPr>
          <p:spPr>
            <a:xfrm>
              <a:off x="7331760" y="3236760"/>
              <a:ext cx="1619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度量和计数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106"/>
            <p:cNvSpPr/>
            <p:nvPr/>
          </p:nvSpPr>
          <p:spPr>
            <a:xfrm>
              <a:off x="477360" y="5622840"/>
              <a:ext cx="2514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日程安排和时间选择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107"/>
            <p:cNvSpPr/>
            <p:nvPr/>
          </p:nvSpPr>
          <p:spPr>
            <a:xfrm>
              <a:off x="6846480" y="5295960"/>
              <a:ext cx="2093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方向以及各个部分如何结合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108"/>
            <p:cNvSpPr/>
            <p:nvPr/>
          </p:nvSpPr>
          <p:spPr>
            <a:xfrm>
              <a:off x="108000" y="3422880"/>
              <a:ext cx="1944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相互之间影响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109"/>
            <p:cNvSpPr/>
            <p:nvPr/>
          </p:nvSpPr>
          <p:spPr>
            <a:xfrm>
              <a:off x="315720" y="2196000"/>
              <a:ext cx="1878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了解整体情况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 Box 3"/>
          <p:cNvSpPr/>
          <p:nvPr/>
        </p:nvSpPr>
        <p:spPr>
          <a:xfrm>
            <a:off x="236160" y="6526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矩形 3"/>
          <p:cNvSpPr/>
          <p:nvPr/>
        </p:nvSpPr>
        <p:spPr>
          <a:xfrm>
            <a:off x="971640" y="2388600"/>
            <a:ext cx="34560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每种职业、每个职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都需要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演示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4"/>
          <p:cNvSpPr/>
          <p:nvPr/>
        </p:nvSpPr>
        <p:spPr>
          <a:xfrm>
            <a:off x="1979640" y="260640"/>
            <a:ext cx="691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进阶演示高手，你就是下一个乔布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6"/>
          <p:cNvSpPr/>
          <p:nvPr/>
        </p:nvSpPr>
        <p:spPr>
          <a:xfrm>
            <a:off x="1583640" y="4149000"/>
            <a:ext cx="2232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做你职业的</a:t>
            </a:r>
            <a:r>
              <a:rPr b="1" lang="zh-CN" sz="44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代言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7" descr=""/>
          <p:cNvPicPr/>
          <p:nvPr/>
        </p:nvPicPr>
        <p:blipFill>
          <a:blip r:embed="rId1"/>
          <a:srcRect l="4740" t="-612" r="9381" b="0"/>
          <a:stretch/>
        </p:blipFill>
        <p:spPr>
          <a:xfrm>
            <a:off x="4349880" y="1786680"/>
            <a:ext cx="343404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14"/>
          <p:cNvGrpSpPr/>
          <p:nvPr/>
        </p:nvGrpSpPr>
        <p:grpSpPr>
          <a:xfrm>
            <a:off x="323640" y="-41760"/>
            <a:ext cx="8932680" cy="6554880"/>
            <a:chOff x="323640" y="-41760"/>
            <a:chExt cx="8932680" cy="6554880"/>
          </a:xfrm>
        </p:grpSpPr>
        <p:sp>
          <p:nvSpPr>
            <p:cNvPr id="78" name="标题 1"/>
            <p:cNvSpPr/>
            <p:nvPr/>
          </p:nvSpPr>
          <p:spPr>
            <a:xfrm>
              <a:off x="5508000" y="2529000"/>
              <a:ext cx="33282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8000"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Mistral"/>
                </a:rPr>
                <a:t>THE ART O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副标题 2"/>
            <p:cNvSpPr/>
            <p:nvPr/>
          </p:nvSpPr>
          <p:spPr>
            <a:xfrm>
              <a:off x="5508000" y="4015440"/>
              <a:ext cx="34560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78000"/>
            </a:bodyPr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Making Your Ideas, Produc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And Services Easier To Underst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弧形 5"/>
            <p:cNvSpPr/>
            <p:nvPr/>
          </p:nvSpPr>
          <p:spPr>
            <a:xfrm>
              <a:off x="323640" y="608760"/>
              <a:ext cx="6192360" cy="5904360"/>
            </a:xfrm>
            <a:prstGeom prst="arc">
              <a:avLst>
                <a:gd name="adj1" fmla="val 2102127"/>
                <a:gd name="adj2" fmla="val 19482424"/>
              </a:avLst>
            </a:prstGeom>
            <a:noFill/>
            <a:ln w="22225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" name="直接连接符 6"/>
            <p:cNvCxnSpPr/>
            <p:nvPr/>
          </p:nvCxnSpPr>
          <p:spPr>
            <a:xfrm flipV="1">
              <a:off x="5059800" y="1340640"/>
              <a:ext cx="2475000" cy="1296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82" name="直接连接符 7"/>
            <p:cNvCxnSpPr/>
            <p:nvPr/>
          </p:nvCxnSpPr>
          <p:spPr>
            <a:xfrm>
              <a:off x="5092200" y="4710960"/>
              <a:ext cx="2442600" cy="864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83" name="标题 1"/>
            <p:cNvSpPr/>
            <p:nvPr/>
          </p:nvSpPr>
          <p:spPr>
            <a:xfrm>
              <a:off x="6156000" y="3212640"/>
              <a:ext cx="310032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5000"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Mistral"/>
                </a:rPr>
                <a:t>EXPLAN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9"/>
            <p:cNvSpPr/>
            <p:nvPr/>
          </p:nvSpPr>
          <p:spPr>
            <a:xfrm>
              <a:off x="1690560" y="3431880"/>
              <a:ext cx="324000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为演示制定计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步步为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组合 10"/>
            <p:cNvGrpSpPr/>
            <p:nvPr/>
          </p:nvGrpSpPr>
          <p:grpSpPr>
            <a:xfrm>
              <a:off x="2626560" y="1803600"/>
              <a:ext cx="1367640" cy="1308960"/>
              <a:chOff x="2626560" y="1803600"/>
              <a:chExt cx="1367640" cy="1308960"/>
            </a:xfrm>
          </p:grpSpPr>
          <p:sp>
            <p:nvSpPr>
              <p:cNvPr id="86" name="椭圆 11"/>
              <p:cNvSpPr/>
              <p:nvPr/>
            </p:nvSpPr>
            <p:spPr>
              <a:xfrm>
                <a:off x="2626560" y="180360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87" name="TextBox 12"/>
              <p:cNvSpPr/>
              <p:nvPr/>
            </p:nvSpPr>
            <p:spPr>
              <a:xfrm>
                <a:off x="2648520" y="2155680"/>
                <a:ext cx="1323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1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图片 13" descr=""/>
            <p:cNvPicPr/>
            <p:nvPr/>
          </p:nvPicPr>
          <p:blipFill>
            <a:blip r:embed="rId1"/>
            <a:stretch/>
          </p:blipFill>
          <p:spPr>
            <a:xfrm rot="19805400">
              <a:off x="921960" y="366840"/>
              <a:ext cx="1878840" cy="89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标题 1"/>
          <p:cNvSpPr/>
          <p:nvPr/>
        </p:nvSpPr>
        <p:spPr>
          <a:xfrm>
            <a:off x="5508000" y="2529000"/>
            <a:ext cx="332820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Mistral"/>
              </a:rPr>
              <a:t>THE ART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副标题 2"/>
          <p:cNvSpPr/>
          <p:nvPr/>
        </p:nvSpPr>
        <p:spPr>
          <a:xfrm>
            <a:off x="5508000" y="4015440"/>
            <a:ext cx="3456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8000"/>
          </a:bodyPr>
          <a:p>
            <a:pPr marL="289080" indent="-289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808080"/>
                </a:solidFill>
                <a:latin typeface="方正喵呜体"/>
                <a:ea typeface="方正喵呜体"/>
              </a:rPr>
              <a:t>Making Your Ideas, Produ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808080"/>
                </a:solidFill>
                <a:latin typeface="方正喵呜体"/>
                <a:ea typeface="方正喵呜体"/>
              </a:rPr>
              <a:t>And Services Easier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弧形 5"/>
          <p:cNvSpPr/>
          <p:nvPr/>
        </p:nvSpPr>
        <p:spPr>
          <a:xfrm>
            <a:off x="323640" y="608760"/>
            <a:ext cx="6192360" cy="5904360"/>
          </a:xfrm>
          <a:prstGeom prst="arc">
            <a:avLst>
              <a:gd name="adj1" fmla="val 2102127"/>
              <a:gd name="adj2" fmla="val 19482424"/>
            </a:avLst>
          </a:prstGeom>
          <a:noFill/>
          <a:ln w="2222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9" name="直接连接符 6"/>
          <p:cNvCxnSpPr/>
          <p:nvPr/>
        </p:nvCxnSpPr>
        <p:spPr>
          <a:xfrm flipV="1">
            <a:off x="5059800" y="1340640"/>
            <a:ext cx="2475000" cy="1296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570" name="直接连接符 7"/>
          <p:cNvCxnSpPr/>
          <p:nvPr/>
        </p:nvCxnSpPr>
        <p:spPr>
          <a:xfrm>
            <a:off x="5092200" y="4710960"/>
            <a:ext cx="2442600" cy="864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571" name="标题 1"/>
          <p:cNvSpPr/>
          <p:nvPr/>
        </p:nvSpPr>
        <p:spPr>
          <a:xfrm>
            <a:off x="6156000" y="3212640"/>
            <a:ext cx="310032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Mistral"/>
              </a:rPr>
              <a:t>EXPLA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9"/>
          <p:cNvSpPr/>
          <p:nvPr/>
        </p:nvSpPr>
        <p:spPr>
          <a:xfrm>
            <a:off x="755640" y="1710360"/>
            <a:ext cx="630252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9600" spc="-1" strike="noStrike">
                <a:solidFill>
                  <a:srgbClr val="ff0000"/>
                </a:solidFill>
                <a:latin typeface="Mistr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0"/>
          <p:cNvSpPr/>
          <p:nvPr/>
        </p:nvSpPr>
        <p:spPr>
          <a:xfrm>
            <a:off x="1187640" y="1710360"/>
            <a:ext cx="360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，就是下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1"/>
          <p:cNvSpPr/>
          <p:nvPr/>
        </p:nvSpPr>
        <p:spPr>
          <a:xfrm>
            <a:off x="1763640" y="3636000"/>
            <a:ext cx="2610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zh-CN" sz="6000" spc="-1" strike="noStrike">
                <a:solidFill>
                  <a:srgbClr val="00b050"/>
                </a:solidFill>
                <a:latin typeface="方正喵呜体"/>
                <a:ea typeface="方正喵呜体"/>
              </a:rPr>
              <a:t>乔布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12" descr=""/>
          <p:cNvPicPr/>
          <p:nvPr/>
        </p:nvPicPr>
        <p:blipFill>
          <a:blip r:embed="rId1"/>
          <a:stretch/>
        </p:blipFill>
        <p:spPr>
          <a:xfrm rot="19805400">
            <a:off x="921960" y="366840"/>
            <a:ext cx="1878840" cy="8935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3"/>
          <p:cNvSpPr/>
          <p:nvPr/>
        </p:nvSpPr>
        <p:spPr>
          <a:xfrm>
            <a:off x="7524360" y="5273280"/>
            <a:ext cx="12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@</a:t>
            </a:r>
            <a:r>
              <a:rPr b="1" lang="en-US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zel_</a:t>
            </a:r>
            <a:r>
              <a:rPr b="1" lang="zh-CN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每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14" descr=""/>
          <p:cNvPicPr/>
          <p:nvPr/>
        </p:nvPicPr>
        <p:blipFill>
          <a:blip r:embed="rId2"/>
          <a:stretch/>
        </p:blipFill>
        <p:spPr>
          <a:xfrm>
            <a:off x="7779240" y="10800"/>
            <a:ext cx="1282320" cy="12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2760" y="260640"/>
            <a:ext cx="8229240" cy="5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通过练习，人人都能成为演示高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5"/>
          <p:cNvGrpSpPr/>
          <p:nvPr/>
        </p:nvGrpSpPr>
        <p:grpSpPr>
          <a:xfrm>
            <a:off x="651600" y="1484640"/>
            <a:ext cx="7952400" cy="4554720"/>
            <a:chOff x="651600" y="1484640"/>
            <a:chExt cx="7952400" cy="4554720"/>
          </a:xfrm>
        </p:grpSpPr>
        <p:sp>
          <p:nvSpPr>
            <p:cNvPr id="92" name="圆角矩形 6"/>
            <p:cNvSpPr/>
            <p:nvPr/>
          </p:nvSpPr>
          <p:spPr>
            <a:xfrm>
              <a:off x="651600" y="1484640"/>
              <a:ext cx="7952400" cy="4464000"/>
            </a:xfrm>
            <a:prstGeom prst="roundRect">
              <a:avLst>
                <a:gd name="adj" fmla="val 11931"/>
              </a:avLst>
            </a:prstGeom>
            <a:solidFill>
              <a:srgbClr val="fdc7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圆角矩形 7"/>
            <p:cNvSpPr/>
            <p:nvPr/>
          </p:nvSpPr>
          <p:spPr>
            <a:xfrm>
              <a:off x="866160" y="1647000"/>
              <a:ext cx="7523640" cy="4139640"/>
            </a:xfrm>
            <a:prstGeom prst="roundRect">
              <a:avLst>
                <a:gd name="adj" fmla="val 9623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圆角矩形 8"/>
            <p:cNvSpPr/>
            <p:nvPr/>
          </p:nvSpPr>
          <p:spPr>
            <a:xfrm>
              <a:off x="2683800" y="5661360"/>
              <a:ext cx="3888000" cy="378000"/>
            </a:xfrm>
            <a:prstGeom prst="roundRect">
              <a:avLst>
                <a:gd name="adj" fmla="val 7370"/>
              </a:avLst>
            </a:prstGeom>
            <a:solidFill>
              <a:srgbClr val="fdc7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同侧圆角矩形 9"/>
            <p:cNvSpPr/>
            <p:nvPr/>
          </p:nvSpPr>
          <p:spPr>
            <a:xfrm rot="10800000">
              <a:off x="3060360" y="5301720"/>
              <a:ext cx="1295640" cy="3596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6" name="矩形 10"/>
            <p:cNvSpPr/>
            <p:nvPr/>
          </p:nvSpPr>
          <p:spPr>
            <a:xfrm>
              <a:off x="3060000" y="5157360"/>
              <a:ext cx="1295640" cy="1436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7" name="矩形 10"/>
            <p:cNvSpPr/>
            <p:nvPr/>
          </p:nvSpPr>
          <p:spPr>
            <a:xfrm>
              <a:off x="4628160" y="5553360"/>
              <a:ext cx="879840" cy="107640"/>
            </a:xfrm>
            <a:custGeom>
              <a:avLst/>
              <a:gdLst>
                <a:gd name="textAreaLeft" fmla="*/ 0 w 879840"/>
                <a:gd name="textAreaRight" fmla="*/ 880200 w 879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0077" h="108000">
                  <a:moveTo>
                    <a:pt x="23004" y="23004"/>
                  </a:moveTo>
                  <a:lnTo>
                    <a:pt x="880077" y="0"/>
                  </a:lnTo>
                  <a:lnTo>
                    <a:pt x="880077" y="108000"/>
                  </a:lnTo>
                  <a:lnTo>
                    <a:pt x="0" y="108000"/>
                  </a:lnTo>
                  <a:lnTo>
                    <a:pt x="23004" y="2300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矩形 13"/>
            <p:cNvSpPr/>
            <p:nvPr/>
          </p:nvSpPr>
          <p:spPr>
            <a:xfrm>
              <a:off x="5724000" y="5564880"/>
              <a:ext cx="551520" cy="1018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51942" h="102249">
                  <a:moveTo>
                    <a:pt x="109267" y="11502"/>
                  </a:moveTo>
                  <a:lnTo>
                    <a:pt x="531133" y="0"/>
                  </a:lnTo>
                  <a:cubicBezTo>
                    <a:pt x="534967" y="34083"/>
                    <a:pt x="567556" y="39412"/>
                    <a:pt x="542635" y="102249"/>
                  </a:cubicBezTo>
                  <a:lnTo>
                    <a:pt x="0" y="96498"/>
                  </a:lnTo>
                  <a:cubicBezTo>
                    <a:pt x="36422" y="68166"/>
                    <a:pt x="-13419" y="39834"/>
                    <a:pt x="109267" y="11502"/>
                  </a:cubicBez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矩形 13"/>
            <p:cNvSpPr/>
            <p:nvPr/>
          </p:nvSpPr>
          <p:spPr>
            <a:xfrm>
              <a:off x="1222200" y="1989000"/>
              <a:ext cx="681120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"/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们都有做这件事的能力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"/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们经常做这件事，所以从来就没有认真思考过这件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"/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们都认为自己做这件事时采用的是正常做法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"/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们从来都没有想到过做这件事的方法还可以改进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"/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这些方法是可以得到改进的，而且改进后可以产生更好的结果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3"/>
          <p:cNvSpPr/>
          <p:nvPr/>
        </p:nvSpPr>
        <p:spPr>
          <a:xfrm>
            <a:off x="236160" y="6526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2760" y="260640"/>
            <a:ext cx="822924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有没有思考过什么才是真正的演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5"/>
          <p:cNvGrpSpPr/>
          <p:nvPr/>
        </p:nvGrpSpPr>
        <p:grpSpPr>
          <a:xfrm>
            <a:off x="423000" y="1945440"/>
            <a:ext cx="8181000" cy="4204440"/>
            <a:chOff x="423000" y="1945440"/>
            <a:chExt cx="8181000" cy="4204440"/>
          </a:xfrm>
        </p:grpSpPr>
        <p:sp>
          <p:nvSpPr>
            <p:cNvPr id="104" name="TextBox 6"/>
            <p:cNvSpPr/>
            <p:nvPr/>
          </p:nvSpPr>
          <p:spPr>
            <a:xfrm>
              <a:off x="423000" y="3718800"/>
              <a:ext cx="14396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事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7"/>
            <p:cNvSpPr/>
            <p:nvPr/>
          </p:nvSpPr>
          <p:spPr>
            <a:xfrm>
              <a:off x="7008480" y="2769120"/>
              <a:ext cx="145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对人有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8"/>
            <p:cNvSpPr/>
            <p:nvPr/>
          </p:nvSpPr>
          <p:spPr>
            <a:xfrm>
              <a:off x="6968880" y="3419640"/>
              <a:ext cx="1563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信息量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9"/>
            <p:cNvSpPr/>
            <p:nvPr/>
          </p:nvSpPr>
          <p:spPr>
            <a:xfrm>
              <a:off x="7008480" y="4115160"/>
              <a:ext cx="1595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便于记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0"/>
            <p:cNvSpPr/>
            <p:nvPr/>
          </p:nvSpPr>
          <p:spPr>
            <a:xfrm>
              <a:off x="5348160" y="3309840"/>
              <a:ext cx="1383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观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1"/>
            <p:cNvSpPr/>
            <p:nvPr/>
          </p:nvSpPr>
          <p:spPr>
            <a:xfrm>
              <a:off x="3179520" y="3530880"/>
              <a:ext cx="132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演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2"/>
            <p:cNvSpPr/>
            <p:nvPr/>
          </p:nvSpPr>
          <p:spPr>
            <a:xfrm>
              <a:off x="2778840" y="1945440"/>
              <a:ext cx="175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一个创造性行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2918520" y="5694480"/>
              <a:ext cx="1478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一种包装手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4"/>
            <p:cNvSpPr/>
            <p:nvPr/>
          </p:nvSpPr>
          <p:spPr>
            <a:xfrm>
              <a:off x="5292000" y="4504680"/>
              <a:ext cx="1469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艺术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曲线连接符 15"/>
            <p:cNvCxnSpPr/>
            <p:nvPr/>
          </p:nvCxnSpPr>
          <p:spPr>
            <a:xfrm flipV="1">
              <a:off x="1175040" y="3261600"/>
              <a:ext cx="4877280" cy="408960"/>
            </a:xfrm>
            <a:prstGeom prst="curvedConnector2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4" name="曲线连接符 16"/>
            <p:cNvCxnSpPr>
              <a:stCxn id="115" idx="2"/>
              <a:endCxn id="116" idx="2"/>
            </p:cNvCxnSpPr>
            <p:nvPr/>
          </p:nvCxnSpPr>
          <p:spPr>
            <a:xfrm>
              <a:off x="1143000" y="4792680"/>
              <a:ext cx="4877280" cy="677880"/>
            </a:xfrm>
            <a:prstGeom prst="curvedConnector2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7" name="曲线连接符 17"/>
            <p:cNvCxnSpPr>
              <a:stCxn id="108" idx="3"/>
              <a:endCxn id="105" idx="1"/>
            </p:cNvCxnSpPr>
            <p:nvPr/>
          </p:nvCxnSpPr>
          <p:spPr>
            <a:xfrm flipV="1">
              <a:off x="6732000" y="2999880"/>
              <a:ext cx="276840" cy="60264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118" name="曲线连接符 18"/>
            <p:cNvCxnSpPr>
              <a:stCxn id="108" idx="3"/>
              <a:endCxn id="106" idx="1"/>
            </p:cNvCxnSpPr>
            <p:nvPr/>
          </p:nvCxnSpPr>
          <p:spPr>
            <a:xfrm>
              <a:off x="6732000" y="3602160"/>
              <a:ext cx="237240" cy="4860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119" name="曲线连接符 19"/>
            <p:cNvCxnSpPr>
              <a:stCxn id="108" idx="3"/>
              <a:endCxn id="107" idx="1"/>
            </p:cNvCxnSpPr>
            <p:nvPr/>
          </p:nvCxnSpPr>
          <p:spPr>
            <a:xfrm>
              <a:off x="6732000" y="3602160"/>
              <a:ext cx="276840" cy="74376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120" name="曲线连接符 20"/>
            <p:cNvCxnSpPr>
              <a:stCxn id="109" idx="0"/>
              <a:endCxn id="110" idx="2"/>
            </p:cNvCxnSpPr>
            <p:nvPr/>
          </p:nvCxnSpPr>
          <p:spPr>
            <a:xfrm rot="10800000">
              <a:off x="3657600" y="2776320"/>
              <a:ext cx="182160" cy="75492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121" name="曲线连接符 21"/>
            <p:cNvCxnSpPr>
              <a:stCxn id="122" idx="2"/>
              <a:endCxn id="111" idx="0"/>
            </p:cNvCxnSpPr>
            <p:nvPr/>
          </p:nvCxnSpPr>
          <p:spPr>
            <a:xfrm flipV="1" rot="10800000">
              <a:off x="3657600" y="4648680"/>
              <a:ext cx="182160" cy="104580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sp>
          <p:nvSpPr>
            <p:cNvPr id="122" name="标题 1"/>
            <p:cNvSpPr/>
            <p:nvPr/>
          </p:nvSpPr>
          <p:spPr>
            <a:xfrm>
              <a:off x="2767680" y="4144680"/>
              <a:ext cx="214380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0000"/>
                  </a:solidFill>
                  <a:latin typeface="Mistral"/>
                </a:rPr>
                <a:t>EXPLAN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标题 1"/>
            <p:cNvSpPr/>
            <p:nvPr/>
          </p:nvSpPr>
          <p:spPr>
            <a:xfrm>
              <a:off x="517320" y="4288680"/>
              <a:ext cx="12513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Mistral"/>
                </a:rPr>
                <a:t>FAC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4"/>
            <p:cNvSpPr/>
            <p:nvPr/>
          </p:nvSpPr>
          <p:spPr>
            <a:xfrm>
              <a:off x="5391720" y="3784680"/>
              <a:ext cx="1239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b050"/>
                  </a:solidFill>
                  <a:latin typeface="Mistral"/>
                </a:rPr>
                <a:t>OPIN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5"/>
            <p:cNvSpPr/>
            <p:nvPr/>
          </p:nvSpPr>
          <p:spPr>
            <a:xfrm>
              <a:off x="5400000" y="5008680"/>
              <a:ext cx="1239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b050"/>
                  </a:solidFill>
                  <a:latin typeface="Mistral"/>
                </a:rPr>
                <a:t>AR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26"/>
          <p:cNvSpPr/>
          <p:nvPr/>
        </p:nvSpPr>
        <p:spPr>
          <a:xfrm>
            <a:off x="971640" y="1268640"/>
            <a:ext cx="5781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把事实通过演示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包装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成一种观点和艺术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36160" y="6526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1640" y="274680"/>
            <a:ext cx="684036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有没有思考过什么才是真正的演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971640" y="1268640"/>
            <a:ext cx="770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演示高手都擅长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换位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7" descr=""/>
          <p:cNvPicPr/>
          <p:nvPr/>
        </p:nvPicPr>
        <p:blipFill>
          <a:blip r:embed="rId1">
            <a:grayscl/>
          </a:blip>
          <a:srcRect l="7970" t="12699" r="3039" b="14574"/>
          <a:stretch/>
        </p:blipFill>
        <p:spPr>
          <a:xfrm>
            <a:off x="1763640" y="1883880"/>
            <a:ext cx="5923800" cy="3272760"/>
          </a:xfrm>
          <a:prstGeom prst="rect">
            <a:avLst/>
          </a:prstGeom>
          <a:ln w="0">
            <a:noFill/>
          </a:ln>
        </p:spPr>
      </p:pic>
      <p:grpSp>
        <p:nvGrpSpPr>
          <p:cNvPr id="130" name="组合 9"/>
          <p:cNvGrpSpPr/>
          <p:nvPr/>
        </p:nvGrpSpPr>
        <p:grpSpPr>
          <a:xfrm>
            <a:off x="971640" y="5229360"/>
            <a:ext cx="7920360" cy="1034280"/>
            <a:chOff x="971640" y="5229360"/>
            <a:chExt cx="7920360" cy="1034280"/>
          </a:xfrm>
        </p:grpSpPr>
        <p:sp>
          <p:nvSpPr>
            <p:cNvPr id="131" name="TextBox 6"/>
            <p:cNvSpPr/>
            <p:nvPr/>
          </p:nvSpPr>
          <p:spPr>
            <a:xfrm>
              <a:off x="971640" y="5229360"/>
              <a:ext cx="792036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选对</a:t>
              </a: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切入点</a:t>
              </a:r>
              <a:r>
                <a:rPr b="1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演示就成功了一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人们的深刻见解往往来源于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深入观察大家都熟视无睹的东西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，而不是新发现的东西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图片 8" descr=""/>
            <p:cNvPicPr/>
            <p:nvPr/>
          </p:nvPicPr>
          <p:blipFill>
            <a:blip r:embed="rId2"/>
            <a:stretch/>
          </p:blipFill>
          <p:spPr>
            <a:xfrm>
              <a:off x="1075320" y="5257440"/>
              <a:ext cx="543960" cy="5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971640" y="1268640"/>
            <a:ext cx="760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的想法，受众理解不了，人们对你的演示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缺乏信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975960" y="1973880"/>
            <a:ext cx="79160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知识</a:t>
            </a:r>
            <a:r>
              <a:rPr b="1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 の 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诅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如果我们很熟悉某个对象的话，那么我们很难想象，在不了解的人们眼中，这个对象是什么样子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5" descr=""/>
          <p:cNvPicPr/>
          <p:nvPr/>
        </p:nvPicPr>
        <p:blipFill>
          <a:blip r:embed="rId1"/>
          <a:stretch/>
        </p:blipFill>
        <p:spPr>
          <a:xfrm>
            <a:off x="2205000" y="3438720"/>
            <a:ext cx="4661640" cy="3014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2760" y="274680"/>
            <a:ext cx="822924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为什么受众对你的演示提不起兴趣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/>
          <p:cNvSpPr/>
          <p:nvPr/>
        </p:nvSpPr>
        <p:spPr>
          <a:xfrm>
            <a:off x="971640" y="4293000"/>
            <a:ext cx="7704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不恰当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词，毁了整场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6"/>
          <p:cNvGrpSpPr/>
          <p:nvPr/>
        </p:nvGrpSpPr>
        <p:grpSpPr>
          <a:xfrm>
            <a:off x="1063440" y="5347080"/>
            <a:ext cx="3868200" cy="961920"/>
            <a:chOff x="1063440" y="5347080"/>
            <a:chExt cx="3868200" cy="961920"/>
          </a:xfrm>
        </p:grpSpPr>
        <p:sp>
          <p:nvSpPr>
            <p:cNvPr id="140" name="TextBox 6"/>
            <p:cNvSpPr/>
            <p:nvPr/>
          </p:nvSpPr>
          <p:spPr>
            <a:xfrm>
              <a:off x="1855800" y="5530320"/>
              <a:ext cx="3075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舍弃行业用语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图片 7" descr=""/>
            <p:cNvPicPr/>
            <p:nvPr/>
          </p:nvPicPr>
          <p:blipFill>
            <a:blip r:embed="rId1"/>
            <a:stretch/>
          </p:blipFill>
          <p:spPr>
            <a:xfrm>
              <a:off x="1063440" y="5347080"/>
              <a:ext cx="1079640" cy="96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Box 8"/>
          <p:cNvSpPr/>
          <p:nvPr/>
        </p:nvSpPr>
        <p:spPr>
          <a:xfrm>
            <a:off x="971640" y="1268640"/>
            <a:ext cx="4038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对问题的理解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不够透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978480" y="1725840"/>
            <a:ext cx="856800" cy="161352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0" spc="-1" strike="noStrike">
                <a:solidFill>
                  <a:srgbClr val="ff0000"/>
                </a:solidFill>
                <a:latin typeface="MS PGothic"/>
                <a:ea typeface="MS PGothic"/>
              </a:rPr>
              <a:t>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7963920" y="2583720"/>
            <a:ext cx="928440" cy="161352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0" spc="-1" strike="noStrike">
                <a:solidFill>
                  <a:srgbClr val="ff0000"/>
                </a:solidFill>
                <a:latin typeface="MS PGothic"/>
                <a:ea typeface="MS PGothic"/>
              </a:rPr>
              <a:t>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1669320" y="2156760"/>
            <a:ext cx="650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如果你不能用简单的语言解释一件事，就说明你对它的理解不够透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5893920" y="3759480"/>
            <a:ext cx="1595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爱因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2760" y="274680"/>
            <a:ext cx="822924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为什么受众对你的演示提不起兴趣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5"/>
          <p:cNvSpPr/>
          <p:nvPr/>
        </p:nvSpPr>
        <p:spPr>
          <a:xfrm>
            <a:off x="611640" y="1285200"/>
            <a:ext cx="792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不要为了取悦专家而让自己表现得聪明，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要让受众觉得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他们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很聪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21"/>
          <p:cNvGrpSpPr/>
          <p:nvPr/>
        </p:nvGrpSpPr>
        <p:grpSpPr>
          <a:xfrm>
            <a:off x="1998000" y="5642640"/>
            <a:ext cx="5382000" cy="729360"/>
            <a:chOff x="1998000" y="5642640"/>
            <a:chExt cx="5382000" cy="729360"/>
          </a:xfrm>
        </p:grpSpPr>
        <p:sp>
          <p:nvSpPr>
            <p:cNvPr id="151" name="TextBox 12"/>
            <p:cNvSpPr/>
            <p:nvPr/>
          </p:nvSpPr>
          <p:spPr>
            <a:xfrm>
              <a:off x="2434680" y="5642640"/>
              <a:ext cx="4945320" cy="7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给受众一个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关注</a:t>
              </a: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你的充分理由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图片 15" descr=""/>
            <p:cNvPicPr/>
            <p:nvPr/>
          </p:nvPicPr>
          <p:blipFill>
            <a:blip r:embed="rId1"/>
            <a:stretch/>
          </p:blipFill>
          <p:spPr>
            <a:xfrm>
              <a:off x="1998000" y="5738040"/>
              <a:ext cx="413640" cy="54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组合 31"/>
          <p:cNvGrpSpPr/>
          <p:nvPr/>
        </p:nvGrpSpPr>
        <p:grpSpPr>
          <a:xfrm>
            <a:off x="842760" y="2205000"/>
            <a:ext cx="7993440" cy="3227760"/>
            <a:chOff x="842760" y="2205000"/>
            <a:chExt cx="7993440" cy="3227760"/>
          </a:xfrm>
        </p:grpSpPr>
        <p:sp>
          <p:nvSpPr>
            <p:cNvPr id="154" name="TextBox 6"/>
            <p:cNvSpPr/>
            <p:nvPr/>
          </p:nvSpPr>
          <p:spPr>
            <a:xfrm>
              <a:off x="2915640" y="4723200"/>
              <a:ext cx="592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可以使人们在订阅网站内容时操作更容易，这样，你可以直接看到新的内容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7"/>
            <p:cNvSpPr/>
            <p:nvPr/>
          </p:nvSpPr>
          <p:spPr>
            <a:xfrm>
              <a:off x="2915640" y="3193200"/>
              <a:ext cx="45043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基于“</a:t>
              </a:r>
              <a:r>
                <a:rPr b="0" lang="en-US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XML”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的内容聚合格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 8"/>
            <p:cNvSpPr/>
            <p:nvPr/>
          </p:nvSpPr>
          <p:spPr>
            <a:xfrm>
              <a:off x="908280" y="3231360"/>
              <a:ext cx="1657440" cy="477000"/>
            </a:xfrm>
            <a:prstGeom prst="roundRect">
              <a:avLst>
                <a:gd name="adj" fmla="val 16667"/>
              </a:avLst>
            </a:prstGeom>
            <a:noFill/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这是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圆角矩形 9"/>
            <p:cNvSpPr/>
            <p:nvPr/>
          </p:nvSpPr>
          <p:spPr>
            <a:xfrm>
              <a:off x="842760" y="4721040"/>
              <a:ext cx="1788840" cy="711720"/>
            </a:xfrm>
            <a:prstGeom prst="roundRect">
              <a:avLst>
                <a:gd name="adj" fmla="val 16667"/>
              </a:avLst>
            </a:prstGeom>
            <a:noFill/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为什么关注这件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0"/>
            <p:cNvSpPr/>
            <p:nvPr/>
          </p:nvSpPr>
          <p:spPr>
            <a:xfrm>
              <a:off x="3141360" y="2431800"/>
              <a:ext cx="28609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RSS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是什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图片 11" descr=""/>
            <p:cNvPicPr/>
            <p:nvPr/>
          </p:nvPicPr>
          <p:blipFill>
            <a:blip r:embed="rId2"/>
            <a:stretch/>
          </p:blipFill>
          <p:spPr>
            <a:xfrm>
              <a:off x="4068000" y="2205000"/>
              <a:ext cx="54612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虚尾箭头 13"/>
            <p:cNvSpPr/>
            <p:nvPr/>
          </p:nvSpPr>
          <p:spPr>
            <a:xfrm rot="5400000">
              <a:off x="1311840" y="3918960"/>
              <a:ext cx="592200" cy="503640"/>
            </a:xfrm>
            <a:prstGeom prst="striped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双括号 14"/>
            <p:cNvSpPr/>
            <p:nvPr/>
          </p:nvSpPr>
          <p:spPr>
            <a:xfrm>
              <a:off x="2123640" y="3939120"/>
              <a:ext cx="5991840" cy="555480"/>
            </a:xfrm>
            <a:prstGeom prst="bracketPair">
              <a:avLst>
                <a:gd name="adj" fmla="val 16667"/>
              </a:avLst>
            </a:prstGeom>
            <a:solidFill>
              <a:srgbClr val="ffff00">
                <a:alpha val="50000"/>
              </a:srgbClr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把“ 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这是什么 </a:t>
              </a:r>
              <a:r>
                <a:rPr b="0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”的问题转化成“ 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为什么关注这件事 </a:t>
              </a:r>
              <a:r>
                <a:rPr b="0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2741760" y="2331000"/>
              <a:ext cx="3660120" cy="779760"/>
            </a:xfrm>
            <a:custGeom>
              <a:avLst/>
              <a:gdLst>
                <a:gd name="textAreaLeft" fmla="*/ 0 w 3660120"/>
                <a:gd name="textAreaRight" fmla="*/ 3660480 w 366012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3660567" h="780233">
                  <a:moveTo>
                    <a:pt x="431366" y="11723"/>
                  </a:moveTo>
                  <a:cubicBezTo>
                    <a:pt x="166620" y="284284"/>
                    <a:pt x="-273972" y="605693"/>
                    <a:pt x="232074" y="715108"/>
                  </a:cubicBezTo>
                  <a:cubicBezTo>
                    <a:pt x="738120" y="824523"/>
                    <a:pt x="2965505" y="787401"/>
                    <a:pt x="3467643" y="668216"/>
                  </a:cubicBezTo>
                  <a:cubicBezTo>
                    <a:pt x="3969781" y="549031"/>
                    <a:pt x="3344551" y="121139"/>
                    <a:pt x="3244904" y="0"/>
                  </a:cubicBez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2760" y="274680"/>
            <a:ext cx="822924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为什么受众对你的演示提不起兴趣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  <Words>1800</Words>
  <Paragraphs>30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0:12:27Z</dcterms:created>
  <dc:creator>ym</dc:creator>
  <dc:description/>
  <dc:language>en-US</dc:language>
  <cp:lastModifiedBy>王玉清</cp:lastModifiedBy>
  <dcterms:modified xsi:type="dcterms:W3CDTF">2016-03-01T06:43:00Z</dcterms:modified>
  <cp:revision>4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0</vt:r8>
  </property>
</Properties>
</file>