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A110-CD83-4E09-90FD-C131D5E10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3D48-B060-4BC2-A3F4-57A957A39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A162-520A-42B5-9CE5-25424101C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03B9-01CC-442F-9979-A2E50F3A7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7AD3-6953-4905-B2AE-9120F6F4D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D1C2-4E28-4F98-932B-7A5DD8CAD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ACD1-0312-4259-B5B4-6865A3715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5FC0-9D6C-4D63-BAC6-64DB741B0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45AB-3CCB-4E40-9E45-D8C479AA4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57AF-1AF0-42F9-B876-3A0050A2F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F5B1-A0DC-4E22-95CE-E9219EE72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6664-EE99-4892-BAD2-D30729CCF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BDDF710-762B-4033-AA7E-D0FEE13213DE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5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jpeg"/><Relationship Id="rId3" Type="http://schemas.openxmlformats.org/officeDocument/2006/relationships/hyperlink" Target="http://www.shutterstock.com/pic.mhtml?id=56619637&amp;rid=694447" TargetMode="External"/><Relationship Id="rId4" Type="http://schemas.openxmlformats.org/officeDocument/2006/relationships/image" Target="../media/image7.jpeg"/><Relationship Id="rId5" Type="http://schemas.openxmlformats.org/officeDocument/2006/relationships/hyperlink" Target="http://www.shutterstock.com/pic.mhtml?id=56619637&amp;rid=694447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hyperlink" Target="http://www.shutterstock.com/pic.mhtml?id=56619637&amp;rid=694447" TargetMode="External"/><Relationship Id="rId9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iconfinder.com/icondetails/38724/128/heart_love_magnifier_search_icon" TargetMode="External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3.jpeg"/><Relationship Id="rId8" Type="http://schemas.openxmlformats.org/officeDocument/2006/relationships/image" Target="../media/image15.jpeg"/><Relationship Id="rId9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3"/>
          <p:cNvSpPr/>
          <p:nvPr/>
        </p:nvSpPr>
        <p:spPr>
          <a:xfrm>
            <a:off x="0" y="0"/>
            <a:ext cx="9143640" cy="6857640"/>
          </a:xfrm>
          <a:custGeom>
            <a:avLst/>
            <a:gdLst>
              <a:gd name="textAreaLeft" fmla="*/ 0 w 9143640"/>
              <a:gd name="textAreaRight" fmla="*/ 9144000 w 9143640"/>
              <a:gd name="textAreaTop" fmla="*/ 0 h 6857640"/>
              <a:gd name="textAreaBottom" fmla="*/ 6858000 h 6857640"/>
            </a:gdLst>
            <a:ahLst/>
            <a:rect l="textAreaLeft" t="textAreaTop" r="textAreaRight" b="textAreaBottom"/>
            <a:pathLst>
              <a:path w="9144000" h="6858000">
                <a:moveTo>
                  <a:pt x="0" y="6858000"/>
                </a:moveTo>
                <a:lnTo>
                  <a:pt x="9144000" y="6858000"/>
                </a:lnTo>
                <a:lnTo>
                  <a:pt x="9144000" y="0"/>
                </a:lnTo>
                <a:lnTo>
                  <a:pt x="0" y="0"/>
                </a:lnTo>
                <a:lnTo>
                  <a:pt x="0" y="6858000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2" name="Freeform 3"/>
          <p:cNvSpPr/>
          <p:nvPr/>
        </p:nvSpPr>
        <p:spPr>
          <a:xfrm>
            <a:off x="1649520" y="6555240"/>
            <a:ext cx="7080480" cy="21960"/>
          </a:xfrm>
          <a:custGeom>
            <a:avLst/>
            <a:gdLst>
              <a:gd name="textAreaLeft" fmla="*/ 0 w 7080480"/>
              <a:gd name="textAreaRight" fmla="*/ 7080840 w 7080480"/>
              <a:gd name="textAreaTop" fmla="*/ 0 h 21960"/>
              <a:gd name="textAreaBottom" fmla="*/ 22320 h 21960"/>
            </a:gdLst>
            <a:ahLst/>
            <a:rect l="textAreaLeft" t="textAreaTop" r="textAreaRight" b="textAreaBottom"/>
            <a:pathLst>
              <a:path w="7080757" h="22225">
                <a:moveTo>
                  <a:pt x="6350" y="6350"/>
                </a:moveTo>
                <a:lnTo>
                  <a:pt x="7074407" y="6350"/>
                </a:lnTo>
              </a:path>
            </a:pathLst>
          </a:custGeom>
          <a:noFill/>
          <a:ln w="12700">
            <a:solidFill>
              <a:srgbClr val="7f7f7f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22680" bIns="-226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1219320" y="1638360"/>
            <a:ext cx="7327440" cy="9648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"/>
          <p:cNvPicPr/>
          <p:nvPr/>
        </p:nvPicPr>
        <p:blipFill>
          <a:blip r:embed="rId2"/>
          <a:stretch/>
        </p:blipFill>
        <p:spPr>
          <a:xfrm>
            <a:off x="3263760" y="2768760"/>
            <a:ext cx="2463480" cy="2463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"/>
          <p:cNvPicPr/>
          <p:nvPr/>
        </p:nvPicPr>
        <p:blipFill>
          <a:blip r:embed="rId3"/>
          <a:stretch/>
        </p:blipFill>
        <p:spPr>
          <a:xfrm>
            <a:off x="165240" y="6362640"/>
            <a:ext cx="1536480" cy="3934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"/>
          <p:cNvPicPr/>
          <p:nvPr/>
        </p:nvPicPr>
        <p:blipFill>
          <a:blip r:embed="rId4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47" name="TextBox 1"/>
          <p:cNvSpPr/>
          <p:nvPr/>
        </p:nvSpPr>
        <p:spPr>
          <a:xfrm>
            <a:off x="8826120" y="6464160"/>
            <a:ext cx="10188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400"/>
              </a:lnSpc>
            </a:pPr>
            <a:r>
              <a:rPr b="0" lang="en-US" sz="1600" spc="-1" strike="noStrike">
                <a:solidFill>
                  <a:srgbClr val="7f7f7f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7"/>
          <p:cNvSpPr/>
          <p:nvPr/>
        </p:nvSpPr>
        <p:spPr>
          <a:xfrm>
            <a:off x="2064960" y="3244320"/>
            <a:ext cx="50133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4000" spc="-1" strike="noStrike">
                <a:solidFill>
                  <a:srgbClr val="000000"/>
                </a:solidFill>
                <a:latin typeface="造字工房悦黑体验版纤细体"/>
                <a:ea typeface="微软雅黑"/>
              </a:rPr>
              <a:t>企业管理工具通用</a:t>
            </a:r>
            <a:r>
              <a:rPr b="1" lang="en-US" sz="4000" spc="-1" strike="noStrike">
                <a:solidFill>
                  <a:srgbClr val="000000"/>
                </a:solidFill>
                <a:latin typeface="造字工房悦黑体验版纤细体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造字工房悦黑体验版纤细体"/>
                <a:ea typeface="微软雅黑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261" name="TextBox 1"/>
          <p:cNvSpPr/>
          <p:nvPr/>
        </p:nvSpPr>
        <p:spPr>
          <a:xfrm>
            <a:off x="3796200" y="1460520"/>
            <a:ext cx="30600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400"/>
              </a:lnSpc>
            </a:pPr>
            <a:r>
              <a:rPr b="0" lang="zh-CN" sz="1000" spc="-1" strike="noStrike">
                <a:solidFill>
                  <a:srgbClr val="000000"/>
                </a:solidFill>
                <a:latin typeface="黑体"/>
              </a:rPr>
              <a:t>和推广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1"/>
          <p:cNvSpPr/>
          <p:nvPr/>
        </p:nvSpPr>
        <p:spPr>
          <a:xfrm>
            <a:off x="5104440" y="2476440"/>
            <a:ext cx="30600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400"/>
              </a:lnSpc>
            </a:pPr>
            <a:r>
              <a:rPr b="0" lang="zh-CN" sz="1000" spc="-1" strike="noStrike">
                <a:solidFill>
                  <a:srgbClr val="000000"/>
                </a:solidFill>
                <a:latin typeface="黑体"/>
              </a:rPr>
              <a:t>营销活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1"/>
          <p:cNvSpPr/>
          <p:nvPr/>
        </p:nvSpPr>
        <p:spPr>
          <a:xfrm>
            <a:off x="6539400" y="2247840"/>
            <a:ext cx="30600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400"/>
              </a:lnSpc>
            </a:pPr>
            <a:r>
              <a:rPr b="0" lang="zh-CN" sz="1000" spc="-1" strike="noStrike">
                <a:solidFill>
                  <a:srgbClr val="000000"/>
                </a:solidFill>
                <a:latin typeface="黑体"/>
              </a:rPr>
              <a:t>实际完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1"/>
          <p:cNvSpPr/>
          <p:nvPr/>
        </p:nvSpPr>
        <p:spPr>
          <a:xfrm>
            <a:off x="3847320" y="2908440"/>
            <a:ext cx="30600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400"/>
              </a:lnSpc>
            </a:pPr>
            <a:r>
              <a:rPr b="0" lang="zh-CN" sz="1000" spc="-1" strike="noStrike">
                <a:solidFill>
                  <a:srgbClr val="000000"/>
                </a:solidFill>
                <a:latin typeface="黑体"/>
              </a:rPr>
              <a:t>成果评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1"/>
          <p:cNvSpPr/>
          <p:nvPr/>
        </p:nvSpPr>
        <p:spPr>
          <a:xfrm>
            <a:off x="3885120" y="3124080"/>
            <a:ext cx="30600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400"/>
              </a:lnSpc>
            </a:pPr>
            <a:r>
              <a:rPr b="0" lang="zh-CN" sz="1000" spc="-1" strike="noStrike">
                <a:solidFill>
                  <a:srgbClr val="000000"/>
                </a:solidFill>
                <a:latin typeface="黑体"/>
              </a:rPr>
              <a:t>成果评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1"/>
          <p:cNvSpPr/>
          <p:nvPr/>
        </p:nvSpPr>
        <p:spPr>
          <a:xfrm>
            <a:off x="3923280" y="3327480"/>
            <a:ext cx="30600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400"/>
              </a:lnSpc>
            </a:pPr>
            <a:r>
              <a:rPr b="0" lang="zh-CN" sz="1000" spc="-1" strike="noStrike">
                <a:solidFill>
                  <a:srgbClr val="000000"/>
                </a:solidFill>
                <a:latin typeface="黑体"/>
              </a:rPr>
              <a:t>成果评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1"/>
          <p:cNvSpPr/>
          <p:nvPr/>
        </p:nvSpPr>
        <p:spPr>
          <a:xfrm>
            <a:off x="3948840" y="3543480"/>
            <a:ext cx="30600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400"/>
              </a:lnSpc>
            </a:pPr>
            <a:r>
              <a:rPr b="0" lang="zh-CN" sz="1000" spc="-1" strike="noStrike">
                <a:solidFill>
                  <a:srgbClr val="000000"/>
                </a:solidFill>
                <a:latin typeface="黑体"/>
              </a:rPr>
              <a:t>成果评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1"/>
          <p:cNvSpPr/>
          <p:nvPr/>
        </p:nvSpPr>
        <p:spPr>
          <a:xfrm>
            <a:off x="4228200" y="4013280"/>
            <a:ext cx="30600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400"/>
              </a:lnSpc>
            </a:pPr>
            <a:r>
              <a:rPr b="0" lang="zh-CN" sz="1000" spc="-1" strike="noStrike">
                <a:solidFill>
                  <a:srgbClr val="000000"/>
                </a:solidFill>
                <a:latin typeface="黑体"/>
              </a:rPr>
              <a:t>的目标总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1"/>
          <p:cNvSpPr/>
          <p:nvPr/>
        </p:nvSpPr>
        <p:spPr>
          <a:xfrm>
            <a:off x="6044400" y="4152960"/>
            <a:ext cx="30600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400"/>
              </a:lnSpc>
            </a:pPr>
            <a:r>
              <a:rPr b="0" lang="zh-CN" sz="1000" spc="-1" strike="noStrike">
                <a:solidFill>
                  <a:srgbClr val="000000"/>
                </a:solidFill>
                <a:latin typeface="黑体"/>
              </a:rPr>
              <a:t>户行为的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"/>
          <p:cNvSpPr/>
          <p:nvPr/>
        </p:nvSpPr>
        <p:spPr>
          <a:xfrm>
            <a:off x="2191320" y="4089240"/>
            <a:ext cx="344088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400"/>
              </a:lnSpc>
            </a:pPr>
            <a:r>
              <a:rPr b="0" lang="zh-CN" sz="1000" spc="-1" strike="noStrike">
                <a:solidFill>
                  <a:srgbClr val="000000"/>
                </a:solidFill>
                <a:latin typeface="黑体"/>
              </a:rPr>
              <a:t>围绕实现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</a:t>
            </a:r>
            <a:r>
              <a:rPr b="0" lang="zh-CN" sz="1000" spc="-1" strike="noStrike">
                <a:solidFill>
                  <a:srgbClr val="000000"/>
                </a:solidFill>
                <a:latin typeface="黑体"/>
              </a:rPr>
              <a:t>改变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1"/>
          <p:cNvSpPr/>
          <p:nvPr/>
        </p:nvSpPr>
        <p:spPr>
          <a:xfrm>
            <a:off x="5587200" y="4229280"/>
            <a:ext cx="30600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400"/>
              </a:lnSpc>
            </a:pPr>
            <a:r>
              <a:rPr b="0" lang="zh-CN" sz="1000" spc="-1" strike="noStrike">
                <a:solidFill>
                  <a:srgbClr val="000000"/>
                </a:solidFill>
                <a:latin typeface="黑体"/>
              </a:rPr>
              <a:t>了目标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1"/>
          <p:cNvSpPr/>
          <p:nvPr/>
        </p:nvSpPr>
        <p:spPr>
          <a:xfrm>
            <a:off x="4647240" y="4241880"/>
            <a:ext cx="30600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400"/>
              </a:lnSpc>
            </a:pPr>
            <a:r>
              <a:rPr b="0" lang="zh-CN" sz="1000" spc="-1" strike="noStrike">
                <a:solidFill>
                  <a:srgbClr val="000000"/>
                </a:solidFill>
                <a:latin typeface="黑体"/>
              </a:rPr>
              <a:t>用户定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1"/>
          <p:cNvSpPr/>
          <p:nvPr/>
        </p:nvSpPr>
        <p:spPr>
          <a:xfrm>
            <a:off x="4786920" y="4368960"/>
            <a:ext cx="30600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400"/>
              </a:lnSpc>
            </a:pPr>
            <a:r>
              <a:rPr b="0" lang="zh-CN" sz="1000" spc="-1" strike="noStrike">
                <a:solidFill>
                  <a:srgbClr val="000000"/>
                </a:solidFill>
                <a:latin typeface="黑体"/>
              </a:rPr>
              <a:t>设计准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1"/>
          <p:cNvSpPr/>
          <p:nvPr/>
        </p:nvSpPr>
        <p:spPr>
          <a:xfrm>
            <a:off x="4316760" y="4444920"/>
            <a:ext cx="30708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4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PMingLiU"/>
              </a:rPr>
              <a:t>•</a:t>
            </a:r>
            <a:r>
              <a:rPr b="0" lang="zh-CN" sz="1000" spc="-1" strike="noStrike">
                <a:solidFill>
                  <a:srgbClr val="000000"/>
                </a:solidFill>
                <a:latin typeface="黑体"/>
              </a:rPr>
              <a:t>套餐的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1"/>
          <p:cNvSpPr/>
          <p:nvPr/>
        </p:nvSpPr>
        <p:spPr>
          <a:xfrm>
            <a:off x="5041080" y="4470480"/>
            <a:ext cx="30600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400"/>
              </a:lnSpc>
            </a:pPr>
            <a:r>
              <a:rPr b="0" lang="zh-CN" sz="1000" spc="-1" strike="noStrike">
                <a:solidFill>
                  <a:srgbClr val="000000"/>
                </a:solidFill>
                <a:latin typeface="黑体"/>
              </a:rPr>
              <a:t>的预测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1"/>
          <p:cNvSpPr/>
          <p:nvPr/>
        </p:nvSpPr>
        <p:spPr>
          <a:xfrm>
            <a:off x="4570920" y="4546440"/>
            <a:ext cx="30600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400"/>
              </a:lnSpc>
            </a:pPr>
            <a:r>
              <a:rPr b="0" lang="zh-CN" sz="1000" spc="-1" strike="noStrike">
                <a:solidFill>
                  <a:srgbClr val="000000"/>
                </a:solidFill>
                <a:latin typeface="黑体"/>
              </a:rPr>
              <a:t>市场发展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1"/>
          <p:cNvSpPr/>
          <p:nvPr/>
        </p:nvSpPr>
        <p:spPr>
          <a:xfrm>
            <a:off x="4825080" y="4648320"/>
            <a:ext cx="30600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400"/>
              </a:lnSpc>
            </a:pPr>
            <a:r>
              <a:rPr b="0" lang="zh-CN" sz="1000" spc="-1" strike="noStrike">
                <a:solidFill>
                  <a:srgbClr val="000000"/>
                </a:solidFill>
                <a:latin typeface="黑体"/>
              </a:rPr>
              <a:t>有竞争力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1"/>
          <p:cNvSpPr/>
          <p:nvPr/>
        </p:nvSpPr>
        <p:spPr>
          <a:xfrm>
            <a:off x="3906720" y="4724280"/>
            <a:ext cx="122904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4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PMingLiU"/>
              </a:rPr>
              <a:t>•</a:t>
            </a:r>
            <a:r>
              <a:rPr b="0" lang="zh-CN" sz="1000" spc="-1" strike="noStrike">
                <a:solidFill>
                  <a:srgbClr val="000000"/>
                </a:solidFill>
                <a:latin typeface="黑体"/>
              </a:rPr>
              <a:t>定价具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zh-CN" sz="1000" spc="-1" strike="noStrike">
                <a:solidFill>
                  <a:srgbClr val="000000"/>
                </a:solidFill>
                <a:latin typeface="黑体"/>
              </a:rPr>
              <a:t>等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1"/>
          <p:cNvSpPr/>
          <p:nvPr/>
        </p:nvSpPr>
        <p:spPr>
          <a:xfrm>
            <a:off x="4507560" y="4851360"/>
            <a:ext cx="30600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400"/>
              </a:lnSpc>
            </a:pPr>
            <a:r>
              <a:rPr b="0" lang="zh-CN" sz="1000" spc="-1" strike="noStrike">
                <a:solidFill>
                  <a:srgbClr val="000000"/>
                </a:solidFill>
                <a:latin typeface="黑体"/>
              </a:rPr>
              <a:t>营销推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1"/>
          <p:cNvSpPr/>
          <p:nvPr/>
        </p:nvSpPr>
        <p:spPr>
          <a:xfrm>
            <a:off x="4990320" y="5067360"/>
            <a:ext cx="30600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400"/>
              </a:lnSpc>
            </a:pPr>
            <a:r>
              <a:rPr b="0" lang="zh-CN" sz="1000" spc="-1" strike="noStrike">
                <a:solidFill>
                  <a:srgbClr val="000000"/>
                </a:solidFill>
                <a:latin typeface="黑体"/>
              </a:rPr>
              <a:t>标分析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1"/>
          <p:cNvSpPr/>
          <p:nvPr/>
        </p:nvSpPr>
        <p:spPr>
          <a:xfrm>
            <a:off x="3948840" y="5245200"/>
            <a:ext cx="30600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400"/>
              </a:lnSpc>
            </a:pPr>
            <a:r>
              <a:rPr b="0" lang="zh-CN" sz="1000" spc="-1" strike="noStrike">
                <a:solidFill>
                  <a:srgbClr val="000000"/>
                </a:solidFill>
                <a:latin typeface="黑体"/>
              </a:rPr>
              <a:t>针对未实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1"/>
          <p:cNvSpPr/>
          <p:nvPr/>
        </p:nvSpPr>
        <p:spPr>
          <a:xfrm>
            <a:off x="4952160" y="5372280"/>
            <a:ext cx="30600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400"/>
              </a:lnSpc>
            </a:pPr>
            <a:r>
              <a:rPr b="0" lang="zh-CN" sz="1000" spc="-1" strike="noStrike">
                <a:solidFill>
                  <a:srgbClr val="000000"/>
                </a:solidFill>
                <a:latin typeface="黑体"/>
              </a:rPr>
              <a:t>中率不高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1"/>
          <p:cNvSpPr/>
          <p:nvPr/>
        </p:nvSpPr>
        <p:spPr>
          <a:xfrm>
            <a:off x="6031440" y="5486400"/>
            <a:ext cx="30600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400"/>
              </a:lnSpc>
            </a:pPr>
            <a:r>
              <a:rPr b="0" lang="zh-CN" sz="1000" spc="-1" strike="noStrike">
                <a:solidFill>
                  <a:srgbClr val="000000"/>
                </a:solidFill>
                <a:latin typeface="黑体"/>
              </a:rPr>
              <a:t>活动有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1"/>
          <p:cNvSpPr/>
          <p:nvPr/>
        </p:nvSpPr>
        <p:spPr>
          <a:xfrm>
            <a:off x="4736160" y="5549760"/>
            <a:ext cx="30600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400"/>
              </a:lnSpc>
            </a:pPr>
            <a:r>
              <a:rPr b="0" lang="zh-CN" sz="1000" spc="-1" strike="noStrike">
                <a:solidFill>
                  <a:srgbClr val="000000"/>
                </a:solidFill>
                <a:latin typeface="黑体"/>
              </a:rPr>
              <a:t>传力度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Box 1"/>
          <p:cNvSpPr/>
          <p:nvPr/>
        </p:nvSpPr>
        <p:spPr>
          <a:xfrm>
            <a:off x="4990320" y="5664240"/>
            <a:ext cx="30600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400"/>
              </a:lnSpc>
            </a:pPr>
            <a:r>
              <a:rPr b="0" lang="zh-CN" sz="1000" spc="-1" strike="noStrike">
                <a:solidFill>
                  <a:srgbClr val="000000"/>
                </a:solidFill>
                <a:latin typeface="黑体"/>
              </a:rPr>
              <a:t>划与正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1"/>
          <p:cNvSpPr/>
          <p:nvPr/>
        </p:nvSpPr>
        <p:spPr>
          <a:xfrm>
            <a:off x="4532760" y="5740560"/>
            <a:ext cx="30708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4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PMingLiU"/>
              </a:rPr>
              <a:t>•</a:t>
            </a:r>
            <a:r>
              <a:rPr b="0" lang="zh-CN" sz="1000" spc="-1" strike="noStrike">
                <a:solidFill>
                  <a:srgbClr val="000000"/>
                </a:solidFill>
                <a:latin typeface="黑体"/>
              </a:rPr>
              <a:t>品牌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1"/>
          <p:cNvSpPr/>
          <p:nvPr/>
        </p:nvSpPr>
        <p:spPr>
          <a:xfrm>
            <a:off x="5256720" y="5765760"/>
            <a:ext cx="30600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400"/>
              </a:lnSpc>
            </a:pPr>
            <a:r>
              <a:rPr b="0" lang="zh-CN" sz="1000" spc="-1" strike="noStrike">
                <a:solidFill>
                  <a:srgbClr val="000000"/>
                </a:solidFill>
                <a:latin typeface="黑体"/>
              </a:rPr>
              <a:t>的预估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1"/>
          <p:cNvSpPr/>
          <p:nvPr/>
        </p:nvSpPr>
        <p:spPr>
          <a:xfrm>
            <a:off x="6044400" y="5816520"/>
            <a:ext cx="153360" cy="1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100"/>
              </a:lnSpc>
            </a:pPr>
            <a:r>
              <a:rPr b="0" lang="zh-CN" sz="1000" spc="-1" strike="noStrike">
                <a:solidFill>
                  <a:srgbClr val="000000"/>
                </a:solidFill>
                <a:latin typeface="黑体"/>
              </a:rPr>
              <a:t>反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1"/>
          <p:cNvSpPr/>
          <p:nvPr/>
        </p:nvSpPr>
        <p:spPr>
          <a:xfrm>
            <a:off x="5625000" y="5854680"/>
            <a:ext cx="30600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400"/>
              </a:lnSpc>
            </a:pPr>
            <a:r>
              <a:rPr b="0" lang="zh-CN" sz="1000" spc="-1" strike="noStrike">
                <a:solidFill>
                  <a:srgbClr val="000000"/>
                </a:solidFill>
                <a:latin typeface="黑体"/>
              </a:rPr>
              <a:t>争对手的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1"/>
          <p:cNvSpPr/>
          <p:nvPr/>
        </p:nvSpPr>
        <p:spPr>
          <a:xfrm>
            <a:off x="4672800" y="5867280"/>
            <a:ext cx="30600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400"/>
              </a:lnSpc>
            </a:pPr>
            <a:r>
              <a:rPr b="0" lang="zh-CN" sz="1000" spc="-1" strike="noStrike">
                <a:solidFill>
                  <a:srgbClr val="000000"/>
                </a:solidFill>
                <a:latin typeface="黑体"/>
              </a:rPr>
              <a:t>对客户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1"/>
          <p:cNvSpPr/>
          <p:nvPr/>
        </p:nvSpPr>
        <p:spPr>
          <a:xfrm>
            <a:off x="4394520" y="5931000"/>
            <a:ext cx="194256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301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PMingLiU"/>
              </a:rPr>
              <a:t>•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zh-CN" sz="1000" spc="-1" strike="noStrike">
                <a:solidFill>
                  <a:srgbClr val="000000"/>
                </a:solidFill>
                <a:latin typeface="黑体"/>
              </a:rPr>
              <a:t>计到竞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zh-CN" sz="1000" spc="-1" strike="noStrike">
                <a:solidFill>
                  <a:srgbClr val="000000"/>
                </a:solidFill>
                <a:latin typeface="黑体"/>
              </a:rPr>
              <a:t>速响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1"/>
          <p:cNvSpPr/>
          <p:nvPr/>
        </p:nvSpPr>
        <p:spPr>
          <a:xfrm>
            <a:off x="5637960" y="5994360"/>
            <a:ext cx="30600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400"/>
              </a:lnSpc>
            </a:pPr>
            <a:r>
              <a:rPr b="0" lang="zh-CN" sz="1000" spc="-1" strike="noStrike">
                <a:solidFill>
                  <a:srgbClr val="000000"/>
                </a:solidFill>
                <a:latin typeface="黑体"/>
              </a:rPr>
              <a:t>势没有快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Box 1"/>
          <p:cNvSpPr/>
          <p:nvPr/>
        </p:nvSpPr>
        <p:spPr>
          <a:xfrm>
            <a:off x="4583520" y="6019920"/>
            <a:ext cx="30708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4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PMingLiU"/>
              </a:rPr>
              <a:t>•</a:t>
            </a:r>
            <a:r>
              <a:rPr b="0" lang="zh-CN" sz="1000" spc="-1" strike="noStrike">
                <a:solidFill>
                  <a:srgbClr val="000000"/>
                </a:solidFill>
                <a:latin typeface="黑体"/>
              </a:rPr>
              <a:t>没有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1"/>
          <p:cNvSpPr/>
          <p:nvPr/>
        </p:nvSpPr>
        <p:spPr>
          <a:xfrm>
            <a:off x="5180760" y="6070680"/>
            <a:ext cx="30600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400"/>
              </a:lnSpc>
            </a:pPr>
            <a:r>
              <a:rPr b="0" lang="zh-CN" sz="1000" spc="-1" strike="noStrike">
                <a:solidFill>
                  <a:srgbClr val="000000"/>
                </a:solidFill>
                <a:latin typeface="黑体"/>
              </a:rPr>
              <a:t>的竞争形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Box 1"/>
          <p:cNvSpPr/>
          <p:nvPr/>
        </p:nvSpPr>
        <p:spPr>
          <a:xfrm>
            <a:off x="5663160" y="6146640"/>
            <a:ext cx="30600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400"/>
              </a:lnSpc>
            </a:pPr>
            <a:r>
              <a:rPr b="0" lang="zh-CN" sz="1000" spc="-1" strike="noStrike">
                <a:solidFill>
                  <a:srgbClr val="000000"/>
                </a:solidFill>
                <a:latin typeface="黑体"/>
              </a:rPr>
              <a:t>它问题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1"/>
          <p:cNvSpPr/>
          <p:nvPr/>
        </p:nvSpPr>
        <p:spPr>
          <a:xfrm>
            <a:off x="4608720" y="6172200"/>
            <a:ext cx="30708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4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PMingLiU"/>
              </a:rPr>
              <a:t>•</a:t>
            </a:r>
            <a:r>
              <a:rPr b="0" lang="zh-CN" sz="1000" spc="-1" strike="noStrike">
                <a:solidFill>
                  <a:srgbClr val="000000"/>
                </a:solidFill>
                <a:latin typeface="黑体"/>
              </a:rPr>
              <a:t>对于变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Box 1"/>
          <p:cNvSpPr/>
          <p:nvPr/>
        </p:nvSpPr>
        <p:spPr>
          <a:xfrm>
            <a:off x="5168160" y="6222960"/>
            <a:ext cx="38196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400"/>
              </a:lnSpc>
            </a:pPr>
            <a:r>
              <a:rPr b="0" lang="zh-CN" sz="1000" spc="-1" strike="noStrike">
                <a:solidFill>
                  <a:srgbClr val="000000"/>
                </a:solidFill>
                <a:latin typeface="黑体"/>
              </a:rPr>
              <a:t>划执行的其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Box 1"/>
          <p:cNvSpPr/>
          <p:nvPr/>
        </p:nvSpPr>
        <p:spPr>
          <a:xfrm>
            <a:off x="8831520" y="6464160"/>
            <a:ext cx="20520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400"/>
              </a:lnSpc>
            </a:pPr>
            <a:r>
              <a:rPr b="0" lang="en-US" sz="1600" spc="-1" strike="noStrike">
                <a:solidFill>
                  <a:srgbClr val="7f7f7f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Box 1"/>
          <p:cNvSpPr/>
          <p:nvPr/>
        </p:nvSpPr>
        <p:spPr>
          <a:xfrm>
            <a:off x="4748760" y="1015920"/>
            <a:ext cx="30600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400"/>
              </a:lnSpc>
            </a:pPr>
            <a:r>
              <a:rPr b="0" lang="zh-CN" sz="1000" spc="-1" strike="noStrike">
                <a:solidFill>
                  <a:srgbClr val="000000"/>
                </a:solidFill>
                <a:latin typeface="黑体"/>
              </a:rPr>
              <a:t>结束时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Box 1"/>
          <p:cNvSpPr/>
          <p:nvPr/>
        </p:nvSpPr>
        <p:spPr>
          <a:xfrm>
            <a:off x="3250080" y="965160"/>
            <a:ext cx="39492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400"/>
              </a:lnSpc>
              <a:tabLst>
                <a:tab algn="l" pos="38160"/>
                <a:tab algn="l" pos="8892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黑体"/>
              </a:rPr>
              <a:t>活动名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tabLst>
                <a:tab algn="l" pos="38160"/>
                <a:tab algn="l" pos="88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黑体"/>
              </a:rPr>
              <a:t>启动时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tabLst>
                <a:tab algn="l" pos="38160"/>
                <a:tab algn="l" pos="88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黑体"/>
              </a:rPr>
              <a:t>营销目标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Box 1"/>
          <p:cNvSpPr/>
          <p:nvPr/>
        </p:nvSpPr>
        <p:spPr>
          <a:xfrm>
            <a:off x="4247640" y="1409760"/>
            <a:ext cx="22968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301"/>
              </a:lnSpc>
            </a:pPr>
            <a:r>
              <a:rPr b="0" lang="zh-CN" sz="1000" spc="-1" strike="noStrike">
                <a:solidFill>
                  <a:srgbClr val="000000"/>
                </a:solidFill>
                <a:latin typeface="黑体"/>
              </a:rPr>
              <a:t>划概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Box 1"/>
          <p:cNvSpPr/>
          <p:nvPr/>
        </p:nvSpPr>
        <p:spPr>
          <a:xfrm>
            <a:off x="3491640" y="2451240"/>
            <a:ext cx="30600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400"/>
              </a:lnSpc>
            </a:pPr>
            <a:r>
              <a:rPr b="0" lang="zh-CN" sz="1000" spc="-1" strike="noStrike">
                <a:solidFill>
                  <a:srgbClr val="000000"/>
                </a:solidFill>
                <a:latin typeface="黑体"/>
              </a:rPr>
              <a:t>成果评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1"/>
          <p:cNvSpPr/>
          <p:nvPr/>
        </p:nvSpPr>
        <p:spPr>
          <a:xfrm>
            <a:off x="6069600" y="2324160"/>
            <a:ext cx="30600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400"/>
              </a:lnSpc>
            </a:pPr>
            <a:r>
              <a:rPr b="0" lang="zh-CN" sz="1000" spc="-1" strike="noStrike">
                <a:solidFill>
                  <a:srgbClr val="000000"/>
                </a:solidFill>
                <a:latin typeface="黑体"/>
              </a:rPr>
              <a:t>营销活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Box 1"/>
          <p:cNvSpPr/>
          <p:nvPr/>
        </p:nvSpPr>
        <p:spPr>
          <a:xfrm>
            <a:off x="6939720" y="2222640"/>
            <a:ext cx="7740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001"/>
              </a:lnSpc>
            </a:pPr>
            <a:r>
              <a:rPr b="0" lang="zh-CN" sz="1000" spc="-1" strike="noStrike">
                <a:solidFill>
                  <a:srgbClr val="000000"/>
                </a:solidFill>
                <a:latin typeface="黑体"/>
              </a:rPr>
              <a:t>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1"/>
          <p:cNvSpPr/>
          <p:nvPr/>
        </p:nvSpPr>
        <p:spPr>
          <a:xfrm>
            <a:off x="7296480" y="2793960"/>
            <a:ext cx="24048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100"/>
              </a:lnSpc>
              <a:tabLst>
                <a:tab algn="l" pos="381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黑体"/>
              </a:rPr>
              <a:t>-Z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381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黑体"/>
              </a:rPr>
              <a:t>-A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Box 1"/>
          <p:cNvSpPr/>
          <p:nvPr/>
        </p:nvSpPr>
        <p:spPr>
          <a:xfrm>
            <a:off x="3821040" y="2844720"/>
            <a:ext cx="2797560" cy="35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301"/>
              </a:lnSpc>
              <a:tabLst>
                <a:tab algn="l" pos="304920"/>
                <a:tab algn="l" pos="317520"/>
                <a:tab algn="l" pos="355680"/>
                <a:tab algn="l" pos="393840"/>
                <a:tab algn="l" pos="406440"/>
                <a:tab algn="l" pos="431640"/>
                <a:tab algn="l" pos="495360"/>
                <a:tab algn="l" pos="520560"/>
                <a:tab algn="l" pos="647640"/>
                <a:tab algn="l" pos="698400"/>
                <a:tab algn="l" pos="977760"/>
                <a:tab algn="l" pos="1054080"/>
                <a:tab algn="l" pos="1117440"/>
                <a:tab algn="l" pos="1143000"/>
                <a:tab algn="l" pos="1460520"/>
                <a:tab algn="l" pos="1511280"/>
                <a:tab algn="l" pos="17272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黑体"/>
              </a:rPr>
              <a:t>指标</a:t>
            </a:r>
            <a:r>
              <a:rPr b="0" lang="en-US" sz="1000" spc="-1" strike="noStrike">
                <a:solidFill>
                  <a:srgbClr val="000000"/>
                </a:solidFill>
                <a:latin typeface="黑体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304920"/>
                <a:tab algn="l" pos="317520"/>
                <a:tab algn="l" pos="355680"/>
                <a:tab algn="l" pos="393840"/>
                <a:tab algn="l" pos="406440"/>
                <a:tab algn="l" pos="431640"/>
                <a:tab algn="l" pos="495360"/>
                <a:tab algn="l" pos="520560"/>
                <a:tab algn="l" pos="647640"/>
                <a:tab algn="l" pos="698400"/>
                <a:tab algn="l" pos="977760"/>
                <a:tab algn="l" pos="1054080"/>
                <a:tab algn="l" pos="1117440"/>
                <a:tab algn="l" pos="1143000"/>
                <a:tab algn="l" pos="1460520"/>
                <a:tab algn="l" pos="1511280"/>
                <a:tab algn="l" pos="17272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黑体"/>
              </a:rPr>
              <a:t>指标</a:t>
            </a:r>
            <a:r>
              <a:rPr b="0" lang="en-US" sz="1000" spc="-1" strike="noStrike">
                <a:solidFill>
                  <a:srgbClr val="000000"/>
                </a:solidFill>
                <a:latin typeface="黑体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304920"/>
                <a:tab algn="l" pos="317520"/>
                <a:tab algn="l" pos="355680"/>
                <a:tab algn="l" pos="393840"/>
                <a:tab algn="l" pos="406440"/>
                <a:tab algn="l" pos="431640"/>
                <a:tab algn="l" pos="495360"/>
                <a:tab algn="l" pos="520560"/>
                <a:tab algn="l" pos="647640"/>
                <a:tab algn="l" pos="698400"/>
                <a:tab algn="l" pos="977760"/>
                <a:tab algn="l" pos="1054080"/>
                <a:tab algn="l" pos="1117440"/>
                <a:tab algn="l" pos="1143000"/>
                <a:tab algn="l" pos="1460520"/>
                <a:tab algn="l" pos="1511280"/>
                <a:tab algn="l" pos="17272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黑体"/>
              </a:rPr>
              <a:t>指标</a:t>
            </a:r>
            <a:r>
              <a:rPr b="0" lang="en-US" sz="1000" spc="-1" strike="noStrike">
                <a:solidFill>
                  <a:srgbClr val="000000"/>
                </a:solidFill>
                <a:latin typeface="黑体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304920"/>
                <a:tab algn="l" pos="317520"/>
                <a:tab algn="l" pos="355680"/>
                <a:tab algn="l" pos="393840"/>
                <a:tab algn="l" pos="406440"/>
                <a:tab algn="l" pos="431640"/>
                <a:tab algn="l" pos="495360"/>
                <a:tab algn="l" pos="520560"/>
                <a:tab algn="l" pos="647640"/>
                <a:tab algn="l" pos="698400"/>
                <a:tab algn="l" pos="977760"/>
                <a:tab algn="l" pos="1054080"/>
                <a:tab algn="l" pos="1117440"/>
                <a:tab algn="l" pos="1143000"/>
                <a:tab algn="l" pos="1460520"/>
                <a:tab algn="l" pos="1511280"/>
                <a:tab algn="l" pos="17272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黑体"/>
              </a:rPr>
              <a:t>指标</a:t>
            </a:r>
            <a:r>
              <a:rPr b="0" lang="en-US" sz="1000" spc="-1" strike="noStrike">
                <a:solidFill>
                  <a:srgbClr val="000000"/>
                </a:solidFill>
                <a:latin typeface="黑体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tabLst>
                <a:tab algn="l" pos="304920"/>
                <a:tab algn="l" pos="317520"/>
                <a:tab algn="l" pos="355680"/>
                <a:tab algn="l" pos="393840"/>
                <a:tab algn="l" pos="406440"/>
                <a:tab algn="l" pos="431640"/>
                <a:tab algn="l" pos="495360"/>
                <a:tab algn="l" pos="520560"/>
                <a:tab algn="l" pos="647640"/>
                <a:tab algn="l" pos="698400"/>
                <a:tab algn="l" pos="977760"/>
                <a:tab algn="l" pos="1054080"/>
                <a:tab algn="l" pos="1117440"/>
                <a:tab algn="l" pos="1143000"/>
                <a:tab algn="l" pos="1460520"/>
                <a:tab algn="l" pos="1511280"/>
                <a:tab algn="l" pos="17272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黑体"/>
              </a:rPr>
              <a:t>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400"/>
              </a:lnSpc>
              <a:tabLst>
                <a:tab algn="l" pos="304920"/>
                <a:tab algn="l" pos="317520"/>
                <a:tab algn="l" pos="355680"/>
                <a:tab algn="l" pos="393840"/>
                <a:tab algn="l" pos="406440"/>
                <a:tab algn="l" pos="431640"/>
                <a:tab algn="l" pos="495360"/>
                <a:tab algn="l" pos="520560"/>
                <a:tab algn="l" pos="647640"/>
                <a:tab algn="l" pos="698400"/>
                <a:tab algn="l" pos="977760"/>
                <a:tab algn="l" pos="1054080"/>
                <a:tab algn="l" pos="1117440"/>
                <a:tab algn="l" pos="1143000"/>
                <a:tab algn="l" pos="1460520"/>
                <a:tab algn="l" pos="1511280"/>
                <a:tab algn="l" pos="17272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黑体"/>
              </a:rPr>
              <a:t>结经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701"/>
              </a:lnSpc>
              <a:tabLst>
                <a:tab algn="l" pos="304920"/>
                <a:tab algn="l" pos="317520"/>
                <a:tab algn="l" pos="355680"/>
                <a:tab algn="l" pos="393840"/>
                <a:tab algn="l" pos="406440"/>
                <a:tab algn="l" pos="431640"/>
                <a:tab algn="l" pos="495360"/>
                <a:tab algn="l" pos="520560"/>
                <a:tab algn="l" pos="647640"/>
                <a:tab algn="l" pos="698400"/>
                <a:tab algn="l" pos="977760"/>
                <a:tab algn="l" pos="1054080"/>
                <a:tab algn="l" pos="1117440"/>
                <a:tab algn="l" pos="1143000"/>
                <a:tab algn="l" pos="1460520"/>
                <a:tab algn="l" pos="1511280"/>
                <a:tab algn="l" pos="17272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黑体"/>
              </a:rPr>
              <a:t>准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304920"/>
                <a:tab algn="l" pos="317520"/>
                <a:tab algn="l" pos="355680"/>
                <a:tab algn="l" pos="393840"/>
                <a:tab algn="l" pos="406440"/>
                <a:tab algn="l" pos="431640"/>
                <a:tab algn="l" pos="495360"/>
                <a:tab algn="l" pos="520560"/>
                <a:tab algn="l" pos="647640"/>
                <a:tab algn="l" pos="698400"/>
                <a:tab algn="l" pos="977760"/>
                <a:tab algn="l" pos="1054080"/>
                <a:tab algn="l" pos="1117440"/>
                <a:tab algn="l" pos="1143000"/>
                <a:tab algn="l" pos="1460520"/>
                <a:tab algn="l" pos="1511280"/>
                <a:tab algn="l" pos="17272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PMingLiU"/>
              </a:rPr>
              <a:t>•</a:t>
            </a:r>
            <a:r>
              <a:rPr b="0" lang="zh-CN" sz="1000" spc="-1" strike="noStrike">
                <a:solidFill>
                  <a:srgbClr val="000000"/>
                </a:solidFill>
                <a:latin typeface="黑体"/>
              </a:rPr>
              <a:t>目标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zh-CN" sz="1000" spc="-1" strike="noStrike">
                <a:solidFill>
                  <a:srgbClr val="000000"/>
                </a:solidFill>
                <a:latin typeface="黑体"/>
              </a:rPr>
              <a:t>地引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700"/>
              </a:lnSpc>
              <a:tabLst>
                <a:tab algn="l" pos="304920"/>
                <a:tab algn="l" pos="317520"/>
                <a:tab algn="l" pos="355680"/>
                <a:tab algn="l" pos="393840"/>
                <a:tab algn="l" pos="406440"/>
                <a:tab algn="l" pos="431640"/>
                <a:tab algn="l" pos="495360"/>
                <a:tab algn="l" pos="520560"/>
                <a:tab algn="l" pos="647640"/>
                <a:tab algn="l" pos="698400"/>
                <a:tab algn="l" pos="977760"/>
                <a:tab algn="l" pos="1054080"/>
                <a:tab algn="l" pos="1117440"/>
                <a:tab algn="l" pos="1143000"/>
                <a:tab algn="l" pos="1460520"/>
                <a:tab algn="l" pos="1511280"/>
                <a:tab algn="l" pos="17272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黑体"/>
              </a:rPr>
              <a:t>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400"/>
              </a:lnSpc>
              <a:tabLst>
                <a:tab algn="l" pos="304920"/>
                <a:tab algn="l" pos="317520"/>
                <a:tab algn="l" pos="355680"/>
                <a:tab algn="l" pos="393840"/>
                <a:tab algn="l" pos="406440"/>
                <a:tab algn="l" pos="431640"/>
                <a:tab algn="l" pos="495360"/>
                <a:tab algn="l" pos="520560"/>
                <a:tab algn="l" pos="647640"/>
                <a:tab algn="l" pos="698400"/>
                <a:tab algn="l" pos="977760"/>
                <a:tab algn="l" pos="1054080"/>
                <a:tab algn="l" pos="1117440"/>
                <a:tab algn="l" pos="1143000"/>
                <a:tab algn="l" pos="1460520"/>
                <a:tab algn="l" pos="1511280"/>
                <a:tab algn="l" pos="17272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PMingLiU"/>
              </a:rPr>
              <a:t>•</a:t>
            </a:r>
            <a:r>
              <a:rPr b="0" lang="zh-CN" sz="1000" spc="-1" strike="noStrike">
                <a:solidFill>
                  <a:srgbClr val="000000"/>
                </a:solidFill>
                <a:latin typeface="黑体"/>
              </a:rPr>
              <a:t>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00"/>
              </a:lnSpc>
              <a:tabLst>
                <a:tab algn="l" pos="304920"/>
                <a:tab algn="l" pos="317520"/>
                <a:tab algn="l" pos="355680"/>
                <a:tab algn="l" pos="393840"/>
                <a:tab algn="l" pos="406440"/>
                <a:tab algn="l" pos="431640"/>
                <a:tab algn="l" pos="495360"/>
                <a:tab algn="l" pos="520560"/>
                <a:tab algn="l" pos="647640"/>
                <a:tab algn="l" pos="698400"/>
                <a:tab algn="l" pos="977760"/>
                <a:tab algn="l" pos="1054080"/>
                <a:tab algn="l" pos="1117440"/>
                <a:tab algn="l" pos="1143000"/>
                <a:tab algn="l" pos="1460520"/>
                <a:tab algn="l" pos="1511280"/>
                <a:tab algn="l" pos="17272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黑体"/>
              </a:rPr>
              <a:t>力度大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700"/>
              </a:lnSpc>
              <a:tabLst>
                <a:tab algn="l" pos="304920"/>
                <a:tab algn="l" pos="317520"/>
                <a:tab algn="l" pos="355680"/>
                <a:tab algn="l" pos="393840"/>
                <a:tab algn="l" pos="406440"/>
                <a:tab algn="l" pos="431640"/>
                <a:tab algn="l" pos="495360"/>
                <a:tab algn="l" pos="520560"/>
                <a:tab algn="l" pos="647640"/>
                <a:tab algn="l" pos="698400"/>
                <a:tab algn="l" pos="977760"/>
                <a:tab algn="l" pos="1054080"/>
                <a:tab algn="l" pos="1117440"/>
                <a:tab algn="l" pos="1143000"/>
                <a:tab algn="l" pos="1460520"/>
                <a:tab algn="l" pos="1511280"/>
                <a:tab algn="l" pos="17272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PMingLiU"/>
              </a:rPr>
              <a:t>•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01"/>
              </a:lnSpc>
              <a:tabLst>
                <a:tab algn="l" pos="304920"/>
                <a:tab algn="l" pos="317520"/>
                <a:tab algn="l" pos="355680"/>
                <a:tab algn="l" pos="393840"/>
                <a:tab algn="l" pos="406440"/>
                <a:tab algn="l" pos="431640"/>
                <a:tab algn="l" pos="495360"/>
                <a:tab algn="l" pos="520560"/>
                <a:tab algn="l" pos="647640"/>
                <a:tab algn="l" pos="698400"/>
                <a:tab algn="l" pos="977760"/>
                <a:tab algn="l" pos="1054080"/>
                <a:tab algn="l" pos="1117440"/>
                <a:tab algn="l" pos="1143000"/>
                <a:tab algn="l" pos="1460520"/>
                <a:tab algn="l" pos="1511280"/>
                <a:tab algn="l" pos="17272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黑体"/>
              </a:rPr>
              <a:t>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301"/>
              </a:lnSpc>
              <a:tabLst>
                <a:tab algn="l" pos="304920"/>
                <a:tab algn="l" pos="317520"/>
                <a:tab algn="l" pos="355680"/>
                <a:tab algn="l" pos="393840"/>
                <a:tab algn="l" pos="406440"/>
                <a:tab algn="l" pos="431640"/>
                <a:tab algn="l" pos="495360"/>
                <a:tab algn="l" pos="520560"/>
                <a:tab algn="l" pos="647640"/>
                <a:tab algn="l" pos="698400"/>
                <a:tab algn="l" pos="977760"/>
                <a:tab algn="l" pos="1054080"/>
                <a:tab algn="l" pos="1117440"/>
                <a:tab algn="l" pos="1143000"/>
                <a:tab algn="l" pos="1460520"/>
                <a:tab algn="l" pos="1511280"/>
                <a:tab algn="l" pos="17272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黑体"/>
              </a:rPr>
              <a:t>现的营业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401"/>
              </a:lnSpc>
              <a:tabLst>
                <a:tab algn="l" pos="304920"/>
                <a:tab algn="l" pos="317520"/>
                <a:tab algn="l" pos="355680"/>
                <a:tab algn="l" pos="393840"/>
                <a:tab algn="l" pos="406440"/>
                <a:tab algn="l" pos="431640"/>
                <a:tab algn="l" pos="495360"/>
                <a:tab algn="l" pos="520560"/>
                <a:tab algn="l" pos="647640"/>
                <a:tab algn="l" pos="698400"/>
                <a:tab algn="l" pos="977760"/>
                <a:tab algn="l" pos="1054080"/>
                <a:tab algn="l" pos="1117440"/>
                <a:tab algn="l" pos="1143000"/>
                <a:tab algn="l" pos="1460520"/>
                <a:tab algn="l" pos="1511280"/>
                <a:tab algn="l" pos="17272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PMingLiU"/>
              </a:rPr>
              <a:t>•</a:t>
            </a:r>
            <a:r>
              <a:rPr b="0" lang="zh-CN" sz="1000" spc="-1" strike="noStrike">
                <a:solidFill>
                  <a:srgbClr val="000000"/>
                </a:solidFill>
                <a:latin typeface="黑体"/>
              </a:rPr>
              <a:t>客户命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1000" spc="-1" strike="noStrike">
                <a:solidFill>
                  <a:srgbClr val="000000"/>
                </a:solidFill>
                <a:latin typeface="黑体"/>
              </a:rPr>
              <a:t>够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</a:t>
            </a:r>
            <a:r>
              <a:rPr b="0" lang="zh-CN" sz="1000" spc="-1" strike="noStrike">
                <a:solidFill>
                  <a:srgbClr val="000000"/>
                </a:solidFill>
                <a:latin typeface="黑体"/>
              </a:rPr>
              <a:t>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799"/>
              </a:lnSpc>
              <a:tabLst>
                <a:tab algn="l" pos="304920"/>
                <a:tab algn="l" pos="317520"/>
                <a:tab algn="l" pos="355680"/>
                <a:tab algn="l" pos="393840"/>
                <a:tab algn="l" pos="406440"/>
                <a:tab algn="l" pos="431640"/>
                <a:tab algn="l" pos="495360"/>
                <a:tab algn="l" pos="520560"/>
                <a:tab algn="l" pos="647640"/>
                <a:tab algn="l" pos="698400"/>
                <a:tab algn="l" pos="977760"/>
                <a:tab algn="l" pos="1054080"/>
                <a:tab algn="l" pos="1117440"/>
                <a:tab algn="l" pos="1143000"/>
                <a:tab algn="l" pos="1460520"/>
                <a:tab algn="l" pos="1511280"/>
                <a:tab algn="l" pos="17272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PMingLiU"/>
              </a:rPr>
              <a:t>•</a:t>
            </a:r>
            <a:r>
              <a:rPr b="0" lang="zh-CN" sz="1000" spc="-1" strike="noStrike">
                <a:solidFill>
                  <a:srgbClr val="000000"/>
                </a:solidFill>
                <a:latin typeface="黑体"/>
              </a:rPr>
              <a:t>宣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zh-CN" sz="1000" spc="-1" strike="noStrike">
                <a:solidFill>
                  <a:srgbClr val="000000"/>
                </a:solidFill>
                <a:latin typeface="黑体"/>
              </a:rPr>
              <a:t>进行的其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700"/>
              </a:lnSpc>
              <a:tabLst>
                <a:tab algn="l" pos="304920"/>
                <a:tab algn="l" pos="317520"/>
                <a:tab algn="l" pos="355680"/>
                <a:tab algn="l" pos="393840"/>
                <a:tab algn="l" pos="406440"/>
                <a:tab algn="l" pos="431640"/>
                <a:tab algn="l" pos="495360"/>
                <a:tab algn="l" pos="520560"/>
                <a:tab algn="l" pos="647640"/>
                <a:tab algn="l" pos="698400"/>
                <a:tab algn="l" pos="977760"/>
                <a:tab algn="l" pos="1054080"/>
                <a:tab algn="l" pos="1117440"/>
                <a:tab algn="l" pos="1143000"/>
                <a:tab algn="l" pos="1460520"/>
                <a:tab algn="l" pos="1511280"/>
                <a:tab algn="l" pos="17272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黑体"/>
              </a:rPr>
              <a:t>准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700"/>
              </a:lnSpc>
              <a:tabLst>
                <a:tab algn="l" pos="304920"/>
                <a:tab algn="l" pos="317520"/>
                <a:tab algn="l" pos="355680"/>
                <a:tab algn="l" pos="393840"/>
                <a:tab algn="l" pos="406440"/>
                <a:tab algn="l" pos="431640"/>
                <a:tab algn="l" pos="495360"/>
                <a:tab algn="l" pos="520560"/>
                <a:tab algn="l" pos="647640"/>
                <a:tab algn="l" pos="698400"/>
                <a:tab algn="l" pos="977760"/>
                <a:tab algn="l" pos="1054080"/>
                <a:tab algn="l" pos="1117440"/>
                <a:tab algn="l" pos="1143000"/>
                <a:tab algn="l" pos="1460520"/>
                <a:tab algn="l" pos="1511280"/>
                <a:tab algn="l" pos="17272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黑体"/>
              </a:rPr>
              <a:t>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tabLst>
                <a:tab algn="l" pos="304920"/>
                <a:tab algn="l" pos="317520"/>
                <a:tab algn="l" pos="355680"/>
                <a:tab algn="l" pos="393840"/>
                <a:tab algn="l" pos="406440"/>
                <a:tab algn="l" pos="431640"/>
                <a:tab algn="l" pos="495360"/>
                <a:tab algn="l" pos="520560"/>
                <a:tab algn="l" pos="647640"/>
                <a:tab algn="l" pos="698400"/>
                <a:tab algn="l" pos="977760"/>
                <a:tab algn="l" pos="1054080"/>
                <a:tab algn="l" pos="1117440"/>
                <a:tab algn="l" pos="1143000"/>
                <a:tab algn="l" pos="1460520"/>
                <a:tab algn="l" pos="1511280"/>
                <a:tab algn="l" pos="17272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黑体"/>
              </a:rPr>
              <a:t>确预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304920"/>
                <a:tab algn="l" pos="317520"/>
                <a:tab algn="l" pos="355680"/>
                <a:tab algn="l" pos="393840"/>
                <a:tab algn="l" pos="406440"/>
                <a:tab algn="l" pos="431640"/>
                <a:tab algn="l" pos="495360"/>
                <a:tab algn="l" pos="520560"/>
                <a:tab algn="l" pos="647640"/>
                <a:tab algn="l" pos="698400"/>
                <a:tab algn="l" pos="977760"/>
                <a:tab algn="l" pos="1054080"/>
                <a:tab algn="l" pos="1117440"/>
                <a:tab algn="l" pos="1143000"/>
                <a:tab algn="l" pos="1460520"/>
                <a:tab algn="l" pos="1511280"/>
                <a:tab algn="l" pos="1727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304920"/>
                <a:tab algn="l" pos="317520"/>
                <a:tab algn="l" pos="355680"/>
                <a:tab algn="l" pos="393840"/>
                <a:tab algn="l" pos="406440"/>
                <a:tab algn="l" pos="431640"/>
                <a:tab algn="l" pos="495360"/>
                <a:tab algn="l" pos="520560"/>
                <a:tab algn="l" pos="647640"/>
                <a:tab algn="l" pos="698400"/>
                <a:tab algn="l" pos="977760"/>
                <a:tab algn="l" pos="1054080"/>
                <a:tab algn="l" pos="1117440"/>
                <a:tab algn="l" pos="1143000"/>
                <a:tab algn="l" pos="1460520"/>
                <a:tab algn="l" pos="1511280"/>
                <a:tab algn="l" pos="17272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PMingLiU"/>
              </a:rPr>
              <a:t>•</a:t>
            </a:r>
            <a:r>
              <a:rPr b="0" lang="zh-CN" sz="1000" spc="-1" strike="noStrike">
                <a:solidFill>
                  <a:srgbClr val="000000"/>
                </a:solidFill>
                <a:latin typeface="黑体"/>
              </a:rPr>
              <a:t>品牌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1"/>
          <p:cNvSpPr/>
          <p:nvPr/>
        </p:nvSpPr>
        <p:spPr>
          <a:xfrm>
            <a:off x="4897800" y="6108840"/>
            <a:ext cx="146880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301"/>
              </a:lnSpc>
            </a:pPr>
            <a:r>
              <a:rPr b="0" lang="zh-CN" sz="1000" spc="-1" strike="noStrike">
                <a:solidFill>
                  <a:srgbClr val="000000"/>
                </a:solidFill>
                <a:latin typeface="黑体"/>
              </a:rPr>
              <a:t>化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0" lang="zh-CN" sz="1000" spc="-1" strike="noStrike">
                <a:solidFill>
                  <a:srgbClr val="000000"/>
                </a:solidFill>
                <a:latin typeface="黑体"/>
              </a:rPr>
              <a:t>等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Box 1"/>
          <p:cNvSpPr/>
          <p:nvPr/>
        </p:nvSpPr>
        <p:spPr>
          <a:xfrm>
            <a:off x="7295040" y="2133720"/>
            <a:ext cx="25524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301"/>
              </a:lnSpc>
              <a:tabLst>
                <a:tab algn="l" pos="25560"/>
                <a:tab algn="l" pos="381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黑体"/>
              </a:rPr>
              <a:t>完成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701"/>
              </a:lnSpc>
              <a:tabLst>
                <a:tab algn="l" pos="25560"/>
                <a:tab algn="l" pos="381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黑体"/>
              </a:rPr>
              <a:t>+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25560"/>
                <a:tab algn="l" pos="381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黑体"/>
              </a:rPr>
              <a:t>+Y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Box 1"/>
          <p:cNvSpPr/>
          <p:nvPr/>
        </p:nvSpPr>
        <p:spPr>
          <a:xfrm>
            <a:off x="7697880" y="2057400"/>
            <a:ext cx="28872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199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黑体"/>
              </a:rPr>
              <a:t>-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1000" spc="-1" strike="noStrike">
                <a:solidFill>
                  <a:srgbClr val="000000"/>
                </a:solidFill>
                <a:latin typeface="黑体"/>
              </a:rPr>
              <a:t>目标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Box 1"/>
          <p:cNvSpPr/>
          <p:nvPr/>
        </p:nvSpPr>
        <p:spPr>
          <a:xfrm>
            <a:off x="5523840" y="2438280"/>
            <a:ext cx="153360" cy="1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100"/>
              </a:lnSpc>
            </a:pPr>
            <a:r>
              <a:rPr b="0" lang="zh-CN" sz="1000" spc="-1" strike="noStrike">
                <a:solidFill>
                  <a:srgbClr val="000000"/>
                </a:solidFill>
                <a:latin typeface="黑体"/>
              </a:rPr>
              <a:t>目标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Box 1"/>
          <p:cNvSpPr/>
          <p:nvPr/>
        </p:nvSpPr>
        <p:spPr>
          <a:xfrm>
            <a:off x="769680" y="190440"/>
            <a:ext cx="268920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4099"/>
              </a:lnSpc>
            </a:pPr>
            <a:r>
              <a:rPr b="1" lang="en-US" sz="3190" spc="-1" strike="noStrike">
                <a:solidFill>
                  <a:srgbClr val="000000"/>
                </a:solidFill>
                <a:latin typeface="微软雅黑"/>
              </a:rPr>
              <a:t>7</a:t>
            </a:r>
            <a:r>
              <a:rPr b="0" lang="en-US" sz="319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190" spc="-1" strike="noStrike">
                <a:solidFill>
                  <a:srgbClr val="000000"/>
                </a:solidFill>
                <a:latin typeface="微软雅黑"/>
              </a:rPr>
              <a:t>品牌建设经验交流</a:t>
            </a:r>
            <a:endParaRPr b="0" lang="en-US" sz="319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7"/>
          <p:cNvSpPr/>
          <p:nvPr/>
        </p:nvSpPr>
        <p:spPr>
          <a:xfrm>
            <a:off x="165240" y="6577200"/>
            <a:ext cx="5036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3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4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52" name="TextBox 1"/>
          <p:cNvSpPr/>
          <p:nvPr/>
        </p:nvSpPr>
        <p:spPr>
          <a:xfrm>
            <a:off x="8826120" y="6464160"/>
            <a:ext cx="10188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400"/>
              </a:lnSpc>
            </a:pPr>
            <a:r>
              <a:rPr b="0" lang="en-US" sz="1600" spc="-1" strike="noStrike">
                <a:solidFill>
                  <a:srgbClr val="7f7f7f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"/>
          <p:cNvSpPr/>
          <p:nvPr/>
        </p:nvSpPr>
        <p:spPr>
          <a:xfrm>
            <a:off x="914760" y="190440"/>
            <a:ext cx="21956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4099"/>
              </a:lnSpc>
            </a:pPr>
            <a:r>
              <a:rPr b="1" lang="zh-CN" sz="3190" spc="-1" strike="noStrike">
                <a:solidFill>
                  <a:srgbClr val="000000"/>
                </a:solidFill>
                <a:latin typeface="微软雅黑"/>
              </a:rPr>
              <a:t>企业品牌管理七步骤</a:t>
            </a:r>
            <a:endParaRPr b="0" lang="en-US" sz="319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"/>
          <p:cNvSpPr/>
          <p:nvPr/>
        </p:nvSpPr>
        <p:spPr>
          <a:xfrm>
            <a:off x="758880" y="1447920"/>
            <a:ext cx="1321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299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"/>
          <p:cNvSpPr/>
          <p:nvPr/>
        </p:nvSpPr>
        <p:spPr>
          <a:xfrm>
            <a:off x="2549880" y="1371600"/>
            <a:ext cx="1321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299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"/>
          <p:cNvSpPr/>
          <p:nvPr/>
        </p:nvSpPr>
        <p:spPr>
          <a:xfrm>
            <a:off x="4429440" y="1955880"/>
            <a:ext cx="1321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299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"/>
          <p:cNvSpPr/>
          <p:nvPr/>
        </p:nvSpPr>
        <p:spPr>
          <a:xfrm>
            <a:off x="3489480" y="3467160"/>
            <a:ext cx="1321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299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"/>
          <p:cNvSpPr/>
          <p:nvPr/>
        </p:nvSpPr>
        <p:spPr>
          <a:xfrm>
            <a:off x="3781800" y="4762440"/>
            <a:ext cx="1321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299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"/>
          <p:cNvSpPr/>
          <p:nvPr/>
        </p:nvSpPr>
        <p:spPr>
          <a:xfrm>
            <a:off x="4858200" y="5549760"/>
            <a:ext cx="82404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299"/>
              </a:lnSpc>
              <a:tabLst>
                <a:tab algn="l" pos="6224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01"/>
              </a:lnSpc>
              <a:tabLst>
                <a:tab algn="l" pos="62244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</a:rPr>
              <a:t>品牌团队激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"/>
          <p:cNvSpPr/>
          <p:nvPr/>
        </p:nvSpPr>
        <p:spPr>
          <a:xfrm>
            <a:off x="7375680" y="4762440"/>
            <a:ext cx="1321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299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Freeform 3"/>
          <p:cNvSpPr/>
          <p:nvPr/>
        </p:nvSpPr>
        <p:spPr>
          <a:xfrm>
            <a:off x="0" y="0"/>
            <a:ext cx="9143640" cy="6857640"/>
          </a:xfrm>
          <a:custGeom>
            <a:avLst/>
            <a:gdLst>
              <a:gd name="textAreaLeft" fmla="*/ 0 w 9143640"/>
              <a:gd name="textAreaRight" fmla="*/ 9144000 w 9143640"/>
              <a:gd name="textAreaTop" fmla="*/ 0 h 6857640"/>
              <a:gd name="textAreaBottom" fmla="*/ 6858000 h 6857640"/>
            </a:gdLst>
            <a:ahLst/>
            <a:rect l="textAreaLeft" t="textAreaTop" r="textAreaRight" b="textAreaBottom"/>
            <a:pathLst>
              <a:path w="9144000" h="6858000">
                <a:moveTo>
                  <a:pt x="0" y="6858000"/>
                </a:moveTo>
                <a:lnTo>
                  <a:pt x="9144000" y="6858000"/>
                </a:lnTo>
                <a:lnTo>
                  <a:pt x="9144000" y="0"/>
                </a:lnTo>
                <a:lnTo>
                  <a:pt x="0" y="0"/>
                </a:lnTo>
                <a:lnTo>
                  <a:pt x="0" y="6858000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2" name="Freeform 3"/>
          <p:cNvSpPr/>
          <p:nvPr/>
        </p:nvSpPr>
        <p:spPr>
          <a:xfrm>
            <a:off x="1649520" y="6555240"/>
            <a:ext cx="7080480" cy="21960"/>
          </a:xfrm>
          <a:custGeom>
            <a:avLst/>
            <a:gdLst>
              <a:gd name="textAreaLeft" fmla="*/ 0 w 7080480"/>
              <a:gd name="textAreaRight" fmla="*/ 7080840 w 7080480"/>
              <a:gd name="textAreaTop" fmla="*/ 0 h 21960"/>
              <a:gd name="textAreaBottom" fmla="*/ 22320 h 21960"/>
            </a:gdLst>
            <a:ahLst/>
            <a:rect l="textAreaLeft" t="textAreaTop" r="textAreaRight" b="textAreaBottom"/>
            <a:pathLst>
              <a:path w="7080757" h="22225">
                <a:moveTo>
                  <a:pt x="6350" y="6350"/>
                </a:moveTo>
                <a:lnTo>
                  <a:pt x="7074407" y="6350"/>
                </a:lnTo>
              </a:path>
            </a:pathLst>
          </a:custGeom>
          <a:noFill/>
          <a:ln w="12700">
            <a:solidFill>
              <a:srgbClr val="7f7f7f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22680" bIns="-226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Freeform 3"/>
          <p:cNvSpPr/>
          <p:nvPr/>
        </p:nvSpPr>
        <p:spPr>
          <a:xfrm>
            <a:off x="3204000" y="3861000"/>
            <a:ext cx="2736000" cy="369000"/>
          </a:xfrm>
          <a:custGeom>
            <a:avLst/>
            <a:gdLst>
              <a:gd name="textAreaLeft" fmla="*/ 0 w 2736000"/>
              <a:gd name="textAreaRight" fmla="*/ 2736360 w 2736000"/>
              <a:gd name="textAreaTop" fmla="*/ 0 h 369000"/>
              <a:gd name="textAreaBottom" fmla="*/ 369360 h 369000"/>
            </a:gdLst>
            <a:ahLst/>
            <a:rect l="textAreaLeft" t="textAreaTop" r="textAreaRight" b="textAreaBottom"/>
            <a:pathLst>
              <a:path w="2736342" h="369328">
                <a:moveTo>
                  <a:pt x="0" y="369328"/>
                </a:moveTo>
                <a:lnTo>
                  <a:pt x="2736342" y="369328"/>
                </a:lnTo>
                <a:lnTo>
                  <a:pt x="2736342" y="0"/>
                </a:lnTo>
                <a:lnTo>
                  <a:pt x="0" y="0"/>
                </a:lnTo>
                <a:lnTo>
                  <a:pt x="0" y="369328"/>
                </a:lnTo>
              </a:path>
            </a:pathLst>
          </a:custGeom>
          <a:solidFill>
            <a:srgbClr val="00000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4" name="Freeform 3"/>
          <p:cNvSpPr/>
          <p:nvPr/>
        </p:nvSpPr>
        <p:spPr>
          <a:xfrm>
            <a:off x="6228360" y="3861000"/>
            <a:ext cx="2664000" cy="369000"/>
          </a:xfrm>
          <a:custGeom>
            <a:avLst/>
            <a:gdLst>
              <a:gd name="textAreaLeft" fmla="*/ 0 w 2664000"/>
              <a:gd name="textAreaRight" fmla="*/ 2664360 w 2664000"/>
              <a:gd name="textAreaTop" fmla="*/ 0 h 369000"/>
              <a:gd name="textAreaBottom" fmla="*/ 369360 h 369000"/>
            </a:gdLst>
            <a:ahLst/>
            <a:rect l="textAreaLeft" t="textAreaTop" r="textAreaRight" b="textAreaBottom"/>
            <a:pathLst>
              <a:path w="2664333" h="369328">
                <a:moveTo>
                  <a:pt x="0" y="369328"/>
                </a:moveTo>
                <a:lnTo>
                  <a:pt x="2664333" y="369328"/>
                </a:lnTo>
                <a:lnTo>
                  <a:pt x="2664333" y="0"/>
                </a:lnTo>
                <a:lnTo>
                  <a:pt x="0" y="0"/>
                </a:lnTo>
                <a:lnTo>
                  <a:pt x="0" y="369328"/>
                </a:lnTo>
              </a:path>
            </a:pathLst>
          </a:custGeom>
          <a:solidFill>
            <a:srgbClr val="00000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5" name="Freeform 3"/>
          <p:cNvSpPr/>
          <p:nvPr/>
        </p:nvSpPr>
        <p:spPr>
          <a:xfrm>
            <a:off x="251640" y="3861000"/>
            <a:ext cx="2664000" cy="369000"/>
          </a:xfrm>
          <a:custGeom>
            <a:avLst/>
            <a:gdLst>
              <a:gd name="textAreaLeft" fmla="*/ 0 w 2664000"/>
              <a:gd name="textAreaRight" fmla="*/ 2664360 w 2664000"/>
              <a:gd name="textAreaTop" fmla="*/ 0 h 369000"/>
              <a:gd name="textAreaBottom" fmla="*/ 369360 h 369000"/>
            </a:gdLst>
            <a:ahLst/>
            <a:rect l="textAreaLeft" t="textAreaTop" r="textAreaRight" b="textAreaBottom"/>
            <a:pathLst>
              <a:path w="2664333" h="369328">
                <a:moveTo>
                  <a:pt x="0" y="369328"/>
                </a:moveTo>
                <a:lnTo>
                  <a:pt x="2664333" y="369328"/>
                </a:lnTo>
                <a:lnTo>
                  <a:pt x="2664333" y="0"/>
                </a:lnTo>
                <a:lnTo>
                  <a:pt x="0" y="0"/>
                </a:lnTo>
                <a:lnTo>
                  <a:pt x="0" y="369328"/>
                </a:lnTo>
              </a:path>
            </a:pathLst>
          </a:custGeom>
          <a:solidFill>
            <a:srgbClr val="00000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6" name="Freeform 3"/>
          <p:cNvSpPr/>
          <p:nvPr/>
        </p:nvSpPr>
        <p:spPr>
          <a:xfrm>
            <a:off x="251640" y="836640"/>
            <a:ext cx="8712720" cy="645840"/>
          </a:xfrm>
          <a:custGeom>
            <a:avLst/>
            <a:gdLst>
              <a:gd name="textAreaLeft" fmla="*/ 0 w 8712720"/>
              <a:gd name="textAreaRight" fmla="*/ 8713080 w 8712720"/>
              <a:gd name="textAreaTop" fmla="*/ 0 h 645840"/>
              <a:gd name="textAreaBottom" fmla="*/ 646200 h 645840"/>
            </a:gdLst>
            <a:ahLst/>
            <a:rect l="textAreaLeft" t="textAreaTop" r="textAreaRight" b="textAreaBottom"/>
            <a:pathLst>
              <a:path w="8712961" h="646328">
                <a:moveTo>
                  <a:pt x="0" y="646328"/>
                </a:moveTo>
                <a:lnTo>
                  <a:pt x="8712961" y="646328"/>
                </a:lnTo>
                <a:lnTo>
                  <a:pt x="8712961" y="0"/>
                </a:lnTo>
                <a:lnTo>
                  <a:pt x="0" y="0"/>
                </a:lnTo>
                <a:lnTo>
                  <a:pt x="0" y="646328"/>
                </a:lnTo>
              </a:path>
            </a:pathLst>
          </a:custGeom>
          <a:solidFill>
            <a:srgbClr val="00000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7" name="Freeform 3"/>
          <p:cNvSpPr/>
          <p:nvPr/>
        </p:nvSpPr>
        <p:spPr>
          <a:xfrm>
            <a:off x="479160" y="1893240"/>
            <a:ext cx="1173240" cy="1200600"/>
          </a:xfrm>
          <a:custGeom>
            <a:avLst/>
            <a:gdLst>
              <a:gd name="textAreaLeft" fmla="*/ 0 w 1173240"/>
              <a:gd name="textAreaRight" fmla="*/ 1173600 w 1173240"/>
              <a:gd name="textAreaTop" fmla="*/ 0 h 1200600"/>
              <a:gd name="textAreaBottom" fmla="*/ 1200960 h 1200600"/>
            </a:gdLst>
            <a:ahLst/>
            <a:rect l="textAreaLeft" t="textAreaTop" r="textAreaRight" b="textAreaBottom"/>
            <a:pathLst>
              <a:path w="1173746" h="1200911">
                <a:moveTo>
                  <a:pt x="682383" y="1200911"/>
                </a:moveTo>
                <a:lnTo>
                  <a:pt x="300240" y="1037208"/>
                </a:lnTo>
                <a:lnTo>
                  <a:pt x="68237" y="750569"/>
                </a:lnTo>
                <a:lnTo>
                  <a:pt x="0" y="450341"/>
                </a:lnTo>
                <a:lnTo>
                  <a:pt x="95529" y="259207"/>
                </a:lnTo>
                <a:lnTo>
                  <a:pt x="395782" y="40894"/>
                </a:lnTo>
                <a:lnTo>
                  <a:pt x="614146" y="0"/>
                </a:lnTo>
                <a:lnTo>
                  <a:pt x="928001" y="81788"/>
                </a:lnTo>
                <a:lnTo>
                  <a:pt x="1064526" y="150113"/>
                </a:lnTo>
                <a:lnTo>
                  <a:pt x="1132725" y="368426"/>
                </a:lnTo>
                <a:lnTo>
                  <a:pt x="1173746" y="573151"/>
                </a:lnTo>
                <a:lnTo>
                  <a:pt x="1064526" y="777875"/>
                </a:lnTo>
                <a:lnTo>
                  <a:pt x="887107" y="1023492"/>
                </a:lnTo>
                <a:lnTo>
                  <a:pt x="723328" y="1119123"/>
                </a:lnTo>
                <a:lnTo>
                  <a:pt x="464019" y="1119123"/>
                </a:lnTo>
                <a:lnTo>
                  <a:pt x="682383" y="1200911"/>
                </a:lnTo>
              </a:path>
            </a:pathLst>
          </a:custGeom>
          <a:solidFill>
            <a:srgbClr val="00000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8" name="Freeform 3"/>
          <p:cNvSpPr/>
          <p:nvPr/>
        </p:nvSpPr>
        <p:spPr>
          <a:xfrm>
            <a:off x="473040" y="1887120"/>
            <a:ext cx="1186200" cy="1213200"/>
          </a:xfrm>
          <a:custGeom>
            <a:avLst/>
            <a:gdLst>
              <a:gd name="textAreaLeft" fmla="*/ 0 w 1186200"/>
              <a:gd name="textAreaRight" fmla="*/ 1186560 w 1186200"/>
              <a:gd name="textAreaTop" fmla="*/ 0 h 1213200"/>
              <a:gd name="textAreaBottom" fmla="*/ 1213560 h 1213200"/>
            </a:gdLst>
            <a:ahLst/>
            <a:rect l="textAreaLeft" t="textAreaTop" r="textAreaRight" b="textAreaBottom"/>
            <a:pathLst>
              <a:path w="1186446" h="1213611">
                <a:moveTo>
                  <a:pt x="688733" y="1207261"/>
                </a:moveTo>
                <a:lnTo>
                  <a:pt x="306590" y="1043558"/>
                </a:lnTo>
                <a:lnTo>
                  <a:pt x="74587" y="756919"/>
                </a:lnTo>
                <a:lnTo>
                  <a:pt x="6350" y="456691"/>
                </a:lnTo>
                <a:lnTo>
                  <a:pt x="101879" y="265557"/>
                </a:lnTo>
                <a:lnTo>
                  <a:pt x="402132" y="47244"/>
                </a:lnTo>
                <a:lnTo>
                  <a:pt x="620496" y="6350"/>
                </a:lnTo>
                <a:lnTo>
                  <a:pt x="934351" y="88138"/>
                </a:lnTo>
                <a:lnTo>
                  <a:pt x="1070876" y="156463"/>
                </a:lnTo>
                <a:lnTo>
                  <a:pt x="1139075" y="374776"/>
                </a:lnTo>
                <a:lnTo>
                  <a:pt x="1180096" y="579501"/>
                </a:lnTo>
                <a:lnTo>
                  <a:pt x="1070876" y="784225"/>
                </a:lnTo>
                <a:lnTo>
                  <a:pt x="893457" y="1029842"/>
                </a:lnTo>
                <a:lnTo>
                  <a:pt x="729678" y="1125473"/>
                </a:lnTo>
                <a:lnTo>
                  <a:pt x="470369" y="1125473"/>
                </a:lnTo>
              </a:path>
            </a:pathLst>
          </a:custGeom>
          <a:noFill/>
          <a:ln w="12700">
            <a:solidFill>
              <a:srgbClr val="000000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Freeform 3"/>
          <p:cNvSpPr/>
          <p:nvPr/>
        </p:nvSpPr>
        <p:spPr>
          <a:xfrm>
            <a:off x="6452640" y="1893240"/>
            <a:ext cx="1173240" cy="1200600"/>
          </a:xfrm>
          <a:custGeom>
            <a:avLst/>
            <a:gdLst>
              <a:gd name="textAreaLeft" fmla="*/ 0 w 1173240"/>
              <a:gd name="textAreaRight" fmla="*/ 1173600 w 1173240"/>
              <a:gd name="textAreaTop" fmla="*/ 0 h 1200600"/>
              <a:gd name="textAreaBottom" fmla="*/ 1200960 h 1200600"/>
            </a:gdLst>
            <a:ahLst/>
            <a:rect l="textAreaLeft" t="textAreaTop" r="textAreaRight" b="textAreaBottom"/>
            <a:pathLst>
              <a:path w="1173734" h="1200911">
                <a:moveTo>
                  <a:pt x="682371" y="1200911"/>
                </a:moveTo>
                <a:lnTo>
                  <a:pt x="300227" y="1037208"/>
                </a:lnTo>
                <a:lnTo>
                  <a:pt x="68199" y="750569"/>
                </a:lnTo>
                <a:lnTo>
                  <a:pt x="0" y="450341"/>
                </a:lnTo>
                <a:lnTo>
                  <a:pt x="95503" y="259207"/>
                </a:lnTo>
                <a:lnTo>
                  <a:pt x="395859" y="40894"/>
                </a:lnTo>
                <a:lnTo>
                  <a:pt x="614172" y="0"/>
                </a:lnTo>
                <a:lnTo>
                  <a:pt x="928115" y="81788"/>
                </a:lnTo>
                <a:lnTo>
                  <a:pt x="1064514" y="150113"/>
                </a:lnTo>
                <a:lnTo>
                  <a:pt x="1132840" y="368426"/>
                </a:lnTo>
                <a:lnTo>
                  <a:pt x="1173734" y="573151"/>
                </a:lnTo>
                <a:lnTo>
                  <a:pt x="1064514" y="777875"/>
                </a:lnTo>
                <a:lnTo>
                  <a:pt x="887095" y="1023492"/>
                </a:lnTo>
                <a:lnTo>
                  <a:pt x="723391" y="1119123"/>
                </a:lnTo>
                <a:lnTo>
                  <a:pt x="464058" y="1119123"/>
                </a:lnTo>
                <a:lnTo>
                  <a:pt x="682371" y="1200911"/>
                </a:lnTo>
              </a:path>
            </a:pathLst>
          </a:custGeom>
          <a:solidFill>
            <a:srgbClr val="00000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0" name="Freeform 3"/>
          <p:cNvSpPr/>
          <p:nvPr/>
        </p:nvSpPr>
        <p:spPr>
          <a:xfrm>
            <a:off x="6446160" y="1887120"/>
            <a:ext cx="1186200" cy="1213200"/>
          </a:xfrm>
          <a:custGeom>
            <a:avLst/>
            <a:gdLst>
              <a:gd name="textAreaLeft" fmla="*/ 0 w 1186200"/>
              <a:gd name="textAreaRight" fmla="*/ 1186560 w 1186200"/>
              <a:gd name="textAreaTop" fmla="*/ 0 h 1213200"/>
              <a:gd name="textAreaBottom" fmla="*/ 1213560 h 1213200"/>
            </a:gdLst>
            <a:ahLst/>
            <a:rect l="textAreaLeft" t="textAreaTop" r="textAreaRight" b="textAreaBottom"/>
            <a:pathLst>
              <a:path w="1186434" h="1213611">
                <a:moveTo>
                  <a:pt x="688721" y="1207261"/>
                </a:moveTo>
                <a:lnTo>
                  <a:pt x="306577" y="1043558"/>
                </a:lnTo>
                <a:lnTo>
                  <a:pt x="74549" y="756919"/>
                </a:lnTo>
                <a:lnTo>
                  <a:pt x="6350" y="456691"/>
                </a:lnTo>
                <a:lnTo>
                  <a:pt x="101853" y="265557"/>
                </a:lnTo>
                <a:lnTo>
                  <a:pt x="402209" y="47244"/>
                </a:lnTo>
                <a:lnTo>
                  <a:pt x="620522" y="6350"/>
                </a:lnTo>
                <a:lnTo>
                  <a:pt x="934465" y="88138"/>
                </a:lnTo>
                <a:lnTo>
                  <a:pt x="1070864" y="156463"/>
                </a:lnTo>
                <a:lnTo>
                  <a:pt x="1139190" y="374776"/>
                </a:lnTo>
                <a:lnTo>
                  <a:pt x="1180084" y="579501"/>
                </a:lnTo>
                <a:lnTo>
                  <a:pt x="1070864" y="784225"/>
                </a:lnTo>
                <a:lnTo>
                  <a:pt x="893445" y="1029842"/>
                </a:lnTo>
                <a:lnTo>
                  <a:pt x="729741" y="1125473"/>
                </a:lnTo>
                <a:lnTo>
                  <a:pt x="470408" y="1125473"/>
                </a:lnTo>
              </a:path>
            </a:pathLst>
          </a:custGeom>
          <a:noFill/>
          <a:ln w="12700">
            <a:solidFill>
              <a:srgbClr val="000000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Freeform 3"/>
          <p:cNvSpPr/>
          <p:nvPr/>
        </p:nvSpPr>
        <p:spPr>
          <a:xfrm>
            <a:off x="7292520" y="2525040"/>
            <a:ext cx="340920" cy="367920"/>
          </a:xfrm>
          <a:custGeom>
            <a:avLst/>
            <a:gdLst>
              <a:gd name="textAreaLeft" fmla="*/ 0 w 340920"/>
              <a:gd name="textAreaRight" fmla="*/ 341280 w 340920"/>
              <a:gd name="textAreaTop" fmla="*/ 0 h 367920"/>
              <a:gd name="textAreaBottom" fmla="*/ 368280 h 367920"/>
            </a:gdLst>
            <a:ahLst/>
            <a:rect l="textAreaLeft" t="textAreaTop" r="textAreaRight" b="textAreaBottom"/>
            <a:pathLst>
              <a:path w="341122" h="368427">
                <a:moveTo>
                  <a:pt x="0" y="341122"/>
                </a:moveTo>
                <a:lnTo>
                  <a:pt x="81915" y="68198"/>
                </a:lnTo>
                <a:lnTo>
                  <a:pt x="259334" y="0"/>
                </a:lnTo>
                <a:lnTo>
                  <a:pt x="341122" y="204723"/>
                </a:lnTo>
                <a:lnTo>
                  <a:pt x="259334" y="368427"/>
                </a:lnTo>
                <a:lnTo>
                  <a:pt x="68199" y="327533"/>
                </a:lnTo>
                <a:lnTo>
                  <a:pt x="0" y="341122"/>
                </a:lnTo>
              </a:path>
            </a:pathLst>
          </a:custGeom>
          <a:solidFill>
            <a:srgbClr val="00000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2" name="Freeform 3"/>
          <p:cNvSpPr/>
          <p:nvPr/>
        </p:nvSpPr>
        <p:spPr>
          <a:xfrm>
            <a:off x="238680" y="1688040"/>
            <a:ext cx="2689200" cy="4561560"/>
          </a:xfrm>
          <a:custGeom>
            <a:avLst/>
            <a:gdLst>
              <a:gd name="textAreaLeft" fmla="*/ 0 w 2689200"/>
              <a:gd name="textAreaRight" fmla="*/ 2689560 w 2689200"/>
              <a:gd name="textAreaTop" fmla="*/ 0 h 4561560"/>
              <a:gd name="textAreaBottom" fmla="*/ 4561920 h 4561560"/>
            </a:gdLst>
            <a:ahLst/>
            <a:rect l="textAreaLeft" t="textAreaTop" r="textAreaRight" b="textAreaBottom"/>
            <a:pathLst>
              <a:path w="2689733" h="4561967">
                <a:moveTo>
                  <a:pt x="12700" y="4549267"/>
                </a:moveTo>
                <a:lnTo>
                  <a:pt x="2677033" y="4549267"/>
                </a:lnTo>
                <a:lnTo>
                  <a:pt x="2677033" y="12700"/>
                </a:lnTo>
                <a:lnTo>
                  <a:pt x="12700" y="12700"/>
                </a:lnTo>
                <a:lnTo>
                  <a:pt x="12700" y="4549267"/>
                </a:lnTo>
              </a:path>
            </a:pathLst>
          </a:custGeom>
          <a:noFill/>
          <a:ln>
            <a:solidFill>
              <a:srgbClr val="7f7f7f"/>
            </a:solidFill>
            <a:prstDash val="sysDot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3" name="Freeform 3"/>
          <p:cNvSpPr/>
          <p:nvPr/>
        </p:nvSpPr>
        <p:spPr>
          <a:xfrm>
            <a:off x="3191040" y="1688040"/>
            <a:ext cx="2761560" cy="4561560"/>
          </a:xfrm>
          <a:custGeom>
            <a:avLst/>
            <a:gdLst>
              <a:gd name="textAreaLeft" fmla="*/ 0 w 2761560"/>
              <a:gd name="textAreaRight" fmla="*/ 2761920 w 2761560"/>
              <a:gd name="textAreaTop" fmla="*/ 0 h 4561560"/>
              <a:gd name="textAreaBottom" fmla="*/ 4561920 h 4561560"/>
            </a:gdLst>
            <a:ahLst/>
            <a:rect l="textAreaLeft" t="textAreaTop" r="textAreaRight" b="textAreaBottom"/>
            <a:pathLst>
              <a:path w="2761742" h="4561967">
                <a:moveTo>
                  <a:pt x="12700" y="4549267"/>
                </a:moveTo>
                <a:lnTo>
                  <a:pt x="2749042" y="4549267"/>
                </a:lnTo>
                <a:lnTo>
                  <a:pt x="2749042" y="12700"/>
                </a:lnTo>
                <a:lnTo>
                  <a:pt x="12700" y="12700"/>
                </a:lnTo>
                <a:lnTo>
                  <a:pt x="12700" y="4549267"/>
                </a:lnTo>
              </a:path>
            </a:pathLst>
          </a:custGeom>
          <a:noFill/>
          <a:ln>
            <a:solidFill>
              <a:srgbClr val="7f7f7f"/>
            </a:solidFill>
            <a:prstDash val="sysDot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4" name="Freeform 3"/>
          <p:cNvSpPr/>
          <p:nvPr/>
        </p:nvSpPr>
        <p:spPr>
          <a:xfrm>
            <a:off x="6215400" y="1688040"/>
            <a:ext cx="2689200" cy="4561560"/>
          </a:xfrm>
          <a:custGeom>
            <a:avLst/>
            <a:gdLst>
              <a:gd name="textAreaLeft" fmla="*/ 0 w 2689200"/>
              <a:gd name="textAreaRight" fmla="*/ 2689560 w 2689200"/>
              <a:gd name="textAreaTop" fmla="*/ 0 h 4561560"/>
              <a:gd name="textAreaBottom" fmla="*/ 4561920 h 4561560"/>
            </a:gdLst>
            <a:ahLst/>
            <a:rect l="textAreaLeft" t="textAreaTop" r="textAreaRight" b="textAreaBottom"/>
            <a:pathLst>
              <a:path w="2689733" h="4561967">
                <a:moveTo>
                  <a:pt x="12700" y="4549267"/>
                </a:moveTo>
                <a:lnTo>
                  <a:pt x="2677033" y="4549267"/>
                </a:lnTo>
                <a:lnTo>
                  <a:pt x="2677033" y="12700"/>
                </a:lnTo>
                <a:lnTo>
                  <a:pt x="12700" y="12700"/>
                </a:lnTo>
                <a:lnTo>
                  <a:pt x="12700" y="4549267"/>
                </a:lnTo>
              </a:path>
            </a:pathLst>
          </a:custGeom>
          <a:noFill/>
          <a:ln>
            <a:solidFill>
              <a:srgbClr val="7f7f7f"/>
            </a:solidFill>
            <a:prstDash val="sysDot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5" name="Freeform 3"/>
          <p:cNvSpPr/>
          <p:nvPr/>
        </p:nvSpPr>
        <p:spPr>
          <a:xfrm>
            <a:off x="1979640" y="1700640"/>
            <a:ext cx="935640" cy="1367640"/>
          </a:xfrm>
          <a:custGeom>
            <a:avLst/>
            <a:gdLst>
              <a:gd name="textAreaLeft" fmla="*/ 0 w 935640"/>
              <a:gd name="textAreaRight" fmla="*/ 936000 w 935640"/>
              <a:gd name="textAreaTop" fmla="*/ 0 h 1367640"/>
              <a:gd name="textAreaBottom" fmla="*/ 1368000 h 1367640"/>
            </a:gdLst>
            <a:ahLst/>
            <a:rect l="textAreaLeft" t="textAreaTop" r="textAreaRight" b="textAreaBottom"/>
            <a:pathLst>
              <a:path w="936116" h="1368170">
                <a:moveTo>
                  <a:pt x="936116" y="0"/>
                </a:moveTo>
                <a:lnTo>
                  <a:pt x="936116" y="1368170"/>
                </a:lnTo>
                <a:lnTo>
                  <a:pt x="0" y="0"/>
                </a:lnTo>
                <a:lnTo>
                  <a:pt x="936116" y="0"/>
                </a:lnTo>
              </a:path>
            </a:pathLst>
          </a:custGeom>
          <a:solidFill>
            <a:srgbClr val="ffc00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6" name="Freeform 3"/>
          <p:cNvSpPr/>
          <p:nvPr/>
        </p:nvSpPr>
        <p:spPr>
          <a:xfrm>
            <a:off x="5004000" y="1700640"/>
            <a:ext cx="935640" cy="1367640"/>
          </a:xfrm>
          <a:custGeom>
            <a:avLst/>
            <a:gdLst>
              <a:gd name="textAreaLeft" fmla="*/ 0 w 935640"/>
              <a:gd name="textAreaRight" fmla="*/ 936000 w 935640"/>
              <a:gd name="textAreaTop" fmla="*/ 0 h 1367640"/>
              <a:gd name="textAreaBottom" fmla="*/ 1368000 h 1367640"/>
            </a:gdLst>
            <a:ahLst/>
            <a:rect l="textAreaLeft" t="textAreaTop" r="textAreaRight" b="textAreaBottom"/>
            <a:pathLst>
              <a:path w="936117" h="1368170">
                <a:moveTo>
                  <a:pt x="936117" y="0"/>
                </a:moveTo>
                <a:lnTo>
                  <a:pt x="936117" y="1368170"/>
                </a:lnTo>
                <a:lnTo>
                  <a:pt x="0" y="0"/>
                </a:lnTo>
                <a:lnTo>
                  <a:pt x="936117" y="0"/>
                </a:lnTo>
              </a:path>
            </a:pathLst>
          </a:custGeom>
          <a:solidFill>
            <a:srgbClr val="ffc00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7" name="Freeform 3"/>
          <p:cNvSpPr/>
          <p:nvPr/>
        </p:nvSpPr>
        <p:spPr>
          <a:xfrm>
            <a:off x="7956360" y="1700640"/>
            <a:ext cx="935640" cy="1367640"/>
          </a:xfrm>
          <a:custGeom>
            <a:avLst/>
            <a:gdLst>
              <a:gd name="textAreaLeft" fmla="*/ 0 w 935640"/>
              <a:gd name="textAreaRight" fmla="*/ 936000 w 935640"/>
              <a:gd name="textAreaTop" fmla="*/ 0 h 1367640"/>
              <a:gd name="textAreaBottom" fmla="*/ 1368000 h 1367640"/>
            </a:gdLst>
            <a:ahLst/>
            <a:rect l="textAreaLeft" t="textAreaTop" r="textAreaRight" b="textAreaBottom"/>
            <a:pathLst>
              <a:path w="936117" h="1368170">
                <a:moveTo>
                  <a:pt x="936117" y="0"/>
                </a:moveTo>
                <a:lnTo>
                  <a:pt x="936117" y="1368170"/>
                </a:lnTo>
                <a:lnTo>
                  <a:pt x="0" y="0"/>
                </a:lnTo>
                <a:lnTo>
                  <a:pt x="936117" y="0"/>
                </a:lnTo>
              </a:path>
            </a:pathLst>
          </a:custGeom>
          <a:solidFill>
            <a:srgbClr val="ffc00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1"/>
          <a:stretch/>
        </p:blipFill>
        <p:spPr>
          <a:xfrm>
            <a:off x="380880" y="1828800"/>
            <a:ext cx="1536480" cy="19047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"/>
          <p:cNvPicPr/>
          <p:nvPr/>
        </p:nvPicPr>
        <p:blipFill>
          <a:blip r:embed="rId2"/>
          <a:stretch/>
        </p:blipFill>
        <p:spPr>
          <a:xfrm>
            <a:off x="165240" y="6362640"/>
            <a:ext cx="1536480" cy="3934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403440" y="1905120"/>
            <a:ext cx="1536480" cy="18918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362640" y="1828800"/>
            <a:ext cx="1536480" cy="19047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"/>
          <p:cNvPicPr/>
          <p:nvPr/>
        </p:nvPicPr>
        <p:blipFill>
          <a:blip r:embed="rId7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83" name="TextBox 1"/>
          <p:cNvSpPr/>
          <p:nvPr/>
        </p:nvSpPr>
        <p:spPr>
          <a:xfrm>
            <a:off x="3650400" y="5981760"/>
            <a:ext cx="528480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500"/>
              </a:lnSpc>
              <a:tabLst>
                <a:tab algn="l" pos="518148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</a:rPr>
              <a:t>哪些是我所喜闻乐见的事物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5181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5181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51814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7f7f7f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"/>
          <p:cNvSpPr/>
          <p:nvPr/>
        </p:nvSpPr>
        <p:spPr>
          <a:xfrm>
            <a:off x="4040280" y="3873600"/>
            <a:ext cx="1189800" cy="20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299"/>
              </a:lnSpc>
              <a:tabLst>
                <a:tab algn="l" pos="4698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</a:rPr>
              <a:t>用户劢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4698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4698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</a:rPr>
              <a:t>谁来评价我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100"/>
              </a:lnSpc>
              <a:tabLst>
                <a:tab algn="l" pos="4698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</a:rPr>
              <a:t>我想取悦戒影响谁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100"/>
              </a:lnSpc>
              <a:tabLst>
                <a:tab algn="l" pos="4698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</a:rPr>
              <a:t>我在工作和生活中有何障碍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100"/>
              </a:lnSpc>
              <a:tabLst>
                <a:tab algn="l" pos="4698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</a:rPr>
              <a:t>什么对我有影响力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100"/>
              </a:lnSpc>
              <a:tabLst>
                <a:tab algn="l" pos="4698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</a:rPr>
              <a:t>我从哪里获得信息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100"/>
              </a:lnSpc>
              <a:tabLst>
                <a:tab algn="l" pos="4698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</a:rPr>
              <a:t>那些人戒事是可信赖的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7024680" y="3873600"/>
            <a:ext cx="1189800" cy="19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299"/>
              </a:lnSpc>
              <a:tabLst>
                <a:tab algn="l" pos="4698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</a:rPr>
              <a:t>竞争产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4698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tabLst>
                <a:tab algn="l" pos="4698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</a:rPr>
              <a:t>市面上目前有哪些竞争产品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100"/>
              </a:lnSpc>
              <a:tabLst>
                <a:tab algn="l" pos="4698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</a:rPr>
              <a:t>他们在多大程度上引起我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400"/>
              </a:lnSpc>
              <a:tabLst>
                <a:tab algn="l" pos="4698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</a:rPr>
              <a:t>注意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100"/>
              </a:lnSpc>
              <a:tabLst>
                <a:tab algn="l" pos="4698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</a:rPr>
              <a:t>使用他们有哪些好处和坏处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100"/>
              </a:lnSpc>
              <a:tabLst>
                <a:tab algn="l" pos="4698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</a:rPr>
              <a:t>获取他们是否困难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100"/>
              </a:lnSpc>
              <a:tabLst>
                <a:tab algn="l" pos="4698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</a:rPr>
              <a:t>我会如何考虑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"/>
          <p:cNvSpPr/>
          <p:nvPr/>
        </p:nvSpPr>
        <p:spPr>
          <a:xfrm>
            <a:off x="1060920" y="3873600"/>
            <a:ext cx="1281240" cy="20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299"/>
              </a:lnSpc>
              <a:tabLst>
                <a:tab algn="l" pos="2541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</a:rPr>
              <a:t>用户自身定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254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tabLst>
                <a:tab algn="l" pos="25416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</a:rPr>
              <a:t>我的身份是什么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100"/>
              </a:lnSpc>
              <a:tabLst>
                <a:tab algn="l" pos="25416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</a:rPr>
              <a:t>我想成为什么样的人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100"/>
              </a:lnSpc>
              <a:tabLst>
                <a:tab algn="l" pos="25416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</a:rPr>
              <a:t>我注重什么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100"/>
              </a:lnSpc>
              <a:tabLst>
                <a:tab algn="l" pos="25416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</a:rPr>
              <a:t>我如何定义成功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100"/>
              </a:lnSpc>
              <a:tabLst>
                <a:tab algn="l" pos="25416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</a:rPr>
              <a:t>我目前的生活和工作习惯如何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100"/>
              </a:lnSpc>
              <a:tabLst>
                <a:tab algn="l" pos="25416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</a:rPr>
              <a:t>我希望过怎样的生活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"/>
          <p:cNvSpPr/>
          <p:nvPr/>
        </p:nvSpPr>
        <p:spPr>
          <a:xfrm>
            <a:off x="2778840" y="190440"/>
            <a:ext cx="3420720" cy="12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4099"/>
              </a:lnSpc>
              <a:tabLst>
                <a:tab algn="l" pos="152280"/>
              </a:tabLst>
            </a:pPr>
            <a:r>
              <a:rPr b="1" lang="en-US" sz="3190" spc="-1" strike="noStrike">
                <a:solidFill>
                  <a:srgbClr val="000000"/>
                </a:solidFill>
                <a:latin typeface="微软雅黑"/>
              </a:rPr>
              <a:t>1</a:t>
            </a:r>
            <a:r>
              <a:rPr b="0" lang="en-US" sz="319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190" spc="-1" strike="noStrike">
                <a:solidFill>
                  <a:srgbClr val="000000"/>
                </a:solidFill>
                <a:latin typeface="微软雅黑"/>
              </a:rPr>
              <a:t>用户洞察和市场信息收集</a:t>
            </a:r>
            <a:endParaRPr b="0" lang="en-US" sz="319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52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401"/>
              </a:lnSpc>
              <a:tabLst>
                <a:tab algn="l" pos="1522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</a:rPr>
              <a:t>从用户自身定位、用户劢机和市场需求三个方面，通过内外部数据分析、市场调研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100"/>
              </a:lnSpc>
              <a:tabLst>
                <a:tab algn="l" pos="1522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</a:rPr>
              <a:t>方式搜集用户洞察和市场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"/>
          <p:cNvSpPr/>
          <p:nvPr/>
        </p:nvSpPr>
        <p:spPr>
          <a:xfrm>
            <a:off x="909000" y="1816200"/>
            <a:ext cx="365400" cy="11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8600"/>
              </a:lnSpc>
            </a:pPr>
            <a:r>
              <a:rPr b="0" lang="en-US" sz="6600" spc="-1" strike="noStrike" u="sng">
                <a:solidFill>
                  <a:srgbClr val="0000ff"/>
                </a:solidFill>
                <a:uFillTx/>
                <a:latin typeface="Arial Black"/>
                <a:hlinkClick r:id="rId8"/>
              </a:rPr>
              <a:t>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"/>
          <p:cNvSpPr/>
          <p:nvPr/>
        </p:nvSpPr>
        <p:spPr>
          <a:xfrm>
            <a:off x="2493720" y="1714680"/>
            <a:ext cx="24480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100"/>
              </a:lnSpc>
              <a:tabLst>
                <a:tab algn="l" pos="101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</a:rPr>
              <a:t>归属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  <a:tabLst>
                <a:tab algn="l" pos="101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</a:rPr>
              <a:t>感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  <a:tabLst>
                <a:tab algn="l" pos="101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zh-CN" sz="1610" spc="-1" strike="noStrike">
                <a:solidFill>
                  <a:srgbClr val="000000"/>
                </a:solidFill>
                <a:latin typeface="微软雅黑"/>
              </a:rPr>
              <a:t>素</a:t>
            </a:r>
            <a:endParaRPr b="0" lang="en-US" sz="161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"/>
          <p:cNvSpPr/>
          <p:nvPr/>
        </p:nvSpPr>
        <p:spPr>
          <a:xfrm>
            <a:off x="8462520" y="1714680"/>
            <a:ext cx="24480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100"/>
              </a:lnSpc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</a:rPr>
              <a:t>市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</a:rPr>
              <a:t>要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"/>
          <p:cNvSpPr/>
          <p:nvPr/>
        </p:nvSpPr>
        <p:spPr>
          <a:xfrm>
            <a:off x="5465520" y="1714680"/>
            <a:ext cx="24480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100"/>
              </a:lnSpc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</a:rPr>
              <a:t>动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</a:rPr>
              <a:t>要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Freeform 3"/>
          <p:cNvSpPr/>
          <p:nvPr/>
        </p:nvSpPr>
        <p:spPr>
          <a:xfrm>
            <a:off x="0" y="0"/>
            <a:ext cx="9143640" cy="6857640"/>
          </a:xfrm>
          <a:custGeom>
            <a:avLst/>
            <a:gdLst>
              <a:gd name="textAreaLeft" fmla="*/ 0 w 9143640"/>
              <a:gd name="textAreaRight" fmla="*/ 9144000 w 9143640"/>
              <a:gd name="textAreaTop" fmla="*/ 0 h 6857640"/>
              <a:gd name="textAreaBottom" fmla="*/ 6858000 h 6857640"/>
            </a:gdLst>
            <a:ahLst/>
            <a:rect l="textAreaLeft" t="textAreaTop" r="textAreaRight" b="textAreaBottom"/>
            <a:pathLst>
              <a:path w="9144000" h="6858000">
                <a:moveTo>
                  <a:pt x="0" y="6858000"/>
                </a:moveTo>
                <a:lnTo>
                  <a:pt x="9144000" y="6858000"/>
                </a:lnTo>
                <a:lnTo>
                  <a:pt x="9144000" y="0"/>
                </a:lnTo>
                <a:lnTo>
                  <a:pt x="0" y="0"/>
                </a:lnTo>
                <a:lnTo>
                  <a:pt x="0" y="6858000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3" name="Freeform 3"/>
          <p:cNvSpPr/>
          <p:nvPr/>
        </p:nvSpPr>
        <p:spPr>
          <a:xfrm>
            <a:off x="1649520" y="6555240"/>
            <a:ext cx="7080480" cy="21960"/>
          </a:xfrm>
          <a:custGeom>
            <a:avLst/>
            <a:gdLst>
              <a:gd name="textAreaLeft" fmla="*/ 0 w 7080480"/>
              <a:gd name="textAreaRight" fmla="*/ 7080840 w 7080480"/>
              <a:gd name="textAreaTop" fmla="*/ 0 h 21960"/>
              <a:gd name="textAreaBottom" fmla="*/ 22320 h 21960"/>
            </a:gdLst>
            <a:ahLst/>
            <a:rect l="textAreaLeft" t="textAreaTop" r="textAreaRight" b="textAreaBottom"/>
            <a:pathLst>
              <a:path w="7080757" h="22225">
                <a:moveTo>
                  <a:pt x="6350" y="6350"/>
                </a:moveTo>
                <a:lnTo>
                  <a:pt x="7074407" y="6350"/>
                </a:lnTo>
              </a:path>
            </a:pathLst>
          </a:custGeom>
          <a:noFill/>
          <a:ln w="12700">
            <a:solidFill>
              <a:srgbClr val="7f7f7f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22680" bIns="-226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Freeform 3"/>
          <p:cNvSpPr/>
          <p:nvPr/>
        </p:nvSpPr>
        <p:spPr>
          <a:xfrm>
            <a:off x="2180160" y="1636920"/>
            <a:ext cx="4624200" cy="21960"/>
          </a:xfrm>
          <a:custGeom>
            <a:avLst/>
            <a:gdLst>
              <a:gd name="textAreaLeft" fmla="*/ 0 w 4624200"/>
              <a:gd name="textAreaRight" fmla="*/ 4624560 w 4624200"/>
              <a:gd name="textAreaTop" fmla="*/ 0 h 21960"/>
              <a:gd name="textAreaBottom" fmla="*/ 22320 h 21960"/>
            </a:gdLst>
            <a:ahLst/>
            <a:rect l="textAreaLeft" t="textAreaTop" r="textAreaRight" b="textAreaBottom"/>
            <a:pathLst>
              <a:path w="4624451" h="22225">
                <a:moveTo>
                  <a:pt x="6350" y="6350"/>
                </a:moveTo>
                <a:lnTo>
                  <a:pt x="4618100" y="6350"/>
                </a:lnTo>
              </a:path>
            </a:pathLst>
          </a:custGeom>
          <a:noFill/>
          <a:ln w="12700">
            <a:solidFill>
              <a:srgbClr val="000000"/>
            </a:solidFill>
            <a:prstDash val="sysDot"/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22680" bIns="-226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Freeform 3"/>
          <p:cNvSpPr/>
          <p:nvPr/>
        </p:nvSpPr>
        <p:spPr>
          <a:xfrm>
            <a:off x="1187640" y="972000"/>
            <a:ext cx="1439640" cy="1440000"/>
          </a:xfrm>
          <a:custGeom>
            <a:avLst/>
            <a:gdLst>
              <a:gd name="textAreaLeft" fmla="*/ 0 w 1439640"/>
              <a:gd name="textAreaRight" fmla="*/ 1440000 w 1439640"/>
              <a:gd name="textAreaTop" fmla="*/ 0 h 1440000"/>
              <a:gd name="textAreaBottom" fmla="*/ 1440360 h 1440000"/>
            </a:gdLst>
            <a:ahLst/>
            <a:rect l="textAreaLeft" t="textAreaTop" r="textAreaRight" b="textAreaBottom"/>
            <a:pathLst>
              <a:path w="1440129" h="1440180">
                <a:moveTo>
                  <a:pt x="0" y="720090"/>
                </a:moveTo>
                <a:cubicBezTo>
                  <a:pt x="0" y="322325"/>
                  <a:pt x="322402" y="0"/>
                  <a:pt x="720039" y="0"/>
                </a:cubicBezTo>
                <a:cubicBezTo>
                  <a:pt x="720039" y="0"/>
                  <a:pt x="720039" y="0"/>
                  <a:pt x="720039" y="0"/>
                </a:cubicBezTo>
                <a:lnTo>
                  <a:pt x="720039" y="0"/>
                </a:lnTo>
                <a:cubicBezTo>
                  <a:pt x="1117803" y="0"/>
                  <a:pt x="1440129" y="322325"/>
                  <a:pt x="1440129" y="720090"/>
                </a:cubicBezTo>
                <a:cubicBezTo>
                  <a:pt x="1440129" y="720090"/>
                  <a:pt x="1440129" y="720090"/>
                  <a:pt x="1440129" y="720090"/>
                </a:cubicBezTo>
                <a:lnTo>
                  <a:pt x="1440129" y="720090"/>
                </a:lnTo>
                <a:cubicBezTo>
                  <a:pt x="1440129" y="1117727"/>
                  <a:pt x="1117803" y="1440180"/>
                  <a:pt x="720039" y="1440180"/>
                </a:cubicBezTo>
                <a:cubicBezTo>
                  <a:pt x="720039" y="1440180"/>
                  <a:pt x="720039" y="1440180"/>
                  <a:pt x="720039" y="1440180"/>
                </a:cubicBezTo>
                <a:lnTo>
                  <a:pt x="720039" y="1440180"/>
                </a:lnTo>
                <a:cubicBezTo>
                  <a:pt x="322402" y="1440180"/>
                  <a:pt x="0" y="1117727"/>
                  <a:pt x="0" y="720090"/>
                </a:cubicBezTo>
                <a:cubicBezTo>
                  <a:pt x="0" y="720090"/>
                  <a:pt x="0" y="720090"/>
                  <a:pt x="0" y="720090"/>
                </a:cubicBez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6" name="Freeform 3"/>
          <p:cNvSpPr/>
          <p:nvPr/>
        </p:nvSpPr>
        <p:spPr>
          <a:xfrm>
            <a:off x="1149480" y="933840"/>
            <a:ext cx="1515960" cy="1515960"/>
          </a:xfrm>
          <a:custGeom>
            <a:avLst/>
            <a:gdLst>
              <a:gd name="textAreaLeft" fmla="*/ 0 w 1515960"/>
              <a:gd name="textAreaRight" fmla="*/ 1516320 w 1515960"/>
              <a:gd name="textAreaTop" fmla="*/ 0 h 1515960"/>
              <a:gd name="textAreaBottom" fmla="*/ 1516320 h 1515960"/>
            </a:gdLst>
            <a:ahLst/>
            <a:rect l="textAreaLeft" t="textAreaTop" r="textAreaRight" b="textAreaBottom"/>
            <a:pathLst>
              <a:path w="1516329" h="1516380">
                <a:moveTo>
                  <a:pt x="38100" y="758190"/>
                </a:moveTo>
                <a:cubicBezTo>
                  <a:pt x="38100" y="360425"/>
                  <a:pt x="360502" y="38100"/>
                  <a:pt x="758139" y="38100"/>
                </a:cubicBezTo>
                <a:cubicBezTo>
                  <a:pt x="758139" y="38100"/>
                  <a:pt x="758139" y="38100"/>
                  <a:pt x="758139" y="38100"/>
                </a:cubicBezTo>
                <a:lnTo>
                  <a:pt x="758139" y="38100"/>
                </a:lnTo>
                <a:cubicBezTo>
                  <a:pt x="1155903" y="38100"/>
                  <a:pt x="1478229" y="360425"/>
                  <a:pt x="1478229" y="758190"/>
                </a:cubicBezTo>
                <a:cubicBezTo>
                  <a:pt x="1478229" y="758190"/>
                  <a:pt x="1478229" y="758190"/>
                  <a:pt x="1478229" y="758190"/>
                </a:cubicBezTo>
                <a:lnTo>
                  <a:pt x="1478229" y="758190"/>
                </a:lnTo>
                <a:cubicBezTo>
                  <a:pt x="1478229" y="1155827"/>
                  <a:pt x="1155903" y="1478280"/>
                  <a:pt x="758139" y="1478280"/>
                </a:cubicBezTo>
                <a:cubicBezTo>
                  <a:pt x="758139" y="1478280"/>
                  <a:pt x="758139" y="1478280"/>
                  <a:pt x="758139" y="1478280"/>
                </a:cubicBezTo>
                <a:lnTo>
                  <a:pt x="758139" y="1478280"/>
                </a:lnTo>
                <a:cubicBezTo>
                  <a:pt x="360502" y="1478280"/>
                  <a:pt x="38100" y="1155827"/>
                  <a:pt x="38100" y="758190"/>
                </a:cubicBezTo>
                <a:cubicBezTo>
                  <a:pt x="38100" y="758190"/>
                  <a:pt x="38100" y="758190"/>
                  <a:pt x="38100" y="758190"/>
                </a:cubicBezTo>
              </a:path>
            </a:pathLst>
          </a:custGeom>
          <a:noFill/>
          <a:ln w="76200"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7" name="Freeform 3"/>
          <p:cNvSpPr/>
          <p:nvPr/>
        </p:nvSpPr>
        <p:spPr>
          <a:xfrm>
            <a:off x="3820320" y="972000"/>
            <a:ext cx="1440000" cy="1440000"/>
          </a:xfrm>
          <a:custGeom>
            <a:avLst/>
            <a:gdLst>
              <a:gd name="textAreaLeft" fmla="*/ 0 w 1440000"/>
              <a:gd name="textAreaRight" fmla="*/ 1440360 w 1440000"/>
              <a:gd name="textAreaTop" fmla="*/ 0 h 1440000"/>
              <a:gd name="textAreaBottom" fmla="*/ 1440360 h 1440000"/>
            </a:gdLst>
            <a:ahLst/>
            <a:rect l="textAreaLeft" t="textAreaTop" r="textAreaRight" b="textAreaBottom"/>
            <a:pathLst>
              <a:path w="1440180" h="1440180">
                <a:moveTo>
                  <a:pt x="0" y="720090"/>
                </a:moveTo>
                <a:cubicBezTo>
                  <a:pt x="0" y="322325"/>
                  <a:pt x="322453" y="0"/>
                  <a:pt x="720090" y="0"/>
                </a:cubicBezTo>
                <a:cubicBezTo>
                  <a:pt x="720090" y="0"/>
                  <a:pt x="720090" y="0"/>
                  <a:pt x="720090" y="0"/>
                </a:cubicBezTo>
                <a:lnTo>
                  <a:pt x="720090" y="0"/>
                </a:lnTo>
                <a:cubicBezTo>
                  <a:pt x="1117853" y="0"/>
                  <a:pt x="1440179" y="322325"/>
                  <a:pt x="1440179" y="720090"/>
                </a:cubicBezTo>
                <a:cubicBezTo>
                  <a:pt x="1440179" y="720090"/>
                  <a:pt x="1440179" y="720090"/>
                  <a:pt x="1440179" y="720090"/>
                </a:cubicBezTo>
                <a:lnTo>
                  <a:pt x="1440179" y="720090"/>
                </a:lnTo>
                <a:cubicBezTo>
                  <a:pt x="1440179" y="1117727"/>
                  <a:pt x="1117853" y="1440180"/>
                  <a:pt x="720090" y="1440180"/>
                </a:cubicBezTo>
                <a:cubicBezTo>
                  <a:pt x="720090" y="1440180"/>
                  <a:pt x="720090" y="1440180"/>
                  <a:pt x="720090" y="1440180"/>
                </a:cubicBezTo>
                <a:lnTo>
                  <a:pt x="720090" y="1440180"/>
                </a:lnTo>
                <a:cubicBezTo>
                  <a:pt x="322453" y="1440180"/>
                  <a:pt x="0" y="1117727"/>
                  <a:pt x="0" y="720090"/>
                </a:cubicBezTo>
                <a:cubicBezTo>
                  <a:pt x="0" y="720090"/>
                  <a:pt x="0" y="720090"/>
                  <a:pt x="0" y="720090"/>
                </a:cubicBez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8" name="Freeform 3"/>
          <p:cNvSpPr/>
          <p:nvPr/>
        </p:nvSpPr>
        <p:spPr>
          <a:xfrm>
            <a:off x="3782160" y="933840"/>
            <a:ext cx="1515960" cy="1515960"/>
          </a:xfrm>
          <a:custGeom>
            <a:avLst/>
            <a:gdLst>
              <a:gd name="textAreaLeft" fmla="*/ 0 w 1515960"/>
              <a:gd name="textAreaRight" fmla="*/ 1516320 w 1515960"/>
              <a:gd name="textAreaTop" fmla="*/ 0 h 1515960"/>
              <a:gd name="textAreaBottom" fmla="*/ 1516320 h 1515960"/>
            </a:gdLst>
            <a:ahLst/>
            <a:rect l="textAreaLeft" t="textAreaTop" r="textAreaRight" b="textAreaBottom"/>
            <a:pathLst>
              <a:path w="1516380" h="1516380">
                <a:moveTo>
                  <a:pt x="38100" y="758190"/>
                </a:moveTo>
                <a:cubicBezTo>
                  <a:pt x="38100" y="360425"/>
                  <a:pt x="360553" y="38100"/>
                  <a:pt x="758190" y="38100"/>
                </a:cubicBezTo>
                <a:cubicBezTo>
                  <a:pt x="758190" y="38100"/>
                  <a:pt x="758190" y="38100"/>
                  <a:pt x="758190" y="38100"/>
                </a:cubicBezTo>
                <a:lnTo>
                  <a:pt x="758190" y="38100"/>
                </a:lnTo>
                <a:cubicBezTo>
                  <a:pt x="1155953" y="38100"/>
                  <a:pt x="1478279" y="360425"/>
                  <a:pt x="1478279" y="758190"/>
                </a:cubicBezTo>
                <a:cubicBezTo>
                  <a:pt x="1478279" y="758190"/>
                  <a:pt x="1478279" y="758190"/>
                  <a:pt x="1478279" y="758190"/>
                </a:cubicBezTo>
                <a:lnTo>
                  <a:pt x="1478279" y="758190"/>
                </a:lnTo>
                <a:cubicBezTo>
                  <a:pt x="1478279" y="1155827"/>
                  <a:pt x="1155953" y="1478280"/>
                  <a:pt x="758190" y="1478280"/>
                </a:cubicBezTo>
                <a:cubicBezTo>
                  <a:pt x="758190" y="1478280"/>
                  <a:pt x="758190" y="1478280"/>
                  <a:pt x="758190" y="1478280"/>
                </a:cubicBezTo>
                <a:lnTo>
                  <a:pt x="758190" y="1478280"/>
                </a:lnTo>
                <a:cubicBezTo>
                  <a:pt x="360553" y="1478280"/>
                  <a:pt x="38100" y="1155827"/>
                  <a:pt x="38100" y="758190"/>
                </a:cubicBezTo>
                <a:cubicBezTo>
                  <a:pt x="38100" y="758190"/>
                  <a:pt x="38100" y="758190"/>
                  <a:pt x="38100" y="758190"/>
                </a:cubicBezTo>
              </a:path>
            </a:pathLst>
          </a:custGeom>
          <a:noFill/>
          <a:ln w="76200"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9" name="Freeform 3"/>
          <p:cNvSpPr/>
          <p:nvPr/>
        </p:nvSpPr>
        <p:spPr>
          <a:xfrm>
            <a:off x="6372360" y="972000"/>
            <a:ext cx="1440000" cy="1440000"/>
          </a:xfrm>
          <a:custGeom>
            <a:avLst/>
            <a:gdLst>
              <a:gd name="textAreaLeft" fmla="*/ 0 w 1440000"/>
              <a:gd name="textAreaRight" fmla="*/ 1440360 w 1440000"/>
              <a:gd name="textAreaTop" fmla="*/ 0 h 1440000"/>
              <a:gd name="textAreaBottom" fmla="*/ 1440360 h 1440000"/>
            </a:gdLst>
            <a:ahLst/>
            <a:rect l="textAreaLeft" t="textAreaTop" r="textAreaRight" b="textAreaBottom"/>
            <a:pathLst>
              <a:path w="1440180" h="1440180">
                <a:moveTo>
                  <a:pt x="0" y="720090"/>
                </a:moveTo>
                <a:cubicBezTo>
                  <a:pt x="0" y="322325"/>
                  <a:pt x="322326" y="0"/>
                  <a:pt x="720090" y="0"/>
                </a:cubicBezTo>
                <a:cubicBezTo>
                  <a:pt x="720090" y="0"/>
                  <a:pt x="720090" y="0"/>
                  <a:pt x="720090" y="0"/>
                </a:cubicBezTo>
                <a:lnTo>
                  <a:pt x="720090" y="0"/>
                </a:lnTo>
                <a:cubicBezTo>
                  <a:pt x="1117727" y="0"/>
                  <a:pt x="1440180" y="322325"/>
                  <a:pt x="1440180" y="720090"/>
                </a:cubicBezTo>
                <a:cubicBezTo>
                  <a:pt x="1440180" y="720090"/>
                  <a:pt x="1440180" y="720090"/>
                  <a:pt x="1440180" y="720090"/>
                </a:cubicBezTo>
                <a:lnTo>
                  <a:pt x="1440180" y="720090"/>
                </a:lnTo>
                <a:cubicBezTo>
                  <a:pt x="1440180" y="1117727"/>
                  <a:pt x="1117727" y="1440180"/>
                  <a:pt x="720090" y="1440180"/>
                </a:cubicBezTo>
                <a:cubicBezTo>
                  <a:pt x="720090" y="1440180"/>
                  <a:pt x="720090" y="1440180"/>
                  <a:pt x="720090" y="1440180"/>
                </a:cubicBezTo>
                <a:lnTo>
                  <a:pt x="720090" y="1440180"/>
                </a:lnTo>
                <a:cubicBezTo>
                  <a:pt x="322326" y="1440180"/>
                  <a:pt x="0" y="1117727"/>
                  <a:pt x="0" y="720090"/>
                </a:cubicBezTo>
                <a:cubicBezTo>
                  <a:pt x="0" y="720090"/>
                  <a:pt x="0" y="720090"/>
                  <a:pt x="0" y="720090"/>
                </a:cubicBez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0" name="Freeform 3"/>
          <p:cNvSpPr/>
          <p:nvPr/>
        </p:nvSpPr>
        <p:spPr>
          <a:xfrm>
            <a:off x="6334200" y="933840"/>
            <a:ext cx="1515960" cy="1515960"/>
          </a:xfrm>
          <a:custGeom>
            <a:avLst/>
            <a:gdLst>
              <a:gd name="textAreaLeft" fmla="*/ 0 w 1515960"/>
              <a:gd name="textAreaRight" fmla="*/ 1516320 w 1515960"/>
              <a:gd name="textAreaTop" fmla="*/ 0 h 1515960"/>
              <a:gd name="textAreaBottom" fmla="*/ 1516320 h 1515960"/>
            </a:gdLst>
            <a:ahLst/>
            <a:rect l="textAreaLeft" t="textAreaTop" r="textAreaRight" b="textAreaBottom"/>
            <a:pathLst>
              <a:path w="1516380" h="1516380">
                <a:moveTo>
                  <a:pt x="38100" y="758190"/>
                </a:moveTo>
                <a:cubicBezTo>
                  <a:pt x="38100" y="360425"/>
                  <a:pt x="360426" y="38100"/>
                  <a:pt x="758190" y="38100"/>
                </a:cubicBezTo>
                <a:cubicBezTo>
                  <a:pt x="758190" y="38100"/>
                  <a:pt x="758190" y="38100"/>
                  <a:pt x="758190" y="38100"/>
                </a:cubicBezTo>
                <a:lnTo>
                  <a:pt x="758190" y="38100"/>
                </a:lnTo>
                <a:cubicBezTo>
                  <a:pt x="1155827" y="38100"/>
                  <a:pt x="1478280" y="360425"/>
                  <a:pt x="1478280" y="758190"/>
                </a:cubicBezTo>
                <a:cubicBezTo>
                  <a:pt x="1478280" y="758190"/>
                  <a:pt x="1478280" y="758190"/>
                  <a:pt x="1478280" y="758190"/>
                </a:cubicBezTo>
                <a:lnTo>
                  <a:pt x="1478280" y="758190"/>
                </a:lnTo>
                <a:cubicBezTo>
                  <a:pt x="1478280" y="1155827"/>
                  <a:pt x="1155827" y="1478280"/>
                  <a:pt x="758190" y="1478280"/>
                </a:cubicBezTo>
                <a:cubicBezTo>
                  <a:pt x="758190" y="1478280"/>
                  <a:pt x="758190" y="1478280"/>
                  <a:pt x="758190" y="1478280"/>
                </a:cubicBezTo>
                <a:lnTo>
                  <a:pt x="758190" y="1478280"/>
                </a:lnTo>
                <a:cubicBezTo>
                  <a:pt x="360426" y="1478280"/>
                  <a:pt x="38100" y="1155827"/>
                  <a:pt x="38100" y="758190"/>
                </a:cubicBezTo>
                <a:cubicBezTo>
                  <a:pt x="38100" y="758190"/>
                  <a:pt x="38100" y="758190"/>
                  <a:pt x="38100" y="758190"/>
                </a:cubicBezTo>
              </a:path>
            </a:pathLst>
          </a:custGeom>
          <a:noFill/>
          <a:ln w="76200"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1" name="Freeform 3"/>
          <p:cNvSpPr/>
          <p:nvPr/>
        </p:nvSpPr>
        <p:spPr>
          <a:xfrm>
            <a:off x="1259640" y="4026600"/>
            <a:ext cx="1439640" cy="1440000"/>
          </a:xfrm>
          <a:custGeom>
            <a:avLst/>
            <a:gdLst>
              <a:gd name="textAreaLeft" fmla="*/ 0 w 1439640"/>
              <a:gd name="textAreaRight" fmla="*/ 1440000 w 1439640"/>
              <a:gd name="textAreaTop" fmla="*/ 0 h 1440000"/>
              <a:gd name="textAreaBottom" fmla="*/ 1440360 h 1440000"/>
            </a:gdLst>
            <a:ahLst/>
            <a:rect l="textAreaLeft" t="textAreaTop" r="textAreaRight" b="textAreaBottom"/>
            <a:pathLst>
              <a:path w="1440129" h="1440180">
                <a:moveTo>
                  <a:pt x="0" y="720090"/>
                </a:moveTo>
                <a:cubicBezTo>
                  <a:pt x="0" y="322453"/>
                  <a:pt x="322402" y="0"/>
                  <a:pt x="720039" y="0"/>
                </a:cubicBezTo>
                <a:cubicBezTo>
                  <a:pt x="720039" y="0"/>
                  <a:pt x="720039" y="0"/>
                  <a:pt x="720039" y="0"/>
                </a:cubicBezTo>
                <a:lnTo>
                  <a:pt x="720039" y="0"/>
                </a:lnTo>
                <a:cubicBezTo>
                  <a:pt x="1117803" y="0"/>
                  <a:pt x="1440129" y="322453"/>
                  <a:pt x="1440129" y="720090"/>
                </a:cubicBezTo>
                <a:cubicBezTo>
                  <a:pt x="1440129" y="720090"/>
                  <a:pt x="1440129" y="720090"/>
                  <a:pt x="1440129" y="720090"/>
                </a:cubicBezTo>
                <a:lnTo>
                  <a:pt x="1440129" y="720090"/>
                </a:lnTo>
                <a:cubicBezTo>
                  <a:pt x="1440129" y="1117727"/>
                  <a:pt x="1117803" y="1440180"/>
                  <a:pt x="720039" y="1440180"/>
                </a:cubicBezTo>
                <a:cubicBezTo>
                  <a:pt x="720039" y="1440180"/>
                  <a:pt x="720039" y="1440180"/>
                  <a:pt x="720039" y="1440180"/>
                </a:cubicBezTo>
                <a:lnTo>
                  <a:pt x="720039" y="1440180"/>
                </a:lnTo>
                <a:cubicBezTo>
                  <a:pt x="322402" y="1440180"/>
                  <a:pt x="0" y="1117727"/>
                  <a:pt x="0" y="720090"/>
                </a:cubicBezTo>
                <a:cubicBezTo>
                  <a:pt x="0" y="720090"/>
                  <a:pt x="0" y="720090"/>
                  <a:pt x="0" y="720090"/>
                </a:cubicBez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2" name="Freeform 3"/>
          <p:cNvSpPr/>
          <p:nvPr/>
        </p:nvSpPr>
        <p:spPr>
          <a:xfrm>
            <a:off x="1221480" y="3988440"/>
            <a:ext cx="1515960" cy="1515960"/>
          </a:xfrm>
          <a:custGeom>
            <a:avLst/>
            <a:gdLst>
              <a:gd name="textAreaLeft" fmla="*/ 0 w 1515960"/>
              <a:gd name="textAreaRight" fmla="*/ 1516320 w 1515960"/>
              <a:gd name="textAreaTop" fmla="*/ 0 h 1515960"/>
              <a:gd name="textAreaBottom" fmla="*/ 1516320 h 1515960"/>
            </a:gdLst>
            <a:ahLst/>
            <a:rect l="textAreaLeft" t="textAreaTop" r="textAreaRight" b="textAreaBottom"/>
            <a:pathLst>
              <a:path w="1516329" h="1516380">
                <a:moveTo>
                  <a:pt x="38100" y="758190"/>
                </a:moveTo>
                <a:cubicBezTo>
                  <a:pt x="38100" y="360553"/>
                  <a:pt x="360502" y="38100"/>
                  <a:pt x="758139" y="38100"/>
                </a:cubicBezTo>
                <a:cubicBezTo>
                  <a:pt x="758139" y="38100"/>
                  <a:pt x="758139" y="38100"/>
                  <a:pt x="758139" y="38100"/>
                </a:cubicBezTo>
                <a:lnTo>
                  <a:pt x="758139" y="38100"/>
                </a:lnTo>
                <a:cubicBezTo>
                  <a:pt x="1155903" y="38100"/>
                  <a:pt x="1478229" y="360553"/>
                  <a:pt x="1478229" y="758190"/>
                </a:cubicBezTo>
                <a:cubicBezTo>
                  <a:pt x="1478229" y="758190"/>
                  <a:pt x="1478229" y="758190"/>
                  <a:pt x="1478229" y="758190"/>
                </a:cubicBezTo>
                <a:lnTo>
                  <a:pt x="1478229" y="758190"/>
                </a:lnTo>
                <a:cubicBezTo>
                  <a:pt x="1478229" y="1155827"/>
                  <a:pt x="1155903" y="1478280"/>
                  <a:pt x="758139" y="1478280"/>
                </a:cubicBezTo>
                <a:cubicBezTo>
                  <a:pt x="758139" y="1478280"/>
                  <a:pt x="758139" y="1478280"/>
                  <a:pt x="758139" y="1478280"/>
                </a:cubicBezTo>
                <a:lnTo>
                  <a:pt x="758139" y="1478280"/>
                </a:lnTo>
                <a:cubicBezTo>
                  <a:pt x="360502" y="1478280"/>
                  <a:pt x="38100" y="1155827"/>
                  <a:pt x="38100" y="758190"/>
                </a:cubicBezTo>
                <a:cubicBezTo>
                  <a:pt x="38100" y="758190"/>
                  <a:pt x="38100" y="758190"/>
                  <a:pt x="38100" y="758190"/>
                </a:cubicBezTo>
              </a:path>
            </a:pathLst>
          </a:custGeom>
          <a:noFill/>
          <a:ln w="76200"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3" name="Freeform 3"/>
          <p:cNvSpPr/>
          <p:nvPr/>
        </p:nvSpPr>
        <p:spPr>
          <a:xfrm>
            <a:off x="6444360" y="4032360"/>
            <a:ext cx="1439640" cy="1439640"/>
          </a:xfrm>
          <a:custGeom>
            <a:avLst/>
            <a:gdLst>
              <a:gd name="textAreaLeft" fmla="*/ 0 w 1439640"/>
              <a:gd name="textAreaRight" fmla="*/ 1440000 w 1439640"/>
              <a:gd name="textAreaTop" fmla="*/ 0 h 1439640"/>
              <a:gd name="textAreaBottom" fmla="*/ 1440000 h 1439640"/>
            </a:gdLst>
            <a:ahLst/>
            <a:rect l="textAreaLeft" t="textAreaTop" r="textAreaRight" b="textAreaBottom"/>
            <a:pathLst>
              <a:path w="1440179" h="1440053">
                <a:moveTo>
                  <a:pt x="0" y="719963"/>
                </a:moveTo>
                <a:cubicBezTo>
                  <a:pt x="0" y="322326"/>
                  <a:pt x="322325" y="0"/>
                  <a:pt x="720089" y="0"/>
                </a:cubicBezTo>
                <a:cubicBezTo>
                  <a:pt x="720089" y="0"/>
                  <a:pt x="720089" y="0"/>
                  <a:pt x="720089" y="0"/>
                </a:cubicBezTo>
                <a:lnTo>
                  <a:pt x="720089" y="0"/>
                </a:lnTo>
                <a:cubicBezTo>
                  <a:pt x="1117726" y="0"/>
                  <a:pt x="1440179" y="322326"/>
                  <a:pt x="1440179" y="719963"/>
                </a:cubicBezTo>
                <a:cubicBezTo>
                  <a:pt x="1440179" y="719963"/>
                  <a:pt x="1440179" y="719963"/>
                  <a:pt x="1440179" y="719963"/>
                </a:cubicBezTo>
                <a:lnTo>
                  <a:pt x="1440179" y="719963"/>
                </a:lnTo>
                <a:cubicBezTo>
                  <a:pt x="1440179" y="1117727"/>
                  <a:pt x="1117726" y="1440053"/>
                  <a:pt x="720089" y="1440053"/>
                </a:cubicBezTo>
                <a:cubicBezTo>
                  <a:pt x="720089" y="1440053"/>
                  <a:pt x="720089" y="1440053"/>
                  <a:pt x="720089" y="1440053"/>
                </a:cubicBezTo>
                <a:lnTo>
                  <a:pt x="720089" y="1440053"/>
                </a:lnTo>
                <a:cubicBezTo>
                  <a:pt x="322325" y="1440053"/>
                  <a:pt x="0" y="1117727"/>
                  <a:pt x="0" y="719963"/>
                </a:cubicBezTo>
                <a:cubicBezTo>
                  <a:pt x="0" y="719963"/>
                  <a:pt x="0" y="719963"/>
                  <a:pt x="0" y="719963"/>
                </a:cubicBez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4" name="Freeform 3"/>
          <p:cNvSpPr/>
          <p:nvPr/>
        </p:nvSpPr>
        <p:spPr>
          <a:xfrm>
            <a:off x="6406200" y="3994560"/>
            <a:ext cx="1515960" cy="1515960"/>
          </a:xfrm>
          <a:custGeom>
            <a:avLst/>
            <a:gdLst>
              <a:gd name="textAreaLeft" fmla="*/ 0 w 1515960"/>
              <a:gd name="textAreaRight" fmla="*/ 1516320 w 1515960"/>
              <a:gd name="textAreaTop" fmla="*/ 0 h 1515960"/>
              <a:gd name="textAreaBottom" fmla="*/ 1516320 h 1515960"/>
            </a:gdLst>
            <a:ahLst/>
            <a:rect l="textAreaLeft" t="textAreaTop" r="textAreaRight" b="textAreaBottom"/>
            <a:pathLst>
              <a:path w="1516379" h="1516253">
                <a:moveTo>
                  <a:pt x="38100" y="758063"/>
                </a:moveTo>
                <a:cubicBezTo>
                  <a:pt x="38100" y="360426"/>
                  <a:pt x="360425" y="38100"/>
                  <a:pt x="758189" y="38100"/>
                </a:cubicBezTo>
                <a:cubicBezTo>
                  <a:pt x="758189" y="38100"/>
                  <a:pt x="758189" y="38100"/>
                  <a:pt x="758189" y="38100"/>
                </a:cubicBezTo>
                <a:lnTo>
                  <a:pt x="758189" y="38100"/>
                </a:lnTo>
                <a:cubicBezTo>
                  <a:pt x="1155826" y="38100"/>
                  <a:pt x="1478279" y="360426"/>
                  <a:pt x="1478279" y="758063"/>
                </a:cubicBezTo>
                <a:cubicBezTo>
                  <a:pt x="1478279" y="758063"/>
                  <a:pt x="1478279" y="758063"/>
                  <a:pt x="1478279" y="758063"/>
                </a:cubicBezTo>
                <a:lnTo>
                  <a:pt x="1478279" y="758063"/>
                </a:lnTo>
                <a:cubicBezTo>
                  <a:pt x="1478279" y="1155827"/>
                  <a:pt x="1155826" y="1478153"/>
                  <a:pt x="758189" y="1478153"/>
                </a:cubicBezTo>
                <a:cubicBezTo>
                  <a:pt x="758189" y="1478153"/>
                  <a:pt x="758189" y="1478153"/>
                  <a:pt x="758189" y="1478153"/>
                </a:cubicBezTo>
                <a:lnTo>
                  <a:pt x="758189" y="1478153"/>
                </a:lnTo>
                <a:cubicBezTo>
                  <a:pt x="360425" y="1478153"/>
                  <a:pt x="38100" y="1155827"/>
                  <a:pt x="38100" y="758063"/>
                </a:cubicBezTo>
                <a:cubicBezTo>
                  <a:pt x="38100" y="758063"/>
                  <a:pt x="38100" y="758063"/>
                  <a:pt x="38100" y="758063"/>
                </a:cubicBezTo>
              </a:path>
            </a:pathLst>
          </a:custGeom>
          <a:noFill/>
          <a:ln w="76200"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5" name="Freeform 3"/>
          <p:cNvSpPr/>
          <p:nvPr/>
        </p:nvSpPr>
        <p:spPr>
          <a:xfrm>
            <a:off x="1115640" y="5580360"/>
            <a:ext cx="1728000" cy="584280"/>
          </a:xfrm>
          <a:custGeom>
            <a:avLst/>
            <a:gdLst>
              <a:gd name="textAreaLeft" fmla="*/ 0 w 1728000"/>
              <a:gd name="textAreaRight" fmla="*/ 1728360 w 1728000"/>
              <a:gd name="textAreaTop" fmla="*/ 0 h 584280"/>
              <a:gd name="textAreaBottom" fmla="*/ 584640 h 584280"/>
            </a:gdLst>
            <a:ahLst/>
            <a:rect l="textAreaLeft" t="textAreaTop" r="textAreaRight" b="textAreaBottom"/>
            <a:pathLst>
              <a:path w="1728216" h="584771">
                <a:moveTo>
                  <a:pt x="0" y="584771"/>
                </a:moveTo>
                <a:lnTo>
                  <a:pt x="1728215" y="584771"/>
                </a:lnTo>
                <a:lnTo>
                  <a:pt x="1728215" y="0"/>
                </a:lnTo>
                <a:lnTo>
                  <a:pt x="0" y="0"/>
                </a:lnTo>
                <a:lnTo>
                  <a:pt x="0" y="584771"/>
                </a:lnTo>
              </a:path>
            </a:pathLst>
          </a:custGeom>
          <a:solidFill>
            <a:srgbClr val="00000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6" name="Freeform 3"/>
          <p:cNvSpPr/>
          <p:nvPr/>
        </p:nvSpPr>
        <p:spPr>
          <a:xfrm>
            <a:off x="6300360" y="5589360"/>
            <a:ext cx="1872000" cy="584280"/>
          </a:xfrm>
          <a:custGeom>
            <a:avLst/>
            <a:gdLst>
              <a:gd name="textAreaLeft" fmla="*/ 0 w 1872000"/>
              <a:gd name="textAreaRight" fmla="*/ 1872360 w 1872000"/>
              <a:gd name="textAreaTop" fmla="*/ 0 h 584280"/>
              <a:gd name="textAreaBottom" fmla="*/ 584640 h 584280"/>
            </a:gdLst>
            <a:ahLst/>
            <a:rect l="textAreaLeft" t="textAreaTop" r="textAreaRight" b="textAreaBottom"/>
            <a:pathLst>
              <a:path w="1872234" h="584771">
                <a:moveTo>
                  <a:pt x="0" y="584771"/>
                </a:moveTo>
                <a:lnTo>
                  <a:pt x="1872234" y="584771"/>
                </a:lnTo>
                <a:lnTo>
                  <a:pt x="1872234" y="0"/>
                </a:lnTo>
                <a:lnTo>
                  <a:pt x="0" y="0"/>
                </a:lnTo>
                <a:lnTo>
                  <a:pt x="0" y="584771"/>
                </a:lnTo>
              </a:path>
            </a:pathLst>
          </a:custGeom>
          <a:solidFill>
            <a:srgbClr val="00000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7" name="Freeform 3"/>
          <p:cNvSpPr/>
          <p:nvPr/>
        </p:nvSpPr>
        <p:spPr>
          <a:xfrm>
            <a:off x="1133280" y="2495160"/>
            <a:ext cx="1602720" cy="21960"/>
          </a:xfrm>
          <a:custGeom>
            <a:avLst/>
            <a:gdLst>
              <a:gd name="textAreaLeft" fmla="*/ 0 w 1602720"/>
              <a:gd name="textAreaRight" fmla="*/ 1603080 w 1602720"/>
              <a:gd name="textAreaTop" fmla="*/ 0 h 21960"/>
              <a:gd name="textAreaBottom" fmla="*/ 22320 h 21960"/>
            </a:gdLst>
            <a:ahLst/>
            <a:rect l="textAreaLeft" t="textAreaTop" r="textAreaRight" b="textAreaBottom"/>
            <a:pathLst>
              <a:path w="1603006" h="22225">
                <a:moveTo>
                  <a:pt x="6350" y="6350"/>
                </a:moveTo>
                <a:lnTo>
                  <a:pt x="1596656" y="6350"/>
                </a:lnTo>
              </a:path>
            </a:pathLst>
          </a:custGeom>
          <a:noFill/>
          <a:ln w="12700">
            <a:solidFill>
              <a:srgbClr val="000000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22680" bIns="-226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Freeform 3"/>
          <p:cNvSpPr/>
          <p:nvPr/>
        </p:nvSpPr>
        <p:spPr>
          <a:xfrm>
            <a:off x="1133280" y="3053880"/>
            <a:ext cx="1602720" cy="21960"/>
          </a:xfrm>
          <a:custGeom>
            <a:avLst/>
            <a:gdLst>
              <a:gd name="textAreaLeft" fmla="*/ 0 w 1602720"/>
              <a:gd name="textAreaRight" fmla="*/ 1603080 w 1602720"/>
              <a:gd name="textAreaTop" fmla="*/ 0 h 21960"/>
              <a:gd name="textAreaBottom" fmla="*/ 22320 h 21960"/>
            </a:gdLst>
            <a:ahLst/>
            <a:rect l="textAreaLeft" t="textAreaTop" r="textAreaRight" b="textAreaBottom"/>
            <a:pathLst>
              <a:path w="1603006" h="22225">
                <a:moveTo>
                  <a:pt x="6350" y="6350"/>
                </a:moveTo>
                <a:lnTo>
                  <a:pt x="1596656" y="6350"/>
                </a:lnTo>
              </a:path>
            </a:pathLst>
          </a:custGeom>
          <a:noFill/>
          <a:ln w="12700">
            <a:solidFill>
              <a:srgbClr val="000000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22680" bIns="-226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Freeform 3"/>
          <p:cNvSpPr/>
          <p:nvPr/>
        </p:nvSpPr>
        <p:spPr>
          <a:xfrm>
            <a:off x="3773520" y="2495160"/>
            <a:ext cx="1602720" cy="21960"/>
          </a:xfrm>
          <a:custGeom>
            <a:avLst/>
            <a:gdLst>
              <a:gd name="textAreaLeft" fmla="*/ 0 w 1602720"/>
              <a:gd name="textAreaRight" fmla="*/ 1603080 w 1602720"/>
              <a:gd name="textAreaTop" fmla="*/ 0 h 21960"/>
              <a:gd name="textAreaBottom" fmla="*/ 22320 h 21960"/>
            </a:gdLst>
            <a:ahLst/>
            <a:rect l="textAreaLeft" t="textAreaTop" r="textAreaRight" b="textAreaBottom"/>
            <a:pathLst>
              <a:path w="1602994" h="22225">
                <a:moveTo>
                  <a:pt x="6350" y="6350"/>
                </a:moveTo>
                <a:lnTo>
                  <a:pt x="1596644" y="6350"/>
                </a:lnTo>
              </a:path>
            </a:pathLst>
          </a:custGeom>
          <a:noFill/>
          <a:ln w="12700">
            <a:solidFill>
              <a:srgbClr val="000000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22680" bIns="-226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Freeform 3"/>
          <p:cNvSpPr/>
          <p:nvPr/>
        </p:nvSpPr>
        <p:spPr>
          <a:xfrm>
            <a:off x="3773520" y="3053880"/>
            <a:ext cx="1602720" cy="21960"/>
          </a:xfrm>
          <a:custGeom>
            <a:avLst/>
            <a:gdLst>
              <a:gd name="textAreaLeft" fmla="*/ 0 w 1602720"/>
              <a:gd name="textAreaRight" fmla="*/ 1603080 w 1602720"/>
              <a:gd name="textAreaTop" fmla="*/ 0 h 21960"/>
              <a:gd name="textAreaBottom" fmla="*/ 22320 h 21960"/>
            </a:gdLst>
            <a:ahLst/>
            <a:rect l="textAreaLeft" t="textAreaTop" r="textAreaRight" b="textAreaBottom"/>
            <a:pathLst>
              <a:path w="1602994" h="22225">
                <a:moveTo>
                  <a:pt x="6350" y="6350"/>
                </a:moveTo>
                <a:lnTo>
                  <a:pt x="1596644" y="6350"/>
                </a:lnTo>
              </a:path>
            </a:pathLst>
          </a:custGeom>
          <a:noFill/>
          <a:ln w="12700">
            <a:solidFill>
              <a:srgbClr val="000000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22680" bIns="-226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Freeform 3"/>
          <p:cNvSpPr/>
          <p:nvPr/>
        </p:nvSpPr>
        <p:spPr>
          <a:xfrm>
            <a:off x="6293880" y="2495160"/>
            <a:ext cx="1602720" cy="21960"/>
          </a:xfrm>
          <a:custGeom>
            <a:avLst/>
            <a:gdLst>
              <a:gd name="textAreaLeft" fmla="*/ 0 w 1602720"/>
              <a:gd name="textAreaRight" fmla="*/ 1603080 w 1602720"/>
              <a:gd name="textAreaTop" fmla="*/ 0 h 21960"/>
              <a:gd name="textAreaBottom" fmla="*/ 22320 h 21960"/>
            </a:gdLst>
            <a:ahLst/>
            <a:rect l="textAreaLeft" t="textAreaTop" r="textAreaRight" b="textAreaBottom"/>
            <a:pathLst>
              <a:path w="1602994" h="22225">
                <a:moveTo>
                  <a:pt x="6350" y="6350"/>
                </a:moveTo>
                <a:lnTo>
                  <a:pt x="1596644" y="6350"/>
                </a:lnTo>
              </a:path>
            </a:pathLst>
          </a:custGeom>
          <a:noFill/>
          <a:ln w="12700">
            <a:solidFill>
              <a:srgbClr val="000000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22680" bIns="-226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Freeform 3"/>
          <p:cNvSpPr/>
          <p:nvPr/>
        </p:nvSpPr>
        <p:spPr>
          <a:xfrm>
            <a:off x="6293880" y="3053880"/>
            <a:ext cx="1602720" cy="21960"/>
          </a:xfrm>
          <a:custGeom>
            <a:avLst/>
            <a:gdLst>
              <a:gd name="textAreaLeft" fmla="*/ 0 w 1602720"/>
              <a:gd name="textAreaRight" fmla="*/ 1603080 w 1602720"/>
              <a:gd name="textAreaTop" fmla="*/ 0 h 21960"/>
              <a:gd name="textAreaBottom" fmla="*/ 22320 h 21960"/>
            </a:gdLst>
            <a:ahLst/>
            <a:rect l="textAreaLeft" t="textAreaTop" r="textAreaRight" b="textAreaBottom"/>
            <a:pathLst>
              <a:path w="1602994" h="22225">
                <a:moveTo>
                  <a:pt x="6350" y="6350"/>
                </a:moveTo>
                <a:lnTo>
                  <a:pt x="1596644" y="6350"/>
                </a:lnTo>
              </a:path>
            </a:pathLst>
          </a:custGeom>
          <a:noFill/>
          <a:ln w="12700">
            <a:solidFill>
              <a:srgbClr val="000000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22680" bIns="-226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Freeform 3"/>
          <p:cNvSpPr/>
          <p:nvPr/>
        </p:nvSpPr>
        <p:spPr>
          <a:xfrm>
            <a:off x="3276000" y="4509000"/>
            <a:ext cx="431640" cy="431640"/>
          </a:xfrm>
          <a:custGeom>
            <a:avLst/>
            <a:gdLst>
              <a:gd name="textAreaLeft" fmla="*/ 0 w 431640"/>
              <a:gd name="textAreaRight" fmla="*/ 432000 w 431640"/>
              <a:gd name="textAreaTop" fmla="*/ 0 h 431640"/>
              <a:gd name="textAreaBottom" fmla="*/ 432000 h 431640"/>
            </a:gdLst>
            <a:ahLst/>
            <a:rect l="textAreaLeft" t="textAreaTop" r="textAreaRight" b="textAreaBottom"/>
            <a:pathLst>
              <a:path w="432054" h="432054">
                <a:moveTo>
                  <a:pt x="216027" y="432054"/>
                </a:moveTo>
                <a:lnTo>
                  <a:pt x="216027" y="323977"/>
                </a:lnTo>
                <a:lnTo>
                  <a:pt x="0" y="323977"/>
                </a:lnTo>
                <a:lnTo>
                  <a:pt x="0" y="107950"/>
                </a:lnTo>
                <a:lnTo>
                  <a:pt x="216027" y="107950"/>
                </a:lnTo>
                <a:lnTo>
                  <a:pt x="216027" y="0"/>
                </a:lnTo>
                <a:lnTo>
                  <a:pt x="432053" y="216027"/>
                </a:lnTo>
                <a:lnTo>
                  <a:pt x="216027" y="432054"/>
                </a:lnTo>
              </a:path>
            </a:pathLst>
          </a:custGeom>
          <a:solidFill>
            <a:srgbClr val="7f7f7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4" name="Freeform 3"/>
          <p:cNvSpPr/>
          <p:nvPr/>
        </p:nvSpPr>
        <p:spPr>
          <a:xfrm>
            <a:off x="3256920" y="4489920"/>
            <a:ext cx="469800" cy="469800"/>
          </a:xfrm>
          <a:custGeom>
            <a:avLst/>
            <a:gdLst>
              <a:gd name="textAreaLeft" fmla="*/ 0 w 469800"/>
              <a:gd name="textAreaRight" fmla="*/ 470160 w 469800"/>
              <a:gd name="textAreaTop" fmla="*/ 0 h 469800"/>
              <a:gd name="textAreaBottom" fmla="*/ 470160 h 469800"/>
            </a:gdLst>
            <a:ahLst/>
            <a:rect l="textAreaLeft" t="textAreaTop" r="textAreaRight" b="textAreaBottom"/>
            <a:pathLst>
              <a:path w="470154" h="470154">
                <a:moveTo>
                  <a:pt x="235077" y="451104"/>
                </a:moveTo>
                <a:lnTo>
                  <a:pt x="235077" y="343027"/>
                </a:lnTo>
                <a:lnTo>
                  <a:pt x="19050" y="343027"/>
                </a:lnTo>
                <a:lnTo>
                  <a:pt x="19050" y="127000"/>
                </a:lnTo>
                <a:lnTo>
                  <a:pt x="235077" y="127000"/>
                </a:lnTo>
                <a:lnTo>
                  <a:pt x="235077" y="19050"/>
                </a:lnTo>
                <a:lnTo>
                  <a:pt x="451103" y="235077"/>
                </a:lnTo>
                <a:lnTo>
                  <a:pt x="235077" y="451104"/>
                </a:lnTo>
              </a:path>
            </a:pathLst>
          </a:custGeom>
          <a:noFill/>
          <a:ln w="38100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5" name="Freeform 3"/>
          <p:cNvSpPr/>
          <p:nvPr/>
        </p:nvSpPr>
        <p:spPr>
          <a:xfrm>
            <a:off x="5652000" y="4509000"/>
            <a:ext cx="431640" cy="431640"/>
          </a:xfrm>
          <a:custGeom>
            <a:avLst/>
            <a:gdLst>
              <a:gd name="textAreaLeft" fmla="*/ 0 w 431640"/>
              <a:gd name="textAreaRight" fmla="*/ 432000 w 431640"/>
              <a:gd name="textAreaTop" fmla="*/ 0 h 431640"/>
              <a:gd name="textAreaBottom" fmla="*/ 432000 h 431640"/>
            </a:gdLst>
            <a:ahLst/>
            <a:rect l="textAreaLeft" t="textAreaTop" r="textAreaRight" b="textAreaBottom"/>
            <a:pathLst>
              <a:path w="432054" h="432054">
                <a:moveTo>
                  <a:pt x="216027" y="432054"/>
                </a:moveTo>
                <a:lnTo>
                  <a:pt x="216027" y="323977"/>
                </a:lnTo>
                <a:lnTo>
                  <a:pt x="0" y="323977"/>
                </a:lnTo>
                <a:lnTo>
                  <a:pt x="0" y="107950"/>
                </a:lnTo>
                <a:lnTo>
                  <a:pt x="216027" y="107950"/>
                </a:lnTo>
                <a:lnTo>
                  <a:pt x="216027" y="0"/>
                </a:lnTo>
                <a:lnTo>
                  <a:pt x="432054" y="216027"/>
                </a:lnTo>
                <a:lnTo>
                  <a:pt x="216027" y="432054"/>
                </a:lnTo>
              </a:path>
            </a:pathLst>
          </a:custGeom>
          <a:solidFill>
            <a:srgbClr val="7f7f7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6" name="Freeform 3"/>
          <p:cNvSpPr/>
          <p:nvPr/>
        </p:nvSpPr>
        <p:spPr>
          <a:xfrm>
            <a:off x="5632920" y="4489920"/>
            <a:ext cx="469800" cy="469800"/>
          </a:xfrm>
          <a:custGeom>
            <a:avLst/>
            <a:gdLst>
              <a:gd name="textAreaLeft" fmla="*/ 0 w 469800"/>
              <a:gd name="textAreaRight" fmla="*/ 470160 w 469800"/>
              <a:gd name="textAreaTop" fmla="*/ 0 h 469800"/>
              <a:gd name="textAreaBottom" fmla="*/ 470160 h 469800"/>
            </a:gdLst>
            <a:ahLst/>
            <a:rect l="textAreaLeft" t="textAreaTop" r="textAreaRight" b="textAreaBottom"/>
            <a:pathLst>
              <a:path w="470154" h="470154">
                <a:moveTo>
                  <a:pt x="235077" y="451104"/>
                </a:moveTo>
                <a:lnTo>
                  <a:pt x="235077" y="343027"/>
                </a:lnTo>
                <a:lnTo>
                  <a:pt x="19050" y="343027"/>
                </a:lnTo>
                <a:lnTo>
                  <a:pt x="19050" y="127000"/>
                </a:lnTo>
                <a:lnTo>
                  <a:pt x="235077" y="127000"/>
                </a:lnTo>
                <a:lnTo>
                  <a:pt x="235077" y="19050"/>
                </a:lnTo>
                <a:lnTo>
                  <a:pt x="451104" y="235077"/>
                </a:lnTo>
                <a:lnTo>
                  <a:pt x="235077" y="451104"/>
                </a:lnTo>
              </a:path>
            </a:pathLst>
          </a:custGeom>
          <a:noFill/>
          <a:ln w="38100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17" name="Picture 3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44520" y="1104840"/>
            <a:ext cx="1320480" cy="13204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" descr=""/>
          <p:cNvPicPr/>
          <p:nvPr/>
        </p:nvPicPr>
        <p:blipFill>
          <a:blip r:embed="rId3"/>
          <a:stretch/>
        </p:blipFill>
        <p:spPr>
          <a:xfrm>
            <a:off x="3772080" y="914400"/>
            <a:ext cx="1510920" cy="15109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" descr=""/>
          <p:cNvPicPr/>
          <p:nvPr/>
        </p:nvPicPr>
        <p:blipFill>
          <a:blip r:embed="rId4"/>
          <a:stretch/>
        </p:blipFill>
        <p:spPr>
          <a:xfrm>
            <a:off x="6502320" y="1104840"/>
            <a:ext cx="1180800" cy="11808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"/>
          <p:cNvPicPr/>
          <p:nvPr/>
        </p:nvPicPr>
        <p:blipFill>
          <a:blip r:embed="rId5"/>
          <a:stretch/>
        </p:blipFill>
        <p:spPr>
          <a:xfrm>
            <a:off x="1168560" y="3048120"/>
            <a:ext cx="101160" cy="12571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" descr=""/>
          <p:cNvPicPr/>
          <p:nvPr/>
        </p:nvPicPr>
        <p:blipFill>
          <a:blip r:embed="rId6"/>
          <a:stretch/>
        </p:blipFill>
        <p:spPr>
          <a:xfrm>
            <a:off x="1397160" y="3048120"/>
            <a:ext cx="6426000" cy="26287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3" descr=""/>
          <p:cNvPicPr/>
          <p:nvPr/>
        </p:nvPicPr>
        <p:blipFill>
          <a:blip r:embed="rId7"/>
          <a:stretch/>
        </p:blipFill>
        <p:spPr>
          <a:xfrm>
            <a:off x="165240" y="6362640"/>
            <a:ext cx="1536480" cy="3934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"/>
          <p:cNvPicPr/>
          <p:nvPr/>
        </p:nvPicPr>
        <p:blipFill>
          <a:blip r:embed="rId8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24" name="TextBox 1"/>
          <p:cNvSpPr/>
          <p:nvPr/>
        </p:nvSpPr>
        <p:spPr>
          <a:xfrm>
            <a:off x="8826120" y="6464160"/>
            <a:ext cx="10188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400"/>
              </a:lnSpc>
            </a:pPr>
            <a:r>
              <a:rPr b="0" lang="en-US" sz="1600" spc="-1" strike="noStrike">
                <a:solidFill>
                  <a:srgbClr val="7f7f7f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1"/>
          <p:cNvSpPr/>
          <p:nvPr/>
        </p:nvSpPr>
        <p:spPr>
          <a:xfrm>
            <a:off x="966600" y="190440"/>
            <a:ext cx="353952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4099"/>
              </a:lnSpc>
            </a:pPr>
            <a:r>
              <a:rPr b="1" lang="en-US" sz="3190" spc="-1" strike="noStrike">
                <a:solidFill>
                  <a:srgbClr val="000000"/>
                </a:solidFill>
                <a:latin typeface="微软雅黑"/>
              </a:rPr>
              <a:t>2-1</a:t>
            </a:r>
            <a:r>
              <a:rPr b="0" lang="en-US" sz="319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190" spc="-1" strike="noStrike">
                <a:solidFill>
                  <a:srgbClr val="000000"/>
                </a:solidFill>
                <a:latin typeface="微软雅黑"/>
              </a:rPr>
              <a:t>品牌年度传播方案思路</a:t>
            </a:r>
            <a:endParaRPr b="0" lang="en-US" sz="319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1"/>
          <p:cNvSpPr/>
          <p:nvPr/>
        </p:nvSpPr>
        <p:spPr>
          <a:xfrm>
            <a:off x="4119120" y="2489040"/>
            <a:ext cx="981360" cy="371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100"/>
              </a:lnSpc>
              <a:tabLst>
                <a:tab algn="l" pos="43164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</a:rPr>
              <a:t>竞争对手的市场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  <a:tabLst>
                <a:tab algn="l" pos="43164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</a:rPr>
              <a:t>传播劢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431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431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431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431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431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431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431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431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431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431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431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431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431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431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431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431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431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431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431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431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01"/>
              </a:lnSpc>
              <a:tabLst>
                <a:tab algn="l" pos="431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</a:rPr>
              <a:t>品牌营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100"/>
              </a:lnSpc>
              <a:tabLst>
                <a:tab algn="l" pos="431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</a:rPr>
              <a:t>整体目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"/>
          <p:cNvSpPr/>
          <p:nvPr/>
        </p:nvSpPr>
        <p:spPr>
          <a:xfrm>
            <a:off x="1452240" y="2502000"/>
            <a:ext cx="981720" cy="364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100"/>
              </a:lnSpc>
              <a:tabLst>
                <a:tab algn="l" pos="127080"/>
                <a:tab algn="l" pos="33012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</a:rPr>
              <a:t>用户使用行为的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  <a:tabLst>
                <a:tab algn="l" pos="127080"/>
                <a:tab algn="l" pos="33012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</a:rPr>
              <a:t>化和新需求发展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27080"/>
                <a:tab algn="l" pos="330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27080"/>
                <a:tab algn="l" pos="330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27080"/>
                <a:tab algn="l" pos="330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27080"/>
                <a:tab algn="l" pos="330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27080"/>
                <a:tab algn="l" pos="330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27080"/>
                <a:tab algn="l" pos="330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27080"/>
                <a:tab algn="l" pos="330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27080"/>
                <a:tab algn="l" pos="330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27080"/>
                <a:tab algn="l" pos="330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27080"/>
                <a:tab algn="l" pos="330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27080"/>
                <a:tab algn="l" pos="330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27080"/>
                <a:tab algn="l" pos="330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27080"/>
                <a:tab algn="l" pos="330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27080"/>
                <a:tab algn="l" pos="330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27080"/>
                <a:tab algn="l" pos="330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27080"/>
                <a:tab algn="l" pos="330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27080"/>
                <a:tab algn="l" pos="330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27080"/>
                <a:tab algn="l" pos="330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27080"/>
                <a:tab algn="l" pos="330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27080"/>
                <a:tab algn="l" pos="330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401"/>
              </a:lnSpc>
              <a:tabLst>
                <a:tab algn="l" pos="127080"/>
                <a:tab algn="l" pos="330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</a:rPr>
              <a:t>留给产品和品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  <a:tabLst>
                <a:tab algn="l" pos="127080"/>
                <a:tab algn="l" pos="330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</a:rPr>
              <a:t>的切入机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1"/>
          <p:cNvSpPr/>
          <p:nvPr/>
        </p:nvSpPr>
        <p:spPr>
          <a:xfrm>
            <a:off x="6676920" y="2502000"/>
            <a:ext cx="1098360" cy="36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100"/>
              </a:lnSpc>
              <a:tabLst>
                <a:tab algn="l" pos="13968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</a:rPr>
              <a:t>整个市场发展不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  <a:tabLst>
                <a:tab algn="l" pos="13968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</a:rPr>
              <a:t>类进化趋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3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3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3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3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3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3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3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3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3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3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3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3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3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3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3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3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3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3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3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3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139680"/>
              </a:tabLst>
            </a:pPr>
            <a:r>
              <a:rPr b="1" lang="zh-CN" sz="1610" spc="-1" strike="noStrike">
                <a:solidFill>
                  <a:srgbClr val="ffffff"/>
                </a:solidFill>
                <a:latin typeface="微软雅黑"/>
              </a:rPr>
              <a:t>整体目标实现方式、</a:t>
            </a:r>
            <a:endParaRPr b="0" lang="en-US" sz="161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  <a:tabLst>
                <a:tab algn="l" pos="13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</a:rPr>
              <a:t>途径、投入预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reeform 3"/>
          <p:cNvSpPr/>
          <p:nvPr/>
        </p:nvSpPr>
        <p:spPr>
          <a:xfrm>
            <a:off x="0" y="0"/>
            <a:ext cx="9143640" cy="6857640"/>
          </a:xfrm>
          <a:custGeom>
            <a:avLst/>
            <a:gdLst>
              <a:gd name="textAreaLeft" fmla="*/ 0 w 9143640"/>
              <a:gd name="textAreaRight" fmla="*/ 9144000 w 9143640"/>
              <a:gd name="textAreaTop" fmla="*/ 0 h 6857640"/>
              <a:gd name="textAreaBottom" fmla="*/ 6858000 h 6857640"/>
            </a:gdLst>
            <a:ahLst/>
            <a:rect l="textAreaLeft" t="textAreaTop" r="textAreaRight" b="textAreaBottom"/>
            <a:pathLst>
              <a:path w="9144000" h="6858000">
                <a:moveTo>
                  <a:pt x="0" y="6858000"/>
                </a:moveTo>
                <a:lnTo>
                  <a:pt x="9144000" y="6858000"/>
                </a:lnTo>
                <a:lnTo>
                  <a:pt x="9144000" y="0"/>
                </a:lnTo>
                <a:lnTo>
                  <a:pt x="0" y="0"/>
                </a:lnTo>
                <a:lnTo>
                  <a:pt x="0" y="6858000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0" name="Freeform 3"/>
          <p:cNvSpPr/>
          <p:nvPr/>
        </p:nvSpPr>
        <p:spPr>
          <a:xfrm>
            <a:off x="1649520" y="6555240"/>
            <a:ext cx="7080480" cy="21960"/>
          </a:xfrm>
          <a:custGeom>
            <a:avLst/>
            <a:gdLst>
              <a:gd name="textAreaLeft" fmla="*/ 0 w 7080480"/>
              <a:gd name="textAreaRight" fmla="*/ 7080840 w 7080480"/>
              <a:gd name="textAreaTop" fmla="*/ 0 h 21960"/>
              <a:gd name="textAreaBottom" fmla="*/ 22320 h 21960"/>
            </a:gdLst>
            <a:ahLst/>
            <a:rect l="textAreaLeft" t="textAreaTop" r="textAreaRight" b="textAreaBottom"/>
            <a:pathLst>
              <a:path w="7080757" h="22225">
                <a:moveTo>
                  <a:pt x="6350" y="6350"/>
                </a:moveTo>
                <a:lnTo>
                  <a:pt x="7074407" y="6350"/>
                </a:lnTo>
              </a:path>
            </a:pathLst>
          </a:custGeom>
          <a:noFill/>
          <a:ln w="12700">
            <a:solidFill>
              <a:srgbClr val="7f7f7f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22680" bIns="-226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3" descr=""/>
          <p:cNvPicPr/>
          <p:nvPr/>
        </p:nvPicPr>
        <p:blipFill>
          <a:blip r:embed="rId1"/>
          <a:stretch/>
        </p:blipFill>
        <p:spPr>
          <a:xfrm>
            <a:off x="165240" y="749160"/>
            <a:ext cx="8876880" cy="60447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33" name="TextBox 1"/>
          <p:cNvSpPr/>
          <p:nvPr/>
        </p:nvSpPr>
        <p:spPr>
          <a:xfrm>
            <a:off x="8826120" y="6464160"/>
            <a:ext cx="10188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400"/>
              </a:lnSpc>
            </a:pPr>
            <a:r>
              <a:rPr b="0" lang="en-US" sz="1600" spc="-1" strike="noStrike">
                <a:solidFill>
                  <a:srgbClr val="7f7f7f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1"/>
          <p:cNvSpPr/>
          <p:nvPr/>
        </p:nvSpPr>
        <p:spPr>
          <a:xfrm>
            <a:off x="1122840" y="190440"/>
            <a:ext cx="402732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4099"/>
              </a:lnSpc>
            </a:pPr>
            <a:r>
              <a:rPr b="1" lang="en-US" sz="3190" spc="-1" strike="noStrike">
                <a:solidFill>
                  <a:srgbClr val="000000"/>
                </a:solidFill>
                <a:latin typeface="微软雅黑"/>
              </a:rPr>
              <a:t>2-2</a:t>
            </a:r>
            <a:r>
              <a:rPr b="0" lang="en-US" sz="319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190" spc="-1" strike="noStrike">
                <a:solidFill>
                  <a:srgbClr val="000000"/>
                </a:solidFill>
                <a:latin typeface="微软雅黑"/>
              </a:rPr>
              <a:t>品牌年度传播方案撰写模板</a:t>
            </a:r>
            <a:endParaRPr b="0" lang="en-US" sz="319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165240" y="6577200"/>
            <a:ext cx="5036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3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4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38" name="TextBox 1"/>
          <p:cNvSpPr/>
          <p:nvPr/>
        </p:nvSpPr>
        <p:spPr>
          <a:xfrm>
            <a:off x="8826120" y="6464160"/>
            <a:ext cx="10188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400"/>
              </a:lnSpc>
            </a:pPr>
            <a:r>
              <a:rPr b="0" lang="en-US" sz="1600" spc="-1" strike="noStrike">
                <a:solidFill>
                  <a:srgbClr val="7f7f7f"/>
                </a:solidFill>
                <a:latin typeface="Times New Roman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1"/>
          <p:cNvSpPr/>
          <p:nvPr/>
        </p:nvSpPr>
        <p:spPr>
          <a:xfrm>
            <a:off x="1226520" y="5168880"/>
            <a:ext cx="127980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800"/>
              </a:lnSpc>
              <a:tabLst>
                <a:tab algn="l" pos="279360"/>
              </a:tabLst>
            </a:pPr>
            <a:r>
              <a:rPr b="1" lang="zh-CN" sz="1390" spc="-1" strike="noStrike">
                <a:solidFill>
                  <a:srgbClr val="ffffff"/>
                </a:solidFill>
                <a:latin typeface="微软雅黑"/>
              </a:rPr>
              <a:t>如何应对？</a:t>
            </a:r>
            <a:endParaRPr b="0" lang="en-US" sz="139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tabLst>
                <a:tab algn="l" pos="279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-</a:t>
            </a:r>
            <a:r>
              <a:rPr b="1" lang="zh-CN" sz="1200" spc="-1" strike="noStrike">
                <a:solidFill>
                  <a:srgbClr val="000000"/>
                </a:solidFill>
                <a:latin typeface="微软雅黑"/>
              </a:rPr>
              <a:t>用户访谈了解真实情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279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-</a:t>
            </a:r>
            <a:r>
              <a:rPr b="1" lang="zh-CN" sz="1200" spc="-1" strike="noStrike">
                <a:solidFill>
                  <a:srgbClr val="000000"/>
                </a:solidFill>
                <a:latin typeface="微软雅黑"/>
              </a:rPr>
              <a:t>改善产品戒服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400"/>
              </a:lnSpc>
              <a:tabLst>
                <a:tab algn="l" pos="279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-</a:t>
            </a:r>
            <a:r>
              <a:rPr b="1" lang="zh-CN" sz="1200" spc="-1" strike="noStrike">
                <a:solidFill>
                  <a:srgbClr val="000000"/>
                </a:solidFill>
                <a:latin typeface="微软雅黑"/>
              </a:rPr>
              <a:t>增加接触点渠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400"/>
              </a:lnSpc>
              <a:tabLst>
                <a:tab algn="l" pos="279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-</a:t>
            </a:r>
            <a:r>
              <a:rPr b="1" lang="zh-CN" sz="1200" spc="-1" strike="noStrike">
                <a:solidFill>
                  <a:srgbClr val="000000"/>
                </a:solidFill>
                <a:latin typeface="微软雅黑"/>
              </a:rPr>
              <a:t>扩大宣传，应对竞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1"/>
          <p:cNvSpPr/>
          <p:nvPr/>
        </p:nvSpPr>
        <p:spPr>
          <a:xfrm>
            <a:off x="5535000" y="4178160"/>
            <a:ext cx="854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800"/>
              </a:lnSpc>
            </a:pPr>
            <a:r>
              <a:rPr b="1" lang="zh-CN" sz="1390" spc="-1" strike="noStrike">
                <a:solidFill>
                  <a:srgbClr val="000000"/>
                </a:solidFill>
                <a:latin typeface="微软雅黑"/>
              </a:rPr>
              <a:t>是否仍能按原计</a:t>
            </a:r>
            <a:endParaRPr b="0" lang="en-US" sz="139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</a:pPr>
            <a:r>
              <a:rPr b="1" lang="zh-CN" sz="1390" spc="-1" strike="noStrike">
                <a:solidFill>
                  <a:srgbClr val="000000"/>
                </a:solidFill>
                <a:latin typeface="微软雅黑"/>
              </a:rPr>
              <a:t>划完成既定目标？</a:t>
            </a:r>
            <a:endParaRPr b="0" lang="en-US" sz="139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1"/>
          <p:cNvSpPr/>
          <p:nvPr/>
        </p:nvSpPr>
        <p:spPr>
          <a:xfrm>
            <a:off x="5846400" y="5181480"/>
            <a:ext cx="155304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800"/>
              </a:lnSpc>
              <a:tabLst>
                <a:tab algn="l" pos="279360"/>
              </a:tabLst>
            </a:pPr>
            <a:r>
              <a:rPr b="1" lang="zh-CN" sz="1390" spc="-1" strike="noStrike">
                <a:solidFill>
                  <a:srgbClr val="ffffff"/>
                </a:solidFill>
                <a:latin typeface="微软雅黑"/>
              </a:rPr>
              <a:t>品牌经理不上级协商，选择</a:t>
            </a:r>
            <a:endParaRPr b="0" lang="en-US" sz="139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279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390" spc="-1" strike="noStrike">
                <a:solidFill>
                  <a:srgbClr val="000000"/>
                </a:solidFill>
                <a:latin typeface="微软雅黑"/>
              </a:rPr>
              <a:t>-</a:t>
            </a:r>
            <a:r>
              <a:rPr b="1" lang="zh-CN" sz="1390" spc="-1" strike="noStrike">
                <a:solidFill>
                  <a:srgbClr val="000000"/>
                </a:solidFill>
                <a:latin typeface="微软雅黑"/>
              </a:rPr>
              <a:t>延长期限</a:t>
            </a:r>
            <a:endParaRPr b="0" lang="en-US" sz="139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  <a:tabLst>
                <a:tab algn="l" pos="279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390" spc="-1" strike="noStrike">
                <a:solidFill>
                  <a:srgbClr val="000000"/>
                </a:solidFill>
                <a:latin typeface="微软雅黑"/>
              </a:rPr>
              <a:t>-</a:t>
            </a:r>
            <a:r>
              <a:rPr b="1" lang="zh-CN" sz="1390" spc="-1" strike="noStrike">
                <a:solidFill>
                  <a:srgbClr val="000000"/>
                </a:solidFill>
                <a:latin typeface="微软雅黑"/>
              </a:rPr>
              <a:t>增加资源投入</a:t>
            </a:r>
            <a:endParaRPr b="0" lang="en-US" sz="139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279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390" spc="-1" strike="noStrike">
                <a:solidFill>
                  <a:srgbClr val="000000"/>
                </a:solidFill>
                <a:latin typeface="微软雅黑"/>
              </a:rPr>
              <a:t>-</a:t>
            </a:r>
            <a:r>
              <a:rPr b="1" lang="zh-CN" sz="1390" spc="-1" strike="noStrike">
                <a:solidFill>
                  <a:srgbClr val="000000"/>
                </a:solidFill>
                <a:latin typeface="微软雅黑"/>
              </a:rPr>
              <a:t>调整计划内容</a:t>
            </a:r>
            <a:endParaRPr b="0" lang="en-US" sz="139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279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390" spc="-1" strike="noStrike">
                <a:solidFill>
                  <a:srgbClr val="000000"/>
                </a:solidFill>
                <a:latin typeface="微软雅黑"/>
              </a:rPr>
              <a:t>-</a:t>
            </a:r>
            <a:r>
              <a:rPr b="1" lang="zh-CN" sz="1390" spc="-1" strike="noStrike">
                <a:solidFill>
                  <a:srgbClr val="000000"/>
                </a:solidFill>
                <a:latin typeface="微软雅黑"/>
              </a:rPr>
              <a:t>终止计划并制定补救方案</a:t>
            </a:r>
            <a:endParaRPr b="0" lang="en-US" sz="139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1"/>
          <p:cNvSpPr/>
          <p:nvPr/>
        </p:nvSpPr>
        <p:spPr>
          <a:xfrm>
            <a:off x="7215480" y="3009960"/>
            <a:ext cx="961200" cy="11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299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</a:rPr>
              <a:t>品牌经理继续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1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</a:rPr>
              <a:t>切跟踪品牌推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1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</a:rPr>
              <a:t>项目执行的过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1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</a:rPr>
              <a:t>以及结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1"/>
          <p:cNvSpPr/>
          <p:nvPr/>
        </p:nvSpPr>
        <p:spPr>
          <a:xfrm>
            <a:off x="769680" y="190440"/>
            <a:ext cx="268920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4099"/>
              </a:lnSpc>
            </a:pPr>
            <a:r>
              <a:rPr b="1" lang="en-US" sz="3190" spc="-1" strike="noStrike">
                <a:solidFill>
                  <a:srgbClr val="000000"/>
                </a:solidFill>
                <a:latin typeface="微软雅黑"/>
              </a:rPr>
              <a:t>3</a:t>
            </a:r>
            <a:r>
              <a:rPr b="0" lang="en-US" sz="319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190" spc="-1" strike="noStrike">
                <a:solidFill>
                  <a:srgbClr val="000000"/>
                </a:solidFill>
                <a:latin typeface="微软雅黑"/>
              </a:rPr>
              <a:t>品牌推广执行监控</a:t>
            </a:r>
            <a:endParaRPr b="0" lang="en-US" sz="319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1"/>
          <p:cNvSpPr/>
          <p:nvPr/>
        </p:nvSpPr>
        <p:spPr>
          <a:xfrm>
            <a:off x="1783800" y="977760"/>
            <a:ext cx="182988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899"/>
              </a:lnSpc>
              <a:tabLst>
                <a:tab algn="l" pos="685800"/>
              </a:tabLst>
            </a:pPr>
            <a:r>
              <a:rPr b="0" lang="zh-CN" sz="1990" spc="-1" strike="noStrike">
                <a:solidFill>
                  <a:srgbClr val="ffffff"/>
                </a:solidFill>
                <a:latin typeface="黑体"/>
              </a:rPr>
              <a:t>品牌经理通过数据监测品牌</a:t>
            </a:r>
            <a:endParaRPr b="0" lang="en-US" sz="199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401"/>
              </a:lnSpc>
              <a:tabLst>
                <a:tab algn="l" pos="6858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zh-CN" sz="1990" spc="-1" strike="noStrike">
                <a:solidFill>
                  <a:srgbClr val="ffffff"/>
                </a:solidFill>
                <a:latin typeface="黑体"/>
              </a:rPr>
              <a:t>推广项目执行</a:t>
            </a:r>
            <a:endParaRPr b="0" lang="en-US" sz="199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1"/>
          <p:cNvSpPr/>
          <p:nvPr/>
        </p:nvSpPr>
        <p:spPr>
          <a:xfrm>
            <a:off x="595440" y="1054080"/>
            <a:ext cx="30744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4000"/>
              </a:lnSpc>
            </a:pPr>
            <a:r>
              <a:rPr b="1" lang="en-US" sz="4009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4009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1"/>
          <p:cNvSpPr/>
          <p:nvPr/>
        </p:nvSpPr>
        <p:spPr>
          <a:xfrm>
            <a:off x="5961960" y="977760"/>
            <a:ext cx="152496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899"/>
              </a:lnSpc>
              <a:tabLst>
                <a:tab algn="l" pos="762120"/>
              </a:tabLst>
            </a:pPr>
            <a:r>
              <a:rPr b="0" lang="zh-CN" sz="1990" spc="-1" strike="noStrike">
                <a:solidFill>
                  <a:srgbClr val="ffffff"/>
                </a:solidFill>
                <a:latin typeface="黑体"/>
              </a:rPr>
              <a:t>必要时对项目方案计划</a:t>
            </a:r>
            <a:endParaRPr b="0" lang="en-US" sz="199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401"/>
              </a:lnSpc>
              <a:tabLst>
                <a:tab algn="l" pos="76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zh-CN" sz="1990" spc="-1" strike="noStrike">
                <a:solidFill>
                  <a:srgbClr val="ffffff"/>
                </a:solidFill>
                <a:latin typeface="黑体"/>
              </a:rPr>
              <a:t>进行调整</a:t>
            </a:r>
            <a:endParaRPr b="0" lang="en-US" sz="199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"/>
          <p:cNvSpPr/>
          <p:nvPr/>
        </p:nvSpPr>
        <p:spPr>
          <a:xfrm>
            <a:off x="8379000" y="1054080"/>
            <a:ext cx="28476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4000"/>
              </a:lnSpc>
            </a:pPr>
            <a:r>
              <a:rPr b="1" lang="en-US" sz="4009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4009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1"/>
          <p:cNvSpPr/>
          <p:nvPr/>
        </p:nvSpPr>
        <p:spPr>
          <a:xfrm>
            <a:off x="1108800" y="3238560"/>
            <a:ext cx="2988360" cy="17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400"/>
              </a:lnSpc>
              <a:tabLst>
                <a:tab algn="l" pos="279360"/>
                <a:tab algn="l" pos="558720"/>
                <a:tab algn="l" pos="1447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110" spc="-1" strike="noStrike">
                <a:solidFill>
                  <a:srgbClr val="7f7f7f"/>
                </a:solidFill>
                <a:latin typeface="微软雅黑"/>
              </a:rPr>
              <a:t>1</a:t>
            </a:r>
            <a:r>
              <a:rPr b="0" lang="zh-CN" sz="1110" spc="-1" strike="noStrike">
                <a:solidFill>
                  <a:srgbClr val="7f7f7f"/>
                </a:solidFill>
                <a:latin typeface="微软雅黑"/>
              </a:rPr>
              <a:t>月</a:t>
            </a:r>
            <a:r>
              <a:rPr b="0" lang="en-US" sz="111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1110" spc="-1" strike="noStrike">
                <a:solidFill>
                  <a:srgbClr val="7f7f7f"/>
                </a:solidFill>
                <a:latin typeface="微软雅黑"/>
              </a:rPr>
              <a:t>2</a:t>
            </a:r>
            <a:r>
              <a:rPr b="0" lang="zh-CN" sz="1110" spc="-1" strike="noStrike">
                <a:solidFill>
                  <a:srgbClr val="7f7f7f"/>
                </a:solidFill>
                <a:latin typeface="微软雅黑"/>
              </a:rPr>
              <a:t>月</a:t>
            </a:r>
            <a:r>
              <a:rPr b="0" lang="en-US" sz="111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110" spc="-1" strike="noStrike">
                <a:solidFill>
                  <a:srgbClr val="7f7f7f"/>
                </a:solidFill>
                <a:latin typeface="微软雅黑"/>
              </a:rPr>
              <a:t>3</a:t>
            </a:r>
            <a:r>
              <a:rPr b="0" lang="zh-CN" sz="1110" spc="-1" strike="noStrike">
                <a:solidFill>
                  <a:srgbClr val="7f7f7f"/>
                </a:solidFill>
                <a:latin typeface="微软雅黑"/>
              </a:rPr>
              <a:t>月</a:t>
            </a:r>
            <a:r>
              <a:rPr b="0" lang="en-US" sz="111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1110" spc="-1" strike="noStrike">
                <a:solidFill>
                  <a:srgbClr val="7f7f7f"/>
                </a:solidFill>
                <a:latin typeface="微软雅黑"/>
              </a:rPr>
              <a:t>4</a:t>
            </a:r>
            <a:r>
              <a:rPr b="0" lang="zh-CN" sz="1110" spc="-1" strike="noStrike">
                <a:solidFill>
                  <a:srgbClr val="7f7f7f"/>
                </a:solidFill>
                <a:latin typeface="微软雅黑"/>
              </a:rPr>
              <a:t>月</a:t>
            </a:r>
            <a:endParaRPr b="0" lang="en-US" sz="111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401"/>
              </a:lnSpc>
              <a:tabLst>
                <a:tab algn="l" pos="279360"/>
                <a:tab algn="l" pos="558720"/>
                <a:tab algn="l" pos="1447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zh-CN" sz="1390" spc="-1" strike="noStrike">
                <a:solidFill>
                  <a:srgbClr val="7f7f7f"/>
                </a:solidFill>
                <a:latin typeface="微软雅黑"/>
              </a:rPr>
              <a:t>品牌推广月份</a:t>
            </a:r>
            <a:endParaRPr b="0" lang="en-US" sz="139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279360"/>
                <a:tab algn="l" pos="558720"/>
                <a:tab algn="l" pos="1447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279360"/>
                <a:tab algn="l" pos="558720"/>
                <a:tab algn="l" pos="1447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100"/>
              </a:lnSpc>
              <a:tabLst>
                <a:tab algn="l" pos="279360"/>
                <a:tab algn="l" pos="558720"/>
                <a:tab algn="l" pos="1447920"/>
              </a:tabLst>
            </a:pPr>
            <a:r>
              <a:rPr b="1" lang="zh-CN" sz="1390" spc="-1" strike="noStrike">
                <a:solidFill>
                  <a:srgbClr val="ffffff"/>
                </a:solidFill>
                <a:latin typeface="微软雅黑"/>
              </a:rPr>
              <a:t>为什么品牌推广后一个月业绩便快速下滑？</a:t>
            </a:r>
            <a:endParaRPr b="0" lang="en-US" sz="139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tabLst>
                <a:tab algn="l" pos="279360"/>
                <a:tab algn="l" pos="558720"/>
                <a:tab algn="l" pos="1447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-</a:t>
            </a:r>
            <a:r>
              <a:rPr b="1" lang="zh-CN" sz="1200" spc="-1" strike="noStrike">
                <a:solidFill>
                  <a:srgbClr val="000000"/>
                </a:solidFill>
                <a:latin typeface="微软雅黑"/>
              </a:rPr>
              <a:t>产品本身问题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279360"/>
                <a:tab algn="l" pos="558720"/>
                <a:tab algn="l" pos="1447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-</a:t>
            </a:r>
            <a:r>
              <a:rPr b="1" lang="zh-CN" sz="1200" spc="-1" strike="noStrike">
                <a:solidFill>
                  <a:srgbClr val="000000"/>
                </a:solidFill>
                <a:latin typeface="微软雅黑"/>
              </a:rPr>
              <a:t>接触点宣传没做好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400"/>
              </a:lnSpc>
              <a:tabLst>
                <a:tab algn="l" pos="279360"/>
                <a:tab algn="l" pos="558720"/>
                <a:tab algn="l" pos="1447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-</a:t>
            </a:r>
            <a:r>
              <a:rPr b="1" lang="zh-CN" sz="1200" spc="-1" strike="noStrike">
                <a:solidFill>
                  <a:srgbClr val="000000"/>
                </a:solidFill>
                <a:latin typeface="微软雅黑"/>
              </a:rPr>
              <a:t>竞争对手推出类似产品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1"/>
          <p:cNvSpPr/>
          <p:nvPr/>
        </p:nvSpPr>
        <p:spPr>
          <a:xfrm>
            <a:off x="5837400" y="1866960"/>
            <a:ext cx="96120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800"/>
              </a:lnSpc>
            </a:pPr>
            <a:r>
              <a:rPr b="1" lang="zh-CN" sz="1390" spc="-1" strike="noStrike">
                <a:solidFill>
                  <a:srgbClr val="ffffff"/>
                </a:solidFill>
                <a:latin typeface="微软雅黑"/>
              </a:rPr>
              <a:t>继续执行原计划丌变</a:t>
            </a:r>
            <a:endParaRPr b="0" lang="en-US" sz="139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reeform 3"/>
          <p:cNvSpPr/>
          <p:nvPr/>
        </p:nvSpPr>
        <p:spPr>
          <a:xfrm>
            <a:off x="0" y="0"/>
            <a:ext cx="9143640" cy="6857640"/>
          </a:xfrm>
          <a:custGeom>
            <a:avLst/>
            <a:gdLst>
              <a:gd name="textAreaLeft" fmla="*/ 0 w 9143640"/>
              <a:gd name="textAreaRight" fmla="*/ 9144000 w 9143640"/>
              <a:gd name="textAreaTop" fmla="*/ 0 h 6857640"/>
              <a:gd name="textAreaBottom" fmla="*/ 6858000 h 6857640"/>
            </a:gdLst>
            <a:ahLst/>
            <a:rect l="textAreaLeft" t="textAreaTop" r="textAreaRight" b="textAreaBottom"/>
            <a:pathLst>
              <a:path w="9144000" h="6858000">
                <a:moveTo>
                  <a:pt x="0" y="6858000"/>
                </a:moveTo>
                <a:lnTo>
                  <a:pt x="9144000" y="6858000"/>
                </a:lnTo>
                <a:lnTo>
                  <a:pt x="9144000" y="0"/>
                </a:lnTo>
                <a:lnTo>
                  <a:pt x="0" y="0"/>
                </a:lnTo>
                <a:lnTo>
                  <a:pt x="0" y="6858000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1" name="Freeform 3"/>
          <p:cNvSpPr/>
          <p:nvPr/>
        </p:nvSpPr>
        <p:spPr>
          <a:xfrm>
            <a:off x="1649520" y="6555240"/>
            <a:ext cx="7080480" cy="21960"/>
          </a:xfrm>
          <a:custGeom>
            <a:avLst/>
            <a:gdLst>
              <a:gd name="textAreaLeft" fmla="*/ 0 w 7080480"/>
              <a:gd name="textAreaRight" fmla="*/ 7080840 w 7080480"/>
              <a:gd name="textAreaTop" fmla="*/ 0 h 21960"/>
              <a:gd name="textAreaBottom" fmla="*/ 22320 h 21960"/>
            </a:gdLst>
            <a:ahLst/>
            <a:rect l="textAreaLeft" t="textAreaTop" r="textAreaRight" b="textAreaBottom"/>
            <a:pathLst>
              <a:path w="7080757" h="22225">
                <a:moveTo>
                  <a:pt x="6350" y="6350"/>
                </a:moveTo>
                <a:lnTo>
                  <a:pt x="7074407" y="6350"/>
                </a:lnTo>
              </a:path>
            </a:pathLst>
          </a:custGeom>
          <a:noFill/>
          <a:ln w="12700">
            <a:solidFill>
              <a:srgbClr val="7f7f7f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22680" bIns="-226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Freeform 3"/>
          <p:cNvSpPr/>
          <p:nvPr/>
        </p:nvSpPr>
        <p:spPr>
          <a:xfrm>
            <a:off x="4485600" y="3846600"/>
            <a:ext cx="56880" cy="2108880"/>
          </a:xfrm>
          <a:custGeom>
            <a:avLst/>
            <a:gdLst>
              <a:gd name="textAreaLeft" fmla="*/ 0 w 56880"/>
              <a:gd name="textAreaRight" fmla="*/ 57240 w 56880"/>
              <a:gd name="textAreaTop" fmla="*/ 0 h 2108880"/>
              <a:gd name="textAreaBottom" fmla="*/ 2109240 h 2108880"/>
            </a:gdLst>
            <a:ahLst/>
            <a:rect l="textAreaLeft" t="textAreaTop" r="textAreaRight" b="textAreaBottom"/>
            <a:pathLst>
              <a:path w="57150" h="2109165">
                <a:moveTo>
                  <a:pt x="14287" y="14287"/>
                </a:moveTo>
                <a:lnTo>
                  <a:pt x="14287" y="2094877"/>
                </a:lnTo>
              </a:path>
            </a:pathLst>
          </a:custGeom>
          <a:noFill/>
          <a:ln w="25400">
            <a:solidFill>
              <a:srgbClr val="7f7f7f"/>
            </a:solidFill>
            <a:prstDash val="sysDot"/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Freeform 3"/>
          <p:cNvSpPr/>
          <p:nvPr/>
        </p:nvSpPr>
        <p:spPr>
          <a:xfrm>
            <a:off x="1827720" y="5074560"/>
            <a:ext cx="5342400" cy="810000"/>
          </a:xfrm>
          <a:custGeom>
            <a:avLst/>
            <a:gdLst>
              <a:gd name="textAreaLeft" fmla="*/ 0 w 5342400"/>
              <a:gd name="textAreaRight" fmla="*/ 5342760 w 5342400"/>
              <a:gd name="textAreaTop" fmla="*/ 0 h 810000"/>
              <a:gd name="textAreaBottom" fmla="*/ 810360 h 810000"/>
            </a:gdLst>
            <a:ahLst/>
            <a:rect l="textAreaLeft" t="textAreaTop" r="textAreaRight" b="textAreaBottom"/>
            <a:pathLst>
              <a:path w="5342763" h="810399">
                <a:moveTo>
                  <a:pt x="14287" y="769607"/>
                </a:moveTo>
                <a:lnTo>
                  <a:pt x="14287" y="14287"/>
                </a:lnTo>
                <a:lnTo>
                  <a:pt x="5328475" y="14287"/>
                </a:lnTo>
                <a:lnTo>
                  <a:pt x="5328475" y="796111"/>
                </a:lnTo>
              </a:path>
            </a:pathLst>
          </a:custGeom>
          <a:noFill/>
          <a:ln w="25400">
            <a:solidFill>
              <a:srgbClr val="7f7f7f"/>
            </a:solidFill>
            <a:prstDash val="sysDot"/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Freeform 3"/>
          <p:cNvSpPr/>
          <p:nvPr/>
        </p:nvSpPr>
        <p:spPr>
          <a:xfrm>
            <a:off x="4485600" y="2238480"/>
            <a:ext cx="56880" cy="2108880"/>
          </a:xfrm>
          <a:custGeom>
            <a:avLst/>
            <a:gdLst>
              <a:gd name="textAreaLeft" fmla="*/ 0 w 56880"/>
              <a:gd name="textAreaRight" fmla="*/ 57240 w 56880"/>
              <a:gd name="textAreaTop" fmla="*/ 0 h 2108880"/>
              <a:gd name="textAreaBottom" fmla="*/ 2109240 h 2108880"/>
            </a:gdLst>
            <a:ahLst/>
            <a:rect l="textAreaLeft" t="textAreaTop" r="textAreaRight" b="textAreaBottom"/>
            <a:pathLst>
              <a:path w="57150" h="2109216">
                <a:moveTo>
                  <a:pt x="14287" y="14287"/>
                </a:moveTo>
                <a:lnTo>
                  <a:pt x="14287" y="2094928"/>
                </a:lnTo>
              </a:path>
            </a:pathLst>
          </a:custGeom>
          <a:noFill/>
          <a:ln w="25400">
            <a:solidFill>
              <a:srgbClr val="7f7f7f"/>
            </a:solidFill>
            <a:prstDash val="sysDot"/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Freeform 3"/>
          <p:cNvSpPr/>
          <p:nvPr/>
        </p:nvSpPr>
        <p:spPr>
          <a:xfrm>
            <a:off x="3765600" y="2278440"/>
            <a:ext cx="369720" cy="444600"/>
          </a:xfrm>
          <a:custGeom>
            <a:avLst/>
            <a:gdLst>
              <a:gd name="textAreaLeft" fmla="*/ 0 w 369720"/>
              <a:gd name="textAreaRight" fmla="*/ 370080 w 369720"/>
              <a:gd name="textAreaTop" fmla="*/ 0 h 444600"/>
              <a:gd name="textAreaBottom" fmla="*/ 444960 h 444600"/>
            </a:gdLst>
            <a:ahLst/>
            <a:rect l="textAreaLeft" t="textAreaTop" r="textAreaRight" b="textAreaBottom"/>
            <a:pathLst>
              <a:path w="370077" h="444880">
                <a:moveTo>
                  <a:pt x="355790" y="14287"/>
                </a:moveTo>
                <a:lnTo>
                  <a:pt x="14287" y="430593"/>
                </a:lnTo>
              </a:path>
            </a:pathLst>
          </a:custGeom>
          <a:noFill/>
          <a:ln w="25400">
            <a:solidFill>
              <a:srgbClr val="7f7f7f"/>
            </a:solidFill>
            <a:prstDash val="sysDot"/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Freeform 3"/>
          <p:cNvSpPr/>
          <p:nvPr/>
        </p:nvSpPr>
        <p:spPr>
          <a:xfrm>
            <a:off x="4889160" y="2212200"/>
            <a:ext cx="385920" cy="478800"/>
          </a:xfrm>
          <a:custGeom>
            <a:avLst/>
            <a:gdLst>
              <a:gd name="textAreaLeft" fmla="*/ 0 w 385920"/>
              <a:gd name="textAreaRight" fmla="*/ 386280 w 385920"/>
              <a:gd name="textAreaTop" fmla="*/ 0 h 478800"/>
              <a:gd name="textAreaBottom" fmla="*/ 479160 h 478800"/>
            </a:gdLst>
            <a:ahLst/>
            <a:rect l="textAreaLeft" t="textAreaTop" r="textAreaRight" b="textAreaBottom"/>
            <a:pathLst>
              <a:path w="386334" h="479170">
                <a:moveTo>
                  <a:pt x="14287" y="14287"/>
                </a:moveTo>
                <a:lnTo>
                  <a:pt x="372046" y="464883"/>
                </a:lnTo>
              </a:path>
            </a:pathLst>
          </a:custGeom>
          <a:noFill/>
          <a:ln w="25400">
            <a:solidFill>
              <a:srgbClr val="7f7f7f"/>
            </a:solidFill>
            <a:prstDash val="sysDot"/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Freeform 3"/>
          <p:cNvSpPr/>
          <p:nvPr/>
        </p:nvSpPr>
        <p:spPr>
          <a:xfrm>
            <a:off x="3179520" y="1469880"/>
            <a:ext cx="2546280" cy="56880"/>
          </a:xfrm>
          <a:custGeom>
            <a:avLst/>
            <a:gdLst>
              <a:gd name="textAreaLeft" fmla="*/ 0 w 2546280"/>
              <a:gd name="textAreaRight" fmla="*/ 2546640 w 2546280"/>
              <a:gd name="textAreaTop" fmla="*/ 0 h 56880"/>
              <a:gd name="textAreaBottom" fmla="*/ 57240 h 56880"/>
            </a:gdLst>
            <a:ahLst/>
            <a:rect l="textAreaLeft" t="textAreaTop" r="textAreaRight" b="textAreaBottom"/>
            <a:pathLst>
              <a:path w="2546476" h="57150">
                <a:moveTo>
                  <a:pt x="14287" y="14287"/>
                </a:moveTo>
                <a:lnTo>
                  <a:pt x="2532189" y="14287"/>
                </a:lnTo>
              </a:path>
            </a:pathLst>
          </a:custGeom>
          <a:noFill/>
          <a:ln w="25400">
            <a:solidFill>
              <a:srgbClr val="7f7f7f"/>
            </a:solidFill>
            <a:prstDash val="sysDot"/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2240" bIns="122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Freeform 3"/>
          <p:cNvSpPr/>
          <p:nvPr/>
        </p:nvSpPr>
        <p:spPr>
          <a:xfrm>
            <a:off x="971640" y="1371240"/>
            <a:ext cx="1043280" cy="215640"/>
          </a:xfrm>
          <a:custGeom>
            <a:avLst/>
            <a:gdLst>
              <a:gd name="textAreaLeft" fmla="*/ 0 w 1043280"/>
              <a:gd name="textAreaRight" fmla="*/ 1043640 w 104328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1043635" h="216027">
                <a:moveTo>
                  <a:pt x="0" y="108077"/>
                </a:moveTo>
                <a:cubicBezTo>
                  <a:pt x="0" y="48386"/>
                  <a:pt x="48361" y="0"/>
                  <a:pt x="108013" y="0"/>
                </a:cubicBezTo>
                <a:cubicBezTo>
                  <a:pt x="108013" y="0"/>
                  <a:pt x="108013" y="0"/>
                  <a:pt x="108013" y="0"/>
                </a:cubicBezTo>
                <a:lnTo>
                  <a:pt x="108013" y="0"/>
                </a:lnTo>
                <a:lnTo>
                  <a:pt x="935558" y="0"/>
                </a:lnTo>
                <a:lnTo>
                  <a:pt x="935558" y="0"/>
                </a:lnTo>
                <a:cubicBezTo>
                  <a:pt x="995248" y="0"/>
                  <a:pt x="1043635" y="48386"/>
                  <a:pt x="1043635" y="108077"/>
                </a:cubicBezTo>
                <a:cubicBezTo>
                  <a:pt x="1043635" y="108077"/>
                  <a:pt x="1043635" y="108077"/>
                  <a:pt x="1043635" y="108077"/>
                </a:cubicBezTo>
                <a:lnTo>
                  <a:pt x="1043635" y="108077"/>
                </a:lnTo>
                <a:lnTo>
                  <a:pt x="1043635" y="108077"/>
                </a:lnTo>
                <a:lnTo>
                  <a:pt x="1043635" y="108077"/>
                </a:lnTo>
                <a:cubicBezTo>
                  <a:pt x="1043635" y="167639"/>
                  <a:pt x="995248" y="216027"/>
                  <a:pt x="935558" y="216027"/>
                </a:cubicBezTo>
                <a:cubicBezTo>
                  <a:pt x="935558" y="216027"/>
                  <a:pt x="935558" y="216027"/>
                  <a:pt x="935558" y="216027"/>
                </a:cubicBezTo>
                <a:lnTo>
                  <a:pt x="935558" y="216027"/>
                </a:lnTo>
                <a:lnTo>
                  <a:pt x="108013" y="216027"/>
                </a:lnTo>
                <a:lnTo>
                  <a:pt x="108013" y="216027"/>
                </a:lnTo>
                <a:cubicBezTo>
                  <a:pt x="48361" y="216027"/>
                  <a:pt x="0" y="167639"/>
                  <a:pt x="0" y="108077"/>
                </a:cubicBezTo>
                <a:cubicBezTo>
                  <a:pt x="0" y="108077"/>
                  <a:pt x="0" y="108077"/>
                  <a:pt x="0" y="108077"/>
                </a:cubicBezTo>
              </a:path>
            </a:pathLst>
          </a:custGeom>
          <a:solidFill>
            <a:srgbClr val="7f7f7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9" name="Freeform 3"/>
          <p:cNvSpPr/>
          <p:nvPr/>
        </p:nvSpPr>
        <p:spPr>
          <a:xfrm>
            <a:off x="1944360" y="2523240"/>
            <a:ext cx="1043280" cy="215640"/>
          </a:xfrm>
          <a:custGeom>
            <a:avLst/>
            <a:gdLst>
              <a:gd name="textAreaLeft" fmla="*/ 0 w 1043280"/>
              <a:gd name="textAreaRight" fmla="*/ 1043640 w 104328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1043558" h="216026">
                <a:moveTo>
                  <a:pt x="0" y="108076"/>
                </a:moveTo>
                <a:cubicBezTo>
                  <a:pt x="0" y="48386"/>
                  <a:pt x="48386" y="0"/>
                  <a:pt x="107950" y="0"/>
                </a:cubicBezTo>
                <a:cubicBezTo>
                  <a:pt x="107950" y="0"/>
                  <a:pt x="107950" y="0"/>
                  <a:pt x="107950" y="0"/>
                </a:cubicBezTo>
                <a:lnTo>
                  <a:pt x="107950" y="0"/>
                </a:lnTo>
                <a:lnTo>
                  <a:pt x="935608" y="0"/>
                </a:lnTo>
                <a:lnTo>
                  <a:pt x="935608" y="0"/>
                </a:lnTo>
                <a:cubicBezTo>
                  <a:pt x="995172" y="0"/>
                  <a:pt x="1043558" y="48386"/>
                  <a:pt x="1043558" y="108076"/>
                </a:cubicBezTo>
                <a:cubicBezTo>
                  <a:pt x="1043558" y="108076"/>
                  <a:pt x="1043558" y="108076"/>
                  <a:pt x="1043558" y="108076"/>
                </a:cubicBezTo>
                <a:lnTo>
                  <a:pt x="1043558" y="108076"/>
                </a:lnTo>
                <a:lnTo>
                  <a:pt x="1043558" y="108076"/>
                </a:lnTo>
                <a:lnTo>
                  <a:pt x="1043558" y="108076"/>
                </a:lnTo>
                <a:cubicBezTo>
                  <a:pt x="1043558" y="167639"/>
                  <a:pt x="995172" y="216026"/>
                  <a:pt x="935608" y="216026"/>
                </a:cubicBezTo>
                <a:cubicBezTo>
                  <a:pt x="935608" y="216026"/>
                  <a:pt x="935608" y="216026"/>
                  <a:pt x="935608" y="216026"/>
                </a:cubicBezTo>
                <a:lnTo>
                  <a:pt x="935608" y="216026"/>
                </a:lnTo>
                <a:lnTo>
                  <a:pt x="107950" y="216026"/>
                </a:lnTo>
                <a:lnTo>
                  <a:pt x="107950" y="216026"/>
                </a:lnTo>
                <a:cubicBezTo>
                  <a:pt x="48386" y="216026"/>
                  <a:pt x="0" y="167639"/>
                  <a:pt x="0" y="108076"/>
                </a:cubicBezTo>
                <a:cubicBezTo>
                  <a:pt x="0" y="108076"/>
                  <a:pt x="0" y="108076"/>
                  <a:pt x="0" y="108076"/>
                </a:cubicBezTo>
              </a:path>
            </a:pathLst>
          </a:custGeom>
          <a:solidFill>
            <a:srgbClr val="7f7f7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0" name="Freeform 3"/>
          <p:cNvSpPr/>
          <p:nvPr/>
        </p:nvSpPr>
        <p:spPr>
          <a:xfrm>
            <a:off x="1763640" y="2991600"/>
            <a:ext cx="1043280" cy="215640"/>
          </a:xfrm>
          <a:custGeom>
            <a:avLst/>
            <a:gdLst>
              <a:gd name="textAreaLeft" fmla="*/ 0 w 1043280"/>
              <a:gd name="textAreaRight" fmla="*/ 1043640 w 104328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1043686" h="216026">
                <a:moveTo>
                  <a:pt x="0" y="107950"/>
                </a:moveTo>
                <a:cubicBezTo>
                  <a:pt x="0" y="48260"/>
                  <a:pt x="48386" y="0"/>
                  <a:pt x="108077" y="0"/>
                </a:cubicBezTo>
                <a:cubicBezTo>
                  <a:pt x="108077" y="0"/>
                  <a:pt x="108077" y="0"/>
                  <a:pt x="108077" y="0"/>
                </a:cubicBezTo>
                <a:lnTo>
                  <a:pt x="108077" y="0"/>
                </a:lnTo>
                <a:lnTo>
                  <a:pt x="935608" y="0"/>
                </a:lnTo>
                <a:lnTo>
                  <a:pt x="935608" y="0"/>
                </a:lnTo>
                <a:cubicBezTo>
                  <a:pt x="995299" y="0"/>
                  <a:pt x="1043686" y="48260"/>
                  <a:pt x="1043686" y="107950"/>
                </a:cubicBezTo>
                <a:cubicBezTo>
                  <a:pt x="1043686" y="107950"/>
                  <a:pt x="1043686" y="107950"/>
                  <a:pt x="1043686" y="107950"/>
                </a:cubicBezTo>
                <a:lnTo>
                  <a:pt x="1043686" y="107950"/>
                </a:lnTo>
                <a:lnTo>
                  <a:pt x="1043686" y="107950"/>
                </a:lnTo>
                <a:lnTo>
                  <a:pt x="1043686" y="107950"/>
                </a:lnTo>
                <a:cubicBezTo>
                  <a:pt x="1043686" y="167639"/>
                  <a:pt x="995299" y="216026"/>
                  <a:pt x="935608" y="216026"/>
                </a:cubicBezTo>
                <a:cubicBezTo>
                  <a:pt x="935608" y="216026"/>
                  <a:pt x="935608" y="216026"/>
                  <a:pt x="935608" y="216026"/>
                </a:cubicBezTo>
                <a:lnTo>
                  <a:pt x="935608" y="216026"/>
                </a:lnTo>
                <a:lnTo>
                  <a:pt x="108077" y="216026"/>
                </a:lnTo>
                <a:lnTo>
                  <a:pt x="108077" y="216026"/>
                </a:lnTo>
                <a:cubicBezTo>
                  <a:pt x="48386" y="216026"/>
                  <a:pt x="0" y="167639"/>
                  <a:pt x="0" y="107950"/>
                </a:cubicBezTo>
                <a:cubicBezTo>
                  <a:pt x="0" y="107950"/>
                  <a:pt x="0" y="107950"/>
                  <a:pt x="0" y="107950"/>
                </a:cubicBezTo>
              </a:path>
            </a:pathLst>
          </a:custGeom>
          <a:solidFill>
            <a:srgbClr val="7f7f7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1" name="Freeform 3"/>
          <p:cNvSpPr/>
          <p:nvPr/>
        </p:nvSpPr>
        <p:spPr>
          <a:xfrm>
            <a:off x="1944360" y="3459600"/>
            <a:ext cx="1043280" cy="215640"/>
          </a:xfrm>
          <a:custGeom>
            <a:avLst/>
            <a:gdLst>
              <a:gd name="textAreaLeft" fmla="*/ 0 w 1043280"/>
              <a:gd name="textAreaRight" fmla="*/ 1043640 w 104328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1043558" h="216027">
                <a:moveTo>
                  <a:pt x="0" y="108077"/>
                </a:moveTo>
                <a:cubicBezTo>
                  <a:pt x="0" y="48386"/>
                  <a:pt x="48386" y="0"/>
                  <a:pt x="107950" y="0"/>
                </a:cubicBezTo>
                <a:cubicBezTo>
                  <a:pt x="107950" y="0"/>
                  <a:pt x="107950" y="0"/>
                  <a:pt x="107950" y="0"/>
                </a:cubicBezTo>
                <a:lnTo>
                  <a:pt x="107950" y="0"/>
                </a:lnTo>
                <a:lnTo>
                  <a:pt x="935608" y="0"/>
                </a:lnTo>
                <a:lnTo>
                  <a:pt x="935608" y="0"/>
                </a:lnTo>
                <a:cubicBezTo>
                  <a:pt x="995172" y="0"/>
                  <a:pt x="1043558" y="48386"/>
                  <a:pt x="1043558" y="108077"/>
                </a:cubicBezTo>
                <a:cubicBezTo>
                  <a:pt x="1043558" y="108077"/>
                  <a:pt x="1043558" y="108077"/>
                  <a:pt x="1043558" y="108077"/>
                </a:cubicBezTo>
                <a:lnTo>
                  <a:pt x="1043558" y="108077"/>
                </a:lnTo>
                <a:lnTo>
                  <a:pt x="1043558" y="108077"/>
                </a:lnTo>
                <a:lnTo>
                  <a:pt x="1043558" y="108077"/>
                </a:lnTo>
                <a:cubicBezTo>
                  <a:pt x="1043558" y="167640"/>
                  <a:pt x="995172" y="216027"/>
                  <a:pt x="935608" y="216027"/>
                </a:cubicBezTo>
                <a:cubicBezTo>
                  <a:pt x="935608" y="216027"/>
                  <a:pt x="935608" y="216027"/>
                  <a:pt x="935608" y="216027"/>
                </a:cubicBezTo>
                <a:lnTo>
                  <a:pt x="935608" y="216027"/>
                </a:lnTo>
                <a:lnTo>
                  <a:pt x="107950" y="216027"/>
                </a:lnTo>
                <a:lnTo>
                  <a:pt x="107950" y="216027"/>
                </a:lnTo>
                <a:cubicBezTo>
                  <a:pt x="48386" y="216027"/>
                  <a:pt x="0" y="167640"/>
                  <a:pt x="0" y="108077"/>
                </a:cubicBezTo>
                <a:cubicBezTo>
                  <a:pt x="0" y="108077"/>
                  <a:pt x="0" y="108077"/>
                  <a:pt x="0" y="108077"/>
                </a:cubicBezTo>
              </a:path>
            </a:pathLst>
          </a:custGeom>
          <a:solidFill>
            <a:srgbClr val="7f7f7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2" name="Freeform 3"/>
          <p:cNvSpPr/>
          <p:nvPr/>
        </p:nvSpPr>
        <p:spPr>
          <a:xfrm>
            <a:off x="7092360" y="3038400"/>
            <a:ext cx="1043280" cy="215640"/>
          </a:xfrm>
          <a:custGeom>
            <a:avLst/>
            <a:gdLst>
              <a:gd name="textAreaLeft" fmla="*/ 0 w 1043280"/>
              <a:gd name="textAreaRight" fmla="*/ 1043640 w 104328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1043558" h="216027">
                <a:moveTo>
                  <a:pt x="0" y="107950"/>
                </a:moveTo>
                <a:cubicBezTo>
                  <a:pt x="0" y="48386"/>
                  <a:pt x="48259" y="0"/>
                  <a:pt x="107950" y="0"/>
                </a:cubicBezTo>
                <a:cubicBezTo>
                  <a:pt x="107950" y="0"/>
                  <a:pt x="107950" y="0"/>
                  <a:pt x="107950" y="0"/>
                </a:cubicBezTo>
                <a:lnTo>
                  <a:pt x="107950" y="0"/>
                </a:lnTo>
                <a:lnTo>
                  <a:pt x="935608" y="0"/>
                </a:lnTo>
                <a:lnTo>
                  <a:pt x="935608" y="0"/>
                </a:lnTo>
                <a:cubicBezTo>
                  <a:pt x="995171" y="0"/>
                  <a:pt x="1043558" y="48386"/>
                  <a:pt x="1043558" y="107950"/>
                </a:cubicBezTo>
                <a:cubicBezTo>
                  <a:pt x="1043558" y="107950"/>
                  <a:pt x="1043558" y="107950"/>
                  <a:pt x="1043558" y="107950"/>
                </a:cubicBezTo>
                <a:lnTo>
                  <a:pt x="1043558" y="107950"/>
                </a:lnTo>
                <a:lnTo>
                  <a:pt x="1043558" y="107950"/>
                </a:lnTo>
                <a:lnTo>
                  <a:pt x="1043558" y="107950"/>
                </a:lnTo>
                <a:cubicBezTo>
                  <a:pt x="1043558" y="167639"/>
                  <a:pt x="995171" y="216027"/>
                  <a:pt x="935608" y="216027"/>
                </a:cubicBezTo>
                <a:cubicBezTo>
                  <a:pt x="935608" y="216027"/>
                  <a:pt x="935608" y="216027"/>
                  <a:pt x="935608" y="216027"/>
                </a:cubicBezTo>
                <a:lnTo>
                  <a:pt x="935608" y="216027"/>
                </a:lnTo>
                <a:lnTo>
                  <a:pt x="107950" y="216027"/>
                </a:lnTo>
                <a:lnTo>
                  <a:pt x="107950" y="216027"/>
                </a:lnTo>
                <a:cubicBezTo>
                  <a:pt x="48259" y="216027"/>
                  <a:pt x="0" y="167639"/>
                  <a:pt x="0" y="107950"/>
                </a:cubicBezTo>
                <a:cubicBezTo>
                  <a:pt x="0" y="107950"/>
                  <a:pt x="0" y="107950"/>
                  <a:pt x="0" y="107950"/>
                </a:cubicBezTo>
              </a:path>
            </a:pathLst>
          </a:custGeom>
          <a:solidFill>
            <a:srgbClr val="7f7f7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3" name="Freeform 3"/>
          <p:cNvSpPr/>
          <p:nvPr/>
        </p:nvSpPr>
        <p:spPr>
          <a:xfrm>
            <a:off x="6048720" y="3686400"/>
            <a:ext cx="1043280" cy="215640"/>
          </a:xfrm>
          <a:custGeom>
            <a:avLst/>
            <a:gdLst>
              <a:gd name="textAreaLeft" fmla="*/ 0 w 1043280"/>
              <a:gd name="textAreaRight" fmla="*/ 1043640 w 104328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1043686" h="216027">
                <a:moveTo>
                  <a:pt x="0" y="107950"/>
                </a:moveTo>
                <a:cubicBezTo>
                  <a:pt x="0" y="48386"/>
                  <a:pt x="48386" y="0"/>
                  <a:pt x="108077" y="0"/>
                </a:cubicBezTo>
                <a:cubicBezTo>
                  <a:pt x="108077" y="0"/>
                  <a:pt x="108077" y="0"/>
                  <a:pt x="108077" y="0"/>
                </a:cubicBezTo>
                <a:lnTo>
                  <a:pt x="108077" y="0"/>
                </a:lnTo>
                <a:lnTo>
                  <a:pt x="935609" y="0"/>
                </a:lnTo>
                <a:lnTo>
                  <a:pt x="935609" y="0"/>
                </a:lnTo>
                <a:cubicBezTo>
                  <a:pt x="995299" y="0"/>
                  <a:pt x="1043686" y="48386"/>
                  <a:pt x="1043686" y="107950"/>
                </a:cubicBezTo>
                <a:cubicBezTo>
                  <a:pt x="1043686" y="107950"/>
                  <a:pt x="1043686" y="107950"/>
                  <a:pt x="1043686" y="107950"/>
                </a:cubicBezTo>
                <a:lnTo>
                  <a:pt x="1043686" y="107950"/>
                </a:lnTo>
                <a:lnTo>
                  <a:pt x="1043686" y="107950"/>
                </a:lnTo>
                <a:lnTo>
                  <a:pt x="1043686" y="107950"/>
                </a:lnTo>
                <a:cubicBezTo>
                  <a:pt x="1043686" y="167640"/>
                  <a:pt x="995299" y="216027"/>
                  <a:pt x="935609" y="216027"/>
                </a:cubicBezTo>
                <a:cubicBezTo>
                  <a:pt x="935609" y="216027"/>
                  <a:pt x="935609" y="216027"/>
                  <a:pt x="935609" y="216027"/>
                </a:cubicBezTo>
                <a:lnTo>
                  <a:pt x="935609" y="216027"/>
                </a:lnTo>
                <a:lnTo>
                  <a:pt x="108077" y="216027"/>
                </a:lnTo>
                <a:lnTo>
                  <a:pt x="108077" y="216027"/>
                </a:lnTo>
                <a:cubicBezTo>
                  <a:pt x="48386" y="216027"/>
                  <a:pt x="0" y="167640"/>
                  <a:pt x="0" y="107950"/>
                </a:cubicBezTo>
                <a:cubicBezTo>
                  <a:pt x="0" y="107950"/>
                  <a:pt x="0" y="107950"/>
                  <a:pt x="0" y="107950"/>
                </a:cubicBezTo>
              </a:path>
            </a:pathLst>
          </a:custGeom>
          <a:solidFill>
            <a:srgbClr val="7f7f7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4" name="Freeform 3"/>
          <p:cNvSpPr/>
          <p:nvPr/>
        </p:nvSpPr>
        <p:spPr>
          <a:xfrm>
            <a:off x="6588360" y="3362400"/>
            <a:ext cx="1043280" cy="215640"/>
          </a:xfrm>
          <a:custGeom>
            <a:avLst/>
            <a:gdLst>
              <a:gd name="textAreaLeft" fmla="*/ 0 w 1043280"/>
              <a:gd name="textAreaRight" fmla="*/ 1043640 w 104328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1043558" h="216026">
                <a:moveTo>
                  <a:pt x="0" y="108076"/>
                </a:moveTo>
                <a:cubicBezTo>
                  <a:pt x="0" y="48386"/>
                  <a:pt x="48386" y="0"/>
                  <a:pt x="107950" y="0"/>
                </a:cubicBezTo>
                <a:cubicBezTo>
                  <a:pt x="107950" y="0"/>
                  <a:pt x="107950" y="0"/>
                  <a:pt x="107950" y="0"/>
                </a:cubicBezTo>
                <a:lnTo>
                  <a:pt x="107950" y="0"/>
                </a:lnTo>
                <a:lnTo>
                  <a:pt x="935608" y="0"/>
                </a:lnTo>
                <a:lnTo>
                  <a:pt x="935608" y="0"/>
                </a:lnTo>
                <a:cubicBezTo>
                  <a:pt x="995171" y="0"/>
                  <a:pt x="1043558" y="48386"/>
                  <a:pt x="1043558" y="108076"/>
                </a:cubicBezTo>
                <a:cubicBezTo>
                  <a:pt x="1043558" y="108076"/>
                  <a:pt x="1043558" y="108076"/>
                  <a:pt x="1043558" y="108076"/>
                </a:cubicBezTo>
                <a:lnTo>
                  <a:pt x="1043558" y="108076"/>
                </a:lnTo>
                <a:lnTo>
                  <a:pt x="1043558" y="108076"/>
                </a:lnTo>
                <a:lnTo>
                  <a:pt x="1043558" y="108076"/>
                </a:lnTo>
                <a:cubicBezTo>
                  <a:pt x="1043558" y="167766"/>
                  <a:pt x="995171" y="216026"/>
                  <a:pt x="935608" y="216026"/>
                </a:cubicBezTo>
                <a:cubicBezTo>
                  <a:pt x="935608" y="216026"/>
                  <a:pt x="935608" y="216026"/>
                  <a:pt x="935608" y="216026"/>
                </a:cubicBezTo>
                <a:lnTo>
                  <a:pt x="935608" y="216026"/>
                </a:lnTo>
                <a:lnTo>
                  <a:pt x="107950" y="216026"/>
                </a:lnTo>
                <a:lnTo>
                  <a:pt x="107950" y="216026"/>
                </a:lnTo>
                <a:cubicBezTo>
                  <a:pt x="48386" y="216026"/>
                  <a:pt x="0" y="167766"/>
                  <a:pt x="0" y="108076"/>
                </a:cubicBezTo>
                <a:cubicBezTo>
                  <a:pt x="0" y="108076"/>
                  <a:pt x="0" y="108076"/>
                  <a:pt x="0" y="108076"/>
                </a:cubicBezTo>
              </a:path>
            </a:pathLst>
          </a:custGeom>
          <a:solidFill>
            <a:srgbClr val="7f7f7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5" name="Freeform 3"/>
          <p:cNvSpPr/>
          <p:nvPr/>
        </p:nvSpPr>
        <p:spPr>
          <a:xfrm>
            <a:off x="6876360" y="948960"/>
            <a:ext cx="1043280" cy="215640"/>
          </a:xfrm>
          <a:custGeom>
            <a:avLst/>
            <a:gdLst>
              <a:gd name="textAreaLeft" fmla="*/ 0 w 1043280"/>
              <a:gd name="textAreaRight" fmla="*/ 1043640 w 104328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1043558" h="216027">
                <a:moveTo>
                  <a:pt x="0" y="107950"/>
                </a:moveTo>
                <a:cubicBezTo>
                  <a:pt x="0" y="48386"/>
                  <a:pt x="48386" y="0"/>
                  <a:pt x="107950" y="0"/>
                </a:cubicBezTo>
                <a:cubicBezTo>
                  <a:pt x="107950" y="0"/>
                  <a:pt x="107950" y="0"/>
                  <a:pt x="107950" y="0"/>
                </a:cubicBezTo>
                <a:lnTo>
                  <a:pt x="107950" y="0"/>
                </a:lnTo>
                <a:lnTo>
                  <a:pt x="935608" y="0"/>
                </a:lnTo>
                <a:lnTo>
                  <a:pt x="935608" y="0"/>
                </a:lnTo>
                <a:cubicBezTo>
                  <a:pt x="995171" y="0"/>
                  <a:pt x="1043558" y="48386"/>
                  <a:pt x="1043558" y="107950"/>
                </a:cubicBezTo>
                <a:cubicBezTo>
                  <a:pt x="1043558" y="107950"/>
                  <a:pt x="1043558" y="107950"/>
                  <a:pt x="1043558" y="107950"/>
                </a:cubicBezTo>
                <a:lnTo>
                  <a:pt x="1043558" y="107950"/>
                </a:lnTo>
                <a:lnTo>
                  <a:pt x="1043558" y="107950"/>
                </a:lnTo>
                <a:lnTo>
                  <a:pt x="1043558" y="107950"/>
                </a:lnTo>
                <a:cubicBezTo>
                  <a:pt x="1043558" y="167640"/>
                  <a:pt x="995171" y="216027"/>
                  <a:pt x="935608" y="216027"/>
                </a:cubicBezTo>
                <a:cubicBezTo>
                  <a:pt x="935608" y="216027"/>
                  <a:pt x="935608" y="216027"/>
                  <a:pt x="935608" y="216027"/>
                </a:cubicBezTo>
                <a:lnTo>
                  <a:pt x="935608" y="216027"/>
                </a:lnTo>
                <a:lnTo>
                  <a:pt x="107950" y="216027"/>
                </a:lnTo>
                <a:lnTo>
                  <a:pt x="107950" y="216027"/>
                </a:lnTo>
                <a:cubicBezTo>
                  <a:pt x="48386" y="216027"/>
                  <a:pt x="0" y="167640"/>
                  <a:pt x="0" y="107950"/>
                </a:cubicBezTo>
                <a:cubicBezTo>
                  <a:pt x="0" y="107950"/>
                  <a:pt x="0" y="107950"/>
                  <a:pt x="0" y="107950"/>
                </a:cubicBezTo>
              </a:path>
            </a:pathLst>
          </a:custGeom>
          <a:solidFill>
            <a:srgbClr val="7f7f7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6" name="Freeform 3"/>
          <p:cNvSpPr/>
          <p:nvPr/>
        </p:nvSpPr>
        <p:spPr>
          <a:xfrm>
            <a:off x="7020360" y="1381680"/>
            <a:ext cx="1043280" cy="215640"/>
          </a:xfrm>
          <a:custGeom>
            <a:avLst/>
            <a:gdLst>
              <a:gd name="textAreaLeft" fmla="*/ 0 w 1043280"/>
              <a:gd name="textAreaRight" fmla="*/ 1043640 w 104328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1043558" h="215900">
                <a:moveTo>
                  <a:pt x="0" y="107950"/>
                </a:moveTo>
                <a:cubicBezTo>
                  <a:pt x="0" y="48259"/>
                  <a:pt x="48386" y="0"/>
                  <a:pt x="107950" y="0"/>
                </a:cubicBezTo>
                <a:cubicBezTo>
                  <a:pt x="107950" y="0"/>
                  <a:pt x="107950" y="0"/>
                  <a:pt x="107950" y="0"/>
                </a:cubicBezTo>
                <a:lnTo>
                  <a:pt x="107950" y="0"/>
                </a:lnTo>
                <a:lnTo>
                  <a:pt x="935608" y="0"/>
                </a:lnTo>
                <a:lnTo>
                  <a:pt x="935608" y="0"/>
                </a:lnTo>
                <a:cubicBezTo>
                  <a:pt x="995171" y="0"/>
                  <a:pt x="1043558" y="48259"/>
                  <a:pt x="1043558" y="107950"/>
                </a:cubicBezTo>
                <a:cubicBezTo>
                  <a:pt x="1043558" y="107950"/>
                  <a:pt x="1043558" y="107950"/>
                  <a:pt x="1043558" y="107950"/>
                </a:cubicBezTo>
                <a:lnTo>
                  <a:pt x="1043558" y="107950"/>
                </a:lnTo>
                <a:lnTo>
                  <a:pt x="1043558" y="107950"/>
                </a:lnTo>
                <a:lnTo>
                  <a:pt x="1043558" y="107950"/>
                </a:lnTo>
                <a:cubicBezTo>
                  <a:pt x="1043558" y="167639"/>
                  <a:pt x="995171" y="215900"/>
                  <a:pt x="935608" y="215900"/>
                </a:cubicBezTo>
                <a:cubicBezTo>
                  <a:pt x="935608" y="215900"/>
                  <a:pt x="935608" y="215900"/>
                  <a:pt x="935608" y="215900"/>
                </a:cubicBezTo>
                <a:lnTo>
                  <a:pt x="935608" y="215900"/>
                </a:lnTo>
                <a:lnTo>
                  <a:pt x="107950" y="215900"/>
                </a:lnTo>
                <a:lnTo>
                  <a:pt x="107950" y="215900"/>
                </a:lnTo>
                <a:cubicBezTo>
                  <a:pt x="48386" y="215900"/>
                  <a:pt x="0" y="167639"/>
                  <a:pt x="0" y="107950"/>
                </a:cubicBezTo>
                <a:cubicBezTo>
                  <a:pt x="0" y="107950"/>
                  <a:pt x="0" y="107950"/>
                  <a:pt x="0" y="107950"/>
                </a:cubicBezTo>
              </a:path>
            </a:pathLst>
          </a:custGeom>
          <a:solidFill>
            <a:srgbClr val="7f7f7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7" name="Freeform 3"/>
          <p:cNvSpPr/>
          <p:nvPr/>
        </p:nvSpPr>
        <p:spPr>
          <a:xfrm>
            <a:off x="6876360" y="1814400"/>
            <a:ext cx="1043280" cy="215640"/>
          </a:xfrm>
          <a:custGeom>
            <a:avLst/>
            <a:gdLst>
              <a:gd name="textAreaLeft" fmla="*/ 0 w 1043280"/>
              <a:gd name="textAreaRight" fmla="*/ 1043640 w 104328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1043558" h="216026">
                <a:moveTo>
                  <a:pt x="0" y="108076"/>
                </a:moveTo>
                <a:cubicBezTo>
                  <a:pt x="0" y="48386"/>
                  <a:pt x="48386" y="0"/>
                  <a:pt x="107950" y="0"/>
                </a:cubicBezTo>
                <a:cubicBezTo>
                  <a:pt x="107950" y="0"/>
                  <a:pt x="107950" y="0"/>
                  <a:pt x="107950" y="0"/>
                </a:cubicBezTo>
                <a:lnTo>
                  <a:pt x="107950" y="0"/>
                </a:lnTo>
                <a:lnTo>
                  <a:pt x="935608" y="0"/>
                </a:lnTo>
                <a:lnTo>
                  <a:pt x="935608" y="0"/>
                </a:lnTo>
                <a:cubicBezTo>
                  <a:pt x="995171" y="0"/>
                  <a:pt x="1043558" y="48386"/>
                  <a:pt x="1043558" y="108076"/>
                </a:cubicBezTo>
                <a:cubicBezTo>
                  <a:pt x="1043558" y="108076"/>
                  <a:pt x="1043558" y="108076"/>
                  <a:pt x="1043558" y="108076"/>
                </a:cubicBezTo>
                <a:lnTo>
                  <a:pt x="1043558" y="108076"/>
                </a:lnTo>
                <a:lnTo>
                  <a:pt x="1043558" y="108076"/>
                </a:lnTo>
                <a:lnTo>
                  <a:pt x="1043558" y="108076"/>
                </a:lnTo>
                <a:cubicBezTo>
                  <a:pt x="1043558" y="167639"/>
                  <a:pt x="995171" y="216026"/>
                  <a:pt x="935608" y="216026"/>
                </a:cubicBezTo>
                <a:cubicBezTo>
                  <a:pt x="935608" y="216026"/>
                  <a:pt x="935608" y="216026"/>
                  <a:pt x="935608" y="216026"/>
                </a:cubicBezTo>
                <a:lnTo>
                  <a:pt x="935608" y="216026"/>
                </a:lnTo>
                <a:lnTo>
                  <a:pt x="107950" y="216026"/>
                </a:lnTo>
                <a:lnTo>
                  <a:pt x="107950" y="216026"/>
                </a:lnTo>
                <a:cubicBezTo>
                  <a:pt x="48386" y="216026"/>
                  <a:pt x="0" y="167639"/>
                  <a:pt x="0" y="108076"/>
                </a:cubicBezTo>
                <a:cubicBezTo>
                  <a:pt x="0" y="108076"/>
                  <a:pt x="0" y="108076"/>
                  <a:pt x="0" y="108076"/>
                </a:cubicBezTo>
              </a:path>
            </a:pathLst>
          </a:custGeom>
          <a:solidFill>
            <a:srgbClr val="7f7f7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8" name="Freeform 3"/>
          <p:cNvSpPr/>
          <p:nvPr/>
        </p:nvSpPr>
        <p:spPr>
          <a:xfrm>
            <a:off x="6588360" y="2714400"/>
            <a:ext cx="1043280" cy="215640"/>
          </a:xfrm>
          <a:custGeom>
            <a:avLst/>
            <a:gdLst>
              <a:gd name="textAreaLeft" fmla="*/ 0 w 1043280"/>
              <a:gd name="textAreaRight" fmla="*/ 1043640 w 104328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1043558" h="215900">
                <a:moveTo>
                  <a:pt x="0" y="107950"/>
                </a:moveTo>
                <a:cubicBezTo>
                  <a:pt x="0" y="48259"/>
                  <a:pt x="48386" y="0"/>
                  <a:pt x="107950" y="0"/>
                </a:cubicBezTo>
                <a:cubicBezTo>
                  <a:pt x="107950" y="0"/>
                  <a:pt x="107950" y="0"/>
                  <a:pt x="107950" y="0"/>
                </a:cubicBezTo>
                <a:lnTo>
                  <a:pt x="107950" y="0"/>
                </a:lnTo>
                <a:lnTo>
                  <a:pt x="935608" y="0"/>
                </a:lnTo>
                <a:lnTo>
                  <a:pt x="935608" y="0"/>
                </a:lnTo>
                <a:cubicBezTo>
                  <a:pt x="995171" y="0"/>
                  <a:pt x="1043558" y="48259"/>
                  <a:pt x="1043558" y="107950"/>
                </a:cubicBezTo>
                <a:cubicBezTo>
                  <a:pt x="1043558" y="107950"/>
                  <a:pt x="1043558" y="107950"/>
                  <a:pt x="1043558" y="107950"/>
                </a:cubicBezTo>
                <a:lnTo>
                  <a:pt x="1043558" y="107950"/>
                </a:lnTo>
                <a:lnTo>
                  <a:pt x="1043558" y="107950"/>
                </a:lnTo>
                <a:lnTo>
                  <a:pt x="1043558" y="107950"/>
                </a:lnTo>
                <a:cubicBezTo>
                  <a:pt x="1043558" y="167639"/>
                  <a:pt x="995171" y="215900"/>
                  <a:pt x="935608" y="215900"/>
                </a:cubicBezTo>
                <a:cubicBezTo>
                  <a:pt x="935608" y="215900"/>
                  <a:pt x="935608" y="215900"/>
                  <a:pt x="935608" y="215900"/>
                </a:cubicBezTo>
                <a:lnTo>
                  <a:pt x="935608" y="215900"/>
                </a:lnTo>
                <a:lnTo>
                  <a:pt x="107950" y="215900"/>
                </a:lnTo>
                <a:lnTo>
                  <a:pt x="107950" y="215900"/>
                </a:lnTo>
                <a:cubicBezTo>
                  <a:pt x="48386" y="215900"/>
                  <a:pt x="0" y="167639"/>
                  <a:pt x="0" y="107950"/>
                </a:cubicBezTo>
                <a:cubicBezTo>
                  <a:pt x="0" y="107950"/>
                  <a:pt x="0" y="107950"/>
                  <a:pt x="0" y="107950"/>
                </a:cubicBezTo>
              </a:path>
            </a:pathLst>
          </a:custGeom>
          <a:solidFill>
            <a:srgbClr val="7f7f7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9" name="Freeform 3"/>
          <p:cNvSpPr/>
          <p:nvPr/>
        </p:nvSpPr>
        <p:spPr>
          <a:xfrm>
            <a:off x="6084360" y="2390400"/>
            <a:ext cx="1043280" cy="215640"/>
          </a:xfrm>
          <a:custGeom>
            <a:avLst/>
            <a:gdLst>
              <a:gd name="textAreaLeft" fmla="*/ 0 w 1043280"/>
              <a:gd name="textAreaRight" fmla="*/ 1043640 w 104328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1043558" h="216026">
                <a:moveTo>
                  <a:pt x="0" y="108076"/>
                </a:moveTo>
                <a:cubicBezTo>
                  <a:pt x="0" y="48386"/>
                  <a:pt x="48386" y="0"/>
                  <a:pt x="107950" y="0"/>
                </a:cubicBezTo>
                <a:cubicBezTo>
                  <a:pt x="107950" y="0"/>
                  <a:pt x="107950" y="0"/>
                  <a:pt x="107950" y="0"/>
                </a:cubicBezTo>
                <a:lnTo>
                  <a:pt x="107950" y="0"/>
                </a:lnTo>
                <a:lnTo>
                  <a:pt x="935608" y="0"/>
                </a:lnTo>
                <a:lnTo>
                  <a:pt x="935608" y="0"/>
                </a:lnTo>
                <a:cubicBezTo>
                  <a:pt x="995171" y="0"/>
                  <a:pt x="1043558" y="48386"/>
                  <a:pt x="1043558" y="108076"/>
                </a:cubicBezTo>
                <a:cubicBezTo>
                  <a:pt x="1043558" y="108076"/>
                  <a:pt x="1043558" y="108076"/>
                  <a:pt x="1043558" y="108076"/>
                </a:cubicBezTo>
                <a:lnTo>
                  <a:pt x="1043558" y="108076"/>
                </a:lnTo>
                <a:lnTo>
                  <a:pt x="1043558" y="108076"/>
                </a:lnTo>
                <a:lnTo>
                  <a:pt x="1043558" y="108076"/>
                </a:lnTo>
                <a:cubicBezTo>
                  <a:pt x="1043558" y="167639"/>
                  <a:pt x="995171" y="216026"/>
                  <a:pt x="935608" y="216026"/>
                </a:cubicBezTo>
                <a:cubicBezTo>
                  <a:pt x="935608" y="216026"/>
                  <a:pt x="935608" y="216026"/>
                  <a:pt x="935608" y="216026"/>
                </a:cubicBezTo>
                <a:lnTo>
                  <a:pt x="935608" y="216026"/>
                </a:lnTo>
                <a:lnTo>
                  <a:pt x="107950" y="216026"/>
                </a:lnTo>
                <a:lnTo>
                  <a:pt x="107950" y="216026"/>
                </a:lnTo>
                <a:cubicBezTo>
                  <a:pt x="48386" y="216026"/>
                  <a:pt x="0" y="167639"/>
                  <a:pt x="0" y="108076"/>
                </a:cubicBezTo>
                <a:cubicBezTo>
                  <a:pt x="0" y="108076"/>
                  <a:pt x="0" y="108076"/>
                  <a:pt x="0" y="108076"/>
                </a:cubicBezTo>
              </a:path>
            </a:pathLst>
          </a:custGeom>
          <a:solidFill>
            <a:srgbClr val="7f7f7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0" name="Freeform 3"/>
          <p:cNvSpPr/>
          <p:nvPr/>
        </p:nvSpPr>
        <p:spPr>
          <a:xfrm>
            <a:off x="3780000" y="1052640"/>
            <a:ext cx="1439640" cy="1439640"/>
          </a:xfrm>
          <a:custGeom>
            <a:avLst/>
            <a:gdLst>
              <a:gd name="textAreaLeft" fmla="*/ 0 w 1439640"/>
              <a:gd name="textAreaRight" fmla="*/ 1440000 w 1439640"/>
              <a:gd name="textAreaTop" fmla="*/ 0 h 1439640"/>
              <a:gd name="textAreaBottom" fmla="*/ 1440000 h 1439640"/>
            </a:gdLst>
            <a:ahLst/>
            <a:rect l="textAreaLeft" t="textAreaTop" r="textAreaRight" b="textAreaBottom"/>
            <a:pathLst>
              <a:path w="1440179" h="1440179">
                <a:moveTo>
                  <a:pt x="0" y="720089"/>
                </a:moveTo>
                <a:cubicBezTo>
                  <a:pt x="0" y="322452"/>
                  <a:pt x="322452" y="0"/>
                  <a:pt x="720089" y="0"/>
                </a:cubicBezTo>
                <a:cubicBezTo>
                  <a:pt x="720089" y="0"/>
                  <a:pt x="720089" y="0"/>
                  <a:pt x="720089" y="0"/>
                </a:cubicBezTo>
                <a:lnTo>
                  <a:pt x="720089" y="0"/>
                </a:lnTo>
                <a:cubicBezTo>
                  <a:pt x="1117727" y="0"/>
                  <a:pt x="1440179" y="322452"/>
                  <a:pt x="1440179" y="720089"/>
                </a:cubicBezTo>
                <a:cubicBezTo>
                  <a:pt x="1440179" y="720089"/>
                  <a:pt x="1440179" y="720089"/>
                  <a:pt x="1440179" y="720089"/>
                </a:cubicBezTo>
                <a:lnTo>
                  <a:pt x="1440179" y="720089"/>
                </a:lnTo>
                <a:cubicBezTo>
                  <a:pt x="1440179" y="1117854"/>
                  <a:pt x="1117727" y="1440179"/>
                  <a:pt x="720089" y="1440179"/>
                </a:cubicBezTo>
                <a:cubicBezTo>
                  <a:pt x="720089" y="1440179"/>
                  <a:pt x="720089" y="1440179"/>
                  <a:pt x="720089" y="1440179"/>
                </a:cubicBezTo>
                <a:lnTo>
                  <a:pt x="720089" y="1440179"/>
                </a:lnTo>
                <a:cubicBezTo>
                  <a:pt x="322452" y="1440179"/>
                  <a:pt x="0" y="1117854"/>
                  <a:pt x="0" y="720089"/>
                </a:cubicBezTo>
                <a:cubicBezTo>
                  <a:pt x="0" y="720089"/>
                  <a:pt x="0" y="720089"/>
                  <a:pt x="0" y="720089"/>
                </a:cubicBez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1" name="Freeform 3"/>
          <p:cNvSpPr/>
          <p:nvPr/>
        </p:nvSpPr>
        <p:spPr>
          <a:xfrm>
            <a:off x="3741840" y="1014480"/>
            <a:ext cx="1515960" cy="1515960"/>
          </a:xfrm>
          <a:custGeom>
            <a:avLst/>
            <a:gdLst>
              <a:gd name="textAreaLeft" fmla="*/ 0 w 1515960"/>
              <a:gd name="textAreaRight" fmla="*/ 1516320 w 1515960"/>
              <a:gd name="textAreaTop" fmla="*/ 0 h 1515960"/>
              <a:gd name="textAreaBottom" fmla="*/ 1516320 h 1515960"/>
            </a:gdLst>
            <a:ahLst/>
            <a:rect l="textAreaLeft" t="textAreaTop" r="textAreaRight" b="textAreaBottom"/>
            <a:pathLst>
              <a:path w="1516379" h="1516379">
                <a:moveTo>
                  <a:pt x="38100" y="758189"/>
                </a:moveTo>
                <a:cubicBezTo>
                  <a:pt x="38100" y="360552"/>
                  <a:pt x="360552" y="38100"/>
                  <a:pt x="758189" y="38100"/>
                </a:cubicBezTo>
                <a:cubicBezTo>
                  <a:pt x="758189" y="38100"/>
                  <a:pt x="758189" y="38100"/>
                  <a:pt x="758189" y="38100"/>
                </a:cubicBezTo>
                <a:lnTo>
                  <a:pt x="758189" y="38100"/>
                </a:lnTo>
                <a:cubicBezTo>
                  <a:pt x="1155827" y="38100"/>
                  <a:pt x="1478279" y="360552"/>
                  <a:pt x="1478279" y="758189"/>
                </a:cubicBezTo>
                <a:cubicBezTo>
                  <a:pt x="1478279" y="758189"/>
                  <a:pt x="1478279" y="758189"/>
                  <a:pt x="1478279" y="758189"/>
                </a:cubicBezTo>
                <a:lnTo>
                  <a:pt x="1478279" y="758189"/>
                </a:lnTo>
                <a:cubicBezTo>
                  <a:pt x="1478279" y="1155954"/>
                  <a:pt x="1155827" y="1478279"/>
                  <a:pt x="758189" y="1478279"/>
                </a:cubicBezTo>
                <a:cubicBezTo>
                  <a:pt x="758189" y="1478279"/>
                  <a:pt x="758189" y="1478279"/>
                  <a:pt x="758189" y="1478279"/>
                </a:cubicBezTo>
                <a:lnTo>
                  <a:pt x="758189" y="1478279"/>
                </a:lnTo>
                <a:cubicBezTo>
                  <a:pt x="360552" y="1478279"/>
                  <a:pt x="38100" y="1155954"/>
                  <a:pt x="38100" y="758189"/>
                </a:cubicBezTo>
                <a:cubicBezTo>
                  <a:pt x="38100" y="758189"/>
                  <a:pt x="38100" y="758189"/>
                  <a:pt x="38100" y="758189"/>
                </a:cubicBezTo>
              </a:path>
            </a:pathLst>
          </a:custGeom>
          <a:noFill/>
          <a:ln w="76200"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2" name="Freeform 3"/>
          <p:cNvSpPr/>
          <p:nvPr/>
        </p:nvSpPr>
        <p:spPr>
          <a:xfrm>
            <a:off x="3780000" y="4139640"/>
            <a:ext cx="1439640" cy="1440000"/>
          </a:xfrm>
          <a:custGeom>
            <a:avLst/>
            <a:gdLst>
              <a:gd name="textAreaLeft" fmla="*/ 0 w 1439640"/>
              <a:gd name="textAreaRight" fmla="*/ 1440000 w 1439640"/>
              <a:gd name="textAreaTop" fmla="*/ 0 h 1440000"/>
              <a:gd name="textAreaBottom" fmla="*/ 1440360 h 1440000"/>
            </a:gdLst>
            <a:ahLst/>
            <a:rect l="textAreaLeft" t="textAreaTop" r="textAreaRight" b="textAreaBottom"/>
            <a:pathLst>
              <a:path w="1440179" h="1440180">
                <a:moveTo>
                  <a:pt x="0" y="720090"/>
                </a:moveTo>
                <a:cubicBezTo>
                  <a:pt x="0" y="322326"/>
                  <a:pt x="322452" y="0"/>
                  <a:pt x="720089" y="0"/>
                </a:cubicBezTo>
                <a:cubicBezTo>
                  <a:pt x="720089" y="0"/>
                  <a:pt x="720089" y="0"/>
                  <a:pt x="720089" y="0"/>
                </a:cubicBezTo>
                <a:lnTo>
                  <a:pt x="720089" y="0"/>
                </a:lnTo>
                <a:cubicBezTo>
                  <a:pt x="1117727" y="0"/>
                  <a:pt x="1440179" y="322326"/>
                  <a:pt x="1440179" y="720090"/>
                </a:cubicBezTo>
                <a:cubicBezTo>
                  <a:pt x="1440179" y="720090"/>
                  <a:pt x="1440179" y="720090"/>
                  <a:pt x="1440179" y="720090"/>
                </a:cubicBezTo>
                <a:lnTo>
                  <a:pt x="1440179" y="720090"/>
                </a:lnTo>
                <a:cubicBezTo>
                  <a:pt x="1440179" y="1117727"/>
                  <a:pt x="1117727" y="1440179"/>
                  <a:pt x="720089" y="1440179"/>
                </a:cubicBezTo>
                <a:cubicBezTo>
                  <a:pt x="720089" y="1440179"/>
                  <a:pt x="720089" y="1440179"/>
                  <a:pt x="720089" y="1440179"/>
                </a:cubicBezTo>
                <a:lnTo>
                  <a:pt x="720089" y="1440179"/>
                </a:lnTo>
                <a:cubicBezTo>
                  <a:pt x="322452" y="1440179"/>
                  <a:pt x="0" y="1117727"/>
                  <a:pt x="0" y="720090"/>
                </a:cubicBezTo>
                <a:cubicBezTo>
                  <a:pt x="0" y="720090"/>
                  <a:pt x="0" y="720090"/>
                  <a:pt x="0" y="720090"/>
                </a:cubicBez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3" name="Freeform 3"/>
          <p:cNvSpPr/>
          <p:nvPr/>
        </p:nvSpPr>
        <p:spPr>
          <a:xfrm>
            <a:off x="3741840" y="4101840"/>
            <a:ext cx="1515960" cy="1515960"/>
          </a:xfrm>
          <a:custGeom>
            <a:avLst/>
            <a:gdLst>
              <a:gd name="textAreaLeft" fmla="*/ 0 w 1515960"/>
              <a:gd name="textAreaRight" fmla="*/ 1516320 w 1515960"/>
              <a:gd name="textAreaTop" fmla="*/ 0 h 1515960"/>
              <a:gd name="textAreaBottom" fmla="*/ 1516320 h 1515960"/>
            </a:gdLst>
            <a:ahLst/>
            <a:rect l="textAreaLeft" t="textAreaTop" r="textAreaRight" b="textAreaBottom"/>
            <a:pathLst>
              <a:path w="1516379" h="1516380">
                <a:moveTo>
                  <a:pt x="38100" y="758190"/>
                </a:moveTo>
                <a:cubicBezTo>
                  <a:pt x="38100" y="360426"/>
                  <a:pt x="360552" y="38100"/>
                  <a:pt x="758189" y="38100"/>
                </a:cubicBezTo>
                <a:cubicBezTo>
                  <a:pt x="758189" y="38100"/>
                  <a:pt x="758189" y="38100"/>
                  <a:pt x="758189" y="38100"/>
                </a:cubicBezTo>
                <a:lnTo>
                  <a:pt x="758189" y="38100"/>
                </a:lnTo>
                <a:cubicBezTo>
                  <a:pt x="1155827" y="38100"/>
                  <a:pt x="1478279" y="360426"/>
                  <a:pt x="1478279" y="758190"/>
                </a:cubicBezTo>
                <a:cubicBezTo>
                  <a:pt x="1478279" y="758190"/>
                  <a:pt x="1478279" y="758190"/>
                  <a:pt x="1478279" y="758190"/>
                </a:cubicBezTo>
                <a:lnTo>
                  <a:pt x="1478279" y="758190"/>
                </a:lnTo>
                <a:cubicBezTo>
                  <a:pt x="1478279" y="1155827"/>
                  <a:pt x="1155827" y="1478279"/>
                  <a:pt x="758189" y="1478279"/>
                </a:cubicBezTo>
                <a:cubicBezTo>
                  <a:pt x="758189" y="1478279"/>
                  <a:pt x="758189" y="1478279"/>
                  <a:pt x="758189" y="1478279"/>
                </a:cubicBezTo>
                <a:lnTo>
                  <a:pt x="758189" y="1478279"/>
                </a:lnTo>
                <a:cubicBezTo>
                  <a:pt x="360552" y="1478279"/>
                  <a:pt x="38100" y="1155827"/>
                  <a:pt x="38100" y="758190"/>
                </a:cubicBezTo>
                <a:cubicBezTo>
                  <a:pt x="38100" y="758190"/>
                  <a:pt x="38100" y="758190"/>
                  <a:pt x="38100" y="758190"/>
                </a:cubicBezTo>
              </a:path>
            </a:pathLst>
          </a:custGeom>
          <a:noFill/>
          <a:ln w="76200"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4" name="Freeform 3"/>
          <p:cNvSpPr/>
          <p:nvPr/>
        </p:nvSpPr>
        <p:spPr>
          <a:xfrm>
            <a:off x="1920600" y="1469880"/>
            <a:ext cx="319680" cy="56880"/>
          </a:xfrm>
          <a:custGeom>
            <a:avLst/>
            <a:gdLst>
              <a:gd name="textAreaLeft" fmla="*/ 0 w 319680"/>
              <a:gd name="textAreaRight" fmla="*/ 320040 w 319680"/>
              <a:gd name="textAreaTop" fmla="*/ 0 h 56880"/>
              <a:gd name="textAreaBottom" fmla="*/ 57240 h 56880"/>
            </a:gdLst>
            <a:ahLst/>
            <a:rect l="textAreaLeft" t="textAreaTop" r="textAreaRight" b="textAreaBottom"/>
            <a:pathLst>
              <a:path w="320040" h="57150">
                <a:moveTo>
                  <a:pt x="14287" y="14287"/>
                </a:moveTo>
                <a:lnTo>
                  <a:pt x="305752" y="14287"/>
                </a:lnTo>
              </a:path>
            </a:pathLst>
          </a:custGeom>
          <a:noFill/>
          <a:ln w="25400">
            <a:solidFill>
              <a:srgbClr val="7f7f7f"/>
            </a:solidFill>
            <a:prstDash val="sysDot"/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2240" bIns="122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Freeform 3"/>
          <p:cNvSpPr/>
          <p:nvPr/>
        </p:nvSpPr>
        <p:spPr>
          <a:xfrm>
            <a:off x="6465960" y="1032480"/>
            <a:ext cx="439200" cy="56880"/>
          </a:xfrm>
          <a:custGeom>
            <a:avLst/>
            <a:gdLst>
              <a:gd name="textAreaLeft" fmla="*/ 0 w 439200"/>
              <a:gd name="textAreaRight" fmla="*/ 439560 w 439200"/>
              <a:gd name="textAreaTop" fmla="*/ 0 h 56880"/>
              <a:gd name="textAreaBottom" fmla="*/ 57240 h 56880"/>
            </a:gdLst>
            <a:ahLst/>
            <a:rect l="textAreaLeft" t="textAreaTop" r="textAreaRight" b="textAreaBottom"/>
            <a:pathLst>
              <a:path w="439419" h="57150">
                <a:moveTo>
                  <a:pt x="14287" y="14287"/>
                </a:moveTo>
                <a:lnTo>
                  <a:pt x="425132" y="14287"/>
                </a:lnTo>
              </a:path>
            </a:pathLst>
          </a:custGeom>
          <a:noFill/>
          <a:ln w="25400">
            <a:solidFill>
              <a:srgbClr val="7f7f7f"/>
            </a:solidFill>
            <a:prstDash val="sysDot"/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2240" bIns="122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Freeform 3"/>
          <p:cNvSpPr/>
          <p:nvPr/>
        </p:nvSpPr>
        <p:spPr>
          <a:xfrm>
            <a:off x="6717960" y="1456920"/>
            <a:ext cx="346320" cy="56880"/>
          </a:xfrm>
          <a:custGeom>
            <a:avLst/>
            <a:gdLst>
              <a:gd name="textAreaLeft" fmla="*/ 0 w 346320"/>
              <a:gd name="textAreaRight" fmla="*/ 346680 w 346320"/>
              <a:gd name="textAreaTop" fmla="*/ 0 h 56880"/>
              <a:gd name="textAreaBottom" fmla="*/ 57240 h 56880"/>
            </a:gdLst>
            <a:ahLst/>
            <a:rect l="textAreaLeft" t="textAreaTop" r="textAreaRight" b="textAreaBottom"/>
            <a:pathLst>
              <a:path w="346583" h="57150">
                <a:moveTo>
                  <a:pt x="14287" y="14287"/>
                </a:moveTo>
                <a:lnTo>
                  <a:pt x="332295" y="14287"/>
                </a:lnTo>
              </a:path>
            </a:pathLst>
          </a:custGeom>
          <a:noFill/>
          <a:ln w="25400">
            <a:solidFill>
              <a:srgbClr val="7f7f7f"/>
            </a:solidFill>
            <a:prstDash val="sysDot"/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2240" bIns="122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Freeform 3"/>
          <p:cNvSpPr/>
          <p:nvPr/>
        </p:nvSpPr>
        <p:spPr>
          <a:xfrm>
            <a:off x="6439320" y="1933920"/>
            <a:ext cx="465480" cy="56880"/>
          </a:xfrm>
          <a:custGeom>
            <a:avLst/>
            <a:gdLst>
              <a:gd name="textAreaLeft" fmla="*/ 0 w 465480"/>
              <a:gd name="textAreaRight" fmla="*/ 465840 w 465480"/>
              <a:gd name="textAreaTop" fmla="*/ 0 h 56880"/>
              <a:gd name="textAreaBottom" fmla="*/ 57240 h 56880"/>
            </a:gdLst>
            <a:ahLst/>
            <a:rect l="textAreaLeft" t="textAreaTop" r="textAreaRight" b="textAreaBottom"/>
            <a:pathLst>
              <a:path w="465962" h="57150">
                <a:moveTo>
                  <a:pt x="14287" y="14287"/>
                </a:moveTo>
                <a:lnTo>
                  <a:pt x="451675" y="14287"/>
                </a:lnTo>
              </a:path>
            </a:pathLst>
          </a:custGeom>
          <a:noFill/>
          <a:ln w="25400">
            <a:solidFill>
              <a:srgbClr val="7f7f7f"/>
            </a:solidFill>
            <a:prstDash val="sysDot"/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2240" bIns="122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Freeform 3"/>
          <p:cNvSpPr/>
          <p:nvPr/>
        </p:nvSpPr>
        <p:spPr>
          <a:xfrm>
            <a:off x="2954160" y="2622960"/>
            <a:ext cx="187200" cy="94680"/>
          </a:xfrm>
          <a:custGeom>
            <a:avLst/>
            <a:gdLst>
              <a:gd name="textAreaLeft" fmla="*/ 0 w 187200"/>
              <a:gd name="textAreaRight" fmla="*/ 187560 w 187200"/>
              <a:gd name="textAreaTop" fmla="*/ 0 h 94680"/>
              <a:gd name="textAreaBottom" fmla="*/ 95040 h 94680"/>
            </a:gdLst>
            <a:ahLst/>
            <a:rect l="textAreaLeft" t="textAreaTop" r="textAreaRight" b="textAreaBottom"/>
            <a:pathLst>
              <a:path w="187579" h="94868">
                <a:moveTo>
                  <a:pt x="173291" y="80581"/>
                </a:moveTo>
                <a:lnTo>
                  <a:pt x="14287" y="14287"/>
                </a:lnTo>
              </a:path>
            </a:pathLst>
          </a:custGeom>
          <a:noFill/>
          <a:ln w="25400">
            <a:solidFill>
              <a:srgbClr val="7f7f7f"/>
            </a:solidFill>
            <a:prstDash val="sysDot"/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Freeform 3"/>
          <p:cNvSpPr/>
          <p:nvPr/>
        </p:nvSpPr>
        <p:spPr>
          <a:xfrm>
            <a:off x="2728800" y="3086640"/>
            <a:ext cx="226800" cy="56880"/>
          </a:xfrm>
          <a:custGeom>
            <a:avLst/>
            <a:gdLst>
              <a:gd name="textAreaLeft" fmla="*/ 0 w 226800"/>
              <a:gd name="textAreaRight" fmla="*/ 227160 w 226800"/>
              <a:gd name="textAreaTop" fmla="*/ 0 h 56880"/>
              <a:gd name="textAreaBottom" fmla="*/ 57240 h 56880"/>
            </a:gdLst>
            <a:ahLst/>
            <a:rect l="textAreaLeft" t="textAreaTop" r="textAreaRight" b="textAreaBottom"/>
            <a:pathLst>
              <a:path w="227329" h="57150">
                <a:moveTo>
                  <a:pt x="213042" y="14287"/>
                </a:moveTo>
                <a:lnTo>
                  <a:pt x="14287" y="14287"/>
                </a:lnTo>
              </a:path>
            </a:pathLst>
          </a:custGeom>
          <a:noFill/>
          <a:ln w="25400">
            <a:solidFill>
              <a:srgbClr val="7f7f7f"/>
            </a:solidFill>
            <a:prstDash val="sysDot"/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2240" bIns="122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Freeform 3"/>
          <p:cNvSpPr/>
          <p:nvPr/>
        </p:nvSpPr>
        <p:spPr>
          <a:xfrm>
            <a:off x="2954160" y="3431160"/>
            <a:ext cx="147600" cy="108000"/>
          </a:xfrm>
          <a:custGeom>
            <a:avLst/>
            <a:gdLst>
              <a:gd name="textAreaLeft" fmla="*/ 0 w 147600"/>
              <a:gd name="textAreaRight" fmla="*/ 147960 w 147600"/>
              <a:gd name="textAreaTop" fmla="*/ 0 h 108000"/>
              <a:gd name="textAreaBottom" fmla="*/ 108360 h 108000"/>
            </a:gdLst>
            <a:ahLst/>
            <a:rect l="textAreaLeft" t="textAreaTop" r="textAreaRight" b="textAreaBottom"/>
            <a:pathLst>
              <a:path w="147828" h="108204">
                <a:moveTo>
                  <a:pt x="133540" y="14287"/>
                </a:moveTo>
                <a:lnTo>
                  <a:pt x="14287" y="93916"/>
                </a:lnTo>
              </a:path>
            </a:pathLst>
          </a:custGeom>
          <a:noFill/>
          <a:ln w="25400">
            <a:solidFill>
              <a:srgbClr val="7f7f7f"/>
            </a:solidFill>
            <a:prstDash val="sysDot"/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Freeform 3"/>
          <p:cNvSpPr/>
          <p:nvPr/>
        </p:nvSpPr>
        <p:spPr>
          <a:xfrm>
            <a:off x="5883120" y="2503440"/>
            <a:ext cx="253440" cy="213840"/>
          </a:xfrm>
          <a:custGeom>
            <a:avLst/>
            <a:gdLst>
              <a:gd name="textAreaLeft" fmla="*/ 0 w 253440"/>
              <a:gd name="textAreaRight" fmla="*/ 253800 w 253440"/>
              <a:gd name="textAreaTop" fmla="*/ 0 h 213840"/>
              <a:gd name="textAreaBottom" fmla="*/ 214200 h 213840"/>
            </a:gdLst>
            <a:ahLst/>
            <a:rect l="textAreaLeft" t="textAreaTop" r="textAreaRight" b="textAreaBottom"/>
            <a:pathLst>
              <a:path w="253872" h="214122">
                <a:moveTo>
                  <a:pt x="14287" y="199834"/>
                </a:moveTo>
                <a:lnTo>
                  <a:pt x="239585" y="14287"/>
                </a:lnTo>
              </a:path>
            </a:pathLst>
          </a:custGeom>
          <a:noFill/>
          <a:ln w="25400">
            <a:solidFill>
              <a:srgbClr val="7f7f7f"/>
            </a:solidFill>
            <a:prstDash val="sysDot"/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Freeform 3"/>
          <p:cNvSpPr/>
          <p:nvPr/>
        </p:nvSpPr>
        <p:spPr>
          <a:xfrm>
            <a:off x="6002280" y="2808360"/>
            <a:ext cx="637920" cy="187200"/>
          </a:xfrm>
          <a:custGeom>
            <a:avLst/>
            <a:gdLst>
              <a:gd name="textAreaLeft" fmla="*/ 0 w 637920"/>
              <a:gd name="textAreaRight" fmla="*/ 638280 w 637920"/>
              <a:gd name="textAreaTop" fmla="*/ 0 h 187200"/>
              <a:gd name="textAreaBottom" fmla="*/ 187560 h 187200"/>
            </a:gdLst>
            <a:ahLst/>
            <a:rect l="textAreaLeft" t="textAreaTop" r="textAreaRight" b="textAreaBottom"/>
            <a:pathLst>
              <a:path w="638175" h="187579">
                <a:moveTo>
                  <a:pt x="14287" y="173291"/>
                </a:moveTo>
                <a:lnTo>
                  <a:pt x="623887" y="14287"/>
                </a:lnTo>
              </a:path>
            </a:pathLst>
          </a:custGeom>
          <a:noFill/>
          <a:ln w="25400">
            <a:solidFill>
              <a:srgbClr val="7f7f7f"/>
            </a:solidFill>
            <a:prstDash val="sysDot"/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Freeform 3"/>
          <p:cNvSpPr/>
          <p:nvPr/>
        </p:nvSpPr>
        <p:spPr>
          <a:xfrm>
            <a:off x="6015240" y="3126600"/>
            <a:ext cx="1101600" cy="56880"/>
          </a:xfrm>
          <a:custGeom>
            <a:avLst/>
            <a:gdLst>
              <a:gd name="textAreaLeft" fmla="*/ 0 w 1101600"/>
              <a:gd name="textAreaRight" fmla="*/ 1101960 w 1101600"/>
              <a:gd name="textAreaTop" fmla="*/ 0 h 56880"/>
              <a:gd name="textAreaBottom" fmla="*/ 57240 h 56880"/>
            </a:gdLst>
            <a:ahLst/>
            <a:rect l="textAreaLeft" t="textAreaTop" r="textAreaRight" b="textAreaBottom"/>
            <a:pathLst>
              <a:path w="1101978" h="57150">
                <a:moveTo>
                  <a:pt x="14287" y="14287"/>
                </a:moveTo>
                <a:lnTo>
                  <a:pt x="1087691" y="14287"/>
                </a:lnTo>
              </a:path>
            </a:pathLst>
          </a:custGeom>
          <a:noFill/>
          <a:ln w="25400">
            <a:solidFill>
              <a:srgbClr val="7f7f7f"/>
            </a:solidFill>
            <a:prstDash val="sysDot"/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2240" bIns="122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Freeform 3"/>
          <p:cNvSpPr/>
          <p:nvPr/>
        </p:nvSpPr>
        <p:spPr>
          <a:xfrm>
            <a:off x="5922720" y="3298680"/>
            <a:ext cx="717480" cy="187200"/>
          </a:xfrm>
          <a:custGeom>
            <a:avLst/>
            <a:gdLst>
              <a:gd name="textAreaLeft" fmla="*/ 0 w 717480"/>
              <a:gd name="textAreaRight" fmla="*/ 717840 w 717480"/>
              <a:gd name="textAreaTop" fmla="*/ 0 h 187200"/>
              <a:gd name="textAreaBottom" fmla="*/ 187560 h 187200"/>
            </a:gdLst>
            <a:ahLst/>
            <a:rect l="textAreaLeft" t="textAreaTop" r="textAreaRight" b="textAreaBottom"/>
            <a:pathLst>
              <a:path w="717676" h="187579">
                <a:moveTo>
                  <a:pt x="14287" y="14287"/>
                </a:moveTo>
                <a:lnTo>
                  <a:pt x="14287" y="14287"/>
                </a:lnTo>
                <a:lnTo>
                  <a:pt x="703389" y="173291"/>
                </a:lnTo>
              </a:path>
            </a:pathLst>
          </a:custGeom>
          <a:noFill/>
          <a:ln w="25400">
            <a:solidFill>
              <a:srgbClr val="7f7f7f"/>
            </a:solidFill>
            <a:prstDash val="sysDot"/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Freeform 3"/>
          <p:cNvSpPr/>
          <p:nvPr/>
        </p:nvSpPr>
        <p:spPr>
          <a:xfrm>
            <a:off x="5750280" y="3524040"/>
            <a:ext cx="333000" cy="240120"/>
          </a:xfrm>
          <a:custGeom>
            <a:avLst/>
            <a:gdLst>
              <a:gd name="textAreaLeft" fmla="*/ 0 w 333000"/>
              <a:gd name="textAreaRight" fmla="*/ 333360 w 333000"/>
              <a:gd name="textAreaTop" fmla="*/ 0 h 240120"/>
              <a:gd name="textAreaBottom" fmla="*/ 240480 h 240120"/>
            </a:gdLst>
            <a:ahLst/>
            <a:rect l="textAreaLeft" t="textAreaTop" r="textAreaRight" b="textAreaBottom"/>
            <a:pathLst>
              <a:path w="333375" h="240538">
                <a:moveTo>
                  <a:pt x="14287" y="14287"/>
                </a:moveTo>
                <a:lnTo>
                  <a:pt x="319087" y="226250"/>
                </a:lnTo>
              </a:path>
            </a:pathLst>
          </a:custGeom>
          <a:noFill/>
          <a:ln w="25400">
            <a:solidFill>
              <a:srgbClr val="7f7f7f"/>
            </a:solidFill>
            <a:prstDash val="sysDot"/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Freeform 3"/>
          <p:cNvSpPr/>
          <p:nvPr/>
        </p:nvSpPr>
        <p:spPr>
          <a:xfrm>
            <a:off x="2195640" y="980640"/>
            <a:ext cx="1007640" cy="1007640"/>
          </a:xfrm>
          <a:custGeom>
            <a:avLst/>
            <a:gdLst>
              <a:gd name="textAreaLeft" fmla="*/ 0 w 1007640"/>
              <a:gd name="textAreaRight" fmla="*/ 1008000 w 1007640"/>
              <a:gd name="textAreaTop" fmla="*/ 0 h 1007640"/>
              <a:gd name="textAreaBottom" fmla="*/ 1008000 h 1007640"/>
            </a:gdLst>
            <a:ahLst/>
            <a:rect l="textAreaLeft" t="textAreaTop" r="textAreaRight" b="textAreaBottom"/>
            <a:pathLst>
              <a:path w="1008126" h="1008126">
                <a:moveTo>
                  <a:pt x="0" y="504063"/>
                </a:moveTo>
                <a:cubicBezTo>
                  <a:pt x="0" y="225678"/>
                  <a:pt x="225679" y="0"/>
                  <a:pt x="504063" y="0"/>
                </a:cubicBezTo>
                <a:cubicBezTo>
                  <a:pt x="504063" y="0"/>
                  <a:pt x="504063" y="0"/>
                  <a:pt x="504063" y="0"/>
                </a:cubicBezTo>
                <a:lnTo>
                  <a:pt x="504063" y="0"/>
                </a:lnTo>
                <a:cubicBezTo>
                  <a:pt x="782447" y="0"/>
                  <a:pt x="1008126" y="225678"/>
                  <a:pt x="1008126" y="504063"/>
                </a:cubicBezTo>
                <a:cubicBezTo>
                  <a:pt x="1008126" y="504063"/>
                  <a:pt x="1008126" y="504063"/>
                  <a:pt x="1008126" y="504063"/>
                </a:cubicBezTo>
                <a:lnTo>
                  <a:pt x="1008126" y="504063"/>
                </a:lnTo>
                <a:cubicBezTo>
                  <a:pt x="1008126" y="782447"/>
                  <a:pt x="782447" y="1008126"/>
                  <a:pt x="504063" y="1008126"/>
                </a:cubicBezTo>
                <a:cubicBezTo>
                  <a:pt x="504063" y="1008126"/>
                  <a:pt x="504063" y="1008126"/>
                  <a:pt x="504063" y="1008126"/>
                </a:cubicBezTo>
                <a:lnTo>
                  <a:pt x="504063" y="1008126"/>
                </a:lnTo>
                <a:cubicBezTo>
                  <a:pt x="225679" y="1008126"/>
                  <a:pt x="0" y="782447"/>
                  <a:pt x="0" y="504063"/>
                </a:cubicBezTo>
                <a:cubicBezTo>
                  <a:pt x="0" y="504063"/>
                  <a:pt x="0" y="504063"/>
                  <a:pt x="0" y="504063"/>
                </a:cubicBez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7" name="Freeform 3"/>
          <p:cNvSpPr/>
          <p:nvPr/>
        </p:nvSpPr>
        <p:spPr>
          <a:xfrm>
            <a:off x="2157480" y="942480"/>
            <a:ext cx="1083960" cy="1083960"/>
          </a:xfrm>
          <a:custGeom>
            <a:avLst/>
            <a:gdLst>
              <a:gd name="textAreaLeft" fmla="*/ 0 w 1083960"/>
              <a:gd name="textAreaRight" fmla="*/ 1084320 w 1083960"/>
              <a:gd name="textAreaTop" fmla="*/ 0 h 1083960"/>
              <a:gd name="textAreaBottom" fmla="*/ 1084320 h 1083960"/>
            </a:gdLst>
            <a:ahLst/>
            <a:rect l="textAreaLeft" t="textAreaTop" r="textAreaRight" b="textAreaBottom"/>
            <a:pathLst>
              <a:path w="1084326" h="1084326">
                <a:moveTo>
                  <a:pt x="38100" y="542163"/>
                </a:moveTo>
                <a:cubicBezTo>
                  <a:pt x="38100" y="263778"/>
                  <a:pt x="263779" y="38100"/>
                  <a:pt x="542163" y="38100"/>
                </a:cubicBezTo>
                <a:cubicBezTo>
                  <a:pt x="542163" y="38100"/>
                  <a:pt x="542163" y="38100"/>
                  <a:pt x="542163" y="38100"/>
                </a:cubicBezTo>
                <a:lnTo>
                  <a:pt x="542163" y="38100"/>
                </a:lnTo>
                <a:cubicBezTo>
                  <a:pt x="820547" y="38100"/>
                  <a:pt x="1046226" y="263778"/>
                  <a:pt x="1046226" y="542163"/>
                </a:cubicBezTo>
                <a:cubicBezTo>
                  <a:pt x="1046226" y="542163"/>
                  <a:pt x="1046226" y="542163"/>
                  <a:pt x="1046226" y="542163"/>
                </a:cubicBezTo>
                <a:lnTo>
                  <a:pt x="1046226" y="542163"/>
                </a:lnTo>
                <a:cubicBezTo>
                  <a:pt x="1046226" y="820547"/>
                  <a:pt x="820547" y="1046226"/>
                  <a:pt x="542163" y="1046226"/>
                </a:cubicBezTo>
                <a:cubicBezTo>
                  <a:pt x="542163" y="1046226"/>
                  <a:pt x="542163" y="1046226"/>
                  <a:pt x="542163" y="1046226"/>
                </a:cubicBezTo>
                <a:lnTo>
                  <a:pt x="542163" y="1046226"/>
                </a:lnTo>
                <a:cubicBezTo>
                  <a:pt x="263779" y="1046226"/>
                  <a:pt x="38100" y="820547"/>
                  <a:pt x="38100" y="542163"/>
                </a:cubicBezTo>
                <a:cubicBezTo>
                  <a:pt x="38100" y="542163"/>
                  <a:pt x="38100" y="542163"/>
                  <a:pt x="38100" y="542163"/>
                </a:cubicBezTo>
              </a:path>
            </a:pathLst>
          </a:custGeom>
          <a:noFill/>
          <a:ln w="76200"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8" name="Freeform 3"/>
          <p:cNvSpPr/>
          <p:nvPr/>
        </p:nvSpPr>
        <p:spPr>
          <a:xfrm>
            <a:off x="2987640" y="2565000"/>
            <a:ext cx="1007640" cy="1007640"/>
          </a:xfrm>
          <a:custGeom>
            <a:avLst/>
            <a:gdLst>
              <a:gd name="textAreaLeft" fmla="*/ 0 w 1007640"/>
              <a:gd name="textAreaRight" fmla="*/ 1008000 w 1007640"/>
              <a:gd name="textAreaTop" fmla="*/ 0 h 1007640"/>
              <a:gd name="textAreaBottom" fmla="*/ 1008000 h 1007640"/>
            </a:gdLst>
            <a:ahLst/>
            <a:rect l="textAreaLeft" t="textAreaTop" r="textAreaRight" b="textAreaBottom"/>
            <a:pathLst>
              <a:path w="1008126" h="1008125">
                <a:moveTo>
                  <a:pt x="0" y="504062"/>
                </a:moveTo>
                <a:cubicBezTo>
                  <a:pt x="0" y="225678"/>
                  <a:pt x="225679" y="0"/>
                  <a:pt x="504063" y="0"/>
                </a:cubicBezTo>
                <a:cubicBezTo>
                  <a:pt x="504063" y="0"/>
                  <a:pt x="504063" y="0"/>
                  <a:pt x="504063" y="0"/>
                </a:cubicBezTo>
                <a:lnTo>
                  <a:pt x="504063" y="0"/>
                </a:lnTo>
                <a:cubicBezTo>
                  <a:pt x="782447" y="0"/>
                  <a:pt x="1008126" y="225678"/>
                  <a:pt x="1008126" y="504062"/>
                </a:cubicBezTo>
                <a:cubicBezTo>
                  <a:pt x="1008126" y="504062"/>
                  <a:pt x="1008126" y="504062"/>
                  <a:pt x="1008126" y="504062"/>
                </a:cubicBezTo>
                <a:lnTo>
                  <a:pt x="1008126" y="504062"/>
                </a:lnTo>
                <a:cubicBezTo>
                  <a:pt x="1008126" y="782447"/>
                  <a:pt x="782447" y="1008125"/>
                  <a:pt x="504063" y="1008125"/>
                </a:cubicBezTo>
                <a:cubicBezTo>
                  <a:pt x="504063" y="1008125"/>
                  <a:pt x="504063" y="1008125"/>
                  <a:pt x="504063" y="1008125"/>
                </a:cubicBezTo>
                <a:lnTo>
                  <a:pt x="504063" y="1008125"/>
                </a:lnTo>
                <a:cubicBezTo>
                  <a:pt x="225679" y="1008125"/>
                  <a:pt x="0" y="782447"/>
                  <a:pt x="0" y="504062"/>
                </a:cubicBezTo>
                <a:cubicBezTo>
                  <a:pt x="0" y="504062"/>
                  <a:pt x="0" y="504062"/>
                  <a:pt x="0" y="504062"/>
                </a:cubicBez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9" name="Freeform 3"/>
          <p:cNvSpPr/>
          <p:nvPr/>
        </p:nvSpPr>
        <p:spPr>
          <a:xfrm>
            <a:off x="2949840" y="2526840"/>
            <a:ext cx="1083960" cy="1083960"/>
          </a:xfrm>
          <a:custGeom>
            <a:avLst/>
            <a:gdLst>
              <a:gd name="textAreaLeft" fmla="*/ 0 w 1083960"/>
              <a:gd name="textAreaRight" fmla="*/ 1084320 w 1083960"/>
              <a:gd name="textAreaTop" fmla="*/ 0 h 1083960"/>
              <a:gd name="textAreaBottom" fmla="*/ 1084320 h 1083960"/>
            </a:gdLst>
            <a:ahLst/>
            <a:rect l="textAreaLeft" t="textAreaTop" r="textAreaRight" b="textAreaBottom"/>
            <a:pathLst>
              <a:path w="1084326" h="1084325">
                <a:moveTo>
                  <a:pt x="38100" y="542162"/>
                </a:moveTo>
                <a:cubicBezTo>
                  <a:pt x="38100" y="263778"/>
                  <a:pt x="263779" y="38100"/>
                  <a:pt x="542163" y="38100"/>
                </a:cubicBezTo>
                <a:cubicBezTo>
                  <a:pt x="542163" y="38100"/>
                  <a:pt x="542163" y="38100"/>
                  <a:pt x="542163" y="38100"/>
                </a:cubicBezTo>
                <a:lnTo>
                  <a:pt x="542163" y="38100"/>
                </a:lnTo>
                <a:cubicBezTo>
                  <a:pt x="820547" y="38100"/>
                  <a:pt x="1046226" y="263778"/>
                  <a:pt x="1046226" y="542162"/>
                </a:cubicBezTo>
                <a:cubicBezTo>
                  <a:pt x="1046226" y="542162"/>
                  <a:pt x="1046226" y="542162"/>
                  <a:pt x="1046226" y="542162"/>
                </a:cubicBezTo>
                <a:lnTo>
                  <a:pt x="1046226" y="542162"/>
                </a:lnTo>
                <a:cubicBezTo>
                  <a:pt x="1046226" y="820547"/>
                  <a:pt x="820547" y="1046225"/>
                  <a:pt x="542163" y="1046225"/>
                </a:cubicBezTo>
                <a:cubicBezTo>
                  <a:pt x="542163" y="1046225"/>
                  <a:pt x="542163" y="1046225"/>
                  <a:pt x="542163" y="1046225"/>
                </a:cubicBezTo>
                <a:lnTo>
                  <a:pt x="542163" y="1046225"/>
                </a:lnTo>
                <a:cubicBezTo>
                  <a:pt x="263779" y="1046225"/>
                  <a:pt x="38100" y="820547"/>
                  <a:pt x="38100" y="542162"/>
                </a:cubicBezTo>
                <a:cubicBezTo>
                  <a:pt x="38100" y="542162"/>
                  <a:pt x="38100" y="542162"/>
                  <a:pt x="38100" y="542162"/>
                </a:cubicBezTo>
              </a:path>
            </a:pathLst>
          </a:custGeom>
          <a:noFill/>
          <a:ln w="76200"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90" name="Freeform 3"/>
          <p:cNvSpPr/>
          <p:nvPr/>
        </p:nvSpPr>
        <p:spPr>
          <a:xfrm>
            <a:off x="5724000" y="980640"/>
            <a:ext cx="1007640" cy="1007640"/>
          </a:xfrm>
          <a:custGeom>
            <a:avLst/>
            <a:gdLst>
              <a:gd name="textAreaLeft" fmla="*/ 0 w 1007640"/>
              <a:gd name="textAreaRight" fmla="*/ 1008000 w 1007640"/>
              <a:gd name="textAreaTop" fmla="*/ 0 h 1007640"/>
              <a:gd name="textAreaBottom" fmla="*/ 1008000 h 1007640"/>
            </a:gdLst>
            <a:ahLst/>
            <a:rect l="textAreaLeft" t="textAreaTop" r="textAreaRight" b="textAreaBottom"/>
            <a:pathLst>
              <a:path w="1008125" h="1008126">
                <a:moveTo>
                  <a:pt x="0" y="504063"/>
                </a:moveTo>
                <a:cubicBezTo>
                  <a:pt x="0" y="225678"/>
                  <a:pt x="225678" y="0"/>
                  <a:pt x="504063" y="0"/>
                </a:cubicBezTo>
                <a:cubicBezTo>
                  <a:pt x="504063" y="0"/>
                  <a:pt x="504063" y="0"/>
                  <a:pt x="504063" y="0"/>
                </a:cubicBezTo>
                <a:lnTo>
                  <a:pt x="504063" y="0"/>
                </a:lnTo>
                <a:cubicBezTo>
                  <a:pt x="782447" y="0"/>
                  <a:pt x="1008125" y="225678"/>
                  <a:pt x="1008125" y="504063"/>
                </a:cubicBezTo>
                <a:cubicBezTo>
                  <a:pt x="1008125" y="504063"/>
                  <a:pt x="1008125" y="504063"/>
                  <a:pt x="1008125" y="504063"/>
                </a:cubicBezTo>
                <a:lnTo>
                  <a:pt x="1008125" y="504063"/>
                </a:lnTo>
                <a:cubicBezTo>
                  <a:pt x="1008125" y="782447"/>
                  <a:pt x="782447" y="1008126"/>
                  <a:pt x="504063" y="1008126"/>
                </a:cubicBezTo>
                <a:cubicBezTo>
                  <a:pt x="504063" y="1008126"/>
                  <a:pt x="504063" y="1008126"/>
                  <a:pt x="504063" y="1008126"/>
                </a:cubicBezTo>
                <a:lnTo>
                  <a:pt x="504063" y="1008126"/>
                </a:lnTo>
                <a:cubicBezTo>
                  <a:pt x="225678" y="1008126"/>
                  <a:pt x="0" y="782447"/>
                  <a:pt x="0" y="504063"/>
                </a:cubicBezTo>
                <a:cubicBezTo>
                  <a:pt x="0" y="504063"/>
                  <a:pt x="0" y="504063"/>
                  <a:pt x="0" y="504063"/>
                </a:cubicBez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91" name="Freeform 3"/>
          <p:cNvSpPr/>
          <p:nvPr/>
        </p:nvSpPr>
        <p:spPr>
          <a:xfrm>
            <a:off x="5686200" y="942480"/>
            <a:ext cx="1083960" cy="1083960"/>
          </a:xfrm>
          <a:custGeom>
            <a:avLst/>
            <a:gdLst>
              <a:gd name="textAreaLeft" fmla="*/ 0 w 1083960"/>
              <a:gd name="textAreaRight" fmla="*/ 1084320 w 1083960"/>
              <a:gd name="textAreaTop" fmla="*/ 0 h 1083960"/>
              <a:gd name="textAreaBottom" fmla="*/ 1084320 h 1083960"/>
            </a:gdLst>
            <a:ahLst/>
            <a:rect l="textAreaLeft" t="textAreaTop" r="textAreaRight" b="textAreaBottom"/>
            <a:pathLst>
              <a:path w="1084325" h="1084326">
                <a:moveTo>
                  <a:pt x="38100" y="542163"/>
                </a:moveTo>
                <a:cubicBezTo>
                  <a:pt x="38100" y="263778"/>
                  <a:pt x="263778" y="38100"/>
                  <a:pt x="542163" y="38100"/>
                </a:cubicBezTo>
                <a:cubicBezTo>
                  <a:pt x="542163" y="38100"/>
                  <a:pt x="542163" y="38100"/>
                  <a:pt x="542163" y="38100"/>
                </a:cubicBezTo>
                <a:lnTo>
                  <a:pt x="542163" y="38100"/>
                </a:lnTo>
                <a:cubicBezTo>
                  <a:pt x="820547" y="38100"/>
                  <a:pt x="1046225" y="263778"/>
                  <a:pt x="1046225" y="542163"/>
                </a:cubicBezTo>
                <a:cubicBezTo>
                  <a:pt x="1046225" y="542163"/>
                  <a:pt x="1046225" y="542163"/>
                  <a:pt x="1046225" y="542163"/>
                </a:cubicBezTo>
                <a:lnTo>
                  <a:pt x="1046225" y="542163"/>
                </a:lnTo>
                <a:cubicBezTo>
                  <a:pt x="1046225" y="820547"/>
                  <a:pt x="820547" y="1046226"/>
                  <a:pt x="542163" y="1046226"/>
                </a:cubicBezTo>
                <a:cubicBezTo>
                  <a:pt x="542163" y="1046226"/>
                  <a:pt x="542163" y="1046226"/>
                  <a:pt x="542163" y="1046226"/>
                </a:cubicBezTo>
                <a:lnTo>
                  <a:pt x="542163" y="1046226"/>
                </a:lnTo>
                <a:cubicBezTo>
                  <a:pt x="263778" y="1046226"/>
                  <a:pt x="38100" y="820547"/>
                  <a:pt x="38100" y="542163"/>
                </a:cubicBezTo>
                <a:cubicBezTo>
                  <a:pt x="38100" y="542163"/>
                  <a:pt x="38100" y="542163"/>
                  <a:pt x="38100" y="542163"/>
                </a:cubicBezTo>
              </a:path>
            </a:pathLst>
          </a:custGeom>
          <a:noFill/>
          <a:ln w="76200"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92" name="Freeform 3"/>
          <p:cNvSpPr/>
          <p:nvPr/>
        </p:nvSpPr>
        <p:spPr>
          <a:xfrm>
            <a:off x="5004000" y="2565000"/>
            <a:ext cx="1007640" cy="1007640"/>
          </a:xfrm>
          <a:custGeom>
            <a:avLst/>
            <a:gdLst>
              <a:gd name="textAreaLeft" fmla="*/ 0 w 1007640"/>
              <a:gd name="textAreaRight" fmla="*/ 1008000 w 1007640"/>
              <a:gd name="textAreaTop" fmla="*/ 0 h 1007640"/>
              <a:gd name="textAreaBottom" fmla="*/ 1008000 h 1007640"/>
            </a:gdLst>
            <a:ahLst/>
            <a:rect l="textAreaLeft" t="textAreaTop" r="textAreaRight" b="textAreaBottom"/>
            <a:pathLst>
              <a:path w="1008126" h="1008125">
                <a:moveTo>
                  <a:pt x="0" y="504062"/>
                </a:moveTo>
                <a:cubicBezTo>
                  <a:pt x="0" y="225678"/>
                  <a:pt x="225679" y="0"/>
                  <a:pt x="504063" y="0"/>
                </a:cubicBezTo>
                <a:cubicBezTo>
                  <a:pt x="504063" y="0"/>
                  <a:pt x="504063" y="0"/>
                  <a:pt x="504063" y="0"/>
                </a:cubicBezTo>
                <a:lnTo>
                  <a:pt x="504063" y="0"/>
                </a:lnTo>
                <a:cubicBezTo>
                  <a:pt x="782447" y="0"/>
                  <a:pt x="1008126" y="225678"/>
                  <a:pt x="1008126" y="504062"/>
                </a:cubicBezTo>
                <a:cubicBezTo>
                  <a:pt x="1008126" y="504062"/>
                  <a:pt x="1008126" y="504062"/>
                  <a:pt x="1008126" y="504062"/>
                </a:cubicBezTo>
                <a:lnTo>
                  <a:pt x="1008126" y="504062"/>
                </a:lnTo>
                <a:cubicBezTo>
                  <a:pt x="1008126" y="782447"/>
                  <a:pt x="782447" y="1008125"/>
                  <a:pt x="504063" y="1008125"/>
                </a:cubicBezTo>
                <a:cubicBezTo>
                  <a:pt x="504063" y="1008125"/>
                  <a:pt x="504063" y="1008125"/>
                  <a:pt x="504063" y="1008125"/>
                </a:cubicBezTo>
                <a:lnTo>
                  <a:pt x="504063" y="1008125"/>
                </a:lnTo>
                <a:cubicBezTo>
                  <a:pt x="225679" y="1008125"/>
                  <a:pt x="0" y="782447"/>
                  <a:pt x="0" y="504062"/>
                </a:cubicBezTo>
                <a:cubicBezTo>
                  <a:pt x="0" y="504062"/>
                  <a:pt x="0" y="504062"/>
                  <a:pt x="0" y="504062"/>
                </a:cubicBez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93" name="Freeform 3"/>
          <p:cNvSpPr/>
          <p:nvPr/>
        </p:nvSpPr>
        <p:spPr>
          <a:xfrm>
            <a:off x="4965840" y="2526840"/>
            <a:ext cx="1083960" cy="1083960"/>
          </a:xfrm>
          <a:custGeom>
            <a:avLst/>
            <a:gdLst>
              <a:gd name="textAreaLeft" fmla="*/ 0 w 1083960"/>
              <a:gd name="textAreaRight" fmla="*/ 1084320 w 1083960"/>
              <a:gd name="textAreaTop" fmla="*/ 0 h 1083960"/>
              <a:gd name="textAreaBottom" fmla="*/ 1084320 h 1083960"/>
            </a:gdLst>
            <a:ahLst/>
            <a:rect l="textAreaLeft" t="textAreaTop" r="textAreaRight" b="textAreaBottom"/>
            <a:pathLst>
              <a:path w="1084326" h="1084325">
                <a:moveTo>
                  <a:pt x="38100" y="542162"/>
                </a:moveTo>
                <a:cubicBezTo>
                  <a:pt x="38100" y="263778"/>
                  <a:pt x="263779" y="38100"/>
                  <a:pt x="542163" y="38100"/>
                </a:cubicBezTo>
                <a:cubicBezTo>
                  <a:pt x="542163" y="38100"/>
                  <a:pt x="542163" y="38100"/>
                  <a:pt x="542163" y="38100"/>
                </a:cubicBezTo>
                <a:lnTo>
                  <a:pt x="542163" y="38100"/>
                </a:lnTo>
                <a:cubicBezTo>
                  <a:pt x="820547" y="38100"/>
                  <a:pt x="1046226" y="263778"/>
                  <a:pt x="1046226" y="542162"/>
                </a:cubicBezTo>
                <a:cubicBezTo>
                  <a:pt x="1046226" y="542162"/>
                  <a:pt x="1046226" y="542162"/>
                  <a:pt x="1046226" y="542162"/>
                </a:cubicBezTo>
                <a:lnTo>
                  <a:pt x="1046226" y="542162"/>
                </a:lnTo>
                <a:cubicBezTo>
                  <a:pt x="1046226" y="820547"/>
                  <a:pt x="820547" y="1046225"/>
                  <a:pt x="542163" y="1046225"/>
                </a:cubicBezTo>
                <a:cubicBezTo>
                  <a:pt x="542163" y="1046225"/>
                  <a:pt x="542163" y="1046225"/>
                  <a:pt x="542163" y="1046225"/>
                </a:cubicBezTo>
                <a:lnTo>
                  <a:pt x="542163" y="1046225"/>
                </a:lnTo>
                <a:cubicBezTo>
                  <a:pt x="263779" y="1046225"/>
                  <a:pt x="38100" y="820547"/>
                  <a:pt x="38100" y="542162"/>
                </a:cubicBezTo>
                <a:cubicBezTo>
                  <a:pt x="38100" y="542162"/>
                  <a:pt x="38100" y="542162"/>
                  <a:pt x="38100" y="542162"/>
                </a:cubicBezTo>
              </a:path>
            </a:pathLst>
          </a:custGeom>
          <a:noFill/>
          <a:ln w="76200"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94" name="Freeform 3"/>
          <p:cNvSpPr/>
          <p:nvPr/>
        </p:nvSpPr>
        <p:spPr>
          <a:xfrm>
            <a:off x="755640" y="5868000"/>
            <a:ext cx="2160000" cy="359640"/>
          </a:xfrm>
          <a:custGeom>
            <a:avLst/>
            <a:gdLst>
              <a:gd name="textAreaLeft" fmla="*/ 0 w 2160000"/>
              <a:gd name="textAreaRight" fmla="*/ 2160360 w 2160000"/>
              <a:gd name="textAreaTop" fmla="*/ 0 h 359640"/>
              <a:gd name="textAreaBottom" fmla="*/ 360000 h 359640"/>
            </a:gdLst>
            <a:ahLst/>
            <a:rect l="textAreaLeft" t="textAreaTop" r="textAreaRight" b="textAreaBottom"/>
            <a:pathLst>
              <a:path w="2160219" h="360032">
                <a:moveTo>
                  <a:pt x="0" y="180009"/>
                </a:moveTo>
                <a:cubicBezTo>
                  <a:pt x="0" y="80594"/>
                  <a:pt x="80594" y="0"/>
                  <a:pt x="180022" y="0"/>
                </a:cubicBezTo>
                <a:cubicBezTo>
                  <a:pt x="180022" y="0"/>
                  <a:pt x="180022" y="0"/>
                  <a:pt x="180022" y="0"/>
                </a:cubicBezTo>
                <a:lnTo>
                  <a:pt x="180022" y="0"/>
                </a:lnTo>
                <a:lnTo>
                  <a:pt x="1980260" y="0"/>
                </a:lnTo>
                <a:lnTo>
                  <a:pt x="1980260" y="0"/>
                </a:lnTo>
                <a:cubicBezTo>
                  <a:pt x="2079701" y="0"/>
                  <a:pt x="2160219" y="80594"/>
                  <a:pt x="2160219" y="180009"/>
                </a:cubicBezTo>
                <a:cubicBezTo>
                  <a:pt x="2160219" y="180009"/>
                  <a:pt x="2160219" y="180009"/>
                  <a:pt x="2160219" y="180009"/>
                </a:cubicBezTo>
                <a:lnTo>
                  <a:pt x="2160219" y="180009"/>
                </a:lnTo>
                <a:lnTo>
                  <a:pt x="2160219" y="180009"/>
                </a:lnTo>
                <a:lnTo>
                  <a:pt x="2160219" y="180009"/>
                </a:lnTo>
                <a:cubicBezTo>
                  <a:pt x="2160219" y="279438"/>
                  <a:pt x="2079701" y="360032"/>
                  <a:pt x="1980260" y="360032"/>
                </a:cubicBezTo>
                <a:cubicBezTo>
                  <a:pt x="1980260" y="360032"/>
                  <a:pt x="1980260" y="360032"/>
                  <a:pt x="1980260" y="360032"/>
                </a:cubicBezTo>
                <a:lnTo>
                  <a:pt x="1980260" y="360032"/>
                </a:lnTo>
                <a:lnTo>
                  <a:pt x="180022" y="360032"/>
                </a:lnTo>
                <a:lnTo>
                  <a:pt x="180022" y="360032"/>
                </a:lnTo>
                <a:cubicBezTo>
                  <a:pt x="80594" y="360032"/>
                  <a:pt x="0" y="279438"/>
                  <a:pt x="0" y="180009"/>
                </a:cubicBezTo>
                <a:cubicBezTo>
                  <a:pt x="0" y="180009"/>
                  <a:pt x="0" y="180009"/>
                  <a:pt x="0" y="180009"/>
                </a:cubicBezTo>
              </a:path>
            </a:pathLst>
          </a:custGeom>
          <a:solidFill>
            <a:srgbClr val="00000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95" name="Freeform 3"/>
          <p:cNvSpPr/>
          <p:nvPr/>
        </p:nvSpPr>
        <p:spPr>
          <a:xfrm>
            <a:off x="3420000" y="5868000"/>
            <a:ext cx="2160000" cy="359640"/>
          </a:xfrm>
          <a:custGeom>
            <a:avLst/>
            <a:gdLst>
              <a:gd name="textAreaLeft" fmla="*/ 0 w 2160000"/>
              <a:gd name="textAreaRight" fmla="*/ 2160360 w 2160000"/>
              <a:gd name="textAreaTop" fmla="*/ 0 h 359640"/>
              <a:gd name="textAreaBottom" fmla="*/ 360000 h 359640"/>
            </a:gdLst>
            <a:ahLst/>
            <a:rect l="textAreaLeft" t="textAreaTop" r="textAreaRight" b="textAreaBottom"/>
            <a:pathLst>
              <a:path w="2160270" h="360032">
                <a:moveTo>
                  <a:pt x="0" y="180009"/>
                </a:moveTo>
                <a:cubicBezTo>
                  <a:pt x="0" y="80594"/>
                  <a:pt x="80645" y="0"/>
                  <a:pt x="180085" y="0"/>
                </a:cubicBezTo>
                <a:cubicBezTo>
                  <a:pt x="180085" y="0"/>
                  <a:pt x="180085" y="0"/>
                  <a:pt x="180085" y="0"/>
                </a:cubicBezTo>
                <a:lnTo>
                  <a:pt x="180085" y="0"/>
                </a:lnTo>
                <a:lnTo>
                  <a:pt x="1980184" y="0"/>
                </a:lnTo>
                <a:lnTo>
                  <a:pt x="1980184" y="0"/>
                </a:lnTo>
                <a:cubicBezTo>
                  <a:pt x="2079625" y="0"/>
                  <a:pt x="2160270" y="80594"/>
                  <a:pt x="2160270" y="180009"/>
                </a:cubicBezTo>
                <a:cubicBezTo>
                  <a:pt x="2160270" y="180009"/>
                  <a:pt x="2160270" y="180009"/>
                  <a:pt x="2160270" y="180009"/>
                </a:cubicBezTo>
                <a:lnTo>
                  <a:pt x="2160270" y="180009"/>
                </a:lnTo>
                <a:lnTo>
                  <a:pt x="2160270" y="180009"/>
                </a:lnTo>
                <a:lnTo>
                  <a:pt x="2160270" y="180009"/>
                </a:lnTo>
                <a:cubicBezTo>
                  <a:pt x="2160270" y="279438"/>
                  <a:pt x="2079625" y="360032"/>
                  <a:pt x="1980184" y="360032"/>
                </a:cubicBezTo>
                <a:cubicBezTo>
                  <a:pt x="1980184" y="360032"/>
                  <a:pt x="1980184" y="360032"/>
                  <a:pt x="1980184" y="360032"/>
                </a:cubicBezTo>
                <a:lnTo>
                  <a:pt x="1980184" y="360032"/>
                </a:lnTo>
                <a:lnTo>
                  <a:pt x="180085" y="360032"/>
                </a:lnTo>
                <a:lnTo>
                  <a:pt x="180085" y="360032"/>
                </a:lnTo>
                <a:cubicBezTo>
                  <a:pt x="80645" y="360032"/>
                  <a:pt x="0" y="279438"/>
                  <a:pt x="0" y="180009"/>
                </a:cubicBezTo>
                <a:cubicBezTo>
                  <a:pt x="0" y="180009"/>
                  <a:pt x="0" y="180009"/>
                  <a:pt x="0" y="180009"/>
                </a:cubicBezTo>
              </a:path>
            </a:pathLst>
          </a:custGeom>
          <a:solidFill>
            <a:srgbClr val="00000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96" name="Freeform 3"/>
          <p:cNvSpPr/>
          <p:nvPr/>
        </p:nvSpPr>
        <p:spPr>
          <a:xfrm>
            <a:off x="6084360" y="5868000"/>
            <a:ext cx="2160000" cy="359640"/>
          </a:xfrm>
          <a:custGeom>
            <a:avLst/>
            <a:gdLst>
              <a:gd name="textAreaLeft" fmla="*/ 0 w 2160000"/>
              <a:gd name="textAreaRight" fmla="*/ 2160360 w 2160000"/>
              <a:gd name="textAreaTop" fmla="*/ 0 h 359640"/>
              <a:gd name="textAreaBottom" fmla="*/ 360000 h 359640"/>
            </a:gdLst>
            <a:ahLst/>
            <a:rect l="textAreaLeft" t="textAreaTop" r="textAreaRight" b="textAreaBottom"/>
            <a:pathLst>
              <a:path w="2160269" h="360032">
                <a:moveTo>
                  <a:pt x="0" y="180009"/>
                </a:moveTo>
                <a:cubicBezTo>
                  <a:pt x="0" y="80594"/>
                  <a:pt x="80517" y="0"/>
                  <a:pt x="179958" y="0"/>
                </a:cubicBezTo>
                <a:cubicBezTo>
                  <a:pt x="179958" y="0"/>
                  <a:pt x="179958" y="0"/>
                  <a:pt x="179958" y="0"/>
                </a:cubicBezTo>
                <a:lnTo>
                  <a:pt x="179958" y="0"/>
                </a:lnTo>
                <a:lnTo>
                  <a:pt x="1980183" y="0"/>
                </a:lnTo>
                <a:lnTo>
                  <a:pt x="1980183" y="0"/>
                </a:lnTo>
                <a:cubicBezTo>
                  <a:pt x="2079625" y="0"/>
                  <a:pt x="2160269" y="80594"/>
                  <a:pt x="2160269" y="180009"/>
                </a:cubicBezTo>
                <a:cubicBezTo>
                  <a:pt x="2160269" y="180009"/>
                  <a:pt x="2160269" y="180009"/>
                  <a:pt x="2160269" y="180009"/>
                </a:cubicBezTo>
                <a:lnTo>
                  <a:pt x="2160269" y="180009"/>
                </a:lnTo>
                <a:lnTo>
                  <a:pt x="2160269" y="180009"/>
                </a:lnTo>
                <a:lnTo>
                  <a:pt x="2160269" y="180009"/>
                </a:lnTo>
                <a:cubicBezTo>
                  <a:pt x="2160269" y="279438"/>
                  <a:pt x="2079625" y="360032"/>
                  <a:pt x="1980183" y="360032"/>
                </a:cubicBezTo>
                <a:cubicBezTo>
                  <a:pt x="1980183" y="360032"/>
                  <a:pt x="1980183" y="360032"/>
                  <a:pt x="1980183" y="360032"/>
                </a:cubicBezTo>
                <a:lnTo>
                  <a:pt x="1980183" y="360032"/>
                </a:lnTo>
                <a:lnTo>
                  <a:pt x="179958" y="360032"/>
                </a:lnTo>
                <a:lnTo>
                  <a:pt x="179958" y="360032"/>
                </a:lnTo>
                <a:cubicBezTo>
                  <a:pt x="80517" y="360032"/>
                  <a:pt x="0" y="279438"/>
                  <a:pt x="0" y="180009"/>
                </a:cubicBezTo>
                <a:cubicBezTo>
                  <a:pt x="0" y="180009"/>
                  <a:pt x="0" y="180009"/>
                  <a:pt x="0" y="180009"/>
                </a:cubicBezTo>
              </a:path>
            </a:pathLst>
          </a:custGeom>
          <a:solidFill>
            <a:srgbClr val="00000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97" name="Picture 3" descr=""/>
          <p:cNvPicPr/>
          <p:nvPr/>
        </p:nvPicPr>
        <p:blipFill>
          <a:blip r:embed="rId1"/>
          <a:stretch/>
        </p:blipFill>
        <p:spPr>
          <a:xfrm>
            <a:off x="165240" y="6362640"/>
            <a:ext cx="1536480" cy="3934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3" descr=""/>
          <p:cNvPicPr/>
          <p:nvPr/>
        </p:nvPicPr>
        <p:blipFill>
          <a:blip r:embed="rId2"/>
          <a:stretch/>
        </p:blipFill>
        <p:spPr>
          <a:xfrm>
            <a:off x="3492360" y="762120"/>
            <a:ext cx="2006280" cy="20062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3" descr=""/>
          <p:cNvPicPr/>
          <p:nvPr/>
        </p:nvPicPr>
        <p:blipFill>
          <a:blip r:embed="rId3"/>
          <a:stretch/>
        </p:blipFill>
        <p:spPr>
          <a:xfrm>
            <a:off x="3492360" y="3860640"/>
            <a:ext cx="2006280" cy="20062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3" descr=""/>
          <p:cNvPicPr/>
          <p:nvPr/>
        </p:nvPicPr>
        <p:blipFill>
          <a:blip r:embed="rId4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201" name="TextBox 1"/>
          <p:cNvSpPr/>
          <p:nvPr/>
        </p:nvSpPr>
        <p:spPr>
          <a:xfrm>
            <a:off x="8826120" y="6464160"/>
            <a:ext cx="10188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400"/>
              </a:lnSpc>
            </a:pPr>
            <a:r>
              <a:rPr b="0" lang="en-US" sz="1600" spc="-1" strike="noStrike">
                <a:solidFill>
                  <a:srgbClr val="7f7f7f"/>
                </a:solidFill>
                <a:latin typeface="Times New Roman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1"/>
          <p:cNvSpPr/>
          <p:nvPr/>
        </p:nvSpPr>
        <p:spPr>
          <a:xfrm>
            <a:off x="444600" y="190440"/>
            <a:ext cx="171360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4099"/>
              </a:lnSpc>
            </a:pPr>
            <a:r>
              <a:rPr b="1" lang="en-US" sz="3190" spc="-1" strike="noStrike">
                <a:solidFill>
                  <a:srgbClr val="000000"/>
                </a:solidFill>
                <a:latin typeface="微软雅黑"/>
              </a:rPr>
              <a:t>4</a:t>
            </a:r>
            <a:r>
              <a:rPr b="0" lang="en-US" sz="319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190" spc="-1" strike="noStrike">
                <a:solidFill>
                  <a:srgbClr val="000000"/>
                </a:solidFill>
                <a:latin typeface="微软雅黑"/>
              </a:rPr>
              <a:t>品牌评估</a:t>
            </a:r>
            <a:endParaRPr b="0" lang="en-US" sz="319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1"/>
          <p:cNvSpPr/>
          <p:nvPr/>
        </p:nvSpPr>
        <p:spPr>
          <a:xfrm>
            <a:off x="1256400" y="1371600"/>
            <a:ext cx="458280" cy="2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500"/>
              </a:lnSpc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</a:rPr>
              <a:t>整体认知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1"/>
          <p:cNvSpPr/>
          <p:nvPr/>
        </p:nvSpPr>
        <p:spPr>
          <a:xfrm>
            <a:off x="2034360" y="2514600"/>
            <a:ext cx="66780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500"/>
              </a:lnSpc>
              <a:tabLst>
                <a:tab algn="l" pos="1778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zh-CN" sz="1200" spc="-1" strike="noStrike">
                <a:solidFill>
                  <a:srgbClr val="ffffff"/>
                </a:solidFill>
                <a:latin typeface="微软雅黑"/>
              </a:rPr>
              <a:t>品牌要素</a:t>
            </a:r>
            <a:r>
              <a:rPr b="1" lang="en-US" sz="1200" spc="-1" strike="noStrike">
                <a:solidFill>
                  <a:srgbClr val="ffffff"/>
                </a:solidFill>
                <a:latin typeface="微软雅黑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77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77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17784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</a:rPr>
              <a:t>品牌要素</a:t>
            </a:r>
            <a:r>
              <a:rPr b="1" lang="en-US" sz="1200" spc="-1" strike="noStrike">
                <a:solidFill>
                  <a:srgbClr val="ffffff"/>
                </a:solidFill>
                <a:latin typeface="微软雅黑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1"/>
          <p:cNvSpPr/>
          <p:nvPr/>
        </p:nvSpPr>
        <p:spPr>
          <a:xfrm>
            <a:off x="2212200" y="3454560"/>
            <a:ext cx="489960" cy="2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500"/>
              </a:lnSpc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</a:rPr>
              <a:t>品牌要素</a:t>
            </a:r>
            <a:r>
              <a:rPr b="1" lang="en-US" sz="1200" spc="-1" strike="noStrike">
                <a:solidFill>
                  <a:srgbClr val="ffffff"/>
                </a:solidFill>
                <a:latin typeface="微软雅黑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1"/>
          <p:cNvSpPr/>
          <p:nvPr/>
        </p:nvSpPr>
        <p:spPr>
          <a:xfrm>
            <a:off x="7515000" y="3035160"/>
            <a:ext cx="183960" cy="2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500"/>
              </a:lnSpc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</a:rPr>
              <a:t>适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1"/>
          <p:cNvSpPr/>
          <p:nvPr/>
        </p:nvSpPr>
        <p:spPr>
          <a:xfrm>
            <a:off x="6473520" y="3683160"/>
            <a:ext cx="183960" cy="2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500"/>
              </a:lnSpc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</a:rPr>
              <a:t>喜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1"/>
          <p:cNvSpPr/>
          <p:nvPr/>
        </p:nvSpPr>
        <p:spPr>
          <a:xfrm>
            <a:off x="7019640" y="3352680"/>
            <a:ext cx="183960" cy="2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500"/>
              </a:lnSpc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</a:rPr>
              <a:t>信赖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1"/>
          <p:cNvSpPr/>
          <p:nvPr/>
        </p:nvSpPr>
        <p:spPr>
          <a:xfrm>
            <a:off x="7146720" y="939960"/>
            <a:ext cx="48888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500"/>
              </a:lnSpc>
              <a:tabLst>
                <a:tab algn="l" pos="152280"/>
                <a:tab algn="l" pos="30492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</a:rPr>
              <a:t>继续使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52280"/>
                <a:tab algn="l" pos="304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401"/>
              </a:lnSpc>
              <a:tabLst>
                <a:tab algn="l" pos="152280"/>
                <a:tab algn="l" pos="304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zh-CN" sz="1200" spc="-1" strike="noStrike">
                <a:solidFill>
                  <a:srgbClr val="ffffff"/>
                </a:solidFill>
                <a:latin typeface="微软雅黑"/>
              </a:rPr>
              <a:t>放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52280"/>
                <a:tab algn="l" pos="304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401"/>
              </a:lnSpc>
              <a:tabLst>
                <a:tab algn="l" pos="152280"/>
                <a:tab algn="l" pos="304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zh-CN" sz="1200" spc="-1" strike="noStrike">
                <a:solidFill>
                  <a:srgbClr val="ffffff"/>
                </a:solidFill>
                <a:latin typeface="微软雅黑"/>
              </a:rPr>
              <a:t>推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1"/>
          <p:cNvSpPr/>
          <p:nvPr/>
        </p:nvSpPr>
        <p:spPr>
          <a:xfrm>
            <a:off x="7035120" y="2705040"/>
            <a:ext cx="153360" cy="2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500"/>
              </a:lnSpc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</a:rPr>
              <a:t>一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1"/>
          <p:cNvSpPr/>
          <p:nvPr/>
        </p:nvSpPr>
        <p:spPr>
          <a:xfrm>
            <a:off x="6465960" y="2387520"/>
            <a:ext cx="275400" cy="2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500"/>
              </a:lnSpc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</a:rPr>
              <a:t>丌喜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1"/>
          <p:cNvSpPr/>
          <p:nvPr/>
        </p:nvSpPr>
        <p:spPr>
          <a:xfrm>
            <a:off x="4149360" y="1257480"/>
            <a:ext cx="641160" cy="9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3600"/>
              </a:lnSpc>
              <a:tabLst>
                <a:tab algn="l" pos="1904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zh-CN" sz="2810" spc="-1" strike="noStrike">
                <a:solidFill>
                  <a:srgbClr val="000000"/>
                </a:solidFill>
                <a:latin typeface="微软雅黑"/>
              </a:rPr>
              <a:t>品牌</a:t>
            </a:r>
            <a:endParaRPr b="0" lang="en-US" sz="281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00"/>
              </a:lnSpc>
              <a:tabLst>
                <a:tab algn="l" pos="190440"/>
              </a:tabLst>
            </a:pPr>
            <a:r>
              <a:rPr b="1" lang="zh-CN" sz="2810" spc="-1" strike="noStrike">
                <a:solidFill>
                  <a:srgbClr val="000000"/>
                </a:solidFill>
                <a:latin typeface="微软雅黑"/>
              </a:rPr>
              <a:t>影响力</a:t>
            </a:r>
            <a:endParaRPr b="0" lang="en-US" sz="281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1"/>
          <p:cNvSpPr/>
          <p:nvPr/>
        </p:nvSpPr>
        <p:spPr>
          <a:xfrm>
            <a:off x="4149360" y="4356000"/>
            <a:ext cx="641160" cy="9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3600"/>
              </a:lnSpc>
              <a:tabLst>
                <a:tab algn="l" pos="1904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zh-CN" sz="2810" spc="-1" strike="noStrike">
                <a:solidFill>
                  <a:srgbClr val="000000"/>
                </a:solidFill>
                <a:latin typeface="微软雅黑"/>
              </a:rPr>
              <a:t>品牌</a:t>
            </a:r>
            <a:endParaRPr b="0" lang="en-US" sz="281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00"/>
              </a:lnSpc>
              <a:tabLst>
                <a:tab algn="l" pos="190440"/>
              </a:tabLst>
            </a:pPr>
            <a:r>
              <a:rPr b="1" lang="zh-CN" sz="2810" spc="-1" strike="noStrike">
                <a:solidFill>
                  <a:srgbClr val="000000"/>
                </a:solidFill>
                <a:latin typeface="微软雅黑"/>
              </a:rPr>
              <a:t>健康度</a:t>
            </a:r>
            <a:endParaRPr b="0" lang="en-US" sz="281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1"/>
          <p:cNvSpPr/>
          <p:nvPr/>
        </p:nvSpPr>
        <p:spPr>
          <a:xfrm>
            <a:off x="2460600" y="1143000"/>
            <a:ext cx="41256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299"/>
              </a:lnSpc>
              <a:tabLst>
                <a:tab algn="l" pos="1144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</a:rPr>
              <a:t>品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100"/>
              </a:lnSpc>
              <a:tabLst>
                <a:tab algn="l" pos="11448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</a:rPr>
              <a:t>认知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1"/>
          <p:cNvSpPr/>
          <p:nvPr/>
        </p:nvSpPr>
        <p:spPr>
          <a:xfrm>
            <a:off x="3341880" y="2768760"/>
            <a:ext cx="27540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299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</a:rPr>
              <a:t>品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1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</a:rPr>
              <a:t>联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1"/>
          <p:cNvSpPr/>
          <p:nvPr/>
        </p:nvSpPr>
        <p:spPr>
          <a:xfrm>
            <a:off x="5361120" y="2768760"/>
            <a:ext cx="27540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299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</a:rPr>
              <a:t>品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1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</a:rPr>
              <a:t>偏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1"/>
          <p:cNvSpPr/>
          <p:nvPr/>
        </p:nvSpPr>
        <p:spPr>
          <a:xfrm>
            <a:off x="5989680" y="1181160"/>
            <a:ext cx="41508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299"/>
              </a:lnSpc>
              <a:tabLst>
                <a:tab algn="l" pos="13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</a:rPr>
              <a:t>品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100"/>
              </a:lnSpc>
              <a:tabLst>
                <a:tab algn="l" pos="13968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</a:rPr>
              <a:t>忠诚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1"/>
          <p:cNvSpPr/>
          <p:nvPr/>
        </p:nvSpPr>
        <p:spPr>
          <a:xfrm>
            <a:off x="1310040" y="5892840"/>
            <a:ext cx="961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299"/>
              </a:lnSpc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</a:rPr>
              <a:t>目标市场占有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1"/>
          <p:cNvSpPr/>
          <p:nvPr/>
        </p:nvSpPr>
        <p:spPr>
          <a:xfrm>
            <a:off x="4195440" y="5892840"/>
            <a:ext cx="549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299"/>
              </a:lnSpc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</a:rPr>
              <a:t>品牌纯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1"/>
          <p:cNvSpPr/>
          <p:nvPr/>
        </p:nvSpPr>
        <p:spPr>
          <a:xfrm>
            <a:off x="6737760" y="5892840"/>
            <a:ext cx="824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299"/>
              </a:lnSpc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</a:rPr>
              <a:t>消费者增长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223" name="TextBox 1"/>
          <p:cNvSpPr/>
          <p:nvPr/>
        </p:nvSpPr>
        <p:spPr>
          <a:xfrm>
            <a:off x="8826120" y="6464160"/>
            <a:ext cx="10188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400"/>
              </a:lnSpc>
            </a:pPr>
            <a:r>
              <a:rPr b="0" lang="en-US" sz="1600" spc="-1" strike="noStrike">
                <a:solidFill>
                  <a:srgbClr val="7f7f7f"/>
                </a:solidFill>
                <a:latin typeface="Times New Roman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1"/>
          <p:cNvSpPr/>
          <p:nvPr/>
        </p:nvSpPr>
        <p:spPr>
          <a:xfrm>
            <a:off x="525960" y="190440"/>
            <a:ext cx="195768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4099"/>
              </a:lnSpc>
            </a:pPr>
            <a:r>
              <a:rPr b="1" lang="en-US" sz="3190" spc="-1" strike="noStrike">
                <a:solidFill>
                  <a:srgbClr val="000000"/>
                </a:solidFill>
                <a:latin typeface="微软雅黑"/>
              </a:rPr>
              <a:t>5</a:t>
            </a:r>
            <a:r>
              <a:rPr b="0" lang="en-US" sz="319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190" spc="-1" strike="noStrike">
                <a:solidFill>
                  <a:srgbClr val="000000"/>
                </a:solidFill>
                <a:latin typeface="微软雅黑"/>
              </a:rPr>
              <a:t>跨部门合作</a:t>
            </a:r>
            <a:endParaRPr b="0" lang="en-US" sz="319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Freeform 3"/>
          <p:cNvSpPr/>
          <p:nvPr/>
        </p:nvSpPr>
        <p:spPr>
          <a:xfrm>
            <a:off x="0" y="0"/>
            <a:ext cx="9143640" cy="6857640"/>
          </a:xfrm>
          <a:custGeom>
            <a:avLst/>
            <a:gdLst>
              <a:gd name="textAreaLeft" fmla="*/ 0 w 9143640"/>
              <a:gd name="textAreaRight" fmla="*/ 9144000 w 9143640"/>
              <a:gd name="textAreaTop" fmla="*/ 0 h 6857640"/>
              <a:gd name="textAreaBottom" fmla="*/ 6858000 h 6857640"/>
            </a:gdLst>
            <a:ahLst/>
            <a:rect l="textAreaLeft" t="textAreaTop" r="textAreaRight" b="textAreaBottom"/>
            <a:pathLst>
              <a:path w="9144000" h="6858000">
                <a:moveTo>
                  <a:pt x="0" y="6858000"/>
                </a:moveTo>
                <a:lnTo>
                  <a:pt x="9144000" y="6858000"/>
                </a:lnTo>
                <a:lnTo>
                  <a:pt x="9144000" y="0"/>
                </a:lnTo>
                <a:lnTo>
                  <a:pt x="0" y="0"/>
                </a:lnTo>
                <a:lnTo>
                  <a:pt x="0" y="6858000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26" name="Freeform 3"/>
          <p:cNvSpPr/>
          <p:nvPr/>
        </p:nvSpPr>
        <p:spPr>
          <a:xfrm>
            <a:off x="1649520" y="6555240"/>
            <a:ext cx="7080480" cy="21960"/>
          </a:xfrm>
          <a:custGeom>
            <a:avLst/>
            <a:gdLst>
              <a:gd name="textAreaLeft" fmla="*/ 0 w 7080480"/>
              <a:gd name="textAreaRight" fmla="*/ 7080840 w 7080480"/>
              <a:gd name="textAreaTop" fmla="*/ 0 h 21960"/>
              <a:gd name="textAreaBottom" fmla="*/ 22320 h 21960"/>
            </a:gdLst>
            <a:ahLst/>
            <a:rect l="textAreaLeft" t="textAreaTop" r="textAreaRight" b="textAreaBottom"/>
            <a:pathLst>
              <a:path w="7080757" h="22225">
                <a:moveTo>
                  <a:pt x="6350" y="6350"/>
                </a:moveTo>
                <a:lnTo>
                  <a:pt x="7074407" y="6350"/>
                </a:lnTo>
              </a:path>
            </a:pathLst>
          </a:custGeom>
          <a:noFill/>
          <a:ln w="12700">
            <a:solidFill>
              <a:srgbClr val="7f7f7f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22680" bIns="-226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Freeform 3"/>
          <p:cNvSpPr/>
          <p:nvPr/>
        </p:nvSpPr>
        <p:spPr>
          <a:xfrm>
            <a:off x="2339640" y="2205000"/>
            <a:ext cx="4536360" cy="2664000"/>
          </a:xfrm>
          <a:custGeom>
            <a:avLst/>
            <a:gdLst>
              <a:gd name="textAreaLeft" fmla="*/ 0 w 4536360"/>
              <a:gd name="textAreaRight" fmla="*/ 4536720 w 4536360"/>
              <a:gd name="textAreaTop" fmla="*/ 0 h 2664000"/>
              <a:gd name="textAreaBottom" fmla="*/ 2664360 h 2664000"/>
            </a:gdLst>
            <a:ahLst/>
            <a:rect l="textAreaLeft" t="textAreaTop" r="textAreaRight" b="textAreaBottom"/>
            <a:pathLst>
              <a:path w="4536567" h="2664332">
                <a:moveTo>
                  <a:pt x="0" y="2664332"/>
                </a:moveTo>
                <a:lnTo>
                  <a:pt x="4536567" y="2664332"/>
                </a:lnTo>
                <a:lnTo>
                  <a:pt x="4536567" y="0"/>
                </a:lnTo>
                <a:lnTo>
                  <a:pt x="0" y="0"/>
                </a:lnTo>
                <a:lnTo>
                  <a:pt x="0" y="2664332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28" name="Freeform 3"/>
          <p:cNvSpPr/>
          <p:nvPr/>
        </p:nvSpPr>
        <p:spPr>
          <a:xfrm>
            <a:off x="2327040" y="2192040"/>
            <a:ext cx="4561560" cy="2689200"/>
          </a:xfrm>
          <a:custGeom>
            <a:avLst/>
            <a:gdLst>
              <a:gd name="textAreaLeft" fmla="*/ 0 w 4561560"/>
              <a:gd name="textAreaRight" fmla="*/ 4561920 w 4561560"/>
              <a:gd name="textAreaTop" fmla="*/ 0 h 2689200"/>
              <a:gd name="textAreaBottom" fmla="*/ 2689560 h 2689200"/>
            </a:gdLst>
            <a:ahLst/>
            <a:rect l="textAreaLeft" t="textAreaTop" r="textAreaRight" b="textAreaBottom"/>
            <a:pathLst>
              <a:path w="4561967" h="2689732">
                <a:moveTo>
                  <a:pt x="12700" y="2677032"/>
                </a:moveTo>
                <a:lnTo>
                  <a:pt x="4549267" y="2677032"/>
                </a:lnTo>
                <a:lnTo>
                  <a:pt x="4549267" y="12700"/>
                </a:lnTo>
                <a:lnTo>
                  <a:pt x="12700" y="12700"/>
                </a:lnTo>
                <a:lnTo>
                  <a:pt x="12700" y="2677032"/>
                </a:lnTo>
              </a:path>
            </a:pathLst>
          </a:custGeom>
          <a:noFill/>
          <a:ln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29" name="Freeform 3"/>
          <p:cNvSpPr/>
          <p:nvPr/>
        </p:nvSpPr>
        <p:spPr>
          <a:xfrm>
            <a:off x="683640" y="1412640"/>
            <a:ext cx="2031120" cy="369000"/>
          </a:xfrm>
          <a:custGeom>
            <a:avLst/>
            <a:gdLst>
              <a:gd name="textAreaLeft" fmla="*/ 0 w 2031120"/>
              <a:gd name="textAreaRight" fmla="*/ 2031480 w 2031120"/>
              <a:gd name="textAreaTop" fmla="*/ 0 h 369000"/>
              <a:gd name="textAreaBottom" fmla="*/ 369360 h 369000"/>
            </a:gdLst>
            <a:ahLst/>
            <a:rect l="textAreaLeft" t="textAreaTop" r="textAreaRight" b="textAreaBottom"/>
            <a:pathLst>
              <a:path w="2031364" h="369328">
                <a:moveTo>
                  <a:pt x="0" y="369328"/>
                </a:moveTo>
                <a:lnTo>
                  <a:pt x="2031365" y="369328"/>
                </a:lnTo>
                <a:lnTo>
                  <a:pt x="2031365" y="0"/>
                </a:lnTo>
                <a:lnTo>
                  <a:pt x="0" y="0"/>
                </a:lnTo>
                <a:lnTo>
                  <a:pt x="0" y="369328"/>
                </a:lnTo>
              </a:path>
            </a:pathLst>
          </a:custGeom>
          <a:solidFill>
            <a:srgbClr val="00000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0" name="Freeform 3"/>
          <p:cNvSpPr/>
          <p:nvPr/>
        </p:nvSpPr>
        <p:spPr>
          <a:xfrm>
            <a:off x="3391920" y="1412640"/>
            <a:ext cx="2043720" cy="369000"/>
          </a:xfrm>
          <a:custGeom>
            <a:avLst/>
            <a:gdLst>
              <a:gd name="textAreaLeft" fmla="*/ 0 w 2043720"/>
              <a:gd name="textAreaRight" fmla="*/ 2044080 w 2043720"/>
              <a:gd name="textAreaTop" fmla="*/ 0 h 369000"/>
              <a:gd name="textAreaBottom" fmla="*/ 369360 h 369000"/>
            </a:gdLst>
            <a:ahLst/>
            <a:rect l="textAreaLeft" t="textAreaTop" r="textAreaRight" b="textAreaBottom"/>
            <a:pathLst>
              <a:path w="2044192" h="369328">
                <a:moveTo>
                  <a:pt x="0" y="369328"/>
                </a:moveTo>
                <a:lnTo>
                  <a:pt x="2044192" y="369328"/>
                </a:lnTo>
                <a:lnTo>
                  <a:pt x="2044192" y="0"/>
                </a:lnTo>
                <a:lnTo>
                  <a:pt x="0" y="0"/>
                </a:lnTo>
                <a:lnTo>
                  <a:pt x="0" y="369328"/>
                </a:lnTo>
              </a:path>
            </a:pathLst>
          </a:custGeom>
          <a:solidFill>
            <a:srgbClr val="7f7f7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1" name="Freeform 3"/>
          <p:cNvSpPr/>
          <p:nvPr/>
        </p:nvSpPr>
        <p:spPr>
          <a:xfrm>
            <a:off x="6285240" y="1412640"/>
            <a:ext cx="2031120" cy="369000"/>
          </a:xfrm>
          <a:custGeom>
            <a:avLst/>
            <a:gdLst>
              <a:gd name="textAreaLeft" fmla="*/ 0 w 2031120"/>
              <a:gd name="textAreaRight" fmla="*/ 2031480 w 2031120"/>
              <a:gd name="textAreaTop" fmla="*/ 0 h 369000"/>
              <a:gd name="textAreaBottom" fmla="*/ 369360 h 369000"/>
            </a:gdLst>
            <a:ahLst/>
            <a:rect l="textAreaLeft" t="textAreaTop" r="textAreaRight" b="textAreaBottom"/>
            <a:pathLst>
              <a:path w="2031365" h="369328">
                <a:moveTo>
                  <a:pt x="0" y="369328"/>
                </a:moveTo>
                <a:lnTo>
                  <a:pt x="2031365" y="369328"/>
                </a:lnTo>
                <a:lnTo>
                  <a:pt x="2031365" y="0"/>
                </a:lnTo>
                <a:lnTo>
                  <a:pt x="0" y="0"/>
                </a:lnTo>
                <a:lnTo>
                  <a:pt x="0" y="369328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2" name="Freeform 3"/>
          <p:cNvSpPr/>
          <p:nvPr/>
        </p:nvSpPr>
        <p:spPr>
          <a:xfrm>
            <a:off x="6247080" y="1374480"/>
            <a:ext cx="2107080" cy="445320"/>
          </a:xfrm>
          <a:custGeom>
            <a:avLst/>
            <a:gdLst>
              <a:gd name="textAreaLeft" fmla="*/ 0 w 2107080"/>
              <a:gd name="textAreaRight" fmla="*/ 2107440 w 2107080"/>
              <a:gd name="textAreaTop" fmla="*/ 0 h 445320"/>
              <a:gd name="textAreaBottom" fmla="*/ 445680 h 445320"/>
            </a:gdLst>
            <a:ahLst/>
            <a:rect l="textAreaLeft" t="textAreaTop" r="textAreaRight" b="textAreaBottom"/>
            <a:pathLst>
              <a:path w="2107565" h="445528">
                <a:moveTo>
                  <a:pt x="38100" y="407428"/>
                </a:moveTo>
                <a:lnTo>
                  <a:pt x="2069465" y="407428"/>
                </a:lnTo>
                <a:lnTo>
                  <a:pt x="2069465" y="38100"/>
                </a:lnTo>
                <a:lnTo>
                  <a:pt x="38100" y="38100"/>
                </a:lnTo>
                <a:lnTo>
                  <a:pt x="38100" y="407428"/>
                </a:lnTo>
              </a:path>
            </a:pathLst>
          </a:custGeom>
          <a:noFill/>
          <a:ln w="76200"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3" name="Freeform 3"/>
          <p:cNvSpPr/>
          <p:nvPr/>
        </p:nvSpPr>
        <p:spPr>
          <a:xfrm>
            <a:off x="2411640" y="2277000"/>
            <a:ext cx="4392360" cy="359640"/>
          </a:xfrm>
          <a:custGeom>
            <a:avLst/>
            <a:gdLst>
              <a:gd name="textAreaLeft" fmla="*/ 0 w 4392360"/>
              <a:gd name="textAreaRight" fmla="*/ 4392720 w 4392360"/>
              <a:gd name="textAreaTop" fmla="*/ 0 h 359640"/>
              <a:gd name="textAreaBottom" fmla="*/ 360000 h 359640"/>
            </a:gdLst>
            <a:ahLst/>
            <a:rect l="textAreaLeft" t="textAreaTop" r="textAreaRight" b="textAreaBottom"/>
            <a:pathLst>
              <a:path w="4392549" h="360045">
                <a:moveTo>
                  <a:pt x="0" y="360045"/>
                </a:moveTo>
                <a:lnTo>
                  <a:pt x="4392549" y="360045"/>
                </a:lnTo>
                <a:lnTo>
                  <a:pt x="4392549" y="0"/>
                </a:lnTo>
                <a:lnTo>
                  <a:pt x="0" y="0"/>
                </a:lnTo>
                <a:lnTo>
                  <a:pt x="0" y="360045"/>
                </a:lnTo>
              </a:path>
            </a:pathLst>
          </a:custGeom>
          <a:solidFill>
            <a:srgbClr val="00000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4" name="Freeform 3"/>
          <p:cNvSpPr/>
          <p:nvPr/>
        </p:nvSpPr>
        <p:spPr>
          <a:xfrm>
            <a:off x="2411640" y="3861000"/>
            <a:ext cx="4392360" cy="359640"/>
          </a:xfrm>
          <a:custGeom>
            <a:avLst/>
            <a:gdLst>
              <a:gd name="textAreaLeft" fmla="*/ 0 w 4392360"/>
              <a:gd name="textAreaRight" fmla="*/ 4392720 w 4392360"/>
              <a:gd name="textAreaTop" fmla="*/ 0 h 359640"/>
              <a:gd name="textAreaBottom" fmla="*/ 360000 h 359640"/>
            </a:gdLst>
            <a:ahLst/>
            <a:rect l="textAreaLeft" t="textAreaTop" r="textAreaRight" b="textAreaBottom"/>
            <a:pathLst>
              <a:path w="4392549" h="360045">
                <a:moveTo>
                  <a:pt x="0" y="360045"/>
                </a:moveTo>
                <a:lnTo>
                  <a:pt x="4392549" y="360045"/>
                </a:lnTo>
                <a:lnTo>
                  <a:pt x="4392549" y="0"/>
                </a:lnTo>
                <a:lnTo>
                  <a:pt x="0" y="0"/>
                </a:lnTo>
                <a:lnTo>
                  <a:pt x="0" y="360045"/>
                </a:lnTo>
              </a:path>
            </a:pathLst>
          </a:custGeom>
          <a:solidFill>
            <a:srgbClr val="7f7f7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5" name="Freeform 3"/>
          <p:cNvSpPr/>
          <p:nvPr/>
        </p:nvSpPr>
        <p:spPr>
          <a:xfrm>
            <a:off x="2411640" y="4437000"/>
            <a:ext cx="4392360" cy="359640"/>
          </a:xfrm>
          <a:custGeom>
            <a:avLst/>
            <a:gdLst>
              <a:gd name="textAreaLeft" fmla="*/ 0 w 4392360"/>
              <a:gd name="textAreaRight" fmla="*/ 4392720 w 4392360"/>
              <a:gd name="textAreaTop" fmla="*/ 0 h 359640"/>
              <a:gd name="textAreaBottom" fmla="*/ 360000 h 359640"/>
            </a:gdLst>
            <a:ahLst/>
            <a:rect l="textAreaLeft" t="textAreaTop" r="textAreaRight" b="textAreaBottom"/>
            <a:pathLst>
              <a:path w="4392549" h="360045">
                <a:moveTo>
                  <a:pt x="0" y="360045"/>
                </a:moveTo>
                <a:lnTo>
                  <a:pt x="4392549" y="360045"/>
                </a:lnTo>
                <a:lnTo>
                  <a:pt x="4392549" y="0"/>
                </a:lnTo>
                <a:lnTo>
                  <a:pt x="0" y="0"/>
                </a:lnTo>
                <a:lnTo>
                  <a:pt x="0" y="360045"/>
                </a:lnTo>
              </a:path>
            </a:pathLst>
          </a:custGeom>
          <a:solidFill>
            <a:srgbClr val="a6a6a6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6" name="Freeform 3"/>
          <p:cNvSpPr/>
          <p:nvPr/>
        </p:nvSpPr>
        <p:spPr>
          <a:xfrm>
            <a:off x="2411640" y="3357000"/>
            <a:ext cx="4392360" cy="359640"/>
          </a:xfrm>
          <a:custGeom>
            <a:avLst/>
            <a:gdLst>
              <a:gd name="textAreaLeft" fmla="*/ 0 w 4392360"/>
              <a:gd name="textAreaRight" fmla="*/ 4392720 w 4392360"/>
              <a:gd name="textAreaTop" fmla="*/ 0 h 359640"/>
              <a:gd name="textAreaBottom" fmla="*/ 360000 h 359640"/>
            </a:gdLst>
            <a:ahLst/>
            <a:rect l="textAreaLeft" t="textAreaTop" r="textAreaRight" b="textAreaBottom"/>
            <a:pathLst>
              <a:path w="4392549" h="360045">
                <a:moveTo>
                  <a:pt x="0" y="360045"/>
                </a:moveTo>
                <a:lnTo>
                  <a:pt x="4392549" y="360045"/>
                </a:lnTo>
                <a:lnTo>
                  <a:pt x="4392549" y="0"/>
                </a:lnTo>
                <a:lnTo>
                  <a:pt x="0" y="0"/>
                </a:lnTo>
                <a:lnTo>
                  <a:pt x="0" y="360045"/>
                </a:lnTo>
              </a:path>
            </a:pathLst>
          </a:custGeom>
          <a:solidFill>
            <a:srgbClr val="a6a6a6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7" name="Freeform 3"/>
          <p:cNvSpPr/>
          <p:nvPr/>
        </p:nvSpPr>
        <p:spPr>
          <a:xfrm>
            <a:off x="2411640" y="2853000"/>
            <a:ext cx="4392360" cy="359640"/>
          </a:xfrm>
          <a:custGeom>
            <a:avLst/>
            <a:gdLst>
              <a:gd name="textAreaLeft" fmla="*/ 0 w 4392360"/>
              <a:gd name="textAreaRight" fmla="*/ 4392720 w 4392360"/>
              <a:gd name="textAreaTop" fmla="*/ 0 h 359640"/>
              <a:gd name="textAreaBottom" fmla="*/ 360000 h 359640"/>
            </a:gdLst>
            <a:ahLst/>
            <a:rect l="textAreaLeft" t="textAreaTop" r="textAreaRight" b="textAreaBottom"/>
            <a:pathLst>
              <a:path w="4392549" h="360045">
                <a:moveTo>
                  <a:pt x="0" y="360045"/>
                </a:moveTo>
                <a:lnTo>
                  <a:pt x="4392549" y="360045"/>
                </a:lnTo>
                <a:lnTo>
                  <a:pt x="4392549" y="0"/>
                </a:lnTo>
                <a:lnTo>
                  <a:pt x="0" y="0"/>
                </a:lnTo>
                <a:lnTo>
                  <a:pt x="0" y="360045"/>
                </a:lnTo>
              </a:path>
            </a:pathLst>
          </a:custGeom>
          <a:solidFill>
            <a:srgbClr val="7f7f7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8" name="Freeform 3"/>
          <p:cNvSpPr/>
          <p:nvPr/>
        </p:nvSpPr>
        <p:spPr>
          <a:xfrm>
            <a:off x="7236360" y="3789360"/>
            <a:ext cx="1151280" cy="1361880"/>
          </a:xfrm>
          <a:custGeom>
            <a:avLst/>
            <a:gdLst>
              <a:gd name="textAreaLeft" fmla="*/ 0 w 1151280"/>
              <a:gd name="textAreaRight" fmla="*/ 1151640 w 1151280"/>
              <a:gd name="textAreaTop" fmla="*/ 0 h 1361880"/>
              <a:gd name="textAreaBottom" fmla="*/ 1362240 h 1361880"/>
            </a:gdLst>
            <a:ahLst/>
            <a:rect l="textAreaLeft" t="textAreaTop" r="textAreaRight" b="textAreaBottom"/>
            <a:pathLst>
              <a:path w="1151724" h="1362231">
                <a:moveTo>
                  <a:pt x="176853" y="1362231"/>
                </a:moveTo>
                <a:lnTo>
                  <a:pt x="221939" y="1030380"/>
                </a:lnTo>
                <a:lnTo>
                  <a:pt x="221939" y="1030380"/>
                </a:lnTo>
                <a:cubicBezTo>
                  <a:pt x="-29140" y="834926"/>
                  <a:pt x="-74098" y="472976"/>
                  <a:pt x="121354" y="221898"/>
                </a:cubicBezTo>
                <a:cubicBezTo>
                  <a:pt x="316807" y="-29054"/>
                  <a:pt x="678757" y="-74138"/>
                  <a:pt x="929709" y="121314"/>
                </a:cubicBezTo>
                <a:cubicBezTo>
                  <a:pt x="1180789" y="316767"/>
                  <a:pt x="1225874" y="678717"/>
                  <a:pt x="1030420" y="929795"/>
                </a:cubicBezTo>
                <a:cubicBezTo>
                  <a:pt x="886149" y="1115089"/>
                  <a:pt x="643832" y="1194210"/>
                  <a:pt x="417900" y="1129820"/>
                </a:cubicBezTo>
                <a:lnTo>
                  <a:pt x="176853" y="1362231"/>
                </a:lnTo>
              </a:path>
            </a:pathLst>
          </a:custGeom>
          <a:solidFill>
            <a:srgbClr val="00000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9" name="Freeform 3"/>
          <p:cNvSpPr/>
          <p:nvPr/>
        </p:nvSpPr>
        <p:spPr>
          <a:xfrm>
            <a:off x="7217640" y="3770280"/>
            <a:ext cx="1189440" cy="1400040"/>
          </a:xfrm>
          <a:custGeom>
            <a:avLst/>
            <a:gdLst>
              <a:gd name="textAreaLeft" fmla="*/ 0 w 1189440"/>
              <a:gd name="textAreaRight" fmla="*/ 1189800 w 1189440"/>
              <a:gd name="textAreaTop" fmla="*/ 0 h 1400040"/>
              <a:gd name="textAreaBottom" fmla="*/ 1400400 h 1400040"/>
            </a:gdLst>
            <a:ahLst/>
            <a:rect l="textAreaLeft" t="textAreaTop" r="textAreaRight" b="textAreaBottom"/>
            <a:pathLst>
              <a:path w="1189824" h="1400331">
                <a:moveTo>
                  <a:pt x="195903" y="1381281"/>
                </a:moveTo>
                <a:lnTo>
                  <a:pt x="240989" y="1049430"/>
                </a:lnTo>
                <a:lnTo>
                  <a:pt x="240989" y="1049430"/>
                </a:lnTo>
                <a:cubicBezTo>
                  <a:pt x="-10090" y="853976"/>
                  <a:pt x="-55048" y="492026"/>
                  <a:pt x="140404" y="240948"/>
                </a:cubicBezTo>
                <a:cubicBezTo>
                  <a:pt x="335857" y="-10004"/>
                  <a:pt x="697807" y="-55088"/>
                  <a:pt x="948759" y="140364"/>
                </a:cubicBezTo>
                <a:cubicBezTo>
                  <a:pt x="1199839" y="335817"/>
                  <a:pt x="1244924" y="697767"/>
                  <a:pt x="1049470" y="948845"/>
                </a:cubicBezTo>
                <a:cubicBezTo>
                  <a:pt x="905199" y="1134139"/>
                  <a:pt x="662882" y="1213260"/>
                  <a:pt x="436950" y="1148870"/>
                </a:cubicBezTo>
                <a:lnTo>
                  <a:pt x="195903" y="1381281"/>
                </a:lnTo>
              </a:path>
            </a:pathLst>
          </a:custGeom>
          <a:noFill/>
          <a:ln w="38100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240" name="Picture 3" descr=""/>
          <p:cNvPicPr/>
          <p:nvPr/>
        </p:nvPicPr>
        <p:blipFill>
          <a:blip r:embed="rId1"/>
          <a:stretch/>
        </p:blipFill>
        <p:spPr>
          <a:xfrm>
            <a:off x="165240" y="6362640"/>
            <a:ext cx="1536480" cy="3934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3" descr=""/>
          <p:cNvPicPr/>
          <p:nvPr/>
        </p:nvPicPr>
        <p:blipFill>
          <a:blip r:embed="rId2"/>
          <a:stretch/>
        </p:blipFill>
        <p:spPr>
          <a:xfrm>
            <a:off x="7162920" y="3733920"/>
            <a:ext cx="1307880" cy="151092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3" descr=""/>
          <p:cNvPicPr/>
          <p:nvPr/>
        </p:nvPicPr>
        <p:blipFill>
          <a:blip r:embed="rId3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243" name="TextBox 1"/>
          <p:cNvSpPr/>
          <p:nvPr/>
        </p:nvSpPr>
        <p:spPr>
          <a:xfrm>
            <a:off x="606960" y="190440"/>
            <a:ext cx="220140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4099"/>
              </a:lnSpc>
            </a:pPr>
            <a:r>
              <a:rPr b="1" lang="en-US" sz="3190" spc="-1" strike="noStrike">
                <a:solidFill>
                  <a:srgbClr val="000000"/>
                </a:solidFill>
                <a:latin typeface="微软雅黑"/>
              </a:rPr>
              <a:t>6</a:t>
            </a:r>
            <a:r>
              <a:rPr b="0" lang="en-US" sz="319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190" spc="-1" strike="noStrike">
                <a:solidFill>
                  <a:srgbClr val="000000"/>
                </a:solidFill>
                <a:latin typeface="微软雅黑"/>
              </a:rPr>
              <a:t>品牌团队激励</a:t>
            </a:r>
            <a:endParaRPr b="0" lang="en-US" sz="319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1"/>
          <p:cNvSpPr/>
          <p:nvPr/>
        </p:nvSpPr>
        <p:spPr>
          <a:xfrm>
            <a:off x="869040" y="5194440"/>
            <a:ext cx="8066160" cy="14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100"/>
              </a:lnSpc>
              <a:tabLst>
                <a:tab algn="l" pos="796284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</a:rPr>
              <a:t>精神奖励，如点名表扬、优秀个人列席公司高层会议等，也是团队激励的有效手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7962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7962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7962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7962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7962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7962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7962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99"/>
              </a:lnSpc>
              <a:tabLst>
                <a:tab algn="l" pos="79628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7f7f7f"/>
                </a:solidFill>
                <a:latin typeface="Times New Roma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1"/>
          <p:cNvSpPr/>
          <p:nvPr/>
        </p:nvSpPr>
        <p:spPr>
          <a:xfrm>
            <a:off x="1139760" y="1434960"/>
            <a:ext cx="1098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299"/>
              </a:lnSpc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</a:rPr>
              <a:t>品牌发展指标得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1"/>
          <p:cNvSpPr/>
          <p:nvPr/>
        </p:nvSpPr>
        <p:spPr>
          <a:xfrm>
            <a:off x="6740280" y="1434960"/>
            <a:ext cx="1098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299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</a:rPr>
              <a:t>品牌经理考评得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1"/>
          <p:cNvSpPr/>
          <p:nvPr/>
        </p:nvSpPr>
        <p:spPr>
          <a:xfrm>
            <a:off x="3765960" y="1473120"/>
            <a:ext cx="1256040" cy="11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800"/>
              </a:lnSpc>
              <a:tabLst>
                <a:tab algn="l" pos="104148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黑体"/>
              </a:rPr>
              <a:t>团队管理指标得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041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041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041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041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01"/>
              </a:lnSpc>
              <a:tabLst>
                <a:tab algn="l" pos="1041480"/>
              </a:tabLst>
            </a:pPr>
            <a:r>
              <a:rPr b="1" lang="zh-CN" sz="1390" spc="-1" strike="noStrike">
                <a:solidFill>
                  <a:srgbClr val="ffffff"/>
                </a:solidFill>
                <a:latin typeface="微软雅黑"/>
              </a:rPr>
              <a:t>晋升</a:t>
            </a:r>
            <a:endParaRPr b="0" lang="en-US" sz="139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0"/>
              </a:lnSpc>
              <a:tabLst>
                <a:tab algn="l" pos="10414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zh-CN" sz="1390" spc="-1" strike="noStrike">
                <a:solidFill>
                  <a:srgbClr val="ffffff"/>
                </a:solidFill>
                <a:latin typeface="微软雅黑"/>
              </a:rPr>
              <a:t>奖金</a:t>
            </a:r>
            <a:endParaRPr b="0" lang="en-US" sz="139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1"/>
          <p:cNvSpPr/>
          <p:nvPr/>
        </p:nvSpPr>
        <p:spPr>
          <a:xfrm>
            <a:off x="2566080" y="2882880"/>
            <a:ext cx="2145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800"/>
              </a:lnSpc>
            </a:pPr>
            <a:r>
              <a:rPr b="1" lang="zh-CN" sz="1390" spc="-1" strike="noStrike">
                <a:solidFill>
                  <a:srgbClr val="ffffff"/>
                </a:solidFill>
                <a:latin typeface="微软雅黑"/>
              </a:rPr>
              <a:t>优秀</a:t>
            </a:r>
            <a:endParaRPr b="0" lang="en-US" sz="139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</a:pPr>
            <a:r>
              <a:rPr b="1" lang="zh-CN" sz="1390" spc="-1" strike="noStrike">
                <a:solidFill>
                  <a:srgbClr val="ffffff"/>
                </a:solidFill>
                <a:latin typeface="微软雅黑"/>
              </a:rPr>
              <a:t>良好</a:t>
            </a:r>
            <a:endParaRPr b="0" lang="en-US" sz="139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1"/>
          <p:cNvSpPr/>
          <p:nvPr/>
        </p:nvSpPr>
        <p:spPr>
          <a:xfrm>
            <a:off x="3531240" y="2882880"/>
            <a:ext cx="2145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800"/>
              </a:lnSpc>
            </a:pPr>
            <a:r>
              <a:rPr b="1" lang="zh-CN" sz="1390" spc="-1" strike="noStrike">
                <a:solidFill>
                  <a:srgbClr val="ffffff"/>
                </a:solidFill>
                <a:latin typeface="微软雅黑"/>
              </a:rPr>
              <a:t>最快</a:t>
            </a:r>
            <a:endParaRPr b="0" lang="en-US" sz="139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</a:pPr>
            <a:r>
              <a:rPr b="1" lang="zh-CN" sz="1390" spc="-1" strike="noStrike">
                <a:solidFill>
                  <a:srgbClr val="ffffff"/>
                </a:solidFill>
                <a:latin typeface="微软雅黑"/>
              </a:rPr>
              <a:t>较快</a:t>
            </a:r>
            <a:endParaRPr b="0" lang="en-US" sz="139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1"/>
          <p:cNvSpPr/>
          <p:nvPr/>
        </p:nvSpPr>
        <p:spPr>
          <a:xfrm>
            <a:off x="4411080" y="2882880"/>
            <a:ext cx="65124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800"/>
              </a:lnSpc>
            </a:pPr>
            <a:r>
              <a:rPr b="1" lang="en-US" sz="1390" spc="-1" strike="noStrike">
                <a:solidFill>
                  <a:srgbClr val="ffffff"/>
                </a:solidFill>
                <a:latin typeface="微软雅黑"/>
              </a:rPr>
              <a:t>XX%</a:t>
            </a:r>
            <a:r>
              <a:rPr b="1" lang="zh-CN" sz="1390" spc="-1" strike="noStrike">
                <a:solidFill>
                  <a:srgbClr val="ffffff"/>
                </a:solidFill>
                <a:latin typeface="微软雅黑"/>
              </a:rPr>
              <a:t>年薪</a:t>
            </a:r>
            <a:endParaRPr b="0" lang="en-US" sz="139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</a:pPr>
            <a:r>
              <a:rPr b="1" lang="en-US" sz="1390" spc="-1" strike="noStrike">
                <a:solidFill>
                  <a:srgbClr val="ffffff"/>
                </a:solidFill>
                <a:latin typeface="微软雅黑"/>
              </a:rPr>
              <a:t>XX%</a:t>
            </a:r>
            <a:r>
              <a:rPr b="1" lang="zh-CN" sz="1390" spc="-1" strike="noStrike">
                <a:solidFill>
                  <a:srgbClr val="ffffff"/>
                </a:solidFill>
                <a:latin typeface="微软雅黑"/>
              </a:rPr>
              <a:t>年薪</a:t>
            </a:r>
            <a:endParaRPr b="0" lang="en-US" sz="139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1"/>
          <p:cNvSpPr/>
          <p:nvPr/>
        </p:nvSpPr>
        <p:spPr>
          <a:xfrm>
            <a:off x="5549400" y="2882880"/>
            <a:ext cx="94068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800"/>
              </a:lnSpc>
            </a:pPr>
            <a:r>
              <a:rPr b="1" lang="zh-CN" sz="1390" spc="-1" strike="noStrike">
                <a:solidFill>
                  <a:srgbClr val="ffffff"/>
                </a:solidFill>
                <a:latin typeface="微软雅黑"/>
              </a:rPr>
              <a:t>工资涨幅</a:t>
            </a:r>
            <a:r>
              <a:rPr b="1" lang="en-US" sz="1390" spc="-1" strike="noStrike">
                <a:solidFill>
                  <a:srgbClr val="ffffff"/>
                </a:solidFill>
                <a:latin typeface="微软雅黑"/>
              </a:rPr>
              <a:t>x1.X</a:t>
            </a:r>
            <a:endParaRPr b="0" lang="en-US" sz="139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</a:pPr>
            <a:r>
              <a:rPr b="1" lang="zh-CN" sz="1390" spc="-1" strike="noStrike">
                <a:solidFill>
                  <a:srgbClr val="ffffff"/>
                </a:solidFill>
                <a:latin typeface="微软雅黑"/>
              </a:rPr>
              <a:t>工资涨幅</a:t>
            </a:r>
            <a:r>
              <a:rPr b="1" lang="en-US" sz="1390" spc="-1" strike="noStrike">
                <a:solidFill>
                  <a:srgbClr val="ffffff"/>
                </a:solidFill>
                <a:latin typeface="微软雅黑"/>
              </a:rPr>
              <a:t>x1.0X</a:t>
            </a:r>
            <a:endParaRPr b="0" lang="en-US" sz="139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1"/>
          <p:cNvSpPr/>
          <p:nvPr/>
        </p:nvSpPr>
        <p:spPr>
          <a:xfrm>
            <a:off x="2566080" y="3936960"/>
            <a:ext cx="2145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800"/>
              </a:lnSpc>
              <a:tabLst>
                <a:tab algn="l" pos="101520"/>
              </a:tabLst>
            </a:pPr>
            <a:r>
              <a:rPr b="1" lang="zh-CN" sz="1390" spc="-1" strike="noStrike">
                <a:solidFill>
                  <a:srgbClr val="ffffff"/>
                </a:solidFill>
                <a:latin typeface="微软雅黑"/>
              </a:rPr>
              <a:t>中等</a:t>
            </a:r>
            <a:endParaRPr b="0" lang="en-US" sz="139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01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01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tabLst>
                <a:tab algn="l" pos="101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zh-CN" sz="1390" spc="-1" strike="noStrike">
                <a:solidFill>
                  <a:srgbClr val="ffffff"/>
                </a:solidFill>
                <a:latin typeface="微软雅黑"/>
              </a:rPr>
              <a:t>差</a:t>
            </a:r>
            <a:endParaRPr b="0" lang="en-US" sz="139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1"/>
          <p:cNvSpPr/>
          <p:nvPr/>
        </p:nvSpPr>
        <p:spPr>
          <a:xfrm>
            <a:off x="3527280" y="3936960"/>
            <a:ext cx="22212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800"/>
              </a:lnSpc>
              <a:tabLst>
                <a:tab algn="l" pos="114480"/>
              </a:tabLst>
            </a:pPr>
            <a:r>
              <a:rPr b="1" lang="zh-CN" sz="1390" spc="-1" strike="noStrike">
                <a:solidFill>
                  <a:srgbClr val="ffffff"/>
                </a:solidFill>
                <a:latin typeface="微软雅黑"/>
              </a:rPr>
              <a:t>正常</a:t>
            </a:r>
            <a:endParaRPr b="0" lang="en-US" sz="139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14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14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tabLst>
                <a:tab algn="l" pos="1144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zh-CN" sz="1390" spc="-1" strike="noStrike">
                <a:solidFill>
                  <a:srgbClr val="ffffff"/>
                </a:solidFill>
                <a:latin typeface="微软雅黑"/>
              </a:rPr>
              <a:t>无</a:t>
            </a:r>
            <a:endParaRPr b="0" lang="en-US" sz="139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1"/>
          <p:cNvSpPr/>
          <p:nvPr/>
        </p:nvSpPr>
        <p:spPr>
          <a:xfrm>
            <a:off x="4411080" y="3936960"/>
            <a:ext cx="65124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800"/>
              </a:lnSpc>
              <a:tabLst>
                <a:tab algn="l" pos="368280"/>
              </a:tabLst>
            </a:pPr>
            <a:r>
              <a:rPr b="1" lang="en-US" sz="1390" spc="-1" strike="noStrike">
                <a:solidFill>
                  <a:srgbClr val="ffffff"/>
                </a:solidFill>
                <a:latin typeface="微软雅黑"/>
              </a:rPr>
              <a:t>XX%</a:t>
            </a:r>
            <a:r>
              <a:rPr b="1" lang="zh-CN" sz="1390" spc="-1" strike="noStrike">
                <a:solidFill>
                  <a:srgbClr val="ffffff"/>
                </a:solidFill>
                <a:latin typeface="微软雅黑"/>
              </a:rPr>
              <a:t>年薪</a:t>
            </a:r>
            <a:endParaRPr b="0" lang="en-US" sz="139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368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368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tabLst>
                <a:tab algn="l" pos="3682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zh-CN" sz="1390" spc="-1" strike="noStrike">
                <a:solidFill>
                  <a:srgbClr val="ffffff"/>
                </a:solidFill>
                <a:latin typeface="微软雅黑"/>
              </a:rPr>
              <a:t>无</a:t>
            </a:r>
            <a:endParaRPr b="0" lang="en-US" sz="139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1"/>
          <p:cNvSpPr/>
          <p:nvPr/>
        </p:nvSpPr>
        <p:spPr>
          <a:xfrm>
            <a:off x="5629320" y="3936960"/>
            <a:ext cx="6411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800"/>
              </a:lnSpc>
              <a:tabLst>
                <a:tab algn="l" pos="457200"/>
              </a:tabLst>
            </a:pPr>
            <a:r>
              <a:rPr b="1" lang="zh-CN" sz="1390" spc="-1" strike="noStrike">
                <a:solidFill>
                  <a:srgbClr val="ffffff"/>
                </a:solidFill>
                <a:latin typeface="微软雅黑"/>
              </a:rPr>
              <a:t>正常工资增长</a:t>
            </a:r>
            <a:endParaRPr b="0" lang="en-US" sz="139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457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457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tabLst>
                <a:tab algn="l" pos="457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zh-CN" sz="1390" spc="-1" strike="noStrike">
                <a:solidFill>
                  <a:srgbClr val="ffffff"/>
                </a:solidFill>
                <a:latin typeface="微软雅黑"/>
              </a:rPr>
              <a:t>无</a:t>
            </a:r>
            <a:endParaRPr b="0" lang="en-US" sz="139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1"/>
          <p:cNvSpPr/>
          <p:nvPr/>
        </p:nvSpPr>
        <p:spPr>
          <a:xfrm>
            <a:off x="2884320" y="1231920"/>
            <a:ext cx="263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4700"/>
              </a:lnSpc>
            </a:pPr>
            <a:r>
              <a:rPr b="0" lang="en-US" sz="3600" spc="-1" strike="noStrike">
                <a:solidFill>
                  <a:srgbClr val="7f7f7f"/>
                </a:solidFill>
                <a:latin typeface="Arial Black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1"/>
          <p:cNvSpPr/>
          <p:nvPr/>
        </p:nvSpPr>
        <p:spPr>
          <a:xfrm>
            <a:off x="5799240" y="1231920"/>
            <a:ext cx="427680" cy="13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4700"/>
              </a:lnSpc>
            </a:pPr>
            <a:r>
              <a:rPr b="0" lang="en-US" sz="3600" spc="-1" strike="noStrike">
                <a:solidFill>
                  <a:srgbClr val="7f7f7f"/>
                </a:solidFill>
                <a:latin typeface="Arial Black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01"/>
              </a:lnSpc>
            </a:pPr>
            <a:r>
              <a:rPr b="1" lang="zh-CN" sz="1390" spc="-1" strike="noStrike">
                <a:solidFill>
                  <a:srgbClr val="ffffff"/>
                </a:solidFill>
                <a:latin typeface="微软雅黑"/>
              </a:rPr>
              <a:t>工资增长</a:t>
            </a:r>
            <a:endParaRPr b="0" lang="en-US" sz="139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1"/>
          <p:cNvSpPr/>
          <p:nvPr/>
        </p:nvSpPr>
        <p:spPr>
          <a:xfrm>
            <a:off x="7626600" y="3975120"/>
            <a:ext cx="36684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1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</a:rPr>
              <a:t>我个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</a:rPr>
              <a:t>觉得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</a:rPr>
              <a:t>扯！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  <Words>215</Words>
  <Paragraphs>335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www.pptbz.com</dc:creator>
  <dc:description/>
  <dc:language>en-US</dc:language>
  <cp:lastModifiedBy>王玉清</cp:lastModifiedBy>
  <dcterms:modified xsi:type="dcterms:W3CDTF">2016-03-06T04:40:49Z</dcterms:modified>
  <cp:revision>1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10</vt:r8>
  </property>
</Properties>
</file>