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EF8-5A8D-48F9-8B4F-38DD907E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8C9-A5EE-436D-9671-3C8FED2E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C9A-DD35-4159-A954-F6291E67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138-9FB6-40CD-A710-AC7E5067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151E-1DDF-4678-9AB9-9AACB421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3A72-C685-4C92-BE78-C8DEEE08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9F0D-5059-49CC-9A06-9AC430B9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26F6-4A6E-4DC8-8452-7B3D6034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EDF8-C55A-44D8-816B-986FCC32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AE30-0DB7-4362-BE01-20E72DFC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B4FE-A821-4C17-8E62-5F0C7EF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EDB-27F8-4194-90FC-9CD51600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3F67-E2EB-4CC5-A100-3B246657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325D-E7BC-4F7B-8F59-B01AB9FA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E82C-E2F9-492B-A714-B16D2F9E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8269-6B37-4EC3-9CF4-BB1ADD41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F31D-05B6-49B9-BCB7-EEC9B856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4099-F130-4849-B6E4-183CC0A5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0908-1387-4A28-826E-593A3C0B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E5AE-B4A5-46D0-B09B-E7236C07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70D3-D704-41F3-8E06-2445C090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194B-37DA-43EA-88E4-8F4D1D02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C61-12FC-4312-B91D-BE21AFC8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0B84-AAF9-4C06-A653-F953AB2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13A4-1121-4998-8D91-3E41E60B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B287-B775-4651-8207-6603FB29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BA99-1755-460B-B6AA-701C5E03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D2268-7A10-4959-A729-DCB9255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ABF5-9410-4F0E-9048-99FE98B4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61A9-E2E0-449A-95B6-24920DBE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E129-D4BE-4DE4-9053-B2C182A9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0E3FE-E509-4FCF-8C48-072C403A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F1BF-FEE0-4707-A44D-4E773D05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1D6-E584-488A-A942-2F56F2E9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E114-6133-4016-90DD-00A7EF58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DAC2-51C4-4484-8EC4-007CE7C3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A09F-D032-47FE-B95B-5877D746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73FC-5D1C-4AA6-AFEC-502FFB8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DB35-5FA3-44F0-8064-BAF3AC9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0198-F3E6-46EB-A373-E423FE40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9C86-839B-4B8F-93FA-4678277C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E2D5-E08F-46AD-B5DB-357ECAB3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0C43-C6EE-427B-BAF4-9E9A4D4A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13F-1B25-41B6-A9DB-3BBCF651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6AD-8C29-46CD-A7F4-B0731537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CF2-BA05-4878-979A-E99D934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3F0-AC9C-4991-8FC9-5651848B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D0B-ADE7-4B87-A8F8-BFB6B20E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226C-D5A8-4DF2-B34F-E663BD919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CCEB-842B-4FC3-8EA8-2A362EC19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1"/>
          <p:cNvGrpSpPr/>
          <p:nvPr/>
        </p:nvGrpSpPr>
        <p:grpSpPr>
          <a:xfrm>
            <a:off x="-36360" y="-27000"/>
            <a:ext cx="9180360" cy="6977160"/>
            <a:chOff x="-36360" y="-27000"/>
            <a:chExt cx="9180360" cy="6977160"/>
          </a:xfrm>
        </p:grpSpPr>
        <p:grpSp>
          <p:nvGrpSpPr>
            <p:cNvPr id="82" name="组合 9"/>
            <p:cNvGrpSpPr/>
            <p:nvPr/>
          </p:nvGrpSpPr>
          <p:grpSpPr>
            <a:xfrm>
              <a:off x="-36360" y="-27000"/>
              <a:ext cx="9180360" cy="6977160"/>
              <a:chOff x="-36360" y="-27000"/>
              <a:chExt cx="9180360" cy="6977160"/>
            </a:xfrm>
          </p:grpSpPr>
          <p:pic>
            <p:nvPicPr>
              <p:cNvPr id="83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-36360" y="-27000"/>
                <a:ext cx="9178920" cy="697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直接连接符 7"/>
              <p:cNvSpPr/>
              <p:nvPr/>
            </p:nvSpPr>
            <p:spPr>
              <a:xfrm>
                <a:off x="-36360" y="692280"/>
                <a:ext cx="918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直接连接符 8"/>
              <p:cNvSpPr/>
              <p:nvPr/>
            </p:nvSpPr>
            <p:spPr>
              <a:xfrm>
                <a:off x="-36360" y="6685200"/>
                <a:ext cx="918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矩形 10"/>
            <p:cNvSpPr/>
            <p:nvPr/>
          </p:nvSpPr>
          <p:spPr>
            <a:xfrm>
              <a:off x="-36360" y="766440"/>
              <a:ext cx="9180360" cy="583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e6c0b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6a21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fdc9a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6ED0-C23D-4C48-BB67-219A63186201}" type="slidenum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2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78920" cy="6977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352440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6c0b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C315-1103-4D34-8B3D-3F440A6FD1C5}" type="slidenum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9a0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54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34547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60440" y="4689360"/>
            <a:ext cx="7794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b9a0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343560" y="4800600"/>
            <a:ext cx="2743200" cy="1324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71600" y="352440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6c0b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23760" y="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市场分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e6c0b"/>
                </a:solidFill>
                <a:latin typeface="Arial Black"/>
                <a:ea typeface="宋体"/>
              </a:rPr>
              <a:t>Your Topic Goes Here</a:t>
            </a: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6a21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  <a:ea typeface="宋体"/>
              </a:rPr>
              <a:t>Your subtopics go here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52440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6c0b"/>
                </a:solidFill>
                <a:latin typeface="Arial Black"/>
                <a:ea typeface="宋体"/>
              </a:rPr>
              <a:t>Transitional Page</a:t>
            </a:r>
            <a:endParaRPr b="1" lang="en-US" sz="36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60440" y="4689360"/>
            <a:ext cx="7794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9a0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134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34547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e6c0b"/>
                </a:solidFill>
                <a:latin typeface="Arial Black"/>
                <a:ea typeface="宋体"/>
              </a:rPr>
              <a:t>Your Topic Goes Here</a:t>
            </a: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6a21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  <a:ea typeface="宋体"/>
              </a:rPr>
              <a:t>Your subtopics go here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e6c0b"/>
                </a:solidFill>
                <a:latin typeface="Arial Black"/>
              </a:rPr>
              <a:t>使用规范说明</a:t>
            </a:r>
            <a:endParaRPr b="1" lang="en-US" sz="3000" spc="-1" strike="noStrike">
              <a:solidFill>
                <a:srgbClr val="8e6c0b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34547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4F75-6C40-4A5F-AD5C-46005F0FA1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48:33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