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png" ContentType="image/png"/>
  <Override PartName="/ppt/media/hdphoto6.wdp" ContentType="image/vnd.ms-photo"/>
  <Override PartName="/ppt/media/image6.png" ContentType="image/png"/>
  <Override PartName="/ppt/media/hdphoto5.wdp" ContentType="image/vnd.ms-photo"/>
  <Override PartName="/ppt/media/image5.png" ContentType="image/png"/>
  <Override PartName="/ppt/media/hdphoto4.wdp" ContentType="image/vnd.ms-photo"/>
  <Override PartName="/ppt/media/image4.png" ContentType="image/png"/>
  <Override PartName="/ppt/media/hdphoto3.wdp" ContentType="image/vnd.ms-photo"/>
  <Override PartName="/ppt/media/image3.png" ContentType="image/png"/>
  <Override PartName="/ppt/media/hdphoto9.wdp" ContentType="image/vnd.ms-photo"/>
  <Override PartName="/ppt/media/hdphoto2.wdp" ContentType="image/vnd.ms-photo"/>
  <Override PartName="/ppt/media/image2.png" ContentType="image/png"/>
  <Override PartName="/ppt/media/hdphoto8.wdp" ContentType="image/vnd.ms-photo"/>
  <Override PartName="/ppt/media/hdphoto13.wdp" ContentType="image/vnd.ms-photo"/>
  <Override PartName="/ppt/media/image13.png" ContentType="image/png"/>
  <Override PartName="/ppt/media/image8.png" ContentType="image/png"/>
  <Override PartName="/ppt/media/hdphoto1.wdp" ContentType="image/vnd.ms-photo"/>
  <Override PartName="/ppt/media/hdphoto12.wdp" ContentType="image/vnd.ms-photo"/>
  <Override PartName="/ppt/media/image12.png" ContentType="image/png"/>
  <Override PartName="/ppt/media/image11.png" ContentType="image/png"/>
  <Override PartName="/ppt/media/hdphoto11.wdp" ContentType="image/vnd.ms-photo"/>
  <Override PartName="/ppt/media/image10.png" ContentType="image/png"/>
  <Override PartName="/ppt/media/hdphoto10.wdp" ContentType="image/vnd.ms-photo"/>
  <Override PartName="/ppt/media/image9.png" ContentType="image/png"/>
  <Override PartName="/ppt/media/hdphoto7.wdp" ContentType="image/vnd.ms-photo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A2AA-C6EA-43FF-9FBD-BE780215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5D64-3229-4289-958C-C04747B8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0117-780B-4DFB-A569-ACA8D26D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857-A27D-4DD4-8F29-61CE3D15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226D-5023-4D38-8C14-5F5BAB7F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5DED-FAF9-4D19-A7AF-D52BC517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28E-4597-41D5-918F-E7A3D2CD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853-2FC4-4C2A-B0E7-C0D6943D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38EB-966F-44DD-9627-56EF26BC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18C-B43D-4FFD-BCF0-C6DCC4B3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3A4-C51F-40D8-940F-304B5F55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0321-5E2E-4878-ACAB-9E0918EF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8877F3-D09D-4CBF-8EDC-E0E22FE3A318}" type="slidenum">
              <a:rPr b="0" lang="en-US" sz="1200" spc="-1" strike="noStrike">
                <a:solidFill>
                  <a:srgbClr val="8b8b8b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microsoft.com/office/2007/relationships/hdphoto" Target="../media/hdphoto10.wdp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microsoft.com/office/2007/relationships/hdphoto" Target="../media/hdphoto11.wdp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microsoft.com/office/2007/relationships/hdphoto" Target="../media/hdphoto12.wdp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microsoft.com/office/2007/relationships/hdphoto" Target="../media/hdphoto13.wdp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microsoft.com/office/2007/relationships/hdphoto" Target="../media/hdphoto2.wdp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microsoft.com/office/2007/relationships/hdphoto" Target="../media/hdphoto3.wdp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microsoft.com/office/2007/relationships/hdphoto" Target="../media/hdphoto4.wdp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microsoft.com/office/2007/relationships/hdphoto" Target="../media/hdphoto5.wdp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microsoft.com/office/2007/relationships/hdphoto" Target="../media/hdphoto6.wdp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microsoft.com/office/2007/relationships/hdphoto" Target="../media/hdphoto7.wdp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#blogid=624700f90100sy53&amp;url=http://s2.sinaimg.cn/orignal/624700f9ga168017bd011" TargetMode="External"/><Relationship Id="rId2" Type="http://schemas.openxmlformats.org/officeDocument/2006/relationships/image" Target="../media/image8.png"/><Relationship Id="rId3" Type="http://schemas.microsoft.com/office/2007/relationships/hdphoto" Target="../media/hdphoto8.wdp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microsoft.com/office/2007/relationships/hdphoto" Target="../media/hdphoto9.wdp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12191760" cy="730836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solidFill>
            <a:schemeClr val="tx1">
              <a:lumMod val="95000"/>
              <a:lumOff val="5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2910600" y="3003840"/>
            <a:ext cx="6195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世界名画大图排版简约通用</a:t>
            </a:r>
            <a:r>
              <a:rPr b="0" lang="en-US" sz="4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PPT</a:t>
            </a:r>
            <a:r>
              <a:rPr b="0" lang="zh-CN" sz="4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8484840" y="5533200"/>
            <a:ext cx="1581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秋千》弗拉戈纳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-71640" y="-1135080"/>
            <a:ext cx="12334680" cy="9127800"/>
          </a:xfrm>
          <a:prstGeom prst="rect">
            <a:avLst/>
          </a:prstGeom>
          <a:ln w="0">
            <a:noFill/>
          </a:ln>
        </p:spPr>
      </p:pic>
      <p:sp>
        <p:nvSpPr>
          <p:cNvPr id="79" name="矩形 2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solidFill>
            <a:schemeClr val="tx1">
              <a:lumMod val="95000"/>
              <a:lumOff val="5000"/>
              <a:alpha val="7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80" name="矩形 3"/>
          <p:cNvSpPr/>
          <p:nvPr/>
        </p:nvSpPr>
        <p:spPr>
          <a:xfrm>
            <a:off x="5852880" y="3731760"/>
            <a:ext cx="532908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199</a:t>
            </a: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，让同事刮目相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800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学会了职场技能，也能免费拿本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4"/>
          <p:cNvSpPr/>
          <p:nvPr/>
        </p:nvSpPr>
        <p:spPr>
          <a:xfrm>
            <a:off x="8268480" y="5533200"/>
            <a:ext cx="2278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蒂尔普教授的解剖课》伦勃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0" b="4869"/>
          <a:stretch/>
        </p:blipFill>
        <p:spPr>
          <a:xfrm>
            <a:off x="-1037880" y="-1473120"/>
            <a:ext cx="14848920" cy="10688760"/>
          </a:xfrm>
          <a:prstGeom prst="rect">
            <a:avLst/>
          </a:prstGeom>
          <a:ln w="0">
            <a:noFill/>
          </a:ln>
        </p:spPr>
      </p:pic>
      <p:sp>
        <p:nvSpPr>
          <p:cNvPr id="83" name="矩形 6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gradFill rotWithShape="0">
            <a:gsLst>
              <a:gs pos="0">
                <a:srgbClr val="0d0d0d">
                  <a:alpha val="46274"/>
                </a:srgbClr>
              </a:gs>
              <a:gs pos="100000">
                <a:srgbClr val="0d0d0d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7018920" y="2581200"/>
            <a:ext cx="383868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spcAft>
                <a:spcPts val="1800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其实，</a:t>
            </a:r>
            <a:r>
              <a:rPr b="1" lang="en-US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这个不大不小的圈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800"/>
              </a:spcAft>
            </a:pP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还有很多很多故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/>
          <p:cNvSpPr/>
          <p:nvPr/>
        </p:nvSpPr>
        <p:spPr>
          <a:xfrm>
            <a:off x="7721280" y="5869440"/>
            <a:ext cx="3116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被囚禁的马里尤斯》让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热尔曼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德鲁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-52920"/>
            <a:ext cx="12191760" cy="696348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solidFill>
            <a:schemeClr val="tx1">
              <a:lumMod val="95000"/>
              <a:lumOff val="5000"/>
              <a:alpha val="82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5404680" y="3731760"/>
            <a:ext cx="521028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命运，就是如此难以抉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800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曹将 </a:t>
            </a:r>
            <a:r>
              <a:rPr b="1" lang="en-US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or </a:t>
            </a: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嘉文钱？这是个问题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9346680" y="5533200"/>
            <a:ext cx="1734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世纪》米开朗基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0" b="4869"/>
          <a:stretch/>
        </p:blipFill>
        <p:spPr>
          <a:xfrm>
            <a:off x="-2142720" y="-2616120"/>
            <a:ext cx="14848920" cy="10688760"/>
          </a:xfrm>
          <a:prstGeom prst="rect">
            <a:avLst/>
          </a:prstGeom>
          <a:ln w="0">
            <a:noFill/>
          </a:ln>
        </p:spPr>
      </p:pic>
      <p:sp>
        <p:nvSpPr>
          <p:cNvPr id="91" name="矩形 3"/>
          <p:cNvSpPr/>
          <p:nvPr/>
        </p:nvSpPr>
        <p:spPr>
          <a:xfrm rot="10800000">
            <a:off x="-24840" y="0"/>
            <a:ext cx="12216960" cy="6870240"/>
          </a:xfrm>
          <a:prstGeom prst="rect">
            <a:avLst/>
          </a:prstGeom>
          <a:gradFill rotWithShape="0">
            <a:gsLst>
              <a:gs pos="0">
                <a:srgbClr val="0d0d0d">
                  <a:alpha val="64313"/>
                </a:srgbClr>
              </a:gs>
              <a:gs pos="100000">
                <a:srgbClr val="0d0d0d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2391840" y="2945520"/>
            <a:ext cx="444384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来吧，我们欢迎你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一起学</a:t>
            </a:r>
            <a:r>
              <a:rPr b="1" lang="en-US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/Word/</a:t>
            </a: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职场技能，一起吐槽一起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2116440" y="5869440"/>
            <a:ext cx="3116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被囚禁的马里尤斯》让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热尔曼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德鲁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0" b="3495"/>
          <a:stretch/>
        </p:blipFill>
        <p:spPr>
          <a:xfrm>
            <a:off x="0" y="-399960"/>
            <a:ext cx="7162560" cy="8378280"/>
          </a:xfrm>
          <a:prstGeom prst="rect">
            <a:avLst/>
          </a:prstGeom>
          <a:ln w="0">
            <a:noFill/>
          </a:ln>
        </p:spPr>
      </p:pic>
      <p:sp>
        <p:nvSpPr>
          <p:cNvPr id="95" name="矩形 4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gradFill rotWithShape="0">
            <a:gsLst>
              <a:gs pos="0">
                <a:srgbClr val="0d0d0d">
                  <a:alpha val="70196"/>
                </a:srgbClr>
              </a:gs>
              <a:gs pos="100000">
                <a:srgbClr val="0d0d0d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6092640" y="2581200"/>
            <a:ext cx="507600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spcAft>
                <a:spcPts val="1800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学习就要行动，不能等明天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过了</a:t>
            </a:r>
            <a:r>
              <a:rPr b="0" lang="en-US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24</a:t>
            </a: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点就没优惠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9148680" y="5869440"/>
            <a:ext cx="1668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哭泣的女人》毕加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0" b="4136"/>
          <a:stretch/>
        </p:blipFill>
        <p:spPr>
          <a:xfrm>
            <a:off x="-1250640" y="-1216440"/>
            <a:ext cx="10056600" cy="9592200"/>
          </a:xfrm>
          <a:prstGeom prst="rect">
            <a:avLst/>
          </a:prstGeom>
          <a:ln w="0">
            <a:noFill/>
          </a:ln>
        </p:spPr>
      </p:pic>
      <p:sp>
        <p:nvSpPr>
          <p:cNvPr id="47" name="矩形 4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gradFill rotWithShape="0">
            <a:gsLst>
              <a:gs pos="39000">
                <a:srgbClr val="0d0d0d">
                  <a:alpha val="70196"/>
                </a:srgbClr>
              </a:gs>
              <a:gs pos="100000">
                <a:srgbClr val="0d0d0d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6180120" y="2581200"/>
            <a:ext cx="479880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spcAft>
                <a:spcPts val="1800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老板，对不起</a:t>
            </a:r>
            <a:r>
              <a:rPr b="1" lang="en-US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800"/>
              </a:spcAft>
            </a:pPr>
            <a:r>
              <a:rPr b="0" lang="en-US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PPT</a:t>
            </a: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还需要</a:t>
            </a:r>
            <a:r>
              <a:rPr b="0" lang="en-US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2</a:t>
            </a: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小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9235800" y="5869440"/>
            <a:ext cx="1429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意外归来 》列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13676" b="39255"/>
          <a:stretch/>
        </p:blipFill>
        <p:spPr>
          <a:xfrm>
            <a:off x="-7675200" y="-691560"/>
            <a:ext cx="20277360" cy="9320040"/>
          </a:xfrm>
          <a:prstGeom prst="rect">
            <a:avLst/>
          </a:prstGeom>
          <a:ln w="0">
            <a:noFill/>
          </a:ln>
        </p:spPr>
      </p:pic>
      <p:sp>
        <p:nvSpPr>
          <p:cNvPr id="51" name="矩形 4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solidFill>
            <a:schemeClr val="tx1">
              <a:lumMod val="95000"/>
              <a:lumOff val="5000"/>
              <a:alpha val="7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6823080" y="2862360"/>
            <a:ext cx="347292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spcAft>
                <a:spcPts val="1199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如果你连</a:t>
            </a:r>
            <a:r>
              <a:rPr b="1" lang="en-US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都做不好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分分钟就“挂”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7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-1365840" y="0"/>
            <a:ext cx="10047240" cy="8283960"/>
          </a:xfrm>
          <a:prstGeom prst="rect">
            <a:avLst/>
          </a:prstGeom>
          <a:ln w="0">
            <a:noFill/>
          </a:ln>
        </p:spPr>
      </p:pic>
      <p:sp>
        <p:nvSpPr>
          <p:cNvPr id="54" name="矩形 4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gradFill rotWithShape="0">
            <a:gsLst>
              <a:gs pos="0">
                <a:srgbClr val="0d0d0d">
                  <a:alpha val="61176"/>
                </a:srgbClr>
              </a:gs>
              <a:gs pos="100000">
                <a:srgbClr val="0d0d0d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823080" y="2862360"/>
            <a:ext cx="347292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spcAft>
                <a:spcPts val="1199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如果你连</a:t>
            </a:r>
            <a:r>
              <a:rPr b="1" lang="en-US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都做不好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分分钟就“挂”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9113760" y="5533200"/>
            <a:ext cx="1618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圣方济教堂壁画 乔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0" b="4167"/>
          <a:stretch/>
        </p:blipFill>
        <p:spPr>
          <a:xfrm>
            <a:off x="0" y="-3423600"/>
            <a:ext cx="8502120" cy="10293840"/>
          </a:xfrm>
          <a:prstGeom prst="rect">
            <a:avLst/>
          </a:prstGeom>
          <a:ln w="0">
            <a:noFill/>
          </a:ln>
        </p:spPr>
      </p:pic>
      <p:sp>
        <p:nvSpPr>
          <p:cNvPr id="59" name="矩形 5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gradFill rotWithShape="0">
            <a:gsLst>
              <a:gs pos="27000">
                <a:srgbClr val="0d0d0d"/>
              </a:gs>
              <a:gs pos="100000">
                <a:srgbClr val="0d0d0d">
                  <a:alpha val="61176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7703280" y="2581200"/>
            <a:ext cx="347292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spcAft>
                <a:spcPts val="1800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不会</a:t>
            </a:r>
            <a:r>
              <a:rPr b="1" lang="en-US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，加班加到</a:t>
            </a:r>
            <a:r>
              <a:rPr b="1" lang="en-US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shi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祝你“不加班儿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8743680" y="5869440"/>
            <a:ext cx="2354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马拉之死》雅克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路易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大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15139" t="0" r="5258" b="37074"/>
          <a:stretch/>
        </p:blipFill>
        <p:spPr>
          <a:xfrm>
            <a:off x="-1032480" y="-350280"/>
            <a:ext cx="13223880" cy="7625520"/>
          </a:xfrm>
          <a:prstGeom prst="rect">
            <a:avLst/>
          </a:prstGeom>
          <a:ln w="0">
            <a:noFill/>
          </a:ln>
        </p:spPr>
      </p:pic>
      <p:sp>
        <p:nvSpPr>
          <p:cNvPr id="63" name="矩形 5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gradFill rotWithShape="0">
            <a:gsLst>
              <a:gs pos="0">
                <a:srgbClr val="0d0d0d">
                  <a:alpha val="76078"/>
                </a:srgbClr>
              </a:gs>
              <a:gs pos="100000">
                <a:srgbClr val="0d0d0d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6598080" y="2581200"/>
            <a:ext cx="445428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spcAft>
                <a:spcPts val="1800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双</a:t>
            </a:r>
            <a:r>
              <a:rPr b="1" lang="en-US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12</a:t>
            </a: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大促又来了，课程好居然还送书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快来和秋叶学</a:t>
            </a:r>
            <a:r>
              <a:rPr b="0" lang="en-US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PP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/>
          <p:cNvSpPr/>
          <p:nvPr/>
        </p:nvSpPr>
        <p:spPr>
          <a:xfrm>
            <a:off x="8186400" y="5869440"/>
            <a:ext cx="2686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自由引导人民》 欧仁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德拉克罗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-48240" y="-699480"/>
            <a:ext cx="12272760" cy="9204480"/>
          </a:xfrm>
          <a:prstGeom prst="rect">
            <a:avLst/>
          </a:prstGeom>
          <a:ln w="0">
            <a:noFill/>
          </a:ln>
        </p:spPr>
      </p:pic>
      <p:sp>
        <p:nvSpPr>
          <p:cNvPr id="67" name="矩形 2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solidFill>
            <a:schemeClr val="tx1">
              <a:lumMod val="95000"/>
              <a:lumOff val="5000"/>
              <a:alpha val="7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68" name="矩形 3"/>
          <p:cNvSpPr/>
          <p:nvPr/>
        </p:nvSpPr>
        <p:spPr>
          <a:xfrm>
            <a:off x="1895760" y="1566360"/>
            <a:ext cx="600876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学好</a:t>
            </a:r>
            <a:r>
              <a:rPr b="0" lang="en-US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PPT</a:t>
            </a: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，不做单身狗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汪汪汪！双</a:t>
            </a:r>
            <a:r>
              <a:rPr b="1" lang="en-US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12</a:t>
            </a: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大促，跟秋叶学</a:t>
            </a:r>
            <a:r>
              <a:rPr b="1" lang="en-US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居然还送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"/>
          <p:cNvSpPr/>
          <p:nvPr/>
        </p:nvSpPr>
        <p:spPr>
          <a:xfrm>
            <a:off x="10791000" y="5533200"/>
            <a:ext cx="508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你一生要知道的74幅世界名画，每一幅都凝结了大师们的心血">
            <a:hlinkClick r:id="rId1"/>
          </p:cNvPr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0" b="4991"/>
          <a:stretch/>
        </p:blipFill>
        <p:spPr>
          <a:xfrm>
            <a:off x="4026960" y="-38160"/>
            <a:ext cx="9421920" cy="6895800"/>
          </a:xfrm>
          <a:prstGeom prst="rect">
            <a:avLst/>
          </a:prstGeom>
          <a:ln w="0">
            <a:noFill/>
          </a:ln>
        </p:spPr>
      </p:pic>
      <p:sp>
        <p:nvSpPr>
          <p:cNvPr id="71" name="矩形 3"/>
          <p:cNvSpPr/>
          <p:nvPr/>
        </p:nvSpPr>
        <p:spPr>
          <a:xfrm rot="10800000">
            <a:off x="-24840" y="0"/>
            <a:ext cx="12216960" cy="6870240"/>
          </a:xfrm>
          <a:prstGeom prst="rect">
            <a:avLst/>
          </a:prstGeom>
          <a:gradFill rotWithShape="0">
            <a:gsLst>
              <a:gs pos="0">
                <a:srgbClr val="0d0d0d">
                  <a:alpha val="64313"/>
                </a:srgbClr>
              </a:gs>
              <a:gs pos="100000">
                <a:srgbClr val="0d0d0d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72" name="矩形 4"/>
          <p:cNvSpPr/>
          <p:nvPr/>
        </p:nvSpPr>
        <p:spPr>
          <a:xfrm>
            <a:off x="1718280" y="2581200"/>
            <a:ext cx="463716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群殴</a:t>
            </a:r>
            <a:r>
              <a:rPr b="0" lang="en-US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PPT</a:t>
            </a: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欢迎你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美美的柒柒女神，虐的你不能自理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1932120" y="5869440"/>
            <a:ext cx="1820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无名女郎》克拉姆斯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6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0" b="8242"/>
          <a:stretch/>
        </p:blipFill>
        <p:spPr>
          <a:xfrm>
            <a:off x="-29160" y="-1083240"/>
            <a:ext cx="12250080" cy="8280000"/>
          </a:xfrm>
          <a:prstGeom prst="rect">
            <a:avLst/>
          </a:prstGeom>
          <a:ln w="0">
            <a:noFill/>
          </a:ln>
        </p:spPr>
      </p:pic>
      <p:sp>
        <p:nvSpPr>
          <p:cNvPr id="75" name="矩形 7"/>
          <p:cNvSpPr/>
          <p:nvPr/>
        </p:nvSpPr>
        <p:spPr>
          <a:xfrm>
            <a:off x="-25560" y="0"/>
            <a:ext cx="12216960" cy="6870240"/>
          </a:xfrm>
          <a:prstGeom prst="rect">
            <a:avLst/>
          </a:prstGeom>
          <a:solidFill>
            <a:schemeClr val="tx1">
              <a:lumMod val="95000"/>
              <a:lumOff val="5000"/>
              <a:alpha val="7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76" name="矩形 8"/>
          <p:cNvSpPr/>
          <p:nvPr/>
        </p:nvSpPr>
        <p:spPr>
          <a:xfrm>
            <a:off x="5340600" y="3731760"/>
            <a:ext cx="626940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再给我</a:t>
            </a:r>
            <a:r>
              <a:rPr b="0" lang="en-US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69</a:t>
            </a:r>
            <a:r>
              <a:rPr b="0" lang="zh-CN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，学学</a:t>
            </a:r>
            <a:r>
              <a:rPr b="0" lang="en-US" sz="6000" spc="-1" strike="noStrike">
                <a:solidFill>
                  <a:srgbClr val="fae882"/>
                </a:solidFill>
                <a:latin typeface="造字工房朗宋（非商用）常规体"/>
                <a:ea typeface="造字工房朗宋（非商用）常规体"/>
              </a:rPr>
              <a:t>Wor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800"/>
              </a:spcAft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讲得辣么好，居然还送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9117000" y="5533200"/>
            <a:ext cx="1668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女占卜师》卡拉瓦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  <Words>296</Words>
  <Paragraphs>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0T06:33:53Z</dcterms:created>
  <dc:creator>刘哲涛</dc:creator>
  <dc:description/>
  <dc:language>en-US</dc:language>
  <cp:lastModifiedBy>王玉清</cp:lastModifiedBy>
  <dcterms:modified xsi:type="dcterms:W3CDTF">2016-02-23T02:27:20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1</vt:r8>
  </property>
  <property fmtid="{D5CDD505-2E9C-101B-9397-08002B2CF9AE}" pid="3" name="PresentationFormat">
    <vt:lpwstr>宽屏</vt:lpwstr>
  </property>
  <property fmtid="{D5CDD505-2E9C-101B-9397-08002B2CF9AE}" pid="4" name="Slides">
    <vt:r8>14</vt:r8>
  </property>
</Properties>
</file>