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400" spc="-1" strike="noStrike">
                <a:solidFill>
                  <a:srgbClr val="124191"/>
                </a:solidFill>
                <a:latin typeface="Calibri"/>
              </a:rPr>
              <a:t>Click to move the slide</a:t>
            </a:r>
            <a:endParaRPr b="0" lang="en-US" sz="6400" spc="-1" strike="noStrike">
              <a:solidFill>
                <a:srgbClr val="124191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8B35A-423F-4336-B82B-95030EDE7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Welcoming words,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DC8FCF-A77B-4176-95CE-0355EEAA4605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80D19E-8CD2-46B5-BA97-B9A2F974B3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7EB89C-F311-40A0-A18E-464C471736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E3F951-34FD-4823-9B65-A664BFB95B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A1B7B9-F6FE-460C-A9FF-51AE6C0A71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FB70E6-0218-4E2A-858D-F9F79AF6D8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5064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64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2723-7EE1-4068-8DE3-025109F8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032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A9B8-50C0-40BA-A9A0-EC39026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E075-4F61-4EAA-A09B-DD28851F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C0A8-4AB1-4B48-8FF1-9DE235E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DF9D-809A-4334-9E5B-CE9500F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936A-4E00-4EE5-8611-2C867FD7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677D-C020-4F46-8008-1374312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4032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64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656A-90F8-41E0-832B-04517FA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DB9F-69EE-4318-A93F-B77A6FC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95064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FBF5-6E3A-4DDD-BECD-3138BBC7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64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66D4-D373-475C-8950-29031274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4032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9506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6C6E-C811-4EF6-8701-FC15A691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640" y="395064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640" y="1403280"/>
            <a:ext cx="42386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50640"/>
            <a:ext cx="86864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c"/>
          <p:cNvSpPr/>
          <p:nvPr/>
        </p:nvSpPr>
        <p:spPr>
          <a:xfrm>
            <a:off x="0" y="6570000"/>
            <a:ext cx="91436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</a:pPr>
            <a:endParaRPr b="1" lang="en-US" sz="1300" spc="-1" strike="noStrike">
              <a:solidFill>
                <a:srgbClr val="3e8430"/>
              </a:solidFill>
              <a:latin typeface="arial"/>
            </a:endParaRPr>
          </a:p>
        </p:txBody>
      </p:sp>
      <p:pic>
        <p:nvPicPr>
          <p:cNvPr id="1" name="Picture 4" descr="Phones_HD_01.jpg"/>
          <p:cNvPicPr/>
          <p:nvPr/>
        </p:nvPicPr>
        <p:blipFill>
          <a:blip r:embed="rId2"/>
          <a:stretch/>
        </p:blipFill>
        <p:spPr>
          <a:xfrm>
            <a:off x="-108360" y="-39240"/>
            <a:ext cx="9360720" cy="702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6400" spc="-1" strike="noStrike">
                <a:solidFill>
                  <a:srgbClr val="124191"/>
                </a:solidFill>
                <a:latin typeface="Calibri"/>
              </a:rPr>
              <a:t>Click to edit the title text format</a:t>
            </a:r>
            <a:endParaRPr b="0" lang="en-US" sz="6400" spc="-1" strike="noStrike">
              <a:solidFill>
                <a:srgbClr val="12419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646464"/>
                </a:solidFill>
                <a:latin typeface="Nokia Pure Text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Nokia Pure Tex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646464"/>
                </a:solidFill>
                <a:latin typeface="Nokia Pure Text"/>
              </a:rPr>
              <a:t>Second Outline Level</a:t>
            </a:r>
            <a:endParaRPr b="0" lang="en-US" sz="2700" spc="-1" strike="noStrike">
              <a:solidFill>
                <a:srgbClr val="646464"/>
              </a:solidFill>
              <a:latin typeface="Nokia Pure Tex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646464"/>
                </a:solidFill>
                <a:latin typeface="Nokia Pure Text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Nokia Pure Tex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646464"/>
                </a:solidFill>
                <a:latin typeface="Nokia Pure Text"/>
              </a:rPr>
              <a:t>Fourth Outline Level</a:t>
            </a:r>
            <a:endParaRPr b="0" lang="en-US" sz="2100" spc="-1" strike="noStrike">
              <a:solidFill>
                <a:srgbClr val="646464"/>
              </a:solidFill>
              <a:latin typeface="Nokia Pure Tex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464"/>
                </a:solidFill>
                <a:latin typeface="Nokia Pure Text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Nokia Pure Tex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464"/>
                </a:solidFill>
                <a:latin typeface="Nokia Pure Text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Nokia Pure Tex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464"/>
                </a:solidFill>
                <a:latin typeface="Nokia Pure Text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Nokia Pure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170"/>
          <p:cNvSpPr/>
          <p:nvPr/>
        </p:nvSpPr>
        <p:spPr>
          <a:xfrm>
            <a:off x="6804360" y="165600"/>
            <a:ext cx="22676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 Black"/>
                <a:ea typeface="华文新魏"/>
              </a:rPr>
              <a:t>1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1403280"/>
            <a:ext cx="86864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Microsoft YaHe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Microsoft YaHe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Microsoft YaHe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Microsoft YaHe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Microsoft YaHe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1"/>
          </p:nvPr>
        </p:nvSpPr>
        <p:spPr>
          <a:xfrm>
            <a:off x="3124080" y="650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773760" y="650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Microsoft YaHei"/>
                <a:ea typeface="Microsoft YaHe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E5F204-CA01-4DFE-B994-03E343DD2448}" type="slidenum">
              <a:rPr b="0" lang="en-US" sz="1050" spc="-1" strike="noStrike">
                <a:solidFill>
                  <a:srgbClr val="8b8b8b"/>
                </a:solidFill>
                <a:latin typeface="Microsoft YaHei"/>
                <a:ea typeface="Microsoft YaHei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214200" y="650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000000"/>
                </a:solidFill>
                <a:latin typeface="Microsoft YaHei"/>
                <a:ea typeface="Microsoft YaHe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hyperlink" Target="http://www.eeppt.com" TargetMode="External"/><Relationship Id="rId16" Type="http://schemas.openxmlformats.org/officeDocument/2006/relationships/hyperlink" Target="http://www.eeppt.com" TargetMode="External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pcc\Desktop\글로비스 PPT(2)\글로비스표지jpg.jpg"/>
          <p:cNvPicPr/>
          <p:nvPr/>
        </p:nvPicPr>
        <p:blipFill>
          <a:blip r:embed="rId1"/>
          <a:stretch/>
        </p:blipFill>
        <p:spPr>
          <a:xfrm>
            <a:off x="-124200" y="-36000"/>
            <a:ext cx="9359640" cy="701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PPECLOGO-eff-0-1"/>
          <p:cNvPicPr/>
          <p:nvPr/>
        </p:nvPicPr>
        <p:blipFill>
          <a:blip r:embed="rId2"/>
          <a:stretch/>
        </p:blipFill>
        <p:spPr>
          <a:xfrm>
            <a:off x="2287440" y="2730600"/>
            <a:ext cx="1060200" cy="95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PECLOGO-eff-5-4"/>
          <p:cNvPicPr/>
          <p:nvPr/>
        </p:nvPicPr>
        <p:blipFill>
          <a:blip r:embed="rId3"/>
          <a:stretch/>
        </p:blipFill>
        <p:spPr>
          <a:xfrm>
            <a:off x="1403280" y="3114720"/>
            <a:ext cx="1477440" cy="134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PPECLOGO-eff-0-2"/>
          <p:cNvPicPr/>
          <p:nvPr/>
        </p:nvPicPr>
        <p:blipFill>
          <a:blip r:embed="rId4"/>
          <a:stretch/>
        </p:blipFill>
        <p:spPr>
          <a:xfrm>
            <a:off x="6686640" y="2682720"/>
            <a:ext cx="980640" cy="89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PPECLOGO-eff-0-1"/>
          <p:cNvPicPr/>
          <p:nvPr/>
        </p:nvPicPr>
        <p:blipFill>
          <a:blip r:embed="rId5"/>
          <a:stretch/>
        </p:blipFill>
        <p:spPr>
          <a:xfrm>
            <a:off x="5518080" y="2751120"/>
            <a:ext cx="399600" cy="36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PECLOGO-eff-0-1"/>
          <p:cNvPicPr/>
          <p:nvPr/>
        </p:nvPicPr>
        <p:blipFill>
          <a:blip r:embed="rId6"/>
          <a:stretch/>
        </p:blipFill>
        <p:spPr>
          <a:xfrm>
            <a:off x="3780000" y="3870360"/>
            <a:ext cx="196560" cy="17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PECLOGO-eff-0-2"/>
          <p:cNvPicPr/>
          <p:nvPr/>
        </p:nvPicPr>
        <p:blipFill>
          <a:blip r:embed="rId7"/>
          <a:stretch/>
        </p:blipFill>
        <p:spPr>
          <a:xfrm>
            <a:off x="3564000" y="2421000"/>
            <a:ext cx="980640" cy="89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PPECLOGO-eff-5-4"/>
          <p:cNvPicPr/>
          <p:nvPr/>
        </p:nvPicPr>
        <p:blipFill>
          <a:blip r:embed="rId8"/>
          <a:stretch/>
        </p:blipFill>
        <p:spPr>
          <a:xfrm>
            <a:off x="8028000" y="2536920"/>
            <a:ext cx="1115640" cy="102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PPECLOGO-eff-0-1"/>
          <p:cNvPicPr/>
          <p:nvPr/>
        </p:nvPicPr>
        <p:blipFill>
          <a:blip r:embed="rId9"/>
          <a:stretch/>
        </p:blipFill>
        <p:spPr>
          <a:xfrm>
            <a:off x="6083280" y="3616200"/>
            <a:ext cx="522000" cy="47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PPECLOGO-eff-0-1"/>
          <p:cNvPicPr/>
          <p:nvPr/>
        </p:nvPicPr>
        <p:blipFill>
          <a:blip r:embed="rId10"/>
          <a:stretch/>
        </p:blipFill>
        <p:spPr>
          <a:xfrm>
            <a:off x="9396360" y="2104920"/>
            <a:ext cx="522000" cy="47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PPECLOGO-eff2-1-3"/>
          <p:cNvPicPr/>
          <p:nvPr/>
        </p:nvPicPr>
        <p:blipFill>
          <a:blip r:embed="rId11"/>
          <a:stretch/>
        </p:blipFill>
        <p:spPr>
          <a:xfrm>
            <a:off x="2124000" y="2610000"/>
            <a:ext cx="437760" cy="43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PPECLOGO-eff2-1-4"/>
          <p:cNvPicPr/>
          <p:nvPr/>
        </p:nvPicPr>
        <p:blipFill>
          <a:blip r:embed="rId12"/>
          <a:stretch/>
        </p:blipFill>
        <p:spPr>
          <a:xfrm>
            <a:off x="6661080" y="3255840"/>
            <a:ext cx="703080" cy="70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PPECLOGO-eff2-1-3"/>
          <p:cNvPicPr/>
          <p:nvPr/>
        </p:nvPicPr>
        <p:blipFill>
          <a:blip r:embed="rId13"/>
          <a:stretch/>
        </p:blipFill>
        <p:spPr>
          <a:xfrm>
            <a:off x="7380360" y="2757600"/>
            <a:ext cx="360000" cy="36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PPECLOGO-eff2-1-3"/>
          <p:cNvPicPr/>
          <p:nvPr/>
        </p:nvPicPr>
        <p:blipFill>
          <a:blip r:embed="rId14"/>
          <a:stretch/>
        </p:blipFill>
        <p:spPr>
          <a:xfrm>
            <a:off x="7886880" y="3402000"/>
            <a:ext cx="280800" cy="283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22"/>
          <p:cNvSpPr txBox="1"/>
          <p:nvPr/>
        </p:nvSpPr>
        <p:spPr>
          <a:xfrm>
            <a:off x="1528920" y="3187800"/>
            <a:ext cx="6840000" cy="791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endParaRPr b="0" lang="en-US" sz="3600" spc="718" strike="noStrike">
              <a:ln w="0">
                <a:noFill/>
              </a:ln>
              <a:solidFill>
                <a:srgbClr val="729fcf"/>
              </a:solidFill>
              <a:latin typeface="黑体"/>
              <a:ea typeface="黑体"/>
            </a:endParaRPr>
          </a:p>
        </p:txBody>
      </p:sp>
      <p:pic>
        <p:nvPicPr>
          <p:cNvPr id="103" name="Picture 4" descr="PPECLOGO-eff-0-3"/>
          <p:cNvPicPr/>
          <p:nvPr/>
        </p:nvPicPr>
        <p:blipFill>
          <a:blip r:embed="rId15"/>
          <a:stretch/>
        </p:blipFill>
        <p:spPr>
          <a:xfrm>
            <a:off x="-819000" y="1003320"/>
            <a:ext cx="3014280" cy="285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PECLOGO-eff2-1-2"/>
          <p:cNvPicPr/>
          <p:nvPr/>
        </p:nvPicPr>
        <p:blipFill>
          <a:blip r:embed="rId16"/>
          <a:stretch/>
        </p:blipFill>
        <p:spPr>
          <a:xfrm>
            <a:off x="195120" y="2620800"/>
            <a:ext cx="169668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PPECLOGO-eff-0-1"/>
          <p:cNvPicPr/>
          <p:nvPr/>
        </p:nvPicPr>
        <p:blipFill>
          <a:blip r:embed="rId17"/>
          <a:stretch/>
        </p:blipFill>
        <p:spPr>
          <a:xfrm>
            <a:off x="2608200" y="3792600"/>
            <a:ext cx="523440" cy="47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PPECLOGO-eff-5-2"/>
          <p:cNvPicPr/>
          <p:nvPr/>
        </p:nvPicPr>
        <p:blipFill>
          <a:blip r:embed="rId18"/>
          <a:stretch/>
        </p:blipFill>
        <p:spPr>
          <a:xfrm>
            <a:off x="3780000" y="3500280"/>
            <a:ext cx="1833120" cy="172368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407880" y="2498040"/>
            <a:ext cx="5880240" cy="7578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lt1"/>
                </a:solidFill>
                <a:latin typeface="方正综艺简体"/>
                <a:ea typeface="方正综艺简体"/>
              </a:rPr>
              <a:t>商务汇报</a:t>
            </a:r>
            <a:r>
              <a:rPr b="0" lang="en-US" sz="4000" spc="-1" strike="noStrike">
                <a:solidFill>
                  <a:schemeClr val="lt1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chemeClr val="lt1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2419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2419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2419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4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4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4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5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5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5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0139 L -0.57969 0.00139 E">
                                      <p:cBhvr>
                                        <p:cTn id="5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60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6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6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56"/>
          <p:cNvSpPr/>
          <p:nvPr/>
        </p:nvSpPr>
        <p:spPr>
          <a:xfrm>
            <a:off x="6156000" y="1835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81818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7" descr="14-2.png"/>
          <p:cNvPicPr/>
          <p:nvPr/>
        </p:nvPicPr>
        <p:blipFill>
          <a:blip r:embed="rId16"/>
          <a:srcRect l="38140" t="0" r="0" b="39856"/>
          <a:stretch/>
        </p:blipFill>
        <p:spPr>
          <a:xfrm>
            <a:off x="3420000" y="1800"/>
            <a:ext cx="3615840" cy="1554480"/>
          </a:xfrm>
          <a:prstGeom prst="rect">
            <a:avLst/>
          </a:prstGeom>
          <a:ln w="0">
            <a:noFill/>
          </a:ln>
          <a:effectLst>
            <a:outerShdw algn="ctr" blurRad="190440" dir="2700000" dist="228593">
              <a:srgbClr val="000000">
                <a:alpha val="30000"/>
              </a:srgbClr>
            </a:outerShdw>
          </a:effectLst>
          <a:scene3d>
            <a:camera prst="perspectiveRelaxed"/>
            <a:lightRig dir="t" rig="threePt"/>
          </a:scene3d>
        </p:spPr>
      </p:pic>
      <p:grpSp>
        <p:nvGrpSpPr>
          <p:cNvPr id="111" name="组合 82"/>
          <p:cNvGrpSpPr/>
          <p:nvPr/>
        </p:nvGrpSpPr>
        <p:grpSpPr>
          <a:xfrm>
            <a:off x="2123640" y="1628640"/>
            <a:ext cx="5176800" cy="4464360"/>
            <a:chOff x="2123640" y="1628640"/>
            <a:chExt cx="5176800" cy="4464360"/>
          </a:xfrm>
        </p:grpSpPr>
        <p:grpSp>
          <p:nvGrpSpPr>
            <p:cNvPr id="112" name="Group 4"/>
            <p:cNvGrpSpPr/>
            <p:nvPr/>
          </p:nvGrpSpPr>
          <p:grpSpPr>
            <a:xfrm>
              <a:off x="2123640" y="5520240"/>
              <a:ext cx="5176800" cy="572760"/>
              <a:chOff x="2123640" y="5520240"/>
              <a:chExt cx="5176800" cy="572760"/>
            </a:xfrm>
          </p:grpSpPr>
          <p:grpSp>
            <p:nvGrpSpPr>
              <p:cNvPr id="113" name="Group 5"/>
              <p:cNvGrpSpPr/>
              <p:nvPr/>
            </p:nvGrpSpPr>
            <p:grpSpPr>
              <a:xfrm>
                <a:off x="2123640" y="5520240"/>
                <a:ext cx="5176800" cy="572760"/>
                <a:chOff x="2123640" y="5520240"/>
                <a:chExt cx="5176800" cy="572760"/>
              </a:xfrm>
            </p:grpSpPr>
            <p:grpSp>
              <p:nvGrpSpPr>
                <p:cNvPr id="114" name="Group 6"/>
                <p:cNvGrpSpPr/>
                <p:nvPr/>
              </p:nvGrpSpPr>
              <p:grpSpPr>
                <a:xfrm>
                  <a:off x="2123640" y="5520240"/>
                  <a:ext cx="5176800" cy="572760"/>
                  <a:chOff x="2123640" y="5520240"/>
                  <a:chExt cx="5176800" cy="572760"/>
                </a:xfrm>
              </p:grpSpPr>
              <p:sp>
                <p:nvSpPr>
                  <p:cNvPr id="115" name="AutoShape 172"/>
                  <p:cNvSpPr/>
                  <p:nvPr/>
                </p:nvSpPr>
                <p:spPr>
                  <a:xfrm>
                    <a:off x="2448720" y="5523120"/>
                    <a:ext cx="4848840" cy="55116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  <p:grpSp>
                <p:nvGrpSpPr>
                  <p:cNvPr id="116" name="Group 8"/>
                  <p:cNvGrpSpPr/>
                  <p:nvPr/>
                </p:nvGrpSpPr>
                <p:grpSpPr>
                  <a:xfrm>
                    <a:off x="2123640" y="5520240"/>
                    <a:ext cx="5176800" cy="572760"/>
                    <a:chOff x="2123640" y="5520240"/>
                    <a:chExt cx="5176800" cy="572760"/>
                  </a:xfrm>
                </p:grpSpPr>
                <p:sp>
                  <p:nvSpPr>
                    <p:cNvPr id="117" name="AutoShape 174"/>
                    <p:cNvSpPr/>
                    <p:nvPr/>
                  </p:nvSpPr>
                  <p:spPr>
                    <a:xfrm>
                      <a:off x="2123640" y="5520240"/>
                      <a:ext cx="594000" cy="57276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18" name="Rectangle 175"/>
                    <p:cNvSpPr/>
                    <p:nvPr/>
                  </p:nvSpPr>
                  <p:spPr>
                    <a:xfrm>
                      <a:off x="2577240" y="6058440"/>
                      <a:ext cx="4723200" cy="3456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19" name="Freeform 176"/>
                    <p:cNvSpPr/>
                    <p:nvPr/>
                  </p:nvSpPr>
                  <p:spPr>
                    <a:xfrm>
                      <a:off x="2618280" y="5534640"/>
                      <a:ext cx="254520" cy="540000"/>
                    </a:xfrm>
                    <a:custGeom>
                      <a:avLst/>
                      <a:gdLst>
                        <a:gd name="textAreaLeft" fmla="*/ 0 w 254520"/>
                        <a:gd name="textAreaRight" fmla="*/ 254880 w 254520"/>
                        <a:gd name="textAreaTop" fmla="*/ 0 h 540000"/>
                        <a:gd name="textAreaBottom" fmla="*/ 540360 h 540000"/>
                      </a:gdLst>
                      <a:ahLst/>
                      <a:rect l="textAreaLeft" t="textAreaTop" r="textAreaRight" b="textAreaBottom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</p:grpSp>
            </p:grpSp>
            <p:pic>
              <p:nvPicPr>
                <p:cNvPr id="120" name="Picture 177" descr="바코드"/>
                <p:cNvPicPr/>
                <p:nvPr/>
              </p:nvPicPr>
              <p:blipFill>
                <a:blip r:embed="rId17"/>
                <a:srcRect l="16807" t="9783" r="20168" b="5978"/>
                <a:stretch/>
              </p:blipFill>
              <p:spPr>
                <a:xfrm>
                  <a:off x="2574000" y="5555520"/>
                  <a:ext cx="96480" cy="6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AutoShape 178"/>
                <p:cNvSpPr/>
                <p:nvPr/>
              </p:nvSpPr>
              <p:spPr>
                <a:xfrm>
                  <a:off x="2142360" y="5536800"/>
                  <a:ext cx="558000" cy="907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22" name="Text Box 179"/>
              <p:cNvSpPr/>
              <p:nvPr/>
            </p:nvSpPr>
            <p:spPr>
              <a:xfrm>
                <a:off x="2315520" y="5674680"/>
                <a:ext cx="23976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5"/>
            <p:cNvGrpSpPr/>
            <p:nvPr/>
          </p:nvGrpSpPr>
          <p:grpSpPr>
            <a:xfrm>
              <a:off x="2123640" y="4740480"/>
              <a:ext cx="5176800" cy="572760"/>
              <a:chOff x="2123640" y="4740480"/>
              <a:chExt cx="5176800" cy="572760"/>
            </a:xfrm>
          </p:grpSpPr>
          <p:grpSp>
            <p:nvGrpSpPr>
              <p:cNvPr id="124" name="Group 16"/>
              <p:cNvGrpSpPr/>
              <p:nvPr/>
            </p:nvGrpSpPr>
            <p:grpSpPr>
              <a:xfrm>
                <a:off x="2123640" y="4740480"/>
                <a:ext cx="5176800" cy="572760"/>
                <a:chOff x="2123640" y="4740480"/>
                <a:chExt cx="5176800" cy="572760"/>
              </a:xfrm>
            </p:grpSpPr>
            <p:grpSp>
              <p:nvGrpSpPr>
                <p:cNvPr id="125" name="Group 17"/>
                <p:cNvGrpSpPr/>
                <p:nvPr/>
              </p:nvGrpSpPr>
              <p:grpSpPr>
                <a:xfrm>
                  <a:off x="2123640" y="4740480"/>
                  <a:ext cx="5176800" cy="572760"/>
                  <a:chOff x="2123640" y="4740480"/>
                  <a:chExt cx="5176800" cy="572760"/>
                </a:xfrm>
              </p:grpSpPr>
              <p:sp>
                <p:nvSpPr>
                  <p:cNvPr id="126" name="AutoShape 183"/>
                  <p:cNvSpPr/>
                  <p:nvPr/>
                </p:nvSpPr>
                <p:spPr>
                  <a:xfrm>
                    <a:off x="2448720" y="4743360"/>
                    <a:ext cx="4848840" cy="55116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  <p:grpSp>
                <p:nvGrpSpPr>
                  <p:cNvPr id="127" name="Group 19"/>
                  <p:cNvGrpSpPr/>
                  <p:nvPr/>
                </p:nvGrpSpPr>
                <p:grpSpPr>
                  <a:xfrm>
                    <a:off x="2123640" y="4740480"/>
                    <a:ext cx="5176800" cy="572760"/>
                    <a:chOff x="2123640" y="4740480"/>
                    <a:chExt cx="5176800" cy="572760"/>
                  </a:xfrm>
                </p:grpSpPr>
                <p:sp>
                  <p:nvSpPr>
                    <p:cNvPr id="128" name="AutoShape 185"/>
                    <p:cNvSpPr/>
                    <p:nvPr/>
                  </p:nvSpPr>
                  <p:spPr>
                    <a:xfrm>
                      <a:off x="2123640" y="4740480"/>
                      <a:ext cx="594000" cy="57276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29" name="Rectangle 186"/>
                    <p:cNvSpPr/>
                    <p:nvPr/>
                  </p:nvSpPr>
                  <p:spPr>
                    <a:xfrm>
                      <a:off x="2577240" y="5278680"/>
                      <a:ext cx="4723200" cy="3456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30" name="Freeform 187"/>
                    <p:cNvSpPr/>
                    <p:nvPr/>
                  </p:nvSpPr>
                  <p:spPr>
                    <a:xfrm>
                      <a:off x="2618280" y="4754880"/>
                      <a:ext cx="254520" cy="540000"/>
                    </a:xfrm>
                    <a:custGeom>
                      <a:avLst/>
                      <a:gdLst>
                        <a:gd name="textAreaLeft" fmla="*/ 0 w 254520"/>
                        <a:gd name="textAreaRight" fmla="*/ 254880 w 254520"/>
                        <a:gd name="textAreaTop" fmla="*/ 0 h 540000"/>
                        <a:gd name="textAreaBottom" fmla="*/ 540360 h 540000"/>
                      </a:gdLst>
                      <a:ahLst/>
                      <a:rect l="textAreaLeft" t="textAreaTop" r="textAreaRight" b="textAreaBottom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</p:grpSp>
            </p:grpSp>
            <p:pic>
              <p:nvPicPr>
                <p:cNvPr id="131" name="Picture 188" descr="바코드"/>
                <p:cNvPicPr/>
                <p:nvPr/>
              </p:nvPicPr>
              <p:blipFill>
                <a:blip r:embed="rId18"/>
                <a:srcRect l="16807" t="9783" r="20168" b="5978"/>
                <a:stretch/>
              </p:blipFill>
              <p:spPr>
                <a:xfrm>
                  <a:off x="2574000" y="4779360"/>
                  <a:ext cx="96480" cy="6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2" name="AutoShape 189"/>
                <p:cNvSpPr/>
                <p:nvPr/>
              </p:nvSpPr>
              <p:spPr>
                <a:xfrm>
                  <a:off x="2142360" y="4757040"/>
                  <a:ext cx="558000" cy="907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33" name="Text Box 190"/>
              <p:cNvSpPr/>
              <p:nvPr/>
            </p:nvSpPr>
            <p:spPr>
              <a:xfrm>
                <a:off x="2315520" y="4894920"/>
                <a:ext cx="23976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26"/>
            <p:cNvGrpSpPr/>
            <p:nvPr/>
          </p:nvGrpSpPr>
          <p:grpSpPr>
            <a:xfrm>
              <a:off x="2123640" y="3962520"/>
              <a:ext cx="5176800" cy="572760"/>
              <a:chOff x="2123640" y="3962520"/>
              <a:chExt cx="5176800" cy="572760"/>
            </a:xfrm>
          </p:grpSpPr>
          <p:grpSp>
            <p:nvGrpSpPr>
              <p:cNvPr id="135" name="Group 27"/>
              <p:cNvGrpSpPr/>
              <p:nvPr/>
            </p:nvGrpSpPr>
            <p:grpSpPr>
              <a:xfrm>
                <a:off x="2123640" y="3962520"/>
                <a:ext cx="5176800" cy="572760"/>
                <a:chOff x="2123640" y="3962520"/>
                <a:chExt cx="5176800" cy="572760"/>
              </a:xfrm>
            </p:grpSpPr>
            <p:grpSp>
              <p:nvGrpSpPr>
                <p:cNvPr id="136" name="Group 28"/>
                <p:cNvGrpSpPr/>
                <p:nvPr/>
              </p:nvGrpSpPr>
              <p:grpSpPr>
                <a:xfrm>
                  <a:off x="2123640" y="3962520"/>
                  <a:ext cx="5176800" cy="572760"/>
                  <a:chOff x="2123640" y="3962520"/>
                  <a:chExt cx="5176800" cy="572760"/>
                </a:xfrm>
              </p:grpSpPr>
              <p:sp>
                <p:nvSpPr>
                  <p:cNvPr id="137" name="AutoShape 194"/>
                  <p:cNvSpPr/>
                  <p:nvPr/>
                </p:nvSpPr>
                <p:spPr>
                  <a:xfrm>
                    <a:off x="2448720" y="3965400"/>
                    <a:ext cx="4848840" cy="55116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  <p:grpSp>
                <p:nvGrpSpPr>
                  <p:cNvPr id="138" name="Group 30"/>
                  <p:cNvGrpSpPr/>
                  <p:nvPr/>
                </p:nvGrpSpPr>
                <p:grpSpPr>
                  <a:xfrm>
                    <a:off x="2123640" y="3962520"/>
                    <a:ext cx="5176800" cy="572760"/>
                    <a:chOff x="2123640" y="3962520"/>
                    <a:chExt cx="5176800" cy="572760"/>
                  </a:xfrm>
                </p:grpSpPr>
                <p:sp>
                  <p:nvSpPr>
                    <p:cNvPr id="139" name="AutoShape 196"/>
                    <p:cNvSpPr/>
                    <p:nvPr/>
                  </p:nvSpPr>
                  <p:spPr>
                    <a:xfrm>
                      <a:off x="2123640" y="3962520"/>
                      <a:ext cx="594000" cy="57276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40" name="Rectangle 197"/>
                    <p:cNvSpPr/>
                    <p:nvPr/>
                  </p:nvSpPr>
                  <p:spPr>
                    <a:xfrm>
                      <a:off x="2577240" y="4500720"/>
                      <a:ext cx="4723200" cy="3456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41" name="Freeform 198"/>
                    <p:cNvSpPr/>
                    <p:nvPr/>
                  </p:nvSpPr>
                  <p:spPr>
                    <a:xfrm>
                      <a:off x="2618280" y="3976920"/>
                      <a:ext cx="254520" cy="540000"/>
                    </a:xfrm>
                    <a:custGeom>
                      <a:avLst/>
                      <a:gdLst>
                        <a:gd name="textAreaLeft" fmla="*/ 0 w 254520"/>
                        <a:gd name="textAreaRight" fmla="*/ 254880 w 254520"/>
                        <a:gd name="textAreaTop" fmla="*/ 0 h 540000"/>
                        <a:gd name="textAreaBottom" fmla="*/ 540360 h 540000"/>
                      </a:gdLst>
                      <a:ahLst/>
                      <a:rect l="textAreaLeft" t="textAreaTop" r="textAreaRight" b="textAreaBottom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</p:grpSp>
            </p:grpSp>
            <p:pic>
              <p:nvPicPr>
                <p:cNvPr id="142" name="Picture 199" descr="바코드"/>
                <p:cNvPicPr/>
                <p:nvPr/>
              </p:nvPicPr>
              <p:blipFill>
                <a:blip r:embed="rId19"/>
                <a:srcRect l="16807" t="9783" r="20168" b="5978"/>
                <a:stretch/>
              </p:blipFill>
              <p:spPr>
                <a:xfrm>
                  <a:off x="2574000" y="3990240"/>
                  <a:ext cx="96480" cy="6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AutoShape 200"/>
                <p:cNvSpPr/>
                <p:nvPr/>
              </p:nvSpPr>
              <p:spPr>
                <a:xfrm>
                  <a:off x="2142360" y="3979080"/>
                  <a:ext cx="558000" cy="907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44" name="Text Box 201"/>
              <p:cNvSpPr/>
              <p:nvPr/>
            </p:nvSpPr>
            <p:spPr>
              <a:xfrm>
                <a:off x="2315520" y="4116960"/>
                <a:ext cx="23976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37"/>
            <p:cNvGrpSpPr/>
            <p:nvPr/>
          </p:nvGrpSpPr>
          <p:grpSpPr>
            <a:xfrm>
              <a:off x="2123640" y="3184560"/>
              <a:ext cx="5176800" cy="572760"/>
              <a:chOff x="2123640" y="3184560"/>
              <a:chExt cx="5176800" cy="572760"/>
            </a:xfrm>
          </p:grpSpPr>
          <p:grpSp>
            <p:nvGrpSpPr>
              <p:cNvPr id="146" name="Group 38"/>
              <p:cNvGrpSpPr/>
              <p:nvPr/>
            </p:nvGrpSpPr>
            <p:grpSpPr>
              <a:xfrm>
                <a:off x="2123640" y="3184560"/>
                <a:ext cx="5176800" cy="572760"/>
                <a:chOff x="2123640" y="3184560"/>
                <a:chExt cx="5176800" cy="572760"/>
              </a:xfrm>
            </p:grpSpPr>
            <p:grpSp>
              <p:nvGrpSpPr>
                <p:cNvPr id="147" name="Group 39"/>
                <p:cNvGrpSpPr/>
                <p:nvPr/>
              </p:nvGrpSpPr>
              <p:grpSpPr>
                <a:xfrm>
                  <a:off x="2123640" y="3184560"/>
                  <a:ext cx="5176800" cy="572760"/>
                  <a:chOff x="2123640" y="3184560"/>
                  <a:chExt cx="5176800" cy="572760"/>
                </a:xfrm>
              </p:grpSpPr>
              <p:sp>
                <p:nvSpPr>
                  <p:cNvPr id="148" name="AutoShape 205"/>
                  <p:cNvSpPr/>
                  <p:nvPr/>
                </p:nvSpPr>
                <p:spPr>
                  <a:xfrm>
                    <a:off x="2448720" y="3187800"/>
                    <a:ext cx="4848840" cy="55116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  <p:grpSp>
                <p:nvGrpSpPr>
                  <p:cNvPr id="149" name="Group 41"/>
                  <p:cNvGrpSpPr/>
                  <p:nvPr/>
                </p:nvGrpSpPr>
                <p:grpSpPr>
                  <a:xfrm>
                    <a:off x="2123640" y="3184560"/>
                    <a:ext cx="5176800" cy="572760"/>
                    <a:chOff x="2123640" y="3184560"/>
                    <a:chExt cx="5176800" cy="572760"/>
                  </a:xfrm>
                </p:grpSpPr>
                <p:sp>
                  <p:nvSpPr>
                    <p:cNvPr id="150" name="AutoShape 207"/>
                    <p:cNvSpPr/>
                    <p:nvPr/>
                  </p:nvSpPr>
                  <p:spPr>
                    <a:xfrm>
                      <a:off x="2123640" y="3184560"/>
                      <a:ext cx="594000" cy="57276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51" name="Rectangle 208"/>
                    <p:cNvSpPr/>
                    <p:nvPr/>
                  </p:nvSpPr>
                  <p:spPr>
                    <a:xfrm>
                      <a:off x="2577240" y="3722760"/>
                      <a:ext cx="4723200" cy="3456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52" name="Freeform 209"/>
                    <p:cNvSpPr/>
                    <p:nvPr/>
                  </p:nvSpPr>
                  <p:spPr>
                    <a:xfrm>
                      <a:off x="2618280" y="3198960"/>
                      <a:ext cx="254520" cy="540000"/>
                    </a:xfrm>
                    <a:custGeom>
                      <a:avLst/>
                      <a:gdLst>
                        <a:gd name="textAreaLeft" fmla="*/ 0 w 254520"/>
                        <a:gd name="textAreaRight" fmla="*/ 254880 w 254520"/>
                        <a:gd name="textAreaTop" fmla="*/ 0 h 540000"/>
                        <a:gd name="textAreaBottom" fmla="*/ 540360 h 540000"/>
                      </a:gdLst>
                      <a:ahLst/>
                      <a:rect l="textAreaLeft" t="textAreaTop" r="textAreaRight" b="textAreaBottom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</p:grpSp>
            </p:grpSp>
            <p:pic>
              <p:nvPicPr>
                <p:cNvPr id="153" name="Picture 210" descr="바코드"/>
                <p:cNvPicPr/>
                <p:nvPr/>
              </p:nvPicPr>
              <p:blipFill>
                <a:blip r:embed="rId20"/>
                <a:srcRect l="16807" t="9783" r="20168" b="5978"/>
                <a:stretch/>
              </p:blipFill>
              <p:spPr>
                <a:xfrm>
                  <a:off x="2574000" y="3214440"/>
                  <a:ext cx="96480" cy="6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AutoShape 211"/>
                <p:cNvSpPr/>
                <p:nvPr/>
              </p:nvSpPr>
              <p:spPr>
                <a:xfrm>
                  <a:off x="2142360" y="3201480"/>
                  <a:ext cx="558000" cy="907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55" name="Text Box 212"/>
              <p:cNvSpPr/>
              <p:nvPr/>
            </p:nvSpPr>
            <p:spPr>
              <a:xfrm>
                <a:off x="2315520" y="3339000"/>
                <a:ext cx="23976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48"/>
            <p:cNvGrpSpPr/>
            <p:nvPr/>
          </p:nvGrpSpPr>
          <p:grpSpPr>
            <a:xfrm>
              <a:off x="2123640" y="1628640"/>
              <a:ext cx="5176800" cy="1350720"/>
              <a:chOff x="2123640" y="1628640"/>
              <a:chExt cx="5176800" cy="1350720"/>
            </a:xfrm>
          </p:grpSpPr>
          <p:grpSp>
            <p:nvGrpSpPr>
              <p:cNvPr id="157" name="Group 49"/>
              <p:cNvGrpSpPr/>
              <p:nvPr/>
            </p:nvGrpSpPr>
            <p:grpSpPr>
              <a:xfrm>
                <a:off x="2123640" y="1628640"/>
                <a:ext cx="5176800" cy="572760"/>
                <a:chOff x="2123640" y="1628640"/>
                <a:chExt cx="5176800" cy="572760"/>
              </a:xfrm>
            </p:grpSpPr>
            <p:grpSp>
              <p:nvGrpSpPr>
                <p:cNvPr id="158" name="Group 50"/>
                <p:cNvGrpSpPr/>
                <p:nvPr/>
              </p:nvGrpSpPr>
              <p:grpSpPr>
                <a:xfrm>
                  <a:off x="2123640" y="1628640"/>
                  <a:ext cx="5176800" cy="572760"/>
                  <a:chOff x="2123640" y="1628640"/>
                  <a:chExt cx="5176800" cy="572760"/>
                </a:xfrm>
              </p:grpSpPr>
              <p:grpSp>
                <p:nvGrpSpPr>
                  <p:cNvPr id="159" name="Group 51"/>
                  <p:cNvGrpSpPr/>
                  <p:nvPr/>
                </p:nvGrpSpPr>
                <p:grpSpPr>
                  <a:xfrm>
                    <a:off x="2123640" y="1628640"/>
                    <a:ext cx="5176800" cy="572760"/>
                    <a:chOff x="2123640" y="1628640"/>
                    <a:chExt cx="5176800" cy="572760"/>
                  </a:xfrm>
                </p:grpSpPr>
                <p:sp>
                  <p:nvSpPr>
                    <p:cNvPr id="160" name="AutoShape 217"/>
                    <p:cNvSpPr/>
                    <p:nvPr/>
                  </p:nvSpPr>
                  <p:spPr>
                    <a:xfrm>
                      <a:off x="2448720" y="1631880"/>
                      <a:ext cx="4848840" cy="551160"/>
                    </a:xfrm>
                    <a:prstGeom prst="roundRect">
                      <a:avLst>
                        <a:gd name="adj" fmla="val 0"/>
                      </a:avLst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grpSp>
                  <p:nvGrpSpPr>
                    <p:cNvPr id="161" name="Group 53"/>
                    <p:cNvGrpSpPr/>
                    <p:nvPr/>
                  </p:nvGrpSpPr>
                  <p:grpSpPr>
                    <a:xfrm>
                      <a:off x="2123640" y="1628640"/>
                      <a:ext cx="5176800" cy="572760"/>
                      <a:chOff x="2123640" y="1628640"/>
                      <a:chExt cx="5176800" cy="572760"/>
                    </a:xfrm>
                  </p:grpSpPr>
                  <p:sp>
                    <p:nvSpPr>
                      <p:cNvPr id="162" name="AutoShape 219"/>
                      <p:cNvSpPr/>
                      <p:nvPr/>
                    </p:nvSpPr>
                    <p:spPr>
                      <a:xfrm>
                        <a:off x="2123640" y="1628640"/>
                        <a:ext cx="594000" cy="572760"/>
                      </a:xfrm>
                      <a:prstGeom prst="roundRect">
                        <a:avLst>
                          <a:gd name="adj" fmla="val 5028"/>
                        </a:avLst>
                      </a:prstGeom>
                      <a:solidFill>
                        <a:srgbClr val="0043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endParaRPr>
                      </a:p>
                    </p:txBody>
                  </p:sp>
                  <p:sp>
                    <p:nvSpPr>
                      <p:cNvPr id="163" name="Rectangle 220"/>
                      <p:cNvSpPr/>
                      <p:nvPr/>
                    </p:nvSpPr>
                    <p:spPr>
                      <a:xfrm>
                        <a:off x="2577240" y="2166840"/>
                        <a:ext cx="4723200" cy="34560"/>
                      </a:xfrm>
                      <a:prstGeom prst="rect">
                        <a:avLst/>
                      </a:prstGeom>
                      <a:solidFill>
                        <a:srgbClr val="0043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endParaRPr>
                      </a:p>
                    </p:txBody>
                  </p:sp>
                  <p:sp>
                    <p:nvSpPr>
                      <p:cNvPr id="164" name="Freeform 221"/>
                      <p:cNvSpPr/>
                      <p:nvPr/>
                    </p:nvSpPr>
                    <p:spPr>
                      <a:xfrm>
                        <a:off x="2618280" y="1643040"/>
                        <a:ext cx="254520" cy="540000"/>
                      </a:xfrm>
                      <a:custGeom>
                        <a:avLst/>
                        <a:gdLst>
                          <a:gd name="textAreaLeft" fmla="*/ 0 w 254520"/>
                          <a:gd name="textAreaRight" fmla="*/ 254880 w 254520"/>
                          <a:gd name="textAreaTop" fmla="*/ 0 h 540000"/>
                          <a:gd name="textAreaBottom" fmla="*/ 540360 h 540000"/>
                        </a:gdLst>
                        <a:ahLst/>
                        <a:rect l="textAreaLeft" t="textAreaTop" r="textAreaRight" b="textAreaBottom"/>
                        <a:pathLst>
                          <a:path w="248" h="525">
                            <a:moveTo>
                              <a:pt x="93" y="0"/>
                            </a:moveTo>
                            <a:lnTo>
                              <a:pt x="248" y="525"/>
                            </a:lnTo>
                            <a:lnTo>
                              <a:pt x="29" y="523"/>
                            </a:lnTo>
                            <a:lnTo>
                              <a:pt x="0" y="162"/>
                            </a:lnTo>
                            <a:lnTo>
                              <a:pt x="93" y="0"/>
                            </a:lnTo>
                            <a:close/>
                          </a:path>
                        </a:pathLst>
                      </a:custGeom>
                      <a:solidFill>
                        <a:srgbClr val="0043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</a:tabLst>
                        </a:pPr>
                        <a:endParaRPr b="1" lang="en-US" sz="1800" spc="-1" strike="noStrike">
                          <a:solidFill>
                            <a:srgbClr val="000000"/>
                          </a:solidFill>
                          <a:latin typeface="Gulim"/>
                          <a:ea typeface="Gulim"/>
                        </a:endParaRPr>
                      </a:p>
                    </p:txBody>
                  </p:sp>
                </p:grpSp>
              </p:grpSp>
              <p:pic>
                <p:nvPicPr>
                  <p:cNvPr id="165" name="Picture 222" descr="바코드"/>
                  <p:cNvPicPr/>
                  <p:nvPr/>
                </p:nvPicPr>
                <p:blipFill>
                  <a:blip r:embed="rId21"/>
                  <a:srcRect l="16807" t="9783" r="20168" b="5978"/>
                  <a:stretch/>
                </p:blipFill>
                <p:spPr>
                  <a:xfrm>
                    <a:off x="2574000" y="1660320"/>
                    <a:ext cx="96480" cy="6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AutoShape 223"/>
                  <p:cNvSpPr/>
                  <p:nvPr/>
                </p:nvSpPr>
                <p:spPr>
                  <a:xfrm>
                    <a:off x="2142360" y="1645560"/>
                    <a:ext cx="558000" cy="90720"/>
                  </a:xfrm>
                  <a:prstGeom prst="roundRect">
                    <a:avLst>
                      <a:gd name="adj" fmla="val 20227"/>
                    </a:avLst>
                  </a:prstGeom>
                  <a:gradFill rotWithShape="0">
                    <a:gsLst>
                      <a:gs pos="0">
                        <a:srgbClr val="65b9ff"/>
                      </a:gs>
                      <a:gs pos="100000">
                        <a:srgbClr val="0060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</p:grpSp>
            <p:sp>
              <p:nvSpPr>
                <p:cNvPr id="167" name="Text Box 224"/>
                <p:cNvSpPr/>
                <p:nvPr/>
              </p:nvSpPr>
              <p:spPr>
                <a:xfrm>
                  <a:off x="2315520" y="1783440"/>
                  <a:ext cx="23976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견고딕"/>
                      <a:ea typeface="HY견고딕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60"/>
              <p:cNvGrpSpPr/>
              <p:nvPr/>
            </p:nvGrpSpPr>
            <p:grpSpPr>
              <a:xfrm>
                <a:off x="2123640" y="2406600"/>
                <a:ext cx="5176800" cy="572760"/>
                <a:chOff x="2123640" y="2406600"/>
                <a:chExt cx="5176800" cy="572760"/>
              </a:xfrm>
            </p:grpSpPr>
            <p:grpSp>
              <p:nvGrpSpPr>
                <p:cNvPr id="169" name="Group 61"/>
                <p:cNvGrpSpPr/>
                <p:nvPr/>
              </p:nvGrpSpPr>
              <p:grpSpPr>
                <a:xfrm>
                  <a:off x="2123640" y="2406600"/>
                  <a:ext cx="5176800" cy="572760"/>
                  <a:chOff x="2123640" y="2406600"/>
                  <a:chExt cx="5176800" cy="572760"/>
                </a:xfrm>
              </p:grpSpPr>
              <p:sp>
                <p:nvSpPr>
                  <p:cNvPr id="170" name="AutoShape 227"/>
                  <p:cNvSpPr/>
                  <p:nvPr/>
                </p:nvSpPr>
                <p:spPr>
                  <a:xfrm>
                    <a:off x="2448720" y="2409840"/>
                    <a:ext cx="4848840" cy="551160"/>
                  </a:xfrm>
                  <a:prstGeom prst="roundRect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ddd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Gulim"/>
                      <a:ea typeface="Gulim"/>
                    </a:endParaRPr>
                  </a:p>
                </p:txBody>
              </p:sp>
              <p:grpSp>
                <p:nvGrpSpPr>
                  <p:cNvPr id="171" name="Group 63"/>
                  <p:cNvGrpSpPr/>
                  <p:nvPr/>
                </p:nvGrpSpPr>
                <p:grpSpPr>
                  <a:xfrm>
                    <a:off x="2123640" y="2406600"/>
                    <a:ext cx="5176800" cy="572760"/>
                    <a:chOff x="2123640" y="2406600"/>
                    <a:chExt cx="5176800" cy="572760"/>
                  </a:xfrm>
                </p:grpSpPr>
                <p:sp>
                  <p:nvSpPr>
                    <p:cNvPr id="172" name="AutoShape 229"/>
                    <p:cNvSpPr/>
                    <p:nvPr/>
                  </p:nvSpPr>
                  <p:spPr>
                    <a:xfrm>
                      <a:off x="2123640" y="2406600"/>
                      <a:ext cx="594000" cy="572760"/>
                    </a:xfrm>
                    <a:prstGeom prst="roundRect">
                      <a:avLst>
                        <a:gd name="adj" fmla="val 5028"/>
                      </a:avLst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73" name="Rectangle 230"/>
                    <p:cNvSpPr/>
                    <p:nvPr/>
                  </p:nvSpPr>
                  <p:spPr>
                    <a:xfrm>
                      <a:off x="2577240" y="2944800"/>
                      <a:ext cx="4723200" cy="34560"/>
                    </a:xfrm>
                    <a:prstGeom prst="rect">
                      <a:avLst/>
                    </a:pr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  <p:sp>
                  <p:nvSpPr>
                    <p:cNvPr id="174" name="Freeform 231"/>
                    <p:cNvSpPr/>
                    <p:nvPr/>
                  </p:nvSpPr>
                  <p:spPr>
                    <a:xfrm>
                      <a:off x="2618280" y="2421000"/>
                      <a:ext cx="254520" cy="540000"/>
                    </a:xfrm>
                    <a:custGeom>
                      <a:avLst/>
                      <a:gdLst>
                        <a:gd name="textAreaLeft" fmla="*/ 0 w 254520"/>
                        <a:gd name="textAreaRight" fmla="*/ 254880 w 254520"/>
                        <a:gd name="textAreaTop" fmla="*/ 0 h 540000"/>
                        <a:gd name="textAreaBottom" fmla="*/ 540360 h 540000"/>
                      </a:gdLst>
                      <a:ahLst/>
                      <a:rect l="textAreaLeft" t="textAreaTop" r="textAreaRight" b="textAreaBottom"/>
                      <a:pathLst>
                        <a:path w="248" h="525">
                          <a:moveTo>
                            <a:pt x="93" y="0"/>
                          </a:moveTo>
                          <a:lnTo>
                            <a:pt x="248" y="525"/>
                          </a:lnTo>
                          <a:lnTo>
                            <a:pt x="29" y="523"/>
                          </a:lnTo>
                          <a:lnTo>
                            <a:pt x="0" y="162"/>
                          </a:lnTo>
                          <a:lnTo>
                            <a:pt x="93" y="0"/>
                          </a:lnTo>
                          <a:close/>
                        </a:path>
                      </a:pathLst>
                    </a:custGeom>
                    <a:solidFill>
                      <a:srgbClr val="0043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Gulim"/>
                        <a:ea typeface="Gulim"/>
                      </a:endParaRPr>
                    </a:p>
                  </p:txBody>
                </p:sp>
              </p:grpSp>
            </p:grpSp>
            <p:pic>
              <p:nvPicPr>
                <p:cNvPr id="175" name="Picture 232" descr="바코드"/>
                <p:cNvPicPr/>
                <p:nvPr/>
              </p:nvPicPr>
              <p:blipFill>
                <a:blip r:embed="rId22"/>
                <a:srcRect l="16807" t="9783" r="20168" b="5978"/>
                <a:stretch/>
              </p:blipFill>
              <p:spPr>
                <a:xfrm>
                  <a:off x="2574000" y="2436480"/>
                  <a:ext cx="96480" cy="6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AutoShape 233"/>
                <p:cNvSpPr/>
                <p:nvPr/>
              </p:nvSpPr>
              <p:spPr>
                <a:xfrm>
                  <a:off x="2142360" y="2423520"/>
                  <a:ext cx="558000" cy="907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65b9ff"/>
                    </a:gs>
                    <a:gs pos="100000">
                      <a:srgbClr val="006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Gulim"/>
                    <a:ea typeface="Gulim"/>
                  </a:endParaRPr>
                </a:p>
              </p:txBody>
            </p:sp>
          </p:grpSp>
          <p:sp>
            <p:nvSpPr>
              <p:cNvPr id="177" name="Text Box 234"/>
              <p:cNvSpPr/>
              <p:nvPr/>
            </p:nvSpPr>
            <p:spPr>
              <a:xfrm>
                <a:off x="2315520" y="2561040"/>
                <a:ext cx="239760" cy="2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235"/>
            <p:cNvSpPr/>
            <p:nvPr/>
          </p:nvSpPr>
          <p:spPr>
            <a:xfrm>
              <a:off x="2879280" y="168264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36"/>
            <p:cNvSpPr/>
            <p:nvPr/>
          </p:nvSpPr>
          <p:spPr>
            <a:xfrm>
              <a:off x="2879280" y="557424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37"/>
            <p:cNvSpPr/>
            <p:nvPr/>
          </p:nvSpPr>
          <p:spPr>
            <a:xfrm>
              <a:off x="2879280" y="479448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38"/>
            <p:cNvSpPr/>
            <p:nvPr/>
          </p:nvSpPr>
          <p:spPr>
            <a:xfrm>
              <a:off x="2879280" y="401652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39"/>
            <p:cNvSpPr/>
            <p:nvPr/>
          </p:nvSpPr>
          <p:spPr>
            <a:xfrm>
              <a:off x="2879280" y="323856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40"/>
            <p:cNvSpPr/>
            <p:nvPr/>
          </p:nvSpPr>
          <p:spPr>
            <a:xfrm>
              <a:off x="2879280" y="2460600"/>
              <a:ext cx="4397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</a:tabLst>
              </a:pPr>
              <a:r>
                <a:rPr b="0" lang="zh-CN" sz="2000" spc="29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幻灯片目录说明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D:\锐 改\02  图标图片\位图 (JPEG  PNG GIF BMP）不可编辑\Jpg\企业背景Logo\2-12-12.jpg"/>
          <p:cNvPicPr/>
          <p:nvPr/>
        </p:nvPicPr>
        <p:blipFill>
          <a:blip r:embed="rId1"/>
          <a:stretch/>
        </p:blipFill>
        <p:spPr>
          <a:xfrm>
            <a:off x="0" y="983880"/>
            <a:ext cx="9143640" cy="5876640"/>
          </a:xfrm>
          <a:prstGeom prst="rect">
            <a:avLst/>
          </a:prstGeom>
          <a:ln w="0">
            <a:noFill/>
          </a:ln>
        </p:spPr>
      </p:pic>
      <p:sp>
        <p:nvSpPr>
          <p:cNvPr id="185" name="标题 4"/>
          <p:cNvSpPr/>
          <p:nvPr/>
        </p:nvSpPr>
        <p:spPr>
          <a:xfrm>
            <a:off x="0" y="281160"/>
            <a:ext cx="9143640" cy="6678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72000">
              <a:lnSpc>
                <a:spcPct val="100000"/>
              </a:lnSpc>
            </a:pP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G:\pag2.jpg"/>
          <p:cNvPicPr/>
          <p:nvPr/>
        </p:nvPicPr>
        <p:blipFill>
          <a:blip r:embed="rId1"/>
          <a:srcRect l="0" t="0" r="32743" b="0"/>
          <a:stretch/>
        </p:blipFill>
        <p:spPr>
          <a:xfrm>
            <a:off x="0" y="980640"/>
            <a:ext cx="9143640" cy="5868720"/>
          </a:xfrm>
          <a:prstGeom prst="rect">
            <a:avLst/>
          </a:prstGeom>
          <a:ln w="0">
            <a:noFill/>
          </a:ln>
        </p:spPr>
      </p:pic>
      <p:sp>
        <p:nvSpPr>
          <p:cNvPr id="187" name="标题 4"/>
          <p:cNvSpPr/>
          <p:nvPr/>
        </p:nvSpPr>
        <p:spPr>
          <a:xfrm>
            <a:off x="0" y="281160"/>
            <a:ext cx="9143640" cy="6678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72000">
              <a:lnSpc>
                <a:spcPct val="100000"/>
              </a:lnSpc>
            </a:pP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G:\pag2.jpg"/>
          <p:cNvPicPr/>
          <p:nvPr/>
        </p:nvPicPr>
        <p:blipFill>
          <a:blip r:embed="rId1"/>
          <a:srcRect l="0" t="0" r="32743" b="0"/>
          <a:stretch/>
        </p:blipFill>
        <p:spPr>
          <a:xfrm>
            <a:off x="0" y="988920"/>
            <a:ext cx="9143640" cy="5868720"/>
          </a:xfrm>
          <a:prstGeom prst="rect">
            <a:avLst/>
          </a:prstGeom>
          <a:ln w="0">
            <a:noFill/>
          </a:ln>
        </p:spPr>
      </p:pic>
      <p:sp>
        <p:nvSpPr>
          <p:cNvPr id="189" name="标题 4"/>
          <p:cNvSpPr/>
          <p:nvPr/>
        </p:nvSpPr>
        <p:spPr>
          <a:xfrm>
            <a:off x="0" y="281160"/>
            <a:ext cx="9143640" cy="6678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72000">
              <a:lnSpc>
                <a:spcPct val="100000"/>
              </a:lnSpc>
            </a:pP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800" spc="299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9" descr="15-2.png"/>
          <p:cNvPicPr/>
          <p:nvPr/>
        </p:nvPicPr>
        <p:blipFill>
          <a:blip r:embed="rId2"/>
          <a:srcRect l="0" t="41923" r="0" b="21210"/>
          <a:stretch/>
        </p:blipFill>
        <p:spPr>
          <a:xfrm>
            <a:off x="4680" y="2924280"/>
            <a:ext cx="9134280" cy="18968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0" descr="15-3-1.png"/>
          <p:cNvPicPr/>
          <p:nvPr/>
        </p:nvPicPr>
        <p:blipFill>
          <a:blip r:embed="rId3"/>
          <a:stretch/>
        </p:blipFill>
        <p:spPr>
          <a:xfrm>
            <a:off x="4680" y="4008600"/>
            <a:ext cx="9134280" cy="2710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6" descr="15-13.png"/>
          <p:cNvPicPr/>
          <p:nvPr/>
        </p:nvPicPr>
        <p:blipFill>
          <a:blip r:embed="rId4"/>
          <a:srcRect l="61110" t="65972" r="8732" b="0"/>
          <a:stretch/>
        </p:blipFill>
        <p:spPr>
          <a:xfrm>
            <a:off x="5587920" y="4164120"/>
            <a:ext cx="2757240" cy="1752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7" descr="15-17.png"/>
          <p:cNvPicPr/>
          <p:nvPr/>
        </p:nvPicPr>
        <p:blipFill>
          <a:blip r:embed="rId5"/>
          <a:srcRect l="50638" t="23993" r="0" b="0"/>
          <a:stretch/>
        </p:blipFill>
        <p:spPr>
          <a:xfrm>
            <a:off x="4630680" y="2001960"/>
            <a:ext cx="4512960" cy="3912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8" descr="15-13-1.png"/>
          <p:cNvPicPr/>
          <p:nvPr/>
        </p:nvPicPr>
        <p:blipFill>
          <a:blip r:embed="rId6"/>
          <a:stretch/>
        </p:blipFill>
        <p:spPr>
          <a:xfrm>
            <a:off x="5686560" y="3357720"/>
            <a:ext cx="3022200" cy="25538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9" descr="15-13.png"/>
          <p:cNvPicPr/>
          <p:nvPr/>
        </p:nvPicPr>
        <p:blipFill>
          <a:blip r:embed="rId7"/>
          <a:srcRect l="58661" t="37762" r="8268" b="2098"/>
          <a:stretch/>
        </p:blipFill>
        <p:spPr>
          <a:xfrm>
            <a:off x="5364000" y="2712960"/>
            <a:ext cx="3024000" cy="30952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0" descr="15-13-3.png"/>
          <p:cNvPicPr/>
          <p:nvPr/>
        </p:nvPicPr>
        <p:blipFill>
          <a:blip r:embed="rId8"/>
          <a:stretch/>
        </p:blipFill>
        <p:spPr>
          <a:xfrm>
            <a:off x="5686560" y="3357720"/>
            <a:ext cx="3022200" cy="2553840"/>
          </a:xfrm>
          <a:prstGeom prst="rect">
            <a:avLst/>
          </a:prstGeom>
          <a:ln w="0">
            <a:noFill/>
          </a:ln>
        </p:spPr>
      </p:pic>
      <p:sp>
        <p:nvSpPr>
          <p:cNvPr id="197" name="任意多边形 21"/>
          <p:cNvSpPr/>
          <p:nvPr/>
        </p:nvSpPr>
        <p:spPr>
          <a:xfrm>
            <a:off x="4686120" y="1955520"/>
            <a:ext cx="2807640" cy="2686320"/>
          </a:xfrm>
          <a:custGeom>
            <a:avLst/>
            <a:gdLst>
              <a:gd name="textAreaLeft" fmla="*/ 0 w 2807640"/>
              <a:gd name="textAreaRight" fmla="*/ 2808000 w 2807640"/>
              <a:gd name="textAreaTop" fmla="*/ 0 h 2686320"/>
              <a:gd name="textAreaBottom" fmla="*/ 2686680 h 2686320"/>
            </a:gdLst>
            <a:ahLst/>
            <a:rect l="textAreaLeft" t="textAreaTop" r="textAreaRight" b="textAreaBottom"/>
            <a:pathLst>
              <a:path w="2808111" h="2686756">
                <a:moveTo>
                  <a:pt x="0" y="2686756"/>
                </a:moveTo>
                <a:lnTo>
                  <a:pt x="1305278" y="946856"/>
                </a:lnTo>
                <a:lnTo>
                  <a:pt x="317500" y="562681"/>
                </a:lnTo>
                <a:lnTo>
                  <a:pt x="2808111" y="0"/>
                </a:lnTo>
              </a:path>
            </a:pathLst>
          </a:custGeom>
          <a:noFill/>
          <a:ln w="15875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98" name="图片 22" descr="15-7.png"/>
          <p:cNvPicPr/>
          <p:nvPr/>
        </p:nvPicPr>
        <p:blipFill>
          <a:blip r:embed="rId9"/>
          <a:stretch/>
        </p:blipFill>
        <p:spPr>
          <a:xfrm>
            <a:off x="4468680" y="4411800"/>
            <a:ext cx="452160" cy="42840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23" descr="15-8.png"/>
          <p:cNvPicPr/>
          <p:nvPr/>
        </p:nvPicPr>
        <p:blipFill>
          <a:blip r:embed="rId10"/>
          <a:stretch/>
        </p:blipFill>
        <p:spPr>
          <a:xfrm>
            <a:off x="4797360" y="2328840"/>
            <a:ext cx="350640" cy="3726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4" descr="15-9.png"/>
          <p:cNvPicPr/>
          <p:nvPr/>
        </p:nvPicPr>
        <p:blipFill>
          <a:blip r:embed="rId11"/>
          <a:stretch/>
        </p:blipFill>
        <p:spPr>
          <a:xfrm>
            <a:off x="7243920" y="1700280"/>
            <a:ext cx="483840" cy="4615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5" descr="15-10.png"/>
          <p:cNvPicPr/>
          <p:nvPr/>
        </p:nvPicPr>
        <p:blipFill>
          <a:blip r:embed="rId12"/>
          <a:srcRect l="0" t="9843" r="0" b="0"/>
          <a:stretch/>
        </p:blipFill>
        <p:spPr>
          <a:xfrm>
            <a:off x="3949560" y="4614840"/>
            <a:ext cx="732960" cy="7218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6" descr="15-11.png"/>
          <p:cNvPicPr/>
          <p:nvPr/>
        </p:nvPicPr>
        <p:blipFill>
          <a:blip r:embed="rId13"/>
          <a:stretch/>
        </p:blipFill>
        <p:spPr>
          <a:xfrm>
            <a:off x="5033880" y="1735200"/>
            <a:ext cx="597960" cy="5871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7" descr="15-12.png"/>
          <p:cNvPicPr/>
          <p:nvPr/>
        </p:nvPicPr>
        <p:blipFill>
          <a:blip r:embed="rId14"/>
          <a:stretch/>
        </p:blipFill>
        <p:spPr>
          <a:xfrm>
            <a:off x="7537320" y="192564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8"/>
          <p:cNvSpPr/>
          <p:nvPr/>
        </p:nvSpPr>
        <p:spPr>
          <a:xfrm>
            <a:off x="276120" y="1484640"/>
            <a:ext cx="4897080" cy="2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20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36480" y="63651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5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path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434 -0.09288 L 1.94444E-006 1.28047E-006 E">
                                      <p:cBhvr>
                                        <p:cTn id="18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path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28802 -0.15921 L -4.16667E-006 -1.28047E-006 E">
                                      <p:cBhvr>
                                        <p:cTn id="192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1146 0.31842 L -0.00052 -1.41932E-006 E">
                                      <p:cBhvr>
                                        <p:cTn id="19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path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1717 0.41098 L 2.77778E-006 -1.28047E-006 E">
                                      <p:cBhvr>
                                        <p:cTn id="20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path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6181 0.42672 L 0.00086 -0.00031 E">
                                      <p:cBhvr>
                                        <p:cTn id="21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path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11649 0.34743 L 1.11111E-006 -4.18698E-006 E">
                                      <p:cBhvr>
                                        <p:cTn id="21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D:\锐 改\02  图标图片\位图 (JPEG  PNG GIF BMP）不可编辑\Jpg\企业背景Logo\2-12-12.jpg"/>
          <p:cNvPicPr/>
          <p:nvPr/>
        </p:nvPicPr>
        <p:blipFill>
          <a:blip r:embed="rId1"/>
          <a:stretch/>
        </p:blipFill>
        <p:spPr>
          <a:xfrm>
            <a:off x="0" y="983880"/>
            <a:ext cx="9143640" cy="58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1_Nokia-Wide-v1">
  <a:themeElements>
    <a:clrScheme name="自定义 21">
      <a:dk1>
        <a:srgbClr val="124191"/>
      </a:dk1>
      <a:lt1>
        <a:srgbClr val="ffffff"/>
      </a:lt1>
      <a:dk2>
        <a:srgbClr val="646464"/>
      </a:dk2>
      <a:lt2>
        <a:srgbClr val="ffffff"/>
      </a:lt2>
      <a:accent1>
        <a:srgbClr val="2187b0"/>
      </a:accent1>
      <a:accent2>
        <a:srgbClr val="1f843e"/>
      </a:accent2>
      <a:accent3>
        <a:srgbClr val="e32c18"/>
      </a:accent3>
      <a:accent4>
        <a:srgbClr val="eb6312"/>
      </a:accent4>
      <a:accent5>
        <a:srgbClr val="4d2383"/>
      </a:accent5>
      <a:accent6>
        <a:srgbClr val="124191"/>
      </a:accent6>
      <a:hlink>
        <a:srgbClr val="ffffff"/>
      </a:hlink>
      <a:folHlink>
        <a:srgbClr val="b592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角度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464"/>
      </a:dk2>
      <a:lt2>
        <a:srgbClr val="ffffff"/>
      </a:lt2>
      <a:accent1>
        <a:srgbClr val="2187b0"/>
      </a:accent1>
      <a:accent2>
        <a:srgbClr val="1f843e"/>
      </a:accent2>
      <a:accent3>
        <a:srgbClr val="e32c18"/>
      </a:accent3>
      <a:accent4>
        <a:srgbClr val="eb6312"/>
      </a:accent4>
      <a:accent5>
        <a:srgbClr val="4d2383"/>
      </a:accent5>
      <a:accent6>
        <a:srgbClr val="124191"/>
      </a:accent6>
      <a:hlink>
        <a:srgbClr val="ffffff"/>
      </a:hlink>
      <a:folHlink>
        <a:srgbClr val="b592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9</TotalTime>
  <Application>LibreOffice/7.4.7.2$Linux_X86_64 LibreOffice_project/40$Build-2</Application>
  <AppVersion>15.0000</AppVersion>
  <Words>168</Words>
  <Paragraphs>38</Paragraphs>
  <Company>CAM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保密</cp:category>
  <cp:contentStatus>可编辑</cp:contentStatus>
  <dcterms:created xsi:type="dcterms:W3CDTF">2011-06-03T14:53:06Z</dcterms:created>
  <dc:creator>袁健</dc:creator>
  <dc:description>内部使用，谢绝参考</dc:description>
  <cp:keywords>内部</cp:keywords>
  <dc:language>en-US</dc:language>
  <cp:lastModifiedBy>a</cp:lastModifiedBy>
  <dcterms:modified xsi:type="dcterms:W3CDTF">2015-07-25T01:58:04Z</dcterms:modified>
  <cp:revision>965</cp:revision>
  <dc:subject>工作汇报</dc:subject>
  <dc:title>PowerPoint 演示文稿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全屏显示(4:3)</vt:lpwstr>
  </property>
  <property fmtid="{D5CDD505-2E9C-101B-9397-08002B2CF9AE}" pid="4" name="Slides">
    <vt:r8>6</vt:r8>
  </property>
</Properties>
</file>