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0EC-AB5D-48FE-85E3-D1C39BE8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9A6-4B64-4CB5-AE12-96948E3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E7A-8D08-442E-9A84-E87A8A4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01B-0E7D-4DDD-A382-AFA90863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D77-3AE2-4ED1-B73A-3698541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1F3-394C-4679-B181-28F2D89C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218-B951-407B-B72B-A584F383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1BA-09A8-44F6-B898-380B7701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D16-F9C6-4382-8BEC-643C1053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4AE-0327-4061-A189-8DC0DFE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596-351F-430F-918A-79F4634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4FB-E4A4-4078-9849-9FD6C16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740-836F-4D89-A759-C1360553D8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3640" y="1571760"/>
            <a:ext cx="63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箭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86240" y="23572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355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854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854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26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211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436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068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a</cp:lastModifiedBy>
  <dcterms:modified xsi:type="dcterms:W3CDTF">2015-07-25T02:46:21Z</dcterms:modified>
  <cp:revision>69</cp:revision>
  <dc:subject/>
  <dc:title>www.pptbz.com</dc:title>
</cp:coreProperties>
</file>