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6B5-F47C-47C4-80A0-A27A69EA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0EB-A883-4E98-8BD9-39F21463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F90-4C89-486D-AC20-E46F6198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4F3-2561-46B8-93BC-DD9D577C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79A1-881E-45DE-880A-6812558D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8376-B513-439F-ACB7-DD54C4BE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C762-FF75-424D-ADFA-D4C0A68D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A084-4353-46A1-B817-70484CA7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48DB-86C2-40B0-B62E-532415A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6896-BFFD-4885-8254-8CC85E25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632B-0A81-4F80-B762-AFA8A4A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1F9-C1B8-406D-B46E-3AF16B7E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DAB6-0795-4EA4-BADF-C889952B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7947-67AB-46CA-AFD2-84F9C588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F01B-01B5-430A-B62F-04ACAE4F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D14A-537C-45E3-A8A6-6D405DE5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7BBF-EE44-429F-8545-5B93306F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FBF5-36C5-4614-BB73-830A6A54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6021-7716-4A05-8695-60FC43CA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7FF1-7C6F-4988-9D29-904931CF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DB49-EC9F-4A2E-8A4D-20968919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8FB7-D5B8-4346-97BD-448EA838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A3D-FADF-457F-873D-89B285EE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83F7-A5EA-4F6A-89C0-CB4060A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C254-46E1-4C33-A15E-D231AB93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82DB-A3E5-40B1-B1A7-DC52142B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A79E-38B7-4473-B298-99E8F774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352C-48E8-4324-BB69-0D352BF6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38F4-AFAB-45D8-A194-5B5DFC83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48C4-F669-4651-BC0C-DFD62645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487-C8D9-455C-A42D-E68C7968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C33-380F-4C58-AC2B-93DADCDF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0B1-CB7F-49E3-A469-343A9F26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84D-1E6B-41DF-8408-0742D522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3D4-A153-45C3-81E3-79EEFF8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026-5A9A-4F8D-A14B-28311167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-1080" y="0"/>
            <a:ext cx="914112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yangkang\Desktop\TO-卡瓦\首界面.jpg"/>
          <p:cNvPicPr/>
          <p:nvPr/>
        </p:nvPicPr>
        <p:blipFill>
          <a:blip r:embed="rId4"/>
          <a:stretch/>
        </p:blipFill>
        <p:spPr>
          <a:xfrm>
            <a:off x="0" y="0"/>
            <a:ext cx="916272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715F4C-29A9-4BC5-BBE6-039C94C354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-1080" y="0"/>
            <a:ext cx="914112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AA21C6-0550-44AC-9C82-6C4227ADFD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-1080" y="0"/>
            <a:ext cx="914112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F1072F-2773-4FA5-8E01-E14904AF57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899640" y="1124640"/>
            <a:ext cx="7776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商务蓝色</a:t>
            </a: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圆角矩形 1"/>
          <p:cNvSpPr/>
          <p:nvPr/>
        </p:nvSpPr>
        <p:spPr>
          <a:xfrm>
            <a:off x="0" y="1689120"/>
            <a:ext cx="9143640" cy="108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fcff">
                  <a:alpha val="56078"/>
                </a:srgbClr>
              </a:gs>
              <a:gs pos="100000">
                <a:srgbClr val="808080">
                  <a:alpha val="52156"/>
                </a:srgbClr>
              </a:gs>
            </a:gsLst>
            <a:lin ang="16200000"/>
          </a:gradFill>
          <a:ln>
            <a:solidFill>
              <a:srgbClr val="d5e7e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  <a:ea typeface="宋体"/>
            </a:endParaRPr>
          </a:p>
        </p:txBody>
      </p:sp>
      <p:pic>
        <p:nvPicPr>
          <p:cNvPr id="859" name="Picture 7" descr="anniu副本"/>
          <p:cNvPicPr/>
          <p:nvPr/>
        </p:nvPicPr>
        <p:blipFill>
          <a:blip r:embed="rId1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5"/>
          <p:cNvSpPr/>
          <p:nvPr/>
        </p:nvSpPr>
        <p:spPr>
          <a:xfrm>
            <a:off x="1152000" y="1983600"/>
            <a:ext cx="80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4" descr=""/>
          <p:cNvPicPr/>
          <p:nvPr/>
        </p:nvPicPr>
        <p:blipFill>
          <a:blip r:embed="rId2"/>
          <a:stretch/>
        </p:blipFill>
        <p:spPr>
          <a:xfrm>
            <a:off x="0" y="1628640"/>
            <a:ext cx="1177560" cy="11775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6" descr="anniu"/>
          <p:cNvPicPr/>
          <p:nvPr/>
        </p:nvPicPr>
        <p:blipFill>
          <a:blip r:embed="rId3"/>
          <a:stretch/>
        </p:blipFill>
        <p:spPr>
          <a:xfrm>
            <a:off x="3420000" y="3069000"/>
            <a:ext cx="2520000" cy="34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矩形 24"/>
          <p:cNvSpPr/>
          <p:nvPr/>
        </p:nvSpPr>
        <p:spPr>
          <a:xfrm>
            <a:off x="1341720" y="2997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组合 43"/>
          <p:cNvGrpSpPr/>
          <p:nvPr/>
        </p:nvGrpSpPr>
        <p:grpSpPr>
          <a:xfrm>
            <a:off x="3093120" y="2941200"/>
            <a:ext cx="522000" cy="412560"/>
            <a:chOff x="3093120" y="2941200"/>
            <a:chExt cx="522000" cy="412560"/>
          </a:xfrm>
        </p:grpSpPr>
        <p:sp>
          <p:nvSpPr>
            <p:cNvPr id="865" name="燕尾形 11"/>
            <p:cNvSpPr/>
            <p:nvPr/>
          </p:nvSpPr>
          <p:spPr>
            <a:xfrm>
              <a:off x="3093120" y="2941200"/>
              <a:ext cx="282240" cy="412560"/>
            </a:xfrm>
            <a:prstGeom prst="chevron">
              <a:avLst>
                <a:gd name="adj" fmla="val 50000"/>
              </a:avLst>
            </a:prstGeom>
            <a:solidFill>
              <a:srgbClr val="00b05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66" name="燕尾形 12"/>
            <p:cNvSpPr/>
            <p:nvPr/>
          </p:nvSpPr>
          <p:spPr>
            <a:xfrm>
              <a:off x="3332880" y="2941200"/>
              <a:ext cx="282240" cy="412560"/>
            </a:xfrm>
            <a:prstGeom prst="chevron">
              <a:avLst>
                <a:gd name="adj" fmla="val 50000"/>
              </a:avLst>
            </a:prstGeom>
            <a:solidFill>
              <a:srgbClr val="00b05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867" name="组合 44"/>
          <p:cNvGrpSpPr/>
          <p:nvPr/>
        </p:nvGrpSpPr>
        <p:grpSpPr>
          <a:xfrm>
            <a:off x="5839560" y="2941200"/>
            <a:ext cx="522000" cy="412560"/>
            <a:chOff x="5839560" y="2941200"/>
            <a:chExt cx="522000" cy="412560"/>
          </a:xfrm>
        </p:grpSpPr>
        <p:sp>
          <p:nvSpPr>
            <p:cNvPr id="868" name="燕尾形 14"/>
            <p:cNvSpPr/>
            <p:nvPr/>
          </p:nvSpPr>
          <p:spPr>
            <a:xfrm>
              <a:off x="5839560" y="2941200"/>
              <a:ext cx="282240" cy="412560"/>
            </a:xfrm>
            <a:prstGeom prst="chevron">
              <a:avLst>
                <a:gd name="adj" fmla="val 50000"/>
              </a:avLst>
            </a:prstGeom>
            <a:solidFill>
              <a:srgbClr val="00b05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69" name="燕尾形 15"/>
            <p:cNvSpPr/>
            <p:nvPr/>
          </p:nvSpPr>
          <p:spPr>
            <a:xfrm>
              <a:off x="6079320" y="2941200"/>
              <a:ext cx="282240" cy="412560"/>
            </a:xfrm>
            <a:prstGeom prst="chevron">
              <a:avLst>
                <a:gd name="adj" fmla="val 50000"/>
              </a:avLst>
            </a:prstGeom>
            <a:solidFill>
              <a:srgbClr val="00b05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870" name="组合 16"/>
          <p:cNvGrpSpPr/>
          <p:nvPr/>
        </p:nvGrpSpPr>
        <p:grpSpPr>
          <a:xfrm>
            <a:off x="3094560" y="3933000"/>
            <a:ext cx="2952000" cy="1891800"/>
            <a:chOff x="3094560" y="3933000"/>
            <a:chExt cx="2952000" cy="1891800"/>
          </a:xfrm>
        </p:grpSpPr>
        <p:sp>
          <p:nvSpPr>
            <p:cNvPr id="871" name="矩形 17"/>
            <p:cNvSpPr txBox="1"/>
            <p:nvPr/>
          </p:nvSpPr>
          <p:spPr>
            <a:xfrm>
              <a:off x="3094560" y="4960800"/>
              <a:ext cx="2952000" cy="7786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ArchDown">
                <a:avLst>
                  <a:gd name="adj" fmla="val 0"/>
                </a:avLst>
              </a:prstTxWarp>
              <a:no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ln w="0">
                    <a:noFill/>
                  </a:ln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2" name="Picture 2" descr="E:\PPT素材\图片素材\PNG\3dicon_01.png"/>
            <p:cNvPicPr/>
            <p:nvPr/>
          </p:nvPicPr>
          <p:blipFill>
            <a:blip r:embed="rId1"/>
            <a:stretch/>
          </p:blipFill>
          <p:spPr>
            <a:xfrm>
              <a:off x="3567960" y="3933000"/>
              <a:ext cx="1891800" cy="189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矩形 24"/>
          <p:cNvSpPr/>
          <p:nvPr/>
        </p:nvSpPr>
        <p:spPr>
          <a:xfrm>
            <a:off x="4173480" y="2997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24"/>
          <p:cNvSpPr/>
          <p:nvPr/>
        </p:nvSpPr>
        <p:spPr>
          <a:xfrm>
            <a:off x="6985800" y="2997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4" descr="anniu2"/>
          <p:cNvPicPr/>
          <p:nvPr/>
        </p:nvPicPr>
        <p:blipFill>
          <a:blip r:embed="rId2"/>
          <a:stretch/>
        </p:blipFill>
        <p:spPr>
          <a:xfrm>
            <a:off x="2872440" y="1096560"/>
            <a:ext cx="3467520" cy="975960"/>
          </a:xfrm>
          <a:prstGeom prst="rect">
            <a:avLst/>
          </a:prstGeom>
          <a:ln w="0">
            <a:noFill/>
          </a:ln>
        </p:spPr>
      </p:pic>
      <p:sp>
        <p:nvSpPr>
          <p:cNvPr id="876" name="矩形 24"/>
          <p:cNvSpPr/>
          <p:nvPr/>
        </p:nvSpPr>
        <p:spPr>
          <a:xfrm>
            <a:off x="3997080" y="148464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矩形 2"/>
          <p:cNvSpPr/>
          <p:nvPr/>
        </p:nvSpPr>
        <p:spPr>
          <a:xfrm>
            <a:off x="3431880" y="4175640"/>
            <a:ext cx="2269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02020"/>
                </a:solidFill>
                <a:latin typeface="Arial"/>
                <a:ea typeface="宋体"/>
              </a:rPr>
              <a:t>PPT</a:t>
            </a:r>
            <a:r>
              <a:rPr b="0" lang="zh-CN" sz="1050" spc="-1" strike="noStrike">
                <a:solidFill>
                  <a:srgbClr val="202020"/>
                </a:solidFill>
                <a:latin typeface="Arial"/>
                <a:ea typeface="宋体"/>
              </a:rPr>
              <a:t>模板下载：</a:t>
            </a:r>
            <a:r>
              <a:rPr b="0" lang="en-US" sz="1050" spc="-1" strike="noStrike" u="sng">
                <a:solidFill>
                  <a:srgbClr val="002626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1050" spc="-1" strike="noStrike">
                <a:solidFill>
                  <a:srgbClr val="202020"/>
                </a:solidFill>
                <a:latin typeface="Arial"/>
                <a:ea typeface="宋体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1"/>
          <p:cNvSpPr/>
          <p:nvPr/>
        </p:nvSpPr>
        <p:spPr>
          <a:xfrm>
            <a:off x="0" y="1689120"/>
            <a:ext cx="9143640" cy="108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fcff">
                  <a:alpha val="56078"/>
                </a:srgbClr>
              </a:gs>
              <a:gs pos="100000">
                <a:srgbClr val="808080">
                  <a:alpha val="52156"/>
                </a:srgbClr>
              </a:gs>
            </a:gsLst>
            <a:lin ang="16200000"/>
          </a:gradFill>
          <a:ln>
            <a:solidFill>
              <a:srgbClr val="d5e7e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  <a:ea typeface="宋体"/>
            </a:endParaRPr>
          </a:p>
        </p:txBody>
      </p:sp>
      <p:pic>
        <p:nvPicPr>
          <p:cNvPr id="879" name="Picture 7" descr="anniu副本"/>
          <p:cNvPicPr/>
          <p:nvPr/>
        </p:nvPicPr>
        <p:blipFill>
          <a:blip r:embed="rId2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5"/>
          <p:cNvSpPr/>
          <p:nvPr/>
        </p:nvSpPr>
        <p:spPr>
          <a:xfrm>
            <a:off x="1152000" y="1983600"/>
            <a:ext cx="80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4" descr=""/>
          <p:cNvPicPr/>
          <p:nvPr/>
        </p:nvPicPr>
        <p:blipFill>
          <a:blip r:embed="rId3"/>
          <a:stretch/>
        </p:blipFill>
        <p:spPr>
          <a:xfrm>
            <a:off x="1440" y="1628640"/>
            <a:ext cx="1174320" cy="117756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6" descr="dq"/>
          <p:cNvPicPr/>
          <p:nvPr/>
        </p:nvPicPr>
        <p:blipFill>
          <a:blip r:embed="rId4"/>
          <a:stretch/>
        </p:blipFill>
        <p:spPr>
          <a:xfrm>
            <a:off x="2447640" y="2515320"/>
            <a:ext cx="424800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矩形 3"/>
          <p:cNvSpPr/>
          <p:nvPr/>
        </p:nvSpPr>
        <p:spPr>
          <a:xfrm>
            <a:off x="2674080" y="1556640"/>
            <a:ext cx="468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4800" spc="599" strike="noStrike">
                <a:ln>
                  <a:solidFill>
                    <a:srgbClr val="ffc000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谢 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"/>
          <p:cNvGrpSpPr/>
          <p:nvPr/>
        </p:nvGrpSpPr>
        <p:grpSpPr>
          <a:xfrm>
            <a:off x="971640" y="2696760"/>
            <a:ext cx="8121960" cy="3684600"/>
            <a:chOff x="971640" y="2696760"/>
            <a:chExt cx="8121960" cy="3684600"/>
          </a:xfrm>
        </p:grpSpPr>
        <p:sp>
          <p:nvSpPr>
            <p:cNvPr id="130" name="新月形 34"/>
            <p:cNvSpPr/>
            <p:nvPr/>
          </p:nvSpPr>
          <p:spPr>
            <a:xfrm rot="16200000">
              <a:off x="3897000" y="1184760"/>
              <a:ext cx="2271240" cy="8121960"/>
            </a:xfrm>
            <a:prstGeom prst="moon">
              <a:avLst>
                <a:gd name="adj" fmla="val 87500"/>
              </a:avLst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3399ff">
                    <a:alpha val="7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31" name="矩形 30"/>
            <p:cNvSpPr txBox="1"/>
            <p:nvPr/>
          </p:nvSpPr>
          <p:spPr>
            <a:xfrm>
              <a:off x="1402560" y="2696760"/>
              <a:ext cx="7253280" cy="3431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299" strike="noStrike">
                  <a:ln w="0">
                    <a:noFill/>
                  </a:ln>
                  <a:solidFill>
                    <a:srgbClr val="ffc000"/>
                  </a:solidFill>
                  <a:latin typeface="黑体"/>
                  <a:ea typeface="黑体"/>
                </a:rPr>
                <a:t>单击此处添加内容</a:t>
              </a:r>
              <a:endParaRPr b="0" lang="en-US" sz="2800" spc="-1" strike="noStrike">
                <a:ln w="0">
                  <a:noFill/>
                </a:ln>
                <a:solidFill>
                  <a:srgbClr val="ffc000"/>
                </a:solidFill>
                <a:latin typeface="Arial"/>
              </a:endParaRPr>
            </a:p>
          </p:txBody>
        </p:sp>
      </p:grpSp>
      <p:sp>
        <p:nvSpPr>
          <p:cNvPr id="132" name="Freeform 2"/>
          <p:cNvSpPr/>
          <p:nvPr/>
        </p:nvSpPr>
        <p:spPr>
          <a:xfrm>
            <a:off x="2597040" y="1213920"/>
            <a:ext cx="4456440" cy="4088880"/>
          </a:xfrm>
          <a:custGeom>
            <a:avLst/>
            <a:gdLst>
              <a:gd name="textAreaLeft" fmla="*/ 0 w 4456440"/>
              <a:gd name="textAreaRight" fmla="*/ 4456800 w 4456440"/>
              <a:gd name="textAreaTop" fmla="*/ 0 h 4088880"/>
              <a:gd name="textAreaBottom" fmla="*/ 4089240 h 4088880"/>
            </a:gdLst>
            <a:ahLst/>
            <a:rect l="textAreaLeft" t="textAreaTop" r="textAreaRight" b="textAreaBottom"/>
            <a:pathLst>
              <a:path w="10080" h="10138">
                <a:moveTo>
                  <a:pt x="8163" y="9972"/>
                </a:moveTo>
                <a:cubicBezTo>
                  <a:pt x="7963" y="10110"/>
                  <a:pt x="6117" y="6324"/>
                  <a:pt x="5087" y="6329"/>
                </a:cubicBezTo>
                <a:cubicBezTo>
                  <a:pt x="4057" y="6334"/>
                  <a:pt x="2184" y="10138"/>
                  <a:pt x="1984" y="10000"/>
                </a:cubicBezTo>
                <a:cubicBezTo>
                  <a:pt x="1784" y="9862"/>
                  <a:pt x="4210" y="6528"/>
                  <a:pt x="3886" y="5503"/>
                </a:cubicBezTo>
                <a:cubicBezTo>
                  <a:pt x="3562" y="4478"/>
                  <a:pt x="0" y="4128"/>
                  <a:pt x="40" y="3853"/>
                </a:cubicBezTo>
                <a:cubicBezTo>
                  <a:pt x="80" y="3578"/>
                  <a:pt x="3296" y="4494"/>
                  <a:pt x="4126" y="3852"/>
                </a:cubicBezTo>
                <a:cubicBezTo>
                  <a:pt x="4956" y="3210"/>
                  <a:pt x="4700" y="0"/>
                  <a:pt x="5020" y="0"/>
                </a:cubicBezTo>
                <a:cubicBezTo>
                  <a:pt x="5340" y="0"/>
                  <a:pt x="5210" y="3222"/>
                  <a:pt x="6047" y="3852"/>
                </a:cubicBezTo>
                <a:cubicBezTo>
                  <a:pt x="6884" y="4482"/>
                  <a:pt x="10000" y="3507"/>
                  <a:pt x="10040" y="3782"/>
                </a:cubicBezTo>
                <a:cubicBezTo>
                  <a:pt x="10080" y="4057"/>
                  <a:pt x="6600" y="4471"/>
                  <a:pt x="6287" y="5503"/>
                </a:cubicBezTo>
                <a:cubicBezTo>
                  <a:pt x="5974" y="6535"/>
                  <a:pt x="8363" y="9834"/>
                  <a:pt x="8163" y="9972"/>
                </a:cubicBezTo>
                <a:close/>
              </a:path>
            </a:pathLst>
          </a:custGeom>
          <a:solidFill>
            <a:srgbClr val="808080"/>
          </a:solidFill>
          <a:ln w="1270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prst="riblet" w="190500" h="38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橢圓 9"/>
          <p:cNvSpPr/>
          <p:nvPr/>
        </p:nvSpPr>
        <p:spPr>
          <a:xfrm>
            <a:off x="5868000" y="209520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橢圓 9"/>
          <p:cNvSpPr/>
          <p:nvPr/>
        </p:nvSpPr>
        <p:spPr>
          <a:xfrm>
            <a:off x="4154760" y="83376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橢圓 9"/>
          <p:cNvSpPr/>
          <p:nvPr/>
        </p:nvSpPr>
        <p:spPr>
          <a:xfrm>
            <a:off x="5220000" y="403956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橢圓 9"/>
          <p:cNvSpPr/>
          <p:nvPr/>
        </p:nvSpPr>
        <p:spPr>
          <a:xfrm>
            <a:off x="3074760" y="396756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橢圓 9"/>
          <p:cNvSpPr/>
          <p:nvPr/>
        </p:nvSpPr>
        <p:spPr>
          <a:xfrm>
            <a:off x="2498760" y="216360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6"/>
          <p:cNvSpPr/>
          <p:nvPr/>
        </p:nvSpPr>
        <p:spPr>
          <a:xfrm>
            <a:off x="4545000" y="28893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renwu "/>
          <p:cNvPicPr/>
          <p:nvPr/>
        </p:nvPicPr>
        <p:blipFill>
          <a:blip r:embed="rId1"/>
          <a:stretch/>
        </p:blipFill>
        <p:spPr>
          <a:xfrm>
            <a:off x="38160" y="4062240"/>
            <a:ext cx="1746000" cy="24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anniu副本"/>
          <p:cNvPicPr/>
          <p:nvPr/>
        </p:nvPicPr>
        <p:blipFill>
          <a:blip r:embed="rId1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"/>
          <p:cNvGrpSpPr/>
          <p:nvPr/>
        </p:nvGrpSpPr>
        <p:grpSpPr>
          <a:xfrm>
            <a:off x="0" y="1628640"/>
            <a:ext cx="9180000" cy="1179000"/>
            <a:chOff x="0" y="1628640"/>
            <a:chExt cx="9180000" cy="1179000"/>
          </a:xfrm>
        </p:grpSpPr>
        <p:sp>
          <p:nvSpPr>
            <p:cNvPr id="142" name="圆角矩形 1"/>
            <p:cNvSpPr/>
            <p:nvPr/>
          </p:nvSpPr>
          <p:spPr>
            <a:xfrm>
              <a:off x="0" y="1690560"/>
              <a:ext cx="914364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cff">
                    <a:alpha val="56078"/>
                  </a:srgbClr>
                </a:gs>
                <a:gs pos="100000">
                  <a:srgbClr val="808080">
                    <a:alpha val="52156"/>
                  </a:srgbClr>
                </a:gs>
              </a:gsLst>
              <a:lin ang="16200000"/>
            </a:gradFill>
            <a:ln>
              <a:solidFill>
                <a:srgbClr val="d5e7e9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1152000" y="1984680"/>
              <a:ext cx="802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" descr="E:\PPT素材\图片素材\数字图标\数字图标（蓝色）\1.png"/>
            <p:cNvPicPr/>
            <p:nvPr/>
          </p:nvPicPr>
          <p:blipFill>
            <a:blip r:embed="rId2"/>
            <a:stretch/>
          </p:blipFill>
          <p:spPr>
            <a:xfrm>
              <a:off x="0" y="1628640"/>
              <a:ext cx="1177560" cy="117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11" descr="rem"/>
          <p:cNvPicPr/>
          <p:nvPr/>
        </p:nvPicPr>
        <p:blipFill>
          <a:blip r:embed="rId3"/>
          <a:stretch/>
        </p:blipFill>
        <p:spPr>
          <a:xfrm>
            <a:off x="2894040" y="2808360"/>
            <a:ext cx="32968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6" name="直接箭头连接符 73"/>
          <p:cNvCxnSpPr>
            <a:stCxn id="147" idx="5"/>
            <a:endCxn id="148" idx="7"/>
          </p:cNvCxnSpPr>
          <p:nvPr/>
        </p:nvCxnSpPr>
        <p:spPr>
          <a:xfrm>
            <a:off x="6365520" y="3943080"/>
            <a:ext cx="519480" cy="64944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49" name="直接箭头连接符 59"/>
          <p:cNvCxnSpPr>
            <a:stCxn id="150" idx="5"/>
            <a:endCxn id="151" idx="7"/>
          </p:cNvCxnSpPr>
          <p:nvPr/>
        </p:nvCxnSpPr>
        <p:spPr>
          <a:xfrm>
            <a:off x="3652560" y="3881160"/>
            <a:ext cx="459360" cy="64944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sp>
        <p:nvSpPr>
          <p:cNvPr id="152" name="矩形 2"/>
          <p:cNvSpPr/>
          <p:nvPr/>
        </p:nvSpPr>
        <p:spPr>
          <a:xfrm>
            <a:off x="3924720" y="9806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771840" y="274608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0"/>
          <p:cNvGrpSpPr/>
          <p:nvPr/>
        </p:nvGrpSpPr>
        <p:grpSpPr>
          <a:xfrm>
            <a:off x="4283640" y="1977840"/>
            <a:ext cx="1080360" cy="1106280"/>
            <a:chOff x="4283640" y="1977840"/>
            <a:chExt cx="1080360" cy="1106280"/>
          </a:xfrm>
        </p:grpSpPr>
        <p:sp>
          <p:nvSpPr>
            <p:cNvPr id="155" name="Oval 2"/>
            <p:cNvSpPr/>
            <p:nvPr/>
          </p:nvSpPr>
          <p:spPr>
            <a:xfrm>
              <a:off x="4360320" y="2076480"/>
              <a:ext cx="1003680" cy="1007640"/>
            </a:xfrm>
            <a:prstGeom prst="ellipse">
              <a:avLst/>
            </a:pr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 w="101600"/>
              <a:bevelB w="0" h="6350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6" name="椭圆 11"/>
            <p:cNvSpPr/>
            <p:nvPr/>
          </p:nvSpPr>
          <p:spPr>
            <a:xfrm rot="19388400">
              <a:off x="4355640" y="2134800"/>
              <a:ext cx="680760" cy="46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7" name="椭圆 12"/>
            <p:cNvSpPr/>
            <p:nvPr/>
          </p:nvSpPr>
          <p:spPr>
            <a:xfrm>
              <a:off x="4467960" y="2184480"/>
              <a:ext cx="788400" cy="791640"/>
            </a:xfrm>
            <a:prstGeom prst="ellipse">
              <a:avLst/>
            </a:prstGeom>
            <a:gradFill rotWithShape="0">
              <a:gsLst>
                <a:gs pos="0">
                  <a:srgbClr val="00b0f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58" name="组合 55"/>
          <p:cNvGrpSpPr/>
          <p:nvPr/>
        </p:nvGrpSpPr>
        <p:grpSpPr>
          <a:xfrm>
            <a:off x="2385360" y="4481280"/>
            <a:ext cx="457200" cy="469800"/>
            <a:chOff x="2385360" y="4481280"/>
            <a:chExt cx="457200" cy="469800"/>
          </a:xfrm>
        </p:grpSpPr>
        <p:sp>
          <p:nvSpPr>
            <p:cNvPr id="159" name="Oval 2"/>
            <p:cNvSpPr/>
            <p:nvPr/>
          </p:nvSpPr>
          <p:spPr>
            <a:xfrm>
              <a:off x="2417760" y="4522680"/>
              <a:ext cx="424800" cy="428400"/>
            </a:xfrm>
            <a:prstGeom prst="ellipse">
              <a:avLst/>
            </a:pr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89ff8c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0" name="椭圆 15"/>
            <p:cNvSpPr/>
            <p:nvPr/>
          </p:nvSpPr>
          <p:spPr>
            <a:xfrm rot="19388400">
              <a:off x="2415600" y="4547880"/>
              <a:ext cx="288720" cy="19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61" name="椭圆 16"/>
            <p:cNvSpPr/>
            <p:nvPr/>
          </p:nvSpPr>
          <p:spPr>
            <a:xfrm>
              <a:off x="2463480" y="4568400"/>
              <a:ext cx="333720" cy="336240"/>
            </a:xfrm>
            <a:prstGeom prst="ellipse">
              <a:avLst/>
            </a:prstGeom>
            <a:gradFill rotWithShape="0">
              <a:gsLst>
                <a:gs pos="0">
                  <a:srgbClr val="6eff01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62" name="组合 65"/>
          <p:cNvGrpSpPr/>
          <p:nvPr/>
        </p:nvGrpSpPr>
        <p:grpSpPr>
          <a:xfrm>
            <a:off x="3083760" y="3296520"/>
            <a:ext cx="716400" cy="733680"/>
            <a:chOff x="3083760" y="3296520"/>
            <a:chExt cx="716400" cy="733680"/>
          </a:xfrm>
        </p:grpSpPr>
        <p:sp>
          <p:nvSpPr>
            <p:cNvPr id="163" name="Oval 2"/>
            <p:cNvSpPr/>
            <p:nvPr/>
          </p:nvSpPr>
          <p:spPr>
            <a:xfrm>
              <a:off x="3134880" y="3360600"/>
              <a:ext cx="665280" cy="669600"/>
            </a:xfrm>
            <a:prstGeom prst="ellipse">
              <a:avLst/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4" name="椭圆 19"/>
            <p:cNvSpPr/>
            <p:nvPr/>
          </p:nvSpPr>
          <p:spPr>
            <a:xfrm rot="19388400">
              <a:off x="3131640" y="3400200"/>
              <a:ext cx="450360" cy="31068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50" name="椭圆 20"/>
            <p:cNvSpPr/>
            <p:nvPr/>
          </p:nvSpPr>
          <p:spPr>
            <a:xfrm>
              <a:off x="3206160" y="3432240"/>
              <a:ext cx="522720" cy="525960"/>
            </a:xfrm>
            <a:prstGeom prst="ellipse">
              <a:avLst/>
            </a:prstGeom>
            <a:gradFill rotWithShape="0">
              <a:gsLst>
                <a:gs pos="0">
                  <a:srgbClr val="ffc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65" name="组合 55"/>
          <p:cNvGrpSpPr/>
          <p:nvPr/>
        </p:nvGrpSpPr>
        <p:grpSpPr>
          <a:xfrm>
            <a:off x="3898440" y="4481280"/>
            <a:ext cx="457200" cy="469800"/>
            <a:chOff x="3898440" y="4481280"/>
            <a:chExt cx="457200" cy="469800"/>
          </a:xfrm>
        </p:grpSpPr>
        <p:sp>
          <p:nvSpPr>
            <p:cNvPr id="166" name="Oval 2"/>
            <p:cNvSpPr/>
            <p:nvPr/>
          </p:nvSpPr>
          <p:spPr>
            <a:xfrm>
              <a:off x="3930840" y="4522680"/>
              <a:ext cx="424800" cy="428400"/>
            </a:xfrm>
            <a:prstGeom prst="ellipse">
              <a:avLst/>
            </a:pr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89ff8c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1" name="椭圆 23"/>
            <p:cNvSpPr/>
            <p:nvPr/>
          </p:nvSpPr>
          <p:spPr>
            <a:xfrm rot="19388400">
              <a:off x="3928680" y="4547880"/>
              <a:ext cx="288720" cy="19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椭圆 24"/>
            <p:cNvSpPr/>
            <p:nvPr/>
          </p:nvSpPr>
          <p:spPr>
            <a:xfrm>
              <a:off x="3976560" y="4568400"/>
              <a:ext cx="333720" cy="336240"/>
            </a:xfrm>
            <a:prstGeom prst="ellipse">
              <a:avLst/>
            </a:prstGeom>
            <a:gradFill rotWithShape="0">
              <a:gsLst>
                <a:gs pos="0">
                  <a:srgbClr val="6eff01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68" name="组合 65"/>
          <p:cNvGrpSpPr/>
          <p:nvPr/>
        </p:nvGrpSpPr>
        <p:grpSpPr>
          <a:xfrm>
            <a:off x="5797080" y="3358440"/>
            <a:ext cx="716040" cy="733680"/>
            <a:chOff x="5797080" y="3358440"/>
            <a:chExt cx="716040" cy="733680"/>
          </a:xfrm>
        </p:grpSpPr>
        <p:sp>
          <p:nvSpPr>
            <p:cNvPr id="169" name="Oval 2"/>
            <p:cNvSpPr/>
            <p:nvPr/>
          </p:nvSpPr>
          <p:spPr>
            <a:xfrm>
              <a:off x="5847840" y="3422520"/>
              <a:ext cx="665280" cy="669600"/>
            </a:xfrm>
            <a:prstGeom prst="ellipse">
              <a:avLst/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0" name="椭圆 43"/>
            <p:cNvSpPr/>
            <p:nvPr/>
          </p:nvSpPr>
          <p:spPr>
            <a:xfrm rot="19388400">
              <a:off x="5844960" y="3462120"/>
              <a:ext cx="450360" cy="31068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47" name="椭圆 44"/>
            <p:cNvSpPr/>
            <p:nvPr/>
          </p:nvSpPr>
          <p:spPr>
            <a:xfrm>
              <a:off x="5919120" y="3494160"/>
              <a:ext cx="522720" cy="525960"/>
            </a:xfrm>
            <a:prstGeom prst="ellipse">
              <a:avLst/>
            </a:prstGeom>
            <a:gradFill rotWithShape="0">
              <a:gsLst>
                <a:gs pos="0">
                  <a:srgbClr val="ffc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cxnSp>
        <p:nvCxnSpPr>
          <p:cNvPr id="171" name="直接箭头连接符 50"/>
          <p:cNvCxnSpPr>
            <a:stCxn id="155" idx="3"/>
            <a:endCxn id="163" idx="7"/>
          </p:cNvCxnSpPr>
          <p:nvPr/>
        </p:nvCxnSpPr>
        <p:spPr>
          <a:xfrm flipH="1">
            <a:off x="3703320" y="2936520"/>
            <a:ext cx="803880" cy="52272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72" name="直接箭头连接符 54"/>
          <p:cNvCxnSpPr>
            <a:stCxn id="155" idx="5"/>
            <a:endCxn id="170" idx="0"/>
          </p:cNvCxnSpPr>
          <p:nvPr/>
        </p:nvCxnSpPr>
        <p:spPr>
          <a:xfrm>
            <a:off x="5216400" y="2936520"/>
            <a:ext cx="762480" cy="55584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73" name="直接箭头连接符 56"/>
          <p:cNvCxnSpPr>
            <a:stCxn id="163" idx="3"/>
            <a:endCxn id="159" idx="7"/>
          </p:cNvCxnSpPr>
          <p:nvPr/>
        </p:nvCxnSpPr>
        <p:spPr>
          <a:xfrm flipH="1">
            <a:off x="2781000" y="3931920"/>
            <a:ext cx="451440" cy="65448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grpSp>
        <p:nvGrpSpPr>
          <p:cNvPr id="174" name="组合 55"/>
          <p:cNvGrpSpPr/>
          <p:nvPr/>
        </p:nvGrpSpPr>
        <p:grpSpPr>
          <a:xfrm>
            <a:off x="5225400" y="4545000"/>
            <a:ext cx="459000" cy="467640"/>
            <a:chOff x="5225400" y="4545000"/>
            <a:chExt cx="459000" cy="467640"/>
          </a:xfrm>
        </p:grpSpPr>
        <p:sp>
          <p:nvSpPr>
            <p:cNvPr id="175" name="Oval 2"/>
            <p:cNvSpPr/>
            <p:nvPr/>
          </p:nvSpPr>
          <p:spPr>
            <a:xfrm>
              <a:off x="5257800" y="4586040"/>
              <a:ext cx="426600" cy="426600"/>
            </a:xfrm>
            <a:prstGeom prst="ellipse">
              <a:avLst/>
            </a:pr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89ff8c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6" name="椭圆 64"/>
            <p:cNvSpPr/>
            <p:nvPr/>
          </p:nvSpPr>
          <p:spPr>
            <a:xfrm rot="19388400">
              <a:off x="5255640" y="4611600"/>
              <a:ext cx="288720" cy="19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77" name="椭圆 65"/>
            <p:cNvSpPr/>
            <p:nvPr/>
          </p:nvSpPr>
          <p:spPr>
            <a:xfrm>
              <a:off x="5303880" y="4631760"/>
              <a:ext cx="335160" cy="335160"/>
            </a:xfrm>
            <a:prstGeom prst="ellipse">
              <a:avLst/>
            </a:prstGeom>
            <a:gradFill rotWithShape="0">
              <a:gsLst>
                <a:gs pos="0">
                  <a:srgbClr val="6eff01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78" name="组合 55"/>
          <p:cNvGrpSpPr/>
          <p:nvPr/>
        </p:nvGrpSpPr>
        <p:grpSpPr>
          <a:xfrm>
            <a:off x="6670080" y="4545000"/>
            <a:ext cx="459000" cy="467640"/>
            <a:chOff x="6670080" y="4545000"/>
            <a:chExt cx="459000" cy="467640"/>
          </a:xfrm>
        </p:grpSpPr>
        <p:sp>
          <p:nvSpPr>
            <p:cNvPr id="179" name="Oval 2"/>
            <p:cNvSpPr/>
            <p:nvPr/>
          </p:nvSpPr>
          <p:spPr>
            <a:xfrm>
              <a:off x="6702480" y="4586040"/>
              <a:ext cx="426600" cy="426600"/>
            </a:xfrm>
            <a:prstGeom prst="ellipse">
              <a:avLst/>
            </a:pr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89ff8c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8" name="椭圆 68"/>
            <p:cNvSpPr/>
            <p:nvPr/>
          </p:nvSpPr>
          <p:spPr>
            <a:xfrm rot="19388400">
              <a:off x="6700320" y="4611600"/>
              <a:ext cx="288720" cy="19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80" name="椭圆 69"/>
            <p:cNvSpPr/>
            <p:nvPr/>
          </p:nvSpPr>
          <p:spPr>
            <a:xfrm>
              <a:off x="6748200" y="4631760"/>
              <a:ext cx="335160" cy="335160"/>
            </a:xfrm>
            <a:prstGeom prst="ellipse">
              <a:avLst/>
            </a:prstGeom>
            <a:gradFill rotWithShape="0">
              <a:gsLst>
                <a:gs pos="0">
                  <a:srgbClr val="6eff01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cxnSp>
        <p:nvCxnSpPr>
          <p:cNvPr id="181" name="直接箭头连接符 71"/>
          <p:cNvCxnSpPr>
            <a:stCxn id="169" idx="3"/>
            <a:endCxn id="176" idx="6"/>
          </p:cNvCxnSpPr>
          <p:nvPr/>
        </p:nvCxnSpPr>
        <p:spPr>
          <a:xfrm flipH="1">
            <a:off x="5516280" y="3993840"/>
            <a:ext cx="429120" cy="62892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82" name="直接连接符 75"/>
          <p:cNvCxnSpPr/>
          <p:nvPr/>
        </p:nvCxnSpPr>
        <p:spPr>
          <a:xfrm>
            <a:off x="323640" y="4190760"/>
            <a:ext cx="882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prstDash val="sysDash"/>
            <a:round/>
          </a:ln>
        </p:spPr>
      </p:cxnSp>
      <p:cxnSp>
        <p:nvCxnSpPr>
          <p:cNvPr id="183" name="直接连接符 76"/>
          <p:cNvCxnSpPr/>
          <p:nvPr/>
        </p:nvCxnSpPr>
        <p:spPr>
          <a:xfrm>
            <a:off x="323640" y="3227040"/>
            <a:ext cx="882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prstDash val="sysDash"/>
            <a:round/>
          </a:ln>
        </p:spPr>
      </p:cxnSp>
      <p:sp>
        <p:nvSpPr>
          <p:cNvPr id="184" name="矩形 46"/>
          <p:cNvSpPr/>
          <p:nvPr/>
        </p:nvSpPr>
        <p:spPr>
          <a:xfrm>
            <a:off x="771840" y="358236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47"/>
          <p:cNvSpPr/>
          <p:nvPr/>
        </p:nvSpPr>
        <p:spPr>
          <a:xfrm>
            <a:off x="771840" y="451548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0" descr="circuler_1"/>
          <p:cNvPicPr/>
          <p:nvPr/>
        </p:nvPicPr>
        <p:blipFill>
          <a:blip r:embed="rId1"/>
          <a:stretch/>
        </p:blipFill>
        <p:spPr>
          <a:xfrm>
            <a:off x="2492280" y="4326840"/>
            <a:ext cx="1220400" cy="1225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circuler_1"/>
          <p:cNvPicPr/>
          <p:nvPr/>
        </p:nvPicPr>
        <p:blipFill>
          <a:blip r:embed="rId2"/>
          <a:stretch/>
        </p:blipFill>
        <p:spPr>
          <a:xfrm>
            <a:off x="5237280" y="4315680"/>
            <a:ext cx="1221840" cy="122508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2"/>
          <p:cNvGrpSpPr/>
          <p:nvPr/>
        </p:nvGrpSpPr>
        <p:grpSpPr>
          <a:xfrm>
            <a:off x="2490840" y="1697760"/>
            <a:ext cx="1221840" cy="1233000"/>
            <a:chOff x="2490840" y="1697760"/>
            <a:chExt cx="1221840" cy="1233000"/>
          </a:xfrm>
        </p:grpSpPr>
        <p:pic>
          <p:nvPicPr>
            <p:cNvPr id="189" name="Picture 8" descr="circuler_1"/>
            <p:cNvPicPr/>
            <p:nvPr/>
          </p:nvPicPr>
          <p:blipFill>
            <a:blip r:embed="rId3"/>
            <a:stretch/>
          </p:blipFill>
          <p:spPr>
            <a:xfrm>
              <a:off x="2490840" y="1701000"/>
              <a:ext cx="1221840" cy="122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Oval 9"/>
            <p:cNvSpPr/>
            <p:nvPr/>
          </p:nvSpPr>
          <p:spPr>
            <a:xfrm>
              <a:off x="2490840" y="1697760"/>
              <a:ext cx="1213920" cy="1233000"/>
            </a:xfrm>
            <a:prstGeom prst="ellipse">
              <a:avLst/>
            </a:prstGeom>
            <a:solidFill>
              <a:schemeClr val="accent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2567160" y="1961280"/>
              <a:ext cx="10602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5"/>
          <p:cNvGrpSpPr/>
          <p:nvPr/>
        </p:nvGrpSpPr>
        <p:grpSpPr>
          <a:xfrm>
            <a:off x="2492280" y="4323600"/>
            <a:ext cx="1215720" cy="1233000"/>
            <a:chOff x="2492280" y="4323600"/>
            <a:chExt cx="1215720" cy="1233000"/>
          </a:xfrm>
        </p:grpSpPr>
        <p:sp>
          <p:nvSpPr>
            <p:cNvPr id="193" name="Oval 11"/>
            <p:cNvSpPr/>
            <p:nvPr/>
          </p:nvSpPr>
          <p:spPr>
            <a:xfrm>
              <a:off x="2492280" y="4323600"/>
              <a:ext cx="1215720" cy="1233000"/>
            </a:xfrm>
            <a:prstGeom prst="ellipse">
              <a:avLst/>
            </a:prstGeom>
            <a:solidFill>
              <a:schemeClr val="hlink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4" name="Text Box 50"/>
            <p:cNvSpPr/>
            <p:nvPr/>
          </p:nvSpPr>
          <p:spPr>
            <a:xfrm>
              <a:off x="2567160" y="4566600"/>
              <a:ext cx="1104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4"/>
          <p:cNvGrpSpPr/>
          <p:nvPr/>
        </p:nvGrpSpPr>
        <p:grpSpPr>
          <a:xfrm>
            <a:off x="5237280" y="4303080"/>
            <a:ext cx="1215720" cy="1233000"/>
            <a:chOff x="5237280" y="4303080"/>
            <a:chExt cx="1215720" cy="1233000"/>
          </a:xfrm>
        </p:grpSpPr>
        <p:sp>
          <p:nvSpPr>
            <p:cNvPr id="196" name="Oval 13"/>
            <p:cNvSpPr/>
            <p:nvPr/>
          </p:nvSpPr>
          <p:spPr>
            <a:xfrm>
              <a:off x="5237280" y="4303080"/>
              <a:ext cx="1215720" cy="1233000"/>
            </a:xfrm>
            <a:prstGeom prst="ellipse">
              <a:avLst/>
            </a:prstGeom>
            <a:solidFill>
              <a:schemeClr val="accent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7" name="Text Box 51"/>
            <p:cNvSpPr/>
            <p:nvPr/>
          </p:nvSpPr>
          <p:spPr>
            <a:xfrm>
              <a:off x="5361480" y="4566600"/>
              <a:ext cx="101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"/>
          <p:cNvGrpSpPr/>
          <p:nvPr/>
        </p:nvGrpSpPr>
        <p:grpSpPr>
          <a:xfrm>
            <a:off x="2747160" y="1890000"/>
            <a:ext cx="3471480" cy="3471480"/>
            <a:chOff x="2747160" y="1890000"/>
            <a:chExt cx="3471480" cy="3471480"/>
          </a:xfrm>
        </p:grpSpPr>
        <p:sp>
          <p:nvSpPr>
            <p:cNvPr id="199" name="AutoShape 3"/>
            <p:cNvSpPr/>
            <p:nvPr/>
          </p:nvSpPr>
          <p:spPr>
            <a:xfrm rot="18900000">
              <a:off x="3255840" y="2397960"/>
              <a:ext cx="2453760" cy="2455560"/>
            </a:xfrm>
            <a:custGeom>
              <a:avLst/>
              <a:gdLst>
                <a:gd name="textAreaLeft" fmla="*/ 613440 w 2453760"/>
                <a:gd name="textAreaRight" fmla="*/ 1840320 w 2453760"/>
                <a:gd name="textAreaTop" fmla="*/ 613800 h 2455560"/>
                <a:gd name="textAreaBottom" fmla="*/ 1841760 h 245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50" y="5400"/>
                  </a:lnTo>
                  <a:lnTo>
                    <a:pt x="945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150" y="2700"/>
                  </a:lnTo>
                  <a:lnTo>
                    <a:pt x="12150" y="5400"/>
                  </a:lnTo>
                  <a:lnTo>
                    <a:pt x="16200" y="5400"/>
                  </a:lnTo>
                  <a:lnTo>
                    <a:pt x="16200" y="9450"/>
                  </a:lnTo>
                  <a:lnTo>
                    <a:pt x="18900" y="945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150"/>
                  </a:lnTo>
                  <a:lnTo>
                    <a:pt x="16200" y="12150"/>
                  </a:lnTo>
                  <a:lnTo>
                    <a:pt x="16200" y="16200"/>
                  </a:lnTo>
                  <a:lnTo>
                    <a:pt x="12150" y="16200"/>
                  </a:lnTo>
                  <a:lnTo>
                    <a:pt x="1215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50" y="18900"/>
                  </a:lnTo>
                  <a:lnTo>
                    <a:pt x="9450" y="16200"/>
                  </a:lnTo>
                  <a:lnTo>
                    <a:pt x="5400" y="16200"/>
                  </a:lnTo>
                  <a:lnTo>
                    <a:pt x="5400" y="12150"/>
                  </a:lnTo>
                  <a:lnTo>
                    <a:pt x="2700" y="1215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50"/>
                  </a:lnTo>
                  <a:lnTo>
                    <a:pt x="5400" y="9450"/>
                  </a:lnTo>
                  <a:close/>
                </a:path>
              </a:pathLst>
            </a:custGeom>
            <a:solidFill>
              <a:srgbClr val="00800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2"/>
            </a:fillRef>
            <a:effectRef idx="1">
              <a:schemeClr val="accent2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0" name="Text Box 52"/>
            <p:cNvSpPr/>
            <p:nvPr/>
          </p:nvSpPr>
          <p:spPr>
            <a:xfrm>
              <a:off x="4147200" y="3297240"/>
              <a:ext cx="79056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3"/>
          <p:cNvGrpSpPr/>
          <p:nvPr/>
        </p:nvGrpSpPr>
        <p:grpSpPr>
          <a:xfrm>
            <a:off x="5237280" y="1685160"/>
            <a:ext cx="1220400" cy="1233000"/>
            <a:chOff x="5237280" y="1685160"/>
            <a:chExt cx="1220400" cy="1233000"/>
          </a:xfrm>
        </p:grpSpPr>
        <p:pic>
          <p:nvPicPr>
            <p:cNvPr id="202" name="Picture 14" descr="circuler_1"/>
            <p:cNvPicPr/>
            <p:nvPr/>
          </p:nvPicPr>
          <p:blipFill>
            <a:blip r:embed="rId4"/>
            <a:stretch/>
          </p:blipFill>
          <p:spPr>
            <a:xfrm>
              <a:off x="5237280" y="1686600"/>
              <a:ext cx="122040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15"/>
            <p:cNvSpPr/>
            <p:nvPr/>
          </p:nvSpPr>
          <p:spPr>
            <a:xfrm>
              <a:off x="5237280" y="1685160"/>
              <a:ext cx="1215720" cy="1233000"/>
            </a:xfrm>
            <a:prstGeom prst="ellipse">
              <a:avLst/>
            </a:prstGeom>
            <a:solidFill>
              <a:schemeClr val="hlink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>
              <a:off x="5538240" y="1977120"/>
              <a:ext cx="668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1"/>
          <p:cNvGrpSpPr/>
          <p:nvPr/>
        </p:nvGrpSpPr>
        <p:grpSpPr>
          <a:xfrm>
            <a:off x="655920" y="1124640"/>
            <a:ext cx="8121960" cy="1591200"/>
            <a:chOff x="655920" y="1124640"/>
            <a:chExt cx="8121960" cy="1591200"/>
          </a:xfrm>
        </p:grpSpPr>
        <p:sp>
          <p:nvSpPr>
            <p:cNvPr id="206" name="矩形 6"/>
            <p:cNvSpPr/>
            <p:nvPr/>
          </p:nvSpPr>
          <p:spPr>
            <a:xfrm>
              <a:off x="1463760" y="226044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7"/>
            <p:cNvSpPr/>
            <p:nvPr/>
          </p:nvSpPr>
          <p:spPr>
            <a:xfrm>
              <a:off x="6139800" y="226044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新月形 10"/>
            <p:cNvSpPr/>
            <p:nvPr/>
          </p:nvSpPr>
          <p:spPr>
            <a:xfrm flipH="1" rot="16200000">
              <a:off x="4148640" y="-2368440"/>
              <a:ext cx="1135440" cy="8121960"/>
            </a:xfrm>
            <a:prstGeom prst="moon">
              <a:avLst>
                <a:gd name="adj" fmla="val 87500"/>
              </a:avLst>
            </a:prstGeom>
            <a:gradFill rotWithShape="0">
              <a:gsLst>
                <a:gs pos="0">
                  <a:srgbClr val="ddebcf">
                    <a:alpha val="0"/>
                  </a:srgbClr>
                </a:gs>
                <a:gs pos="100000">
                  <a:srgbClr val="d9d9d9">
                    <a:alpha val="43137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209" name="矩形 11"/>
            <p:cNvSpPr txBox="1"/>
            <p:nvPr/>
          </p:nvSpPr>
          <p:spPr>
            <a:xfrm>
              <a:off x="3011400" y="1431000"/>
              <a:ext cx="3168000" cy="522720"/>
            </a:xfrm>
            <a:prstGeom prst="rect">
              <a:avLst/>
            </a:prstGeom>
          </p:spPr>
          <p:txBody>
            <a:bodyPr wrap="none" lIns="90000" rIns="90000" tIns="45000" bIns="45000" anchor="b" anchorCtr="1">
              <a:prstTxWarp prst="textArchUp">
                <a:avLst>
                  <a:gd name="adj" fmla="val 10800000"/>
                </a:avLst>
              </a:prstTxWarp>
              <a:no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zh-CN" sz="2800" spc="599" strike="noStrike">
                  <a:ln w="0">
                    <a:noFill/>
                  </a:ln>
                  <a:solidFill>
                    <a:srgbClr val="ff99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800" spc="-1" strike="noStrike">
                <a:ln w="0">
                  <a:noFill/>
                </a:ln>
                <a:solidFill>
                  <a:srgbClr val="ff9900"/>
                </a:solidFill>
                <a:latin typeface="Arial"/>
              </a:endParaRPr>
            </a:p>
          </p:txBody>
        </p:sp>
      </p:grpSp>
      <p:sp>
        <p:nvSpPr>
          <p:cNvPr id="210" name="左大括号 12"/>
          <p:cNvSpPr/>
          <p:nvPr/>
        </p:nvSpPr>
        <p:spPr>
          <a:xfrm rot="16200000">
            <a:off x="4361760" y="-761760"/>
            <a:ext cx="728280" cy="8140320"/>
          </a:xfrm>
          <a:prstGeom prst="leftBrace">
            <a:avLst>
              <a:gd name="adj1" fmla="val 37105"/>
              <a:gd name="adj2" fmla="val 50000"/>
            </a:avLst>
          </a:prstGeom>
          <a:gradFill rotWithShape="0">
            <a:gsLst>
              <a:gs pos="0">
                <a:srgbClr val="666666"/>
              </a:gs>
              <a:gs pos="100000">
                <a:srgbClr val="def5f8"/>
              </a:gs>
            </a:gsLst>
            <a:lin ang="16200000"/>
          </a:gra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504960" y="379080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ebebf3"/>
                </a:solidFill>
                <a:latin typeface="微软雅黑"/>
                <a:ea typeface="微软雅黑"/>
              </a:rPr>
              <a:t>单击此处添加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26"/>
          <p:cNvGrpSpPr/>
          <p:nvPr/>
        </p:nvGrpSpPr>
        <p:grpSpPr>
          <a:xfrm>
            <a:off x="1257480" y="4924440"/>
            <a:ext cx="1277640" cy="718920"/>
            <a:chOff x="1257480" y="4924440"/>
            <a:chExt cx="1277640" cy="718920"/>
          </a:xfrm>
        </p:grpSpPr>
        <p:sp>
          <p:nvSpPr>
            <p:cNvPr id="213" name="椭圆 16"/>
            <p:cNvSpPr/>
            <p:nvPr/>
          </p:nvSpPr>
          <p:spPr>
            <a:xfrm>
              <a:off x="1257480" y="4924440"/>
              <a:ext cx="1277640" cy="718920"/>
            </a:xfrm>
            <a:prstGeom prst="ellipse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4" name="矩形 19"/>
            <p:cNvSpPr/>
            <p:nvPr/>
          </p:nvSpPr>
          <p:spPr>
            <a:xfrm>
              <a:off x="1403640" y="5055480"/>
              <a:ext cx="86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28"/>
          <p:cNvGrpSpPr/>
          <p:nvPr/>
        </p:nvGrpSpPr>
        <p:grpSpPr>
          <a:xfrm>
            <a:off x="2262240" y="4902120"/>
            <a:ext cx="1277640" cy="720720"/>
            <a:chOff x="2262240" y="4902120"/>
            <a:chExt cx="1277640" cy="720720"/>
          </a:xfrm>
        </p:grpSpPr>
        <p:sp>
          <p:nvSpPr>
            <p:cNvPr id="216" name="椭圆 17"/>
            <p:cNvSpPr/>
            <p:nvPr/>
          </p:nvSpPr>
          <p:spPr>
            <a:xfrm>
              <a:off x="2262240" y="4903920"/>
              <a:ext cx="1277640" cy="718920"/>
            </a:xfrm>
            <a:prstGeom prst="ellipse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7" name="矩形 20"/>
            <p:cNvSpPr/>
            <p:nvPr/>
          </p:nvSpPr>
          <p:spPr>
            <a:xfrm>
              <a:off x="2610720" y="4902120"/>
              <a:ext cx="86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7"/>
          <p:cNvGrpSpPr/>
          <p:nvPr/>
        </p:nvGrpSpPr>
        <p:grpSpPr>
          <a:xfrm>
            <a:off x="1671480" y="5513400"/>
            <a:ext cx="1277640" cy="718920"/>
            <a:chOff x="1671480" y="5513400"/>
            <a:chExt cx="1277640" cy="718920"/>
          </a:xfrm>
        </p:grpSpPr>
        <p:sp>
          <p:nvSpPr>
            <p:cNvPr id="219" name="椭圆 18"/>
            <p:cNvSpPr/>
            <p:nvPr/>
          </p:nvSpPr>
          <p:spPr>
            <a:xfrm>
              <a:off x="1671480" y="5513400"/>
              <a:ext cx="1277640" cy="718920"/>
            </a:xfrm>
            <a:prstGeom prst="ellipse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20" name="矩形 21"/>
            <p:cNvSpPr/>
            <p:nvPr/>
          </p:nvSpPr>
          <p:spPr>
            <a:xfrm>
              <a:off x="2015640" y="5590800"/>
              <a:ext cx="86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0"/>
          <p:cNvGrpSpPr/>
          <p:nvPr/>
        </p:nvGrpSpPr>
        <p:grpSpPr>
          <a:xfrm>
            <a:off x="2692440" y="5479920"/>
            <a:ext cx="1275840" cy="718920"/>
            <a:chOff x="2692440" y="5479920"/>
            <a:chExt cx="1275840" cy="718920"/>
          </a:xfrm>
        </p:grpSpPr>
        <p:sp>
          <p:nvSpPr>
            <p:cNvPr id="222" name="椭圆 22"/>
            <p:cNvSpPr/>
            <p:nvPr/>
          </p:nvSpPr>
          <p:spPr>
            <a:xfrm>
              <a:off x="2692440" y="5479920"/>
              <a:ext cx="1275840" cy="718920"/>
            </a:xfrm>
            <a:prstGeom prst="ellipse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23" name="矩形 23"/>
            <p:cNvSpPr/>
            <p:nvPr/>
          </p:nvSpPr>
          <p:spPr>
            <a:xfrm>
              <a:off x="3119760" y="5783760"/>
              <a:ext cx="847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矩形 25"/>
          <p:cNvSpPr/>
          <p:nvPr/>
        </p:nvSpPr>
        <p:spPr>
          <a:xfrm>
            <a:off x="6380280" y="535392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"/>
          <p:cNvGrpSpPr/>
          <p:nvPr/>
        </p:nvGrpSpPr>
        <p:grpSpPr>
          <a:xfrm>
            <a:off x="4302000" y="5241960"/>
            <a:ext cx="1258560" cy="707760"/>
            <a:chOff x="4302000" y="5241960"/>
            <a:chExt cx="1258560" cy="707760"/>
          </a:xfrm>
        </p:grpSpPr>
        <p:sp>
          <p:nvSpPr>
            <p:cNvPr id="226" name="燕尾形 31"/>
            <p:cNvSpPr/>
            <p:nvPr/>
          </p:nvSpPr>
          <p:spPr>
            <a:xfrm>
              <a:off x="4302000" y="5241960"/>
              <a:ext cx="774360" cy="707760"/>
            </a:xfrm>
            <a:prstGeom prst="chevron">
              <a:avLst>
                <a:gd name="adj" fmla="val 58082"/>
              </a:avLst>
            </a:prstGeom>
            <a:solidFill>
              <a:srgbClr val="333399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7" name="燕尾形 32"/>
            <p:cNvSpPr/>
            <p:nvPr/>
          </p:nvSpPr>
          <p:spPr>
            <a:xfrm>
              <a:off x="4786200" y="5241960"/>
              <a:ext cx="774360" cy="707760"/>
            </a:xfrm>
            <a:prstGeom prst="chevron">
              <a:avLst>
                <a:gd name="adj" fmla="val 58082"/>
              </a:avLst>
            </a:prstGeom>
            <a:solidFill>
              <a:srgbClr val="333399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28" name="Text Box 7"/>
          <p:cNvSpPr/>
          <p:nvPr/>
        </p:nvSpPr>
        <p:spPr>
          <a:xfrm>
            <a:off x="654120" y="64069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anniu副本"/>
          <p:cNvPicPr/>
          <p:nvPr/>
        </p:nvPicPr>
        <p:blipFill>
          <a:blip r:embed="rId1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grpSp>
        <p:nvGrpSpPr>
          <p:cNvPr id="230" name="组合 4"/>
          <p:cNvGrpSpPr/>
          <p:nvPr/>
        </p:nvGrpSpPr>
        <p:grpSpPr>
          <a:xfrm>
            <a:off x="0" y="1628640"/>
            <a:ext cx="9143640" cy="1179000"/>
            <a:chOff x="0" y="1628640"/>
            <a:chExt cx="9143640" cy="1179000"/>
          </a:xfrm>
        </p:grpSpPr>
        <p:sp>
          <p:nvSpPr>
            <p:cNvPr id="231" name="圆角矩形 1"/>
            <p:cNvSpPr/>
            <p:nvPr/>
          </p:nvSpPr>
          <p:spPr>
            <a:xfrm>
              <a:off x="0" y="1690560"/>
              <a:ext cx="914364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cff">
                    <a:alpha val="56078"/>
                  </a:srgbClr>
                </a:gs>
                <a:gs pos="100000">
                  <a:srgbClr val="808080">
                    <a:alpha val="52156"/>
                  </a:srgbClr>
                </a:gs>
              </a:gsLst>
              <a:lin ang="16200000"/>
            </a:gradFill>
            <a:ln>
              <a:solidFill>
                <a:srgbClr val="d5e7e9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>
              <a:off x="1177920" y="1984680"/>
              <a:ext cx="76057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1628640"/>
              <a:ext cx="1177560" cy="117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组合 3"/>
          <p:cNvGrpSpPr/>
          <p:nvPr/>
        </p:nvGrpSpPr>
        <p:grpSpPr>
          <a:xfrm>
            <a:off x="1101960" y="3402720"/>
            <a:ext cx="7306200" cy="2225160"/>
            <a:chOff x="1101960" y="3402720"/>
            <a:chExt cx="7306200" cy="2225160"/>
          </a:xfrm>
        </p:grpSpPr>
        <p:grpSp>
          <p:nvGrpSpPr>
            <p:cNvPr id="235" name="Group 713"/>
            <p:cNvGrpSpPr/>
            <p:nvPr/>
          </p:nvGrpSpPr>
          <p:grpSpPr>
            <a:xfrm>
              <a:off x="1118160" y="4080600"/>
              <a:ext cx="1746360" cy="810720"/>
              <a:chOff x="1118160" y="4080600"/>
              <a:chExt cx="1746360" cy="810720"/>
            </a:xfrm>
          </p:grpSpPr>
          <p:sp>
            <p:nvSpPr>
              <p:cNvPr id="236" name="Freeform 13"/>
              <p:cNvSpPr/>
              <p:nvPr/>
            </p:nvSpPr>
            <p:spPr>
              <a:xfrm>
                <a:off x="1118160" y="4422600"/>
                <a:ext cx="1746360" cy="468720"/>
              </a:xfrm>
              <a:custGeom>
                <a:avLst/>
                <a:gdLst>
                  <a:gd name="textAreaLeft" fmla="*/ 0 w 1746360"/>
                  <a:gd name="textAreaRight" fmla="*/ 1746720 w 17463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237" name="Group 14"/>
              <p:cNvGrpSpPr/>
              <p:nvPr/>
            </p:nvGrpSpPr>
            <p:grpSpPr>
              <a:xfrm>
                <a:off x="1312920" y="4080600"/>
                <a:ext cx="1352520" cy="574920"/>
                <a:chOff x="1312920" y="4080600"/>
                <a:chExt cx="1352520" cy="574920"/>
              </a:xfrm>
            </p:grpSpPr>
            <p:grpSp>
              <p:nvGrpSpPr>
                <p:cNvPr id="238" name="Group 15"/>
                <p:cNvGrpSpPr/>
                <p:nvPr/>
              </p:nvGrpSpPr>
              <p:grpSpPr>
                <a:xfrm>
                  <a:off x="2085480" y="4080600"/>
                  <a:ext cx="579960" cy="557640"/>
                  <a:chOff x="2085480" y="4080600"/>
                  <a:chExt cx="579960" cy="557640"/>
                </a:xfrm>
              </p:grpSpPr>
              <p:sp>
                <p:nvSpPr>
                  <p:cNvPr id="239" name="Freeform 16"/>
                  <p:cNvSpPr/>
                  <p:nvPr/>
                </p:nvSpPr>
                <p:spPr>
                  <a:xfrm>
                    <a:off x="2085480" y="4080600"/>
                    <a:ext cx="579960" cy="55764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557640"/>
                      <a:gd name="textAreaBottom" fmla="*/ 558000 h 557640"/>
                    </a:gdLst>
                    <a:ahLst/>
                    <a:rect l="textAreaLeft" t="textAreaTop" r="textAreaRight" b="textAreaBottom"/>
                    <a:pathLst>
                      <a:path w="1535" h="1472">
                        <a:moveTo>
                          <a:pt x="258" y="0"/>
                        </a:moveTo>
                        <a:lnTo>
                          <a:pt x="0" y="69"/>
                        </a:lnTo>
                        <a:lnTo>
                          <a:pt x="0" y="1131"/>
                        </a:lnTo>
                        <a:lnTo>
                          <a:pt x="1280" y="1472"/>
                        </a:lnTo>
                        <a:lnTo>
                          <a:pt x="1280" y="411"/>
                        </a:lnTo>
                        <a:lnTo>
                          <a:pt x="1535" y="343"/>
                        </a:lnTo>
                        <a:lnTo>
                          <a:pt x="258" y="0"/>
                        </a:lnTo>
                        <a:close/>
                      </a:path>
                    </a:pathLst>
                  </a:custGeom>
                  <a:solidFill>
                    <a:srgbClr val="6d6d6c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0" name="Freeform 17"/>
                  <p:cNvSpPr/>
                  <p:nvPr/>
                </p:nvSpPr>
                <p:spPr>
                  <a:xfrm>
                    <a:off x="2085480" y="4469400"/>
                    <a:ext cx="579960" cy="15552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535" h="410">
                        <a:moveTo>
                          <a:pt x="1535" y="342"/>
                        </a:moveTo>
                        <a:lnTo>
                          <a:pt x="255" y="0"/>
                        </a:lnTo>
                        <a:lnTo>
                          <a:pt x="0" y="68"/>
                        </a:lnTo>
                        <a:lnTo>
                          <a:pt x="1280" y="410"/>
                        </a:lnTo>
                        <a:lnTo>
                          <a:pt x="1535" y="342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1" name="Freeform 18"/>
                  <p:cNvSpPr/>
                  <p:nvPr/>
                </p:nvSpPr>
                <p:spPr>
                  <a:xfrm>
                    <a:off x="2085480" y="4370040"/>
                    <a:ext cx="579960" cy="15552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535" h="411">
                        <a:moveTo>
                          <a:pt x="1535" y="342"/>
                        </a:moveTo>
                        <a:lnTo>
                          <a:pt x="255" y="0"/>
                        </a:lnTo>
                        <a:lnTo>
                          <a:pt x="0" y="69"/>
                        </a:lnTo>
                        <a:lnTo>
                          <a:pt x="1280" y="411"/>
                        </a:lnTo>
                        <a:lnTo>
                          <a:pt x="1535" y="342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2" name="Freeform 19"/>
                  <p:cNvSpPr/>
                  <p:nvPr/>
                </p:nvSpPr>
                <p:spPr>
                  <a:xfrm>
                    <a:off x="2085480" y="4268520"/>
                    <a:ext cx="579960" cy="15480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154800"/>
                      <a:gd name="textAreaBottom" fmla="*/ 155160 h 154800"/>
                    </a:gdLst>
                    <a:ahLst/>
                    <a:rect l="textAreaLeft" t="textAreaTop" r="textAreaRight" b="textAreaBottom"/>
                    <a:pathLst>
                      <a:path w="1535" h="411">
                        <a:moveTo>
                          <a:pt x="1535" y="343"/>
                        </a:moveTo>
                        <a:lnTo>
                          <a:pt x="255" y="0"/>
                        </a:lnTo>
                        <a:lnTo>
                          <a:pt x="0" y="69"/>
                        </a:lnTo>
                        <a:lnTo>
                          <a:pt x="1280" y="411"/>
                        </a:lnTo>
                        <a:lnTo>
                          <a:pt x="1535" y="343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3" name="Freeform 20"/>
                  <p:cNvSpPr/>
                  <p:nvPr/>
                </p:nvSpPr>
                <p:spPr>
                  <a:xfrm>
                    <a:off x="2085480" y="4168080"/>
                    <a:ext cx="579960" cy="15552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535" h="408">
                        <a:moveTo>
                          <a:pt x="1535" y="340"/>
                        </a:moveTo>
                        <a:lnTo>
                          <a:pt x="255" y="0"/>
                        </a:lnTo>
                        <a:lnTo>
                          <a:pt x="0" y="68"/>
                        </a:lnTo>
                        <a:lnTo>
                          <a:pt x="1280" y="408"/>
                        </a:lnTo>
                        <a:lnTo>
                          <a:pt x="1535" y="340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grpSp>
                <p:nvGrpSpPr>
                  <p:cNvPr id="244" name="Group 21"/>
                  <p:cNvGrpSpPr/>
                  <p:nvPr/>
                </p:nvGrpSpPr>
                <p:grpSpPr>
                  <a:xfrm>
                    <a:off x="2085480" y="4106160"/>
                    <a:ext cx="483120" cy="532080"/>
                    <a:chOff x="2085480" y="4106160"/>
                    <a:chExt cx="483120" cy="532080"/>
                  </a:xfrm>
                </p:grpSpPr>
                <p:sp>
                  <p:nvSpPr>
                    <p:cNvPr id="245" name="Freeform 22"/>
                    <p:cNvSpPr/>
                    <p:nvPr/>
                  </p:nvSpPr>
                  <p:spPr>
                    <a:xfrm>
                      <a:off x="2085480" y="4407840"/>
                      <a:ext cx="483120" cy="230400"/>
                    </a:xfrm>
                    <a:custGeom>
                      <a:avLst/>
                      <a:gdLst>
                        <a:gd name="textAreaLeft" fmla="*/ 0 w 483120"/>
                        <a:gd name="textAreaRight" fmla="*/ 483480 w 48312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4"/>
                          </a:lnTo>
                          <a:lnTo>
                            <a:pt x="1280" y="607"/>
                          </a:lnTo>
                          <a:lnTo>
                            <a:pt x="1280" y="342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6"/>
                          </a:moveTo>
                          <a:lnTo>
                            <a:pt x="33" y="240"/>
                          </a:lnTo>
                          <a:lnTo>
                            <a:pt x="33" y="42"/>
                          </a:lnTo>
                          <a:lnTo>
                            <a:pt x="1247" y="368"/>
                          </a:lnTo>
                          <a:lnTo>
                            <a:pt x="1250" y="368"/>
                          </a:lnTo>
                          <a:lnTo>
                            <a:pt x="1250" y="566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525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6" name="Freeform 23"/>
                    <p:cNvSpPr/>
                    <p:nvPr/>
                  </p:nvSpPr>
                  <p:spPr>
                    <a:xfrm>
                      <a:off x="2085480" y="4307400"/>
                      <a:ext cx="483120" cy="230400"/>
                    </a:xfrm>
                    <a:custGeom>
                      <a:avLst/>
                      <a:gdLst>
                        <a:gd name="textAreaLeft" fmla="*/ 0 w 483120"/>
                        <a:gd name="textAreaRight" fmla="*/ 483480 w 48312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5"/>
                          </a:lnTo>
                          <a:lnTo>
                            <a:pt x="1280" y="607"/>
                          </a:lnTo>
                          <a:lnTo>
                            <a:pt x="1280" y="343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5"/>
                          </a:moveTo>
                          <a:lnTo>
                            <a:pt x="33" y="241"/>
                          </a:lnTo>
                          <a:lnTo>
                            <a:pt x="33" y="43"/>
                          </a:lnTo>
                          <a:lnTo>
                            <a:pt x="1247" y="366"/>
                          </a:lnTo>
                          <a:lnTo>
                            <a:pt x="1250" y="366"/>
                          </a:lnTo>
                          <a:lnTo>
                            <a:pt x="1250" y="565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525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7" name="Freeform 24"/>
                    <p:cNvSpPr/>
                    <p:nvPr/>
                  </p:nvSpPr>
                  <p:spPr>
                    <a:xfrm>
                      <a:off x="2085480" y="4206960"/>
                      <a:ext cx="483120" cy="230400"/>
                    </a:xfrm>
                    <a:custGeom>
                      <a:avLst/>
                      <a:gdLst>
                        <a:gd name="textAreaLeft" fmla="*/ 0 w 483120"/>
                        <a:gd name="textAreaRight" fmla="*/ 483480 w 48312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5"/>
                          </a:lnTo>
                          <a:lnTo>
                            <a:pt x="1280" y="607"/>
                          </a:lnTo>
                          <a:lnTo>
                            <a:pt x="1280" y="343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7"/>
                          </a:moveTo>
                          <a:lnTo>
                            <a:pt x="33" y="241"/>
                          </a:lnTo>
                          <a:lnTo>
                            <a:pt x="33" y="43"/>
                          </a:lnTo>
                          <a:lnTo>
                            <a:pt x="1247" y="366"/>
                          </a:lnTo>
                          <a:lnTo>
                            <a:pt x="1250" y="366"/>
                          </a:lnTo>
                          <a:lnTo>
                            <a:pt x="1250" y="567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525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8" name="Freeform 25"/>
                    <p:cNvSpPr/>
                    <p:nvPr/>
                  </p:nvSpPr>
                  <p:spPr>
                    <a:xfrm>
                      <a:off x="2085480" y="4106160"/>
                      <a:ext cx="483120" cy="230400"/>
                    </a:xfrm>
                    <a:custGeom>
                      <a:avLst/>
                      <a:gdLst>
                        <a:gd name="textAreaLeft" fmla="*/ 0 w 483120"/>
                        <a:gd name="textAreaRight" fmla="*/ 483480 w 48312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4"/>
                          </a:lnTo>
                          <a:lnTo>
                            <a:pt x="1280" y="607"/>
                          </a:lnTo>
                          <a:lnTo>
                            <a:pt x="1280" y="342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4"/>
                          </a:moveTo>
                          <a:lnTo>
                            <a:pt x="33" y="241"/>
                          </a:lnTo>
                          <a:lnTo>
                            <a:pt x="33" y="40"/>
                          </a:lnTo>
                          <a:lnTo>
                            <a:pt x="1247" y="366"/>
                          </a:lnTo>
                          <a:lnTo>
                            <a:pt x="1250" y="366"/>
                          </a:lnTo>
                          <a:lnTo>
                            <a:pt x="1250" y="564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525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sp>
                <p:nvSpPr>
                  <p:cNvPr id="249" name="Freeform 26"/>
                  <p:cNvSpPr/>
                  <p:nvPr/>
                </p:nvSpPr>
                <p:spPr>
                  <a:xfrm>
                    <a:off x="2568960" y="4210920"/>
                    <a:ext cx="96120" cy="427320"/>
                  </a:xfrm>
                  <a:custGeom>
                    <a:avLst/>
                    <a:gdLst>
                      <a:gd name="textAreaLeft" fmla="*/ 0 w 96120"/>
                      <a:gd name="textAreaRight" fmla="*/ 96480 w 96120"/>
                      <a:gd name="textAreaTop" fmla="*/ 0 h 427320"/>
                      <a:gd name="textAreaBottom" fmla="*/ 427680 h 427320"/>
                    </a:gdLst>
                    <a:ahLst/>
                    <a:rect l="textAreaLeft" t="textAreaTop" r="textAreaRight" b="textAreaBottom"/>
                    <a:pathLst>
                      <a:path w="255" h="1129">
                        <a:moveTo>
                          <a:pt x="0" y="68"/>
                        </a:moveTo>
                        <a:lnTo>
                          <a:pt x="0" y="333"/>
                        </a:lnTo>
                        <a:lnTo>
                          <a:pt x="0" y="373"/>
                        </a:lnTo>
                        <a:lnTo>
                          <a:pt x="0" y="564"/>
                        </a:lnTo>
                        <a:lnTo>
                          <a:pt x="0" y="597"/>
                        </a:lnTo>
                        <a:lnTo>
                          <a:pt x="0" y="864"/>
                        </a:lnTo>
                        <a:lnTo>
                          <a:pt x="0" y="897"/>
                        </a:lnTo>
                        <a:lnTo>
                          <a:pt x="0" y="1129"/>
                        </a:lnTo>
                        <a:lnTo>
                          <a:pt x="255" y="1060"/>
                        </a:lnTo>
                        <a:lnTo>
                          <a:pt x="255" y="829"/>
                        </a:lnTo>
                        <a:lnTo>
                          <a:pt x="255" y="796"/>
                        </a:lnTo>
                        <a:lnTo>
                          <a:pt x="255" y="529"/>
                        </a:lnTo>
                        <a:lnTo>
                          <a:pt x="255" y="496"/>
                        </a:lnTo>
                        <a:lnTo>
                          <a:pt x="255" y="304"/>
                        </a:lnTo>
                        <a:lnTo>
                          <a:pt x="255" y="264"/>
                        </a:lnTo>
                        <a:lnTo>
                          <a:pt x="255" y="0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828282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250" name="Group 27"/>
                <p:cNvGrpSpPr/>
                <p:nvPr/>
              </p:nvGrpSpPr>
              <p:grpSpPr>
                <a:xfrm>
                  <a:off x="1312920" y="4084200"/>
                  <a:ext cx="576000" cy="553680"/>
                  <a:chOff x="1312920" y="4084200"/>
                  <a:chExt cx="576000" cy="553680"/>
                </a:xfrm>
              </p:grpSpPr>
              <p:grpSp>
                <p:nvGrpSpPr>
                  <p:cNvPr id="251" name="Group 28"/>
                  <p:cNvGrpSpPr/>
                  <p:nvPr/>
                </p:nvGrpSpPr>
                <p:grpSpPr>
                  <a:xfrm>
                    <a:off x="1312920" y="4084200"/>
                    <a:ext cx="576000" cy="553680"/>
                    <a:chOff x="1312920" y="4084200"/>
                    <a:chExt cx="576000" cy="553680"/>
                  </a:xfrm>
                </p:grpSpPr>
                <p:grpSp>
                  <p:nvGrpSpPr>
                    <p:cNvPr id="252" name="Group 29"/>
                    <p:cNvGrpSpPr/>
                    <p:nvPr/>
                  </p:nvGrpSpPr>
                  <p:grpSpPr>
                    <a:xfrm>
                      <a:off x="1312920" y="4383720"/>
                      <a:ext cx="576000" cy="254160"/>
                      <a:chOff x="1312920" y="4383720"/>
                      <a:chExt cx="576000" cy="254160"/>
                    </a:xfrm>
                  </p:grpSpPr>
                  <p:grpSp>
                    <p:nvGrpSpPr>
                      <p:cNvPr id="253" name="Group 30"/>
                      <p:cNvGrpSpPr/>
                      <p:nvPr/>
                    </p:nvGrpSpPr>
                    <p:grpSpPr>
                      <a:xfrm>
                        <a:off x="1697040" y="4383720"/>
                        <a:ext cx="191880" cy="150840"/>
                        <a:chOff x="1697040" y="4383720"/>
                        <a:chExt cx="191880" cy="150840"/>
                      </a:xfrm>
                    </p:grpSpPr>
                    <p:sp>
                      <p:nvSpPr>
                        <p:cNvPr id="254" name="Freeform 31"/>
                        <p:cNvSpPr/>
                        <p:nvPr/>
                      </p:nvSpPr>
                      <p:spPr>
                        <a:xfrm flipH="1">
                          <a:off x="1792440" y="438372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5" name="Freeform 32"/>
                        <p:cNvSpPr/>
                        <p:nvPr/>
                      </p:nvSpPr>
                      <p:spPr>
                        <a:xfrm flipH="1">
                          <a:off x="1697400" y="44708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6" name="Freeform 33"/>
                        <p:cNvSpPr/>
                        <p:nvPr/>
                      </p:nvSpPr>
                      <p:spPr>
                        <a:xfrm flipH="1">
                          <a:off x="1696680" y="44092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7" name="Freeform 34"/>
                        <p:cNvSpPr/>
                        <p:nvPr/>
                      </p:nvSpPr>
                      <p:spPr>
                        <a:xfrm flipH="1">
                          <a:off x="1792440" y="44092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8" name="Freeform 35"/>
                        <p:cNvSpPr/>
                        <p:nvPr/>
                      </p:nvSpPr>
                      <p:spPr>
                        <a:xfrm flipH="1">
                          <a:off x="1697400" y="43837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59" name="Group 36"/>
                      <p:cNvGrpSpPr/>
                      <p:nvPr/>
                    </p:nvGrpSpPr>
                    <p:grpSpPr>
                      <a:xfrm>
                        <a:off x="1600560" y="4409640"/>
                        <a:ext cx="192240" cy="150840"/>
                        <a:chOff x="1600560" y="4409640"/>
                        <a:chExt cx="192240" cy="150840"/>
                      </a:xfrm>
                    </p:grpSpPr>
                    <p:sp>
                      <p:nvSpPr>
                        <p:cNvPr id="260" name="Freeform 37"/>
                        <p:cNvSpPr/>
                        <p:nvPr/>
                      </p:nvSpPr>
                      <p:spPr>
                        <a:xfrm flipH="1">
                          <a:off x="1697040" y="4409640"/>
                          <a:ext cx="95760" cy="12492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1" name="Freeform 38"/>
                        <p:cNvSpPr/>
                        <p:nvPr/>
                      </p:nvSpPr>
                      <p:spPr>
                        <a:xfrm flipH="1">
                          <a:off x="1600200" y="449676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2" name="Freeform 39"/>
                        <p:cNvSpPr/>
                        <p:nvPr/>
                      </p:nvSpPr>
                      <p:spPr>
                        <a:xfrm flipH="1">
                          <a:off x="1600920" y="443520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3" name="Freeform 40"/>
                        <p:cNvSpPr/>
                        <p:nvPr/>
                      </p:nvSpPr>
                      <p:spPr>
                        <a:xfrm flipH="1">
                          <a:off x="1697040" y="443520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4" name="Freeform 41"/>
                        <p:cNvSpPr/>
                        <p:nvPr/>
                      </p:nvSpPr>
                      <p:spPr>
                        <a:xfrm flipH="1">
                          <a:off x="1600200" y="440964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65" name="Group 42"/>
                      <p:cNvGrpSpPr/>
                      <p:nvPr/>
                    </p:nvGrpSpPr>
                    <p:grpSpPr>
                      <a:xfrm>
                        <a:off x="1504800" y="4435200"/>
                        <a:ext cx="191880" cy="151200"/>
                        <a:chOff x="1504800" y="4435200"/>
                        <a:chExt cx="191880" cy="151200"/>
                      </a:xfrm>
                    </p:grpSpPr>
                    <p:sp>
                      <p:nvSpPr>
                        <p:cNvPr id="266" name="Freeform 43"/>
                        <p:cNvSpPr/>
                        <p:nvPr/>
                      </p:nvSpPr>
                      <p:spPr>
                        <a:xfrm flipH="1">
                          <a:off x="1600200" y="44352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7" name="Freeform 44"/>
                        <p:cNvSpPr/>
                        <p:nvPr/>
                      </p:nvSpPr>
                      <p:spPr>
                        <a:xfrm flipH="1">
                          <a:off x="1505160" y="45226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8" name="Freeform 45"/>
                        <p:cNvSpPr/>
                        <p:nvPr/>
                      </p:nvSpPr>
                      <p:spPr>
                        <a:xfrm flipH="1">
                          <a:off x="1504440" y="446076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9" name="Freeform 46"/>
                        <p:cNvSpPr/>
                        <p:nvPr/>
                      </p:nvSpPr>
                      <p:spPr>
                        <a:xfrm flipH="1">
                          <a:off x="1600200" y="446076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0" name="Freeform 47"/>
                        <p:cNvSpPr/>
                        <p:nvPr/>
                      </p:nvSpPr>
                      <p:spPr>
                        <a:xfrm flipH="1">
                          <a:off x="1505160" y="44352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71" name="Group 48"/>
                      <p:cNvGrpSpPr/>
                      <p:nvPr/>
                    </p:nvGrpSpPr>
                    <p:grpSpPr>
                      <a:xfrm>
                        <a:off x="1408680" y="4461480"/>
                        <a:ext cx="191880" cy="150840"/>
                        <a:chOff x="1408680" y="4461480"/>
                        <a:chExt cx="191880" cy="150840"/>
                      </a:xfrm>
                    </p:grpSpPr>
                    <p:sp>
                      <p:nvSpPr>
                        <p:cNvPr id="272" name="Freeform 49"/>
                        <p:cNvSpPr/>
                        <p:nvPr/>
                      </p:nvSpPr>
                      <p:spPr>
                        <a:xfrm flipH="1">
                          <a:off x="1504080" y="446148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3" name="Freeform 50"/>
                        <p:cNvSpPr/>
                        <p:nvPr/>
                      </p:nvSpPr>
                      <p:spPr>
                        <a:xfrm flipH="1">
                          <a:off x="1409040" y="45486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4" name="Freeform 51"/>
                        <p:cNvSpPr/>
                        <p:nvPr/>
                      </p:nvSpPr>
                      <p:spPr>
                        <a:xfrm flipH="1">
                          <a:off x="1408320" y="448704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5" name="Freeform 52"/>
                        <p:cNvSpPr/>
                        <p:nvPr/>
                      </p:nvSpPr>
                      <p:spPr>
                        <a:xfrm flipH="1">
                          <a:off x="1504080" y="448704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6" name="Freeform 53"/>
                        <p:cNvSpPr/>
                        <p:nvPr/>
                      </p:nvSpPr>
                      <p:spPr>
                        <a:xfrm flipH="1">
                          <a:off x="1409040" y="44614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77" name="Group 54"/>
                      <p:cNvGrpSpPr/>
                      <p:nvPr/>
                    </p:nvGrpSpPr>
                    <p:grpSpPr>
                      <a:xfrm>
                        <a:off x="1312920" y="4487040"/>
                        <a:ext cx="191880" cy="150840"/>
                        <a:chOff x="1312920" y="4487040"/>
                        <a:chExt cx="191880" cy="150840"/>
                      </a:xfrm>
                    </p:grpSpPr>
                    <p:sp>
                      <p:nvSpPr>
                        <p:cNvPr id="278" name="Freeform 55"/>
                        <p:cNvSpPr/>
                        <p:nvPr/>
                      </p:nvSpPr>
                      <p:spPr>
                        <a:xfrm flipH="1">
                          <a:off x="1408680" y="448704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9" name="Freeform 56"/>
                        <p:cNvSpPr/>
                        <p:nvPr/>
                      </p:nvSpPr>
                      <p:spPr>
                        <a:xfrm flipH="1">
                          <a:off x="1313280" y="45741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0" name="Freeform 57"/>
                        <p:cNvSpPr/>
                        <p:nvPr/>
                      </p:nvSpPr>
                      <p:spPr>
                        <a:xfrm flipH="1">
                          <a:off x="1312560" y="45126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1" name="Freeform 58"/>
                        <p:cNvSpPr/>
                        <p:nvPr/>
                      </p:nvSpPr>
                      <p:spPr>
                        <a:xfrm flipH="1">
                          <a:off x="1408680" y="45126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2" name="Freeform 59"/>
                        <p:cNvSpPr/>
                        <p:nvPr/>
                      </p:nvSpPr>
                      <p:spPr>
                        <a:xfrm flipH="1">
                          <a:off x="1313280" y="44870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83" name="Group 60"/>
                    <p:cNvGrpSpPr/>
                    <p:nvPr/>
                  </p:nvGrpSpPr>
                  <p:grpSpPr>
                    <a:xfrm>
                      <a:off x="1312920" y="4284000"/>
                      <a:ext cx="576000" cy="254160"/>
                      <a:chOff x="1312920" y="4284000"/>
                      <a:chExt cx="576000" cy="254160"/>
                    </a:xfrm>
                  </p:grpSpPr>
                  <p:grpSp>
                    <p:nvGrpSpPr>
                      <p:cNvPr id="284" name="Group 61"/>
                      <p:cNvGrpSpPr/>
                      <p:nvPr/>
                    </p:nvGrpSpPr>
                    <p:grpSpPr>
                      <a:xfrm>
                        <a:off x="1697040" y="4284000"/>
                        <a:ext cx="191880" cy="150840"/>
                        <a:chOff x="1697040" y="4284000"/>
                        <a:chExt cx="191880" cy="150840"/>
                      </a:xfrm>
                    </p:grpSpPr>
                    <p:sp>
                      <p:nvSpPr>
                        <p:cNvPr id="285" name="Freeform 62"/>
                        <p:cNvSpPr/>
                        <p:nvPr/>
                      </p:nvSpPr>
                      <p:spPr>
                        <a:xfrm flipH="1">
                          <a:off x="1792440" y="428400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6" name="Freeform 63"/>
                        <p:cNvSpPr/>
                        <p:nvPr/>
                      </p:nvSpPr>
                      <p:spPr>
                        <a:xfrm flipH="1">
                          <a:off x="1697400" y="43711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7" name="Freeform 64"/>
                        <p:cNvSpPr/>
                        <p:nvPr/>
                      </p:nvSpPr>
                      <p:spPr>
                        <a:xfrm flipH="1">
                          <a:off x="1696680" y="430956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8" name="Freeform 65"/>
                        <p:cNvSpPr/>
                        <p:nvPr/>
                      </p:nvSpPr>
                      <p:spPr>
                        <a:xfrm flipH="1">
                          <a:off x="1792440" y="430956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9" name="Freeform 66"/>
                        <p:cNvSpPr/>
                        <p:nvPr/>
                      </p:nvSpPr>
                      <p:spPr>
                        <a:xfrm flipH="1">
                          <a:off x="1697400" y="42840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90" name="Group 67"/>
                      <p:cNvGrpSpPr/>
                      <p:nvPr/>
                    </p:nvGrpSpPr>
                    <p:grpSpPr>
                      <a:xfrm>
                        <a:off x="1600560" y="4309920"/>
                        <a:ext cx="192240" cy="150840"/>
                        <a:chOff x="1600560" y="4309920"/>
                        <a:chExt cx="192240" cy="150840"/>
                      </a:xfrm>
                    </p:grpSpPr>
                    <p:sp>
                      <p:nvSpPr>
                        <p:cNvPr id="291" name="Freeform 68"/>
                        <p:cNvSpPr/>
                        <p:nvPr/>
                      </p:nvSpPr>
                      <p:spPr>
                        <a:xfrm flipH="1">
                          <a:off x="1697040" y="4309920"/>
                          <a:ext cx="95760" cy="12492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2" name="Freeform 69"/>
                        <p:cNvSpPr/>
                        <p:nvPr/>
                      </p:nvSpPr>
                      <p:spPr>
                        <a:xfrm flipH="1">
                          <a:off x="1600200" y="439704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3" name="Freeform 70"/>
                        <p:cNvSpPr/>
                        <p:nvPr/>
                      </p:nvSpPr>
                      <p:spPr>
                        <a:xfrm flipH="1">
                          <a:off x="1600920" y="433548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4" name="Freeform 71"/>
                        <p:cNvSpPr/>
                        <p:nvPr/>
                      </p:nvSpPr>
                      <p:spPr>
                        <a:xfrm flipH="1">
                          <a:off x="1697040" y="433548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5" name="Freeform 72"/>
                        <p:cNvSpPr/>
                        <p:nvPr/>
                      </p:nvSpPr>
                      <p:spPr>
                        <a:xfrm flipH="1">
                          <a:off x="1600200" y="430992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96" name="Group 73"/>
                      <p:cNvGrpSpPr/>
                      <p:nvPr/>
                    </p:nvGrpSpPr>
                    <p:grpSpPr>
                      <a:xfrm>
                        <a:off x="1504800" y="4335480"/>
                        <a:ext cx="191880" cy="151200"/>
                        <a:chOff x="1504800" y="4335480"/>
                        <a:chExt cx="191880" cy="151200"/>
                      </a:xfrm>
                    </p:grpSpPr>
                    <p:sp>
                      <p:nvSpPr>
                        <p:cNvPr id="297" name="Freeform 74"/>
                        <p:cNvSpPr/>
                        <p:nvPr/>
                      </p:nvSpPr>
                      <p:spPr>
                        <a:xfrm flipH="1">
                          <a:off x="1600200" y="43354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8" name="Freeform 75"/>
                        <p:cNvSpPr/>
                        <p:nvPr/>
                      </p:nvSpPr>
                      <p:spPr>
                        <a:xfrm flipH="1">
                          <a:off x="1505160" y="44229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9" name="Freeform 76"/>
                        <p:cNvSpPr/>
                        <p:nvPr/>
                      </p:nvSpPr>
                      <p:spPr>
                        <a:xfrm flipH="1">
                          <a:off x="1504440" y="436104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0" name="Freeform 77"/>
                        <p:cNvSpPr/>
                        <p:nvPr/>
                      </p:nvSpPr>
                      <p:spPr>
                        <a:xfrm flipH="1">
                          <a:off x="1600200" y="436104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1" name="Freeform 78"/>
                        <p:cNvSpPr/>
                        <p:nvPr/>
                      </p:nvSpPr>
                      <p:spPr>
                        <a:xfrm flipH="1">
                          <a:off x="1505160" y="43354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02" name="Group 79"/>
                      <p:cNvGrpSpPr/>
                      <p:nvPr/>
                    </p:nvGrpSpPr>
                    <p:grpSpPr>
                      <a:xfrm>
                        <a:off x="1408680" y="4361760"/>
                        <a:ext cx="191880" cy="150840"/>
                        <a:chOff x="1408680" y="4361760"/>
                        <a:chExt cx="191880" cy="150840"/>
                      </a:xfrm>
                    </p:grpSpPr>
                    <p:sp>
                      <p:nvSpPr>
                        <p:cNvPr id="303" name="Freeform 80"/>
                        <p:cNvSpPr/>
                        <p:nvPr/>
                      </p:nvSpPr>
                      <p:spPr>
                        <a:xfrm flipH="1">
                          <a:off x="1504080" y="436176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4" name="Freeform 81"/>
                        <p:cNvSpPr/>
                        <p:nvPr/>
                      </p:nvSpPr>
                      <p:spPr>
                        <a:xfrm flipH="1">
                          <a:off x="1409040" y="44488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5" name="Freeform 82"/>
                        <p:cNvSpPr/>
                        <p:nvPr/>
                      </p:nvSpPr>
                      <p:spPr>
                        <a:xfrm flipH="1">
                          <a:off x="1408320" y="438732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6" name="Freeform 83"/>
                        <p:cNvSpPr/>
                        <p:nvPr/>
                      </p:nvSpPr>
                      <p:spPr>
                        <a:xfrm flipH="1">
                          <a:off x="1504080" y="438732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7" name="Freeform 84"/>
                        <p:cNvSpPr/>
                        <p:nvPr/>
                      </p:nvSpPr>
                      <p:spPr>
                        <a:xfrm flipH="1">
                          <a:off x="1409040" y="43617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08" name="Group 85"/>
                      <p:cNvGrpSpPr/>
                      <p:nvPr/>
                    </p:nvGrpSpPr>
                    <p:grpSpPr>
                      <a:xfrm>
                        <a:off x="1312920" y="4387320"/>
                        <a:ext cx="191880" cy="150840"/>
                        <a:chOff x="1312920" y="4387320"/>
                        <a:chExt cx="191880" cy="150840"/>
                      </a:xfrm>
                    </p:grpSpPr>
                    <p:sp>
                      <p:nvSpPr>
                        <p:cNvPr id="309" name="Freeform 86"/>
                        <p:cNvSpPr/>
                        <p:nvPr/>
                      </p:nvSpPr>
                      <p:spPr>
                        <a:xfrm flipH="1">
                          <a:off x="1408680" y="438732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0" name="Freeform 87"/>
                        <p:cNvSpPr/>
                        <p:nvPr/>
                      </p:nvSpPr>
                      <p:spPr>
                        <a:xfrm flipH="1">
                          <a:off x="1313280" y="44744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1" name="Freeform 88"/>
                        <p:cNvSpPr/>
                        <p:nvPr/>
                      </p:nvSpPr>
                      <p:spPr>
                        <a:xfrm flipH="1">
                          <a:off x="1312560" y="44128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2" name="Freeform 89"/>
                        <p:cNvSpPr/>
                        <p:nvPr/>
                      </p:nvSpPr>
                      <p:spPr>
                        <a:xfrm flipH="1">
                          <a:off x="1408680" y="44128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3" name="Freeform 90"/>
                        <p:cNvSpPr/>
                        <p:nvPr/>
                      </p:nvSpPr>
                      <p:spPr>
                        <a:xfrm flipH="1">
                          <a:off x="1313280" y="43873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4" name="Group 91"/>
                    <p:cNvGrpSpPr/>
                    <p:nvPr/>
                  </p:nvGrpSpPr>
                  <p:grpSpPr>
                    <a:xfrm>
                      <a:off x="1312920" y="4183920"/>
                      <a:ext cx="576000" cy="254160"/>
                      <a:chOff x="1312920" y="4183920"/>
                      <a:chExt cx="576000" cy="254160"/>
                    </a:xfrm>
                  </p:grpSpPr>
                  <p:grpSp>
                    <p:nvGrpSpPr>
                      <p:cNvPr id="315" name="Group 92"/>
                      <p:cNvGrpSpPr/>
                      <p:nvPr/>
                    </p:nvGrpSpPr>
                    <p:grpSpPr>
                      <a:xfrm>
                        <a:off x="1697040" y="4183920"/>
                        <a:ext cx="191880" cy="150840"/>
                        <a:chOff x="1697040" y="4183920"/>
                        <a:chExt cx="191880" cy="150840"/>
                      </a:xfrm>
                    </p:grpSpPr>
                    <p:sp>
                      <p:nvSpPr>
                        <p:cNvPr id="316" name="Freeform 93"/>
                        <p:cNvSpPr/>
                        <p:nvPr/>
                      </p:nvSpPr>
                      <p:spPr>
                        <a:xfrm flipH="1">
                          <a:off x="1792440" y="418392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7" name="Freeform 94"/>
                        <p:cNvSpPr/>
                        <p:nvPr/>
                      </p:nvSpPr>
                      <p:spPr>
                        <a:xfrm flipH="1">
                          <a:off x="1697400" y="42710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8" name="Freeform 95"/>
                        <p:cNvSpPr/>
                        <p:nvPr/>
                      </p:nvSpPr>
                      <p:spPr>
                        <a:xfrm flipH="1">
                          <a:off x="1696680" y="42094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9" name="Freeform 96"/>
                        <p:cNvSpPr/>
                        <p:nvPr/>
                      </p:nvSpPr>
                      <p:spPr>
                        <a:xfrm flipH="1">
                          <a:off x="1792440" y="42094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0" name="Freeform 97"/>
                        <p:cNvSpPr/>
                        <p:nvPr/>
                      </p:nvSpPr>
                      <p:spPr>
                        <a:xfrm flipH="1">
                          <a:off x="1697400" y="41839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98"/>
                      <p:cNvGrpSpPr/>
                      <p:nvPr/>
                    </p:nvGrpSpPr>
                    <p:grpSpPr>
                      <a:xfrm>
                        <a:off x="1600560" y="4209840"/>
                        <a:ext cx="192240" cy="150840"/>
                        <a:chOff x="1600560" y="4209840"/>
                        <a:chExt cx="192240" cy="150840"/>
                      </a:xfrm>
                    </p:grpSpPr>
                    <p:sp>
                      <p:nvSpPr>
                        <p:cNvPr id="322" name="Freeform 99"/>
                        <p:cNvSpPr/>
                        <p:nvPr/>
                      </p:nvSpPr>
                      <p:spPr>
                        <a:xfrm flipH="1">
                          <a:off x="1697040" y="4209840"/>
                          <a:ext cx="95760" cy="12492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3" name="Freeform 100"/>
                        <p:cNvSpPr/>
                        <p:nvPr/>
                      </p:nvSpPr>
                      <p:spPr>
                        <a:xfrm flipH="1">
                          <a:off x="1600200" y="429660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4" name="Freeform 101"/>
                        <p:cNvSpPr/>
                        <p:nvPr/>
                      </p:nvSpPr>
                      <p:spPr>
                        <a:xfrm flipH="1">
                          <a:off x="1600920" y="423540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5" name="Freeform 102"/>
                        <p:cNvSpPr/>
                        <p:nvPr/>
                      </p:nvSpPr>
                      <p:spPr>
                        <a:xfrm flipH="1">
                          <a:off x="1697040" y="423540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6" name="Freeform 103"/>
                        <p:cNvSpPr/>
                        <p:nvPr/>
                      </p:nvSpPr>
                      <p:spPr>
                        <a:xfrm flipH="1">
                          <a:off x="1600200" y="420984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27" name="Group 104"/>
                      <p:cNvGrpSpPr/>
                      <p:nvPr/>
                    </p:nvGrpSpPr>
                    <p:grpSpPr>
                      <a:xfrm>
                        <a:off x="1504800" y="4235400"/>
                        <a:ext cx="191880" cy="151200"/>
                        <a:chOff x="1504800" y="4235400"/>
                        <a:chExt cx="191880" cy="151200"/>
                      </a:xfrm>
                    </p:grpSpPr>
                    <p:sp>
                      <p:nvSpPr>
                        <p:cNvPr id="328" name="Freeform 105"/>
                        <p:cNvSpPr/>
                        <p:nvPr/>
                      </p:nvSpPr>
                      <p:spPr>
                        <a:xfrm flipH="1">
                          <a:off x="1600200" y="42354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9" name="Freeform 106"/>
                        <p:cNvSpPr/>
                        <p:nvPr/>
                      </p:nvSpPr>
                      <p:spPr>
                        <a:xfrm flipH="1">
                          <a:off x="1505160" y="43225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0" name="Freeform 107"/>
                        <p:cNvSpPr/>
                        <p:nvPr/>
                      </p:nvSpPr>
                      <p:spPr>
                        <a:xfrm flipH="1">
                          <a:off x="1504440" y="426096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1" name="Freeform 108"/>
                        <p:cNvSpPr/>
                        <p:nvPr/>
                      </p:nvSpPr>
                      <p:spPr>
                        <a:xfrm flipH="1">
                          <a:off x="1600200" y="426096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2" name="Freeform 109"/>
                        <p:cNvSpPr/>
                        <p:nvPr/>
                      </p:nvSpPr>
                      <p:spPr>
                        <a:xfrm flipH="1">
                          <a:off x="1505160" y="42354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33" name="Group 110"/>
                      <p:cNvGrpSpPr/>
                      <p:nvPr/>
                    </p:nvGrpSpPr>
                    <p:grpSpPr>
                      <a:xfrm>
                        <a:off x="1408680" y="4261680"/>
                        <a:ext cx="191880" cy="150840"/>
                        <a:chOff x="1408680" y="4261680"/>
                        <a:chExt cx="191880" cy="150840"/>
                      </a:xfrm>
                    </p:grpSpPr>
                    <p:sp>
                      <p:nvSpPr>
                        <p:cNvPr id="334" name="Freeform 111"/>
                        <p:cNvSpPr/>
                        <p:nvPr/>
                      </p:nvSpPr>
                      <p:spPr>
                        <a:xfrm flipH="1">
                          <a:off x="1504080" y="426168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5" name="Freeform 112"/>
                        <p:cNvSpPr/>
                        <p:nvPr/>
                      </p:nvSpPr>
                      <p:spPr>
                        <a:xfrm flipH="1">
                          <a:off x="1409040" y="43484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6" name="Freeform 113"/>
                        <p:cNvSpPr/>
                        <p:nvPr/>
                      </p:nvSpPr>
                      <p:spPr>
                        <a:xfrm flipH="1">
                          <a:off x="1408320" y="428724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7" name="Freeform 114"/>
                        <p:cNvSpPr/>
                        <p:nvPr/>
                      </p:nvSpPr>
                      <p:spPr>
                        <a:xfrm flipH="1">
                          <a:off x="1504080" y="428724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8" name="Freeform 115"/>
                        <p:cNvSpPr/>
                        <p:nvPr/>
                      </p:nvSpPr>
                      <p:spPr>
                        <a:xfrm flipH="1">
                          <a:off x="1409040" y="42616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39" name="Group 116"/>
                      <p:cNvGrpSpPr/>
                      <p:nvPr/>
                    </p:nvGrpSpPr>
                    <p:grpSpPr>
                      <a:xfrm>
                        <a:off x="1312920" y="4287240"/>
                        <a:ext cx="191880" cy="150840"/>
                        <a:chOff x="1312920" y="4287240"/>
                        <a:chExt cx="191880" cy="150840"/>
                      </a:xfrm>
                    </p:grpSpPr>
                    <p:sp>
                      <p:nvSpPr>
                        <p:cNvPr id="340" name="Freeform 117"/>
                        <p:cNvSpPr/>
                        <p:nvPr/>
                      </p:nvSpPr>
                      <p:spPr>
                        <a:xfrm flipH="1">
                          <a:off x="1408680" y="428724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1" name="Freeform 118"/>
                        <p:cNvSpPr/>
                        <p:nvPr/>
                      </p:nvSpPr>
                      <p:spPr>
                        <a:xfrm flipH="1">
                          <a:off x="1313280" y="43743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2" name="Freeform 119"/>
                        <p:cNvSpPr/>
                        <p:nvPr/>
                      </p:nvSpPr>
                      <p:spPr>
                        <a:xfrm flipH="1">
                          <a:off x="1312560" y="43128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3" name="Freeform 120"/>
                        <p:cNvSpPr/>
                        <p:nvPr/>
                      </p:nvSpPr>
                      <p:spPr>
                        <a:xfrm flipH="1">
                          <a:off x="1408680" y="43128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4" name="Freeform 121"/>
                        <p:cNvSpPr/>
                        <p:nvPr/>
                      </p:nvSpPr>
                      <p:spPr>
                        <a:xfrm flipH="1">
                          <a:off x="1313280" y="42872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5" name="Group 122"/>
                    <p:cNvGrpSpPr/>
                    <p:nvPr/>
                  </p:nvGrpSpPr>
                  <p:grpSpPr>
                    <a:xfrm>
                      <a:off x="1312920" y="4084200"/>
                      <a:ext cx="576000" cy="254160"/>
                      <a:chOff x="1312920" y="4084200"/>
                      <a:chExt cx="576000" cy="254160"/>
                    </a:xfrm>
                  </p:grpSpPr>
                  <p:grpSp>
                    <p:nvGrpSpPr>
                      <p:cNvPr id="346" name="Group 123"/>
                      <p:cNvGrpSpPr/>
                      <p:nvPr/>
                    </p:nvGrpSpPr>
                    <p:grpSpPr>
                      <a:xfrm>
                        <a:off x="1697040" y="4084200"/>
                        <a:ext cx="191880" cy="150840"/>
                        <a:chOff x="1697040" y="4084200"/>
                        <a:chExt cx="191880" cy="150840"/>
                      </a:xfrm>
                    </p:grpSpPr>
                    <p:sp>
                      <p:nvSpPr>
                        <p:cNvPr id="347" name="Freeform 124"/>
                        <p:cNvSpPr/>
                        <p:nvPr/>
                      </p:nvSpPr>
                      <p:spPr>
                        <a:xfrm flipH="1">
                          <a:off x="1792440" y="408420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8" name="Freeform 125"/>
                        <p:cNvSpPr/>
                        <p:nvPr/>
                      </p:nvSpPr>
                      <p:spPr>
                        <a:xfrm flipH="1">
                          <a:off x="1697400" y="41713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9" name="Freeform 126"/>
                        <p:cNvSpPr/>
                        <p:nvPr/>
                      </p:nvSpPr>
                      <p:spPr>
                        <a:xfrm flipH="1">
                          <a:off x="1696680" y="410976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0" name="Freeform 127"/>
                        <p:cNvSpPr/>
                        <p:nvPr/>
                      </p:nvSpPr>
                      <p:spPr>
                        <a:xfrm flipH="1">
                          <a:off x="1792440" y="410976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1" name="Freeform 128"/>
                        <p:cNvSpPr/>
                        <p:nvPr/>
                      </p:nvSpPr>
                      <p:spPr>
                        <a:xfrm flipH="1">
                          <a:off x="1697400" y="40842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52" name="Group 129"/>
                      <p:cNvGrpSpPr/>
                      <p:nvPr/>
                    </p:nvGrpSpPr>
                    <p:grpSpPr>
                      <a:xfrm>
                        <a:off x="1600560" y="4110120"/>
                        <a:ext cx="192240" cy="150840"/>
                        <a:chOff x="1600560" y="4110120"/>
                        <a:chExt cx="192240" cy="150840"/>
                      </a:xfrm>
                    </p:grpSpPr>
                    <p:sp>
                      <p:nvSpPr>
                        <p:cNvPr id="353" name="Freeform 130"/>
                        <p:cNvSpPr/>
                        <p:nvPr/>
                      </p:nvSpPr>
                      <p:spPr>
                        <a:xfrm flipH="1">
                          <a:off x="1697040" y="4110120"/>
                          <a:ext cx="95760" cy="12492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4" name="Freeform 131"/>
                        <p:cNvSpPr/>
                        <p:nvPr/>
                      </p:nvSpPr>
                      <p:spPr>
                        <a:xfrm flipH="1">
                          <a:off x="1600200" y="419688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5" name="Freeform 132"/>
                        <p:cNvSpPr/>
                        <p:nvPr/>
                      </p:nvSpPr>
                      <p:spPr>
                        <a:xfrm flipH="1">
                          <a:off x="1600920" y="413568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6" name="Freeform 133"/>
                        <p:cNvSpPr/>
                        <p:nvPr/>
                      </p:nvSpPr>
                      <p:spPr>
                        <a:xfrm flipH="1">
                          <a:off x="1697040" y="413568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7" name="Freeform 134"/>
                        <p:cNvSpPr/>
                        <p:nvPr/>
                      </p:nvSpPr>
                      <p:spPr>
                        <a:xfrm flipH="1">
                          <a:off x="1600200" y="411012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58" name="Group 135"/>
                      <p:cNvGrpSpPr/>
                      <p:nvPr/>
                    </p:nvGrpSpPr>
                    <p:grpSpPr>
                      <a:xfrm>
                        <a:off x="1504800" y="4135680"/>
                        <a:ext cx="191880" cy="151200"/>
                        <a:chOff x="1504800" y="4135680"/>
                        <a:chExt cx="191880" cy="151200"/>
                      </a:xfrm>
                    </p:grpSpPr>
                    <p:sp>
                      <p:nvSpPr>
                        <p:cNvPr id="359" name="Freeform 136"/>
                        <p:cNvSpPr/>
                        <p:nvPr/>
                      </p:nvSpPr>
                      <p:spPr>
                        <a:xfrm flipH="1">
                          <a:off x="1600200" y="41356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0" name="Freeform 137"/>
                        <p:cNvSpPr/>
                        <p:nvPr/>
                      </p:nvSpPr>
                      <p:spPr>
                        <a:xfrm flipH="1">
                          <a:off x="1505160" y="42228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1" name="Freeform 138"/>
                        <p:cNvSpPr/>
                        <p:nvPr/>
                      </p:nvSpPr>
                      <p:spPr>
                        <a:xfrm flipH="1">
                          <a:off x="1504440" y="416124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2" name="Freeform 139"/>
                        <p:cNvSpPr/>
                        <p:nvPr/>
                      </p:nvSpPr>
                      <p:spPr>
                        <a:xfrm flipH="1">
                          <a:off x="1600200" y="416124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3" name="Freeform 140"/>
                        <p:cNvSpPr/>
                        <p:nvPr/>
                      </p:nvSpPr>
                      <p:spPr>
                        <a:xfrm flipH="1">
                          <a:off x="1505160" y="41356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64" name="Group 141"/>
                      <p:cNvGrpSpPr/>
                      <p:nvPr/>
                    </p:nvGrpSpPr>
                    <p:grpSpPr>
                      <a:xfrm>
                        <a:off x="1408680" y="4161960"/>
                        <a:ext cx="191880" cy="150840"/>
                        <a:chOff x="1408680" y="4161960"/>
                        <a:chExt cx="191880" cy="150840"/>
                      </a:xfrm>
                    </p:grpSpPr>
                    <p:sp>
                      <p:nvSpPr>
                        <p:cNvPr id="365" name="Freeform 142"/>
                        <p:cNvSpPr/>
                        <p:nvPr/>
                      </p:nvSpPr>
                      <p:spPr>
                        <a:xfrm flipH="1">
                          <a:off x="1504080" y="416196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6" name="Freeform 143"/>
                        <p:cNvSpPr/>
                        <p:nvPr/>
                      </p:nvSpPr>
                      <p:spPr>
                        <a:xfrm flipH="1">
                          <a:off x="1409040" y="42487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7" name="Freeform 144"/>
                        <p:cNvSpPr/>
                        <p:nvPr/>
                      </p:nvSpPr>
                      <p:spPr>
                        <a:xfrm flipH="1">
                          <a:off x="1408320" y="418752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8" name="Freeform 145"/>
                        <p:cNvSpPr/>
                        <p:nvPr/>
                      </p:nvSpPr>
                      <p:spPr>
                        <a:xfrm flipH="1">
                          <a:off x="1504080" y="418752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9" name="Freeform 146"/>
                        <p:cNvSpPr/>
                        <p:nvPr/>
                      </p:nvSpPr>
                      <p:spPr>
                        <a:xfrm flipH="1">
                          <a:off x="1409040" y="41619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70" name="Group 147"/>
                      <p:cNvGrpSpPr/>
                      <p:nvPr/>
                    </p:nvGrpSpPr>
                    <p:grpSpPr>
                      <a:xfrm>
                        <a:off x="1312920" y="4187520"/>
                        <a:ext cx="191880" cy="150840"/>
                        <a:chOff x="1312920" y="4187520"/>
                        <a:chExt cx="191880" cy="150840"/>
                      </a:xfrm>
                    </p:grpSpPr>
                    <p:sp>
                      <p:nvSpPr>
                        <p:cNvPr id="371" name="Freeform 148"/>
                        <p:cNvSpPr/>
                        <p:nvPr/>
                      </p:nvSpPr>
                      <p:spPr>
                        <a:xfrm flipH="1">
                          <a:off x="1408680" y="418752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2" name="Freeform 149"/>
                        <p:cNvSpPr/>
                        <p:nvPr/>
                      </p:nvSpPr>
                      <p:spPr>
                        <a:xfrm flipH="1">
                          <a:off x="1313280" y="42746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3" name="Freeform 150"/>
                        <p:cNvSpPr/>
                        <p:nvPr/>
                      </p:nvSpPr>
                      <p:spPr>
                        <a:xfrm flipH="1">
                          <a:off x="1312560" y="42130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4" name="Freeform 151"/>
                        <p:cNvSpPr/>
                        <p:nvPr/>
                      </p:nvSpPr>
                      <p:spPr>
                        <a:xfrm flipH="1">
                          <a:off x="1408680" y="42130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5" name="Freeform 152"/>
                        <p:cNvSpPr/>
                        <p:nvPr/>
                      </p:nvSpPr>
                      <p:spPr>
                        <a:xfrm flipH="1">
                          <a:off x="1313280" y="41875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76" name="Group 153"/>
                  <p:cNvGrpSpPr/>
                  <p:nvPr/>
                </p:nvGrpSpPr>
                <p:grpSpPr>
                  <a:xfrm>
                    <a:off x="1419840" y="4133160"/>
                    <a:ext cx="446400" cy="453600"/>
                    <a:chOff x="1419840" y="4133160"/>
                    <a:chExt cx="446400" cy="453600"/>
                  </a:xfrm>
                </p:grpSpPr>
                <p:grpSp>
                  <p:nvGrpSpPr>
                    <p:cNvPr id="377" name="Group 154"/>
                    <p:cNvGrpSpPr/>
                    <p:nvPr/>
                  </p:nvGrpSpPr>
                  <p:grpSpPr>
                    <a:xfrm>
                      <a:off x="1805400" y="4133160"/>
                      <a:ext cx="60480" cy="76680"/>
                      <a:chOff x="1805400" y="4133160"/>
                      <a:chExt cx="60480" cy="76680"/>
                    </a:xfrm>
                  </p:grpSpPr>
                  <p:sp>
                    <p:nvSpPr>
                      <p:cNvPr id="378" name="Freeform 155"/>
                      <p:cNvSpPr/>
                      <p:nvPr/>
                    </p:nvSpPr>
                    <p:spPr>
                      <a:xfrm>
                        <a:off x="1805400" y="41331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79" name="Freeform 156"/>
                      <p:cNvSpPr/>
                      <p:nvPr/>
                    </p:nvSpPr>
                    <p:spPr>
                      <a:xfrm>
                        <a:off x="1810800" y="413712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0" name="Freeform 157"/>
                      <p:cNvSpPr/>
                      <p:nvPr/>
                    </p:nvSpPr>
                    <p:spPr>
                      <a:xfrm>
                        <a:off x="1805400" y="41511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81" name="Group 158"/>
                    <p:cNvGrpSpPr/>
                    <p:nvPr/>
                  </p:nvGrpSpPr>
                  <p:grpSpPr>
                    <a:xfrm>
                      <a:off x="1614240" y="4283640"/>
                      <a:ext cx="60480" cy="77040"/>
                      <a:chOff x="1614240" y="4283640"/>
                      <a:chExt cx="60480" cy="77040"/>
                    </a:xfrm>
                  </p:grpSpPr>
                  <p:sp>
                    <p:nvSpPr>
                      <p:cNvPr id="382" name="Freeform 159"/>
                      <p:cNvSpPr/>
                      <p:nvPr/>
                    </p:nvSpPr>
                    <p:spPr>
                      <a:xfrm>
                        <a:off x="1614240" y="428364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3" name="Freeform 160"/>
                      <p:cNvSpPr/>
                      <p:nvPr/>
                    </p:nvSpPr>
                    <p:spPr>
                      <a:xfrm>
                        <a:off x="1619280" y="428796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4" name="Freeform 161"/>
                      <p:cNvSpPr/>
                      <p:nvPr/>
                    </p:nvSpPr>
                    <p:spPr>
                      <a:xfrm>
                        <a:off x="1614240" y="430164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85" name="Group 162"/>
                    <p:cNvGrpSpPr/>
                    <p:nvPr/>
                  </p:nvGrpSpPr>
                  <p:grpSpPr>
                    <a:xfrm>
                      <a:off x="1708920" y="4358160"/>
                      <a:ext cx="60480" cy="77040"/>
                      <a:chOff x="1708920" y="4358160"/>
                      <a:chExt cx="60480" cy="77040"/>
                    </a:xfrm>
                  </p:grpSpPr>
                  <p:sp>
                    <p:nvSpPr>
                      <p:cNvPr id="386" name="Freeform 163"/>
                      <p:cNvSpPr/>
                      <p:nvPr/>
                    </p:nvSpPr>
                    <p:spPr>
                      <a:xfrm>
                        <a:off x="1708920" y="43581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7" name="Freeform 164"/>
                      <p:cNvSpPr/>
                      <p:nvPr/>
                    </p:nvSpPr>
                    <p:spPr>
                      <a:xfrm>
                        <a:off x="1713960" y="436248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8" name="Freeform 165"/>
                      <p:cNvSpPr/>
                      <p:nvPr/>
                    </p:nvSpPr>
                    <p:spPr>
                      <a:xfrm>
                        <a:off x="1708920" y="43761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89" name="Group 166"/>
                    <p:cNvGrpSpPr/>
                    <p:nvPr/>
                  </p:nvGrpSpPr>
                  <p:grpSpPr>
                    <a:xfrm>
                      <a:off x="1518120" y="4509720"/>
                      <a:ext cx="60480" cy="77040"/>
                      <a:chOff x="1518120" y="4509720"/>
                      <a:chExt cx="60480" cy="77040"/>
                    </a:xfrm>
                  </p:grpSpPr>
                  <p:sp>
                    <p:nvSpPr>
                      <p:cNvPr id="390" name="Freeform 167"/>
                      <p:cNvSpPr/>
                      <p:nvPr/>
                    </p:nvSpPr>
                    <p:spPr>
                      <a:xfrm>
                        <a:off x="1518120" y="45097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1" name="Freeform 168"/>
                      <p:cNvSpPr/>
                      <p:nvPr/>
                    </p:nvSpPr>
                    <p:spPr>
                      <a:xfrm>
                        <a:off x="1523160" y="451404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2" name="Freeform 169"/>
                      <p:cNvSpPr/>
                      <p:nvPr/>
                    </p:nvSpPr>
                    <p:spPr>
                      <a:xfrm>
                        <a:off x="1518120" y="452772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93" name="Group 170"/>
                    <p:cNvGrpSpPr/>
                    <p:nvPr/>
                  </p:nvGrpSpPr>
                  <p:grpSpPr>
                    <a:xfrm>
                      <a:off x="1422000" y="4435560"/>
                      <a:ext cx="60840" cy="76320"/>
                      <a:chOff x="1422000" y="4435560"/>
                      <a:chExt cx="60840" cy="76320"/>
                    </a:xfrm>
                  </p:grpSpPr>
                  <p:sp>
                    <p:nvSpPr>
                      <p:cNvPr id="394" name="Freeform 171"/>
                      <p:cNvSpPr/>
                      <p:nvPr/>
                    </p:nvSpPr>
                    <p:spPr>
                      <a:xfrm>
                        <a:off x="1422000" y="4435560"/>
                        <a:ext cx="60840" cy="18720"/>
                      </a:xfrm>
                      <a:custGeom>
                        <a:avLst/>
                        <a:gdLst>
                          <a:gd name="textAreaLeft" fmla="*/ 0 w 60840"/>
                          <a:gd name="textAreaRight" fmla="*/ 61200 w 60840"/>
                          <a:gd name="textAreaTop" fmla="*/ 0 h 18720"/>
                          <a:gd name="textAreaBottom" fmla="*/ 19080 h 1872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5" name="Freeform 172"/>
                      <p:cNvSpPr/>
                      <p:nvPr/>
                    </p:nvSpPr>
                    <p:spPr>
                      <a:xfrm>
                        <a:off x="1427040" y="4439880"/>
                        <a:ext cx="55440" cy="7200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2000"/>
                          <a:gd name="textAreaBottom" fmla="*/ 72360 h 7200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6" name="Freeform 173"/>
                      <p:cNvSpPr/>
                      <p:nvPr/>
                    </p:nvSpPr>
                    <p:spPr>
                      <a:xfrm>
                        <a:off x="1422000" y="4453560"/>
                        <a:ext cx="4680" cy="5832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320"/>
                          <a:gd name="textAreaBottom" fmla="*/ 58680 h 5832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97" name="Group 174"/>
                    <p:cNvGrpSpPr/>
                    <p:nvPr/>
                  </p:nvGrpSpPr>
                  <p:grpSpPr>
                    <a:xfrm>
                      <a:off x="1614240" y="4386240"/>
                      <a:ext cx="60480" cy="76680"/>
                      <a:chOff x="1614240" y="4386240"/>
                      <a:chExt cx="60480" cy="76680"/>
                    </a:xfrm>
                  </p:grpSpPr>
                  <p:sp>
                    <p:nvSpPr>
                      <p:cNvPr id="398" name="Freeform 175"/>
                      <p:cNvSpPr/>
                      <p:nvPr/>
                    </p:nvSpPr>
                    <p:spPr>
                      <a:xfrm>
                        <a:off x="1614240" y="438624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9" name="Freeform 176"/>
                      <p:cNvSpPr/>
                      <p:nvPr/>
                    </p:nvSpPr>
                    <p:spPr>
                      <a:xfrm>
                        <a:off x="1619280" y="439020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0" name="Freeform 177"/>
                      <p:cNvSpPr/>
                      <p:nvPr/>
                    </p:nvSpPr>
                    <p:spPr>
                      <a:xfrm>
                        <a:off x="1614240" y="440424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01" name="Group 178"/>
                    <p:cNvGrpSpPr/>
                    <p:nvPr/>
                  </p:nvGrpSpPr>
                  <p:grpSpPr>
                    <a:xfrm>
                      <a:off x="1708920" y="4158720"/>
                      <a:ext cx="60480" cy="77040"/>
                      <a:chOff x="1708920" y="4158720"/>
                      <a:chExt cx="60480" cy="77040"/>
                    </a:xfrm>
                  </p:grpSpPr>
                  <p:sp>
                    <p:nvSpPr>
                      <p:cNvPr id="402" name="Freeform 179"/>
                      <p:cNvSpPr/>
                      <p:nvPr/>
                    </p:nvSpPr>
                    <p:spPr>
                      <a:xfrm>
                        <a:off x="1708920" y="41587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3" name="Freeform 180"/>
                      <p:cNvSpPr/>
                      <p:nvPr/>
                    </p:nvSpPr>
                    <p:spPr>
                      <a:xfrm>
                        <a:off x="1713960" y="416304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4" name="Freeform 181"/>
                      <p:cNvSpPr/>
                      <p:nvPr/>
                    </p:nvSpPr>
                    <p:spPr>
                      <a:xfrm>
                        <a:off x="1708920" y="417672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05" name="Group 182"/>
                    <p:cNvGrpSpPr/>
                    <p:nvPr/>
                  </p:nvGrpSpPr>
                  <p:grpSpPr>
                    <a:xfrm>
                      <a:off x="1419840" y="4337640"/>
                      <a:ext cx="60480" cy="77040"/>
                      <a:chOff x="1419840" y="4337640"/>
                      <a:chExt cx="60480" cy="77040"/>
                    </a:xfrm>
                  </p:grpSpPr>
                  <p:sp>
                    <p:nvSpPr>
                      <p:cNvPr id="406" name="Freeform 183"/>
                      <p:cNvSpPr/>
                      <p:nvPr/>
                    </p:nvSpPr>
                    <p:spPr>
                      <a:xfrm>
                        <a:off x="1419840" y="433764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7" name="Freeform 184"/>
                      <p:cNvSpPr/>
                      <p:nvPr/>
                    </p:nvSpPr>
                    <p:spPr>
                      <a:xfrm>
                        <a:off x="1424880" y="434196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8" name="Freeform 185"/>
                      <p:cNvSpPr/>
                      <p:nvPr/>
                    </p:nvSpPr>
                    <p:spPr>
                      <a:xfrm>
                        <a:off x="1419840" y="435600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09" name="Group 186"/>
                    <p:cNvGrpSpPr/>
                    <p:nvPr/>
                  </p:nvGrpSpPr>
                  <p:grpSpPr>
                    <a:xfrm>
                      <a:off x="1518480" y="4212360"/>
                      <a:ext cx="60480" cy="77040"/>
                      <a:chOff x="1518480" y="4212360"/>
                      <a:chExt cx="60480" cy="77040"/>
                    </a:xfrm>
                  </p:grpSpPr>
                  <p:sp>
                    <p:nvSpPr>
                      <p:cNvPr id="410" name="Freeform 187"/>
                      <p:cNvSpPr/>
                      <p:nvPr/>
                    </p:nvSpPr>
                    <p:spPr>
                      <a:xfrm>
                        <a:off x="1518480" y="42123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1" name="Freeform 188"/>
                      <p:cNvSpPr/>
                      <p:nvPr/>
                    </p:nvSpPr>
                    <p:spPr>
                      <a:xfrm>
                        <a:off x="1523520" y="421668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2" name="Freeform 189"/>
                      <p:cNvSpPr/>
                      <p:nvPr/>
                    </p:nvSpPr>
                    <p:spPr>
                      <a:xfrm>
                        <a:off x="1518480" y="42303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13" name="Group 190"/>
                    <p:cNvGrpSpPr/>
                    <p:nvPr/>
                  </p:nvGrpSpPr>
                  <p:grpSpPr>
                    <a:xfrm>
                      <a:off x="1614240" y="4185000"/>
                      <a:ext cx="60480" cy="76680"/>
                      <a:chOff x="1614240" y="4185000"/>
                      <a:chExt cx="60480" cy="76680"/>
                    </a:xfrm>
                  </p:grpSpPr>
                  <p:sp>
                    <p:nvSpPr>
                      <p:cNvPr id="414" name="Freeform 191"/>
                      <p:cNvSpPr/>
                      <p:nvPr/>
                    </p:nvSpPr>
                    <p:spPr>
                      <a:xfrm>
                        <a:off x="1614240" y="418500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5" name="Freeform 192"/>
                      <p:cNvSpPr/>
                      <p:nvPr/>
                    </p:nvSpPr>
                    <p:spPr>
                      <a:xfrm>
                        <a:off x="1619280" y="418896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6" name="Freeform 193"/>
                      <p:cNvSpPr/>
                      <p:nvPr/>
                    </p:nvSpPr>
                    <p:spPr>
                      <a:xfrm>
                        <a:off x="1614240" y="420300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17" name="Group 194"/>
                    <p:cNvGrpSpPr/>
                    <p:nvPr/>
                  </p:nvGrpSpPr>
                  <p:grpSpPr>
                    <a:xfrm>
                      <a:off x="1422000" y="4237560"/>
                      <a:ext cx="60480" cy="77040"/>
                      <a:chOff x="1422000" y="4237560"/>
                      <a:chExt cx="60480" cy="77040"/>
                    </a:xfrm>
                  </p:grpSpPr>
                  <p:sp>
                    <p:nvSpPr>
                      <p:cNvPr id="418" name="Freeform 195"/>
                      <p:cNvSpPr/>
                      <p:nvPr/>
                    </p:nvSpPr>
                    <p:spPr>
                      <a:xfrm>
                        <a:off x="1422000" y="42375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9" name="Freeform 196"/>
                      <p:cNvSpPr/>
                      <p:nvPr/>
                    </p:nvSpPr>
                    <p:spPr>
                      <a:xfrm>
                        <a:off x="1427040" y="424188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0" name="Freeform 197"/>
                      <p:cNvSpPr/>
                      <p:nvPr/>
                    </p:nvSpPr>
                    <p:spPr>
                      <a:xfrm>
                        <a:off x="1422000" y="42555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21" name="Group 198"/>
                    <p:cNvGrpSpPr/>
                    <p:nvPr/>
                  </p:nvGrpSpPr>
                  <p:grpSpPr>
                    <a:xfrm>
                      <a:off x="1805760" y="4333320"/>
                      <a:ext cx="60480" cy="77040"/>
                      <a:chOff x="1805760" y="4333320"/>
                      <a:chExt cx="60480" cy="77040"/>
                    </a:xfrm>
                  </p:grpSpPr>
                  <p:sp>
                    <p:nvSpPr>
                      <p:cNvPr id="422" name="Freeform 199"/>
                      <p:cNvSpPr/>
                      <p:nvPr/>
                    </p:nvSpPr>
                    <p:spPr>
                      <a:xfrm>
                        <a:off x="1805760" y="43333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3" name="Freeform 200"/>
                      <p:cNvSpPr/>
                      <p:nvPr/>
                    </p:nvSpPr>
                    <p:spPr>
                      <a:xfrm>
                        <a:off x="1811160" y="433764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4" name="Freeform 201"/>
                      <p:cNvSpPr/>
                      <p:nvPr/>
                    </p:nvSpPr>
                    <p:spPr>
                      <a:xfrm>
                        <a:off x="1806120" y="435132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25" name="Group 202"/>
                    <p:cNvGrpSpPr/>
                    <p:nvPr/>
                  </p:nvGrpSpPr>
                  <p:grpSpPr>
                    <a:xfrm>
                      <a:off x="1709280" y="4458600"/>
                      <a:ext cx="60480" cy="77040"/>
                      <a:chOff x="1709280" y="4458600"/>
                      <a:chExt cx="60480" cy="77040"/>
                    </a:xfrm>
                  </p:grpSpPr>
                  <p:sp>
                    <p:nvSpPr>
                      <p:cNvPr id="426" name="Freeform 203"/>
                      <p:cNvSpPr/>
                      <p:nvPr/>
                    </p:nvSpPr>
                    <p:spPr>
                      <a:xfrm>
                        <a:off x="1709280" y="445860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7" name="Freeform 204"/>
                      <p:cNvSpPr/>
                      <p:nvPr/>
                    </p:nvSpPr>
                    <p:spPr>
                      <a:xfrm>
                        <a:off x="1714680" y="446292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8" name="Freeform 205"/>
                      <p:cNvSpPr/>
                      <p:nvPr/>
                    </p:nvSpPr>
                    <p:spPr>
                      <a:xfrm>
                        <a:off x="1709280" y="44769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29" name="Group 206"/>
                    <p:cNvGrpSpPr/>
                    <p:nvPr/>
                  </p:nvGrpSpPr>
                  <p:grpSpPr>
                    <a:xfrm>
                      <a:off x="1805760" y="4434480"/>
                      <a:ext cx="60480" cy="76680"/>
                      <a:chOff x="1805760" y="4434480"/>
                      <a:chExt cx="60480" cy="76680"/>
                    </a:xfrm>
                  </p:grpSpPr>
                  <p:sp>
                    <p:nvSpPr>
                      <p:cNvPr id="430" name="Freeform 207"/>
                      <p:cNvSpPr/>
                      <p:nvPr/>
                    </p:nvSpPr>
                    <p:spPr>
                      <a:xfrm>
                        <a:off x="1805760" y="443448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31" name="Freeform 208"/>
                      <p:cNvSpPr/>
                      <p:nvPr/>
                    </p:nvSpPr>
                    <p:spPr>
                      <a:xfrm>
                        <a:off x="1811160" y="443844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32" name="Freeform 209"/>
                      <p:cNvSpPr/>
                      <p:nvPr/>
                    </p:nvSpPr>
                    <p:spPr>
                      <a:xfrm>
                        <a:off x="1806120" y="445248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33" name="Group 210"/>
                <p:cNvGrpSpPr/>
                <p:nvPr/>
              </p:nvGrpSpPr>
              <p:grpSpPr>
                <a:xfrm>
                  <a:off x="2163600" y="4538160"/>
                  <a:ext cx="114480" cy="90000"/>
                  <a:chOff x="2163600" y="4538160"/>
                  <a:chExt cx="114480" cy="90000"/>
                </a:xfrm>
              </p:grpSpPr>
              <p:sp>
                <p:nvSpPr>
                  <p:cNvPr id="434" name="Freeform 211"/>
                  <p:cNvSpPr/>
                  <p:nvPr/>
                </p:nvSpPr>
                <p:spPr>
                  <a:xfrm>
                    <a:off x="2163600" y="4538160"/>
                    <a:ext cx="114480" cy="3060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35" name="Freeform 212"/>
                  <p:cNvSpPr/>
                  <p:nvPr/>
                </p:nvSpPr>
                <p:spPr>
                  <a:xfrm>
                    <a:off x="2220840" y="4553640"/>
                    <a:ext cx="57240" cy="74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36" name="Freeform 213"/>
                  <p:cNvSpPr/>
                  <p:nvPr/>
                </p:nvSpPr>
                <p:spPr>
                  <a:xfrm>
                    <a:off x="2163600" y="4553640"/>
                    <a:ext cx="56880" cy="7452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37" name="Group 214"/>
                <p:cNvGrpSpPr/>
                <p:nvPr/>
              </p:nvGrpSpPr>
              <p:grpSpPr>
                <a:xfrm>
                  <a:off x="1956240" y="4327200"/>
                  <a:ext cx="141480" cy="281160"/>
                  <a:chOff x="1956240" y="4327200"/>
                  <a:chExt cx="141480" cy="281160"/>
                </a:xfrm>
              </p:grpSpPr>
              <p:sp>
                <p:nvSpPr>
                  <p:cNvPr id="438" name="Freeform 215"/>
                  <p:cNvSpPr/>
                  <p:nvPr/>
                </p:nvSpPr>
                <p:spPr>
                  <a:xfrm>
                    <a:off x="2021400" y="4463280"/>
                    <a:ext cx="53280" cy="145080"/>
                  </a:xfrm>
                  <a:custGeom>
                    <a:avLst/>
                    <a:gdLst>
                      <a:gd name="textAreaLeft" fmla="*/ 0 w 53280"/>
                      <a:gd name="textAreaRight" fmla="*/ 53640 w 53280"/>
                      <a:gd name="textAreaTop" fmla="*/ 0 h 145080"/>
                      <a:gd name="textAreaBottom" fmla="*/ 145440 h 14508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39" name="Freeform 216"/>
                  <p:cNvSpPr/>
                  <p:nvPr/>
                </p:nvSpPr>
                <p:spPr>
                  <a:xfrm>
                    <a:off x="1958040" y="4365720"/>
                    <a:ext cx="139680" cy="115200"/>
                  </a:xfrm>
                  <a:custGeom>
                    <a:avLst/>
                    <a:gdLst>
                      <a:gd name="textAreaLeft" fmla="*/ 0 w 139680"/>
                      <a:gd name="textAreaRight" fmla="*/ 140040 w 139680"/>
                      <a:gd name="textAreaTop" fmla="*/ 0 h 115200"/>
                      <a:gd name="textAreaBottom" fmla="*/ 115560 h 115200"/>
                    </a:gdLst>
                    <a:ahLst/>
                    <a:rect l="textAreaLeft" t="textAreaTop" r="textAreaRight" b="textAreaBottom"/>
                    <a:pathLst>
                      <a:path w="236" h="194">
                        <a:moveTo>
                          <a:pt x="235" y="114"/>
                        </a:moveTo>
                        <a:cubicBezTo>
                          <a:pt x="235" y="114"/>
                          <a:pt x="235" y="114"/>
                          <a:pt x="235" y="114"/>
                        </a:cubicBezTo>
                        <a:cubicBezTo>
                          <a:pt x="230" y="85"/>
                          <a:pt x="226" y="57"/>
                          <a:pt x="225" y="49"/>
                        </a:cubicBezTo>
                        <a:cubicBezTo>
                          <a:pt x="222" y="32"/>
                          <a:pt x="207" y="27"/>
                          <a:pt x="199" y="24"/>
                        </a:cubicBezTo>
                        <a:cubicBezTo>
                          <a:pt x="191" y="21"/>
                          <a:pt x="169" y="16"/>
                          <a:pt x="156" y="13"/>
                        </a:cubicBezTo>
                        <a:cubicBezTo>
                          <a:pt x="144" y="9"/>
                          <a:pt x="125" y="3"/>
                          <a:pt x="116" y="2"/>
                        </a:cubicBezTo>
                        <a:cubicBezTo>
                          <a:pt x="107" y="0"/>
                          <a:pt x="89" y="4"/>
                          <a:pt x="86" y="12"/>
                        </a:cubicBezTo>
                        <a:cubicBezTo>
                          <a:pt x="85" y="14"/>
                          <a:pt x="79" y="50"/>
                          <a:pt x="73" y="86"/>
                        </a:cubicBezTo>
                        <a:cubicBezTo>
                          <a:pt x="73" y="86"/>
                          <a:pt x="73" y="86"/>
                          <a:pt x="73" y="86"/>
                        </a:cubicBezTo>
                        <a:cubicBezTo>
                          <a:pt x="72" y="91"/>
                          <a:pt x="72" y="91"/>
                          <a:pt x="72" y="91"/>
                        </a:cubicBezTo>
                        <a:cubicBezTo>
                          <a:pt x="49" y="96"/>
                          <a:pt x="28" y="103"/>
                          <a:pt x="21" y="104"/>
                        </a:cubicBezTo>
                        <a:cubicBezTo>
                          <a:pt x="0" y="109"/>
                          <a:pt x="9" y="137"/>
                          <a:pt x="26" y="135"/>
                        </a:cubicBezTo>
                        <a:cubicBezTo>
                          <a:pt x="31" y="135"/>
                          <a:pt x="55" y="129"/>
                          <a:pt x="80" y="122"/>
                        </a:cubicBezTo>
                        <a:cubicBezTo>
                          <a:pt x="80" y="122"/>
                          <a:pt x="80" y="122"/>
                          <a:pt x="80" y="122"/>
                        </a:cubicBezTo>
                        <a:cubicBezTo>
                          <a:pt x="86" y="120"/>
                          <a:pt x="86" y="120"/>
                          <a:pt x="86" y="120"/>
                        </a:cubicBezTo>
                        <a:cubicBezTo>
                          <a:pt x="92" y="118"/>
                          <a:pt x="96" y="116"/>
                          <a:pt x="99" y="112"/>
                        </a:cubicBezTo>
                        <a:cubicBezTo>
                          <a:pt x="102" y="108"/>
                          <a:pt x="104" y="102"/>
                          <a:pt x="104" y="92"/>
                        </a:cubicBezTo>
                        <a:cubicBezTo>
                          <a:pt x="104" y="92"/>
                          <a:pt x="104" y="92"/>
                          <a:pt x="104" y="92"/>
                        </a:cubicBezTo>
                        <a:cubicBezTo>
                          <a:pt x="107" y="65"/>
                          <a:pt x="110" y="43"/>
                          <a:pt x="110" y="47"/>
                        </a:cubicBezTo>
                        <a:cubicBezTo>
                          <a:pt x="110" y="53"/>
                          <a:pt x="109" y="125"/>
                          <a:pt x="109" y="167"/>
                        </a:cubicBezTo>
                        <a:cubicBezTo>
                          <a:pt x="110" y="172"/>
                          <a:pt x="112" y="177"/>
                          <a:pt x="118" y="178"/>
                        </a:cubicBezTo>
                        <a:cubicBezTo>
                          <a:pt x="130" y="180"/>
                          <a:pt x="162" y="190"/>
                          <a:pt x="169" y="192"/>
                        </a:cubicBezTo>
                        <a:cubicBezTo>
                          <a:pt x="177" y="194"/>
                          <a:pt x="193" y="184"/>
                          <a:pt x="196" y="173"/>
                        </a:cubicBezTo>
                        <a:cubicBezTo>
                          <a:pt x="196" y="171"/>
                          <a:pt x="196" y="162"/>
                          <a:pt x="196" y="160"/>
                        </a:cubicBezTo>
                        <a:cubicBezTo>
                          <a:pt x="202" y="158"/>
                          <a:pt x="208" y="157"/>
                          <a:pt x="216" y="155"/>
                        </a:cubicBezTo>
                        <a:cubicBezTo>
                          <a:pt x="217" y="155"/>
                          <a:pt x="218" y="154"/>
                          <a:pt x="219" y="154"/>
                        </a:cubicBezTo>
                        <a:cubicBezTo>
                          <a:pt x="225" y="152"/>
                          <a:pt x="229" y="150"/>
                          <a:pt x="232" y="146"/>
                        </a:cubicBezTo>
                        <a:cubicBezTo>
                          <a:pt x="235" y="142"/>
                          <a:pt x="236" y="135"/>
                          <a:pt x="236" y="124"/>
                        </a:cubicBezTo>
                        <a:lnTo>
                          <a:pt x="235" y="114"/>
                        </a:lnTo>
                        <a:close/>
                        <a:moveTo>
                          <a:pt x="192" y="75"/>
                        </a:moveTo>
                        <a:cubicBezTo>
                          <a:pt x="193" y="79"/>
                          <a:pt x="194" y="83"/>
                          <a:pt x="194" y="88"/>
                        </a:cubicBezTo>
                        <a:cubicBezTo>
                          <a:pt x="195" y="97"/>
                          <a:pt x="197" y="108"/>
                          <a:pt x="200" y="123"/>
                        </a:cubicBezTo>
                        <a:cubicBezTo>
                          <a:pt x="198" y="123"/>
                          <a:pt x="197" y="124"/>
                          <a:pt x="196" y="124"/>
                        </a:cubicBezTo>
                        <a:cubicBezTo>
                          <a:pt x="196" y="111"/>
                          <a:pt x="195" y="99"/>
                          <a:pt x="194" y="88"/>
                        </a:cubicBezTo>
                        <a:cubicBezTo>
                          <a:pt x="193" y="82"/>
                          <a:pt x="193" y="78"/>
                          <a:pt x="192" y="75"/>
                        </a:cubicBezTo>
                        <a:cubicBezTo>
                          <a:pt x="192" y="73"/>
                          <a:pt x="192" y="72"/>
                          <a:pt x="192" y="71"/>
                        </a:cubicBezTo>
                        <a:cubicBezTo>
                          <a:pt x="192" y="72"/>
                          <a:pt x="192" y="73"/>
                          <a:pt x="192" y="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grpSp>
                <p:nvGrpSpPr>
                  <p:cNvPr id="440" name="Group 217"/>
                  <p:cNvGrpSpPr/>
                  <p:nvPr/>
                </p:nvGrpSpPr>
                <p:grpSpPr>
                  <a:xfrm>
                    <a:off x="1956240" y="4392000"/>
                    <a:ext cx="114480" cy="90360"/>
                    <a:chOff x="1956240" y="4392000"/>
                    <a:chExt cx="114480" cy="90360"/>
                  </a:xfrm>
                </p:grpSpPr>
                <p:sp>
                  <p:nvSpPr>
                    <p:cNvPr id="441" name="Freeform 218"/>
                    <p:cNvSpPr/>
                    <p:nvPr/>
                  </p:nvSpPr>
                  <p:spPr>
                    <a:xfrm>
                      <a:off x="1956240" y="4392000"/>
                      <a:ext cx="114480" cy="30600"/>
                    </a:xfrm>
                    <a:custGeom>
                      <a:avLst/>
                      <a:gdLst>
                        <a:gd name="textAreaLeft" fmla="*/ 0 w 114480"/>
                        <a:gd name="textAreaRight" fmla="*/ 114840 w 114480"/>
                        <a:gd name="textAreaTop" fmla="*/ 0 h 30600"/>
                        <a:gd name="textAreaBottom" fmla="*/ 30960 h 30600"/>
                      </a:gdLst>
                      <a:ahLst/>
                      <a:rect l="textAreaLeft" t="textAreaTop" r="textAreaRight" b="textAreaBottom"/>
                      <a:pathLst>
                        <a:path w="904" h="244">
                          <a:moveTo>
                            <a:pt x="0" y="123"/>
                          </a:moveTo>
                          <a:lnTo>
                            <a:pt x="451" y="0"/>
                          </a:lnTo>
                          <a:lnTo>
                            <a:pt x="904" y="123"/>
                          </a:lnTo>
                          <a:lnTo>
                            <a:pt x="451" y="244"/>
                          </a:lnTo>
                          <a:lnTo>
                            <a:pt x="0" y="12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442" name="Freeform 219"/>
                    <p:cNvSpPr/>
                    <p:nvPr/>
                  </p:nvSpPr>
                  <p:spPr>
                    <a:xfrm>
                      <a:off x="2013480" y="4407840"/>
                      <a:ext cx="57240" cy="74520"/>
                    </a:xfrm>
                    <a:custGeom>
                      <a:avLst/>
                      <a:gdLst>
                        <a:gd name="textAreaLeft" fmla="*/ 0 w 57240"/>
                        <a:gd name="textAreaRight" fmla="*/ 57600 w 57240"/>
                        <a:gd name="textAreaTop" fmla="*/ 0 h 74520"/>
                        <a:gd name="textAreaBottom" fmla="*/ 74880 h 74520"/>
                      </a:gdLst>
                      <a:ahLst/>
                      <a:rect l="textAreaLeft" t="textAreaTop" r="textAreaRight" b="textAreaBottom"/>
                      <a:pathLst>
                        <a:path w="453" h="589">
                          <a:moveTo>
                            <a:pt x="0" y="589"/>
                          </a:moveTo>
                          <a:lnTo>
                            <a:pt x="0" y="121"/>
                          </a:lnTo>
                          <a:lnTo>
                            <a:pt x="453" y="0"/>
                          </a:lnTo>
                          <a:lnTo>
                            <a:pt x="453" y="468"/>
                          </a:lnTo>
                          <a:lnTo>
                            <a:pt x="0" y="589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443" name="Freeform 220"/>
                    <p:cNvSpPr/>
                    <p:nvPr/>
                  </p:nvSpPr>
                  <p:spPr>
                    <a:xfrm>
                      <a:off x="1956240" y="4407840"/>
                      <a:ext cx="56880" cy="74520"/>
                    </a:xfrm>
                    <a:custGeom>
                      <a:avLst/>
                      <a:gdLst>
                        <a:gd name="textAreaLeft" fmla="*/ 0 w 56880"/>
                        <a:gd name="textAreaRight" fmla="*/ 57240 w 56880"/>
                        <a:gd name="textAreaTop" fmla="*/ 0 h 74520"/>
                        <a:gd name="textAreaBottom" fmla="*/ 74880 h 74520"/>
                      </a:gdLst>
                      <a:ahLst/>
                      <a:rect l="textAreaLeft" t="textAreaTop" r="textAreaRight" b="textAreaBottom"/>
                      <a:pathLst>
                        <a:path w="451" h="589">
                          <a:moveTo>
                            <a:pt x="0" y="0"/>
                          </a:moveTo>
                          <a:lnTo>
                            <a:pt x="0" y="468"/>
                          </a:lnTo>
                          <a:lnTo>
                            <a:pt x="451" y="589"/>
                          </a:lnTo>
                          <a:lnTo>
                            <a:pt x="451" y="1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sp>
                <p:nvSpPr>
                  <p:cNvPr id="444" name="Freeform 221"/>
                  <p:cNvSpPr/>
                  <p:nvPr/>
                </p:nvSpPr>
                <p:spPr>
                  <a:xfrm>
                    <a:off x="2028240" y="4358520"/>
                    <a:ext cx="38520" cy="241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66" h="41">
                        <a:moveTo>
                          <a:pt x="29" y="39"/>
                        </a:moveTo>
                        <a:cubicBezTo>
                          <a:pt x="14" y="37"/>
                          <a:pt x="0" y="25"/>
                          <a:pt x="10" y="23"/>
                        </a:cubicBezTo>
                        <a:cubicBezTo>
                          <a:pt x="16" y="21"/>
                          <a:pt x="13" y="16"/>
                          <a:pt x="15" y="13"/>
                        </a:cubicBezTo>
                        <a:cubicBezTo>
                          <a:pt x="18" y="10"/>
                          <a:pt x="53" y="0"/>
                          <a:pt x="53" y="16"/>
                        </a:cubicBezTo>
                        <a:cubicBezTo>
                          <a:pt x="53" y="21"/>
                          <a:pt x="47" y="25"/>
                          <a:pt x="57" y="29"/>
                        </a:cubicBezTo>
                        <a:cubicBezTo>
                          <a:pt x="66" y="33"/>
                          <a:pt x="46" y="41"/>
                          <a:pt x="29" y="39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45" name="Freeform 222"/>
                  <p:cNvSpPr/>
                  <p:nvPr/>
                </p:nvSpPr>
                <p:spPr>
                  <a:xfrm>
                    <a:off x="2032200" y="4438800"/>
                    <a:ext cx="53640" cy="3168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91" h="54">
                        <a:moveTo>
                          <a:pt x="75" y="0"/>
                        </a:moveTo>
                        <a:cubicBezTo>
                          <a:pt x="61" y="4"/>
                          <a:pt x="45" y="9"/>
                          <a:pt x="27" y="14"/>
                        </a:cubicBezTo>
                        <a:cubicBezTo>
                          <a:pt x="0" y="22"/>
                          <a:pt x="17" y="54"/>
                          <a:pt x="40" y="46"/>
                        </a:cubicBezTo>
                        <a:cubicBezTo>
                          <a:pt x="44" y="44"/>
                          <a:pt x="65" y="38"/>
                          <a:pt x="91" y="32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46" name="Oval 223"/>
                  <p:cNvSpPr/>
                  <p:nvPr/>
                </p:nvSpPr>
                <p:spPr>
                  <a:xfrm flipH="1">
                    <a:off x="2022840" y="4327200"/>
                    <a:ext cx="4644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47" name="Group 224"/>
                <p:cNvGrpSpPr/>
                <p:nvPr/>
              </p:nvGrpSpPr>
              <p:grpSpPr>
                <a:xfrm>
                  <a:off x="2261880" y="4565160"/>
                  <a:ext cx="114480" cy="90360"/>
                  <a:chOff x="2261880" y="4565160"/>
                  <a:chExt cx="114480" cy="90360"/>
                </a:xfrm>
              </p:grpSpPr>
              <p:sp>
                <p:nvSpPr>
                  <p:cNvPr id="448" name="Freeform 225"/>
                  <p:cNvSpPr/>
                  <p:nvPr/>
                </p:nvSpPr>
                <p:spPr>
                  <a:xfrm>
                    <a:off x="2261880" y="4565160"/>
                    <a:ext cx="114480" cy="3060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49" name="Freeform 226"/>
                  <p:cNvSpPr/>
                  <p:nvPr/>
                </p:nvSpPr>
                <p:spPr>
                  <a:xfrm>
                    <a:off x="2319120" y="4581000"/>
                    <a:ext cx="57240" cy="74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50" name="Freeform 227"/>
                  <p:cNvSpPr/>
                  <p:nvPr/>
                </p:nvSpPr>
                <p:spPr>
                  <a:xfrm>
                    <a:off x="2261880" y="4581000"/>
                    <a:ext cx="56880" cy="7452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51" name="Group 228"/>
                <p:cNvGrpSpPr/>
                <p:nvPr/>
              </p:nvGrpSpPr>
              <p:grpSpPr>
                <a:xfrm>
                  <a:off x="2220840" y="4493160"/>
                  <a:ext cx="114480" cy="90360"/>
                  <a:chOff x="2220840" y="4493160"/>
                  <a:chExt cx="114480" cy="90360"/>
                </a:xfrm>
              </p:grpSpPr>
              <p:sp>
                <p:nvSpPr>
                  <p:cNvPr id="452" name="Freeform 229"/>
                  <p:cNvSpPr/>
                  <p:nvPr/>
                </p:nvSpPr>
                <p:spPr>
                  <a:xfrm>
                    <a:off x="2220840" y="4493160"/>
                    <a:ext cx="114480" cy="3060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53" name="Freeform 230"/>
                  <p:cNvSpPr/>
                  <p:nvPr/>
                </p:nvSpPr>
                <p:spPr>
                  <a:xfrm>
                    <a:off x="2278080" y="4509000"/>
                    <a:ext cx="57240" cy="74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54" name="Freeform 231"/>
                  <p:cNvSpPr/>
                  <p:nvPr/>
                </p:nvSpPr>
                <p:spPr>
                  <a:xfrm>
                    <a:off x="2220840" y="4509000"/>
                    <a:ext cx="56880" cy="7452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455" name="Group 232"/>
            <p:cNvGrpSpPr/>
            <p:nvPr/>
          </p:nvGrpSpPr>
          <p:grpSpPr>
            <a:xfrm>
              <a:off x="2370960" y="4781880"/>
              <a:ext cx="464040" cy="137880"/>
              <a:chOff x="2370960" y="4781880"/>
              <a:chExt cx="464040" cy="137880"/>
            </a:xfrm>
          </p:grpSpPr>
          <p:sp>
            <p:nvSpPr>
              <p:cNvPr id="456" name="Freeform 233"/>
              <p:cNvSpPr/>
              <p:nvPr/>
            </p:nvSpPr>
            <p:spPr>
              <a:xfrm flipH="1">
                <a:off x="2806200" y="4817160"/>
                <a:ext cx="28800" cy="928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96" h="630">
                    <a:moveTo>
                      <a:pt x="0" y="0"/>
                    </a:moveTo>
                    <a:lnTo>
                      <a:pt x="0" y="97"/>
                    </a:lnTo>
                    <a:lnTo>
                      <a:pt x="196" y="630"/>
                    </a:lnTo>
                    <a:lnTo>
                      <a:pt x="196" y="5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7" name="Freeform 234"/>
              <p:cNvSpPr/>
              <p:nvPr/>
            </p:nvSpPr>
            <p:spPr>
              <a:xfrm flipH="1">
                <a:off x="2503080" y="4896000"/>
                <a:ext cx="302040" cy="23760"/>
              </a:xfrm>
              <a:custGeom>
                <a:avLst/>
                <a:gdLst>
                  <a:gd name="textAreaLeft" fmla="*/ -360 w 302040"/>
                  <a:gd name="textAreaRight" fmla="*/ 302040 w 302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043" h="163">
                    <a:moveTo>
                      <a:pt x="2043" y="163"/>
                    </a:moveTo>
                    <a:lnTo>
                      <a:pt x="2043" y="68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2043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8" name="Freeform 235"/>
              <p:cNvSpPr/>
              <p:nvPr/>
            </p:nvSpPr>
            <p:spPr>
              <a:xfrm flipH="1">
                <a:off x="2371320" y="4834800"/>
                <a:ext cx="198720" cy="66960"/>
              </a:xfrm>
              <a:custGeom>
                <a:avLst/>
                <a:gdLst>
                  <a:gd name="textAreaLeft" fmla="*/ 360 w 198720"/>
                  <a:gd name="textAreaRight" fmla="*/ 199440 w 1987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344" h="456">
                    <a:moveTo>
                      <a:pt x="1344" y="0"/>
                    </a:moveTo>
                    <a:lnTo>
                      <a:pt x="1344" y="95"/>
                    </a:lnTo>
                    <a:lnTo>
                      <a:pt x="0" y="456"/>
                    </a:lnTo>
                    <a:lnTo>
                      <a:pt x="0" y="362"/>
                    </a:lnTo>
                    <a:lnTo>
                      <a:pt x="1344" y="0"/>
                    </a:lnTo>
                    <a:close/>
                  </a:path>
                </a:pathLst>
              </a:custGeom>
              <a:solidFill>
                <a:srgbClr val="808080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9" name="Freeform 236"/>
              <p:cNvSpPr/>
              <p:nvPr/>
            </p:nvSpPr>
            <p:spPr>
              <a:xfrm flipH="1">
                <a:off x="2370600" y="4781880"/>
                <a:ext cx="463320" cy="123840"/>
              </a:xfrm>
              <a:custGeom>
                <a:avLst/>
                <a:gdLst>
                  <a:gd name="textAreaLeft" fmla="*/ -360 w 463320"/>
                  <a:gd name="textAreaRight" fmla="*/ 463320 w 4633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134" h="841">
                    <a:moveTo>
                      <a:pt x="196" y="773"/>
                    </a:moveTo>
                    <a:lnTo>
                      <a:pt x="0" y="239"/>
                    </a:lnTo>
                    <a:lnTo>
                      <a:pt x="446" y="359"/>
                    </a:lnTo>
                    <a:lnTo>
                      <a:pt x="1790" y="0"/>
                    </a:lnTo>
                    <a:lnTo>
                      <a:pt x="3134" y="359"/>
                    </a:lnTo>
                    <a:lnTo>
                      <a:pt x="1790" y="721"/>
                    </a:lnTo>
                    <a:lnTo>
                      <a:pt x="2239" y="841"/>
                    </a:lnTo>
                    <a:lnTo>
                      <a:pt x="196" y="773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60" name="Group 712"/>
            <p:cNvGrpSpPr/>
            <p:nvPr/>
          </p:nvGrpSpPr>
          <p:grpSpPr>
            <a:xfrm>
              <a:off x="1101960" y="5160240"/>
              <a:ext cx="1746360" cy="467640"/>
              <a:chOff x="1101960" y="5160240"/>
              <a:chExt cx="1746360" cy="467640"/>
            </a:xfrm>
          </p:grpSpPr>
          <p:sp>
            <p:nvSpPr>
              <p:cNvPr id="461" name="Freeform 238"/>
              <p:cNvSpPr/>
              <p:nvPr/>
            </p:nvSpPr>
            <p:spPr>
              <a:xfrm>
                <a:off x="1101960" y="5160240"/>
                <a:ext cx="1746360" cy="467640"/>
              </a:xfrm>
              <a:custGeom>
                <a:avLst/>
                <a:gdLst>
                  <a:gd name="textAreaLeft" fmla="*/ 0 w 1746360"/>
                  <a:gd name="textAreaRight" fmla="*/ 1746720 w 174636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462" name="Group 239"/>
              <p:cNvGrpSpPr/>
              <p:nvPr/>
            </p:nvGrpSpPr>
            <p:grpSpPr>
              <a:xfrm>
                <a:off x="1614240" y="5207760"/>
                <a:ext cx="580320" cy="291240"/>
                <a:chOff x="1614240" y="5207760"/>
                <a:chExt cx="580320" cy="291240"/>
              </a:xfrm>
            </p:grpSpPr>
            <p:grpSp>
              <p:nvGrpSpPr>
                <p:cNvPr id="463" name="Group 240"/>
                <p:cNvGrpSpPr/>
                <p:nvPr/>
              </p:nvGrpSpPr>
              <p:grpSpPr>
                <a:xfrm>
                  <a:off x="1784520" y="5207760"/>
                  <a:ext cx="139320" cy="238680"/>
                  <a:chOff x="1784520" y="5207760"/>
                  <a:chExt cx="139320" cy="238680"/>
                </a:xfrm>
              </p:grpSpPr>
              <p:sp>
                <p:nvSpPr>
                  <p:cNvPr id="464" name="Freeform 241"/>
                  <p:cNvSpPr/>
                  <p:nvPr/>
                </p:nvSpPr>
                <p:spPr>
                  <a:xfrm>
                    <a:off x="1784520" y="5246640"/>
                    <a:ext cx="139320" cy="10980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37" h="186">
                        <a:moveTo>
                          <a:pt x="235" y="113"/>
                        </a:moveTo>
                        <a:cubicBezTo>
                          <a:pt x="235" y="113"/>
                          <a:pt x="235" y="113"/>
                          <a:pt x="235" y="113"/>
                        </a:cubicBezTo>
                        <a:cubicBezTo>
                          <a:pt x="230" y="84"/>
                          <a:pt x="226" y="57"/>
                          <a:pt x="225" y="49"/>
                        </a:cubicBezTo>
                        <a:cubicBezTo>
                          <a:pt x="223" y="32"/>
                          <a:pt x="207" y="26"/>
                          <a:pt x="199" y="24"/>
                        </a:cubicBezTo>
                        <a:cubicBezTo>
                          <a:pt x="192" y="21"/>
                          <a:pt x="169" y="16"/>
                          <a:pt x="156" y="12"/>
                        </a:cubicBezTo>
                        <a:cubicBezTo>
                          <a:pt x="145" y="9"/>
                          <a:pt x="125" y="3"/>
                          <a:pt x="116" y="2"/>
                        </a:cubicBezTo>
                        <a:cubicBezTo>
                          <a:pt x="107" y="0"/>
                          <a:pt x="90" y="4"/>
                          <a:pt x="87" y="12"/>
                        </a:cubicBezTo>
                        <a:cubicBezTo>
                          <a:pt x="86" y="14"/>
                          <a:pt x="79" y="50"/>
                          <a:pt x="73" y="85"/>
                        </a:cubicBezTo>
                        <a:cubicBezTo>
                          <a:pt x="73" y="85"/>
                          <a:pt x="73" y="85"/>
                          <a:pt x="73" y="85"/>
                        </a:cubicBezTo>
                        <a:cubicBezTo>
                          <a:pt x="72" y="90"/>
                          <a:pt x="72" y="90"/>
                          <a:pt x="72" y="90"/>
                        </a:cubicBezTo>
                        <a:cubicBezTo>
                          <a:pt x="49" y="96"/>
                          <a:pt x="29" y="102"/>
                          <a:pt x="21" y="104"/>
                        </a:cubicBezTo>
                        <a:cubicBezTo>
                          <a:pt x="0" y="108"/>
                          <a:pt x="9" y="137"/>
                          <a:pt x="26" y="135"/>
                        </a:cubicBezTo>
                        <a:cubicBezTo>
                          <a:pt x="31" y="135"/>
                          <a:pt x="55" y="129"/>
                          <a:pt x="80" y="122"/>
                        </a:cubicBezTo>
                        <a:cubicBezTo>
                          <a:pt x="80" y="122"/>
                          <a:pt x="80" y="122"/>
                          <a:pt x="80" y="122"/>
                        </a:cubicBezTo>
                        <a:cubicBezTo>
                          <a:pt x="86" y="120"/>
                          <a:pt x="86" y="120"/>
                          <a:pt x="86" y="120"/>
                        </a:cubicBezTo>
                        <a:cubicBezTo>
                          <a:pt x="92" y="118"/>
                          <a:pt x="96" y="116"/>
                          <a:pt x="99" y="112"/>
                        </a:cubicBezTo>
                        <a:cubicBezTo>
                          <a:pt x="102" y="108"/>
                          <a:pt x="104" y="102"/>
                          <a:pt x="104" y="92"/>
                        </a:cubicBezTo>
                        <a:cubicBezTo>
                          <a:pt x="104" y="92"/>
                          <a:pt x="104" y="92"/>
                          <a:pt x="104" y="92"/>
                        </a:cubicBezTo>
                        <a:cubicBezTo>
                          <a:pt x="108" y="65"/>
                          <a:pt x="111" y="43"/>
                          <a:pt x="110" y="47"/>
                        </a:cubicBezTo>
                        <a:cubicBezTo>
                          <a:pt x="110" y="53"/>
                          <a:pt x="109" y="117"/>
                          <a:pt x="109" y="160"/>
                        </a:cubicBezTo>
                        <a:cubicBezTo>
                          <a:pt x="110" y="165"/>
                          <a:pt x="112" y="170"/>
                          <a:pt x="119" y="170"/>
                        </a:cubicBezTo>
                        <a:cubicBezTo>
                          <a:pt x="131" y="173"/>
                          <a:pt x="162" y="183"/>
                          <a:pt x="169" y="184"/>
                        </a:cubicBezTo>
                        <a:cubicBezTo>
                          <a:pt x="178" y="186"/>
                          <a:pt x="193" y="176"/>
                          <a:pt x="196" y="165"/>
                        </a:cubicBezTo>
                        <a:cubicBezTo>
                          <a:pt x="196" y="163"/>
                          <a:pt x="196" y="162"/>
                          <a:pt x="196" y="160"/>
                        </a:cubicBezTo>
                        <a:cubicBezTo>
                          <a:pt x="202" y="158"/>
                          <a:pt x="209" y="157"/>
                          <a:pt x="216" y="155"/>
                        </a:cubicBezTo>
                        <a:cubicBezTo>
                          <a:pt x="217" y="154"/>
                          <a:pt x="218" y="154"/>
                          <a:pt x="219" y="154"/>
                        </a:cubicBezTo>
                        <a:cubicBezTo>
                          <a:pt x="225" y="152"/>
                          <a:pt x="229" y="150"/>
                          <a:pt x="232" y="146"/>
                        </a:cubicBezTo>
                        <a:cubicBezTo>
                          <a:pt x="235" y="141"/>
                          <a:pt x="237" y="135"/>
                          <a:pt x="237" y="124"/>
                        </a:cubicBezTo>
                        <a:lnTo>
                          <a:pt x="235" y="113"/>
                        </a:lnTo>
                        <a:close/>
                        <a:moveTo>
                          <a:pt x="193" y="75"/>
                        </a:moveTo>
                        <a:cubicBezTo>
                          <a:pt x="194" y="79"/>
                          <a:pt x="194" y="83"/>
                          <a:pt x="194" y="87"/>
                        </a:cubicBezTo>
                        <a:cubicBezTo>
                          <a:pt x="196" y="96"/>
                          <a:pt x="198" y="108"/>
                          <a:pt x="200" y="123"/>
                        </a:cubicBezTo>
                        <a:cubicBezTo>
                          <a:pt x="199" y="123"/>
                          <a:pt x="197" y="123"/>
                          <a:pt x="196" y="124"/>
                        </a:cubicBezTo>
                        <a:cubicBezTo>
                          <a:pt x="196" y="111"/>
                          <a:pt x="195" y="99"/>
                          <a:pt x="194" y="87"/>
                        </a:cubicBezTo>
                        <a:cubicBezTo>
                          <a:pt x="194" y="82"/>
                          <a:pt x="193" y="78"/>
                          <a:pt x="193" y="75"/>
                        </a:cubicBezTo>
                        <a:cubicBezTo>
                          <a:pt x="192" y="73"/>
                          <a:pt x="192" y="72"/>
                          <a:pt x="192" y="70"/>
                        </a:cubicBezTo>
                        <a:cubicBezTo>
                          <a:pt x="192" y="72"/>
                          <a:pt x="193" y="73"/>
                          <a:pt x="193" y="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65" name="Freeform 242"/>
                  <p:cNvSpPr/>
                  <p:nvPr/>
                </p:nvSpPr>
                <p:spPr>
                  <a:xfrm>
                    <a:off x="1854000" y="5239440"/>
                    <a:ext cx="38520" cy="2376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66" h="41">
                        <a:moveTo>
                          <a:pt x="30" y="39"/>
                        </a:moveTo>
                        <a:cubicBezTo>
                          <a:pt x="14" y="37"/>
                          <a:pt x="0" y="25"/>
                          <a:pt x="10" y="23"/>
                        </a:cubicBezTo>
                        <a:cubicBezTo>
                          <a:pt x="17" y="21"/>
                          <a:pt x="13" y="15"/>
                          <a:pt x="16" y="13"/>
                        </a:cubicBezTo>
                        <a:cubicBezTo>
                          <a:pt x="19" y="10"/>
                          <a:pt x="54" y="0"/>
                          <a:pt x="54" y="16"/>
                        </a:cubicBezTo>
                        <a:cubicBezTo>
                          <a:pt x="54" y="21"/>
                          <a:pt x="48" y="25"/>
                          <a:pt x="57" y="29"/>
                        </a:cubicBezTo>
                        <a:cubicBezTo>
                          <a:pt x="66" y="33"/>
                          <a:pt x="46" y="41"/>
                          <a:pt x="30" y="39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66" name="Freeform 243"/>
                  <p:cNvSpPr/>
                  <p:nvPr/>
                </p:nvSpPr>
                <p:spPr>
                  <a:xfrm>
                    <a:off x="1806480" y="5340240"/>
                    <a:ext cx="93240" cy="1062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59" h="180">
                        <a:moveTo>
                          <a:pt x="159" y="6"/>
                        </a:moveTo>
                        <a:cubicBezTo>
                          <a:pt x="156" y="17"/>
                          <a:pt x="140" y="23"/>
                          <a:pt x="132" y="21"/>
                        </a:cubicBezTo>
                        <a:cubicBezTo>
                          <a:pt x="124" y="20"/>
                          <a:pt x="94" y="14"/>
                          <a:pt x="81" y="11"/>
                        </a:cubicBezTo>
                        <a:cubicBezTo>
                          <a:pt x="75" y="10"/>
                          <a:pt x="73" y="5"/>
                          <a:pt x="72" y="0"/>
                        </a:cubicBezTo>
                        <a:cubicBezTo>
                          <a:pt x="72" y="19"/>
                          <a:pt x="72" y="18"/>
                          <a:pt x="68" y="19"/>
                        </a:cubicBezTo>
                        <a:cubicBezTo>
                          <a:pt x="68" y="19"/>
                          <a:pt x="28" y="28"/>
                          <a:pt x="17" y="32"/>
                        </a:cubicBezTo>
                        <a:cubicBezTo>
                          <a:pt x="7" y="36"/>
                          <a:pt x="2" y="42"/>
                          <a:pt x="1" y="55"/>
                        </a:cubicBezTo>
                        <a:cubicBezTo>
                          <a:pt x="1" y="55"/>
                          <a:pt x="0" y="135"/>
                          <a:pt x="1" y="145"/>
                        </a:cubicBezTo>
                        <a:cubicBezTo>
                          <a:pt x="2" y="163"/>
                          <a:pt x="25" y="165"/>
                          <a:pt x="36" y="156"/>
                        </a:cubicBezTo>
                        <a:cubicBezTo>
                          <a:pt x="39" y="153"/>
                          <a:pt x="43" y="149"/>
                          <a:pt x="43" y="145"/>
                        </a:cubicBezTo>
                        <a:cubicBezTo>
                          <a:pt x="42" y="130"/>
                          <a:pt x="42" y="102"/>
                          <a:pt x="42" y="73"/>
                        </a:cubicBezTo>
                        <a:cubicBezTo>
                          <a:pt x="42" y="73"/>
                          <a:pt x="42" y="73"/>
                          <a:pt x="42" y="73"/>
                        </a:cubicBezTo>
                        <a:cubicBezTo>
                          <a:pt x="42" y="73"/>
                          <a:pt x="42" y="72"/>
                          <a:pt x="42" y="72"/>
                        </a:cubicBezTo>
                        <a:cubicBezTo>
                          <a:pt x="42" y="70"/>
                          <a:pt x="42" y="68"/>
                          <a:pt x="42" y="66"/>
                        </a:cubicBezTo>
                        <a:cubicBezTo>
                          <a:pt x="42" y="65"/>
                          <a:pt x="42" y="65"/>
                          <a:pt x="42" y="64"/>
                        </a:cubicBezTo>
                        <a:cubicBezTo>
                          <a:pt x="42" y="64"/>
                          <a:pt x="42" y="63"/>
                          <a:pt x="42" y="63"/>
                        </a:cubicBezTo>
                        <a:cubicBezTo>
                          <a:pt x="43" y="50"/>
                          <a:pt x="48" y="44"/>
                          <a:pt x="59" y="41"/>
                        </a:cubicBezTo>
                        <a:cubicBezTo>
                          <a:pt x="68" y="37"/>
                          <a:pt x="101" y="30"/>
                          <a:pt x="103" y="30"/>
                        </a:cubicBezTo>
                        <a:cubicBezTo>
                          <a:pt x="107" y="28"/>
                          <a:pt x="107" y="28"/>
                          <a:pt x="103" y="30"/>
                        </a:cubicBezTo>
                        <a:cubicBezTo>
                          <a:pt x="101" y="30"/>
                          <a:pt x="68" y="37"/>
                          <a:pt x="59" y="41"/>
                        </a:cubicBezTo>
                        <a:cubicBezTo>
                          <a:pt x="48" y="44"/>
                          <a:pt x="43" y="50"/>
                          <a:pt x="42" y="63"/>
                        </a:cubicBezTo>
                        <a:cubicBezTo>
                          <a:pt x="42" y="64"/>
                          <a:pt x="42" y="70"/>
                          <a:pt x="42" y="71"/>
                        </a:cubicBezTo>
                        <a:cubicBezTo>
                          <a:pt x="42" y="71"/>
                          <a:pt x="42" y="71"/>
                          <a:pt x="42" y="72"/>
                        </a:cubicBezTo>
                        <a:cubicBezTo>
                          <a:pt x="42" y="72"/>
                          <a:pt x="42" y="74"/>
                          <a:pt x="42" y="77"/>
                        </a:cubicBezTo>
                        <a:cubicBezTo>
                          <a:pt x="42" y="77"/>
                          <a:pt x="42" y="77"/>
                          <a:pt x="42" y="77"/>
                        </a:cubicBezTo>
                        <a:cubicBezTo>
                          <a:pt x="43" y="154"/>
                          <a:pt x="43" y="154"/>
                          <a:pt x="43" y="154"/>
                        </a:cubicBezTo>
                        <a:cubicBezTo>
                          <a:pt x="42" y="154"/>
                          <a:pt x="43" y="154"/>
                          <a:pt x="43" y="154"/>
                        </a:cubicBezTo>
                        <a:cubicBezTo>
                          <a:pt x="43" y="155"/>
                          <a:pt x="43" y="156"/>
                          <a:pt x="43" y="157"/>
                        </a:cubicBezTo>
                        <a:cubicBezTo>
                          <a:pt x="44" y="180"/>
                          <a:pt x="84" y="177"/>
                          <a:pt x="84" y="157"/>
                        </a:cubicBezTo>
                        <a:cubicBezTo>
                          <a:pt x="84" y="142"/>
                          <a:pt x="85" y="80"/>
                          <a:pt x="85" y="77"/>
                        </a:cubicBezTo>
                        <a:cubicBezTo>
                          <a:pt x="85" y="74"/>
                          <a:pt x="87" y="70"/>
                          <a:pt x="89" y="69"/>
                        </a:cubicBezTo>
                        <a:cubicBezTo>
                          <a:pt x="91" y="69"/>
                          <a:pt x="136" y="57"/>
                          <a:pt x="141" y="55"/>
                        </a:cubicBezTo>
                        <a:cubicBezTo>
                          <a:pt x="153" y="52"/>
                          <a:pt x="159" y="47"/>
                          <a:pt x="159" y="25"/>
                        </a:cubicBezTo>
                        <a:cubicBezTo>
                          <a:pt x="159" y="8"/>
                          <a:pt x="159" y="8"/>
                          <a:pt x="159" y="8"/>
                        </a:cubicBezTo>
                        <a:cubicBezTo>
                          <a:pt x="159" y="7"/>
                          <a:pt x="159" y="7"/>
                          <a:pt x="159" y="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67" name="Freeform 244"/>
                  <p:cNvSpPr/>
                  <p:nvPr/>
                </p:nvSpPr>
                <p:spPr>
                  <a:xfrm>
                    <a:off x="1858320" y="5319720"/>
                    <a:ext cx="52920" cy="31680"/>
                  </a:xfrm>
                  <a:custGeom>
                    <a:avLst/>
                    <a:gdLst>
                      <a:gd name="textAreaLeft" fmla="*/ 0 w 52920"/>
                      <a:gd name="textAreaRight" fmla="*/ 53280 w 5292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91" h="54">
                        <a:moveTo>
                          <a:pt x="75" y="0"/>
                        </a:moveTo>
                        <a:cubicBezTo>
                          <a:pt x="61" y="4"/>
                          <a:pt x="45" y="8"/>
                          <a:pt x="28" y="14"/>
                        </a:cubicBezTo>
                        <a:cubicBezTo>
                          <a:pt x="0" y="22"/>
                          <a:pt x="17" y="54"/>
                          <a:pt x="40" y="46"/>
                        </a:cubicBezTo>
                        <a:cubicBezTo>
                          <a:pt x="44" y="44"/>
                          <a:pt x="66" y="38"/>
                          <a:pt x="91" y="32"/>
                        </a:cubicBezTo>
                      </a:path>
                    </a:pathLst>
                  </a:custGeom>
                  <a:noFill/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68" name="Oval 245"/>
                  <p:cNvSpPr/>
                  <p:nvPr/>
                </p:nvSpPr>
                <p:spPr>
                  <a:xfrm flipH="1">
                    <a:off x="1849320" y="5207760"/>
                    <a:ext cx="4680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69" name="Group 246"/>
                <p:cNvGrpSpPr/>
                <p:nvPr/>
              </p:nvGrpSpPr>
              <p:grpSpPr>
                <a:xfrm>
                  <a:off x="1902240" y="5294880"/>
                  <a:ext cx="292320" cy="178560"/>
                  <a:chOff x="1902240" y="5294880"/>
                  <a:chExt cx="292320" cy="178560"/>
                </a:xfrm>
              </p:grpSpPr>
              <p:sp>
                <p:nvSpPr>
                  <p:cNvPr id="470" name="Freeform 247"/>
                  <p:cNvSpPr/>
                  <p:nvPr/>
                </p:nvSpPr>
                <p:spPr>
                  <a:xfrm flipH="1">
                    <a:off x="2180160" y="532152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3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1" name="Freeform 248"/>
                  <p:cNvSpPr/>
                  <p:nvPr/>
                </p:nvSpPr>
                <p:spPr>
                  <a:xfrm flipH="1">
                    <a:off x="2164680" y="5321520"/>
                    <a:ext cx="14760" cy="104400"/>
                  </a:xfrm>
                  <a:custGeom>
                    <a:avLst/>
                    <a:gdLst>
                      <a:gd name="textAreaLeft" fmla="*/ -360 w 14760"/>
                      <a:gd name="textAreaRight" fmla="*/ 14760 w 1476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3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2" name="Freeform 249"/>
                  <p:cNvSpPr/>
                  <p:nvPr/>
                </p:nvSpPr>
                <p:spPr>
                  <a:xfrm flipH="1">
                    <a:off x="1985760" y="536904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3" name="Freeform 250"/>
                  <p:cNvSpPr/>
                  <p:nvPr/>
                </p:nvSpPr>
                <p:spPr>
                  <a:xfrm flipH="1">
                    <a:off x="2000520" y="536904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4" name="Freeform 251"/>
                  <p:cNvSpPr/>
                  <p:nvPr/>
                </p:nvSpPr>
                <p:spPr>
                  <a:xfrm flipH="1">
                    <a:off x="1902600" y="534744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5" name="Freeform 252"/>
                  <p:cNvSpPr/>
                  <p:nvPr/>
                </p:nvSpPr>
                <p:spPr>
                  <a:xfrm flipH="1">
                    <a:off x="1916640" y="5347440"/>
                    <a:ext cx="15480" cy="104400"/>
                  </a:xfrm>
                  <a:custGeom>
                    <a:avLst/>
                    <a:gdLst>
                      <a:gd name="textAreaLeft" fmla="*/ -360 w 15480"/>
                      <a:gd name="textAreaRight" fmla="*/ 15480 w 1548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3" h="87">
                        <a:moveTo>
                          <a:pt x="13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3" y="4"/>
                        </a:lnTo>
                        <a:lnTo>
                          <a:pt x="13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6" name="Freeform 253"/>
                  <p:cNvSpPr/>
                  <p:nvPr/>
                </p:nvSpPr>
                <p:spPr>
                  <a:xfrm flipH="1">
                    <a:off x="2082600" y="529488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7" name="Freeform 254"/>
                  <p:cNvSpPr/>
                  <p:nvPr/>
                </p:nvSpPr>
                <p:spPr>
                  <a:xfrm flipH="1">
                    <a:off x="2082600" y="529884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8" name="Freeform 255"/>
                  <p:cNvSpPr/>
                  <p:nvPr/>
                </p:nvSpPr>
                <p:spPr>
                  <a:xfrm flipH="1">
                    <a:off x="2096640" y="5298840"/>
                    <a:ext cx="13320" cy="104760"/>
                  </a:xfrm>
                  <a:custGeom>
                    <a:avLst/>
                    <a:gdLst>
                      <a:gd name="textAreaLeft" fmla="*/ -360 w 13320"/>
                      <a:gd name="textAreaRight" fmla="*/ 13320 w 1332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4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9" name="Freeform 256"/>
                  <p:cNvSpPr/>
                  <p:nvPr/>
                </p:nvSpPr>
                <p:spPr>
                  <a:xfrm flipH="1">
                    <a:off x="1999800" y="5321520"/>
                    <a:ext cx="194040" cy="66960"/>
                  </a:xfrm>
                  <a:custGeom>
                    <a:avLst/>
                    <a:gdLst>
                      <a:gd name="textAreaLeft" fmla="*/ -360 w 194040"/>
                      <a:gd name="textAreaRight" fmla="*/ 194040 w 194040"/>
                      <a:gd name="textAreaTop" fmla="*/ 0 h 66960"/>
                      <a:gd name="textAreaBottom" fmla="*/ 67320 h 66960"/>
                    </a:gdLst>
                    <a:ahLst/>
                    <a:rect l="textAreaLeft" t="textAreaTop" r="textAreaRight" b="textAreaBottom"/>
                    <a:pathLst>
                      <a:path w="161" h="56">
                        <a:moveTo>
                          <a:pt x="161" y="43"/>
                        </a:moveTo>
                        <a:lnTo>
                          <a:pt x="161" y="56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61" y="43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0" name="Freeform 257"/>
                  <p:cNvSpPr/>
                  <p:nvPr/>
                </p:nvSpPr>
                <p:spPr>
                  <a:xfrm flipH="1">
                    <a:off x="1902600" y="5347440"/>
                    <a:ext cx="97200" cy="41040"/>
                  </a:xfrm>
                  <a:custGeom>
                    <a:avLst/>
                    <a:gdLst>
                      <a:gd name="textAreaLeft" fmla="*/ 360 w 97200"/>
                      <a:gd name="textAreaRight" fmla="*/ 97920 w 972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81" h="35">
                        <a:moveTo>
                          <a:pt x="81" y="0"/>
                        </a:moveTo>
                        <a:lnTo>
                          <a:pt x="81" y="13"/>
                        </a:lnTo>
                        <a:lnTo>
                          <a:pt x="0" y="35"/>
                        </a:lnTo>
                        <a:lnTo>
                          <a:pt x="0" y="22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1" name="Freeform 258"/>
                  <p:cNvSpPr/>
                  <p:nvPr/>
                </p:nvSpPr>
                <p:spPr>
                  <a:xfrm flipH="1">
                    <a:off x="1901880" y="5294880"/>
                    <a:ext cx="291960" cy="78120"/>
                  </a:xfrm>
                  <a:custGeom>
                    <a:avLst/>
                    <a:gdLst>
                      <a:gd name="textAreaLeft" fmla="*/ -360 w 291960"/>
                      <a:gd name="textAreaRight" fmla="*/ 291960 w 291960"/>
                      <a:gd name="textAreaTop" fmla="*/ 0 h 78120"/>
                      <a:gd name="textAreaBottom" fmla="*/ 78480 h 78120"/>
                    </a:gdLst>
                    <a:ahLst/>
                    <a:rect l="textAreaLeft" t="textAreaTop" r="textAreaRight" b="textAreaBottom"/>
                    <a:pathLst>
                      <a:path w="242" h="65">
                        <a:moveTo>
                          <a:pt x="242" y="43"/>
                        </a:moveTo>
                        <a:lnTo>
                          <a:pt x="161" y="22"/>
                        </a:lnTo>
                        <a:lnTo>
                          <a:pt x="161" y="22"/>
                        </a:lnTo>
                        <a:lnTo>
                          <a:pt x="81" y="0"/>
                        </a:lnTo>
                        <a:lnTo>
                          <a:pt x="0" y="22"/>
                        </a:lnTo>
                        <a:lnTo>
                          <a:pt x="81" y="44"/>
                        </a:lnTo>
                        <a:lnTo>
                          <a:pt x="81" y="44"/>
                        </a:lnTo>
                        <a:lnTo>
                          <a:pt x="161" y="65"/>
                        </a:lnTo>
                        <a:lnTo>
                          <a:pt x="242" y="43"/>
                        </a:lnTo>
                        <a:close/>
                      </a:path>
                    </a:pathLst>
                  </a:custGeom>
                  <a:solidFill>
                    <a:srgbClr val="8e47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82" name="Group 259"/>
                <p:cNvGrpSpPr/>
                <p:nvPr/>
              </p:nvGrpSpPr>
              <p:grpSpPr>
                <a:xfrm>
                  <a:off x="1614240" y="5292000"/>
                  <a:ext cx="388080" cy="207000"/>
                  <a:chOff x="1614240" y="5292000"/>
                  <a:chExt cx="388080" cy="207000"/>
                </a:xfrm>
              </p:grpSpPr>
              <p:sp>
                <p:nvSpPr>
                  <p:cNvPr id="483" name="Freeform 260"/>
                  <p:cNvSpPr/>
                  <p:nvPr/>
                </p:nvSpPr>
                <p:spPr>
                  <a:xfrm flipH="1">
                    <a:off x="1614600" y="5319000"/>
                    <a:ext cx="13680" cy="104760"/>
                  </a:xfrm>
                  <a:custGeom>
                    <a:avLst/>
                    <a:gdLst>
                      <a:gd name="textAreaLeft" fmla="*/ 360 w 13680"/>
                      <a:gd name="textAreaRight" fmla="*/ 14400 w 136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4" name="Freeform 261"/>
                  <p:cNvSpPr/>
                  <p:nvPr/>
                </p:nvSpPr>
                <p:spPr>
                  <a:xfrm flipH="1">
                    <a:off x="1628280" y="531900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5" name="Freeform 262"/>
                  <p:cNvSpPr/>
                  <p:nvPr/>
                </p:nvSpPr>
                <p:spPr>
                  <a:xfrm flipH="1">
                    <a:off x="1904760" y="5394240"/>
                    <a:ext cx="14760" cy="104760"/>
                  </a:xfrm>
                  <a:custGeom>
                    <a:avLst/>
                    <a:gdLst>
                      <a:gd name="textAreaLeft" fmla="*/ -360 w 14760"/>
                      <a:gd name="textAreaRight" fmla="*/ 14760 w 147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4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6" name="Freeform 263"/>
                  <p:cNvSpPr/>
                  <p:nvPr/>
                </p:nvSpPr>
                <p:spPr>
                  <a:xfrm flipH="1">
                    <a:off x="1891800" y="5394240"/>
                    <a:ext cx="12960" cy="104760"/>
                  </a:xfrm>
                  <a:custGeom>
                    <a:avLst/>
                    <a:gdLst>
                      <a:gd name="textAreaLeft" fmla="*/ 360 w 12960"/>
                      <a:gd name="textAreaRight" fmla="*/ 13680 w 129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7" name="Freeform 264"/>
                  <p:cNvSpPr/>
                  <p:nvPr/>
                </p:nvSpPr>
                <p:spPr>
                  <a:xfrm flipH="1">
                    <a:off x="1987920" y="537156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8" name="Freeform 265"/>
                  <p:cNvSpPr/>
                  <p:nvPr/>
                </p:nvSpPr>
                <p:spPr>
                  <a:xfrm flipH="1">
                    <a:off x="1973880" y="5371560"/>
                    <a:ext cx="13680" cy="104760"/>
                  </a:xfrm>
                  <a:custGeom>
                    <a:avLst/>
                    <a:gdLst>
                      <a:gd name="textAreaLeft" fmla="*/ 360 w 13680"/>
                      <a:gd name="textAreaRight" fmla="*/ 14400 w 136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9" name="Freeform 266"/>
                  <p:cNvSpPr/>
                  <p:nvPr/>
                </p:nvSpPr>
                <p:spPr>
                  <a:xfrm flipH="1">
                    <a:off x="1712520" y="5298120"/>
                    <a:ext cx="13680" cy="104760"/>
                  </a:xfrm>
                  <a:custGeom>
                    <a:avLst/>
                    <a:gdLst>
                      <a:gd name="textAreaLeft" fmla="*/ 360 w 13680"/>
                      <a:gd name="textAreaRight" fmla="*/ 14400 w 136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4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0" name="Freeform 267"/>
                  <p:cNvSpPr/>
                  <p:nvPr/>
                </p:nvSpPr>
                <p:spPr>
                  <a:xfrm flipH="1">
                    <a:off x="1697760" y="529812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1" name="Freeform 268"/>
                  <p:cNvSpPr/>
                  <p:nvPr/>
                </p:nvSpPr>
                <p:spPr>
                  <a:xfrm flipH="1">
                    <a:off x="1613880" y="5319000"/>
                    <a:ext cx="290520" cy="92520"/>
                  </a:xfrm>
                  <a:custGeom>
                    <a:avLst/>
                    <a:gdLst>
                      <a:gd name="textAreaLeft" fmla="*/ -360 w 290520"/>
                      <a:gd name="textAreaRight" fmla="*/ 290520 w 290520"/>
                      <a:gd name="textAreaTop" fmla="*/ 0 h 92520"/>
                      <a:gd name="textAreaBottom" fmla="*/ 92880 h 92520"/>
                    </a:gdLst>
                    <a:ahLst/>
                    <a:rect l="textAreaLeft" t="textAreaTop" r="textAreaRight" b="textAreaBottom"/>
                    <a:pathLst>
                      <a:path w="241" h="77">
                        <a:moveTo>
                          <a:pt x="0" y="65"/>
                        </a:moveTo>
                        <a:lnTo>
                          <a:pt x="0" y="77"/>
                        </a:lnTo>
                        <a:lnTo>
                          <a:pt x="241" y="12"/>
                        </a:lnTo>
                        <a:lnTo>
                          <a:pt x="241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2" name="Freeform 269"/>
                  <p:cNvSpPr/>
                  <p:nvPr/>
                </p:nvSpPr>
                <p:spPr>
                  <a:xfrm flipH="1">
                    <a:off x="1904760" y="5371560"/>
                    <a:ext cx="96840" cy="39960"/>
                  </a:xfrm>
                  <a:custGeom>
                    <a:avLst/>
                    <a:gdLst>
                      <a:gd name="textAreaLeft" fmla="*/ -360 w 96840"/>
                      <a:gd name="textAreaRight" fmla="*/ 96840 w 96840"/>
                      <a:gd name="textAreaTop" fmla="*/ 0 h 39960"/>
                      <a:gd name="textAreaBottom" fmla="*/ 40320 h 39960"/>
                    </a:gdLst>
                    <a:ahLst/>
                    <a:rect l="textAreaLeft" t="textAreaTop" r="textAreaRight" b="textAreaBottom"/>
                    <a:pathLst>
                      <a:path w="80" h="34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80" y="34"/>
                        </a:lnTo>
                        <a:lnTo>
                          <a:pt x="80" y="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3" name="Freeform 270"/>
                  <p:cNvSpPr/>
                  <p:nvPr/>
                </p:nvSpPr>
                <p:spPr>
                  <a:xfrm flipH="1">
                    <a:off x="1613880" y="5292000"/>
                    <a:ext cx="387720" cy="105840"/>
                  </a:xfrm>
                  <a:custGeom>
                    <a:avLst/>
                    <a:gdLst>
                      <a:gd name="textAreaLeft" fmla="*/ -360 w 387720"/>
                      <a:gd name="textAreaRight" fmla="*/ 387720 w 387720"/>
                      <a:gd name="textAreaTop" fmla="*/ 0 h 105840"/>
                      <a:gd name="textAreaBottom" fmla="*/ 106200 h 105840"/>
                    </a:gdLst>
                    <a:ahLst/>
                    <a:rect l="textAreaLeft" t="textAreaTop" r="textAreaRight" b="textAreaBottom"/>
                    <a:pathLst>
                      <a:path w="321" h="87">
                        <a:moveTo>
                          <a:pt x="0" y="65"/>
                        </a:moveTo>
                        <a:lnTo>
                          <a:pt x="160" y="22"/>
                        </a:lnTo>
                        <a:lnTo>
                          <a:pt x="160" y="22"/>
                        </a:lnTo>
                        <a:lnTo>
                          <a:pt x="240" y="0"/>
                        </a:lnTo>
                        <a:lnTo>
                          <a:pt x="321" y="22"/>
                        </a:lnTo>
                        <a:lnTo>
                          <a:pt x="240" y="44"/>
                        </a:lnTo>
                        <a:lnTo>
                          <a:pt x="240" y="44"/>
                        </a:lnTo>
                        <a:lnTo>
                          <a:pt x="81" y="87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8e47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94" name="Group 271"/>
                <p:cNvGrpSpPr/>
                <p:nvPr/>
              </p:nvGrpSpPr>
              <p:grpSpPr>
                <a:xfrm>
                  <a:off x="1752480" y="5281200"/>
                  <a:ext cx="120600" cy="80640"/>
                  <a:chOff x="1752480" y="5281200"/>
                  <a:chExt cx="120600" cy="80640"/>
                </a:xfrm>
              </p:grpSpPr>
              <p:sp>
                <p:nvSpPr>
                  <p:cNvPr id="495" name="Freeform 272"/>
                  <p:cNvSpPr/>
                  <p:nvPr/>
                </p:nvSpPr>
                <p:spPr>
                  <a:xfrm>
                    <a:off x="1752480" y="5324760"/>
                    <a:ext cx="120600" cy="32400"/>
                  </a:xfrm>
                  <a:custGeom>
                    <a:avLst/>
                    <a:gdLst>
                      <a:gd name="textAreaLeft" fmla="*/ 0 w 120600"/>
                      <a:gd name="textAreaRight" fmla="*/ 120960 w 120600"/>
                      <a:gd name="textAreaTop" fmla="*/ 0 h 32400"/>
                      <a:gd name="textAreaBottom" fmla="*/ 32760 h 32400"/>
                    </a:gdLst>
                    <a:ahLst/>
                    <a:rect l="textAreaLeft" t="textAreaTop" r="textAreaRight" b="textAreaBottom"/>
                    <a:pathLst>
                      <a:path w="25173" h="6756">
                        <a:moveTo>
                          <a:pt x="0" y="3378"/>
                        </a:moveTo>
                        <a:lnTo>
                          <a:pt x="12585" y="0"/>
                        </a:lnTo>
                        <a:lnTo>
                          <a:pt x="25173" y="3378"/>
                        </a:lnTo>
                        <a:lnTo>
                          <a:pt x="12585" y="6756"/>
                        </a:lnTo>
                        <a:lnTo>
                          <a:pt x="0" y="3378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635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6" name="Freeform 273"/>
                  <p:cNvSpPr/>
                  <p:nvPr/>
                </p:nvSpPr>
                <p:spPr>
                  <a:xfrm>
                    <a:off x="1812960" y="5341320"/>
                    <a:ext cx="60120" cy="2052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2588" h="4342">
                        <a:moveTo>
                          <a:pt x="0" y="3378"/>
                        </a:moveTo>
                        <a:lnTo>
                          <a:pt x="0" y="4342"/>
                        </a:lnTo>
                        <a:lnTo>
                          <a:pt x="12588" y="964"/>
                        </a:lnTo>
                        <a:lnTo>
                          <a:pt x="12588" y="0"/>
                        </a:lnTo>
                        <a:lnTo>
                          <a:pt x="0" y="337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635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7" name="Freeform 274"/>
                  <p:cNvSpPr/>
                  <p:nvPr/>
                </p:nvSpPr>
                <p:spPr>
                  <a:xfrm>
                    <a:off x="1752480" y="5341320"/>
                    <a:ext cx="60120" cy="2052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2585" h="4342">
                        <a:moveTo>
                          <a:pt x="12585" y="4342"/>
                        </a:moveTo>
                        <a:lnTo>
                          <a:pt x="0" y="964"/>
                        </a:lnTo>
                        <a:lnTo>
                          <a:pt x="0" y="0"/>
                        </a:lnTo>
                        <a:lnTo>
                          <a:pt x="12585" y="3378"/>
                        </a:lnTo>
                        <a:lnTo>
                          <a:pt x="12585" y="43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8" name="Freeform 275"/>
                  <p:cNvSpPr/>
                  <p:nvPr/>
                </p:nvSpPr>
                <p:spPr>
                  <a:xfrm>
                    <a:off x="1769760" y="5330160"/>
                    <a:ext cx="81720" cy="21960"/>
                  </a:xfrm>
                  <a:custGeom>
                    <a:avLst/>
                    <a:gdLst>
                      <a:gd name="textAreaLeft" fmla="*/ 0 w 81720"/>
                      <a:gd name="textAreaRight" fmla="*/ 82080 w 817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17020" h="4567">
                        <a:moveTo>
                          <a:pt x="0" y="1711"/>
                        </a:moveTo>
                        <a:lnTo>
                          <a:pt x="10647" y="4567"/>
                        </a:lnTo>
                        <a:lnTo>
                          <a:pt x="17020" y="2859"/>
                        </a:lnTo>
                        <a:lnTo>
                          <a:pt x="6371" y="0"/>
                        </a:lnTo>
                        <a:lnTo>
                          <a:pt x="0" y="17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9" name="Freeform 276"/>
                  <p:cNvSpPr/>
                  <p:nvPr/>
                </p:nvSpPr>
                <p:spPr>
                  <a:xfrm>
                    <a:off x="1752480" y="5282640"/>
                    <a:ext cx="60120" cy="7920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79200"/>
                      <a:gd name="textAreaBottom" fmla="*/ 79560 h 79200"/>
                    </a:gdLst>
                    <a:ahLst/>
                    <a:rect l="textAreaLeft" t="textAreaTop" r="textAreaRight" b="textAreaBottom"/>
                    <a:pathLst>
                      <a:path w="12585" h="16411">
                        <a:moveTo>
                          <a:pt x="0" y="0"/>
                        </a:moveTo>
                        <a:lnTo>
                          <a:pt x="0" y="13033"/>
                        </a:lnTo>
                        <a:lnTo>
                          <a:pt x="12585" y="16411"/>
                        </a:lnTo>
                        <a:lnTo>
                          <a:pt x="12585" y="33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635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0" name="Freeform 277"/>
                  <p:cNvSpPr/>
                  <p:nvPr/>
                </p:nvSpPr>
                <p:spPr>
                  <a:xfrm>
                    <a:off x="1812960" y="5297760"/>
                    <a:ext cx="4320" cy="640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4080"/>
                      <a:gd name="textAreaBottom" fmla="*/ 64440 h 64080"/>
                    </a:gdLst>
                    <a:ahLst/>
                    <a:rect l="textAreaLeft" t="textAreaTop" r="textAreaRight" b="textAreaBottom"/>
                    <a:pathLst>
                      <a:path w="971" h="13293">
                        <a:moveTo>
                          <a:pt x="0" y="13293"/>
                        </a:moveTo>
                        <a:lnTo>
                          <a:pt x="971" y="13030"/>
                        </a:lnTo>
                        <a:lnTo>
                          <a:pt x="971" y="0"/>
                        </a:lnTo>
                        <a:lnTo>
                          <a:pt x="0" y="260"/>
                        </a:lnTo>
                        <a:lnTo>
                          <a:pt x="0" y="1329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635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1" name="Freeform 278"/>
                  <p:cNvSpPr/>
                  <p:nvPr/>
                </p:nvSpPr>
                <p:spPr>
                  <a:xfrm>
                    <a:off x="1752480" y="5281200"/>
                    <a:ext cx="64800" cy="1728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3556" h="3638">
                        <a:moveTo>
                          <a:pt x="13556" y="3378"/>
                        </a:moveTo>
                        <a:lnTo>
                          <a:pt x="12585" y="3638"/>
                        </a:lnTo>
                        <a:lnTo>
                          <a:pt x="0" y="260"/>
                        </a:lnTo>
                        <a:lnTo>
                          <a:pt x="971" y="0"/>
                        </a:lnTo>
                        <a:lnTo>
                          <a:pt x="13556" y="337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502" name="Group 711"/>
            <p:cNvGrpSpPr/>
            <p:nvPr/>
          </p:nvGrpSpPr>
          <p:grpSpPr>
            <a:xfrm>
              <a:off x="2470320" y="4723560"/>
              <a:ext cx="1746360" cy="533880"/>
              <a:chOff x="2470320" y="4723560"/>
              <a:chExt cx="1746360" cy="533880"/>
            </a:xfrm>
          </p:grpSpPr>
          <p:sp>
            <p:nvSpPr>
              <p:cNvPr id="503" name="Freeform 280"/>
              <p:cNvSpPr/>
              <p:nvPr/>
            </p:nvSpPr>
            <p:spPr>
              <a:xfrm>
                <a:off x="2470320" y="4788720"/>
                <a:ext cx="1746360" cy="468720"/>
              </a:xfrm>
              <a:custGeom>
                <a:avLst/>
                <a:gdLst>
                  <a:gd name="textAreaLeft" fmla="*/ 0 w 1746360"/>
                  <a:gd name="textAreaRight" fmla="*/ 1746720 w 17463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504" name="Group 281"/>
              <p:cNvGrpSpPr/>
              <p:nvPr/>
            </p:nvGrpSpPr>
            <p:grpSpPr>
              <a:xfrm>
                <a:off x="3151080" y="4723560"/>
                <a:ext cx="486360" cy="381960"/>
                <a:chOff x="3151080" y="4723560"/>
                <a:chExt cx="486360" cy="381960"/>
              </a:xfrm>
            </p:grpSpPr>
            <p:grpSp>
              <p:nvGrpSpPr>
                <p:cNvPr id="505" name="Group 282"/>
                <p:cNvGrpSpPr/>
                <p:nvPr/>
              </p:nvGrpSpPr>
              <p:grpSpPr>
                <a:xfrm>
                  <a:off x="3183840" y="4723560"/>
                  <a:ext cx="205200" cy="289080"/>
                  <a:chOff x="3183840" y="4723560"/>
                  <a:chExt cx="205200" cy="289080"/>
                </a:xfrm>
              </p:grpSpPr>
              <p:sp>
                <p:nvSpPr>
                  <p:cNvPr id="506" name="Freeform 283"/>
                  <p:cNvSpPr/>
                  <p:nvPr/>
                </p:nvSpPr>
                <p:spPr>
                  <a:xfrm>
                    <a:off x="3199320" y="4899600"/>
                    <a:ext cx="117000" cy="113040"/>
                  </a:xfrm>
                  <a:custGeom>
                    <a:avLst/>
                    <a:gdLst>
                      <a:gd name="textAreaLeft" fmla="*/ 0 w 117000"/>
                      <a:gd name="textAreaRight" fmla="*/ 117360 w 117000"/>
                      <a:gd name="textAreaTop" fmla="*/ 0 h 113040"/>
                      <a:gd name="textAreaBottom" fmla="*/ 113400 h 113040"/>
                    </a:gdLst>
                    <a:ahLst/>
                    <a:rect l="textAreaLeft" t="textAreaTop" r="textAreaRight" b="textAreaBottom"/>
                    <a:pathLst>
                      <a:path w="240" h="232">
                        <a:moveTo>
                          <a:pt x="0" y="0"/>
                        </a:moveTo>
                        <a:cubicBezTo>
                          <a:pt x="0" y="200"/>
                          <a:pt x="0" y="200"/>
                          <a:pt x="0" y="200"/>
                        </a:cubicBezTo>
                        <a:cubicBezTo>
                          <a:pt x="0" y="218"/>
                          <a:pt x="54" y="232"/>
                          <a:pt x="120" y="232"/>
                        </a:cubicBezTo>
                        <a:cubicBezTo>
                          <a:pt x="186" y="232"/>
                          <a:pt x="240" y="218"/>
                          <a:pt x="240" y="200"/>
                        </a:cubicBezTo>
                        <a:cubicBezTo>
                          <a:pt x="240" y="0"/>
                          <a:pt x="240" y="0"/>
                          <a:pt x="240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7" name="Oval 284"/>
                  <p:cNvSpPr/>
                  <p:nvPr/>
                </p:nvSpPr>
                <p:spPr>
                  <a:xfrm>
                    <a:off x="3199320" y="4884120"/>
                    <a:ext cx="117000" cy="3096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8" name="Freeform 285"/>
                  <p:cNvSpPr/>
                  <p:nvPr/>
                </p:nvSpPr>
                <p:spPr>
                  <a:xfrm>
                    <a:off x="3260520" y="4835160"/>
                    <a:ext cx="61560" cy="75240"/>
                  </a:xfrm>
                  <a:custGeom>
                    <a:avLst/>
                    <a:gdLst>
                      <a:gd name="textAreaLeft" fmla="*/ 0 w 61560"/>
                      <a:gd name="textAreaRight" fmla="*/ 61920 w 61560"/>
                      <a:gd name="textAreaTop" fmla="*/ 0 h 75240"/>
                      <a:gd name="textAreaBottom" fmla="*/ 75600 h 75240"/>
                    </a:gdLst>
                    <a:ahLst/>
                    <a:rect l="textAreaLeft" t="textAreaTop" r="textAreaRight" b="textAreaBottom"/>
                    <a:pathLst>
                      <a:path w="126" h="155">
                        <a:moveTo>
                          <a:pt x="74" y="5"/>
                        </a:moveTo>
                        <a:cubicBezTo>
                          <a:pt x="74" y="5"/>
                          <a:pt x="74" y="5"/>
                          <a:pt x="74" y="5"/>
                        </a:cubicBezTo>
                        <a:cubicBezTo>
                          <a:pt x="74" y="5"/>
                          <a:pt x="74" y="5"/>
                          <a:pt x="74" y="5"/>
                        </a:cubicBezTo>
                        <a:cubicBezTo>
                          <a:pt x="71" y="6"/>
                          <a:pt x="67" y="7"/>
                          <a:pt x="63" y="8"/>
                        </a:cubicBezTo>
                        <a:cubicBezTo>
                          <a:pt x="63" y="8"/>
                          <a:pt x="63" y="9"/>
                          <a:pt x="63" y="9"/>
                        </a:cubicBezTo>
                        <a:cubicBezTo>
                          <a:pt x="10" y="23"/>
                          <a:pt x="10" y="23"/>
                          <a:pt x="10" y="23"/>
                        </a:cubicBezTo>
                        <a:cubicBezTo>
                          <a:pt x="0" y="155"/>
                          <a:pt x="0" y="155"/>
                          <a:pt x="0" y="155"/>
                        </a:cubicBezTo>
                        <a:cubicBezTo>
                          <a:pt x="65" y="137"/>
                          <a:pt x="65" y="137"/>
                          <a:pt x="65" y="137"/>
                        </a:cubicBezTo>
                        <a:cubicBezTo>
                          <a:pt x="89" y="128"/>
                          <a:pt x="126" y="104"/>
                          <a:pt x="126" y="63"/>
                        </a:cubicBezTo>
                        <a:cubicBezTo>
                          <a:pt x="126" y="27"/>
                          <a:pt x="106" y="0"/>
                          <a:pt x="74" y="5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9" name="Freeform 286"/>
                  <p:cNvSpPr/>
                  <p:nvPr/>
                </p:nvSpPr>
                <p:spPr>
                  <a:xfrm>
                    <a:off x="3202560" y="4840920"/>
                    <a:ext cx="88200" cy="69480"/>
                  </a:xfrm>
                  <a:custGeom>
                    <a:avLst/>
                    <a:gdLst>
                      <a:gd name="textAreaLeft" fmla="*/ 0 w 88200"/>
                      <a:gd name="textAreaRight" fmla="*/ 88560 w 88200"/>
                      <a:gd name="textAreaTop" fmla="*/ 0 h 69480"/>
                      <a:gd name="textAreaBottom" fmla="*/ 69840 h 69480"/>
                    </a:gdLst>
                    <a:ahLst/>
                    <a:rect l="textAreaLeft" t="textAreaTop" r="textAreaRight" b="textAreaBottom"/>
                    <a:pathLst>
                      <a:path w="182" h="143">
                        <a:moveTo>
                          <a:pt x="120" y="143"/>
                        </a:moveTo>
                        <a:cubicBezTo>
                          <a:pt x="144" y="134"/>
                          <a:pt x="182" y="109"/>
                          <a:pt x="182" y="69"/>
                        </a:cubicBezTo>
                        <a:cubicBezTo>
                          <a:pt x="182" y="28"/>
                          <a:pt x="157" y="0"/>
                          <a:pt x="119" y="14"/>
                        </a:cubicBezTo>
                        <a:cubicBezTo>
                          <a:pt x="80" y="28"/>
                          <a:pt x="9" y="80"/>
                          <a:pt x="0" y="82"/>
                        </a:cubicBezTo>
                        <a:cubicBezTo>
                          <a:pt x="0" y="110"/>
                          <a:pt x="0" y="110"/>
                          <a:pt x="0" y="110"/>
                        </a:cubicBezTo>
                        <a:lnTo>
                          <a:pt x="120" y="143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0" name="Freeform 287"/>
                  <p:cNvSpPr/>
                  <p:nvPr/>
                </p:nvSpPr>
                <p:spPr>
                  <a:xfrm>
                    <a:off x="3195000" y="4723560"/>
                    <a:ext cx="104400" cy="1216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121680"/>
                      <a:gd name="textAreaBottom" fmla="*/ 122040 h 121680"/>
                    </a:gdLst>
                    <a:ahLst/>
                    <a:rect l="textAreaLeft" t="textAreaTop" r="textAreaRight" b="textAreaBottom"/>
                    <a:pathLst>
                      <a:path w="214" h="249">
                        <a:moveTo>
                          <a:pt x="150" y="249"/>
                        </a:moveTo>
                        <a:cubicBezTo>
                          <a:pt x="150" y="249"/>
                          <a:pt x="150" y="249"/>
                          <a:pt x="150" y="249"/>
                        </a:cubicBezTo>
                        <a:cubicBezTo>
                          <a:pt x="214" y="233"/>
                          <a:pt x="214" y="233"/>
                          <a:pt x="214" y="233"/>
                        </a:cubicBezTo>
                        <a:cubicBezTo>
                          <a:pt x="89" y="12"/>
                          <a:pt x="89" y="12"/>
                          <a:pt x="89" y="12"/>
                        </a:cubicBezTo>
                        <a:cubicBezTo>
                          <a:pt x="79" y="2"/>
                          <a:pt x="66" y="0"/>
                          <a:pt x="57" y="4"/>
                        </a:cubicBezTo>
                        <a:cubicBezTo>
                          <a:pt x="56" y="4"/>
                          <a:pt x="56" y="4"/>
                          <a:pt x="56" y="4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7" y="15"/>
                          <a:pt x="16" y="18"/>
                          <a:pt x="23" y="26"/>
                        </a:cubicBezTo>
                        <a:lnTo>
                          <a:pt x="150" y="24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1" name="Freeform 288"/>
                  <p:cNvSpPr/>
                  <p:nvPr/>
                </p:nvSpPr>
                <p:spPr>
                  <a:xfrm>
                    <a:off x="3183840" y="4726080"/>
                    <a:ext cx="105840" cy="17172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217" h="351">
                        <a:moveTo>
                          <a:pt x="161" y="336"/>
                        </a:moveTo>
                        <a:cubicBezTo>
                          <a:pt x="176" y="351"/>
                          <a:pt x="217" y="313"/>
                          <a:pt x="196" y="283"/>
                        </a:cubicBezTo>
                        <a:cubicBezTo>
                          <a:pt x="179" y="256"/>
                          <a:pt x="46" y="20"/>
                          <a:pt x="46" y="20"/>
                        </a:cubicBezTo>
                        <a:cubicBezTo>
                          <a:pt x="26" y="0"/>
                          <a:pt x="0" y="12"/>
                          <a:pt x="0" y="27"/>
                        </a:cubicBezTo>
                        <a:cubicBezTo>
                          <a:pt x="0" y="41"/>
                          <a:pt x="146" y="321"/>
                          <a:pt x="161" y="336"/>
                        </a:cubicBez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2" name="Freeform 289"/>
                  <p:cNvSpPr/>
                  <p:nvPr/>
                </p:nvSpPr>
                <p:spPr>
                  <a:xfrm>
                    <a:off x="3205080" y="4725720"/>
                    <a:ext cx="30240" cy="237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62" h="50">
                        <a:moveTo>
                          <a:pt x="31" y="50"/>
                        </a:moveTo>
                        <a:cubicBezTo>
                          <a:pt x="18" y="28"/>
                          <a:pt x="10" y="14"/>
                          <a:pt x="10" y="14"/>
                        </a:cubicBezTo>
                        <a:cubicBezTo>
                          <a:pt x="7" y="11"/>
                          <a:pt x="4" y="9"/>
                          <a:pt x="0" y="7"/>
                        </a:cubicBez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35" y="2"/>
                          <a:pt x="39" y="4"/>
                          <a:pt x="42" y="8"/>
                        </a:cubicBezTo>
                        <a:cubicBezTo>
                          <a:pt x="42" y="8"/>
                          <a:pt x="50" y="22"/>
                          <a:pt x="62" y="44"/>
                        </a:cubicBezTo>
                        <a:cubicBezTo>
                          <a:pt x="31" y="50"/>
                          <a:pt x="31" y="50"/>
                          <a:pt x="31" y="50"/>
                        </a:cubicBezTo>
                      </a:path>
                    </a:pathLst>
                  </a:custGeom>
                  <a:solidFill>
                    <a:srgbClr val="b2b2b2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3" name="Freeform 290"/>
                  <p:cNvSpPr/>
                  <p:nvPr/>
                </p:nvSpPr>
                <p:spPr>
                  <a:xfrm>
                    <a:off x="3219120" y="4736160"/>
                    <a:ext cx="127080" cy="4932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262" h="101">
                        <a:moveTo>
                          <a:pt x="30" y="2"/>
                        </a:moveTo>
                        <a:cubicBezTo>
                          <a:pt x="30" y="2"/>
                          <a:pt x="29" y="2"/>
                          <a:pt x="29" y="2"/>
                        </a:cubicBezTo>
                        <a:cubicBezTo>
                          <a:pt x="29" y="2"/>
                          <a:pt x="29" y="2"/>
                          <a:pt x="29" y="2"/>
                        </a:cubicBezTo>
                        <a:cubicBezTo>
                          <a:pt x="29" y="2"/>
                          <a:pt x="29" y="2"/>
                          <a:pt x="29" y="2"/>
                        </a:cubicBezTo>
                        <a:cubicBezTo>
                          <a:pt x="22" y="0"/>
                          <a:pt x="14" y="4"/>
                          <a:pt x="8" y="11"/>
                        </a:cubicBezTo>
                        <a:cubicBezTo>
                          <a:pt x="1" y="21"/>
                          <a:pt x="0" y="32"/>
                          <a:pt x="6" y="37"/>
                        </a:cubicBezTo>
                        <a:cubicBezTo>
                          <a:pt x="8" y="38"/>
                          <a:pt x="9" y="39"/>
                          <a:pt x="11" y="39"/>
                        </a:cubicBezTo>
                        <a:cubicBezTo>
                          <a:pt x="11" y="39"/>
                          <a:pt x="11" y="39"/>
                          <a:pt x="11" y="39"/>
                        </a:cubicBezTo>
                        <a:cubicBezTo>
                          <a:pt x="243" y="101"/>
                          <a:pt x="243" y="101"/>
                          <a:pt x="243" y="101"/>
                        </a:cubicBezTo>
                        <a:cubicBezTo>
                          <a:pt x="262" y="64"/>
                          <a:pt x="262" y="64"/>
                          <a:pt x="262" y="64"/>
                        </a:cubicBez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4" name="Freeform 291"/>
                  <p:cNvSpPr/>
                  <p:nvPr/>
                </p:nvSpPr>
                <p:spPr>
                  <a:xfrm>
                    <a:off x="3333600" y="4766040"/>
                    <a:ext cx="18000" cy="2124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38" h="44">
                        <a:moveTo>
                          <a:pt x="6" y="39"/>
                        </a:moveTo>
                        <a:cubicBezTo>
                          <a:pt x="13" y="44"/>
                          <a:pt x="24" y="40"/>
                          <a:pt x="31" y="31"/>
                        </a:cubicBezTo>
                        <a:cubicBezTo>
                          <a:pt x="38" y="22"/>
                          <a:pt x="38" y="10"/>
                          <a:pt x="32" y="5"/>
                        </a:cubicBezTo>
                        <a:cubicBezTo>
                          <a:pt x="26" y="0"/>
                          <a:pt x="15" y="4"/>
                          <a:pt x="7" y="13"/>
                        </a:cubicBezTo>
                        <a:cubicBezTo>
                          <a:pt x="0" y="23"/>
                          <a:pt x="0" y="34"/>
                          <a:pt x="6" y="39"/>
                        </a:cubicBez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5" name="Freeform 292"/>
                  <p:cNvSpPr/>
                  <p:nvPr/>
                </p:nvSpPr>
                <p:spPr>
                  <a:xfrm>
                    <a:off x="3346920" y="4770000"/>
                    <a:ext cx="14040" cy="1764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9" h="88">
                        <a:moveTo>
                          <a:pt x="0" y="88"/>
                        </a:moveTo>
                        <a:lnTo>
                          <a:pt x="0" y="19"/>
                        </a:lnTo>
                        <a:lnTo>
                          <a:pt x="69" y="0"/>
                        </a:lnTo>
                        <a:lnTo>
                          <a:pt x="69" y="71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6" name="Freeform 293"/>
                  <p:cNvSpPr/>
                  <p:nvPr/>
                </p:nvSpPr>
                <p:spPr>
                  <a:xfrm>
                    <a:off x="3375360" y="4770000"/>
                    <a:ext cx="13680" cy="1764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8" h="88">
                        <a:moveTo>
                          <a:pt x="0" y="88"/>
                        </a:moveTo>
                        <a:lnTo>
                          <a:pt x="0" y="19"/>
                        </a:lnTo>
                        <a:lnTo>
                          <a:pt x="68" y="0"/>
                        </a:lnTo>
                        <a:lnTo>
                          <a:pt x="68" y="71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7" name="Freeform 294"/>
                  <p:cNvSpPr/>
                  <p:nvPr/>
                </p:nvSpPr>
                <p:spPr>
                  <a:xfrm>
                    <a:off x="3361320" y="4770000"/>
                    <a:ext cx="13680" cy="1764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6" h="88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66" y="88"/>
                        </a:lnTo>
                        <a:lnTo>
                          <a:pt x="66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8" name="Freeform 295"/>
                  <p:cNvSpPr/>
                  <p:nvPr/>
                </p:nvSpPr>
                <p:spPr>
                  <a:xfrm>
                    <a:off x="3346920" y="4777200"/>
                    <a:ext cx="14040" cy="1836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8360"/>
                      <a:gd name="textAreaBottom" fmla="*/ 18720 h 18360"/>
                    </a:gdLst>
                    <a:ahLst/>
                    <a:rect l="textAreaLeft" t="textAreaTop" r="textAreaRight" b="textAreaBottom"/>
                    <a:pathLst>
                      <a:path w="69" h="90">
                        <a:moveTo>
                          <a:pt x="0" y="90"/>
                        </a:moveTo>
                        <a:lnTo>
                          <a:pt x="0" y="19"/>
                        </a:lnTo>
                        <a:lnTo>
                          <a:pt x="69" y="0"/>
                        </a:lnTo>
                        <a:lnTo>
                          <a:pt x="69" y="71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9" name="Freeform 296"/>
                  <p:cNvSpPr/>
                  <p:nvPr/>
                </p:nvSpPr>
                <p:spPr>
                  <a:xfrm>
                    <a:off x="3333240" y="4777200"/>
                    <a:ext cx="13680" cy="1836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18360"/>
                      <a:gd name="textAreaBottom" fmla="*/ 18720 h 18360"/>
                    </a:gdLst>
                    <a:ahLst/>
                    <a:rect l="textAreaLeft" t="textAreaTop" r="textAreaRight" b="textAreaBottom"/>
                    <a:pathLst>
                      <a:path w="68" h="90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68" y="90"/>
                        </a:lnTo>
                        <a:lnTo>
                          <a:pt x="68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20" name="Freeform 297"/>
                  <p:cNvSpPr/>
                  <p:nvPr/>
                </p:nvSpPr>
                <p:spPr>
                  <a:xfrm>
                    <a:off x="3333240" y="4766040"/>
                    <a:ext cx="55440" cy="1476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4760"/>
                      <a:gd name="textAreaBottom" fmla="*/ 15120 h 14760"/>
                    </a:gdLst>
                    <a:ahLst/>
                    <a:rect l="textAreaLeft" t="textAreaTop" r="textAreaRight" b="textAreaBottom"/>
                    <a:pathLst>
                      <a:path w="271" h="73">
                        <a:moveTo>
                          <a:pt x="203" y="0"/>
                        </a:moveTo>
                        <a:lnTo>
                          <a:pt x="68" y="0"/>
                        </a:lnTo>
                        <a:lnTo>
                          <a:pt x="0" y="18"/>
                        </a:lnTo>
                        <a:lnTo>
                          <a:pt x="0" y="54"/>
                        </a:lnTo>
                        <a:lnTo>
                          <a:pt x="68" y="73"/>
                        </a:lnTo>
                        <a:lnTo>
                          <a:pt x="137" y="54"/>
                        </a:lnTo>
                        <a:lnTo>
                          <a:pt x="68" y="37"/>
                        </a:lnTo>
                        <a:lnTo>
                          <a:pt x="137" y="18"/>
                        </a:lnTo>
                        <a:lnTo>
                          <a:pt x="203" y="37"/>
                        </a:lnTo>
                        <a:lnTo>
                          <a:pt x="271" y="18"/>
                        </a:lnTo>
                        <a:lnTo>
                          <a:pt x="203" y="0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521" name="Group 298"/>
                <p:cNvGrpSpPr/>
                <p:nvPr/>
              </p:nvGrpSpPr>
              <p:grpSpPr>
                <a:xfrm>
                  <a:off x="3151080" y="4865760"/>
                  <a:ext cx="486360" cy="239760"/>
                  <a:chOff x="3151080" y="4865760"/>
                  <a:chExt cx="486360" cy="239760"/>
                </a:xfrm>
              </p:grpSpPr>
              <p:grpSp>
                <p:nvGrpSpPr>
                  <p:cNvPr id="522" name="Group 299"/>
                  <p:cNvGrpSpPr/>
                  <p:nvPr/>
                </p:nvGrpSpPr>
                <p:grpSpPr>
                  <a:xfrm>
                    <a:off x="3152880" y="4926960"/>
                    <a:ext cx="484560" cy="178560"/>
                    <a:chOff x="3152880" y="4926960"/>
                    <a:chExt cx="484560" cy="178560"/>
                  </a:xfrm>
                </p:grpSpPr>
                <p:sp>
                  <p:nvSpPr>
                    <p:cNvPr id="523" name="Freeform 300"/>
                    <p:cNvSpPr/>
                    <p:nvPr/>
                  </p:nvSpPr>
                  <p:spPr>
                    <a:xfrm flipH="1">
                      <a:off x="3152880" y="4952160"/>
                      <a:ext cx="14400" cy="10512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4" name="Freeform 301"/>
                    <p:cNvSpPr/>
                    <p:nvPr/>
                  </p:nvSpPr>
                  <p:spPr>
                    <a:xfrm flipH="1">
                      <a:off x="3167640" y="4952160"/>
                      <a:ext cx="13680" cy="10512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5" name="Freeform 302"/>
                    <p:cNvSpPr/>
                    <p:nvPr/>
                  </p:nvSpPr>
                  <p:spPr>
                    <a:xfrm flipH="1">
                      <a:off x="3623040" y="4926960"/>
                      <a:ext cx="14400" cy="10512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4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6" name="Freeform 303"/>
                    <p:cNvSpPr/>
                    <p:nvPr/>
                  </p:nvSpPr>
                  <p:spPr>
                    <a:xfrm flipH="1">
                      <a:off x="3609360" y="4926960"/>
                      <a:ext cx="13680" cy="10512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4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7" name="Freeform 304"/>
                    <p:cNvSpPr/>
                    <p:nvPr/>
                  </p:nvSpPr>
                  <p:spPr>
                    <a:xfrm flipH="1">
                      <a:off x="3331080" y="5001120"/>
                      <a:ext cx="14760" cy="10440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8" name="Freeform 305"/>
                    <p:cNvSpPr/>
                    <p:nvPr/>
                  </p:nvSpPr>
                  <p:spPr>
                    <a:xfrm flipH="1">
                      <a:off x="3346920" y="5001120"/>
                      <a:ext cx="12960" cy="104400"/>
                    </a:xfrm>
                    <a:custGeom>
                      <a:avLst/>
                      <a:gdLst>
                        <a:gd name="textAreaLeft" fmla="*/ 360 w 12960"/>
                        <a:gd name="textAreaRight" fmla="*/ 13680 w 129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529" name="Group 306"/>
                  <p:cNvGrpSpPr/>
                  <p:nvPr/>
                </p:nvGrpSpPr>
                <p:grpSpPr>
                  <a:xfrm>
                    <a:off x="3151080" y="4865760"/>
                    <a:ext cx="486360" cy="155160"/>
                    <a:chOff x="3151080" y="4865760"/>
                    <a:chExt cx="486360" cy="155160"/>
                  </a:xfrm>
                </p:grpSpPr>
                <p:sp>
                  <p:nvSpPr>
                    <p:cNvPr id="530" name="Freeform 307"/>
                    <p:cNvSpPr/>
                    <p:nvPr/>
                  </p:nvSpPr>
                  <p:spPr>
                    <a:xfrm>
                      <a:off x="3341880" y="4916520"/>
                      <a:ext cx="295560" cy="104400"/>
                    </a:xfrm>
                    <a:custGeom>
                      <a:avLst/>
                      <a:gdLst>
                        <a:gd name="textAreaLeft" fmla="*/ 0 w 295560"/>
                        <a:gd name="textAreaRight" fmla="*/ 295920 w 2955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588" h="208">
                          <a:moveTo>
                            <a:pt x="582" y="4"/>
                          </a:moveTo>
                          <a:cubicBezTo>
                            <a:pt x="578" y="1"/>
                            <a:pt x="573" y="0"/>
                            <a:pt x="568" y="1"/>
                          </a:cubicBezTo>
                          <a:cubicBezTo>
                            <a:pt x="558" y="3"/>
                            <a:pt x="558" y="3"/>
                            <a:pt x="558" y="3"/>
                          </a:cubicBezTo>
                          <a:cubicBezTo>
                            <a:pt x="37" y="143"/>
                            <a:pt x="37" y="143"/>
                            <a:pt x="37" y="143"/>
                          </a:cubicBezTo>
                          <a:cubicBezTo>
                            <a:pt x="27" y="146"/>
                            <a:pt x="27" y="146"/>
                            <a:pt x="27" y="146"/>
                          </a:cubicBezTo>
                          <a:cubicBezTo>
                            <a:pt x="21" y="149"/>
                            <a:pt x="14" y="154"/>
                            <a:pt x="9" y="161"/>
                          </a:cubicBezTo>
                          <a:cubicBezTo>
                            <a:pt x="4" y="167"/>
                            <a:pt x="2" y="173"/>
                            <a:pt x="0" y="179"/>
                          </a:cubicBezTo>
                          <a:cubicBezTo>
                            <a:pt x="0" y="194"/>
                            <a:pt x="0" y="194"/>
                            <a:pt x="0" y="194"/>
                          </a:cubicBezTo>
                          <a:cubicBezTo>
                            <a:pt x="1" y="198"/>
                            <a:pt x="3" y="202"/>
                            <a:pt x="7" y="204"/>
                          </a:cubicBezTo>
                          <a:cubicBezTo>
                            <a:pt x="10" y="207"/>
                            <a:pt x="15" y="208"/>
                            <a:pt x="19" y="208"/>
                          </a:cubicBezTo>
                          <a:cubicBezTo>
                            <a:pt x="31" y="204"/>
                            <a:pt x="31" y="204"/>
                            <a:pt x="31" y="204"/>
                          </a:cubicBezTo>
                          <a:cubicBezTo>
                            <a:pt x="550" y="65"/>
                            <a:pt x="550" y="65"/>
                            <a:pt x="550" y="65"/>
                          </a:cubicBezTo>
                          <a:cubicBezTo>
                            <a:pt x="562" y="62"/>
                            <a:pt x="562" y="62"/>
                            <a:pt x="562" y="62"/>
                          </a:cubicBezTo>
                          <a:cubicBezTo>
                            <a:pt x="568" y="59"/>
                            <a:pt x="574" y="54"/>
                            <a:pt x="579" y="48"/>
                          </a:cubicBezTo>
                          <a:cubicBezTo>
                            <a:pt x="584" y="42"/>
                            <a:pt x="587" y="36"/>
                            <a:pt x="588" y="30"/>
                          </a:cubicBezTo>
                          <a:cubicBezTo>
                            <a:pt x="588" y="14"/>
                            <a:pt x="588" y="14"/>
                            <a:pt x="588" y="14"/>
                          </a:cubicBezTo>
                          <a:cubicBezTo>
                            <a:pt x="587" y="10"/>
                            <a:pt x="585" y="7"/>
                            <a:pt x="582" y="4"/>
                          </a:cubicBez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1" name="Freeform 308"/>
                    <p:cNvSpPr/>
                    <p:nvPr/>
                  </p:nvSpPr>
                  <p:spPr>
                    <a:xfrm>
                      <a:off x="3341880" y="4988520"/>
                      <a:ext cx="30240" cy="3240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32400"/>
                        <a:gd name="textAreaBottom" fmla="*/ 32760 h 32400"/>
                      </a:gdLst>
                      <a:ahLst/>
                      <a:rect l="textAreaLeft" t="textAreaTop" r="textAreaRight" b="textAreaBottom"/>
                      <a:pathLst>
                        <a:path w="61" h="65">
                          <a:moveTo>
                            <a:pt x="48" y="47"/>
                          </a:moveTo>
                          <a:cubicBezTo>
                            <a:pt x="60" y="31"/>
                            <a:pt x="61" y="12"/>
                            <a:pt x="50" y="4"/>
                          </a:cubicBezTo>
                          <a:cubicBezTo>
                            <a:pt x="47" y="1"/>
                            <a:pt x="42" y="0"/>
                            <a:pt x="37" y="0"/>
                          </a:cubicBezTo>
                          <a:cubicBezTo>
                            <a:pt x="27" y="3"/>
                            <a:pt x="27" y="3"/>
                            <a:pt x="27" y="3"/>
                          </a:cubicBezTo>
                          <a:cubicBezTo>
                            <a:pt x="21" y="6"/>
                            <a:pt x="14" y="11"/>
                            <a:pt x="9" y="18"/>
                          </a:cubicBezTo>
                          <a:cubicBezTo>
                            <a:pt x="4" y="24"/>
                            <a:pt x="2" y="30"/>
                            <a:pt x="0" y="36"/>
                          </a:cubicBezTo>
                          <a:cubicBezTo>
                            <a:pt x="0" y="51"/>
                            <a:pt x="0" y="51"/>
                            <a:pt x="0" y="51"/>
                          </a:cubicBezTo>
                          <a:cubicBezTo>
                            <a:pt x="1" y="55"/>
                            <a:pt x="3" y="59"/>
                            <a:pt x="7" y="61"/>
                          </a:cubicBezTo>
                          <a:cubicBezTo>
                            <a:pt x="10" y="64"/>
                            <a:pt x="15" y="65"/>
                            <a:pt x="19" y="65"/>
                          </a:cubicBezTo>
                          <a:cubicBezTo>
                            <a:pt x="31" y="61"/>
                            <a:pt x="31" y="61"/>
                            <a:pt x="31" y="61"/>
                          </a:cubicBezTo>
                          <a:cubicBezTo>
                            <a:pt x="37" y="58"/>
                            <a:pt x="43" y="54"/>
                            <a:pt x="48" y="47"/>
                          </a:cubicBez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2" name="Freeform 309"/>
                    <p:cNvSpPr/>
                    <p:nvPr/>
                  </p:nvSpPr>
                  <p:spPr>
                    <a:xfrm>
                      <a:off x="3607200" y="4916520"/>
                      <a:ext cx="30240" cy="3240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32400"/>
                        <a:gd name="textAreaBottom" fmla="*/ 32760 h 32400"/>
                      </a:gdLst>
                      <a:ahLst/>
                      <a:rect l="textAreaLeft" t="textAreaTop" r="textAreaRight" b="textAreaBottom"/>
                      <a:pathLst>
                        <a:path w="61" h="65">
                          <a:moveTo>
                            <a:pt x="13" y="18"/>
                          </a:moveTo>
                          <a:cubicBezTo>
                            <a:pt x="1" y="34"/>
                            <a:pt x="0" y="53"/>
                            <a:pt x="11" y="62"/>
                          </a:cubicBezTo>
                          <a:cubicBezTo>
                            <a:pt x="15" y="64"/>
                            <a:pt x="19" y="65"/>
                            <a:pt x="23" y="65"/>
                          </a:cubicBezTo>
                          <a:cubicBezTo>
                            <a:pt x="35" y="62"/>
                            <a:pt x="35" y="62"/>
                            <a:pt x="35" y="62"/>
                          </a:cubicBezTo>
                          <a:cubicBezTo>
                            <a:pt x="41" y="59"/>
                            <a:pt x="47" y="54"/>
                            <a:pt x="52" y="48"/>
                          </a:cubicBezTo>
                          <a:cubicBezTo>
                            <a:pt x="57" y="42"/>
                            <a:pt x="60" y="36"/>
                            <a:pt x="61" y="30"/>
                          </a:cubicBezTo>
                          <a:cubicBezTo>
                            <a:pt x="61" y="14"/>
                            <a:pt x="61" y="14"/>
                            <a:pt x="61" y="14"/>
                          </a:cubicBezTo>
                          <a:cubicBezTo>
                            <a:pt x="60" y="10"/>
                            <a:pt x="58" y="7"/>
                            <a:pt x="55" y="4"/>
                          </a:cubicBezTo>
                          <a:cubicBezTo>
                            <a:pt x="51" y="1"/>
                            <a:pt x="46" y="0"/>
                            <a:pt x="41" y="1"/>
                          </a:cubicBezTo>
                          <a:cubicBezTo>
                            <a:pt x="31" y="3"/>
                            <a:pt x="31" y="3"/>
                            <a:pt x="31" y="3"/>
                          </a:cubicBezTo>
                          <a:cubicBezTo>
                            <a:pt x="25" y="6"/>
                            <a:pt x="19" y="11"/>
                            <a:pt x="13" y="18"/>
                          </a:cubicBez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3" name="Freeform 310"/>
                    <p:cNvSpPr/>
                    <p:nvPr/>
                  </p:nvSpPr>
                  <p:spPr>
                    <a:xfrm>
                      <a:off x="3489480" y="4946040"/>
                      <a:ext cx="32400" cy="36360"/>
                    </a:xfrm>
                    <a:custGeom>
                      <a:avLst/>
                      <a:gdLst>
                        <a:gd name="textAreaLeft" fmla="*/ 0 w 32400"/>
                        <a:gd name="textAreaRight" fmla="*/ 32760 w 32400"/>
                        <a:gd name="textAreaTop" fmla="*/ 0 h 36360"/>
                        <a:gd name="textAreaBottom" fmla="*/ 36720 h 36360"/>
                      </a:gdLst>
                      <a:ahLst/>
                      <a:rect l="textAreaLeft" t="textAreaTop" r="textAreaRight" b="textAreaBottom"/>
                      <a:pathLst>
                        <a:path w="65" h="73">
                          <a:moveTo>
                            <a:pt x="11" y="65"/>
                          </a:moveTo>
                          <a:cubicBezTo>
                            <a:pt x="22" y="73"/>
                            <a:pt x="40" y="67"/>
                            <a:pt x="52" y="51"/>
                          </a:cubicBezTo>
                          <a:cubicBezTo>
                            <a:pt x="64" y="36"/>
                            <a:pt x="65" y="16"/>
                            <a:pt x="55" y="8"/>
                          </a:cubicBezTo>
                          <a:cubicBezTo>
                            <a:pt x="44" y="0"/>
                            <a:pt x="25" y="6"/>
                            <a:pt x="13" y="22"/>
                          </a:cubicBezTo>
                          <a:cubicBezTo>
                            <a:pt x="1" y="38"/>
                            <a:pt x="0" y="57"/>
                            <a:pt x="11" y="65"/>
                          </a:cubicBez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4" name="Freeform 311"/>
                    <p:cNvSpPr/>
                    <p:nvPr/>
                  </p:nvSpPr>
                  <p:spPr>
                    <a:xfrm>
                      <a:off x="3164400" y="4865760"/>
                      <a:ext cx="462960" cy="124200"/>
                    </a:xfrm>
                    <a:custGeom>
                      <a:avLst/>
                      <a:gdLst>
                        <a:gd name="textAreaLeft" fmla="*/ 0 w 462960"/>
                        <a:gd name="textAreaRight" fmla="*/ 463320 w 462960"/>
                        <a:gd name="textAreaTop" fmla="*/ 0 h 124200"/>
                        <a:gd name="textAreaBottom" fmla="*/ 124560 h 124200"/>
                      </a:gdLst>
                      <a:ahLst/>
                      <a:rect l="textAreaLeft" t="textAreaTop" r="textAreaRight" b="textAreaBottom"/>
                      <a:pathLst>
                        <a:path w="2174" h="584">
                          <a:moveTo>
                            <a:pt x="0" y="343"/>
                          </a:moveTo>
                          <a:lnTo>
                            <a:pt x="1278" y="0"/>
                          </a:lnTo>
                          <a:lnTo>
                            <a:pt x="2174" y="241"/>
                          </a:lnTo>
                          <a:lnTo>
                            <a:pt x="896" y="584"/>
                          </a:lnTo>
                          <a:lnTo>
                            <a:pt x="0" y="343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5" name="Freeform 312"/>
                    <p:cNvSpPr/>
                    <p:nvPr/>
                  </p:nvSpPr>
                  <p:spPr>
                    <a:xfrm>
                      <a:off x="3151080" y="4938840"/>
                      <a:ext cx="204120" cy="80640"/>
                    </a:xfrm>
                    <a:custGeom>
                      <a:avLst/>
                      <a:gdLst>
                        <a:gd name="textAreaLeft" fmla="*/ 0 w 204120"/>
                        <a:gd name="textAreaRight" fmla="*/ 204480 w 204120"/>
                        <a:gd name="textAreaTop" fmla="*/ 0 h 80640"/>
                        <a:gd name="textAreaBottom" fmla="*/ 81000 h 80640"/>
                      </a:gdLst>
                      <a:ahLst/>
                      <a:rect l="textAreaLeft" t="textAreaTop" r="textAreaRight" b="textAreaBottom"/>
                      <a:pathLst>
                        <a:path w="406" h="161">
                          <a:moveTo>
                            <a:pt x="27" y="0"/>
                          </a:moveTo>
                          <a:cubicBezTo>
                            <a:pt x="27" y="0"/>
                            <a:pt x="27" y="0"/>
                            <a:pt x="27" y="0"/>
                          </a:cubicBezTo>
                          <a:cubicBezTo>
                            <a:pt x="20" y="3"/>
                            <a:pt x="14" y="8"/>
                            <a:pt x="9" y="15"/>
                          </a:cubicBezTo>
                          <a:cubicBezTo>
                            <a:pt x="4" y="21"/>
                            <a:pt x="1" y="27"/>
                            <a:pt x="0" y="34"/>
                          </a:cubicBezTo>
                          <a:cubicBezTo>
                            <a:pt x="0" y="48"/>
                            <a:pt x="0" y="48"/>
                            <a:pt x="0" y="48"/>
                          </a:cubicBezTo>
                          <a:cubicBezTo>
                            <a:pt x="1" y="52"/>
                            <a:pt x="3" y="56"/>
                            <a:pt x="7" y="58"/>
                          </a:cubicBezTo>
                          <a:cubicBezTo>
                            <a:pt x="10" y="61"/>
                            <a:pt x="14" y="62"/>
                            <a:pt x="19" y="62"/>
                          </a:cubicBezTo>
                          <a:cubicBezTo>
                            <a:pt x="387" y="161"/>
                            <a:pt x="387" y="161"/>
                            <a:pt x="387" y="161"/>
                          </a:cubicBezTo>
                          <a:cubicBezTo>
                            <a:pt x="386" y="160"/>
                            <a:pt x="386" y="160"/>
                            <a:pt x="386" y="160"/>
                          </a:cubicBezTo>
                          <a:cubicBezTo>
                            <a:pt x="382" y="158"/>
                            <a:pt x="380" y="154"/>
                            <a:pt x="379" y="150"/>
                          </a:cubicBezTo>
                          <a:cubicBezTo>
                            <a:pt x="379" y="135"/>
                            <a:pt x="379" y="135"/>
                            <a:pt x="379" y="135"/>
                          </a:cubicBezTo>
                          <a:cubicBezTo>
                            <a:pt x="381" y="129"/>
                            <a:pt x="383" y="123"/>
                            <a:pt x="388" y="117"/>
                          </a:cubicBezTo>
                          <a:cubicBezTo>
                            <a:pt x="393" y="110"/>
                            <a:pt x="400" y="105"/>
                            <a:pt x="406" y="102"/>
                          </a:cubicBez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6" name="Freeform 313"/>
                    <p:cNvSpPr/>
                    <p:nvPr/>
                  </p:nvSpPr>
                  <p:spPr>
                    <a:xfrm>
                      <a:off x="3345840" y="4889880"/>
                      <a:ext cx="190800" cy="51120"/>
                    </a:xfrm>
                    <a:custGeom>
                      <a:avLst/>
                      <a:gdLst>
                        <a:gd name="textAreaLeft" fmla="*/ 0 w 190800"/>
                        <a:gd name="textAreaRight" fmla="*/ 191160 w 19080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7" h="241">
                          <a:moveTo>
                            <a:pt x="897" y="241"/>
                          </a:moveTo>
                          <a:lnTo>
                            <a:pt x="0" y="0"/>
                          </a:lnTo>
                          <a:lnTo>
                            <a:pt x="897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7" name="Line 314"/>
                    <p:cNvSpPr/>
                    <p:nvPr/>
                  </p:nvSpPr>
                  <p:spPr>
                    <a:xfrm flipH="1" flipV="1">
                      <a:off x="3345840" y="4889520"/>
                      <a:ext cx="191160" cy="5148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8" name="Freeform 315"/>
                    <p:cNvSpPr/>
                    <p:nvPr/>
                  </p:nvSpPr>
                  <p:spPr>
                    <a:xfrm>
                      <a:off x="3300480" y="4902480"/>
                      <a:ext cx="190800" cy="50400"/>
                    </a:xfrm>
                    <a:custGeom>
                      <a:avLst/>
                      <a:gdLst>
                        <a:gd name="textAreaLeft" fmla="*/ 0 w 190800"/>
                        <a:gd name="textAreaRight" fmla="*/ 191160 w 190800"/>
                        <a:gd name="textAreaTop" fmla="*/ 0 h 50400"/>
                        <a:gd name="textAreaBottom" fmla="*/ 50760 h 50400"/>
                      </a:gdLst>
                      <a:ahLst/>
                      <a:rect l="textAreaLeft" t="textAreaTop" r="textAreaRight" b="textAreaBottom"/>
                      <a:pathLst>
                        <a:path w="896" h="238">
                          <a:moveTo>
                            <a:pt x="896" y="238"/>
                          </a:moveTo>
                          <a:lnTo>
                            <a:pt x="0" y="0"/>
                          </a:lnTo>
                          <a:lnTo>
                            <a:pt x="896" y="23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9" name="Line 316"/>
                    <p:cNvSpPr/>
                    <p:nvPr/>
                  </p:nvSpPr>
                  <p:spPr>
                    <a:xfrm flipH="1" flipV="1">
                      <a:off x="3300480" y="4902480"/>
                      <a:ext cx="190800" cy="5076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0" name="Freeform 317"/>
                    <p:cNvSpPr/>
                    <p:nvPr/>
                  </p:nvSpPr>
                  <p:spPr>
                    <a:xfrm>
                      <a:off x="3255120" y="4914360"/>
                      <a:ext cx="190440" cy="51120"/>
                    </a:xfrm>
                    <a:custGeom>
                      <a:avLst/>
                      <a:gdLst>
                        <a:gd name="textAreaLeft" fmla="*/ 0 w 190440"/>
                        <a:gd name="textAreaRight" fmla="*/ 190800 w 19044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5" h="241">
                          <a:moveTo>
                            <a:pt x="895" y="241"/>
                          </a:moveTo>
                          <a:lnTo>
                            <a:pt x="0" y="0"/>
                          </a:lnTo>
                          <a:lnTo>
                            <a:pt x="895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1" name="Line 318"/>
                    <p:cNvSpPr/>
                    <p:nvPr/>
                  </p:nvSpPr>
                  <p:spPr>
                    <a:xfrm flipH="1" flipV="1">
                      <a:off x="3255120" y="4914360"/>
                      <a:ext cx="190800" cy="5112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2" name="Freeform 319"/>
                    <p:cNvSpPr/>
                    <p:nvPr/>
                  </p:nvSpPr>
                  <p:spPr>
                    <a:xfrm>
                      <a:off x="3391200" y="4877640"/>
                      <a:ext cx="191160" cy="51120"/>
                    </a:xfrm>
                    <a:custGeom>
                      <a:avLst/>
                      <a:gdLst>
                        <a:gd name="textAreaLeft" fmla="*/ 0 w 191160"/>
                        <a:gd name="textAreaRight" fmla="*/ 191520 w 19116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8" h="241">
                          <a:moveTo>
                            <a:pt x="898" y="241"/>
                          </a:moveTo>
                          <a:lnTo>
                            <a:pt x="0" y="0"/>
                          </a:lnTo>
                          <a:lnTo>
                            <a:pt x="898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3" name="Line 320"/>
                    <p:cNvSpPr/>
                    <p:nvPr/>
                  </p:nvSpPr>
                  <p:spPr>
                    <a:xfrm flipH="1" flipV="1">
                      <a:off x="3390840" y="4877640"/>
                      <a:ext cx="191520" cy="5148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4" name="Freeform 321"/>
                    <p:cNvSpPr/>
                    <p:nvPr/>
                  </p:nvSpPr>
                  <p:spPr>
                    <a:xfrm>
                      <a:off x="3209760" y="4926600"/>
                      <a:ext cx="190440" cy="51120"/>
                    </a:xfrm>
                    <a:custGeom>
                      <a:avLst/>
                      <a:gdLst>
                        <a:gd name="textAreaLeft" fmla="*/ 0 w 190440"/>
                        <a:gd name="textAreaRight" fmla="*/ 190800 w 19044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5" h="241">
                          <a:moveTo>
                            <a:pt x="895" y="241"/>
                          </a:moveTo>
                          <a:lnTo>
                            <a:pt x="0" y="0"/>
                          </a:lnTo>
                          <a:lnTo>
                            <a:pt x="895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5" name="Line 322"/>
                    <p:cNvSpPr/>
                    <p:nvPr/>
                  </p:nvSpPr>
                  <p:spPr>
                    <a:xfrm flipH="1" flipV="1">
                      <a:off x="3209760" y="4926600"/>
                      <a:ext cx="190800" cy="5112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546" name="Group 323"/>
                <p:cNvGrpSpPr/>
                <p:nvPr/>
              </p:nvGrpSpPr>
              <p:grpSpPr>
                <a:xfrm>
                  <a:off x="3324960" y="4858200"/>
                  <a:ext cx="113760" cy="89280"/>
                  <a:chOff x="3324960" y="4858200"/>
                  <a:chExt cx="113760" cy="89280"/>
                </a:xfrm>
              </p:grpSpPr>
              <p:sp>
                <p:nvSpPr>
                  <p:cNvPr id="547" name="Freeform 324"/>
                  <p:cNvSpPr/>
                  <p:nvPr/>
                </p:nvSpPr>
                <p:spPr>
                  <a:xfrm flipH="1">
                    <a:off x="3324960" y="4858200"/>
                    <a:ext cx="113760" cy="30600"/>
                  </a:xfrm>
                  <a:custGeom>
                    <a:avLst/>
                    <a:gdLst>
                      <a:gd name="textAreaLeft" fmla="*/ 360 w 113760"/>
                      <a:gd name="textAreaRight" fmla="*/ 114480 w 113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48" name="Freeform 325"/>
                  <p:cNvSpPr/>
                  <p:nvPr/>
                </p:nvSpPr>
                <p:spPr>
                  <a:xfrm flipH="1">
                    <a:off x="3324960" y="4873680"/>
                    <a:ext cx="56880" cy="73800"/>
                  </a:xfrm>
                  <a:custGeom>
                    <a:avLst/>
                    <a:gdLst>
                      <a:gd name="textAreaLeft" fmla="*/ 360 w 56880"/>
                      <a:gd name="textAreaRight" fmla="*/ 57600 w 56880"/>
                      <a:gd name="textAreaTop" fmla="*/ 0 h 73800"/>
                      <a:gd name="textAreaBottom" fmla="*/ 74160 h 7380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49" name="Freeform 326"/>
                  <p:cNvSpPr/>
                  <p:nvPr/>
                </p:nvSpPr>
                <p:spPr>
                  <a:xfrm flipH="1">
                    <a:off x="3381480" y="4873680"/>
                    <a:ext cx="56520" cy="73800"/>
                  </a:xfrm>
                  <a:custGeom>
                    <a:avLst/>
                    <a:gdLst>
                      <a:gd name="textAreaLeft" fmla="*/ -360 w 56520"/>
                      <a:gd name="textAreaRight" fmla="*/ 56520 w 56520"/>
                      <a:gd name="textAreaTop" fmla="*/ 0 h 73800"/>
                      <a:gd name="textAreaBottom" fmla="*/ 74160 h 7380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550" name="Group 710"/>
            <p:cNvGrpSpPr/>
            <p:nvPr/>
          </p:nvGrpSpPr>
          <p:grpSpPr>
            <a:xfrm>
              <a:off x="3831840" y="4412880"/>
              <a:ext cx="1746360" cy="478440"/>
              <a:chOff x="3831840" y="4412880"/>
              <a:chExt cx="1746360" cy="478440"/>
            </a:xfrm>
          </p:grpSpPr>
          <p:sp>
            <p:nvSpPr>
              <p:cNvPr id="551" name="Freeform 328"/>
              <p:cNvSpPr/>
              <p:nvPr/>
            </p:nvSpPr>
            <p:spPr>
              <a:xfrm>
                <a:off x="3831840" y="4423680"/>
                <a:ext cx="1746360" cy="467640"/>
              </a:xfrm>
              <a:custGeom>
                <a:avLst/>
                <a:gdLst>
                  <a:gd name="textAreaLeft" fmla="*/ 0 w 1746360"/>
                  <a:gd name="textAreaRight" fmla="*/ 1746720 w 174636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552" name="Group 329"/>
              <p:cNvGrpSpPr/>
              <p:nvPr/>
            </p:nvGrpSpPr>
            <p:grpSpPr>
              <a:xfrm>
                <a:off x="4321440" y="4412880"/>
                <a:ext cx="777960" cy="349920"/>
                <a:chOff x="4321440" y="4412880"/>
                <a:chExt cx="777960" cy="349920"/>
              </a:xfrm>
            </p:grpSpPr>
            <p:grpSp>
              <p:nvGrpSpPr>
                <p:cNvPr id="553" name="Group 330"/>
                <p:cNvGrpSpPr/>
                <p:nvPr/>
              </p:nvGrpSpPr>
              <p:grpSpPr>
                <a:xfrm>
                  <a:off x="4904280" y="4682880"/>
                  <a:ext cx="195120" cy="79920"/>
                  <a:chOff x="4904280" y="4682880"/>
                  <a:chExt cx="195120" cy="79920"/>
                </a:xfrm>
              </p:grpSpPr>
              <p:sp>
                <p:nvSpPr>
                  <p:cNvPr id="554" name="Freeform 331"/>
                  <p:cNvSpPr/>
                  <p:nvPr/>
                </p:nvSpPr>
                <p:spPr>
                  <a:xfrm>
                    <a:off x="4904280" y="4710240"/>
                    <a:ext cx="195120" cy="5220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1"/>
                        </a:moveTo>
                        <a:lnTo>
                          <a:pt x="453" y="0"/>
                        </a:lnTo>
                        <a:lnTo>
                          <a:pt x="904" y="121"/>
                        </a:lnTo>
                        <a:lnTo>
                          <a:pt x="453" y="244"/>
                        </a:lnTo>
                        <a:lnTo>
                          <a:pt x="0" y="1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5" name="Freeform 332"/>
                  <p:cNvSpPr/>
                  <p:nvPr/>
                </p:nvSpPr>
                <p:spPr>
                  <a:xfrm>
                    <a:off x="5002200" y="468936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97"/>
                        </a:moveTo>
                        <a:lnTo>
                          <a:pt x="0" y="0"/>
                        </a:lnTo>
                        <a:lnTo>
                          <a:pt x="451" y="123"/>
                        </a:lnTo>
                        <a:lnTo>
                          <a:pt x="451" y="218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6" name="Freeform 333"/>
                  <p:cNvSpPr/>
                  <p:nvPr/>
                </p:nvSpPr>
                <p:spPr>
                  <a:xfrm>
                    <a:off x="4904280" y="468936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453" y="97"/>
                        </a:moveTo>
                        <a:lnTo>
                          <a:pt x="453" y="0"/>
                        </a:lnTo>
                        <a:lnTo>
                          <a:pt x="0" y="123"/>
                        </a:lnTo>
                        <a:lnTo>
                          <a:pt x="0" y="218"/>
                        </a:lnTo>
                        <a:lnTo>
                          <a:pt x="453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7" name="Freeform 334"/>
                  <p:cNvSpPr/>
                  <p:nvPr/>
                </p:nvSpPr>
                <p:spPr>
                  <a:xfrm>
                    <a:off x="4931280" y="47113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8" name="Freeform 335"/>
                  <p:cNvSpPr/>
                  <p:nvPr/>
                </p:nvSpPr>
                <p:spPr>
                  <a:xfrm>
                    <a:off x="4932360" y="470952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1"/>
                        </a:lnTo>
                        <a:lnTo>
                          <a:pt x="288" y="179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9" name="Freeform 336"/>
                  <p:cNvSpPr/>
                  <p:nvPr/>
                </p:nvSpPr>
                <p:spPr>
                  <a:xfrm>
                    <a:off x="4931280" y="47066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0" name="Freeform 337"/>
                  <p:cNvSpPr/>
                  <p:nvPr/>
                </p:nvSpPr>
                <p:spPr>
                  <a:xfrm>
                    <a:off x="4932360" y="47044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1" name="Freeform 338"/>
                  <p:cNvSpPr/>
                  <p:nvPr/>
                </p:nvSpPr>
                <p:spPr>
                  <a:xfrm>
                    <a:off x="4931280" y="47016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2" name="Freeform 339"/>
                  <p:cNvSpPr/>
                  <p:nvPr/>
                </p:nvSpPr>
                <p:spPr>
                  <a:xfrm>
                    <a:off x="4932360" y="470016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3" name="Freeform 340"/>
                  <p:cNvSpPr/>
                  <p:nvPr/>
                </p:nvSpPr>
                <p:spPr>
                  <a:xfrm>
                    <a:off x="4931280" y="46969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4" name="Freeform 341"/>
                  <p:cNvSpPr/>
                  <p:nvPr/>
                </p:nvSpPr>
                <p:spPr>
                  <a:xfrm>
                    <a:off x="4932360" y="46951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5" name="Freeform 342"/>
                  <p:cNvSpPr/>
                  <p:nvPr/>
                </p:nvSpPr>
                <p:spPr>
                  <a:xfrm>
                    <a:off x="4931280" y="46926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6" name="Freeform 343"/>
                  <p:cNvSpPr/>
                  <p:nvPr/>
                </p:nvSpPr>
                <p:spPr>
                  <a:xfrm>
                    <a:off x="4932360" y="46904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7" name="Freeform 344"/>
                  <p:cNvSpPr/>
                  <p:nvPr/>
                </p:nvSpPr>
                <p:spPr>
                  <a:xfrm>
                    <a:off x="4931280" y="468756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8" name="Freeform 345"/>
                  <p:cNvSpPr/>
                  <p:nvPr/>
                </p:nvSpPr>
                <p:spPr>
                  <a:xfrm>
                    <a:off x="4932360" y="468576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9" name="Freeform 346"/>
                  <p:cNvSpPr/>
                  <p:nvPr/>
                </p:nvSpPr>
                <p:spPr>
                  <a:xfrm>
                    <a:off x="4931280" y="468288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0" name="Freeform 347"/>
                  <p:cNvSpPr/>
                  <p:nvPr/>
                </p:nvSpPr>
                <p:spPr>
                  <a:xfrm>
                    <a:off x="5002200" y="471600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218"/>
                        </a:moveTo>
                        <a:lnTo>
                          <a:pt x="0" y="121"/>
                        </a:lnTo>
                        <a:lnTo>
                          <a:pt x="451" y="0"/>
                        </a:lnTo>
                        <a:lnTo>
                          <a:pt x="451" y="95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1" name="Freeform 348"/>
                  <p:cNvSpPr/>
                  <p:nvPr/>
                </p:nvSpPr>
                <p:spPr>
                  <a:xfrm>
                    <a:off x="4904280" y="471600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453" y="218"/>
                        </a:lnTo>
                        <a:lnTo>
                          <a:pt x="453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572" name="Group 349"/>
                <p:cNvGrpSpPr/>
                <p:nvPr/>
              </p:nvGrpSpPr>
              <p:grpSpPr>
                <a:xfrm>
                  <a:off x="4899960" y="4523760"/>
                  <a:ext cx="195120" cy="79920"/>
                  <a:chOff x="4899960" y="4523760"/>
                  <a:chExt cx="195120" cy="79920"/>
                </a:xfrm>
              </p:grpSpPr>
              <p:sp>
                <p:nvSpPr>
                  <p:cNvPr id="573" name="Freeform 350"/>
                  <p:cNvSpPr/>
                  <p:nvPr/>
                </p:nvSpPr>
                <p:spPr>
                  <a:xfrm>
                    <a:off x="4899960" y="4551120"/>
                    <a:ext cx="195120" cy="5220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1"/>
                        </a:moveTo>
                        <a:lnTo>
                          <a:pt x="453" y="0"/>
                        </a:lnTo>
                        <a:lnTo>
                          <a:pt x="904" y="121"/>
                        </a:lnTo>
                        <a:lnTo>
                          <a:pt x="453" y="244"/>
                        </a:lnTo>
                        <a:lnTo>
                          <a:pt x="0" y="1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4" name="Freeform 351"/>
                  <p:cNvSpPr/>
                  <p:nvPr/>
                </p:nvSpPr>
                <p:spPr>
                  <a:xfrm>
                    <a:off x="4997880" y="453024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97"/>
                        </a:moveTo>
                        <a:lnTo>
                          <a:pt x="0" y="0"/>
                        </a:lnTo>
                        <a:lnTo>
                          <a:pt x="451" y="123"/>
                        </a:lnTo>
                        <a:lnTo>
                          <a:pt x="451" y="218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5" name="Freeform 352"/>
                  <p:cNvSpPr/>
                  <p:nvPr/>
                </p:nvSpPr>
                <p:spPr>
                  <a:xfrm>
                    <a:off x="4899960" y="453024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453" y="97"/>
                        </a:moveTo>
                        <a:lnTo>
                          <a:pt x="453" y="0"/>
                        </a:lnTo>
                        <a:lnTo>
                          <a:pt x="0" y="123"/>
                        </a:lnTo>
                        <a:lnTo>
                          <a:pt x="0" y="218"/>
                        </a:lnTo>
                        <a:lnTo>
                          <a:pt x="453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6" name="Freeform 353"/>
                  <p:cNvSpPr/>
                  <p:nvPr/>
                </p:nvSpPr>
                <p:spPr>
                  <a:xfrm>
                    <a:off x="4926960" y="45522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7" name="Freeform 354"/>
                  <p:cNvSpPr/>
                  <p:nvPr/>
                </p:nvSpPr>
                <p:spPr>
                  <a:xfrm>
                    <a:off x="4928040" y="45504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1"/>
                        </a:lnTo>
                        <a:lnTo>
                          <a:pt x="288" y="179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8" name="Freeform 355"/>
                  <p:cNvSpPr/>
                  <p:nvPr/>
                </p:nvSpPr>
                <p:spPr>
                  <a:xfrm>
                    <a:off x="4926960" y="45478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9" name="Freeform 356"/>
                  <p:cNvSpPr/>
                  <p:nvPr/>
                </p:nvSpPr>
                <p:spPr>
                  <a:xfrm>
                    <a:off x="4928040" y="45457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0" name="Freeform 357"/>
                  <p:cNvSpPr/>
                  <p:nvPr/>
                </p:nvSpPr>
                <p:spPr>
                  <a:xfrm>
                    <a:off x="4926960" y="45424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1" name="Freeform 358"/>
                  <p:cNvSpPr/>
                  <p:nvPr/>
                </p:nvSpPr>
                <p:spPr>
                  <a:xfrm>
                    <a:off x="4928040" y="454104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2" name="Freeform 359"/>
                  <p:cNvSpPr/>
                  <p:nvPr/>
                </p:nvSpPr>
                <p:spPr>
                  <a:xfrm>
                    <a:off x="4926960" y="453816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3" name="Freeform 360"/>
                  <p:cNvSpPr/>
                  <p:nvPr/>
                </p:nvSpPr>
                <p:spPr>
                  <a:xfrm>
                    <a:off x="4928040" y="45360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4" name="Freeform 361"/>
                  <p:cNvSpPr/>
                  <p:nvPr/>
                </p:nvSpPr>
                <p:spPr>
                  <a:xfrm>
                    <a:off x="4926960" y="453348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5" name="Freeform 362"/>
                  <p:cNvSpPr/>
                  <p:nvPr/>
                </p:nvSpPr>
                <p:spPr>
                  <a:xfrm>
                    <a:off x="4928040" y="45313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6" name="Freeform 363"/>
                  <p:cNvSpPr/>
                  <p:nvPr/>
                </p:nvSpPr>
                <p:spPr>
                  <a:xfrm>
                    <a:off x="4926960" y="45284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7" name="Freeform 364"/>
                  <p:cNvSpPr/>
                  <p:nvPr/>
                </p:nvSpPr>
                <p:spPr>
                  <a:xfrm>
                    <a:off x="4928040" y="452664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8" name="Freeform 365"/>
                  <p:cNvSpPr/>
                  <p:nvPr/>
                </p:nvSpPr>
                <p:spPr>
                  <a:xfrm>
                    <a:off x="4926960" y="452376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9" name="Freeform 366"/>
                  <p:cNvSpPr/>
                  <p:nvPr/>
                </p:nvSpPr>
                <p:spPr>
                  <a:xfrm>
                    <a:off x="4997880" y="455688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218"/>
                        </a:moveTo>
                        <a:lnTo>
                          <a:pt x="0" y="121"/>
                        </a:lnTo>
                        <a:lnTo>
                          <a:pt x="451" y="0"/>
                        </a:lnTo>
                        <a:lnTo>
                          <a:pt x="451" y="95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0" name="Freeform 367"/>
                  <p:cNvSpPr/>
                  <p:nvPr/>
                </p:nvSpPr>
                <p:spPr>
                  <a:xfrm>
                    <a:off x="4899960" y="455688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453" y="218"/>
                        </a:lnTo>
                        <a:lnTo>
                          <a:pt x="453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591" name="Group 368"/>
                <p:cNvGrpSpPr/>
                <p:nvPr/>
              </p:nvGrpSpPr>
              <p:grpSpPr>
                <a:xfrm>
                  <a:off x="4321440" y="4526640"/>
                  <a:ext cx="195120" cy="79560"/>
                  <a:chOff x="4321440" y="4526640"/>
                  <a:chExt cx="195120" cy="79560"/>
                </a:xfrm>
              </p:grpSpPr>
              <p:sp>
                <p:nvSpPr>
                  <p:cNvPr id="592" name="Freeform 369"/>
                  <p:cNvSpPr/>
                  <p:nvPr/>
                </p:nvSpPr>
                <p:spPr>
                  <a:xfrm>
                    <a:off x="4321440" y="4554000"/>
                    <a:ext cx="195120" cy="5220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1"/>
                        </a:moveTo>
                        <a:lnTo>
                          <a:pt x="453" y="0"/>
                        </a:lnTo>
                        <a:lnTo>
                          <a:pt x="904" y="121"/>
                        </a:lnTo>
                        <a:lnTo>
                          <a:pt x="453" y="244"/>
                        </a:lnTo>
                        <a:lnTo>
                          <a:pt x="0" y="1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3" name="Freeform 370"/>
                  <p:cNvSpPr/>
                  <p:nvPr/>
                </p:nvSpPr>
                <p:spPr>
                  <a:xfrm>
                    <a:off x="4419360" y="453276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97"/>
                        </a:moveTo>
                        <a:lnTo>
                          <a:pt x="0" y="0"/>
                        </a:lnTo>
                        <a:lnTo>
                          <a:pt x="451" y="123"/>
                        </a:lnTo>
                        <a:lnTo>
                          <a:pt x="451" y="218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4" name="Freeform 371"/>
                  <p:cNvSpPr/>
                  <p:nvPr/>
                </p:nvSpPr>
                <p:spPr>
                  <a:xfrm>
                    <a:off x="4321440" y="453276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453" y="97"/>
                        </a:moveTo>
                        <a:lnTo>
                          <a:pt x="453" y="0"/>
                        </a:lnTo>
                        <a:lnTo>
                          <a:pt x="0" y="123"/>
                        </a:lnTo>
                        <a:lnTo>
                          <a:pt x="0" y="218"/>
                        </a:lnTo>
                        <a:lnTo>
                          <a:pt x="453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5" name="Freeform 372"/>
                  <p:cNvSpPr/>
                  <p:nvPr/>
                </p:nvSpPr>
                <p:spPr>
                  <a:xfrm>
                    <a:off x="4348440" y="45550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6" name="Freeform 373"/>
                  <p:cNvSpPr/>
                  <p:nvPr/>
                </p:nvSpPr>
                <p:spPr>
                  <a:xfrm>
                    <a:off x="4349520" y="455292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1"/>
                        </a:lnTo>
                        <a:lnTo>
                          <a:pt x="288" y="179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7" name="Freeform 374"/>
                  <p:cNvSpPr/>
                  <p:nvPr/>
                </p:nvSpPr>
                <p:spPr>
                  <a:xfrm>
                    <a:off x="4348440" y="45504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8" name="Freeform 375"/>
                  <p:cNvSpPr/>
                  <p:nvPr/>
                </p:nvSpPr>
                <p:spPr>
                  <a:xfrm>
                    <a:off x="4349520" y="45482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9" name="Freeform 376"/>
                  <p:cNvSpPr/>
                  <p:nvPr/>
                </p:nvSpPr>
                <p:spPr>
                  <a:xfrm>
                    <a:off x="4348440" y="454536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0" name="Freeform 377"/>
                  <p:cNvSpPr/>
                  <p:nvPr/>
                </p:nvSpPr>
                <p:spPr>
                  <a:xfrm>
                    <a:off x="4349520" y="454356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1" name="Freeform 378"/>
                  <p:cNvSpPr/>
                  <p:nvPr/>
                </p:nvSpPr>
                <p:spPr>
                  <a:xfrm>
                    <a:off x="4348440" y="45406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2" name="Freeform 379"/>
                  <p:cNvSpPr/>
                  <p:nvPr/>
                </p:nvSpPr>
                <p:spPr>
                  <a:xfrm>
                    <a:off x="4349520" y="45385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3" name="Freeform 380"/>
                  <p:cNvSpPr/>
                  <p:nvPr/>
                </p:nvSpPr>
                <p:spPr>
                  <a:xfrm>
                    <a:off x="4348440" y="45360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4" name="Freeform 381"/>
                  <p:cNvSpPr/>
                  <p:nvPr/>
                </p:nvSpPr>
                <p:spPr>
                  <a:xfrm>
                    <a:off x="4349520" y="45338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5" name="Freeform 382"/>
                  <p:cNvSpPr/>
                  <p:nvPr/>
                </p:nvSpPr>
                <p:spPr>
                  <a:xfrm>
                    <a:off x="4348440" y="453096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6" name="Freeform 383"/>
                  <p:cNvSpPr/>
                  <p:nvPr/>
                </p:nvSpPr>
                <p:spPr>
                  <a:xfrm>
                    <a:off x="4349520" y="452952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7" name="Freeform 384"/>
                  <p:cNvSpPr/>
                  <p:nvPr/>
                </p:nvSpPr>
                <p:spPr>
                  <a:xfrm>
                    <a:off x="4348440" y="452664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8" name="Freeform 385"/>
                  <p:cNvSpPr/>
                  <p:nvPr/>
                </p:nvSpPr>
                <p:spPr>
                  <a:xfrm>
                    <a:off x="4419360" y="455940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218"/>
                        </a:moveTo>
                        <a:lnTo>
                          <a:pt x="0" y="121"/>
                        </a:lnTo>
                        <a:lnTo>
                          <a:pt x="451" y="0"/>
                        </a:lnTo>
                        <a:lnTo>
                          <a:pt x="451" y="95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9" name="Freeform 386"/>
                  <p:cNvSpPr/>
                  <p:nvPr/>
                </p:nvSpPr>
                <p:spPr>
                  <a:xfrm>
                    <a:off x="4321440" y="455940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453" y="218"/>
                        </a:lnTo>
                        <a:lnTo>
                          <a:pt x="453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610" name="Group 387"/>
                <p:cNvGrpSpPr/>
                <p:nvPr/>
              </p:nvGrpSpPr>
              <p:grpSpPr>
                <a:xfrm>
                  <a:off x="4513320" y="4412880"/>
                  <a:ext cx="387720" cy="295200"/>
                  <a:chOff x="4513320" y="4412880"/>
                  <a:chExt cx="387720" cy="295200"/>
                </a:xfrm>
              </p:grpSpPr>
              <p:grpSp>
                <p:nvGrpSpPr>
                  <p:cNvPr id="611" name="Group 388"/>
                  <p:cNvGrpSpPr/>
                  <p:nvPr/>
                </p:nvGrpSpPr>
                <p:grpSpPr>
                  <a:xfrm>
                    <a:off x="4724640" y="4412880"/>
                    <a:ext cx="139320" cy="237240"/>
                    <a:chOff x="4724640" y="4412880"/>
                    <a:chExt cx="139320" cy="237240"/>
                  </a:xfrm>
                </p:grpSpPr>
                <p:sp>
                  <p:nvSpPr>
                    <p:cNvPr id="612" name="Freeform 389"/>
                    <p:cNvSpPr/>
                    <p:nvPr/>
                  </p:nvSpPr>
                  <p:spPr>
                    <a:xfrm>
                      <a:off x="4724640" y="4451760"/>
                      <a:ext cx="139320" cy="109080"/>
                    </a:xfrm>
                    <a:custGeom>
                      <a:avLst/>
                      <a:gdLst>
                        <a:gd name="textAreaLeft" fmla="*/ 0 w 139320"/>
                        <a:gd name="textAreaRight" fmla="*/ 139680 w 139320"/>
                        <a:gd name="textAreaTop" fmla="*/ 0 h 109080"/>
                        <a:gd name="textAreaBottom" fmla="*/ 109440 h 109080"/>
                      </a:gdLst>
                      <a:ahLst/>
                      <a:rect l="textAreaLeft" t="textAreaTop" r="textAreaRight" b="textAreaBottom"/>
                      <a:pathLst>
                        <a:path w="237" h="186">
                          <a:moveTo>
                            <a:pt x="235" y="113"/>
                          </a:moveTo>
                          <a:cubicBezTo>
                            <a:pt x="235" y="113"/>
                            <a:pt x="235" y="113"/>
                            <a:pt x="235" y="113"/>
                          </a:cubicBezTo>
                          <a:cubicBezTo>
                            <a:pt x="230" y="84"/>
                            <a:pt x="226" y="57"/>
                            <a:pt x="225" y="49"/>
                          </a:cubicBezTo>
                          <a:cubicBezTo>
                            <a:pt x="223" y="32"/>
                            <a:pt x="207" y="26"/>
                            <a:pt x="199" y="24"/>
                          </a:cubicBezTo>
                          <a:cubicBezTo>
                            <a:pt x="192" y="21"/>
                            <a:pt x="169" y="16"/>
                            <a:pt x="156" y="12"/>
                          </a:cubicBezTo>
                          <a:cubicBezTo>
                            <a:pt x="145" y="9"/>
                            <a:pt x="125" y="3"/>
                            <a:pt x="116" y="2"/>
                          </a:cubicBezTo>
                          <a:cubicBezTo>
                            <a:pt x="107" y="0"/>
                            <a:pt x="90" y="4"/>
                            <a:pt x="87" y="12"/>
                          </a:cubicBezTo>
                          <a:cubicBezTo>
                            <a:pt x="86" y="14"/>
                            <a:pt x="79" y="50"/>
                            <a:pt x="73" y="85"/>
                          </a:cubicBezTo>
                          <a:cubicBezTo>
                            <a:pt x="73" y="85"/>
                            <a:pt x="73" y="85"/>
                            <a:pt x="73" y="85"/>
                          </a:cubicBezTo>
                          <a:cubicBezTo>
                            <a:pt x="72" y="90"/>
                            <a:pt x="72" y="90"/>
                            <a:pt x="72" y="90"/>
                          </a:cubicBezTo>
                          <a:cubicBezTo>
                            <a:pt x="49" y="96"/>
                            <a:pt x="29" y="102"/>
                            <a:pt x="21" y="104"/>
                          </a:cubicBezTo>
                          <a:cubicBezTo>
                            <a:pt x="0" y="108"/>
                            <a:pt x="9" y="137"/>
                            <a:pt x="26" y="135"/>
                          </a:cubicBezTo>
                          <a:cubicBezTo>
                            <a:pt x="31" y="135"/>
                            <a:pt x="55" y="129"/>
                            <a:pt x="80" y="122"/>
                          </a:cubicBezTo>
                          <a:cubicBezTo>
                            <a:pt x="80" y="122"/>
                            <a:pt x="80" y="122"/>
                            <a:pt x="80" y="122"/>
                          </a:cubicBezTo>
                          <a:cubicBezTo>
                            <a:pt x="86" y="120"/>
                            <a:pt x="86" y="120"/>
                            <a:pt x="86" y="120"/>
                          </a:cubicBezTo>
                          <a:cubicBezTo>
                            <a:pt x="92" y="118"/>
                            <a:pt x="96" y="116"/>
                            <a:pt x="99" y="112"/>
                          </a:cubicBezTo>
                          <a:cubicBezTo>
                            <a:pt x="102" y="108"/>
                            <a:pt x="104" y="102"/>
                            <a:pt x="104" y="92"/>
                          </a:cubicBezTo>
                          <a:cubicBezTo>
                            <a:pt x="104" y="92"/>
                            <a:pt x="104" y="92"/>
                            <a:pt x="104" y="92"/>
                          </a:cubicBezTo>
                          <a:cubicBezTo>
                            <a:pt x="108" y="65"/>
                            <a:pt x="111" y="43"/>
                            <a:pt x="110" y="47"/>
                          </a:cubicBezTo>
                          <a:cubicBezTo>
                            <a:pt x="110" y="53"/>
                            <a:pt x="109" y="117"/>
                            <a:pt x="109" y="160"/>
                          </a:cubicBezTo>
                          <a:cubicBezTo>
                            <a:pt x="110" y="165"/>
                            <a:pt x="112" y="170"/>
                            <a:pt x="119" y="170"/>
                          </a:cubicBezTo>
                          <a:cubicBezTo>
                            <a:pt x="131" y="173"/>
                            <a:pt x="162" y="183"/>
                            <a:pt x="169" y="184"/>
                          </a:cubicBezTo>
                          <a:cubicBezTo>
                            <a:pt x="178" y="186"/>
                            <a:pt x="193" y="176"/>
                            <a:pt x="196" y="165"/>
                          </a:cubicBezTo>
                          <a:cubicBezTo>
                            <a:pt x="196" y="163"/>
                            <a:pt x="196" y="162"/>
                            <a:pt x="196" y="160"/>
                          </a:cubicBezTo>
                          <a:cubicBezTo>
                            <a:pt x="202" y="158"/>
                            <a:pt x="209" y="157"/>
                            <a:pt x="216" y="155"/>
                          </a:cubicBezTo>
                          <a:cubicBezTo>
                            <a:pt x="217" y="154"/>
                            <a:pt x="218" y="154"/>
                            <a:pt x="219" y="154"/>
                          </a:cubicBezTo>
                          <a:cubicBezTo>
                            <a:pt x="225" y="152"/>
                            <a:pt x="229" y="150"/>
                            <a:pt x="232" y="146"/>
                          </a:cubicBezTo>
                          <a:cubicBezTo>
                            <a:pt x="235" y="141"/>
                            <a:pt x="237" y="135"/>
                            <a:pt x="237" y="124"/>
                          </a:cubicBezTo>
                          <a:lnTo>
                            <a:pt x="235" y="113"/>
                          </a:lnTo>
                          <a:close/>
                          <a:moveTo>
                            <a:pt x="193" y="75"/>
                          </a:moveTo>
                          <a:cubicBezTo>
                            <a:pt x="194" y="79"/>
                            <a:pt x="194" y="83"/>
                            <a:pt x="194" y="87"/>
                          </a:cubicBezTo>
                          <a:cubicBezTo>
                            <a:pt x="196" y="96"/>
                            <a:pt x="198" y="108"/>
                            <a:pt x="200" y="123"/>
                          </a:cubicBezTo>
                          <a:cubicBezTo>
                            <a:pt x="199" y="123"/>
                            <a:pt x="197" y="123"/>
                            <a:pt x="196" y="124"/>
                          </a:cubicBezTo>
                          <a:cubicBezTo>
                            <a:pt x="196" y="111"/>
                            <a:pt x="195" y="99"/>
                            <a:pt x="194" y="87"/>
                          </a:cubicBezTo>
                          <a:cubicBezTo>
                            <a:pt x="194" y="82"/>
                            <a:pt x="193" y="78"/>
                            <a:pt x="193" y="75"/>
                          </a:cubicBezTo>
                          <a:cubicBezTo>
                            <a:pt x="192" y="73"/>
                            <a:pt x="192" y="72"/>
                            <a:pt x="192" y="70"/>
                          </a:cubicBezTo>
                          <a:cubicBezTo>
                            <a:pt x="192" y="72"/>
                            <a:pt x="193" y="73"/>
                            <a:pt x="193" y="7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adada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3" name="Freeform 390"/>
                    <p:cNvSpPr/>
                    <p:nvPr/>
                  </p:nvSpPr>
                  <p:spPr>
                    <a:xfrm>
                      <a:off x="4794120" y="4444560"/>
                      <a:ext cx="38520" cy="23760"/>
                    </a:xfrm>
                    <a:custGeom>
                      <a:avLst/>
                      <a:gdLst>
                        <a:gd name="textAreaLeft" fmla="*/ 0 w 38520"/>
                        <a:gd name="textAreaRight" fmla="*/ 38880 w 38520"/>
                        <a:gd name="textAreaTop" fmla="*/ 0 h 23760"/>
                        <a:gd name="textAreaBottom" fmla="*/ 24120 h 23760"/>
                      </a:gdLst>
                      <a:ahLst/>
                      <a:rect l="textAreaLeft" t="textAreaTop" r="textAreaRight" b="textAreaBottom"/>
                      <a:pathLst>
                        <a:path w="66" h="41">
                          <a:moveTo>
                            <a:pt x="30" y="39"/>
                          </a:moveTo>
                          <a:cubicBezTo>
                            <a:pt x="14" y="37"/>
                            <a:pt x="0" y="25"/>
                            <a:pt x="10" y="23"/>
                          </a:cubicBezTo>
                          <a:cubicBezTo>
                            <a:pt x="17" y="21"/>
                            <a:pt x="13" y="15"/>
                            <a:pt x="16" y="13"/>
                          </a:cubicBezTo>
                          <a:cubicBezTo>
                            <a:pt x="19" y="10"/>
                            <a:pt x="54" y="0"/>
                            <a:pt x="54" y="16"/>
                          </a:cubicBezTo>
                          <a:cubicBezTo>
                            <a:pt x="54" y="21"/>
                            <a:pt x="48" y="25"/>
                            <a:pt x="57" y="29"/>
                          </a:cubicBezTo>
                          <a:cubicBezTo>
                            <a:pt x="66" y="33"/>
                            <a:pt x="46" y="41"/>
                            <a:pt x="30" y="3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4" name="Freeform 391"/>
                    <p:cNvSpPr/>
                    <p:nvPr/>
                  </p:nvSpPr>
                  <p:spPr>
                    <a:xfrm>
                      <a:off x="4746600" y="4544640"/>
                      <a:ext cx="93240" cy="105480"/>
                    </a:xfrm>
                    <a:custGeom>
                      <a:avLst/>
                      <a:gdLst>
                        <a:gd name="textAreaLeft" fmla="*/ 0 w 93240"/>
                        <a:gd name="textAreaRight" fmla="*/ 93600 w 93240"/>
                        <a:gd name="textAreaTop" fmla="*/ 0 h 105480"/>
                        <a:gd name="textAreaBottom" fmla="*/ 105840 h 105480"/>
                      </a:gdLst>
                      <a:ahLst/>
                      <a:rect l="textAreaLeft" t="textAreaTop" r="textAreaRight" b="textAreaBottom"/>
                      <a:pathLst>
                        <a:path w="159" h="180">
                          <a:moveTo>
                            <a:pt x="159" y="6"/>
                          </a:moveTo>
                          <a:cubicBezTo>
                            <a:pt x="156" y="17"/>
                            <a:pt x="140" y="23"/>
                            <a:pt x="132" y="21"/>
                          </a:cubicBezTo>
                          <a:cubicBezTo>
                            <a:pt x="124" y="20"/>
                            <a:pt x="94" y="14"/>
                            <a:pt x="81" y="11"/>
                          </a:cubicBezTo>
                          <a:cubicBezTo>
                            <a:pt x="75" y="10"/>
                            <a:pt x="73" y="5"/>
                            <a:pt x="72" y="0"/>
                          </a:cubicBezTo>
                          <a:cubicBezTo>
                            <a:pt x="72" y="19"/>
                            <a:pt x="72" y="18"/>
                            <a:pt x="68" y="19"/>
                          </a:cubicBezTo>
                          <a:cubicBezTo>
                            <a:pt x="68" y="19"/>
                            <a:pt x="28" y="28"/>
                            <a:pt x="17" y="32"/>
                          </a:cubicBezTo>
                          <a:cubicBezTo>
                            <a:pt x="7" y="36"/>
                            <a:pt x="2" y="42"/>
                            <a:pt x="1" y="55"/>
                          </a:cubicBezTo>
                          <a:cubicBezTo>
                            <a:pt x="1" y="55"/>
                            <a:pt x="0" y="135"/>
                            <a:pt x="1" y="145"/>
                          </a:cubicBezTo>
                          <a:cubicBezTo>
                            <a:pt x="2" y="163"/>
                            <a:pt x="25" y="165"/>
                            <a:pt x="36" y="156"/>
                          </a:cubicBezTo>
                          <a:cubicBezTo>
                            <a:pt x="39" y="153"/>
                            <a:pt x="43" y="149"/>
                            <a:pt x="43" y="145"/>
                          </a:cubicBezTo>
                          <a:cubicBezTo>
                            <a:pt x="42" y="130"/>
                            <a:pt x="42" y="102"/>
                            <a:pt x="42" y="73"/>
                          </a:cubicBezTo>
                          <a:cubicBezTo>
                            <a:pt x="42" y="73"/>
                            <a:pt x="42" y="73"/>
                            <a:pt x="42" y="73"/>
                          </a:cubicBezTo>
                          <a:cubicBezTo>
                            <a:pt x="42" y="73"/>
                            <a:pt x="42" y="72"/>
                            <a:pt x="42" y="72"/>
                          </a:cubicBezTo>
                          <a:cubicBezTo>
                            <a:pt x="42" y="70"/>
                            <a:pt x="42" y="68"/>
                            <a:pt x="42" y="66"/>
                          </a:cubicBezTo>
                          <a:cubicBezTo>
                            <a:pt x="42" y="65"/>
                            <a:pt x="42" y="65"/>
                            <a:pt x="42" y="64"/>
                          </a:cubicBezTo>
                          <a:cubicBezTo>
                            <a:pt x="42" y="64"/>
                            <a:pt x="42" y="63"/>
                            <a:pt x="42" y="63"/>
                          </a:cubicBezTo>
                          <a:cubicBezTo>
                            <a:pt x="43" y="50"/>
                            <a:pt x="48" y="44"/>
                            <a:pt x="59" y="41"/>
                          </a:cubicBezTo>
                          <a:cubicBezTo>
                            <a:pt x="68" y="37"/>
                            <a:pt x="101" y="30"/>
                            <a:pt x="103" y="30"/>
                          </a:cubicBezTo>
                          <a:cubicBezTo>
                            <a:pt x="107" y="28"/>
                            <a:pt x="107" y="28"/>
                            <a:pt x="103" y="30"/>
                          </a:cubicBezTo>
                          <a:cubicBezTo>
                            <a:pt x="101" y="30"/>
                            <a:pt x="68" y="37"/>
                            <a:pt x="59" y="41"/>
                          </a:cubicBezTo>
                          <a:cubicBezTo>
                            <a:pt x="48" y="44"/>
                            <a:pt x="43" y="50"/>
                            <a:pt x="42" y="63"/>
                          </a:cubicBezTo>
                          <a:cubicBezTo>
                            <a:pt x="42" y="64"/>
                            <a:pt x="42" y="70"/>
                            <a:pt x="42" y="71"/>
                          </a:cubicBezTo>
                          <a:cubicBezTo>
                            <a:pt x="42" y="71"/>
                            <a:pt x="42" y="71"/>
                            <a:pt x="42" y="72"/>
                          </a:cubicBezTo>
                          <a:cubicBezTo>
                            <a:pt x="42" y="72"/>
                            <a:pt x="42" y="74"/>
                            <a:pt x="42" y="77"/>
                          </a:cubicBezTo>
                          <a:cubicBezTo>
                            <a:pt x="42" y="77"/>
                            <a:pt x="42" y="77"/>
                            <a:pt x="42" y="77"/>
                          </a:cubicBezTo>
                          <a:cubicBezTo>
                            <a:pt x="43" y="154"/>
                            <a:pt x="43" y="154"/>
                            <a:pt x="43" y="154"/>
                          </a:cubicBezTo>
                          <a:cubicBezTo>
                            <a:pt x="42" y="154"/>
                            <a:pt x="43" y="154"/>
                            <a:pt x="43" y="154"/>
                          </a:cubicBezTo>
                          <a:cubicBezTo>
                            <a:pt x="43" y="155"/>
                            <a:pt x="43" y="156"/>
                            <a:pt x="43" y="157"/>
                          </a:cubicBezTo>
                          <a:cubicBezTo>
                            <a:pt x="44" y="180"/>
                            <a:pt x="84" y="177"/>
                            <a:pt x="84" y="157"/>
                          </a:cubicBezTo>
                          <a:cubicBezTo>
                            <a:pt x="84" y="142"/>
                            <a:pt x="85" y="80"/>
                            <a:pt x="85" y="77"/>
                          </a:cubicBezTo>
                          <a:cubicBezTo>
                            <a:pt x="85" y="74"/>
                            <a:pt x="87" y="70"/>
                            <a:pt x="89" y="69"/>
                          </a:cubicBezTo>
                          <a:cubicBezTo>
                            <a:pt x="91" y="69"/>
                            <a:pt x="136" y="57"/>
                            <a:pt x="141" y="55"/>
                          </a:cubicBezTo>
                          <a:cubicBezTo>
                            <a:pt x="153" y="52"/>
                            <a:pt x="159" y="47"/>
                            <a:pt x="159" y="25"/>
                          </a:cubicBezTo>
                          <a:cubicBezTo>
                            <a:pt x="159" y="8"/>
                            <a:pt x="159" y="8"/>
                            <a:pt x="159" y="8"/>
                          </a:cubicBezTo>
                          <a:cubicBezTo>
                            <a:pt x="159" y="7"/>
                            <a:pt x="159" y="7"/>
                            <a:pt x="159" y="6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adada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5" name="Freeform 392"/>
                    <p:cNvSpPr/>
                    <p:nvPr/>
                  </p:nvSpPr>
                  <p:spPr>
                    <a:xfrm>
                      <a:off x="4798800" y="4524120"/>
                      <a:ext cx="52920" cy="31320"/>
                    </a:xfrm>
                    <a:custGeom>
                      <a:avLst/>
                      <a:gdLst>
                        <a:gd name="textAreaLeft" fmla="*/ 0 w 52920"/>
                        <a:gd name="textAreaRight" fmla="*/ 53280 w 52920"/>
                        <a:gd name="textAreaTop" fmla="*/ 0 h 31320"/>
                        <a:gd name="textAreaBottom" fmla="*/ 31680 h 31320"/>
                      </a:gdLst>
                      <a:ahLst/>
                      <a:rect l="textAreaLeft" t="textAreaTop" r="textAreaRight" b="textAreaBottom"/>
                      <a:pathLst>
                        <a:path w="91" h="54">
                          <a:moveTo>
                            <a:pt x="75" y="0"/>
                          </a:moveTo>
                          <a:cubicBezTo>
                            <a:pt x="61" y="4"/>
                            <a:pt x="45" y="8"/>
                            <a:pt x="28" y="14"/>
                          </a:cubicBezTo>
                          <a:cubicBezTo>
                            <a:pt x="0" y="22"/>
                            <a:pt x="17" y="54"/>
                            <a:pt x="40" y="46"/>
                          </a:cubicBezTo>
                          <a:cubicBezTo>
                            <a:pt x="44" y="44"/>
                            <a:pt x="66" y="38"/>
                            <a:pt x="91" y="32"/>
                          </a:cubicBezTo>
                        </a:path>
                      </a:pathLst>
                    </a:custGeom>
                    <a:noFill/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6" name="Oval 393"/>
                    <p:cNvSpPr/>
                    <p:nvPr/>
                  </p:nvSpPr>
                  <p:spPr>
                    <a:xfrm flipH="1">
                      <a:off x="4789800" y="4412880"/>
                      <a:ext cx="46800" cy="46440"/>
                    </a:xfrm>
                    <a:prstGeom prst="ellipse">
                      <a:avLst/>
                    </a:prstGeom>
                    <a:solidFill>
                      <a:schemeClr val="bg1"/>
                    </a:solidFill>
                    <a:ln w="635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17" name="Group 394"/>
                  <p:cNvGrpSpPr/>
                  <p:nvPr/>
                </p:nvGrpSpPr>
                <p:grpSpPr>
                  <a:xfrm>
                    <a:off x="4513320" y="4502160"/>
                    <a:ext cx="387720" cy="205920"/>
                    <a:chOff x="4513320" y="4502160"/>
                    <a:chExt cx="387720" cy="205920"/>
                  </a:xfrm>
                </p:grpSpPr>
                <p:sp>
                  <p:nvSpPr>
                    <p:cNvPr id="618" name="Freeform 395"/>
                    <p:cNvSpPr/>
                    <p:nvPr/>
                  </p:nvSpPr>
                  <p:spPr>
                    <a:xfrm flipH="1">
                      <a:off x="4513320" y="4528800"/>
                      <a:ext cx="13680" cy="10440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9" name="Freeform 396"/>
                    <p:cNvSpPr/>
                    <p:nvPr/>
                  </p:nvSpPr>
                  <p:spPr>
                    <a:xfrm flipH="1">
                      <a:off x="4527360" y="4528800"/>
                      <a:ext cx="14400" cy="10440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4824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0" name="Freeform 397"/>
                    <p:cNvSpPr/>
                    <p:nvPr/>
                  </p:nvSpPr>
                  <p:spPr>
                    <a:xfrm flipH="1">
                      <a:off x="4803480" y="4603680"/>
                      <a:ext cx="14760" cy="10440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4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1" name="Freeform 398"/>
                    <p:cNvSpPr/>
                    <p:nvPr/>
                  </p:nvSpPr>
                  <p:spPr>
                    <a:xfrm flipH="1">
                      <a:off x="4789800" y="4603680"/>
                      <a:ext cx="13320" cy="10440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4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2" name="Freeform 399"/>
                    <p:cNvSpPr/>
                    <p:nvPr/>
                  </p:nvSpPr>
                  <p:spPr>
                    <a:xfrm flipH="1">
                      <a:off x="4886640" y="4581360"/>
                      <a:ext cx="14400" cy="10440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3" name="Freeform 400"/>
                    <p:cNvSpPr/>
                    <p:nvPr/>
                  </p:nvSpPr>
                  <p:spPr>
                    <a:xfrm flipH="1">
                      <a:off x="4872600" y="4581360"/>
                      <a:ext cx="13680" cy="10440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4824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4" name="Freeform 401"/>
                    <p:cNvSpPr/>
                    <p:nvPr/>
                  </p:nvSpPr>
                  <p:spPr>
                    <a:xfrm flipH="1">
                      <a:off x="4610880" y="4502160"/>
                      <a:ext cx="13320" cy="10512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5" name="Freeform 402"/>
                    <p:cNvSpPr/>
                    <p:nvPr/>
                  </p:nvSpPr>
                  <p:spPr>
                    <a:xfrm flipH="1">
                      <a:off x="4610880" y="4506120"/>
                      <a:ext cx="13320" cy="10440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4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4824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6" name="Freeform 403"/>
                    <p:cNvSpPr/>
                    <p:nvPr/>
                  </p:nvSpPr>
                  <p:spPr>
                    <a:xfrm flipH="1">
                      <a:off x="4595760" y="4506120"/>
                      <a:ext cx="14760" cy="10440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4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7" name="Freeform 404"/>
                    <p:cNvSpPr/>
                    <p:nvPr/>
                  </p:nvSpPr>
                  <p:spPr>
                    <a:xfrm flipH="1">
                      <a:off x="4513320" y="4502160"/>
                      <a:ext cx="387360" cy="105120"/>
                    </a:xfrm>
                    <a:custGeom>
                      <a:avLst/>
                      <a:gdLst>
                        <a:gd name="textAreaLeft" fmla="*/ 360 w 387360"/>
                        <a:gd name="textAreaRight" fmla="*/ 388080 w 38736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321" h="87">
                          <a:moveTo>
                            <a:pt x="0" y="65"/>
                          </a:moveTo>
                          <a:lnTo>
                            <a:pt x="160" y="22"/>
                          </a:lnTo>
                          <a:lnTo>
                            <a:pt x="160" y="22"/>
                          </a:lnTo>
                          <a:lnTo>
                            <a:pt x="240" y="0"/>
                          </a:lnTo>
                          <a:lnTo>
                            <a:pt x="321" y="22"/>
                          </a:lnTo>
                          <a:lnTo>
                            <a:pt x="240" y="44"/>
                          </a:lnTo>
                          <a:lnTo>
                            <a:pt x="240" y="44"/>
                          </a:lnTo>
                          <a:lnTo>
                            <a:pt x="81" y="87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8e47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8" name="Freeform 405"/>
                    <p:cNvSpPr/>
                    <p:nvPr/>
                  </p:nvSpPr>
                  <p:spPr>
                    <a:xfrm flipH="1">
                      <a:off x="4513320" y="4528800"/>
                      <a:ext cx="290160" cy="92160"/>
                    </a:xfrm>
                    <a:custGeom>
                      <a:avLst/>
                      <a:gdLst>
                        <a:gd name="textAreaLeft" fmla="*/ 360 w 290160"/>
                        <a:gd name="textAreaRight" fmla="*/ 290880 w 290160"/>
                        <a:gd name="textAreaTop" fmla="*/ 0 h 92160"/>
                        <a:gd name="textAreaBottom" fmla="*/ 92520 h 92160"/>
                      </a:gdLst>
                      <a:ahLst/>
                      <a:rect l="textAreaLeft" t="textAreaTop" r="textAreaRight" b="textAreaBottom"/>
                      <a:pathLst>
                        <a:path w="241" h="77">
                          <a:moveTo>
                            <a:pt x="0" y="65"/>
                          </a:moveTo>
                          <a:lnTo>
                            <a:pt x="0" y="77"/>
                          </a:lnTo>
                          <a:lnTo>
                            <a:pt x="241" y="12"/>
                          </a:lnTo>
                          <a:lnTo>
                            <a:pt x="241" y="0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9" name="Freeform 406"/>
                    <p:cNvSpPr/>
                    <p:nvPr/>
                  </p:nvSpPr>
                  <p:spPr>
                    <a:xfrm flipH="1">
                      <a:off x="4803480" y="4581360"/>
                      <a:ext cx="96840" cy="39960"/>
                    </a:xfrm>
                    <a:custGeom>
                      <a:avLst/>
                      <a:gdLst>
                        <a:gd name="textAreaLeft" fmla="*/ -360 w 96840"/>
                        <a:gd name="textAreaRight" fmla="*/ 96840 w 9684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80" h="34">
                          <a:moveTo>
                            <a:pt x="0" y="0"/>
                          </a:moveTo>
                          <a:lnTo>
                            <a:pt x="0" y="13"/>
                          </a:lnTo>
                          <a:lnTo>
                            <a:pt x="80" y="34"/>
                          </a:lnTo>
                          <a:lnTo>
                            <a:pt x="80" y="2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30" name="Group 407"/>
                  <p:cNvGrpSpPr/>
                  <p:nvPr/>
                </p:nvGrpSpPr>
                <p:grpSpPr>
                  <a:xfrm>
                    <a:off x="4650120" y="4492800"/>
                    <a:ext cx="120600" cy="80280"/>
                    <a:chOff x="4650120" y="4492800"/>
                    <a:chExt cx="120600" cy="80280"/>
                  </a:xfrm>
                </p:grpSpPr>
                <p:sp>
                  <p:nvSpPr>
                    <p:cNvPr id="631" name="Freeform 408"/>
                    <p:cNvSpPr/>
                    <p:nvPr/>
                  </p:nvSpPr>
                  <p:spPr>
                    <a:xfrm>
                      <a:off x="4650120" y="4536360"/>
                      <a:ext cx="120600" cy="32040"/>
                    </a:xfrm>
                    <a:custGeom>
                      <a:avLst/>
                      <a:gdLst>
                        <a:gd name="textAreaLeft" fmla="*/ 0 w 120600"/>
                        <a:gd name="textAreaRight" fmla="*/ 120960 w 120600"/>
                        <a:gd name="textAreaTop" fmla="*/ 0 h 32040"/>
                        <a:gd name="textAreaBottom" fmla="*/ 32400 h 32040"/>
                      </a:gdLst>
                      <a:ahLst/>
                      <a:rect l="textAreaLeft" t="textAreaTop" r="textAreaRight" b="textAreaBottom"/>
                      <a:pathLst>
                        <a:path w="25173" h="6756">
                          <a:moveTo>
                            <a:pt x="0" y="3378"/>
                          </a:moveTo>
                          <a:lnTo>
                            <a:pt x="12585" y="0"/>
                          </a:lnTo>
                          <a:lnTo>
                            <a:pt x="25173" y="3378"/>
                          </a:lnTo>
                          <a:lnTo>
                            <a:pt x="12585" y="6756"/>
                          </a:lnTo>
                          <a:lnTo>
                            <a:pt x="0" y="3378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635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2" name="Freeform 409"/>
                    <p:cNvSpPr/>
                    <p:nvPr/>
                  </p:nvSpPr>
                  <p:spPr>
                    <a:xfrm>
                      <a:off x="4710600" y="4552560"/>
                      <a:ext cx="60120" cy="20520"/>
                    </a:xfrm>
                    <a:custGeom>
                      <a:avLst/>
                      <a:gdLst>
                        <a:gd name="textAreaLeft" fmla="*/ 0 w 60120"/>
                        <a:gd name="textAreaRight" fmla="*/ 60480 w 6012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12588" h="4342">
                          <a:moveTo>
                            <a:pt x="0" y="3378"/>
                          </a:moveTo>
                          <a:lnTo>
                            <a:pt x="0" y="4342"/>
                          </a:lnTo>
                          <a:lnTo>
                            <a:pt x="12588" y="964"/>
                          </a:lnTo>
                          <a:lnTo>
                            <a:pt x="12588" y="0"/>
                          </a:lnTo>
                          <a:lnTo>
                            <a:pt x="0" y="337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3" name="Freeform 410"/>
                    <p:cNvSpPr/>
                    <p:nvPr/>
                  </p:nvSpPr>
                  <p:spPr>
                    <a:xfrm>
                      <a:off x="4650120" y="4552560"/>
                      <a:ext cx="60120" cy="20520"/>
                    </a:xfrm>
                    <a:custGeom>
                      <a:avLst/>
                      <a:gdLst>
                        <a:gd name="textAreaLeft" fmla="*/ 0 w 60120"/>
                        <a:gd name="textAreaRight" fmla="*/ 60480 w 6012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12585" h="4342">
                          <a:moveTo>
                            <a:pt x="12585" y="4342"/>
                          </a:moveTo>
                          <a:lnTo>
                            <a:pt x="0" y="964"/>
                          </a:lnTo>
                          <a:lnTo>
                            <a:pt x="0" y="0"/>
                          </a:lnTo>
                          <a:lnTo>
                            <a:pt x="12585" y="3378"/>
                          </a:lnTo>
                          <a:lnTo>
                            <a:pt x="12585" y="434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4" name="Freeform 411"/>
                    <p:cNvSpPr/>
                    <p:nvPr/>
                  </p:nvSpPr>
                  <p:spPr>
                    <a:xfrm>
                      <a:off x="4667400" y="4541400"/>
                      <a:ext cx="81360" cy="21960"/>
                    </a:xfrm>
                    <a:custGeom>
                      <a:avLst/>
                      <a:gdLst>
                        <a:gd name="textAreaLeft" fmla="*/ 0 w 81360"/>
                        <a:gd name="textAreaRight" fmla="*/ 81720 w 81360"/>
                        <a:gd name="textAreaTop" fmla="*/ 0 h 21960"/>
                        <a:gd name="textAreaBottom" fmla="*/ 22320 h 21960"/>
                      </a:gdLst>
                      <a:ahLst/>
                      <a:rect l="textAreaLeft" t="textAreaTop" r="textAreaRight" b="textAreaBottom"/>
                      <a:pathLst>
                        <a:path w="17020" h="4567">
                          <a:moveTo>
                            <a:pt x="0" y="1711"/>
                          </a:moveTo>
                          <a:lnTo>
                            <a:pt x="10647" y="4567"/>
                          </a:lnTo>
                          <a:lnTo>
                            <a:pt x="17020" y="2859"/>
                          </a:lnTo>
                          <a:lnTo>
                            <a:pt x="6371" y="0"/>
                          </a:lnTo>
                          <a:lnTo>
                            <a:pt x="0" y="171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635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5" name="Freeform 412"/>
                    <p:cNvSpPr/>
                    <p:nvPr/>
                  </p:nvSpPr>
                  <p:spPr>
                    <a:xfrm>
                      <a:off x="4650120" y="4494240"/>
                      <a:ext cx="60120" cy="78840"/>
                    </a:xfrm>
                    <a:custGeom>
                      <a:avLst/>
                      <a:gdLst>
                        <a:gd name="textAreaLeft" fmla="*/ 0 w 60120"/>
                        <a:gd name="textAreaRight" fmla="*/ 60480 w 60120"/>
                        <a:gd name="textAreaTop" fmla="*/ 0 h 78840"/>
                        <a:gd name="textAreaBottom" fmla="*/ 79200 h 78840"/>
                      </a:gdLst>
                      <a:ahLst/>
                      <a:rect l="textAreaLeft" t="textAreaTop" r="textAreaRight" b="textAreaBottom"/>
                      <a:pathLst>
                        <a:path w="12585" h="16411">
                          <a:moveTo>
                            <a:pt x="0" y="0"/>
                          </a:moveTo>
                          <a:lnTo>
                            <a:pt x="0" y="13033"/>
                          </a:lnTo>
                          <a:lnTo>
                            <a:pt x="12585" y="16411"/>
                          </a:lnTo>
                          <a:lnTo>
                            <a:pt x="12585" y="33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635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6" name="Freeform 413"/>
                    <p:cNvSpPr/>
                    <p:nvPr/>
                  </p:nvSpPr>
                  <p:spPr>
                    <a:xfrm>
                      <a:off x="4710600" y="4509360"/>
                      <a:ext cx="4320" cy="637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3720"/>
                        <a:gd name="textAreaBottom" fmla="*/ 64080 h 63720"/>
                      </a:gdLst>
                      <a:ahLst/>
                      <a:rect l="textAreaLeft" t="textAreaTop" r="textAreaRight" b="textAreaBottom"/>
                      <a:pathLst>
                        <a:path w="971" h="13293">
                          <a:moveTo>
                            <a:pt x="0" y="13293"/>
                          </a:moveTo>
                          <a:lnTo>
                            <a:pt x="971" y="13030"/>
                          </a:lnTo>
                          <a:lnTo>
                            <a:pt x="971" y="0"/>
                          </a:lnTo>
                          <a:lnTo>
                            <a:pt x="0" y="260"/>
                          </a:lnTo>
                          <a:lnTo>
                            <a:pt x="0" y="1329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7" name="Freeform 414"/>
                    <p:cNvSpPr/>
                    <p:nvPr/>
                  </p:nvSpPr>
                  <p:spPr>
                    <a:xfrm>
                      <a:off x="4650120" y="4492800"/>
                      <a:ext cx="64800" cy="17280"/>
                    </a:xfrm>
                    <a:custGeom>
                      <a:avLst/>
                      <a:gdLst>
                        <a:gd name="textAreaLeft" fmla="*/ 0 w 64800"/>
                        <a:gd name="textAreaRight" fmla="*/ 65160 w 64800"/>
                        <a:gd name="textAreaTop" fmla="*/ 0 h 17280"/>
                        <a:gd name="textAreaBottom" fmla="*/ 17640 h 17280"/>
                      </a:gdLst>
                      <a:ahLst/>
                      <a:rect l="textAreaLeft" t="textAreaTop" r="textAreaRight" b="textAreaBottom"/>
                      <a:pathLst>
                        <a:path w="13556" h="3638">
                          <a:moveTo>
                            <a:pt x="13556" y="3378"/>
                          </a:moveTo>
                          <a:lnTo>
                            <a:pt x="12585" y="3638"/>
                          </a:lnTo>
                          <a:lnTo>
                            <a:pt x="0" y="260"/>
                          </a:lnTo>
                          <a:lnTo>
                            <a:pt x="971" y="0"/>
                          </a:lnTo>
                          <a:lnTo>
                            <a:pt x="13556" y="337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635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</p:grpSp>
        <p:grpSp>
          <p:nvGrpSpPr>
            <p:cNvPr id="638" name="Group 415"/>
            <p:cNvGrpSpPr/>
            <p:nvPr/>
          </p:nvGrpSpPr>
          <p:grpSpPr>
            <a:xfrm>
              <a:off x="3706920" y="4772520"/>
              <a:ext cx="505800" cy="151560"/>
              <a:chOff x="3706920" y="4772520"/>
              <a:chExt cx="505800" cy="151560"/>
            </a:xfrm>
          </p:grpSpPr>
          <p:sp>
            <p:nvSpPr>
              <p:cNvPr id="639" name="Freeform 416"/>
              <p:cNvSpPr/>
              <p:nvPr/>
            </p:nvSpPr>
            <p:spPr>
              <a:xfrm>
                <a:off x="3852000" y="4772520"/>
                <a:ext cx="71640" cy="345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46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6" y="217"/>
                    </a:lnTo>
                    <a:lnTo>
                      <a:pt x="446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40" name="Freeform 417"/>
              <p:cNvSpPr/>
              <p:nvPr/>
            </p:nvSpPr>
            <p:spPr>
              <a:xfrm>
                <a:off x="3706920" y="4772520"/>
                <a:ext cx="505440" cy="1357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3137" h="843">
                    <a:moveTo>
                      <a:pt x="2887" y="54"/>
                    </a:moveTo>
                    <a:lnTo>
                      <a:pt x="898" y="0"/>
                    </a:lnTo>
                    <a:lnTo>
                      <a:pt x="1344" y="120"/>
                    </a:lnTo>
                    <a:lnTo>
                      <a:pt x="0" y="482"/>
                    </a:lnTo>
                    <a:lnTo>
                      <a:pt x="1344" y="843"/>
                    </a:lnTo>
                    <a:lnTo>
                      <a:pt x="2688" y="482"/>
                    </a:lnTo>
                    <a:lnTo>
                      <a:pt x="3137" y="602"/>
                    </a:lnTo>
                    <a:lnTo>
                      <a:pt x="2887" y="54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41" name="Freeform 418"/>
              <p:cNvSpPr/>
              <p:nvPr/>
            </p:nvSpPr>
            <p:spPr>
              <a:xfrm>
                <a:off x="3706920" y="4850280"/>
                <a:ext cx="216360" cy="738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0"/>
                    </a:moveTo>
                    <a:lnTo>
                      <a:pt x="0" y="97"/>
                    </a:lnTo>
                    <a:lnTo>
                      <a:pt x="1344" y="458"/>
                    </a:lnTo>
                    <a:lnTo>
                      <a:pt x="1344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42" name="Freeform 419"/>
              <p:cNvSpPr/>
              <p:nvPr/>
            </p:nvSpPr>
            <p:spPr>
              <a:xfrm>
                <a:off x="4140720" y="4850280"/>
                <a:ext cx="72000" cy="345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49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9" y="217"/>
                    </a:lnTo>
                    <a:lnTo>
                      <a:pt x="449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43" name="Freeform 420"/>
              <p:cNvSpPr/>
              <p:nvPr/>
            </p:nvSpPr>
            <p:spPr>
              <a:xfrm>
                <a:off x="3923640" y="4850280"/>
                <a:ext cx="216360" cy="738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458"/>
                    </a:moveTo>
                    <a:lnTo>
                      <a:pt x="0" y="361"/>
                    </a:lnTo>
                    <a:lnTo>
                      <a:pt x="1344" y="0"/>
                    </a:lnTo>
                    <a:lnTo>
                      <a:pt x="1344" y="97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644" name="Group 707"/>
            <p:cNvGrpSpPr/>
            <p:nvPr/>
          </p:nvGrpSpPr>
          <p:grpSpPr>
            <a:xfrm>
              <a:off x="3822480" y="3402720"/>
              <a:ext cx="1862280" cy="749520"/>
              <a:chOff x="3822480" y="3402720"/>
              <a:chExt cx="1862280" cy="749520"/>
            </a:xfrm>
          </p:grpSpPr>
          <p:sp>
            <p:nvSpPr>
              <p:cNvPr id="645" name="Freeform 422"/>
              <p:cNvSpPr/>
              <p:nvPr/>
            </p:nvSpPr>
            <p:spPr>
              <a:xfrm>
                <a:off x="3822480" y="3684600"/>
                <a:ext cx="1747800" cy="467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646" name="Group 423"/>
              <p:cNvGrpSpPr/>
              <p:nvPr/>
            </p:nvGrpSpPr>
            <p:grpSpPr>
              <a:xfrm>
                <a:off x="4724280" y="3636000"/>
                <a:ext cx="151560" cy="280080"/>
                <a:chOff x="4724280" y="3636000"/>
                <a:chExt cx="151560" cy="280080"/>
              </a:xfrm>
            </p:grpSpPr>
            <p:grpSp>
              <p:nvGrpSpPr>
                <p:cNvPr id="647" name="Group 424"/>
                <p:cNvGrpSpPr/>
                <p:nvPr/>
              </p:nvGrpSpPr>
              <p:grpSpPr>
                <a:xfrm>
                  <a:off x="4760640" y="3675240"/>
                  <a:ext cx="115200" cy="90000"/>
                  <a:chOff x="4760640" y="3675240"/>
                  <a:chExt cx="115200" cy="90000"/>
                </a:xfrm>
              </p:grpSpPr>
              <p:sp>
                <p:nvSpPr>
                  <p:cNvPr id="648" name="Freeform 425"/>
                  <p:cNvSpPr/>
                  <p:nvPr/>
                </p:nvSpPr>
                <p:spPr>
                  <a:xfrm flipH="1">
                    <a:off x="4760640" y="3675240"/>
                    <a:ext cx="115200" cy="3060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49" name="Freeform 426"/>
                  <p:cNvSpPr/>
                  <p:nvPr/>
                </p:nvSpPr>
                <p:spPr>
                  <a:xfrm flipH="1">
                    <a:off x="4760640" y="3690720"/>
                    <a:ext cx="57600" cy="74520"/>
                  </a:xfrm>
                  <a:custGeom>
                    <a:avLst/>
                    <a:gdLst>
                      <a:gd name="textAreaLeft" fmla="*/ 360 w 57600"/>
                      <a:gd name="textAreaRight" fmla="*/ 5832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0" name="Freeform 427"/>
                  <p:cNvSpPr/>
                  <p:nvPr/>
                </p:nvSpPr>
                <p:spPr>
                  <a:xfrm flipH="1">
                    <a:off x="4817880" y="3690720"/>
                    <a:ext cx="57240" cy="74520"/>
                  </a:xfrm>
                  <a:custGeom>
                    <a:avLst/>
                    <a:gdLst>
                      <a:gd name="textAreaLeft" fmla="*/ -360 w 57240"/>
                      <a:gd name="textAreaRight" fmla="*/ 5724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651" name="Group 428"/>
                <p:cNvGrpSpPr/>
                <p:nvPr/>
              </p:nvGrpSpPr>
              <p:grpSpPr>
                <a:xfrm>
                  <a:off x="4724280" y="3636360"/>
                  <a:ext cx="134640" cy="279720"/>
                  <a:chOff x="4724280" y="3636360"/>
                  <a:chExt cx="134640" cy="279720"/>
                </a:xfrm>
              </p:grpSpPr>
              <p:sp>
                <p:nvSpPr>
                  <p:cNvPr id="652" name="Freeform 429"/>
                  <p:cNvSpPr/>
                  <p:nvPr/>
                </p:nvSpPr>
                <p:spPr>
                  <a:xfrm>
                    <a:off x="4724280" y="3673080"/>
                    <a:ext cx="134640" cy="113400"/>
                  </a:xfrm>
                  <a:custGeom>
                    <a:avLst/>
                    <a:gdLst>
                      <a:gd name="textAreaLeft" fmla="*/ 0 w 134640"/>
                      <a:gd name="textAreaRight" fmla="*/ 135000 w 134640"/>
                      <a:gd name="textAreaTop" fmla="*/ 0 h 113400"/>
                      <a:gd name="textAreaBottom" fmla="*/ 113760 h 113400"/>
                    </a:gdLst>
                    <a:ahLst/>
                    <a:rect l="textAreaLeft" t="textAreaTop" r="textAreaRight" b="textAreaBottom"/>
                    <a:pathLst>
                      <a:path w="226" h="191">
                        <a:moveTo>
                          <a:pt x="186" y="107"/>
                        </a:moveTo>
                        <a:cubicBezTo>
                          <a:pt x="184" y="108"/>
                          <a:pt x="175" y="110"/>
                          <a:pt x="164" y="113"/>
                        </a:cubicBezTo>
                        <a:cubicBezTo>
                          <a:pt x="159" y="84"/>
                          <a:pt x="155" y="57"/>
                          <a:pt x="154" y="49"/>
                        </a:cubicBezTo>
                        <a:cubicBezTo>
                          <a:pt x="151" y="32"/>
                          <a:pt x="136" y="27"/>
                          <a:pt x="128" y="24"/>
                        </a:cubicBezTo>
                        <a:cubicBezTo>
                          <a:pt x="120" y="21"/>
                          <a:pt x="98" y="16"/>
                          <a:pt x="85" y="13"/>
                        </a:cubicBezTo>
                        <a:cubicBezTo>
                          <a:pt x="73" y="9"/>
                          <a:pt x="54" y="3"/>
                          <a:pt x="45" y="2"/>
                        </a:cubicBezTo>
                        <a:cubicBezTo>
                          <a:pt x="36" y="0"/>
                          <a:pt x="18" y="4"/>
                          <a:pt x="15" y="12"/>
                        </a:cubicBezTo>
                        <a:cubicBezTo>
                          <a:pt x="14" y="14"/>
                          <a:pt x="8" y="50"/>
                          <a:pt x="2" y="85"/>
                        </a:cubicBezTo>
                        <a:cubicBezTo>
                          <a:pt x="2" y="85"/>
                          <a:pt x="2" y="85"/>
                          <a:pt x="2" y="85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0" y="98"/>
                          <a:pt x="3" y="104"/>
                          <a:pt x="8" y="106"/>
                        </a:cubicBezTo>
                        <a:cubicBezTo>
                          <a:pt x="12" y="108"/>
                          <a:pt x="17" y="107"/>
                          <a:pt x="23" y="106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30" y="104"/>
                          <a:pt x="31" y="104"/>
                          <a:pt x="32" y="104"/>
                        </a:cubicBezTo>
                        <a:cubicBezTo>
                          <a:pt x="34" y="103"/>
                          <a:pt x="36" y="103"/>
                          <a:pt x="38" y="102"/>
                        </a:cubicBezTo>
                        <a:cubicBezTo>
                          <a:pt x="39" y="68"/>
                          <a:pt x="39" y="68"/>
                          <a:pt x="39" y="68"/>
                        </a:cubicBezTo>
                        <a:cubicBezTo>
                          <a:pt x="38" y="68"/>
                          <a:pt x="37" y="69"/>
                          <a:pt x="36" y="69"/>
                        </a:cubicBezTo>
                        <a:cubicBezTo>
                          <a:pt x="38" y="54"/>
                          <a:pt x="39" y="44"/>
                          <a:pt x="39" y="47"/>
                        </a:cubicBezTo>
                        <a:cubicBezTo>
                          <a:pt x="39" y="53"/>
                          <a:pt x="38" y="122"/>
                          <a:pt x="38" y="165"/>
                        </a:cubicBezTo>
                        <a:cubicBezTo>
                          <a:pt x="39" y="170"/>
                          <a:pt x="41" y="175"/>
                          <a:pt x="47" y="175"/>
                        </a:cubicBezTo>
                        <a:cubicBezTo>
                          <a:pt x="59" y="178"/>
                          <a:pt x="91" y="188"/>
                          <a:pt x="98" y="189"/>
                        </a:cubicBezTo>
                        <a:cubicBezTo>
                          <a:pt x="106" y="191"/>
                          <a:pt x="122" y="181"/>
                          <a:pt x="125" y="170"/>
                        </a:cubicBezTo>
                        <a:cubicBezTo>
                          <a:pt x="125" y="168"/>
                          <a:pt x="125" y="155"/>
                          <a:pt x="125" y="153"/>
                        </a:cubicBezTo>
                        <a:cubicBezTo>
                          <a:pt x="125" y="124"/>
                          <a:pt x="125" y="124"/>
                          <a:pt x="125" y="124"/>
                        </a:cubicBezTo>
                        <a:cubicBezTo>
                          <a:pt x="125" y="111"/>
                          <a:pt x="124" y="99"/>
                          <a:pt x="123" y="88"/>
                        </a:cubicBezTo>
                        <a:cubicBezTo>
                          <a:pt x="122" y="82"/>
                          <a:pt x="122" y="78"/>
                          <a:pt x="121" y="75"/>
                        </a:cubicBezTo>
                        <a:cubicBezTo>
                          <a:pt x="121" y="73"/>
                          <a:pt x="121" y="72"/>
                          <a:pt x="121" y="71"/>
                        </a:cubicBezTo>
                        <a:cubicBezTo>
                          <a:pt x="121" y="72"/>
                          <a:pt x="121" y="73"/>
                          <a:pt x="121" y="75"/>
                        </a:cubicBezTo>
                        <a:cubicBezTo>
                          <a:pt x="122" y="79"/>
                          <a:pt x="123" y="83"/>
                          <a:pt x="123" y="88"/>
                        </a:cubicBezTo>
                        <a:cubicBezTo>
                          <a:pt x="124" y="96"/>
                          <a:pt x="126" y="107"/>
                          <a:pt x="128" y="121"/>
                        </a:cubicBezTo>
                        <a:cubicBezTo>
                          <a:pt x="129" y="122"/>
                          <a:pt x="129" y="122"/>
                          <a:pt x="129" y="123"/>
                        </a:cubicBezTo>
                        <a:cubicBezTo>
                          <a:pt x="129" y="123"/>
                          <a:pt x="129" y="123"/>
                          <a:pt x="129" y="123"/>
                        </a:cubicBezTo>
                        <a:cubicBezTo>
                          <a:pt x="129" y="127"/>
                          <a:pt x="129" y="127"/>
                          <a:pt x="129" y="127"/>
                        </a:cubicBezTo>
                        <a:cubicBezTo>
                          <a:pt x="131" y="137"/>
                          <a:pt x="134" y="143"/>
                          <a:pt x="137" y="147"/>
                        </a:cubicBezTo>
                        <a:cubicBezTo>
                          <a:pt x="141" y="151"/>
                          <a:pt x="145" y="152"/>
                          <a:pt x="151" y="153"/>
                        </a:cubicBezTo>
                        <a:cubicBezTo>
                          <a:pt x="166" y="149"/>
                          <a:pt x="181" y="144"/>
                          <a:pt x="199" y="139"/>
                        </a:cubicBezTo>
                        <a:cubicBezTo>
                          <a:pt x="226" y="131"/>
                          <a:pt x="210" y="99"/>
                          <a:pt x="186" y="1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3" name="Freeform 430"/>
                  <p:cNvSpPr/>
                  <p:nvPr/>
                </p:nvSpPr>
                <p:spPr>
                  <a:xfrm>
                    <a:off x="4754160" y="3667680"/>
                    <a:ext cx="35280" cy="2124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60" h="36">
                        <a:moveTo>
                          <a:pt x="27" y="34"/>
                        </a:moveTo>
                        <a:cubicBezTo>
                          <a:pt x="13" y="33"/>
                          <a:pt x="0" y="22"/>
                          <a:pt x="9" y="20"/>
                        </a:cubicBezTo>
                        <a:cubicBezTo>
                          <a:pt x="15" y="19"/>
                          <a:pt x="12" y="13"/>
                          <a:pt x="14" y="11"/>
                        </a:cubicBezTo>
                        <a:cubicBezTo>
                          <a:pt x="17" y="8"/>
                          <a:pt x="48" y="0"/>
                          <a:pt x="48" y="14"/>
                        </a:cubicBezTo>
                        <a:cubicBezTo>
                          <a:pt x="48" y="18"/>
                          <a:pt x="43" y="22"/>
                          <a:pt x="51" y="26"/>
                        </a:cubicBezTo>
                        <a:cubicBezTo>
                          <a:pt x="60" y="29"/>
                          <a:pt x="41" y="36"/>
                          <a:pt x="27" y="3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4" name="Freeform 431"/>
                  <p:cNvSpPr/>
                  <p:nvPr/>
                </p:nvSpPr>
                <p:spPr>
                  <a:xfrm>
                    <a:off x="4745160" y="3770640"/>
                    <a:ext cx="53640" cy="14544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145440"/>
                      <a:gd name="textAreaBottom" fmla="*/ 145800 h 14544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5" name="Oval 432"/>
                  <p:cNvSpPr/>
                  <p:nvPr/>
                </p:nvSpPr>
                <p:spPr>
                  <a:xfrm flipH="1">
                    <a:off x="4748040" y="3636360"/>
                    <a:ext cx="4716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656" name="Group 433"/>
                <p:cNvGrpSpPr/>
                <p:nvPr/>
              </p:nvGrpSpPr>
              <p:grpSpPr>
                <a:xfrm>
                  <a:off x="4748400" y="3636000"/>
                  <a:ext cx="57600" cy="30600"/>
                  <a:chOff x="4748400" y="3636000"/>
                  <a:chExt cx="57600" cy="30600"/>
                </a:xfrm>
              </p:grpSpPr>
              <p:sp>
                <p:nvSpPr>
                  <p:cNvPr id="657" name="Freeform 434"/>
                  <p:cNvSpPr/>
                  <p:nvPr/>
                </p:nvSpPr>
                <p:spPr>
                  <a:xfrm>
                    <a:off x="4788720" y="3639600"/>
                    <a:ext cx="17280" cy="1332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28" h="22">
                        <a:moveTo>
                          <a:pt x="12" y="22"/>
                        </a:moveTo>
                        <a:cubicBezTo>
                          <a:pt x="12" y="22"/>
                          <a:pt x="12" y="22"/>
                          <a:pt x="12" y="22"/>
                        </a:cubicBezTo>
                        <a:cubicBezTo>
                          <a:pt x="17" y="21"/>
                          <a:pt x="28" y="13"/>
                          <a:pt x="21" y="5"/>
                        </a:cubicBezTo>
                        <a:cubicBezTo>
                          <a:pt x="15" y="0"/>
                          <a:pt x="4" y="3"/>
                          <a:pt x="0" y="4"/>
                        </a:cubicBezTo>
                        <a:cubicBezTo>
                          <a:pt x="0" y="4"/>
                          <a:pt x="10" y="15"/>
                          <a:pt x="12" y="2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8" name="Freeform 435"/>
                  <p:cNvSpPr/>
                  <p:nvPr/>
                </p:nvSpPr>
                <p:spPr>
                  <a:xfrm>
                    <a:off x="4748400" y="3636000"/>
                    <a:ext cx="47520" cy="3060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77" y="28"/>
                        </a:moveTo>
                        <a:cubicBezTo>
                          <a:pt x="75" y="21"/>
                          <a:pt x="71" y="15"/>
                          <a:pt x="66" y="11"/>
                        </a:cubicBezTo>
                        <a:cubicBezTo>
                          <a:pt x="58" y="4"/>
                          <a:pt x="49" y="0"/>
                          <a:pt x="38" y="1"/>
                        </a:cubicBezTo>
                        <a:cubicBezTo>
                          <a:pt x="17" y="2"/>
                          <a:pt x="1" y="18"/>
                          <a:pt x="0" y="38"/>
                        </a:cubicBez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6" y="49"/>
                          <a:pt x="70" y="44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659" name="Group 436"/>
              <p:cNvGrpSpPr/>
              <p:nvPr/>
            </p:nvGrpSpPr>
            <p:grpSpPr>
              <a:xfrm>
                <a:off x="5014080" y="3402720"/>
                <a:ext cx="670680" cy="441720"/>
                <a:chOff x="5014080" y="3402720"/>
                <a:chExt cx="670680" cy="441720"/>
              </a:xfrm>
            </p:grpSpPr>
            <p:sp>
              <p:nvSpPr>
                <p:cNvPr id="660" name="Freeform 437"/>
                <p:cNvSpPr/>
                <p:nvPr/>
              </p:nvSpPr>
              <p:spPr>
                <a:xfrm flipH="1">
                  <a:off x="5602320" y="3643200"/>
                  <a:ext cx="68040" cy="7272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20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20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1" name="Freeform 438"/>
                <p:cNvSpPr/>
                <p:nvPr/>
              </p:nvSpPr>
              <p:spPr>
                <a:xfrm flipH="1">
                  <a:off x="5310000" y="3721320"/>
                  <a:ext cx="67680" cy="72720"/>
                </a:xfrm>
                <a:custGeom>
                  <a:avLst/>
                  <a:gdLst>
                    <a:gd name="textAreaLeft" fmla="*/ 360 w 67680"/>
                    <a:gd name="textAreaRight" fmla="*/ 68400 w 67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18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18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2" name="Freeform 439"/>
                <p:cNvSpPr/>
                <p:nvPr/>
              </p:nvSpPr>
              <p:spPr>
                <a:xfrm flipH="1">
                  <a:off x="5527440" y="3567240"/>
                  <a:ext cx="146880" cy="3924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905" h="243">
                      <a:moveTo>
                        <a:pt x="0" y="123"/>
                      </a:moveTo>
                      <a:lnTo>
                        <a:pt x="453" y="0"/>
                      </a:lnTo>
                      <a:lnTo>
                        <a:pt x="905" y="123"/>
                      </a:lnTo>
                      <a:lnTo>
                        <a:pt x="453" y="24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3" name="Freeform 440"/>
                <p:cNvSpPr/>
                <p:nvPr/>
              </p:nvSpPr>
              <p:spPr>
                <a:xfrm flipH="1">
                  <a:off x="5013720" y="3402720"/>
                  <a:ext cx="560520" cy="150480"/>
                </a:xfrm>
                <a:custGeom>
                  <a:avLst/>
                  <a:gdLst>
                    <a:gd name="textAreaLeft" fmla="*/ -360 w 560520"/>
                    <a:gd name="textAreaRight" fmla="*/ 560520 w 56052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3449" h="929">
                      <a:moveTo>
                        <a:pt x="1352" y="0"/>
                      </a:moveTo>
                      <a:lnTo>
                        <a:pt x="0" y="366"/>
                      </a:lnTo>
                      <a:lnTo>
                        <a:pt x="2105" y="929"/>
                      </a:lnTo>
                      <a:lnTo>
                        <a:pt x="3449" y="565"/>
                      </a:lnTo>
                      <a:lnTo>
                        <a:pt x="13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4" name="Freeform 441"/>
                <p:cNvSpPr/>
                <p:nvPr/>
              </p:nvSpPr>
              <p:spPr>
                <a:xfrm flipH="1">
                  <a:off x="5549040" y="3670920"/>
                  <a:ext cx="80640" cy="88200"/>
                </a:xfrm>
                <a:custGeom>
                  <a:avLst/>
                  <a:gdLst>
                    <a:gd name="textAreaLeft" fmla="*/ 360 w 80640"/>
                    <a:gd name="textAreaRight" fmla="*/ 81360 w 80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1" h="231">
                      <a:moveTo>
                        <a:pt x="168" y="67"/>
                      </a:moveTo>
                      <a:cubicBezTo>
                        <a:pt x="133" y="21"/>
                        <a:pt x="82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0" y="69"/>
                        <a:pt x="8" y="121"/>
                        <a:pt x="41" y="164"/>
                      </a:cubicBezTo>
                      <a:cubicBezTo>
                        <a:pt x="58" y="186"/>
                        <a:pt x="79" y="203"/>
                        <a:pt x="100" y="212"/>
                      </a:cubicBezTo>
                      <a:cubicBezTo>
                        <a:pt x="109" y="231"/>
                        <a:pt x="109" y="231"/>
                        <a:pt x="109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2" y="217"/>
                        <a:pt x="169" y="214"/>
                        <a:pt x="176" y="209"/>
                      </a:cubicBezTo>
                      <a:cubicBezTo>
                        <a:pt x="211" y="182"/>
                        <a:pt x="208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5" name="Freeform 442"/>
                <p:cNvSpPr/>
                <p:nvPr/>
              </p:nvSpPr>
              <p:spPr>
                <a:xfrm flipH="1">
                  <a:off x="5565960" y="367344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7" y="214"/>
                      </a:moveTo>
                      <a:cubicBezTo>
                        <a:pt x="142" y="241"/>
                        <a:pt x="82" y="220"/>
                        <a:pt x="42" y="169"/>
                      </a:cubicBezTo>
                      <a:cubicBezTo>
                        <a:pt x="3" y="117"/>
                        <a:pt x="0" y="53"/>
                        <a:pt x="35" y="26"/>
                      </a:cubicBezTo>
                      <a:cubicBezTo>
                        <a:pt x="70" y="0"/>
                        <a:pt x="131" y="20"/>
                        <a:pt x="170" y="72"/>
                      </a:cubicBezTo>
                      <a:cubicBezTo>
                        <a:pt x="209" y="123"/>
                        <a:pt x="213" y="187"/>
                        <a:pt x="177" y="214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6" name="Freeform 443"/>
                <p:cNvSpPr/>
                <p:nvPr/>
              </p:nvSpPr>
              <p:spPr>
                <a:xfrm flipH="1">
                  <a:off x="5582160" y="3691440"/>
                  <a:ext cx="49680" cy="55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0" h="146">
                      <a:moveTo>
                        <a:pt x="109" y="130"/>
                      </a:moveTo>
                      <a:cubicBezTo>
                        <a:pt x="87" y="146"/>
                        <a:pt x="50" y="134"/>
                        <a:pt x="26" y="103"/>
                      </a:cubicBezTo>
                      <a:cubicBezTo>
                        <a:pt x="2" y="71"/>
                        <a:pt x="0" y="32"/>
                        <a:pt x="22" y="16"/>
                      </a:cubicBezTo>
                      <a:cubicBezTo>
                        <a:pt x="43" y="0"/>
                        <a:pt x="80" y="12"/>
                        <a:pt x="104" y="44"/>
                      </a:cubicBezTo>
                      <a:cubicBezTo>
                        <a:pt x="128" y="75"/>
                        <a:pt x="130" y="114"/>
                        <a:pt x="109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7" name="Freeform 444"/>
                <p:cNvSpPr/>
                <p:nvPr/>
              </p:nvSpPr>
              <p:spPr>
                <a:xfrm flipH="1">
                  <a:off x="5254560" y="3749760"/>
                  <a:ext cx="80280" cy="88200"/>
                </a:xfrm>
                <a:custGeom>
                  <a:avLst/>
                  <a:gdLst>
                    <a:gd name="textAreaLeft" fmla="*/ -360 w 80280"/>
                    <a:gd name="textAreaRight" fmla="*/ 80280 w 8028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0" h="231">
                      <a:moveTo>
                        <a:pt x="168" y="67"/>
                      </a:moveTo>
                      <a:cubicBezTo>
                        <a:pt x="133" y="21"/>
                        <a:pt x="81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8" y="38"/>
                        <a:pt x="18" y="38"/>
                        <a:pt x="18" y="38"/>
                      </a:cubicBezTo>
                      <a:cubicBezTo>
                        <a:pt x="0" y="69"/>
                        <a:pt x="7" y="120"/>
                        <a:pt x="40" y="164"/>
                      </a:cubicBezTo>
                      <a:cubicBezTo>
                        <a:pt x="57" y="186"/>
                        <a:pt x="78" y="202"/>
                        <a:pt x="99" y="212"/>
                      </a:cubicBezTo>
                      <a:cubicBezTo>
                        <a:pt x="108" y="231"/>
                        <a:pt x="108" y="231"/>
                        <a:pt x="108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1" y="217"/>
                        <a:pt x="169" y="214"/>
                        <a:pt x="175" y="209"/>
                      </a:cubicBezTo>
                      <a:cubicBezTo>
                        <a:pt x="210" y="182"/>
                        <a:pt x="207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8" name="Freeform 445"/>
                <p:cNvSpPr/>
                <p:nvPr/>
              </p:nvSpPr>
              <p:spPr>
                <a:xfrm flipH="1">
                  <a:off x="5272200" y="375228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8" y="215"/>
                      </a:moveTo>
                      <a:cubicBezTo>
                        <a:pt x="143" y="241"/>
                        <a:pt x="82" y="221"/>
                        <a:pt x="43" y="169"/>
                      </a:cubicBezTo>
                      <a:cubicBezTo>
                        <a:pt x="3" y="118"/>
                        <a:pt x="0" y="54"/>
                        <a:pt x="35" y="27"/>
                      </a:cubicBezTo>
                      <a:cubicBezTo>
                        <a:pt x="71" y="0"/>
                        <a:pt x="131" y="21"/>
                        <a:pt x="170" y="72"/>
                      </a:cubicBezTo>
                      <a:cubicBezTo>
                        <a:pt x="210" y="124"/>
                        <a:pt x="213" y="188"/>
                        <a:pt x="178" y="215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9" name="Freeform 446"/>
                <p:cNvSpPr/>
                <p:nvPr/>
              </p:nvSpPr>
              <p:spPr>
                <a:xfrm flipH="1">
                  <a:off x="5287680" y="3770640"/>
                  <a:ext cx="49320" cy="55800"/>
                </a:xfrm>
                <a:custGeom>
                  <a:avLst/>
                  <a:gdLst>
                    <a:gd name="textAreaLeft" fmla="*/ -360 w 49320"/>
                    <a:gd name="textAreaRight" fmla="*/ 49320 w 493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29" h="146">
                      <a:moveTo>
                        <a:pt x="108" y="130"/>
                      </a:moveTo>
                      <a:cubicBezTo>
                        <a:pt x="86" y="146"/>
                        <a:pt x="50" y="134"/>
                        <a:pt x="26" y="102"/>
                      </a:cubicBezTo>
                      <a:cubicBezTo>
                        <a:pt x="2" y="71"/>
                        <a:pt x="0" y="32"/>
                        <a:pt x="21" y="16"/>
                      </a:cubicBezTo>
                      <a:cubicBezTo>
                        <a:pt x="43" y="0"/>
                        <a:pt x="79" y="12"/>
                        <a:pt x="103" y="43"/>
                      </a:cubicBezTo>
                      <a:cubicBezTo>
                        <a:pt x="127" y="75"/>
                        <a:pt x="129" y="114"/>
                        <a:pt x="108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0" name="Freeform 447"/>
                <p:cNvSpPr/>
                <p:nvPr/>
              </p:nvSpPr>
              <p:spPr>
                <a:xfrm flipH="1">
                  <a:off x="5232240" y="3457440"/>
                  <a:ext cx="451080" cy="369000"/>
                </a:xfrm>
                <a:custGeom>
                  <a:avLst/>
                  <a:gdLst>
                    <a:gd name="textAreaLeft" fmla="*/ -360 w 451080"/>
                    <a:gd name="textAreaRight" fmla="*/ 451080 w 451080"/>
                    <a:gd name="textAreaTop" fmla="*/ 0 h 369000"/>
                    <a:gd name="textAreaBottom" fmla="*/ 369360 h 369000"/>
                  </a:gdLst>
                  <a:ahLst/>
                  <a:rect l="textAreaLeft" t="textAreaTop" r="textAreaRight" b="textAreaBottom"/>
                  <a:pathLst>
                    <a:path w="1175" h="962">
                      <a:moveTo>
                        <a:pt x="301" y="14"/>
                      </a:moveTo>
                      <a:cubicBezTo>
                        <a:pt x="242" y="0"/>
                        <a:pt x="218" y="72"/>
                        <a:pt x="218" y="72"/>
                      </a:cubicBezTo>
                      <a:cubicBezTo>
                        <a:pt x="128" y="365"/>
                        <a:pt x="128" y="365"/>
                        <a:pt x="128" y="365"/>
                      </a:cubicBezTo>
                      <a:cubicBezTo>
                        <a:pt x="128" y="365"/>
                        <a:pt x="52" y="326"/>
                        <a:pt x="26" y="338"/>
                      </a:cubicBezTo>
                      <a:cubicBezTo>
                        <a:pt x="0" y="350"/>
                        <a:pt x="26" y="656"/>
                        <a:pt x="26" y="656"/>
                      </a:cubicBezTo>
                      <a:cubicBezTo>
                        <a:pt x="96" y="674"/>
                        <a:pt x="96" y="674"/>
                        <a:pt x="96" y="674"/>
                      </a:cubicBezTo>
                      <a:cubicBezTo>
                        <a:pt x="85" y="633"/>
                        <a:pt x="93" y="595"/>
                        <a:pt x="120" y="574"/>
                      </a:cubicBezTo>
                      <a:cubicBezTo>
                        <a:pt x="160" y="543"/>
                        <a:pt x="231" y="567"/>
                        <a:pt x="276" y="627"/>
                      </a:cubicBezTo>
                      <a:cubicBezTo>
                        <a:pt x="302" y="661"/>
                        <a:pt x="314" y="700"/>
                        <a:pt x="313" y="732"/>
                      </a:cubicBezTo>
                      <a:cubicBezTo>
                        <a:pt x="860" y="878"/>
                        <a:pt x="860" y="878"/>
                        <a:pt x="860" y="878"/>
                      </a:cubicBezTo>
                      <a:cubicBezTo>
                        <a:pt x="850" y="838"/>
                        <a:pt x="857" y="800"/>
                        <a:pt x="884" y="780"/>
                      </a:cubicBezTo>
                      <a:cubicBezTo>
                        <a:pt x="925" y="749"/>
                        <a:pt x="995" y="772"/>
                        <a:pt x="1041" y="833"/>
                      </a:cubicBezTo>
                      <a:cubicBezTo>
                        <a:pt x="1066" y="866"/>
                        <a:pt x="1079" y="904"/>
                        <a:pt x="1078" y="936"/>
                      </a:cubicBezTo>
                      <a:cubicBezTo>
                        <a:pt x="1175" y="962"/>
                        <a:pt x="1175" y="962"/>
                        <a:pt x="1175" y="962"/>
                      </a:cubicBezTo>
                      <a:cubicBezTo>
                        <a:pt x="1175" y="250"/>
                        <a:pt x="1175" y="250"/>
                        <a:pt x="1175" y="250"/>
                      </a:cubicBezTo>
                      <a:lnTo>
                        <a:pt x="301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1" name="Freeform 448"/>
                <p:cNvSpPr/>
                <p:nvPr/>
              </p:nvSpPr>
              <p:spPr>
                <a:xfrm flipH="1">
                  <a:off x="5599800" y="3506040"/>
                  <a:ext cx="26640" cy="10008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65" h="619">
                      <a:moveTo>
                        <a:pt x="0" y="581"/>
                      </a:moveTo>
                      <a:lnTo>
                        <a:pt x="165" y="619"/>
                      </a:lnTo>
                      <a:lnTo>
                        <a:pt x="165" y="0"/>
                      </a:lnTo>
                      <a:lnTo>
                        <a:pt x="0" y="5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2" name="Line 449"/>
                <p:cNvSpPr/>
                <p:nvPr/>
              </p:nvSpPr>
              <p:spPr>
                <a:xfrm flipV="1">
                  <a:off x="5187240" y="3449520"/>
                  <a:ext cx="342720" cy="9144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3" name="Line 450"/>
                <p:cNvSpPr/>
                <p:nvPr/>
              </p:nvSpPr>
              <p:spPr>
                <a:xfrm flipV="1">
                  <a:off x="5143680" y="343800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4" name="Line 451"/>
                <p:cNvSpPr/>
                <p:nvPr/>
              </p:nvSpPr>
              <p:spPr>
                <a:xfrm flipV="1">
                  <a:off x="5100480" y="342612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5" name="Line 452"/>
                <p:cNvSpPr/>
                <p:nvPr/>
              </p:nvSpPr>
              <p:spPr>
                <a:xfrm flipV="1">
                  <a:off x="5056560" y="341460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6" name="Freeform 453"/>
                <p:cNvSpPr/>
                <p:nvPr/>
              </p:nvSpPr>
              <p:spPr>
                <a:xfrm flipH="1">
                  <a:off x="5014440" y="3494520"/>
                  <a:ext cx="218160" cy="33192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331920"/>
                    <a:gd name="textAreaBottom" fmla="*/ 332280 h 331920"/>
                  </a:gdLst>
                  <a:ahLst/>
                  <a:rect l="textAreaLeft" t="textAreaTop" r="textAreaRight" b="textAreaBottom"/>
                  <a:pathLst>
                    <a:path w="1344" h="2046">
                      <a:moveTo>
                        <a:pt x="0" y="364"/>
                      </a:moveTo>
                      <a:lnTo>
                        <a:pt x="1344" y="0"/>
                      </a:lnTo>
                      <a:lnTo>
                        <a:pt x="1344" y="1682"/>
                      </a:lnTo>
                      <a:lnTo>
                        <a:pt x="0" y="2046"/>
                      </a:lnTo>
                      <a:lnTo>
                        <a:pt x="0" y="3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7" name="Freeform 454"/>
                <p:cNvSpPr/>
                <p:nvPr/>
              </p:nvSpPr>
              <p:spPr>
                <a:xfrm flipH="1">
                  <a:off x="5249880" y="3520440"/>
                  <a:ext cx="234360" cy="179280"/>
                </a:xfrm>
                <a:custGeom>
                  <a:avLst/>
                  <a:gdLst>
                    <a:gd name="textAreaLeft" fmla="*/ -360 w 234360"/>
                    <a:gd name="textAreaRight" fmla="*/ 234360 w 23436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1444" h="1107">
                      <a:moveTo>
                        <a:pt x="0" y="0"/>
                      </a:moveTo>
                      <a:lnTo>
                        <a:pt x="0" y="722"/>
                      </a:lnTo>
                      <a:lnTo>
                        <a:pt x="1444" y="1107"/>
                      </a:lnTo>
                      <a:lnTo>
                        <a:pt x="1444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8" name="Freeform 455"/>
                <p:cNvSpPr/>
                <p:nvPr/>
              </p:nvSpPr>
              <p:spPr>
                <a:xfrm flipH="1">
                  <a:off x="5496480" y="3491640"/>
                  <a:ext cx="96120" cy="26424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593" h="1630">
                      <a:moveTo>
                        <a:pt x="0" y="0"/>
                      </a:moveTo>
                      <a:lnTo>
                        <a:pt x="593" y="161"/>
                      </a:lnTo>
                      <a:lnTo>
                        <a:pt x="593" y="1630"/>
                      </a:lnTo>
                      <a:lnTo>
                        <a:pt x="279" y="1545"/>
                      </a:lnTo>
                      <a:lnTo>
                        <a:pt x="0" y="9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9" name="Freeform 456"/>
                <p:cNvSpPr/>
                <p:nvPr/>
              </p:nvSpPr>
              <p:spPr>
                <a:xfrm flipH="1">
                  <a:off x="5507280" y="3510360"/>
                  <a:ext cx="73080" cy="120960"/>
                </a:xfrm>
                <a:custGeom>
                  <a:avLst/>
                  <a:gdLst>
                    <a:gd name="textAreaLeft" fmla="*/ -360 w 73080"/>
                    <a:gd name="textAreaRight" fmla="*/ 73080 w 730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52" h="747">
                      <a:moveTo>
                        <a:pt x="0" y="0"/>
                      </a:moveTo>
                      <a:lnTo>
                        <a:pt x="0" y="626"/>
                      </a:lnTo>
                      <a:lnTo>
                        <a:pt x="452" y="747"/>
                      </a:lnTo>
                      <a:lnTo>
                        <a:pt x="452" y="1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0" name="Freeform 457"/>
                <p:cNvSpPr/>
                <p:nvPr/>
              </p:nvSpPr>
              <p:spPr>
                <a:xfrm flipH="1">
                  <a:off x="5605200" y="3524400"/>
                  <a:ext cx="26640" cy="7884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67" h="487">
                      <a:moveTo>
                        <a:pt x="0" y="487"/>
                      </a:moveTo>
                      <a:lnTo>
                        <a:pt x="0" y="45"/>
                      </a:lnTo>
                      <a:lnTo>
                        <a:pt x="167" y="0"/>
                      </a:lnTo>
                      <a:lnTo>
                        <a:pt x="167" y="442"/>
                      </a:lnTo>
                      <a:lnTo>
                        <a:pt x="0" y="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1" name="Freeform 458"/>
                <p:cNvSpPr/>
                <p:nvPr/>
              </p:nvSpPr>
              <p:spPr>
                <a:xfrm flipH="1">
                  <a:off x="5631480" y="3530520"/>
                  <a:ext cx="4680" cy="72720"/>
                </a:xfrm>
                <a:custGeom>
                  <a:avLst/>
                  <a:gdLst>
                    <a:gd name="textAreaLeft" fmla="*/ -360 w 4680"/>
                    <a:gd name="textAreaRight" fmla="*/ 4680 w 4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1" h="449">
                      <a:moveTo>
                        <a:pt x="31" y="7"/>
                      </a:moveTo>
                      <a:lnTo>
                        <a:pt x="0" y="0"/>
                      </a:lnTo>
                      <a:lnTo>
                        <a:pt x="0" y="439"/>
                      </a:lnTo>
                      <a:lnTo>
                        <a:pt x="31" y="449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2" name="Freeform 459"/>
                <p:cNvSpPr/>
                <p:nvPr/>
              </p:nvSpPr>
              <p:spPr>
                <a:xfrm flipH="1">
                  <a:off x="5605200" y="3522960"/>
                  <a:ext cx="31680" cy="792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98" h="52">
                      <a:moveTo>
                        <a:pt x="198" y="7"/>
                      </a:moveTo>
                      <a:lnTo>
                        <a:pt x="165" y="0"/>
                      </a:lnTo>
                      <a:lnTo>
                        <a:pt x="0" y="45"/>
                      </a:lnTo>
                      <a:lnTo>
                        <a:pt x="31" y="52"/>
                      </a:lnTo>
                      <a:lnTo>
                        <a:pt x="198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3" name="Freeform 460"/>
                <p:cNvSpPr/>
                <p:nvPr/>
              </p:nvSpPr>
              <p:spPr>
                <a:xfrm flipH="1">
                  <a:off x="5595840" y="360828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1"/>
                      </a:moveTo>
                      <a:cubicBezTo>
                        <a:pt x="8" y="13"/>
                        <a:pt x="4" y="11"/>
                        <a:pt x="2" y="9"/>
                      </a:cubicBezTo>
                      <a:cubicBezTo>
                        <a:pt x="0" y="6"/>
                        <a:pt x="0" y="3"/>
                        <a:pt x="2" y="1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6"/>
                        <a:pt x="11" y="10"/>
                        <a:pt x="9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4" name="Freeform 461"/>
                <p:cNvSpPr/>
                <p:nvPr/>
              </p:nvSpPr>
              <p:spPr>
                <a:xfrm flipH="1">
                  <a:off x="5595840" y="349776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2"/>
                      </a:moveTo>
                      <a:cubicBezTo>
                        <a:pt x="8" y="13"/>
                        <a:pt x="4" y="12"/>
                        <a:pt x="2" y="9"/>
                      </a:cubicBezTo>
                      <a:cubicBezTo>
                        <a:pt x="0" y="7"/>
                        <a:pt x="0" y="3"/>
                        <a:pt x="2" y="2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7"/>
                        <a:pt x="11" y="10"/>
                        <a:pt x="9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5" name="Freeform 462"/>
                <p:cNvSpPr/>
                <p:nvPr/>
              </p:nvSpPr>
              <p:spPr>
                <a:xfrm flipH="1">
                  <a:off x="5598000" y="3498840"/>
                  <a:ext cx="35280" cy="122400"/>
                </a:xfrm>
                <a:custGeom>
                  <a:avLst/>
                  <a:gdLst>
                    <a:gd name="textAreaLeft" fmla="*/ 360 w 35280"/>
                    <a:gd name="textAreaRight" fmla="*/ 36000 w 35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93" h="320">
                      <a:moveTo>
                        <a:pt x="0" y="24"/>
                      </a:moveTo>
                      <a:cubicBezTo>
                        <a:pt x="0" y="320"/>
                        <a:pt x="0" y="320"/>
                        <a:pt x="0" y="320"/>
                      </a:cubicBezTo>
                      <a:cubicBezTo>
                        <a:pt x="93" y="295"/>
                        <a:pt x="93" y="295"/>
                        <a:pt x="93" y="295"/>
                      </a:cubicBezTo>
                      <a:cubicBezTo>
                        <a:pt x="91" y="287"/>
                        <a:pt x="91" y="287"/>
                        <a:pt x="91" y="287"/>
                      </a:cubicBezTo>
                      <a:cubicBezTo>
                        <a:pt x="91" y="287"/>
                        <a:pt x="17" y="307"/>
                        <a:pt x="8" y="310"/>
                      </a:cubicBezTo>
                      <a:cubicBezTo>
                        <a:pt x="8" y="300"/>
                        <a:pt x="8" y="36"/>
                        <a:pt x="8" y="30"/>
                      </a:cubicBezTo>
                      <a:cubicBezTo>
                        <a:pt x="14" y="29"/>
                        <a:pt x="93" y="8"/>
                        <a:pt x="93" y="8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6" name="Freeform 463"/>
                <p:cNvSpPr/>
                <p:nvPr/>
              </p:nvSpPr>
              <p:spPr>
                <a:xfrm flipH="1">
                  <a:off x="5122800" y="3541320"/>
                  <a:ext cx="94680" cy="24300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584" h="1498">
                      <a:moveTo>
                        <a:pt x="0" y="159"/>
                      </a:moveTo>
                      <a:lnTo>
                        <a:pt x="0" y="1498"/>
                      </a:lnTo>
                      <a:lnTo>
                        <a:pt x="584" y="1342"/>
                      </a:lnTo>
                      <a:lnTo>
                        <a:pt x="584" y="0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7" name="Freeform 464"/>
                <p:cNvSpPr/>
                <p:nvPr/>
              </p:nvSpPr>
              <p:spPr>
                <a:xfrm flipH="1">
                  <a:off x="5028480" y="3516120"/>
                  <a:ext cx="94320" cy="242640"/>
                </a:xfrm>
                <a:custGeom>
                  <a:avLst/>
                  <a:gdLst>
                    <a:gd name="textAreaLeft" fmla="*/ 360 w 94320"/>
                    <a:gd name="textAreaRight" fmla="*/ 95040 w 9432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583" h="1497">
                      <a:moveTo>
                        <a:pt x="583" y="0"/>
                      </a:moveTo>
                      <a:lnTo>
                        <a:pt x="0" y="155"/>
                      </a:lnTo>
                      <a:lnTo>
                        <a:pt x="0" y="1497"/>
                      </a:lnTo>
                      <a:lnTo>
                        <a:pt x="583" y="1339"/>
                      </a:lnTo>
                      <a:lnTo>
                        <a:pt x="58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8" name="Freeform 465"/>
                <p:cNvSpPr/>
                <p:nvPr/>
              </p:nvSpPr>
              <p:spPr>
                <a:xfrm flipH="1">
                  <a:off x="5017320" y="3752280"/>
                  <a:ext cx="12600" cy="147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1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9" name="Freeform 466"/>
                <p:cNvSpPr/>
                <p:nvPr/>
              </p:nvSpPr>
              <p:spPr>
                <a:xfrm flipH="1">
                  <a:off x="5214600" y="380628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2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0" name="Freeform 467"/>
                <p:cNvSpPr/>
                <p:nvPr/>
              </p:nvSpPr>
              <p:spPr>
                <a:xfrm flipH="1">
                  <a:off x="5214960" y="379332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1" name="Freeform 468"/>
                <p:cNvSpPr/>
                <p:nvPr/>
              </p:nvSpPr>
              <p:spPr>
                <a:xfrm flipH="1">
                  <a:off x="5018400" y="373932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2" name="Freeform 469"/>
                <p:cNvSpPr/>
                <p:nvPr/>
              </p:nvSpPr>
              <p:spPr>
                <a:xfrm flipH="1">
                  <a:off x="5214960" y="355356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3" name="Freeform 470"/>
                <p:cNvSpPr/>
                <p:nvPr/>
              </p:nvSpPr>
              <p:spPr>
                <a:xfrm flipH="1">
                  <a:off x="5018400" y="349956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4" name="Freeform 471"/>
                <p:cNvSpPr/>
                <p:nvPr/>
              </p:nvSpPr>
              <p:spPr>
                <a:xfrm flipH="1">
                  <a:off x="5128920" y="364788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5" name="Freeform 472"/>
                <p:cNvSpPr/>
                <p:nvPr/>
              </p:nvSpPr>
              <p:spPr>
                <a:xfrm flipH="1">
                  <a:off x="5106240" y="364284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6" name="Freeform 473"/>
                <p:cNvSpPr/>
                <p:nvPr/>
              </p:nvSpPr>
              <p:spPr>
                <a:xfrm flipH="1">
                  <a:off x="5659560" y="3690000"/>
                  <a:ext cx="24840" cy="25560"/>
                </a:xfrm>
                <a:custGeom>
                  <a:avLst/>
                  <a:gdLst>
                    <a:gd name="textAreaLeft" fmla="*/ -360 w 24840"/>
                    <a:gd name="textAreaRight" fmla="*/ 24840 w 248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66" y="68"/>
                      </a:moveTo>
                      <a:cubicBezTo>
                        <a:pt x="6" y="58"/>
                        <a:pt x="13" y="56"/>
                        <a:pt x="13" y="43"/>
                      </a:cubicBezTo>
                      <a:cubicBezTo>
                        <a:pt x="13" y="31"/>
                        <a:pt x="0" y="0"/>
                        <a:pt x="13" y="0"/>
                      </a:cubicBezTo>
                      <a:cubicBezTo>
                        <a:pt x="26" y="0"/>
                        <a:pt x="54" y="12"/>
                        <a:pt x="66" y="12"/>
                      </a:cubicBezTo>
                      <a:lnTo>
                        <a:pt x="66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697" name="Group 708"/>
            <p:cNvGrpSpPr/>
            <p:nvPr/>
          </p:nvGrpSpPr>
          <p:grpSpPr>
            <a:xfrm>
              <a:off x="5175720" y="3774240"/>
              <a:ext cx="1862640" cy="749520"/>
              <a:chOff x="5175720" y="3774240"/>
              <a:chExt cx="1862640" cy="749520"/>
            </a:xfrm>
          </p:grpSpPr>
          <p:sp>
            <p:nvSpPr>
              <p:cNvPr id="698" name="Freeform 475"/>
              <p:cNvSpPr/>
              <p:nvPr/>
            </p:nvSpPr>
            <p:spPr>
              <a:xfrm>
                <a:off x="5175720" y="4056120"/>
                <a:ext cx="1747800" cy="467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699" name="Group 476"/>
              <p:cNvGrpSpPr/>
              <p:nvPr/>
            </p:nvGrpSpPr>
            <p:grpSpPr>
              <a:xfrm>
                <a:off x="6077880" y="4007520"/>
                <a:ext cx="151200" cy="280080"/>
                <a:chOff x="6077880" y="4007520"/>
                <a:chExt cx="151200" cy="280080"/>
              </a:xfrm>
            </p:grpSpPr>
            <p:grpSp>
              <p:nvGrpSpPr>
                <p:cNvPr id="700" name="Group 477"/>
                <p:cNvGrpSpPr/>
                <p:nvPr/>
              </p:nvGrpSpPr>
              <p:grpSpPr>
                <a:xfrm>
                  <a:off x="6113880" y="4046760"/>
                  <a:ext cx="115200" cy="90000"/>
                  <a:chOff x="6113880" y="4046760"/>
                  <a:chExt cx="115200" cy="90000"/>
                </a:xfrm>
              </p:grpSpPr>
              <p:sp>
                <p:nvSpPr>
                  <p:cNvPr id="701" name="Freeform 478"/>
                  <p:cNvSpPr/>
                  <p:nvPr/>
                </p:nvSpPr>
                <p:spPr>
                  <a:xfrm flipH="1">
                    <a:off x="6113880" y="4046760"/>
                    <a:ext cx="115200" cy="3060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2" name="Freeform 479"/>
                  <p:cNvSpPr/>
                  <p:nvPr/>
                </p:nvSpPr>
                <p:spPr>
                  <a:xfrm flipH="1">
                    <a:off x="6113880" y="4062240"/>
                    <a:ext cx="57600" cy="74520"/>
                  </a:xfrm>
                  <a:custGeom>
                    <a:avLst/>
                    <a:gdLst>
                      <a:gd name="textAreaLeft" fmla="*/ 360 w 57600"/>
                      <a:gd name="textAreaRight" fmla="*/ 5832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3" name="Freeform 480"/>
                  <p:cNvSpPr/>
                  <p:nvPr/>
                </p:nvSpPr>
                <p:spPr>
                  <a:xfrm flipH="1">
                    <a:off x="6171120" y="4062240"/>
                    <a:ext cx="57240" cy="74520"/>
                  </a:xfrm>
                  <a:custGeom>
                    <a:avLst/>
                    <a:gdLst>
                      <a:gd name="textAreaLeft" fmla="*/ -360 w 57240"/>
                      <a:gd name="textAreaRight" fmla="*/ 5724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704" name="Group 481"/>
                <p:cNvGrpSpPr/>
                <p:nvPr/>
              </p:nvGrpSpPr>
              <p:grpSpPr>
                <a:xfrm>
                  <a:off x="6077880" y="4007880"/>
                  <a:ext cx="134640" cy="279720"/>
                  <a:chOff x="6077880" y="4007880"/>
                  <a:chExt cx="134640" cy="279720"/>
                </a:xfrm>
              </p:grpSpPr>
              <p:sp>
                <p:nvSpPr>
                  <p:cNvPr id="705" name="Freeform 482"/>
                  <p:cNvSpPr/>
                  <p:nvPr/>
                </p:nvSpPr>
                <p:spPr>
                  <a:xfrm>
                    <a:off x="6077880" y="4044600"/>
                    <a:ext cx="134640" cy="113400"/>
                  </a:xfrm>
                  <a:custGeom>
                    <a:avLst/>
                    <a:gdLst>
                      <a:gd name="textAreaLeft" fmla="*/ 0 w 134640"/>
                      <a:gd name="textAreaRight" fmla="*/ 135000 w 134640"/>
                      <a:gd name="textAreaTop" fmla="*/ 0 h 113400"/>
                      <a:gd name="textAreaBottom" fmla="*/ 113760 h 113400"/>
                    </a:gdLst>
                    <a:ahLst/>
                    <a:rect l="textAreaLeft" t="textAreaTop" r="textAreaRight" b="textAreaBottom"/>
                    <a:pathLst>
                      <a:path w="226" h="191">
                        <a:moveTo>
                          <a:pt x="186" y="107"/>
                        </a:moveTo>
                        <a:cubicBezTo>
                          <a:pt x="184" y="108"/>
                          <a:pt x="175" y="110"/>
                          <a:pt x="164" y="113"/>
                        </a:cubicBezTo>
                        <a:cubicBezTo>
                          <a:pt x="159" y="84"/>
                          <a:pt x="155" y="57"/>
                          <a:pt x="154" y="49"/>
                        </a:cubicBezTo>
                        <a:cubicBezTo>
                          <a:pt x="151" y="32"/>
                          <a:pt x="136" y="27"/>
                          <a:pt x="128" y="24"/>
                        </a:cubicBezTo>
                        <a:cubicBezTo>
                          <a:pt x="120" y="21"/>
                          <a:pt x="98" y="16"/>
                          <a:pt x="85" y="13"/>
                        </a:cubicBezTo>
                        <a:cubicBezTo>
                          <a:pt x="73" y="9"/>
                          <a:pt x="54" y="3"/>
                          <a:pt x="45" y="2"/>
                        </a:cubicBezTo>
                        <a:cubicBezTo>
                          <a:pt x="36" y="0"/>
                          <a:pt x="18" y="4"/>
                          <a:pt x="15" y="12"/>
                        </a:cubicBezTo>
                        <a:cubicBezTo>
                          <a:pt x="14" y="14"/>
                          <a:pt x="8" y="50"/>
                          <a:pt x="2" y="85"/>
                        </a:cubicBezTo>
                        <a:cubicBezTo>
                          <a:pt x="2" y="85"/>
                          <a:pt x="2" y="85"/>
                          <a:pt x="2" y="85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0" y="98"/>
                          <a:pt x="3" y="104"/>
                          <a:pt x="8" y="106"/>
                        </a:cubicBezTo>
                        <a:cubicBezTo>
                          <a:pt x="12" y="108"/>
                          <a:pt x="17" y="107"/>
                          <a:pt x="23" y="106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30" y="104"/>
                          <a:pt x="31" y="104"/>
                          <a:pt x="32" y="104"/>
                        </a:cubicBezTo>
                        <a:cubicBezTo>
                          <a:pt x="34" y="103"/>
                          <a:pt x="36" y="103"/>
                          <a:pt x="38" y="102"/>
                        </a:cubicBezTo>
                        <a:cubicBezTo>
                          <a:pt x="39" y="68"/>
                          <a:pt x="39" y="68"/>
                          <a:pt x="39" y="68"/>
                        </a:cubicBezTo>
                        <a:cubicBezTo>
                          <a:pt x="38" y="68"/>
                          <a:pt x="37" y="69"/>
                          <a:pt x="36" y="69"/>
                        </a:cubicBezTo>
                        <a:cubicBezTo>
                          <a:pt x="38" y="54"/>
                          <a:pt x="39" y="44"/>
                          <a:pt x="39" y="47"/>
                        </a:cubicBezTo>
                        <a:cubicBezTo>
                          <a:pt x="39" y="53"/>
                          <a:pt x="38" y="122"/>
                          <a:pt x="38" y="165"/>
                        </a:cubicBezTo>
                        <a:cubicBezTo>
                          <a:pt x="39" y="170"/>
                          <a:pt x="41" y="175"/>
                          <a:pt x="47" y="175"/>
                        </a:cubicBezTo>
                        <a:cubicBezTo>
                          <a:pt x="59" y="178"/>
                          <a:pt x="91" y="188"/>
                          <a:pt x="98" y="189"/>
                        </a:cubicBezTo>
                        <a:cubicBezTo>
                          <a:pt x="106" y="191"/>
                          <a:pt x="122" y="181"/>
                          <a:pt x="125" y="170"/>
                        </a:cubicBezTo>
                        <a:cubicBezTo>
                          <a:pt x="125" y="168"/>
                          <a:pt x="125" y="155"/>
                          <a:pt x="125" y="153"/>
                        </a:cubicBezTo>
                        <a:cubicBezTo>
                          <a:pt x="125" y="124"/>
                          <a:pt x="125" y="124"/>
                          <a:pt x="125" y="124"/>
                        </a:cubicBezTo>
                        <a:cubicBezTo>
                          <a:pt x="125" y="111"/>
                          <a:pt x="124" y="99"/>
                          <a:pt x="123" y="88"/>
                        </a:cubicBezTo>
                        <a:cubicBezTo>
                          <a:pt x="122" y="82"/>
                          <a:pt x="122" y="78"/>
                          <a:pt x="121" y="75"/>
                        </a:cubicBezTo>
                        <a:cubicBezTo>
                          <a:pt x="121" y="73"/>
                          <a:pt x="121" y="72"/>
                          <a:pt x="121" y="71"/>
                        </a:cubicBezTo>
                        <a:cubicBezTo>
                          <a:pt x="121" y="72"/>
                          <a:pt x="121" y="73"/>
                          <a:pt x="121" y="75"/>
                        </a:cubicBezTo>
                        <a:cubicBezTo>
                          <a:pt x="122" y="79"/>
                          <a:pt x="123" y="83"/>
                          <a:pt x="123" y="88"/>
                        </a:cubicBezTo>
                        <a:cubicBezTo>
                          <a:pt x="124" y="96"/>
                          <a:pt x="126" y="107"/>
                          <a:pt x="128" y="121"/>
                        </a:cubicBezTo>
                        <a:cubicBezTo>
                          <a:pt x="129" y="122"/>
                          <a:pt x="129" y="122"/>
                          <a:pt x="129" y="123"/>
                        </a:cubicBezTo>
                        <a:cubicBezTo>
                          <a:pt x="129" y="123"/>
                          <a:pt x="129" y="123"/>
                          <a:pt x="129" y="123"/>
                        </a:cubicBezTo>
                        <a:cubicBezTo>
                          <a:pt x="129" y="127"/>
                          <a:pt x="129" y="127"/>
                          <a:pt x="129" y="127"/>
                        </a:cubicBezTo>
                        <a:cubicBezTo>
                          <a:pt x="131" y="137"/>
                          <a:pt x="134" y="143"/>
                          <a:pt x="137" y="147"/>
                        </a:cubicBezTo>
                        <a:cubicBezTo>
                          <a:pt x="141" y="151"/>
                          <a:pt x="145" y="152"/>
                          <a:pt x="151" y="153"/>
                        </a:cubicBezTo>
                        <a:cubicBezTo>
                          <a:pt x="166" y="149"/>
                          <a:pt x="181" y="144"/>
                          <a:pt x="199" y="139"/>
                        </a:cubicBezTo>
                        <a:cubicBezTo>
                          <a:pt x="226" y="131"/>
                          <a:pt x="210" y="99"/>
                          <a:pt x="186" y="1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6" name="Freeform 483"/>
                  <p:cNvSpPr/>
                  <p:nvPr/>
                </p:nvSpPr>
                <p:spPr>
                  <a:xfrm>
                    <a:off x="6107760" y="4039200"/>
                    <a:ext cx="35280" cy="2124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60" h="36">
                        <a:moveTo>
                          <a:pt x="27" y="34"/>
                        </a:moveTo>
                        <a:cubicBezTo>
                          <a:pt x="13" y="33"/>
                          <a:pt x="0" y="22"/>
                          <a:pt x="9" y="20"/>
                        </a:cubicBezTo>
                        <a:cubicBezTo>
                          <a:pt x="15" y="19"/>
                          <a:pt x="12" y="13"/>
                          <a:pt x="14" y="11"/>
                        </a:cubicBezTo>
                        <a:cubicBezTo>
                          <a:pt x="17" y="8"/>
                          <a:pt x="48" y="0"/>
                          <a:pt x="48" y="14"/>
                        </a:cubicBezTo>
                        <a:cubicBezTo>
                          <a:pt x="48" y="18"/>
                          <a:pt x="43" y="22"/>
                          <a:pt x="51" y="26"/>
                        </a:cubicBezTo>
                        <a:cubicBezTo>
                          <a:pt x="60" y="29"/>
                          <a:pt x="41" y="36"/>
                          <a:pt x="27" y="3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7" name="Freeform 484"/>
                  <p:cNvSpPr/>
                  <p:nvPr/>
                </p:nvSpPr>
                <p:spPr>
                  <a:xfrm>
                    <a:off x="6098760" y="4142160"/>
                    <a:ext cx="53640" cy="14544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145440"/>
                      <a:gd name="textAreaBottom" fmla="*/ 145800 h 14544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8" name="Oval 485"/>
                  <p:cNvSpPr/>
                  <p:nvPr/>
                </p:nvSpPr>
                <p:spPr>
                  <a:xfrm flipH="1">
                    <a:off x="6101640" y="4007880"/>
                    <a:ext cx="4716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709" name="Group 486"/>
                <p:cNvGrpSpPr/>
                <p:nvPr/>
              </p:nvGrpSpPr>
              <p:grpSpPr>
                <a:xfrm>
                  <a:off x="6102000" y="4007520"/>
                  <a:ext cx="57240" cy="30600"/>
                  <a:chOff x="6102000" y="4007520"/>
                  <a:chExt cx="57240" cy="30600"/>
                </a:xfrm>
              </p:grpSpPr>
              <p:sp>
                <p:nvSpPr>
                  <p:cNvPr id="710" name="Freeform 487"/>
                  <p:cNvSpPr/>
                  <p:nvPr/>
                </p:nvSpPr>
                <p:spPr>
                  <a:xfrm>
                    <a:off x="6141960" y="4011480"/>
                    <a:ext cx="17280" cy="1332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28" h="22">
                        <a:moveTo>
                          <a:pt x="12" y="22"/>
                        </a:moveTo>
                        <a:cubicBezTo>
                          <a:pt x="12" y="22"/>
                          <a:pt x="12" y="22"/>
                          <a:pt x="12" y="22"/>
                        </a:cubicBezTo>
                        <a:cubicBezTo>
                          <a:pt x="17" y="21"/>
                          <a:pt x="28" y="13"/>
                          <a:pt x="21" y="5"/>
                        </a:cubicBezTo>
                        <a:cubicBezTo>
                          <a:pt x="15" y="0"/>
                          <a:pt x="4" y="3"/>
                          <a:pt x="0" y="4"/>
                        </a:cubicBezTo>
                        <a:cubicBezTo>
                          <a:pt x="0" y="4"/>
                          <a:pt x="10" y="15"/>
                          <a:pt x="12" y="2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11" name="Freeform 488"/>
                  <p:cNvSpPr/>
                  <p:nvPr/>
                </p:nvSpPr>
                <p:spPr>
                  <a:xfrm>
                    <a:off x="6102000" y="4007520"/>
                    <a:ext cx="47520" cy="3060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77" y="28"/>
                        </a:moveTo>
                        <a:cubicBezTo>
                          <a:pt x="75" y="21"/>
                          <a:pt x="71" y="15"/>
                          <a:pt x="66" y="11"/>
                        </a:cubicBezTo>
                        <a:cubicBezTo>
                          <a:pt x="58" y="4"/>
                          <a:pt x="49" y="0"/>
                          <a:pt x="38" y="1"/>
                        </a:cubicBezTo>
                        <a:cubicBezTo>
                          <a:pt x="17" y="2"/>
                          <a:pt x="1" y="18"/>
                          <a:pt x="0" y="38"/>
                        </a:cubicBez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6" y="49"/>
                          <a:pt x="70" y="44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712" name="Group 489"/>
              <p:cNvGrpSpPr/>
              <p:nvPr/>
            </p:nvGrpSpPr>
            <p:grpSpPr>
              <a:xfrm>
                <a:off x="6367680" y="3774240"/>
                <a:ext cx="670680" cy="441720"/>
                <a:chOff x="6367680" y="3774240"/>
                <a:chExt cx="670680" cy="441720"/>
              </a:xfrm>
            </p:grpSpPr>
            <p:sp>
              <p:nvSpPr>
                <p:cNvPr id="713" name="Freeform 490"/>
                <p:cNvSpPr/>
                <p:nvPr/>
              </p:nvSpPr>
              <p:spPr>
                <a:xfrm flipH="1">
                  <a:off x="6955920" y="4014720"/>
                  <a:ext cx="68040" cy="7272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20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20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4" name="Freeform 491"/>
                <p:cNvSpPr/>
                <p:nvPr/>
              </p:nvSpPr>
              <p:spPr>
                <a:xfrm flipH="1">
                  <a:off x="6663240" y="4093200"/>
                  <a:ext cx="67680" cy="72720"/>
                </a:xfrm>
                <a:custGeom>
                  <a:avLst/>
                  <a:gdLst>
                    <a:gd name="textAreaLeft" fmla="*/ 360 w 67680"/>
                    <a:gd name="textAreaRight" fmla="*/ 68400 w 67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18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18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5" name="Freeform 492"/>
                <p:cNvSpPr/>
                <p:nvPr/>
              </p:nvSpPr>
              <p:spPr>
                <a:xfrm flipH="1">
                  <a:off x="6880680" y="3938760"/>
                  <a:ext cx="146880" cy="3924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905" h="243">
                      <a:moveTo>
                        <a:pt x="0" y="123"/>
                      </a:moveTo>
                      <a:lnTo>
                        <a:pt x="453" y="0"/>
                      </a:lnTo>
                      <a:lnTo>
                        <a:pt x="905" y="123"/>
                      </a:lnTo>
                      <a:lnTo>
                        <a:pt x="453" y="24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6" name="Freeform 493"/>
                <p:cNvSpPr/>
                <p:nvPr/>
              </p:nvSpPr>
              <p:spPr>
                <a:xfrm flipH="1">
                  <a:off x="6367320" y="3774240"/>
                  <a:ext cx="560520" cy="150480"/>
                </a:xfrm>
                <a:custGeom>
                  <a:avLst/>
                  <a:gdLst>
                    <a:gd name="textAreaLeft" fmla="*/ -360 w 560520"/>
                    <a:gd name="textAreaRight" fmla="*/ 560520 w 56052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3449" h="929">
                      <a:moveTo>
                        <a:pt x="1352" y="0"/>
                      </a:moveTo>
                      <a:lnTo>
                        <a:pt x="0" y="366"/>
                      </a:lnTo>
                      <a:lnTo>
                        <a:pt x="2105" y="929"/>
                      </a:lnTo>
                      <a:lnTo>
                        <a:pt x="3449" y="565"/>
                      </a:lnTo>
                      <a:lnTo>
                        <a:pt x="13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7" name="Freeform 494"/>
                <p:cNvSpPr/>
                <p:nvPr/>
              </p:nvSpPr>
              <p:spPr>
                <a:xfrm flipH="1">
                  <a:off x="6902280" y="4042440"/>
                  <a:ext cx="80640" cy="88200"/>
                </a:xfrm>
                <a:custGeom>
                  <a:avLst/>
                  <a:gdLst>
                    <a:gd name="textAreaLeft" fmla="*/ 360 w 80640"/>
                    <a:gd name="textAreaRight" fmla="*/ 81360 w 80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1" h="231">
                      <a:moveTo>
                        <a:pt x="168" y="67"/>
                      </a:moveTo>
                      <a:cubicBezTo>
                        <a:pt x="133" y="21"/>
                        <a:pt x="82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0" y="69"/>
                        <a:pt x="8" y="121"/>
                        <a:pt x="41" y="164"/>
                      </a:cubicBezTo>
                      <a:cubicBezTo>
                        <a:pt x="58" y="186"/>
                        <a:pt x="79" y="203"/>
                        <a:pt x="100" y="212"/>
                      </a:cubicBezTo>
                      <a:cubicBezTo>
                        <a:pt x="109" y="231"/>
                        <a:pt x="109" y="231"/>
                        <a:pt x="109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2" y="217"/>
                        <a:pt x="169" y="214"/>
                        <a:pt x="176" y="209"/>
                      </a:cubicBezTo>
                      <a:cubicBezTo>
                        <a:pt x="211" y="182"/>
                        <a:pt x="208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8" name="Freeform 495"/>
                <p:cNvSpPr/>
                <p:nvPr/>
              </p:nvSpPr>
              <p:spPr>
                <a:xfrm flipH="1">
                  <a:off x="6919200" y="404496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7" y="214"/>
                      </a:moveTo>
                      <a:cubicBezTo>
                        <a:pt x="142" y="241"/>
                        <a:pt x="82" y="220"/>
                        <a:pt x="42" y="169"/>
                      </a:cubicBezTo>
                      <a:cubicBezTo>
                        <a:pt x="3" y="117"/>
                        <a:pt x="0" y="53"/>
                        <a:pt x="35" y="26"/>
                      </a:cubicBezTo>
                      <a:cubicBezTo>
                        <a:pt x="70" y="0"/>
                        <a:pt x="131" y="20"/>
                        <a:pt x="170" y="72"/>
                      </a:cubicBezTo>
                      <a:cubicBezTo>
                        <a:pt x="209" y="123"/>
                        <a:pt x="213" y="187"/>
                        <a:pt x="177" y="214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9" name="Freeform 496"/>
                <p:cNvSpPr/>
                <p:nvPr/>
              </p:nvSpPr>
              <p:spPr>
                <a:xfrm flipH="1">
                  <a:off x="6935400" y="4063320"/>
                  <a:ext cx="49680" cy="55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0" h="146">
                      <a:moveTo>
                        <a:pt x="109" y="130"/>
                      </a:moveTo>
                      <a:cubicBezTo>
                        <a:pt x="87" y="146"/>
                        <a:pt x="50" y="134"/>
                        <a:pt x="26" y="103"/>
                      </a:cubicBezTo>
                      <a:cubicBezTo>
                        <a:pt x="2" y="71"/>
                        <a:pt x="0" y="32"/>
                        <a:pt x="22" y="16"/>
                      </a:cubicBezTo>
                      <a:cubicBezTo>
                        <a:pt x="43" y="0"/>
                        <a:pt x="80" y="12"/>
                        <a:pt x="104" y="44"/>
                      </a:cubicBezTo>
                      <a:cubicBezTo>
                        <a:pt x="128" y="75"/>
                        <a:pt x="130" y="114"/>
                        <a:pt x="109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0" name="Freeform 497"/>
                <p:cNvSpPr/>
                <p:nvPr/>
              </p:nvSpPr>
              <p:spPr>
                <a:xfrm flipH="1">
                  <a:off x="6608160" y="4121280"/>
                  <a:ext cx="80280" cy="88200"/>
                </a:xfrm>
                <a:custGeom>
                  <a:avLst/>
                  <a:gdLst>
                    <a:gd name="textAreaLeft" fmla="*/ -360 w 80280"/>
                    <a:gd name="textAreaRight" fmla="*/ 80280 w 8028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0" h="231">
                      <a:moveTo>
                        <a:pt x="168" y="67"/>
                      </a:moveTo>
                      <a:cubicBezTo>
                        <a:pt x="133" y="21"/>
                        <a:pt x="81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8" y="38"/>
                        <a:pt x="18" y="38"/>
                        <a:pt x="18" y="38"/>
                      </a:cubicBezTo>
                      <a:cubicBezTo>
                        <a:pt x="0" y="69"/>
                        <a:pt x="7" y="120"/>
                        <a:pt x="40" y="164"/>
                      </a:cubicBezTo>
                      <a:cubicBezTo>
                        <a:pt x="57" y="186"/>
                        <a:pt x="78" y="202"/>
                        <a:pt x="99" y="212"/>
                      </a:cubicBezTo>
                      <a:cubicBezTo>
                        <a:pt x="108" y="231"/>
                        <a:pt x="108" y="231"/>
                        <a:pt x="108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1" y="217"/>
                        <a:pt x="169" y="214"/>
                        <a:pt x="175" y="209"/>
                      </a:cubicBezTo>
                      <a:cubicBezTo>
                        <a:pt x="210" y="182"/>
                        <a:pt x="207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1" name="Freeform 498"/>
                <p:cNvSpPr/>
                <p:nvPr/>
              </p:nvSpPr>
              <p:spPr>
                <a:xfrm flipH="1">
                  <a:off x="6625800" y="412380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8" y="215"/>
                      </a:moveTo>
                      <a:cubicBezTo>
                        <a:pt x="143" y="241"/>
                        <a:pt x="82" y="221"/>
                        <a:pt x="43" y="169"/>
                      </a:cubicBezTo>
                      <a:cubicBezTo>
                        <a:pt x="3" y="118"/>
                        <a:pt x="0" y="54"/>
                        <a:pt x="35" y="27"/>
                      </a:cubicBezTo>
                      <a:cubicBezTo>
                        <a:pt x="71" y="0"/>
                        <a:pt x="131" y="21"/>
                        <a:pt x="170" y="72"/>
                      </a:cubicBezTo>
                      <a:cubicBezTo>
                        <a:pt x="210" y="124"/>
                        <a:pt x="213" y="188"/>
                        <a:pt x="178" y="215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2" name="Freeform 499"/>
                <p:cNvSpPr/>
                <p:nvPr/>
              </p:nvSpPr>
              <p:spPr>
                <a:xfrm flipH="1">
                  <a:off x="6641280" y="4142160"/>
                  <a:ext cx="49320" cy="55800"/>
                </a:xfrm>
                <a:custGeom>
                  <a:avLst/>
                  <a:gdLst>
                    <a:gd name="textAreaLeft" fmla="*/ -360 w 49320"/>
                    <a:gd name="textAreaRight" fmla="*/ 49320 w 493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29" h="146">
                      <a:moveTo>
                        <a:pt x="108" y="130"/>
                      </a:moveTo>
                      <a:cubicBezTo>
                        <a:pt x="86" y="146"/>
                        <a:pt x="50" y="134"/>
                        <a:pt x="26" y="102"/>
                      </a:cubicBezTo>
                      <a:cubicBezTo>
                        <a:pt x="2" y="71"/>
                        <a:pt x="0" y="32"/>
                        <a:pt x="21" y="16"/>
                      </a:cubicBezTo>
                      <a:cubicBezTo>
                        <a:pt x="43" y="0"/>
                        <a:pt x="79" y="12"/>
                        <a:pt x="103" y="43"/>
                      </a:cubicBezTo>
                      <a:cubicBezTo>
                        <a:pt x="127" y="75"/>
                        <a:pt x="129" y="114"/>
                        <a:pt x="108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3" name="Freeform 500"/>
                <p:cNvSpPr/>
                <p:nvPr/>
              </p:nvSpPr>
              <p:spPr>
                <a:xfrm flipH="1">
                  <a:off x="6585840" y="3828960"/>
                  <a:ext cx="451080" cy="369000"/>
                </a:xfrm>
                <a:custGeom>
                  <a:avLst/>
                  <a:gdLst>
                    <a:gd name="textAreaLeft" fmla="*/ -360 w 451080"/>
                    <a:gd name="textAreaRight" fmla="*/ 451080 w 451080"/>
                    <a:gd name="textAreaTop" fmla="*/ 0 h 369000"/>
                    <a:gd name="textAreaBottom" fmla="*/ 369360 h 369000"/>
                  </a:gdLst>
                  <a:ahLst/>
                  <a:rect l="textAreaLeft" t="textAreaTop" r="textAreaRight" b="textAreaBottom"/>
                  <a:pathLst>
                    <a:path w="1175" h="962">
                      <a:moveTo>
                        <a:pt x="301" y="14"/>
                      </a:moveTo>
                      <a:cubicBezTo>
                        <a:pt x="242" y="0"/>
                        <a:pt x="218" y="72"/>
                        <a:pt x="218" y="72"/>
                      </a:cubicBezTo>
                      <a:cubicBezTo>
                        <a:pt x="128" y="365"/>
                        <a:pt x="128" y="365"/>
                        <a:pt x="128" y="365"/>
                      </a:cubicBezTo>
                      <a:cubicBezTo>
                        <a:pt x="128" y="365"/>
                        <a:pt x="52" y="326"/>
                        <a:pt x="26" y="338"/>
                      </a:cubicBezTo>
                      <a:cubicBezTo>
                        <a:pt x="0" y="350"/>
                        <a:pt x="26" y="656"/>
                        <a:pt x="26" y="656"/>
                      </a:cubicBezTo>
                      <a:cubicBezTo>
                        <a:pt x="96" y="674"/>
                        <a:pt x="96" y="674"/>
                        <a:pt x="96" y="674"/>
                      </a:cubicBezTo>
                      <a:cubicBezTo>
                        <a:pt x="85" y="633"/>
                        <a:pt x="93" y="595"/>
                        <a:pt x="120" y="574"/>
                      </a:cubicBezTo>
                      <a:cubicBezTo>
                        <a:pt x="160" y="543"/>
                        <a:pt x="231" y="567"/>
                        <a:pt x="276" y="627"/>
                      </a:cubicBezTo>
                      <a:cubicBezTo>
                        <a:pt x="302" y="661"/>
                        <a:pt x="314" y="700"/>
                        <a:pt x="313" y="732"/>
                      </a:cubicBezTo>
                      <a:cubicBezTo>
                        <a:pt x="860" y="878"/>
                        <a:pt x="860" y="878"/>
                        <a:pt x="860" y="878"/>
                      </a:cubicBezTo>
                      <a:cubicBezTo>
                        <a:pt x="850" y="838"/>
                        <a:pt x="857" y="800"/>
                        <a:pt x="884" y="780"/>
                      </a:cubicBezTo>
                      <a:cubicBezTo>
                        <a:pt x="925" y="749"/>
                        <a:pt x="995" y="772"/>
                        <a:pt x="1041" y="833"/>
                      </a:cubicBezTo>
                      <a:cubicBezTo>
                        <a:pt x="1066" y="866"/>
                        <a:pt x="1079" y="904"/>
                        <a:pt x="1078" y="936"/>
                      </a:cubicBezTo>
                      <a:cubicBezTo>
                        <a:pt x="1175" y="962"/>
                        <a:pt x="1175" y="962"/>
                        <a:pt x="1175" y="962"/>
                      </a:cubicBezTo>
                      <a:cubicBezTo>
                        <a:pt x="1175" y="250"/>
                        <a:pt x="1175" y="250"/>
                        <a:pt x="1175" y="250"/>
                      </a:cubicBezTo>
                      <a:lnTo>
                        <a:pt x="301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4" name="Freeform 501"/>
                <p:cNvSpPr/>
                <p:nvPr/>
              </p:nvSpPr>
              <p:spPr>
                <a:xfrm flipH="1">
                  <a:off x="6953040" y="3877560"/>
                  <a:ext cx="26640" cy="10008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65" h="619">
                      <a:moveTo>
                        <a:pt x="0" y="581"/>
                      </a:moveTo>
                      <a:lnTo>
                        <a:pt x="165" y="619"/>
                      </a:lnTo>
                      <a:lnTo>
                        <a:pt x="165" y="0"/>
                      </a:lnTo>
                      <a:lnTo>
                        <a:pt x="0" y="5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5" name="Line 502"/>
                <p:cNvSpPr/>
                <p:nvPr/>
              </p:nvSpPr>
              <p:spPr>
                <a:xfrm flipV="1">
                  <a:off x="6540840" y="382140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6" name="Line 503"/>
                <p:cNvSpPr/>
                <p:nvPr/>
              </p:nvSpPr>
              <p:spPr>
                <a:xfrm flipV="1">
                  <a:off x="6497280" y="380952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7" name="Line 504"/>
                <p:cNvSpPr/>
                <p:nvPr/>
              </p:nvSpPr>
              <p:spPr>
                <a:xfrm flipV="1">
                  <a:off x="6453720" y="3798000"/>
                  <a:ext cx="342720" cy="9072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8" name="Line 505"/>
                <p:cNvSpPr/>
                <p:nvPr/>
              </p:nvSpPr>
              <p:spPr>
                <a:xfrm flipV="1">
                  <a:off x="6409800" y="3786120"/>
                  <a:ext cx="34308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9" name="Freeform 506"/>
                <p:cNvSpPr/>
                <p:nvPr/>
              </p:nvSpPr>
              <p:spPr>
                <a:xfrm flipH="1">
                  <a:off x="6368040" y="3866040"/>
                  <a:ext cx="218160" cy="33192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331920"/>
                    <a:gd name="textAreaBottom" fmla="*/ 332280 h 331920"/>
                  </a:gdLst>
                  <a:ahLst/>
                  <a:rect l="textAreaLeft" t="textAreaTop" r="textAreaRight" b="textAreaBottom"/>
                  <a:pathLst>
                    <a:path w="1344" h="2046">
                      <a:moveTo>
                        <a:pt x="0" y="364"/>
                      </a:moveTo>
                      <a:lnTo>
                        <a:pt x="1344" y="0"/>
                      </a:lnTo>
                      <a:lnTo>
                        <a:pt x="1344" y="1682"/>
                      </a:lnTo>
                      <a:lnTo>
                        <a:pt x="0" y="2046"/>
                      </a:lnTo>
                      <a:lnTo>
                        <a:pt x="0" y="3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0" name="Freeform 507"/>
                <p:cNvSpPr/>
                <p:nvPr/>
              </p:nvSpPr>
              <p:spPr>
                <a:xfrm flipH="1">
                  <a:off x="6603480" y="3891960"/>
                  <a:ext cx="234360" cy="179280"/>
                </a:xfrm>
                <a:custGeom>
                  <a:avLst/>
                  <a:gdLst>
                    <a:gd name="textAreaLeft" fmla="*/ -360 w 234360"/>
                    <a:gd name="textAreaRight" fmla="*/ 234360 w 23436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1444" h="1107">
                      <a:moveTo>
                        <a:pt x="0" y="0"/>
                      </a:moveTo>
                      <a:lnTo>
                        <a:pt x="0" y="722"/>
                      </a:lnTo>
                      <a:lnTo>
                        <a:pt x="1444" y="1107"/>
                      </a:lnTo>
                      <a:lnTo>
                        <a:pt x="1444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1" name="Freeform 508"/>
                <p:cNvSpPr/>
                <p:nvPr/>
              </p:nvSpPr>
              <p:spPr>
                <a:xfrm flipH="1">
                  <a:off x="6849720" y="3863160"/>
                  <a:ext cx="96120" cy="26424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593" h="1630">
                      <a:moveTo>
                        <a:pt x="0" y="0"/>
                      </a:moveTo>
                      <a:lnTo>
                        <a:pt x="593" y="161"/>
                      </a:lnTo>
                      <a:lnTo>
                        <a:pt x="593" y="1630"/>
                      </a:lnTo>
                      <a:lnTo>
                        <a:pt x="279" y="1545"/>
                      </a:lnTo>
                      <a:lnTo>
                        <a:pt x="0" y="9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2" name="Freeform 509"/>
                <p:cNvSpPr/>
                <p:nvPr/>
              </p:nvSpPr>
              <p:spPr>
                <a:xfrm flipH="1">
                  <a:off x="6860880" y="3881880"/>
                  <a:ext cx="73080" cy="120960"/>
                </a:xfrm>
                <a:custGeom>
                  <a:avLst/>
                  <a:gdLst>
                    <a:gd name="textAreaLeft" fmla="*/ -360 w 73080"/>
                    <a:gd name="textAreaRight" fmla="*/ 73080 w 730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52" h="747">
                      <a:moveTo>
                        <a:pt x="0" y="0"/>
                      </a:moveTo>
                      <a:lnTo>
                        <a:pt x="0" y="626"/>
                      </a:lnTo>
                      <a:lnTo>
                        <a:pt x="452" y="747"/>
                      </a:lnTo>
                      <a:lnTo>
                        <a:pt x="452" y="1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3" name="Freeform 510"/>
                <p:cNvSpPr/>
                <p:nvPr/>
              </p:nvSpPr>
              <p:spPr>
                <a:xfrm flipH="1">
                  <a:off x="6958440" y="3895920"/>
                  <a:ext cx="26640" cy="7884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67" h="487">
                      <a:moveTo>
                        <a:pt x="0" y="487"/>
                      </a:moveTo>
                      <a:lnTo>
                        <a:pt x="0" y="45"/>
                      </a:lnTo>
                      <a:lnTo>
                        <a:pt x="167" y="0"/>
                      </a:lnTo>
                      <a:lnTo>
                        <a:pt x="167" y="442"/>
                      </a:lnTo>
                      <a:lnTo>
                        <a:pt x="0" y="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4" name="Freeform 511"/>
                <p:cNvSpPr/>
                <p:nvPr/>
              </p:nvSpPr>
              <p:spPr>
                <a:xfrm flipH="1">
                  <a:off x="6985080" y="3902040"/>
                  <a:ext cx="4680" cy="72720"/>
                </a:xfrm>
                <a:custGeom>
                  <a:avLst/>
                  <a:gdLst>
                    <a:gd name="textAreaLeft" fmla="*/ -360 w 4680"/>
                    <a:gd name="textAreaRight" fmla="*/ 4680 w 4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1" h="449">
                      <a:moveTo>
                        <a:pt x="31" y="7"/>
                      </a:moveTo>
                      <a:lnTo>
                        <a:pt x="0" y="0"/>
                      </a:lnTo>
                      <a:lnTo>
                        <a:pt x="0" y="439"/>
                      </a:lnTo>
                      <a:lnTo>
                        <a:pt x="31" y="449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5" name="Freeform 512"/>
                <p:cNvSpPr/>
                <p:nvPr/>
              </p:nvSpPr>
              <p:spPr>
                <a:xfrm flipH="1">
                  <a:off x="6958440" y="3894840"/>
                  <a:ext cx="31680" cy="792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98" h="52">
                      <a:moveTo>
                        <a:pt x="198" y="7"/>
                      </a:moveTo>
                      <a:lnTo>
                        <a:pt x="165" y="0"/>
                      </a:lnTo>
                      <a:lnTo>
                        <a:pt x="0" y="45"/>
                      </a:lnTo>
                      <a:lnTo>
                        <a:pt x="31" y="52"/>
                      </a:lnTo>
                      <a:lnTo>
                        <a:pt x="198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6" name="Freeform 513"/>
                <p:cNvSpPr/>
                <p:nvPr/>
              </p:nvSpPr>
              <p:spPr>
                <a:xfrm flipH="1">
                  <a:off x="6949440" y="398016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1"/>
                      </a:moveTo>
                      <a:cubicBezTo>
                        <a:pt x="8" y="13"/>
                        <a:pt x="4" y="11"/>
                        <a:pt x="2" y="9"/>
                      </a:cubicBezTo>
                      <a:cubicBezTo>
                        <a:pt x="0" y="6"/>
                        <a:pt x="0" y="3"/>
                        <a:pt x="2" y="1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6"/>
                        <a:pt x="11" y="10"/>
                        <a:pt x="9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7" name="Freeform 514"/>
                <p:cNvSpPr/>
                <p:nvPr/>
              </p:nvSpPr>
              <p:spPr>
                <a:xfrm flipH="1">
                  <a:off x="6949440" y="386928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2"/>
                      </a:moveTo>
                      <a:cubicBezTo>
                        <a:pt x="8" y="13"/>
                        <a:pt x="4" y="12"/>
                        <a:pt x="2" y="9"/>
                      </a:cubicBezTo>
                      <a:cubicBezTo>
                        <a:pt x="0" y="7"/>
                        <a:pt x="0" y="3"/>
                        <a:pt x="2" y="2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7"/>
                        <a:pt x="11" y="10"/>
                        <a:pt x="9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8" name="Freeform 515"/>
                <p:cNvSpPr/>
                <p:nvPr/>
              </p:nvSpPr>
              <p:spPr>
                <a:xfrm flipH="1">
                  <a:off x="6951600" y="3870360"/>
                  <a:ext cx="35280" cy="122400"/>
                </a:xfrm>
                <a:custGeom>
                  <a:avLst/>
                  <a:gdLst>
                    <a:gd name="textAreaLeft" fmla="*/ 360 w 35280"/>
                    <a:gd name="textAreaRight" fmla="*/ 36000 w 35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93" h="320">
                      <a:moveTo>
                        <a:pt x="0" y="24"/>
                      </a:moveTo>
                      <a:cubicBezTo>
                        <a:pt x="0" y="320"/>
                        <a:pt x="0" y="320"/>
                        <a:pt x="0" y="320"/>
                      </a:cubicBezTo>
                      <a:cubicBezTo>
                        <a:pt x="93" y="295"/>
                        <a:pt x="93" y="295"/>
                        <a:pt x="93" y="295"/>
                      </a:cubicBezTo>
                      <a:cubicBezTo>
                        <a:pt x="91" y="287"/>
                        <a:pt x="91" y="287"/>
                        <a:pt x="91" y="287"/>
                      </a:cubicBezTo>
                      <a:cubicBezTo>
                        <a:pt x="91" y="287"/>
                        <a:pt x="17" y="307"/>
                        <a:pt x="8" y="310"/>
                      </a:cubicBezTo>
                      <a:cubicBezTo>
                        <a:pt x="8" y="300"/>
                        <a:pt x="8" y="36"/>
                        <a:pt x="8" y="30"/>
                      </a:cubicBezTo>
                      <a:cubicBezTo>
                        <a:pt x="14" y="29"/>
                        <a:pt x="93" y="8"/>
                        <a:pt x="93" y="8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9" name="Freeform 516"/>
                <p:cNvSpPr/>
                <p:nvPr/>
              </p:nvSpPr>
              <p:spPr>
                <a:xfrm flipH="1">
                  <a:off x="6476040" y="3913200"/>
                  <a:ext cx="94680" cy="24300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584" h="1498">
                      <a:moveTo>
                        <a:pt x="0" y="159"/>
                      </a:moveTo>
                      <a:lnTo>
                        <a:pt x="0" y="1498"/>
                      </a:lnTo>
                      <a:lnTo>
                        <a:pt x="584" y="1342"/>
                      </a:lnTo>
                      <a:lnTo>
                        <a:pt x="584" y="0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0" name="Freeform 517"/>
                <p:cNvSpPr/>
                <p:nvPr/>
              </p:nvSpPr>
              <p:spPr>
                <a:xfrm flipH="1">
                  <a:off x="6382080" y="3888000"/>
                  <a:ext cx="94320" cy="242640"/>
                </a:xfrm>
                <a:custGeom>
                  <a:avLst/>
                  <a:gdLst>
                    <a:gd name="textAreaLeft" fmla="*/ 360 w 94320"/>
                    <a:gd name="textAreaRight" fmla="*/ 95040 w 9432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583" h="1497">
                      <a:moveTo>
                        <a:pt x="583" y="0"/>
                      </a:moveTo>
                      <a:lnTo>
                        <a:pt x="0" y="155"/>
                      </a:lnTo>
                      <a:lnTo>
                        <a:pt x="0" y="1497"/>
                      </a:lnTo>
                      <a:lnTo>
                        <a:pt x="583" y="1339"/>
                      </a:lnTo>
                      <a:lnTo>
                        <a:pt x="58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1" name="Freeform 518"/>
                <p:cNvSpPr/>
                <p:nvPr/>
              </p:nvSpPr>
              <p:spPr>
                <a:xfrm flipH="1">
                  <a:off x="6370560" y="4123800"/>
                  <a:ext cx="12600" cy="147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1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2" name="Freeform 519"/>
                <p:cNvSpPr/>
                <p:nvPr/>
              </p:nvSpPr>
              <p:spPr>
                <a:xfrm flipH="1">
                  <a:off x="6567840" y="417780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2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3" name="Freeform 520"/>
                <p:cNvSpPr/>
                <p:nvPr/>
              </p:nvSpPr>
              <p:spPr>
                <a:xfrm flipH="1">
                  <a:off x="6568560" y="416484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4" name="Freeform 521"/>
                <p:cNvSpPr/>
                <p:nvPr/>
              </p:nvSpPr>
              <p:spPr>
                <a:xfrm flipH="1">
                  <a:off x="6371640" y="411084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5" name="Freeform 522"/>
                <p:cNvSpPr/>
                <p:nvPr/>
              </p:nvSpPr>
              <p:spPr>
                <a:xfrm flipH="1">
                  <a:off x="6568560" y="392508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6" name="Freeform 523"/>
                <p:cNvSpPr/>
                <p:nvPr/>
              </p:nvSpPr>
              <p:spPr>
                <a:xfrm flipH="1">
                  <a:off x="6371640" y="387108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7" name="Freeform 524"/>
                <p:cNvSpPr/>
                <p:nvPr/>
              </p:nvSpPr>
              <p:spPr>
                <a:xfrm flipH="1">
                  <a:off x="6482520" y="401940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8" name="Freeform 525"/>
                <p:cNvSpPr/>
                <p:nvPr/>
              </p:nvSpPr>
              <p:spPr>
                <a:xfrm flipH="1">
                  <a:off x="6459840" y="401436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9" name="Freeform 526"/>
                <p:cNvSpPr/>
                <p:nvPr/>
              </p:nvSpPr>
              <p:spPr>
                <a:xfrm flipH="1">
                  <a:off x="7013160" y="4061520"/>
                  <a:ext cx="24840" cy="25560"/>
                </a:xfrm>
                <a:custGeom>
                  <a:avLst/>
                  <a:gdLst>
                    <a:gd name="textAreaLeft" fmla="*/ -360 w 24840"/>
                    <a:gd name="textAreaRight" fmla="*/ 24840 w 248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66" y="68"/>
                      </a:moveTo>
                      <a:cubicBezTo>
                        <a:pt x="6" y="58"/>
                        <a:pt x="13" y="56"/>
                        <a:pt x="13" y="43"/>
                      </a:cubicBezTo>
                      <a:cubicBezTo>
                        <a:pt x="13" y="31"/>
                        <a:pt x="0" y="0"/>
                        <a:pt x="13" y="0"/>
                      </a:cubicBezTo>
                      <a:cubicBezTo>
                        <a:pt x="26" y="0"/>
                        <a:pt x="54" y="12"/>
                        <a:pt x="66" y="12"/>
                      </a:cubicBezTo>
                      <a:lnTo>
                        <a:pt x="66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750" name="Group 709"/>
            <p:cNvGrpSpPr/>
            <p:nvPr/>
          </p:nvGrpSpPr>
          <p:grpSpPr>
            <a:xfrm>
              <a:off x="6545520" y="4147200"/>
              <a:ext cx="1862640" cy="749520"/>
              <a:chOff x="6545520" y="4147200"/>
              <a:chExt cx="1862640" cy="749520"/>
            </a:xfrm>
          </p:grpSpPr>
          <p:sp>
            <p:nvSpPr>
              <p:cNvPr id="751" name="Freeform 528"/>
              <p:cNvSpPr/>
              <p:nvPr/>
            </p:nvSpPr>
            <p:spPr>
              <a:xfrm>
                <a:off x="6545520" y="4429080"/>
                <a:ext cx="1747800" cy="467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752" name="Group 529"/>
              <p:cNvGrpSpPr/>
              <p:nvPr/>
            </p:nvGrpSpPr>
            <p:grpSpPr>
              <a:xfrm>
                <a:off x="7447320" y="4380480"/>
                <a:ext cx="151560" cy="280080"/>
                <a:chOff x="7447320" y="4380480"/>
                <a:chExt cx="151560" cy="280080"/>
              </a:xfrm>
            </p:grpSpPr>
            <p:grpSp>
              <p:nvGrpSpPr>
                <p:cNvPr id="753" name="Group 530"/>
                <p:cNvGrpSpPr/>
                <p:nvPr/>
              </p:nvGrpSpPr>
              <p:grpSpPr>
                <a:xfrm>
                  <a:off x="7483680" y="4419720"/>
                  <a:ext cx="115200" cy="90000"/>
                  <a:chOff x="7483680" y="4419720"/>
                  <a:chExt cx="115200" cy="90000"/>
                </a:xfrm>
              </p:grpSpPr>
              <p:sp>
                <p:nvSpPr>
                  <p:cNvPr id="754" name="Freeform 531"/>
                  <p:cNvSpPr/>
                  <p:nvPr/>
                </p:nvSpPr>
                <p:spPr>
                  <a:xfrm flipH="1">
                    <a:off x="7483680" y="4419720"/>
                    <a:ext cx="115200" cy="3060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55" name="Freeform 532"/>
                  <p:cNvSpPr/>
                  <p:nvPr/>
                </p:nvSpPr>
                <p:spPr>
                  <a:xfrm flipH="1">
                    <a:off x="7483680" y="4435200"/>
                    <a:ext cx="57600" cy="74520"/>
                  </a:xfrm>
                  <a:custGeom>
                    <a:avLst/>
                    <a:gdLst>
                      <a:gd name="textAreaLeft" fmla="*/ 360 w 57600"/>
                      <a:gd name="textAreaRight" fmla="*/ 5832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56" name="Freeform 533"/>
                  <p:cNvSpPr/>
                  <p:nvPr/>
                </p:nvSpPr>
                <p:spPr>
                  <a:xfrm flipH="1">
                    <a:off x="7540920" y="4435200"/>
                    <a:ext cx="57240" cy="74520"/>
                  </a:xfrm>
                  <a:custGeom>
                    <a:avLst/>
                    <a:gdLst>
                      <a:gd name="textAreaLeft" fmla="*/ -360 w 57240"/>
                      <a:gd name="textAreaRight" fmla="*/ 5724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757" name="Group 534"/>
                <p:cNvGrpSpPr/>
                <p:nvPr/>
              </p:nvGrpSpPr>
              <p:grpSpPr>
                <a:xfrm>
                  <a:off x="7447320" y="4380840"/>
                  <a:ext cx="134640" cy="279720"/>
                  <a:chOff x="7447320" y="4380840"/>
                  <a:chExt cx="134640" cy="279720"/>
                </a:xfrm>
              </p:grpSpPr>
              <p:sp>
                <p:nvSpPr>
                  <p:cNvPr id="758" name="Freeform 535"/>
                  <p:cNvSpPr/>
                  <p:nvPr/>
                </p:nvSpPr>
                <p:spPr>
                  <a:xfrm>
                    <a:off x="7447320" y="4417560"/>
                    <a:ext cx="134640" cy="113400"/>
                  </a:xfrm>
                  <a:custGeom>
                    <a:avLst/>
                    <a:gdLst>
                      <a:gd name="textAreaLeft" fmla="*/ 0 w 134640"/>
                      <a:gd name="textAreaRight" fmla="*/ 135000 w 134640"/>
                      <a:gd name="textAreaTop" fmla="*/ 0 h 113400"/>
                      <a:gd name="textAreaBottom" fmla="*/ 113760 h 113400"/>
                    </a:gdLst>
                    <a:ahLst/>
                    <a:rect l="textAreaLeft" t="textAreaTop" r="textAreaRight" b="textAreaBottom"/>
                    <a:pathLst>
                      <a:path w="226" h="191">
                        <a:moveTo>
                          <a:pt x="186" y="107"/>
                        </a:moveTo>
                        <a:cubicBezTo>
                          <a:pt x="184" y="108"/>
                          <a:pt x="175" y="110"/>
                          <a:pt x="164" y="113"/>
                        </a:cubicBezTo>
                        <a:cubicBezTo>
                          <a:pt x="159" y="84"/>
                          <a:pt x="155" y="57"/>
                          <a:pt x="154" y="49"/>
                        </a:cubicBezTo>
                        <a:cubicBezTo>
                          <a:pt x="151" y="32"/>
                          <a:pt x="136" y="27"/>
                          <a:pt x="128" y="24"/>
                        </a:cubicBezTo>
                        <a:cubicBezTo>
                          <a:pt x="120" y="21"/>
                          <a:pt x="98" y="16"/>
                          <a:pt x="85" y="13"/>
                        </a:cubicBezTo>
                        <a:cubicBezTo>
                          <a:pt x="73" y="9"/>
                          <a:pt x="54" y="3"/>
                          <a:pt x="45" y="2"/>
                        </a:cubicBezTo>
                        <a:cubicBezTo>
                          <a:pt x="36" y="0"/>
                          <a:pt x="18" y="4"/>
                          <a:pt x="15" y="12"/>
                        </a:cubicBezTo>
                        <a:cubicBezTo>
                          <a:pt x="14" y="14"/>
                          <a:pt x="8" y="50"/>
                          <a:pt x="2" y="85"/>
                        </a:cubicBezTo>
                        <a:cubicBezTo>
                          <a:pt x="2" y="85"/>
                          <a:pt x="2" y="85"/>
                          <a:pt x="2" y="85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0" y="98"/>
                          <a:pt x="3" y="104"/>
                          <a:pt x="8" y="106"/>
                        </a:cubicBezTo>
                        <a:cubicBezTo>
                          <a:pt x="12" y="108"/>
                          <a:pt x="17" y="107"/>
                          <a:pt x="23" y="106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30" y="104"/>
                          <a:pt x="31" y="104"/>
                          <a:pt x="32" y="104"/>
                        </a:cubicBezTo>
                        <a:cubicBezTo>
                          <a:pt x="34" y="103"/>
                          <a:pt x="36" y="103"/>
                          <a:pt x="38" y="102"/>
                        </a:cubicBezTo>
                        <a:cubicBezTo>
                          <a:pt x="39" y="68"/>
                          <a:pt x="39" y="68"/>
                          <a:pt x="39" y="68"/>
                        </a:cubicBezTo>
                        <a:cubicBezTo>
                          <a:pt x="38" y="68"/>
                          <a:pt x="37" y="69"/>
                          <a:pt x="36" y="69"/>
                        </a:cubicBezTo>
                        <a:cubicBezTo>
                          <a:pt x="38" y="54"/>
                          <a:pt x="39" y="44"/>
                          <a:pt x="39" y="47"/>
                        </a:cubicBezTo>
                        <a:cubicBezTo>
                          <a:pt x="39" y="53"/>
                          <a:pt x="38" y="122"/>
                          <a:pt x="38" y="165"/>
                        </a:cubicBezTo>
                        <a:cubicBezTo>
                          <a:pt x="39" y="170"/>
                          <a:pt x="41" y="175"/>
                          <a:pt x="47" y="175"/>
                        </a:cubicBezTo>
                        <a:cubicBezTo>
                          <a:pt x="59" y="178"/>
                          <a:pt x="91" y="188"/>
                          <a:pt x="98" y="189"/>
                        </a:cubicBezTo>
                        <a:cubicBezTo>
                          <a:pt x="106" y="191"/>
                          <a:pt x="122" y="181"/>
                          <a:pt x="125" y="170"/>
                        </a:cubicBezTo>
                        <a:cubicBezTo>
                          <a:pt x="125" y="168"/>
                          <a:pt x="125" y="155"/>
                          <a:pt x="125" y="153"/>
                        </a:cubicBezTo>
                        <a:cubicBezTo>
                          <a:pt x="125" y="124"/>
                          <a:pt x="125" y="124"/>
                          <a:pt x="125" y="124"/>
                        </a:cubicBezTo>
                        <a:cubicBezTo>
                          <a:pt x="125" y="111"/>
                          <a:pt x="124" y="99"/>
                          <a:pt x="123" y="88"/>
                        </a:cubicBezTo>
                        <a:cubicBezTo>
                          <a:pt x="122" y="82"/>
                          <a:pt x="122" y="78"/>
                          <a:pt x="121" y="75"/>
                        </a:cubicBezTo>
                        <a:cubicBezTo>
                          <a:pt x="121" y="73"/>
                          <a:pt x="121" y="72"/>
                          <a:pt x="121" y="71"/>
                        </a:cubicBezTo>
                        <a:cubicBezTo>
                          <a:pt x="121" y="72"/>
                          <a:pt x="121" y="73"/>
                          <a:pt x="121" y="75"/>
                        </a:cubicBezTo>
                        <a:cubicBezTo>
                          <a:pt x="122" y="79"/>
                          <a:pt x="123" y="83"/>
                          <a:pt x="123" y="88"/>
                        </a:cubicBezTo>
                        <a:cubicBezTo>
                          <a:pt x="124" y="96"/>
                          <a:pt x="126" y="107"/>
                          <a:pt x="128" y="121"/>
                        </a:cubicBezTo>
                        <a:cubicBezTo>
                          <a:pt x="129" y="122"/>
                          <a:pt x="129" y="122"/>
                          <a:pt x="129" y="123"/>
                        </a:cubicBezTo>
                        <a:cubicBezTo>
                          <a:pt x="129" y="123"/>
                          <a:pt x="129" y="123"/>
                          <a:pt x="129" y="123"/>
                        </a:cubicBezTo>
                        <a:cubicBezTo>
                          <a:pt x="129" y="127"/>
                          <a:pt x="129" y="127"/>
                          <a:pt x="129" y="127"/>
                        </a:cubicBezTo>
                        <a:cubicBezTo>
                          <a:pt x="131" y="137"/>
                          <a:pt x="134" y="143"/>
                          <a:pt x="137" y="147"/>
                        </a:cubicBezTo>
                        <a:cubicBezTo>
                          <a:pt x="141" y="151"/>
                          <a:pt x="145" y="152"/>
                          <a:pt x="151" y="153"/>
                        </a:cubicBezTo>
                        <a:cubicBezTo>
                          <a:pt x="166" y="149"/>
                          <a:pt x="181" y="144"/>
                          <a:pt x="199" y="139"/>
                        </a:cubicBezTo>
                        <a:cubicBezTo>
                          <a:pt x="226" y="131"/>
                          <a:pt x="210" y="99"/>
                          <a:pt x="186" y="1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59" name="Freeform 536"/>
                  <p:cNvSpPr/>
                  <p:nvPr/>
                </p:nvSpPr>
                <p:spPr>
                  <a:xfrm>
                    <a:off x="7477560" y="4412160"/>
                    <a:ext cx="35280" cy="2124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60" h="36">
                        <a:moveTo>
                          <a:pt x="27" y="34"/>
                        </a:moveTo>
                        <a:cubicBezTo>
                          <a:pt x="13" y="33"/>
                          <a:pt x="0" y="22"/>
                          <a:pt x="9" y="20"/>
                        </a:cubicBezTo>
                        <a:cubicBezTo>
                          <a:pt x="15" y="19"/>
                          <a:pt x="12" y="13"/>
                          <a:pt x="14" y="11"/>
                        </a:cubicBezTo>
                        <a:cubicBezTo>
                          <a:pt x="17" y="8"/>
                          <a:pt x="48" y="0"/>
                          <a:pt x="48" y="14"/>
                        </a:cubicBezTo>
                        <a:cubicBezTo>
                          <a:pt x="48" y="18"/>
                          <a:pt x="43" y="22"/>
                          <a:pt x="51" y="26"/>
                        </a:cubicBezTo>
                        <a:cubicBezTo>
                          <a:pt x="60" y="29"/>
                          <a:pt x="41" y="36"/>
                          <a:pt x="27" y="3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60" name="Freeform 537"/>
                  <p:cNvSpPr/>
                  <p:nvPr/>
                </p:nvSpPr>
                <p:spPr>
                  <a:xfrm>
                    <a:off x="7468200" y="4515120"/>
                    <a:ext cx="53640" cy="14544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145440"/>
                      <a:gd name="textAreaBottom" fmla="*/ 145800 h 14544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61" name="Oval 538"/>
                  <p:cNvSpPr/>
                  <p:nvPr/>
                </p:nvSpPr>
                <p:spPr>
                  <a:xfrm flipH="1">
                    <a:off x="7471080" y="4380840"/>
                    <a:ext cx="4716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762" name="Group 539"/>
                <p:cNvGrpSpPr/>
                <p:nvPr/>
              </p:nvGrpSpPr>
              <p:grpSpPr>
                <a:xfrm>
                  <a:off x="7471800" y="4380480"/>
                  <a:ext cx="57240" cy="30600"/>
                  <a:chOff x="7471800" y="4380480"/>
                  <a:chExt cx="57240" cy="30600"/>
                </a:xfrm>
              </p:grpSpPr>
              <p:sp>
                <p:nvSpPr>
                  <p:cNvPr id="763" name="Freeform 540"/>
                  <p:cNvSpPr/>
                  <p:nvPr/>
                </p:nvSpPr>
                <p:spPr>
                  <a:xfrm>
                    <a:off x="7511760" y="4384440"/>
                    <a:ext cx="17280" cy="1332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28" h="22">
                        <a:moveTo>
                          <a:pt x="12" y="22"/>
                        </a:moveTo>
                        <a:cubicBezTo>
                          <a:pt x="12" y="22"/>
                          <a:pt x="12" y="22"/>
                          <a:pt x="12" y="22"/>
                        </a:cubicBezTo>
                        <a:cubicBezTo>
                          <a:pt x="17" y="21"/>
                          <a:pt x="28" y="13"/>
                          <a:pt x="21" y="5"/>
                        </a:cubicBezTo>
                        <a:cubicBezTo>
                          <a:pt x="15" y="0"/>
                          <a:pt x="4" y="3"/>
                          <a:pt x="0" y="4"/>
                        </a:cubicBezTo>
                        <a:cubicBezTo>
                          <a:pt x="0" y="4"/>
                          <a:pt x="10" y="15"/>
                          <a:pt x="12" y="2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64" name="Freeform 541"/>
                  <p:cNvSpPr/>
                  <p:nvPr/>
                </p:nvSpPr>
                <p:spPr>
                  <a:xfrm>
                    <a:off x="7471800" y="4380480"/>
                    <a:ext cx="47520" cy="3060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77" y="28"/>
                        </a:moveTo>
                        <a:cubicBezTo>
                          <a:pt x="75" y="21"/>
                          <a:pt x="71" y="15"/>
                          <a:pt x="66" y="11"/>
                        </a:cubicBezTo>
                        <a:cubicBezTo>
                          <a:pt x="58" y="4"/>
                          <a:pt x="49" y="0"/>
                          <a:pt x="38" y="1"/>
                        </a:cubicBezTo>
                        <a:cubicBezTo>
                          <a:pt x="17" y="2"/>
                          <a:pt x="1" y="18"/>
                          <a:pt x="0" y="38"/>
                        </a:cubicBez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6" y="49"/>
                          <a:pt x="70" y="44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765" name="Group 542"/>
              <p:cNvGrpSpPr/>
              <p:nvPr/>
            </p:nvGrpSpPr>
            <p:grpSpPr>
              <a:xfrm>
                <a:off x="7737480" y="4147200"/>
                <a:ext cx="670680" cy="441720"/>
                <a:chOff x="7737480" y="4147200"/>
                <a:chExt cx="670680" cy="441720"/>
              </a:xfrm>
            </p:grpSpPr>
            <p:sp>
              <p:nvSpPr>
                <p:cNvPr id="766" name="Freeform 543"/>
                <p:cNvSpPr/>
                <p:nvPr/>
              </p:nvSpPr>
              <p:spPr>
                <a:xfrm flipH="1">
                  <a:off x="8325720" y="4387680"/>
                  <a:ext cx="68040" cy="7272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20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20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67" name="Freeform 544"/>
                <p:cNvSpPr/>
                <p:nvPr/>
              </p:nvSpPr>
              <p:spPr>
                <a:xfrm flipH="1">
                  <a:off x="8033040" y="4466160"/>
                  <a:ext cx="67680" cy="72720"/>
                </a:xfrm>
                <a:custGeom>
                  <a:avLst/>
                  <a:gdLst>
                    <a:gd name="textAreaLeft" fmla="*/ 360 w 67680"/>
                    <a:gd name="textAreaRight" fmla="*/ 68400 w 67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18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18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68" name="Freeform 545"/>
                <p:cNvSpPr/>
                <p:nvPr/>
              </p:nvSpPr>
              <p:spPr>
                <a:xfrm flipH="1">
                  <a:off x="8250480" y="4311720"/>
                  <a:ext cx="146880" cy="3924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905" h="243">
                      <a:moveTo>
                        <a:pt x="0" y="123"/>
                      </a:moveTo>
                      <a:lnTo>
                        <a:pt x="453" y="0"/>
                      </a:lnTo>
                      <a:lnTo>
                        <a:pt x="905" y="123"/>
                      </a:lnTo>
                      <a:lnTo>
                        <a:pt x="453" y="24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69" name="Freeform 546"/>
                <p:cNvSpPr/>
                <p:nvPr/>
              </p:nvSpPr>
              <p:spPr>
                <a:xfrm flipH="1">
                  <a:off x="7737120" y="4147200"/>
                  <a:ext cx="560520" cy="150480"/>
                </a:xfrm>
                <a:custGeom>
                  <a:avLst/>
                  <a:gdLst>
                    <a:gd name="textAreaLeft" fmla="*/ -360 w 560520"/>
                    <a:gd name="textAreaRight" fmla="*/ 560520 w 56052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3449" h="929">
                      <a:moveTo>
                        <a:pt x="1352" y="0"/>
                      </a:moveTo>
                      <a:lnTo>
                        <a:pt x="0" y="366"/>
                      </a:lnTo>
                      <a:lnTo>
                        <a:pt x="2105" y="929"/>
                      </a:lnTo>
                      <a:lnTo>
                        <a:pt x="3449" y="565"/>
                      </a:lnTo>
                      <a:lnTo>
                        <a:pt x="13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0" name="Freeform 547"/>
                <p:cNvSpPr/>
                <p:nvPr/>
              </p:nvSpPr>
              <p:spPr>
                <a:xfrm flipH="1">
                  <a:off x="8272080" y="4415400"/>
                  <a:ext cx="80640" cy="88200"/>
                </a:xfrm>
                <a:custGeom>
                  <a:avLst/>
                  <a:gdLst>
                    <a:gd name="textAreaLeft" fmla="*/ 360 w 80640"/>
                    <a:gd name="textAreaRight" fmla="*/ 81360 w 80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1" h="231">
                      <a:moveTo>
                        <a:pt x="168" y="67"/>
                      </a:moveTo>
                      <a:cubicBezTo>
                        <a:pt x="133" y="21"/>
                        <a:pt x="82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0" y="69"/>
                        <a:pt x="8" y="121"/>
                        <a:pt x="41" y="164"/>
                      </a:cubicBezTo>
                      <a:cubicBezTo>
                        <a:pt x="58" y="186"/>
                        <a:pt x="79" y="203"/>
                        <a:pt x="100" y="212"/>
                      </a:cubicBezTo>
                      <a:cubicBezTo>
                        <a:pt x="109" y="231"/>
                        <a:pt x="109" y="231"/>
                        <a:pt x="109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2" y="217"/>
                        <a:pt x="169" y="214"/>
                        <a:pt x="176" y="209"/>
                      </a:cubicBezTo>
                      <a:cubicBezTo>
                        <a:pt x="211" y="182"/>
                        <a:pt x="208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1" name="Freeform 548"/>
                <p:cNvSpPr/>
                <p:nvPr/>
              </p:nvSpPr>
              <p:spPr>
                <a:xfrm flipH="1">
                  <a:off x="8289000" y="441792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7" y="214"/>
                      </a:moveTo>
                      <a:cubicBezTo>
                        <a:pt x="142" y="241"/>
                        <a:pt x="82" y="220"/>
                        <a:pt x="42" y="169"/>
                      </a:cubicBezTo>
                      <a:cubicBezTo>
                        <a:pt x="3" y="117"/>
                        <a:pt x="0" y="53"/>
                        <a:pt x="35" y="26"/>
                      </a:cubicBezTo>
                      <a:cubicBezTo>
                        <a:pt x="70" y="0"/>
                        <a:pt x="131" y="20"/>
                        <a:pt x="170" y="72"/>
                      </a:cubicBezTo>
                      <a:cubicBezTo>
                        <a:pt x="209" y="123"/>
                        <a:pt x="213" y="187"/>
                        <a:pt x="177" y="214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2" name="Freeform 549"/>
                <p:cNvSpPr/>
                <p:nvPr/>
              </p:nvSpPr>
              <p:spPr>
                <a:xfrm flipH="1">
                  <a:off x="8305200" y="4435920"/>
                  <a:ext cx="49680" cy="55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0" h="146">
                      <a:moveTo>
                        <a:pt x="109" y="130"/>
                      </a:moveTo>
                      <a:cubicBezTo>
                        <a:pt x="87" y="146"/>
                        <a:pt x="50" y="134"/>
                        <a:pt x="26" y="103"/>
                      </a:cubicBezTo>
                      <a:cubicBezTo>
                        <a:pt x="2" y="71"/>
                        <a:pt x="0" y="32"/>
                        <a:pt x="22" y="16"/>
                      </a:cubicBezTo>
                      <a:cubicBezTo>
                        <a:pt x="43" y="0"/>
                        <a:pt x="80" y="12"/>
                        <a:pt x="104" y="44"/>
                      </a:cubicBezTo>
                      <a:cubicBezTo>
                        <a:pt x="128" y="75"/>
                        <a:pt x="130" y="114"/>
                        <a:pt x="109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3" name="Freeform 550"/>
                <p:cNvSpPr/>
                <p:nvPr/>
              </p:nvSpPr>
              <p:spPr>
                <a:xfrm flipH="1">
                  <a:off x="7977960" y="4494240"/>
                  <a:ext cx="80280" cy="88200"/>
                </a:xfrm>
                <a:custGeom>
                  <a:avLst/>
                  <a:gdLst>
                    <a:gd name="textAreaLeft" fmla="*/ -360 w 80280"/>
                    <a:gd name="textAreaRight" fmla="*/ 80280 w 8028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0" h="231">
                      <a:moveTo>
                        <a:pt x="168" y="67"/>
                      </a:moveTo>
                      <a:cubicBezTo>
                        <a:pt x="133" y="21"/>
                        <a:pt x="81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8" y="38"/>
                        <a:pt x="18" y="38"/>
                        <a:pt x="18" y="38"/>
                      </a:cubicBezTo>
                      <a:cubicBezTo>
                        <a:pt x="0" y="69"/>
                        <a:pt x="7" y="120"/>
                        <a:pt x="40" y="164"/>
                      </a:cubicBezTo>
                      <a:cubicBezTo>
                        <a:pt x="57" y="186"/>
                        <a:pt x="78" y="202"/>
                        <a:pt x="99" y="212"/>
                      </a:cubicBezTo>
                      <a:cubicBezTo>
                        <a:pt x="108" y="231"/>
                        <a:pt x="108" y="231"/>
                        <a:pt x="108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1" y="217"/>
                        <a:pt x="169" y="214"/>
                        <a:pt x="175" y="209"/>
                      </a:cubicBezTo>
                      <a:cubicBezTo>
                        <a:pt x="210" y="182"/>
                        <a:pt x="207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4" name="Freeform 551"/>
                <p:cNvSpPr/>
                <p:nvPr/>
              </p:nvSpPr>
              <p:spPr>
                <a:xfrm flipH="1">
                  <a:off x="7995600" y="449676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8" y="215"/>
                      </a:moveTo>
                      <a:cubicBezTo>
                        <a:pt x="143" y="241"/>
                        <a:pt x="82" y="221"/>
                        <a:pt x="43" y="169"/>
                      </a:cubicBezTo>
                      <a:cubicBezTo>
                        <a:pt x="3" y="118"/>
                        <a:pt x="0" y="54"/>
                        <a:pt x="35" y="27"/>
                      </a:cubicBezTo>
                      <a:cubicBezTo>
                        <a:pt x="71" y="0"/>
                        <a:pt x="131" y="21"/>
                        <a:pt x="170" y="72"/>
                      </a:cubicBezTo>
                      <a:cubicBezTo>
                        <a:pt x="210" y="124"/>
                        <a:pt x="213" y="188"/>
                        <a:pt x="178" y="215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5" name="Freeform 552"/>
                <p:cNvSpPr/>
                <p:nvPr/>
              </p:nvSpPr>
              <p:spPr>
                <a:xfrm flipH="1">
                  <a:off x="8010720" y="4515120"/>
                  <a:ext cx="49320" cy="55800"/>
                </a:xfrm>
                <a:custGeom>
                  <a:avLst/>
                  <a:gdLst>
                    <a:gd name="textAreaLeft" fmla="*/ -360 w 49320"/>
                    <a:gd name="textAreaRight" fmla="*/ 49320 w 493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29" h="146">
                      <a:moveTo>
                        <a:pt x="108" y="130"/>
                      </a:moveTo>
                      <a:cubicBezTo>
                        <a:pt x="86" y="146"/>
                        <a:pt x="50" y="134"/>
                        <a:pt x="26" y="102"/>
                      </a:cubicBezTo>
                      <a:cubicBezTo>
                        <a:pt x="2" y="71"/>
                        <a:pt x="0" y="32"/>
                        <a:pt x="21" y="16"/>
                      </a:cubicBezTo>
                      <a:cubicBezTo>
                        <a:pt x="43" y="0"/>
                        <a:pt x="79" y="12"/>
                        <a:pt x="103" y="43"/>
                      </a:cubicBezTo>
                      <a:cubicBezTo>
                        <a:pt x="127" y="75"/>
                        <a:pt x="129" y="114"/>
                        <a:pt x="108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6" name="Freeform 553"/>
                <p:cNvSpPr/>
                <p:nvPr/>
              </p:nvSpPr>
              <p:spPr>
                <a:xfrm flipH="1">
                  <a:off x="7955640" y="4201920"/>
                  <a:ext cx="451080" cy="369000"/>
                </a:xfrm>
                <a:custGeom>
                  <a:avLst/>
                  <a:gdLst>
                    <a:gd name="textAreaLeft" fmla="*/ -360 w 451080"/>
                    <a:gd name="textAreaRight" fmla="*/ 451080 w 451080"/>
                    <a:gd name="textAreaTop" fmla="*/ 0 h 369000"/>
                    <a:gd name="textAreaBottom" fmla="*/ 369360 h 369000"/>
                  </a:gdLst>
                  <a:ahLst/>
                  <a:rect l="textAreaLeft" t="textAreaTop" r="textAreaRight" b="textAreaBottom"/>
                  <a:pathLst>
                    <a:path w="1175" h="962">
                      <a:moveTo>
                        <a:pt x="301" y="14"/>
                      </a:moveTo>
                      <a:cubicBezTo>
                        <a:pt x="242" y="0"/>
                        <a:pt x="218" y="72"/>
                        <a:pt x="218" y="72"/>
                      </a:cubicBezTo>
                      <a:cubicBezTo>
                        <a:pt x="128" y="365"/>
                        <a:pt x="128" y="365"/>
                        <a:pt x="128" y="365"/>
                      </a:cubicBezTo>
                      <a:cubicBezTo>
                        <a:pt x="128" y="365"/>
                        <a:pt x="52" y="326"/>
                        <a:pt x="26" y="338"/>
                      </a:cubicBezTo>
                      <a:cubicBezTo>
                        <a:pt x="0" y="350"/>
                        <a:pt x="26" y="656"/>
                        <a:pt x="26" y="656"/>
                      </a:cubicBezTo>
                      <a:cubicBezTo>
                        <a:pt x="96" y="674"/>
                        <a:pt x="96" y="674"/>
                        <a:pt x="96" y="674"/>
                      </a:cubicBezTo>
                      <a:cubicBezTo>
                        <a:pt x="85" y="633"/>
                        <a:pt x="93" y="595"/>
                        <a:pt x="120" y="574"/>
                      </a:cubicBezTo>
                      <a:cubicBezTo>
                        <a:pt x="160" y="543"/>
                        <a:pt x="231" y="567"/>
                        <a:pt x="276" y="627"/>
                      </a:cubicBezTo>
                      <a:cubicBezTo>
                        <a:pt x="302" y="661"/>
                        <a:pt x="314" y="700"/>
                        <a:pt x="313" y="732"/>
                      </a:cubicBezTo>
                      <a:cubicBezTo>
                        <a:pt x="860" y="878"/>
                        <a:pt x="860" y="878"/>
                        <a:pt x="860" y="878"/>
                      </a:cubicBezTo>
                      <a:cubicBezTo>
                        <a:pt x="850" y="838"/>
                        <a:pt x="857" y="800"/>
                        <a:pt x="884" y="780"/>
                      </a:cubicBezTo>
                      <a:cubicBezTo>
                        <a:pt x="925" y="749"/>
                        <a:pt x="995" y="772"/>
                        <a:pt x="1041" y="833"/>
                      </a:cubicBezTo>
                      <a:cubicBezTo>
                        <a:pt x="1066" y="866"/>
                        <a:pt x="1079" y="904"/>
                        <a:pt x="1078" y="936"/>
                      </a:cubicBezTo>
                      <a:cubicBezTo>
                        <a:pt x="1175" y="962"/>
                        <a:pt x="1175" y="962"/>
                        <a:pt x="1175" y="962"/>
                      </a:cubicBezTo>
                      <a:cubicBezTo>
                        <a:pt x="1175" y="250"/>
                        <a:pt x="1175" y="250"/>
                        <a:pt x="1175" y="250"/>
                      </a:cubicBezTo>
                      <a:lnTo>
                        <a:pt x="301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7" name="Freeform 554"/>
                <p:cNvSpPr/>
                <p:nvPr/>
              </p:nvSpPr>
              <p:spPr>
                <a:xfrm flipH="1">
                  <a:off x="8322840" y="4250520"/>
                  <a:ext cx="26640" cy="10008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65" h="619">
                      <a:moveTo>
                        <a:pt x="0" y="581"/>
                      </a:moveTo>
                      <a:lnTo>
                        <a:pt x="165" y="619"/>
                      </a:lnTo>
                      <a:lnTo>
                        <a:pt x="165" y="0"/>
                      </a:lnTo>
                      <a:lnTo>
                        <a:pt x="0" y="5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8" name="Line 555"/>
                <p:cNvSpPr/>
                <p:nvPr/>
              </p:nvSpPr>
              <p:spPr>
                <a:xfrm flipV="1">
                  <a:off x="7910280" y="419436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9" name="Line 556"/>
                <p:cNvSpPr/>
                <p:nvPr/>
              </p:nvSpPr>
              <p:spPr>
                <a:xfrm flipV="1">
                  <a:off x="7867080" y="418248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0" name="Line 557"/>
                <p:cNvSpPr/>
                <p:nvPr/>
              </p:nvSpPr>
              <p:spPr>
                <a:xfrm flipV="1">
                  <a:off x="7823520" y="4170960"/>
                  <a:ext cx="342720" cy="9072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1" name="Line 558"/>
                <p:cNvSpPr/>
                <p:nvPr/>
              </p:nvSpPr>
              <p:spPr>
                <a:xfrm flipV="1">
                  <a:off x="7779600" y="4159080"/>
                  <a:ext cx="34308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2" name="Freeform 559"/>
                <p:cNvSpPr/>
                <p:nvPr/>
              </p:nvSpPr>
              <p:spPr>
                <a:xfrm flipH="1">
                  <a:off x="7737840" y="4239000"/>
                  <a:ext cx="218160" cy="33192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331920"/>
                    <a:gd name="textAreaBottom" fmla="*/ 332280 h 331920"/>
                  </a:gdLst>
                  <a:ahLst/>
                  <a:rect l="textAreaLeft" t="textAreaTop" r="textAreaRight" b="textAreaBottom"/>
                  <a:pathLst>
                    <a:path w="1344" h="2046">
                      <a:moveTo>
                        <a:pt x="0" y="364"/>
                      </a:moveTo>
                      <a:lnTo>
                        <a:pt x="1344" y="0"/>
                      </a:lnTo>
                      <a:lnTo>
                        <a:pt x="1344" y="1682"/>
                      </a:lnTo>
                      <a:lnTo>
                        <a:pt x="0" y="2046"/>
                      </a:lnTo>
                      <a:lnTo>
                        <a:pt x="0" y="3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3" name="Freeform 560"/>
                <p:cNvSpPr/>
                <p:nvPr/>
              </p:nvSpPr>
              <p:spPr>
                <a:xfrm flipH="1">
                  <a:off x="7973280" y="4264920"/>
                  <a:ext cx="234360" cy="179280"/>
                </a:xfrm>
                <a:custGeom>
                  <a:avLst/>
                  <a:gdLst>
                    <a:gd name="textAreaLeft" fmla="*/ -360 w 234360"/>
                    <a:gd name="textAreaRight" fmla="*/ 234360 w 23436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1444" h="1107">
                      <a:moveTo>
                        <a:pt x="0" y="0"/>
                      </a:moveTo>
                      <a:lnTo>
                        <a:pt x="0" y="722"/>
                      </a:lnTo>
                      <a:lnTo>
                        <a:pt x="1444" y="1107"/>
                      </a:lnTo>
                      <a:lnTo>
                        <a:pt x="1444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4" name="Freeform 561"/>
                <p:cNvSpPr/>
                <p:nvPr/>
              </p:nvSpPr>
              <p:spPr>
                <a:xfrm flipH="1">
                  <a:off x="8219520" y="4236120"/>
                  <a:ext cx="96120" cy="26424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593" h="1630">
                      <a:moveTo>
                        <a:pt x="0" y="0"/>
                      </a:moveTo>
                      <a:lnTo>
                        <a:pt x="593" y="161"/>
                      </a:lnTo>
                      <a:lnTo>
                        <a:pt x="593" y="1630"/>
                      </a:lnTo>
                      <a:lnTo>
                        <a:pt x="279" y="1545"/>
                      </a:lnTo>
                      <a:lnTo>
                        <a:pt x="0" y="9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5" name="Freeform 562"/>
                <p:cNvSpPr/>
                <p:nvPr/>
              </p:nvSpPr>
              <p:spPr>
                <a:xfrm flipH="1">
                  <a:off x="8230680" y="4254840"/>
                  <a:ext cx="73080" cy="120960"/>
                </a:xfrm>
                <a:custGeom>
                  <a:avLst/>
                  <a:gdLst>
                    <a:gd name="textAreaLeft" fmla="*/ -360 w 73080"/>
                    <a:gd name="textAreaRight" fmla="*/ 73080 w 730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52" h="747">
                      <a:moveTo>
                        <a:pt x="0" y="0"/>
                      </a:moveTo>
                      <a:lnTo>
                        <a:pt x="0" y="626"/>
                      </a:lnTo>
                      <a:lnTo>
                        <a:pt x="452" y="747"/>
                      </a:lnTo>
                      <a:lnTo>
                        <a:pt x="452" y="1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6" name="Freeform 563"/>
                <p:cNvSpPr/>
                <p:nvPr/>
              </p:nvSpPr>
              <p:spPr>
                <a:xfrm flipH="1">
                  <a:off x="8328240" y="4268880"/>
                  <a:ext cx="26640" cy="7884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67" h="487">
                      <a:moveTo>
                        <a:pt x="0" y="487"/>
                      </a:moveTo>
                      <a:lnTo>
                        <a:pt x="0" y="45"/>
                      </a:lnTo>
                      <a:lnTo>
                        <a:pt x="167" y="0"/>
                      </a:lnTo>
                      <a:lnTo>
                        <a:pt x="167" y="442"/>
                      </a:lnTo>
                      <a:lnTo>
                        <a:pt x="0" y="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7" name="Freeform 564"/>
                <p:cNvSpPr/>
                <p:nvPr/>
              </p:nvSpPr>
              <p:spPr>
                <a:xfrm flipH="1">
                  <a:off x="8354880" y="4275000"/>
                  <a:ext cx="4680" cy="72720"/>
                </a:xfrm>
                <a:custGeom>
                  <a:avLst/>
                  <a:gdLst>
                    <a:gd name="textAreaLeft" fmla="*/ -360 w 4680"/>
                    <a:gd name="textAreaRight" fmla="*/ 4680 w 4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1" h="449">
                      <a:moveTo>
                        <a:pt x="31" y="7"/>
                      </a:moveTo>
                      <a:lnTo>
                        <a:pt x="0" y="0"/>
                      </a:lnTo>
                      <a:lnTo>
                        <a:pt x="0" y="439"/>
                      </a:lnTo>
                      <a:lnTo>
                        <a:pt x="31" y="449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8" name="Freeform 565"/>
                <p:cNvSpPr/>
                <p:nvPr/>
              </p:nvSpPr>
              <p:spPr>
                <a:xfrm flipH="1">
                  <a:off x="8328240" y="4267800"/>
                  <a:ext cx="31680" cy="792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98" h="52">
                      <a:moveTo>
                        <a:pt x="198" y="7"/>
                      </a:moveTo>
                      <a:lnTo>
                        <a:pt x="165" y="0"/>
                      </a:lnTo>
                      <a:lnTo>
                        <a:pt x="0" y="45"/>
                      </a:lnTo>
                      <a:lnTo>
                        <a:pt x="31" y="52"/>
                      </a:lnTo>
                      <a:lnTo>
                        <a:pt x="198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9" name="Freeform 566"/>
                <p:cNvSpPr/>
                <p:nvPr/>
              </p:nvSpPr>
              <p:spPr>
                <a:xfrm flipH="1">
                  <a:off x="8319240" y="435276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1"/>
                      </a:moveTo>
                      <a:cubicBezTo>
                        <a:pt x="8" y="13"/>
                        <a:pt x="4" y="11"/>
                        <a:pt x="2" y="9"/>
                      </a:cubicBezTo>
                      <a:cubicBezTo>
                        <a:pt x="0" y="6"/>
                        <a:pt x="0" y="3"/>
                        <a:pt x="2" y="1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6"/>
                        <a:pt x="11" y="10"/>
                        <a:pt x="9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0" name="Freeform 567"/>
                <p:cNvSpPr/>
                <p:nvPr/>
              </p:nvSpPr>
              <p:spPr>
                <a:xfrm flipH="1">
                  <a:off x="8319240" y="424224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2"/>
                      </a:moveTo>
                      <a:cubicBezTo>
                        <a:pt x="8" y="13"/>
                        <a:pt x="4" y="12"/>
                        <a:pt x="2" y="9"/>
                      </a:cubicBezTo>
                      <a:cubicBezTo>
                        <a:pt x="0" y="7"/>
                        <a:pt x="0" y="3"/>
                        <a:pt x="2" y="2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7"/>
                        <a:pt x="11" y="10"/>
                        <a:pt x="9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1" name="Freeform 568"/>
                <p:cNvSpPr/>
                <p:nvPr/>
              </p:nvSpPr>
              <p:spPr>
                <a:xfrm flipH="1">
                  <a:off x="8321400" y="4243320"/>
                  <a:ext cx="35280" cy="122400"/>
                </a:xfrm>
                <a:custGeom>
                  <a:avLst/>
                  <a:gdLst>
                    <a:gd name="textAreaLeft" fmla="*/ 360 w 35280"/>
                    <a:gd name="textAreaRight" fmla="*/ 36000 w 35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93" h="320">
                      <a:moveTo>
                        <a:pt x="0" y="24"/>
                      </a:moveTo>
                      <a:cubicBezTo>
                        <a:pt x="0" y="320"/>
                        <a:pt x="0" y="320"/>
                        <a:pt x="0" y="320"/>
                      </a:cubicBezTo>
                      <a:cubicBezTo>
                        <a:pt x="93" y="295"/>
                        <a:pt x="93" y="295"/>
                        <a:pt x="93" y="295"/>
                      </a:cubicBezTo>
                      <a:cubicBezTo>
                        <a:pt x="91" y="287"/>
                        <a:pt x="91" y="287"/>
                        <a:pt x="91" y="287"/>
                      </a:cubicBezTo>
                      <a:cubicBezTo>
                        <a:pt x="91" y="287"/>
                        <a:pt x="17" y="307"/>
                        <a:pt x="8" y="310"/>
                      </a:cubicBezTo>
                      <a:cubicBezTo>
                        <a:pt x="8" y="300"/>
                        <a:pt x="8" y="36"/>
                        <a:pt x="8" y="30"/>
                      </a:cubicBezTo>
                      <a:cubicBezTo>
                        <a:pt x="14" y="29"/>
                        <a:pt x="93" y="8"/>
                        <a:pt x="93" y="8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2" name="Freeform 569"/>
                <p:cNvSpPr/>
                <p:nvPr/>
              </p:nvSpPr>
              <p:spPr>
                <a:xfrm flipH="1">
                  <a:off x="7845840" y="4286160"/>
                  <a:ext cx="94680" cy="24300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584" h="1498">
                      <a:moveTo>
                        <a:pt x="0" y="159"/>
                      </a:moveTo>
                      <a:lnTo>
                        <a:pt x="0" y="1498"/>
                      </a:lnTo>
                      <a:lnTo>
                        <a:pt x="584" y="1342"/>
                      </a:lnTo>
                      <a:lnTo>
                        <a:pt x="584" y="0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3" name="Freeform 570"/>
                <p:cNvSpPr/>
                <p:nvPr/>
              </p:nvSpPr>
              <p:spPr>
                <a:xfrm flipH="1">
                  <a:off x="7751880" y="4260960"/>
                  <a:ext cx="94320" cy="242640"/>
                </a:xfrm>
                <a:custGeom>
                  <a:avLst/>
                  <a:gdLst>
                    <a:gd name="textAreaLeft" fmla="*/ 360 w 94320"/>
                    <a:gd name="textAreaRight" fmla="*/ 95040 w 9432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583" h="1497">
                      <a:moveTo>
                        <a:pt x="583" y="0"/>
                      </a:moveTo>
                      <a:lnTo>
                        <a:pt x="0" y="155"/>
                      </a:lnTo>
                      <a:lnTo>
                        <a:pt x="0" y="1497"/>
                      </a:lnTo>
                      <a:lnTo>
                        <a:pt x="583" y="1339"/>
                      </a:lnTo>
                      <a:lnTo>
                        <a:pt x="58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4" name="Freeform 571"/>
                <p:cNvSpPr/>
                <p:nvPr/>
              </p:nvSpPr>
              <p:spPr>
                <a:xfrm flipH="1">
                  <a:off x="7740360" y="4496760"/>
                  <a:ext cx="12600" cy="147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1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5" name="Freeform 572"/>
                <p:cNvSpPr/>
                <p:nvPr/>
              </p:nvSpPr>
              <p:spPr>
                <a:xfrm flipH="1">
                  <a:off x="7937640" y="455076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2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6" name="Freeform 573"/>
                <p:cNvSpPr/>
                <p:nvPr/>
              </p:nvSpPr>
              <p:spPr>
                <a:xfrm flipH="1">
                  <a:off x="7938000" y="453780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7" name="Freeform 574"/>
                <p:cNvSpPr/>
                <p:nvPr/>
              </p:nvSpPr>
              <p:spPr>
                <a:xfrm flipH="1">
                  <a:off x="7741440" y="448380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8" name="Freeform 575"/>
                <p:cNvSpPr/>
                <p:nvPr/>
              </p:nvSpPr>
              <p:spPr>
                <a:xfrm flipH="1">
                  <a:off x="7938000" y="429804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9" name="Freeform 576"/>
                <p:cNvSpPr/>
                <p:nvPr/>
              </p:nvSpPr>
              <p:spPr>
                <a:xfrm flipH="1">
                  <a:off x="7741440" y="424404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800" name="Freeform 577"/>
                <p:cNvSpPr/>
                <p:nvPr/>
              </p:nvSpPr>
              <p:spPr>
                <a:xfrm flipH="1">
                  <a:off x="7851960" y="439236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801" name="Freeform 578"/>
                <p:cNvSpPr/>
                <p:nvPr/>
              </p:nvSpPr>
              <p:spPr>
                <a:xfrm flipH="1">
                  <a:off x="7829640" y="438732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802" name="Freeform 579"/>
                <p:cNvSpPr/>
                <p:nvPr/>
              </p:nvSpPr>
              <p:spPr>
                <a:xfrm flipH="1">
                  <a:off x="8382960" y="4434480"/>
                  <a:ext cx="24840" cy="25560"/>
                </a:xfrm>
                <a:custGeom>
                  <a:avLst/>
                  <a:gdLst>
                    <a:gd name="textAreaLeft" fmla="*/ -360 w 24840"/>
                    <a:gd name="textAreaRight" fmla="*/ 24840 w 248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66" y="68"/>
                      </a:moveTo>
                      <a:cubicBezTo>
                        <a:pt x="6" y="58"/>
                        <a:pt x="13" y="56"/>
                        <a:pt x="13" y="43"/>
                      </a:cubicBezTo>
                      <a:cubicBezTo>
                        <a:pt x="13" y="31"/>
                        <a:pt x="0" y="0"/>
                        <a:pt x="13" y="0"/>
                      </a:cubicBezTo>
                      <a:cubicBezTo>
                        <a:pt x="26" y="0"/>
                        <a:pt x="54" y="12"/>
                        <a:pt x="66" y="12"/>
                      </a:cubicBezTo>
                      <a:lnTo>
                        <a:pt x="66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803" name="Group 678"/>
            <p:cNvGrpSpPr/>
            <p:nvPr/>
          </p:nvGrpSpPr>
          <p:grpSpPr>
            <a:xfrm>
              <a:off x="1683720" y="4821120"/>
              <a:ext cx="242280" cy="317160"/>
              <a:chOff x="1683720" y="4821120"/>
              <a:chExt cx="242280" cy="317160"/>
            </a:xfrm>
          </p:grpSpPr>
          <p:sp>
            <p:nvSpPr>
              <p:cNvPr id="804" name="Freeform 679"/>
              <p:cNvSpPr/>
              <p:nvPr/>
            </p:nvSpPr>
            <p:spPr>
              <a:xfrm>
                <a:off x="1683720" y="4821120"/>
                <a:ext cx="242280" cy="31716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319" h="416">
                    <a:moveTo>
                      <a:pt x="0" y="416"/>
                    </a:moveTo>
                    <a:lnTo>
                      <a:pt x="0" y="88"/>
                    </a:lnTo>
                    <a:lnTo>
                      <a:pt x="319" y="0"/>
                    </a:lnTo>
                    <a:lnTo>
                      <a:pt x="319" y="331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ffffff"/>
              </a:solidFill>
              <a:ln w="6350">
                <a:solidFill>
                  <a:srgbClr val="1b17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05" name="Freeform 680"/>
              <p:cNvSpPr/>
              <p:nvPr/>
            </p:nvSpPr>
            <p:spPr>
              <a:xfrm>
                <a:off x="1733760" y="4893480"/>
                <a:ext cx="139680" cy="1728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60" y="16"/>
                    </a:moveTo>
                    <a:cubicBezTo>
                      <a:pt x="53" y="60"/>
                      <a:pt x="53" y="60"/>
                      <a:pt x="53" y="60"/>
                    </a:cubicBezTo>
                    <a:cubicBezTo>
                      <a:pt x="53" y="61"/>
                      <a:pt x="53" y="61"/>
                      <a:pt x="53" y="62"/>
                    </a:cubicBezTo>
                    <a:cubicBezTo>
                      <a:pt x="53" y="62"/>
                      <a:pt x="53" y="63"/>
                      <a:pt x="53" y="63"/>
                    </a:cubicBezTo>
                    <a:cubicBezTo>
                      <a:pt x="54" y="63"/>
                      <a:pt x="54" y="63"/>
                      <a:pt x="55" y="63"/>
                    </a:cubicBezTo>
                    <a:cubicBezTo>
                      <a:pt x="57" y="63"/>
                      <a:pt x="58" y="61"/>
                      <a:pt x="60" y="59"/>
                    </a:cubicBezTo>
                    <a:cubicBezTo>
                      <a:pt x="63" y="56"/>
                      <a:pt x="66" y="53"/>
                      <a:pt x="68" y="48"/>
                    </a:cubicBezTo>
                    <a:cubicBezTo>
                      <a:pt x="69" y="44"/>
                      <a:pt x="70" y="39"/>
                      <a:pt x="70" y="33"/>
                    </a:cubicBezTo>
                    <a:cubicBezTo>
                      <a:pt x="70" y="24"/>
                      <a:pt x="68" y="17"/>
                      <a:pt x="63" y="13"/>
                    </a:cubicBezTo>
                    <a:cubicBezTo>
                      <a:pt x="57" y="9"/>
                      <a:pt x="51" y="8"/>
                      <a:pt x="42" y="10"/>
                    </a:cubicBezTo>
                    <a:cubicBezTo>
                      <a:pt x="36" y="12"/>
                      <a:pt x="30" y="15"/>
                      <a:pt x="24" y="20"/>
                    </a:cubicBezTo>
                    <a:cubicBezTo>
                      <a:pt x="19" y="24"/>
                      <a:pt x="15" y="30"/>
                      <a:pt x="12" y="37"/>
                    </a:cubicBezTo>
                    <a:cubicBezTo>
                      <a:pt x="10" y="44"/>
                      <a:pt x="8" y="51"/>
                      <a:pt x="8" y="58"/>
                    </a:cubicBezTo>
                    <a:cubicBezTo>
                      <a:pt x="8" y="69"/>
                      <a:pt x="11" y="78"/>
                      <a:pt x="17" y="83"/>
                    </a:cubicBezTo>
                    <a:cubicBezTo>
                      <a:pt x="24" y="88"/>
                      <a:pt x="31" y="89"/>
                      <a:pt x="41" y="86"/>
                    </a:cubicBezTo>
                    <a:cubicBezTo>
                      <a:pt x="46" y="85"/>
                      <a:pt x="51" y="83"/>
                      <a:pt x="55" y="80"/>
                    </a:cubicBezTo>
                    <a:cubicBezTo>
                      <a:pt x="59" y="77"/>
                      <a:pt x="64" y="74"/>
                      <a:pt x="68" y="69"/>
                    </a:cubicBezTo>
                    <a:cubicBezTo>
                      <a:pt x="78" y="67"/>
                      <a:pt x="78" y="67"/>
                      <a:pt x="78" y="67"/>
                    </a:cubicBezTo>
                    <a:cubicBezTo>
                      <a:pt x="75" y="71"/>
                      <a:pt x="73" y="74"/>
                      <a:pt x="70" y="77"/>
                    </a:cubicBezTo>
                    <a:cubicBezTo>
                      <a:pt x="66" y="80"/>
                      <a:pt x="62" y="84"/>
                      <a:pt x="57" y="87"/>
                    </a:cubicBezTo>
                    <a:cubicBezTo>
                      <a:pt x="52" y="90"/>
                      <a:pt x="47" y="93"/>
                      <a:pt x="41" y="94"/>
                    </a:cubicBezTo>
                    <a:cubicBezTo>
                      <a:pt x="34" y="96"/>
                      <a:pt x="27" y="96"/>
                      <a:pt x="20" y="94"/>
                    </a:cubicBezTo>
                    <a:cubicBezTo>
                      <a:pt x="14" y="92"/>
                      <a:pt x="9" y="88"/>
                      <a:pt x="6" y="82"/>
                    </a:cubicBezTo>
                    <a:cubicBezTo>
                      <a:pt x="2" y="76"/>
                      <a:pt x="0" y="69"/>
                      <a:pt x="0" y="60"/>
                    </a:cubicBezTo>
                    <a:cubicBezTo>
                      <a:pt x="0" y="51"/>
                      <a:pt x="2" y="43"/>
                      <a:pt x="6" y="35"/>
                    </a:cubicBezTo>
                    <a:cubicBezTo>
                      <a:pt x="9" y="26"/>
                      <a:pt x="14" y="20"/>
                      <a:pt x="20" y="14"/>
                    </a:cubicBezTo>
                    <a:cubicBezTo>
                      <a:pt x="26" y="9"/>
                      <a:pt x="34" y="5"/>
                      <a:pt x="42" y="3"/>
                    </a:cubicBezTo>
                    <a:cubicBezTo>
                      <a:pt x="53" y="0"/>
                      <a:pt x="61" y="1"/>
                      <a:pt x="68" y="6"/>
                    </a:cubicBezTo>
                    <a:cubicBezTo>
                      <a:pt x="75" y="11"/>
                      <a:pt x="78" y="20"/>
                      <a:pt x="78" y="31"/>
                    </a:cubicBezTo>
                    <a:cubicBezTo>
                      <a:pt x="78" y="37"/>
                      <a:pt x="77" y="44"/>
                      <a:pt x="74" y="50"/>
                    </a:cubicBezTo>
                    <a:cubicBezTo>
                      <a:pt x="72" y="56"/>
                      <a:pt x="68" y="62"/>
                      <a:pt x="63" y="66"/>
                    </a:cubicBezTo>
                    <a:cubicBezTo>
                      <a:pt x="59" y="70"/>
                      <a:pt x="55" y="72"/>
                      <a:pt x="52" y="73"/>
                    </a:cubicBezTo>
                    <a:cubicBezTo>
                      <a:pt x="50" y="73"/>
                      <a:pt x="48" y="73"/>
                      <a:pt x="47" y="73"/>
                    </a:cubicBezTo>
                    <a:cubicBezTo>
                      <a:pt x="45" y="72"/>
                      <a:pt x="44" y="71"/>
                      <a:pt x="44" y="69"/>
                    </a:cubicBezTo>
                    <a:cubicBezTo>
                      <a:pt x="41" y="72"/>
                      <a:pt x="39" y="74"/>
                      <a:pt x="38" y="75"/>
                    </a:cubicBezTo>
                    <a:cubicBezTo>
                      <a:pt x="36" y="77"/>
                      <a:pt x="34" y="78"/>
                      <a:pt x="31" y="78"/>
                    </a:cubicBezTo>
                    <a:cubicBezTo>
                      <a:pt x="27" y="80"/>
                      <a:pt x="23" y="79"/>
                      <a:pt x="20" y="76"/>
                    </a:cubicBezTo>
                    <a:cubicBezTo>
                      <a:pt x="17" y="73"/>
                      <a:pt x="15" y="67"/>
                      <a:pt x="15" y="60"/>
                    </a:cubicBezTo>
                    <a:cubicBezTo>
                      <a:pt x="15" y="51"/>
                      <a:pt x="17" y="43"/>
                      <a:pt x="21" y="35"/>
                    </a:cubicBezTo>
                    <a:cubicBezTo>
                      <a:pt x="25" y="27"/>
                      <a:pt x="31" y="22"/>
                      <a:pt x="37" y="20"/>
                    </a:cubicBezTo>
                    <a:cubicBezTo>
                      <a:pt x="39" y="20"/>
                      <a:pt x="41" y="20"/>
                      <a:pt x="43" y="20"/>
                    </a:cubicBezTo>
                    <a:cubicBezTo>
                      <a:pt x="45" y="21"/>
                      <a:pt x="47" y="23"/>
                      <a:pt x="49" y="25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60" y="16"/>
                      <a:pt x="60" y="16"/>
                      <a:pt x="60" y="16"/>
                    </a:cubicBezTo>
                    <a:close/>
                    <a:moveTo>
                      <a:pt x="26" y="60"/>
                    </a:moveTo>
                    <a:cubicBezTo>
                      <a:pt x="26" y="64"/>
                      <a:pt x="27" y="67"/>
                      <a:pt x="28" y="69"/>
                    </a:cubicBezTo>
                    <a:cubicBezTo>
                      <a:pt x="30" y="70"/>
                      <a:pt x="31" y="71"/>
                      <a:pt x="33" y="70"/>
                    </a:cubicBezTo>
                    <a:cubicBezTo>
                      <a:pt x="35" y="70"/>
                      <a:pt x="37" y="68"/>
                      <a:pt x="39" y="66"/>
                    </a:cubicBezTo>
                    <a:cubicBezTo>
                      <a:pt x="41" y="63"/>
                      <a:pt x="42" y="59"/>
                      <a:pt x="44" y="53"/>
                    </a:cubicBezTo>
                    <a:cubicBezTo>
                      <a:pt x="45" y="47"/>
                      <a:pt x="46" y="42"/>
                      <a:pt x="46" y="37"/>
                    </a:cubicBezTo>
                    <a:cubicBezTo>
                      <a:pt x="46" y="33"/>
                      <a:pt x="45" y="31"/>
                      <a:pt x="44" y="30"/>
                    </a:cubicBezTo>
                    <a:cubicBezTo>
                      <a:pt x="42" y="28"/>
                      <a:pt x="40" y="28"/>
                      <a:pt x="38" y="28"/>
                    </a:cubicBezTo>
                    <a:cubicBezTo>
                      <a:pt x="36" y="29"/>
                      <a:pt x="34" y="30"/>
                      <a:pt x="33" y="33"/>
                    </a:cubicBezTo>
                    <a:cubicBezTo>
                      <a:pt x="30" y="36"/>
                      <a:pt x="29" y="40"/>
                      <a:pt x="27" y="45"/>
                    </a:cubicBezTo>
                    <a:cubicBezTo>
                      <a:pt x="26" y="51"/>
                      <a:pt x="26" y="56"/>
                      <a:pt x="26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06" name="Group 681"/>
            <p:cNvGrpSpPr/>
            <p:nvPr/>
          </p:nvGrpSpPr>
          <p:grpSpPr>
            <a:xfrm>
              <a:off x="1187280" y="4950000"/>
              <a:ext cx="242280" cy="314280"/>
              <a:chOff x="1187280" y="4950000"/>
              <a:chExt cx="242280" cy="314280"/>
            </a:xfrm>
          </p:grpSpPr>
          <p:sp>
            <p:nvSpPr>
              <p:cNvPr id="807" name="Freeform 682"/>
              <p:cNvSpPr/>
              <p:nvPr/>
            </p:nvSpPr>
            <p:spPr>
              <a:xfrm>
                <a:off x="1187280" y="4950000"/>
                <a:ext cx="242280" cy="3142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319" h="414">
                    <a:moveTo>
                      <a:pt x="0" y="414"/>
                    </a:moveTo>
                    <a:lnTo>
                      <a:pt x="0" y="85"/>
                    </a:lnTo>
                    <a:lnTo>
                      <a:pt x="319" y="0"/>
                    </a:lnTo>
                    <a:lnTo>
                      <a:pt x="319" y="329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6350">
                <a:solidFill>
                  <a:srgbClr val="1b17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08" name="Freeform 683"/>
              <p:cNvSpPr/>
              <p:nvPr/>
            </p:nvSpPr>
            <p:spPr>
              <a:xfrm>
                <a:off x="1246680" y="5011560"/>
                <a:ext cx="138240" cy="204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77" h="114">
                    <a:moveTo>
                      <a:pt x="28" y="112"/>
                    </a:moveTo>
                    <a:cubicBezTo>
                      <a:pt x="24" y="110"/>
                      <a:pt x="20" y="108"/>
                      <a:pt x="19" y="104"/>
                    </a:cubicBezTo>
                    <a:cubicBezTo>
                      <a:pt x="18" y="102"/>
                      <a:pt x="19" y="98"/>
                      <a:pt x="23" y="93"/>
                    </a:cubicBezTo>
                    <a:cubicBezTo>
                      <a:pt x="25" y="92"/>
                      <a:pt x="30" y="87"/>
                      <a:pt x="37" y="86"/>
                    </a:cubicBezTo>
                    <a:cubicBezTo>
                      <a:pt x="41" y="86"/>
                      <a:pt x="45" y="88"/>
                      <a:pt x="48" y="89"/>
                    </a:cubicBezTo>
                    <a:cubicBezTo>
                      <a:pt x="51" y="91"/>
                      <a:pt x="56" y="92"/>
                      <a:pt x="62" y="91"/>
                    </a:cubicBezTo>
                    <a:cubicBezTo>
                      <a:pt x="68" y="90"/>
                      <a:pt x="74" y="85"/>
                      <a:pt x="76" y="81"/>
                    </a:cubicBezTo>
                    <a:cubicBezTo>
                      <a:pt x="77" y="78"/>
                      <a:pt x="75" y="74"/>
                      <a:pt x="72" y="72"/>
                    </a:cubicBezTo>
                    <a:cubicBezTo>
                      <a:pt x="70" y="70"/>
                      <a:pt x="67" y="68"/>
                      <a:pt x="63" y="67"/>
                    </a:cubicBezTo>
                    <a:cubicBezTo>
                      <a:pt x="62" y="66"/>
                      <a:pt x="62" y="66"/>
                      <a:pt x="62" y="66"/>
                    </a:cubicBezTo>
                    <a:cubicBezTo>
                      <a:pt x="55" y="63"/>
                      <a:pt x="50" y="59"/>
                      <a:pt x="45" y="54"/>
                    </a:cubicBezTo>
                    <a:cubicBezTo>
                      <a:pt x="44" y="54"/>
                      <a:pt x="44" y="53"/>
                      <a:pt x="43" y="53"/>
                    </a:cubicBezTo>
                    <a:cubicBezTo>
                      <a:pt x="42" y="52"/>
                      <a:pt x="41" y="54"/>
                      <a:pt x="39" y="54"/>
                    </a:cubicBezTo>
                    <a:cubicBezTo>
                      <a:pt x="35" y="55"/>
                      <a:pt x="33" y="51"/>
                      <a:pt x="31" y="50"/>
                    </a:cubicBezTo>
                    <a:cubicBezTo>
                      <a:pt x="27" y="46"/>
                      <a:pt x="24" y="42"/>
                      <a:pt x="21" y="37"/>
                    </a:cubicBezTo>
                    <a:cubicBezTo>
                      <a:pt x="20" y="35"/>
                      <a:pt x="18" y="32"/>
                      <a:pt x="19" y="30"/>
                    </a:cubicBezTo>
                    <a:cubicBezTo>
                      <a:pt x="19" y="28"/>
                      <a:pt x="20" y="27"/>
                      <a:pt x="22" y="26"/>
                    </a:cubicBezTo>
                    <a:cubicBezTo>
                      <a:pt x="23" y="25"/>
                      <a:pt x="23" y="25"/>
                      <a:pt x="22" y="25"/>
                    </a:cubicBezTo>
                    <a:cubicBezTo>
                      <a:pt x="20" y="19"/>
                      <a:pt x="17" y="12"/>
                      <a:pt x="16" y="5"/>
                    </a:cubicBezTo>
                    <a:cubicBezTo>
                      <a:pt x="9" y="8"/>
                      <a:pt x="3" y="14"/>
                      <a:pt x="2" y="19"/>
                    </a:cubicBezTo>
                    <a:cubicBezTo>
                      <a:pt x="0" y="27"/>
                      <a:pt x="2" y="36"/>
                      <a:pt x="5" y="43"/>
                    </a:cubicBezTo>
                    <a:cubicBezTo>
                      <a:pt x="9" y="52"/>
                      <a:pt x="15" y="59"/>
                      <a:pt x="24" y="64"/>
                    </a:cubicBezTo>
                    <a:cubicBezTo>
                      <a:pt x="28" y="66"/>
                      <a:pt x="32" y="68"/>
                      <a:pt x="36" y="70"/>
                    </a:cubicBezTo>
                    <a:cubicBezTo>
                      <a:pt x="40" y="71"/>
                      <a:pt x="44" y="72"/>
                      <a:pt x="49" y="71"/>
                    </a:cubicBezTo>
                    <a:cubicBezTo>
                      <a:pt x="52" y="71"/>
                      <a:pt x="56" y="69"/>
                      <a:pt x="59" y="68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61" y="69"/>
                      <a:pt x="61" y="69"/>
                      <a:pt x="61" y="69"/>
                    </a:cubicBezTo>
                    <a:cubicBezTo>
                      <a:pt x="64" y="70"/>
                      <a:pt x="67" y="72"/>
                      <a:pt x="70" y="74"/>
                    </a:cubicBezTo>
                    <a:cubicBezTo>
                      <a:pt x="72" y="75"/>
                      <a:pt x="74" y="79"/>
                      <a:pt x="73" y="81"/>
                    </a:cubicBezTo>
                    <a:cubicBezTo>
                      <a:pt x="71" y="85"/>
                      <a:pt x="67" y="88"/>
                      <a:pt x="63" y="89"/>
                    </a:cubicBezTo>
                    <a:cubicBezTo>
                      <a:pt x="57" y="90"/>
                      <a:pt x="53" y="88"/>
                      <a:pt x="50" y="87"/>
                    </a:cubicBezTo>
                    <a:cubicBezTo>
                      <a:pt x="47" y="85"/>
                      <a:pt x="43" y="83"/>
                      <a:pt x="37" y="84"/>
                    </a:cubicBezTo>
                    <a:cubicBezTo>
                      <a:pt x="32" y="84"/>
                      <a:pt x="26" y="88"/>
                      <a:pt x="21" y="93"/>
                    </a:cubicBezTo>
                    <a:cubicBezTo>
                      <a:pt x="16" y="98"/>
                      <a:pt x="14" y="102"/>
                      <a:pt x="16" y="106"/>
                    </a:cubicBezTo>
                    <a:cubicBezTo>
                      <a:pt x="18" y="109"/>
                      <a:pt x="22" y="112"/>
                      <a:pt x="26" y="114"/>
                    </a:cubicBezTo>
                    <a:cubicBezTo>
                      <a:pt x="28" y="112"/>
                      <a:pt x="28" y="112"/>
                      <a:pt x="28" y="112"/>
                    </a:cubicBezTo>
                    <a:close/>
                    <a:moveTo>
                      <a:pt x="61" y="61"/>
                    </a:moveTo>
                    <a:cubicBezTo>
                      <a:pt x="62" y="62"/>
                      <a:pt x="64" y="63"/>
                      <a:pt x="66" y="63"/>
                    </a:cubicBezTo>
                    <a:cubicBezTo>
                      <a:pt x="69" y="61"/>
                      <a:pt x="73" y="57"/>
                      <a:pt x="71" y="55"/>
                    </a:cubicBezTo>
                    <a:cubicBezTo>
                      <a:pt x="68" y="54"/>
                      <a:pt x="66" y="52"/>
                      <a:pt x="64" y="50"/>
                    </a:cubicBezTo>
                    <a:cubicBezTo>
                      <a:pt x="62" y="49"/>
                      <a:pt x="59" y="46"/>
                      <a:pt x="56" y="46"/>
                    </a:cubicBezTo>
                    <a:cubicBezTo>
                      <a:pt x="53" y="45"/>
                      <a:pt x="50" y="48"/>
                      <a:pt x="47" y="50"/>
                    </a:cubicBezTo>
                    <a:cubicBezTo>
                      <a:pt x="51" y="54"/>
                      <a:pt x="55" y="58"/>
                      <a:pt x="61" y="61"/>
                    </a:cubicBezTo>
                    <a:close/>
                    <a:moveTo>
                      <a:pt x="28" y="24"/>
                    </a:moveTo>
                    <a:cubicBezTo>
                      <a:pt x="31" y="22"/>
                      <a:pt x="35" y="21"/>
                      <a:pt x="36" y="18"/>
                    </a:cubicBezTo>
                    <a:cubicBezTo>
                      <a:pt x="37" y="16"/>
                      <a:pt x="35" y="13"/>
                      <a:pt x="34" y="10"/>
                    </a:cubicBezTo>
                    <a:cubicBezTo>
                      <a:pt x="33" y="8"/>
                      <a:pt x="33" y="5"/>
                      <a:pt x="32" y="3"/>
                    </a:cubicBezTo>
                    <a:cubicBezTo>
                      <a:pt x="31" y="0"/>
                      <a:pt x="25" y="2"/>
                      <a:pt x="21" y="3"/>
                    </a:cubicBezTo>
                    <a:cubicBezTo>
                      <a:pt x="21" y="5"/>
                      <a:pt x="21" y="7"/>
                      <a:pt x="22" y="8"/>
                    </a:cubicBezTo>
                    <a:cubicBezTo>
                      <a:pt x="23" y="14"/>
                      <a:pt x="25" y="19"/>
                      <a:pt x="28" y="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63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09" name="Group 714"/>
            <p:cNvGrpSpPr/>
            <p:nvPr/>
          </p:nvGrpSpPr>
          <p:grpSpPr>
            <a:xfrm>
              <a:off x="2359080" y="5146560"/>
              <a:ext cx="505440" cy="151920"/>
              <a:chOff x="2359080" y="5146560"/>
              <a:chExt cx="505440" cy="151920"/>
            </a:xfrm>
          </p:grpSpPr>
          <p:sp>
            <p:nvSpPr>
              <p:cNvPr id="810" name="Freeform 715"/>
              <p:cNvSpPr/>
              <p:nvPr/>
            </p:nvSpPr>
            <p:spPr>
              <a:xfrm>
                <a:off x="2503800" y="5146560"/>
                <a:ext cx="71640" cy="345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46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6" y="217"/>
                    </a:lnTo>
                    <a:lnTo>
                      <a:pt x="446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1" name="Freeform 716"/>
              <p:cNvSpPr/>
              <p:nvPr/>
            </p:nvSpPr>
            <p:spPr>
              <a:xfrm>
                <a:off x="2359080" y="5146560"/>
                <a:ext cx="505440" cy="1357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3137" h="843">
                    <a:moveTo>
                      <a:pt x="2887" y="54"/>
                    </a:moveTo>
                    <a:lnTo>
                      <a:pt x="898" y="0"/>
                    </a:lnTo>
                    <a:lnTo>
                      <a:pt x="1344" y="120"/>
                    </a:lnTo>
                    <a:lnTo>
                      <a:pt x="0" y="482"/>
                    </a:lnTo>
                    <a:lnTo>
                      <a:pt x="1344" y="843"/>
                    </a:lnTo>
                    <a:lnTo>
                      <a:pt x="2688" y="482"/>
                    </a:lnTo>
                    <a:lnTo>
                      <a:pt x="3137" y="602"/>
                    </a:lnTo>
                    <a:lnTo>
                      <a:pt x="2887" y="54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2" name="Freeform 717"/>
              <p:cNvSpPr/>
              <p:nvPr/>
            </p:nvSpPr>
            <p:spPr>
              <a:xfrm>
                <a:off x="2359080" y="5224680"/>
                <a:ext cx="216360" cy="738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0"/>
                    </a:moveTo>
                    <a:lnTo>
                      <a:pt x="0" y="97"/>
                    </a:lnTo>
                    <a:lnTo>
                      <a:pt x="1344" y="458"/>
                    </a:lnTo>
                    <a:lnTo>
                      <a:pt x="1344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3" name="Freeform 718"/>
              <p:cNvSpPr/>
              <p:nvPr/>
            </p:nvSpPr>
            <p:spPr>
              <a:xfrm>
                <a:off x="2792520" y="5224680"/>
                <a:ext cx="72000" cy="345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49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9" y="217"/>
                    </a:lnTo>
                    <a:lnTo>
                      <a:pt x="449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4" name="Freeform 719"/>
              <p:cNvSpPr/>
              <p:nvPr/>
            </p:nvSpPr>
            <p:spPr>
              <a:xfrm>
                <a:off x="2575800" y="5224680"/>
                <a:ext cx="216360" cy="738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458"/>
                    </a:moveTo>
                    <a:lnTo>
                      <a:pt x="0" y="361"/>
                    </a:lnTo>
                    <a:lnTo>
                      <a:pt x="1344" y="0"/>
                    </a:lnTo>
                    <a:lnTo>
                      <a:pt x="1344" y="97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15" name="Group 795"/>
            <p:cNvGrpSpPr/>
            <p:nvPr/>
          </p:nvGrpSpPr>
          <p:grpSpPr>
            <a:xfrm>
              <a:off x="5096880" y="4448160"/>
              <a:ext cx="405360" cy="112320"/>
              <a:chOff x="5096880" y="4448160"/>
              <a:chExt cx="405360" cy="112320"/>
            </a:xfrm>
          </p:grpSpPr>
          <p:sp>
            <p:nvSpPr>
              <p:cNvPr id="816" name="Freeform 796"/>
              <p:cNvSpPr/>
              <p:nvPr/>
            </p:nvSpPr>
            <p:spPr>
              <a:xfrm>
                <a:off x="5263920" y="4448160"/>
                <a:ext cx="238320" cy="648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344" h="361">
                    <a:moveTo>
                      <a:pt x="0" y="120"/>
                    </a:moveTo>
                    <a:lnTo>
                      <a:pt x="1344" y="0"/>
                    </a:lnTo>
                    <a:lnTo>
                      <a:pt x="898" y="361"/>
                    </a:lnTo>
                    <a:lnTo>
                      <a:pt x="0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7" name="Freeform 797"/>
              <p:cNvSpPr/>
              <p:nvPr/>
            </p:nvSpPr>
            <p:spPr>
              <a:xfrm flipH="1">
                <a:off x="5096520" y="4506480"/>
                <a:ext cx="194760" cy="5400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60" h="43">
                    <a:moveTo>
                      <a:pt x="0" y="21"/>
                    </a:moveTo>
                    <a:lnTo>
                      <a:pt x="80" y="0"/>
                    </a:lnTo>
                    <a:lnTo>
                      <a:pt x="160" y="21"/>
                    </a:lnTo>
                    <a:lnTo>
                      <a:pt x="80" y="43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18" name="Group 798"/>
            <p:cNvGrpSpPr/>
            <p:nvPr/>
          </p:nvGrpSpPr>
          <p:grpSpPr>
            <a:xfrm>
              <a:off x="3327480" y="4071240"/>
              <a:ext cx="979920" cy="489240"/>
              <a:chOff x="3327480" y="4071240"/>
              <a:chExt cx="979920" cy="489240"/>
            </a:xfrm>
          </p:grpSpPr>
          <p:grpSp>
            <p:nvGrpSpPr>
              <p:cNvPr id="819" name="Group 799"/>
              <p:cNvGrpSpPr/>
              <p:nvPr/>
            </p:nvGrpSpPr>
            <p:grpSpPr>
              <a:xfrm>
                <a:off x="3327480" y="4133520"/>
                <a:ext cx="979920" cy="426960"/>
                <a:chOff x="3327480" y="4133520"/>
                <a:chExt cx="979920" cy="426960"/>
              </a:xfrm>
            </p:grpSpPr>
            <p:grpSp>
              <p:nvGrpSpPr>
                <p:cNvPr id="820" name="Group 800"/>
                <p:cNvGrpSpPr/>
                <p:nvPr/>
              </p:nvGrpSpPr>
              <p:grpSpPr>
                <a:xfrm>
                  <a:off x="3327480" y="4296240"/>
                  <a:ext cx="979920" cy="264240"/>
                  <a:chOff x="3327480" y="4296240"/>
                  <a:chExt cx="979920" cy="264240"/>
                </a:xfrm>
              </p:grpSpPr>
              <p:sp>
                <p:nvSpPr>
                  <p:cNvPr id="821" name="Freeform 801"/>
                  <p:cNvSpPr/>
                  <p:nvPr/>
                </p:nvSpPr>
                <p:spPr>
                  <a:xfrm>
                    <a:off x="4112640" y="4506480"/>
                    <a:ext cx="194760" cy="5400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2" name="Freeform 802"/>
                  <p:cNvSpPr/>
                  <p:nvPr/>
                </p:nvSpPr>
                <p:spPr>
                  <a:xfrm>
                    <a:off x="3916080" y="445356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3" name="Freeform 803"/>
                  <p:cNvSpPr/>
                  <p:nvPr/>
                </p:nvSpPr>
                <p:spPr>
                  <a:xfrm>
                    <a:off x="3719160" y="440064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4" name="Freeform 804"/>
                  <p:cNvSpPr/>
                  <p:nvPr/>
                </p:nvSpPr>
                <p:spPr>
                  <a:xfrm>
                    <a:off x="3524040" y="4349160"/>
                    <a:ext cx="194760" cy="5112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51120"/>
                      <a:gd name="textAreaBottom" fmla="*/ 51480 h 5112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5" name="Freeform 805"/>
                  <p:cNvSpPr/>
                  <p:nvPr/>
                </p:nvSpPr>
                <p:spPr>
                  <a:xfrm>
                    <a:off x="3327480" y="429624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1" h="43">
                        <a:moveTo>
                          <a:pt x="0" y="21"/>
                        </a:moveTo>
                        <a:lnTo>
                          <a:pt x="81" y="0"/>
                        </a:lnTo>
                        <a:lnTo>
                          <a:pt x="161" y="21"/>
                        </a:lnTo>
                        <a:lnTo>
                          <a:pt x="81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826" name="Group 806"/>
                <p:cNvGrpSpPr/>
                <p:nvPr/>
              </p:nvGrpSpPr>
              <p:grpSpPr>
                <a:xfrm>
                  <a:off x="3329640" y="4133520"/>
                  <a:ext cx="588240" cy="159840"/>
                  <a:chOff x="3329640" y="4133520"/>
                  <a:chExt cx="588240" cy="159840"/>
                </a:xfrm>
              </p:grpSpPr>
              <p:sp>
                <p:nvSpPr>
                  <p:cNvPr id="827" name="Freeform 807"/>
                  <p:cNvSpPr/>
                  <p:nvPr/>
                </p:nvSpPr>
                <p:spPr>
                  <a:xfrm flipH="1">
                    <a:off x="3329280" y="4239360"/>
                    <a:ext cx="194760" cy="54000"/>
                  </a:xfrm>
                  <a:custGeom>
                    <a:avLst/>
                    <a:gdLst>
                      <a:gd name="textAreaLeft" fmla="*/ -360 w 194760"/>
                      <a:gd name="textAreaRight" fmla="*/ 194760 w 1947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8" name="Freeform 808"/>
                  <p:cNvSpPr/>
                  <p:nvPr/>
                </p:nvSpPr>
                <p:spPr>
                  <a:xfrm flipH="1">
                    <a:off x="3524760" y="418644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9" name="Freeform 809"/>
                  <p:cNvSpPr/>
                  <p:nvPr/>
                </p:nvSpPr>
                <p:spPr>
                  <a:xfrm flipH="1">
                    <a:off x="3721320" y="413352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sp>
            <p:nvSpPr>
              <p:cNvPr id="830" name="Freeform 810"/>
              <p:cNvSpPr/>
              <p:nvPr/>
            </p:nvSpPr>
            <p:spPr>
              <a:xfrm>
                <a:off x="3880800" y="4071240"/>
                <a:ext cx="238320" cy="648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344" h="361">
                    <a:moveTo>
                      <a:pt x="0" y="120"/>
                    </a:moveTo>
                    <a:lnTo>
                      <a:pt x="1344" y="0"/>
                    </a:lnTo>
                    <a:lnTo>
                      <a:pt x="898" y="361"/>
                    </a:lnTo>
                    <a:lnTo>
                      <a:pt x="0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31" name="Group 811"/>
            <p:cNvGrpSpPr/>
            <p:nvPr/>
          </p:nvGrpSpPr>
          <p:grpSpPr>
            <a:xfrm>
              <a:off x="5101200" y="4766760"/>
              <a:ext cx="1766880" cy="264240"/>
              <a:chOff x="5101200" y="4766760"/>
              <a:chExt cx="1766880" cy="264240"/>
            </a:xfrm>
          </p:grpSpPr>
          <p:grpSp>
            <p:nvGrpSpPr>
              <p:cNvPr id="832" name="Group 812"/>
              <p:cNvGrpSpPr/>
              <p:nvPr/>
            </p:nvGrpSpPr>
            <p:grpSpPr>
              <a:xfrm>
                <a:off x="5101200" y="4766760"/>
                <a:ext cx="1551960" cy="264240"/>
                <a:chOff x="5101200" y="4766760"/>
                <a:chExt cx="1551960" cy="264240"/>
              </a:xfrm>
            </p:grpSpPr>
            <p:grpSp>
              <p:nvGrpSpPr>
                <p:cNvPr id="833" name="Group 813"/>
                <p:cNvGrpSpPr/>
                <p:nvPr/>
              </p:nvGrpSpPr>
              <p:grpSpPr>
                <a:xfrm>
                  <a:off x="5101200" y="4766760"/>
                  <a:ext cx="979920" cy="264240"/>
                  <a:chOff x="5101200" y="4766760"/>
                  <a:chExt cx="979920" cy="264240"/>
                </a:xfrm>
              </p:grpSpPr>
              <p:sp>
                <p:nvSpPr>
                  <p:cNvPr id="834" name="Freeform 814"/>
                  <p:cNvSpPr/>
                  <p:nvPr/>
                </p:nvSpPr>
                <p:spPr>
                  <a:xfrm>
                    <a:off x="5886360" y="4977000"/>
                    <a:ext cx="194760" cy="5400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5" name="Freeform 815"/>
                  <p:cNvSpPr/>
                  <p:nvPr/>
                </p:nvSpPr>
                <p:spPr>
                  <a:xfrm>
                    <a:off x="5689800" y="492408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6" name="Freeform 816"/>
                  <p:cNvSpPr/>
                  <p:nvPr/>
                </p:nvSpPr>
                <p:spPr>
                  <a:xfrm>
                    <a:off x="5493240" y="487152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7" name="Freeform 817"/>
                  <p:cNvSpPr/>
                  <p:nvPr/>
                </p:nvSpPr>
                <p:spPr>
                  <a:xfrm>
                    <a:off x="5297760" y="4819680"/>
                    <a:ext cx="194760" cy="5112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51120"/>
                      <a:gd name="textAreaBottom" fmla="*/ 51480 h 5112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8" name="Freeform 818"/>
                  <p:cNvSpPr/>
                  <p:nvPr/>
                </p:nvSpPr>
                <p:spPr>
                  <a:xfrm>
                    <a:off x="5101200" y="476676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1" h="43">
                        <a:moveTo>
                          <a:pt x="0" y="21"/>
                        </a:moveTo>
                        <a:lnTo>
                          <a:pt x="81" y="0"/>
                        </a:lnTo>
                        <a:lnTo>
                          <a:pt x="161" y="21"/>
                        </a:lnTo>
                        <a:lnTo>
                          <a:pt x="81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839" name="Group 819"/>
                <p:cNvGrpSpPr/>
                <p:nvPr/>
              </p:nvGrpSpPr>
              <p:grpSpPr>
                <a:xfrm>
                  <a:off x="6065280" y="4868640"/>
                  <a:ext cx="587880" cy="159840"/>
                  <a:chOff x="6065280" y="4868640"/>
                  <a:chExt cx="587880" cy="159840"/>
                </a:xfrm>
              </p:grpSpPr>
              <p:sp>
                <p:nvSpPr>
                  <p:cNvPr id="840" name="Freeform 820"/>
                  <p:cNvSpPr/>
                  <p:nvPr/>
                </p:nvSpPr>
                <p:spPr>
                  <a:xfrm flipH="1">
                    <a:off x="6064920" y="4974480"/>
                    <a:ext cx="194760" cy="54000"/>
                  </a:xfrm>
                  <a:custGeom>
                    <a:avLst/>
                    <a:gdLst>
                      <a:gd name="textAreaLeft" fmla="*/ -360 w 194760"/>
                      <a:gd name="textAreaRight" fmla="*/ 194760 w 1947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41" name="Freeform 821"/>
                  <p:cNvSpPr/>
                  <p:nvPr/>
                </p:nvSpPr>
                <p:spPr>
                  <a:xfrm flipH="1">
                    <a:off x="6260040" y="492156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42" name="Freeform 822"/>
                  <p:cNvSpPr/>
                  <p:nvPr/>
                </p:nvSpPr>
                <p:spPr>
                  <a:xfrm flipH="1">
                    <a:off x="6456600" y="486864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sp>
            <p:nvSpPr>
              <p:cNvPr id="843" name="Freeform 823"/>
              <p:cNvSpPr/>
              <p:nvPr/>
            </p:nvSpPr>
            <p:spPr>
              <a:xfrm>
                <a:off x="6629760" y="4810320"/>
                <a:ext cx="238320" cy="648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344" h="361">
                    <a:moveTo>
                      <a:pt x="0" y="120"/>
                    </a:moveTo>
                    <a:lnTo>
                      <a:pt x="1344" y="0"/>
                    </a:lnTo>
                    <a:lnTo>
                      <a:pt x="898" y="361"/>
                    </a:lnTo>
                    <a:lnTo>
                      <a:pt x="0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"/>
          <p:cNvSpPr/>
          <p:nvPr/>
        </p:nvSpPr>
        <p:spPr>
          <a:xfrm>
            <a:off x="395640" y="1220760"/>
            <a:ext cx="8287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4"/>
          <p:cNvSpPr/>
          <p:nvPr/>
        </p:nvSpPr>
        <p:spPr>
          <a:xfrm>
            <a:off x="4751280" y="3820680"/>
            <a:ext cx="208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8"/>
          <p:cNvSpPr/>
          <p:nvPr/>
        </p:nvSpPr>
        <p:spPr>
          <a:xfrm>
            <a:off x="4549680" y="2502360"/>
            <a:ext cx="249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9"/>
          <p:cNvSpPr/>
          <p:nvPr/>
        </p:nvSpPr>
        <p:spPr>
          <a:xfrm>
            <a:off x="4714560" y="316152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10"/>
          <p:cNvSpPr/>
          <p:nvPr/>
        </p:nvSpPr>
        <p:spPr>
          <a:xfrm>
            <a:off x="4363920" y="4479840"/>
            <a:ext cx="286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左大括号 11"/>
          <p:cNvSpPr/>
          <p:nvPr/>
        </p:nvSpPr>
        <p:spPr>
          <a:xfrm>
            <a:off x="4134960" y="2683080"/>
            <a:ext cx="443520" cy="2198880"/>
          </a:xfrm>
          <a:prstGeom prst="leftBrace">
            <a:avLst>
              <a:gd name="adj1" fmla="val 64575"/>
              <a:gd name="adj2" fmla="val 50000"/>
            </a:avLst>
          </a:prstGeom>
          <a:noFill/>
          <a:ln>
            <a:solidFill>
              <a:srgbClr val="b5dcde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50" name="TextBox 15"/>
          <p:cNvSpPr/>
          <p:nvPr/>
        </p:nvSpPr>
        <p:spPr>
          <a:xfrm>
            <a:off x="1617120" y="347472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ln>
                  <a:solidFill>
                    <a:srgbClr val="ffc000"/>
                  </a:solidFill>
                </a:ln>
                <a:solidFill>
                  <a:srgbClr val="ffffff"/>
                </a:solidFill>
                <a:latin typeface="华文琥珀"/>
                <a:ea typeface="华文琥珀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新月形 17"/>
          <p:cNvSpPr/>
          <p:nvPr/>
        </p:nvSpPr>
        <p:spPr>
          <a:xfrm flipH="1" rot="10800000">
            <a:off x="2843640" y="1062360"/>
            <a:ext cx="340920" cy="778680"/>
          </a:xfrm>
          <a:prstGeom prst="moon">
            <a:avLst>
              <a:gd name="adj" fmla="val 87500"/>
            </a:avLst>
          </a:prstGeom>
          <a:gradFill rotWithShape="0">
            <a:gsLst>
              <a:gs pos="0">
                <a:srgbClr val="ddebcf">
                  <a:alpha val="0"/>
                </a:srgbClr>
              </a:gs>
              <a:gs pos="100000">
                <a:srgbClr val="d9d9d9">
                  <a:alpha val="43137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852" name="新月形 18"/>
          <p:cNvSpPr/>
          <p:nvPr/>
        </p:nvSpPr>
        <p:spPr>
          <a:xfrm rot="10800000">
            <a:off x="5940360" y="1062360"/>
            <a:ext cx="306360" cy="778680"/>
          </a:xfrm>
          <a:prstGeom prst="moon">
            <a:avLst>
              <a:gd name="adj" fmla="val 87500"/>
            </a:avLst>
          </a:prstGeom>
          <a:gradFill rotWithShape="0">
            <a:gsLst>
              <a:gs pos="0">
                <a:srgbClr val="ddebcf">
                  <a:alpha val="0"/>
                </a:srgbClr>
              </a:gs>
              <a:gs pos="100000">
                <a:srgbClr val="d9d9d9">
                  <a:alpha val="43137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圆角矩形 1"/>
          <p:cNvSpPr/>
          <p:nvPr/>
        </p:nvSpPr>
        <p:spPr>
          <a:xfrm>
            <a:off x="0" y="1693800"/>
            <a:ext cx="9143640" cy="108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fcff">
                  <a:alpha val="56078"/>
                </a:srgbClr>
              </a:gs>
              <a:gs pos="100000">
                <a:srgbClr val="808080">
                  <a:alpha val="52156"/>
                </a:srgbClr>
              </a:gs>
            </a:gsLst>
            <a:lin ang="16200000"/>
          </a:gradFill>
          <a:ln>
            <a:solidFill>
              <a:srgbClr val="d5e7e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  <a:ea typeface="宋体"/>
            </a:endParaRPr>
          </a:p>
        </p:txBody>
      </p:sp>
      <p:pic>
        <p:nvPicPr>
          <p:cNvPr id="854" name="Picture 7" descr="anniu副本"/>
          <p:cNvPicPr/>
          <p:nvPr/>
        </p:nvPicPr>
        <p:blipFill>
          <a:blip r:embed="rId1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5"/>
          <p:cNvSpPr/>
          <p:nvPr/>
        </p:nvSpPr>
        <p:spPr>
          <a:xfrm>
            <a:off x="1152000" y="1988640"/>
            <a:ext cx="80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"/>
          <p:cNvPicPr/>
          <p:nvPr/>
        </p:nvPicPr>
        <p:blipFill>
          <a:blip r:embed="rId2"/>
          <a:stretch/>
        </p:blipFill>
        <p:spPr>
          <a:xfrm>
            <a:off x="0" y="1633680"/>
            <a:ext cx="1177560" cy="11775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" descr="dn"/>
          <p:cNvPicPr/>
          <p:nvPr/>
        </p:nvPicPr>
        <p:blipFill>
          <a:blip r:embed="rId3"/>
          <a:stretch/>
        </p:blipFill>
        <p:spPr>
          <a:xfrm>
            <a:off x="2224800" y="2785680"/>
            <a:ext cx="4694040" cy="37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  <Words>191</Words>
  <Paragraphs>48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4:51:05Z</dcterms:created>
  <dc:creator>雨林木风</dc:creator>
  <dc:description/>
  <dc:language>en-US</dc:language>
  <cp:lastModifiedBy>a</cp:lastModifiedBy>
  <dcterms:modified xsi:type="dcterms:W3CDTF">2015-07-25T01:49:44Z</dcterms:modified>
  <cp:revision>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3</vt:r8>
  </property>
</Properties>
</file>