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3C52B7-EAFD-4318-BC0B-F99358AEC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9F4B6A-94B4-46C5-B0F2-A14B011465E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40C3-1C48-4D01-B4AE-AECAF2F6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E8E-F143-49C7-838D-BE283E3B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B554-352D-411F-AEE6-D9E8450C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D58-1149-41CF-9A3C-92E7363C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8DB-9D2A-4D18-86EB-8CCA24A8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219-C3FB-42A6-A9D7-3276A6E3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7801-0D84-4FBA-93A3-C3D4D858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B05-8E66-4180-989B-C98C760B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52A-0818-4EE3-9F9D-E4C0CE02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BF88-B991-414C-BDF0-FE659030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33C-32AE-47CE-B159-566D2E1E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201A-42DE-4D90-A9BC-9B966AC6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7AA8B9-D160-4890-90E5-3F36A5FB4C7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椭圆 3"/>
          <p:cNvSpPr/>
          <p:nvPr/>
        </p:nvSpPr>
        <p:spPr>
          <a:xfrm>
            <a:off x="-3456720" y="2889000"/>
            <a:ext cx="15625440" cy="8685360"/>
          </a:xfrm>
          <a:prstGeom prst="ellipse">
            <a:avLst/>
          </a:prstGeom>
          <a:gradFill rotWithShape="0">
            <a:gsLst>
              <a:gs pos="0">
                <a:srgbClr val="4aafe6"/>
              </a:gs>
              <a:gs pos="100000">
                <a:srgbClr val="4aafe6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8" name="Picture 1" descr="C:\Users\崔勇\AppData\Roaming\Tencent\Users\524831966\QQ\WinTemp\RichOle\E{)%U4Q4EZQY$IK~C@`[AWL.jpg"/>
          <p:cNvPicPr/>
          <p:nvPr/>
        </p:nvPicPr>
        <p:blipFill>
          <a:blip r:embed="rId1"/>
          <a:srcRect l="54092" t="49670" r="36910" b="19676"/>
          <a:stretch/>
        </p:blipFill>
        <p:spPr>
          <a:xfrm>
            <a:off x="9669600" y="884520"/>
            <a:ext cx="221040" cy="288360"/>
          </a:xfrm>
          <a:prstGeom prst="rect">
            <a:avLst/>
          </a:prstGeom>
          <a:ln w="0">
            <a:noFill/>
          </a:ln>
        </p:spPr>
      </p:pic>
      <p:sp>
        <p:nvSpPr>
          <p:cNvPr id="49" name="椭圆 1"/>
          <p:cNvSpPr/>
          <p:nvPr/>
        </p:nvSpPr>
        <p:spPr>
          <a:xfrm flipH="1">
            <a:off x="2245680" y="-352800"/>
            <a:ext cx="316440" cy="423720"/>
          </a:xfrm>
          <a:prstGeom prst="ellipse">
            <a:avLst/>
          </a:prstGeom>
          <a:gradFill rotWithShape="0">
            <a:gsLst>
              <a:gs pos="0">
                <a:srgbClr val="d6100b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椭圆 2"/>
          <p:cNvSpPr/>
          <p:nvPr/>
        </p:nvSpPr>
        <p:spPr>
          <a:xfrm flipH="1">
            <a:off x="3259440" y="-432000"/>
            <a:ext cx="264240" cy="373320"/>
          </a:xfrm>
          <a:prstGeom prst="ellipse">
            <a:avLst/>
          </a:prstGeom>
          <a:gradFill rotWithShape="0">
            <a:gsLst>
              <a:gs pos="0">
                <a:srgbClr val="00b050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椭圆 14"/>
          <p:cNvSpPr/>
          <p:nvPr/>
        </p:nvSpPr>
        <p:spPr>
          <a:xfrm flipH="1">
            <a:off x="3983400" y="-603000"/>
            <a:ext cx="149760" cy="205920"/>
          </a:xfrm>
          <a:prstGeom prst="ellipse">
            <a:avLst/>
          </a:prstGeom>
          <a:gradFill rotWithShape="0">
            <a:gsLst>
              <a:gs pos="0">
                <a:srgbClr val="9ec218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椭圆 8"/>
          <p:cNvSpPr/>
          <p:nvPr/>
        </p:nvSpPr>
        <p:spPr>
          <a:xfrm flipH="1">
            <a:off x="5658120" y="-318960"/>
            <a:ext cx="99720" cy="140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椭圆 19"/>
          <p:cNvSpPr/>
          <p:nvPr/>
        </p:nvSpPr>
        <p:spPr>
          <a:xfrm flipH="1">
            <a:off x="6820560" y="-569520"/>
            <a:ext cx="134280" cy="19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椭圆 20"/>
          <p:cNvSpPr/>
          <p:nvPr/>
        </p:nvSpPr>
        <p:spPr>
          <a:xfrm flipH="1">
            <a:off x="1085760" y="-497880"/>
            <a:ext cx="5616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1160" bIns="11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椭圆 21"/>
          <p:cNvSpPr/>
          <p:nvPr/>
        </p:nvSpPr>
        <p:spPr>
          <a:xfrm flipH="1">
            <a:off x="4643640" y="-454680"/>
            <a:ext cx="5616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1160" bIns="11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椭圆 22"/>
          <p:cNvSpPr/>
          <p:nvPr/>
        </p:nvSpPr>
        <p:spPr>
          <a:xfrm flipH="1">
            <a:off x="1902960" y="-368640"/>
            <a:ext cx="132120" cy="18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椭圆 23"/>
          <p:cNvSpPr/>
          <p:nvPr/>
        </p:nvSpPr>
        <p:spPr>
          <a:xfrm flipH="1">
            <a:off x="6054120" y="-135720"/>
            <a:ext cx="5616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1160" bIns="11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椭圆 24"/>
          <p:cNvSpPr/>
          <p:nvPr/>
        </p:nvSpPr>
        <p:spPr>
          <a:xfrm flipH="1">
            <a:off x="3822120" y="-200160"/>
            <a:ext cx="5616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1160" bIns="11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椭圆 25"/>
          <p:cNvSpPr/>
          <p:nvPr/>
        </p:nvSpPr>
        <p:spPr>
          <a:xfrm flipH="1">
            <a:off x="7854480" y="-252360"/>
            <a:ext cx="5616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1160" bIns="11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椭圆 26"/>
          <p:cNvSpPr/>
          <p:nvPr/>
        </p:nvSpPr>
        <p:spPr>
          <a:xfrm flipH="1">
            <a:off x="5385600" y="-424440"/>
            <a:ext cx="120600" cy="165600"/>
          </a:xfrm>
          <a:prstGeom prst="ellipse">
            <a:avLst/>
          </a:prstGeom>
          <a:gradFill rotWithShape="0">
            <a:gsLst>
              <a:gs pos="0">
                <a:srgbClr val="9ec218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椭圆 27"/>
          <p:cNvSpPr/>
          <p:nvPr/>
        </p:nvSpPr>
        <p:spPr>
          <a:xfrm flipH="1">
            <a:off x="7637040" y="-495360"/>
            <a:ext cx="99720" cy="136800"/>
          </a:xfrm>
          <a:prstGeom prst="ellipse">
            <a:avLst/>
          </a:prstGeom>
          <a:gradFill rotWithShape="0">
            <a:gsLst>
              <a:gs pos="0">
                <a:srgbClr val="9ec218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椭圆 28"/>
          <p:cNvSpPr/>
          <p:nvPr/>
        </p:nvSpPr>
        <p:spPr>
          <a:xfrm flipH="1">
            <a:off x="1962000" y="-555840"/>
            <a:ext cx="168840" cy="232200"/>
          </a:xfrm>
          <a:prstGeom prst="ellipse">
            <a:avLst/>
          </a:prstGeom>
          <a:gradFill rotWithShape="0">
            <a:gsLst>
              <a:gs pos="0">
                <a:srgbClr val="9ec218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椭圆 29"/>
          <p:cNvSpPr/>
          <p:nvPr/>
        </p:nvSpPr>
        <p:spPr>
          <a:xfrm flipH="1">
            <a:off x="6336720" y="-419040"/>
            <a:ext cx="160200" cy="219960"/>
          </a:xfrm>
          <a:prstGeom prst="ellipse">
            <a:avLst/>
          </a:prstGeom>
          <a:gradFill rotWithShape="0">
            <a:gsLst>
              <a:gs pos="0">
                <a:srgbClr val="9ec218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椭圆 30"/>
          <p:cNvSpPr/>
          <p:nvPr/>
        </p:nvSpPr>
        <p:spPr>
          <a:xfrm flipH="1">
            <a:off x="2525760" y="-481320"/>
            <a:ext cx="124920" cy="176760"/>
          </a:xfrm>
          <a:prstGeom prst="ellipse">
            <a:avLst/>
          </a:prstGeom>
          <a:gradFill rotWithShape="0">
            <a:gsLst>
              <a:gs pos="0">
                <a:srgbClr val="00b050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椭圆 31"/>
          <p:cNvSpPr/>
          <p:nvPr/>
        </p:nvSpPr>
        <p:spPr>
          <a:xfrm flipH="1">
            <a:off x="912960" y="-588600"/>
            <a:ext cx="105840" cy="149760"/>
          </a:xfrm>
          <a:prstGeom prst="ellipse">
            <a:avLst/>
          </a:prstGeom>
          <a:gradFill rotWithShape="0">
            <a:gsLst>
              <a:gs pos="0">
                <a:srgbClr val="00b050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椭圆 32"/>
          <p:cNvSpPr/>
          <p:nvPr/>
        </p:nvSpPr>
        <p:spPr>
          <a:xfrm flipH="1">
            <a:off x="8305560" y="-542520"/>
            <a:ext cx="178560" cy="252360"/>
          </a:xfrm>
          <a:prstGeom prst="ellipse">
            <a:avLst/>
          </a:prstGeom>
          <a:gradFill rotWithShape="0">
            <a:gsLst>
              <a:gs pos="0">
                <a:srgbClr val="00b050">
                  <a:alpha val="68235"/>
                </a:srgbClr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" name="椭圆 33"/>
          <p:cNvSpPr/>
          <p:nvPr/>
        </p:nvSpPr>
        <p:spPr>
          <a:xfrm flipH="1">
            <a:off x="5923080" y="-570240"/>
            <a:ext cx="105480" cy="149040"/>
          </a:xfrm>
          <a:prstGeom prst="ellipse">
            <a:avLst/>
          </a:prstGeom>
          <a:gradFill rotWithShape="0">
            <a:gsLst>
              <a:gs pos="0">
                <a:srgbClr val="00b050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" name="椭圆 34"/>
          <p:cNvSpPr/>
          <p:nvPr/>
        </p:nvSpPr>
        <p:spPr>
          <a:xfrm flipH="1">
            <a:off x="4371840" y="-331200"/>
            <a:ext cx="131040" cy="185040"/>
          </a:xfrm>
          <a:prstGeom prst="ellipse">
            <a:avLst/>
          </a:prstGeom>
          <a:gradFill rotWithShape="0">
            <a:gsLst>
              <a:gs pos="0">
                <a:srgbClr val="00b050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" name="椭圆 35"/>
          <p:cNvSpPr/>
          <p:nvPr/>
        </p:nvSpPr>
        <p:spPr>
          <a:xfrm>
            <a:off x="4166640" y="-593640"/>
            <a:ext cx="169200" cy="239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" name="椭圆 36"/>
          <p:cNvSpPr/>
          <p:nvPr/>
        </p:nvSpPr>
        <p:spPr>
          <a:xfrm flipH="1">
            <a:off x="6471720" y="-526320"/>
            <a:ext cx="99720" cy="140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" name="椭圆 37"/>
          <p:cNvSpPr/>
          <p:nvPr/>
        </p:nvSpPr>
        <p:spPr>
          <a:xfrm flipH="1">
            <a:off x="1584360" y="-790560"/>
            <a:ext cx="219600" cy="310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椭圆 38"/>
          <p:cNvSpPr/>
          <p:nvPr/>
        </p:nvSpPr>
        <p:spPr>
          <a:xfrm flipH="1">
            <a:off x="3075480" y="-567720"/>
            <a:ext cx="128880" cy="18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椭圆 39"/>
          <p:cNvSpPr/>
          <p:nvPr/>
        </p:nvSpPr>
        <p:spPr>
          <a:xfrm flipH="1">
            <a:off x="7137360" y="-348120"/>
            <a:ext cx="176760" cy="25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椭圆 40"/>
          <p:cNvSpPr/>
          <p:nvPr/>
        </p:nvSpPr>
        <p:spPr>
          <a:xfrm flipH="1">
            <a:off x="4946400" y="-813600"/>
            <a:ext cx="299160" cy="400680"/>
          </a:xfrm>
          <a:prstGeom prst="ellipse">
            <a:avLst/>
          </a:prstGeom>
          <a:gradFill rotWithShape="0">
            <a:gsLst>
              <a:gs pos="0">
                <a:srgbClr val="d6100b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椭圆 41"/>
          <p:cNvSpPr/>
          <p:nvPr/>
        </p:nvSpPr>
        <p:spPr>
          <a:xfrm flipH="1">
            <a:off x="3169800" y="-763200"/>
            <a:ext cx="284400" cy="380880"/>
          </a:xfrm>
          <a:prstGeom prst="ellipse">
            <a:avLst/>
          </a:prstGeom>
          <a:gradFill rotWithShape="0">
            <a:gsLst>
              <a:gs pos="0">
                <a:srgbClr val="d6100b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椭圆 42"/>
          <p:cNvSpPr/>
          <p:nvPr/>
        </p:nvSpPr>
        <p:spPr>
          <a:xfrm flipH="1">
            <a:off x="8366400" y="-728640"/>
            <a:ext cx="352800" cy="472320"/>
          </a:xfrm>
          <a:prstGeom prst="ellipse">
            <a:avLst/>
          </a:prstGeom>
          <a:gradFill rotWithShape="0">
            <a:gsLst>
              <a:gs pos="0">
                <a:srgbClr val="d6100b">
                  <a:alpha val="37254"/>
                </a:srgbClr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" name="椭圆 43"/>
          <p:cNvSpPr/>
          <p:nvPr/>
        </p:nvSpPr>
        <p:spPr>
          <a:xfrm flipH="1">
            <a:off x="6832800" y="-716040"/>
            <a:ext cx="315720" cy="422640"/>
          </a:xfrm>
          <a:prstGeom prst="ellipse">
            <a:avLst/>
          </a:prstGeom>
          <a:gradFill rotWithShape="0">
            <a:gsLst>
              <a:gs pos="0">
                <a:srgbClr val="d6100b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椭圆 44"/>
          <p:cNvSpPr/>
          <p:nvPr/>
        </p:nvSpPr>
        <p:spPr>
          <a:xfrm flipH="1">
            <a:off x="520920" y="-392760"/>
            <a:ext cx="263160" cy="352080"/>
          </a:xfrm>
          <a:prstGeom prst="ellipse">
            <a:avLst/>
          </a:prstGeom>
          <a:gradFill rotWithShape="0">
            <a:gsLst>
              <a:gs pos="0">
                <a:srgbClr val="d6100b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" name="椭圆 15"/>
          <p:cNvSpPr/>
          <p:nvPr/>
        </p:nvSpPr>
        <p:spPr>
          <a:xfrm flipH="1">
            <a:off x="416520" y="-1121400"/>
            <a:ext cx="220680" cy="283320"/>
          </a:xfrm>
          <a:prstGeom prst="ellipse">
            <a:avLst/>
          </a:prstGeom>
          <a:gradFill rotWithShape="0">
            <a:gsLst>
              <a:gs pos="0">
                <a:srgbClr val="eca628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" name="椭圆 50"/>
          <p:cNvSpPr/>
          <p:nvPr/>
        </p:nvSpPr>
        <p:spPr>
          <a:xfrm flipH="1">
            <a:off x="1707120" y="-982800"/>
            <a:ext cx="122760" cy="157680"/>
          </a:xfrm>
          <a:prstGeom prst="ellipse">
            <a:avLst/>
          </a:prstGeom>
          <a:gradFill rotWithShape="0">
            <a:gsLst>
              <a:gs pos="0">
                <a:srgbClr val="eca628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椭圆 51"/>
          <p:cNvSpPr/>
          <p:nvPr/>
        </p:nvSpPr>
        <p:spPr>
          <a:xfrm flipH="1">
            <a:off x="7627320" y="-1009080"/>
            <a:ext cx="245160" cy="314640"/>
          </a:xfrm>
          <a:prstGeom prst="ellipse">
            <a:avLst/>
          </a:prstGeom>
          <a:gradFill rotWithShape="0">
            <a:gsLst>
              <a:gs pos="0">
                <a:srgbClr val="eca628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椭圆 52"/>
          <p:cNvSpPr/>
          <p:nvPr/>
        </p:nvSpPr>
        <p:spPr>
          <a:xfrm flipH="1">
            <a:off x="3424320" y="-1063440"/>
            <a:ext cx="250200" cy="321120"/>
          </a:xfrm>
          <a:prstGeom prst="ellipse">
            <a:avLst/>
          </a:prstGeom>
          <a:gradFill rotWithShape="0">
            <a:gsLst>
              <a:gs pos="0">
                <a:srgbClr val="eca628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椭圆 53"/>
          <p:cNvSpPr/>
          <p:nvPr/>
        </p:nvSpPr>
        <p:spPr>
          <a:xfrm flipH="1">
            <a:off x="5023800" y="-973800"/>
            <a:ext cx="211680" cy="271440"/>
          </a:xfrm>
          <a:prstGeom prst="ellipse">
            <a:avLst/>
          </a:prstGeom>
          <a:gradFill rotWithShape="0">
            <a:gsLst>
              <a:gs pos="0">
                <a:srgbClr val="eca628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图片 57"/>
          <p:cNvSpPr/>
          <p:nvPr/>
        </p:nvSpPr>
        <p:spPr>
          <a:xfrm>
            <a:off x="9540720" y="-1304640"/>
            <a:ext cx="2664360" cy="1761840"/>
          </a:xfrm>
          <a:prstGeom prst="roundRect">
            <a:avLst>
              <a:gd name="adj" fmla="val 4167"/>
            </a:avLst>
          </a:prstGeom>
          <a:blipFill rotWithShape="0">
            <a:blip r:embed="rId2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中文文本1"/>
          <p:cNvSpPr/>
          <p:nvPr/>
        </p:nvSpPr>
        <p:spPr>
          <a:xfrm>
            <a:off x="-3456720" y="1120320"/>
            <a:ext cx="345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同的青春，用军训的汗水记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英文文本1"/>
          <p:cNvSpPr/>
          <p:nvPr/>
        </p:nvSpPr>
        <p:spPr>
          <a:xfrm>
            <a:off x="9113400" y="682200"/>
            <a:ext cx="5240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m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outh, common splendid sp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英文文本2"/>
          <p:cNvSpPr/>
          <p:nvPr/>
        </p:nvSpPr>
        <p:spPr>
          <a:xfrm>
            <a:off x="9035640" y="670680"/>
            <a:ext cx="5329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mile hug, flashing the whole sum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英文文本3"/>
          <p:cNvSpPr/>
          <p:nvPr/>
        </p:nvSpPr>
        <p:spPr>
          <a:xfrm>
            <a:off x="9233640" y="670680"/>
            <a:ext cx="4529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nk quietly, yellow dye the autum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英文文本4"/>
          <p:cNvSpPr/>
          <p:nvPr/>
        </p:nvSpPr>
        <p:spPr>
          <a:xfrm>
            <a:off x="9144000" y="656640"/>
            <a:ext cx="506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alk alone, roaming the winter of si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中文文本4"/>
          <p:cNvSpPr/>
          <p:nvPr/>
        </p:nvSpPr>
        <p:spPr>
          <a:xfrm>
            <a:off x="-3384720" y="1124640"/>
            <a:ext cx="338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自的行走，徜徉过金色的岁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中文文本3"/>
          <p:cNvSpPr/>
          <p:nvPr/>
        </p:nvSpPr>
        <p:spPr>
          <a:xfrm>
            <a:off x="-3384360" y="1120320"/>
            <a:ext cx="33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静静地思考，成为人生的闪耀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中文文本2"/>
          <p:cNvSpPr/>
          <p:nvPr/>
        </p:nvSpPr>
        <p:spPr>
          <a:xfrm>
            <a:off x="-3529080" y="1120320"/>
            <a:ext cx="352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笑地拥抱，闪耀了这完美季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icture 4"/>
          <p:cNvSpPr/>
          <p:nvPr/>
        </p:nvSpPr>
        <p:spPr>
          <a:xfrm>
            <a:off x="7124760" y="3855600"/>
            <a:ext cx="1910520" cy="1432800"/>
          </a:xfrm>
          <a:prstGeom prst="roundRect">
            <a:avLst>
              <a:gd name="adj" fmla="val 4167"/>
            </a:avLst>
          </a:prstGeom>
          <a:blipFill rotWithShape="0">
            <a:blip r:embed="rId3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图片 65"/>
          <p:cNvSpPr/>
          <p:nvPr/>
        </p:nvSpPr>
        <p:spPr>
          <a:xfrm>
            <a:off x="5636160" y="2795040"/>
            <a:ext cx="1652040" cy="1238760"/>
          </a:xfrm>
          <a:prstGeom prst="roundRect">
            <a:avLst>
              <a:gd name="adj" fmla="val 4167"/>
            </a:avLst>
          </a:prstGeom>
          <a:blipFill rotWithShape="0">
            <a:blip r:embed="rId4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icture 4"/>
          <p:cNvSpPr/>
          <p:nvPr/>
        </p:nvSpPr>
        <p:spPr>
          <a:xfrm>
            <a:off x="3796920" y="2593080"/>
            <a:ext cx="1650960" cy="1238040"/>
          </a:xfrm>
          <a:prstGeom prst="roundRect">
            <a:avLst>
              <a:gd name="adj" fmla="val 4167"/>
            </a:avLst>
          </a:prstGeom>
          <a:blipFill rotWithShape="0">
            <a:blip r:embed="rId5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图片 67"/>
          <p:cNvSpPr/>
          <p:nvPr/>
        </p:nvSpPr>
        <p:spPr>
          <a:xfrm>
            <a:off x="2010240" y="2797200"/>
            <a:ext cx="1649160" cy="1236960"/>
          </a:xfrm>
          <a:prstGeom prst="roundRect">
            <a:avLst>
              <a:gd name="adj" fmla="val 4167"/>
            </a:avLst>
          </a:prstGeom>
          <a:blipFill rotWithShape="0">
            <a:blip r:embed="rId6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icture 3"/>
          <p:cNvSpPr/>
          <p:nvPr/>
        </p:nvSpPr>
        <p:spPr>
          <a:xfrm>
            <a:off x="138240" y="3808440"/>
            <a:ext cx="1871640" cy="1237680"/>
          </a:xfrm>
          <a:prstGeom prst="roundRect">
            <a:avLst>
              <a:gd name="adj" fmla="val 4167"/>
            </a:avLst>
          </a:prstGeom>
          <a:blipFill rotWithShape="0">
            <a:blip r:embed="rId7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图片 69"/>
          <p:cNvSpPr/>
          <p:nvPr/>
        </p:nvSpPr>
        <p:spPr>
          <a:xfrm>
            <a:off x="2020680" y="4988520"/>
            <a:ext cx="1525320" cy="1008720"/>
          </a:xfrm>
          <a:prstGeom prst="roundRect">
            <a:avLst>
              <a:gd name="adj" fmla="val 4167"/>
            </a:avLst>
          </a:prstGeom>
          <a:blipFill rotWithShape="0">
            <a:blip r:embed="rId8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图片 70"/>
          <p:cNvSpPr/>
          <p:nvPr/>
        </p:nvSpPr>
        <p:spPr>
          <a:xfrm>
            <a:off x="3684960" y="5040360"/>
            <a:ext cx="1874520" cy="1239480"/>
          </a:xfrm>
          <a:prstGeom prst="roundRect">
            <a:avLst>
              <a:gd name="adj" fmla="val 4167"/>
            </a:avLst>
          </a:prstGeom>
          <a:blipFill rotWithShape="0">
            <a:blip r:embed="rId9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icture 3"/>
          <p:cNvSpPr/>
          <p:nvPr/>
        </p:nvSpPr>
        <p:spPr>
          <a:xfrm>
            <a:off x="5636160" y="4811400"/>
            <a:ext cx="1652040" cy="1238760"/>
          </a:xfrm>
          <a:prstGeom prst="roundRect">
            <a:avLst>
              <a:gd name="adj" fmla="val 4167"/>
            </a:avLst>
          </a:prstGeom>
          <a:blipFill rotWithShape="0">
            <a:blip r:embed="rId10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图片 72"/>
          <p:cNvSpPr/>
          <p:nvPr/>
        </p:nvSpPr>
        <p:spPr>
          <a:xfrm>
            <a:off x="3312360" y="3377520"/>
            <a:ext cx="2661480" cy="1759680"/>
          </a:xfrm>
          <a:prstGeom prst="roundRect">
            <a:avLst>
              <a:gd name="adj" fmla="val 4167"/>
            </a:avLst>
          </a:prstGeom>
          <a:blipFill rotWithShape="0">
            <a:blip r:embed="rId11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图片 73"/>
          <p:cNvSpPr/>
          <p:nvPr/>
        </p:nvSpPr>
        <p:spPr>
          <a:xfrm>
            <a:off x="3311280" y="3376800"/>
            <a:ext cx="2664000" cy="1761480"/>
          </a:xfrm>
          <a:prstGeom prst="roundRect">
            <a:avLst>
              <a:gd name="adj" fmla="val 4167"/>
            </a:avLst>
          </a:prstGeom>
          <a:blipFill rotWithShape="0">
            <a:blip r:embed="rId12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图片 74"/>
          <p:cNvSpPr/>
          <p:nvPr/>
        </p:nvSpPr>
        <p:spPr>
          <a:xfrm>
            <a:off x="3558600" y="3540240"/>
            <a:ext cx="2169000" cy="1434240"/>
          </a:xfrm>
          <a:prstGeom prst="roundRect">
            <a:avLst>
              <a:gd name="adj" fmla="val 4167"/>
            </a:avLst>
          </a:prstGeom>
          <a:blipFill rotWithShape="0">
            <a:blip r:embed="rId13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icture 3"/>
          <p:cNvSpPr/>
          <p:nvPr/>
        </p:nvSpPr>
        <p:spPr>
          <a:xfrm>
            <a:off x="3311280" y="3376800"/>
            <a:ext cx="2664000" cy="1761480"/>
          </a:xfrm>
          <a:prstGeom prst="roundRect">
            <a:avLst>
              <a:gd name="adj" fmla="val 4167"/>
            </a:avLst>
          </a:prstGeom>
          <a:blipFill rotWithShape="0">
            <a:blip r:embed="rId14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icture 4"/>
          <p:cNvSpPr/>
          <p:nvPr/>
        </p:nvSpPr>
        <p:spPr>
          <a:xfrm>
            <a:off x="3711240" y="2847600"/>
            <a:ext cx="1864440" cy="2819520"/>
          </a:xfrm>
          <a:prstGeom prst="roundRect">
            <a:avLst>
              <a:gd name="adj" fmla="val 4167"/>
            </a:avLst>
          </a:prstGeom>
          <a:blipFill rotWithShape="0">
            <a:blip r:embed="rId15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icture 3"/>
          <p:cNvSpPr/>
          <p:nvPr/>
        </p:nvSpPr>
        <p:spPr>
          <a:xfrm>
            <a:off x="3312360" y="3377520"/>
            <a:ext cx="2661480" cy="1759680"/>
          </a:xfrm>
          <a:prstGeom prst="roundRect">
            <a:avLst>
              <a:gd name="adj" fmla="val 4167"/>
            </a:avLst>
          </a:prstGeom>
          <a:blipFill rotWithShape="0">
            <a:blip r:embed="rId16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icture 4"/>
          <p:cNvSpPr/>
          <p:nvPr/>
        </p:nvSpPr>
        <p:spPr>
          <a:xfrm>
            <a:off x="3311280" y="3376800"/>
            <a:ext cx="2664000" cy="1761480"/>
          </a:xfrm>
          <a:prstGeom prst="roundRect">
            <a:avLst>
              <a:gd name="adj" fmla="val 4167"/>
            </a:avLst>
          </a:prstGeom>
          <a:blipFill rotWithShape="0">
            <a:blip r:embed="rId17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"/>
          <p:cNvSpPr/>
          <p:nvPr/>
        </p:nvSpPr>
        <p:spPr>
          <a:xfrm>
            <a:off x="2155320" y="358920"/>
            <a:ext cx="501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创意展示动态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77778E-006 4.62428E-006 L -0.63785 0.6756 E">
                                      <p:cBhvr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 repeatCount="indefinite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.0007 4.79769E-006 L 0.00174 0.52231 E">
                                      <p:cBhvr>
                                        <p:cTn id="1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42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0007 8.09249E-007 L 0.01233 0.90196 E">
                                      <p:cBhvr>
                                        <p:cTn id="1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2" repeatCount="indefinite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.00069 8.09249E-007 L 0.00416 0.92277 E">
                                      <p:cBhvr>
                                        <p:cTn id="2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 repeatCount="indefinite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.00069 8.09249E-007 L 0.00243 0.87029 E">
                                      <p:cBhvr>
                                        <p:cTn id="2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 repeatCount="indefinite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00069 -2.48555E-006 L 0.00191 0.60486 E">
                                      <p:cBhvr>
                                        <p:cTn id="2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972 0.00994 L 0.00972 0.96786 E">
                                      <p:cBhvr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 repeatCount="indefinite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00034 0.0007 L -3.05556E-006 0.7207 E">
                                      <p:cBhvr>
                                        <p:cTn id="2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2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4.72222E-006 -3.06358E-006 L -4.72222E-006 1.01549 E">
                                      <p:cBhvr>
                                        <p:cTn id="3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 repeatCount="indefinite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77778E-007 4.85549E-006 L -2.77778E-007 0.42497 E">
                                      <p:cBhvr>
                                        <p:cTn id="3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 repeatCount="indefinite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3.88889E-006 2.94798E-006 L 3.88889E-006 0.66289 E">
                                      <p:cBhvr>
                                        <p:cTn id="3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2" repeatCount="indefinite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0.00278 4.39306E-006 L -0.00278 0.63583 E">
                                      <p:cBhvr>
                                        <p:cTn id="36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2" repeatCount="indefinite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0.00382 -0.00324 L 0.00209 0.65017 E">
                                      <p:cBhvr>
                                        <p:cTn id="3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 repeatCount="indefinite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2.5E-006 -4.56647E-006 L 2.5E-006 0.63099 E">
                                      <p:cBhvr>
                                        <p:cTn id="4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42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1.11111E-006 -3.81503E-006 L 1.11111E-006 0.6837 E">
                                      <p:cBhvr>
                                        <p:cTn id="4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1.94444E-006 4.73988E-006 L 1.94444E-006 0.63005 E">
                                      <p:cBhvr>
                                        <p:cTn id="4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 repeatCount="indefinite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3.33333E-006 1.15607E-007 L 3.33333E-006 0.67006 E">
                                      <p:cBhvr>
                                        <p:cTn id="4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 repeatCount="indefinite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00521 0.03422 L -0.00695 0.53041 E">
                                      <p:cBhvr>
                                        <p:cTn id="4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42" repeatCount="indefinite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00052 0.00462 L 3.33333E-006 0.67075 E">
                                      <p:cBhvr>
                                        <p:cTn id="5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2" repeatCount="indefinite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2.22222E-006 1.38728E-006 L -2.22222E-006 0.96115 E">
                                      <p:cBhvr>
                                        <p:cTn id="5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 repeatCount="indefinite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16667E-006 -1.38778E-017 L 4.16667E-006 0.93595 E">
                                      <p:cBhvr>
                                        <p:cTn id="5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42" repeatCount="indefinite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2.5E-006 -4.56647E-006 L -2.5E-006 0.99607 E">
                                      <p:cBhvr>
                                        <p:cTn id="56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1.11111E-006 -3.93064E-006 L -1.11111E-006 0.72925 E">
                                      <p:cBhvr>
                                        <p:cTn id="5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42" repeatCount="indefinite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2.77778E-006 2.94798E-006 L 2.77778E-006 0.83075 E">
                                      <p:cBhvr>
                                        <p:cTn id="6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42" repeatCount="indefinite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8.33333E-007 3.87283E-006 L 8.33333E-007 0.53919 E">
                                      <p:cBhvr>
                                        <p:cTn id="62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2" repeatCount="indefinite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2.5E-006 -1.50289E-006 L -2.5E-006 1.04254 E">
                                      <p:cBhvr>
                                        <p:cTn id="64" dur="7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2" repeatCount="indefinite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-0.00053 -1.90751E-006 L -0.00053 0.67653 E">
                                      <p:cBhvr>
                                        <p:cTn id="6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42" repeatCount="indefinite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3.33333E-006 4.45087E-006 L 3.33333E-006 0.73479 E">
                                      <p:cBhvr>
                                        <p:cTn id="6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42" repeatCount="indefinite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1.11111E-006 -4.21965E-006 L 1.11111E-006 0.97041 E">
                                      <p:cBhvr>
                                        <p:cTn id="7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42" repeatCount="indefinite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5.55112E-017 -1.32224E-006 L 5.55112E-017 0.59709 E">
                                      <p:cBhvr>
                                        <p:cTn id="7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42" repeatCount="indefinite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-5.55556E-007 3.46821E-007 L -5.55556E-007 0.45734 E">
                                      <p:cBhvr>
                                        <p:cTn id="74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42" repeatCount="indefinite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-3.88889E-006 -2.89017E-007 L -3.88889E-006 0.64231 E">
                                      <p:cBhvr>
                                        <p:cTn id="7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42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2.5E-006 -1.7341E-007 L -2.5E-006 0.63653 E">
                                      <p:cBhvr>
                                        <p:cTn id="7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42" repeatCount="indefinite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4.72222E-006 -3.2948E-006 L 4.72222E-006 0.82382 E">
                                      <p:cBhvr>
                                        <p:cTn id="8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42" repeatCount="indefinite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1.38889E-006 1.7341E-007 L 1.38889E-006 0.63584 E">
                                      <p:cBhvr>
                                        <p:cTn id="8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0.63785 0.67568 L -0.62205 0.87471 E">
                                      <p:cBhvr>
                                        <p:cTn id="8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by x="72000" y="72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2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8.33333E-007 -2.96296E-006 L -0.97135 -0.0074 E">
                                      <p:cBhvr>
                                        <p:cTn id="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42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2.5E-006 -3.33333E-006 L 0.50782 -0.00463 E">
                                      <p:cBhvr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autoRev="1" nodeType="withEffect" fill="hold" presetClass="path" presetID="42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96354 -0.0074 L -0.94774 -0.0074 E">
                                      <p:cBhvr>
                                        <p:cTn id="9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autoRev="1" nodeType="withEffect" fill="hold" presetClass="path" presetID="42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49202 -0.00463 L 0.47639 -0.00463 E">
                                      <p:cBhvr>
                                        <p:cTn id="9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1.00278 -0.0074 L -1.52257 -0.0074 E">
                                      <p:cBhvr>
                                        <p:cTn id="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53143 -0.00254 L 1.47639 0.00602 E">
                                      <p:cBhvr>
                                        <p:cTn id="1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2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8.33333E-007 -2.96296E-006 L -0.97135 -0.0074 E">
                                      <p:cBhvr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-2.5E-006 -3.33333E-006 L 0.50782 -0.00463 E">
                                      <p:cBhvr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autoRev="1" nodeType="withEffect" fill="hold" presetClass="path" presetID="42">
                                  <p:stCondLst>
                                    <p:cond delay="10300"/>
                                  </p:stCondLst>
                                  <p:childTnLst>
                                    <p:animMotion origin="layout" path="M -0.95278 -0.00578 L -0.94497 -0.00578 E">
                                      <p:cBhvr>
                                        <p:cTn id="10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autoRev="1" nodeType="withEffect" fill="hold" presetClass="path" presetID="42">
                                  <p:stCondLst>
                                    <p:cond delay="10300"/>
                                  </p:stCondLst>
                                  <p:childTnLst>
                                    <p:animMotion origin="layout" path="M 0.49618 -0.00602 L 0.48038 -0.00602 E">
                                      <p:cBhvr>
                                        <p:cTn id="10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2">
                                  <p:stCondLst>
                                    <p:cond delay="14300"/>
                                  </p:stCondLst>
                                  <p:childTnLst>
                                    <p:animMotion origin="layout" path="M -1.00278 -0.0074 L -1.52257 -0.0074 E">
                                      <p:cBhvr>
                                        <p:cTn id="1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14300"/>
                                  </p:stCondLst>
                                  <p:childTnLst>
                                    <p:animMotion origin="layout" path="M 0.53143 -0.00254 L 1.47639 0.00602 E">
                                      <p:cBhvr>
                                        <p:cTn id="1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8.33333E-007 -2.96296E-006 L -0.97135 -0.0074 E">
                                      <p:cBhvr>
                                        <p:cTn id="1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42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2.5E-006 -3.33333E-006 L 0.50782 -0.00463 E">
                                      <p:cBhvr>
                                        <p:cTn id="1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autoRev="1" nodeType="withEffect" fill="hold" presetClass="path" presetID="42">
                                  <p:stCondLst>
                                    <p:cond delay="15500"/>
                                  </p:stCondLst>
                                  <p:childTnLst>
                                    <p:animMotion origin="layout" path="M -0.95278 -0.00578 L -0.94497 -0.00578 E">
                                      <p:cBhvr>
                                        <p:cTn id="118" dur="22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autoRev="1" nodeType="withEffect" fill="hold" presetClass="path" presetID="42">
                                  <p:stCondLst>
                                    <p:cond delay="15500"/>
                                  </p:stCondLst>
                                  <p:childTnLst>
                                    <p:animMotion origin="layout" path="M 0.49618 -0.00602 L 0.48038 -0.00602 E">
                                      <p:cBhvr>
                                        <p:cTn id="120" dur="2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2">
                                  <p:stCondLst>
                                    <p:cond delay="19900"/>
                                  </p:stCondLst>
                                  <p:childTnLst>
                                    <p:animMotion origin="layout" path="M -1.00278 -0.0074 L -1.52257 -0.0074 E">
                                      <p:cBhvr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2">
                                  <p:stCondLst>
                                    <p:cond delay="19900"/>
                                  </p:stCondLst>
                                  <p:childTnLst>
                                    <p:animMotion origin="layout" path="M 0.53143 -0.00254 L 1.47639 0.00602 E">
                                      <p:cBhvr>
                                        <p:cTn id="1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42">
                                  <p:stCondLst>
                                    <p:cond delay="20600"/>
                                  </p:stCondLst>
                                  <p:childTnLst>
                                    <p:animMotion origin="layout" path="M -2.5E-006 -3.33333E-006 L 0.50782 -0.00463 E">
                                      <p:cBhvr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2">
                                  <p:stCondLst>
                                    <p:cond delay="20600"/>
                                  </p:stCondLst>
                                  <p:childTnLst>
                                    <p:animMotion origin="layout" path="M 8.33333E-007 -2.96296E-006 L -0.97135 -0.0074 E">
                                      <p:cBhvr>
                                        <p:cTn id="1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autoRev="1" nodeType="withEffect" fill="hold" presetClass="path" presetID="42">
                                  <p:stCondLst>
                                    <p:cond delay="21100"/>
                                  </p:stCondLst>
                                  <p:childTnLst>
                                    <p:animMotion origin="layout" path="M 0.49618 -0.00602 L 0.48038 -0.00602 E">
                                      <p:cBhvr>
                                        <p:cTn id="130" dur="22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autoRev="1" nodeType="withEffect" fill="hold" presetClass="path" presetID="42">
                                  <p:stCondLst>
                                    <p:cond delay="21100"/>
                                  </p:stCondLst>
                                  <p:childTnLst>
                                    <p:animMotion origin="layout" path="M -0.95278 -0.00578 L -0.94497 -0.00578 E">
                                      <p:cBhvr>
                                        <p:cTn id="132" dur="22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42">
                                  <p:stCondLst>
                                    <p:cond delay="25500"/>
                                  </p:stCondLst>
                                  <p:childTnLst>
                                    <p:animMotion origin="layout" path="M 0.53143 -0.00254 L 1.47639 0.00602 E">
                                      <p:cBhvr>
                                        <p:cTn id="1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42">
                                  <p:stCondLst>
                                    <p:cond delay="25500"/>
                                  </p:stCondLst>
                                  <p:childTnLst>
                                    <p:animMotion origin="layout" path="M -1.00278 -0.0074 L -1.52257 -0.0074 E">
                                      <p:cBhvr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by x="72000" y="72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by x="72000" y="72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 1.04947E-006 L 0.0158 -0.15742 E">
                                      <p:cBhvr>
                                        <p:cTn id="15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by x="72000" y="72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 -0.00231 L -0.37014 0.02566 E">
                                      <p:cBhvr>
                                        <p:cTn id="16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by x="72000" y="72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.40729 0.0289 L 0.00781 -5.54785E-007 E">
                                      <p:cBhvr>
                                        <p:cTn id="1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 1.04947E-006 L 0.22049 0.15719 E">
                                      <p:cBhvr>
                                        <p:cTn id="16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by x="72000" y="72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 -0.00231 L -0.18108 -0.1306 E">
                                      <p:cBhvr>
                                        <p:cTn id="17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by x="72000" y="72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 1.04947E-006 L 0.22049 -0.13639 E">
                                      <p:cBhvr>
                                        <p:cTn id="17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76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by x="72000" y="72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 -0.00231 L -0.18108 0.17337 E">
                                      <p:cBhvr>
                                        <p:cTn id="17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1" repeatCount="indefinite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3.88889E-006 1.09827E-006 C -0.21268 1.09827E-006 -0.38611 -0.08 -0.38611 -0.17896 C -0.38611 -0.27746 -0.21268 -0.35769 -0.00035 -0.35769 C 0.21267 -0.35769 0.38559 -0.27746 0.38559 -0.17896 C 0.38559 -0.08 0.21267 1.09827E-006 3.88889E-006 1.09827E-006 Z">
                                      <p:cBhvr>
                                        <p:cTn id="210" dur="24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1" repeatCount="indefinite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2.77778E-006 -1.50289E-006 C 0.21268 -1.50289E-006 0.38611 0.08 0.38611 0.17896 C 0.38611 0.27746 0.21268 0.35769 0.00035 0.35769 C -0.21267 0.35769 -0.38559 0.27746 -0.38559 0.17896 C -0.38559 0.08 -0.21267 -1.50289E-006 -2.77778E-006 -1.50289E-006 Z">
                                      <p:cBhvr>
                                        <p:cTn id="212" dur="24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1" repeatCount="indefinite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2.77778E-007 -0.01272 C 2.77778E-007 0.08578 -0.17292 0.16693 -0.38663 0.16693 C -0.59931 0.16693 -0.77188 0.08578 -0.77188 -0.01249 C -0.77188 -0.11122 -0.59931 -0.19006 -0.38663 -0.19006 C -0.17292 -0.19006 2.77778E-007 -0.11122 2.77778E-007 -0.01272 Z">
                                      <p:cBhvr>
                                        <p:cTn id="214" dur="24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1" repeatCount="indefinite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.00364 -0.01018 C 0.00364 -0.10867 0.17656 -0.18983 0.39027 -0.18983 C 0.60295 -0.18983 0.77552 -0.10867 0.77552 -0.01041 C 0.77552 0.08832 0.60295 0.16717 0.39027 0.16717 C 0.17656 0.16717 0.00364 0.08832 0.00364 -0.01018 Z">
                                      <p:cBhvr>
                                        <p:cTn id="216" dur="24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repeatCount="indefinite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0.02639 0.00255 C -0.00608 -0.0007 0.03854 -0.01505 0.05903 -0.01736 C 0.07795 -0.02407 0.09965 -0.02454 0.1191 -0.02593 C 0.17899 -0.03542 0.13281 -0.03056 0.26563 -0.02847 C 0.29722 -0.02361 0.33194 -0.01713 0.36389 -0.01528 C 0.37778 -0.01296 0.39236 -0.00671 0.4066 -0.0044 C 0.42899 0.00393 0.47882 0.02546 0.49861 0.03495 C 0.50417 0.03796 0.51267 0.04305 0.525 0.05255 C 0.5349 0.06018 0.55816 0.07893 0.5684 0.08981 C 0.57899 0.10718 0.58889 0.13958 0.58854 0.15741 C 0.58507 0.16968 0.57361 0.19676 0.56181 0.21227 C 0.55 0.22778 0.53247 0.24005 0.51771 0.25046 C 0.50295 0.26088 0.49236 0.26667 0.47274 0.275 C 0.45712 0.28079 0.42813 0.29305 0.4 0.30046 C 0.37795 0.30648 0.33003 0.3162 0.3059 0.32014 C 0.28594 0.32222 0.27031 0.3243 0.2559 0.325 C 0.23611 0.32616 0.20816 0.32708 0.18681 0.32708 C 0.17066 0.32662 0.15017 0.32778 0.12795 0.32569 C 0.10365 0.31991 0.0776 0.31875 0.05313 0.31435 C 0.0408 0.30926 0.03021 0.30741 0.01736 0.30602 C 0.00208 0.30185 -0.02274 0.29444 -0.03976 0.28889 C -0.06163 0.28032 -0.09375 0.26713 -0.11389 0.2544 C -0.12778 0.24305 -0.14878 0.22917 -0.16111 0.21227 C -0.16753 0.20231 -0.18646 0.16805 -0.1875 0.15347 C -0.18681 0.13542 -0.18229 0.11829 -0.15521 0.07801 C -0.11615 0.03796 -0.09809 0.03727 -0.075 0.02222 C -0.05781 0.01366 -0.03385 0.00648 -0.02569 0.00324 E">
                                      <p:cBhvr>
                                        <p:cTn id="218" dur="24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repeatCount="indefinite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.02795 -0.00532 C 0.00747 -0.00208 -0.03715 0.01227 -0.05764 0.01459 C -0.07656 0.0213 -0.09948 0.02315 -0.11892 0.02454 C -0.17882 0.03403 -0.13142 0.02778 -0.26423 0.0257 C -0.29583 0.02084 -0.33055 0.01435 -0.3625 0.0125 C -0.37639 0.01019 -0.39097 0.00394 -0.40521 0.00162 C -0.4276 -0.00671 -0.47743 -0.02824 -0.49722 -0.03773 C -0.50278 -0.04074 -0.51128 -0.04583 -0.52361 -0.05532 C -0.53351 -0.06296 -0.55677 -0.08171 -0.56701 -0.09259 C -0.5776 -0.11018 -0.5875 -0.14259 -0.58715 -0.16041 C -0.58368 -0.17268 -0.57222 -0.19977 -0.56041 -0.21528 C -0.54861 -0.23078 -0.53107 -0.24305 -0.51632 -0.25347 C -0.50156 -0.26389 -0.49097 -0.26967 -0.47135 -0.27801 C -0.45573 -0.28379 -0.42673 -0.29606 -0.39861 -0.30347 C -0.37656 -0.30972 -0.32864 -0.31944 -0.30451 -0.32338 C -0.28455 -0.32546 -0.26892 -0.32754 -0.25451 -0.32824 C -0.23472 -0.3294 -0.20677 -0.33032 -0.18541 -0.33032 C -0.16927 -0.32986 -0.14878 -0.33102 -0.12656 -0.32893 C -0.10226 -0.32315 -0.07621 -0.32199 -0.05173 -0.31759 C -0.03941 -0.3125 -0.02882 -0.31065 -0.01597 -0.30926 C -0.00069 -0.30509 0.02431 -0.29745 0.04132 -0.2919 C 0.0632 -0.28333 0.09531 -0.27014 0.11545 -0.25741 C 0.12934 -0.24606 0.15035 -0.23217 0.16268 -0.21528 C 0.1691 -0.20532 0.18802 -0.17106 0.18906 -0.15648 C 0.18837 -0.13842 0.18386 -0.12129 0.15677 -0.08078 C 0.11771 -0.04074 0.09965 -0.04004 0.07656 -0.025 C 0.05938 -0.01643 0.03542 -0.00926 0.02726 -0.00602 E">
                                      <p:cBhvr>
                                        <p:cTn id="220" dur="24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repeatCount="indefinite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0.02622 -0.01042 C -0.05018 -0.01852 -0.0717 -0.03056 -0.10018 -0.04167 C -0.10573 -0.04468 -0.11424 -0.04977 -0.12657 -0.05926 C -0.13646 -0.0669 -0.15973 -0.08565 -0.16997 -0.09653 C -0.18056 -0.11412 -0.19045 -0.14653 -0.19011 -0.16435 C -0.18664 -0.17662 -0.17518 -0.2037 -0.16337 -0.21921 C -0.15157 -0.23472 -0.13403 -0.24699 -0.11927 -0.25741 C -0.10452 -0.26783 -0.09393 -0.27361 -0.07431 -0.28195 C -0.05868 -0.28773 -0.02969 -0.3 -0.00157 -0.30741 C 0.02048 -0.31366 0.0684 -0.32338 0.09253 -0.32732 C 0.1125 -0.3294 0.12812 -0.33148 0.14253 -0.33218 C 0.16232 -0.33333 0.19027 -0.33426 0.21163 -0.33426 C 0.22777 -0.3338 0.24826 -0.33495 0.27048 -0.33287 C 0.29479 -0.32708 0.32083 -0.32593 0.34531 -0.32153 C 0.35764 -0.31644 0.36823 -0.31458 0.38107 -0.3132 C 0.39635 -0.30903 0.42135 -0.30139 0.43836 -0.29583 C 0.46024 -0.28727 0.49236 -0.27408 0.5125 -0.26134 C 0.52639 -0.25 0.54739 -0.23611 0.55972 -0.21921 C 0.56614 -0.20926 0.58507 -0.175 0.58611 -0.16042 C 0.58541 -0.14236 0.5809 -0.12523 0.55382 -0.08472 C 0.51475 -0.04468 0.4967 -0.04398 0.47361 -0.02894 C 0.4401 -0.01597 0.39687 -0.00324 0.35277 0.00463 C 0.30086 0.01296 0.21736 0.02106 0.16198 0.0206 C 0.10659 0.02014 0.05191 0.00602 0.02083 0.00116 C -0.01025 -0.0037 -0.01528 -0.00648 -0.02483 -0.00857 E">
                                      <p:cBhvr>
                                        <p:cTn id="222" dur="24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repeatCount="indefinite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.02049 0.00208 C 0.04445 0.01019 0.06597 0.02222 0.09445 0.03333 C 0.1 0.03634 0.10851 0.04144 0.12084 0.05093 C 0.13073 0.05857 0.15399 0.07732 0.16424 0.0882 C 0.17483 0.10579 0.18472 0.1382 0.18438 0.15602 C 0.1809 0.16829 0.16945 0.19537 0.15764 0.21088 C 0.14584 0.22639 0.1283 0.23866 0.11354 0.24907 C 0.09879 0.25949 0.0882 0.26528 0.06858 0.27361 C 0.05295 0.2794 0.02396 0.29167 -0.00416 0.29907 C -0.02621 0.30532 -0.07413 0.31505 -0.09826 0.31898 C -0.11823 0.32107 -0.13385 0.32315 -0.14826 0.32384 C -0.16805 0.325 -0.19601 0.32593 -0.21736 0.32593 C -0.23351 0.32546 -0.25399 0.32662 -0.27621 0.32454 C -0.30052 0.31875 -0.32656 0.31759 -0.35104 0.3132 C -0.36337 0.3081 -0.37396 0.30625 -0.3868 0.30486 C -0.40208 0.3007 -0.42708 0.29306 -0.4441 0.2875 C -0.46597 0.27894 -0.49809 0.26574 -0.51823 0.25301 C -0.53212 0.24167 -0.55312 0.22778 -0.56545 0.21088 C -0.57187 0.20093 -0.5908 0.16667 -0.59184 0.15208 C -0.59114 0.13403 -0.58663 0.1169 -0.55955 0.07639 C -0.52048 0.03634 -0.50243 0.03565 -0.47934 0.0206 C -0.44583 0.00764 -0.4026 -0.00509 -0.35851 -0.01296 C -0.3066 -0.0213 -0.22309 -0.0294 -0.16771 -0.02893 C -0.11232 -0.02847 -0.05764 -0.01435 -0.02656 -0.00949 C 0.00452 -0.00463 0.00955 -0.00185 0.0191 0.00023 E">
                                      <p:cBhvr>
                                        <p:cTn id="224" dur="24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4</TotalTime>
  <Application>LibreOffice/7.4.7.2$Linux_X86_64 LibreOffice_project/40$Build-2</Application>
  <AppVersion>15.0000</AppVersion>
  <Words>80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17:50:39Z</dcterms:created>
  <dc:creator>Way One</dc:creator>
  <dc:description/>
  <dc:language>en-US</dc:language>
  <cp:lastModifiedBy>王玉清</cp:lastModifiedBy>
  <dcterms:modified xsi:type="dcterms:W3CDTF">2016-02-19T04:33:09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</vt:r8>
  </property>
</Properties>
</file>