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15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7.png" ContentType="image/png"/>
  <Override PartName="/ppt/media/image13.png" ContentType="image/png"/>
  <Override PartName="/ppt/media/image40.png" ContentType="image/png"/>
  <Override PartName="/ppt/media/image8.png" ContentType="image/png"/>
  <Override PartName="/ppt/media/image38.png" ContentType="image/png"/>
  <Override PartName="/ppt/media/image39.jpeg" ContentType="image/jpeg"/>
  <Override PartName="/ppt/media/image41.jpeg" ContentType="image/jpeg"/>
  <Override PartName="/ppt/media/image9.png" ContentType="image/png"/>
  <Override PartName="/ppt/media/image12.gif" ContentType="image/gif"/>
  <Override PartName="/ppt/media/image37.jpeg" ContentType="image/jpeg"/>
  <Override PartName="/ppt/media/image30.png" ContentType="image/png"/>
  <Override PartName="/ppt/media/image5.png" ContentType="image/png"/>
  <Override PartName="/ppt/media/image28.png" ContentType="image/png"/>
  <Override PartName="/ppt/media/image29.jpeg" ContentType="image/jpeg"/>
  <Override PartName="/ppt/media/image42.png" ContentType="image/png"/>
  <Override PartName="/ppt/media/hdphoto1.wdp" ContentType="image/vnd.ms-photo"/>
  <Override PartName="/ppt/media/image11.png" ContentType="image/png"/>
  <Override PartName="/ppt/media/image36.png" ContentType="image/png"/>
  <Override PartName="/ppt/media/image6.png" ContentType="image/png"/>
  <Override PartName="/ppt/media/image35.jpeg" ContentType="image/jpeg"/>
  <Override PartName="/ppt/media/image10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</p:sldIdLst>
  <p:sldSz cx="12192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layout>
        <c:manualLayout>
          <c:layoutTarget val="inner"/>
          <c:xMode val="edge"/>
          <c:yMode val="edge"/>
          <c:x val="0.013988535169629"/>
          <c:y val="0.261005692599621"/>
          <c:w val="0.971986876735047"/>
          <c:h val="0.612428842504744"/>
        </c:manualLayout>
      </c:layout>
      <c:lineChart>
        <c:grouping val="standar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月度活跃用户数</c:v>
                </c:pt>
              </c:strCache>
            </c:strRef>
          </c:tx>
          <c:spPr>
            <a:solidFill>
              <a:srgbClr val="92d050"/>
            </a:solidFill>
            <a:ln cap="rnd" w="44280">
              <a:solidFill>
                <a:srgbClr val="92d050"/>
              </a:solidFill>
              <a:round/>
            </a:ln>
          </c:spPr>
          <c:marker>
            <c:symbol val="circle"/>
            <c:size val="10"/>
            <c:spPr>
              <a:solidFill>
                <a:srgbClr val="92d050"/>
              </a:solidFill>
            </c:spPr>
          </c:marker>
          <c:dLbls>
            <c:numFmt formatCode="General" sourceLinked="0"/>
            <c:txPr>
              <a:bodyPr wrap="square"/>
              <a:lstStyle/>
              <a:p>
                <a:pPr>
                  <a:defRPr b="0" sz="1600" spc="-1" strike="noStrike">
                    <a:solidFill>
                      <a:srgbClr val="404040"/>
                    </a:solidFill>
                    <a:latin typeface="微软雅黑 Light"/>
                    <a:ea typeface="微软雅黑 Light"/>
                  </a:defRPr>
                </a:pPr>
              </a:p>
            </c:txPr>
            <c:dLblPos val="t"/>
            <c:showLegendKey val="0"/>
            <c:showVal val="1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6"/>
                <c:pt idx="0">
                  <c:v>2006</c:v>
                </c:pt>
                <c:pt idx="1">
                  <c:v>2007</c:v>
                </c:pt>
                <c:pt idx="2">
                  <c:v>2008</c:v>
                </c:pt>
                <c:pt idx="3">
                  <c:v>2009</c:v>
                </c:pt>
                <c:pt idx="4">
                  <c:v>2010</c:v>
                </c:pt>
                <c:pt idx="5">
                  <c:v>2011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6"/>
                <c:pt idx="1">
                  <c:v>17</c:v>
                </c:pt>
                <c:pt idx="2">
                  <c:v>59</c:v>
                </c:pt>
                <c:pt idx="3">
                  <c:v>122</c:v>
                </c:pt>
                <c:pt idx="4">
                  <c:v>231</c:v>
                </c:pt>
                <c:pt idx="5">
                  <c:v>402</c:v>
                </c:pt>
              </c:numCache>
            </c:numRef>
          </c:val>
          <c:smooth val="0"/>
        </c:ser>
        <c:hiLowLines>
          <c:spPr>
            <a:ln w="0">
              <a:noFill/>
            </a:ln>
          </c:spPr>
        </c:hiLowLines>
        <c:marker val="1"/>
        <c:axId val="24002164"/>
        <c:axId val="25987559"/>
      </c:lineChart>
      <c:catAx>
        <c:axId val="24002164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d9d9d9"/>
            </a:solidFill>
            <a:round/>
          </a:ln>
        </c:spPr>
        <c:txPr>
          <a:bodyPr/>
          <a:lstStyle/>
          <a:p>
            <a:pPr>
              <a:defRPr b="0" sz="1600" spc="-1" strike="noStrike">
                <a:solidFill>
                  <a:srgbClr val="595959"/>
                </a:solidFill>
                <a:latin typeface="微软雅黑 Light"/>
                <a:ea typeface="微软雅黑 Light"/>
              </a:defRPr>
            </a:pPr>
          </a:p>
        </c:txPr>
        <c:crossAx val="25987559"/>
        <c:crosses val="autoZero"/>
        <c:auto val="1"/>
        <c:lblAlgn val="ctr"/>
        <c:lblOffset val="100"/>
        <c:noMultiLvlLbl val="0"/>
      </c:catAx>
      <c:valAx>
        <c:axId val="25987559"/>
        <c:scaling>
          <c:orientation val="minMax"/>
        </c:scaling>
        <c:delete val="1"/>
        <c:axPos val="l"/>
        <c:numFmt formatCode="General" sourceLinked="1"/>
        <c:majorTickMark val="out"/>
        <c:minorTickMark val="none"/>
        <c:tickLblPos val="nextTo"/>
        <c:spPr>
          <a:ln w="6480">
            <a:solidFill>
              <a:srgbClr val="8b8b8b"/>
            </a:solidFill>
            <a:round/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24002164"/>
        <c:crossBetween val="between"/>
        <c:majorUnit val="100"/>
      </c:valAx>
      <c:spPr>
        <a:noFill/>
        <a:ln w="0">
          <a:noFill/>
        </a:ln>
      </c:spPr>
    </c:plotArea>
    <c:plotVisOnly val="1"/>
    <c:dispBlanksAs val="gap"/>
  </c:chart>
  <c:spPr>
    <a:noFill/>
    <a:ln w="54000">
      <a:noFill/>
    </a:ln>
  </c:spPr>
</c:chartSpace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E4BC90B-1CF7-402D-BD96-8D2F93FFA7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1147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PlaceHolder 3"/>
          <p:cNvSpPr>
            <a:spLocks noGrp="1"/>
          </p:cNvSpPr>
          <p:nvPr>
            <p:ph type="sldNum" idx="6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E93B08C-7337-4DC2-9CFE-31CBC73245EE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1150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 type="sldNum" idx="7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C039A91-D0DC-4696-92DC-DA56EB114A04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1153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PlaceHolder 3"/>
          <p:cNvSpPr>
            <a:spLocks noGrp="1"/>
          </p:cNvSpPr>
          <p:nvPr>
            <p:ph type="sldNum" idx="8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5D409F9-CC97-44B3-AB87-AF047F0343A0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1156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PlaceHolder 3"/>
          <p:cNvSpPr>
            <a:spLocks noGrp="1"/>
          </p:cNvSpPr>
          <p:nvPr>
            <p:ph type="sldNum" idx="9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6C43D57-ACAD-4BB2-87BA-5EEE0C68F450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1159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 type="sldNum" idx="10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7A20AE1-DA73-49A6-B79E-275757123251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1141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PlaceHolder 3"/>
          <p:cNvSpPr>
            <a:spLocks noGrp="1"/>
          </p:cNvSpPr>
          <p:nvPr>
            <p:ph type="sldNum" idx="4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D434F08-AF84-4776-B216-AD5311EDC4FC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1144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PlaceHolder 3"/>
          <p:cNvSpPr>
            <a:spLocks noGrp="1"/>
          </p:cNvSpPr>
          <p:nvPr>
            <p:ph type="sldNum" idx="5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4659CED-A5CA-4141-B84E-F0B624E05794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24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24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24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24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24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24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1.png"/><Relationship Id="rId11" Type="http://schemas.openxmlformats.org/officeDocument/2006/relationships/image" Target="../media/image2.png"/><Relationship Id="rId12" Type="http://schemas.openxmlformats.org/officeDocument/2006/relationships/image" Target="../media/image6.png"/><Relationship Id="rId13" Type="http://schemas.openxmlformats.org/officeDocument/2006/relationships/image" Target="../media/image7.png"/><Relationship Id="rId14" Type="http://schemas.openxmlformats.org/officeDocument/2006/relationships/image" Target="../media/image8.png"/><Relationship Id="rId15" Type="http://schemas.openxmlformats.org/officeDocument/2006/relationships/image" Target="../media/image1.png"/><Relationship Id="rId16" Type="http://schemas.openxmlformats.org/officeDocument/2006/relationships/image" Target="../media/image2.png"/><Relationship Id="rId17" Type="http://schemas.openxmlformats.org/officeDocument/2006/relationships/image" Target="../media/image6.png"/><Relationship Id="rId18" Type="http://schemas.openxmlformats.org/officeDocument/2006/relationships/image" Target="../media/image7.png"/><Relationship Id="rId19" Type="http://schemas.openxmlformats.org/officeDocument/2006/relationships/image" Target="../media/image8.png"/><Relationship Id="rId20" Type="http://schemas.openxmlformats.org/officeDocument/2006/relationships/image" Target="../media/image1.png"/><Relationship Id="rId21" Type="http://schemas.openxmlformats.org/officeDocument/2006/relationships/image" Target="../media/image2.png"/><Relationship Id="rId22" Type="http://schemas.openxmlformats.org/officeDocument/2006/relationships/image" Target="../media/image6.png"/><Relationship Id="rId23" Type="http://schemas.openxmlformats.org/officeDocument/2006/relationships/image" Target="../media/image7.png"/><Relationship Id="rId24" Type="http://schemas.openxmlformats.org/officeDocument/2006/relationships/image" Target="../media/image8.png"/><Relationship Id="rId25" Type="http://schemas.openxmlformats.org/officeDocument/2006/relationships/image" Target="../media/image1.png"/><Relationship Id="rId26" Type="http://schemas.openxmlformats.org/officeDocument/2006/relationships/image" Target="../media/image2.png"/><Relationship Id="rId27" Type="http://schemas.openxmlformats.org/officeDocument/2006/relationships/image" Target="../media/image6.png"/><Relationship Id="rId28" Type="http://schemas.openxmlformats.org/officeDocument/2006/relationships/image" Target="../media/image7.png"/><Relationship Id="rId29" Type="http://schemas.openxmlformats.org/officeDocument/2006/relationships/image" Target="../media/image8.png"/><Relationship Id="rId30" Type="http://schemas.openxmlformats.org/officeDocument/2006/relationships/image" Target="../media/image1.png"/><Relationship Id="rId31" Type="http://schemas.openxmlformats.org/officeDocument/2006/relationships/image" Target="../media/image2.png"/><Relationship Id="rId32" Type="http://schemas.openxmlformats.org/officeDocument/2006/relationships/image" Target="../media/image6.png"/><Relationship Id="rId33" Type="http://schemas.openxmlformats.org/officeDocument/2006/relationships/image" Target="../media/image7.png"/><Relationship Id="rId34" Type="http://schemas.openxmlformats.org/officeDocument/2006/relationships/image" Target="../media/image8.png"/><Relationship Id="rId35" Type="http://schemas.openxmlformats.org/officeDocument/2006/relationships/image" Target="../media/image1.png"/><Relationship Id="rId36" Type="http://schemas.openxmlformats.org/officeDocument/2006/relationships/image" Target="../media/image2.png"/><Relationship Id="rId37" Type="http://schemas.openxmlformats.org/officeDocument/2006/relationships/image" Target="../media/image6.png"/><Relationship Id="rId38" Type="http://schemas.openxmlformats.org/officeDocument/2006/relationships/image" Target="../media/image7.png"/><Relationship Id="rId39" Type="http://schemas.openxmlformats.org/officeDocument/2006/relationships/image" Target="../media/image8.png"/><Relationship Id="rId40" Type="http://schemas.openxmlformats.org/officeDocument/2006/relationships/image" Target="../media/image3.png"/><Relationship Id="rId41" Type="http://schemas.openxmlformats.org/officeDocument/2006/relationships/image" Target="../media/image4.png"/><Relationship Id="rId42" Type="http://schemas.openxmlformats.org/officeDocument/2006/relationships/image" Target="../media/image5.png"/><Relationship Id="rId43" Type="http://schemas.openxmlformats.org/officeDocument/2006/relationships/image" Target="../media/image3.png"/><Relationship Id="rId44" Type="http://schemas.openxmlformats.org/officeDocument/2006/relationships/image" Target="../media/image4.png"/><Relationship Id="rId45" Type="http://schemas.openxmlformats.org/officeDocument/2006/relationships/image" Target="../media/image5.png"/><Relationship Id="rId46" Type="http://schemas.openxmlformats.org/officeDocument/2006/relationships/image" Target="../media/image3.png"/><Relationship Id="rId47" Type="http://schemas.openxmlformats.org/officeDocument/2006/relationships/image" Target="../media/image4.png"/><Relationship Id="rId48" Type="http://schemas.openxmlformats.org/officeDocument/2006/relationships/image" Target="../media/image5.png"/><Relationship Id="rId49" Type="http://schemas.openxmlformats.org/officeDocument/2006/relationships/image" Target="../media/image3.png"/><Relationship Id="rId50" Type="http://schemas.openxmlformats.org/officeDocument/2006/relationships/image" Target="../media/image4.png"/><Relationship Id="rId51" Type="http://schemas.openxmlformats.org/officeDocument/2006/relationships/image" Target="../media/image5.png"/><Relationship Id="rId52" Type="http://schemas.openxmlformats.org/officeDocument/2006/relationships/image" Target="../media/image4.png"/><Relationship Id="rId53" Type="http://schemas.openxmlformats.org/officeDocument/2006/relationships/image" Target="../media/image5.png"/><Relationship Id="rId54" Type="http://schemas.openxmlformats.org/officeDocument/2006/relationships/image" Target="../media/image3.png"/><Relationship Id="rId55" Type="http://schemas.openxmlformats.org/officeDocument/2006/relationships/image" Target="../media/image7.png"/><Relationship Id="rId56" Type="http://schemas.openxmlformats.org/officeDocument/2006/relationships/image" Target="../media/image3.png"/><Relationship Id="rId57" Type="http://schemas.openxmlformats.org/officeDocument/2006/relationships/image" Target="../media/image5.png"/><Relationship Id="rId58" Type="http://schemas.openxmlformats.org/officeDocument/2006/relationships/image" Target="../media/image3.png"/><Relationship Id="rId59" Type="http://schemas.openxmlformats.org/officeDocument/2006/relationships/image" Target="../media/image6.png"/><Relationship Id="rId60" Type="http://schemas.openxmlformats.org/officeDocument/2006/relationships/image" Target="../media/image8.png"/><Relationship Id="rId61" Type="http://schemas.openxmlformats.org/officeDocument/2006/relationships/image" Target="../media/image6.png"/><Relationship Id="rId62" Type="http://schemas.openxmlformats.org/officeDocument/2006/relationships/slideLayout" Target="../slideLayouts/slideLayout1.xml"/><Relationship Id="rId63" Type="http://schemas.openxmlformats.org/officeDocument/2006/relationships/slideLayout" Target="../slideLayouts/slideLayout2.xml"/><Relationship Id="rId64" Type="http://schemas.openxmlformats.org/officeDocument/2006/relationships/slideLayout" Target="../slideLayouts/slideLayout3.xml"/><Relationship Id="rId65" Type="http://schemas.openxmlformats.org/officeDocument/2006/relationships/slideLayout" Target="../slideLayouts/slideLayout4.xml"/><Relationship Id="rId66" Type="http://schemas.openxmlformats.org/officeDocument/2006/relationships/slideLayout" Target="../slideLayouts/slideLayout5.xml"/><Relationship Id="rId67" Type="http://schemas.openxmlformats.org/officeDocument/2006/relationships/slideLayout" Target="../slideLayouts/slideLayout6.xml"/><Relationship Id="rId68" Type="http://schemas.openxmlformats.org/officeDocument/2006/relationships/slideLayout" Target="../slideLayouts/slideLayout7.xml"/><Relationship Id="rId69" Type="http://schemas.openxmlformats.org/officeDocument/2006/relationships/slideLayout" Target="../slideLayouts/slideLayout8.xml"/><Relationship Id="rId70" Type="http://schemas.openxmlformats.org/officeDocument/2006/relationships/slideLayout" Target="../slideLayouts/slideLayout9.xml"/><Relationship Id="rId71" Type="http://schemas.openxmlformats.org/officeDocument/2006/relationships/slideLayout" Target="../slideLayouts/slideLayout10.xml"/><Relationship Id="rId72" Type="http://schemas.openxmlformats.org/officeDocument/2006/relationships/slideLayout" Target="../slideLayouts/slideLayout11.xml"/><Relationship Id="rId7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1.png"/><Relationship Id="rId11" Type="http://schemas.openxmlformats.org/officeDocument/2006/relationships/image" Target="../media/image2.png"/><Relationship Id="rId12" Type="http://schemas.openxmlformats.org/officeDocument/2006/relationships/image" Target="../media/image6.png"/><Relationship Id="rId13" Type="http://schemas.openxmlformats.org/officeDocument/2006/relationships/image" Target="../media/image7.png"/><Relationship Id="rId14" Type="http://schemas.openxmlformats.org/officeDocument/2006/relationships/image" Target="../media/image8.png"/><Relationship Id="rId15" Type="http://schemas.openxmlformats.org/officeDocument/2006/relationships/image" Target="../media/image1.png"/><Relationship Id="rId16" Type="http://schemas.openxmlformats.org/officeDocument/2006/relationships/image" Target="../media/image2.png"/><Relationship Id="rId17" Type="http://schemas.openxmlformats.org/officeDocument/2006/relationships/image" Target="../media/image6.png"/><Relationship Id="rId18" Type="http://schemas.openxmlformats.org/officeDocument/2006/relationships/image" Target="../media/image7.png"/><Relationship Id="rId19" Type="http://schemas.openxmlformats.org/officeDocument/2006/relationships/image" Target="../media/image8.png"/><Relationship Id="rId20" Type="http://schemas.openxmlformats.org/officeDocument/2006/relationships/image" Target="../media/image1.png"/><Relationship Id="rId21" Type="http://schemas.openxmlformats.org/officeDocument/2006/relationships/image" Target="../media/image2.png"/><Relationship Id="rId22" Type="http://schemas.openxmlformats.org/officeDocument/2006/relationships/image" Target="../media/image6.png"/><Relationship Id="rId23" Type="http://schemas.openxmlformats.org/officeDocument/2006/relationships/image" Target="../media/image7.png"/><Relationship Id="rId24" Type="http://schemas.openxmlformats.org/officeDocument/2006/relationships/image" Target="../media/image8.png"/><Relationship Id="rId25" Type="http://schemas.openxmlformats.org/officeDocument/2006/relationships/image" Target="../media/image1.png"/><Relationship Id="rId26" Type="http://schemas.openxmlformats.org/officeDocument/2006/relationships/image" Target="../media/image2.png"/><Relationship Id="rId27" Type="http://schemas.openxmlformats.org/officeDocument/2006/relationships/image" Target="../media/image6.png"/><Relationship Id="rId28" Type="http://schemas.openxmlformats.org/officeDocument/2006/relationships/image" Target="../media/image7.png"/><Relationship Id="rId29" Type="http://schemas.openxmlformats.org/officeDocument/2006/relationships/image" Target="../media/image8.png"/><Relationship Id="rId30" Type="http://schemas.openxmlformats.org/officeDocument/2006/relationships/image" Target="../media/image1.png"/><Relationship Id="rId31" Type="http://schemas.openxmlformats.org/officeDocument/2006/relationships/image" Target="../media/image2.png"/><Relationship Id="rId32" Type="http://schemas.openxmlformats.org/officeDocument/2006/relationships/image" Target="../media/image6.png"/><Relationship Id="rId33" Type="http://schemas.openxmlformats.org/officeDocument/2006/relationships/image" Target="../media/image7.png"/><Relationship Id="rId34" Type="http://schemas.openxmlformats.org/officeDocument/2006/relationships/image" Target="../media/image8.png"/><Relationship Id="rId35" Type="http://schemas.openxmlformats.org/officeDocument/2006/relationships/image" Target="../media/image1.png"/><Relationship Id="rId36" Type="http://schemas.openxmlformats.org/officeDocument/2006/relationships/image" Target="../media/image2.png"/><Relationship Id="rId37" Type="http://schemas.openxmlformats.org/officeDocument/2006/relationships/image" Target="../media/image6.png"/><Relationship Id="rId38" Type="http://schemas.openxmlformats.org/officeDocument/2006/relationships/image" Target="../media/image7.png"/><Relationship Id="rId39" Type="http://schemas.openxmlformats.org/officeDocument/2006/relationships/image" Target="../media/image8.png"/><Relationship Id="rId40" Type="http://schemas.openxmlformats.org/officeDocument/2006/relationships/image" Target="../media/image3.png"/><Relationship Id="rId41" Type="http://schemas.openxmlformats.org/officeDocument/2006/relationships/image" Target="../media/image4.png"/><Relationship Id="rId42" Type="http://schemas.openxmlformats.org/officeDocument/2006/relationships/image" Target="../media/image5.png"/><Relationship Id="rId43" Type="http://schemas.openxmlformats.org/officeDocument/2006/relationships/image" Target="../media/image3.png"/><Relationship Id="rId44" Type="http://schemas.openxmlformats.org/officeDocument/2006/relationships/image" Target="../media/image4.png"/><Relationship Id="rId45" Type="http://schemas.openxmlformats.org/officeDocument/2006/relationships/image" Target="../media/image5.png"/><Relationship Id="rId46" Type="http://schemas.openxmlformats.org/officeDocument/2006/relationships/image" Target="../media/image3.png"/><Relationship Id="rId47" Type="http://schemas.openxmlformats.org/officeDocument/2006/relationships/image" Target="../media/image4.png"/><Relationship Id="rId48" Type="http://schemas.openxmlformats.org/officeDocument/2006/relationships/image" Target="../media/image5.png"/><Relationship Id="rId49" Type="http://schemas.openxmlformats.org/officeDocument/2006/relationships/image" Target="../media/image3.png"/><Relationship Id="rId50" Type="http://schemas.openxmlformats.org/officeDocument/2006/relationships/image" Target="../media/image4.png"/><Relationship Id="rId51" Type="http://schemas.openxmlformats.org/officeDocument/2006/relationships/image" Target="../media/image5.png"/><Relationship Id="rId52" Type="http://schemas.openxmlformats.org/officeDocument/2006/relationships/image" Target="../media/image4.png"/><Relationship Id="rId53" Type="http://schemas.openxmlformats.org/officeDocument/2006/relationships/image" Target="../media/image5.png"/><Relationship Id="rId54" Type="http://schemas.openxmlformats.org/officeDocument/2006/relationships/image" Target="../media/image3.png"/><Relationship Id="rId55" Type="http://schemas.openxmlformats.org/officeDocument/2006/relationships/image" Target="../media/image7.png"/><Relationship Id="rId56" Type="http://schemas.openxmlformats.org/officeDocument/2006/relationships/image" Target="../media/image3.png"/><Relationship Id="rId57" Type="http://schemas.openxmlformats.org/officeDocument/2006/relationships/image" Target="../media/image5.png"/><Relationship Id="rId58" Type="http://schemas.openxmlformats.org/officeDocument/2006/relationships/image" Target="../media/image3.png"/><Relationship Id="rId59" Type="http://schemas.openxmlformats.org/officeDocument/2006/relationships/image" Target="../media/image6.png"/><Relationship Id="rId60" Type="http://schemas.openxmlformats.org/officeDocument/2006/relationships/image" Target="../media/image8.png"/><Relationship Id="rId61" Type="http://schemas.openxmlformats.org/officeDocument/2006/relationships/image" Target="../media/image6.png"/><Relationship Id="rId62" Type="http://schemas.openxmlformats.org/officeDocument/2006/relationships/slideLayout" Target="../slideLayouts/slideLayout25.xml"/><Relationship Id="rId63" Type="http://schemas.openxmlformats.org/officeDocument/2006/relationships/slideLayout" Target="../slideLayouts/slideLayout26.xml"/><Relationship Id="rId64" Type="http://schemas.openxmlformats.org/officeDocument/2006/relationships/slideLayout" Target="../slideLayouts/slideLayout27.xml"/><Relationship Id="rId65" Type="http://schemas.openxmlformats.org/officeDocument/2006/relationships/slideLayout" Target="../slideLayouts/slideLayout28.xml"/><Relationship Id="rId66" Type="http://schemas.openxmlformats.org/officeDocument/2006/relationships/slideLayout" Target="../slideLayouts/slideLayout29.xml"/><Relationship Id="rId67" Type="http://schemas.openxmlformats.org/officeDocument/2006/relationships/slideLayout" Target="../slideLayouts/slideLayout30.xml"/><Relationship Id="rId68" Type="http://schemas.openxmlformats.org/officeDocument/2006/relationships/slideLayout" Target="../slideLayouts/slideLayout31.xml"/><Relationship Id="rId69" Type="http://schemas.openxmlformats.org/officeDocument/2006/relationships/slideLayout" Target="../slideLayouts/slideLayout32.xml"/><Relationship Id="rId70" Type="http://schemas.openxmlformats.org/officeDocument/2006/relationships/slideLayout" Target="../slideLayouts/slideLayout33.xml"/><Relationship Id="rId71" Type="http://schemas.openxmlformats.org/officeDocument/2006/relationships/slideLayout" Target="../slideLayouts/slideLayout34.xml"/><Relationship Id="rId72" Type="http://schemas.openxmlformats.org/officeDocument/2006/relationships/slideLayout" Target="../slideLayouts/slideLayout35.xml"/><Relationship Id="rId7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1.png"/><Relationship Id="rId11" Type="http://schemas.openxmlformats.org/officeDocument/2006/relationships/image" Target="../media/image2.png"/><Relationship Id="rId12" Type="http://schemas.openxmlformats.org/officeDocument/2006/relationships/image" Target="../media/image6.png"/><Relationship Id="rId13" Type="http://schemas.openxmlformats.org/officeDocument/2006/relationships/image" Target="../media/image7.png"/><Relationship Id="rId14" Type="http://schemas.openxmlformats.org/officeDocument/2006/relationships/image" Target="../media/image8.png"/><Relationship Id="rId15" Type="http://schemas.openxmlformats.org/officeDocument/2006/relationships/image" Target="../media/image1.png"/><Relationship Id="rId16" Type="http://schemas.openxmlformats.org/officeDocument/2006/relationships/image" Target="../media/image2.png"/><Relationship Id="rId17" Type="http://schemas.openxmlformats.org/officeDocument/2006/relationships/image" Target="../media/image6.png"/><Relationship Id="rId18" Type="http://schemas.openxmlformats.org/officeDocument/2006/relationships/image" Target="../media/image7.png"/><Relationship Id="rId19" Type="http://schemas.openxmlformats.org/officeDocument/2006/relationships/image" Target="../media/image8.png"/><Relationship Id="rId20" Type="http://schemas.openxmlformats.org/officeDocument/2006/relationships/image" Target="../media/image1.png"/><Relationship Id="rId21" Type="http://schemas.openxmlformats.org/officeDocument/2006/relationships/image" Target="../media/image2.png"/><Relationship Id="rId22" Type="http://schemas.openxmlformats.org/officeDocument/2006/relationships/image" Target="../media/image6.png"/><Relationship Id="rId23" Type="http://schemas.openxmlformats.org/officeDocument/2006/relationships/image" Target="../media/image7.png"/><Relationship Id="rId24" Type="http://schemas.openxmlformats.org/officeDocument/2006/relationships/image" Target="../media/image8.png"/><Relationship Id="rId25" Type="http://schemas.openxmlformats.org/officeDocument/2006/relationships/image" Target="../media/image1.png"/><Relationship Id="rId26" Type="http://schemas.openxmlformats.org/officeDocument/2006/relationships/image" Target="../media/image2.png"/><Relationship Id="rId27" Type="http://schemas.openxmlformats.org/officeDocument/2006/relationships/image" Target="../media/image6.png"/><Relationship Id="rId28" Type="http://schemas.openxmlformats.org/officeDocument/2006/relationships/image" Target="../media/image7.png"/><Relationship Id="rId29" Type="http://schemas.openxmlformats.org/officeDocument/2006/relationships/image" Target="../media/image8.png"/><Relationship Id="rId30" Type="http://schemas.openxmlformats.org/officeDocument/2006/relationships/image" Target="../media/image1.png"/><Relationship Id="rId31" Type="http://schemas.openxmlformats.org/officeDocument/2006/relationships/image" Target="../media/image2.png"/><Relationship Id="rId32" Type="http://schemas.openxmlformats.org/officeDocument/2006/relationships/image" Target="../media/image6.png"/><Relationship Id="rId33" Type="http://schemas.openxmlformats.org/officeDocument/2006/relationships/image" Target="../media/image7.png"/><Relationship Id="rId34" Type="http://schemas.openxmlformats.org/officeDocument/2006/relationships/image" Target="../media/image8.png"/><Relationship Id="rId35" Type="http://schemas.openxmlformats.org/officeDocument/2006/relationships/image" Target="../media/image1.png"/><Relationship Id="rId36" Type="http://schemas.openxmlformats.org/officeDocument/2006/relationships/image" Target="../media/image2.png"/><Relationship Id="rId37" Type="http://schemas.openxmlformats.org/officeDocument/2006/relationships/image" Target="../media/image6.png"/><Relationship Id="rId38" Type="http://schemas.openxmlformats.org/officeDocument/2006/relationships/image" Target="../media/image7.png"/><Relationship Id="rId39" Type="http://schemas.openxmlformats.org/officeDocument/2006/relationships/image" Target="../media/image8.png"/><Relationship Id="rId40" Type="http://schemas.openxmlformats.org/officeDocument/2006/relationships/image" Target="../media/image3.png"/><Relationship Id="rId41" Type="http://schemas.openxmlformats.org/officeDocument/2006/relationships/image" Target="../media/image4.png"/><Relationship Id="rId42" Type="http://schemas.openxmlformats.org/officeDocument/2006/relationships/image" Target="../media/image5.png"/><Relationship Id="rId43" Type="http://schemas.openxmlformats.org/officeDocument/2006/relationships/image" Target="../media/image3.png"/><Relationship Id="rId44" Type="http://schemas.openxmlformats.org/officeDocument/2006/relationships/image" Target="../media/image4.png"/><Relationship Id="rId45" Type="http://schemas.openxmlformats.org/officeDocument/2006/relationships/image" Target="../media/image5.png"/><Relationship Id="rId46" Type="http://schemas.openxmlformats.org/officeDocument/2006/relationships/image" Target="../media/image3.png"/><Relationship Id="rId47" Type="http://schemas.openxmlformats.org/officeDocument/2006/relationships/image" Target="../media/image4.png"/><Relationship Id="rId48" Type="http://schemas.openxmlformats.org/officeDocument/2006/relationships/image" Target="../media/image5.png"/><Relationship Id="rId49" Type="http://schemas.openxmlformats.org/officeDocument/2006/relationships/image" Target="../media/image3.png"/><Relationship Id="rId50" Type="http://schemas.openxmlformats.org/officeDocument/2006/relationships/image" Target="../media/image4.png"/><Relationship Id="rId51" Type="http://schemas.openxmlformats.org/officeDocument/2006/relationships/image" Target="../media/image5.png"/><Relationship Id="rId52" Type="http://schemas.openxmlformats.org/officeDocument/2006/relationships/image" Target="../media/image4.png"/><Relationship Id="rId53" Type="http://schemas.openxmlformats.org/officeDocument/2006/relationships/image" Target="../media/image5.png"/><Relationship Id="rId54" Type="http://schemas.openxmlformats.org/officeDocument/2006/relationships/image" Target="../media/image3.png"/><Relationship Id="rId55" Type="http://schemas.openxmlformats.org/officeDocument/2006/relationships/image" Target="../media/image7.png"/><Relationship Id="rId56" Type="http://schemas.openxmlformats.org/officeDocument/2006/relationships/image" Target="../media/image3.png"/><Relationship Id="rId57" Type="http://schemas.openxmlformats.org/officeDocument/2006/relationships/image" Target="../media/image5.png"/><Relationship Id="rId58" Type="http://schemas.openxmlformats.org/officeDocument/2006/relationships/image" Target="../media/image3.png"/><Relationship Id="rId59" Type="http://schemas.openxmlformats.org/officeDocument/2006/relationships/image" Target="../media/image6.png"/><Relationship Id="rId60" Type="http://schemas.openxmlformats.org/officeDocument/2006/relationships/image" Target="../media/image8.png"/><Relationship Id="rId61" Type="http://schemas.openxmlformats.org/officeDocument/2006/relationships/image" Target="../media/image6.png"/><Relationship Id="rId62" Type="http://schemas.openxmlformats.org/officeDocument/2006/relationships/slideLayout" Target="../slideLayouts/slideLayout37.xml"/><Relationship Id="rId63" Type="http://schemas.openxmlformats.org/officeDocument/2006/relationships/slideLayout" Target="../slideLayouts/slideLayout38.xml"/><Relationship Id="rId64" Type="http://schemas.openxmlformats.org/officeDocument/2006/relationships/slideLayout" Target="../slideLayouts/slideLayout39.xml"/><Relationship Id="rId65" Type="http://schemas.openxmlformats.org/officeDocument/2006/relationships/slideLayout" Target="../slideLayouts/slideLayout40.xml"/><Relationship Id="rId66" Type="http://schemas.openxmlformats.org/officeDocument/2006/relationships/slideLayout" Target="../slideLayouts/slideLayout41.xml"/><Relationship Id="rId67" Type="http://schemas.openxmlformats.org/officeDocument/2006/relationships/slideLayout" Target="../slideLayouts/slideLayout42.xml"/><Relationship Id="rId68" Type="http://schemas.openxmlformats.org/officeDocument/2006/relationships/slideLayout" Target="../slideLayouts/slideLayout43.xml"/><Relationship Id="rId69" Type="http://schemas.openxmlformats.org/officeDocument/2006/relationships/slideLayout" Target="../slideLayouts/slideLayout44.xml"/><Relationship Id="rId70" Type="http://schemas.openxmlformats.org/officeDocument/2006/relationships/slideLayout" Target="../slideLayouts/slideLayout45.xml"/><Relationship Id="rId71" Type="http://schemas.openxmlformats.org/officeDocument/2006/relationships/slideLayout" Target="../slideLayouts/slideLayout46.xml"/><Relationship Id="rId72" Type="http://schemas.openxmlformats.org/officeDocument/2006/relationships/slideLayout" Target="../slideLayouts/slideLayout47.xml"/><Relationship Id="rId7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1.png"/><Relationship Id="rId11" Type="http://schemas.openxmlformats.org/officeDocument/2006/relationships/image" Target="../media/image2.png"/><Relationship Id="rId12" Type="http://schemas.openxmlformats.org/officeDocument/2006/relationships/image" Target="../media/image6.png"/><Relationship Id="rId13" Type="http://schemas.openxmlformats.org/officeDocument/2006/relationships/image" Target="../media/image7.png"/><Relationship Id="rId14" Type="http://schemas.openxmlformats.org/officeDocument/2006/relationships/image" Target="../media/image8.png"/><Relationship Id="rId15" Type="http://schemas.openxmlformats.org/officeDocument/2006/relationships/image" Target="../media/image1.png"/><Relationship Id="rId16" Type="http://schemas.openxmlformats.org/officeDocument/2006/relationships/image" Target="../media/image2.png"/><Relationship Id="rId17" Type="http://schemas.openxmlformats.org/officeDocument/2006/relationships/image" Target="../media/image6.png"/><Relationship Id="rId18" Type="http://schemas.openxmlformats.org/officeDocument/2006/relationships/image" Target="../media/image7.png"/><Relationship Id="rId19" Type="http://schemas.openxmlformats.org/officeDocument/2006/relationships/image" Target="../media/image8.png"/><Relationship Id="rId20" Type="http://schemas.openxmlformats.org/officeDocument/2006/relationships/image" Target="../media/image1.png"/><Relationship Id="rId21" Type="http://schemas.openxmlformats.org/officeDocument/2006/relationships/image" Target="../media/image2.png"/><Relationship Id="rId22" Type="http://schemas.openxmlformats.org/officeDocument/2006/relationships/image" Target="../media/image6.png"/><Relationship Id="rId23" Type="http://schemas.openxmlformats.org/officeDocument/2006/relationships/image" Target="../media/image7.png"/><Relationship Id="rId24" Type="http://schemas.openxmlformats.org/officeDocument/2006/relationships/image" Target="../media/image8.png"/><Relationship Id="rId25" Type="http://schemas.openxmlformats.org/officeDocument/2006/relationships/image" Target="../media/image1.png"/><Relationship Id="rId26" Type="http://schemas.openxmlformats.org/officeDocument/2006/relationships/image" Target="../media/image2.png"/><Relationship Id="rId27" Type="http://schemas.openxmlformats.org/officeDocument/2006/relationships/image" Target="../media/image6.png"/><Relationship Id="rId28" Type="http://schemas.openxmlformats.org/officeDocument/2006/relationships/image" Target="../media/image7.png"/><Relationship Id="rId29" Type="http://schemas.openxmlformats.org/officeDocument/2006/relationships/image" Target="../media/image8.png"/><Relationship Id="rId30" Type="http://schemas.openxmlformats.org/officeDocument/2006/relationships/image" Target="../media/image1.png"/><Relationship Id="rId31" Type="http://schemas.openxmlformats.org/officeDocument/2006/relationships/image" Target="../media/image6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1.png"/><Relationship Id="rId35" Type="http://schemas.openxmlformats.org/officeDocument/2006/relationships/image" Target="../media/image2.png"/><Relationship Id="rId36" Type="http://schemas.openxmlformats.org/officeDocument/2006/relationships/image" Target="../media/image6.png"/><Relationship Id="rId37" Type="http://schemas.openxmlformats.org/officeDocument/2006/relationships/image" Target="../media/image7.png"/><Relationship Id="rId38" Type="http://schemas.openxmlformats.org/officeDocument/2006/relationships/image" Target="../media/image8.png"/><Relationship Id="rId39" Type="http://schemas.openxmlformats.org/officeDocument/2006/relationships/image" Target="../media/image3.png"/><Relationship Id="rId40" Type="http://schemas.openxmlformats.org/officeDocument/2006/relationships/image" Target="../media/image4.png"/><Relationship Id="rId41" Type="http://schemas.openxmlformats.org/officeDocument/2006/relationships/image" Target="../media/image5.png"/><Relationship Id="rId42" Type="http://schemas.openxmlformats.org/officeDocument/2006/relationships/image" Target="../media/image3.png"/><Relationship Id="rId43" Type="http://schemas.openxmlformats.org/officeDocument/2006/relationships/image" Target="../media/image4.png"/><Relationship Id="rId44" Type="http://schemas.openxmlformats.org/officeDocument/2006/relationships/image" Target="../media/image5.png"/><Relationship Id="rId45" Type="http://schemas.openxmlformats.org/officeDocument/2006/relationships/image" Target="../media/image3.png"/><Relationship Id="rId46" Type="http://schemas.openxmlformats.org/officeDocument/2006/relationships/image" Target="../media/image4.png"/><Relationship Id="rId47" Type="http://schemas.openxmlformats.org/officeDocument/2006/relationships/image" Target="../media/image5.png"/><Relationship Id="rId48" Type="http://schemas.openxmlformats.org/officeDocument/2006/relationships/image" Target="../media/image3.png"/><Relationship Id="rId49" Type="http://schemas.openxmlformats.org/officeDocument/2006/relationships/image" Target="../media/image4.png"/><Relationship Id="rId50" Type="http://schemas.openxmlformats.org/officeDocument/2006/relationships/image" Target="../media/image5.png"/><Relationship Id="rId51" Type="http://schemas.openxmlformats.org/officeDocument/2006/relationships/image" Target="../media/image4.png"/><Relationship Id="rId52" Type="http://schemas.openxmlformats.org/officeDocument/2006/relationships/image" Target="../media/image5.png"/><Relationship Id="rId53" Type="http://schemas.openxmlformats.org/officeDocument/2006/relationships/image" Target="../media/image3.png"/><Relationship Id="rId54" Type="http://schemas.openxmlformats.org/officeDocument/2006/relationships/image" Target="../media/image7.png"/><Relationship Id="rId55" Type="http://schemas.openxmlformats.org/officeDocument/2006/relationships/image" Target="../media/image3.png"/><Relationship Id="rId56" Type="http://schemas.openxmlformats.org/officeDocument/2006/relationships/image" Target="../media/image5.png"/><Relationship Id="rId57" Type="http://schemas.openxmlformats.org/officeDocument/2006/relationships/image" Target="../media/image3.png"/><Relationship Id="rId58" Type="http://schemas.openxmlformats.org/officeDocument/2006/relationships/image" Target="../media/image6.png"/><Relationship Id="rId59" Type="http://schemas.openxmlformats.org/officeDocument/2006/relationships/image" Target="../media/image8.png"/><Relationship Id="rId60" Type="http://schemas.openxmlformats.org/officeDocument/2006/relationships/image" Target="../media/image6.png"/><Relationship Id="rId61" Type="http://schemas.openxmlformats.org/officeDocument/2006/relationships/slideLayout" Target="../slideLayouts/slideLayout49.xml"/><Relationship Id="rId62" Type="http://schemas.openxmlformats.org/officeDocument/2006/relationships/slideLayout" Target="../slideLayouts/slideLayout50.xml"/><Relationship Id="rId63" Type="http://schemas.openxmlformats.org/officeDocument/2006/relationships/slideLayout" Target="../slideLayouts/slideLayout51.xml"/><Relationship Id="rId64" Type="http://schemas.openxmlformats.org/officeDocument/2006/relationships/slideLayout" Target="../slideLayouts/slideLayout52.xml"/><Relationship Id="rId65" Type="http://schemas.openxmlformats.org/officeDocument/2006/relationships/slideLayout" Target="../slideLayouts/slideLayout53.xml"/><Relationship Id="rId66" Type="http://schemas.openxmlformats.org/officeDocument/2006/relationships/slideLayout" Target="../slideLayouts/slideLayout54.xml"/><Relationship Id="rId67" Type="http://schemas.openxmlformats.org/officeDocument/2006/relationships/slideLayout" Target="../slideLayouts/slideLayout55.xml"/><Relationship Id="rId68" Type="http://schemas.openxmlformats.org/officeDocument/2006/relationships/slideLayout" Target="../slideLayouts/slideLayout56.xml"/><Relationship Id="rId69" Type="http://schemas.openxmlformats.org/officeDocument/2006/relationships/slideLayout" Target="../slideLayouts/slideLayout57.xml"/><Relationship Id="rId70" Type="http://schemas.openxmlformats.org/officeDocument/2006/relationships/slideLayout" Target="../slideLayouts/slideLayout58.xml"/><Relationship Id="rId71" Type="http://schemas.openxmlformats.org/officeDocument/2006/relationships/slideLayout" Target="../slideLayouts/slideLayout59.xml"/><Relationship Id="rId72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1.png"/><Relationship Id="rId11" Type="http://schemas.openxmlformats.org/officeDocument/2006/relationships/image" Target="../media/image2.png"/><Relationship Id="rId12" Type="http://schemas.openxmlformats.org/officeDocument/2006/relationships/image" Target="../media/image6.png"/><Relationship Id="rId13" Type="http://schemas.openxmlformats.org/officeDocument/2006/relationships/image" Target="../media/image7.png"/><Relationship Id="rId14" Type="http://schemas.openxmlformats.org/officeDocument/2006/relationships/image" Target="../media/image8.png"/><Relationship Id="rId15" Type="http://schemas.openxmlformats.org/officeDocument/2006/relationships/image" Target="../media/image1.png"/><Relationship Id="rId16" Type="http://schemas.openxmlformats.org/officeDocument/2006/relationships/image" Target="../media/image2.png"/><Relationship Id="rId17" Type="http://schemas.openxmlformats.org/officeDocument/2006/relationships/image" Target="../media/image6.png"/><Relationship Id="rId18" Type="http://schemas.openxmlformats.org/officeDocument/2006/relationships/image" Target="../media/image7.png"/><Relationship Id="rId19" Type="http://schemas.openxmlformats.org/officeDocument/2006/relationships/image" Target="../media/image8.png"/><Relationship Id="rId20" Type="http://schemas.openxmlformats.org/officeDocument/2006/relationships/image" Target="../media/image1.png"/><Relationship Id="rId21" Type="http://schemas.openxmlformats.org/officeDocument/2006/relationships/image" Target="../media/image2.png"/><Relationship Id="rId22" Type="http://schemas.openxmlformats.org/officeDocument/2006/relationships/image" Target="../media/image6.png"/><Relationship Id="rId23" Type="http://schemas.openxmlformats.org/officeDocument/2006/relationships/image" Target="../media/image7.png"/><Relationship Id="rId24" Type="http://schemas.openxmlformats.org/officeDocument/2006/relationships/image" Target="../media/image8.png"/><Relationship Id="rId25" Type="http://schemas.openxmlformats.org/officeDocument/2006/relationships/image" Target="../media/image1.png"/><Relationship Id="rId26" Type="http://schemas.openxmlformats.org/officeDocument/2006/relationships/image" Target="../media/image2.png"/><Relationship Id="rId27" Type="http://schemas.openxmlformats.org/officeDocument/2006/relationships/image" Target="../media/image6.png"/><Relationship Id="rId28" Type="http://schemas.openxmlformats.org/officeDocument/2006/relationships/image" Target="../media/image7.png"/><Relationship Id="rId29" Type="http://schemas.openxmlformats.org/officeDocument/2006/relationships/image" Target="../media/image8.png"/><Relationship Id="rId30" Type="http://schemas.openxmlformats.org/officeDocument/2006/relationships/image" Target="../media/image1.png"/><Relationship Id="rId31" Type="http://schemas.openxmlformats.org/officeDocument/2006/relationships/image" Target="../media/image6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1.png"/><Relationship Id="rId35" Type="http://schemas.openxmlformats.org/officeDocument/2006/relationships/image" Target="../media/image2.png"/><Relationship Id="rId36" Type="http://schemas.openxmlformats.org/officeDocument/2006/relationships/image" Target="../media/image6.png"/><Relationship Id="rId37" Type="http://schemas.openxmlformats.org/officeDocument/2006/relationships/image" Target="../media/image7.png"/><Relationship Id="rId38" Type="http://schemas.openxmlformats.org/officeDocument/2006/relationships/image" Target="../media/image8.png"/><Relationship Id="rId39" Type="http://schemas.openxmlformats.org/officeDocument/2006/relationships/image" Target="../media/image3.png"/><Relationship Id="rId40" Type="http://schemas.openxmlformats.org/officeDocument/2006/relationships/image" Target="../media/image4.png"/><Relationship Id="rId41" Type="http://schemas.openxmlformats.org/officeDocument/2006/relationships/image" Target="../media/image5.png"/><Relationship Id="rId42" Type="http://schemas.openxmlformats.org/officeDocument/2006/relationships/image" Target="../media/image3.png"/><Relationship Id="rId43" Type="http://schemas.openxmlformats.org/officeDocument/2006/relationships/image" Target="../media/image4.png"/><Relationship Id="rId44" Type="http://schemas.openxmlformats.org/officeDocument/2006/relationships/image" Target="../media/image5.png"/><Relationship Id="rId45" Type="http://schemas.openxmlformats.org/officeDocument/2006/relationships/image" Target="../media/image3.png"/><Relationship Id="rId46" Type="http://schemas.openxmlformats.org/officeDocument/2006/relationships/image" Target="../media/image4.png"/><Relationship Id="rId47" Type="http://schemas.openxmlformats.org/officeDocument/2006/relationships/image" Target="../media/image5.png"/><Relationship Id="rId48" Type="http://schemas.openxmlformats.org/officeDocument/2006/relationships/image" Target="../media/image3.png"/><Relationship Id="rId49" Type="http://schemas.openxmlformats.org/officeDocument/2006/relationships/image" Target="../media/image4.png"/><Relationship Id="rId50" Type="http://schemas.openxmlformats.org/officeDocument/2006/relationships/image" Target="../media/image5.png"/><Relationship Id="rId51" Type="http://schemas.openxmlformats.org/officeDocument/2006/relationships/image" Target="../media/image4.png"/><Relationship Id="rId52" Type="http://schemas.openxmlformats.org/officeDocument/2006/relationships/image" Target="../media/image5.png"/><Relationship Id="rId53" Type="http://schemas.openxmlformats.org/officeDocument/2006/relationships/image" Target="../media/image3.png"/><Relationship Id="rId54" Type="http://schemas.openxmlformats.org/officeDocument/2006/relationships/image" Target="../media/image7.png"/><Relationship Id="rId55" Type="http://schemas.openxmlformats.org/officeDocument/2006/relationships/image" Target="../media/image3.png"/><Relationship Id="rId56" Type="http://schemas.openxmlformats.org/officeDocument/2006/relationships/image" Target="../media/image5.png"/><Relationship Id="rId57" Type="http://schemas.openxmlformats.org/officeDocument/2006/relationships/image" Target="../media/image3.png"/><Relationship Id="rId58" Type="http://schemas.openxmlformats.org/officeDocument/2006/relationships/image" Target="../media/image6.png"/><Relationship Id="rId59" Type="http://schemas.openxmlformats.org/officeDocument/2006/relationships/image" Target="../media/image8.png"/><Relationship Id="rId60" Type="http://schemas.openxmlformats.org/officeDocument/2006/relationships/image" Target="../media/image6.png"/><Relationship Id="rId61" Type="http://schemas.openxmlformats.org/officeDocument/2006/relationships/slideLayout" Target="../slideLayouts/slideLayout61.xml"/><Relationship Id="rId62" Type="http://schemas.openxmlformats.org/officeDocument/2006/relationships/slideLayout" Target="../slideLayouts/slideLayout62.xml"/><Relationship Id="rId63" Type="http://schemas.openxmlformats.org/officeDocument/2006/relationships/slideLayout" Target="../slideLayouts/slideLayout63.xml"/><Relationship Id="rId64" Type="http://schemas.openxmlformats.org/officeDocument/2006/relationships/slideLayout" Target="../slideLayouts/slideLayout64.xml"/><Relationship Id="rId65" Type="http://schemas.openxmlformats.org/officeDocument/2006/relationships/slideLayout" Target="../slideLayouts/slideLayout65.xml"/><Relationship Id="rId66" Type="http://schemas.openxmlformats.org/officeDocument/2006/relationships/slideLayout" Target="../slideLayouts/slideLayout66.xml"/><Relationship Id="rId67" Type="http://schemas.openxmlformats.org/officeDocument/2006/relationships/slideLayout" Target="../slideLayouts/slideLayout67.xml"/><Relationship Id="rId68" Type="http://schemas.openxmlformats.org/officeDocument/2006/relationships/slideLayout" Target="../slideLayouts/slideLayout68.xml"/><Relationship Id="rId69" Type="http://schemas.openxmlformats.org/officeDocument/2006/relationships/slideLayout" Target="../slideLayouts/slideLayout69.xml"/><Relationship Id="rId70" Type="http://schemas.openxmlformats.org/officeDocument/2006/relationships/slideLayout" Target="../slideLayouts/slideLayout70.xml"/><Relationship Id="rId71" Type="http://schemas.openxmlformats.org/officeDocument/2006/relationships/slideLayout" Target="../slideLayouts/slideLayout71.xml"/><Relationship Id="rId72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组合 1"/>
          <p:cNvGrpSpPr/>
          <p:nvPr/>
        </p:nvGrpSpPr>
        <p:grpSpPr>
          <a:xfrm>
            <a:off x="-111960" y="-270000"/>
            <a:ext cx="12590280" cy="7387560"/>
            <a:chOff x="-111960" y="-270000"/>
            <a:chExt cx="12590280" cy="7387560"/>
          </a:xfrm>
        </p:grpSpPr>
        <p:pic>
          <p:nvPicPr>
            <p:cNvPr id="1" name="图片 7" descr=""/>
            <p:cNvPicPr/>
            <p:nvPr/>
          </p:nvPicPr>
          <p:blipFill>
            <a:blip r:embed="rId2"/>
            <a:srcRect l="0" t="7595" r="0" b="0"/>
            <a:stretch/>
          </p:blipFill>
          <p:spPr>
            <a:xfrm>
              <a:off x="5501160" y="184320"/>
              <a:ext cx="825480" cy="77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图片 8" descr=""/>
            <p:cNvPicPr/>
            <p:nvPr/>
          </p:nvPicPr>
          <p:blipFill>
            <a:blip r:embed="rId3"/>
            <a:stretch/>
          </p:blipFill>
          <p:spPr>
            <a:xfrm>
              <a:off x="2641320" y="2014560"/>
              <a:ext cx="731160" cy="71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" name="图片 9" descr=""/>
            <p:cNvPicPr/>
            <p:nvPr/>
          </p:nvPicPr>
          <p:blipFill>
            <a:blip r:embed="rId4"/>
            <a:stretch/>
          </p:blipFill>
          <p:spPr>
            <a:xfrm>
              <a:off x="4092840" y="2239560"/>
              <a:ext cx="389880" cy="53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" name="图片 10" descr=""/>
            <p:cNvPicPr/>
            <p:nvPr/>
          </p:nvPicPr>
          <p:blipFill>
            <a:blip r:embed="rId5"/>
            <a:stretch/>
          </p:blipFill>
          <p:spPr>
            <a:xfrm>
              <a:off x="1221120" y="313560"/>
              <a:ext cx="379080" cy="53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" name="图片 11" descr=""/>
            <p:cNvPicPr/>
            <p:nvPr/>
          </p:nvPicPr>
          <p:blipFill>
            <a:blip r:embed="rId6"/>
            <a:stretch/>
          </p:blipFill>
          <p:spPr>
            <a:xfrm>
              <a:off x="376560" y="5691240"/>
              <a:ext cx="404640" cy="53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" name="图片 12" descr=""/>
            <p:cNvPicPr/>
            <p:nvPr/>
          </p:nvPicPr>
          <p:blipFill>
            <a:blip r:embed="rId7"/>
            <a:stretch/>
          </p:blipFill>
          <p:spPr>
            <a:xfrm>
              <a:off x="6239160" y="4099680"/>
              <a:ext cx="786960" cy="88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" name="图片 13" descr=""/>
            <p:cNvPicPr/>
            <p:nvPr/>
          </p:nvPicPr>
          <p:blipFill>
            <a:blip r:embed="rId8"/>
            <a:stretch/>
          </p:blipFill>
          <p:spPr>
            <a:xfrm>
              <a:off x="3420720" y="1173960"/>
              <a:ext cx="675360" cy="63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" name="图片 14" descr=""/>
            <p:cNvPicPr/>
            <p:nvPr/>
          </p:nvPicPr>
          <p:blipFill>
            <a:blip r:embed="rId9"/>
            <a:stretch/>
          </p:blipFill>
          <p:spPr>
            <a:xfrm>
              <a:off x="2461680" y="4782960"/>
              <a:ext cx="81792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椭圆 15"/>
            <p:cNvSpPr/>
            <p:nvPr/>
          </p:nvSpPr>
          <p:spPr>
            <a:xfrm>
              <a:off x="11497680" y="4462560"/>
              <a:ext cx="304560" cy="304560"/>
            </a:xfrm>
            <a:prstGeom prst="ellipse">
              <a:avLst/>
            </a:prstGeom>
            <a:solidFill>
              <a:srgbClr val="f7f7f7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0" name="椭圆 16"/>
            <p:cNvSpPr/>
            <p:nvPr/>
          </p:nvSpPr>
          <p:spPr>
            <a:xfrm>
              <a:off x="9341640" y="4772160"/>
              <a:ext cx="514800" cy="514800"/>
            </a:xfrm>
            <a:prstGeom prst="ellipse">
              <a:avLst/>
            </a:prstGeom>
            <a:solidFill>
              <a:srgbClr val="f7f7f7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1" name="椭圆 17"/>
            <p:cNvSpPr/>
            <p:nvPr/>
          </p:nvSpPr>
          <p:spPr>
            <a:xfrm>
              <a:off x="9353160" y="3504240"/>
              <a:ext cx="514800" cy="514800"/>
            </a:xfrm>
            <a:prstGeom prst="ellipse">
              <a:avLst/>
            </a:prstGeom>
            <a:solidFill>
              <a:srgbClr val="f7f7f7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2" name="椭圆 18"/>
            <p:cNvSpPr/>
            <p:nvPr/>
          </p:nvSpPr>
          <p:spPr>
            <a:xfrm>
              <a:off x="11535480" y="2717640"/>
              <a:ext cx="514800" cy="514800"/>
            </a:xfrm>
            <a:prstGeom prst="ellipse">
              <a:avLst/>
            </a:prstGeom>
            <a:solidFill>
              <a:srgbClr val="f7f7f7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3" name="椭圆 19"/>
            <p:cNvSpPr/>
            <p:nvPr/>
          </p:nvSpPr>
          <p:spPr>
            <a:xfrm>
              <a:off x="11217960" y="979560"/>
              <a:ext cx="832320" cy="832320"/>
            </a:xfrm>
            <a:prstGeom prst="ellipse">
              <a:avLst/>
            </a:prstGeom>
            <a:solidFill>
              <a:srgbClr val="f7f7f7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4" name="椭圆 20"/>
            <p:cNvSpPr/>
            <p:nvPr/>
          </p:nvSpPr>
          <p:spPr>
            <a:xfrm>
              <a:off x="4388760" y="2797560"/>
              <a:ext cx="304560" cy="304560"/>
            </a:xfrm>
            <a:prstGeom prst="ellipse">
              <a:avLst/>
            </a:prstGeom>
            <a:solidFill>
              <a:srgbClr val="f7f7f7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5" name="椭圆 21"/>
            <p:cNvSpPr/>
            <p:nvPr/>
          </p:nvSpPr>
          <p:spPr>
            <a:xfrm rot="1662600">
              <a:off x="8667000" y="-96840"/>
              <a:ext cx="932400" cy="932400"/>
            </a:xfrm>
            <a:prstGeom prst="ellipse">
              <a:avLst/>
            </a:prstGeom>
            <a:solidFill>
              <a:srgbClr val="f7f7f7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6" name="椭圆 22"/>
            <p:cNvSpPr/>
            <p:nvPr/>
          </p:nvSpPr>
          <p:spPr>
            <a:xfrm rot="3445200">
              <a:off x="2530440" y="471960"/>
              <a:ext cx="832320" cy="832320"/>
            </a:xfrm>
            <a:prstGeom prst="ellipse">
              <a:avLst/>
            </a:prstGeom>
            <a:solidFill>
              <a:srgbClr val="f7f7f7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pic>
          <p:nvPicPr>
            <p:cNvPr id="17" name="图片 23" descr=""/>
            <p:cNvPicPr/>
            <p:nvPr/>
          </p:nvPicPr>
          <p:blipFill>
            <a:blip r:embed="rId10"/>
            <a:srcRect l="0" t="7595" r="0" b="0"/>
            <a:stretch/>
          </p:blipFill>
          <p:spPr>
            <a:xfrm>
              <a:off x="852480" y="3169800"/>
              <a:ext cx="825480" cy="77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" name="图片 24" descr=""/>
            <p:cNvPicPr/>
            <p:nvPr/>
          </p:nvPicPr>
          <p:blipFill>
            <a:blip r:embed="rId11"/>
            <a:stretch/>
          </p:blipFill>
          <p:spPr>
            <a:xfrm>
              <a:off x="4320000" y="6043320"/>
              <a:ext cx="731160" cy="71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" name="图片 25" descr=""/>
            <p:cNvPicPr/>
            <p:nvPr/>
          </p:nvPicPr>
          <p:blipFill>
            <a:blip r:embed="rId12"/>
            <a:stretch/>
          </p:blipFill>
          <p:spPr>
            <a:xfrm>
              <a:off x="5725440" y="5887440"/>
              <a:ext cx="786960" cy="88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图片 26" descr=""/>
            <p:cNvPicPr/>
            <p:nvPr/>
          </p:nvPicPr>
          <p:blipFill>
            <a:blip r:embed="rId13"/>
            <a:stretch/>
          </p:blipFill>
          <p:spPr>
            <a:xfrm>
              <a:off x="3838320" y="5167440"/>
              <a:ext cx="675360" cy="63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图片 27" descr=""/>
            <p:cNvPicPr/>
            <p:nvPr/>
          </p:nvPicPr>
          <p:blipFill>
            <a:blip r:embed="rId14"/>
            <a:stretch/>
          </p:blipFill>
          <p:spPr>
            <a:xfrm>
              <a:off x="11660400" y="6276240"/>
              <a:ext cx="817920" cy="841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" name="图片 28" descr=""/>
            <p:cNvPicPr/>
            <p:nvPr/>
          </p:nvPicPr>
          <p:blipFill>
            <a:blip r:embed="rId15"/>
            <a:srcRect l="0" t="7595" r="0" b="0"/>
            <a:stretch/>
          </p:blipFill>
          <p:spPr>
            <a:xfrm>
              <a:off x="10017360" y="2639520"/>
              <a:ext cx="825480" cy="77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" name="图片 29" descr=""/>
            <p:cNvPicPr/>
            <p:nvPr/>
          </p:nvPicPr>
          <p:blipFill>
            <a:blip r:embed="rId16"/>
            <a:stretch/>
          </p:blipFill>
          <p:spPr>
            <a:xfrm>
              <a:off x="7371000" y="578880"/>
              <a:ext cx="731160" cy="71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" name="图片 30" descr=""/>
            <p:cNvPicPr/>
            <p:nvPr/>
          </p:nvPicPr>
          <p:blipFill>
            <a:blip r:embed="rId17"/>
            <a:stretch/>
          </p:blipFill>
          <p:spPr>
            <a:xfrm>
              <a:off x="9693360" y="650520"/>
              <a:ext cx="786960" cy="88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" name="图片 31" descr=""/>
            <p:cNvPicPr/>
            <p:nvPr/>
          </p:nvPicPr>
          <p:blipFill>
            <a:blip r:embed="rId18"/>
            <a:stretch/>
          </p:blipFill>
          <p:spPr>
            <a:xfrm>
              <a:off x="4379760" y="219240"/>
              <a:ext cx="675360" cy="63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" name="图片 32" descr=""/>
            <p:cNvPicPr/>
            <p:nvPr/>
          </p:nvPicPr>
          <p:blipFill>
            <a:blip r:embed="rId19"/>
            <a:stretch/>
          </p:blipFill>
          <p:spPr>
            <a:xfrm>
              <a:off x="7751880" y="4479840"/>
              <a:ext cx="817920" cy="841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" name="图片 33" descr=""/>
            <p:cNvPicPr/>
            <p:nvPr/>
          </p:nvPicPr>
          <p:blipFill>
            <a:blip r:embed="rId20"/>
            <a:srcRect l="0" t="7595" r="0" b="0"/>
            <a:stretch/>
          </p:blipFill>
          <p:spPr>
            <a:xfrm>
              <a:off x="11366280" y="-260280"/>
              <a:ext cx="825480" cy="77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" name="图片 34" descr=""/>
            <p:cNvPicPr/>
            <p:nvPr/>
          </p:nvPicPr>
          <p:blipFill>
            <a:blip r:embed="rId21"/>
            <a:stretch/>
          </p:blipFill>
          <p:spPr>
            <a:xfrm>
              <a:off x="8371080" y="2014560"/>
              <a:ext cx="731160" cy="71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" name="图片 35" descr=""/>
            <p:cNvPicPr/>
            <p:nvPr/>
          </p:nvPicPr>
          <p:blipFill>
            <a:blip r:embed="rId22"/>
            <a:stretch/>
          </p:blipFill>
          <p:spPr>
            <a:xfrm>
              <a:off x="10992600" y="3390480"/>
              <a:ext cx="786960" cy="88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" name="图片 36" descr=""/>
            <p:cNvPicPr/>
            <p:nvPr/>
          </p:nvPicPr>
          <p:blipFill>
            <a:blip r:embed="rId23"/>
            <a:stretch/>
          </p:blipFill>
          <p:spPr>
            <a:xfrm>
              <a:off x="10700280" y="4938120"/>
              <a:ext cx="675360" cy="63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" name="图片 37" descr=""/>
            <p:cNvPicPr/>
            <p:nvPr/>
          </p:nvPicPr>
          <p:blipFill>
            <a:blip r:embed="rId24"/>
            <a:stretch/>
          </p:blipFill>
          <p:spPr>
            <a:xfrm>
              <a:off x="6074640" y="1372680"/>
              <a:ext cx="817920" cy="841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" name="图片 38" descr=""/>
            <p:cNvPicPr/>
            <p:nvPr/>
          </p:nvPicPr>
          <p:blipFill>
            <a:blip r:embed="rId25"/>
            <a:srcRect l="0" t="7595" r="0" b="0"/>
            <a:stretch/>
          </p:blipFill>
          <p:spPr>
            <a:xfrm>
              <a:off x="8310960" y="3040920"/>
              <a:ext cx="825480" cy="77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" name="图片 39" descr=""/>
            <p:cNvPicPr/>
            <p:nvPr/>
          </p:nvPicPr>
          <p:blipFill>
            <a:blip r:embed="rId26"/>
            <a:stretch/>
          </p:blipFill>
          <p:spPr>
            <a:xfrm>
              <a:off x="9800640" y="5683320"/>
              <a:ext cx="731160" cy="71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" name="图片 40" descr=""/>
            <p:cNvPicPr/>
            <p:nvPr/>
          </p:nvPicPr>
          <p:blipFill>
            <a:blip r:embed="rId27"/>
            <a:stretch/>
          </p:blipFill>
          <p:spPr>
            <a:xfrm>
              <a:off x="7228080" y="5700240"/>
              <a:ext cx="786960" cy="88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" name="图片 41" descr=""/>
            <p:cNvPicPr/>
            <p:nvPr/>
          </p:nvPicPr>
          <p:blipFill>
            <a:blip r:embed="rId28"/>
            <a:stretch/>
          </p:blipFill>
          <p:spPr>
            <a:xfrm>
              <a:off x="5734440" y="3250080"/>
              <a:ext cx="675360" cy="63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" name="图片 42" descr=""/>
            <p:cNvPicPr/>
            <p:nvPr/>
          </p:nvPicPr>
          <p:blipFill>
            <a:blip r:embed="rId29"/>
            <a:stretch/>
          </p:blipFill>
          <p:spPr>
            <a:xfrm>
              <a:off x="6568560" y="2763360"/>
              <a:ext cx="817920" cy="841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" name="图片 43" descr=""/>
            <p:cNvPicPr/>
            <p:nvPr/>
          </p:nvPicPr>
          <p:blipFill>
            <a:blip r:embed="rId30"/>
            <a:srcRect l="0" t="7595" r="0" b="0"/>
            <a:stretch/>
          </p:blipFill>
          <p:spPr>
            <a:xfrm>
              <a:off x="5060520" y="2435400"/>
              <a:ext cx="825480" cy="77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" name="图片 44" descr=""/>
            <p:cNvPicPr/>
            <p:nvPr/>
          </p:nvPicPr>
          <p:blipFill>
            <a:blip r:embed="rId31"/>
            <a:stretch/>
          </p:blipFill>
          <p:spPr>
            <a:xfrm>
              <a:off x="1976040" y="1150200"/>
              <a:ext cx="731160" cy="71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" name="图片 45" descr=""/>
            <p:cNvPicPr/>
            <p:nvPr/>
          </p:nvPicPr>
          <p:blipFill>
            <a:blip r:embed="rId32"/>
            <a:stretch/>
          </p:blipFill>
          <p:spPr>
            <a:xfrm>
              <a:off x="3346920" y="2985840"/>
              <a:ext cx="786960" cy="88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" name="图片 46" descr=""/>
            <p:cNvPicPr/>
            <p:nvPr/>
          </p:nvPicPr>
          <p:blipFill>
            <a:blip r:embed="rId33"/>
            <a:stretch/>
          </p:blipFill>
          <p:spPr>
            <a:xfrm>
              <a:off x="194760" y="-3240"/>
              <a:ext cx="675360" cy="63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" name="图片 47" descr=""/>
            <p:cNvPicPr/>
            <p:nvPr/>
          </p:nvPicPr>
          <p:blipFill>
            <a:blip r:embed="rId34"/>
            <a:stretch/>
          </p:blipFill>
          <p:spPr>
            <a:xfrm>
              <a:off x="1317960" y="2088000"/>
              <a:ext cx="817920" cy="841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" name="图片 48" descr=""/>
            <p:cNvPicPr/>
            <p:nvPr/>
          </p:nvPicPr>
          <p:blipFill>
            <a:blip r:embed="rId35"/>
            <a:srcRect l="0" t="7595" r="0" b="0"/>
            <a:stretch/>
          </p:blipFill>
          <p:spPr>
            <a:xfrm>
              <a:off x="3023280" y="6165360"/>
              <a:ext cx="825480" cy="77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图片 49" descr=""/>
            <p:cNvPicPr/>
            <p:nvPr/>
          </p:nvPicPr>
          <p:blipFill>
            <a:blip r:embed="rId36"/>
            <a:stretch/>
          </p:blipFill>
          <p:spPr>
            <a:xfrm>
              <a:off x="-111960" y="4019400"/>
              <a:ext cx="731160" cy="71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" name="图片 50" descr=""/>
            <p:cNvPicPr/>
            <p:nvPr/>
          </p:nvPicPr>
          <p:blipFill>
            <a:blip r:embed="rId37"/>
            <a:stretch/>
          </p:blipFill>
          <p:spPr>
            <a:xfrm>
              <a:off x="1746720" y="4051800"/>
              <a:ext cx="786960" cy="88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图片 51" descr=""/>
            <p:cNvPicPr/>
            <p:nvPr/>
          </p:nvPicPr>
          <p:blipFill>
            <a:blip r:embed="rId38"/>
            <a:stretch/>
          </p:blipFill>
          <p:spPr>
            <a:xfrm>
              <a:off x="767520" y="4888440"/>
              <a:ext cx="675360" cy="63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图片 52" descr=""/>
            <p:cNvPicPr/>
            <p:nvPr/>
          </p:nvPicPr>
          <p:blipFill>
            <a:blip r:embed="rId39"/>
            <a:stretch/>
          </p:blipFill>
          <p:spPr>
            <a:xfrm>
              <a:off x="-99000" y="6238800"/>
              <a:ext cx="81792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椭圆 53"/>
            <p:cNvSpPr/>
            <p:nvPr/>
          </p:nvSpPr>
          <p:spPr>
            <a:xfrm>
              <a:off x="2175480" y="6132960"/>
              <a:ext cx="304560" cy="304560"/>
            </a:xfrm>
            <a:prstGeom prst="ellipse">
              <a:avLst/>
            </a:prstGeom>
            <a:solidFill>
              <a:srgbClr val="f7f7f7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8" name="椭圆 54"/>
            <p:cNvSpPr/>
            <p:nvPr/>
          </p:nvSpPr>
          <p:spPr>
            <a:xfrm>
              <a:off x="963720" y="6238800"/>
              <a:ext cx="514800" cy="514800"/>
            </a:xfrm>
            <a:prstGeom prst="ellipse">
              <a:avLst/>
            </a:prstGeom>
            <a:solidFill>
              <a:srgbClr val="f7f7f7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9" name="椭圆 55"/>
            <p:cNvSpPr/>
            <p:nvPr/>
          </p:nvSpPr>
          <p:spPr>
            <a:xfrm>
              <a:off x="1583640" y="5228640"/>
              <a:ext cx="514800" cy="514800"/>
            </a:xfrm>
            <a:prstGeom prst="ellipse">
              <a:avLst/>
            </a:prstGeom>
            <a:solidFill>
              <a:srgbClr val="f7f7f7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0" name="椭圆 56"/>
            <p:cNvSpPr/>
            <p:nvPr/>
          </p:nvSpPr>
          <p:spPr>
            <a:xfrm>
              <a:off x="3157560" y="4184280"/>
              <a:ext cx="514800" cy="514800"/>
            </a:xfrm>
            <a:prstGeom prst="ellipse">
              <a:avLst/>
            </a:prstGeom>
            <a:solidFill>
              <a:srgbClr val="f7f7f7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1" name="椭圆 57"/>
            <p:cNvSpPr/>
            <p:nvPr/>
          </p:nvSpPr>
          <p:spPr>
            <a:xfrm>
              <a:off x="2113920" y="2833920"/>
              <a:ext cx="832320" cy="832320"/>
            </a:xfrm>
            <a:prstGeom prst="ellipse">
              <a:avLst/>
            </a:prstGeom>
            <a:solidFill>
              <a:srgbClr val="f7f7f7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2" name="椭圆 58"/>
            <p:cNvSpPr/>
            <p:nvPr/>
          </p:nvSpPr>
          <p:spPr>
            <a:xfrm rot="1662600">
              <a:off x="289080" y="1369080"/>
              <a:ext cx="932400" cy="932400"/>
            </a:xfrm>
            <a:prstGeom prst="ellipse">
              <a:avLst/>
            </a:prstGeom>
            <a:solidFill>
              <a:srgbClr val="f7f7f7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3" name="椭圆 59"/>
            <p:cNvSpPr/>
            <p:nvPr/>
          </p:nvSpPr>
          <p:spPr>
            <a:xfrm>
              <a:off x="7608240" y="5333760"/>
              <a:ext cx="304560" cy="304560"/>
            </a:xfrm>
            <a:prstGeom prst="ellipse">
              <a:avLst/>
            </a:prstGeom>
            <a:solidFill>
              <a:srgbClr val="f7f7f7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4" name="椭圆 60"/>
            <p:cNvSpPr/>
            <p:nvPr/>
          </p:nvSpPr>
          <p:spPr>
            <a:xfrm>
              <a:off x="4449240" y="4597200"/>
              <a:ext cx="514800" cy="514800"/>
            </a:xfrm>
            <a:prstGeom prst="ellipse">
              <a:avLst/>
            </a:prstGeom>
            <a:solidFill>
              <a:srgbClr val="f7f7f7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5" name="椭圆 61"/>
            <p:cNvSpPr/>
            <p:nvPr/>
          </p:nvSpPr>
          <p:spPr>
            <a:xfrm>
              <a:off x="5463720" y="4375080"/>
              <a:ext cx="514800" cy="514800"/>
            </a:xfrm>
            <a:prstGeom prst="ellipse">
              <a:avLst/>
            </a:prstGeom>
            <a:solidFill>
              <a:srgbClr val="f7f7f7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6" name="椭圆 62"/>
            <p:cNvSpPr/>
            <p:nvPr/>
          </p:nvSpPr>
          <p:spPr>
            <a:xfrm>
              <a:off x="7453080" y="3719520"/>
              <a:ext cx="514800" cy="514800"/>
            </a:xfrm>
            <a:prstGeom prst="ellipse">
              <a:avLst/>
            </a:prstGeom>
            <a:solidFill>
              <a:srgbClr val="f7f7f7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7" name="椭圆 63"/>
            <p:cNvSpPr/>
            <p:nvPr/>
          </p:nvSpPr>
          <p:spPr>
            <a:xfrm>
              <a:off x="7069680" y="1760400"/>
              <a:ext cx="832320" cy="832320"/>
            </a:xfrm>
            <a:prstGeom prst="ellipse">
              <a:avLst/>
            </a:prstGeom>
            <a:solidFill>
              <a:srgbClr val="f7f7f7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8" name="椭圆 64"/>
            <p:cNvSpPr/>
            <p:nvPr/>
          </p:nvSpPr>
          <p:spPr>
            <a:xfrm rot="1662600">
              <a:off x="4297680" y="3553560"/>
              <a:ext cx="932400" cy="932400"/>
            </a:xfrm>
            <a:prstGeom prst="ellipse">
              <a:avLst/>
            </a:prstGeom>
            <a:solidFill>
              <a:srgbClr val="f7f7f7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pic>
          <p:nvPicPr>
            <p:cNvPr id="59" name="图片 65" descr=""/>
            <p:cNvPicPr/>
            <p:nvPr/>
          </p:nvPicPr>
          <p:blipFill>
            <a:blip r:embed="rId40"/>
            <a:stretch/>
          </p:blipFill>
          <p:spPr>
            <a:xfrm>
              <a:off x="11302560" y="5592960"/>
              <a:ext cx="389880" cy="53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" name="图片 66" descr=""/>
            <p:cNvPicPr/>
            <p:nvPr/>
          </p:nvPicPr>
          <p:blipFill>
            <a:blip r:embed="rId41"/>
            <a:stretch/>
          </p:blipFill>
          <p:spPr>
            <a:xfrm>
              <a:off x="4543920" y="1580400"/>
              <a:ext cx="379080" cy="53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" name="图片 67" descr=""/>
            <p:cNvPicPr/>
            <p:nvPr/>
          </p:nvPicPr>
          <p:blipFill>
            <a:blip r:embed="rId42"/>
            <a:stretch/>
          </p:blipFill>
          <p:spPr>
            <a:xfrm>
              <a:off x="8662320" y="4123440"/>
              <a:ext cx="404640" cy="53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图片 68" descr=""/>
            <p:cNvPicPr/>
            <p:nvPr/>
          </p:nvPicPr>
          <p:blipFill>
            <a:blip r:embed="rId43"/>
            <a:stretch/>
          </p:blipFill>
          <p:spPr>
            <a:xfrm>
              <a:off x="8449200" y="5318640"/>
              <a:ext cx="389880" cy="53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图片 69" descr=""/>
            <p:cNvPicPr/>
            <p:nvPr/>
          </p:nvPicPr>
          <p:blipFill>
            <a:blip r:embed="rId44"/>
            <a:stretch/>
          </p:blipFill>
          <p:spPr>
            <a:xfrm>
              <a:off x="11051280" y="2165400"/>
              <a:ext cx="379080" cy="53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" name="图片 70" descr=""/>
            <p:cNvPicPr/>
            <p:nvPr/>
          </p:nvPicPr>
          <p:blipFill>
            <a:blip r:embed="rId45"/>
            <a:stretch/>
          </p:blipFill>
          <p:spPr>
            <a:xfrm>
              <a:off x="5105160" y="5247360"/>
              <a:ext cx="404640" cy="53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图片 71" descr=""/>
            <p:cNvPicPr/>
            <p:nvPr/>
          </p:nvPicPr>
          <p:blipFill>
            <a:blip r:embed="rId46"/>
            <a:stretch/>
          </p:blipFill>
          <p:spPr>
            <a:xfrm>
              <a:off x="6535080" y="5098320"/>
              <a:ext cx="389880" cy="53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图片 72" descr=""/>
            <p:cNvPicPr/>
            <p:nvPr/>
          </p:nvPicPr>
          <p:blipFill>
            <a:blip r:embed="rId47"/>
            <a:stretch/>
          </p:blipFill>
          <p:spPr>
            <a:xfrm>
              <a:off x="10503000" y="26280"/>
              <a:ext cx="379080" cy="53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图片 73" descr=""/>
            <p:cNvPicPr/>
            <p:nvPr/>
          </p:nvPicPr>
          <p:blipFill>
            <a:blip r:embed="rId48"/>
            <a:stretch/>
          </p:blipFill>
          <p:spPr>
            <a:xfrm>
              <a:off x="9873360" y="4250880"/>
              <a:ext cx="404640" cy="53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图片 74" descr=""/>
            <p:cNvPicPr/>
            <p:nvPr/>
          </p:nvPicPr>
          <p:blipFill>
            <a:blip r:embed="rId49"/>
            <a:stretch/>
          </p:blipFill>
          <p:spPr>
            <a:xfrm>
              <a:off x="343800" y="2465640"/>
              <a:ext cx="389880" cy="53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" name="图片 75" descr=""/>
            <p:cNvPicPr/>
            <p:nvPr/>
          </p:nvPicPr>
          <p:blipFill>
            <a:blip r:embed="rId50"/>
            <a:stretch/>
          </p:blipFill>
          <p:spPr>
            <a:xfrm>
              <a:off x="10652400" y="6408360"/>
              <a:ext cx="379080" cy="53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" name="图片 76" descr=""/>
            <p:cNvPicPr/>
            <p:nvPr/>
          </p:nvPicPr>
          <p:blipFill>
            <a:blip r:embed="rId51"/>
            <a:stretch/>
          </p:blipFill>
          <p:spPr>
            <a:xfrm>
              <a:off x="10068480" y="1595160"/>
              <a:ext cx="404640" cy="53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图片 77" descr=""/>
            <p:cNvPicPr/>
            <p:nvPr/>
          </p:nvPicPr>
          <p:blipFill>
            <a:blip r:embed="rId52"/>
            <a:stretch/>
          </p:blipFill>
          <p:spPr>
            <a:xfrm>
              <a:off x="6809400" y="536760"/>
              <a:ext cx="379080" cy="53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图片 78" descr=""/>
            <p:cNvPicPr/>
            <p:nvPr/>
          </p:nvPicPr>
          <p:blipFill>
            <a:blip r:embed="rId53"/>
            <a:stretch/>
          </p:blipFill>
          <p:spPr>
            <a:xfrm>
              <a:off x="5347080" y="1193760"/>
              <a:ext cx="404640" cy="53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图片 79" descr=""/>
            <p:cNvPicPr/>
            <p:nvPr/>
          </p:nvPicPr>
          <p:blipFill>
            <a:blip r:embed="rId54"/>
            <a:stretch/>
          </p:blipFill>
          <p:spPr>
            <a:xfrm>
              <a:off x="8598600" y="923760"/>
              <a:ext cx="389880" cy="53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图片 80" descr=""/>
            <p:cNvPicPr/>
            <p:nvPr/>
          </p:nvPicPr>
          <p:blipFill>
            <a:blip r:embed="rId55"/>
            <a:stretch/>
          </p:blipFill>
          <p:spPr>
            <a:xfrm>
              <a:off x="1943280" y="-127080"/>
              <a:ext cx="675360" cy="63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" name="图片 81" descr=""/>
            <p:cNvPicPr/>
            <p:nvPr/>
          </p:nvPicPr>
          <p:blipFill>
            <a:blip r:embed="rId56"/>
            <a:stretch/>
          </p:blipFill>
          <p:spPr>
            <a:xfrm>
              <a:off x="7772760" y="-47160"/>
              <a:ext cx="389880" cy="53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" name="图片 82" descr=""/>
            <p:cNvPicPr/>
            <p:nvPr/>
          </p:nvPicPr>
          <p:blipFill>
            <a:blip r:embed="rId57"/>
            <a:stretch/>
          </p:blipFill>
          <p:spPr>
            <a:xfrm>
              <a:off x="3210120" y="-47160"/>
              <a:ext cx="404640" cy="53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" name="图片 83" descr=""/>
            <p:cNvPicPr/>
            <p:nvPr/>
          </p:nvPicPr>
          <p:blipFill>
            <a:blip r:embed="rId58"/>
            <a:stretch/>
          </p:blipFill>
          <p:spPr>
            <a:xfrm>
              <a:off x="5181840" y="-3240"/>
              <a:ext cx="389880" cy="53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" name="图片 84" descr=""/>
            <p:cNvPicPr/>
            <p:nvPr/>
          </p:nvPicPr>
          <p:blipFill>
            <a:blip r:embed="rId59"/>
            <a:stretch/>
          </p:blipFill>
          <p:spPr>
            <a:xfrm>
              <a:off x="8196120" y="6055200"/>
              <a:ext cx="786960" cy="88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" name="图片 85" descr=""/>
            <p:cNvPicPr/>
            <p:nvPr/>
          </p:nvPicPr>
          <p:blipFill>
            <a:blip r:embed="rId60"/>
            <a:stretch/>
          </p:blipFill>
          <p:spPr>
            <a:xfrm>
              <a:off x="8947440" y="5576760"/>
              <a:ext cx="817920" cy="841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" name="图片 86" descr=""/>
            <p:cNvPicPr/>
            <p:nvPr/>
          </p:nvPicPr>
          <p:blipFill>
            <a:blip r:embed="rId61"/>
            <a:stretch/>
          </p:blipFill>
          <p:spPr>
            <a:xfrm>
              <a:off x="6413760" y="-270000"/>
              <a:ext cx="786960" cy="885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2"/>
    <p:sldLayoutId id="2147483650" r:id="rId63"/>
    <p:sldLayoutId id="2147483651" r:id="rId64"/>
    <p:sldLayoutId id="2147483652" r:id="rId65"/>
    <p:sldLayoutId id="2147483653" r:id="rId66"/>
    <p:sldLayoutId id="2147483654" r:id="rId67"/>
    <p:sldLayoutId id="2147483655" r:id="rId68"/>
    <p:sldLayoutId id="2147483656" r:id="rId69"/>
    <p:sldLayoutId id="2147483657" r:id="rId70"/>
    <p:sldLayoutId id="2147483658" r:id="rId71"/>
    <p:sldLayoutId id="2147483659" r:id="rId72"/>
    <p:sldLayoutId id="2147483660" r:id="rId7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04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图片 92" descr=""/>
          <p:cNvPicPr/>
          <p:nvPr/>
        </p:nvPicPr>
        <p:blipFill>
          <a:blip r:embed="rId2"/>
          <a:stretch/>
        </p:blipFill>
        <p:spPr>
          <a:xfrm>
            <a:off x="-127080" y="-246240"/>
            <a:ext cx="12585960" cy="738684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组合 1"/>
          <p:cNvGrpSpPr/>
          <p:nvPr/>
        </p:nvGrpSpPr>
        <p:grpSpPr>
          <a:xfrm>
            <a:off x="-111960" y="-270000"/>
            <a:ext cx="12590280" cy="7387560"/>
            <a:chOff x="-111960" y="-270000"/>
            <a:chExt cx="12590280" cy="7387560"/>
          </a:xfrm>
        </p:grpSpPr>
        <p:pic>
          <p:nvPicPr>
            <p:cNvPr id="159" name="图片 7" descr=""/>
            <p:cNvPicPr/>
            <p:nvPr/>
          </p:nvPicPr>
          <p:blipFill>
            <a:blip r:embed="rId2"/>
            <a:srcRect l="0" t="7595" r="0" b="0"/>
            <a:stretch/>
          </p:blipFill>
          <p:spPr>
            <a:xfrm>
              <a:off x="5501160" y="184320"/>
              <a:ext cx="825480" cy="77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0" name="图片 8" descr=""/>
            <p:cNvPicPr/>
            <p:nvPr/>
          </p:nvPicPr>
          <p:blipFill>
            <a:blip r:embed="rId3"/>
            <a:stretch/>
          </p:blipFill>
          <p:spPr>
            <a:xfrm>
              <a:off x="2641320" y="2014560"/>
              <a:ext cx="731160" cy="71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" name="图片 9" descr=""/>
            <p:cNvPicPr/>
            <p:nvPr/>
          </p:nvPicPr>
          <p:blipFill>
            <a:blip r:embed="rId4"/>
            <a:stretch/>
          </p:blipFill>
          <p:spPr>
            <a:xfrm>
              <a:off x="4092840" y="2239560"/>
              <a:ext cx="389880" cy="53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" name="图片 10" descr=""/>
            <p:cNvPicPr/>
            <p:nvPr/>
          </p:nvPicPr>
          <p:blipFill>
            <a:blip r:embed="rId5"/>
            <a:stretch/>
          </p:blipFill>
          <p:spPr>
            <a:xfrm>
              <a:off x="1221120" y="313560"/>
              <a:ext cx="379080" cy="53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3" name="图片 11" descr=""/>
            <p:cNvPicPr/>
            <p:nvPr/>
          </p:nvPicPr>
          <p:blipFill>
            <a:blip r:embed="rId6"/>
            <a:stretch/>
          </p:blipFill>
          <p:spPr>
            <a:xfrm>
              <a:off x="376560" y="5691240"/>
              <a:ext cx="404640" cy="53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" name="图片 12" descr=""/>
            <p:cNvPicPr/>
            <p:nvPr/>
          </p:nvPicPr>
          <p:blipFill>
            <a:blip r:embed="rId7"/>
            <a:stretch/>
          </p:blipFill>
          <p:spPr>
            <a:xfrm>
              <a:off x="6239160" y="4099680"/>
              <a:ext cx="786960" cy="88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" name="图片 13" descr=""/>
            <p:cNvPicPr/>
            <p:nvPr/>
          </p:nvPicPr>
          <p:blipFill>
            <a:blip r:embed="rId8"/>
            <a:stretch/>
          </p:blipFill>
          <p:spPr>
            <a:xfrm>
              <a:off x="3420720" y="1173960"/>
              <a:ext cx="675360" cy="63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6" name="图片 14" descr=""/>
            <p:cNvPicPr/>
            <p:nvPr/>
          </p:nvPicPr>
          <p:blipFill>
            <a:blip r:embed="rId9"/>
            <a:stretch/>
          </p:blipFill>
          <p:spPr>
            <a:xfrm>
              <a:off x="2461680" y="4782960"/>
              <a:ext cx="81792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" name="椭圆 15"/>
            <p:cNvSpPr/>
            <p:nvPr/>
          </p:nvSpPr>
          <p:spPr>
            <a:xfrm>
              <a:off x="11497680" y="4462560"/>
              <a:ext cx="304560" cy="304560"/>
            </a:xfrm>
            <a:prstGeom prst="ellipse">
              <a:avLst/>
            </a:prstGeom>
            <a:solidFill>
              <a:srgbClr val="f7f7f7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68" name="椭圆 16"/>
            <p:cNvSpPr/>
            <p:nvPr/>
          </p:nvSpPr>
          <p:spPr>
            <a:xfrm>
              <a:off x="9341640" y="4772160"/>
              <a:ext cx="514800" cy="514800"/>
            </a:xfrm>
            <a:prstGeom prst="ellipse">
              <a:avLst/>
            </a:prstGeom>
            <a:solidFill>
              <a:srgbClr val="f7f7f7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69" name="椭圆 17"/>
            <p:cNvSpPr/>
            <p:nvPr/>
          </p:nvSpPr>
          <p:spPr>
            <a:xfrm>
              <a:off x="9353160" y="3504240"/>
              <a:ext cx="514800" cy="514800"/>
            </a:xfrm>
            <a:prstGeom prst="ellipse">
              <a:avLst/>
            </a:prstGeom>
            <a:solidFill>
              <a:srgbClr val="f7f7f7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70" name="椭圆 18"/>
            <p:cNvSpPr/>
            <p:nvPr/>
          </p:nvSpPr>
          <p:spPr>
            <a:xfrm>
              <a:off x="11535480" y="2717640"/>
              <a:ext cx="514800" cy="514800"/>
            </a:xfrm>
            <a:prstGeom prst="ellipse">
              <a:avLst/>
            </a:prstGeom>
            <a:solidFill>
              <a:srgbClr val="f7f7f7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71" name="椭圆 19"/>
            <p:cNvSpPr/>
            <p:nvPr/>
          </p:nvSpPr>
          <p:spPr>
            <a:xfrm>
              <a:off x="11217960" y="979560"/>
              <a:ext cx="832320" cy="832320"/>
            </a:xfrm>
            <a:prstGeom prst="ellipse">
              <a:avLst/>
            </a:prstGeom>
            <a:solidFill>
              <a:srgbClr val="f7f7f7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72" name="椭圆 20"/>
            <p:cNvSpPr/>
            <p:nvPr/>
          </p:nvSpPr>
          <p:spPr>
            <a:xfrm>
              <a:off x="4388760" y="2797560"/>
              <a:ext cx="304560" cy="304560"/>
            </a:xfrm>
            <a:prstGeom prst="ellipse">
              <a:avLst/>
            </a:prstGeom>
            <a:solidFill>
              <a:srgbClr val="f7f7f7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73" name="椭圆 21"/>
            <p:cNvSpPr/>
            <p:nvPr/>
          </p:nvSpPr>
          <p:spPr>
            <a:xfrm rot="1662600">
              <a:off x="8667000" y="-96840"/>
              <a:ext cx="932400" cy="932400"/>
            </a:xfrm>
            <a:prstGeom prst="ellipse">
              <a:avLst/>
            </a:prstGeom>
            <a:solidFill>
              <a:srgbClr val="f7f7f7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74" name="椭圆 22"/>
            <p:cNvSpPr/>
            <p:nvPr/>
          </p:nvSpPr>
          <p:spPr>
            <a:xfrm rot="3445200">
              <a:off x="2530440" y="471960"/>
              <a:ext cx="832320" cy="832320"/>
            </a:xfrm>
            <a:prstGeom prst="ellipse">
              <a:avLst/>
            </a:prstGeom>
            <a:solidFill>
              <a:srgbClr val="f7f7f7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pic>
          <p:nvPicPr>
            <p:cNvPr id="175" name="图片 23" descr=""/>
            <p:cNvPicPr/>
            <p:nvPr/>
          </p:nvPicPr>
          <p:blipFill>
            <a:blip r:embed="rId10"/>
            <a:srcRect l="0" t="7595" r="0" b="0"/>
            <a:stretch/>
          </p:blipFill>
          <p:spPr>
            <a:xfrm>
              <a:off x="852480" y="3169800"/>
              <a:ext cx="825480" cy="77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" name="图片 24" descr=""/>
            <p:cNvPicPr/>
            <p:nvPr/>
          </p:nvPicPr>
          <p:blipFill>
            <a:blip r:embed="rId11"/>
            <a:stretch/>
          </p:blipFill>
          <p:spPr>
            <a:xfrm>
              <a:off x="4320000" y="6043320"/>
              <a:ext cx="731160" cy="71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7" name="图片 25" descr=""/>
            <p:cNvPicPr/>
            <p:nvPr/>
          </p:nvPicPr>
          <p:blipFill>
            <a:blip r:embed="rId12"/>
            <a:stretch/>
          </p:blipFill>
          <p:spPr>
            <a:xfrm>
              <a:off x="5725440" y="5887440"/>
              <a:ext cx="786960" cy="88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8" name="图片 26" descr=""/>
            <p:cNvPicPr/>
            <p:nvPr/>
          </p:nvPicPr>
          <p:blipFill>
            <a:blip r:embed="rId13"/>
            <a:stretch/>
          </p:blipFill>
          <p:spPr>
            <a:xfrm>
              <a:off x="3838320" y="5167440"/>
              <a:ext cx="675360" cy="63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9" name="图片 27" descr=""/>
            <p:cNvPicPr/>
            <p:nvPr/>
          </p:nvPicPr>
          <p:blipFill>
            <a:blip r:embed="rId14"/>
            <a:stretch/>
          </p:blipFill>
          <p:spPr>
            <a:xfrm>
              <a:off x="11660400" y="6276240"/>
              <a:ext cx="817920" cy="841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0" name="图片 28" descr=""/>
            <p:cNvPicPr/>
            <p:nvPr/>
          </p:nvPicPr>
          <p:blipFill>
            <a:blip r:embed="rId15"/>
            <a:srcRect l="0" t="7595" r="0" b="0"/>
            <a:stretch/>
          </p:blipFill>
          <p:spPr>
            <a:xfrm>
              <a:off x="10017360" y="2639520"/>
              <a:ext cx="825480" cy="77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1" name="图片 29" descr=""/>
            <p:cNvPicPr/>
            <p:nvPr/>
          </p:nvPicPr>
          <p:blipFill>
            <a:blip r:embed="rId16"/>
            <a:stretch/>
          </p:blipFill>
          <p:spPr>
            <a:xfrm>
              <a:off x="7371000" y="578880"/>
              <a:ext cx="731160" cy="71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" name="图片 30" descr=""/>
            <p:cNvPicPr/>
            <p:nvPr/>
          </p:nvPicPr>
          <p:blipFill>
            <a:blip r:embed="rId17"/>
            <a:stretch/>
          </p:blipFill>
          <p:spPr>
            <a:xfrm>
              <a:off x="9693360" y="650520"/>
              <a:ext cx="786960" cy="88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3" name="图片 31" descr=""/>
            <p:cNvPicPr/>
            <p:nvPr/>
          </p:nvPicPr>
          <p:blipFill>
            <a:blip r:embed="rId18"/>
            <a:stretch/>
          </p:blipFill>
          <p:spPr>
            <a:xfrm>
              <a:off x="4379760" y="219240"/>
              <a:ext cx="675360" cy="63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" name="图片 32" descr=""/>
            <p:cNvPicPr/>
            <p:nvPr/>
          </p:nvPicPr>
          <p:blipFill>
            <a:blip r:embed="rId19"/>
            <a:stretch/>
          </p:blipFill>
          <p:spPr>
            <a:xfrm>
              <a:off x="7751880" y="4479840"/>
              <a:ext cx="817920" cy="841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图片 33" descr=""/>
            <p:cNvPicPr/>
            <p:nvPr/>
          </p:nvPicPr>
          <p:blipFill>
            <a:blip r:embed="rId20"/>
            <a:srcRect l="0" t="7595" r="0" b="0"/>
            <a:stretch/>
          </p:blipFill>
          <p:spPr>
            <a:xfrm>
              <a:off x="11366280" y="-260280"/>
              <a:ext cx="825480" cy="77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图片 34" descr=""/>
            <p:cNvPicPr/>
            <p:nvPr/>
          </p:nvPicPr>
          <p:blipFill>
            <a:blip r:embed="rId21"/>
            <a:stretch/>
          </p:blipFill>
          <p:spPr>
            <a:xfrm>
              <a:off x="8371080" y="2014560"/>
              <a:ext cx="731160" cy="71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7" name="图片 35" descr=""/>
            <p:cNvPicPr/>
            <p:nvPr/>
          </p:nvPicPr>
          <p:blipFill>
            <a:blip r:embed="rId22"/>
            <a:stretch/>
          </p:blipFill>
          <p:spPr>
            <a:xfrm>
              <a:off x="10992600" y="3390480"/>
              <a:ext cx="786960" cy="88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" name="图片 36" descr=""/>
            <p:cNvPicPr/>
            <p:nvPr/>
          </p:nvPicPr>
          <p:blipFill>
            <a:blip r:embed="rId23"/>
            <a:stretch/>
          </p:blipFill>
          <p:spPr>
            <a:xfrm>
              <a:off x="10700280" y="4938120"/>
              <a:ext cx="675360" cy="63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9" name="图片 37" descr=""/>
            <p:cNvPicPr/>
            <p:nvPr/>
          </p:nvPicPr>
          <p:blipFill>
            <a:blip r:embed="rId24"/>
            <a:stretch/>
          </p:blipFill>
          <p:spPr>
            <a:xfrm>
              <a:off x="6074640" y="1372680"/>
              <a:ext cx="817920" cy="841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0" name="图片 38" descr=""/>
            <p:cNvPicPr/>
            <p:nvPr/>
          </p:nvPicPr>
          <p:blipFill>
            <a:blip r:embed="rId25"/>
            <a:srcRect l="0" t="7595" r="0" b="0"/>
            <a:stretch/>
          </p:blipFill>
          <p:spPr>
            <a:xfrm>
              <a:off x="8310960" y="3040920"/>
              <a:ext cx="825480" cy="77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1" name="图片 39" descr=""/>
            <p:cNvPicPr/>
            <p:nvPr/>
          </p:nvPicPr>
          <p:blipFill>
            <a:blip r:embed="rId26"/>
            <a:stretch/>
          </p:blipFill>
          <p:spPr>
            <a:xfrm>
              <a:off x="9800640" y="5683320"/>
              <a:ext cx="731160" cy="71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2" name="图片 40" descr=""/>
            <p:cNvPicPr/>
            <p:nvPr/>
          </p:nvPicPr>
          <p:blipFill>
            <a:blip r:embed="rId27"/>
            <a:stretch/>
          </p:blipFill>
          <p:spPr>
            <a:xfrm>
              <a:off x="7228080" y="5700240"/>
              <a:ext cx="786960" cy="88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3" name="图片 41" descr=""/>
            <p:cNvPicPr/>
            <p:nvPr/>
          </p:nvPicPr>
          <p:blipFill>
            <a:blip r:embed="rId28"/>
            <a:stretch/>
          </p:blipFill>
          <p:spPr>
            <a:xfrm>
              <a:off x="5734440" y="3250080"/>
              <a:ext cx="675360" cy="63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" name="图片 42" descr=""/>
            <p:cNvPicPr/>
            <p:nvPr/>
          </p:nvPicPr>
          <p:blipFill>
            <a:blip r:embed="rId29"/>
            <a:stretch/>
          </p:blipFill>
          <p:spPr>
            <a:xfrm>
              <a:off x="6568560" y="2763360"/>
              <a:ext cx="817920" cy="841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5" name="图片 43" descr=""/>
            <p:cNvPicPr/>
            <p:nvPr/>
          </p:nvPicPr>
          <p:blipFill>
            <a:blip r:embed="rId30"/>
            <a:srcRect l="0" t="7595" r="0" b="0"/>
            <a:stretch/>
          </p:blipFill>
          <p:spPr>
            <a:xfrm>
              <a:off x="5060520" y="2435400"/>
              <a:ext cx="825480" cy="77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6" name="图片 44" descr=""/>
            <p:cNvPicPr/>
            <p:nvPr/>
          </p:nvPicPr>
          <p:blipFill>
            <a:blip r:embed="rId31"/>
            <a:stretch/>
          </p:blipFill>
          <p:spPr>
            <a:xfrm>
              <a:off x="1976040" y="1150200"/>
              <a:ext cx="731160" cy="71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7" name="图片 45" descr=""/>
            <p:cNvPicPr/>
            <p:nvPr/>
          </p:nvPicPr>
          <p:blipFill>
            <a:blip r:embed="rId32"/>
            <a:stretch/>
          </p:blipFill>
          <p:spPr>
            <a:xfrm>
              <a:off x="3346920" y="2985840"/>
              <a:ext cx="786960" cy="88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图片 46" descr=""/>
            <p:cNvPicPr/>
            <p:nvPr/>
          </p:nvPicPr>
          <p:blipFill>
            <a:blip r:embed="rId33"/>
            <a:stretch/>
          </p:blipFill>
          <p:spPr>
            <a:xfrm>
              <a:off x="194760" y="-3240"/>
              <a:ext cx="675360" cy="63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9" name="图片 47" descr=""/>
            <p:cNvPicPr/>
            <p:nvPr/>
          </p:nvPicPr>
          <p:blipFill>
            <a:blip r:embed="rId34"/>
            <a:stretch/>
          </p:blipFill>
          <p:spPr>
            <a:xfrm>
              <a:off x="1317960" y="2088000"/>
              <a:ext cx="817920" cy="841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0" name="图片 48" descr=""/>
            <p:cNvPicPr/>
            <p:nvPr/>
          </p:nvPicPr>
          <p:blipFill>
            <a:blip r:embed="rId35"/>
            <a:srcRect l="0" t="7595" r="0" b="0"/>
            <a:stretch/>
          </p:blipFill>
          <p:spPr>
            <a:xfrm>
              <a:off x="3023280" y="6165360"/>
              <a:ext cx="825480" cy="77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1" name="图片 49" descr=""/>
            <p:cNvPicPr/>
            <p:nvPr/>
          </p:nvPicPr>
          <p:blipFill>
            <a:blip r:embed="rId36"/>
            <a:stretch/>
          </p:blipFill>
          <p:spPr>
            <a:xfrm>
              <a:off x="-111960" y="4019400"/>
              <a:ext cx="731160" cy="71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2" name="图片 50" descr=""/>
            <p:cNvPicPr/>
            <p:nvPr/>
          </p:nvPicPr>
          <p:blipFill>
            <a:blip r:embed="rId37"/>
            <a:stretch/>
          </p:blipFill>
          <p:spPr>
            <a:xfrm>
              <a:off x="1746720" y="4051800"/>
              <a:ext cx="786960" cy="88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3" name="图片 51" descr=""/>
            <p:cNvPicPr/>
            <p:nvPr/>
          </p:nvPicPr>
          <p:blipFill>
            <a:blip r:embed="rId38"/>
            <a:stretch/>
          </p:blipFill>
          <p:spPr>
            <a:xfrm>
              <a:off x="767520" y="4888440"/>
              <a:ext cx="675360" cy="63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4" name="图片 52" descr=""/>
            <p:cNvPicPr/>
            <p:nvPr/>
          </p:nvPicPr>
          <p:blipFill>
            <a:blip r:embed="rId39"/>
            <a:stretch/>
          </p:blipFill>
          <p:spPr>
            <a:xfrm>
              <a:off x="-99000" y="6238800"/>
              <a:ext cx="81792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5" name="椭圆 53"/>
            <p:cNvSpPr/>
            <p:nvPr/>
          </p:nvSpPr>
          <p:spPr>
            <a:xfrm>
              <a:off x="2175480" y="6132960"/>
              <a:ext cx="304560" cy="304560"/>
            </a:xfrm>
            <a:prstGeom prst="ellipse">
              <a:avLst/>
            </a:prstGeom>
            <a:solidFill>
              <a:srgbClr val="f7f7f7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06" name="椭圆 54"/>
            <p:cNvSpPr/>
            <p:nvPr/>
          </p:nvSpPr>
          <p:spPr>
            <a:xfrm>
              <a:off x="963720" y="6238800"/>
              <a:ext cx="514800" cy="514800"/>
            </a:xfrm>
            <a:prstGeom prst="ellipse">
              <a:avLst/>
            </a:prstGeom>
            <a:solidFill>
              <a:srgbClr val="f7f7f7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07" name="椭圆 55"/>
            <p:cNvSpPr/>
            <p:nvPr/>
          </p:nvSpPr>
          <p:spPr>
            <a:xfrm>
              <a:off x="1583640" y="5228640"/>
              <a:ext cx="514800" cy="514800"/>
            </a:xfrm>
            <a:prstGeom prst="ellipse">
              <a:avLst/>
            </a:prstGeom>
            <a:solidFill>
              <a:srgbClr val="f7f7f7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08" name="椭圆 56"/>
            <p:cNvSpPr/>
            <p:nvPr/>
          </p:nvSpPr>
          <p:spPr>
            <a:xfrm>
              <a:off x="3157560" y="4184280"/>
              <a:ext cx="514800" cy="514800"/>
            </a:xfrm>
            <a:prstGeom prst="ellipse">
              <a:avLst/>
            </a:prstGeom>
            <a:solidFill>
              <a:srgbClr val="f7f7f7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09" name="椭圆 57"/>
            <p:cNvSpPr/>
            <p:nvPr/>
          </p:nvSpPr>
          <p:spPr>
            <a:xfrm>
              <a:off x="2113920" y="2833920"/>
              <a:ext cx="832320" cy="832320"/>
            </a:xfrm>
            <a:prstGeom prst="ellipse">
              <a:avLst/>
            </a:prstGeom>
            <a:solidFill>
              <a:srgbClr val="f7f7f7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10" name="椭圆 58"/>
            <p:cNvSpPr/>
            <p:nvPr/>
          </p:nvSpPr>
          <p:spPr>
            <a:xfrm rot="1662600">
              <a:off x="289080" y="1369080"/>
              <a:ext cx="932400" cy="932400"/>
            </a:xfrm>
            <a:prstGeom prst="ellipse">
              <a:avLst/>
            </a:prstGeom>
            <a:solidFill>
              <a:srgbClr val="f7f7f7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11" name="椭圆 59"/>
            <p:cNvSpPr/>
            <p:nvPr/>
          </p:nvSpPr>
          <p:spPr>
            <a:xfrm>
              <a:off x="7608240" y="5333760"/>
              <a:ext cx="304560" cy="304560"/>
            </a:xfrm>
            <a:prstGeom prst="ellipse">
              <a:avLst/>
            </a:prstGeom>
            <a:solidFill>
              <a:srgbClr val="f7f7f7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12" name="椭圆 60"/>
            <p:cNvSpPr/>
            <p:nvPr/>
          </p:nvSpPr>
          <p:spPr>
            <a:xfrm>
              <a:off x="4449240" y="4597200"/>
              <a:ext cx="514800" cy="514800"/>
            </a:xfrm>
            <a:prstGeom prst="ellipse">
              <a:avLst/>
            </a:prstGeom>
            <a:solidFill>
              <a:srgbClr val="f7f7f7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13" name="椭圆 61"/>
            <p:cNvSpPr/>
            <p:nvPr/>
          </p:nvSpPr>
          <p:spPr>
            <a:xfrm>
              <a:off x="5463720" y="4375080"/>
              <a:ext cx="514800" cy="514800"/>
            </a:xfrm>
            <a:prstGeom prst="ellipse">
              <a:avLst/>
            </a:prstGeom>
            <a:solidFill>
              <a:srgbClr val="f7f7f7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14" name="椭圆 62"/>
            <p:cNvSpPr/>
            <p:nvPr/>
          </p:nvSpPr>
          <p:spPr>
            <a:xfrm>
              <a:off x="7453080" y="3719520"/>
              <a:ext cx="514800" cy="514800"/>
            </a:xfrm>
            <a:prstGeom prst="ellipse">
              <a:avLst/>
            </a:prstGeom>
            <a:solidFill>
              <a:srgbClr val="f7f7f7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15" name="椭圆 63"/>
            <p:cNvSpPr/>
            <p:nvPr/>
          </p:nvSpPr>
          <p:spPr>
            <a:xfrm>
              <a:off x="7069680" y="1760400"/>
              <a:ext cx="832320" cy="832320"/>
            </a:xfrm>
            <a:prstGeom prst="ellipse">
              <a:avLst/>
            </a:prstGeom>
            <a:solidFill>
              <a:srgbClr val="f7f7f7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16" name="椭圆 64"/>
            <p:cNvSpPr/>
            <p:nvPr/>
          </p:nvSpPr>
          <p:spPr>
            <a:xfrm rot="1662600">
              <a:off x="4297680" y="3553560"/>
              <a:ext cx="932400" cy="932400"/>
            </a:xfrm>
            <a:prstGeom prst="ellipse">
              <a:avLst/>
            </a:prstGeom>
            <a:solidFill>
              <a:srgbClr val="f7f7f7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pic>
          <p:nvPicPr>
            <p:cNvPr id="217" name="图片 65" descr=""/>
            <p:cNvPicPr/>
            <p:nvPr/>
          </p:nvPicPr>
          <p:blipFill>
            <a:blip r:embed="rId40"/>
            <a:stretch/>
          </p:blipFill>
          <p:spPr>
            <a:xfrm>
              <a:off x="11302560" y="5592960"/>
              <a:ext cx="389880" cy="53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8" name="图片 66" descr=""/>
            <p:cNvPicPr/>
            <p:nvPr/>
          </p:nvPicPr>
          <p:blipFill>
            <a:blip r:embed="rId41"/>
            <a:stretch/>
          </p:blipFill>
          <p:spPr>
            <a:xfrm>
              <a:off x="4543920" y="1580400"/>
              <a:ext cx="379080" cy="53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9" name="图片 67" descr=""/>
            <p:cNvPicPr/>
            <p:nvPr/>
          </p:nvPicPr>
          <p:blipFill>
            <a:blip r:embed="rId42"/>
            <a:stretch/>
          </p:blipFill>
          <p:spPr>
            <a:xfrm>
              <a:off x="8662320" y="4123440"/>
              <a:ext cx="404640" cy="53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0" name="图片 68" descr=""/>
            <p:cNvPicPr/>
            <p:nvPr/>
          </p:nvPicPr>
          <p:blipFill>
            <a:blip r:embed="rId43"/>
            <a:stretch/>
          </p:blipFill>
          <p:spPr>
            <a:xfrm>
              <a:off x="8449200" y="5318640"/>
              <a:ext cx="389880" cy="53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1" name="图片 69" descr=""/>
            <p:cNvPicPr/>
            <p:nvPr/>
          </p:nvPicPr>
          <p:blipFill>
            <a:blip r:embed="rId44"/>
            <a:stretch/>
          </p:blipFill>
          <p:spPr>
            <a:xfrm>
              <a:off x="11051280" y="2165400"/>
              <a:ext cx="379080" cy="53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2" name="图片 70" descr=""/>
            <p:cNvPicPr/>
            <p:nvPr/>
          </p:nvPicPr>
          <p:blipFill>
            <a:blip r:embed="rId45"/>
            <a:stretch/>
          </p:blipFill>
          <p:spPr>
            <a:xfrm>
              <a:off x="5105160" y="5247360"/>
              <a:ext cx="404640" cy="53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3" name="图片 71" descr=""/>
            <p:cNvPicPr/>
            <p:nvPr/>
          </p:nvPicPr>
          <p:blipFill>
            <a:blip r:embed="rId46"/>
            <a:stretch/>
          </p:blipFill>
          <p:spPr>
            <a:xfrm>
              <a:off x="6535080" y="5098320"/>
              <a:ext cx="389880" cy="53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4" name="图片 72" descr=""/>
            <p:cNvPicPr/>
            <p:nvPr/>
          </p:nvPicPr>
          <p:blipFill>
            <a:blip r:embed="rId47"/>
            <a:stretch/>
          </p:blipFill>
          <p:spPr>
            <a:xfrm>
              <a:off x="10503000" y="26280"/>
              <a:ext cx="379080" cy="53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5" name="图片 73" descr=""/>
            <p:cNvPicPr/>
            <p:nvPr/>
          </p:nvPicPr>
          <p:blipFill>
            <a:blip r:embed="rId48"/>
            <a:stretch/>
          </p:blipFill>
          <p:spPr>
            <a:xfrm>
              <a:off x="9873360" y="4250880"/>
              <a:ext cx="404640" cy="53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6" name="图片 74" descr=""/>
            <p:cNvPicPr/>
            <p:nvPr/>
          </p:nvPicPr>
          <p:blipFill>
            <a:blip r:embed="rId49"/>
            <a:stretch/>
          </p:blipFill>
          <p:spPr>
            <a:xfrm>
              <a:off x="343800" y="2465640"/>
              <a:ext cx="389880" cy="53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7" name="图片 75" descr=""/>
            <p:cNvPicPr/>
            <p:nvPr/>
          </p:nvPicPr>
          <p:blipFill>
            <a:blip r:embed="rId50"/>
            <a:stretch/>
          </p:blipFill>
          <p:spPr>
            <a:xfrm>
              <a:off x="10652400" y="6408360"/>
              <a:ext cx="379080" cy="53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8" name="图片 76" descr=""/>
            <p:cNvPicPr/>
            <p:nvPr/>
          </p:nvPicPr>
          <p:blipFill>
            <a:blip r:embed="rId51"/>
            <a:stretch/>
          </p:blipFill>
          <p:spPr>
            <a:xfrm>
              <a:off x="10068480" y="1595160"/>
              <a:ext cx="404640" cy="53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9" name="图片 77" descr=""/>
            <p:cNvPicPr/>
            <p:nvPr/>
          </p:nvPicPr>
          <p:blipFill>
            <a:blip r:embed="rId52"/>
            <a:stretch/>
          </p:blipFill>
          <p:spPr>
            <a:xfrm>
              <a:off x="6809400" y="536760"/>
              <a:ext cx="379080" cy="53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0" name="图片 78" descr=""/>
            <p:cNvPicPr/>
            <p:nvPr/>
          </p:nvPicPr>
          <p:blipFill>
            <a:blip r:embed="rId53"/>
            <a:stretch/>
          </p:blipFill>
          <p:spPr>
            <a:xfrm>
              <a:off x="5347080" y="1193760"/>
              <a:ext cx="404640" cy="53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1" name="图片 79" descr=""/>
            <p:cNvPicPr/>
            <p:nvPr/>
          </p:nvPicPr>
          <p:blipFill>
            <a:blip r:embed="rId54"/>
            <a:stretch/>
          </p:blipFill>
          <p:spPr>
            <a:xfrm>
              <a:off x="8598600" y="923760"/>
              <a:ext cx="389880" cy="53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2" name="图片 80" descr=""/>
            <p:cNvPicPr/>
            <p:nvPr/>
          </p:nvPicPr>
          <p:blipFill>
            <a:blip r:embed="rId55"/>
            <a:stretch/>
          </p:blipFill>
          <p:spPr>
            <a:xfrm>
              <a:off x="1943280" y="-127080"/>
              <a:ext cx="675360" cy="63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3" name="图片 81" descr=""/>
            <p:cNvPicPr/>
            <p:nvPr/>
          </p:nvPicPr>
          <p:blipFill>
            <a:blip r:embed="rId56"/>
            <a:stretch/>
          </p:blipFill>
          <p:spPr>
            <a:xfrm>
              <a:off x="7772760" y="-47160"/>
              <a:ext cx="389880" cy="53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4" name="图片 82" descr=""/>
            <p:cNvPicPr/>
            <p:nvPr/>
          </p:nvPicPr>
          <p:blipFill>
            <a:blip r:embed="rId57"/>
            <a:stretch/>
          </p:blipFill>
          <p:spPr>
            <a:xfrm>
              <a:off x="3210120" y="-47160"/>
              <a:ext cx="404640" cy="53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5" name="图片 83" descr=""/>
            <p:cNvPicPr/>
            <p:nvPr/>
          </p:nvPicPr>
          <p:blipFill>
            <a:blip r:embed="rId58"/>
            <a:stretch/>
          </p:blipFill>
          <p:spPr>
            <a:xfrm>
              <a:off x="5181840" y="-3240"/>
              <a:ext cx="389880" cy="53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6" name="图片 84" descr=""/>
            <p:cNvPicPr/>
            <p:nvPr/>
          </p:nvPicPr>
          <p:blipFill>
            <a:blip r:embed="rId59"/>
            <a:stretch/>
          </p:blipFill>
          <p:spPr>
            <a:xfrm>
              <a:off x="8196120" y="6055200"/>
              <a:ext cx="786960" cy="88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7" name="图片 85" descr=""/>
            <p:cNvPicPr/>
            <p:nvPr/>
          </p:nvPicPr>
          <p:blipFill>
            <a:blip r:embed="rId60"/>
            <a:stretch/>
          </p:blipFill>
          <p:spPr>
            <a:xfrm>
              <a:off x="8947440" y="5576760"/>
              <a:ext cx="817920" cy="841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8" name="图片 86" descr=""/>
            <p:cNvPicPr/>
            <p:nvPr/>
          </p:nvPicPr>
          <p:blipFill>
            <a:blip r:embed="rId61"/>
            <a:stretch/>
          </p:blipFill>
          <p:spPr>
            <a:xfrm>
              <a:off x="6413760" y="-270000"/>
              <a:ext cx="786960" cy="885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9" name="矩形 87"/>
          <p:cNvSpPr/>
          <p:nvPr/>
        </p:nvSpPr>
        <p:spPr>
          <a:xfrm>
            <a:off x="0" y="990720"/>
            <a:ext cx="12191760" cy="95040"/>
          </a:xfrm>
          <a:prstGeom prst="rect">
            <a:avLst/>
          </a:prstGeom>
          <a:solidFill>
            <a:srgbClr val="6ba42c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40" name="矩形 88"/>
          <p:cNvSpPr/>
          <p:nvPr/>
        </p:nvSpPr>
        <p:spPr>
          <a:xfrm>
            <a:off x="0" y="0"/>
            <a:ext cx="12191760" cy="990360"/>
          </a:xfrm>
          <a:prstGeom prst="rect">
            <a:avLst/>
          </a:prstGeom>
          <a:solidFill>
            <a:srgbClr val="92d05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2"/>
    <p:sldLayoutId id="2147483676" r:id="rId63"/>
    <p:sldLayoutId id="2147483677" r:id="rId64"/>
    <p:sldLayoutId id="2147483678" r:id="rId65"/>
    <p:sldLayoutId id="2147483679" r:id="rId66"/>
    <p:sldLayoutId id="2147483680" r:id="rId67"/>
    <p:sldLayoutId id="2147483681" r:id="rId68"/>
    <p:sldLayoutId id="2147483682" r:id="rId69"/>
    <p:sldLayoutId id="2147483683" r:id="rId70"/>
    <p:sldLayoutId id="2147483684" r:id="rId71"/>
    <p:sldLayoutId id="2147483685" r:id="rId72"/>
    <p:sldLayoutId id="2147483686" r:id="rId7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组合 1"/>
          <p:cNvGrpSpPr/>
          <p:nvPr/>
        </p:nvGrpSpPr>
        <p:grpSpPr>
          <a:xfrm>
            <a:off x="-111960" y="-270000"/>
            <a:ext cx="12590280" cy="7387560"/>
            <a:chOff x="-111960" y="-270000"/>
            <a:chExt cx="12590280" cy="7387560"/>
          </a:xfrm>
        </p:grpSpPr>
        <p:pic>
          <p:nvPicPr>
            <p:cNvPr id="280" name="图片 7" descr=""/>
            <p:cNvPicPr/>
            <p:nvPr/>
          </p:nvPicPr>
          <p:blipFill>
            <a:blip r:embed="rId2"/>
            <a:srcRect l="0" t="7595" r="0" b="0"/>
            <a:stretch/>
          </p:blipFill>
          <p:spPr>
            <a:xfrm>
              <a:off x="5501160" y="184320"/>
              <a:ext cx="825480" cy="77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1" name="图片 8" descr=""/>
            <p:cNvPicPr/>
            <p:nvPr/>
          </p:nvPicPr>
          <p:blipFill>
            <a:blip r:embed="rId3"/>
            <a:stretch/>
          </p:blipFill>
          <p:spPr>
            <a:xfrm>
              <a:off x="2641320" y="2014560"/>
              <a:ext cx="731160" cy="71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2" name="图片 9" descr=""/>
            <p:cNvPicPr/>
            <p:nvPr/>
          </p:nvPicPr>
          <p:blipFill>
            <a:blip r:embed="rId4"/>
            <a:stretch/>
          </p:blipFill>
          <p:spPr>
            <a:xfrm>
              <a:off x="4092840" y="2239560"/>
              <a:ext cx="389880" cy="53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3" name="图片 10" descr=""/>
            <p:cNvPicPr/>
            <p:nvPr/>
          </p:nvPicPr>
          <p:blipFill>
            <a:blip r:embed="rId5"/>
            <a:stretch/>
          </p:blipFill>
          <p:spPr>
            <a:xfrm>
              <a:off x="1221120" y="313560"/>
              <a:ext cx="379080" cy="53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4" name="图片 11" descr=""/>
            <p:cNvPicPr/>
            <p:nvPr/>
          </p:nvPicPr>
          <p:blipFill>
            <a:blip r:embed="rId6"/>
            <a:stretch/>
          </p:blipFill>
          <p:spPr>
            <a:xfrm>
              <a:off x="376560" y="5691240"/>
              <a:ext cx="404640" cy="53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5" name="图片 12" descr=""/>
            <p:cNvPicPr/>
            <p:nvPr/>
          </p:nvPicPr>
          <p:blipFill>
            <a:blip r:embed="rId7"/>
            <a:stretch/>
          </p:blipFill>
          <p:spPr>
            <a:xfrm>
              <a:off x="6239160" y="4099680"/>
              <a:ext cx="786960" cy="88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6" name="图片 13" descr=""/>
            <p:cNvPicPr/>
            <p:nvPr/>
          </p:nvPicPr>
          <p:blipFill>
            <a:blip r:embed="rId8"/>
            <a:stretch/>
          </p:blipFill>
          <p:spPr>
            <a:xfrm>
              <a:off x="3420720" y="1173960"/>
              <a:ext cx="675360" cy="63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7" name="图片 14" descr=""/>
            <p:cNvPicPr/>
            <p:nvPr/>
          </p:nvPicPr>
          <p:blipFill>
            <a:blip r:embed="rId9"/>
            <a:stretch/>
          </p:blipFill>
          <p:spPr>
            <a:xfrm>
              <a:off x="2461680" y="4782960"/>
              <a:ext cx="81792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8" name="椭圆 15"/>
            <p:cNvSpPr/>
            <p:nvPr/>
          </p:nvSpPr>
          <p:spPr>
            <a:xfrm>
              <a:off x="11497680" y="4462560"/>
              <a:ext cx="304560" cy="304560"/>
            </a:xfrm>
            <a:prstGeom prst="ellipse">
              <a:avLst/>
            </a:prstGeom>
            <a:solidFill>
              <a:srgbClr val="f7f7f7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89" name="椭圆 16"/>
            <p:cNvSpPr/>
            <p:nvPr/>
          </p:nvSpPr>
          <p:spPr>
            <a:xfrm>
              <a:off x="9341640" y="4772160"/>
              <a:ext cx="514800" cy="514800"/>
            </a:xfrm>
            <a:prstGeom prst="ellipse">
              <a:avLst/>
            </a:prstGeom>
            <a:solidFill>
              <a:srgbClr val="f7f7f7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90" name="椭圆 17"/>
            <p:cNvSpPr/>
            <p:nvPr/>
          </p:nvSpPr>
          <p:spPr>
            <a:xfrm>
              <a:off x="9353160" y="3504240"/>
              <a:ext cx="514800" cy="514800"/>
            </a:xfrm>
            <a:prstGeom prst="ellipse">
              <a:avLst/>
            </a:prstGeom>
            <a:solidFill>
              <a:srgbClr val="f7f7f7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91" name="椭圆 18"/>
            <p:cNvSpPr/>
            <p:nvPr/>
          </p:nvSpPr>
          <p:spPr>
            <a:xfrm>
              <a:off x="11535480" y="2717640"/>
              <a:ext cx="514800" cy="514800"/>
            </a:xfrm>
            <a:prstGeom prst="ellipse">
              <a:avLst/>
            </a:prstGeom>
            <a:solidFill>
              <a:srgbClr val="f7f7f7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92" name="椭圆 19"/>
            <p:cNvSpPr/>
            <p:nvPr/>
          </p:nvSpPr>
          <p:spPr>
            <a:xfrm>
              <a:off x="11217960" y="979560"/>
              <a:ext cx="832320" cy="832320"/>
            </a:xfrm>
            <a:prstGeom prst="ellipse">
              <a:avLst/>
            </a:prstGeom>
            <a:solidFill>
              <a:srgbClr val="f7f7f7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93" name="椭圆 20"/>
            <p:cNvSpPr/>
            <p:nvPr/>
          </p:nvSpPr>
          <p:spPr>
            <a:xfrm>
              <a:off x="4388760" y="2797560"/>
              <a:ext cx="304560" cy="304560"/>
            </a:xfrm>
            <a:prstGeom prst="ellipse">
              <a:avLst/>
            </a:prstGeom>
            <a:solidFill>
              <a:srgbClr val="f7f7f7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94" name="椭圆 21"/>
            <p:cNvSpPr/>
            <p:nvPr/>
          </p:nvSpPr>
          <p:spPr>
            <a:xfrm rot="1662600">
              <a:off x="8667000" y="-96840"/>
              <a:ext cx="932400" cy="932400"/>
            </a:xfrm>
            <a:prstGeom prst="ellipse">
              <a:avLst/>
            </a:prstGeom>
            <a:solidFill>
              <a:srgbClr val="f7f7f7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95" name="椭圆 22"/>
            <p:cNvSpPr/>
            <p:nvPr/>
          </p:nvSpPr>
          <p:spPr>
            <a:xfrm rot="3445200">
              <a:off x="2530440" y="471960"/>
              <a:ext cx="832320" cy="832320"/>
            </a:xfrm>
            <a:prstGeom prst="ellipse">
              <a:avLst/>
            </a:prstGeom>
            <a:solidFill>
              <a:srgbClr val="f7f7f7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pic>
          <p:nvPicPr>
            <p:cNvPr id="296" name="图片 23" descr=""/>
            <p:cNvPicPr/>
            <p:nvPr/>
          </p:nvPicPr>
          <p:blipFill>
            <a:blip r:embed="rId10"/>
            <a:srcRect l="0" t="7595" r="0" b="0"/>
            <a:stretch/>
          </p:blipFill>
          <p:spPr>
            <a:xfrm>
              <a:off x="852480" y="3169800"/>
              <a:ext cx="825480" cy="77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7" name="图片 24" descr=""/>
            <p:cNvPicPr/>
            <p:nvPr/>
          </p:nvPicPr>
          <p:blipFill>
            <a:blip r:embed="rId11"/>
            <a:stretch/>
          </p:blipFill>
          <p:spPr>
            <a:xfrm>
              <a:off x="4320000" y="6043320"/>
              <a:ext cx="731160" cy="71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8" name="图片 25" descr=""/>
            <p:cNvPicPr/>
            <p:nvPr/>
          </p:nvPicPr>
          <p:blipFill>
            <a:blip r:embed="rId12"/>
            <a:stretch/>
          </p:blipFill>
          <p:spPr>
            <a:xfrm>
              <a:off x="5725440" y="5887440"/>
              <a:ext cx="786960" cy="88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9" name="图片 26" descr=""/>
            <p:cNvPicPr/>
            <p:nvPr/>
          </p:nvPicPr>
          <p:blipFill>
            <a:blip r:embed="rId13"/>
            <a:stretch/>
          </p:blipFill>
          <p:spPr>
            <a:xfrm>
              <a:off x="3838320" y="5167440"/>
              <a:ext cx="675360" cy="63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0" name="图片 27" descr=""/>
            <p:cNvPicPr/>
            <p:nvPr/>
          </p:nvPicPr>
          <p:blipFill>
            <a:blip r:embed="rId14"/>
            <a:stretch/>
          </p:blipFill>
          <p:spPr>
            <a:xfrm>
              <a:off x="11660400" y="6276240"/>
              <a:ext cx="817920" cy="841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1" name="图片 28" descr=""/>
            <p:cNvPicPr/>
            <p:nvPr/>
          </p:nvPicPr>
          <p:blipFill>
            <a:blip r:embed="rId15"/>
            <a:srcRect l="0" t="7595" r="0" b="0"/>
            <a:stretch/>
          </p:blipFill>
          <p:spPr>
            <a:xfrm>
              <a:off x="10017360" y="2639520"/>
              <a:ext cx="825480" cy="77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2" name="图片 29" descr=""/>
            <p:cNvPicPr/>
            <p:nvPr/>
          </p:nvPicPr>
          <p:blipFill>
            <a:blip r:embed="rId16"/>
            <a:stretch/>
          </p:blipFill>
          <p:spPr>
            <a:xfrm>
              <a:off x="7371000" y="578880"/>
              <a:ext cx="731160" cy="71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图片 30" descr=""/>
            <p:cNvPicPr/>
            <p:nvPr/>
          </p:nvPicPr>
          <p:blipFill>
            <a:blip r:embed="rId17"/>
            <a:stretch/>
          </p:blipFill>
          <p:spPr>
            <a:xfrm>
              <a:off x="9693360" y="650520"/>
              <a:ext cx="786960" cy="88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图片 31" descr=""/>
            <p:cNvPicPr/>
            <p:nvPr/>
          </p:nvPicPr>
          <p:blipFill>
            <a:blip r:embed="rId18"/>
            <a:stretch/>
          </p:blipFill>
          <p:spPr>
            <a:xfrm>
              <a:off x="4379760" y="219240"/>
              <a:ext cx="675360" cy="63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5" name="图片 32" descr=""/>
            <p:cNvPicPr/>
            <p:nvPr/>
          </p:nvPicPr>
          <p:blipFill>
            <a:blip r:embed="rId19"/>
            <a:stretch/>
          </p:blipFill>
          <p:spPr>
            <a:xfrm>
              <a:off x="7751880" y="4479840"/>
              <a:ext cx="817920" cy="841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6" name="图片 33" descr=""/>
            <p:cNvPicPr/>
            <p:nvPr/>
          </p:nvPicPr>
          <p:blipFill>
            <a:blip r:embed="rId20"/>
            <a:srcRect l="0" t="7595" r="0" b="0"/>
            <a:stretch/>
          </p:blipFill>
          <p:spPr>
            <a:xfrm>
              <a:off x="11366280" y="-260280"/>
              <a:ext cx="825480" cy="77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7" name="图片 34" descr=""/>
            <p:cNvPicPr/>
            <p:nvPr/>
          </p:nvPicPr>
          <p:blipFill>
            <a:blip r:embed="rId21"/>
            <a:stretch/>
          </p:blipFill>
          <p:spPr>
            <a:xfrm>
              <a:off x="8371080" y="2014560"/>
              <a:ext cx="731160" cy="71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8" name="图片 35" descr=""/>
            <p:cNvPicPr/>
            <p:nvPr/>
          </p:nvPicPr>
          <p:blipFill>
            <a:blip r:embed="rId22"/>
            <a:stretch/>
          </p:blipFill>
          <p:spPr>
            <a:xfrm>
              <a:off x="10992600" y="3390480"/>
              <a:ext cx="786960" cy="88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9" name="图片 36" descr=""/>
            <p:cNvPicPr/>
            <p:nvPr/>
          </p:nvPicPr>
          <p:blipFill>
            <a:blip r:embed="rId23"/>
            <a:stretch/>
          </p:blipFill>
          <p:spPr>
            <a:xfrm>
              <a:off x="10700280" y="4938120"/>
              <a:ext cx="675360" cy="63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0" name="图片 37" descr=""/>
            <p:cNvPicPr/>
            <p:nvPr/>
          </p:nvPicPr>
          <p:blipFill>
            <a:blip r:embed="rId24"/>
            <a:stretch/>
          </p:blipFill>
          <p:spPr>
            <a:xfrm>
              <a:off x="6074640" y="1372680"/>
              <a:ext cx="817920" cy="841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1" name="图片 38" descr=""/>
            <p:cNvPicPr/>
            <p:nvPr/>
          </p:nvPicPr>
          <p:blipFill>
            <a:blip r:embed="rId25"/>
            <a:srcRect l="0" t="7595" r="0" b="0"/>
            <a:stretch/>
          </p:blipFill>
          <p:spPr>
            <a:xfrm>
              <a:off x="8310960" y="3040920"/>
              <a:ext cx="825480" cy="77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2" name="图片 39" descr=""/>
            <p:cNvPicPr/>
            <p:nvPr/>
          </p:nvPicPr>
          <p:blipFill>
            <a:blip r:embed="rId26"/>
            <a:stretch/>
          </p:blipFill>
          <p:spPr>
            <a:xfrm>
              <a:off x="9800640" y="5683320"/>
              <a:ext cx="731160" cy="71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3" name="图片 40" descr=""/>
            <p:cNvPicPr/>
            <p:nvPr/>
          </p:nvPicPr>
          <p:blipFill>
            <a:blip r:embed="rId27"/>
            <a:stretch/>
          </p:blipFill>
          <p:spPr>
            <a:xfrm>
              <a:off x="7228080" y="5700240"/>
              <a:ext cx="786960" cy="88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4" name="图片 41" descr=""/>
            <p:cNvPicPr/>
            <p:nvPr/>
          </p:nvPicPr>
          <p:blipFill>
            <a:blip r:embed="rId28"/>
            <a:stretch/>
          </p:blipFill>
          <p:spPr>
            <a:xfrm>
              <a:off x="5734440" y="3250080"/>
              <a:ext cx="675360" cy="63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5" name="图片 42" descr=""/>
            <p:cNvPicPr/>
            <p:nvPr/>
          </p:nvPicPr>
          <p:blipFill>
            <a:blip r:embed="rId29"/>
            <a:stretch/>
          </p:blipFill>
          <p:spPr>
            <a:xfrm>
              <a:off x="6568560" y="2763360"/>
              <a:ext cx="817920" cy="841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6" name="图片 43" descr=""/>
            <p:cNvPicPr/>
            <p:nvPr/>
          </p:nvPicPr>
          <p:blipFill>
            <a:blip r:embed="rId30"/>
            <a:srcRect l="0" t="7595" r="0" b="0"/>
            <a:stretch/>
          </p:blipFill>
          <p:spPr>
            <a:xfrm>
              <a:off x="5060520" y="2435400"/>
              <a:ext cx="825480" cy="77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7" name="图片 44" descr=""/>
            <p:cNvPicPr/>
            <p:nvPr/>
          </p:nvPicPr>
          <p:blipFill>
            <a:blip r:embed="rId31"/>
            <a:stretch/>
          </p:blipFill>
          <p:spPr>
            <a:xfrm>
              <a:off x="1976040" y="1150200"/>
              <a:ext cx="731160" cy="71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8" name="图片 45" descr=""/>
            <p:cNvPicPr/>
            <p:nvPr/>
          </p:nvPicPr>
          <p:blipFill>
            <a:blip r:embed="rId32"/>
            <a:stretch/>
          </p:blipFill>
          <p:spPr>
            <a:xfrm>
              <a:off x="3346920" y="2985840"/>
              <a:ext cx="786960" cy="88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9" name="图片 46" descr=""/>
            <p:cNvPicPr/>
            <p:nvPr/>
          </p:nvPicPr>
          <p:blipFill>
            <a:blip r:embed="rId33"/>
            <a:stretch/>
          </p:blipFill>
          <p:spPr>
            <a:xfrm>
              <a:off x="194760" y="-3240"/>
              <a:ext cx="675360" cy="63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0" name="图片 47" descr=""/>
            <p:cNvPicPr/>
            <p:nvPr/>
          </p:nvPicPr>
          <p:blipFill>
            <a:blip r:embed="rId34"/>
            <a:stretch/>
          </p:blipFill>
          <p:spPr>
            <a:xfrm>
              <a:off x="1317960" y="2088000"/>
              <a:ext cx="817920" cy="841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1" name="图片 48" descr=""/>
            <p:cNvPicPr/>
            <p:nvPr/>
          </p:nvPicPr>
          <p:blipFill>
            <a:blip r:embed="rId35"/>
            <a:srcRect l="0" t="7595" r="0" b="0"/>
            <a:stretch/>
          </p:blipFill>
          <p:spPr>
            <a:xfrm>
              <a:off x="3023280" y="6165360"/>
              <a:ext cx="825480" cy="77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2" name="图片 49" descr=""/>
            <p:cNvPicPr/>
            <p:nvPr/>
          </p:nvPicPr>
          <p:blipFill>
            <a:blip r:embed="rId36"/>
            <a:stretch/>
          </p:blipFill>
          <p:spPr>
            <a:xfrm>
              <a:off x="-111960" y="4019400"/>
              <a:ext cx="731160" cy="71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3" name="图片 50" descr=""/>
            <p:cNvPicPr/>
            <p:nvPr/>
          </p:nvPicPr>
          <p:blipFill>
            <a:blip r:embed="rId37"/>
            <a:stretch/>
          </p:blipFill>
          <p:spPr>
            <a:xfrm>
              <a:off x="1746720" y="4051800"/>
              <a:ext cx="786960" cy="88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4" name="图片 51" descr=""/>
            <p:cNvPicPr/>
            <p:nvPr/>
          </p:nvPicPr>
          <p:blipFill>
            <a:blip r:embed="rId38"/>
            <a:stretch/>
          </p:blipFill>
          <p:spPr>
            <a:xfrm>
              <a:off x="767520" y="4888440"/>
              <a:ext cx="675360" cy="63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5" name="图片 52" descr=""/>
            <p:cNvPicPr/>
            <p:nvPr/>
          </p:nvPicPr>
          <p:blipFill>
            <a:blip r:embed="rId39"/>
            <a:stretch/>
          </p:blipFill>
          <p:spPr>
            <a:xfrm>
              <a:off x="-99000" y="6238800"/>
              <a:ext cx="81792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6" name="椭圆 53"/>
            <p:cNvSpPr/>
            <p:nvPr/>
          </p:nvSpPr>
          <p:spPr>
            <a:xfrm>
              <a:off x="2175480" y="6132960"/>
              <a:ext cx="304560" cy="304560"/>
            </a:xfrm>
            <a:prstGeom prst="ellipse">
              <a:avLst/>
            </a:prstGeom>
            <a:solidFill>
              <a:srgbClr val="f7f7f7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27" name="椭圆 54"/>
            <p:cNvSpPr/>
            <p:nvPr/>
          </p:nvSpPr>
          <p:spPr>
            <a:xfrm>
              <a:off x="963720" y="6238800"/>
              <a:ext cx="514800" cy="514800"/>
            </a:xfrm>
            <a:prstGeom prst="ellipse">
              <a:avLst/>
            </a:prstGeom>
            <a:solidFill>
              <a:srgbClr val="f7f7f7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28" name="椭圆 55"/>
            <p:cNvSpPr/>
            <p:nvPr/>
          </p:nvSpPr>
          <p:spPr>
            <a:xfrm>
              <a:off x="1583640" y="5228640"/>
              <a:ext cx="514800" cy="514800"/>
            </a:xfrm>
            <a:prstGeom prst="ellipse">
              <a:avLst/>
            </a:prstGeom>
            <a:solidFill>
              <a:srgbClr val="f7f7f7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29" name="椭圆 56"/>
            <p:cNvSpPr/>
            <p:nvPr/>
          </p:nvSpPr>
          <p:spPr>
            <a:xfrm>
              <a:off x="3157560" y="4184280"/>
              <a:ext cx="514800" cy="514800"/>
            </a:xfrm>
            <a:prstGeom prst="ellipse">
              <a:avLst/>
            </a:prstGeom>
            <a:solidFill>
              <a:srgbClr val="f7f7f7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30" name="椭圆 57"/>
            <p:cNvSpPr/>
            <p:nvPr/>
          </p:nvSpPr>
          <p:spPr>
            <a:xfrm>
              <a:off x="2113920" y="2833920"/>
              <a:ext cx="832320" cy="832320"/>
            </a:xfrm>
            <a:prstGeom prst="ellipse">
              <a:avLst/>
            </a:prstGeom>
            <a:solidFill>
              <a:srgbClr val="f7f7f7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31" name="椭圆 58"/>
            <p:cNvSpPr/>
            <p:nvPr/>
          </p:nvSpPr>
          <p:spPr>
            <a:xfrm rot="1662600">
              <a:off x="289080" y="1369080"/>
              <a:ext cx="932400" cy="932400"/>
            </a:xfrm>
            <a:prstGeom prst="ellipse">
              <a:avLst/>
            </a:prstGeom>
            <a:solidFill>
              <a:srgbClr val="f7f7f7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32" name="椭圆 59"/>
            <p:cNvSpPr/>
            <p:nvPr/>
          </p:nvSpPr>
          <p:spPr>
            <a:xfrm>
              <a:off x="7608240" y="5333760"/>
              <a:ext cx="304560" cy="304560"/>
            </a:xfrm>
            <a:prstGeom prst="ellipse">
              <a:avLst/>
            </a:prstGeom>
            <a:solidFill>
              <a:srgbClr val="f7f7f7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33" name="椭圆 60"/>
            <p:cNvSpPr/>
            <p:nvPr/>
          </p:nvSpPr>
          <p:spPr>
            <a:xfrm>
              <a:off x="4449240" y="4597200"/>
              <a:ext cx="514800" cy="514800"/>
            </a:xfrm>
            <a:prstGeom prst="ellipse">
              <a:avLst/>
            </a:prstGeom>
            <a:solidFill>
              <a:srgbClr val="f7f7f7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34" name="椭圆 61"/>
            <p:cNvSpPr/>
            <p:nvPr/>
          </p:nvSpPr>
          <p:spPr>
            <a:xfrm>
              <a:off x="5463720" y="4375080"/>
              <a:ext cx="514800" cy="514800"/>
            </a:xfrm>
            <a:prstGeom prst="ellipse">
              <a:avLst/>
            </a:prstGeom>
            <a:solidFill>
              <a:srgbClr val="f7f7f7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35" name="椭圆 62"/>
            <p:cNvSpPr/>
            <p:nvPr/>
          </p:nvSpPr>
          <p:spPr>
            <a:xfrm>
              <a:off x="7453080" y="3719520"/>
              <a:ext cx="514800" cy="514800"/>
            </a:xfrm>
            <a:prstGeom prst="ellipse">
              <a:avLst/>
            </a:prstGeom>
            <a:solidFill>
              <a:srgbClr val="f7f7f7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36" name="椭圆 63"/>
            <p:cNvSpPr/>
            <p:nvPr/>
          </p:nvSpPr>
          <p:spPr>
            <a:xfrm>
              <a:off x="7069680" y="1760400"/>
              <a:ext cx="832320" cy="832320"/>
            </a:xfrm>
            <a:prstGeom prst="ellipse">
              <a:avLst/>
            </a:prstGeom>
            <a:solidFill>
              <a:srgbClr val="f7f7f7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37" name="椭圆 64"/>
            <p:cNvSpPr/>
            <p:nvPr/>
          </p:nvSpPr>
          <p:spPr>
            <a:xfrm rot="1662600">
              <a:off x="4297680" y="3553560"/>
              <a:ext cx="932400" cy="932400"/>
            </a:xfrm>
            <a:prstGeom prst="ellipse">
              <a:avLst/>
            </a:prstGeom>
            <a:solidFill>
              <a:srgbClr val="f7f7f7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pic>
          <p:nvPicPr>
            <p:cNvPr id="338" name="图片 65" descr=""/>
            <p:cNvPicPr/>
            <p:nvPr/>
          </p:nvPicPr>
          <p:blipFill>
            <a:blip r:embed="rId40"/>
            <a:stretch/>
          </p:blipFill>
          <p:spPr>
            <a:xfrm>
              <a:off x="11302560" y="5592960"/>
              <a:ext cx="389880" cy="53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9" name="图片 66" descr=""/>
            <p:cNvPicPr/>
            <p:nvPr/>
          </p:nvPicPr>
          <p:blipFill>
            <a:blip r:embed="rId41"/>
            <a:stretch/>
          </p:blipFill>
          <p:spPr>
            <a:xfrm>
              <a:off x="4543920" y="1580400"/>
              <a:ext cx="379080" cy="53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0" name="图片 67" descr=""/>
            <p:cNvPicPr/>
            <p:nvPr/>
          </p:nvPicPr>
          <p:blipFill>
            <a:blip r:embed="rId42"/>
            <a:stretch/>
          </p:blipFill>
          <p:spPr>
            <a:xfrm>
              <a:off x="8662320" y="4123440"/>
              <a:ext cx="404640" cy="53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1" name="图片 68" descr=""/>
            <p:cNvPicPr/>
            <p:nvPr/>
          </p:nvPicPr>
          <p:blipFill>
            <a:blip r:embed="rId43"/>
            <a:stretch/>
          </p:blipFill>
          <p:spPr>
            <a:xfrm>
              <a:off x="8449200" y="5318640"/>
              <a:ext cx="389880" cy="53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2" name="图片 69" descr=""/>
            <p:cNvPicPr/>
            <p:nvPr/>
          </p:nvPicPr>
          <p:blipFill>
            <a:blip r:embed="rId44"/>
            <a:stretch/>
          </p:blipFill>
          <p:spPr>
            <a:xfrm>
              <a:off x="11051280" y="2165400"/>
              <a:ext cx="379080" cy="53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3" name="图片 70" descr=""/>
            <p:cNvPicPr/>
            <p:nvPr/>
          </p:nvPicPr>
          <p:blipFill>
            <a:blip r:embed="rId45"/>
            <a:stretch/>
          </p:blipFill>
          <p:spPr>
            <a:xfrm>
              <a:off x="5105160" y="5247360"/>
              <a:ext cx="404640" cy="53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4" name="图片 71" descr=""/>
            <p:cNvPicPr/>
            <p:nvPr/>
          </p:nvPicPr>
          <p:blipFill>
            <a:blip r:embed="rId46"/>
            <a:stretch/>
          </p:blipFill>
          <p:spPr>
            <a:xfrm>
              <a:off x="6535080" y="5098320"/>
              <a:ext cx="389880" cy="53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5" name="图片 72" descr=""/>
            <p:cNvPicPr/>
            <p:nvPr/>
          </p:nvPicPr>
          <p:blipFill>
            <a:blip r:embed="rId47"/>
            <a:stretch/>
          </p:blipFill>
          <p:spPr>
            <a:xfrm>
              <a:off x="10503000" y="26280"/>
              <a:ext cx="379080" cy="53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6" name="图片 73" descr=""/>
            <p:cNvPicPr/>
            <p:nvPr/>
          </p:nvPicPr>
          <p:blipFill>
            <a:blip r:embed="rId48"/>
            <a:stretch/>
          </p:blipFill>
          <p:spPr>
            <a:xfrm>
              <a:off x="9873360" y="4250880"/>
              <a:ext cx="404640" cy="53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7" name="图片 74" descr=""/>
            <p:cNvPicPr/>
            <p:nvPr/>
          </p:nvPicPr>
          <p:blipFill>
            <a:blip r:embed="rId49"/>
            <a:stretch/>
          </p:blipFill>
          <p:spPr>
            <a:xfrm>
              <a:off x="343800" y="2465640"/>
              <a:ext cx="389880" cy="53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8" name="图片 75" descr=""/>
            <p:cNvPicPr/>
            <p:nvPr/>
          </p:nvPicPr>
          <p:blipFill>
            <a:blip r:embed="rId50"/>
            <a:stretch/>
          </p:blipFill>
          <p:spPr>
            <a:xfrm>
              <a:off x="10652400" y="6408360"/>
              <a:ext cx="379080" cy="53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9" name="图片 76" descr=""/>
            <p:cNvPicPr/>
            <p:nvPr/>
          </p:nvPicPr>
          <p:blipFill>
            <a:blip r:embed="rId51"/>
            <a:stretch/>
          </p:blipFill>
          <p:spPr>
            <a:xfrm>
              <a:off x="10068480" y="1595160"/>
              <a:ext cx="404640" cy="53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0" name="图片 77" descr=""/>
            <p:cNvPicPr/>
            <p:nvPr/>
          </p:nvPicPr>
          <p:blipFill>
            <a:blip r:embed="rId52"/>
            <a:stretch/>
          </p:blipFill>
          <p:spPr>
            <a:xfrm>
              <a:off x="6809400" y="536760"/>
              <a:ext cx="379080" cy="53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1" name="图片 78" descr=""/>
            <p:cNvPicPr/>
            <p:nvPr/>
          </p:nvPicPr>
          <p:blipFill>
            <a:blip r:embed="rId53"/>
            <a:stretch/>
          </p:blipFill>
          <p:spPr>
            <a:xfrm>
              <a:off x="5347080" y="1193760"/>
              <a:ext cx="404640" cy="53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2" name="图片 79" descr=""/>
            <p:cNvPicPr/>
            <p:nvPr/>
          </p:nvPicPr>
          <p:blipFill>
            <a:blip r:embed="rId54"/>
            <a:stretch/>
          </p:blipFill>
          <p:spPr>
            <a:xfrm>
              <a:off x="8598600" y="923760"/>
              <a:ext cx="389880" cy="53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3" name="图片 80" descr=""/>
            <p:cNvPicPr/>
            <p:nvPr/>
          </p:nvPicPr>
          <p:blipFill>
            <a:blip r:embed="rId55"/>
            <a:stretch/>
          </p:blipFill>
          <p:spPr>
            <a:xfrm>
              <a:off x="1943280" y="-127080"/>
              <a:ext cx="675360" cy="63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4" name="图片 81" descr=""/>
            <p:cNvPicPr/>
            <p:nvPr/>
          </p:nvPicPr>
          <p:blipFill>
            <a:blip r:embed="rId56"/>
            <a:stretch/>
          </p:blipFill>
          <p:spPr>
            <a:xfrm>
              <a:off x="7772760" y="-47160"/>
              <a:ext cx="389880" cy="53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5" name="图片 82" descr=""/>
            <p:cNvPicPr/>
            <p:nvPr/>
          </p:nvPicPr>
          <p:blipFill>
            <a:blip r:embed="rId57"/>
            <a:stretch/>
          </p:blipFill>
          <p:spPr>
            <a:xfrm>
              <a:off x="3210120" y="-47160"/>
              <a:ext cx="404640" cy="53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6" name="图片 83" descr=""/>
            <p:cNvPicPr/>
            <p:nvPr/>
          </p:nvPicPr>
          <p:blipFill>
            <a:blip r:embed="rId58"/>
            <a:stretch/>
          </p:blipFill>
          <p:spPr>
            <a:xfrm>
              <a:off x="5181840" y="-3240"/>
              <a:ext cx="389880" cy="53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7" name="图片 84" descr=""/>
            <p:cNvPicPr/>
            <p:nvPr/>
          </p:nvPicPr>
          <p:blipFill>
            <a:blip r:embed="rId59"/>
            <a:stretch/>
          </p:blipFill>
          <p:spPr>
            <a:xfrm>
              <a:off x="8196120" y="6055200"/>
              <a:ext cx="786960" cy="88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8" name="图片 85" descr=""/>
            <p:cNvPicPr/>
            <p:nvPr/>
          </p:nvPicPr>
          <p:blipFill>
            <a:blip r:embed="rId60"/>
            <a:stretch/>
          </p:blipFill>
          <p:spPr>
            <a:xfrm>
              <a:off x="8947440" y="5576760"/>
              <a:ext cx="817920" cy="841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9" name="图片 86" descr=""/>
            <p:cNvPicPr/>
            <p:nvPr/>
          </p:nvPicPr>
          <p:blipFill>
            <a:blip r:embed="rId61"/>
            <a:stretch/>
          </p:blipFill>
          <p:spPr>
            <a:xfrm>
              <a:off x="6413760" y="-270000"/>
              <a:ext cx="786960" cy="885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0" name="矩形 90"/>
          <p:cNvSpPr/>
          <p:nvPr/>
        </p:nvSpPr>
        <p:spPr>
          <a:xfrm>
            <a:off x="0" y="990720"/>
            <a:ext cx="12191760" cy="95040"/>
          </a:xfrm>
          <a:prstGeom prst="rect">
            <a:avLst/>
          </a:prstGeom>
          <a:solidFill>
            <a:srgbClr val="0385cd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61" name="矩形 91"/>
          <p:cNvSpPr/>
          <p:nvPr/>
        </p:nvSpPr>
        <p:spPr>
          <a:xfrm>
            <a:off x="0" y="0"/>
            <a:ext cx="12191760" cy="990360"/>
          </a:xfrm>
          <a:prstGeom prst="rect">
            <a:avLst/>
          </a:prstGeom>
          <a:solidFill>
            <a:srgbClr val="1cabfc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2"/>
    <p:sldLayoutId id="2147483689" r:id="rId63"/>
    <p:sldLayoutId id="2147483690" r:id="rId64"/>
    <p:sldLayoutId id="2147483691" r:id="rId65"/>
    <p:sldLayoutId id="2147483692" r:id="rId66"/>
    <p:sldLayoutId id="2147483693" r:id="rId67"/>
    <p:sldLayoutId id="2147483694" r:id="rId68"/>
    <p:sldLayoutId id="2147483695" r:id="rId69"/>
    <p:sldLayoutId id="2147483696" r:id="rId70"/>
    <p:sldLayoutId id="2147483697" r:id="rId71"/>
    <p:sldLayoutId id="2147483698" r:id="rId72"/>
    <p:sldLayoutId id="2147483699" r:id="rId7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0" name="组合 1"/>
          <p:cNvGrpSpPr/>
          <p:nvPr/>
        </p:nvGrpSpPr>
        <p:grpSpPr>
          <a:xfrm>
            <a:off x="-111960" y="-270000"/>
            <a:ext cx="12590280" cy="7387560"/>
            <a:chOff x="-111960" y="-270000"/>
            <a:chExt cx="12590280" cy="7387560"/>
          </a:xfrm>
        </p:grpSpPr>
        <p:pic>
          <p:nvPicPr>
            <p:cNvPr id="401" name="图片 7" descr=""/>
            <p:cNvPicPr/>
            <p:nvPr/>
          </p:nvPicPr>
          <p:blipFill>
            <a:blip r:embed="rId2"/>
            <a:srcRect l="0" t="7595" r="0" b="0"/>
            <a:stretch/>
          </p:blipFill>
          <p:spPr>
            <a:xfrm>
              <a:off x="5501160" y="184320"/>
              <a:ext cx="825480" cy="77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2" name="图片 8" descr=""/>
            <p:cNvPicPr/>
            <p:nvPr/>
          </p:nvPicPr>
          <p:blipFill>
            <a:blip r:embed="rId3"/>
            <a:stretch/>
          </p:blipFill>
          <p:spPr>
            <a:xfrm>
              <a:off x="2641320" y="2014560"/>
              <a:ext cx="731160" cy="71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3" name="图片 9" descr=""/>
            <p:cNvPicPr/>
            <p:nvPr/>
          </p:nvPicPr>
          <p:blipFill>
            <a:blip r:embed="rId4"/>
            <a:stretch/>
          </p:blipFill>
          <p:spPr>
            <a:xfrm>
              <a:off x="4092840" y="2239560"/>
              <a:ext cx="389880" cy="53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4" name="图片 10" descr=""/>
            <p:cNvPicPr/>
            <p:nvPr/>
          </p:nvPicPr>
          <p:blipFill>
            <a:blip r:embed="rId5"/>
            <a:stretch/>
          </p:blipFill>
          <p:spPr>
            <a:xfrm>
              <a:off x="1221120" y="313560"/>
              <a:ext cx="379080" cy="53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5" name="图片 11" descr=""/>
            <p:cNvPicPr/>
            <p:nvPr/>
          </p:nvPicPr>
          <p:blipFill>
            <a:blip r:embed="rId6"/>
            <a:stretch/>
          </p:blipFill>
          <p:spPr>
            <a:xfrm>
              <a:off x="376560" y="5691240"/>
              <a:ext cx="404640" cy="53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6" name="图片 12" descr=""/>
            <p:cNvPicPr/>
            <p:nvPr/>
          </p:nvPicPr>
          <p:blipFill>
            <a:blip r:embed="rId7"/>
            <a:stretch/>
          </p:blipFill>
          <p:spPr>
            <a:xfrm>
              <a:off x="6239160" y="4099680"/>
              <a:ext cx="786960" cy="88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7" name="图片 13" descr=""/>
            <p:cNvPicPr/>
            <p:nvPr/>
          </p:nvPicPr>
          <p:blipFill>
            <a:blip r:embed="rId8"/>
            <a:stretch/>
          </p:blipFill>
          <p:spPr>
            <a:xfrm>
              <a:off x="3420720" y="1173960"/>
              <a:ext cx="675360" cy="63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8" name="图片 14" descr=""/>
            <p:cNvPicPr/>
            <p:nvPr/>
          </p:nvPicPr>
          <p:blipFill>
            <a:blip r:embed="rId9"/>
            <a:stretch/>
          </p:blipFill>
          <p:spPr>
            <a:xfrm>
              <a:off x="2461680" y="4782960"/>
              <a:ext cx="81792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9" name="椭圆 15"/>
            <p:cNvSpPr/>
            <p:nvPr/>
          </p:nvSpPr>
          <p:spPr>
            <a:xfrm>
              <a:off x="11497680" y="4462560"/>
              <a:ext cx="304560" cy="304560"/>
            </a:xfrm>
            <a:prstGeom prst="ellipse">
              <a:avLst/>
            </a:prstGeom>
            <a:solidFill>
              <a:srgbClr val="f7f7f7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10" name="椭圆 16"/>
            <p:cNvSpPr/>
            <p:nvPr/>
          </p:nvSpPr>
          <p:spPr>
            <a:xfrm>
              <a:off x="9341640" y="4772160"/>
              <a:ext cx="514800" cy="514800"/>
            </a:xfrm>
            <a:prstGeom prst="ellipse">
              <a:avLst/>
            </a:prstGeom>
            <a:solidFill>
              <a:srgbClr val="f7f7f7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11" name="椭圆 17"/>
            <p:cNvSpPr/>
            <p:nvPr/>
          </p:nvSpPr>
          <p:spPr>
            <a:xfrm>
              <a:off x="9353160" y="3504240"/>
              <a:ext cx="514800" cy="514800"/>
            </a:xfrm>
            <a:prstGeom prst="ellipse">
              <a:avLst/>
            </a:prstGeom>
            <a:solidFill>
              <a:srgbClr val="f7f7f7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12" name="椭圆 18"/>
            <p:cNvSpPr/>
            <p:nvPr/>
          </p:nvSpPr>
          <p:spPr>
            <a:xfrm>
              <a:off x="11535480" y="2717640"/>
              <a:ext cx="514800" cy="514800"/>
            </a:xfrm>
            <a:prstGeom prst="ellipse">
              <a:avLst/>
            </a:prstGeom>
            <a:solidFill>
              <a:srgbClr val="f7f7f7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13" name="椭圆 19"/>
            <p:cNvSpPr/>
            <p:nvPr/>
          </p:nvSpPr>
          <p:spPr>
            <a:xfrm>
              <a:off x="11217960" y="979560"/>
              <a:ext cx="832320" cy="832320"/>
            </a:xfrm>
            <a:prstGeom prst="ellipse">
              <a:avLst/>
            </a:prstGeom>
            <a:solidFill>
              <a:srgbClr val="f7f7f7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14" name="椭圆 20"/>
            <p:cNvSpPr/>
            <p:nvPr/>
          </p:nvSpPr>
          <p:spPr>
            <a:xfrm>
              <a:off x="4388760" y="2797560"/>
              <a:ext cx="304560" cy="304560"/>
            </a:xfrm>
            <a:prstGeom prst="ellipse">
              <a:avLst/>
            </a:prstGeom>
            <a:solidFill>
              <a:srgbClr val="f7f7f7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15" name="椭圆 21"/>
            <p:cNvSpPr/>
            <p:nvPr/>
          </p:nvSpPr>
          <p:spPr>
            <a:xfrm rot="1662600">
              <a:off x="8667000" y="-96840"/>
              <a:ext cx="932400" cy="932400"/>
            </a:xfrm>
            <a:prstGeom prst="ellipse">
              <a:avLst/>
            </a:prstGeom>
            <a:solidFill>
              <a:srgbClr val="f7f7f7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16" name="椭圆 22"/>
            <p:cNvSpPr/>
            <p:nvPr/>
          </p:nvSpPr>
          <p:spPr>
            <a:xfrm rot="3445200">
              <a:off x="2530440" y="471960"/>
              <a:ext cx="832320" cy="832320"/>
            </a:xfrm>
            <a:prstGeom prst="ellipse">
              <a:avLst/>
            </a:prstGeom>
            <a:solidFill>
              <a:srgbClr val="f7f7f7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pic>
          <p:nvPicPr>
            <p:cNvPr id="417" name="图片 23" descr=""/>
            <p:cNvPicPr/>
            <p:nvPr/>
          </p:nvPicPr>
          <p:blipFill>
            <a:blip r:embed="rId10"/>
            <a:srcRect l="0" t="7595" r="0" b="0"/>
            <a:stretch/>
          </p:blipFill>
          <p:spPr>
            <a:xfrm>
              <a:off x="852480" y="3169800"/>
              <a:ext cx="825480" cy="77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8" name="图片 24" descr=""/>
            <p:cNvPicPr/>
            <p:nvPr/>
          </p:nvPicPr>
          <p:blipFill>
            <a:blip r:embed="rId11"/>
            <a:stretch/>
          </p:blipFill>
          <p:spPr>
            <a:xfrm>
              <a:off x="4320000" y="6043320"/>
              <a:ext cx="731160" cy="71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9" name="图片 25" descr=""/>
            <p:cNvPicPr/>
            <p:nvPr/>
          </p:nvPicPr>
          <p:blipFill>
            <a:blip r:embed="rId12"/>
            <a:stretch/>
          </p:blipFill>
          <p:spPr>
            <a:xfrm>
              <a:off x="5725440" y="5887440"/>
              <a:ext cx="786960" cy="88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0" name="图片 26" descr=""/>
            <p:cNvPicPr/>
            <p:nvPr/>
          </p:nvPicPr>
          <p:blipFill>
            <a:blip r:embed="rId13"/>
            <a:stretch/>
          </p:blipFill>
          <p:spPr>
            <a:xfrm>
              <a:off x="3838320" y="5167440"/>
              <a:ext cx="675360" cy="63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图片 27" descr=""/>
            <p:cNvPicPr/>
            <p:nvPr/>
          </p:nvPicPr>
          <p:blipFill>
            <a:blip r:embed="rId14"/>
            <a:stretch/>
          </p:blipFill>
          <p:spPr>
            <a:xfrm>
              <a:off x="11660400" y="6276240"/>
              <a:ext cx="817920" cy="841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图片 28" descr=""/>
            <p:cNvPicPr/>
            <p:nvPr/>
          </p:nvPicPr>
          <p:blipFill>
            <a:blip r:embed="rId15"/>
            <a:srcRect l="0" t="7595" r="0" b="0"/>
            <a:stretch/>
          </p:blipFill>
          <p:spPr>
            <a:xfrm>
              <a:off x="10017360" y="2639520"/>
              <a:ext cx="825480" cy="77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3" name="图片 29" descr=""/>
            <p:cNvPicPr/>
            <p:nvPr/>
          </p:nvPicPr>
          <p:blipFill>
            <a:blip r:embed="rId16"/>
            <a:stretch/>
          </p:blipFill>
          <p:spPr>
            <a:xfrm>
              <a:off x="7371000" y="578880"/>
              <a:ext cx="731160" cy="71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4" name="图片 30" descr=""/>
            <p:cNvPicPr/>
            <p:nvPr/>
          </p:nvPicPr>
          <p:blipFill>
            <a:blip r:embed="rId17"/>
            <a:stretch/>
          </p:blipFill>
          <p:spPr>
            <a:xfrm>
              <a:off x="9693360" y="650520"/>
              <a:ext cx="786960" cy="88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5" name="图片 31" descr=""/>
            <p:cNvPicPr/>
            <p:nvPr/>
          </p:nvPicPr>
          <p:blipFill>
            <a:blip r:embed="rId18"/>
            <a:stretch/>
          </p:blipFill>
          <p:spPr>
            <a:xfrm>
              <a:off x="4379760" y="219240"/>
              <a:ext cx="675360" cy="63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6" name="图片 32" descr=""/>
            <p:cNvPicPr/>
            <p:nvPr/>
          </p:nvPicPr>
          <p:blipFill>
            <a:blip r:embed="rId19"/>
            <a:stretch/>
          </p:blipFill>
          <p:spPr>
            <a:xfrm>
              <a:off x="7751880" y="4479840"/>
              <a:ext cx="817920" cy="841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7" name="图片 33" descr=""/>
            <p:cNvPicPr/>
            <p:nvPr/>
          </p:nvPicPr>
          <p:blipFill>
            <a:blip r:embed="rId20"/>
            <a:srcRect l="0" t="7595" r="0" b="0"/>
            <a:stretch/>
          </p:blipFill>
          <p:spPr>
            <a:xfrm>
              <a:off x="11366280" y="-260280"/>
              <a:ext cx="825480" cy="77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8" name="图片 34" descr=""/>
            <p:cNvPicPr/>
            <p:nvPr/>
          </p:nvPicPr>
          <p:blipFill>
            <a:blip r:embed="rId21"/>
            <a:stretch/>
          </p:blipFill>
          <p:spPr>
            <a:xfrm>
              <a:off x="8371080" y="2014560"/>
              <a:ext cx="731160" cy="71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9" name="图片 35" descr=""/>
            <p:cNvPicPr/>
            <p:nvPr/>
          </p:nvPicPr>
          <p:blipFill>
            <a:blip r:embed="rId22"/>
            <a:stretch/>
          </p:blipFill>
          <p:spPr>
            <a:xfrm>
              <a:off x="10992600" y="3390480"/>
              <a:ext cx="786960" cy="88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0" name="图片 36" descr=""/>
            <p:cNvPicPr/>
            <p:nvPr/>
          </p:nvPicPr>
          <p:blipFill>
            <a:blip r:embed="rId23"/>
            <a:stretch/>
          </p:blipFill>
          <p:spPr>
            <a:xfrm>
              <a:off x="10700280" y="4938120"/>
              <a:ext cx="675360" cy="63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1" name="图片 37" descr=""/>
            <p:cNvPicPr/>
            <p:nvPr/>
          </p:nvPicPr>
          <p:blipFill>
            <a:blip r:embed="rId24"/>
            <a:stretch/>
          </p:blipFill>
          <p:spPr>
            <a:xfrm>
              <a:off x="6074640" y="1372680"/>
              <a:ext cx="817920" cy="841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2" name="图片 38" descr=""/>
            <p:cNvPicPr/>
            <p:nvPr/>
          </p:nvPicPr>
          <p:blipFill>
            <a:blip r:embed="rId25"/>
            <a:srcRect l="0" t="7595" r="0" b="0"/>
            <a:stretch/>
          </p:blipFill>
          <p:spPr>
            <a:xfrm>
              <a:off x="8310960" y="3040920"/>
              <a:ext cx="825480" cy="77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3" name="图片 39" descr=""/>
            <p:cNvPicPr/>
            <p:nvPr/>
          </p:nvPicPr>
          <p:blipFill>
            <a:blip r:embed="rId26"/>
            <a:stretch/>
          </p:blipFill>
          <p:spPr>
            <a:xfrm>
              <a:off x="9800640" y="5683320"/>
              <a:ext cx="731160" cy="71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4" name="图片 40" descr=""/>
            <p:cNvPicPr/>
            <p:nvPr/>
          </p:nvPicPr>
          <p:blipFill>
            <a:blip r:embed="rId27"/>
            <a:stretch/>
          </p:blipFill>
          <p:spPr>
            <a:xfrm>
              <a:off x="7228080" y="5700240"/>
              <a:ext cx="786960" cy="88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5" name="图片 41" descr=""/>
            <p:cNvPicPr/>
            <p:nvPr/>
          </p:nvPicPr>
          <p:blipFill>
            <a:blip r:embed="rId28"/>
            <a:stretch/>
          </p:blipFill>
          <p:spPr>
            <a:xfrm>
              <a:off x="5734440" y="3250080"/>
              <a:ext cx="675360" cy="63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6" name="图片 42" descr=""/>
            <p:cNvPicPr/>
            <p:nvPr/>
          </p:nvPicPr>
          <p:blipFill>
            <a:blip r:embed="rId29"/>
            <a:stretch/>
          </p:blipFill>
          <p:spPr>
            <a:xfrm>
              <a:off x="6568560" y="2763360"/>
              <a:ext cx="817920" cy="841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7" name="图片 43" descr=""/>
            <p:cNvPicPr/>
            <p:nvPr/>
          </p:nvPicPr>
          <p:blipFill>
            <a:blip r:embed="rId30"/>
            <a:srcRect l="0" t="7595" r="0" b="0"/>
            <a:stretch/>
          </p:blipFill>
          <p:spPr>
            <a:xfrm>
              <a:off x="5060520" y="2435400"/>
              <a:ext cx="825480" cy="77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8" name="图片 45" descr=""/>
            <p:cNvPicPr/>
            <p:nvPr/>
          </p:nvPicPr>
          <p:blipFill>
            <a:blip r:embed="rId31"/>
            <a:stretch/>
          </p:blipFill>
          <p:spPr>
            <a:xfrm>
              <a:off x="3346920" y="2985840"/>
              <a:ext cx="786960" cy="88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9" name="图片 46" descr=""/>
            <p:cNvPicPr/>
            <p:nvPr/>
          </p:nvPicPr>
          <p:blipFill>
            <a:blip r:embed="rId32"/>
            <a:stretch/>
          </p:blipFill>
          <p:spPr>
            <a:xfrm>
              <a:off x="194760" y="-3240"/>
              <a:ext cx="675360" cy="63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0" name="图片 47" descr=""/>
            <p:cNvPicPr/>
            <p:nvPr/>
          </p:nvPicPr>
          <p:blipFill>
            <a:blip r:embed="rId33"/>
            <a:stretch/>
          </p:blipFill>
          <p:spPr>
            <a:xfrm>
              <a:off x="1317960" y="2088000"/>
              <a:ext cx="817920" cy="841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1" name="图片 48" descr=""/>
            <p:cNvPicPr/>
            <p:nvPr/>
          </p:nvPicPr>
          <p:blipFill>
            <a:blip r:embed="rId34"/>
            <a:srcRect l="0" t="7595" r="0" b="0"/>
            <a:stretch/>
          </p:blipFill>
          <p:spPr>
            <a:xfrm>
              <a:off x="3023280" y="6165360"/>
              <a:ext cx="825480" cy="77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2" name="图片 49" descr=""/>
            <p:cNvPicPr/>
            <p:nvPr/>
          </p:nvPicPr>
          <p:blipFill>
            <a:blip r:embed="rId35"/>
            <a:stretch/>
          </p:blipFill>
          <p:spPr>
            <a:xfrm>
              <a:off x="-111960" y="4019400"/>
              <a:ext cx="731160" cy="71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3" name="图片 50" descr=""/>
            <p:cNvPicPr/>
            <p:nvPr/>
          </p:nvPicPr>
          <p:blipFill>
            <a:blip r:embed="rId36"/>
            <a:stretch/>
          </p:blipFill>
          <p:spPr>
            <a:xfrm>
              <a:off x="1746720" y="4051800"/>
              <a:ext cx="786960" cy="88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4" name="图片 51" descr=""/>
            <p:cNvPicPr/>
            <p:nvPr/>
          </p:nvPicPr>
          <p:blipFill>
            <a:blip r:embed="rId37"/>
            <a:stretch/>
          </p:blipFill>
          <p:spPr>
            <a:xfrm>
              <a:off x="767520" y="4888440"/>
              <a:ext cx="675360" cy="63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5" name="图片 52" descr=""/>
            <p:cNvPicPr/>
            <p:nvPr/>
          </p:nvPicPr>
          <p:blipFill>
            <a:blip r:embed="rId38"/>
            <a:stretch/>
          </p:blipFill>
          <p:spPr>
            <a:xfrm>
              <a:off x="-99000" y="6238800"/>
              <a:ext cx="81792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6" name="椭圆 53"/>
            <p:cNvSpPr/>
            <p:nvPr/>
          </p:nvSpPr>
          <p:spPr>
            <a:xfrm>
              <a:off x="2175480" y="6132960"/>
              <a:ext cx="304560" cy="304560"/>
            </a:xfrm>
            <a:prstGeom prst="ellipse">
              <a:avLst/>
            </a:prstGeom>
            <a:solidFill>
              <a:srgbClr val="f7f7f7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47" name="椭圆 54"/>
            <p:cNvSpPr/>
            <p:nvPr/>
          </p:nvSpPr>
          <p:spPr>
            <a:xfrm>
              <a:off x="963720" y="6238800"/>
              <a:ext cx="514800" cy="514800"/>
            </a:xfrm>
            <a:prstGeom prst="ellipse">
              <a:avLst/>
            </a:prstGeom>
            <a:solidFill>
              <a:srgbClr val="f7f7f7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48" name="椭圆 55"/>
            <p:cNvSpPr/>
            <p:nvPr/>
          </p:nvSpPr>
          <p:spPr>
            <a:xfrm>
              <a:off x="1583640" y="5228640"/>
              <a:ext cx="514800" cy="514800"/>
            </a:xfrm>
            <a:prstGeom prst="ellipse">
              <a:avLst/>
            </a:prstGeom>
            <a:solidFill>
              <a:srgbClr val="f7f7f7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49" name="椭圆 56"/>
            <p:cNvSpPr/>
            <p:nvPr/>
          </p:nvSpPr>
          <p:spPr>
            <a:xfrm>
              <a:off x="3157560" y="4184280"/>
              <a:ext cx="514800" cy="514800"/>
            </a:xfrm>
            <a:prstGeom prst="ellipse">
              <a:avLst/>
            </a:prstGeom>
            <a:solidFill>
              <a:srgbClr val="f7f7f7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50" name="椭圆 57"/>
            <p:cNvSpPr/>
            <p:nvPr/>
          </p:nvSpPr>
          <p:spPr>
            <a:xfrm>
              <a:off x="2113920" y="2833920"/>
              <a:ext cx="832320" cy="832320"/>
            </a:xfrm>
            <a:prstGeom prst="ellipse">
              <a:avLst/>
            </a:prstGeom>
            <a:solidFill>
              <a:srgbClr val="f7f7f7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51" name="椭圆 58"/>
            <p:cNvSpPr/>
            <p:nvPr/>
          </p:nvSpPr>
          <p:spPr>
            <a:xfrm rot="1662600">
              <a:off x="289080" y="1369080"/>
              <a:ext cx="932400" cy="932400"/>
            </a:xfrm>
            <a:prstGeom prst="ellipse">
              <a:avLst/>
            </a:prstGeom>
            <a:solidFill>
              <a:srgbClr val="f7f7f7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52" name="椭圆 59"/>
            <p:cNvSpPr/>
            <p:nvPr/>
          </p:nvSpPr>
          <p:spPr>
            <a:xfrm>
              <a:off x="7608240" y="5333760"/>
              <a:ext cx="304560" cy="304560"/>
            </a:xfrm>
            <a:prstGeom prst="ellipse">
              <a:avLst/>
            </a:prstGeom>
            <a:solidFill>
              <a:srgbClr val="f7f7f7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53" name="椭圆 60"/>
            <p:cNvSpPr/>
            <p:nvPr/>
          </p:nvSpPr>
          <p:spPr>
            <a:xfrm>
              <a:off x="4449240" y="4597200"/>
              <a:ext cx="514800" cy="514800"/>
            </a:xfrm>
            <a:prstGeom prst="ellipse">
              <a:avLst/>
            </a:prstGeom>
            <a:solidFill>
              <a:srgbClr val="f7f7f7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54" name="椭圆 61"/>
            <p:cNvSpPr/>
            <p:nvPr/>
          </p:nvSpPr>
          <p:spPr>
            <a:xfrm>
              <a:off x="5463720" y="4375080"/>
              <a:ext cx="514800" cy="514800"/>
            </a:xfrm>
            <a:prstGeom prst="ellipse">
              <a:avLst/>
            </a:prstGeom>
            <a:solidFill>
              <a:srgbClr val="f7f7f7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55" name="椭圆 62"/>
            <p:cNvSpPr/>
            <p:nvPr/>
          </p:nvSpPr>
          <p:spPr>
            <a:xfrm>
              <a:off x="7453080" y="3719520"/>
              <a:ext cx="514800" cy="514800"/>
            </a:xfrm>
            <a:prstGeom prst="ellipse">
              <a:avLst/>
            </a:prstGeom>
            <a:solidFill>
              <a:srgbClr val="f7f7f7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56" name="椭圆 63"/>
            <p:cNvSpPr/>
            <p:nvPr/>
          </p:nvSpPr>
          <p:spPr>
            <a:xfrm>
              <a:off x="7069680" y="1760400"/>
              <a:ext cx="832320" cy="832320"/>
            </a:xfrm>
            <a:prstGeom prst="ellipse">
              <a:avLst/>
            </a:prstGeom>
            <a:solidFill>
              <a:srgbClr val="f7f7f7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57" name="椭圆 64"/>
            <p:cNvSpPr/>
            <p:nvPr/>
          </p:nvSpPr>
          <p:spPr>
            <a:xfrm rot="1662600">
              <a:off x="4297680" y="3553560"/>
              <a:ext cx="932400" cy="932400"/>
            </a:xfrm>
            <a:prstGeom prst="ellipse">
              <a:avLst/>
            </a:prstGeom>
            <a:solidFill>
              <a:srgbClr val="f7f7f7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pic>
          <p:nvPicPr>
            <p:cNvPr id="458" name="图片 65" descr=""/>
            <p:cNvPicPr/>
            <p:nvPr/>
          </p:nvPicPr>
          <p:blipFill>
            <a:blip r:embed="rId39"/>
            <a:stretch/>
          </p:blipFill>
          <p:spPr>
            <a:xfrm>
              <a:off x="11302560" y="5592960"/>
              <a:ext cx="389880" cy="53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9" name="图片 66" descr=""/>
            <p:cNvPicPr/>
            <p:nvPr/>
          </p:nvPicPr>
          <p:blipFill>
            <a:blip r:embed="rId40"/>
            <a:stretch/>
          </p:blipFill>
          <p:spPr>
            <a:xfrm>
              <a:off x="4543920" y="1580400"/>
              <a:ext cx="379080" cy="53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0" name="图片 67" descr=""/>
            <p:cNvPicPr/>
            <p:nvPr/>
          </p:nvPicPr>
          <p:blipFill>
            <a:blip r:embed="rId41"/>
            <a:stretch/>
          </p:blipFill>
          <p:spPr>
            <a:xfrm>
              <a:off x="8662320" y="4123440"/>
              <a:ext cx="404640" cy="53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1" name="图片 68" descr=""/>
            <p:cNvPicPr/>
            <p:nvPr/>
          </p:nvPicPr>
          <p:blipFill>
            <a:blip r:embed="rId42"/>
            <a:stretch/>
          </p:blipFill>
          <p:spPr>
            <a:xfrm>
              <a:off x="8449200" y="5318640"/>
              <a:ext cx="389880" cy="53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2" name="图片 69" descr=""/>
            <p:cNvPicPr/>
            <p:nvPr/>
          </p:nvPicPr>
          <p:blipFill>
            <a:blip r:embed="rId43"/>
            <a:stretch/>
          </p:blipFill>
          <p:spPr>
            <a:xfrm>
              <a:off x="11051280" y="2165400"/>
              <a:ext cx="379080" cy="53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3" name="图片 70" descr=""/>
            <p:cNvPicPr/>
            <p:nvPr/>
          </p:nvPicPr>
          <p:blipFill>
            <a:blip r:embed="rId44"/>
            <a:stretch/>
          </p:blipFill>
          <p:spPr>
            <a:xfrm>
              <a:off x="5105160" y="5247360"/>
              <a:ext cx="404640" cy="53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4" name="图片 71" descr=""/>
            <p:cNvPicPr/>
            <p:nvPr/>
          </p:nvPicPr>
          <p:blipFill>
            <a:blip r:embed="rId45"/>
            <a:stretch/>
          </p:blipFill>
          <p:spPr>
            <a:xfrm>
              <a:off x="6535080" y="5098320"/>
              <a:ext cx="389880" cy="53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5" name="图片 72" descr=""/>
            <p:cNvPicPr/>
            <p:nvPr/>
          </p:nvPicPr>
          <p:blipFill>
            <a:blip r:embed="rId46"/>
            <a:stretch/>
          </p:blipFill>
          <p:spPr>
            <a:xfrm>
              <a:off x="10503000" y="26280"/>
              <a:ext cx="379080" cy="53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6" name="图片 73" descr=""/>
            <p:cNvPicPr/>
            <p:nvPr/>
          </p:nvPicPr>
          <p:blipFill>
            <a:blip r:embed="rId47"/>
            <a:stretch/>
          </p:blipFill>
          <p:spPr>
            <a:xfrm>
              <a:off x="9873360" y="4250880"/>
              <a:ext cx="404640" cy="53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7" name="图片 74" descr=""/>
            <p:cNvPicPr/>
            <p:nvPr/>
          </p:nvPicPr>
          <p:blipFill>
            <a:blip r:embed="rId48"/>
            <a:stretch/>
          </p:blipFill>
          <p:spPr>
            <a:xfrm>
              <a:off x="343800" y="2465640"/>
              <a:ext cx="389880" cy="53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8" name="图片 75" descr=""/>
            <p:cNvPicPr/>
            <p:nvPr/>
          </p:nvPicPr>
          <p:blipFill>
            <a:blip r:embed="rId49"/>
            <a:stretch/>
          </p:blipFill>
          <p:spPr>
            <a:xfrm>
              <a:off x="10652400" y="6408360"/>
              <a:ext cx="379080" cy="53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9" name="图片 76" descr=""/>
            <p:cNvPicPr/>
            <p:nvPr/>
          </p:nvPicPr>
          <p:blipFill>
            <a:blip r:embed="rId50"/>
            <a:stretch/>
          </p:blipFill>
          <p:spPr>
            <a:xfrm>
              <a:off x="10068480" y="1595160"/>
              <a:ext cx="404640" cy="53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0" name="图片 77" descr=""/>
            <p:cNvPicPr/>
            <p:nvPr/>
          </p:nvPicPr>
          <p:blipFill>
            <a:blip r:embed="rId51"/>
            <a:stretch/>
          </p:blipFill>
          <p:spPr>
            <a:xfrm>
              <a:off x="6809400" y="536760"/>
              <a:ext cx="379080" cy="53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1" name="图片 78" descr=""/>
            <p:cNvPicPr/>
            <p:nvPr/>
          </p:nvPicPr>
          <p:blipFill>
            <a:blip r:embed="rId52"/>
            <a:stretch/>
          </p:blipFill>
          <p:spPr>
            <a:xfrm>
              <a:off x="5347080" y="1193760"/>
              <a:ext cx="404640" cy="53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2" name="图片 79" descr=""/>
            <p:cNvPicPr/>
            <p:nvPr/>
          </p:nvPicPr>
          <p:blipFill>
            <a:blip r:embed="rId53"/>
            <a:stretch/>
          </p:blipFill>
          <p:spPr>
            <a:xfrm>
              <a:off x="8598600" y="923760"/>
              <a:ext cx="389880" cy="53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3" name="图片 80" descr=""/>
            <p:cNvPicPr/>
            <p:nvPr/>
          </p:nvPicPr>
          <p:blipFill>
            <a:blip r:embed="rId54"/>
            <a:stretch/>
          </p:blipFill>
          <p:spPr>
            <a:xfrm>
              <a:off x="1943280" y="-127080"/>
              <a:ext cx="675360" cy="63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4" name="图片 81" descr=""/>
            <p:cNvPicPr/>
            <p:nvPr/>
          </p:nvPicPr>
          <p:blipFill>
            <a:blip r:embed="rId55"/>
            <a:stretch/>
          </p:blipFill>
          <p:spPr>
            <a:xfrm>
              <a:off x="7772760" y="-47160"/>
              <a:ext cx="389880" cy="53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5" name="图片 82" descr=""/>
            <p:cNvPicPr/>
            <p:nvPr/>
          </p:nvPicPr>
          <p:blipFill>
            <a:blip r:embed="rId56"/>
            <a:stretch/>
          </p:blipFill>
          <p:spPr>
            <a:xfrm>
              <a:off x="3210120" y="-47160"/>
              <a:ext cx="404640" cy="53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6" name="图片 83" descr=""/>
            <p:cNvPicPr/>
            <p:nvPr/>
          </p:nvPicPr>
          <p:blipFill>
            <a:blip r:embed="rId57"/>
            <a:stretch/>
          </p:blipFill>
          <p:spPr>
            <a:xfrm>
              <a:off x="5181840" y="-3240"/>
              <a:ext cx="389880" cy="53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7" name="图片 84" descr=""/>
            <p:cNvPicPr/>
            <p:nvPr/>
          </p:nvPicPr>
          <p:blipFill>
            <a:blip r:embed="rId58"/>
            <a:stretch/>
          </p:blipFill>
          <p:spPr>
            <a:xfrm>
              <a:off x="8196120" y="6055200"/>
              <a:ext cx="786960" cy="88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8" name="图片 85" descr=""/>
            <p:cNvPicPr/>
            <p:nvPr/>
          </p:nvPicPr>
          <p:blipFill>
            <a:blip r:embed="rId59"/>
            <a:stretch/>
          </p:blipFill>
          <p:spPr>
            <a:xfrm>
              <a:off x="8947440" y="5576760"/>
              <a:ext cx="817920" cy="841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9" name="图片 86" descr=""/>
            <p:cNvPicPr/>
            <p:nvPr/>
          </p:nvPicPr>
          <p:blipFill>
            <a:blip r:embed="rId60"/>
            <a:stretch/>
          </p:blipFill>
          <p:spPr>
            <a:xfrm>
              <a:off x="6413760" y="-270000"/>
              <a:ext cx="786960" cy="885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0" name="矩形 90"/>
          <p:cNvSpPr/>
          <p:nvPr/>
        </p:nvSpPr>
        <p:spPr>
          <a:xfrm>
            <a:off x="0" y="990720"/>
            <a:ext cx="12191760" cy="95040"/>
          </a:xfrm>
          <a:prstGeom prst="rect">
            <a:avLst/>
          </a:prstGeom>
          <a:solidFill>
            <a:srgbClr val="cc9b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81" name="矩形 91"/>
          <p:cNvSpPr/>
          <p:nvPr/>
        </p:nvSpPr>
        <p:spPr>
          <a:xfrm>
            <a:off x="0" y="0"/>
            <a:ext cx="12191760" cy="990360"/>
          </a:xfrm>
          <a:prstGeom prst="rect">
            <a:avLst/>
          </a:prstGeom>
          <a:solidFill>
            <a:srgbClr val="f9b10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1"/>
    <p:sldLayoutId id="2147483702" r:id="rId62"/>
    <p:sldLayoutId id="2147483703" r:id="rId63"/>
    <p:sldLayoutId id="2147483704" r:id="rId64"/>
    <p:sldLayoutId id="2147483705" r:id="rId65"/>
    <p:sldLayoutId id="2147483706" r:id="rId66"/>
    <p:sldLayoutId id="2147483707" r:id="rId67"/>
    <p:sldLayoutId id="2147483708" r:id="rId68"/>
    <p:sldLayoutId id="2147483709" r:id="rId69"/>
    <p:sldLayoutId id="2147483710" r:id="rId70"/>
    <p:sldLayoutId id="2147483711" r:id="rId71"/>
    <p:sldLayoutId id="2147483712" r:id="rId72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组合 1"/>
          <p:cNvGrpSpPr/>
          <p:nvPr/>
        </p:nvGrpSpPr>
        <p:grpSpPr>
          <a:xfrm>
            <a:off x="-111960" y="-270000"/>
            <a:ext cx="12590280" cy="7387560"/>
            <a:chOff x="-111960" y="-270000"/>
            <a:chExt cx="12590280" cy="7387560"/>
          </a:xfrm>
        </p:grpSpPr>
        <p:pic>
          <p:nvPicPr>
            <p:cNvPr id="521" name="图片 7" descr=""/>
            <p:cNvPicPr/>
            <p:nvPr/>
          </p:nvPicPr>
          <p:blipFill>
            <a:blip r:embed="rId2"/>
            <a:srcRect l="0" t="7595" r="0" b="0"/>
            <a:stretch/>
          </p:blipFill>
          <p:spPr>
            <a:xfrm>
              <a:off x="5501160" y="184320"/>
              <a:ext cx="825480" cy="77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2" name="图片 8" descr=""/>
            <p:cNvPicPr/>
            <p:nvPr/>
          </p:nvPicPr>
          <p:blipFill>
            <a:blip r:embed="rId3"/>
            <a:stretch/>
          </p:blipFill>
          <p:spPr>
            <a:xfrm>
              <a:off x="2641320" y="2014560"/>
              <a:ext cx="731160" cy="71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3" name="图片 9" descr=""/>
            <p:cNvPicPr/>
            <p:nvPr/>
          </p:nvPicPr>
          <p:blipFill>
            <a:blip r:embed="rId4"/>
            <a:stretch/>
          </p:blipFill>
          <p:spPr>
            <a:xfrm>
              <a:off x="4092840" y="2239560"/>
              <a:ext cx="389880" cy="53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4" name="图片 10" descr=""/>
            <p:cNvPicPr/>
            <p:nvPr/>
          </p:nvPicPr>
          <p:blipFill>
            <a:blip r:embed="rId5"/>
            <a:stretch/>
          </p:blipFill>
          <p:spPr>
            <a:xfrm>
              <a:off x="1221120" y="313560"/>
              <a:ext cx="379080" cy="53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5" name="图片 11" descr=""/>
            <p:cNvPicPr/>
            <p:nvPr/>
          </p:nvPicPr>
          <p:blipFill>
            <a:blip r:embed="rId6"/>
            <a:stretch/>
          </p:blipFill>
          <p:spPr>
            <a:xfrm>
              <a:off x="376560" y="5691240"/>
              <a:ext cx="404640" cy="53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6" name="图片 12" descr=""/>
            <p:cNvPicPr/>
            <p:nvPr/>
          </p:nvPicPr>
          <p:blipFill>
            <a:blip r:embed="rId7"/>
            <a:stretch/>
          </p:blipFill>
          <p:spPr>
            <a:xfrm>
              <a:off x="6239160" y="4099680"/>
              <a:ext cx="786960" cy="88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7" name="图片 13" descr=""/>
            <p:cNvPicPr/>
            <p:nvPr/>
          </p:nvPicPr>
          <p:blipFill>
            <a:blip r:embed="rId8"/>
            <a:stretch/>
          </p:blipFill>
          <p:spPr>
            <a:xfrm>
              <a:off x="3420720" y="1173960"/>
              <a:ext cx="675360" cy="63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8" name="图片 14" descr=""/>
            <p:cNvPicPr/>
            <p:nvPr/>
          </p:nvPicPr>
          <p:blipFill>
            <a:blip r:embed="rId9"/>
            <a:stretch/>
          </p:blipFill>
          <p:spPr>
            <a:xfrm>
              <a:off x="2461680" y="4782960"/>
              <a:ext cx="81792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9" name="椭圆 15"/>
            <p:cNvSpPr/>
            <p:nvPr/>
          </p:nvSpPr>
          <p:spPr>
            <a:xfrm>
              <a:off x="11497680" y="4462560"/>
              <a:ext cx="304560" cy="304560"/>
            </a:xfrm>
            <a:prstGeom prst="ellipse">
              <a:avLst/>
            </a:prstGeom>
            <a:solidFill>
              <a:srgbClr val="f7f7f7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30" name="椭圆 16"/>
            <p:cNvSpPr/>
            <p:nvPr/>
          </p:nvSpPr>
          <p:spPr>
            <a:xfrm>
              <a:off x="9341640" y="4772160"/>
              <a:ext cx="514800" cy="514800"/>
            </a:xfrm>
            <a:prstGeom prst="ellipse">
              <a:avLst/>
            </a:prstGeom>
            <a:solidFill>
              <a:srgbClr val="f7f7f7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31" name="椭圆 17"/>
            <p:cNvSpPr/>
            <p:nvPr/>
          </p:nvSpPr>
          <p:spPr>
            <a:xfrm>
              <a:off x="9353160" y="3504240"/>
              <a:ext cx="514800" cy="514800"/>
            </a:xfrm>
            <a:prstGeom prst="ellipse">
              <a:avLst/>
            </a:prstGeom>
            <a:solidFill>
              <a:srgbClr val="f7f7f7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32" name="椭圆 18"/>
            <p:cNvSpPr/>
            <p:nvPr/>
          </p:nvSpPr>
          <p:spPr>
            <a:xfrm>
              <a:off x="11535480" y="2717640"/>
              <a:ext cx="514800" cy="514800"/>
            </a:xfrm>
            <a:prstGeom prst="ellipse">
              <a:avLst/>
            </a:prstGeom>
            <a:solidFill>
              <a:srgbClr val="f7f7f7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33" name="椭圆 19"/>
            <p:cNvSpPr/>
            <p:nvPr/>
          </p:nvSpPr>
          <p:spPr>
            <a:xfrm>
              <a:off x="11217960" y="979560"/>
              <a:ext cx="832320" cy="832320"/>
            </a:xfrm>
            <a:prstGeom prst="ellipse">
              <a:avLst/>
            </a:prstGeom>
            <a:solidFill>
              <a:srgbClr val="f7f7f7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34" name="椭圆 20"/>
            <p:cNvSpPr/>
            <p:nvPr/>
          </p:nvSpPr>
          <p:spPr>
            <a:xfrm>
              <a:off x="4388760" y="2797560"/>
              <a:ext cx="304560" cy="304560"/>
            </a:xfrm>
            <a:prstGeom prst="ellipse">
              <a:avLst/>
            </a:prstGeom>
            <a:solidFill>
              <a:srgbClr val="f7f7f7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35" name="椭圆 21"/>
            <p:cNvSpPr/>
            <p:nvPr/>
          </p:nvSpPr>
          <p:spPr>
            <a:xfrm rot="1662600">
              <a:off x="8667000" y="-96840"/>
              <a:ext cx="932400" cy="932400"/>
            </a:xfrm>
            <a:prstGeom prst="ellipse">
              <a:avLst/>
            </a:prstGeom>
            <a:solidFill>
              <a:srgbClr val="f7f7f7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36" name="椭圆 22"/>
            <p:cNvSpPr/>
            <p:nvPr/>
          </p:nvSpPr>
          <p:spPr>
            <a:xfrm rot="3445200">
              <a:off x="2530440" y="471960"/>
              <a:ext cx="832320" cy="832320"/>
            </a:xfrm>
            <a:prstGeom prst="ellipse">
              <a:avLst/>
            </a:prstGeom>
            <a:solidFill>
              <a:srgbClr val="f7f7f7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pic>
          <p:nvPicPr>
            <p:cNvPr id="537" name="图片 23" descr=""/>
            <p:cNvPicPr/>
            <p:nvPr/>
          </p:nvPicPr>
          <p:blipFill>
            <a:blip r:embed="rId10"/>
            <a:srcRect l="0" t="7595" r="0" b="0"/>
            <a:stretch/>
          </p:blipFill>
          <p:spPr>
            <a:xfrm>
              <a:off x="852480" y="3169800"/>
              <a:ext cx="825480" cy="77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8" name="图片 24" descr=""/>
            <p:cNvPicPr/>
            <p:nvPr/>
          </p:nvPicPr>
          <p:blipFill>
            <a:blip r:embed="rId11"/>
            <a:stretch/>
          </p:blipFill>
          <p:spPr>
            <a:xfrm>
              <a:off x="4320000" y="6043320"/>
              <a:ext cx="731160" cy="71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图片 25" descr=""/>
            <p:cNvPicPr/>
            <p:nvPr/>
          </p:nvPicPr>
          <p:blipFill>
            <a:blip r:embed="rId12"/>
            <a:stretch/>
          </p:blipFill>
          <p:spPr>
            <a:xfrm>
              <a:off x="5725440" y="5887440"/>
              <a:ext cx="786960" cy="88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图片 26" descr=""/>
            <p:cNvPicPr/>
            <p:nvPr/>
          </p:nvPicPr>
          <p:blipFill>
            <a:blip r:embed="rId13"/>
            <a:stretch/>
          </p:blipFill>
          <p:spPr>
            <a:xfrm>
              <a:off x="3838320" y="5167440"/>
              <a:ext cx="675360" cy="63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1" name="图片 27" descr=""/>
            <p:cNvPicPr/>
            <p:nvPr/>
          </p:nvPicPr>
          <p:blipFill>
            <a:blip r:embed="rId14"/>
            <a:stretch/>
          </p:blipFill>
          <p:spPr>
            <a:xfrm>
              <a:off x="11660400" y="6276240"/>
              <a:ext cx="817920" cy="841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2" name="图片 28" descr=""/>
            <p:cNvPicPr/>
            <p:nvPr/>
          </p:nvPicPr>
          <p:blipFill>
            <a:blip r:embed="rId15"/>
            <a:srcRect l="0" t="7595" r="0" b="0"/>
            <a:stretch/>
          </p:blipFill>
          <p:spPr>
            <a:xfrm>
              <a:off x="10017360" y="2639520"/>
              <a:ext cx="825480" cy="77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3" name="图片 29" descr=""/>
            <p:cNvPicPr/>
            <p:nvPr/>
          </p:nvPicPr>
          <p:blipFill>
            <a:blip r:embed="rId16"/>
            <a:stretch/>
          </p:blipFill>
          <p:spPr>
            <a:xfrm>
              <a:off x="7371000" y="578880"/>
              <a:ext cx="731160" cy="71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4" name="图片 30" descr=""/>
            <p:cNvPicPr/>
            <p:nvPr/>
          </p:nvPicPr>
          <p:blipFill>
            <a:blip r:embed="rId17"/>
            <a:stretch/>
          </p:blipFill>
          <p:spPr>
            <a:xfrm>
              <a:off x="9693360" y="650520"/>
              <a:ext cx="786960" cy="88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5" name="图片 31" descr=""/>
            <p:cNvPicPr/>
            <p:nvPr/>
          </p:nvPicPr>
          <p:blipFill>
            <a:blip r:embed="rId18"/>
            <a:stretch/>
          </p:blipFill>
          <p:spPr>
            <a:xfrm>
              <a:off x="4379760" y="219240"/>
              <a:ext cx="675360" cy="63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6" name="图片 32" descr=""/>
            <p:cNvPicPr/>
            <p:nvPr/>
          </p:nvPicPr>
          <p:blipFill>
            <a:blip r:embed="rId19"/>
            <a:stretch/>
          </p:blipFill>
          <p:spPr>
            <a:xfrm>
              <a:off x="7751880" y="4479840"/>
              <a:ext cx="817920" cy="841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7" name="图片 33" descr=""/>
            <p:cNvPicPr/>
            <p:nvPr/>
          </p:nvPicPr>
          <p:blipFill>
            <a:blip r:embed="rId20"/>
            <a:srcRect l="0" t="7595" r="0" b="0"/>
            <a:stretch/>
          </p:blipFill>
          <p:spPr>
            <a:xfrm>
              <a:off x="11366280" y="-260280"/>
              <a:ext cx="825480" cy="77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8" name="图片 34" descr=""/>
            <p:cNvPicPr/>
            <p:nvPr/>
          </p:nvPicPr>
          <p:blipFill>
            <a:blip r:embed="rId21"/>
            <a:stretch/>
          </p:blipFill>
          <p:spPr>
            <a:xfrm>
              <a:off x="8371080" y="2014560"/>
              <a:ext cx="731160" cy="71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9" name="图片 35" descr=""/>
            <p:cNvPicPr/>
            <p:nvPr/>
          </p:nvPicPr>
          <p:blipFill>
            <a:blip r:embed="rId22"/>
            <a:stretch/>
          </p:blipFill>
          <p:spPr>
            <a:xfrm>
              <a:off x="10992600" y="3390480"/>
              <a:ext cx="786960" cy="88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0" name="图片 36" descr=""/>
            <p:cNvPicPr/>
            <p:nvPr/>
          </p:nvPicPr>
          <p:blipFill>
            <a:blip r:embed="rId23"/>
            <a:stretch/>
          </p:blipFill>
          <p:spPr>
            <a:xfrm>
              <a:off x="10700280" y="4938120"/>
              <a:ext cx="675360" cy="63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1" name="图片 37" descr=""/>
            <p:cNvPicPr/>
            <p:nvPr/>
          </p:nvPicPr>
          <p:blipFill>
            <a:blip r:embed="rId24"/>
            <a:stretch/>
          </p:blipFill>
          <p:spPr>
            <a:xfrm>
              <a:off x="6074640" y="1372680"/>
              <a:ext cx="817920" cy="841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2" name="图片 38" descr=""/>
            <p:cNvPicPr/>
            <p:nvPr/>
          </p:nvPicPr>
          <p:blipFill>
            <a:blip r:embed="rId25"/>
            <a:srcRect l="0" t="7595" r="0" b="0"/>
            <a:stretch/>
          </p:blipFill>
          <p:spPr>
            <a:xfrm>
              <a:off x="8310960" y="3040920"/>
              <a:ext cx="825480" cy="77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3" name="图片 39" descr=""/>
            <p:cNvPicPr/>
            <p:nvPr/>
          </p:nvPicPr>
          <p:blipFill>
            <a:blip r:embed="rId26"/>
            <a:stretch/>
          </p:blipFill>
          <p:spPr>
            <a:xfrm>
              <a:off x="9800640" y="5683320"/>
              <a:ext cx="731160" cy="71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4" name="图片 40" descr=""/>
            <p:cNvPicPr/>
            <p:nvPr/>
          </p:nvPicPr>
          <p:blipFill>
            <a:blip r:embed="rId27"/>
            <a:stretch/>
          </p:blipFill>
          <p:spPr>
            <a:xfrm>
              <a:off x="7228080" y="5700240"/>
              <a:ext cx="786960" cy="88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5" name="图片 41" descr=""/>
            <p:cNvPicPr/>
            <p:nvPr/>
          </p:nvPicPr>
          <p:blipFill>
            <a:blip r:embed="rId28"/>
            <a:stretch/>
          </p:blipFill>
          <p:spPr>
            <a:xfrm>
              <a:off x="5734440" y="3250080"/>
              <a:ext cx="675360" cy="63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6" name="图片 42" descr=""/>
            <p:cNvPicPr/>
            <p:nvPr/>
          </p:nvPicPr>
          <p:blipFill>
            <a:blip r:embed="rId29"/>
            <a:stretch/>
          </p:blipFill>
          <p:spPr>
            <a:xfrm>
              <a:off x="6568560" y="2763360"/>
              <a:ext cx="817920" cy="841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7" name="图片 43" descr=""/>
            <p:cNvPicPr/>
            <p:nvPr/>
          </p:nvPicPr>
          <p:blipFill>
            <a:blip r:embed="rId30"/>
            <a:srcRect l="0" t="7595" r="0" b="0"/>
            <a:stretch/>
          </p:blipFill>
          <p:spPr>
            <a:xfrm>
              <a:off x="5060520" y="2435400"/>
              <a:ext cx="825480" cy="77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8" name="图片 45" descr=""/>
            <p:cNvPicPr/>
            <p:nvPr/>
          </p:nvPicPr>
          <p:blipFill>
            <a:blip r:embed="rId31"/>
            <a:stretch/>
          </p:blipFill>
          <p:spPr>
            <a:xfrm>
              <a:off x="3346920" y="2985840"/>
              <a:ext cx="786960" cy="88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9" name="图片 46" descr=""/>
            <p:cNvPicPr/>
            <p:nvPr/>
          </p:nvPicPr>
          <p:blipFill>
            <a:blip r:embed="rId32"/>
            <a:stretch/>
          </p:blipFill>
          <p:spPr>
            <a:xfrm>
              <a:off x="194760" y="-3240"/>
              <a:ext cx="675360" cy="63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0" name="图片 47" descr=""/>
            <p:cNvPicPr/>
            <p:nvPr/>
          </p:nvPicPr>
          <p:blipFill>
            <a:blip r:embed="rId33"/>
            <a:stretch/>
          </p:blipFill>
          <p:spPr>
            <a:xfrm>
              <a:off x="1317960" y="2088000"/>
              <a:ext cx="817920" cy="841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1" name="图片 48" descr=""/>
            <p:cNvPicPr/>
            <p:nvPr/>
          </p:nvPicPr>
          <p:blipFill>
            <a:blip r:embed="rId34"/>
            <a:srcRect l="0" t="7595" r="0" b="0"/>
            <a:stretch/>
          </p:blipFill>
          <p:spPr>
            <a:xfrm>
              <a:off x="3023280" y="6165360"/>
              <a:ext cx="825480" cy="77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2" name="图片 49" descr=""/>
            <p:cNvPicPr/>
            <p:nvPr/>
          </p:nvPicPr>
          <p:blipFill>
            <a:blip r:embed="rId35"/>
            <a:stretch/>
          </p:blipFill>
          <p:spPr>
            <a:xfrm>
              <a:off x="-111960" y="4019400"/>
              <a:ext cx="731160" cy="71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3" name="图片 50" descr=""/>
            <p:cNvPicPr/>
            <p:nvPr/>
          </p:nvPicPr>
          <p:blipFill>
            <a:blip r:embed="rId36"/>
            <a:stretch/>
          </p:blipFill>
          <p:spPr>
            <a:xfrm>
              <a:off x="1746720" y="4051800"/>
              <a:ext cx="786960" cy="88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4" name="图片 51" descr=""/>
            <p:cNvPicPr/>
            <p:nvPr/>
          </p:nvPicPr>
          <p:blipFill>
            <a:blip r:embed="rId37"/>
            <a:stretch/>
          </p:blipFill>
          <p:spPr>
            <a:xfrm>
              <a:off x="767520" y="4888440"/>
              <a:ext cx="675360" cy="63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5" name="图片 52" descr=""/>
            <p:cNvPicPr/>
            <p:nvPr/>
          </p:nvPicPr>
          <p:blipFill>
            <a:blip r:embed="rId38"/>
            <a:stretch/>
          </p:blipFill>
          <p:spPr>
            <a:xfrm>
              <a:off x="-99000" y="6238800"/>
              <a:ext cx="81792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椭圆 53"/>
            <p:cNvSpPr/>
            <p:nvPr/>
          </p:nvSpPr>
          <p:spPr>
            <a:xfrm>
              <a:off x="2175480" y="6132960"/>
              <a:ext cx="304560" cy="304560"/>
            </a:xfrm>
            <a:prstGeom prst="ellipse">
              <a:avLst/>
            </a:prstGeom>
            <a:solidFill>
              <a:srgbClr val="f7f7f7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67" name="椭圆 54"/>
            <p:cNvSpPr/>
            <p:nvPr/>
          </p:nvSpPr>
          <p:spPr>
            <a:xfrm>
              <a:off x="963720" y="6238800"/>
              <a:ext cx="514800" cy="514800"/>
            </a:xfrm>
            <a:prstGeom prst="ellipse">
              <a:avLst/>
            </a:prstGeom>
            <a:solidFill>
              <a:srgbClr val="f7f7f7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68" name="椭圆 55"/>
            <p:cNvSpPr/>
            <p:nvPr/>
          </p:nvSpPr>
          <p:spPr>
            <a:xfrm>
              <a:off x="1583640" y="5228640"/>
              <a:ext cx="514800" cy="514800"/>
            </a:xfrm>
            <a:prstGeom prst="ellipse">
              <a:avLst/>
            </a:prstGeom>
            <a:solidFill>
              <a:srgbClr val="f7f7f7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69" name="椭圆 56"/>
            <p:cNvSpPr/>
            <p:nvPr/>
          </p:nvSpPr>
          <p:spPr>
            <a:xfrm>
              <a:off x="3157560" y="4184280"/>
              <a:ext cx="514800" cy="514800"/>
            </a:xfrm>
            <a:prstGeom prst="ellipse">
              <a:avLst/>
            </a:prstGeom>
            <a:solidFill>
              <a:srgbClr val="f7f7f7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70" name="椭圆 57"/>
            <p:cNvSpPr/>
            <p:nvPr/>
          </p:nvSpPr>
          <p:spPr>
            <a:xfrm>
              <a:off x="2113920" y="2833920"/>
              <a:ext cx="832320" cy="832320"/>
            </a:xfrm>
            <a:prstGeom prst="ellipse">
              <a:avLst/>
            </a:prstGeom>
            <a:solidFill>
              <a:srgbClr val="f7f7f7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71" name="椭圆 58"/>
            <p:cNvSpPr/>
            <p:nvPr/>
          </p:nvSpPr>
          <p:spPr>
            <a:xfrm rot="1662600">
              <a:off x="289080" y="1369080"/>
              <a:ext cx="932400" cy="932400"/>
            </a:xfrm>
            <a:prstGeom prst="ellipse">
              <a:avLst/>
            </a:prstGeom>
            <a:solidFill>
              <a:srgbClr val="f7f7f7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72" name="椭圆 59"/>
            <p:cNvSpPr/>
            <p:nvPr/>
          </p:nvSpPr>
          <p:spPr>
            <a:xfrm>
              <a:off x="7608240" y="5333760"/>
              <a:ext cx="304560" cy="304560"/>
            </a:xfrm>
            <a:prstGeom prst="ellipse">
              <a:avLst/>
            </a:prstGeom>
            <a:solidFill>
              <a:srgbClr val="f7f7f7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73" name="椭圆 60"/>
            <p:cNvSpPr/>
            <p:nvPr/>
          </p:nvSpPr>
          <p:spPr>
            <a:xfrm>
              <a:off x="4449240" y="4597200"/>
              <a:ext cx="514800" cy="514800"/>
            </a:xfrm>
            <a:prstGeom prst="ellipse">
              <a:avLst/>
            </a:prstGeom>
            <a:solidFill>
              <a:srgbClr val="f7f7f7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74" name="椭圆 61"/>
            <p:cNvSpPr/>
            <p:nvPr/>
          </p:nvSpPr>
          <p:spPr>
            <a:xfrm>
              <a:off x="5463720" y="4375080"/>
              <a:ext cx="514800" cy="514800"/>
            </a:xfrm>
            <a:prstGeom prst="ellipse">
              <a:avLst/>
            </a:prstGeom>
            <a:solidFill>
              <a:srgbClr val="f7f7f7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75" name="椭圆 62"/>
            <p:cNvSpPr/>
            <p:nvPr/>
          </p:nvSpPr>
          <p:spPr>
            <a:xfrm>
              <a:off x="7453080" y="3719520"/>
              <a:ext cx="514800" cy="514800"/>
            </a:xfrm>
            <a:prstGeom prst="ellipse">
              <a:avLst/>
            </a:prstGeom>
            <a:solidFill>
              <a:srgbClr val="f7f7f7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76" name="椭圆 63"/>
            <p:cNvSpPr/>
            <p:nvPr/>
          </p:nvSpPr>
          <p:spPr>
            <a:xfrm>
              <a:off x="7069680" y="1760400"/>
              <a:ext cx="832320" cy="832320"/>
            </a:xfrm>
            <a:prstGeom prst="ellipse">
              <a:avLst/>
            </a:prstGeom>
            <a:solidFill>
              <a:srgbClr val="f7f7f7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77" name="椭圆 64"/>
            <p:cNvSpPr/>
            <p:nvPr/>
          </p:nvSpPr>
          <p:spPr>
            <a:xfrm rot="1662600">
              <a:off x="4297680" y="3553560"/>
              <a:ext cx="932400" cy="932400"/>
            </a:xfrm>
            <a:prstGeom prst="ellipse">
              <a:avLst/>
            </a:prstGeom>
            <a:solidFill>
              <a:srgbClr val="f7f7f7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pic>
          <p:nvPicPr>
            <p:cNvPr id="578" name="图片 65" descr=""/>
            <p:cNvPicPr/>
            <p:nvPr/>
          </p:nvPicPr>
          <p:blipFill>
            <a:blip r:embed="rId39"/>
            <a:stretch/>
          </p:blipFill>
          <p:spPr>
            <a:xfrm>
              <a:off x="11302560" y="5592960"/>
              <a:ext cx="389880" cy="53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9" name="图片 66" descr=""/>
            <p:cNvPicPr/>
            <p:nvPr/>
          </p:nvPicPr>
          <p:blipFill>
            <a:blip r:embed="rId40"/>
            <a:stretch/>
          </p:blipFill>
          <p:spPr>
            <a:xfrm>
              <a:off x="4543920" y="1580400"/>
              <a:ext cx="379080" cy="53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0" name="图片 67" descr=""/>
            <p:cNvPicPr/>
            <p:nvPr/>
          </p:nvPicPr>
          <p:blipFill>
            <a:blip r:embed="rId41"/>
            <a:stretch/>
          </p:blipFill>
          <p:spPr>
            <a:xfrm>
              <a:off x="8662320" y="4123440"/>
              <a:ext cx="404640" cy="53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1" name="图片 68" descr=""/>
            <p:cNvPicPr/>
            <p:nvPr/>
          </p:nvPicPr>
          <p:blipFill>
            <a:blip r:embed="rId42"/>
            <a:stretch/>
          </p:blipFill>
          <p:spPr>
            <a:xfrm>
              <a:off x="8449200" y="5318640"/>
              <a:ext cx="389880" cy="53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2" name="图片 69" descr=""/>
            <p:cNvPicPr/>
            <p:nvPr/>
          </p:nvPicPr>
          <p:blipFill>
            <a:blip r:embed="rId43"/>
            <a:stretch/>
          </p:blipFill>
          <p:spPr>
            <a:xfrm>
              <a:off x="11051280" y="2165400"/>
              <a:ext cx="379080" cy="53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3" name="图片 70" descr=""/>
            <p:cNvPicPr/>
            <p:nvPr/>
          </p:nvPicPr>
          <p:blipFill>
            <a:blip r:embed="rId44"/>
            <a:stretch/>
          </p:blipFill>
          <p:spPr>
            <a:xfrm>
              <a:off x="5105160" y="5247360"/>
              <a:ext cx="404640" cy="53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4" name="图片 71" descr=""/>
            <p:cNvPicPr/>
            <p:nvPr/>
          </p:nvPicPr>
          <p:blipFill>
            <a:blip r:embed="rId45"/>
            <a:stretch/>
          </p:blipFill>
          <p:spPr>
            <a:xfrm>
              <a:off x="6535080" y="5098320"/>
              <a:ext cx="389880" cy="53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5" name="图片 72" descr=""/>
            <p:cNvPicPr/>
            <p:nvPr/>
          </p:nvPicPr>
          <p:blipFill>
            <a:blip r:embed="rId46"/>
            <a:stretch/>
          </p:blipFill>
          <p:spPr>
            <a:xfrm>
              <a:off x="10503000" y="26280"/>
              <a:ext cx="379080" cy="53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6" name="图片 73" descr=""/>
            <p:cNvPicPr/>
            <p:nvPr/>
          </p:nvPicPr>
          <p:blipFill>
            <a:blip r:embed="rId47"/>
            <a:stretch/>
          </p:blipFill>
          <p:spPr>
            <a:xfrm>
              <a:off x="9873360" y="4250880"/>
              <a:ext cx="404640" cy="53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7" name="图片 74" descr=""/>
            <p:cNvPicPr/>
            <p:nvPr/>
          </p:nvPicPr>
          <p:blipFill>
            <a:blip r:embed="rId48"/>
            <a:stretch/>
          </p:blipFill>
          <p:spPr>
            <a:xfrm>
              <a:off x="343800" y="2465640"/>
              <a:ext cx="389880" cy="53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8" name="图片 75" descr=""/>
            <p:cNvPicPr/>
            <p:nvPr/>
          </p:nvPicPr>
          <p:blipFill>
            <a:blip r:embed="rId49"/>
            <a:stretch/>
          </p:blipFill>
          <p:spPr>
            <a:xfrm>
              <a:off x="10652400" y="6408360"/>
              <a:ext cx="379080" cy="53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9" name="图片 76" descr=""/>
            <p:cNvPicPr/>
            <p:nvPr/>
          </p:nvPicPr>
          <p:blipFill>
            <a:blip r:embed="rId50"/>
            <a:stretch/>
          </p:blipFill>
          <p:spPr>
            <a:xfrm>
              <a:off x="10068480" y="1595160"/>
              <a:ext cx="404640" cy="53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0" name="图片 77" descr=""/>
            <p:cNvPicPr/>
            <p:nvPr/>
          </p:nvPicPr>
          <p:blipFill>
            <a:blip r:embed="rId51"/>
            <a:stretch/>
          </p:blipFill>
          <p:spPr>
            <a:xfrm>
              <a:off x="6809400" y="536760"/>
              <a:ext cx="379080" cy="53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1" name="图片 78" descr=""/>
            <p:cNvPicPr/>
            <p:nvPr/>
          </p:nvPicPr>
          <p:blipFill>
            <a:blip r:embed="rId52"/>
            <a:stretch/>
          </p:blipFill>
          <p:spPr>
            <a:xfrm>
              <a:off x="5347080" y="1193760"/>
              <a:ext cx="404640" cy="53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2" name="图片 79" descr=""/>
            <p:cNvPicPr/>
            <p:nvPr/>
          </p:nvPicPr>
          <p:blipFill>
            <a:blip r:embed="rId53"/>
            <a:stretch/>
          </p:blipFill>
          <p:spPr>
            <a:xfrm>
              <a:off x="8598600" y="923760"/>
              <a:ext cx="389880" cy="53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3" name="图片 80" descr=""/>
            <p:cNvPicPr/>
            <p:nvPr/>
          </p:nvPicPr>
          <p:blipFill>
            <a:blip r:embed="rId54"/>
            <a:stretch/>
          </p:blipFill>
          <p:spPr>
            <a:xfrm>
              <a:off x="1943280" y="-127080"/>
              <a:ext cx="675360" cy="63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4" name="图片 81" descr=""/>
            <p:cNvPicPr/>
            <p:nvPr/>
          </p:nvPicPr>
          <p:blipFill>
            <a:blip r:embed="rId55"/>
            <a:stretch/>
          </p:blipFill>
          <p:spPr>
            <a:xfrm>
              <a:off x="7772760" y="-47160"/>
              <a:ext cx="389880" cy="53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5" name="图片 82" descr=""/>
            <p:cNvPicPr/>
            <p:nvPr/>
          </p:nvPicPr>
          <p:blipFill>
            <a:blip r:embed="rId56"/>
            <a:stretch/>
          </p:blipFill>
          <p:spPr>
            <a:xfrm>
              <a:off x="3210120" y="-47160"/>
              <a:ext cx="404640" cy="53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6" name="图片 83" descr=""/>
            <p:cNvPicPr/>
            <p:nvPr/>
          </p:nvPicPr>
          <p:blipFill>
            <a:blip r:embed="rId57"/>
            <a:stretch/>
          </p:blipFill>
          <p:spPr>
            <a:xfrm>
              <a:off x="5181840" y="-3240"/>
              <a:ext cx="389880" cy="53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7" name="图片 84" descr=""/>
            <p:cNvPicPr/>
            <p:nvPr/>
          </p:nvPicPr>
          <p:blipFill>
            <a:blip r:embed="rId58"/>
            <a:stretch/>
          </p:blipFill>
          <p:spPr>
            <a:xfrm>
              <a:off x="8196120" y="6055200"/>
              <a:ext cx="786960" cy="88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图片 85" descr=""/>
            <p:cNvPicPr/>
            <p:nvPr/>
          </p:nvPicPr>
          <p:blipFill>
            <a:blip r:embed="rId59"/>
            <a:stretch/>
          </p:blipFill>
          <p:spPr>
            <a:xfrm>
              <a:off x="8947440" y="5576760"/>
              <a:ext cx="817920" cy="841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图片 86" descr=""/>
            <p:cNvPicPr/>
            <p:nvPr/>
          </p:nvPicPr>
          <p:blipFill>
            <a:blip r:embed="rId60"/>
            <a:stretch/>
          </p:blipFill>
          <p:spPr>
            <a:xfrm>
              <a:off x="6413760" y="-270000"/>
              <a:ext cx="786960" cy="885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0" name="矩形 90"/>
          <p:cNvSpPr/>
          <p:nvPr/>
        </p:nvSpPr>
        <p:spPr>
          <a:xfrm>
            <a:off x="0" y="990720"/>
            <a:ext cx="12191760" cy="95040"/>
          </a:xfrm>
          <a:prstGeom prst="rect">
            <a:avLst/>
          </a:prstGeom>
          <a:solidFill>
            <a:srgbClr val="728a8e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01" name="矩形 91"/>
          <p:cNvSpPr/>
          <p:nvPr/>
        </p:nvSpPr>
        <p:spPr>
          <a:xfrm>
            <a:off x="0" y="0"/>
            <a:ext cx="12191760" cy="990360"/>
          </a:xfrm>
          <a:prstGeom prst="rect">
            <a:avLst/>
          </a:prstGeom>
          <a:solidFill>
            <a:srgbClr val="9ab0b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1"/>
    <p:sldLayoutId id="2147483715" r:id="rId62"/>
    <p:sldLayoutId id="2147483716" r:id="rId63"/>
    <p:sldLayoutId id="2147483717" r:id="rId64"/>
    <p:sldLayoutId id="2147483718" r:id="rId65"/>
    <p:sldLayoutId id="2147483719" r:id="rId66"/>
    <p:sldLayoutId id="2147483720" r:id="rId67"/>
    <p:sldLayoutId id="2147483721" r:id="rId68"/>
    <p:sldLayoutId id="2147483722" r:id="rId69"/>
    <p:sldLayoutId id="2147483723" r:id="rId70"/>
    <p:sldLayoutId id="2147483724" r:id="rId71"/>
    <p:sldLayoutId id="2147483725" r:id="rId7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32.jpeg"/><Relationship Id="rId6" Type="http://schemas.openxmlformats.org/officeDocument/2006/relationships/slideLayout" Target="../slideLayouts/slideLayout49.xml"/><Relationship Id="rId7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png"/><Relationship Id="rId3" Type="http://schemas.openxmlformats.org/officeDocument/2006/relationships/image" Target="../media/image37.jpeg"/><Relationship Id="rId4" Type="http://schemas.openxmlformats.org/officeDocument/2006/relationships/image" Target="../media/image38.png"/><Relationship Id="rId5" Type="http://schemas.openxmlformats.org/officeDocument/2006/relationships/image" Target="../media/image39.jpeg"/><Relationship Id="rId6" Type="http://schemas.openxmlformats.org/officeDocument/2006/relationships/image" Target="../media/image40.png"/><Relationship Id="rId7" Type="http://schemas.openxmlformats.org/officeDocument/2006/relationships/image" Target="../media/image41.jpeg"/><Relationship Id="rId8" Type="http://schemas.openxmlformats.org/officeDocument/2006/relationships/image" Target="../media/image14.png"/><Relationship Id="rId9" Type="http://schemas.openxmlformats.org/officeDocument/2006/relationships/hyperlink" Target="http://www.eeppt.com/moban/" TargetMode="External"/><Relationship Id="rId10" Type="http://schemas.openxmlformats.org/officeDocument/2006/relationships/slideLayout" Target="../slideLayouts/slideLayout49.xml"/><Relationship Id="rId11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microsoft.com/office/2007/relationships/hdphoto" Target="../media/hdphoto1.wdp"/><Relationship Id="rId3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jpeg"/><Relationship Id="rId8" Type="http://schemas.openxmlformats.org/officeDocument/2006/relationships/image" Target="../media/image19.png"/><Relationship Id="rId9" Type="http://schemas.openxmlformats.org/officeDocument/2006/relationships/image" Target="../media/image20.png"/><Relationship Id="rId10" Type="http://schemas.openxmlformats.org/officeDocument/2006/relationships/image" Target="../media/image21.png"/><Relationship Id="rId11" Type="http://schemas.openxmlformats.org/officeDocument/2006/relationships/hyperlink" Target="http://www.eeppt.com/moban/" TargetMode="External"/><Relationship Id="rId1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6.png"/><Relationship Id="rId3" Type="http://schemas.openxmlformats.org/officeDocument/2006/relationships/image" Target="../media/image18.jpeg"/><Relationship Id="rId4" Type="http://schemas.openxmlformats.org/officeDocument/2006/relationships/image" Target="../media/image17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6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12191760" cy="6865560"/>
          </a:xfrm>
          <a:prstGeom prst="rect">
            <a:avLst/>
          </a:prstGeom>
          <a:ln w="0">
            <a:noFill/>
          </a:ln>
        </p:spPr>
      </p:pic>
      <p:pic>
        <p:nvPicPr>
          <p:cNvPr id="647" name="图片 3" descr=""/>
          <p:cNvPicPr/>
          <p:nvPr/>
        </p:nvPicPr>
        <p:blipFill>
          <a:blip r:embed="rId2"/>
          <a:srcRect l="26193" t="23017" r="27698" b="27147"/>
          <a:stretch/>
        </p:blipFill>
        <p:spPr>
          <a:xfrm>
            <a:off x="4760640" y="4006080"/>
            <a:ext cx="2670120" cy="3062160"/>
          </a:xfrm>
          <a:prstGeom prst="rect">
            <a:avLst/>
          </a:prstGeom>
          <a:ln w="0">
            <a:noFill/>
          </a:ln>
        </p:spPr>
      </p:pic>
      <p:sp>
        <p:nvSpPr>
          <p:cNvPr id="648" name="文本框 4"/>
          <p:cNvSpPr/>
          <p:nvPr/>
        </p:nvSpPr>
        <p:spPr>
          <a:xfrm>
            <a:off x="3477240" y="2115360"/>
            <a:ext cx="562320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4000" spc="-1" strike="noStrike">
                <a:solidFill>
                  <a:srgbClr val="000000"/>
                </a:solidFill>
                <a:latin typeface="造字工房悦圆（非商用）常规体"/>
                <a:ea typeface="造字工房悦圆（非商用）常规体"/>
              </a:rPr>
              <a:t>我的互联网方法论通用</a:t>
            </a:r>
            <a:r>
              <a:rPr b="1" lang="en-US" sz="4000" spc="-1" strike="noStrike">
                <a:solidFill>
                  <a:srgbClr val="000000"/>
                </a:solidFill>
                <a:latin typeface="造字工房悦圆（非商用）常规体"/>
                <a:ea typeface="造字工房悦圆（非商用）常规体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造字工房悦圆（非商用）常规体"/>
                <a:ea typeface="造字工房悦圆（非商用）常规体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文本框 5"/>
          <p:cNvSpPr/>
          <p:nvPr/>
        </p:nvSpPr>
        <p:spPr>
          <a:xfrm>
            <a:off x="7948080" y="5934960"/>
            <a:ext cx="1689840" cy="10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6600" spc="-1" strike="noStrike">
                <a:solidFill>
                  <a:srgbClr val="000000"/>
                </a:solidFill>
                <a:latin typeface="Noto Sans S Chinese Bold"/>
                <a:ea typeface="Noto Sans S Chinese Bold"/>
              </a:rPr>
              <a:t>周鸿祎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文本框 6"/>
          <p:cNvSpPr/>
          <p:nvPr/>
        </p:nvSpPr>
        <p:spPr>
          <a:xfrm>
            <a:off x="10070640" y="5980680"/>
            <a:ext cx="4248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3200" spc="-1" strike="noStrike">
                <a:solidFill>
                  <a:srgbClr val="000000"/>
                </a:solidFill>
                <a:latin typeface="Noto Sans S Chinese Bold"/>
                <a:ea typeface="Noto Sans S Chinese Bold"/>
              </a:rPr>
              <a:t>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文本框 7"/>
          <p:cNvSpPr/>
          <p:nvPr/>
        </p:nvSpPr>
        <p:spPr>
          <a:xfrm>
            <a:off x="10070640" y="6381000"/>
            <a:ext cx="4248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3200" spc="-1" strike="noStrike">
                <a:solidFill>
                  <a:srgbClr val="000000"/>
                </a:solidFill>
                <a:latin typeface="Noto Sans S Chinese Bold"/>
                <a:ea typeface="Noto Sans S Chinese Bold"/>
              </a:rPr>
              <a:t>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2" name="直接连接符 11"/>
          <p:cNvCxnSpPr/>
          <p:nvPr/>
        </p:nvCxnSpPr>
        <p:spPr>
          <a:xfrm>
            <a:off x="2315520" y="1963800"/>
            <a:ext cx="7560720" cy="360"/>
          </a:xfrm>
          <a:prstGeom prst="straightConnector1">
            <a:avLst/>
          </a:prstGeom>
          <a:ln w="28575">
            <a:solidFill>
              <a:srgbClr val="ffffff"/>
            </a:solidFill>
            <a:prstDash val="sysDash"/>
          </a:ln>
        </p:spPr>
      </p:cxnSp>
      <p:cxnSp>
        <p:nvCxnSpPr>
          <p:cNvPr id="653" name="直接连接符 12"/>
          <p:cNvCxnSpPr/>
          <p:nvPr/>
        </p:nvCxnSpPr>
        <p:spPr>
          <a:xfrm>
            <a:off x="2315520" y="3292200"/>
            <a:ext cx="7560720" cy="360"/>
          </a:xfrm>
          <a:prstGeom prst="straightConnector1">
            <a:avLst/>
          </a:prstGeom>
          <a:ln w="28575">
            <a:solidFill>
              <a:srgbClr val="ffffff"/>
            </a:solidFill>
            <a:prstDash val="sysDash"/>
          </a:ln>
        </p:spPr>
      </p:cxnSp>
      <p:sp>
        <p:nvSpPr>
          <p:cNvPr id="654" name="矩形 12"/>
          <p:cNvSpPr/>
          <p:nvPr/>
        </p:nvSpPr>
        <p:spPr>
          <a:xfrm>
            <a:off x="18180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文本框 8"/>
          <p:cNvSpPr/>
          <p:nvPr/>
        </p:nvSpPr>
        <p:spPr>
          <a:xfrm>
            <a:off x="1692360" y="4343400"/>
            <a:ext cx="770400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zh-CN" sz="2400" spc="-1" strike="noStrike">
                <a:solidFill>
                  <a:srgbClr val="000000"/>
                </a:solidFill>
                <a:latin typeface="Noto Sans S Chinese Light"/>
                <a:ea typeface="Noto Sans S Chinese Light"/>
              </a:rPr>
              <a:t>还有商业模式创新及用户体验创新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2400" spc="-1" strike="noStrike">
                <a:solidFill>
                  <a:srgbClr val="000000"/>
                </a:solidFill>
                <a:latin typeface="Noto Sans S Chinese Light"/>
                <a:ea typeface="Noto Sans S Chinese Light"/>
              </a:rPr>
              <a:t>不断创新将贵的变成便宜的，将复杂难用的变得简单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文本框 9"/>
          <p:cNvSpPr/>
          <p:nvPr/>
        </p:nvSpPr>
        <p:spPr>
          <a:xfrm>
            <a:off x="1626120" y="1381680"/>
            <a:ext cx="26712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1" lang="zh-CN" sz="9600" spc="-1" strike="noStrike">
                <a:solidFill>
                  <a:srgbClr val="1cabfc"/>
                </a:solidFill>
                <a:latin typeface="Noto Sans S Chinese Bold"/>
                <a:ea typeface="Noto Sans S Chinese Bold"/>
              </a:rPr>
              <a:t>发明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文本框 15"/>
          <p:cNvSpPr/>
          <p:nvPr/>
        </p:nvSpPr>
        <p:spPr>
          <a:xfrm>
            <a:off x="1692360" y="3125880"/>
            <a:ext cx="267120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1" lang="zh-CN" sz="4800" spc="-1" strike="noStrike">
                <a:solidFill>
                  <a:srgbClr val="f9b91c"/>
                </a:solidFill>
                <a:latin typeface="Noto Sans S Chinese Bold"/>
                <a:ea typeface="Noto Sans S Chinese Bold"/>
              </a:rPr>
              <a:t>只是其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文本框 6"/>
          <p:cNvSpPr/>
          <p:nvPr/>
        </p:nvSpPr>
        <p:spPr>
          <a:xfrm>
            <a:off x="1871280" y="76320"/>
            <a:ext cx="844884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50000"/>
              </a:lnSpc>
            </a:pPr>
            <a:r>
              <a:rPr b="1" lang="zh-CN" sz="3600" spc="-1" strike="noStrike">
                <a:solidFill>
                  <a:srgbClr val="ffffff"/>
                </a:solidFill>
                <a:latin typeface="Noto Sans S Chinese Bold"/>
                <a:ea typeface="Noto Sans S Chinese Bold"/>
              </a:rPr>
              <a:t>误区三：创新，就要发明一项没有的东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1" name="组合 33"/>
          <p:cNvGrpSpPr/>
          <p:nvPr/>
        </p:nvGrpSpPr>
        <p:grpSpPr>
          <a:xfrm>
            <a:off x="16059240" y="-507240"/>
            <a:ext cx="5295600" cy="7924680"/>
            <a:chOff x="16059240" y="-507240"/>
            <a:chExt cx="5295600" cy="7924680"/>
          </a:xfrm>
        </p:grpSpPr>
        <p:sp>
          <p:nvSpPr>
            <p:cNvPr id="892" name="任意多边形 34"/>
            <p:cNvSpPr/>
            <p:nvPr/>
          </p:nvSpPr>
          <p:spPr>
            <a:xfrm>
              <a:off x="16059240" y="-507240"/>
              <a:ext cx="5295600" cy="6609960"/>
            </a:xfrm>
            <a:custGeom>
              <a:avLst/>
              <a:gdLst>
                <a:gd name="textAreaLeft" fmla="*/ 0 w 5295600"/>
                <a:gd name="textAreaRight" fmla="*/ 5295960 w 5295600"/>
                <a:gd name="textAreaTop" fmla="*/ 0 h 6609960"/>
                <a:gd name="textAreaBottom" fmla="*/ 6610320 h 6609960"/>
              </a:gdLst>
              <a:ahLst/>
              <a:rect l="textAreaLeft" t="textAreaTop" r="textAreaRight" b="textAreaBottom"/>
              <a:pathLst>
                <a:path w="5295900" h="6610350">
                  <a:moveTo>
                    <a:pt x="2647950" y="0"/>
                  </a:moveTo>
                  <a:cubicBezTo>
                    <a:pt x="4110372" y="0"/>
                    <a:pt x="5295900" y="1185528"/>
                    <a:pt x="5295900" y="2647950"/>
                  </a:cubicBezTo>
                  <a:cubicBezTo>
                    <a:pt x="5295900" y="3379161"/>
                    <a:pt x="4999518" y="4041148"/>
                    <a:pt x="4520333" y="4520333"/>
                  </a:cubicBezTo>
                  <a:lnTo>
                    <a:pt x="4457701" y="4577258"/>
                  </a:lnTo>
                  <a:lnTo>
                    <a:pt x="4457701" y="4581379"/>
                  </a:lnTo>
                  <a:lnTo>
                    <a:pt x="4413528" y="4618160"/>
                  </a:lnTo>
                  <a:cubicBezTo>
                    <a:pt x="3978769" y="5017683"/>
                    <a:pt x="3701654" y="5622307"/>
                    <a:pt x="3701654" y="6299002"/>
                  </a:cubicBezTo>
                  <a:cubicBezTo>
                    <a:pt x="3701654" y="6374191"/>
                    <a:pt x="3705076" y="6448489"/>
                    <a:pt x="3711754" y="6521715"/>
                  </a:cubicBezTo>
                  <a:lnTo>
                    <a:pt x="3723902" y="6610350"/>
                  </a:lnTo>
                  <a:lnTo>
                    <a:pt x="1571999" y="6610350"/>
                  </a:lnTo>
                  <a:lnTo>
                    <a:pt x="1584148" y="6521715"/>
                  </a:lnTo>
                  <a:cubicBezTo>
                    <a:pt x="1590826" y="6448489"/>
                    <a:pt x="1594247" y="6374191"/>
                    <a:pt x="1594247" y="6299002"/>
                  </a:cubicBezTo>
                  <a:cubicBezTo>
                    <a:pt x="1594247" y="5622307"/>
                    <a:pt x="1317133" y="5017683"/>
                    <a:pt x="882374" y="4618160"/>
                  </a:cubicBezTo>
                  <a:lnTo>
                    <a:pt x="838201" y="4581379"/>
                  </a:lnTo>
                  <a:lnTo>
                    <a:pt x="838201" y="4577259"/>
                  </a:lnTo>
                  <a:lnTo>
                    <a:pt x="775567" y="4520333"/>
                  </a:lnTo>
                  <a:cubicBezTo>
                    <a:pt x="296382" y="4041148"/>
                    <a:pt x="0" y="3379161"/>
                    <a:pt x="0" y="2647950"/>
                  </a:cubicBezTo>
                  <a:cubicBezTo>
                    <a:pt x="0" y="1185528"/>
                    <a:pt x="1185528" y="0"/>
                    <a:pt x="2647950" y="0"/>
                  </a:cubicBezTo>
                  <a:close/>
                </a:path>
              </a:pathLst>
            </a:custGeom>
            <a:solidFill>
              <a:srgbClr val="fbd335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grpSp>
          <p:nvGrpSpPr>
            <p:cNvPr id="893" name="组合 35"/>
            <p:cNvGrpSpPr/>
            <p:nvPr/>
          </p:nvGrpSpPr>
          <p:grpSpPr>
            <a:xfrm>
              <a:off x="17197200" y="1473840"/>
              <a:ext cx="3066480" cy="5943600"/>
              <a:chOff x="17197200" y="1473840"/>
              <a:chExt cx="3066480" cy="5943600"/>
            </a:xfrm>
          </p:grpSpPr>
          <p:cxnSp>
            <p:nvCxnSpPr>
              <p:cNvPr id="894" name="直接连接符 36"/>
              <p:cNvCxnSpPr/>
              <p:nvPr/>
            </p:nvCxnSpPr>
            <p:spPr>
              <a:xfrm>
                <a:off x="17663760" y="6274440"/>
                <a:ext cx="2076840" cy="360"/>
              </a:xfrm>
              <a:prstGeom prst="straightConnector1">
                <a:avLst/>
              </a:prstGeom>
              <a:ln cap="rnd" w="190500">
                <a:solidFill>
                  <a:srgbClr val="000000"/>
                </a:solidFill>
              </a:ln>
            </p:spPr>
          </p:cxnSp>
          <p:cxnSp>
            <p:nvCxnSpPr>
              <p:cNvPr id="895" name="直接连接符 37"/>
              <p:cNvCxnSpPr/>
              <p:nvPr/>
            </p:nvCxnSpPr>
            <p:spPr>
              <a:xfrm>
                <a:off x="17663760" y="6560280"/>
                <a:ext cx="2076840" cy="360"/>
              </a:xfrm>
              <a:prstGeom prst="straightConnector1">
                <a:avLst/>
              </a:prstGeom>
              <a:ln cap="rnd" w="190500">
                <a:solidFill>
                  <a:srgbClr val="000000"/>
                </a:solidFill>
              </a:ln>
            </p:spPr>
          </p:cxnSp>
          <p:cxnSp>
            <p:nvCxnSpPr>
              <p:cNvPr id="896" name="直接连接符 38"/>
              <p:cNvCxnSpPr/>
              <p:nvPr/>
            </p:nvCxnSpPr>
            <p:spPr>
              <a:xfrm>
                <a:off x="17663760" y="6846120"/>
                <a:ext cx="2076840" cy="360"/>
              </a:xfrm>
              <a:prstGeom prst="straightConnector1">
                <a:avLst/>
              </a:prstGeom>
              <a:ln cap="rnd" w="190500">
                <a:solidFill>
                  <a:srgbClr val="000000"/>
                </a:solidFill>
              </a:ln>
            </p:spPr>
          </p:cxnSp>
          <p:cxnSp>
            <p:nvCxnSpPr>
              <p:cNvPr id="897" name="直接连接符 39"/>
              <p:cNvCxnSpPr/>
              <p:nvPr/>
            </p:nvCxnSpPr>
            <p:spPr>
              <a:xfrm>
                <a:off x="17663760" y="7131600"/>
                <a:ext cx="2076840" cy="360"/>
              </a:xfrm>
              <a:prstGeom prst="straightConnector1">
                <a:avLst/>
              </a:prstGeom>
              <a:ln cap="rnd" w="190500">
                <a:solidFill>
                  <a:srgbClr val="000000"/>
                </a:solidFill>
              </a:ln>
            </p:spPr>
          </p:cxnSp>
          <p:cxnSp>
            <p:nvCxnSpPr>
              <p:cNvPr id="898" name="直接连接符 40"/>
              <p:cNvCxnSpPr/>
              <p:nvPr/>
            </p:nvCxnSpPr>
            <p:spPr>
              <a:xfrm>
                <a:off x="18068760" y="7417440"/>
                <a:ext cx="1267200" cy="360"/>
              </a:xfrm>
              <a:prstGeom prst="straightConnector1">
                <a:avLst/>
              </a:prstGeom>
              <a:ln cap="rnd" w="190500">
                <a:solidFill>
                  <a:srgbClr val="000000"/>
                </a:solidFill>
              </a:ln>
            </p:spPr>
          </p:cxnSp>
          <p:grpSp>
            <p:nvGrpSpPr>
              <p:cNvPr id="899" name="组合 41"/>
              <p:cNvGrpSpPr/>
              <p:nvPr/>
            </p:nvGrpSpPr>
            <p:grpSpPr>
              <a:xfrm>
                <a:off x="17197200" y="1857600"/>
                <a:ext cx="3019320" cy="4226400"/>
                <a:chOff x="17197200" y="1857600"/>
                <a:chExt cx="3019320" cy="4226400"/>
              </a:xfrm>
            </p:grpSpPr>
            <p:cxnSp>
              <p:nvCxnSpPr>
                <p:cNvPr id="900" name="直接连接符 43"/>
                <p:cNvCxnSpPr/>
                <p:nvPr/>
              </p:nvCxnSpPr>
              <p:spPr>
                <a:xfrm flipH="1">
                  <a:off x="19045080" y="1857600"/>
                  <a:ext cx="1171800" cy="4226760"/>
                </a:xfrm>
                <a:prstGeom prst="straightConnector1">
                  <a:avLst/>
                </a:prstGeom>
                <a:ln w="76200">
                  <a:solidFill>
                    <a:srgbClr val="e7e6e6"/>
                  </a:solidFill>
                </a:ln>
              </p:spPr>
            </p:cxnSp>
            <p:cxnSp>
              <p:nvCxnSpPr>
                <p:cNvPr id="901" name="直接连接符 44"/>
                <p:cNvCxnSpPr/>
                <p:nvPr/>
              </p:nvCxnSpPr>
              <p:spPr>
                <a:xfrm>
                  <a:off x="17197200" y="1857600"/>
                  <a:ext cx="1171800" cy="4226760"/>
                </a:xfrm>
                <a:prstGeom prst="straightConnector1">
                  <a:avLst/>
                </a:prstGeom>
                <a:ln w="76200">
                  <a:solidFill>
                    <a:srgbClr val="e7e6e6"/>
                  </a:solidFill>
                </a:ln>
              </p:spPr>
            </p:cxnSp>
          </p:grpSp>
          <p:sp>
            <p:nvSpPr>
              <p:cNvPr id="902" name="任意多边形 42"/>
              <p:cNvSpPr/>
              <p:nvPr/>
            </p:nvSpPr>
            <p:spPr>
              <a:xfrm>
                <a:off x="17211600" y="1473840"/>
                <a:ext cx="3052080" cy="743760"/>
              </a:xfrm>
              <a:custGeom>
                <a:avLst/>
                <a:gdLst>
                  <a:gd name="textAreaLeft" fmla="*/ 0 w 3052080"/>
                  <a:gd name="textAreaRight" fmla="*/ 3052440 w 3052080"/>
                  <a:gd name="textAreaTop" fmla="*/ 0 h 743760"/>
                  <a:gd name="textAreaBottom" fmla="*/ 744120 h 743760"/>
                </a:gdLst>
                <a:ahLst/>
                <a:rect l="textAreaLeft" t="textAreaTop" r="textAreaRight" b="textAreaBottom"/>
                <a:pathLst>
                  <a:path w="3052617" h="744137">
                    <a:moveTo>
                      <a:pt x="0" y="400148"/>
                    </a:moveTo>
                    <a:cubicBezTo>
                      <a:pt x="35719" y="204885"/>
                      <a:pt x="71438" y="9623"/>
                      <a:pt x="171450" y="57248"/>
                    </a:cubicBezTo>
                    <a:cubicBezTo>
                      <a:pt x="271462" y="104873"/>
                      <a:pt x="490538" y="695423"/>
                      <a:pt x="600075" y="685898"/>
                    </a:cubicBezTo>
                    <a:cubicBezTo>
                      <a:pt x="709612" y="676373"/>
                      <a:pt x="738188" y="-9427"/>
                      <a:pt x="828675" y="98"/>
                    </a:cubicBezTo>
                    <a:cubicBezTo>
                      <a:pt x="919163" y="9623"/>
                      <a:pt x="1047750" y="733523"/>
                      <a:pt x="1143000" y="743048"/>
                    </a:cubicBezTo>
                    <a:cubicBezTo>
                      <a:pt x="1238250" y="752573"/>
                      <a:pt x="1314450" y="57248"/>
                      <a:pt x="1400175" y="57248"/>
                    </a:cubicBezTo>
                    <a:cubicBezTo>
                      <a:pt x="1485900" y="57248"/>
                      <a:pt x="1562100" y="714473"/>
                      <a:pt x="1657350" y="743048"/>
                    </a:cubicBezTo>
                    <a:cubicBezTo>
                      <a:pt x="1752600" y="771623"/>
                      <a:pt x="1876425" y="228698"/>
                      <a:pt x="1971675" y="228698"/>
                    </a:cubicBezTo>
                    <a:cubicBezTo>
                      <a:pt x="2066925" y="228698"/>
                      <a:pt x="2147888" y="757336"/>
                      <a:pt x="2228850" y="743048"/>
                    </a:cubicBezTo>
                    <a:cubicBezTo>
                      <a:pt x="2309813" y="728761"/>
                      <a:pt x="2328863" y="200123"/>
                      <a:pt x="2457450" y="142973"/>
                    </a:cubicBezTo>
                    <a:cubicBezTo>
                      <a:pt x="2586037" y="85823"/>
                      <a:pt x="2909888" y="352523"/>
                      <a:pt x="3000375" y="400148"/>
                    </a:cubicBezTo>
                    <a:cubicBezTo>
                      <a:pt x="3090862" y="447773"/>
                      <a:pt x="3045618" y="438248"/>
                      <a:pt x="3000375" y="428723"/>
                    </a:cubicBezTo>
                  </a:path>
                </a:pathLst>
              </a:custGeom>
              <a:noFill/>
              <a:ln w="38100">
                <a:solidFill>
                  <a:srgbClr val="ffffff"/>
                </a:solidFill>
                <a:prstDash val="dash"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</p:grpSp>
      <p:pic>
        <p:nvPicPr>
          <p:cNvPr id="903" name="图片 2" descr=""/>
          <p:cNvPicPr/>
          <p:nvPr/>
        </p:nvPicPr>
        <p:blipFill>
          <a:blip r:embed="rId1"/>
          <a:stretch/>
        </p:blipFill>
        <p:spPr>
          <a:xfrm>
            <a:off x="9173160" y="2217960"/>
            <a:ext cx="2981160" cy="4515120"/>
          </a:xfrm>
          <a:prstGeom prst="rect">
            <a:avLst/>
          </a:prstGeom>
          <a:ln w="0">
            <a:noFill/>
          </a:ln>
        </p:spPr>
      </p:pic>
      <p:cxnSp>
        <p:nvCxnSpPr>
          <p:cNvPr id="904" name="直接连接符 18"/>
          <p:cNvCxnSpPr/>
          <p:nvPr/>
        </p:nvCxnSpPr>
        <p:spPr>
          <a:xfrm>
            <a:off x="1795320" y="4332600"/>
            <a:ext cx="7071840" cy="360"/>
          </a:xfrm>
          <a:prstGeom prst="straightConnector1">
            <a:avLst/>
          </a:prstGeom>
          <a:ln w="28575">
            <a:solidFill>
              <a:srgbClr val="ffffff">
                <a:lumMod val="85000"/>
              </a:srgbClr>
            </a:solidFill>
          </a:ln>
        </p:spPr>
      </p:cxnSp>
      <p:sp>
        <p:nvSpPr>
          <p:cNvPr id="905" name="Text Box 3"/>
          <p:cNvSpPr/>
          <p:nvPr/>
        </p:nvSpPr>
        <p:spPr>
          <a:xfrm>
            <a:off x="372960" y="6355080"/>
            <a:ext cx="5327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563c1"/>
                </a:solidFill>
                <a:uFillTx/>
                <a:latin typeface="Arial"/>
                <a:ea typeface="宋体"/>
                <a:hlinkClick r:id="rId2"/>
              </a:rPr>
              <a:t>免费ppt模板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04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6" name="组合 7"/>
          <p:cNvGrpSpPr/>
          <p:nvPr/>
        </p:nvGrpSpPr>
        <p:grpSpPr>
          <a:xfrm>
            <a:off x="2348640" y="2962080"/>
            <a:ext cx="7494120" cy="1188720"/>
            <a:chOff x="2348640" y="2962080"/>
            <a:chExt cx="7494120" cy="1188720"/>
          </a:xfrm>
        </p:grpSpPr>
        <p:grpSp>
          <p:nvGrpSpPr>
            <p:cNvPr id="907" name="组合 9"/>
            <p:cNvGrpSpPr/>
            <p:nvPr/>
          </p:nvGrpSpPr>
          <p:grpSpPr>
            <a:xfrm>
              <a:off x="2487600" y="3929040"/>
              <a:ext cx="7216560" cy="221760"/>
              <a:chOff x="2487600" y="3929040"/>
              <a:chExt cx="7216560" cy="221760"/>
            </a:xfrm>
          </p:grpSpPr>
          <p:sp>
            <p:nvSpPr>
              <p:cNvPr id="908" name="直角三角形 10"/>
              <p:cNvSpPr/>
              <p:nvPr/>
            </p:nvSpPr>
            <p:spPr>
              <a:xfrm flipV="1">
                <a:off x="2487600" y="3929040"/>
                <a:ext cx="3646080" cy="221760"/>
              </a:xfrm>
              <a:prstGeom prst="rtTriangle">
                <a:avLst/>
              </a:prstGeom>
              <a:solidFill>
                <a:srgbClr val="cc9b00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29160" bIns="291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909" name="直角三角形 11"/>
              <p:cNvSpPr/>
              <p:nvPr/>
            </p:nvSpPr>
            <p:spPr>
              <a:xfrm flipH="1" flipV="1">
                <a:off x="6058080" y="3929040"/>
                <a:ext cx="3646080" cy="221760"/>
              </a:xfrm>
              <a:prstGeom prst="rtTriangle">
                <a:avLst/>
              </a:prstGeom>
              <a:solidFill>
                <a:srgbClr val="cc9b00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29160" bIns="291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sp>
          <p:nvSpPr>
            <p:cNvPr id="910" name="矩形 75"/>
            <p:cNvSpPr/>
            <p:nvPr/>
          </p:nvSpPr>
          <p:spPr>
            <a:xfrm>
              <a:off x="2348640" y="2962080"/>
              <a:ext cx="7494120" cy="1060200"/>
            </a:xfrm>
            <a:prstGeom prst="rect">
              <a:avLst/>
            </a:prstGeom>
            <a:solidFill>
              <a:srgbClr val="f9b10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911" name="文本框 4"/>
          <p:cNvSpPr/>
          <p:nvPr/>
        </p:nvSpPr>
        <p:spPr>
          <a:xfrm>
            <a:off x="2777760" y="3141000"/>
            <a:ext cx="692640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800" spc="-1" strike="noStrike">
                <a:solidFill>
                  <a:srgbClr val="000000"/>
                </a:solidFill>
                <a:latin typeface="造字工房悦圆（非商用）常规体"/>
                <a:ea typeface="造字工房悦圆（非商用）常规体"/>
              </a:rPr>
              <a:t>如何解读互联网方法论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文本框 5"/>
          <p:cNvSpPr/>
          <p:nvPr/>
        </p:nvSpPr>
        <p:spPr>
          <a:xfrm>
            <a:off x="5090760" y="1508040"/>
            <a:ext cx="200988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8000" spc="-1" strike="noStrike">
                <a:solidFill>
                  <a:srgbClr val="f9b101"/>
                </a:solidFill>
                <a:latin typeface="Noto Sans S Chinese Bold"/>
                <a:ea typeface="Noto Sans S Chinese Bold"/>
              </a:rPr>
              <a:t>周鸿祎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文本框 28"/>
          <p:cNvSpPr/>
          <p:nvPr/>
        </p:nvSpPr>
        <p:spPr>
          <a:xfrm>
            <a:off x="2563200" y="76320"/>
            <a:ext cx="706536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50000"/>
              </a:lnSpc>
            </a:pPr>
            <a:r>
              <a:rPr b="1" lang="zh-CN" sz="3600" spc="-1" strike="noStrike">
                <a:solidFill>
                  <a:srgbClr val="ffffff"/>
                </a:solidFill>
                <a:latin typeface="Noto Sans S Chinese Bold"/>
                <a:ea typeface="Noto Sans S Chinese Bold"/>
              </a:rPr>
              <a:t>把安全做到极致，把体验做到极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4" name="组合 1"/>
          <p:cNvGrpSpPr/>
          <p:nvPr/>
        </p:nvGrpSpPr>
        <p:grpSpPr>
          <a:xfrm>
            <a:off x="1076400" y="2656080"/>
            <a:ext cx="10038960" cy="2543040"/>
            <a:chOff x="1076400" y="2656080"/>
            <a:chExt cx="10038960" cy="2543040"/>
          </a:xfrm>
        </p:grpSpPr>
        <p:sp>
          <p:nvSpPr>
            <p:cNvPr id="915" name="文本框 59"/>
            <p:cNvSpPr/>
            <p:nvPr/>
          </p:nvSpPr>
          <p:spPr>
            <a:xfrm>
              <a:off x="1309680" y="4743720"/>
              <a:ext cx="148932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2400" spc="-1" strike="noStrike">
                  <a:solidFill>
                    <a:srgbClr val="000000"/>
                  </a:solidFill>
                  <a:latin typeface="Noto Sans S Chinese Light"/>
                  <a:ea typeface="Noto Sans S Chinese Light"/>
                </a:rPr>
                <a:t>用户至上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16" name="组合 60"/>
            <p:cNvGrpSpPr/>
            <p:nvPr/>
          </p:nvGrpSpPr>
          <p:grpSpPr>
            <a:xfrm>
              <a:off x="1076400" y="2656080"/>
              <a:ext cx="1955520" cy="1955520"/>
              <a:chOff x="1076400" y="2656080"/>
              <a:chExt cx="1955520" cy="1955520"/>
            </a:xfrm>
          </p:grpSpPr>
          <p:sp>
            <p:nvSpPr>
              <p:cNvPr id="917" name="椭圆 61"/>
              <p:cNvSpPr/>
              <p:nvPr/>
            </p:nvSpPr>
            <p:spPr>
              <a:xfrm flipH="1">
                <a:off x="1076400" y="2656080"/>
                <a:ext cx="1955520" cy="1955520"/>
              </a:xfrm>
              <a:prstGeom prst="ellipse">
                <a:avLst/>
              </a:prstGeom>
              <a:solidFill>
                <a:srgbClr val="92d050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pic>
            <p:nvPicPr>
              <p:cNvPr id="918" name="图片 62" descr=""/>
              <p:cNvPicPr/>
              <p:nvPr/>
            </p:nvPicPr>
            <p:blipFill>
              <a:blip r:embed="rId1"/>
              <a:srcRect l="9824" t="15026" r="9176" b="14758"/>
              <a:stretch/>
            </p:blipFill>
            <p:spPr>
              <a:xfrm>
                <a:off x="1255680" y="2746080"/>
                <a:ext cx="1597320" cy="1384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19" name="文本框 63"/>
              <p:cNvSpPr/>
              <p:nvPr/>
            </p:nvSpPr>
            <p:spPr>
              <a:xfrm>
                <a:off x="1726920" y="3846600"/>
                <a:ext cx="586440" cy="51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Noto Sans S Chinese Bold"/>
                    <a:ea typeface="Noto Sans S Chinese Bold"/>
                  </a:rPr>
                  <a:t>01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20" name="文本框 54"/>
            <p:cNvSpPr/>
            <p:nvPr/>
          </p:nvSpPr>
          <p:spPr>
            <a:xfrm>
              <a:off x="4003920" y="4743720"/>
              <a:ext cx="148932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2400" spc="-1" strike="noStrike">
                  <a:solidFill>
                    <a:srgbClr val="000000"/>
                  </a:solidFill>
                  <a:latin typeface="Noto Sans S Chinese Light"/>
                  <a:ea typeface="Noto Sans S Chinese Light"/>
                </a:rPr>
                <a:t>体验为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21" name="组合 55"/>
            <p:cNvGrpSpPr/>
            <p:nvPr/>
          </p:nvGrpSpPr>
          <p:grpSpPr>
            <a:xfrm>
              <a:off x="3771000" y="2656080"/>
              <a:ext cx="1955520" cy="1955520"/>
              <a:chOff x="3771000" y="2656080"/>
              <a:chExt cx="1955520" cy="1955520"/>
            </a:xfrm>
          </p:grpSpPr>
          <p:sp>
            <p:nvSpPr>
              <p:cNvPr id="922" name="椭圆 56"/>
              <p:cNvSpPr/>
              <p:nvPr/>
            </p:nvSpPr>
            <p:spPr>
              <a:xfrm flipH="1">
                <a:off x="3771000" y="2656080"/>
                <a:ext cx="1955520" cy="1955520"/>
              </a:xfrm>
              <a:prstGeom prst="ellipse">
                <a:avLst/>
              </a:prstGeom>
              <a:solidFill>
                <a:srgbClr val="f9b10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pic>
            <p:nvPicPr>
              <p:cNvPr id="923" name="图片 57" descr=""/>
              <p:cNvPicPr/>
              <p:nvPr/>
            </p:nvPicPr>
            <p:blipFill>
              <a:blip r:embed="rId2"/>
              <a:stretch/>
            </p:blipFill>
            <p:spPr>
              <a:xfrm>
                <a:off x="4466520" y="2870640"/>
                <a:ext cx="564120" cy="1030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24" name="文本框 58"/>
              <p:cNvSpPr/>
              <p:nvPr/>
            </p:nvSpPr>
            <p:spPr>
              <a:xfrm>
                <a:off x="4427640" y="3889800"/>
                <a:ext cx="586440" cy="51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Noto Sans S Chinese Bold"/>
                    <a:ea typeface="Noto Sans S Chinese Bold"/>
                  </a:rPr>
                  <a:t>02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25" name="文本框 49"/>
            <p:cNvSpPr/>
            <p:nvPr/>
          </p:nvSpPr>
          <p:spPr>
            <a:xfrm>
              <a:off x="9254880" y="4743720"/>
              <a:ext cx="176508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2400" spc="-1" strike="noStrike">
                  <a:solidFill>
                    <a:srgbClr val="000000"/>
                  </a:solidFill>
                  <a:latin typeface="Noto Sans S Chinese Light"/>
                  <a:ea typeface="Noto Sans S Chinese Light"/>
                </a:rPr>
                <a:t>颠覆式创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26" name="组合 50"/>
            <p:cNvGrpSpPr/>
            <p:nvPr/>
          </p:nvGrpSpPr>
          <p:grpSpPr>
            <a:xfrm>
              <a:off x="9159840" y="2656080"/>
              <a:ext cx="1955520" cy="1955520"/>
              <a:chOff x="9159840" y="2656080"/>
              <a:chExt cx="1955520" cy="1955520"/>
            </a:xfrm>
          </p:grpSpPr>
          <p:sp>
            <p:nvSpPr>
              <p:cNvPr id="927" name="椭圆 51"/>
              <p:cNvSpPr/>
              <p:nvPr/>
            </p:nvSpPr>
            <p:spPr>
              <a:xfrm flipH="1">
                <a:off x="9159840" y="2656080"/>
                <a:ext cx="1955520" cy="1955520"/>
              </a:xfrm>
              <a:prstGeom prst="ellipse">
                <a:avLst/>
              </a:prstGeom>
              <a:solidFill>
                <a:srgbClr val="7f7f7f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pic>
            <p:nvPicPr>
              <p:cNvPr id="928" name="图片 52" descr=""/>
              <p:cNvPicPr/>
              <p:nvPr/>
            </p:nvPicPr>
            <p:blipFill>
              <a:blip r:embed="rId3"/>
              <a:stretch/>
            </p:blipFill>
            <p:spPr>
              <a:xfrm>
                <a:off x="9622440" y="2823120"/>
                <a:ext cx="1029960" cy="1029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29" name="文本框 53"/>
              <p:cNvSpPr/>
              <p:nvPr/>
            </p:nvSpPr>
            <p:spPr>
              <a:xfrm>
                <a:off x="9816480" y="3828600"/>
                <a:ext cx="586440" cy="51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Noto Sans S Chinese Bold"/>
                    <a:ea typeface="Noto Sans S Chinese Bold"/>
                  </a:rPr>
                  <a:t>04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30" name="文本框 43"/>
            <p:cNvSpPr/>
            <p:nvPr/>
          </p:nvSpPr>
          <p:spPr>
            <a:xfrm>
              <a:off x="6225840" y="4743720"/>
              <a:ext cx="244980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2400" spc="-1" strike="noStrike">
                  <a:solidFill>
                    <a:srgbClr val="000000"/>
                  </a:solidFill>
                  <a:latin typeface="Noto Sans S Chinese Light"/>
                  <a:ea typeface="Noto Sans S Chinese Light"/>
                </a:rPr>
                <a:t>免费的商业模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31" name="组合 44"/>
            <p:cNvGrpSpPr/>
            <p:nvPr/>
          </p:nvGrpSpPr>
          <p:grpSpPr>
            <a:xfrm>
              <a:off x="6465240" y="2656080"/>
              <a:ext cx="1955520" cy="1955520"/>
              <a:chOff x="6465240" y="2656080"/>
              <a:chExt cx="1955520" cy="1955520"/>
            </a:xfrm>
          </p:grpSpPr>
          <p:grpSp>
            <p:nvGrpSpPr>
              <p:cNvPr id="932" name="组合 45"/>
              <p:cNvGrpSpPr/>
              <p:nvPr/>
            </p:nvGrpSpPr>
            <p:grpSpPr>
              <a:xfrm>
                <a:off x="6465240" y="2656080"/>
                <a:ext cx="1955520" cy="1955520"/>
                <a:chOff x="6465240" y="2656080"/>
                <a:chExt cx="1955520" cy="1955520"/>
              </a:xfrm>
            </p:grpSpPr>
            <p:sp>
              <p:nvSpPr>
                <p:cNvPr id="933" name="椭圆 47"/>
                <p:cNvSpPr/>
                <p:nvPr/>
              </p:nvSpPr>
              <p:spPr>
                <a:xfrm flipH="1">
                  <a:off x="6465240" y="2656080"/>
                  <a:ext cx="1955520" cy="1955520"/>
                </a:xfrm>
                <a:prstGeom prst="ellipse">
                  <a:avLst/>
                </a:prstGeom>
                <a:solidFill>
                  <a:srgbClr val="1cabfc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934" name="文本框 48"/>
                <p:cNvSpPr/>
                <p:nvPr/>
              </p:nvSpPr>
              <p:spPr>
                <a:xfrm>
                  <a:off x="6565680" y="3205080"/>
                  <a:ext cx="1211400" cy="63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t">
                  <a:spAutoFit/>
                </a:bodyPr>
                <a:p>
                  <a:pPr>
                    <a:lnSpc>
                      <a:spcPct val="100000"/>
                    </a:lnSpc>
                  </a:pPr>
                  <a:r>
                    <a:rPr b="0" lang="en-US" sz="3600" spc="-1" strike="noStrike">
                      <a:solidFill>
                        <a:srgbClr val="ffffff"/>
                      </a:solidFill>
                      <a:latin typeface="造字工房悦圆（非商用）常规体"/>
                      <a:ea typeface="造字工房悦圆（非商用）常规体"/>
                    </a:rPr>
                    <a:t>FREE</a:t>
                  </a:r>
                  <a:endParaRPr b="0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35" name="文本框 46"/>
              <p:cNvSpPr/>
              <p:nvPr/>
            </p:nvSpPr>
            <p:spPr>
              <a:xfrm>
                <a:off x="7134120" y="3843720"/>
                <a:ext cx="586440" cy="51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Noto Sans S Chinese Bold"/>
                    <a:ea typeface="Noto Sans S Chinese Bold"/>
                  </a:rPr>
                  <a:t>03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文本框 27"/>
          <p:cNvSpPr/>
          <p:nvPr/>
        </p:nvSpPr>
        <p:spPr>
          <a:xfrm>
            <a:off x="2563200" y="76320"/>
            <a:ext cx="706536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50000"/>
              </a:lnSpc>
            </a:pPr>
            <a:r>
              <a:rPr b="1" lang="zh-CN" sz="3600" spc="-1" strike="noStrike">
                <a:solidFill>
                  <a:srgbClr val="ffffff"/>
                </a:solidFill>
                <a:latin typeface="Noto Sans S Chinese Bold"/>
                <a:ea typeface="Noto Sans S Chinese Bold"/>
              </a:rPr>
              <a:t>用户至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文本框 28"/>
          <p:cNvSpPr/>
          <p:nvPr/>
        </p:nvSpPr>
        <p:spPr>
          <a:xfrm>
            <a:off x="4176360" y="1327680"/>
            <a:ext cx="383868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50000"/>
              </a:lnSpc>
            </a:pPr>
            <a:r>
              <a:rPr b="0" lang="zh-CN" sz="2400" spc="-1" strike="noStrike">
                <a:solidFill>
                  <a:srgbClr val="000000"/>
                </a:solidFill>
                <a:latin typeface="Noto Sans S Chinese Light"/>
                <a:ea typeface="Noto Sans S Chinese Light"/>
              </a:rPr>
              <a:t>用户至上是发自内心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</a:pPr>
            <a:r>
              <a:rPr b="0" lang="zh-CN" sz="2400" spc="-1" strike="noStrike">
                <a:solidFill>
                  <a:srgbClr val="000000"/>
                </a:solidFill>
                <a:latin typeface="Noto Sans S Chinese Light"/>
                <a:ea typeface="Noto Sans S Chinese Light"/>
              </a:rPr>
              <a:t>获得用户支持，只要用户相信你，你就有机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8" name="图片 6" descr=""/>
          <p:cNvPicPr/>
          <p:nvPr/>
        </p:nvPicPr>
        <p:blipFill>
          <a:blip r:embed="rId1"/>
          <a:stretch/>
        </p:blipFill>
        <p:spPr>
          <a:xfrm>
            <a:off x="3101400" y="1792440"/>
            <a:ext cx="5988960" cy="5065200"/>
          </a:xfrm>
          <a:prstGeom prst="rect">
            <a:avLst/>
          </a:prstGeom>
          <a:ln w="0">
            <a:noFill/>
          </a:ln>
        </p:spPr>
      </p:pic>
      <p:grpSp>
        <p:nvGrpSpPr>
          <p:cNvPr id="939" name="组合 15"/>
          <p:cNvGrpSpPr/>
          <p:nvPr/>
        </p:nvGrpSpPr>
        <p:grpSpPr>
          <a:xfrm>
            <a:off x="4833000" y="3196440"/>
            <a:ext cx="2583360" cy="1496160"/>
            <a:chOff x="4833000" y="3196440"/>
            <a:chExt cx="2583360" cy="1496160"/>
          </a:xfrm>
        </p:grpSpPr>
        <p:sp>
          <p:nvSpPr>
            <p:cNvPr id="940" name="任意多边形 16"/>
            <p:cNvSpPr/>
            <p:nvPr/>
          </p:nvSpPr>
          <p:spPr>
            <a:xfrm>
              <a:off x="6125040" y="3196440"/>
              <a:ext cx="836640" cy="1136160"/>
            </a:xfrm>
            <a:custGeom>
              <a:avLst/>
              <a:gdLst>
                <a:gd name="textAreaLeft" fmla="*/ 0 w 836640"/>
                <a:gd name="textAreaRight" fmla="*/ 837000 w 836640"/>
                <a:gd name="textAreaTop" fmla="*/ 0 h 1136160"/>
                <a:gd name="textAreaBottom" fmla="*/ 1136520 h 1136160"/>
              </a:gdLst>
              <a:ahLst/>
              <a:rect l="textAreaLeft" t="textAreaTop" r="textAreaRight" b="textAreaBottom"/>
              <a:pathLst>
                <a:path w="1143000" h="1551557">
                  <a:moveTo>
                    <a:pt x="548640" y="0"/>
                  </a:moveTo>
                  <a:cubicBezTo>
                    <a:pt x="743452" y="0"/>
                    <a:pt x="901378" y="157926"/>
                    <a:pt x="901378" y="352738"/>
                  </a:cubicBezTo>
                  <a:cubicBezTo>
                    <a:pt x="901378" y="474495"/>
                    <a:pt x="839688" y="581844"/>
                    <a:pt x="745860" y="645234"/>
                  </a:cubicBezTo>
                  <a:lnTo>
                    <a:pt x="718624" y="660017"/>
                  </a:lnTo>
                  <a:lnTo>
                    <a:pt x="777240" y="660017"/>
                  </a:lnTo>
                  <a:lnTo>
                    <a:pt x="906780" y="705737"/>
                  </a:lnTo>
                  <a:lnTo>
                    <a:pt x="990600" y="781937"/>
                  </a:lnTo>
                  <a:lnTo>
                    <a:pt x="1089660" y="880997"/>
                  </a:lnTo>
                  <a:lnTo>
                    <a:pt x="1135380" y="1071497"/>
                  </a:lnTo>
                  <a:lnTo>
                    <a:pt x="1143000" y="1437257"/>
                  </a:lnTo>
                  <a:lnTo>
                    <a:pt x="906780" y="1528697"/>
                  </a:lnTo>
                  <a:lnTo>
                    <a:pt x="571500" y="1551557"/>
                  </a:lnTo>
                  <a:lnTo>
                    <a:pt x="304800" y="1528697"/>
                  </a:lnTo>
                  <a:lnTo>
                    <a:pt x="137160" y="1505837"/>
                  </a:lnTo>
                  <a:lnTo>
                    <a:pt x="0" y="1460117"/>
                  </a:lnTo>
                  <a:lnTo>
                    <a:pt x="7620" y="1101977"/>
                  </a:lnTo>
                  <a:lnTo>
                    <a:pt x="60960" y="896237"/>
                  </a:lnTo>
                  <a:lnTo>
                    <a:pt x="182880" y="759077"/>
                  </a:lnTo>
                  <a:lnTo>
                    <a:pt x="297180" y="675257"/>
                  </a:lnTo>
                  <a:lnTo>
                    <a:pt x="397700" y="670354"/>
                  </a:lnTo>
                  <a:lnTo>
                    <a:pt x="351421" y="645234"/>
                  </a:lnTo>
                  <a:cubicBezTo>
                    <a:pt x="257592" y="581844"/>
                    <a:pt x="195902" y="474495"/>
                    <a:pt x="195902" y="352738"/>
                  </a:cubicBezTo>
                  <a:cubicBezTo>
                    <a:pt x="195902" y="157926"/>
                    <a:pt x="353828" y="0"/>
                    <a:pt x="548640" y="0"/>
                  </a:cubicBezTo>
                  <a:close/>
                </a:path>
              </a:pathLst>
            </a:custGeom>
            <a:solidFill>
              <a:srgbClr val="f9b101"/>
            </a:solidFill>
            <a:ln w="28575">
              <a:solidFill>
                <a:srgbClr val="ffffff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41" name="任意多边形 17"/>
            <p:cNvSpPr/>
            <p:nvPr/>
          </p:nvSpPr>
          <p:spPr>
            <a:xfrm>
              <a:off x="5215320" y="3196440"/>
              <a:ext cx="836640" cy="1136160"/>
            </a:xfrm>
            <a:custGeom>
              <a:avLst/>
              <a:gdLst>
                <a:gd name="textAreaLeft" fmla="*/ 0 w 836640"/>
                <a:gd name="textAreaRight" fmla="*/ 837000 w 836640"/>
                <a:gd name="textAreaTop" fmla="*/ 0 h 1136160"/>
                <a:gd name="textAreaBottom" fmla="*/ 1136520 h 1136160"/>
              </a:gdLst>
              <a:ahLst/>
              <a:rect l="textAreaLeft" t="textAreaTop" r="textAreaRight" b="textAreaBottom"/>
              <a:pathLst>
                <a:path w="1143000" h="1551557">
                  <a:moveTo>
                    <a:pt x="548640" y="0"/>
                  </a:moveTo>
                  <a:cubicBezTo>
                    <a:pt x="743452" y="0"/>
                    <a:pt x="901378" y="157926"/>
                    <a:pt x="901378" y="352738"/>
                  </a:cubicBezTo>
                  <a:cubicBezTo>
                    <a:pt x="901378" y="474495"/>
                    <a:pt x="839688" y="581844"/>
                    <a:pt x="745860" y="645234"/>
                  </a:cubicBezTo>
                  <a:lnTo>
                    <a:pt x="718624" y="660017"/>
                  </a:lnTo>
                  <a:lnTo>
                    <a:pt x="777240" y="660017"/>
                  </a:lnTo>
                  <a:lnTo>
                    <a:pt x="906780" y="705737"/>
                  </a:lnTo>
                  <a:lnTo>
                    <a:pt x="990600" y="781937"/>
                  </a:lnTo>
                  <a:lnTo>
                    <a:pt x="1089660" y="880997"/>
                  </a:lnTo>
                  <a:lnTo>
                    <a:pt x="1135380" y="1071497"/>
                  </a:lnTo>
                  <a:lnTo>
                    <a:pt x="1143000" y="1437257"/>
                  </a:lnTo>
                  <a:lnTo>
                    <a:pt x="906780" y="1528697"/>
                  </a:lnTo>
                  <a:lnTo>
                    <a:pt x="571500" y="1551557"/>
                  </a:lnTo>
                  <a:lnTo>
                    <a:pt x="304800" y="1528697"/>
                  </a:lnTo>
                  <a:lnTo>
                    <a:pt x="137160" y="1505837"/>
                  </a:lnTo>
                  <a:lnTo>
                    <a:pt x="0" y="1460117"/>
                  </a:lnTo>
                  <a:lnTo>
                    <a:pt x="7620" y="1101977"/>
                  </a:lnTo>
                  <a:lnTo>
                    <a:pt x="60960" y="896237"/>
                  </a:lnTo>
                  <a:lnTo>
                    <a:pt x="182880" y="759077"/>
                  </a:lnTo>
                  <a:lnTo>
                    <a:pt x="297180" y="675257"/>
                  </a:lnTo>
                  <a:lnTo>
                    <a:pt x="397700" y="670354"/>
                  </a:lnTo>
                  <a:lnTo>
                    <a:pt x="351421" y="645234"/>
                  </a:lnTo>
                  <a:cubicBezTo>
                    <a:pt x="257592" y="581844"/>
                    <a:pt x="195902" y="474495"/>
                    <a:pt x="195902" y="352738"/>
                  </a:cubicBezTo>
                  <a:cubicBezTo>
                    <a:pt x="195902" y="157926"/>
                    <a:pt x="353828" y="0"/>
                    <a:pt x="548640" y="0"/>
                  </a:cubicBezTo>
                  <a:close/>
                </a:path>
              </a:pathLst>
            </a:custGeom>
            <a:solidFill>
              <a:srgbClr val="f9b101"/>
            </a:solidFill>
            <a:ln w="28575">
              <a:solidFill>
                <a:srgbClr val="ffffff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42" name="任意多边形 18"/>
            <p:cNvSpPr/>
            <p:nvPr/>
          </p:nvSpPr>
          <p:spPr>
            <a:xfrm>
              <a:off x="6579720" y="3339000"/>
              <a:ext cx="836640" cy="1136160"/>
            </a:xfrm>
            <a:custGeom>
              <a:avLst/>
              <a:gdLst>
                <a:gd name="textAreaLeft" fmla="*/ 0 w 836640"/>
                <a:gd name="textAreaRight" fmla="*/ 837000 w 836640"/>
                <a:gd name="textAreaTop" fmla="*/ 0 h 1136160"/>
                <a:gd name="textAreaBottom" fmla="*/ 1136520 h 1136160"/>
              </a:gdLst>
              <a:ahLst/>
              <a:rect l="textAreaLeft" t="textAreaTop" r="textAreaRight" b="textAreaBottom"/>
              <a:pathLst>
                <a:path w="1143000" h="1551557">
                  <a:moveTo>
                    <a:pt x="548640" y="0"/>
                  </a:moveTo>
                  <a:cubicBezTo>
                    <a:pt x="743452" y="0"/>
                    <a:pt x="901378" y="157926"/>
                    <a:pt x="901378" y="352738"/>
                  </a:cubicBezTo>
                  <a:cubicBezTo>
                    <a:pt x="901378" y="474495"/>
                    <a:pt x="839688" y="581844"/>
                    <a:pt x="745860" y="645234"/>
                  </a:cubicBezTo>
                  <a:lnTo>
                    <a:pt x="718624" y="660017"/>
                  </a:lnTo>
                  <a:lnTo>
                    <a:pt x="777240" y="660017"/>
                  </a:lnTo>
                  <a:lnTo>
                    <a:pt x="906780" y="705737"/>
                  </a:lnTo>
                  <a:lnTo>
                    <a:pt x="990600" y="781937"/>
                  </a:lnTo>
                  <a:lnTo>
                    <a:pt x="1089660" y="880997"/>
                  </a:lnTo>
                  <a:lnTo>
                    <a:pt x="1135380" y="1071497"/>
                  </a:lnTo>
                  <a:lnTo>
                    <a:pt x="1143000" y="1437257"/>
                  </a:lnTo>
                  <a:lnTo>
                    <a:pt x="906780" y="1528697"/>
                  </a:lnTo>
                  <a:lnTo>
                    <a:pt x="571500" y="1551557"/>
                  </a:lnTo>
                  <a:lnTo>
                    <a:pt x="304800" y="1528697"/>
                  </a:lnTo>
                  <a:lnTo>
                    <a:pt x="137160" y="1505837"/>
                  </a:lnTo>
                  <a:lnTo>
                    <a:pt x="0" y="1460117"/>
                  </a:lnTo>
                  <a:lnTo>
                    <a:pt x="7620" y="1101977"/>
                  </a:lnTo>
                  <a:lnTo>
                    <a:pt x="60960" y="896237"/>
                  </a:lnTo>
                  <a:lnTo>
                    <a:pt x="182880" y="759077"/>
                  </a:lnTo>
                  <a:lnTo>
                    <a:pt x="297180" y="675257"/>
                  </a:lnTo>
                  <a:lnTo>
                    <a:pt x="397700" y="670354"/>
                  </a:lnTo>
                  <a:lnTo>
                    <a:pt x="351421" y="645234"/>
                  </a:lnTo>
                  <a:cubicBezTo>
                    <a:pt x="257592" y="581844"/>
                    <a:pt x="195902" y="474495"/>
                    <a:pt x="195902" y="352738"/>
                  </a:cubicBezTo>
                  <a:cubicBezTo>
                    <a:pt x="195902" y="157926"/>
                    <a:pt x="353828" y="0"/>
                    <a:pt x="548640" y="0"/>
                  </a:cubicBezTo>
                  <a:close/>
                </a:path>
              </a:pathLst>
            </a:custGeom>
            <a:solidFill>
              <a:srgbClr val="f9b101"/>
            </a:solidFill>
            <a:ln w="28575">
              <a:solidFill>
                <a:srgbClr val="ffffff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43" name="任意多边形 19"/>
            <p:cNvSpPr/>
            <p:nvPr/>
          </p:nvSpPr>
          <p:spPr>
            <a:xfrm>
              <a:off x="4833000" y="3339000"/>
              <a:ext cx="836640" cy="1136160"/>
            </a:xfrm>
            <a:custGeom>
              <a:avLst/>
              <a:gdLst>
                <a:gd name="textAreaLeft" fmla="*/ 0 w 836640"/>
                <a:gd name="textAreaRight" fmla="*/ 837000 w 836640"/>
                <a:gd name="textAreaTop" fmla="*/ 0 h 1136160"/>
                <a:gd name="textAreaBottom" fmla="*/ 1136520 h 1136160"/>
              </a:gdLst>
              <a:ahLst/>
              <a:rect l="textAreaLeft" t="textAreaTop" r="textAreaRight" b="textAreaBottom"/>
              <a:pathLst>
                <a:path w="1143000" h="1551557">
                  <a:moveTo>
                    <a:pt x="548640" y="0"/>
                  </a:moveTo>
                  <a:cubicBezTo>
                    <a:pt x="743452" y="0"/>
                    <a:pt x="901378" y="157926"/>
                    <a:pt x="901378" y="352738"/>
                  </a:cubicBezTo>
                  <a:cubicBezTo>
                    <a:pt x="901378" y="474495"/>
                    <a:pt x="839688" y="581844"/>
                    <a:pt x="745860" y="645234"/>
                  </a:cubicBezTo>
                  <a:lnTo>
                    <a:pt x="718624" y="660017"/>
                  </a:lnTo>
                  <a:lnTo>
                    <a:pt x="777240" y="660017"/>
                  </a:lnTo>
                  <a:lnTo>
                    <a:pt x="906780" y="705737"/>
                  </a:lnTo>
                  <a:lnTo>
                    <a:pt x="990600" y="781937"/>
                  </a:lnTo>
                  <a:lnTo>
                    <a:pt x="1089660" y="880997"/>
                  </a:lnTo>
                  <a:lnTo>
                    <a:pt x="1135380" y="1071497"/>
                  </a:lnTo>
                  <a:lnTo>
                    <a:pt x="1143000" y="1437257"/>
                  </a:lnTo>
                  <a:lnTo>
                    <a:pt x="906780" y="1528697"/>
                  </a:lnTo>
                  <a:lnTo>
                    <a:pt x="571500" y="1551557"/>
                  </a:lnTo>
                  <a:lnTo>
                    <a:pt x="304800" y="1528697"/>
                  </a:lnTo>
                  <a:lnTo>
                    <a:pt x="137160" y="1505837"/>
                  </a:lnTo>
                  <a:lnTo>
                    <a:pt x="0" y="1460117"/>
                  </a:lnTo>
                  <a:lnTo>
                    <a:pt x="7620" y="1101977"/>
                  </a:lnTo>
                  <a:lnTo>
                    <a:pt x="60960" y="896237"/>
                  </a:lnTo>
                  <a:lnTo>
                    <a:pt x="182880" y="759077"/>
                  </a:lnTo>
                  <a:lnTo>
                    <a:pt x="297180" y="675257"/>
                  </a:lnTo>
                  <a:lnTo>
                    <a:pt x="397700" y="670354"/>
                  </a:lnTo>
                  <a:lnTo>
                    <a:pt x="351421" y="645234"/>
                  </a:lnTo>
                  <a:cubicBezTo>
                    <a:pt x="257592" y="581844"/>
                    <a:pt x="195902" y="474495"/>
                    <a:pt x="195902" y="352738"/>
                  </a:cubicBezTo>
                  <a:cubicBezTo>
                    <a:pt x="195902" y="157926"/>
                    <a:pt x="353828" y="0"/>
                    <a:pt x="548640" y="0"/>
                  </a:cubicBezTo>
                  <a:close/>
                </a:path>
              </a:pathLst>
            </a:custGeom>
            <a:solidFill>
              <a:srgbClr val="f9b101"/>
            </a:solidFill>
            <a:ln w="28575">
              <a:solidFill>
                <a:srgbClr val="ffffff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44" name="任意多边形 20"/>
            <p:cNvSpPr/>
            <p:nvPr/>
          </p:nvSpPr>
          <p:spPr>
            <a:xfrm>
              <a:off x="5653440" y="3196440"/>
              <a:ext cx="836640" cy="1136160"/>
            </a:xfrm>
            <a:custGeom>
              <a:avLst/>
              <a:gdLst>
                <a:gd name="textAreaLeft" fmla="*/ 0 w 836640"/>
                <a:gd name="textAreaRight" fmla="*/ 837000 w 836640"/>
                <a:gd name="textAreaTop" fmla="*/ 0 h 1136160"/>
                <a:gd name="textAreaBottom" fmla="*/ 1136520 h 1136160"/>
              </a:gdLst>
              <a:ahLst/>
              <a:rect l="textAreaLeft" t="textAreaTop" r="textAreaRight" b="textAreaBottom"/>
              <a:pathLst>
                <a:path w="1143000" h="1551557">
                  <a:moveTo>
                    <a:pt x="548640" y="0"/>
                  </a:moveTo>
                  <a:cubicBezTo>
                    <a:pt x="743452" y="0"/>
                    <a:pt x="901378" y="157926"/>
                    <a:pt x="901378" y="352738"/>
                  </a:cubicBezTo>
                  <a:cubicBezTo>
                    <a:pt x="901378" y="474495"/>
                    <a:pt x="839688" y="581844"/>
                    <a:pt x="745860" y="645234"/>
                  </a:cubicBezTo>
                  <a:lnTo>
                    <a:pt x="718624" y="660017"/>
                  </a:lnTo>
                  <a:lnTo>
                    <a:pt x="777240" y="660017"/>
                  </a:lnTo>
                  <a:lnTo>
                    <a:pt x="906780" y="705737"/>
                  </a:lnTo>
                  <a:lnTo>
                    <a:pt x="990600" y="781937"/>
                  </a:lnTo>
                  <a:lnTo>
                    <a:pt x="1089660" y="880997"/>
                  </a:lnTo>
                  <a:lnTo>
                    <a:pt x="1135380" y="1071497"/>
                  </a:lnTo>
                  <a:lnTo>
                    <a:pt x="1143000" y="1437257"/>
                  </a:lnTo>
                  <a:lnTo>
                    <a:pt x="906780" y="1528697"/>
                  </a:lnTo>
                  <a:lnTo>
                    <a:pt x="571500" y="1551557"/>
                  </a:lnTo>
                  <a:lnTo>
                    <a:pt x="304800" y="1528697"/>
                  </a:lnTo>
                  <a:lnTo>
                    <a:pt x="137160" y="1505837"/>
                  </a:lnTo>
                  <a:lnTo>
                    <a:pt x="0" y="1460117"/>
                  </a:lnTo>
                  <a:lnTo>
                    <a:pt x="7620" y="1101977"/>
                  </a:lnTo>
                  <a:lnTo>
                    <a:pt x="60960" y="896237"/>
                  </a:lnTo>
                  <a:lnTo>
                    <a:pt x="182880" y="759077"/>
                  </a:lnTo>
                  <a:lnTo>
                    <a:pt x="297180" y="675257"/>
                  </a:lnTo>
                  <a:lnTo>
                    <a:pt x="397700" y="670354"/>
                  </a:lnTo>
                  <a:lnTo>
                    <a:pt x="351421" y="645234"/>
                  </a:lnTo>
                  <a:cubicBezTo>
                    <a:pt x="257592" y="581844"/>
                    <a:pt x="195902" y="474495"/>
                    <a:pt x="195902" y="352738"/>
                  </a:cubicBezTo>
                  <a:cubicBezTo>
                    <a:pt x="195902" y="157926"/>
                    <a:pt x="353828" y="0"/>
                    <a:pt x="548640" y="0"/>
                  </a:cubicBezTo>
                  <a:close/>
                </a:path>
              </a:pathLst>
            </a:custGeom>
            <a:solidFill>
              <a:srgbClr val="f9b101"/>
            </a:solidFill>
            <a:ln w="28575">
              <a:solidFill>
                <a:srgbClr val="ffffff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45" name="任意多边形 21"/>
            <p:cNvSpPr/>
            <p:nvPr/>
          </p:nvSpPr>
          <p:spPr>
            <a:xfrm>
              <a:off x="6125040" y="3489480"/>
              <a:ext cx="836640" cy="1136160"/>
            </a:xfrm>
            <a:custGeom>
              <a:avLst/>
              <a:gdLst>
                <a:gd name="textAreaLeft" fmla="*/ 0 w 836640"/>
                <a:gd name="textAreaRight" fmla="*/ 837000 w 836640"/>
                <a:gd name="textAreaTop" fmla="*/ 0 h 1136160"/>
                <a:gd name="textAreaBottom" fmla="*/ 1136520 h 1136160"/>
              </a:gdLst>
              <a:ahLst/>
              <a:rect l="textAreaLeft" t="textAreaTop" r="textAreaRight" b="textAreaBottom"/>
              <a:pathLst>
                <a:path w="1143000" h="1551557">
                  <a:moveTo>
                    <a:pt x="548640" y="0"/>
                  </a:moveTo>
                  <a:cubicBezTo>
                    <a:pt x="743452" y="0"/>
                    <a:pt x="901378" y="157926"/>
                    <a:pt x="901378" y="352738"/>
                  </a:cubicBezTo>
                  <a:cubicBezTo>
                    <a:pt x="901378" y="474495"/>
                    <a:pt x="839688" y="581844"/>
                    <a:pt x="745860" y="645234"/>
                  </a:cubicBezTo>
                  <a:lnTo>
                    <a:pt x="718624" y="660017"/>
                  </a:lnTo>
                  <a:lnTo>
                    <a:pt x="777240" y="660017"/>
                  </a:lnTo>
                  <a:lnTo>
                    <a:pt x="906780" y="705737"/>
                  </a:lnTo>
                  <a:lnTo>
                    <a:pt x="990600" y="781937"/>
                  </a:lnTo>
                  <a:lnTo>
                    <a:pt x="1089660" y="880997"/>
                  </a:lnTo>
                  <a:lnTo>
                    <a:pt x="1135380" y="1071497"/>
                  </a:lnTo>
                  <a:lnTo>
                    <a:pt x="1143000" y="1437257"/>
                  </a:lnTo>
                  <a:lnTo>
                    <a:pt x="906780" y="1528697"/>
                  </a:lnTo>
                  <a:lnTo>
                    <a:pt x="571500" y="1551557"/>
                  </a:lnTo>
                  <a:lnTo>
                    <a:pt x="304800" y="1528697"/>
                  </a:lnTo>
                  <a:lnTo>
                    <a:pt x="137160" y="1505837"/>
                  </a:lnTo>
                  <a:lnTo>
                    <a:pt x="0" y="1460117"/>
                  </a:lnTo>
                  <a:lnTo>
                    <a:pt x="7620" y="1101977"/>
                  </a:lnTo>
                  <a:lnTo>
                    <a:pt x="60960" y="896237"/>
                  </a:lnTo>
                  <a:lnTo>
                    <a:pt x="182880" y="759077"/>
                  </a:lnTo>
                  <a:lnTo>
                    <a:pt x="297180" y="675257"/>
                  </a:lnTo>
                  <a:lnTo>
                    <a:pt x="397700" y="670354"/>
                  </a:lnTo>
                  <a:lnTo>
                    <a:pt x="351421" y="645234"/>
                  </a:lnTo>
                  <a:cubicBezTo>
                    <a:pt x="257592" y="581844"/>
                    <a:pt x="195902" y="474495"/>
                    <a:pt x="195902" y="352738"/>
                  </a:cubicBezTo>
                  <a:cubicBezTo>
                    <a:pt x="195902" y="157926"/>
                    <a:pt x="353828" y="0"/>
                    <a:pt x="548640" y="0"/>
                  </a:cubicBezTo>
                  <a:close/>
                </a:path>
              </a:pathLst>
            </a:custGeom>
            <a:solidFill>
              <a:srgbClr val="f9b101"/>
            </a:solidFill>
            <a:ln w="28575">
              <a:solidFill>
                <a:srgbClr val="ffffff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46" name="任意多边形 22"/>
            <p:cNvSpPr/>
            <p:nvPr/>
          </p:nvSpPr>
          <p:spPr>
            <a:xfrm>
              <a:off x="5215320" y="3489480"/>
              <a:ext cx="836640" cy="1136160"/>
            </a:xfrm>
            <a:custGeom>
              <a:avLst/>
              <a:gdLst>
                <a:gd name="textAreaLeft" fmla="*/ 0 w 836640"/>
                <a:gd name="textAreaRight" fmla="*/ 837000 w 836640"/>
                <a:gd name="textAreaTop" fmla="*/ 0 h 1136160"/>
                <a:gd name="textAreaBottom" fmla="*/ 1136520 h 1136160"/>
              </a:gdLst>
              <a:ahLst/>
              <a:rect l="textAreaLeft" t="textAreaTop" r="textAreaRight" b="textAreaBottom"/>
              <a:pathLst>
                <a:path w="1143000" h="1551557">
                  <a:moveTo>
                    <a:pt x="548640" y="0"/>
                  </a:moveTo>
                  <a:cubicBezTo>
                    <a:pt x="743452" y="0"/>
                    <a:pt x="901378" y="157926"/>
                    <a:pt x="901378" y="352738"/>
                  </a:cubicBezTo>
                  <a:cubicBezTo>
                    <a:pt x="901378" y="474495"/>
                    <a:pt x="839688" y="581844"/>
                    <a:pt x="745860" y="645234"/>
                  </a:cubicBezTo>
                  <a:lnTo>
                    <a:pt x="718624" y="660017"/>
                  </a:lnTo>
                  <a:lnTo>
                    <a:pt x="777240" y="660017"/>
                  </a:lnTo>
                  <a:lnTo>
                    <a:pt x="906780" y="705737"/>
                  </a:lnTo>
                  <a:lnTo>
                    <a:pt x="990600" y="781937"/>
                  </a:lnTo>
                  <a:lnTo>
                    <a:pt x="1089660" y="880997"/>
                  </a:lnTo>
                  <a:lnTo>
                    <a:pt x="1135380" y="1071497"/>
                  </a:lnTo>
                  <a:lnTo>
                    <a:pt x="1143000" y="1437257"/>
                  </a:lnTo>
                  <a:lnTo>
                    <a:pt x="906780" y="1528697"/>
                  </a:lnTo>
                  <a:lnTo>
                    <a:pt x="571500" y="1551557"/>
                  </a:lnTo>
                  <a:lnTo>
                    <a:pt x="304800" y="1528697"/>
                  </a:lnTo>
                  <a:lnTo>
                    <a:pt x="137160" y="1505837"/>
                  </a:lnTo>
                  <a:lnTo>
                    <a:pt x="0" y="1460117"/>
                  </a:lnTo>
                  <a:lnTo>
                    <a:pt x="7620" y="1101977"/>
                  </a:lnTo>
                  <a:lnTo>
                    <a:pt x="60960" y="896237"/>
                  </a:lnTo>
                  <a:lnTo>
                    <a:pt x="182880" y="759077"/>
                  </a:lnTo>
                  <a:lnTo>
                    <a:pt x="297180" y="675257"/>
                  </a:lnTo>
                  <a:lnTo>
                    <a:pt x="397700" y="670354"/>
                  </a:lnTo>
                  <a:lnTo>
                    <a:pt x="351421" y="645234"/>
                  </a:lnTo>
                  <a:cubicBezTo>
                    <a:pt x="257592" y="581844"/>
                    <a:pt x="195902" y="474495"/>
                    <a:pt x="195902" y="352738"/>
                  </a:cubicBezTo>
                  <a:cubicBezTo>
                    <a:pt x="195902" y="157926"/>
                    <a:pt x="353828" y="0"/>
                    <a:pt x="548640" y="0"/>
                  </a:cubicBezTo>
                  <a:close/>
                </a:path>
              </a:pathLst>
            </a:custGeom>
            <a:solidFill>
              <a:srgbClr val="f9b101"/>
            </a:solidFill>
            <a:ln w="28575">
              <a:solidFill>
                <a:srgbClr val="ffffff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47" name="任意多边形 23"/>
            <p:cNvSpPr/>
            <p:nvPr/>
          </p:nvSpPr>
          <p:spPr>
            <a:xfrm>
              <a:off x="5670360" y="3556440"/>
              <a:ext cx="836640" cy="1136160"/>
            </a:xfrm>
            <a:custGeom>
              <a:avLst/>
              <a:gdLst>
                <a:gd name="textAreaLeft" fmla="*/ 0 w 836640"/>
                <a:gd name="textAreaRight" fmla="*/ 837000 w 836640"/>
                <a:gd name="textAreaTop" fmla="*/ 0 h 1136160"/>
                <a:gd name="textAreaBottom" fmla="*/ 1136520 h 1136160"/>
              </a:gdLst>
              <a:ahLst/>
              <a:rect l="textAreaLeft" t="textAreaTop" r="textAreaRight" b="textAreaBottom"/>
              <a:pathLst>
                <a:path w="1143000" h="1551557">
                  <a:moveTo>
                    <a:pt x="548640" y="0"/>
                  </a:moveTo>
                  <a:cubicBezTo>
                    <a:pt x="743452" y="0"/>
                    <a:pt x="901378" y="157926"/>
                    <a:pt x="901378" y="352738"/>
                  </a:cubicBezTo>
                  <a:cubicBezTo>
                    <a:pt x="901378" y="474495"/>
                    <a:pt x="839688" y="581844"/>
                    <a:pt x="745860" y="645234"/>
                  </a:cubicBezTo>
                  <a:lnTo>
                    <a:pt x="718624" y="660017"/>
                  </a:lnTo>
                  <a:lnTo>
                    <a:pt x="777240" y="660017"/>
                  </a:lnTo>
                  <a:lnTo>
                    <a:pt x="906780" y="705737"/>
                  </a:lnTo>
                  <a:lnTo>
                    <a:pt x="990600" y="781937"/>
                  </a:lnTo>
                  <a:lnTo>
                    <a:pt x="1089660" y="880997"/>
                  </a:lnTo>
                  <a:lnTo>
                    <a:pt x="1135380" y="1071497"/>
                  </a:lnTo>
                  <a:lnTo>
                    <a:pt x="1143000" y="1437257"/>
                  </a:lnTo>
                  <a:lnTo>
                    <a:pt x="906780" y="1528697"/>
                  </a:lnTo>
                  <a:lnTo>
                    <a:pt x="571500" y="1551557"/>
                  </a:lnTo>
                  <a:lnTo>
                    <a:pt x="304800" y="1528697"/>
                  </a:lnTo>
                  <a:lnTo>
                    <a:pt x="137160" y="1505837"/>
                  </a:lnTo>
                  <a:lnTo>
                    <a:pt x="0" y="1460117"/>
                  </a:lnTo>
                  <a:lnTo>
                    <a:pt x="7620" y="1101977"/>
                  </a:lnTo>
                  <a:lnTo>
                    <a:pt x="60960" y="896237"/>
                  </a:lnTo>
                  <a:lnTo>
                    <a:pt x="182880" y="759077"/>
                  </a:lnTo>
                  <a:lnTo>
                    <a:pt x="297180" y="675257"/>
                  </a:lnTo>
                  <a:lnTo>
                    <a:pt x="397700" y="670354"/>
                  </a:lnTo>
                  <a:lnTo>
                    <a:pt x="351421" y="645234"/>
                  </a:lnTo>
                  <a:cubicBezTo>
                    <a:pt x="257592" y="581844"/>
                    <a:pt x="195902" y="474495"/>
                    <a:pt x="195902" y="352738"/>
                  </a:cubicBezTo>
                  <a:cubicBezTo>
                    <a:pt x="195902" y="157926"/>
                    <a:pt x="353828" y="0"/>
                    <a:pt x="548640" y="0"/>
                  </a:cubicBezTo>
                  <a:close/>
                </a:path>
              </a:pathLst>
            </a:custGeom>
            <a:solidFill>
              <a:srgbClr val="f9b101"/>
            </a:solidFill>
            <a:ln w="28575">
              <a:solidFill>
                <a:srgbClr val="ffffff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8" name="组合 3"/>
          <p:cNvGrpSpPr/>
          <p:nvPr/>
        </p:nvGrpSpPr>
        <p:grpSpPr>
          <a:xfrm>
            <a:off x="311760" y="2755440"/>
            <a:ext cx="5706360" cy="3650400"/>
            <a:chOff x="311760" y="2755440"/>
            <a:chExt cx="5706360" cy="3650400"/>
          </a:xfrm>
        </p:grpSpPr>
        <p:pic>
          <p:nvPicPr>
            <p:cNvPr id="949" name="图片 1" descr=""/>
            <p:cNvPicPr/>
            <p:nvPr/>
          </p:nvPicPr>
          <p:blipFill>
            <a:blip r:embed="rId1"/>
            <a:stretch/>
          </p:blipFill>
          <p:spPr>
            <a:xfrm>
              <a:off x="311760" y="2755440"/>
              <a:ext cx="5706360" cy="365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0" name="图片 29" descr=""/>
            <p:cNvPicPr/>
            <p:nvPr/>
          </p:nvPicPr>
          <p:blipFill>
            <a:blip r:embed="rId2"/>
            <a:stretch/>
          </p:blipFill>
          <p:spPr>
            <a:xfrm>
              <a:off x="1228320" y="3303720"/>
              <a:ext cx="3774240" cy="2331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51" name="图片 17" descr=""/>
          <p:cNvPicPr/>
          <p:nvPr/>
        </p:nvPicPr>
        <p:blipFill>
          <a:blip r:embed="rId3"/>
          <a:srcRect l="0" t="48683" r="0" b="37886"/>
          <a:stretch/>
        </p:blipFill>
        <p:spPr>
          <a:xfrm>
            <a:off x="7966080" y="2612160"/>
            <a:ext cx="2971080" cy="3393720"/>
          </a:xfrm>
          <a:prstGeom prst="rect">
            <a:avLst/>
          </a:prstGeom>
          <a:ln w="0">
            <a:noFill/>
          </a:ln>
        </p:spPr>
      </p:pic>
      <p:grpSp>
        <p:nvGrpSpPr>
          <p:cNvPr id="952" name="组合 33"/>
          <p:cNvGrpSpPr/>
          <p:nvPr/>
        </p:nvGrpSpPr>
        <p:grpSpPr>
          <a:xfrm>
            <a:off x="6614280" y="4466520"/>
            <a:ext cx="2599920" cy="1554120"/>
            <a:chOff x="6614280" y="4466520"/>
            <a:chExt cx="2599920" cy="1554120"/>
          </a:xfrm>
        </p:grpSpPr>
        <p:pic>
          <p:nvPicPr>
            <p:cNvPr id="953" name="图片 32" descr=""/>
            <p:cNvPicPr/>
            <p:nvPr/>
          </p:nvPicPr>
          <p:blipFill>
            <a:blip r:embed="rId4"/>
            <a:stretch/>
          </p:blipFill>
          <p:spPr>
            <a:xfrm rot="5400000">
              <a:off x="7137000" y="3943440"/>
              <a:ext cx="1554120" cy="2599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4" name="图片 31" descr=""/>
            <p:cNvPicPr/>
            <p:nvPr/>
          </p:nvPicPr>
          <p:blipFill>
            <a:blip r:embed="rId5"/>
            <a:srcRect l="627" t="9006" r="22345" b="33670"/>
            <a:stretch/>
          </p:blipFill>
          <p:spPr>
            <a:xfrm>
              <a:off x="6931080" y="4591080"/>
              <a:ext cx="1958760" cy="1246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55" name="组合 92"/>
          <p:cNvGrpSpPr/>
          <p:nvPr/>
        </p:nvGrpSpPr>
        <p:grpSpPr>
          <a:xfrm>
            <a:off x="4797720" y="5668200"/>
            <a:ext cx="911520" cy="741240"/>
            <a:chOff x="4797720" y="5668200"/>
            <a:chExt cx="911520" cy="741240"/>
          </a:xfrm>
        </p:grpSpPr>
        <p:sp>
          <p:nvSpPr>
            <p:cNvPr id="956" name="圆角矩形 35"/>
            <p:cNvSpPr/>
            <p:nvPr/>
          </p:nvSpPr>
          <p:spPr>
            <a:xfrm rot="1860000">
              <a:off x="4848840" y="6120000"/>
              <a:ext cx="339480" cy="69120"/>
            </a:xfrm>
            <a:prstGeom prst="roundRect">
              <a:avLst>
                <a:gd name="adj" fmla="val 8196"/>
              </a:avLst>
            </a:prstGeom>
            <a:solidFill>
              <a:schemeClr val="bg1"/>
            </a:solidFill>
            <a:ln>
              <a:noFill/>
            </a:ln>
            <a:effectLst>
              <a:outerShdw algn="tr" blurRad="50760" dir="6722173" dist="114181" rotWithShape="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21240" bIns="212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35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grpSp>
          <p:nvGrpSpPr>
            <p:cNvPr id="957" name="组合 94"/>
            <p:cNvGrpSpPr/>
            <p:nvPr/>
          </p:nvGrpSpPr>
          <p:grpSpPr>
            <a:xfrm>
              <a:off x="4797720" y="5668200"/>
              <a:ext cx="911520" cy="741240"/>
              <a:chOff x="4797720" y="5668200"/>
              <a:chExt cx="911520" cy="741240"/>
            </a:xfrm>
          </p:grpSpPr>
          <p:grpSp>
            <p:nvGrpSpPr>
              <p:cNvPr id="958" name="组合 95"/>
              <p:cNvGrpSpPr/>
              <p:nvPr/>
            </p:nvGrpSpPr>
            <p:grpSpPr>
              <a:xfrm>
                <a:off x="4797720" y="5702040"/>
                <a:ext cx="911520" cy="707400"/>
                <a:chOff x="4797720" y="5702040"/>
                <a:chExt cx="911520" cy="707400"/>
              </a:xfrm>
            </p:grpSpPr>
            <p:sp>
              <p:nvSpPr>
                <p:cNvPr id="959" name="圆角矩形 41"/>
                <p:cNvSpPr/>
                <p:nvPr/>
              </p:nvSpPr>
              <p:spPr>
                <a:xfrm rot="2700000">
                  <a:off x="4785840" y="6131520"/>
                  <a:ext cx="432360" cy="145440"/>
                </a:xfrm>
                <a:prstGeom prst="roundRect">
                  <a:avLst>
                    <a:gd name="adj" fmla="val 8196"/>
                  </a:avLst>
                </a:prstGeom>
                <a:solidFill>
                  <a:srgbClr val="404040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35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960" name="圆角矩形 42"/>
                <p:cNvSpPr/>
                <p:nvPr/>
              </p:nvSpPr>
              <p:spPr>
                <a:xfrm flipH="1" rot="18900000">
                  <a:off x="4928040" y="5982840"/>
                  <a:ext cx="854640" cy="145440"/>
                </a:xfrm>
                <a:prstGeom prst="roundRect">
                  <a:avLst>
                    <a:gd name="adj" fmla="val 8196"/>
                  </a:avLst>
                </a:prstGeom>
                <a:solidFill>
                  <a:srgbClr val="404040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35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961" name="组合 101"/>
              <p:cNvGrpSpPr/>
              <p:nvPr/>
            </p:nvGrpSpPr>
            <p:grpSpPr>
              <a:xfrm>
                <a:off x="4797720" y="5668200"/>
                <a:ext cx="911520" cy="707400"/>
                <a:chOff x="4797720" y="5668200"/>
                <a:chExt cx="911520" cy="707400"/>
              </a:xfrm>
            </p:grpSpPr>
            <p:sp>
              <p:nvSpPr>
                <p:cNvPr id="962" name="圆角矩形 39"/>
                <p:cNvSpPr/>
                <p:nvPr/>
              </p:nvSpPr>
              <p:spPr>
                <a:xfrm rot="2700000">
                  <a:off x="4785840" y="6097680"/>
                  <a:ext cx="432360" cy="145440"/>
                </a:xfrm>
                <a:prstGeom prst="roundRect">
                  <a:avLst>
                    <a:gd name="adj" fmla="val 8196"/>
                  </a:avLst>
                </a:prstGeom>
                <a:solidFill>
                  <a:srgbClr val="f9b101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350" spc="-1" strike="noStrike">
                    <a:solidFill>
                      <a:srgbClr val="43d2a2"/>
                    </a:solidFill>
                    <a:latin typeface="Calibri"/>
                  </a:endParaRPr>
                </a:p>
              </p:txBody>
            </p:sp>
            <p:sp>
              <p:nvSpPr>
                <p:cNvPr id="963" name="圆角矩形 40"/>
                <p:cNvSpPr/>
                <p:nvPr/>
              </p:nvSpPr>
              <p:spPr>
                <a:xfrm flipH="1" rot="18900000">
                  <a:off x="4928040" y="5949000"/>
                  <a:ext cx="854640" cy="145440"/>
                </a:xfrm>
                <a:prstGeom prst="roundRect">
                  <a:avLst>
                    <a:gd name="adj" fmla="val 8196"/>
                  </a:avLst>
                </a:prstGeom>
                <a:solidFill>
                  <a:srgbClr val="f9b101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350" spc="-1" strike="noStrike">
                    <a:solidFill>
                      <a:srgbClr val="ffef03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964" name="组合 36"/>
          <p:cNvGrpSpPr/>
          <p:nvPr/>
        </p:nvGrpSpPr>
        <p:grpSpPr>
          <a:xfrm>
            <a:off x="10470960" y="5663520"/>
            <a:ext cx="723600" cy="726480"/>
            <a:chOff x="10470960" y="5663520"/>
            <a:chExt cx="723600" cy="726480"/>
          </a:xfrm>
        </p:grpSpPr>
        <p:sp>
          <p:nvSpPr>
            <p:cNvPr id="965" name="圆角矩形 44"/>
            <p:cNvSpPr/>
            <p:nvPr/>
          </p:nvSpPr>
          <p:spPr>
            <a:xfrm rot="7791600">
              <a:off x="10816560" y="5806800"/>
              <a:ext cx="337680" cy="69120"/>
            </a:xfrm>
            <a:prstGeom prst="roundRect">
              <a:avLst>
                <a:gd name="adj" fmla="val 8196"/>
              </a:avLst>
            </a:prstGeom>
            <a:solidFill>
              <a:schemeClr val="bg1"/>
            </a:solidFill>
            <a:ln>
              <a:noFill/>
            </a:ln>
            <a:effectLst>
              <a:outerShdw algn="br" blurRad="50760" dir="13500000" dist="37674" rotWithShape="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21240" bIns="212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35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66" name="圆角矩形 45"/>
            <p:cNvSpPr/>
            <p:nvPr/>
          </p:nvSpPr>
          <p:spPr>
            <a:xfrm rot="2467200">
              <a:off x="10527120" y="5797080"/>
              <a:ext cx="339480" cy="67320"/>
            </a:xfrm>
            <a:prstGeom prst="roundRect">
              <a:avLst>
                <a:gd name="adj" fmla="val 8196"/>
              </a:avLst>
            </a:prstGeom>
            <a:solidFill>
              <a:schemeClr val="bg1"/>
            </a:solidFill>
            <a:ln>
              <a:noFill/>
            </a:ln>
            <a:effectLst>
              <a:outerShdw algn="tr" blurRad="50760" dir="6722173" dist="114181" rotWithShape="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19440" bIns="194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35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grpSp>
          <p:nvGrpSpPr>
            <p:cNvPr id="967" name="组合 34"/>
            <p:cNvGrpSpPr/>
            <p:nvPr/>
          </p:nvGrpSpPr>
          <p:grpSpPr>
            <a:xfrm>
              <a:off x="10474560" y="5682960"/>
              <a:ext cx="720000" cy="707040"/>
              <a:chOff x="10474560" y="5682960"/>
              <a:chExt cx="720000" cy="707040"/>
            </a:xfrm>
          </p:grpSpPr>
          <p:sp>
            <p:nvSpPr>
              <p:cNvPr id="968" name="圆角矩形 50"/>
              <p:cNvSpPr/>
              <p:nvPr/>
            </p:nvSpPr>
            <p:spPr>
              <a:xfrm rot="2700000">
                <a:off x="10416960" y="5962680"/>
                <a:ext cx="850680" cy="145440"/>
              </a:xfrm>
              <a:prstGeom prst="roundRect">
                <a:avLst>
                  <a:gd name="adj" fmla="val 8196"/>
                </a:avLst>
              </a:prstGeom>
              <a:solidFill>
                <a:schemeClr val="tx1">
                  <a:lumMod val="75000"/>
                  <a:lumOff val="2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35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969" name="圆角矩形 51"/>
              <p:cNvSpPr/>
              <p:nvPr/>
            </p:nvSpPr>
            <p:spPr>
              <a:xfrm flipH="1" rot="18900000">
                <a:off x="10400400" y="5963760"/>
                <a:ext cx="854640" cy="145080"/>
              </a:xfrm>
              <a:prstGeom prst="roundRect">
                <a:avLst>
                  <a:gd name="adj" fmla="val 8196"/>
                </a:avLst>
              </a:prstGeom>
              <a:solidFill>
                <a:srgbClr val="404040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35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grpSp>
          <p:nvGrpSpPr>
            <p:cNvPr id="970" name="组合 35"/>
            <p:cNvGrpSpPr/>
            <p:nvPr/>
          </p:nvGrpSpPr>
          <p:grpSpPr>
            <a:xfrm>
              <a:off x="10470960" y="5663520"/>
              <a:ext cx="723600" cy="705600"/>
              <a:chOff x="10470960" y="5663520"/>
              <a:chExt cx="723600" cy="705600"/>
            </a:xfrm>
          </p:grpSpPr>
          <p:sp>
            <p:nvSpPr>
              <p:cNvPr id="971" name="圆角矩形 48"/>
              <p:cNvSpPr/>
              <p:nvPr/>
            </p:nvSpPr>
            <p:spPr>
              <a:xfrm rot="2700000">
                <a:off x="10416960" y="5943240"/>
                <a:ext cx="850680" cy="145440"/>
              </a:xfrm>
              <a:prstGeom prst="roundRect">
                <a:avLst>
                  <a:gd name="adj" fmla="val 8196"/>
                </a:avLst>
              </a:prstGeom>
              <a:solidFill>
                <a:srgbClr val="f9b10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35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972" name="圆角矩形 49"/>
              <p:cNvSpPr/>
              <p:nvPr/>
            </p:nvSpPr>
            <p:spPr>
              <a:xfrm flipH="1" rot="18900000">
                <a:off x="10393560" y="5947200"/>
                <a:ext cx="860040" cy="137880"/>
              </a:xfrm>
              <a:prstGeom prst="roundRect">
                <a:avLst>
                  <a:gd name="adj" fmla="val 8196"/>
                </a:avLst>
              </a:prstGeom>
              <a:solidFill>
                <a:srgbClr val="f9b10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35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</p:grpSp>
      <p:sp>
        <p:nvSpPr>
          <p:cNvPr id="973" name="文本框 27"/>
          <p:cNvSpPr/>
          <p:nvPr/>
        </p:nvSpPr>
        <p:spPr>
          <a:xfrm>
            <a:off x="2563200" y="76320"/>
            <a:ext cx="706536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50000"/>
              </a:lnSpc>
            </a:pPr>
            <a:r>
              <a:rPr b="1" lang="zh-CN" sz="3600" spc="-1" strike="noStrike">
                <a:solidFill>
                  <a:srgbClr val="ffffff"/>
                </a:solidFill>
                <a:latin typeface="Noto Sans S Chinese Bold"/>
                <a:ea typeface="Noto Sans S Chinese Bold"/>
              </a:rPr>
              <a:t>体验为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文本框 28"/>
          <p:cNvSpPr/>
          <p:nvPr/>
        </p:nvSpPr>
        <p:spPr>
          <a:xfrm>
            <a:off x="4450680" y="1385640"/>
            <a:ext cx="329004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50000"/>
              </a:lnSpc>
            </a:pPr>
            <a:r>
              <a:rPr b="0" lang="zh-CN" sz="2400" spc="-1" strike="noStrike">
                <a:solidFill>
                  <a:srgbClr val="000000"/>
                </a:solidFill>
                <a:latin typeface="Noto Sans S Chinese Light"/>
                <a:ea typeface="Noto Sans S Chinese Light"/>
              </a:rPr>
              <a:t>用户体验是一种心理感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</a:pPr>
            <a:r>
              <a:rPr b="0" lang="zh-CN" sz="2400" spc="-1" strike="noStrike">
                <a:solidFill>
                  <a:srgbClr val="000000"/>
                </a:solidFill>
                <a:latin typeface="Noto Sans S Chinese Light"/>
                <a:ea typeface="Noto Sans S Chinese Light"/>
              </a:rPr>
              <a:t>必须要超出用户预期，才容易形成口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文本框 27"/>
          <p:cNvSpPr/>
          <p:nvPr/>
        </p:nvSpPr>
        <p:spPr>
          <a:xfrm>
            <a:off x="2563200" y="76320"/>
            <a:ext cx="706536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50000"/>
              </a:lnSpc>
            </a:pPr>
            <a:r>
              <a:rPr b="1" lang="zh-CN" sz="3600" spc="-1" strike="noStrike">
                <a:solidFill>
                  <a:srgbClr val="ffffff"/>
                </a:solidFill>
                <a:latin typeface="Noto Sans S Chinese Bold"/>
                <a:ea typeface="Noto Sans S Chinese Bold"/>
              </a:rPr>
              <a:t>免费的商业模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文本框 20"/>
          <p:cNvSpPr/>
          <p:nvPr/>
        </p:nvSpPr>
        <p:spPr>
          <a:xfrm>
            <a:off x="3902040" y="1327680"/>
            <a:ext cx="438732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50000"/>
              </a:lnSpc>
            </a:pPr>
            <a:r>
              <a:rPr b="0" lang="zh-CN" sz="2400" spc="-1" strike="noStrike">
                <a:solidFill>
                  <a:srgbClr val="000000"/>
                </a:solidFill>
                <a:latin typeface="Noto Sans S Chinese Light"/>
                <a:ea typeface="Noto Sans S Chinese Light"/>
              </a:rPr>
              <a:t>互联网重要精神</a:t>
            </a:r>
            <a:r>
              <a:rPr b="0" lang="en-US" sz="2400" spc="-1" strike="noStrike">
                <a:solidFill>
                  <a:srgbClr val="000000"/>
                </a:solidFill>
                <a:latin typeface="Noto Sans S Chinese Light"/>
                <a:ea typeface="Noto Sans S Chinese Light"/>
              </a:rPr>
              <a:t>——</a:t>
            </a:r>
            <a:r>
              <a:rPr b="0" lang="en-US" sz="2400" spc="-1" strike="noStrike">
                <a:solidFill>
                  <a:srgbClr val="000000"/>
                </a:solidFill>
                <a:latin typeface="Noto Sans S Chinese Light"/>
                <a:ea typeface="Noto Sans S Chinese Light"/>
              </a:rPr>
              <a:t>f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</a:pPr>
            <a:r>
              <a:rPr b="0" lang="zh-CN" sz="2400" spc="-1" strike="noStrike">
                <a:solidFill>
                  <a:srgbClr val="000000"/>
                </a:solidFill>
                <a:latin typeface="Noto Sans S Chinese Light"/>
                <a:ea typeface="Noto Sans S Chinese Light"/>
              </a:rPr>
              <a:t>获得大量市场份额，带来用户群、带来知名度与价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7" name="组合 57"/>
          <p:cNvGrpSpPr/>
          <p:nvPr/>
        </p:nvGrpSpPr>
        <p:grpSpPr>
          <a:xfrm>
            <a:off x="2443320" y="2920320"/>
            <a:ext cx="2557080" cy="957960"/>
            <a:chOff x="2443320" y="2920320"/>
            <a:chExt cx="2557080" cy="957960"/>
          </a:xfrm>
        </p:grpSpPr>
        <p:sp>
          <p:nvSpPr>
            <p:cNvPr id="978" name="任意多边形 58"/>
            <p:cNvSpPr/>
            <p:nvPr/>
          </p:nvSpPr>
          <p:spPr>
            <a:xfrm>
              <a:off x="2443320" y="2920320"/>
              <a:ext cx="2557080" cy="957960"/>
            </a:xfrm>
            <a:custGeom>
              <a:avLst/>
              <a:gdLst>
                <a:gd name="textAreaLeft" fmla="*/ 0 w 2557080"/>
                <a:gd name="textAreaRight" fmla="*/ 2557440 w 2557080"/>
                <a:gd name="textAreaTop" fmla="*/ 0 h 957960"/>
                <a:gd name="textAreaBottom" fmla="*/ 958320 h 957960"/>
              </a:gdLst>
              <a:ahLst/>
              <a:rect l="textAreaLeft" t="textAreaTop" r="textAreaRight" b="textAreaBottom"/>
              <a:pathLst>
                <a:path w="3409950" h="1277898">
                  <a:moveTo>
                    <a:pt x="0" y="0"/>
                  </a:moveTo>
                  <a:lnTo>
                    <a:pt x="3409950" y="0"/>
                  </a:lnTo>
                  <a:lnTo>
                    <a:pt x="3409950" y="34302"/>
                  </a:lnTo>
                  <a:lnTo>
                    <a:pt x="3406652" y="34967"/>
                  </a:lnTo>
                  <a:cubicBezTo>
                    <a:pt x="3385601" y="43872"/>
                    <a:pt x="3370829" y="64717"/>
                    <a:pt x="3370829" y="89012"/>
                  </a:cubicBezTo>
                  <a:cubicBezTo>
                    <a:pt x="3370829" y="113308"/>
                    <a:pt x="3385601" y="134153"/>
                    <a:pt x="3406652" y="143057"/>
                  </a:cubicBezTo>
                  <a:lnTo>
                    <a:pt x="3409950" y="143723"/>
                  </a:lnTo>
                  <a:lnTo>
                    <a:pt x="3409950" y="180187"/>
                  </a:lnTo>
                  <a:lnTo>
                    <a:pt x="3406652" y="180852"/>
                  </a:lnTo>
                  <a:cubicBezTo>
                    <a:pt x="3385601" y="189757"/>
                    <a:pt x="3370829" y="210602"/>
                    <a:pt x="3370829" y="234897"/>
                  </a:cubicBezTo>
                  <a:cubicBezTo>
                    <a:pt x="3370829" y="259193"/>
                    <a:pt x="3385601" y="280038"/>
                    <a:pt x="3406652" y="288942"/>
                  </a:cubicBezTo>
                  <a:lnTo>
                    <a:pt x="3409950" y="289608"/>
                  </a:lnTo>
                  <a:lnTo>
                    <a:pt x="3409950" y="335606"/>
                  </a:lnTo>
                  <a:lnTo>
                    <a:pt x="3406652" y="336272"/>
                  </a:lnTo>
                  <a:cubicBezTo>
                    <a:pt x="3385601" y="345176"/>
                    <a:pt x="3370829" y="366021"/>
                    <a:pt x="3370829" y="390316"/>
                  </a:cubicBezTo>
                  <a:cubicBezTo>
                    <a:pt x="3370829" y="414612"/>
                    <a:pt x="3385601" y="435457"/>
                    <a:pt x="3406652" y="444361"/>
                  </a:cubicBezTo>
                  <a:lnTo>
                    <a:pt x="3409950" y="445027"/>
                  </a:lnTo>
                  <a:lnTo>
                    <a:pt x="3409950" y="480406"/>
                  </a:lnTo>
                  <a:lnTo>
                    <a:pt x="3394571" y="490775"/>
                  </a:lnTo>
                  <a:cubicBezTo>
                    <a:pt x="3356650" y="528696"/>
                    <a:pt x="3333195" y="581084"/>
                    <a:pt x="3333195" y="638949"/>
                  </a:cubicBezTo>
                  <a:cubicBezTo>
                    <a:pt x="3333195" y="696815"/>
                    <a:pt x="3356650" y="749202"/>
                    <a:pt x="3394571" y="787123"/>
                  </a:cubicBezTo>
                  <a:lnTo>
                    <a:pt x="3409950" y="797492"/>
                  </a:lnTo>
                  <a:lnTo>
                    <a:pt x="3409950" y="830211"/>
                  </a:lnTo>
                  <a:lnTo>
                    <a:pt x="3406652" y="830877"/>
                  </a:lnTo>
                  <a:cubicBezTo>
                    <a:pt x="3385601" y="839781"/>
                    <a:pt x="3370829" y="860626"/>
                    <a:pt x="3370829" y="884921"/>
                  </a:cubicBezTo>
                  <a:cubicBezTo>
                    <a:pt x="3370829" y="909217"/>
                    <a:pt x="3385601" y="930062"/>
                    <a:pt x="3406652" y="938966"/>
                  </a:cubicBezTo>
                  <a:lnTo>
                    <a:pt x="3409950" y="939632"/>
                  </a:lnTo>
                  <a:lnTo>
                    <a:pt x="3409950" y="976096"/>
                  </a:lnTo>
                  <a:lnTo>
                    <a:pt x="3406652" y="976762"/>
                  </a:lnTo>
                  <a:cubicBezTo>
                    <a:pt x="3385601" y="985666"/>
                    <a:pt x="3370829" y="1006511"/>
                    <a:pt x="3370829" y="1030806"/>
                  </a:cubicBezTo>
                  <a:cubicBezTo>
                    <a:pt x="3370829" y="1055102"/>
                    <a:pt x="3385601" y="1075947"/>
                    <a:pt x="3406652" y="1084851"/>
                  </a:cubicBezTo>
                  <a:lnTo>
                    <a:pt x="3409950" y="1085517"/>
                  </a:lnTo>
                  <a:lnTo>
                    <a:pt x="3409950" y="1131515"/>
                  </a:lnTo>
                  <a:lnTo>
                    <a:pt x="3406652" y="1132181"/>
                  </a:lnTo>
                  <a:cubicBezTo>
                    <a:pt x="3385601" y="1141085"/>
                    <a:pt x="3370829" y="1161930"/>
                    <a:pt x="3370829" y="1186225"/>
                  </a:cubicBezTo>
                  <a:cubicBezTo>
                    <a:pt x="3370829" y="1210521"/>
                    <a:pt x="3385601" y="1231366"/>
                    <a:pt x="3406652" y="1240270"/>
                  </a:cubicBezTo>
                  <a:lnTo>
                    <a:pt x="3409950" y="1240936"/>
                  </a:lnTo>
                  <a:lnTo>
                    <a:pt x="3409950" y="1277898"/>
                  </a:lnTo>
                  <a:lnTo>
                    <a:pt x="0" y="1277898"/>
                  </a:lnTo>
                  <a:lnTo>
                    <a:pt x="0" y="1236295"/>
                  </a:lnTo>
                  <a:lnTo>
                    <a:pt x="12750" y="1227699"/>
                  </a:lnTo>
                  <a:cubicBezTo>
                    <a:pt x="23364" y="1217085"/>
                    <a:pt x="29929" y="1202421"/>
                    <a:pt x="29929" y="1186224"/>
                  </a:cubicBezTo>
                  <a:cubicBezTo>
                    <a:pt x="29929" y="1170027"/>
                    <a:pt x="23364" y="1155364"/>
                    <a:pt x="12750" y="1144749"/>
                  </a:cubicBezTo>
                  <a:lnTo>
                    <a:pt x="0" y="1136153"/>
                  </a:lnTo>
                  <a:lnTo>
                    <a:pt x="0" y="1080876"/>
                  </a:lnTo>
                  <a:lnTo>
                    <a:pt x="12750" y="1072280"/>
                  </a:lnTo>
                  <a:cubicBezTo>
                    <a:pt x="23364" y="1061666"/>
                    <a:pt x="29929" y="1047002"/>
                    <a:pt x="29929" y="1030805"/>
                  </a:cubicBezTo>
                  <a:cubicBezTo>
                    <a:pt x="29929" y="1014608"/>
                    <a:pt x="23364" y="999945"/>
                    <a:pt x="12750" y="989330"/>
                  </a:cubicBezTo>
                  <a:lnTo>
                    <a:pt x="0" y="980734"/>
                  </a:lnTo>
                  <a:lnTo>
                    <a:pt x="0" y="934991"/>
                  </a:lnTo>
                  <a:lnTo>
                    <a:pt x="12750" y="926395"/>
                  </a:lnTo>
                  <a:cubicBezTo>
                    <a:pt x="23364" y="915781"/>
                    <a:pt x="29929" y="901117"/>
                    <a:pt x="29929" y="884920"/>
                  </a:cubicBezTo>
                  <a:cubicBezTo>
                    <a:pt x="29929" y="868723"/>
                    <a:pt x="23364" y="854060"/>
                    <a:pt x="12750" y="843446"/>
                  </a:cubicBezTo>
                  <a:lnTo>
                    <a:pt x="0" y="834849"/>
                  </a:lnTo>
                  <a:lnTo>
                    <a:pt x="0" y="797118"/>
                  </a:lnTo>
                  <a:lnTo>
                    <a:pt x="14824" y="787123"/>
                  </a:lnTo>
                  <a:cubicBezTo>
                    <a:pt x="52745" y="749202"/>
                    <a:pt x="76200" y="696815"/>
                    <a:pt x="76200" y="638949"/>
                  </a:cubicBezTo>
                  <a:cubicBezTo>
                    <a:pt x="76200" y="581084"/>
                    <a:pt x="52745" y="528696"/>
                    <a:pt x="14824" y="490775"/>
                  </a:cubicBezTo>
                  <a:lnTo>
                    <a:pt x="0" y="480780"/>
                  </a:lnTo>
                  <a:lnTo>
                    <a:pt x="0" y="440386"/>
                  </a:lnTo>
                  <a:lnTo>
                    <a:pt x="12750" y="431790"/>
                  </a:lnTo>
                  <a:cubicBezTo>
                    <a:pt x="23364" y="421176"/>
                    <a:pt x="29929" y="406512"/>
                    <a:pt x="29929" y="390315"/>
                  </a:cubicBezTo>
                  <a:cubicBezTo>
                    <a:pt x="29929" y="374118"/>
                    <a:pt x="23364" y="359455"/>
                    <a:pt x="12750" y="348841"/>
                  </a:cubicBezTo>
                  <a:lnTo>
                    <a:pt x="0" y="340244"/>
                  </a:lnTo>
                  <a:lnTo>
                    <a:pt x="0" y="284967"/>
                  </a:lnTo>
                  <a:lnTo>
                    <a:pt x="12750" y="276371"/>
                  </a:lnTo>
                  <a:cubicBezTo>
                    <a:pt x="23364" y="265757"/>
                    <a:pt x="29929" y="251093"/>
                    <a:pt x="29929" y="234896"/>
                  </a:cubicBezTo>
                  <a:cubicBezTo>
                    <a:pt x="29929" y="218699"/>
                    <a:pt x="23364" y="204036"/>
                    <a:pt x="12750" y="193421"/>
                  </a:cubicBezTo>
                  <a:lnTo>
                    <a:pt x="0" y="184825"/>
                  </a:lnTo>
                  <a:lnTo>
                    <a:pt x="0" y="139082"/>
                  </a:lnTo>
                  <a:lnTo>
                    <a:pt x="12750" y="130486"/>
                  </a:lnTo>
                  <a:cubicBezTo>
                    <a:pt x="23364" y="119872"/>
                    <a:pt x="29929" y="105208"/>
                    <a:pt x="29929" y="89011"/>
                  </a:cubicBezTo>
                  <a:cubicBezTo>
                    <a:pt x="29929" y="72814"/>
                    <a:pt x="23364" y="58151"/>
                    <a:pt x="12750" y="47536"/>
                  </a:cubicBezTo>
                  <a:lnTo>
                    <a:pt x="0" y="38940"/>
                  </a:lnTo>
                  <a:close/>
                </a:path>
              </a:pathLst>
            </a:custGeom>
            <a:solidFill>
              <a:srgbClr val="262626"/>
            </a:solidFill>
            <a:ln>
              <a:solidFill>
                <a:srgbClr val="f9b91c"/>
              </a:solidFill>
            </a:ln>
            <a:effectLst>
              <a:outerShdw algn="tl" blurRad="50760" dir="2700000" dist="37674" rotWithShape="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35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79" name="矩形 59"/>
            <p:cNvSpPr/>
            <p:nvPr/>
          </p:nvSpPr>
          <p:spPr>
            <a:xfrm>
              <a:off x="2567160" y="2963160"/>
              <a:ext cx="2328480" cy="863640"/>
            </a:xfrm>
            <a:prstGeom prst="rect">
              <a:avLst/>
            </a:prstGeom>
            <a:noFill/>
            <a:ln w="3175">
              <a:solidFill>
                <a:srgbClr val="f9b91c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35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980" name="组合 60"/>
          <p:cNvGrpSpPr/>
          <p:nvPr/>
        </p:nvGrpSpPr>
        <p:grpSpPr>
          <a:xfrm>
            <a:off x="2443320" y="4226760"/>
            <a:ext cx="2557080" cy="957960"/>
            <a:chOff x="2443320" y="4226760"/>
            <a:chExt cx="2557080" cy="957960"/>
          </a:xfrm>
        </p:grpSpPr>
        <p:sp>
          <p:nvSpPr>
            <p:cNvPr id="981" name="任意多边形 61"/>
            <p:cNvSpPr/>
            <p:nvPr/>
          </p:nvSpPr>
          <p:spPr>
            <a:xfrm>
              <a:off x="2443320" y="4226760"/>
              <a:ext cx="2557080" cy="957960"/>
            </a:xfrm>
            <a:custGeom>
              <a:avLst/>
              <a:gdLst>
                <a:gd name="textAreaLeft" fmla="*/ 0 w 2557080"/>
                <a:gd name="textAreaRight" fmla="*/ 2557440 w 2557080"/>
                <a:gd name="textAreaTop" fmla="*/ 0 h 957960"/>
                <a:gd name="textAreaBottom" fmla="*/ 958320 h 957960"/>
              </a:gdLst>
              <a:ahLst/>
              <a:rect l="textAreaLeft" t="textAreaTop" r="textAreaRight" b="textAreaBottom"/>
              <a:pathLst>
                <a:path w="3409950" h="1277898">
                  <a:moveTo>
                    <a:pt x="0" y="0"/>
                  </a:moveTo>
                  <a:lnTo>
                    <a:pt x="3409950" y="0"/>
                  </a:lnTo>
                  <a:lnTo>
                    <a:pt x="3409950" y="34302"/>
                  </a:lnTo>
                  <a:lnTo>
                    <a:pt x="3406652" y="34967"/>
                  </a:lnTo>
                  <a:cubicBezTo>
                    <a:pt x="3385601" y="43872"/>
                    <a:pt x="3370829" y="64717"/>
                    <a:pt x="3370829" y="89012"/>
                  </a:cubicBezTo>
                  <a:cubicBezTo>
                    <a:pt x="3370829" y="113308"/>
                    <a:pt x="3385601" y="134153"/>
                    <a:pt x="3406652" y="143057"/>
                  </a:cubicBezTo>
                  <a:lnTo>
                    <a:pt x="3409950" y="143723"/>
                  </a:lnTo>
                  <a:lnTo>
                    <a:pt x="3409950" y="180187"/>
                  </a:lnTo>
                  <a:lnTo>
                    <a:pt x="3406652" y="180852"/>
                  </a:lnTo>
                  <a:cubicBezTo>
                    <a:pt x="3385601" y="189757"/>
                    <a:pt x="3370829" y="210602"/>
                    <a:pt x="3370829" y="234897"/>
                  </a:cubicBezTo>
                  <a:cubicBezTo>
                    <a:pt x="3370829" y="259193"/>
                    <a:pt x="3385601" y="280038"/>
                    <a:pt x="3406652" y="288942"/>
                  </a:cubicBezTo>
                  <a:lnTo>
                    <a:pt x="3409950" y="289608"/>
                  </a:lnTo>
                  <a:lnTo>
                    <a:pt x="3409950" y="335606"/>
                  </a:lnTo>
                  <a:lnTo>
                    <a:pt x="3406652" y="336272"/>
                  </a:lnTo>
                  <a:cubicBezTo>
                    <a:pt x="3385601" y="345176"/>
                    <a:pt x="3370829" y="366021"/>
                    <a:pt x="3370829" y="390316"/>
                  </a:cubicBezTo>
                  <a:cubicBezTo>
                    <a:pt x="3370829" y="414612"/>
                    <a:pt x="3385601" y="435457"/>
                    <a:pt x="3406652" y="444361"/>
                  </a:cubicBezTo>
                  <a:lnTo>
                    <a:pt x="3409950" y="445027"/>
                  </a:lnTo>
                  <a:lnTo>
                    <a:pt x="3409950" y="480406"/>
                  </a:lnTo>
                  <a:lnTo>
                    <a:pt x="3394571" y="490775"/>
                  </a:lnTo>
                  <a:cubicBezTo>
                    <a:pt x="3356650" y="528696"/>
                    <a:pt x="3333195" y="581084"/>
                    <a:pt x="3333195" y="638949"/>
                  </a:cubicBezTo>
                  <a:cubicBezTo>
                    <a:pt x="3333195" y="696815"/>
                    <a:pt x="3356650" y="749202"/>
                    <a:pt x="3394571" y="787123"/>
                  </a:cubicBezTo>
                  <a:lnTo>
                    <a:pt x="3409950" y="797492"/>
                  </a:lnTo>
                  <a:lnTo>
                    <a:pt x="3409950" y="830211"/>
                  </a:lnTo>
                  <a:lnTo>
                    <a:pt x="3406652" y="830877"/>
                  </a:lnTo>
                  <a:cubicBezTo>
                    <a:pt x="3385601" y="839781"/>
                    <a:pt x="3370829" y="860626"/>
                    <a:pt x="3370829" y="884921"/>
                  </a:cubicBezTo>
                  <a:cubicBezTo>
                    <a:pt x="3370829" y="909217"/>
                    <a:pt x="3385601" y="930062"/>
                    <a:pt x="3406652" y="938966"/>
                  </a:cubicBezTo>
                  <a:lnTo>
                    <a:pt x="3409950" y="939632"/>
                  </a:lnTo>
                  <a:lnTo>
                    <a:pt x="3409950" y="976096"/>
                  </a:lnTo>
                  <a:lnTo>
                    <a:pt x="3406652" y="976762"/>
                  </a:lnTo>
                  <a:cubicBezTo>
                    <a:pt x="3385601" y="985666"/>
                    <a:pt x="3370829" y="1006511"/>
                    <a:pt x="3370829" y="1030806"/>
                  </a:cubicBezTo>
                  <a:cubicBezTo>
                    <a:pt x="3370829" y="1055102"/>
                    <a:pt x="3385601" y="1075947"/>
                    <a:pt x="3406652" y="1084851"/>
                  </a:cubicBezTo>
                  <a:lnTo>
                    <a:pt x="3409950" y="1085517"/>
                  </a:lnTo>
                  <a:lnTo>
                    <a:pt x="3409950" y="1131515"/>
                  </a:lnTo>
                  <a:lnTo>
                    <a:pt x="3406652" y="1132181"/>
                  </a:lnTo>
                  <a:cubicBezTo>
                    <a:pt x="3385601" y="1141085"/>
                    <a:pt x="3370829" y="1161930"/>
                    <a:pt x="3370829" y="1186225"/>
                  </a:cubicBezTo>
                  <a:cubicBezTo>
                    <a:pt x="3370829" y="1210521"/>
                    <a:pt x="3385601" y="1231366"/>
                    <a:pt x="3406652" y="1240270"/>
                  </a:cubicBezTo>
                  <a:lnTo>
                    <a:pt x="3409950" y="1240936"/>
                  </a:lnTo>
                  <a:lnTo>
                    <a:pt x="3409950" y="1277898"/>
                  </a:lnTo>
                  <a:lnTo>
                    <a:pt x="0" y="1277898"/>
                  </a:lnTo>
                  <a:lnTo>
                    <a:pt x="0" y="1236295"/>
                  </a:lnTo>
                  <a:lnTo>
                    <a:pt x="12750" y="1227699"/>
                  </a:lnTo>
                  <a:cubicBezTo>
                    <a:pt x="23364" y="1217085"/>
                    <a:pt x="29929" y="1202421"/>
                    <a:pt x="29929" y="1186224"/>
                  </a:cubicBezTo>
                  <a:cubicBezTo>
                    <a:pt x="29929" y="1170027"/>
                    <a:pt x="23364" y="1155364"/>
                    <a:pt x="12750" y="1144749"/>
                  </a:cubicBezTo>
                  <a:lnTo>
                    <a:pt x="0" y="1136153"/>
                  </a:lnTo>
                  <a:lnTo>
                    <a:pt x="0" y="1080876"/>
                  </a:lnTo>
                  <a:lnTo>
                    <a:pt x="12750" y="1072280"/>
                  </a:lnTo>
                  <a:cubicBezTo>
                    <a:pt x="23364" y="1061666"/>
                    <a:pt x="29929" y="1047002"/>
                    <a:pt x="29929" y="1030805"/>
                  </a:cubicBezTo>
                  <a:cubicBezTo>
                    <a:pt x="29929" y="1014608"/>
                    <a:pt x="23364" y="999945"/>
                    <a:pt x="12750" y="989330"/>
                  </a:cubicBezTo>
                  <a:lnTo>
                    <a:pt x="0" y="980734"/>
                  </a:lnTo>
                  <a:lnTo>
                    <a:pt x="0" y="934991"/>
                  </a:lnTo>
                  <a:lnTo>
                    <a:pt x="12750" y="926395"/>
                  </a:lnTo>
                  <a:cubicBezTo>
                    <a:pt x="23364" y="915781"/>
                    <a:pt x="29929" y="901117"/>
                    <a:pt x="29929" y="884920"/>
                  </a:cubicBezTo>
                  <a:cubicBezTo>
                    <a:pt x="29929" y="868723"/>
                    <a:pt x="23364" y="854060"/>
                    <a:pt x="12750" y="843446"/>
                  </a:cubicBezTo>
                  <a:lnTo>
                    <a:pt x="0" y="834849"/>
                  </a:lnTo>
                  <a:lnTo>
                    <a:pt x="0" y="797118"/>
                  </a:lnTo>
                  <a:lnTo>
                    <a:pt x="14824" y="787123"/>
                  </a:lnTo>
                  <a:cubicBezTo>
                    <a:pt x="52745" y="749202"/>
                    <a:pt x="76200" y="696815"/>
                    <a:pt x="76200" y="638949"/>
                  </a:cubicBezTo>
                  <a:cubicBezTo>
                    <a:pt x="76200" y="581084"/>
                    <a:pt x="52745" y="528696"/>
                    <a:pt x="14824" y="490775"/>
                  </a:cubicBezTo>
                  <a:lnTo>
                    <a:pt x="0" y="480780"/>
                  </a:lnTo>
                  <a:lnTo>
                    <a:pt x="0" y="440386"/>
                  </a:lnTo>
                  <a:lnTo>
                    <a:pt x="12750" y="431790"/>
                  </a:lnTo>
                  <a:cubicBezTo>
                    <a:pt x="23364" y="421176"/>
                    <a:pt x="29929" y="406512"/>
                    <a:pt x="29929" y="390315"/>
                  </a:cubicBezTo>
                  <a:cubicBezTo>
                    <a:pt x="29929" y="374118"/>
                    <a:pt x="23364" y="359455"/>
                    <a:pt x="12750" y="348841"/>
                  </a:cubicBezTo>
                  <a:lnTo>
                    <a:pt x="0" y="340244"/>
                  </a:lnTo>
                  <a:lnTo>
                    <a:pt x="0" y="284967"/>
                  </a:lnTo>
                  <a:lnTo>
                    <a:pt x="12750" y="276371"/>
                  </a:lnTo>
                  <a:cubicBezTo>
                    <a:pt x="23364" y="265757"/>
                    <a:pt x="29929" y="251093"/>
                    <a:pt x="29929" y="234896"/>
                  </a:cubicBezTo>
                  <a:cubicBezTo>
                    <a:pt x="29929" y="218699"/>
                    <a:pt x="23364" y="204036"/>
                    <a:pt x="12750" y="193421"/>
                  </a:cubicBezTo>
                  <a:lnTo>
                    <a:pt x="0" y="184825"/>
                  </a:lnTo>
                  <a:lnTo>
                    <a:pt x="0" y="139082"/>
                  </a:lnTo>
                  <a:lnTo>
                    <a:pt x="12750" y="130486"/>
                  </a:lnTo>
                  <a:cubicBezTo>
                    <a:pt x="23364" y="119872"/>
                    <a:pt x="29929" y="105208"/>
                    <a:pt x="29929" y="89011"/>
                  </a:cubicBezTo>
                  <a:cubicBezTo>
                    <a:pt x="29929" y="72814"/>
                    <a:pt x="23364" y="58151"/>
                    <a:pt x="12750" y="47536"/>
                  </a:cubicBezTo>
                  <a:lnTo>
                    <a:pt x="0" y="38940"/>
                  </a:lnTo>
                  <a:close/>
                </a:path>
              </a:pathLst>
            </a:custGeom>
            <a:solidFill>
              <a:srgbClr val="262626"/>
            </a:solidFill>
            <a:ln>
              <a:solidFill>
                <a:srgbClr val="f9b91c"/>
              </a:solidFill>
            </a:ln>
            <a:effectLst>
              <a:outerShdw algn="tl" blurRad="50760" dir="2700000" dist="37674" rotWithShape="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35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82" name="矩形 62"/>
            <p:cNvSpPr/>
            <p:nvPr/>
          </p:nvSpPr>
          <p:spPr>
            <a:xfrm>
              <a:off x="2567160" y="4269600"/>
              <a:ext cx="2328480" cy="863640"/>
            </a:xfrm>
            <a:prstGeom prst="rect">
              <a:avLst/>
            </a:prstGeom>
            <a:noFill/>
            <a:ln w="3175">
              <a:solidFill>
                <a:srgbClr val="f9b91c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35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983" name="组合 63"/>
          <p:cNvGrpSpPr/>
          <p:nvPr/>
        </p:nvGrpSpPr>
        <p:grpSpPr>
          <a:xfrm>
            <a:off x="2443320" y="5511960"/>
            <a:ext cx="2557080" cy="957960"/>
            <a:chOff x="2443320" y="5511960"/>
            <a:chExt cx="2557080" cy="957960"/>
          </a:xfrm>
        </p:grpSpPr>
        <p:sp>
          <p:nvSpPr>
            <p:cNvPr id="984" name="任意多边形 64"/>
            <p:cNvSpPr/>
            <p:nvPr/>
          </p:nvSpPr>
          <p:spPr>
            <a:xfrm>
              <a:off x="2443320" y="5511960"/>
              <a:ext cx="2557080" cy="957960"/>
            </a:xfrm>
            <a:custGeom>
              <a:avLst/>
              <a:gdLst>
                <a:gd name="textAreaLeft" fmla="*/ 0 w 2557080"/>
                <a:gd name="textAreaRight" fmla="*/ 2557440 w 2557080"/>
                <a:gd name="textAreaTop" fmla="*/ 0 h 957960"/>
                <a:gd name="textAreaBottom" fmla="*/ 958320 h 957960"/>
              </a:gdLst>
              <a:ahLst/>
              <a:rect l="textAreaLeft" t="textAreaTop" r="textAreaRight" b="textAreaBottom"/>
              <a:pathLst>
                <a:path w="3409950" h="1277898">
                  <a:moveTo>
                    <a:pt x="0" y="0"/>
                  </a:moveTo>
                  <a:lnTo>
                    <a:pt x="3409950" y="0"/>
                  </a:lnTo>
                  <a:lnTo>
                    <a:pt x="3409950" y="34302"/>
                  </a:lnTo>
                  <a:lnTo>
                    <a:pt x="3406652" y="34967"/>
                  </a:lnTo>
                  <a:cubicBezTo>
                    <a:pt x="3385601" y="43872"/>
                    <a:pt x="3370829" y="64717"/>
                    <a:pt x="3370829" y="89012"/>
                  </a:cubicBezTo>
                  <a:cubicBezTo>
                    <a:pt x="3370829" y="113308"/>
                    <a:pt x="3385601" y="134153"/>
                    <a:pt x="3406652" y="143057"/>
                  </a:cubicBezTo>
                  <a:lnTo>
                    <a:pt x="3409950" y="143723"/>
                  </a:lnTo>
                  <a:lnTo>
                    <a:pt x="3409950" y="180187"/>
                  </a:lnTo>
                  <a:lnTo>
                    <a:pt x="3406652" y="180852"/>
                  </a:lnTo>
                  <a:cubicBezTo>
                    <a:pt x="3385601" y="189757"/>
                    <a:pt x="3370829" y="210602"/>
                    <a:pt x="3370829" y="234897"/>
                  </a:cubicBezTo>
                  <a:cubicBezTo>
                    <a:pt x="3370829" y="259193"/>
                    <a:pt x="3385601" y="280038"/>
                    <a:pt x="3406652" y="288942"/>
                  </a:cubicBezTo>
                  <a:lnTo>
                    <a:pt x="3409950" y="289608"/>
                  </a:lnTo>
                  <a:lnTo>
                    <a:pt x="3409950" y="335606"/>
                  </a:lnTo>
                  <a:lnTo>
                    <a:pt x="3406652" y="336272"/>
                  </a:lnTo>
                  <a:cubicBezTo>
                    <a:pt x="3385601" y="345176"/>
                    <a:pt x="3370829" y="366021"/>
                    <a:pt x="3370829" y="390316"/>
                  </a:cubicBezTo>
                  <a:cubicBezTo>
                    <a:pt x="3370829" y="414612"/>
                    <a:pt x="3385601" y="435457"/>
                    <a:pt x="3406652" y="444361"/>
                  </a:cubicBezTo>
                  <a:lnTo>
                    <a:pt x="3409950" y="445027"/>
                  </a:lnTo>
                  <a:lnTo>
                    <a:pt x="3409950" y="480406"/>
                  </a:lnTo>
                  <a:lnTo>
                    <a:pt x="3394571" y="490775"/>
                  </a:lnTo>
                  <a:cubicBezTo>
                    <a:pt x="3356650" y="528696"/>
                    <a:pt x="3333195" y="581084"/>
                    <a:pt x="3333195" y="638949"/>
                  </a:cubicBezTo>
                  <a:cubicBezTo>
                    <a:pt x="3333195" y="696815"/>
                    <a:pt x="3356650" y="749202"/>
                    <a:pt x="3394571" y="787123"/>
                  </a:cubicBezTo>
                  <a:lnTo>
                    <a:pt x="3409950" y="797492"/>
                  </a:lnTo>
                  <a:lnTo>
                    <a:pt x="3409950" y="830211"/>
                  </a:lnTo>
                  <a:lnTo>
                    <a:pt x="3406652" y="830877"/>
                  </a:lnTo>
                  <a:cubicBezTo>
                    <a:pt x="3385601" y="839781"/>
                    <a:pt x="3370829" y="860626"/>
                    <a:pt x="3370829" y="884921"/>
                  </a:cubicBezTo>
                  <a:cubicBezTo>
                    <a:pt x="3370829" y="909217"/>
                    <a:pt x="3385601" y="930062"/>
                    <a:pt x="3406652" y="938966"/>
                  </a:cubicBezTo>
                  <a:lnTo>
                    <a:pt x="3409950" y="939632"/>
                  </a:lnTo>
                  <a:lnTo>
                    <a:pt x="3409950" y="976096"/>
                  </a:lnTo>
                  <a:lnTo>
                    <a:pt x="3406652" y="976762"/>
                  </a:lnTo>
                  <a:cubicBezTo>
                    <a:pt x="3385601" y="985666"/>
                    <a:pt x="3370829" y="1006511"/>
                    <a:pt x="3370829" y="1030806"/>
                  </a:cubicBezTo>
                  <a:cubicBezTo>
                    <a:pt x="3370829" y="1055102"/>
                    <a:pt x="3385601" y="1075947"/>
                    <a:pt x="3406652" y="1084851"/>
                  </a:cubicBezTo>
                  <a:lnTo>
                    <a:pt x="3409950" y="1085517"/>
                  </a:lnTo>
                  <a:lnTo>
                    <a:pt x="3409950" y="1131515"/>
                  </a:lnTo>
                  <a:lnTo>
                    <a:pt x="3406652" y="1132181"/>
                  </a:lnTo>
                  <a:cubicBezTo>
                    <a:pt x="3385601" y="1141085"/>
                    <a:pt x="3370829" y="1161930"/>
                    <a:pt x="3370829" y="1186225"/>
                  </a:cubicBezTo>
                  <a:cubicBezTo>
                    <a:pt x="3370829" y="1210521"/>
                    <a:pt x="3385601" y="1231366"/>
                    <a:pt x="3406652" y="1240270"/>
                  </a:cubicBezTo>
                  <a:lnTo>
                    <a:pt x="3409950" y="1240936"/>
                  </a:lnTo>
                  <a:lnTo>
                    <a:pt x="3409950" y="1277898"/>
                  </a:lnTo>
                  <a:lnTo>
                    <a:pt x="0" y="1277898"/>
                  </a:lnTo>
                  <a:lnTo>
                    <a:pt x="0" y="1236295"/>
                  </a:lnTo>
                  <a:lnTo>
                    <a:pt x="12750" y="1227699"/>
                  </a:lnTo>
                  <a:cubicBezTo>
                    <a:pt x="23364" y="1217085"/>
                    <a:pt x="29929" y="1202421"/>
                    <a:pt x="29929" y="1186224"/>
                  </a:cubicBezTo>
                  <a:cubicBezTo>
                    <a:pt x="29929" y="1170027"/>
                    <a:pt x="23364" y="1155364"/>
                    <a:pt x="12750" y="1144749"/>
                  </a:cubicBezTo>
                  <a:lnTo>
                    <a:pt x="0" y="1136153"/>
                  </a:lnTo>
                  <a:lnTo>
                    <a:pt x="0" y="1080876"/>
                  </a:lnTo>
                  <a:lnTo>
                    <a:pt x="12750" y="1072280"/>
                  </a:lnTo>
                  <a:cubicBezTo>
                    <a:pt x="23364" y="1061666"/>
                    <a:pt x="29929" y="1047002"/>
                    <a:pt x="29929" y="1030805"/>
                  </a:cubicBezTo>
                  <a:cubicBezTo>
                    <a:pt x="29929" y="1014608"/>
                    <a:pt x="23364" y="999945"/>
                    <a:pt x="12750" y="989330"/>
                  </a:cubicBezTo>
                  <a:lnTo>
                    <a:pt x="0" y="980734"/>
                  </a:lnTo>
                  <a:lnTo>
                    <a:pt x="0" y="934991"/>
                  </a:lnTo>
                  <a:lnTo>
                    <a:pt x="12750" y="926395"/>
                  </a:lnTo>
                  <a:cubicBezTo>
                    <a:pt x="23364" y="915781"/>
                    <a:pt x="29929" y="901117"/>
                    <a:pt x="29929" y="884920"/>
                  </a:cubicBezTo>
                  <a:cubicBezTo>
                    <a:pt x="29929" y="868723"/>
                    <a:pt x="23364" y="854060"/>
                    <a:pt x="12750" y="843446"/>
                  </a:cubicBezTo>
                  <a:lnTo>
                    <a:pt x="0" y="834849"/>
                  </a:lnTo>
                  <a:lnTo>
                    <a:pt x="0" y="797118"/>
                  </a:lnTo>
                  <a:lnTo>
                    <a:pt x="14824" y="787123"/>
                  </a:lnTo>
                  <a:cubicBezTo>
                    <a:pt x="52745" y="749202"/>
                    <a:pt x="76200" y="696815"/>
                    <a:pt x="76200" y="638949"/>
                  </a:cubicBezTo>
                  <a:cubicBezTo>
                    <a:pt x="76200" y="581084"/>
                    <a:pt x="52745" y="528696"/>
                    <a:pt x="14824" y="490775"/>
                  </a:cubicBezTo>
                  <a:lnTo>
                    <a:pt x="0" y="480780"/>
                  </a:lnTo>
                  <a:lnTo>
                    <a:pt x="0" y="440386"/>
                  </a:lnTo>
                  <a:lnTo>
                    <a:pt x="12750" y="431790"/>
                  </a:lnTo>
                  <a:cubicBezTo>
                    <a:pt x="23364" y="421176"/>
                    <a:pt x="29929" y="406512"/>
                    <a:pt x="29929" y="390315"/>
                  </a:cubicBezTo>
                  <a:cubicBezTo>
                    <a:pt x="29929" y="374118"/>
                    <a:pt x="23364" y="359455"/>
                    <a:pt x="12750" y="348841"/>
                  </a:cubicBezTo>
                  <a:lnTo>
                    <a:pt x="0" y="340244"/>
                  </a:lnTo>
                  <a:lnTo>
                    <a:pt x="0" y="284967"/>
                  </a:lnTo>
                  <a:lnTo>
                    <a:pt x="12750" y="276371"/>
                  </a:lnTo>
                  <a:cubicBezTo>
                    <a:pt x="23364" y="265757"/>
                    <a:pt x="29929" y="251093"/>
                    <a:pt x="29929" y="234896"/>
                  </a:cubicBezTo>
                  <a:cubicBezTo>
                    <a:pt x="29929" y="218699"/>
                    <a:pt x="23364" y="204036"/>
                    <a:pt x="12750" y="193421"/>
                  </a:cubicBezTo>
                  <a:lnTo>
                    <a:pt x="0" y="184825"/>
                  </a:lnTo>
                  <a:lnTo>
                    <a:pt x="0" y="139082"/>
                  </a:lnTo>
                  <a:lnTo>
                    <a:pt x="12750" y="130486"/>
                  </a:lnTo>
                  <a:cubicBezTo>
                    <a:pt x="23364" y="119872"/>
                    <a:pt x="29929" y="105208"/>
                    <a:pt x="29929" y="89011"/>
                  </a:cubicBezTo>
                  <a:cubicBezTo>
                    <a:pt x="29929" y="72814"/>
                    <a:pt x="23364" y="58151"/>
                    <a:pt x="12750" y="47536"/>
                  </a:cubicBezTo>
                  <a:lnTo>
                    <a:pt x="0" y="38940"/>
                  </a:lnTo>
                  <a:close/>
                </a:path>
              </a:pathLst>
            </a:custGeom>
            <a:solidFill>
              <a:srgbClr val="262626"/>
            </a:solidFill>
            <a:ln>
              <a:solidFill>
                <a:srgbClr val="f9b91c"/>
              </a:solidFill>
            </a:ln>
            <a:effectLst>
              <a:outerShdw algn="tl" blurRad="50760" dir="2700000" dist="37674" rotWithShape="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35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85" name="矩形 65"/>
            <p:cNvSpPr/>
            <p:nvPr/>
          </p:nvSpPr>
          <p:spPr>
            <a:xfrm>
              <a:off x="2567160" y="5554800"/>
              <a:ext cx="2328480" cy="863640"/>
            </a:xfrm>
            <a:prstGeom prst="rect">
              <a:avLst/>
            </a:prstGeom>
            <a:noFill/>
            <a:ln w="3175">
              <a:solidFill>
                <a:srgbClr val="f9b91c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35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pic>
        <p:nvPicPr>
          <p:cNvPr id="986" name="图片 66" descr=""/>
          <p:cNvPicPr/>
          <p:nvPr/>
        </p:nvPicPr>
        <p:blipFill>
          <a:blip r:embed="rId1"/>
          <a:srcRect l="0" t="61119" r="0" b="0"/>
          <a:stretch/>
        </p:blipFill>
        <p:spPr>
          <a:xfrm>
            <a:off x="7560720" y="5138280"/>
            <a:ext cx="2701800" cy="1116000"/>
          </a:xfrm>
          <a:prstGeom prst="rect">
            <a:avLst/>
          </a:prstGeom>
          <a:ln w="0">
            <a:noFill/>
          </a:ln>
        </p:spPr>
      </p:pic>
      <p:sp>
        <p:nvSpPr>
          <p:cNvPr id="987" name="文本框 67"/>
          <p:cNvSpPr/>
          <p:nvPr/>
        </p:nvSpPr>
        <p:spPr>
          <a:xfrm>
            <a:off x="3070440" y="3013560"/>
            <a:ext cx="1551960" cy="84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95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免费</a:t>
            </a:r>
            <a:endParaRPr b="0" lang="en-US" sz="49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文本框 68"/>
          <p:cNvSpPr/>
          <p:nvPr/>
        </p:nvSpPr>
        <p:spPr>
          <a:xfrm>
            <a:off x="3070440" y="4294440"/>
            <a:ext cx="1551960" cy="84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95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便利</a:t>
            </a:r>
            <a:endParaRPr b="0" lang="en-US" sz="49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文本框 69"/>
          <p:cNvSpPr/>
          <p:nvPr/>
        </p:nvSpPr>
        <p:spPr>
          <a:xfrm>
            <a:off x="3070440" y="5575680"/>
            <a:ext cx="1551960" cy="84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95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自由</a:t>
            </a:r>
            <a:endParaRPr b="0" lang="en-US" sz="49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文本框 70"/>
          <p:cNvSpPr/>
          <p:nvPr/>
        </p:nvSpPr>
        <p:spPr>
          <a:xfrm>
            <a:off x="3540960" y="3762720"/>
            <a:ext cx="199800" cy="5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700" spc="-1" strike="noStrike">
                <a:solidFill>
                  <a:srgbClr val="f9b101"/>
                </a:solidFill>
                <a:latin typeface="方正超粗黑简体"/>
                <a:ea typeface="方正超粗黑简体"/>
              </a:rPr>
              <a:t>+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文本框 71"/>
          <p:cNvSpPr/>
          <p:nvPr/>
        </p:nvSpPr>
        <p:spPr>
          <a:xfrm>
            <a:off x="3540960" y="5065560"/>
            <a:ext cx="199800" cy="5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700" spc="-1" strike="noStrike">
                <a:solidFill>
                  <a:srgbClr val="f9b101"/>
                </a:solidFill>
                <a:latin typeface="方正超粗黑简体"/>
                <a:ea typeface="方正超粗黑简体"/>
              </a:rPr>
              <a:t>+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文本框 72"/>
          <p:cNvSpPr/>
          <p:nvPr/>
        </p:nvSpPr>
        <p:spPr>
          <a:xfrm>
            <a:off x="5642640" y="3628440"/>
            <a:ext cx="195120" cy="16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0430" spc="-1" strike="noStrike">
                <a:solidFill>
                  <a:srgbClr val="262626"/>
                </a:solidFill>
                <a:latin typeface="方正超粗黑简体"/>
                <a:ea typeface="方正超粗黑简体"/>
              </a:rPr>
              <a:t>=</a:t>
            </a:r>
            <a:endParaRPr b="0" lang="en-US" sz="1043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3" name="图片 73" descr=""/>
          <p:cNvPicPr/>
          <p:nvPr/>
        </p:nvPicPr>
        <p:blipFill>
          <a:blip r:embed="rId2"/>
          <a:stretch/>
        </p:blipFill>
        <p:spPr>
          <a:xfrm>
            <a:off x="7216560" y="2520000"/>
            <a:ext cx="3333600" cy="444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文本框 27"/>
          <p:cNvSpPr/>
          <p:nvPr/>
        </p:nvSpPr>
        <p:spPr>
          <a:xfrm>
            <a:off x="2563200" y="76320"/>
            <a:ext cx="706536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50000"/>
              </a:lnSpc>
            </a:pPr>
            <a:r>
              <a:rPr b="1" lang="zh-CN" sz="3600" spc="-1" strike="noStrike">
                <a:solidFill>
                  <a:srgbClr val="ffffff"/>
                </a:solidFill>
                <a:latin typeface="Noto Sans S Chinese Bold"/>
                <a:ea typeface="Noto Sans S Chinese Bold"/>
              </a:rPr>
              <a:t>颠覆式创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文本框 20"/>
          <p:cNvSpPr/>
          <p:nvPr/>
        </p:nvSpPr>
        <p:spPr>
          <a:xfrm>
            <a:off x="4176360" y="1327680"/>
            <a:ext cx="383868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50000"/>
              </a:lnSpc>
            </a:pPr>
            <a:r>
              <a:rPr b="0" lang="zh-CN" sz="2400" spc="-1" strike="noStrike">
                <a:solidFill>
                  <a:srgbClr val="000000"/>
                </a:solidFill>
                <a:latin typeface="Noto Sans S Chinese Light"/>
                <a:ea typeface="Noto Sans S Chinese Light"/>
              </a:rPr>
              <a:t>屌丝的逆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</a:pPr>
            <a:r>
              <a:rPr b="0" lang="zh-CN" sz="2400" spc="-1" strike="noStrike">
                <a:solidFill>
                  <a:srgbClr val="000000"/>
                </a:solidFill>
                <a:latin typeface="Noto Sans S Chinese Light"/>
                <a:ea typeface="Noto Sans S Chinese Light"/>
              </a:rPr>
              <a:t>寻找不被主流市场看好的地方，侧翼聚焦出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6" name="组合 6"/>
          <p:cNvGrpSpPr/>
          <p:nvPr/>
        </p:nvGrpSpPr>
        <p:grpSpPr>
          <a:xfrm>
            <a:off x="1452960" y="2855880"/>
            <a:ext cx="9285840" cy="3552120"/>
            <a:chOff x="1452960" y="2855880"/>
            <a:chExt cx="9285840" cy="3552120"/>
          </a:xfrm>
        </p:grpSpPr>
        <p:sp>
          <p:nvSpPr>
            <p:cNvPr id="997" name="文本框 30"/>
            <p:cNvSpPr/>
            <p:nvPr/>
          </p:nvSpPr>
          <p:spPr>
            <a:xfrm>
              <a:off x="1452960" y="2855880"/>
              <a:ext cx="1999080" cy="74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20000"/>
                </a:lnSpc>
              </a:pPr>
              <a:r>
                <a:rPr b="0" lang="zh-CN" sz="1800" spc="-1" strike="noStrike">
                  <a:solidFill>
                    <a:srgbClr val="0d0d0d"/>
                  </a:solidFill>
                  <a:latin typeface="思源黑体 CN Normal"/>
                  <a:ea typeface="思源黑体 CN Normal"/>
                </a:rPr>
                <a:t>成熟产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</a:pPr>
              <a:r>
                <a:rPr b="0" lang="zh-CN" sz="1800" spc="-1" strike="noStrike">
                  <a:solidFill>
                    <a:srgbClr val="0d0d0d"/>
                  </a:solidFill>
                  <a:latin typeface="思源黑体 CN Normal"/>
                  <a:ea typeface="思源黑体 CN Normal"/>
                </a:rPr>
                <a:t>成熟技术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文本框 31"/>
            <p:cNvSpPr/>
            <p:nvPr/>
          </p:nvSpPr>
          <p:spPr>
            <a:xfrm>
              <a:off x="9169200" y="5660280"/>
              <a:ext cx="1569600" cy="74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20000"/>
                </a:lnSpc>
              </a:pPr>
              <a:r>
                <a:rPr b="0" lang="zh-CN" sz="1800" spc="-1" strike="noStrike">
                  <a:solidFill>
                    <a:srgbClr val="0d0d0d"/>
                  </a:solidFill>
                  <a:latin typeface="思源黑体 CN Normal"/>
                  <a:ea typeface="思源黑体 CN Normal"/>
                </a:rPr>
                <a:t>新产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</a:pPr>
              <a:r>
                <a:rPr b="0" lang="zh-CN" sz="1800" spc="-1" strike="noStrike">
                  <a:solidFill>
                    <a:srgbClr val="0d0d0d"/>
                  </a:solidFill>
                  <a:latin typeface="思源黑体 CN Normal"/>
                  <a:ea typeface="思源黑体 CN Normal"/>
                </a:rPr>
                <a:t>新技术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99" name="直接连接符 33"/>
            <p:cNvCxnSpPr/>
            <p:nvPr/>
          </p:nvCxnSpPr>
          <p:spPr>
            <a:xfrm>
              <a:off x="3225960" y="4515480"/>
              <a:ext cx="6055560" cy="360"/>
            </a:xfrm>
            <a:prstGeom prst="straightConnector1">
              <a:avLst/>
            </a:prstGeom>
            <a:ln>
              <a:solidFill>
                <a:srgbClr val="ffffff">
                  <a:lumMod val="65000"/>
                </a:srgbClr>
              </a:solidFill>
              <a:prstDash val="dash"/>
            </a:ln>
          </p:spPr>
        </p:cxnSp>
        <p:sp>
          <p:nvSpPr>
            <p:cNvPr id="1000" name="矩形 57"/>
            <p:cNvSpPr/>
            <p:nvPr/>
          </p:nvSpPr>
          <p:spPr>
            <a:xfrm>
              <a:off x="3818880" y="3219480"/>
              <a:ext cx="943200" cy="82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20000"/>
                </a:lnSpc>
              </a:pPr>
              <a:r>
                <a:rPr b="0" lang="zh-CN" sz="2000" spc="-1" strike="noStrike">
                  <a:solidFill>
                    <a:srgbClr val="000000"/>
                  </a:solidFill>
                  <a:latin typeface="思源黑体 CN Medium"/>
                  <a:ea typeface="思源黑体 CN Medium"/>
                </a:rPr>
                <a:t>主流市场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</a:pPr>
              <a:r>
                <a:rPr b="0" lang="zh-CN" sz="2000" spc="-1" strike="noStrike">
                  <a:solidFill>
                    <a:srgbClr val="000000"/>
                  </a:solidFill>
                  <a:latin typeface="思源黑体 CN Medium"/>
                  <a:ea typeface="思源黑体 CN Medium"/>
                </a:rPr>
                <a:t>持续性创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矩形 58"/>
            <p:cNvSpPr/>
            <p:nvPr/>
          </p:nvSpPr>
          <p:spPr>
            <a:xfrm>
              <a:off x="7769160" y="4830480"/>
              <a:ext cx="943200" cy="82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20000"/>
                </a:lnSpc>
              </a:pPr>
              <a:r>
                <a:rPr b="0" lang="zh-CN" sz="2000" spc="-1" strike="noStrike">
                  <a:solidFill>
                    <a:srgbClr val="000000"/>
                  </a:solidFill>
                  <a:latin typeface="思源黑体 CN Medium"/>
                  <a:ea typeface="思源黑体 CN Medium"/>
                </a:rPr>
                <a:t>屌丝逆袭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</a:pPr>
              <a:r>
                <a:rPr b="0" lang="zh-CN" sz="2000" spc="-1" strike="noStrike">
                  <a:solidFill>
                    <a:srgbClr val="000000"/>
                  </a:solidFill>
                  <a:latin typeface="思源黑体 CN Medium"/>
                  <a:ea typeface="思源黑体 CN Medium"/>
                </a:rPr>
                <a:t>颠覆式创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02" name="直接连接符 69"/>
            <p:cNvCxnSpPr/>
            <p:nvPr/>
          </p:nvCxnSpPr>
          <p:spPr>
            <a:xfrm>
              <a:off x="3225960" y="2940120"/>
              <a:ext cx="360" cy="3151440"/>
            </a:xfrm>
            <a:prstGeom prst="straightConnector1">
              <a:avLst/>
            </a:prstGeom>
            <a:ln w="38100">
              <a:solidFill>
                <a:srgbClr val="000000"/>
              </a:solidFill>
              <a:headEnd len="med" type="arrow" w="med"/>
            </a:ln>
          </p:spPr>
        </p:cxnSp>
        <p:cxnSp>
          <p:nvCxnSpPr>
            <p:cNvPr id="1003" name="直接连接符 70"/>
            <p:cNvCxnSpPr/>
            <p:nvPr/>
          </p:nvCxnSpPr>
          <p:spPr>
            <a:xfrm>
              <a:off x="3215160" y="6091200"/>
              <a:ext cx="6067440" cy="360"/>
            </a:xfrm>
            <a:prstGeom prst="straightConnector1">
              <a:avLst/>
            </a:prstGeom>
            <a:ln w="38100">
              <a:solidFill>
                <a:srgbClr val="000000"/>
              </a:solidFill>
              <a:tailEnd len="med" type="arrow" w="med"/>
            </a:ln>
          </p:spPr>
        </p:cxnSp>
        <p:grpSp>
          <p:nvGrpSpPr>
            <p:cNvPr id="1004" name="组合 3"/>
            <p:cNvGrpSpPr/>
            <p:nvPr/>
          </p:nvGrpSpPr>
          <p:grpSpPr>
            <a:xfrm>
              <a:off x="5400720" y="3437640"/>
              <a:ext cx="3407400" cy="509400"/>
              <a:chOff x="5400720" y="3437640"/>
              <a:chExt cx="3407400" cy="509400"/>
            </a:xfrm>
          </p:grpSpPr>
          <p:pic>
            <p:nvPicPr>
              <p:cNvPr id="1005" name="图片 73" descr=""/>
              <p:cNvPicPr/>
              <p:nvPr/>
            </p:nvPicPr>
            <p:blipFill>
              <a:blip r:embed="rId1"/>
              <a:srcRect l="4522" t="38966" r="74079" b="28036"/>
              <a:stretch/>
            </p:blipFill>
            <p:spPr>
              <a:xfrm>
                <a:off x="5400720" y="3453840"/>
                <a:ext cx="497520" cy="47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6" name="图片 21"/>
              <p:cNvSpPr/>
              <p:nvPr/>
            </p:nvSpPr>
            <p:spPr>
              <a:xfrm>
                <a:off x="8332560" y="3453840"/>
                <a:ext cx="475560" cy="477000"/>
              </a:xfrm>
              <a:prstGeom prst="ellips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07" name="图片 23" descr=""/>
              <p:cNvPicPr/>
              <p:nvPr/>
            </p:nvPicPr>
            <p:blipFill>
              <a:blip r:embed="rId3"/>
              <a:stretch/>
            </p:blipFill>
            <p:spPr>
              <a:xfrm>
                <a:off x="6160680" y="3452760"/>
                <a:ext cx="725760" cy="479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8" name="图片 1" descr=""/>
              <p:cNvPicPr/>
              <p:nvPr/>
            </p:nvPicPr>
            <p:blipFill>
              <a:blip r:embed="rId4"/>
              <a:stretch/>
            </p:blipFill>
            <p:spPr>
              <a:xfrm>
                <a:off x="7148520" y="3437640"/>
                <a:ext cx="921600" cy="509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09" name="组合 5"/>
            <p:cNvGrpSpPr/>
            <p:nvPr/>
          </p:nvGrpSpPr>
          <p:grpSpPr>
            <a:xfrm>
              <a:off x="3769560" y="4906440"/>
              <a:ext cx="3184560" cy="794160"/>
              <a:chOff x="3769560" y="4906440"/>
              <a:chExt cx="3184560" cy="794160"/>
            </a:xfrm>
          </p:grpSpPr>
          <p:pic>
            <p:nvPicPr>
              <p:cNvPr id="1010" name="图片 24" descr=""/>
              <p:cNvPicPr/>
              <p:nvPr/>
            </p:nvPicPr>
            <p:blipFill>
              <a:blip r:embed="rId5"/>
              <a:srcRect l="35692" t="0" r="35692" b="0"/>
              <a:stretch/>
            </p:blipFill>
            <p:spPr>
              <a:xfrm>
                <a:off x="3769560" y="4978080"/>
                <a:ext cx="495720" cy="650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11" name="图片 25"/>
              <p:cNvSpPr/>
              <p:nvPr/>
            </p:nvSpPr>
            <p:spPr>
              <a:xfrm>
                <a:off x="4482360" y="4906440"/>
                <a:ext cx="913320" cy="794160"/>
              </a:xfrm>
              <a:prstGeom prst="roundRect">
                <a:avLst>
                  <a:gd name="adj" fmla="val 16667"/>
                </a:avLst>
              </a:prstGeom>
              <a:blipFill rotWithShape="0">
                <a:blip r:embed="rId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12" name="图片 26" descr=""/>
              <p:cNvPicPr/>
              <p:nvPr/>
            </p:nvPicPr>
            <p:blipFill>
              <a:blip r:embed="rId7"/>
              <a:srcRect l="23952" t="0" r="23952" b="22129"/>
              <a:stretch/>
            </p:blipFill>
            <p:spPr>
              <a:xfrm>
                <a:off x="5613120" y="4981320"/>
                <a:ext cx="538920" cy="644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13" name="图片 28" descr=""/>
              <p:cNvPicPr/>
              <p:nvPr/>
            </p:nvPicPr>
            <p:blipFill>
              <a:blip r:embed="rId8"/>
              <a:srcRect l="0" t="11573" r="62077" b="12107"/>
              <a:stretch/>
            </p:blipFill>
            <p:spPr>
              <a:xfrm>
                <a:off x="6369120" y="5026680"/>
                <a:ext cx="585000" cy="5533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014" name="Text Box 3"/>
          <p:cNvSpPr/>
          <p:nvPr/>
        </p:nvSpPr>
        <p:spPr>
          <a:xfrm>
            <a:off x="372960" y="6355080"/>
            <a:ext cx="5327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563c1"/>
                </a:solidFill>
                <a:uFillTx/>
                <a:latin typeface="Arial"/>
                <a:ea typeface="宋体"/>
                <a:hlinkClick r:id="rId9"/>
              </a:rPr>
              <a:t>免费ppt模板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5" name="组合 7"/>
          <p:cNvGrpSpPr/>
          <p:nvPr/>
        </p:nvGrpSpPr>
        <p:grpSpPr>
          <a:xfrm>
            <a:off x="2348640" y="2962080"/>
            <a:ext cx="7494120" cy="1188720"/>
            <a:chOff x="2348640" y="2962080"/>
            <a:chExt cx="7494120" cy="1188720"/>
          </a:xfrm>
        </p:grpSpPr>
        <p:grpSp>
          <p:nvGrpSpPr>
            <p:cNvPr id="1016" name="组合 9"/>
            <p:cNvGrpSpPr/>
            <p:nvPr/>
          </p:nvGrpSpPr>
          <p:grpSpPr>
            <a:xfrm>
              <a:off x="2487600" y="3929040"/>
              <a:ext cx="7216560" cy="221760"/>
              <a:chOff x="2487600" y="3929040"/>
              <a:chExt cx="7216560" cy="221760"/>
            </a:xfrm>
          </p:grpSpPr>
          <p:sp>
            <p:nvSpPr>
              <p:cNvPr id="1017" name="直角三角形 10"/>
              <p:cNvSpPr/>
              <p:nvPr/>
            </p:nvSpPr>
            <p:spPr>
              <a:xfrm flipV="1">
                <a:off x="2487600" y="3929040"/>
                <a:ext cx="3646080" cy="221760"/>
              </a:xfrm>
              <a:prstGeom prst="rtTriangle">
                <a:avLst/>
              </a:prstGeom>
              <a:solidFill>
                <a:srgbClr val="728a8e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29160" bIns="291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018" name="直角三角形 11"/>
              <p:cNvSpPr/>
              <p:nvPr/>
            </p:nvSpPr>
            <p:spPr>
              <a:xfrm flipH="1" flipV="1">
                <a:off x="6058080" y="3929040"/>
                <a:ext cx="3646080" cy="221760"/>
              </a:xfrm>
              <a:prstGeom prst="rtTriangle">
                <a:avLst/>
              </a:prstGeom>
              <a:solidFill>
                <a:srgbClr val="728a8e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29160" bIns="291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sp>
          <p:nvSpPr>
            <p:cNvPr id="1019" name="矩形 75"/>
            <p:cNvSpPr/>
            <p:nvPr/>
          </p:nvSpPr>
          <p:spPr>
            <a:xfrm>
              <a:off x="2348640" y="2962080"/>
              <a:ext cx="7494120" cy="1060200"/>
            </a:xfrm>
            <a:prstGeom prst="rect">
              <a:avLst/>
            </a:prstGeom>
            <a:solidFill>
              <a:srgbClr val="9ab0b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1020" name="文本框 4"/>
          <p:cNvSpPr/>
          <p:nvPr/>
        </p:nvSpPr>
        <p:spPr>
          <a:xfrm>
            <a:off x="2777760" y="3141000"/>
            <a:ext cx="692640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800" spc="-1" strike="noStrike">
                <a:solidFill>
                  <a:srgbClr val="000000"/>
                </a:solidFill>
                <a:latin typeface="造字工房悦圆（非商用）常规体"/>
                <a:ea typeface="造字工房悦圆（非商用）常规体"/>
              </a:rPr>
              <a:t>还教给我们什么新理论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文本框 5"/>
          <p:cNvSpPr/>
          <p:nvPr/>
        </p:nvSpPr>
        <p:spPr>
          <a:xfrm>
            <a:off x="5090760" y="1508040"/>
            <a:ext cx="200988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8000" spc="-1" strike="noStrike">
                <a:solidFill>
                  <a:srgbClr val="e7e6e6"/>
                </a:solidFill>
                <a:latin typeface="Noto Sans S Chinese Bold"/>
                <a:ea typeface="Noto Sans S Chinese Bold"/>
              </a:rPr>
              <a:t>周鸿祎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文本框 64"/>
          <p:cNvSpPr/>
          <p:nvPr/>
        </p:nvSpPr>
        <p:spPr>
          <a:xfrm>
            <a:off x="2563200" y="76320"/>
            <a:ext cx="706536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50000"/>
              </a:lnSpc>
            </a:pPr>
            <a:r>
              <a:rPr b="1" lang="zh-CN" sz="3600" spc="-1" strike="noStrike">
                <a:solidFill>
                  <a:srgbClr val="ffffff"/>
                </a:solidFill>
                <a:latin typeface="Noto Sans S Chinese Bold"/>
                <a:ea typeface="Noto Sans S Chinese Bold"/>
              </a:rPr>
              <a:t>互联网的盈利模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矩形 376"/>
          <p:cNvSpPr/>
          <p:nvPr/>
        </p:nvSpPr>
        <p:spPr>
          <a:xfrm>
            <a:off x="8761680" y="3331080"/>
            <a:ext cx="11836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000000"/>
                </a:solidFill>
                <a:latin typeface="Noto Sans S Chinese Light"/>
                <a:ea typeface="Noto Sans S Chinese Light"/>
              </a:rPr>
              <a:t>电子商务、互联网金融、</a:t>
            </a:r>
            <a:r>
              <a:rPr b="0" lang="en-US" sz="2400" spc="-1" strike="noStrike">
                <a:solidFill>
                  <a:srgbClr val="000000"/>
                </a:solidFill>
                <a:latin typeface="Noto Sans S Chinese Light"/>
                <a:ea typeface="Noto Sans S Chinese Light"/>
              </a:rPr>
              <a:t>O2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矩形 377"/>
          <p:cNvSpPr/>
          <p:nvPr/>
        </p:nvSpPr>
        <p:spPr>
          <a:xfrm>
            <a:off x="7980480" y="5635080"/>
            <a:ext cx="23756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000000"/>
                </a:solidFill>
                <a:latin typeface="Noto Sans S Chinese Light"/>
                <a:ea typeface="Noto Sans S Chinese Light"/>
              </a:rPr>
              <a:t>提供附加服务的增值服务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矩形 378"/>
          <p:cNvSpPr/>
          <p:nvPr/>
        </p:nvSpPr>
        <p:spPr>
          <a:xfrm>
            <a:off x="7605720" y="4512960"/>
            <a:ext cx="1278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000000"/>
                </a:solidFill>
                <a:latin typeface="Noto Sans S Chinese Light"/>
                <a:ea typeface="Noto Sans S Chinese Light"/>
              </a:rPr>
              <a:t>地球人都知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Rectangle 6"/>
          <p:cNvSpPr/>
          <p:nvPr/>
        </p:nvSpPr>
        <p:spPr>
          <a:xfrm>
            <a:off x="4453920" y="3189600"/>
            <a:ext cx="2673360" cy="538200"/>
          </a:xfrm>
          <a:prstGeom prst="rect">
            <a:avLst/>
          </a:prstGeom>
          <a:solidFill>
            <a:srgbClr val="728a8e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7" name="Rectangle 8"/>
          <p:cNvSpPr/>
          <p:nvPr/>
        </p:nvSpPr>
        <p:spPr>
          <a:xfrm>
            <a:off x="5138640" y="3224880"/>
            <a:ext cx="17470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商业买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Oval 9"/>
          <p:cNvSpPr/>
          <p:nvPr/>
        </p:nvSpPr>
        <p:spPr>
          <a:xfrm>
            <a:off x="3938760" y="2984400"/>
            <a:ext cx="956880" cy="958320"/>
          </a:xfrm>
          <a:prstGeom prst="ellipse">
            <a:avLst/>
          </a:prstGeom>
          <a:solidFill>
            <a:schemeClr val="bg1"/>
          </a:solidFill>
          <a:ln w="28575">
            <a:solidFill>
              <a:srgbClr val="00000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029" name="Rectangle 11"/>
          <p:cNvSpPr/>
          <p:nvPr/>
        </p:nvSpPr>
        <p:spPr>
          <a:xfrm>
            <a:off x="4702680" y="4379760"/>
            <a:ext cx="2424600" cy="538200"/>
          </a:xfrm>
          <a:prstGeom prst="rect">
            <a:avLst/>
          </a:prstGeom>
          <a:solidFill>
            <a:srgbClr val="728a8e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0" name="Rectangle 13"/>
          <p:cNvSpPr/>
          <p:nvPr/>
        </p:nvSpPr>
        <p:spPr>
          <a:xfrm>
            <a:off x="5524200" y="4402800"/>
            <a:ext cx="9763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广告收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Rectangle 16"/>
          <p:cNvSpPr/>
          <p:nvPr/>
        </p:nvSpPr>
        <p:spPr>
          <a:xfrm>
            <a:off x="4453920" y="5502600"/>
            <a:ext cx="2673360" cy="537120"/>
          </a:xfrm>
          <a:prstGeom prst="rect">
            <a:avLst/>
          </a:prstGeom>
          <a:solidFill>
            <a:srgbClr val="728a8e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2" name="Rectangle 18"/>
          <p:cNvSpPr/>
          <p:nvPr/>
        </p:nvSpPr>
        <p:spPr>
          <a:xfrm>
            <a:off x="5524200" y="5524920"/>
            <a:ext cx="9763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增值服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Oval 9"/>
          <p:cNvSpPr/>
          <p:nvPr/>
        </p:nvSpPr>
        <p:spPr>
          <a:xfrm>
            <a:off x="4090320" y="4169520"/>
            <a:ext cx="956880" cy="958320"/>
          </a:xfrm>
          <a:prstGeom prst="ellipse">
            <a:avLst/>
          </a:prstGeom>
          <a:solidFill>
            <a:schemeClr val="bg1"/>
          </a:solidFill>
          <a:ln w="28575">
            <a:solidFill>
              <a:srgbClr val="00000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034" name="Oval 9"/>
          <p:cNvSpPr/>
          <p:nvPr/>
        </p:nvSpPr>
        <p:spPr>
          <a:xfrm>
            <a:off x="3881520" y="5305680"/>
            <a:ext cx="956880" cy="958320"/>
          </a:xfrm>
          <a:prstGeom prst="ellipse">
            <a:avLst/>
          </a:prstGeom>
          <a:solidFill>
            <a:schemeClr val="bg1"/>
          </a:solidFill>
          <a:ln w="28575">
            <a:solidFill>
              <a:srgbClr val="00000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1035" name="组合 58"/>
          <p:cNvGrpSpPr/>
          <p:nvPr/>
        </p:nvGrpSpPr>
        <p:grpSpPr>
          <a:xfrm>
            <a:off x="3870000" y="2790720"/>
            <a:ext cx="731880" cy="3647880"/>
            <a:chOff x="3870000" y="2790720"/>
            <a:chExt cx="731880" cy="3647880"/>
          </a:xfrm>
        </p:grpSpPr>
        <p:sp>
          <p:nvSpPr>
            <p:cNvPr id="1036" name="任意多边形 59"/>
            <p:cNvSpPr/>
            <p:nvPr/>
          </p:nvSpPr>
          <p:spPr>
            <a:xfrm>
              <a:off x="3870000" y="2790720"/>
              <a:ext cx="262080" cy="304200"/>
            </a:xfrm>
            <a:custGeom>
              <a:avLst/>
              <a:gdLst>
                <a:gd name="textAreaLeft" fmla="*/ 0 w 262080"/>
                <a:gd name="textAreaRight" fmla="*/ 262440 w 262080"/>
                <a:gd name="textAreaTop" fmla="*/ 0 h 304200"/>
                <a:gd name="textAreaBottom" fmla="*/ 304560 h 304200"/>
              </a:gdLst>
              <a:ahLst/>
              <a:rect l="textAreaLeft" t="textAreaTop" r="textAreaRight" b="textAreaBottom"/>
              <a:pathLst>
                <a:path w="262403" h="304547">
                  <a:moveTo>
                    <a:pt x="15266" y="0"/>
                  </a:moveTo>
                  <a:cubicBezTo>
                    <a:pt x="78308" y="62960"/>
                    <a:pt x="137410" y="128364"/>
                    <a:pt x="192572" y="195909"/>
                  </a:cubicBezTo>
                  <a:lnTo>
                    <a:pt x="262403" y="290771"/>
                  </a:lnTo>
                  <a:lnTo>
                    <a:pt x="245734" y="304547"/>
                  </a:lnTo>
                  <a:lnTo>
                    <a:pt x="175796" y="209523"/>
                  </a:lnTo>
                  <a:cubicBezTo>
                    <a:pt x="121104" y="142541"/>
                    <a:pt x="62505" y="77681"/>
                    <a:pt x="0" y="15246"/>
                  </a:cubicBezTo>
                  <a:lnTo>
                    <a:pt x="15266" y="0"/>
                  </a:lnTo>
                  <a:close/>
                </a:path>
              </a:pathLst>
            </a:custGeom>
            <a:solidFill>
              <a:schemeClr val="tx1"/>
            </a:solidFill>
            <a:ln w="127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7" name="任意多边形 60"/>
            <p:cNvSpPr/>
            <p:nvPr/>
          </p:nvSpPr>
          <p:spPr>
            <a:xfrm>
              <a:off x="4525560" y="3924000"/>
              <a:ext cx="76320" cy="248400"/>
            </a:xfrm>
            <a:custGeom>
              <a:avLst/>
              <a:gdLst>
                <a:gd name="textAreaLeft" fmla="*/ 0 w 76320"/>
                <a:gd name="textAreaRight" fmla="*/ 76680 w 76320"/>
                <a:gd name="textAreaTop" fmla="*/ 0 h 248400"/>
                <a:gd name="textAreaBottom" fmla="*/ 248760 h 248400"/>
              </a:gdLst>
              <a:ahLst/>
              <a:rect l="textAreaLeft" t="textAreaTop" r="textAreaRight" b="textAreaBottom"/>
              <a:pathLst>
                <a:path w="76508" h="248879">
                  <a:moveTo>
                    <a:pt x="20728" y="0"/>
                  </a:moveTo>
                  <a:lnTo>
                    <a:pt x="69192" y="198244"/>
                  </a:lnTo>
                  <a:lnTo>
                    <a:pt x="76508" y="248879"/>
                  </a:lnTo>
                  <a:lnTo>
                    <a:pt x="54283" y="246635"/>
                  </a:lnTo>
                  <a:lnTo>
                    <a:pt x="47888" y="202368"/>
                  </a:lnTo>
                  <a:lnTo>
                    <a:pt x="0" y="6446"/>
                  </a:lnTo>
                  <a:lnTo>
                    <a:pt x="20728" y="0"/>
                  </a:lnTo>
                  <a:close/>
                </a:path>
              </a:pathLst>
            </a:custGeom>
            <a:solidFill>
              <a:schemeClr val="tx1"/>
            </a:solidFill>
            <a:ln w="127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8" name="任意多边形 61"/>
            <p:cNvSpPr/>
            <p:nvPr/>
          </p:nvSpPr>
          <p:spPr>
            <a:xfrm>
              <a:off x="4516920" y="5126400"/>
              <a:ext cx="72720" cy="213480"/>
            </a:xfrm>
            <a:custGeom>
              <a:avLst/>
              <a:gdLst>
                <a:gd name="textAreaLeft" fmla="*/ 0 w 72720"/>
                <a:gd name="textAreaRight" fmla="*/ 73080 w 72720"/>
                <a:gd name="textAreaTop" fmla="*/ 0 h 213480"/>
                <a:gd name="textAreaBottom" fmla="*/ 213840 h 213480"/>
              </a:gdLst>
              <a:ahLst/>
              <a:rect l="textAreaLeft" t="textAreaTop" r="textAreaRight" b="textAreaBottom"/>
              <a:pathLst>
                <a:path w="73038" h="213977">
                  <a:moveTo>
                    <a:pt x="73038" y="0"/>
                  </a:moveTo>
                  <a:lnTo>
                    <a:pt x="20728" y="213977"/>
                  </a:lnTo>
                  <a:lnTo>
                    <a:pt x="0" y="207532"/>
                  </a:lnTo>
                  <a:lnTo>
                    <a:pt x="50305" y="1725"/>
                  </a:lnTo>
                  <a:lnTo>
                    <a:pt x="53129" y="2010"/>
                  </a:lnTo>
                  <a:lnTo>
                    <a:pt x="73038" y="0"/>
                  </a:lnTo>
                  <a:close/>
                </a:path>
              </a:pathLst>
            </a:custGeom>
            <a:solidFill>
              <a:schemeClr val="tx1"/>
            </a:solidFill>
            <a:ln w="127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9" name="任意多边形 62"/>
            <p:cNvSpPr/>
            <p:nvPr/>
          </p:nvSpPr>
          <p:spPr>
            <a:xfrm>
              <a:off x="3870000" y="6175800"/>
              <a:ext cx="232560" cy="262800"/>
            </a:xfrm>
            <a:custGeom>
              <a:avLst/>
              <a:gdLst>
                <a:gd name="textAreaLeft" fmla="*/ 0 w 232560"/>
                <a:gd name="textAreaRight" fmla="*/ 232920 w 232560"/>
                <a:gd name="textAreaTop" fmla="*/ 0 h 262800"/>
                <a:gd name="textAreaBottom" fmla="*/ 263160 h 262800"/>
              </a:gdLst>
              <a:ahLst/>
              <a:rect l="textAreaLeft" t="textAreaTop" r="textAreaRight" b="textAreaBottom"/>
              <a:pathLst>
                <a:path w="233094" h="263071">
                  <a:moveTo>
                    <a:pt x="215208" y="0"/>
                  </a:moveTo>
                  <a:lnTo>
                    <a:pt x="223666" y="6990"/>
                  </a:lnTo>
                  <a:lnTo>
                    <a:pt x="233094" y="12116"/>
                  </a:lnTo>
                  <a:lnTo>
                    <a:pt x="192572" y="67162"/>
                  </a:lnTo>
                  <a:cubicBezTo>
                    <a:pt x="137410" y="134707"/>
                    <a:pt x="78308" y="200112"/>
                    <a:pt x="15266" y="263071"/>
                  </a:cubicBezTo>
                  <a:lnTo>
                    <a:pt x="0" y="247826"/>
                  </a:lnTo>
                  <a:cubicBezTo>
                    <a:pt x="62505" y="185391"/>
                    <a:pt x="121104" y="120531"/>
                    <a:pt x="175796" y="53549"/>
                  </a:cubicBezTo>
                  <a:lnTo>
                    <a:pt x="215208" y="0"/>
                  </a:lnTo>
                  <a:close/>
                </a:path>
              </a:pathLst>
            </a:custGeom>
            <a:solidFill>
              <a:schemeClr val="tx1"/>
            </a:solidFill>
            <a:ln w="127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40" name="文本框 379"/>
          <p:cNvSpPr/>
          <p:nvPr/>
        </p:nvSpPr>
        <p:spPr>
          <a:xfrm>
            <a:off x="4098960" y="2971440"/>
            <a:ext cx="63684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60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文本框 380"/>
          <p:cNvSpPr/>
          <p:nvPr/>
        </p:nvSpPr>
        <p:spPr>
          <a:xfrm>
            <a:off x="4250520" y="4186080"/>
            <a:ext cx="63684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60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文本框 381"/>
          <p:cNvSpPr/>
          <p:nvPr/>
        </p:nvSpPr>
        <p:spPr>
          <a:xfrm>
            <a:off x="4041720" y="5303880"/>
            <a:ext cx="63684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60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椭圆 5"/>
          <p:cNvSpPr/>
          <p:nvPr/>
        </p:nvSpPr>
        <p:spPr>
          <a:xfrm>
            <a:off x="1289520" y="3282840"/>
            <a:ext cx="2663640" cy="2663640"/>
          </a:xfrm>
          <a:prstGeom prst="ellipse">
            <a:avLst/>
          </a:prstGeom>
          <a:noFill/>
          <a:ln w="38100">
            <a:solidFill>
              <a:srgbClr val="00000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1044" name="组合 3"/>
          <p:cNvGrpSpPr/>
          <p:nvPr/>
        </p:nvGrpSpPr>
        <p:grpSpPr>
          <a:xfrm>
            <a:off x="1350360" y="3343680"/>
            <a:ext cx="2571120" cy="2571120"/>
            <a:chOff x="1350360" y="3343680"/>
            <a:chExt cx="2571120" cy="2571120"/>
          </a:xfrm>
        </p:grpSpPr>
        <p:sp>
          <p:nvSpPr>
            <p:cNvPr id="1045" name="任意多边形 246"/>
            <p:cNvSpPr/>
            <p:nvPr/>
          </p:nvSpPr>
          <p:spPr>
            <a:xfrm>
              <a:off x="1350360" y="3343680"/>
              <a:ext cx="2571120" cy="2571120"/>
            </a:xfrm>
            <a:custGeom>
              <a:avLst/>
              <a:gdLst>
                <a:gd name="textAreaLeft" fmla="*/ 0 w 2571120"/>
                <a:gd name="textAreaRight" fmla="*/ 2571480 w 2571120"/>
                <a:gd name="textAreaTop" fmla="*/ 0 h 2571120"/>
                <a:gd name="textAreaBottom" fmla="*/ 2571480 h 2571120"/>
              </a:gdLst>
              <a:ahLst/>
              <a:rect l="textAreaLeft" t="textAreaTop" r="textAreaRight" b="textAreaBottom"/>
              <a:pathLst>
                <a:path w="2761672" h="2761672">
                  <a:moveTo>
                    <a:pt x="1380836" y="0"/>
                  </a:moveTo>
                  <a:lnTo>
                    <a:pt x="1441012" y="3039"/>
                  </a:lnTo>
                  <a:lnTo>
                    <a:pt x="1441012" y="74318"/>
                  </a:lnTo>
                  <a:cubicBezTo>
                    <a:pt x="1441012" y="79441"/>
                    <a:pt x="1445165" y="83594"/>
                    <a:pt x="1450288" y="83594"/>
                  </a:cubicBezTo>
                  <a:lnTo>
                    <a:pt x="1487390" y="83594"/>
                  </a:lnTo>
                  <a:cubicBezTo>
                    <a:pt x="1492513" y="83594"/>
                    <a:pt x="1496666" y="79441"/>
                    <a:pt x="1496666" y="74318"/>
                  </a:cubicBezTo>
                  <a:lnTo>
                    <a:pt x="1496666" y="5849"/>
                  </a:lnTo>
                  <a:lnTo>
                    <a:pt x="1513198" y="6684"/>
                  </a:lnTo>
                  <a:lnTo>
                    <a:pt x="1513198" y="74318"/>
                  </a:lnTo>
                  <a:cubicBezTo>
                    <a:pt x="1513198" y="79441"/>
                    <a:pt x="1517351" y="83594"/>
                    <a:pt x="1522474" y="83594"/>
                  </a:cubicBezTo>
                  <a:lnTo>
                    <a:pt x="1559576" y="83594"/>
                  </a:lnTo>
                  <a:cubicBezTo>
                    <a:pt x="1564699" y="83594"/>
                    <a:pt x="1568852" y="79441"/>
                    <a:pt x="1568852" y="74318"/>
                  </a:cubicBezTo>
                  <a:lnTo>
                    <a:pt x="1568852" y="14277"/>
                  </a:lnTo>
                  <a:lnTo>
                    <a:pt x="1659123" y="28054"/>
                  </a:lnTo>
                  <a:lnTo>
                    <a:pt x="1696763" y="37732"/>
                  </a:lnTo>
                  <a:lnTo>
                    <a:pt x="1696763" y="74318"/>
                  </a:lnTo>
                  <a:cubicBezTo>
                    <a:pt x="1696763" y="79441"/>
                    <a:pt x="1700916" y="83594"/>
                    <a:pt x="1706039" y="83594"/>
                  </a:cubicBezTo>
                  <a:lnTo>
                    <a:pt x="1743141" y="83594"/>
                  </a:lnTo>
                  <a:cubicBezTo>
                    <a:pt x="1748264" y="83594"/>
                    <a:pt x="1752417" y="79441"/>
                    <a:pt x="1752417" y="74318"/>
                  </a:cubicBezTo>
                  <a:lnTo>
                    <a:pt x="1752417" y="52042"/>
                  </a:lnTo>
                  <a:lnTo>
                    <a:pt x="1768949" y="56293"/>
                  </a:lnTo>
                  <a:lnTo>
                    <a:pt x="1768949" y="74318"/>
                  </a:lnTo>
                  <a:cubicBezTo>
                    <a:pt x="1768949" y="79441"/>
                    <a:pt x="1773102" y="83594"/>
                    <a:pt x="1778225" y="83594"/>
                  </a:cubicBezTo>
                  <a:lnTo>
                    <a:pt x="1815327" y="83594"/>
                  </a:lnTo>
                  <a:cubicBezTo>
                    <a:pt x="1820450" y="83594"/>
                    <a:pt x="1824603" y="79441"/>
                    <a:pt x="1824603" y="74318"/>
                  </a:cubicBezTo>
                  <a:lnTo>
                    <a:pt x="1824603" y="74212"/>
                  </a:lnTo>
                  <a:lnTo>
                    <a:pt x="1918320" y="108513"/>
                  </a:lnTo>
                  <a:lnTo>
                    <a:pt x="1981878" y="139130"/>
                  </a:lnTo>
                  <a:lnTo>
                    <a:pt x="1977958" y="141773"/>
                  </a:lnTo>
                  <a:cubicBezTo>
                    <a:pt x="1967454" y="152277"/>
                    <a:pt x="1960957" y="166789"/>
                    <a:pt x="1960957" y="182817"/>
                  </a:cubicBezTo>
                  <a:cubicBezTo>
                    <a:pt x="1960957" y="214875"/>
                    <a:pt x="1986944" y="240863"/>
                    <a:pt x="2019002" y="240863"/>
                  </a:cubicBezTo>
                  <a:cubicBezTo>
                    <a:pt x="2043046" y="240863"/>
                    <a:pt x="2063674" y="226245"/>
                    <a:pt x="2072486" y="205411"/>
                  </a:cubicBezTo>
                  <a:lnTo>
                    <a:pt x="2075799" y="189000"/>
                  </a:lnTo>
                  <a:lnTo>
                    <a:pt x="2152875" y="235825"/>
                  </a:lnTo>
                  <a:lnTo>
                    <a:pt x="2176204" y="253270"/>
                  </a:lnTo>
                  <a:lnTo>
                    <a:pt x="2170410" y="255670"/>
                  </a:lnTo>
                  <a:cubicBezTo>
                    <a:pt x="2167135" y="258945"/>
                    <a:pt x="2165110" y="263469"/>
                    <a:pt x="2165110" y="268465"/>
                  </a:cubicBezTo>
                  <a:lnTo>
                    <a:pt x="2165110" y="426886"/>
                  </a:lnTo>
                  <a:cubicBezTo>
                    <a:pt x="2165110" y="436880"/>
                    <a:pt x="2173211" y="444981"/>
                    <a:pt x="2183205" y="444981"/>
                  </a:cubicBezTo>
                  <a:lnTo>
                    <a:pt x="2193292" y="444981"/>
                  </a:lnTo>
                  <a:lnTo>
                    <a:pt x="2193292" y="299611"/>
                  </a:lnTo>
                  <a:cubicBezTo>
                    <a:pt x="2193292" y="298199"/>
                    <a:pt x="2194436" y="297054"/>
                    <a:pt x="2195849" y="297054"/>
                  </a:cubicBezTo>
                  <a:lnTo>
                    <a:pt x="2218237" y="297054"/>
                  </a:lnTo>
                  <a:cubicBezTo>
                    <a:pt x="2219649" y="297054"/>
                    <a:pt x="2220794" y="298199"/>
                    <a:pt x="2220794" y="299611"/>
                  </a:cubicBezTo>
                  <a:lnTo>
                    <a:pt x="2220794" y="444981"/>
                  </a:lnTo>
                  <a:lnTo>
                    <a:pt x="2217543" y="444981"/>
                  </a:lnTo>
                  <a:cubicBezTo>
                    <a:pt x="2212420" y="444981"/>
                    <a:pt x="2208267" y="449134"/>
                    <a:pt x="2208267" y="454257"/>
                  </a:cubicBezTo>
                  <a:lnTo>
                    <a:pt x="2208267" y="660708"/>
                  </a:lnTo>
                  <a:cubicBezTo>
                    <a:pt x="2208267" y="665831"/>
                    <a:pt x="2212420" y="669984"/>
                    <a:pt x="2217543" y="669984"/>
                  </a:cubicBezTo>
                  <a:lnTo>
                    <a:pt x="2254645" y="669984"/>
                  </a:lnTo>
                  <a:cubicBezTo>
                    <a:pt x="2259768" y="669984"/>
                    <a:pt x="2263921" y="665831"/>
                    <a:pt x="2263921" y="660708"/>
                  </a:cubicBezTo>
                  <a:lnTo>
                    <a:pt x="2263921" y="454257"/>
                  </a:lnTo>
                  <a:cubicBezTo>
                    <a:pt x="2263921" y="449134"/>
                    <a:pt x="2259768" y="444981"/>
                    <a:pt x="2254645" y="444981"/>
                  </a:cubicBezTo>
                  <a:lnTo>
                    <a:pt x="2289729" y="444981"/>
                  </a:lnTo>
                  <a:cubicBezTo>
                    <a:pt x="2284606" y="444981"/>
                    <a:pt x="2280453" y="449134"/>
                    <a:pt x="2280453" y="454257"/>
                  </a:cubicBezTo>
                  <a:lnTo>
                    <a:pt x="2280453" y="660708"/>
                  </a:lnTo>
                  <a:cubicBezTo>
                    <a:pt x="2280453" y="665831"/>
                    <a:pt x="2284606" y="669984"/>
                    <a:pt x="2289729" y="669984"/>
                  </a:cubicBezTo>
                  <a:lnTo>
                    <a:pt x="2326831" y="669984"/>
                  </a:lnTo>
                  <a:cubicBezTo>
                    <a:pt x="2331954" y="669984"/>
                    <a:pt x="2336107" y="665831"/>
                    <a:pt x="2336107" y="660708"/>
                  </a:cubicBezTo>
                  <a:lnTo>
                    <a:pt x="2336107" y="454257"/>
                  </a:lnTo>
                  <a:cubicBezTo>
                    <a:pt x="2336107" y="449134"/>
                    <a:pt x="2331954" y="444981"/>
                    <a:pt x="2326831" y="444981"/>
                  </a:cubicBezTo>
                  <a:lnTo>
                    <a:pt x="2320731" y="444981"/>
                  </a:lnTo>
                  <a:lnTo>
                    <a:pt x="2320731" y="371260"/>
                  </a:lnTo>
                  <a:lnTo>
                    <a:pt x="2348234" y="396257"/>
                  </a:lnTo>
                  <a:lnTo>
                    <a:pt x="2348234" y="444981"/>
                  </a:lnTo>
                  <a:lnTo>
                    <a:pt x="2362371" y="444981"/>
                  </a:lnTo>
                  <a:cubicBezTo>
                    <a:pt x="2367368" y="444981"/>
                    <a:pt x="2371892" y="442956"/>
                    <a:pt x="2375166" y="439681"/>
                  </a:cubicBezTo>
                  <a:lnTo>
                    <a:pt x="2379581" y="429024"/>
                  </a:lnTo>
                  <a:lnTo>
                    <a:pt x="2446356" y="502496"/>
                  </a:lnTo>
                  <a:lnTo>
                    <a:pt x="2464019" y="526116"/>
                  </a:lnTo>
                  <a:lnTo>
                    <a:pt x="2464019" y="660708"/>
                  </a:lnTo>
                  <a:cubicBezTo>
                    <a:pt x="2464019" y="665831"/>
                    <a:pt x="2468172" y="669984"/>
                    <a:pt x="2473295" y="669984"/>
                  </a:cubicBezTo>
                  <a:lnTo>
                    <a:pt x="2510397" y="669984"/>
                  </a:lnTo>
                  <a:cubicBezTo>
                    <a:pt x="2515520" y="669984"/>
                    <a:pt x="2519673" y="665831"/>
                    <a:pt x="2519673" y="660708"/>
                  </a:cubicBezTo>
                  <a:lnTo>
                    <a:pt x="2519673" y="600541"/>
                  </a:lnTo>
                  <a:lnTo>
                    <a:pt x="2525847" y="608797"/>
                  </a:lnTo>
                  <a:lnTo>
                    <a:pt x="2536205" y="625847"/>
                  </a:lnTo>
                  <a:lnTo>
                    <a:pt x="2536205" y="660708"/>
                  </a:lnTo>
                  <a:cubicBezTo>
                    <a:pt x="2536205" y="665831"/>
                    <a:pt x="2540358" y="669984"/>
                    <a:pt x="2545481" y="669984"/>
                  </a:cubicBezTo>
                  <a:lnTo>
                    <a:pt x="2563019" y="669984"/>
                  </a:lnTo>
                  <a:lnTo>
                    <a:pt x="2595013" y="722647"/>
                  </a:lnTo>
                  <a:cubicBezTo>
                    <a:pt x="2701299" y="918303"/>
                    <a:pt x="2761672" y="1142519"/>
                    <a:pt x="2761672" y="1380836"/>
                  </a:cubicBezTo>
                  <a:cubicBezTo>
                    <a:pt x="2761672" y="1571490"/>
                    <a:pt x="2723033" y="1753119"/>
                    <a:pt x="2653159" y="1918320"/>
                  </a:cubicBezTo>
                  <a:lnTo>
                    <a:pt x="2609218" y="2009538"/>
                  </a:lnTo>
                  <a:lnTo>
                    <a:pt x="2438957" y="2009538"/>
                  </a:lnTo>
                  <a:cubicBezTo>
                    <a:pt x="2428963" y="2009538"/>
                    <a:pt x="2420862" y="2017640"/>
                    <a:pt x="2420862" y="2027633"/>
                  </a:cubicBezTo>
                  <a:lnTo>
                    <a:pt x="2420862" y="2186054"/>
                  </a:lnTo>
                  <a:cubicBezTo>
                    <a:pt x="2420862" y="2196048"/>
                    <a:pt x="2428963" y="2204149"/>
                    <a:pt x="2438957" y="2204149"/>
                  </a:cubicBezTo>
                  <a:lnTo>
                    <a:pt x="2449044" y="2204149"/>
                  </a:lnTo>
                  <a:lnTo>
                    <a:pt x="2449044" y="2058780"/>
                  </a:lnTo>
                  <a:cubicBezTo>
                    <a:pt x="2449044" y="2057367"/>
                    <a:pt x="2450188" y="2056222"/>
                    <a:pt x="2451601" y="2056222"/>
                  </a:cubicBezTo>
                  <a:lnTo>
                    <a:pt x="2473989" y="2056222"/>
                  </a:lnTo>
                  <a:cubicBezTo>
                    <a:pt x="2475401" y="2056222"/>
                    <a:pt x="2476546" y="2057367"/>
                    <a:pt x="2476546" y="2058780"/>
                  </a:cubicBezTo>
                  <a:lnTo>
                    <a:pt x="2476546" y="2204149"/>
                  </a:lnTo>
                  <a:lnTo>
                    <a:pt x="2473295" y="2204149"/>
                  </a:lnTo>
                  <a:cubicBezTo>
                    <a:pt x="2468172" y="2204149"/>
                    <a:pt x="2464019" y="2208302"/>
                    <a:pt x="2464019" y="2213425"/>
                  </a:cubicBezTo>
                  <a:lnTo>
                    <a:pt x="2464019" y="2235556"/>
                  </a:lnTo>
                  <a:lnTo>
                    <a:pt x="2446356" y="2259176"/>
                  </a:lnTo>
                  <a:cubicBezTo>
                    <a:pt x="2418216" y="2293275"/>
                    <a:pt x="2388470" y="2326000"/>
                    <a:pt x="2357235" y="2357235"/>
                  </a:cubicBezTo>
                  <a:lnTo>
                    <a:pt x="2336107" y="2376437"/>
                  </a:lnTo>
                  <a:lnTo>
                    <a:pt x="2336107" y="2213425"/>
                  </a:lnTo>
                  <a:cubicBezTo>
                    <a:pt x="2336107" y="2208302"/>
                    <a:pt x="2331954" y="2204149"/>
                    <a:pt x="2326831" y="2204149"/>
                  </a:cubicBezTo>
                  <a:lnTo>
                    <a:pt x="2320731" y="2204149"/>
                  </a:lnTo>
                  <a:lnTo>
                    <a:pt x="2320731" y="2058780"/>
                  </a:lnTo>
                  <a:cubicBezTo>
                    <a:pt x="2320731" y="2057367"/>
                    <a:pt x="2321876" y="2056222"/>
                    <a:pt x="2323288" y="2056222"/>
                  </a:cubicBezTo>
                  <a:lnTo>
                    <a:pt x="2345676" y="2056222"/>
                  </a:lnTo>
                  <a:cubicBezTo>
                    <a:pt x="2347089" y="2056222"/>
                    <a:pt x="2348234" y="2057367"/>
                    <a:pt x="2348234" y="2058780"/>
                  </a:cubicBezTo>
                  <a:lnTo>
                    <a:pt x="2348234" y="2204149"/>
                  </a:lnTo>
                  <a:lnTo>
                    <a:pt x="2362371" y="2204149"/>
                  </a:lnTo>
                  <a:cubicBezTo>
                    <a:pt x="2372365" y="2204149"/>
                    <a:pt x="2380466" y="2196048"/>
                    <a:pt x="2380466" y="2186054"/>
                  </a:cubicBezTo>
                  <a:lnTo>
                    <a:pt x="2380466" y="2027633"/>
                  </a:lnTo>
                  <a:cubicBezTo>
                    <a:pt x="2380466" y="2017640"/>
                    <a:pt x="2372365" y="2009538"/>
                    <a:pt x="2362371" y="2009538"/>
                  </a:cubicBezTo>
                  <a:lnTo>
                    <a:pt x="2183205" y="2009538"/>
                  </a:lnTo>
                  <a:cubicBezTo>
                    <a:pt x="2173211" y="2009538"/>
                    <a:pt x="2165110" y="2017640"/>
                    <a:pt x="2165110" y="2027633"/>
                  </a:cubicBezTo>
                  <a:lnTo>
                    <a:pt x="2165110" y="2186054"/>
                  </a:lnTo>
                  <a:cubicBezTo>
                    <a:pt x="2165110" y="2196048"/>
                    <a:pt x="2173211" y="2204149"/>
                    <a:pt x="2183205" y="2204149"/>
                  </a:cubicBezTo>
                  <a:lnTo>
                    <a:pt x="2193292" y="2204149"/>
                  </a:lnTo>
                  <a:lnTo>
                    <a:pt x="2193292" y="2058780"/>
                  </a:lnTo>
                  <a:cubicBezTo>
                    <a:pt x="2193292" y="2057367"/>
                    <a:pt x="2194436" y="2056222"/>
                    <a:pt x="2195849" y="2056222"/>
                  </a:cubicBezTo>
                  <a:lnTo>
                    <a:pt x="2218237" y="2056222"/>
                  </a:lnTo>
                  <a:cubicBezTo>
                    <a:pt x="2219649" y="2056222"/>
                    <a:pt x="2220794" y="2057367"/>
                    <a:pt x="2220794" y="2058780"/>
                  </a:cubicBezTo>
                  <a:lnTo>
                    <a:pt x="2220794" y="2204149"/>
                  </a:lnTo>
                  <a:lnTo>
                    <a:pt x="2217543" y="2204149"/>
                  </a:lnTo>
                  <a:cubicBezTo>
                    <a:pt x="2212420" y="2204149"/>
                    <a:pt x="2208267" y="2208302"/>
                    <a:pt x="2208267" y="2213425"/>
                  </a:cubicBezTo>
                  <a:lnTo>
                    <a:pt x="2208267" y="2419876"/>
                  </a:lnTo>
                  <a:cubicBezTo>
                    <a:pt x="2208267" y="2424999"/>
                    <a:pt x="2212420" y="2429152"/>
                    <a:pt x="2217543" y="2429152"/>
                  </a:cubicBezTo>
                  <a:lnTo>
                    <a:pt x="2254645" y="2429152"/>
                  </a:lnTo>
                  <a:cubicBezTo>
                    <a:pt x="2259768" y="2429152"/>
                    <a:pt x="2263921" y="2424999"/>
                    <a:pt x="2263921" y="2419876"/>
                  </a:cubicBezTo>
                  <a:lnTo>
                    <a:pt x="2263921" y="2213425"/>
                  </a:lnTo>
                  <a:cubicBezTo>
                    <a:pt x="2263921" y="2208302"/>
                    <a:pt x="2259768" y="2204149"/>
                    <a:pt x="2254645" y="2204149"/>
                  </a:cubicBezTo>
                  <a:lnTo>
                    <a:pt x="2289729" y="2204149"/>
                  </a:lnTo>
                  <a:cubicBezTo>
                    <a:pt x="2284606" y="2204149"/>
                    <a:pt x="2280453" y="2208302"/>
                    <a:pt x="2280453" y="2213425"/>
                  </a:cubicBezTo>
                  <a:lnTo>
                    <a:pt x="2280453" y="2419876"/>
                  </a:lnTo>
                  <a:lnTo>
                    <a:pt x="2284195" y="2423618"/>
                  </a:lnTo>
                  <a:lnTo>
                    <a:pt x="2259176" y="2446356"/>
                  </a:lnTo>
                  <a:cubicBezTo>
                    <a:pt x="2190979" y="2502638"/>
                    <a:pt x="2117287" y="2552498"/>
                    <a:pt x="2039025" y="2595013"/>
                  </a:cubicBezTo>
                  <a:lnTo>
                    <a:pt x="2037126" y="2595928"/>
                  </a:lnTo>
                  <a:lnTo>
                    <a:pt x="1927453" y="2595928"/>
                  </a:lnTo>
                  <a:cubicBezTo>
                    <a:pt x="1917459" y="2595928"/>
                    <a:pt x="1909358" y="2604030"/>
                    <a:pt x="1909358" y="2614023"/>
                  </a:cubicBezTo>
                  <a:lnTo>
                    <a:pt x="1909358" y="2656439"/>
                  </a:lnTo>
                  <a:lnTo>
                    <a:pt x="1868962" y="2671224"/>
                  </a:lnTo>
                  <a:lnTo>
                    <a:pt x="1868962" y="2614023"/>
                  </a:lnTo>
                  <a:cubicBezTo>
                    <a:pt x="1868962" y="2604030"/>
                    <a:pt x="1860861" y="2595928"/>
                    <a:pt x="1850867" y="2595928"/>
                  </a:cubicBezTo>
                  <a:lnTo>
                    <a:pt x="1671701" y="2595928"/>
                  </a:lnTo>
                  <a:cubicBezTo>
                    <a:pt x="1661707" y="2595928"/>
                    <a:pt x="1653606" y="2604030"/>
                    <a:pt x="1653606" y="2614023"/>
                  </a:cubicBezTo>
                  <a:lnTo>
                    <a:pt x="1653606" y="2734460"/>
                  </a:lnTo>
                  <a:lnTo>
                    <a:pt x="1613211" y="2740625"/>
                  </a:lnTo>
                  <a:lnTo>
                    <a:pt x="1613211" y="2614023"/>
                  </a:lnTo>
                  <a:cubicBezTo>
                    <a:pt x="1613211" y="2604030"/>
                    <a:pt x="1605110" y="2595928"/>
                    <a:pt x="1595116" y="2595928"/>
                  </a:cubicBezTo>
                  <a:lnTo>
                    <a:pt x="1415950" y="2595928"/>
                  </a:lnTo>
                  <a:cubicBezTo>
                    <a:pt x="1405956" y="2595928"/>
                    <a:pt x="1397855" y="2604030"/>
                    <a:pt x="1397855" y="2614023"/>
                  </a:cubicBezTo>
                  <a:lnTo>
                    <a:pt x="1397855" y="2760813"/>
                  </a:lnTo>
                  <a:lnTo>
                    <a:pt x="1380836" y="2761672"/>
                  </a:lnTo>
                  <a:lnTo>
                    <a:pt x="1357459" y="2760492"/>
                  </a:lnTo>
                  <a:lnTo>
                    <a:pt x="1357459" y="2614023"/>
                  </a:lnTo>
                  <a:cubicBezTo>
                    <a:pt x="1357459" y="2604030"/>
                    <a:pt x="1349358" y="2595928"/>
                    <a:pt x="1339364" y="2595928"/>
                  </a:cubicBezTo>
                  <a:lnTo>
                    <a:pt x="1160198" y="2595928"/>
                  </a:lnTo>
                  <a:cubicBezTo>
                    <a:pt x="1150204" y="2595928"/>
                    <a:pt x="1142103" y="2604030"/>
                    <a:pt x="1142103" y="2614023"/>
                  </a:cubicBezTo>
                  <a:lnTo>
                    <a:pt x="1142103" y="2739655"/>
                  </a:lnTo>
                  <a:lnTo>
                    <a:pt x="1102549" y="2733618"/>
                  </a:lnTo>
                  <a:lnTo>
                    <a:pt x="1101707" y="2733402"/>
                  </a:lnTo>
                  <a:lnTo>
                    <a:pt x="1101707" y="2614023"/>
                  </a:lnTo>
                  <a:cubicBezTo>
                    <a:pt x="1101707" y="2604030"/>
                    <a:pt x="1093606" y="2595928"/>
                    <a:pt x="1083612" y="2595928"/>
                  </a:cubicBezTo>
                  <a:lnTo>
                    <a:pt x="904446" y="2595928"/>
                  </a:lnTo>
                  <a:cubicBezTo>
                    <a:pt x="894452" y="2595928"/>
                    <a:pt x="886351" y="2604030"/>
                    <a:pt x="886351" y="2614023"/>
                  </a:cubicBezTo>
                  <a:lnTo>
                    <a:pt x="886351" y="2668897"/>
                  </a:lnTo>
                  <a:lnTo>
                    <a:pt x="845955" y="2654112"/>
                  </a:lnTo>
                  <a:lnTo>
                    <a:pt x="845955" y="2614023"/>
                  </a:lnTo>
                  <a:cubicBezTo>
                    <a:pt x="845955" y="2604030"/>
                    <a:pt x="837854" y="2595928"/>
                    <a:pt x="827860" y="2595928"/>
                  </a:cubicBezTo>
                  <a:lnTo>
                    <a:pt x="724546" y="2595928"/>
                  </a:lnTo>
                  <a:lnTo>
                    <a:pt x="722647" y="2595013"/>
                  </a:lnTo>
                  <a:cubicBezTo>
                    <a:pt x="644385" y="2552498"/>
                    <a:pt x="570693" y="2502638"/>
                    <a:pt x="502496" y="2446356"/>
                  </a:cubicBezTo>
                  <a:lnTo>
                    <a:pt x="473517" y="2420018"/>
                  </a:lnTo>
                  <a:lnTo>
                    <a:pt x="473659" y="2419876"/>
                  </a:lnTo>
                  <a:lnTo>
                    <a:pt x="473659" y="2213425"/>
                  </a:lnTo>
                  <a:cubicBezTo>
                    <a:pt x="473659" y="2208302"/>
                    <a:pt x="469506" y="2204149"/>
                    <a:pt x="464383" y="2204149"/>
                  </a:cubicBezTo>
                  <a:lnTo>
                    <a:pt x="499467" y="2204149"/>
                  </a:lnTo>
                  <a:cubicBezTo>
                    <a:pt x="494344" y="2204149"/>
                    <a:pt x="490191" y="2208302"/>
                    <a:pt x="490191" y="2213425"/>
                  </a:cubicBezTo>
                  <a:lnTo>
                    <a:pt x="490191" y="2419876"/>
                  </a:lnTo>
                  <a:cubicBezTo>
                    <a:pt x="490191" y="2424999"/>
                    <a:pt x="494344" y="2429152"/>
                    <a:pt x="499467" y="2429152"/>
                  </a:cubicBezTo>
                  <a:lnTo>
                    <a:pt x="536569" y="2429152"/>
                  </a:lnTo>
                  <a:cubicBezTo>
                    <a:pt x="541692" y="2429152"/>
                    <a:pt x="545845" y="2424999"/>
                    <a:pt x="545845" y="2419876"/>
                  </a:cubicBezTo>
                  <a:lnTo>
                    <a:pt x="545845" y="2213425"/>
                  </a:lnTo>
                  <a:cubicBezTo>
                    <a:pt x="545845" y="2208302"/>
                    <a:pt x="541692" y="2204149"/>
                    <a:pt x="536569" y="2204149"/>
                  </a:cubicBezTo>
                  <a:lnTo>
                    <a:pt x="530469" y="2204149"/>
                  </a:lnTo>
                  <a:lnTo>
                    <a:pt x="530469" y="2058780"/>
                  </a:lnTo>
                  <a:cubicBezTo>
                    <a:pt x="530469" y="2057367"/>
                    <a:pt x="531614" y="2056222"/>
                    <a:pt x="533026" y="2056222"/>
                  </a:cubicBezTo>
                  <a:lnTo>
                    <a:pt x="555414" y="2056222"/>
                  </a:lnTo>
                  <a:cubicBezTo>
                    <a:pt x="556827" y="2056222"/>
                    <a:pt x="557971" y="2057367"/>
                    <a:pt x="557971" y="2058780"/>
                  </a:cubicBezTo>
                  <a:lnTo>
                    <a:pt x="557971" y="2204149"/>
                  </a:lnTo>
                  <a:lnTo>
                    <a:pt x="572109" y="2204149"/>
                  </a:lnTo>
                  <a:cubicBezTo>
                    <a:pt x="582103" y="2204149"/>
                    <a:pt x="590204" y="2196048"/>
                    <a:pt x="590204" y="2186054"/>
                  </a:cubicBezTo>
                  <a:lnTo>
                    <a:pt x="590204" y="2027633"/>
                  </a:lnTo>
                  <a:cubicBezTo>
                    <a:pt x="590204" y="2017640"/>
                    <a:pt x="582103" y="2009538"/>
                    <a:pt x="572109" y="2009538"/>
                  </a:cubicBezTo>
                  <a:lnTo>
                    <a:pt x="392943" y="2009538"/>
                  </a:lnTo>
                  <a:cubicBezTo>
                    <a:pt x="382949" y="2009538"/>
                    <a:pt x="374848" y="2017640"/>
                    <a:pt x="374848" y="2027633"/>
                  </a:cubicBezTo>
                  <a:lnTo>
                    <a:pt x="374848" y="2186054"/>
                  </a:lnTo>
                  <a:cubicBezTo>
                    <a:pt x="374848" y="2196048"/>
                    <a:pt x="382949" y="2204149"/>
                    <a:pt x="392943" y="2204149"/>
                  </a:cubicBezTo>
                  <a:lnTo>
                    <a:pt x="403029" y="2204149"/>
                  </a:lnTo>
                  <a:lnTo>
                    <a:pt x="403029" y="2058780"/>
                  </a:lnTo>
                  <a:cubicBezTo>
                    <a:pt x="403029" y="2057367"/>
                    <a:pt x="404174" y="2056222"/>
                    <a:pt x="405587" y="2056222"/>
                  </a:cubicBezTo>
                  <a:lnTo>
                    <a:pt x="427975" y="2056222"/>
                  </a:lnTo>
                  <a:cubicBezTo>
                    <a:pt x="429387" y="2056222"/>
                    <a:pt x="430532" y="2057367"/>
                    <a:pt x="430532" y="2058780"/>
                  </a:cubicBezTo>
                  <a:lnTo>
                    <a:pt x="430532" y="2204149"/>
                  </a:lnTo>
                  <a:lnTo>
                    <a:pt x="427281" y="2204149"/>
                  </a:lnTo>
                  <a:cubicBezTo>
                    <a:pt x="422158" y="2204149"/>
                    <a:pt x="418005" y="2208302"/>
                    <a:pt x="418005" y="2213425"/>
                  </a:cubicBezTo>
                  <a:lnTo>
                    <a:pt x="418005" y="2369567"/>
                  </a:lnTo>
                  <a:lnTo>
                    <a:pt x="404437" y="2357235"/>
                  </a:lnTo>
                  <a:cubicBezTo>
                    <a:pt x="373202" y="2326000"/>
                    <a:pt x="343456" y="2293275"/>
                    <a:pt x="315316" y="2259176"/>
                  </a:cubicBezTo>
                  <a:lnTo>
                    <a:pt x="290093" y="2225446"/>
                  </a:lnTo>
                  <a:lnTo>
                    <a:pt x="290093" y="2213425"/>
                  </a:lnTo>
                  <a:cubicBezTo>
                    <a:pt x="290093" y="2208302"/>
                    <a:pt x="285940" y="2204149"/>
                    <a:pt x="280817" y="2204149"/>
                  </a:cubicBezTo>
                  <a:lnTo>
                    <a:pt x="274717" y="2204149"/>
                  </a:lnTo>
                  <a:lnTo>
                    <a:pt x="274717" y="2058780"/>
                  </a:lnTo>
                  <a:cubicBezTo>
                    <a:pt x="274717" y="2057367"/>
                    <a:pt x="275862" y="2056222"/>
                    <a:pt x="277274" y="2056222"/>
                  </a:cubicBezTo>
                  <a:lnTo>
                    <a:pt x="299662" y="2056222"/>
                  </a:lnTo>
                  <a:cubicBezTo>
                    <a:pt x="301075" y="2056222"/>
                    <a:pt x="302219" y="2057367"/>
                    <a:pt x="302219" y="2058780"/>
                  </a:cubicBezTo>
                  <a:lnTo>
                    <a:pt x="302219" y="2204149"/>
                  </a:lnTo>
                  <a:lnTo>
                    <a:pt x="316357" y="2204149"/>
                  </a:lnTo>
                  <a:cubicBezTo>
                    <a:pt x="326351" y="2204149"/>
                    <a:pt x="334452" y="2196048"/>
                    <a:pt x="334452" y="2186054"/>
                  </a:cubicBezTo>
                  <a:lnTo>
                    <a:pt x="334452" y="2027633"/>
                  </a:lnTo>
                  <a:cubicBezTo>
                    <a:pt x="334452" y="2017640"/>
                    <a:pt x="326351" y="2009538"/>
                    <a:pt x="316357" y="2009538"/>
                  </a:cubicBezTo>
                  <a:lnTo>
                    <a:pt x="152455" y="2009538"/>
                  </a:lnTo>
                  <a:lnTo>
                    <a:pt x="108513" y="1918320"/>
                  </a:lnTo>
                  <a:cubicBezTo>
                    <a:pt x="38639" y="1753119"/>
                    <a:pt x="0" y="1571490"/>
                    <a:pt x="0" y="1380836"/>
                  </a:cubicBezTo>
                  <a:cubicBezTo>
                    <a:pt x="0" y="1142519"/>
                    <a:pt x="60373" y="918303"/>
                    <a:pt x="166659" y="722647"/>
                  </a:cubicBezTo>
                  <a:lnTo>
                    <a:pt x="198653" y="669984"/>
                  </a:lnTo>
                  <a:lnTo>
                    <a:pt x="208631" y="669984"/>
                  </a:lnTo>
                  <a:cubicBezTo>
                    <a:pt x="213754" y="669984"/>
                    <a:pt x="217907" y="665831"/>
                    <a:pt x="217907" y="660708"/>
                  </a:cubicBezTo>
                  <a:lnTo>
                    <a:pt x="217907" y="638291"/>
                  </a:lnTo>
                  <a:lnTo>
                    <a:pt x="234439" y="611079"/>
                  </a:lnTo>
                  <a:lnTo>
                    <a:pt x="234439" y="660708"/>
                  </a:lnTo>
                  <a:cubicBezTo>
                    <a:pt x="234439" y="665831"/>
                    <a:pt x="238592" y="669984"/>
                    <a:pt x="243715" y="669984"/>
                  </a:cubicBezTo>
                  <a:lnTo>
                    <a:pt x="280817" y="669984"/>
                  </a:lnTo>
                  <a:cubicBezTo>
                    <a:pt x="285940" y="669984"/>
                    <a:pt x="290093" y="665831"/>
                    <a:pt x="290093" y="660708"/>
                  </a:cubicBezTo>
                  <a:lnTo>
                    <a:pt x="290093" y="536226"/>
                  </a:lnTo>
                  <a:lnTo>
                    <a:pt x="315316" y="502496"/>
                  </a:lnTo>
                  <a:lnTo>
                    <a:pt x="377724" y="433829"/>
                  </a:lnTo>
                  <a:lnTo>
                    <a:pt x="380148" y="439681"/>
                  </a:lnTo>
                  <a:cubicBezTo>
                    <a:pt x="383422" y="442956"/>
                    <a:pt x="387946" y="444981"/>
                    <a:pt x="392943" y="444981"/>
                  </a:cubicBezTo>
                  <a:lnTo>
                    <a:pt x="403029" y="444981"/>
                  </a:lnTo>
                  <a:lnTo>
                    <a:pt x="403029" y="405986"/>
                  </a:lnTo>
                  <a:lnTo>
                    <a:pt x="404437" y="404437"/>
                  </a:lnTo>
                  <a:lnTo>
                    <a:pt x="430532" y="380721"/>
                  </a:lnTo>
                  <a:lnTo>
                    <a:pt x="430532" y="444981"/>
                  </a:lnTo>
                  <a:lnTo>
                    <a:pt x="427281" y="444981"/>
                  </a:lnTo>
                  <a:cubicBezTo>
                    <a:pt x="422158" y="444981"/>
                    <a:pt x="418005" y="449134"/>
                    <a:pt x="418005" y="454257"/>
                  </a:cubicBezTo>
                  <a:lnTo>
                    <a:pt x="418005" y="660708"/>
                  </a:lnTo>
                  <a:cubicBezTo>
                    <a:pt x="418005" y="665831"/>
                    <a:pt x="422158" y="669984"/>
                    <a:pt x="427281" y="669984"/>
                  </a:cubicBezTo>
                  <a:lnTo>
                    <a:pt x="464383" y="669984"/>
                  </a:lnTo>
                  <a:cubicBezTo>
                    <a:pt x="469506" y="669984"/>
                    <a:pt x="473659" y="665831"/>
                    <a:pt x="473659" y="660708"/>
                  </a:cubicBezTo>
                  <a:lnTo>
                    <a:pt x="473659" y="454257"/>
                  </a:lnTo>
                  <a:cubicBezTo>
                    <a:pt x="473659" y="449134"/>
                    <a:pt x="469506" y="444981"/>
                    <a:pt x="464383" y="444981"/>
                  </a:cubicBezTo>
                  <a:lnTo>
                    <a:pt x="499467" y="444981"/>
                  </a:lnTo>
                  <a:cubicBezTo>
                    <a:pt x="494344" y="444981"/>
                    <a:pt x="490191" y="449134"/>
                    <a:pt x="490191" y="454257"/>
                  </a:cubicBezTo>
                  <a:lnTo>
                    <a:pt x="490191" y="660708"/>
                  </a:lnTo>
                  <a:cubicBezTo>
                    <a:pt x="490191" y="665831"/>
                    <a:pt x="494344" y="669984"/>
                    <a:pt x="499467" y="669984"/>
                  </a:cubicBezTo>
                  <a:lnTo>
                    <a:pt x="536569" y="669984"/>
                  </a:lnTo>
                  <a:cubicBezTo>
                    <a:pt x="541692" y="669984"/>
                    <a:pt x="545845" y="665831"/>
                    <a:pt x="545845" y="660708"/>
                  </a:cubicBezTo>
                  <a:lnTo>
                    <a:pt x="545845" y="454257"/>
                  </a:lnTo>
                  <a:cubicBezTo>
                    <a:pt x="545845" y="449134"/>
                    <a:pt x="541692" y="444981"/>
                    <a:pt x="536569" y="444981"/>
                  </a:cubicBezTo>
                  <a:lnTo>
                    <a:pt x="530469" y="444981"/>
                  </a:lnTo>
                  <a:lnTo>
                    <a:pt x="530469" y="299611"/>
                  </a:lnTo>
                  <a:cubicBezTo>
                    <a:pt x="530469" y="298199"/>
                    <a:pt x="531614" y="297054"/>
                    <a:pt x="533026" y="297054"/>
                  </a:cubicBezTo>
                  <a:lnTo>
                    <a:pt x="555414" y="297054"/>
                  </a:lnTo>
                  <a:cubicBezTo>
                    <a:pt x="556827" y="297054"/>
                    <a:pt x="557971" y="298199"/>
                    <a:pt x="557971" y="299611"/>
                  </a:cubicBezTo>
                  <a:lnTo>
                    <a:pt x="557971" y="444981"/>
                  </a:lnTo>
                  <a:lnTo>
                    <a:pt x="572109" y="444981"/>
                  </a:lnTo>
                  <a:cubicBezTo>
                    <a:pt x="582103" y="444981"/>
                    <a:pt x="590204" y="436880"/>
                    <a:pt x="590204" y="426886"/>
                  </a:cubicBezTo>
                  <a:lnTo>
                    <a:pt x="590204" y="268465"/>
                  </a:lnTo>
                  <a:cubicBezTo>
                    <a:pt x="590204" y="263469"/>
                    <a:pt x="588179" y="258945"/>
                    <a:pt x="584904" y="255670"/>
                  </a:cubicBezTo>
                  <a:lnTo>
                    <a:pt x="583202" y="254965"/>
                  </a:lnTo>
                  <a:lnTo>
                    <a:pt x="608797" y="235825"/>
                  </a:lnTo>
                  <a:lnTo>
                    <a:pt x="683711" y="190313"/>
                  </a:lnTo>
                  <a:lnTo>
                    <a:pt x="686759" y="205411"/>
                  </a:lnTo>
                  <a:cubicBezTo>
                    <a:pt x="695571" y="226245"/>
                    <a:pt x="716200" y="240863"/>
                    <a:pt x="740243" y="240863"/>
                  </a:cubicBezTo>
                  <a:cubicBezTo>
                    <a:pt x="772300" y="240863"/>
                    <a:pt x="798288" y="214875"/>
                    <a:pt x="798288" y="182817"/>
                  </a:cubicBezTo>
                  <a:cubicBezTo>
                    <a:pt x="798288" y="166789"/>
                    <a:pt x="791791" y="152277"/>
                    <a:pt x="781287" y="141773"/>
                  </a:cubicBezTo>
                  <a:lnTo>
                    <a:pt x="778378" y="139812"/>
                  </a:lnTo>
                  <a:lnTo>
                    <a:pt x="843352" y="108513"/>
                  </a:lnTo>
                  <a:lnTo>
                    <a:pt x="931457" y="76267"/>
                  </a:lnTo>
                  <a:lnTo>
                    <a:pt x="938784" y="83594"/>
                  </a:lnTo>
                  <a:lnTo>
                    <a:pt x="975886" y="83594"/>
                  </a:lnTo>
                  <a:cubicBezTo>
                    <a:pt x="981009" y="83594"/>
                    <a:pt x="985162" y="79441"/>
                    <a:pt x="985162" y="74318"/>
                  </a:cubicBezTo>
                  <a:lnTo>
                    <a:pt x="985162" y="58237"/>
                  </a:lnTo>
                  <a:lnTo>
                    <a:pt x="1001694" y="53987"/>
                  </a:lnTo>
                  <a:lnTo>
                    <a:pt x="1001694" y="74318"/>
                  </a:lnTo>
                  <a:cubicBezTo>
                    <a:pt x="1001694" y="79441"/>
                    <a:pt x="1005847" y="83594"/>
                    <a:pt x="1010970" y="83594"/>
                  </a:cubicBezTo>
                  <a:lnTo>
                    <a:pt x="1048072" y="83594"/>
                  </a:lnTo>
                  <a:cubicBezTo>
                    <a:pt x="1053195" y="83594"/>
                    <a:pt x="1057348" y="79441"/>
                    <a:pt x="1057348" y="74318"/>
                  </a:cubicBezTo>
                  <a:lnTo>
                    <a:pt x="1057348" y="39676"/>
                  </a:lnTo>
                  <a:lnTo>
                    <a:pt x="1102549" y="28054"/>
                  </a:lnTo>
                  <a:lnTo>
                    <a:pt x="1185260" y="15431"/>
                  </a:lnTo>
                  <a:lnTo>
                    <a:pt x="1185260" y="74318"/>
                  </a:lnTo>
                  <a:cubicBezTo>
                    <a:pt x="1185260" y="79441"/>
                    <a:pt x="1189413" y="83594"/>
                    <a:pt x="1194536" y="83594"/>
                  </a:cubicBezTo>
                  <a:lnTo>
                    <a:pt x="1231638" y="83594"/>
                  </a:lnTo>
                  <a:cubicBezTo>
                    <a:pt x="1236761" y="83594"/>
                    <a:pt x="1240914" y="79441"/>
                    <a:pt x="1240914" y="74318"/>
                  </a:cubicBezTo>
                  <a:lnTo>
                    <a:pt x="1240914" y="7065"/>
                  </a:lnTo>
                  <a:lnTo>
                    <a:pt x="1257446" y="6231"/>
                  </a:lnTo>
                  <a:lnTo>
                    <a:pt x="1257446" y="74318"/>
                  </a:lnTo>
                  <a:cubicBezTo>
                    <a:pt x="1257446" y="79441"/>
                    <a:pt x="1261599" y="83594"/>
                    <a:pt x="1266722" y="83594"/>
                  </a:cubicBezTo>
                  <a:lnTo>
                    <a:pt x="1303824" y="83594"/>
                  </a:lnTo>
                  <a:cubicBezTo>
                    <a:pt x="1308947" y="83594"/>
                    <a:pt x="1313100" y="79441"/>
                    <a:pt x="1313100" y="74318"/>
                  </a:cubicBezTo>
                  <a:lnTo>
                    <a:pt x="1313100" y="3420"/>
                  </a:lnTo>
                  <a:lnTo>
                    <a:pt x="1380836" y="0"/>
                  </a:lnTo>
                  <a:close/>
                  <a:moveTo>
                    <a:pt x="995995" y="124772"/>
                  </a:moveTo>
                  <a:cubicBezTo>
                    <a:pt x="963937" y="124772"/>
                    <a:pt x="937950" y="150760"/>
                    <a:pt x="937950" y="182817"/>
                  </a:cubicBezTo>
                  <a:cubicBezTo>
                    <a:pt x="937950" y="214875"/>
                    <a:pt x="963937" y="240863"/>
                    <a:pt x="995995" y="240863"/>
                  </a:cubicBezTo>
                  <a:cubicBezTo>
                    <a:pt x="1028052" y="240863"/>
                    <a:pt x="1054040" y="214875"/>
                    <a:pt x="1054040" y="182817"/>
                  </a:cubicBezTo>
                  <a:cubicBezTo>
                    <a:pt x="1054040" y="150760"/>
                    <a:pt x="1028052" y="124772"/>
                    <a:pt x="995995" y="124772"/>
                  </a:cubicBezTo>
                  <a:close/>
                  <a:moveTo>
                    <a:pt x="1251747" y="124772"/>
                  </a:moveTo>
                  <a:cubicBezTo>
                    <a:pt x="1219689" y="124772"/>
                    <a:pt x="1193702" y="150760"/>
                    <a:pt x="1193702" y="182817"/>
                  </a:cubicBezTo>
                  <a:cubicBezTo>
                    <a:pt x="1193702" y="214875"/>
                    <a:pt x="1219689" y="240863"/>
                    <a:pt x="1251747" y="240863"/>
                  </a:cubicBezTo>
                  <a:cubicBezTo>
                    <a:pt x="1283804" y="240863"/>
                    <a:pt x="1309792" y="214875"/>
                    <a:pt x="1309792" y="182817"/>
                  </a:cubicBezTo>
                  <a:cubicBezTo>
                    <a:pt x="1309792" y="150760"/>
                    <a:pt x="1283804" y="124772"/>
                    <a:pt x="1251747" y="124772"/>
                  </a:cubicBezTo>
                  <a:close/>
                  <a:moveTo>
                    <a:pt x="1507499" y="124772"/>
                  </a:moveTo>
                  <a:cubicBezTo>
                    <a:pt x="1475441" y="124772"/>
                    <a:pt x="1449454" y="150760"/>
                    <a:pt x="1449454" y="182817"/>
                  </a:cubicBezTo>
                  <a:cubicBezTo>
                    <a:pt x="1449454" y="214875"/>
                    <a:pt x="1475441" y="240863"/>
                    <a:pt x="1507499" y="240863"/>
                  </a:cubicBezTo>
                  <a:cubicBezTo>
                    <a:pt x="1539557" y="240863"/>
                    <a:pt x="1565544" y="214875"/>
                    <a:pt x="1565544" y="182817"/>
                  </a:cubicBezTo>
                  <a:cubicBezTo>
                    <a:pt x="1565544" y="150760"/>
                    <a:pt x="1539557" y="124772"/>
                    <a:pt x="1507499" y="124772"/>
                  </a:cubicBezTo>
                  <a:close/>
                  <a:moveTo>
                    <a:pt x="1763250" y="124772"/>
                  </a:moveTo>
                  <a:cubicBezTo>
                    <a:pt x="1731192" y="124772"/>
                    <a:pt x="1705205" y="150760"/>
                    <a:pt x="1705205" y="182817"/>
                  </a:cubicBezTo>
                  <a:cubicBezTo>
                    <a:pt x="1705205" y="214875"/>
                    <a:pt x="1731192" y="240863"/>
                    <a:pt x="1763250" y="240863"/>
                  </a:cubicBezTo>
                  <a:cubicBezTo>
                    <a:pt x="1795308" y="240863"/>
                    <a:pt x="1821295" y="214875"/>
                    <a:pt x="1821295" y="182817"/>
                  </a:cubicBezTo>
                  <a:cubicBezTo>
                    <a:pt x="1821295" y="150760"/>
                    <a:pt x="1795308" y="124772"/>
                    <a:pt x="1763250" y="124772"/>
                  </a:cubicBezTo>
                  <a:close/>
                  <a:moveTo>
                    <a:pt x="648694" y="250370"/>
                  </a:moveTo>
                  <a:cubicBezTo>
                    <a:pt x="638700" y="250370"/>
                    <a:pt x="630599" y="258472"/>
                    <a:pt x="630599" y="268465"/>
                  </a:cubicBezTo>
                  <a:lnTo>
                    <a:pt x="630599" y="426886"/>
                  </a:lnTo>
                  <a:cubicBezTo>
                    <a:pt x="630599" y="436880"/>
                    <a:pt x="638700" y="444981"/>
                    <a:pt x="648694" y="444981"/>
                  </a:cubicBezTo>
                  <a:lnTo>
                    <a:pt x="658780" y="444981"/>
                  </a:lnTo>
                  <a:lnTo>
                    <a:pt x="658780" y="299611"/>
                  </a:lnTo>
                  <a:cubicBezTo>
                    <a:pt x="658780" y="298199"/>
                    <a:pt x="659925" y="297054"/>
                    <a:pt x="661338" y="297054"/>
                  </a:cubicBezTo>
                  <a:lnTo>
                    <a:pt x="683726" y="297054"/>
                  </a:lnTo>
                  <a:cubicBezTo>
                    <a:pt x="685138" y="297054"/>
                    <a:pt x="686283" y="298199"/>
                    <a:pt x="686283" y="299611"/>
                  </a:cubicBezTo>
                  <a:lnTo>
                    <a:pt x="686283" y="444981"/>
                  </a:lnTo>
                  <a:lnTo>
                    <a:pt x="683032" y="444981"/>
                  </a:lnTo>
                  <a:cubicBezTo>
                    <a:pt x="677909" y="444981"/>
                    <a:pt x="673756" y="449134"/>
                    <a:pt x="673756" y="454257"/>
                  </a:cubicBezTo>
                  <a:lnTo>
                    <a:pt x="673756" y="660708"/>
                  </a:lnTo>
                  <a:cubicBezTo>
                    <a:pt x="673756" y="665831"/>
                    <a:pt x="677909" y="669984"/>
                    <a:pt x="683032" y="669984"/>
                  </a:cubicBezTo>
                  <a:lnTo>
                    <a:pt x="720134" y="669984"/>
                  </a:lnTo>
                  <a:cubicBezTo>
                    <a:pt x="725257" y="669984"/>
                    <a:pt x="729410" y="665831"/>
                    <a:pt x="729410" y="660708"/>
                  </a:cubicBezTo>
                  <a:lnTo>
                    <a:pt x="729410" y="454257"/>
                  </a:lnTo>
                  <a:cubicBezTo>
                    <a:pt x="729410" y="449134"/>
                    <a:pt x="725257" y="444981"/>
                    <a:pt x="720134" y="444981"/>
                  </a:cubicBezTo>
                  <a:lnTo>
                    <a:pt x="755218" y="444981"/>
                  </a:lnTo>
                  <a:cubicBezTo>
                    <a:pt x="750095" y="444981"/>
                    <a:pt x="745942" y="449134"/>
                    <a:pt x="745942" y="454257"/>
                  </a:cubicBezTo>
                  <a:lnTo>
                    <a:pt x="745942" y="660708"/>
                  </a:lnTo>
                  <a:cubicBezTo>
                    <a:pt x="745942" y="665831"/>
                    <a:pt x="750095" y="669984"/>
                    <a:pt x="755218" y="669984"/>
                  </a:cubicBezTo>
                  <a:lnTo>
                    <a:pt x="792320" y="669984"/>
                  </a:lnTo>
                  <a:cubicBezTo>
                    <a:pt x="797443" y="669984"/>
                    <a:pt x="801596" y="665831"/>
                    <a:pt x="801596" y="660708"/>
                  </a:cubicBezTo>
                  <a:lnTo>
                    <a:pt x="801596" y="454257"/>
                  </a:lnTo>
                  <a:cubicBezTo>
                    <a:pt x="801596" y="449134"/>
                    <a:pt x="797443" y="444981"/>
                    <a:pt x="792320" y="444981"/>
                  </a:cubicBezTo>
                  <a:lnTo>
                    <a:pt x="786220" y="444981"/>
                  </a:lnTo>
                  <a:lnTo>
                    <a:pt x="786220" y="299611"/>
                  </a:lnTo>
                  <a:cubicBezTo>
                    <a:pt x="786220" y="298199"/>
                    <a:pt x="787365" y="297054"/>
                    <a:pt x="788777" y="297054"/>
                  </a:cubicBezTo>
                  <a:lnTo>
                    <a:pt x="811165" y="297054"/>
                  </a:lnTo>
                  <a:cubicBezTo>
                    <a:pt x="812578" y="297054"/>
                    <a:pt x="813722" y="298199"/>
                    <a:pt x="813722" y="299611"/>
                  </a:cubicBezTo>
                  <a:lnTo>
                    <a:pt x="813722" y="444981"/>
                  </a:lnTo>
                  <a:lnTo>
                    <a:pt x="827860" y="444981"/>
                  </a:lnTo>
                  <a:cubicBezTo>
                    <a:pt x="837854" y="444981"/>
                    <a:pt x="845955" y="436880"/>
                    <a:pt x="845955" y="426886"/>
                  </a:cubicBezTo>
                  <a:lnTo>
                    <a:pt x="845955" y="268465"/>
                  </a:lnTo>
                  <a:cubicBezTo>
                    <a:pt x="845955" y="258472"/>
                    <a:pt x="837854" y="250370"/>
                    <a:pt x="827860" y="250370"/>
                  </a:cubicBezTo>
                  <a:lnTo>
                    <a:pt x="648694" y="250370"/>
                  </a:lnTo>
                  <a:close/>
                  <a:moveTo>
                    <a:pt x="904446" y="250370"/>
                  </a:moveTo>
                  <a:cubicBezTo>
                    <a:pt x="894452" y="250370"/>
                    <a:pt x="886351" y="258472"/>
                    <a:pt x="886351" y="268465"/>
                  </a:cubicBezTo>
                  <a:lnTo>
                    <a:pt x="886351" y="426886"/>
                  </a:lnTo>
                  <a:cubicBezTo>
                    <a:pt x="886351" y="436880"/>
                    <a:pt x="894452" y="444981"/>
                    <a:pt x="904446" y="444981"/>
                  </a:cubicBezTo>
                  <a:lnTo>
                    <a:pt x="914532" y="444981"/>
                  </a:lnTo>
                  <a:lnTo>
                    <a:pt x="914532" y="299611"/>
                  </a:lnTo>
                  <a:cubicBezTo>
                    <a:pt x="914532" y="298199"/>
                    <a:pt x="915677" y="297054"/>
                    <a:pt x="917090" y="297054"/>
                  </a:cubicBezTo>
                  <a:lnTo>
                    <a:pt x="939478" y="297054"/>
                  </a:lnTo>
                  <a:cubicBezTo>
                    <a:pt x="940890" y="297054"/>
                    <a:pt x="942035" y="298199"/>
                    <a:pt x="942035" y="299611"/>
                  </a:cubicBezTo>
                  <a:lnTo>
                    <a:pt x="942035" y="444981"/>
                  </a:lnTo>
                  <a:lnTo>
                    <a:pt x="938784" y="444981"/>
                  </a:lnTo>
                  <a:cubicBezTo>
                    <a:pt x="933661" y="444981"/>
                    <a:pt x="929508" y="449134"/>
                    <a:pt x="929508" y="454257"/>
                  </a:cubicBezTo>
                  <a:lnTo>
                    <a:pt x="929508" y="660708"/>
                  </a:lnTo>
                  <a:cubicBezTo>
                    <a:pt x="929508" y="665831"/>
                    <a:pt x="933661" y="669984"/>
                    <a:pt x="938784" y="669984"/>
                  </a:cubicBezTo>
                  <a:lnTo>
                    <a:pt x="975886" y="669984"/>
                  </a:lnTo>
                  <a:cubicBezTo>
                    <a:pt x="981009" y="669984"/>
                    <a:pt x="985162" y="665831"/>
                    <a:pt x="985162" y="660708"/>
                  </a:cubicBezTo>
                  <a:lnTo>
                    <a:pt x="985162" y="454257"/>
                  </a:lnTo>
                  <a:cubicBezTo>
                    <a:pt x="985162" y="449134"/>
                    <a:pt x="981009" y="444981"/>
                    <a:pt x="975886" y="444981"/>
                  </a:cubicBezTo>
                  <a:lnTo>
                    <a:pt x="1010970" y="444981"/>
                  </a:lnTo>
                  <a:cubicBezTo>
                    <a:pt x="1005847" y="444981"/>
                    <a:pt x="1001694" y="449134"/>
                    <a:pt x="1001694" y="454257"/>
                  </a:cubicBezTo>
                  <a:lnTo>
                    <a:pt x="1001694" y="660708"/>
                  </a:lnTo>
                  <a:cubicBezTo>
                    <a:pt x="1001694" y="665831"/>
                    <a:pt x="1005847" y="669984"/>
                    <a:pt x="1010970" y="669984"/>
                  </a:cubicBezTo>
                  <a:lnTo>
                    <a:pt x="1048072" y="669984"/>
                  </a:lnTo>
                  <a:cubicBezTo>
                    <a:pt x="1053195" y="669984"/>
                    <a:pt x="1057348" y="665831"/>
                    <a:pt x="1057348" y="660708"/>
                  </a:cubicBezTo>
                  <a:lnTo>
                    <a:pt x="1057348" y="454257"/>
                  </a:lnTo>
                  <a:cubicBezTo>
                    <a:pt x="1057348" y="449134"/>
                    <a:pt x="1053195" y="444981"/>
                    <a:pt x="1048072" y="444981"/>
                  </a:cubicBezTo>
                  <a:lnTo>
                    <a:pt x="1041972" y="444981"/>
                  </a:lnTo>
                  <a:lnTo>
                    <a:pt x="1041972" y="299611"/>
                  </a:lnTo>
                  <a:cubicBezTo>
                    <a:pt x="1041972" y="298199"/>
                    <a:pt x="1043117" y="297054"/>
                    <a:pt x="1044529" y="297054"/>
                  </a:cubicBezTo>
                  <a:lnTo>
                    <a:pt x="1066917" y="297054"/>
                  </a:lnTo>
                  <a:cubicBezTo>
                    <a:pt x="1068330" y="297054"/>
                    <a:pt x="1069474" y="298199"/>
                    <a:pt x="1069474" y="299611"/>
                  </a:cubicBezTo>
                  <a:lnTo>
                    <a:pt x="1069474" y="444981"/>
                  </a:lnTo>
                  <a:lnTo>
                    <a:pt x="1083612" y="444981"/>
                  </a:lnTo>
                  <a:cubicBezTo>
                    <a:pt x="1093606" y="444981"/>
                    <a:pt x="1101707" y="436880"/>
                    <a:pt x="1101707" y="426886"/>
                  </a:cubicBezTo>
                  <a:lnTo>
                    <a:pt x="1101707" y="268465"/>
                  </a:lnTo>
                  <a:cubicBezTo>
                    <a:pt x="1101707" y="258472"/>
                    <a:pt x="1093606" y="250370"/>
                    <a:pt x="1083612" y="250370"/>
                  </a:cubicBezTo>
                  <a:lnTo>
                    <a:pt x="904446" y="250370"/>
                  </a:lnTo>
                  <a:close/>
                  <a:moveTo>
                    <a:pt x="1160198" y="250370"/>
                  </a:moveTo>
                  <a:cubicBezTo>
                    <a:pt x="1150204" y="250370"/>
                    <a:pt x="1142103" y="258472"/>
                    <a:pt x="1142103" y="268465"/>
                  </a:cubicBezTo>
                  <a:lnTo>
                    <a:pt x="1142103" y="426886"/>
                  </a:lnTo>
                  <a:cubicBezTo>
                    <a:pt x="1142103" y="436880"/>
                    <a:pt x="1150204" y="444981"/>
                    <a:pt x="1160198" y="444981"/>
                  </a:cubicBezTo>
                  <a:lnTo>
                    <a:pt x="1170284" y="444981"/>
                  </a:lnTo>
                  <a:lnTo>
                    <a:pt x="1170284" y="299611"/>
                  </a:lnTo>
                  <a:cubicBezTo>
                    <a:pt x="1170284" y="298199"/>
                    <a:pt x="1171429" y="297054"/>
                    <a:pt x="1172842" y="297054"/>
                  </a:cubicBezTo>
                  <a:lnTo>
                    <a:pt x="1195230" y="297054"/>
                  </a:lnTo>
                  <a:cubicBezTo>
                    <a:pt x="1196642" y="297054"/>
                    <a:pt x="1197787" y="298199"/>
                    <a:pt x="1197787" y="299611"/>
                  </a:cubicBezTo>
                  <a:lnTo>
                    <a:pt x="1197787" y="444981"/>
                  </a:lnTo>
                  <a:lnTo>
                    <a:pt x="1194536" y="444981"/>
                  </a:lnTo>
                  <a:cubicBezTo>
                    <a:pt x="1189413" y="444981"/>
                    <a:pt x="1185260" y="449134"/>
                    <a:pt x="1185260" y="454257"/>
                  </a:cubicBezTo>
                  <a:lnTo>
                    <a:pt x="1185260" y="660708"/>
                  </a:lnTo>
                  <a:cubicBezTo>
                    <a:pt x="1185260" y="665831"/>
                    <a:pt x="1189413" y="669984"/>
                    <a:pt x="1194536" y="669984"/>
                  </a:cubicBezTo>
                  <a:lnTo>
                    <a:pt x="1231638" y="669984"/>
                  </a:lnTo>
                  <a:cubicBezTo>
                    <a:pt x="1236761" y="669984"/>
                    <a:pt x="1240914" y="665831"/>
                    <a:pt x="1240914" y="660708"/>
                  </a:cubicBezTo>
                  <a:lnTo>
                    <a:pt x="1240914" y="454257"/>
                  </a:lnTo>
                  <a:cubicBezTo>
                    <a:pt x="1240914" y="449134"/>
                    <a:pt x="1236761" y="444981"/>
                    <a:pt x="1231638" y="444981"/>
                  </a:cubicBezTo>
                  <a:lnTo>
                    <a:pt x="1266722" y="444981"/>
                  </a:lnTo>
                  <a:cubicBezTo>
                    <a:pt x="1261599" y="444981"/>
                    <a:pt x="1257446" y="449134"/>
                    <a:pt x="1257446" y="454257"/>
                  </a:cubicBezTo>
                  <a:lnTo>
                    <a:pt x="1257446" y="660708"/>
                  </a:lnTo>
                  <a:cubicBezTo>
                    <a:pt x="1257446" y="665831"/>
                    <a:pt x="1261599" y="669984"/>
                    <a:pt x="1266722" y="669984"/>
                  </a:cubicBezTo>
                  <a:lnTo>
                    <a:pt x="1303824" y="669984"/>
                  </a:lnTo>
                  <a:cubicBezTo>
                    <a:pt x="1308947" y="669984"/>
                    <a:pt x="1313100" y="665831"/>
                    <a:pt x="1313100" y="660708"/>
                  </a:cubicBezTo>
                  <a:lnTo>
                    <a:pt x="1313100" y="454257"/>
                  </a:lnTo>
                  <a:cubicBezTo>
                    <a:pt x="1313100" y="449134"/>
                    <a:pt x="1308947" y="444981"/>
                    <a:pt x="1303824" y="444981"/>
                  </a:cubicBezTo>
                  <a:lnTo>
                    <a:pt x="1297724" y="444981"/>
                  </a:lnTo>
                  <a:lnTo>
                    <a:pt x="1297724" y="299611"/>
                  </a:lnTo>
                  <a:cubicBezTo>
                    <a:pt x="1297724" y="298199"/>
                    <a:pt x="1298869" y="297054"/>
                    <a:pt x="1300281" y="297054"/>
                  </a:cubicBezTo>
                  <a:lnTo>
                    <a:pt x="1322669" y="297054"/>
                  </a:lnTo>
                  <a:cubicBezTo>
                    <a:pt x="1324082" y="297054"/>
                    <a:pt x="1325226" y="298199"/>
                    <a:pt x="1325226" y="299611"/>
                  </a:cubicBezTo>
                  <a:lnTo>
                    <a:pt x="1325226" y="444981"/>
                  </a:lnTo>
                  <a:lnTo>
                    <a:pt x="1339364" y="444981"/>
                  </a:lnTo>
                  <a:cubicBezTo>
                    <a:pt x="1349358" y="444981"/>
                    <a:pt x="1357459" y="436880"/>
                    <a:pt x="1357459" y="426886"/>
                  </a:cubicBezTo>
                  <a:lnTo>
                    <a:pt x="1357459" y="268465"/>
                  </a:lnTo>
                  <a:cubicBezTo>
                    <a:pt x="1357459" y="258472"/>
                    <a:pt x="1349358" y="250370"/>
                    <a:pt x="1339364" y="250370"/>
                  </a:cubicBezTo>
                  <a:lnTo>
                    <a:pt x="1160198" y="250370"/>
                  </a:lnTo>
                  <a:close/>
                  <a:moveTo>
                    <a:pt x="1415950" y="250370"/>
                  </a:moveTo>
                  <a:cubicBezTo>
                    <a:pt x="1405956" y="250370"/>
                    <a:pt x="1397855" y="258472"/>
                    <a:pt x="1397855" y="268465"/>
                  </a:cubicBezTo>
                  <a:lnTo>
                    <a:pt x="1397855" y="426886"/>
                  </a:lnTo>
                  <a:cubicBezTo>
                    <a:pt x="1397855" y="436880"/>
                    <a:pt x="1405956" y="444981"/>
                    <a:pt x="1415950" y="444981"/>
                  </a:cubicBezTo>
                  <a:lnTo>
                    <a:pt x="1426036" y="444981"/>
                  </a:lnTo>
                  <a:lnTo>
                    <a:pt x="1426036" y="299611"/>
                  </a:lnTo>
                  <a:cubicBezTo>
                    <a:pt x="1426036" y="298199"/>
                    <a:pt x="1427181" y="297054"/>
                    <a:pt x="1428594" y="297054"/>
                  </a:cubicBezTo>
                  <a:lnTo>
                    <a:pt x="1450982" y="297054"/>
                  </a:lnTo>
                  <a:cubicBezTo>
                    <a:pt x="1452394" y="297054"/>
                    <a:pt x="1453539" y="298199"/>
                    <a:pt x="1453539" y="299611"/>
                  </a:cubicBezTo>
                  <a:lnTo>
                    <a:pt x="1453539" y="444981"/>
                  </a:lnTo>
                  <a:lnTo>
                    <a:pt x="1450288" y="444981"/>
                  </a:lnTo>
                  <a:cubicBezTo>
                    <a:pt x="1445165" y="444981"/>
                    <a:pt x="1441012" y="449134"/>
                    <a:pt x="1441012" y="454257"/>
                  </a:cubicBezTo>
                  <a:lnTo>
                    <a:pt x="1441012" y="660708"/>
                  </a:lnTo>
                  <a:cubicBezTo>
                    <a:pt x="1441012" y="665831"/>
                    <a:pt x="1445165" y="669984"/>
                    <a:pt x="1450288" y="669984"/>
                  </a:cubicBezTo>
                  <a:lnTo>
                    <a:pt x="1487390" y="669984"/>
                  </a:lnTo>
                  <a:cubicBezTo>
                    <a:pt x="1492513" y="669984"/>
                    <a:pt x="1496666" y="665831"/>
                    <a:pt x="1496666" y="660708"/>
                  </a:cubicBezTo>
                  <a:lnTo>
                    <a:pt x="1496666" y="454257"/>
                  </a:lnTo>
                  <a:cubicBezTo>
                    <a:pt x="1496666" y="449134"/>
                    <a:pt x="1492513" y="444981"/>
                    <a:pt x="1487390" y="444981"/>
                  </a:cubicBezTo>
                  <a:lnTo>
                    <a:pt x="1522474" y="444981"/>
                  </a:lnTo>
                  <a:cubicBezTo>
                    <a:pt x="1517351" y="444981"/>
                    <a:pt x="1513198" y="449134"/>
                    <a:pt x="1513198" y="454257"/>
                  </a:cubicBezTo>
                  <a:lnTo>
                    <a:pt x="1513198" y="660708"/>
                  </a:lnTo>
                  <a:cubicBezTo>
                    <a:pt x="1513198" y="665831"/>
                    <a:pt x="1517351" y="669984"/>
                    <a:pt x="1522474" y="669984"/>
                  </a:cubicBezTo>
                  <a:lnTo>
                    <a:pt x="1559576" y="669984"/>
                  </a:lnTo>
                  <a:cubicBezTo>
                    <a:pt x="1564699" y="669984"/>
                    <a:pt x="1568852" y="665831"/>
                    <a:pt x="1568852" y="660708"/>
                  </a:cubicBezTo>
                  <a:lnTo>
                    <a:pt x="1568852" y="454257"/>
                  </a:lnTo>
                  <a:cubicBezTo>
                    <a:pt x="1568852" y="449134"/>
                    <a:pt x="1564699" y="444981"/>
                    <a:pt x="1559576" y="444981"/>
                  </a:cubicBezTo>
                  <a:lnTo>
                    <a:pt x="1553476" y="444981"/>
                  </a:lnTo>
                  <a:lnTo>
                    <a:pt x="1553476" y="299611"/>
                  </a:lnTo>
                  <a:cubicBezTo>
                    <a:pt x="1553476" y="298199"/>
                    <a:pt x="1554621" y="297054"/>
                    <a:pt x="1556033" y="297054"/>
                  </a:cubicBezTo>
                  <a:lnTo>
                    <a:pt x="1578421" y="297054"/>
                  </a:lnTo>
                  <a:cubicBezTo>
                    <a:pt x="1579834" y="297054"/>
                    <a:pt x="1580978" y="298199"/>
                    <a:pt x="1580978" y="299611"/>
                  </a:cubicBezTo>
                  <a:lnTo>
                    <a:pt x="1580978" y="444981"/>
                  </a:lnTo>
                  <a:lnTo>
                    <a:pt x="1595116" y="444981"/>
                  </a:lnTo>
                  <a:cubicBezTo>
                    <a:pt x="1605110" y="444981"/>
                    <a:pt x="1613211" y="436880"/>
                    <a:pt x="1613211" y="426886"/>
                  </a:cubicBezTo>
                  <a:lnTo>
                    <a:pt x="1613211" y="268465"/>
                  </a:lnTo>
                  <a:cubicBezTo>
                    <a:pt x="1613211" y="258472"/>
                    <a:pt x="1605110" y="250370"/>
                    <a:pt x="1595116" y="250370"/>
                  </a:cubicBezTo>
                  <a:lnTo>
                    <a:pt x="1415950" y="250370"/>
                  </a:lnTo>
                  <a:close/>
                  <a:moveTo>
                    <a:pt x="1671701" y="250370"/>
                  </a:moveTo>
                  <a:cubicBezTo>
                    <a:pt x="1661707" y="250370"/>
                    <a:pt x="1653606" y="258472"/>
                    <a:pt x="1653606" y="268465"/>
                  </a:cubicBezTo>
                  <a:lnTo>
                    <a:pt x="1653606" y="426886"/>
                  </a:lnTo>
                  <a:cubicBezTo>
                    <a:pt x="1653606" y="436880"/>
                    <a:pt x="1661707" y="444981"/>
                    <a:pt x="1671701" y="444981"/>
                  </a:cubicBezTo>
                  <a:lnTo>
                    <a:pt x="1681787" y="444981"/>
                  </a:lnTo>
                  <a:lnTo>
                    <a:pt x="1681787" y="299611"/>
                  </a:lnTo>
                  <a:cubicBezTo>
                    <a:pt x="1681787" y="298199"/>
                    <a:pt x="1682932" y="297054"/>
                    <a:pt x="1684345" y="297054"/>
                  </a:cubicBezTo>
                  <a:lnTo>
                    <a:pt x="1706733" y="297054"/>
                  </a:lnTo>
                  <a:cubicBezTo>
                    <a:pt x="1708145" y="297054"/>
                    <a:pt x="1709290" y="298199"/>
                    <a:pt x="1709290" y="299611"/>
                  </a:cubicBezTo>
                  <a:lnTo>
                    <a:pt x="1709290" y="444981"/>
                  </a:lnTo>
                  <a:lnTo>
                    <a:pt x="1706039" y="444981"/>
                  </a:lnTo>
                  <a:cubicBezTo>
                    <a:pt x="1700916" y="444981"/>
                    <a:pt x="1696763" y="449134"/>
                    <a:pt x="1696763" y="454257"/>
                  </a:cubicBezTo>
                  <a:lnTo>
                    <a:pt x="1696763" y="660708"/>
                  </a:lnTo>
                  <a:cubicBezTo>
                    <a:pt x="1696763" y="665831"/>
                    <a:pt x="1700916" y="669984"/>
                    <a:pt x="1706039" y="669984"/>
                  </a:cubicBezTo>
                  <a:lnTo>
                    <a:pt x="1743141" y="669984"/>
                  </a:lnTo>
                  <a:cubicBezTo>
                    <a:pt x="1748264" y="669984"/>
                    <a:pt x="1752417" y="665831"/>
                    <a:pt x="1752417" y="660708"/>
                  </a:cubicBezTo>
                  <a:lnTo>
                    <a:pt x="1752417" y="454257"/>
                  </a:lnTo>
                  <a:cubicBezTo>
                    <a:pt x="1752417" y="449134"/>
                    <a:pt x="1748264" y="444981"/>
                    <a:pt x="1743141" y="444981"/>
                  </a:cubicBezTo>
                  <a:lnTo>
                    <a:pt x="1778225" y="444981"/>
                  </a:lnTo>
                  <a:cubicBezTo>
                    <a:pt x="1773102" y="444981"/>
                    <a:pt x="1768949" y="449134"/>
                    <a:pt x="1768949" y="454257"/>
                  </a:cubicBezTo>
                  <a:lnTo>
                    <a:pt x="1768949" y="660708"/>
                  </a:lnTo>
                  <a:cubicBezTo>
                    <a:pt x="1768949" y="665831"/>
                    <a:pt x="1773102" y="669984"/>
                    <a:pt x="1778225" y="669984"/>
                  </a:cubicBezTo>
                  <a:lnTo>
                    <a:pt x="1815327" y="669984"/>
                  </a:lnTo>
                  <a:cubicBezTo>
                    <a:pt x="1820450" y="669984"/>
                    <a:pt x="1824603" y="665831"/>
                    <a:pt x="1824603" y="660708"/>
                  </a:cubicBezTo>
                  <a:lnTo>
                    <a:pt x="1824603" y="454257"/>
                  </a:lnTo>
                  <a:cubicBezTo>
                    <a:pt x="1824603" y="449134"/>
                    <a:pt x="1820450" y="444981"/>
                    <a:pt x="1815327" y="444981"/>
                  </a:cubicBezTo>
                  <a:lnTo>
                    <a:pt x="1809227" y="444981"/>
                  </a:lnTo>
                  <a:lnTo>
                    <a:pt x="1809227" y="299611"/>
                  </a:lnTo>
                  <a:cubicBezTo>
                    <a:pt x="1809227" y="298199"/>
                    <a:pt x="1810372" y="297054"/>
                    <a:pt x="1811784" y="297054"/>
                  </a:cubicBezTo>
                  <a:lnTo>
                    <a:pt x="1834172" y="297054"/>
                  </a:lnTo>
                  <a:cubicBezTo>
                    <a:pt x="1835585" y="297054"/>
                    <a:pt x="1836730" y="298199"/>
                    <a:pt x="1836730" y="299611"/>
                  </a:cubicBezTo>
                  <a:lnTo>
                    <a:pt x="1836730" y="444981"/>
                  </a:lnTo>
                  <a:lnTo>
                    <a:pt x="1850867" y="444981"/>
                  </a:lnTo>
                  <a:cubicBezTo>
                    <a:pt x="1860861" y="444981"/>
                    <a:pt x="1868962" y="436880"/>
                    <a:pt x="1868962" y="426886"/>
                  </a:cubicBezTo>
                  <a:lnTo>
                    <a:pt x="1868962" y="268465"/>
                  </a:lnTo>
                  <a:cubicBezTo>
                    <a:pt x="1868962" y="258472"/>
                    <a:pt x="1860861" y="250370"/>
                    <a:pt x="1850867" y="250370"/>
                  </a:cubicBezTo>
                  <a:lnTo>
                    <a:pt x="1671701" y="250370"/>
                  </a:lnTo>
                  <a:close/>
                  <a:moveTo>
                    <a:pt x="1927453" y="250370"/>
                  </a:moveTo>
                  <a:cubicBezTo>
                    <a:pt x="1917459" y="250370"/>
                    <a:pt x="1909358" y="258472"/>
                    <a:pt x="1909358" y="268465"/>
                  </a:cubicBezTo>
                  <a:lnTo>
                    <a:pt x="1909358" y="426886"/>
                  </a:lnTo>
                  <a:cubicBezTo>
                    <a:pt x="1909358" y="436880"/>
                    <a:pt x="1917459" y="444981"/>
                    <a:pt x="1927453" y="444981"/>
                  </a:cubicBezTo>
                  <a:lnTo>
                    <a:pt x="1937540" y="444981"/>
                  </a:lnTo>
                  <a:lnTo>
                    <a:pt x="1937540" y="299611"/>
                  </a:lnTo>
                  <a:cubicBezTo>
                    <a:pt x="1937540" y="298199"/>
                    <a:pt x="1938684" y="297054"/>
                    <a:pt x="1940097" y="297054"/>
                  </a:cubicBezTo>
                  <a:lnTo>
                    <a:pt x="1962485" y="297054"/>
                  </a:lnTo>
                  <a:cubicBezTo>
                    <a:pt x="1963897" y="297054"/>
                    <a:pt x="1965042" y="298199"/>
                    <a:pt x="1965042" y="299611"/>
                  </a:cubicBezTo>
                  <a:lnTo>
                    <a:pt x="1965042" y="444981"/>
                  </a:lnTo>
                  <a:lnTo>
                    <a:pt x="1961791" y="444981"/>
                  </a:lnTo>
                  <a:cubicBezTo>
                    <a:pt x="1956668" y="444981"/>
                    <a:pt x="1952515" y="449134"/>
                    <a:pt x="1952515" y="454257"/>
                  </a:cubicBezTo>
                  <a:lnTo>
                    <a:pt x="1952515" y="660708"/>
                  </a:lnTo>
                  <a:cubicBezTo>
                    <a:pt x="1952515" y="665831"/>
                    <a:pt x="1956668" y="669984"/>
                    <a:pt x="1961791" y="669984"/>
                  </a:cubicBezTo>
                  <a:lnTo>
                    <a:pt x="1998893" y="669984"/>
                  </a:lnTo>
                  <a:cubicBezTo>
                    <a:pt x="2004016" y="669984"/>
                    <a:pt x="2008169" y="665831"/>
                    <a:pt x="2008169" y="660708"/>
                  </a:cubicBezTo>
                  <a:lnTo>
                    <a:pt x="2008169" y="454257"/>
                  </a:lnTo>
                  <a:cubicBezTo>
                    <a:pt x="2008169" y="449134"/>
                    <a:pt x="2004016" y="444981"/>
                    <a:pt x="1998893" y="444981"/>
                  </a:cubicBezTo>
                  <a:lnTo>
                    <a:pt x="2033977" y="444981"/>
                  </a:lnTo>
                  <a:cubicBezTo>
                    <a:pt x="2028854" y="444981"/>
                    <a:pt x="2024701" y="449134"/>
                    <a:pt x="2024701" y="454257"/>
                  </a:cubicBezTo>
                  <a:lnTo>
                    <a:pt x="2024701" y="660708"/>
                  </a:lnTo>
                  <a:cubicBezTo>
                    <a:pt x="2024701" y="665831"/>
                    <a:pt x="2028854" y="669984"/>
                    <a:pt x="2033977" y="669984"/>
                  </a:cubicBezTo>
                  <a:lnTo>
                    <a:pt x="2071079" y="669984"/>
                  </a:lnTo>
                  <a:cubicBezTo>
                    <a:pt x="2076202" y="669984"/>
                    <a:pt x="2080355" y="665831"/>
                    <a:pt x="2080355" y="660708"/>
                  </a:cubicBezTo>
                  <a:lnTo>
                    <a:pt x="2080355" y="454257"/>
                  </a:lnTo>
                  <a:cubicBezTo>
                    <a:pt x="2080355" y="449134"/>
                    <a:pt x="2076202" y="444981"/>
                    <a:pt x="2071079" y="444981"/>
                  </a:cubicBezTo>
                  <a:lnTo>
                    <a:pt x="2064979" y="444981"/>
                  </a:lnTo>
                  <a:lnTo>
                    <a:pt x="2064979" y="299611"/>
                  </a:lnTo>
                  <a:cubicBezTo>
                    <a:pt x="2064979" y="298199"/>
                    <a:pt x="2066124" y="297054"/>
                    <a:pt x="2067536" y="297054"/>
                  </a:cubicBezTo>
                  <a:lnTo>
                    <a:pt x="2089924" y="297054"/>
                  </a:lnTo>
                  <a:cubicBezTo>
                    <a:pt x="2091337" y="297054"/>
                    <a:pt x="2092482" y="298199"/>
                    <a:pt x="2092482" y="299611"/>
                  </a:cubicBezTo>
                  <a:lnTo>
                    <a:pt x="2092482" y="444981"/>
                  </a:lnTo>
                  <a:lnTo>
                    <a:pt x="2106619" y="444981"/>
                  </a:lnTo>
                  <a:cubicBezTo>
                    <a:pt x="2116613" y="444981"/>
                    <a:pt x="2124714" y="436880"/>
                    <a:pt x="2124714" y="426886"/>
                  </a:cubicBezTo>
                  <a:lnTo>
                    <a:pt x="2124714" y="268465"/>
                  </a:lnTo>
                  <a:cubicBezTo>
                    <a:pt x="2124714" y="258472"/>
                    <a:pt x="2116613" y="250370"/>
                    <a:pt x="2106619" y="250370"/>
                  </a:cubicBezTo>
                  <a:lnTo>
                    <a:pt x="1927453" y="250370"/>
                  </a:lnTo>
                  <a:close/>
                  <a:moveTo>
                    <a:pt x="228740" y="711161"/>
                  </a:moveTo>
                  <a:cubicBezTo>
                    <a:pt x="196682" y="711161"/>
                    <a:pt x="170694" y="737149"/>
                    <a:pt x="170694" y="769206"/>
                  </a:cubicBezTo>
                  <a:cubicBezTo>
                    <a:pt x="170694" y="801264"/>
                    <a:pt x="196682" y="827252"/>
                    <a:pt x="228740" y="827252"/>
                  </a:cubicBezTo>
                  <a:cubicBezTo>
                    <a:pt x="260797" y="827252"/>
                    <a:pt x="286785" y="801264"/>
                    <a:pt x="286785" y="769206"/>
                  </a:cubicBezTo>
                  <a:cubicBezTo>
                    <a:pt x="286785" y="737149"/>
                    <a:pt x="260797" y="711161"/>
                    <a:pt x="228740" y="711161"/>
                  </a:cubicBezTo>
                  <a:close/>
                  <a:moveTo>
                    <a:pt x="484492" y="711161"/>
                  </a:moveTo>
                  <a:cubicBezTo>
                    <a:pt x="452434" y="711161"/>
                    <a:pt x="426447" y="737149"/>
                    <a:pt x="426447" y="769206"/>
                  </a:cubicBezTo>
                  <a:cubicBezTo>
                    <a:pt x="426447" y="801264"/>
                    <a:pt x="452434" y="827252"/>
                    <a:pt x="484492" y="827252"/>
                  </a:cubicBezTo>
                  <a:cubicBezTo>
                    <a:pt x="516549" y="827252"/>
                    <a:pt x="542537" y="801264"/>
                    <a:pt x="542537" y="769206"/>
                  </a:cubicBezTo>
                  <a:cubicBezTo>
                    <a:pt x="542537" y="737149"/>
                    <a:pt x="516549" y="711161"/>
                    <a:pt x="484492" y="711161"/>
                  </a:cubicBezTo>
                  <a:close/>
                  <a:moveTo>
                    <a:pt x="740243" y="711161"/>
                  </a:moveTo>
                  <a:cubicBezTo>
                    <a:pt x="708185" y="711161"/>
                    <a:pt x="682198" y="737149"/>
                    <a:pt x="682198" y="769206"/>
                  </a:cubicBezTo>
                  <a:cubicBezTo>
                    <a:pt x="682198" y="801264"/>
                    <a:pt x="708185" y="827252"/>
                    <a:pt x="740243" y="827252"/>
                  </a:cubicBezTo>
                  <a:cubicBezTo>
                    <a:pt x="772300" y="827252"/>
                    <a:pt x="798288" y="801264"/>
                    <a:pt x="798288" y="769206"/>
                  </a:cubicBezTo>
                  <a:cubicBezTo>
                    <a:pt x="798288" y="737149"/>
                    <a:pt x="772300" y="711161"/>
                    <a:pt x="740243" y="711161"/>
                  </a:cubicBezTo>
                  <a:close/>
                  <a:moveTo>
                    <a:pt x="995995" y="711161"/>
                  </a:moveTo>
                  <a:cubicBezTo>
                    <a:pt x="963937" y="711161"/>
                    <a:pt x="937950" y="737149"/>
                    <a:pt x="937950" y="769206"/>
                  </a:cubicBezTo>
                  <a:cubicBezTo>
                    <a:pt x="937950" y="801264"/>
                    <a:pt x="963937" y="827252"/>
                    <a:pt x="995995" y="827252"/>
                  </a:cubicBezTo>
                  <a:cubicBezTo>
                    <a:pt x="1028052" y="827252"/>
                    <a:pt x="1054040" y="801264"/>
                    <a:pt x="1054040" y="769206"/>
                  </a:cubicBezTo>
                  <a:cubicBezTo>
                    <a:pt x="1054040" y="737149"/>
                    <a:pt x="1028052" y="711161"/>
                    <a:pt x="995995" y="711161"/>
                  </a:cubicBezTo>
                  <a:close/>
                  <a:moveTo>
                    <a:pt x="1251747" y="711161"/>
                  </a:moveTo>
                  <a:cubicBezTo>
                    <a:pt x="1219689" y="711161"/>
                    <a:pt x="1193702" y="737149"/>
                    <a:pt x="1193702" y="769206"/>
                  </a:cubicBezTo>
                  <a:cubicBezTo>
                    <a:pt x="1193702" y="801264"/>
                    <a:pt x="1219689" y="827252"/>
                    <a:pt x="1251747" y="827252"/>
                  </a:cubicBezTo>
                  <a:cubicBezTo>
                    <a:pt x="1283804" y="827252"/>
                    <a:pt x="1309792" y="801264"/>
                    <a:pt x="1309792" y="769206"/>
                  </a:cubicBezTo>
                  <a:cubicBezTo>
                    <a:pt x="1309792" y="737149"/>
                    <a:pt x="1283804" y="711161"/>
                    <a:pt x="1251747" y="711161"/>
                  </a:cubicBezTo>
                  <a:close/>
                  <a:moveTo>
                    <a:pt x="1507499" y="711161"/>
                  </a:moveTo>
                  <a:cubicBezTo>
                    <a:pt x="1475441" y="711161"/>
                    <a:pt x="1449454" y="737149"/>
                    <a:pt x="1449454" y="769206"/>
                  </a:cubicBezTo>
                  <a:cubicBezTo>
                    <a:pt x="1449454" y="801264"/>
                    <a:pt x="1475441" y="827252"/>
                    <a:pt x="1507499" y="827252"/>
                  </a:cubicBezTo>
                  <a:cubicBezTo>
                    <a:pt x="1539557" y="827252"/>
                    <a:pt x="1565544" y="801264"/>
                    <a:pt x="1565544" y="769206"/>
                  </a:cubicBezTo>
                  <a:cubicBezTo>
                    <a:pt x="1565544" y="737149"/>
                    <a:pt x="1539557" y="711161"/>
                    <a:pt x="1507499" y="711161"/>
                  </a:cubicBezTo>
                  <a:close/>
                  <a:moveTo>
                    <a:pt x="1763250" y="711161"/>
                  </a:moveTo>
                  <a:cubicBezTo>
                    <a:pt x="1731192" y="711161"/>
                    <a:pt x="1705205" y="737149"/>
                    <a:pt x="1705205" y="769206"/>
                  </a:cubicBezTo>
                  <a:cubicBezTo>
                    <a:pt x="1705205" y="801264"/>
                    <a:pt x="1731192" y="827252"/>
                    <a:pt x="1763250" y="827252"/>
                  </a:cubicBezTo>
                  <a:cubicBezTo>
                    <a:pt x="1795308" y="827252"/>
                    <a:pt x="1821295" y="801264"/>
                    <a:pt x="1821295" y="769206"/>
                  </a:cubicBezTo>
                  <a:cubicBezTo>
                    <a:pt x="1821295" y="737149"/>
                    <a:pt x="1795308" y="711161"/>
                    <a:pt x="1763250" y="711161"/>
                  </a:cubicBezTo>
                  <a:close/>
                  <a:moveTo>
                    <a:pt x="2019002" y="711161"/>
                  </a:moveTo>
                  <a:cubicBezTo>
                    <a:pt x="1986944" y="711161"/>
                    <a:pt x="1960957" y="737149"/>
                    <a:pt x="1960957" y="769206"/>
                  </a:cubicBezTo>
                  <a:cubicBezTo>
                    <a:pt x="1960957" y="801264"/>
                    <a:pt x="1986944" y="827252"/>
                    <a:pt x="2019002" y="827252"/>
                  </a:cubicBezTo>
                  <a:cubicBezTo>
                    <a:pt x="2051060" y="827252"/>
                    <a:pt x="2077047" y="801264"/>
                    <a:pt x="2077047" y="769206"/>
                  </a:cubicBezTo>
                  <a:cubicBezTo>
                    <a:pt x="2077047" y="737149"/>
                    <a:pt x="2051060" y="711161"/>
                    <a:pt x="2019002" y="711161"/>
                  </a:cubicBezTo>
                  <a:close/>
                  <a:moveTo>
                    <a:pt x="2274754" y="711161"/>
                  </a:moveTo>
                  <a:cubicBezTo>
                    <a:pt x="2242696" y="711161"/>
                    <a:pt x="2216709" y="737149"/>
                    <a:pt x="2216709" y="769206"/>
                  </a:cubicBezTo>
                  <a:cubicBezTo>
                    <a:pt x="2216709" y="801264"/>
                    <a:pt x="2242696" y="827252"/>
                    <a:pt x="2274754" y="827252"/>
                  </a:cubicBezTo>
                  <a:cubicBezTo>
                    <a:pt x="2306812" y="827252"/>
                    <a:pt x="2332799" y="801264"/>
                    <a:pt x="2332799" y="769206"/>
                  </a:cubicBezTo>
                  <a:cubicBezTo>
                    <a:pt x="2332799" y="737149"/>
                    <a:pt x="2306812" y="711161"/>
                    <a:pt x="2274754" y="711161"/>
                  </a:cubicBezTo>
                  <a:close/>
                  <a:moveTo>
                    <a:pt x="2530506" y="711161"/>
                  </a:moveTo>
                  <a:cubicBezTo>
                    <a:pt x="2498448" y="711161"/>
                    <a:pt x="2472461" y="737149"/>
                    <a:pt x="2472461" y="769206"/>
                  </a:cubicBezTo>
                  <a:cubicBezTo>
                    <a:pt x="2472461" y="801264"/>
                    <a:pt x="2498448" y="827252"/>
                    <a:pt x="2530506" y="827252"/>
                  </a:cubicBezTo>
                  <a:cubicBezTo>
                    <a:pt x="2562564" y="827252"/>
                    <a:pt x="2588551" y="801264"/>
                    <a:pt x="2588551" y="769206"/>
                  </a:cubicBezTo>
                  <a:cubicBezTo>
                    <a:pt x="2588551" y="737149"/>
                    <a:pt x="2562564" y="711161"/>
                    <a:pt x="2530506" y="711161"/>
                  </a:cubicBezTo>
                  <a:close/>
                  <a:moveTo>
                    <a:pt x="137191" y="836759"/>
                  </a:moveTo>
                  <a:cubicBezTo>
                    <a:pt x="127197" y="836759"/>
                    <a:pt x="119096" y="844861"/>
                    <a:pt x="119096" y="854854"/>
                  </a:cubicBezTo>
                  <a:lnTo>
                    <a:pt x="119096" y="1013275"/>
                  </a:lnTo>
                  <a:cubicBezTo>
                    <a:pt x="119096" y="1023269"/>
                    <a:pt x="127197" y="1031370"/>
                    <a:pt x="137191" y="1031370"/>
                  </a:cubicBezTo>
                  <a:lnTo>
                    <a:pt x="147277" y="1031370"/>
                  </a:lnTo>
                  <a:lnTo>
                    <a:pt x="147277" y="886000"/>
                  </a:lnTo>
                  <a:cubicBezTo>
                    <a:pt x="147277" y="884588"/>
                    <a:pt x="148422" y="883443"/>
                    <a:pt x="149835" y="883443"/>
                  </a:cubicBezTo>
                  <a:lnTo>
                    <a:pt x="172223" y="883443"/>
                  </a:lnTo>
                  <a:cubicBezTo>
                    <a:pt x="173635" y="883443"/>
                    <a:pt x="174780" y="884588"/>
                    <a:pt x="174780" y="886000"/>
                  </a:cubicBezTo>
                  <a:lnTo>
                    <a:pt x="174780" y="1031370"/>
                  </a:lnTo>
                  <a:lnTo>
                    <a:pt x="171529" y="1031370"/>
                  </a:lnTo>
                  <a:cubicBezTo>
                    <a:pt x="166406" y="1031370"/>
                    <a:pt x="162253" y="1035523"/>
                    <a:pt x="162253" y="1040646"/>
                  </a:cubicBezTo>
                  <a:lnTo>
                    <a:pt x="162253" y="1247097"/>
                  </a:lnTo>
                  <a:cubicBezTo>
                    <a:pt x="162253" y="1252220"/>
                    <a:pt x="166406" y="1256373"/>
                    <a:pt x="171529" y="1256373"/>
                  </a:cubicBezTo>
                  <a:lnTo>
                    <a:pt x="208631" y="1256373"/>
                  </a:lnTo>
                  <a:cubicBezTo>
                    <a:pt x="213754" y="1256373"/>
                    <a:pt x="217907" y="1252220"/>
                    <a:pt x="217907" y="1247097"/>
                  </a:cubicBezTo>
                  <a:lnTo>
                    <a:pt x="217907" y="1040646"/>
                  </a:lnTo>
                  <a:cubicBezTo>
                    <a:pt x="217907" y="1035523"/>
                    <a:pt x="213754" y="1031370"/>
                    <a:pt x="208631" y="1031370"/>
                  </a:cubicBezTo>
                  <a:lnTo>
                    <a:pt x="243715" y="1031370"/>
                  </a:lnTo>
                  <a:cubicBezTo>
                    <a:pt x="238592" y="1031370"/>
                    <a:pt x="234439" y="1035523"/>
                    <a:pt x="234439" y="1040646"/>
                  </a:cubicBezTo>
                  <a:lnTo>
                    <a:pt x="234439" y="1247097"/>
                  </a:lnTo>
                  <a:cubicBezTo>
                    <a:pt x="234439" y="1252220"/>
                    <a:pt x="238592" y="1256373"/>
                    <a:pt x="243715" y="1256373"/>
                  </a:cubicBezTo>
                  <a:lnTo>
                    <a:pt x="280817" y="1256373"/>
                  </a:lnTo>
                  <a:cubicBezTo>
                    <a:pt x="285940" y="1256373"/>
                    <a:pt x="290093" y="1252220"/>
                    <a:pt x="290093" y="1247097"/>
                  </a:cubicBezTo>
                  <a:lnTo>
                    <a:pt x="290093" y="1040646"/>
                  </a:lnTo>
                  <a:cubicBezTo>
                    <a:pt x="290093" y="1035523"/>
                    <a:pt x="285940" y="1031370"/>
                    <a:pt x="280817" y="1031370"/>
                  </a:cubicBezTo>
                  <a:lnTo>
                    <a:pt x="274717" y="1031370"/>
                  </a:lnTo>
                  <a:lnTo>
                    <a:pt x="274717" y="886000"/>
                  </a:lnTo>
                  <a:cubicBezTo>
                    <a:pt x="274717" y="884588"/>
                    <a:pt x="275862" y="883443"/>
                    <a:pt x="277274" y="883443"/>
                  </a:cubicBezTo>
                  <a:lnTo>
                    <a:pt x="299662" y="883443"/>
                  </a:lnTo>
                  <a:cubicBezTo>
                    <a:pt x="301075" y="883443"/>
                    <a:pt x="302219" y="884588"/>
                    <a:pt x="302219" y="886000"/>
                  </a:cubicBezTo>
                  <a:lnTo>
                    <a:pt x="302219" y="1031370"/>
                  </a:lnTo>
                  <a:lnTo>
                    <a:pt x="316357" y="1031370"/>
                  </a:lnTo>
                  <a:cubicBezTo>
                    <a:pt x="326351" y="1031370"/>
                    <a:pt x="334452" y="1023269"/>
                    <a:pt x="334452" y="1013275"/>
                  </a:cubicBezTo>
                  <a:lnTo>
                    <a:pt x="334452" y="854854"/>
                  </a:lnTo>
                  <a:cubicBezTo>
                    <a:pt x="334452" y="844861"/>
                    <a:pt x="326351" y="836759"/>
                    <a:pt x="316357" y="836759"/>
                  </a:cubicBezTo>
                  <a:lnTo>
                    <a:pt x="137191" y="836759"/>
                  </a:lnTo>
                  <a:close/>
                  <a:moveTo>
                    <a:pt x="392943" y="836759"/>
                  </a:moveTo>
                  <a:cubicBezTo>
                    <a:pt x="382949" y="836759"/>
                    <a:pt x="374848" y="844861"/>
                    <a:pt x="374848" y="854854"/>
                  </a:cubicBezTo>
                  <a:lnTo>
                    <a:pt x="374848" y="1013275"/>
                  </a:lnTo>
                  <a:cubicBezTo>
                    <a:pt x="374848" y="1023269"/>
                    <a:pt x="382949" y="1031370"/>
                    <a:pt x="392943" y="1031370"/>
                  </a:cubicBezTo>
                  <a:lnTo>
                    <a:pt x="403029" y="1031370"/>
                  </a:lnTo>
                  <a:lnTo>
                    <a:pt x="403029" y="886000"/>
                  </a:lnTo>
                  <a:cubicBezTo>
                    <a:pt x="403029" y="884588"/>
                    <a:pt x="404174" y="883443"/>
                    <a:pt x="405587" y="883443"/>
                  </a:cubicBezTo>
                  <a:lnTo>
                    <a:pt x="427975" y="883443"/>
                  </a:lnTo>
                  <a:cubicBezTo>
                    <a:pt x="429387" y="883443"/>
                    <a:pt x="430532" y="884588"/>
                    <a:pt x="430532" y="886000"/>
                  </a:cubicBezTo>
                  <a:lnTo>
                    <a:pt x="430532" y="1031370"/>
                  </a:lnTo>
                  <a:lnTo>
                    <a:pt x="427281" y="1031370"/>
                  </a:lnTo>
                  <a:cubicBezTo>
                    <a:pt x="422158" y="1031370"/>
                    <a:pt x="418005" y="1035523"/>
                    <a:pt x="418005" y="1040646"/>
                  </a:cubicBezTo>
                  <a:lnTo>
                    <a:pt x="418005" y="1247097"/>
                  </a:lnTo>
                  <a:cubicBezTo>
                    <a:pt x="418005" y="1252220"/>
                    <a:pt x="422158" y="1256373"/>
                    <a:pt x="427281" y="1256373"/>
                  </a:cubicBezTo>
                  <a:lnTo>
                    <a:pt x="464383" y="1256373"/>
                  </a:lnTo>
                  <a:cubicBezTo>
                    <a:pt x="469506" y="1256373"/>
                    <a:pt x="473659" y="1252220"/>
                    <a:pt x="473659" y="1247097"/>
                  </a:cubicBezTo>
                  <a:lnTo>
                    <a:pt x="473659" y="1040646"/>
                  </a:lnTo>
                  <a:cubicBezTo>
                    <a:pt x="473659" y="1035523"/>
                    <a:pt x="469506" y="1031370"/>
                    <a:pt x="464383" y="1031370"/>
                  </a:cubicBezTo>
                  <a:lnTo>
                    <a:pt x="499467" y="1031370"/>
                  </a:lnTo>
                  <a:cubicBezTo>
                    <a:pt x="494344" y="1031370"/>
                    <a:pt x="490191" y="1035523"/>
                    <a:pt x="490191" y="1040646"/>
                  </a:cubicBezTo>
                  <a:lnTo>
                    <a:pt x="490191" y="1247097"/>
                  </a:lnTo>
                  <a:cubicBezTo>
                    <a:pt x="490191" y="1252220"/>
                    <a:pt x="494344" y="1256373"/>
                    <a:pt x="499467" y="1256373"/>
                  </a:cubicBezTo>
                  <a:lnTo>
                    <a:pt x="536569" y="1256373"/>
                  </a:lnTo>
                  <a:cubicBezTo>
                    <a:pt x="541692" y="1256373"/>
                    <a:pt x="545845" y="1252220"/>
                    <a:pt x="545845" y="1247097"/>
                  </a:cubicBezTo>
                  <a:lnTo>
                    <a:pt x="545845" y="1040646"/>
                  </a:lnTo>
                  <a:cubicBezTo>
                    <a:pt x="545845" y="1035523"/>
                    <a:pt x="541692" y="1031370"/>
                    <a:pt x="536569" y="1031370"/>
                  </a:cubicBezTo>
                  <a:lnTo>
                    <a:pt x="530469" y="1031370"/>
                  </a:lnTo>
                  <a:lnTo>
                    <a:pt x="530469" y="886000"/>
                  </a:lnTo>
                  <a:cubicBezTo>
                    <a:pt x="530469" y="884588"/>
                    <a:pt x="531614" y="883443"/>
                    <a:pt x="533026" y="883443"/>
                  </a:cubicBezTo>
                  <a:lnTo>
                    <a:pt x="555414" y="883443"/>
                  </a:lnTo>
                  <a:cubicBezTo>
                    <a:pt x="556827" y="883443"/>
                    <a:pt x="557971" y="884588"/>
                    <a:pt x="557971" y="886000"/>
                  </a:cubicBezTo>
                  <a:lnTo>
                    <a:pt x="557971" y="1031370"/>
                  </a:lnTo>
                  <a:lnTo>
                    <a:pt x="572109" y="1031370"/>
                  </a:lnTo>
                  <a:cubicBezTo>
                    <a:pt x="582103" y="1031370"/>
                    <a:pt x="590204" y="1023269"/>
                    <a:pt x="590204" y="1013275"/>
                  </a:cubicBezTo>
                  <a:lnTo>
                    <a:pt x="590204" y="854854"/>
                  </a:lnTo>
                  <a:cubicBezTo>
                    <a:pt x="590204" y="844861"/>
                    <a:pt x="582103" y="836759"/>
                    <a:pt x="572109" y="836759"/>
                  </a:cubicBezTo>
                  <a:lnTo>
                    <a:pt x="392943" y="836759"/>
                  </a:lnTo>
                  <a:close/>
                  <a:moveTo>
                    <a:pt x="648694" y="836759"/>
                  </a:moveTo>
                  <a:cubicBezTo>
                    <a:pt x="638700" y="836759"/>
                    <a:pt x="630599" y="844861"/>
                    <a:pt x="630599" y="854854"/>
                  </a:cubicBezTo>
                  <a:lnTo>
                    <a:pt x="630599" y="1013275"/>
                  </a:lnTo>
                  <a:cubicBezTo>
                    <a:pt x="630599" y="1023269"/>
                    <a:pt x="638700" y="1031370"/>
                    <a:pt x="648694" y="1031370"/>
                  </a:cubicBezTo>
                  <a:lnTo>
                    <a:pt x="658780" y="1031370"/>
                  </a:lnTo>
                  <a:lnTo>
                    <a:pt x="658780" y="886000"/>
                  </a:lnTo>
                  <a:cubicBezTo>
                    <a:pt x="658780" y="884588"/>
                    <a:pt x="659925" y="883443"/>
                    <a:pt x="661338" y="883443"/>
                  </a:cubicBezTo>
                  <a:lnTo>
                    <a:pt x="683726" y="883443"/>
                  </a:lnTo>
                  <a:cubicBezTo>
                    <a:pt x="685138" y="883443"/>
                    <a:pt x="686283" y="884588"/>
                    <a:pt x="686283" y="886000"/>
                  </a:cubicBezTo>
                  <a:lnTo>
                    <a:pt x="686283" y="1031370"/>
                  </a:lnTo>
                  <a:lnTo>
                    <a:pt x="683032" y="1031370"/>
                  </a:lnTo>
                  <a:cubicBezTo>
                    <a:pt x="677909" y="1031370"/>
                    <a:pt x="673756" y="1035523"/>
                    <a:pt x="673756" y="1040646"/>
                  </a:cubicBezTo>
                  <a:lnTo>
                    <a:pt x="673756" y="1247097"/>
                  </a:lnTo>
                  <a:cubicBezTo>
                    <a:pt x="673756" y="1252220"/>
                    <a:pt x="677909" y="1256373"/>
                    <a:pt x="683032" y="1256373"/>
                  </a:cubicBezTo>
                  <a:lnTo>
                    <a:pt x="720134" y="1256373"/>
                  </a:lnTo>
                  <a:cubicBezTo>
                    <a:pt x="725257" y="1256373"/>
                    <a:pt x="729410" y="1252220"/>
                    <a:pt x="729410" y="1247097"/>
                  </a:cubicBezTo>
                  <a:lnTo>
                    <a:pt x="729410" y="1040646"/>
                  </a:lnTo>
                  <a:cubicBezTo>
                    <a:pt x="729410" y="1035523"/>
                    <a:pt x="725257" y="1031370"/>
                    <a:pt x="720134" y="1031370"/>
                  </a:cubicBezTo>
                  <a:lnTo>
                    <a:pt x="755218" y="1031370"/>
                  </a:lnTo>
                  <a:cubicBezTo>
                    <a:pt x="750095" y="1031370"/>
                    <a:pt x="745942" y="1035523"/>
                    <a:pt x="745942" y="1040646"/>
                  </a:cubicBezTo>
                  <a:lnTo>
                    <a:pt x="745942" y="1247097"/>
                  </a:lnTo>
                  <a:cubicBezTo>
                    <a:pt x="745942" y="1252220"/>
                    <a:pt x="750095" y="1256373"/>
                    <a:pt x="755218" y="1256373"/>
                  </a:cubicBezTo>
                  <a:lnTo>
                    <a:pt x="792320" y="1256373"/>
                  </a:lnTo>
                  <a:cubicBezTo>
                    <a:pt x="797443" y="1256373"/>
                    <a:pt x="801596" y="1252220"/>
                    <a:pt x="801596" y="1247097"/>
                  </a:cubicBezTo>
                  <a:lnTo>
                    <a:pt x="801596" y="1040646"/>
                  </a:lnTo>
                  <a:cubicBezTo>
                    <a:pt x="801596" y="1035523"/>
                    <a:pt x="797443" y="1031370"/>
                    <a:pt x="792320" y="1031370"/>
                  </a:cubicBezTo>
                  <a:lnTo>
                    <a:pt x="786220" y="1031370"/>
                  </a:lnTo>
                  <a:lnTo>
                    <a:pt x="786220" y="886000"/>
                  </a:lnTo>
                  <a:cubicBezTo>
                    <a:pt x="786220" y="884588"/>
                    <a:pt x="787365" y="883443"/>
                    <a:pt x="788777" y="883443"/>
                  </a:cubicBezTo>
                  <a:lnTo>
                    <a:pt x="811165" y="883443"/>
                  </a:lnTo>
                  <a:cubicBezTo>
                    <a:pt x="812578" y="883443"/>
                    <a:pt x="813722" y="884588"/>
                    <a:pt x="813722" y="886000"/>
                  </a:cubicBezTo>
                  <a:lnTo>
                    <a:pt x="813722" y="1031370"/>
                  </a:lnTo>
                  <a:lnTo>
                    <a:pt x="827860" y="1031370"/>
                  </a:lnTo>
                  <a:cubicBezTo>
                    <a:pt x="837854" y="1031370"/>
                    <a:pt x="845955" y="1023269"/>
                    <a:pt x="845955" y="1013275"/>
                  </a:cubicBezTo>
                  <a:lnTo>
                    <a:pt x="845955" y="854854"/>
                  </a:lnTo>
                  <a:cubicBezTo>
                    <a:pt x="845955" y="844861"/>
                    <a:pt x="837854" y="836759"/>
                    <a:pt x="827860" y="836759"/>
                  </a:cubicBezTo>
                  <a:lnTo>
                    <a:pt x="648694" y="836759"/>
                  </a:lnTo>
                  <a:close/>
                  <a:moveTo>
                    <a:pt x="904446" y="836759"/>
                  </a:moveTo>
                  <a:cubicBezTo>
                    <a:pt x="894452" y="836759"/>
                    <a:pt x="886351" y="844861"/>
                    <a:pt x="886351" y="854854"/>
                  </a:cubicBezTo>
                  <a:lnTo>
                    <a:pt x="886351" y="1013275"/>
                  </a:lnTo>
                  <a:cubicBezTo>
                    <a:pt x="886351" y="1023269"/>
                    <a:pt x="894452" y="1031370"/>
                    <a:pt x="904446" y="1031370"/>
                  </a:cubicBezTo>
                  <a:lnTo>
                    <a:pt x="914532" y="1031370"/>
                  </a:lnTo>
                  <a:lnTo>
                    <a:pt x="914532" y="886000"/>
                  </a:lnTo>
                  <a:cubicBezTo>
                    <a:pt x="914532" y="884588"/>
                    <a:pt x="915677" y="883443"/>
                    <a:pt x="917090" y="883443"/>
                  </a:cubicBezTo>
                  <a:lnTo>
                    <a:pt x="939478" y="883443"/>
                  </a:lnTo>
                  <a:cubicBezTo>
                    <a:pt x="940890" y="883443"/>
                    <a:pt x="942035" y="884588"/>
                    <a:pt x="942035" y="886000"/>
                  </a:cubicBezTo>
                  <a:lnTo>
                    <a:pt x="942035" y="1031370"/>
                  </a:lnTo>
                  <a:lnTo>
                    <a:pt x="938784" y="1031370"/>
                  </a:lnTo>
                  <a:cubicBezTo>
                    <a:pt x="933661" y="1031370"/>
                    <a:pt x="929508" y="1035523"/>
                    <a:pt x="929508" y="1040646"/>
                  </a:cubicBezTo>
                  <a:lnTo>
                    <a:pt x="929508" y="1247097"/>
                  </a:lnTo>
                  <a:cubicBezTo>
                    <a:pt x="929508" y="1252220"/>
                    <a:pt x="933661" y="1256373"/>
                    <a:pt x="938784" y="1256373"/>
                  </a:cubicBezTo>
                  <a:lnTo>
                    <a:pt x="975886" y="1256373"/>
                  </a:lnTo>
                  <a:cubicBezTo>
                    <a:pt x="981009" y="1256373"/>
                    <a:pt x="985162" y="1252220"/>
                    <a:pt x="985162" y="1247097"/>
                  </a:cubicBezTo>
                  <a:lnTo>
                    <a:pt x="985162" y="1040646"/>
                  </a:lnTo>
                  <a:cubicBezTo>
                    <a:pt x="985162" y="1035523"/>
                    <a:pt x="981009" y="1031370"/>
                    <a:pt x="975886" y="1031370"/>
                  </a:cubicBezTo>
                  <a:lnTo>
                    <a:pt x="1010970" y="1031370"/>
                  </a:lnTo>
                  <a:cubicBezTo>
                    <a:pt x="1005847" y="1031370"/>
                    <a:pt x="1001694" y="1035523"/>
                    <a:pt x="1001694" y="1040646"/>
                  </a:cubicBezTo>
                  <a:lnTo>
                    <a:pt x="1001694" y="1247097"/>
                  </a:lnTo>
                  <a:cubicBezTo>
                    <a:pt x="1001694" y="1252220"/>
                    <a:pt x="1005847" y="1256373"/>
                    <a:pt x="1010970" y="1256373"/>
                  </a:cubicBezTo>
                  <a:lnTo>
                    <a:pt x="1048072" y="1256373"/>
                  </a:lnTo>
                  <a:cubicBezTo>
                    <a:pt x="1053195" y="1256373"/>
                    <a:pt x="1057348" y="1252220"/>
                    <a:pt x="1057348" y="1247097"/>
                  </a:cubicBezTo>
                  <a:lnTo>
                    <a:pt x="1057348" y="1040646"/>
                  </a:lnTo>
                  <a:cubicBezTo>
                    <a:pt x="1057348" y="1035523"/>
                    <a:pt x="1053195" y="1031370"/>
                    <a:pt x="1048072" y="1031370"/>
                  </a:cubicBezTo>
                  <a:lnTo>
                    <a:pt x="1041972" y="1031370"/>
                  </a:lnTo>
                  <a:lnTo>
                    <a:pt x="1041972" y="886000"/>
                  </a:lnTo>
                  <a:cubicBezTo>
                    <a:pt x="1041972" y="884588"/>
                    <a:pt x="1043117" y="883443"/>
                    <a:pt x="1044529" y="883443"/>
                  </a:cubicBezTo>
                  <a:lnTo>
                    <a:pt x="1066917" y="883443"/>
                  </a:lnTo>
                  <a:cubicBezTo>
                    <a:pt x="1068330" y="883443"/>
                    <a:pt x="1069474" y="884588"/>
                    <a:pt x="1069474" y="886000"/>
                  </a:cubicBezTo>
                  <a:lnTo>
                    <a:pt x="1069474" y="1031370"/>
                  </a:lnTo>
                  <a:lnTo>
                    <a:pt x="1083612" y="1031370"/>
                  </a:lnTo>
                  <a:cubicBezTo>
                    <a:pt x="1093606" y="1031370"/>
                    <a:pt x="1101707" y="1023269"/>
                    <a:pt x="1101707" y="1013275"/>
                  </a:cubicBezTo>
                  <a:lnTo>
                    <a:pt x="1101707" y="854854"/>
                  </a:lnTo>
                  <a:cubicBezTo>
                    <a:pt x="1101707" y="844861"/>
                    <a:pt x="1093606" y="836759"/>
                    <a:pt x="1083612" y="836759"/>
                  </a:cubicBezTo>
                  <a:lnTo>
                    <a:pt x="904446" y="836759"/>
                  </a:lnTo>
                  <a:close/>
                  <a:moveTo>
                    <a:pt x="1160198" y="836759"/>
                  </a:moveTo>
                  <a:cubicBezTo>
                    <a:pt x="1150204" y="836759"/>
                    <a:pt x="1142103" y="844861"/>
                    <a:pt x="1142103" y="854854"/>
                  </a:cubicBezTo>
                  <a:lnTo>
                    <a:pt x="1142103" y="1013275"/>
                  </a:lnTo>
                  <a:cubicBezTo>
                    <a:pt x="1142103" y="1023269"/>
                    <a:pt x="1150204" y="1031370"/>
                    <a:pt x="1160198" y="1031370"/>
                  </a:cubicBezTo>
                  <a:lnTo>
                    <a:pt x="1170284" y="1031370"/>
                  </a:lnTo>
                  <a:lnTo>
                    <a:pt x="1170284" y="886000"/>
                  </a:lnTo>
                  <a:cubicBezTo>
                    <a:pt x="1170284" y="884588"/>
                    <a:pt x="1171429" y="883443"/>
                    <a:pt x="1172842" y="883443"/>
                  </a:cubicBezTo>
                  <a:lnTo>
                    <a:pt x="1195230" y="883443"/>
                  </a:lnTo>
                  <a:cubicBezTo>
                    <a:pt x="1196642" y="883443"/>
                    <a:pt x="1197787" y="884588"/>
                    <a:pt x="1197787" y="886000"/>
                  </a:cubicBezTo>
                  <a:lnTo>
                    <a:pt x="1197787" y="1031370"/>
                  </a:lnTo>
                  <a:lnTo>
                    <a:pt x="1194536" y="1031370"/>
                  </a:lnTo>
                  <a:cubicBezTo>
                    <a:pt x="1189413" y="1031370"/>
                    <a:pt x="1185260" y="1035523"/>
                    <a:pt x="1185260" y="1040646"/>
                  </a:cubicBezTo>
                  <a:lnTo>
                    <a:pt x="1185260" y="1247097"/>
                  </a:lnTo>
                  <a:cubicBezTo>
                    <a:pt x="1185260" y="1252220"/>
                    <a:pt x="1189413" y="1256373"/>
                    <a:pt x="1194536" y="1256373"/>
                  </a:cubicBezTo>
                  <a:lnTo>
                    <a:pt x="1231638" y="1256373"/>
                  </a:lnTo>
                  <a:cubicBezTo>
                    <a:pt x="1236761" y="1256373"/>
                    <a:pt x="1240914" y="1252220"/>
                    <a:pt x="1240914" y="1247097"/>
                  </a:cubicBezTo>
                  <a:lnTo>
                    <a:pt x="1240914" y="1040646"/>
                  </a:lnTo>
                  <a:cubicBezTo>
                    <a:pt x="1240914" y="1035523"/>
                    <a:pt x="1236761" y="1031370"/>
                    <a:pt x="1231638" y="1031370"/>
                  </a:cubicBezTo>
                  <a:lnTo>
                    <a:pt x="1266722" y="1031370"/>
                  </a:lnTo>
                  <a:cubicBezTo>
                    <a:pt x="1261599" y="1031370"/>
                    <a:pt x="1257446" y="1035523"/>
                    <a:pt x="1257446" y="1040646"/>
                  </a:cubicBezTo>
                  <a:lnTo>
                    <a:pt x="1257446" y="1247097"/>
                  </a:lnTo>
                  <a:cubicBezTo>
                    <a:pt x="1257446" y="1252220"/>
                    <a:pt x="1261599" y="1256373"/>
                    <a:pt x="1266722" y="1256373"/>
                  </a:cubicBezTo>
                  <a:lnTo>
                    <a:pt x="1303824" y="1256373"/>
                  </a:lnTo>
                  <a:cubicBezTo>
                    <a:pt x="1308947" y="1256373"/>
                    <a:pt x="1313100" y="1252220"/>
                    <a:pt x="1313100" y="1247097"/>
                  </a:cubicBezTo>
                  <a:lnTo>
                    <a:pt x="1313100" y="1040646"/>
                  </a:lnTo>
                  <a:cubicBezTo>
                    <a:pt x="1313100" y="1035523"/>
                    <a:pt x="1308947" y="1031370"/>
                    <a:pt x="1303824" y="1031370"/>
                  </a:cubicBezTo>
                  <a:lnTo>
                    <a:pt x="1297724" y="1031370"/>
                  </a:lnTo>
                  <a:lnTo>
                    <a:pt x="1297724" y="886000"/>
                  </a:lnTo>
                  <a:cubicBezTo>
                    <a:pt x="1297724" y="884588"/>
                    <a:pt x="1298869" y="883443"/>
                    <a:pt x="1300281" y="883443"/>
                  </a:cubicBezTo>
                  <a:lnTo>
                    <a:pt x="1322669" y="883443"/>
                  </a:lnTo>
                  <a:cubicBezTo>
                    <a:pt x="1324082" y="883443"/>
                    <a:pt x="1325226" y="884588"/>
                    <a:pt x="1325226" y="886000"/>
                  </a:cubicBezTo>
                  <a:lnTo>
                    <a:pt x="1325226" y="1031370"/>
                  </a:lnTo>
                  <a:lnTo>
                    <a:pt x="1339364" y="1031370"/>
                  </a:lnTo>
                  <a:cubicBezTo>
                    <a:pt x="1349358" y="1031370"/>
                    <a:pt x="1357459" y="1023269"/>
                    <a:pt x="1357459" y="1013275"/>
                  </a:cubicBezTo>
                  <a:lnTo>
                    <a:pt x="1357459" y="854854"/>
                  </a:lnTo>
                  <a:cubicBezTo>
                    <a:pt x="1357459" y="844861"/>
                    <a:pt x="1349358" y="836759"/>
                    <a:pt x="1339364" y="836759"/>
                  </a:cubicBezTo>
                  <a:lnTo>
                    <a:pt x="1160198" y="836759"/>
                  </a:lnTo>
                  <a:close/>
                  <a:moveTo>
                    <a:pt x="1415950" y="836759"/>
                  </a:moveTo>
                  <a:cubicBezTo>
                    <a:pt x="1405956" y="836759"/>
                    <a:pt x="1397855" y="844861"/>
                    <a:pt x="1397855" y="854854"/>
                  </a:cubicBezTo>
                  <a:lnTo>
                    <a:pt x="1397855" y="1013275"/>
                  </a:lnTo>
                  <a:cubicBezTo>
                    <a:pt x="1397855" y="1023269"/>
                    <a:pt x="1405956" y="1031370"/>
                    <a:pt x="1415950" y="1031370"/>
                  </a:cubicBezTo>
                  <a:lnTo>
                    <a:pt x="1426036" y="1031370"/>
                  </a:lnTo>
                  <a:lnTo>
                    <a:pt x="1426036" y="886000"/>
                  </a:lnTo>
                  <a:cubicBezTo>
                    <a:pt x="1426036" y="884588"/>
                    <a:pt x="1427181" y="883443"/>
                    <a:pt x="1428594" y="883443"/>
                  </a:cubicBezTo>
                  <a:lnTo>
                    <a:pt x="1450982" y="883443"/>
                  </a:lnTo>
                  <a:cubicBezTo>
                    <a:pt x="1452394" y="883443"/>
                    <a:pt x="1453539" y="884588"/>
                    <a:pt x="1453539" y="886000"/>
                  </a:cubicBezTo>
                  <a:lnTo>
                    <a:pt x="1453539" y="1031370"/>
                  </a:lnTo>
                  <a:lnTo>
                    <a:pt x="1450288" y="1031370"/>
                  </a:lnTo>
                  <a:cubicBezTo>
                    <a:pt x="1445165" y="1031370"/>
                    <a:pt x="1441012" y="1035523"/>
                    <a:pt x="1441012" y="1040646"/>
                  </a:cubicBezTo>
                  <a:lnTo>
                    <a:pt x="1441012" y="1247097"/>
                  </a:lnTo>
                  <a:cubicBezTo>
                    <a:pt x="1441012" y="1252220"/>
                    <a:pt x="1445165" y="1256373"/>
                    <a:pt x="1450288" y="1256373"/>
                  </a:cubicBezTo>
                  <a:lnTo>
                    <a:pt x="1487390" y="1256373"/>
                  </a:lnTo>
                  <a:cubicBezTo>
                    <a:pt x="1492513" y="1256373"/>
                    <a:pt x="1496666" y="1252220"/>
                    <a:pt x="1496666" y="1247097"/>
                  </a:cubicBezTo>
                  <a:lnTo>
                    <a:pt x="1496666" y="1040646"/>
                  </a:lnTo>
                  <a:cubicBezTo>
                    <a:pt x="1496666" y="1035523"/>
                    <a:pt x="1492513" y="1031370"/>
                    <a:pt x="1487390" y="1031370"/>
                  </a:cubicBezTo>
                  <a:lnTo>
                    <a:pt x="1522474" y="1031370"/>
                  </a:lnTo>
                  <a:cubicBezTo>
                    <a:pt x="1517351" y="1031370"/>
                    <a:pt x="1513198" y="1035523"/>
                    <a:pt x="1513198" y="1040646"/>
                  </a:cubicBezTo>
                  <a:lnTo>
                    <a:pt x="1513198" y="1247097"/>
                  </a:lnTo>
                  <a:cubicBezTo>
                    <a:pt x="1513198" y="1252220"/>
                    <a:pt x="1517351" y="1256373"/>
                    <a:pt x="1522474" y="1256373"/>
                  </a:cubicBezTo>
                  <a:lnTo>
                    <a:pt x="1559576" y="1256373"/>
                  </a:lnTo>
                  <a:cubicBezTo>
                    <a:pt x="1564699" y="1256373"/>
                    <a:pt x="1568852" y="1252220"/>
                    <a:pt x="1568852" y="1247097"/>
                  </a:cubicBezTo>
                  <a:lnTo>
                    <a:pt x="1568852" y="1040646"/>
                  </a:lnTo>
                  <a:cubicBezTo>
                    <a:pt x="1568852" y="1035523"/>
                    <a:pt x="1564699" y="1031370"/>
                    <a:pt x="1559576" y="1031370"/>
                  </a:cubicBezTo>
                  <a:lnTo>
                    <a:pt x="1553476" y="1031370"/>
                  </a:lnTo>
                  <a:lnTo>
                    <a:pt x="1553476" y="886000"/>
                  </a:lnTo>
                  <a:cubicBezTo>
                    <a:pt x="1553476" y="884588"/>
                    <a:pt x="1554621" y="883443"/>
                    <a:pt x="1556033" y="883443"/>
                  </a:cubicBezTo>
                  <a:lnTo>
                    <a:pt x="1578421" y="883443"/>
                  </a:lnTo>
                  <a:cubicBezTo>
                    <a:pt x="1579834" y="883443"/>
                    <a:pt x="1580978" y="884588"/>
                    <a:pt x="1580978" y="886000"/>
                  </a:cubicBezTo>
                  <a:lnTo>
                    <a:pt x="1580978" y="1031370"/>
                  </a:lnTo>
                  <a:lnTo>
                    <a:pt x="1595116" y="1031370"/>
                  </a:lnTo>
                  <a:cubicBezTo>
                    <a:pt x="1605110" y="1031370"/>
                    <a:pt x="1613211" y="1023269"/>
                    <a:pt x="1613211" y="1013275"/>
                  </a:cubicBezTo>
                  <a:lnTo>
                    <a:pt x="1613211" y="854854"/>
                  </a:lnTo>
                  <a:cubicBezTo>
                    <a:pt x="1613211" y="844861"/>
                    <a:pt x="1605110" y="836759"/>
                    <a:pt x="1595116" y="836759"/>
                  </a:cubicBezTo>
                  <a:lnTo>
                    <a:pt x="1415950" y="836759"/>
                  </a:lnTo>
                  <a:close/>
                  <a:moveTo>
                    <a:pt x="1671701" y="836759"/>
                  </a:moveTo>
                  <a:cubicBezTo>
                    <a:pt x="1661707" y="836759"/>
                    <a:pt x="1653606" y="844861"/>
                    <a:pt x="1653606" y="854854"/>
                  </a:cubicBezTo>
                  <a:lnTo>
                    <a:pt x="1653606" y="1013275"/>
                  </a:lnTo>
                  <a:cubicBezTo>
                    <a:pt x="1653606" y="1023269"/>
                    <a:pt x="1661707" y="1031370"/>
                    <a:pt x="1671701" y="1031370"/>
                  </a:cubicBezTo>
                  <a:lnTo>
                    <a:pt x="1681787" y="1031370"/>
                  </a:lnTo>
                  <a:lnTo>
                    <a:pt x="1681787" y="886000"/>
                  </a:lnTo>
                  <a:cubicBezTo>
                    <a:pt x="1681787" y="884588"/>
                    <a:pt x="1682932" y="883443"/>
                    <a:pt x="1684345" y="883443"/>
                  </a:cubicBezTo>
                  <a:lnTo>
                    <a:pt x="1706733" y="883443"/>
                  </a:lnTo>
                  <a:cubicBezTo>
                    <a:pt x="1708145" y="883443"/>
                    <a:pt x="1709290" y="884588"/>
                    <a:pt x="1709290" y="886000"/>
                  </a:cubicBezTo>
                  <a:lnTo>
                    <a:pt x="1709290" y="1031370"/>
                  </a:lnTo>
                  <a:lnTo>
                    <a:pt x="1706039" y="1031370"/>
                  </a:lnTo>
                  <a:cubicBezTo>
                    <a:pt x="1700916" y="1031370"/>
                    <a:pt x="1696763" y="1035523"/>
                    <a:pt x="1696763" y="1040646"/>
                  </a:cubicBezTo>
                  <a:lnTo>
                    <a:pt x="1696763" y="1247097"/>
                  </a:lnTo>
                  <a:cubicBezTo>
                    <a:pt x="1696763" y="1252220"/>
                    <a:pt x="1700916" y="1256373"/>
                    <a:pt x="1706039" y="1256373"/>
                  </a:cubicBezTo>
                  <a:lnTo>
                    <a:pt x="1743141" y="1256373"/>
                  </a:lnTo>
                  <a:cubicBezTo>
                    <a:pt x="1748264" y="1256373"/>
                    <a:pt x="1752417" y="1252220"/>
                    <a:pt x="1752417" y="1247097"/>
                  </a:cubicBezTo>
                  <a:lnTo>
                    <a:pt x="1752417" y="1040646"/>
                  </a:lnTo>
                  <a:cubicBezTo>
                    <a:pt x="1752417" y="1035523"/>
                    <a:pt x="1748264" y="1031370"/>
                    <a:pt x="1743141" y="1031370"/>
                  </a:cubicBezTo>
                  <a:lnTo>
                    <a:pt x="1778225" y="1031370"/>
                  </a:lnTo>
                  <a:cubicBezTo>
                    <a:pt x="1773102" y="1031370"/>
                    <a:pt x="1768949" y="1035523"/>
                    <a:pt x="1768949" y="1040646"/>
                  </a:cubicBezTo>
                  <a:lnTo>
                    <a:pt x="1768949" y="1247097"/>
                  </a:lnTo>
                  <a:cubicBezTo>
                    <a:pt x="1768949" y="1252220"/>
                    <a:pt x="1773102" y="1256373"/>
                    <a:pt x="1778225" y="1256373"/>
                  </a:cubicBezTo>
                  <a:lnTo>
                    <a:pt x="1815327" y="1256373"/>
                  </a:lnTo>
                  <a:cubicBezTo>
                    <a:pt x="1820450" y="1256373"/>
                    <a:pt x="1824603" y="1252220"/>
                    <a:pt x="1824603" y="1247097"/>
                  </a:cubicBezTo>
                  <a:lnTo>
                    <a:pt x="1824603" y="1040646"/>
                  </a:lnTo>
                  <a:cubicBezTo>
                    <a:pt x="1824603" y="1035523"/>
                    <a:pt x="1820450" y="1031370"/>
                    <a:pt x="1815327" y="1031370"/>
                  </a:cubicBezTo>
                  <a:lnTo>
                    <a:pt x="1809227" y="1031370"/>
                  </a:lnTo>
                  <a:lnTo>
                    <a:pt x="1809227" y="886000"/>
                  </a:lnTo>
                  <a:cubicBezTo>
                    <a:pt x="1809227" y="884588"/>
                    <a:pt x="1810372" y="883443"/>
                    <a:pt x="1811784" y="883443"/>
                  </a:cubicBezTo>
                  <a:lnTo>
                    <a:pt x="1834172" y="883443"/>
                  </a:lnTo>
                  <a:cubicBezTo>
                    <a:pt x="1835585" y="883443"/>
                    <a:pt x="1836730" y="884588"/>
                    <a:pt x="1836730" y="886000"/>
                  </a:cubicBezTo>
                  <a:lnTo>
                    <a:pt x="1836730" y="1031370"/>
                  </a:lnTo>
                  <a:lnTo>
                    <a:pt x="1850867" y="1031370"/>
                  </a:lnTo>
                  <a:cubicBezTo>
                    <a:pt x="1860861" y="1031370"/>
                    <a:pt x="1868962" y="1023269"/>
                    <a:pt x="1868962" y="1013275"/>
                  </a:cubicBezTo>
                  <a:lnTo>
                    <a:pt x="1868962" y="854854"/>
                  </a:lnTo>
                  <a:cubicBezTo>
                    <a:pt x="1868962" y="844861"/>
                    <a:pt x="1860861" y="836759"/>
                    <a:pt x="1850867" y="836759"/>
                  </a:cubicBezTo>
                  <a:lnTo>
                    <a:pt x="1671701" y="836759"/>
                  </a:lnTo>
                  <a:close/>
                  <a:moveTo>
                    <a:pt x="1927453" y="836759"/>
                  </a:moveTo>
                  <a:cubicBezTo>
                    <a:pt x="1917459" y="836759"/>
                    <a:pt x="1909358" y="844861"/>
                    <a:pt x="1909358" y="854854"/>
                  </a:cubicBezTo>
                  <a:lnTo>
                    <a:pt x="1909358" y="1013275"/>
                  </a:lnTo>
                  <a:cubicBezTo>
                    <a:pt x="1909358" y="1023269"/>
                    <a:pt x="1917459" y="1031370"/>
                    <a:pt x="1927453" y="1031370"/>
                  </a:cubicBezTo>
                  <a:lnTo>
                    <a:pt x="1937540" y="1031370"/>
                  </a:lnTo>
                  <a:lnTo>
                    <a:pt x="1937540" y="886000"/>
                  </a:lnTo>
                  <a:cubicBezTo>
                    <a:pt x="1937540" y="884588"/>
                    <a:pt x="1938684" y="883443"/>
                    <a:pt x="1940097" y="883443"/>
                  </a:cubicBezTo>
                  <a:lnTo>
                    <a:pt x="1962485" y="883443"/>
                  </a:lnTo>
                  <a:cubicBezTo>
                    <a:pt x="1963897" y="883443"/>
                    <a:pt x="1965042" y="884588"/>
                    <a:pt x="1965042" y="886000"/>
                  </a:cubicBezTo>
                  <a:lnTo>
                    <a:pt x="1965042" y="1031370"/>
                  </a:lnTo>
                  <a:lnTo>
                    <a:pt x="1961791" y="1031370"/>
                  </a:lnTo>
                  <a:cubicBezTo>
                    <a:pt x="1956668" y="1031370"/>
                    <a:pt x="1952515" y="1035523"/>
                    <a:pt x="1952515" y="1040646"/>
                  </a:cubicBezTo>
                  <a:lnTo>
                    <a:pt x="1952515" y="1247097"/>
                  </a:lnTo>
                  <a:cubicBezTo>
                    <a:pt x="1952515" y="1252220"/>
                    <a:pt x="1956668" y="1256373"/>
                    <a:pt x="1961791" y="1256373"/>
                  </a:cubicBezTo>
                  <a:lnTo>
                    <a:pt x="1998893" y="1256373"/>
                  </a:lnTo>
                  <a:cubicBezTo>
                    <a:pt x="2004016" y="1256373"/>
                    <a:pt x="2008169" y="1252220"/>
                    <a:pt x="2008169" y="1247097"/>
                  </a:cubicBezTo>
                  <a:lnTo>
                    <a:pt x="2008169" y="1040646"/>
                  </a:lnTo>
                  <a:cubicBezTo>
                    <a:pt x="2008169" y="1035523"/>
                    <a:pt x="2004016" y="1031370"/>
                    <a:pt x="1998893" y="1031370"/>
                  </a:cubicBezTo>
                  <a:lnTo>
                    <a:pt x="2033977" y="1031370"/>
                  </a:lnTo>
                  <a:cubicBezTo>
                    <a:pt x="2028854" y="1031370"/>
                    <a:pt x="2024701" y="1035523"/>
                    <a:pt x="2024701" y="1040646"/>
                  </a:cubicBezTo>
                  <a:lnTo>
                    <a:pt x="2024701" y="1247097"/>
                  </a:lnTo>
                  <a:cubicBezTo>
                    <a:pt x="2024701" y="1252220"/>
                    <a:pt x="2028854" y="1256373"/>
                    <a:pt x="2033977" y="1256373"/>
                  </a:cubicBezTo>
                  <a:lnTo>
                    <a:pt x="2071079" y="1256373"/>
                  </a:lnTo>
                  <a:cubicBezTo>
                    <a:pt x="2076202" y="1256373"/>
                    <a:pt x="2080355" y="1252220"/>
                    <a:pt x="2080355" y="1247097"/>
                  </a:cubicBezTo>
                  <a:lnTo>
                    <a:pt x="2080355" y="1040646"/>
                  </a:lnTo>
                  <a:cubicBezTo>
                    <a:pt x="2080355" y="1035523"/>
                    <a:pt x="2076202" y="1031370"/>
                    <a:pt x="2071079" y="1031370"/>
                  </a:cubicBezTo>
                  <a:lnTo>
                    <a:pt x="2064979" y="1031370"/>
                  </a:lnTo>
                  <a:lnTo>
                    <a:pt x="2064979" y="886000"/>
                  </a:lnTo>
                  <a:cubicBezTo>
                    <a:pt x="2064979" y="884588"/>
                    <a:pt x="2066124" y="883443"/>
                    <a:pt x="2067536" y="883443"/>
                  </a:cubicBezTo>
                  <a:lnTo>
                    <a:pt x="2089924" y="883443"/>
                  </a:lnTo>
                  <a:cubicBezTo>
                    <a:pt x="2091337" y="883443"/>
                    <a:pt x="2092482" y="884588"/>
                    <a:pt x="2092482" y="886000"/>
                  </a:cubicBezTo>
                  <a:lnTo>
                    <a:pt x="2092482" y="1031370"/>
                  </a:lnTo>
                  <a:lnTo>
                    <a:pt x="2106619" y="1031370"/>
                  </a:lnTo>
                  <a:cubicBezTo>
                    <a:pt x="2116613" y="1031370"/>
                    <a:pt x="2124714" y="1023269"/>
                    <a:pt x="2124714" y="1013275"/>
                  </a:cubicBezTo>
                  <a:lnTo>
                    <a:pt x="2124714" y="854854"/>
                  </a:lnTo>
                  <a:cubicBezTo>
                    <a:pt x="2124714" y="844861"/>
                    <a:pt x="2116613" y="836759"/>
                    <a:pt x="2106619" y="836759"/>
                  </a:cubicBezTo>
                  <a:lnTo>
                    <a:pt x="1927453" y="836759"/>
                  </a:lnTo>
                  <a:close/>
                  <a:moveTo>
                    <a:pt x="2183205" y="836759"/>
                  </a:moveTo>
                  <a:cubicBezTo>
                    <a:pt x="2173211" y="836759"/>
                    <a:pt x="2165110" y="844861"/>
                    <a:pt x="2165110" y="854854"/>
                  </a:cubicBezTo>
                  <a:lnTo>
                    <a:pt x="2165110" y="1013275"/>
                  </a:lnTo>
                  <a:cubicBezTo>
                    <a:pt x="2165110" y="1023269"/>
                    <a:pt x="2173211" y="1031370"/>
                    <a:pt x="2183205" y="1031370"/>
                  </a:cubicBezTo>
                  <a:lnTo>
                    <a:pt x="2193292" y="1031370"/>
                  </a:lnTo>
                  <a:lnTo>
                    <a:pt x="2193292" y="886000"/>
                  </a:lnTo>
                  <a:cubicBezTo>
                    <a:pt x="2193292" y="884588"/>
                    <a:pt x="2194436" y="883443"/>
                    <a:pt x="2195849" y="883443"/>
                  </a:cubicBezTo>
                  <a:lnTo>
                    <a:pt x="2218237" y="883443"/>
                  </a:lnTo>
                  <a:cubicBezTo>
                    <a:pt x="2219649" y="883443"/>
                    <a:pt x="2220794" y="884588"/>
                    <a:pt x="2220794" y="886000"/>
                  </a:cubicBezTo>
                  <a:lnTo>
                    <a:pt x="2220794" y="1031370"/>
                  </a:lnTo>
                  <a:lnTo>
                    <a:pt x="2217543" y="1031370"/>
                  </a:lnTo>
                  <a:cubicBezTo>
                    <a:pt x="2212420" y="1031370"/>
                    <a:pt x="2208267" y="1035523"/>
                    <a:pt x="2208267" y="1040646"/>
                  </a:cubicBezTo>
                  <a:lnTo>
                    <a:pt x="2208267" y="1247097"/>
                  </a:lnTo>
                  <a:cubicBezTo>
                    <a:pt x="2208267" y="1252220"/>
                    <a:pt x="2212420" y="1256373"/>
                    <a:pt x="2217543" y="1256373"/>
                  </a:cubicBezTo>
                  <a:lnTo>
                    <a:pt x="2254645" y="1256373"/>
                  </a:lnTo>
                  <a:cubicBezTo>
                    <a:pt x="2259768" y="1256373"/>
                    <a:pt x="2263921" y="1252220"/>
                    <a:pt x="2263921" y="1247097"/>
                  </a:cubicBezTo>
                  <a:lnTo>
                    <a:pt x="2263921" y="1040646"/>
                  </a:lnTo>
                  <a:cubicBezTo>
                    <a:pt x="2263921" y="1035523"/>
                    <a:pt x="2259768" y="1031370"/>
                    <a:pt x="2254645" y="1031370"/>
                  </a:cubicBezTo>
                  <a:lnTo>
                    <a:pt x="2289729" y="1031370"/>
                  </a:lnTo>
                  <a:cubicBezTo>
                    <a:pt x="2284606" y="1031370"/>
                    <a:pt x="2280453" y="1035523"/>
                    <a:pt x="2280453" y="1040646"/>
                  </a:cubicBezTo>
                  <a:lnTo>
                    <a:pt x="2280453" y="1247097"/>
                  </a:lnTo>
                  <a:cubicBezTo>
                    <a:pt x="2280453" y="1252220"/>
                    <a:pt x="2284606" y="1256373"/>
                    <a:pt x="2289729" y="1256373"/>
                  </a:cubicBezTo>
                  <a:lnTo>
                    <a:pt x="2326831" y="1256373"/>
                  </a:lnTo>
                  <a:cubicBezTo>
                    <a:pt x="2331954" y="1256373"/>
                    <a:pt x="2336107" y="1252220"/>
                    <a:pt x="2336107" y="1247097"/>
                  </a:cubicBezTo>
                  <a:lnTo>
                    <a:pt x="2336107" y="1040646"/>
                  </a:lnTo>
                  <a:cubicBezTo>
                    <a:pt x="2336107" y="1035523"/>
                    <a:pt x="2331954" y="1031370"/>
                    <a:pt x="2326831" y="1031370"/>
                  </a:cubicBezTo>
                  <a:lnTo>
                    <a:pt x="2320731" y="1031370"/>
                  </a:lnTo>
                  <a:lnTo>
                    <a:pt x="2320731" y="886000"/>
                  </a:lnTo>
                  <a:cubicBezTo>
                    <a:pt x="2320731" y="884588"/>
                    <a:pt x="2321876" y="883443"/>
                    <a:pt x="2323288" y="883443"/>
                  </a:cubicBezTo>
                  <a:lnTo>
                    <a:pt x="2345676" y="883443"/>
                  </a:lnTo>
                  <a:cubicBezTo>
                    <a:pt x="2347089" y="883443"/>
                    <a:pt x="2348234" y="884588"/>
                    <a:pt x="2348234" y="886000"/>
                  </a:cubicBezTo>
                  <a:lnTo>
                    <a:pt x="2348234" y="1031370"/>
                  </a:lnTo>
                  <a:lnTo>
                    <a:pt x="2362371" y="1031370"/>
                  </a:lnTo>
                  <a:cubicBezTo>
                    <a:pt x="2372365" y="1031370"/>
                    <a:pt x="2380466" y="1023269"/>
                    <a:pt x="2380466" y="1013275"/>
                  </a:cubicBezTo>
                  <a:lnTo>
                    <a:pt x="2380466" y="854854"/>
                  </a:lnTo>
                  <a:cubicBezTo>
                    <a:pt x="2380466" y="844861"/>
                    <a:pt x="2372365" y="836759"/>
                    <a:pt x="2362371" y="836759"/>
                  </a:cubicBezTo>
                  <a:lnTo>
                    <a:pt x="2183205" y="836759"/>
                  </a:lnTo>
                  <a:close/>
                  <a:moveTo>
                    <a:pt x="2438957" y="836759"/>
                  </a:moveTo>
                  <a:cubicBezTo>
                    <a:pt x="2428963" y="836759"/>
                    <a:pt x="2420862" y="844861"/>
                    <a:pt x="2420862" y="854854"/>
                  </a:cubicBezTo>
                  <a:lnTo>
                    <a:pt x="2420862" y="1013275"/>
                  </a:lnTo>
                  <a:cubicBezTo>
                    <a:pt x="2420862" y="1023269"/>
                    <a:pt x="2428963" y="1031370"/>
                    <a:pt x="2438957" y="1031370"/>
                  </a:cubicBezTo>
                  <a:lnTo>
                    <a:pt x="2449044" y="1031370"/>
                  </a:lnTo>
                  <a:lnTo>
                    <a:pt x="2449044" y="886000"/>
                  </a:lnTo>
                  <a:cubicBezTo>
                    <a:pt x="2449044" y="884588"/>
                    <a:pt x="2450188" y="883443"/>
                    <a:pt x="2451601" y="883443"/>
                  </a:cubicBezTo>
                  <a:lnTo>
                    <a:pt x="2473989" y="883443"/>
                  </a:lnTo>
                  <a:cubicBezTo>
                    <a:pt x="2475401" y="883443"/>
                    <a:pt x="2476546" y="884588"/>
                    <a:pt x="2476546" y="886000"/>
                  </a:cubicBezTo>
                  <a:lnTo>
                    <a:pt x="2476546" y="1031370"/>
                  </a:lnTo>
                  <a:lnTo>
                    <a:pt x="2473295" y="1031370"/>
                  </a:lnTo>
                  <a:cubicBezTo>
                    <a:pt x="2468172" y="1031370"/>
                    <a:pt x="2464019" y="1035523"/>
                    <a:pt x="2464019" y="1040646"/>
                  </a:cubicBezTo>
                  <a:lnTo>
                    <a:pt x="2464019" y="1247097"/>
                  </a:lnTo>
                  <a:cubicBezTo>
                    <a:pt x="2464019" y="1252220"/>
                    <a:pt x="2468172" y="1256373"/>
                    <a:pt x="2473295" y="1256373"/>
                  </a:cubicBezTo>
                  <a:lnTo>
                    <a:pt x="2510397" y="1256373"/>
                  </a:lnTo>
                  <a:cubicBezTo>
                    <a:pt x="2515520" y="1256373"/>
                    <a:pt x="2519673" y="1252220"/>
                    <a:pt x="2519673" y="1247097"/>
                  </a:cubicBezTo>
                  <a:lnTo>
                    <a:pt x="2519673" y="1040646"/>
                  </a:lnTo>
                  <a:cubicBezTo>
                    <a:pt x="2519673" y="1035523"/>
                    <a:pt x="2515520" y="1031370"/>
                    <a:pt x="2510397" y="1031370"/>
                  </a:cubicBezTo>
                  <a:lnTo>
                    <a:pt x="2545481" y="1031370"/>
                  </a:lnTo>
                  <a:cubicBezTo>
                    <a:pt x="2540358" y="1031370"/>
                    <a:pt x="2536205" y="1035523"/>
                    <a:pt x="2536205" y="1040646"/>
                  </a:cubicBezTo>
                  <a:lnTo>
                    <a:pt x="2536205" y="1247097"/>
                  </a:lnTo>
                  <a:cubicBezTo>
                    <a:pt x="2536205" y="1252220"/>
                    <a:pt x="2540358" y="1256373"/>
                    <a:pt x="2545481" y="1256373"/>
                  </a:cubicBezTo>
                  <a:lnTo>
                    <a:pt x="2582583" y="1256373"/>
                  </a:lnTo>
                  <a:cubicBezTo>
                    <a:pt x="2587706" y="1256373"/>
                    <a:pt x="2591859" y="1252220"/>
                    <a:pt x="2591859" y="1247097"/>
                  </a:cubicBezTo>
                  <a:lnTo>
                    <a:pt x="2591859" y="1040646"/>
                  </a:lnTo>
                  <a:cubicBezTo>
                    <a:pt x="2591859" y="1035523"/>
                    <a:pt x="2587706" y="1031370"/>
                    <a:pt x="2582583" y="1031370"/>
                  </a:cubicBezTo>
                  <a:lnTo>
                    <a:pt x="2576483" y="1031370"/>
                  </a:lnTo>
                  <a:lnTo>
                    <a:pt x="2576483" y="886000"/>
                  </a:lnTo>
                  <a:cubicBezTo>
                    <a:pt x="2576483" y="884588"/>
                    <a:pt x="2577628" y="883443"/>
                    <a:pt x="2579040" y="883443"/>
                  </a:cubicBezTo>
                  <a:lnTo>
                    <a:pt x="2601428" y="883443"/>
                  </a:lnTo>
                  <a:cubicBezTo>
                    <a:pt x="2602841" y="883443"/>
                    <a:pt x="2603986" y="884588"/>
                    <a:pt x="2603986" y="886000"/>
                  </a:cubicBezTo>
                  <a:lnTo>
                    <a:pt x="2603986" y="1031370"/>
                  </a:lnTo>
                  <a:lnTo>
                    <a:pt x="2618123" y="1031370"/>
                  </a:lnTo>
                  <a:cubicBezTo>
                    <a:pt x="2628117" y="1031370"/>
                    <a:pt x="2636218" y="1023269"/>
                    <a:pt x="2636218" y="1013275"/>
                  </a:cubicBezTo>
                  <a:lnTo>
                    <a:pt x="2636218" y="854854"/>
                  </a:lnTo>
                  <a:cubicBezTo>
                    <a:pt x="2636218" y="844861"/>
                    <a:pt x="2628117" y="836759"/>
                    <a:pt x="2618123" y="836759"/>
                  </a:cubicBezTo>
                  <a:lnTo>
                    <a:pt x="2438957" y="836759"/>
                  </a:lnTo>
                  <a:close/>
                  <a:moveTo>
                    <a:pt x="228740" y="1297551"/>
                  </a:moveTo>
                  <a:cubicBezTo>
                    <a:pt x="196682" y="1297551"/>
                    <a:pt x="170694" y="1323539"/>
                    <a:pt x="170694" y="1355596"/>
                  </a:cubicBezTo>
                  <a:cubicBezTo>
                    <a:pt x="170694" y="1387654"/>
                    <a:pt x="196682" y="1413642"/>
                    <a:pt x="228740" y="1413642"/>
                  </a:cubicBezTo>
                  <a:cubicBezTo>
                    <a:pt x="260797" y="1413642"/>
                    <a:pt x="286785" y="1387654"/>
                    <a:pt x="286785" y="1355596"/>
                  </a:cubicBezTo>
                  <a:cubicBezTo>
                    <a:pt x="286785" y="1323539"/>
                    <a:pt x="260797" y="1297551"/>
                    <a:pt x="228740" y="1297551"/>
                  </a:cubicBezTo>
                  <a:close/>
                  <a:moveTo>
                    <a:pt x="484492" y="1297551"/>
                  </a:moveTo>
                  <a:cubicBezTo>
                    <a:pt x="452434" y="1297551"/>
                    <a:pt x="426447" y="1323539"/>
                    <a:pt x="426447" y="1355596"/>
                  </a:cubicBezTo>
                  <a:cubicBezTo>
                    <a:pt x="426447" y="1387654"/>
                    <a:pt x="452434" y="1413642"/>
                    <a:pt x="484492" y="1413642"/>
                  </a:cubicBezTo>
                  <a:cubicBezTo>
                    <a:pt x="516549" y="1413642"/>
                    <a:pt x="542537" y="1387654"/>
                    <a:pt x="542537" y="1355596"/>
                  </a:cubicBezTo>
                  <a:cubicBezTo>
                    <a:pt x="542537" y="1323539"/>
                    <a:pt x="516549" y="1297551"/>
                    <a:pt x="484492" y="1297551"/>
                  </a:cubicBezTo>
                  <a:close/>
                  <a:moveTo>
                    <a:pt x="740243" y="1297551"/>
                  </a:moveTo>
                  <a:cubicBezTo>
                    <a:pt x="708185" y="1297551"/>
                    <a:pt x="682198" y="1323539"/>
                    <a:pt x="682198" y="1355596"/>
                  </a:cubicBezTo>
                  <a:cubicBezTo>
                    <a:pt x="682198" y="1387654"/>
                    <a:pt x="708185" y="1413642"/>
                    <a:pt x="740243" y="1413642"/>
                  </a:cubicBezTo>
                  <a:cubicBezTo>
                    <a:pt x="772300" y="1413642"/>
                    <a:pt x="798288" y="1387654"/>
                    <a:pt x="798288" y="1355596"/>
                  </a:cubicBezTo>
                  <a:cubicBezTo>
                    <a:pt x="798288" y="1323539"/>
                    <a:pt x="772300" y="1297551"/>
                    <a:pt x="740243" y="1297551"/>
                  </a:cubicBezTo>
                  <a:close/>
                  <a:moveTo>
                    <a:pt x="995995" y="1297551"/>
                  </a:moveTo>
                  <a:cubicBezTo>
                    <a:pt x="963937" y="1297551"/>
                    <a:pt x="937950" y="1323539"/>
                    <a:pt x="937950" y="1355596"/>
                  </a:cubicBezTo>
                  <a:cubicBezTo>
                    <a:pt x="937950" y="1387654"/>
                    <a:pt x="963937" y="1413642"/>
                    <a:pt x="995995" y="1413642"/>
                  </a:cubicBezTo>
                  <a:cubicBezTo>
                    <a:pt x="1028052" y="1413642"/>
                    <a:pt x="1054040" y="1387654"/>
                    <a:pt x="1054040" y="1355596"/>
                  </a:cubicBezTo>
                  <a:cubicBezTo>
                    <a:pt x="1054040" y="1323539"/>
                    <a:pt x="1028052" y="1297551"/>
                    <a:pt x="995995" y="1297551"/>
                  </a:cubicBezTo>
                  <a:close/>
                  <a:moveTo>
                    <a:pt x="1251747" y="1297551"/>
                  </a:moveTo>
                  <a:cubicBezTo>
                    <a:pt x="1219689" y="1297551"/>
                    <a:pt x="1193702" y="1323539"/>
                    <a:pt x="1193702" y="1355596"/>
                  </a:cubicBezTo>
                  <a:cubicBezTo>
                    <a:pt x="1193702" y="1387654"/>
                    <a:pt x="1219689" y="1413642"/>
                    <a:pt x="1251747" y="1413642"/>
                  </a:cubicBezTo>
                  <a:cubicBezTo>
                    <a:pt x="1283804" y="1413642"/>
                    <a:pt x="1309792" y="1387654"/>
                    <a:pt x="1309792" y="1355596"/>
                  </a:cubicBezTo>
                  <a:cubicBezTo>
                    <a:pt x="1309792" y="1323539"/>
                    <a:pt x="1283804" y="1297551"/>
                    <a:pt x="1251747" y="1297551"/>
                  </a:cubicBezTo>
                  <a:close/>
                  <a:moveTo>
                    <a:pt x="1507499" y="1297551"/>
                  </a:moveTo>
                  <a:cubicBezTo>
                    <a:pt x="1475441" y="1297551"/>
                    <a:pt x="1449454" y="1323539"/>
                    <a:pt x="1449454" y="1355596"/>
                  </a:cubicBezTo>
                  <a:cubicBezTo>
                    <a:pt x="1449454" y="1387654"/>
                    <a:pt x="1475441" y="1413642"/>
                    <a:pt x="1507499" y="1413642"/>
                  </a:cubicBezTo>
                  <a:cubicBezTo>
                    <a:pt x="1539557" y="1413642"/>
                    <a:pt x="1565544" y="1387654"/>
                    <a:pt x="1565544" y="1355596"/>
                  </a:cubicBezTo>
                  <a:cubicBezTo>
                    <a:pt x="1565544" y="1323539"/>
                    <a:pt x="1539557" y="1297551"/>
                    <a:pt x="1507499" y="1297551"/>
                  </a:cubicBezTo>
                  <a:close/>
                  <a:moveTo>
                    <a:pt x="1763250" y="1297551"/>
                  </a:moveTo>
                  <a:cubicBezTo>
                    <a:pt x="1731192" y="1297551"/>
                    <a:pt x="1705205" y="1323539"/>
                    <a:pt x="1705205" y="1355596"/>
                  </a:cubicBezTo>
                  <a:cubicBezTo>
                    <a:pt x="1705205" y="1387654"/>
                    <a:pt x="1731192" y="1413642"/>
                    <a:pt x="1763250" y="1413642"/>
                  </a:cubicBezTo>
                  <a:cubicBezTo>
                    <a:pt x="1795308" y="1413642"/>
                    <a:pt x="1821295" y="1387654"/>
                    <a:pt x="1821295" y="1355596"/>
                  </a:cubicBezTo>
                  <a:cubicBezTo>
                    <a:pt x="1821295" y="1323539"/>
                    <a:pt x="1795308" y="1297551"/>
                    <a:pt x="1763250" y="1297551"/>
                  </a:cubicBezTo>
                  <a:close/>
                  <a:moveTo>
                    <a:pt x="2019002" y="1297551"/>
                  </a:moveTo>
                  <a:cubicBezTo>
                    <a:pt x="1986944" y="1297551"/>
                    <a:pt x="1960957" y="1323539"/>
                    <a:pt x="1960957" y="1355596"/>
                  </a:cubicBezTo>
                  <a:cubicBezTo>
                    <a:pt x="1960957" y="1387654"/>
                    <a:pt x="1986944" y="1413642"/>
                    <a:pt x="2019002" y="1413642"/>
                  </a:cubicBezTo>
                  <a:cubicBezTo>
                    <a:pt x="2051060" y="1413642"/>
                    <a:pt x="2077047" y="1387654"/>
                    <a:pt x="2077047" y="1355596"/>
                  </a:cubicBezTo>
                  <a:cubicBezTo>
                    <a:pt x="2077047" y="1323539"/>
                    <a:pt x="2051060" y="1297551"/>
                    <a:pt x="2019002" y="1297551"/>
                  </a:cubicBezTo>
                  <a:close/>
                  <a:moveTo>
                    <a:pt x="2274754" y="1297551"/>
                  </a:moveTo>
                  <a:cubicBezTo>
                    <a:pt x="2242696" y="1297551"/>
                    <a:pt x="2216709" y="1323539"/>
                    <a:pt x="2216709" y="1355596"/>
                  </a:cubicBezTo>
                  <a:cubicBezTo>
                    <a:pt x="2216709" y="1387654"/>
                    <a:pt x="2242696" y="1413642"/>
                    <a:pt x="2274754" y="1413642"/>
                  </a:cubicBezTo>
                  <a:cubicBezTo>
                    <a:pt x="2306812" y="1413642"/>
                    <a:pt x="2332799" y="1387654"/>
                    <a:pt x="2332799" y="1355596"/>
                  </a:cubicBezTo>
                  <a:cubicBezTo>
                    <a:pt x="2332799" y="1323539"/>
                    <a:pt x="2306812" y="1297551"/>
                    <a:pt x="2274754" y="1297551"/>
                  </a:cubicBezTo>
                  <a:close/>
                  <a:moveTo>
                    <a:pt x="2530506" y="1297551"/>
                  </a:moveTo>
                  <a:cubicBezTo>
                    <a:pt x="2498448" y="1297551"/>
                    <a:pt x="2472461" y="1323539"/>
                    <a:pt x="2472461" y="1355596"/>
                  </a:cubicBezTo>
                  <a:cubicBezTo>
                    <a:pt x="2472461" y="1387654"/>
                    <a:pt x="2498448" y="1413642"/>
                    <a:pt x="2530506" y="1413642"/>
                  </a:cubicBezTo>
                  <a:cubicBezTo>
                    <a:pt x="2562564" y="1413642"/>
                    <a:pt x="2588551" y="1387654"/>
                    <a:pt x="2588551" y="1355596"/>
                  </a:cubicBezTo>
                  <a:cubicBezTo>
                    <a:pt x="2588551" y="1323539"/>
                    <a:pt x="2562564" y="1297551"/>
                    <a:pt x="2530506" y="1297551"/>
                  </a:cubicBezTo>
                  <a:close/>
                  <a:moveTo>
                    <a:pt x="137191" y="1423149"/>
                  </a:moveTo>
                  <a:cubicBezTo>
                    <a:pt x="127197" y="1423149"/>
                    <a:pt x="119096" y="1431251"/>
                    <a:pt x="119096" y="1441244"/>
                  </a:cubicBezTo>
                  <a:lnTo>
                    <a:pt x="119096" y="1599665"/>
                  </a:lnTo>
                  <a:cubicBezTo>
                    <a:pt x="119096" y="1609659"/>
                    <a:pt x="127197" y="1617760"/>
                    <a:pt x="137191" y="1617760"/>
                  </a:cubicBezTo>
                  <a:lnTo>
                    <a:pt x="147277" y="1617760"/>
                  </a:lnTo>
                  <a:lnTo>
                    <a:pt x="147277" y="1472390"/>
                  </a:lnTo>
                  <a:cubicBezTo>
                    <a:pt x="147277" y="1470978"/>
                    <a:pt x="148422" y="1469833"/>
                    <a:pt x="149835" y="1469833"/>
                  </a:cubicBezTo>
                  <a:lnTo>
                    <a:pt x="172223" y="1469833"/>
                  </a:lnTo>
                  <a:cubicBezTo>
                    <a:pt x="173635" y="1469833"/>
                    <a:pt x="174780" y="1470978"/>
                    <a:pt x="174780" y="1472390"/>
                  </a:cubicBezTo>
                  <a:lnTo>
                    <a:pt x="174780" y="1617760"/>
                  </a:lnTo>
                  <a:lnTo>
                    <a:pt x="171529" y="1617760"/>
                  </a:lnTo>
                  <a:cubicBezTo>
                    <a:pt x="166406" y="1617760"/>
                    <a:pt x="162253" y="1621913"/>
                    <a:pt x="162253" y="1627036"/>
                  </a:cubicBezTo>
                  <a:lnTo>
                    <a:pt x="162253" y="1833487"/>
                  </a:lnTo>
                  <a:cubicBezTo>
                    <a:pt x="162253" y="1838610"/>
                    <a:pt x="166406" y="1842763"/>
                    <a:pt x="171529" y="1842763"/>
                  </a:cubicBezTo>
                  <a:lnTo>
                    <a:pt x="208631" y="1842763"/>
                  </a:lnTo>
                  <a:cubicBezTo>
                    <a:pt x="213754" y="1842763"/>
                    <a:pt x="217907" y="1838610"/>
                    <a:pt x="217907" y="1833487"/>
                  </a:cubicBezTo>
                  <a:lnTo>
                    <a:pt x="217907" y="1627036"/>
                  </a:lnTo>
                  <a:cubicBezTo>
                    <a:pt x="217907" y="1621913"/>
                    <a:pt x="213754" y="1617760"/>
                    <a:pt x="208631" y="1617760"/>
                  </a:cubicBezTo>
                  <a:lnTo>
                    <a:pt x="243715" y="1617760"/>
                  </a:lnTo>
                  <a:cubicBezTo>
                    <a:pt x="238592" y="1617760"/>
                    <a:pt x="234439" y="1621913"/>
                    <a:pt x="234439" y="1627036"/>
                  </a:cubicBezTo>
                  <a:lnTo>
                    <a:pt x="234439" y="1833487"/>
                  </a:lnTo>
                  <a:cubicBezTo>
                    <a:pt x="234439" y="1838610"/>
                    <a:pt x="238592" y="1842763"/>
                    <a:pt x="243715" y="1842763"/>
                  </a:cubicBezTo>
                  <a:lnTo>
                    <a:pt x="280817" y="1842763"/>
                  </a:lnTo>
                  <a:cubicBezTo>
                    <a:pt x="285940" y="1842763"/>
                    <a:pt x="290093" y="1838610"/>
                    <a:pt x="290093" y="1833487"/>
                  </a:cubicBezTo>
                  <a:lnTo>
                    <a:pt x="290093" y="1627036"/>
                  </a:lnTo>
                  <a:cubicBezTo>
                    <a:pt x="290093" y="1621913"/>
                    <a:pt x="285940" y="1617760"/>
                    <a:pt x="280817" y="1617760"/>
                  </a:cubicBezTo>
                  <a:lnTo>
                    <a:pt x="274717" y="1617760"/>
                  </a:lnTo>
                  <a:lnTo>
                    <a:pt x="274717" y="1472390"/>
                  </a:lnTo>
                  <a:cubicBezTo>
                    <a:pt x="274717" y="1470978"/>
                    <a:pt x="275862" y="1469833"/>
                    <a:pt x="277274" y="1469833"/>
                  </a:cubicBezTo>
                  <a:lnTo>
                    <a:pt x="299662" y="1469833"/>
                  </a:lnTo>
                  <a:cubicBezTo>
                    <a:pt x="301075" y="1469833"/>
                    <a:pt x="302219" y="1470978"/>
                    <a:pt x="302219" y="1472390"/>
                  </a:cubicBezTo>
                  <a:lnTo>
                    <a:pt x="302219" y="1617760"/>
                  </a:lnTo>
                  <a:lnTo>
                    <a:pt x="316357" y="1617760"/>
                  </a:lnTo>
                  <a:cubicBezTo>
                    <a:pt x="326351" y="1617760"/>
                    <a:pt x="334452" y="1609659"/>
                    <a:pt x="334452" y="1599665"/>
                  </a:cubicBezTo>
                  <a:lnTo>
                    <a:pt x="334452" y="1441244"/>
                  </a:lnTo>
                  <a:cubicBezTo>
                    <a:pt x="334452" y="1431251"/>
                    <a:pt x="326351" y="1423149"/>
                    <a:pt x="316357" y="1423149"/>
                  </a:cubicBezTo>
                  <a:lnTo>
                    <a:pt x="137191" y="1423149"/>
                  </a:lnTo>
                  <a:close/>
                  <a:moveTo>
                    <a:pt x="392943" y="1423149"/>
                  </a:moveTo>
                  <a:cubicBezTo>
                    <a:pt x="382949" y="1423149"/>
                    <a:pt x="374848" y="1431251"/>
                    <a:pt x="374848" y="1441244"/>
                  </a:cubicBezTo>
                  <a:lnTo>
                    <a:pt x="374848" y="1599665"/>
                  </a:lnTo>
                  <a:cubicBezTo>
                    <a:pt x="374848" y="1609659"/>
                    <a:pt x="382949" y="1617760"/>
                    <a:pt x="392943" y="1617760"/>
                  </a:cubicBezTo>
                  <a:lnTo>
                    <a:pt x="403029" y="1617760"/>
                  </a:lnTo>
                  <a:lnTo>
                    <a:pt x="403029" y="1472390"/>
                  </a:lnTo>
                  <a:cubicBezTo>
                    <a:pt x="403029" y="1470978"/>
                    <a:pt x="404174" y="1469833"/>
                    <a:pt x="405587" y="1469833"/>
                  </a:cubicBezTo>
                  <a:lnTo>
                    <a:pt x="427975" y="1469833"/>
                  </a:lnTo>
                  <a:cubicBezTo>
                    <a:pt x="429387" y="1469833"/>
                    <a:pt x="430532" y="1470978"/>
                    <a:pt x="430532" y="1472390"/>
                  </a:cubicBezTo>
                  <a:lnTo>
                    <a:pt x="430532" y="1617760"/>
                  </a:lnTo>
                  <a:lnTo>
                    <a:pt x="427281" y="1617760"/>
                  </a:lnTo>
                  <a:cubicBezTo>
                    <a:pt x="422158" y="1617760"/>
                    <a:pt x="418005" y="1621913"/>
                    <a:pt x="418005" y="1627036"/>
                  </a:cubicBezTo>
                  <a:lnTo>
                    <a:pt x="418005" y="1833487"/>
                  </a:lnTo>
                  <a:cubicBezTo>
                    <a:pt x="418005" y="1838610"/>
                    <a:pt x="422158" y="1842763"/>
                    <a:pt x="427281" y="1842763"/>
                  </a:cubicBezTo>
                  <a:lnTo>
                    <a:pt x="464383" y="1842763"/>
                  </a:lnTo>
                  <a:cubicBezTo>
                    <a:pt x="469506" y="1842763"/>
                    <a:pt x="473659" y="1838610"/>
                    <a:pt x="473659" y="1833487"/>
                  </a:cubicBezTo>
                  <a:lnTo>
                    <a:pt x="473659" y="1627036"/>
                  </a:lnTo>
                  <a:cubicBezTo>
                    <a:pt x="473659" y="1621913"/>
                    <a:pt x="469506" y="1617760"/>
                    <a:pt x="464383" y="1617760"/>
                  </a:cubicBezTo>
                  <a:lnTo>
                    <a:pt x="499467" y="1617760"/>
                  </a:lnTo>
                  <a:cubicBezTo>
                    <a:pt x="494344" y="1617760"/>
                    <a:pt x="490191" y="1621913"/>
                    <a:pt x="490191" y="1627036"/>
                  </a:cubicBezTo>
                  <a:lnTo>
                    <a:pt x="490191" y="1833487"/>
                  </a:lnTo>
                  <a:cubicBezTo>
                    <a:pt x="490191" y="1838610"/>
                    <a:pt x="494344" y="1842763"/>
                    <a:pt x="499467" y="1842763"/>
                  </a:cubicBezTo>
                  <a:lnTo>
                    <a:pt x="536569" y="1842763"/>
                  </a:lnTo>
                  <a:cubicBezTo>
                    <a:pt x="541692" y="1842763"/>
                    <a:pt x="545845" y="1838610"/>
                    <a:pt x="545845" y="1833487"/>
                  </a:cubicBezTo>
                  <a:lnTo>
                    <a:pt x="545845" y="1627036"/>
                  </a:lnTo>
                  <a:cubicBezTo>
                    <a:pt x="545845" y="1621913"/>
                    <a:pt x="541692" y="1617760"/>
                    <a:pt x="536569" y="1617760"/>
                  </a:cubicBezTo>
                  <a:lnTo>
                    <a:pt x="530469" y="1617760"/>
                  </a:lnTo>
                  <a:lnTo>
                    <a:pt x="530469" y="1472390"/>
                  </a:lnTo>
                  <a:cubicBezTo>
                    <a:pt x="530469" y="1470978"/>
                    <a:pt x="531614" y="1469833"/>
                    <a:pt x="533026" y="1469833"/>
                  </a:cubicBezTo>
                  <a:lnTo>
                    <a:pt x="555414" y="1469833"/>
                  </a:lnTo>
                  <a:cubicBezTo>
                    <a:pt x="556827" y="1469833"/>
                    <a:pt x="557971" y="1470978"/>
                    <a:pt x="557971" y="1472390"/>
                  </a:cubicBezTo>
                  <a:lnTo>
                    <a:pt x="557971" y="1617760"/>
                  </a:lnTo>
                  <a:lnTo>
                    <a:pt x="572109" y="1617760"/>
                  </a:lnTo>
                  <a:cubicBezTo>
                    <a:pt x="582103" y="1617760"/>
                    <a:pt x="590204" y="1609659"/>
                    <a:pt x="590204" y="1599665"/>
                  </a:cubicBezTo>
                  <a:lnTo>
                    <a:pt x="590204" y="1441244"/>
                  </a:lnTo>
                  <a:cubicBezTo>
                    <a:pt x="590204" y="1431251"/>
                    <a:pt x="582103" y="1423149"/>
                    <a:pt x="572109" y="1423149"/>
                  </a:cubicBezTo>
                  <a:lnTo>
                    <a:pt x="392943" y="1423149"/>
                  </a:lnTo>
                  <a:close/>
                  <a:moveTo>
                    <a:pt x="648694" y="1423149"/>
                  </a:moveTo>
                  <a:cubicBezTo>
                    <a:pt x="638700" y="1423149"/>
                    <a:pt x="630599" y="1431251"/>
                    <a:pt x="630599" y="1441244"/>
                  </a:cubicBezTo>
                  <a:lnTo>
                    <a:pt x="630599" y="1599665"/>
                  </a:lnTo>
                  <a:cubicBezTo>
                    <a:pt x="630599" y="1609659"/>
                    <a:pt x="638700" y="1617760"/>
                    <a:pt x="648694" y="1617760"/>
                  </a:cubicBezTo>
                  <a:lnTo>
                    <a:pt x="658780" y="1617760"/>
                  </a:lnTo>
                  <a:lnTo>
                    <a:pt x="658780" y="1472390"/>
                  </a:lnTo>
                  <a:cubicBezTo>
                    <a:pt x="658780" y="1470978"/>
                    <a:pt x="659925" y="1469833"/>
                    <a:pt x="661338" y="1469833"/>
                  </a:cubicBezTo>
                  <a:lnTo>
                    <a:pt x="683726" y="1469833"/>
                  </a:lnTo>
                  <a:cubicBezTo>
                    <a:pt x="685138" y="1469833"/>
                    <a:pt x="686283" y="1470978"/>
                    <a:pt x="686283" y="1472390"/>
                  </a:cubicBezTo>
                  <a:lnTo>
                    <a:pt x="686283" y="1617760"/>
                  </a:lnTo>
                  <a:lnTo>
                    <a:pt x="683032" y="1617760"/>
                  </a:lnTo>
                  <a:cubicBezTo>
                    <a:pt x="677909" y="1617760"/>
                    <a:pt x="673756" y="1621913"/>
                    <a:pt x="673756" y="1627036"/>
                  </a:cubicBezTo>
                  <a:lnTo>
                    <a:pt x="673756" y="1833487"/>
                  </a:lnTo>
                  <a:cubicBezTo>
                    <a:pt x="673756" y="1838610"/>
                    <a:pt x="677909" y="1842763"/>
                    <a:pt x="683032" y="1842763"/>
                  </a:cubicBezTo>
                  <a:lnTo>
                    <a:pt x="720134" y="1842763"/>
                  </a:lnTo>
                  <a:cubicBezTo>
                    <a:pt x="725257" y="1842763"/>
                    <a:pt x="729410" y="1838610"/>
                    <a:pt x="729410" y="1833487"/>
                  </a:cubicBezTo>
                  <a:lnTo>
                    <a:pt x="729410" y="1627036"/>
                  </a:lnTo>
                  <a:cubicBezTo>
                    <a:pt x="729410" y="1621913"/>
                    <a:pt x="725257" y="1617760"/>
                    <a:pt x="720134" y="1617760"/>
                  </a:cubicBezTo>
                  <a:lnTo>
                    <a:pt x="755218" y="1617760"/>
                  </a:lnTo>
                  <a:cubicBezTo>
                    <a:pt x="750095" y="1617760"/>
                    <a:pt x="745942" y="1621913"/>
                    <a:pt x="745942" y="1627036"/>
                  </a:cubicBezTo>
                  <a:lnTo>
                    <a:pt x="745942" y="1833487"/>
                  </a:lnTo>
                  <a:cubicBezTo>
                    <a:pt x="745942" y="1838610"/>
                    <a:pt x="750095" y="1842763"/>
                    <a:pt x="755218" y="1842763"/>
                  </a:cubicBezTo>
                  <a:lnTo>
                    <a:pt x="792320" y="1842763"/>
                  </a:lnTo>
                  <a:cubicBezTo>
                    <a:pt x="797443" y="1842763"/>
                    <a:pt x="801596" y="1838610"/>
                    <a:pt x="801596" y="1833487"/>
                  </a:cubicBezTo>
                  <a:lnTo>
                    <a:pt x="801596" y="1627036"/>
                  </a:lnTo>
                  <a:cubicBezTo>
                    <a:pt x="801596" y="1621913"/>
                    <a:pt x="797443" y="1617760"/>
                    <a:pt x="792320" y="1617760"/>
                  </a:cubicBezTo>
                  <a:lnTo>
                    <a:pt x="786220" y="1617760"/>
                  </a:lnTo>
                  <a:lnTo>
                    <a:pt x="786220" y="1472390"/>
                  </a:lnTo>
                  <a:cubicBezTo>
                    <a:pt x="786220" y="1470978"/>
                    <a:pt x="787365" y="1469833"/>
                    <a:pt x="788777" y="1469833"/>
                  </a:cubicBezTo>
                  <a:lnTo>
                    <a:pt x="811165" y="1469833"/>
                  </a:lnTo>
                  <a:cubicBezTo>
                    <a:pt x="812578" y="1469833"/>
                    <a:pt x="813722" y="1470978"/>
                    <a:pt x="813722" y="1472390"/>
                  </a:cubicBezTo>
                  <a:lnTo>
                    <a:pt x="813722" y="1617760"/>
                  </a:lnTo>
                  <a:lnTo>
                    <a:pt x="827860" y="1617760"/>
                  </a:lnTo>
                  <a:cubicBezTo>
                    <a:pt x="837854" y="1617760"/>
                    <a:pt x="845955" y="1609659"/>
                    <a:pt x="845955" y="1599665"/>
                  </a:cubicBezTo>
                  <a:lnTo>
                    <a:pt x="845955" y="1441244"/>
                  </a:lnTo>
                  <a:cubicBezTo>
                    <a:pt x="845955" y="1431251"/>
                    <a:pt x="837854" y="1423149"/>
                    <a:pt x="827860" y="1423149"/>
                  </a:cubicBezTo>
                  <a:lnTo>
                    <a:pt x="648694" y="1423149"/>
                  </a:lnTo>
                  <a:close/>
                  <a:moveTo>
                    <a:pt x="904446" y="1423149"/>
                  </a:moveTo>
                  <a:cubicBezTo>
                    <a:pt x="894452" y="1423149"/>
                    <a:pt x="886351" y="1431251"/>
                    <a:pt x="886351" y="1441244"/>
                  </a:cubicBezTo>
                  <a:lnTo>
                    <a:pt x="886351" y="1599665"/>
                  </a:lnTo>
                  <a:cubicBezTo>
                    <a:pt x="886351" y="1609659"/>
                    <a:pt x="894452" y="1617760"/>
                    <a:pt x="904446" y="1617760"/>
                  </a:cubicBezTo>
                  <a:lnTo>
                    <a:pt x="914532" y="1617760"/>
                  </a:lnTo>
                  <a:lnTo>
                    <a:pt x="914532" y="1472390"/>
                  </a:lnTo>
                  <a:cubicBezTo>
                    <a:pt x="914532" y="1470978"/>
                    <a:pt x="915677" y="1469833"/>
                    <a:pt x="917090" y="1469833"/>
                  </a:cubicBezTo>
                  <a:lnTo>
                    <a:pt x="939478" y="1469833"/>
                  </a:lnTo>
                  <a:cubicBezTo>
                    <a:pt x="940890" y="1469833"/>
                    <a:pt x="942035" y="1470978"/>
                    <a:pt x="942035" y="1472390"/>
                  </a:cubicBezTo>
                  <a:lnTo>
                    <a:pt x="942035" y="1617760"/>
                  </a:lnTo>
                  <a:lnTo>
                    <a:pt x="938784" y="1617760"/>
                  </a:lnTo>
                  <a:cubicBezTo>
                    <a:pt x="933661" y="1617760"/>
                    <a:pt x="929508" y="1621913"/>
                    <a:pt x="929508" y="1627036"/>
                  </a:cubicBezTo>
                  <a:lnTo>
                    <a:pt x="929508" y="1833487"/>
                  </a:lnTo>
                  <a:cubicBezTo>
                    <a:pt x="929508" y="1838610"/>
                    <a:pt x="933661" y="1842763"/>
                    <a:pt x="938784" y="1842763"/>
                  </a:cubicBezTo>
                  <a:lnTo>
                    <a:pt x="975886" y="1842763"/>
                  </a:lnTo>
                  <a:cubicBezTo>
                    <a:pt x="981009" y="1842763"/>
                    <a:pt x="985162" y="1838610"/>
                    <a:pt x="985162" y="1833487"/>
                  </a:cubicBezTo>
                  <a:lnTo>
                    <a:pt x="985162" y="1627036"/>
                  </a:lnTo>
                  <a:cubicBezTo>
                    <a:pt x="985162" y="1621913"/>
                    <a:pt x="981009" y="1617760"/>
                    <a:pt x="975886" y="1617760"/>
                  </a:cubicBezTo>
                  <a:lnTo>
                    <a:pt x="1010970" y="1617760"/>
                  </a:lnTo>
                  <a:cubicBezTo>
                    <a:pt x="1005847" y="1617760"/>
                    <a:pt x="1001694" y="1621913"/>
                    <a:pt x="1001694" y="1627036"/>
                  </a:cubicBezTo>
                  <a:lnTo>
                    <a:pt x="1001694" y="1833487"/>
                  </a:lnTo>
                  <a:cubicBezTo>
                    <a:pt x="1001694" y="1838610"/>
                    <a:pt x="1005847" y="1842763"/>
                    <a:pt x="1010970" y="1842763"/>
                  </a:cubicBezTo>
                  <a:lnTo>
                    <a:pt x="1048072" y="1842763"/>
                  </a:lnTo>
                  <a:cubicBezTo>
                    <a:pt x="1053195" y="1842763"/>
                    <a:pt x="1057348" y="1838610"/>
                    <a:pt x="1057348" y="1833487"/>
                  </a:cubicBezTo>
                  <a:lnTo>
                    <a:pt x="1057348" y="1627036"/>
                  </a:lnTo>
                  <a:cubicBezTo>
                    <a:pt x="1057348" y="1621913"/>
                    <a:pt x="1053195" y="1617760"/>
                    <a:pt x="1048072" y="1617760"/>
                  </a:cubicBezTo>
                  <a:lnTo>
                    <a:pt x="1041972" y="1617760"/>
                  </a:lnTo>
                  <a:lnTo>
                    <a:pt x="1041972" y="1472390"/>
                  </a:lnTo>
                  <a:cubicBezTo>
                    <a:pt x="1041972" y="1470978"/>
                    <a:pt x="1043117" y="1469833"/>
                    <a:pt x="1044529" y="1469833"/>
                  </a:cubicBezTo>
                  <a:lnTo>
                    <a:pt x="1066917" y="1469833"/>
                  </a:lnTo>
                  <a:cubicBezTo>
                    <a:pt x="1068330" y="1469833"/>
                    <a:pt x="1069474" y="1470978"/>
                    <a:pt x="1069474" y="1472390"/>
                  </a:cubicBezTo>
                  <a:lnTo>
                    <a:pt x="1069474" y="1617760"/>
                  </a:lnTo>
                  <a:lnTo>
                    <a:pt x="1083612" y="1617760"/>
                  </a:lnTo>
                  <a:cubicBezTo>
                    <a:pt x="1093606" y="1617760"/>
                    <a:pt x="1101707" y="1609659"/>
                    <a:pt x="1101707" y="1599665"/>
                  </a:cubicBezTo>
                  <a:lnTo>
                    <a:pt x="1101707" y="1441244"/>
                  </a:lnTo>
                  <a:cubicBezTo>
                    <a:pt x="1101707" y="1431251"/>
                    <a:pt x="1093606" y="1423149"/>
                    <a:pt x="1083612" y="1423149"/>
                  </a:cubicBezTo>
                  <a:lnTo>
                    <a:pt x="904446" y="1423149"/>
                  </a:lnTo>
                  <a:close/>
                  <a:moveTo>
                    <a:pt x="1160198" y="1423149"/>
                  </a:moveTo>
                  <a:cubicBezTo>
                    <a:pt x="1150204" y="1423149"/>
                    <a:pt x="1142103" y="1431251"/>
                    <a:pt x="1142103" y="1441244"/>
                  </a:cubicBezTo>
                  <a:lnTo>
                    <a:pt x="1142103" y="1599665"/>
                  </a:lnTo>
                  <a:cubicBezTo>
                    <a:pt x="1142103" y="1609659"/>
                    <a:pt x="1150204" y="1617760"/>
                    <a:pt x="1160198" y="1617760"/>
                  </a:cubicBezTo>
                  <a:lnTo>
                    <a:pt x="1170284" y="1617760"/>
                  </a:lnTo>
                  <a:lnTo>
                    <a:pt x="1170284" y="1472390"/>
                  </a:lnTo>
                  <a:cubicBezTo>
                    <a:pt x="1170284" y="1470978"/>
                    <a:pt x="1171429" y="1469833"/>
                    <a:pt x="1172842" y="1469833"/>
                  </a:cubicBezTo>
                  <a:lnTo>
                    <a:pt x="1195230" y="1469833"/>
                  </a:lnTo>
                  <a:cubicBezTo>
                    <a:pt x="1196642" y="1469833"/>
                    <a:pt x="1197787" y="1470978"/>
                    <a:pt x="1197787" y="1472390"/>
                  </a:cubicBezTo>
                  <a:lnTo>
                    <a:pt x="1197787" y="1617760"/>
                  </a:lnTo>
                  <a:lnTo>
                    <a:pt x="1194536" y="1617760"/>
                  </a:lnTo>
                  <a:cubicBezTo>
                    <a:pt x="1189413" y="1617760"/>
                    <a:pt x="1185260" y="1621913"/>
                    <a:pt x="1185260" y="1627036"/>
                  </a:cubicBezTo>
                  <a:lnTo>
                    <a:pt x="1185260" y="1833487"/>
                  </a:lnTo>
                  <a:cubicBezTo>
                    <a:pt x="1185260" y="1838610"/>
                    <a:pt x="1189413" y="1842763"/>
                    <a:pt x="1194536" y="1842763"/>
                  </a:cubicBezTo>
                  <a:lnTo>
                    <a:pt x="1231638" y="1842763"/>
                  </a:lnTo>
                  <a:cubicBezTo>
                    <a:pt x="1236761" y="1842763"/>
                    <a:pt x="1240914" y="1838610"/>
                    <a:pt x="1240914" y="1833487"/>
                  </a:cubicBezTo>
                  <a:lnTo>
                    <a:pt x="1240914" y="1627036"/>
                  </a:lnTo>
                  <a:cubicBezTo>
                    <a:pt x="1240914" y="1621913"/>
                    <a:pt x="1236761" y="1617760"/>
                    <a:pt x="1231638" y="1617760"/>
                  </a:cubicBezTo>
                  <a:lnTo>
                    <a:pt x="1266722" y="1617760"/>
                  </a:lnTo>
                  <a:cubicBezTo>
                    <a:pt x="1261599" y="1617760"/>
                    <a:pt x="1257446" y="1621913"/>
                    <a:pt x="1257446" y="1627036"/>
                  </a:cubicBezTo>
                  <a:lnTo>
                    <a:pt x="1257446" y="1833487"/>
                  </a:lnTo>
                  <a:cubicBezTo>
                    <a:pt x="1257446" y="1838610"/>
                    <a:pt x="1261599" y="1842763"/>
                    <a:pt x="1266722" y="1842763"/>
                  </a:cubicBezTo>
                  <a:lnTo>
                    <a:pt x="1303824" y="1842763"/>
                  </a:lnTo>
                  <a:cubicBezTo>
                    <a:pt x="1308947" y="1842763"/>
                    <a:pt x="1313100" y="1838610"/>
                    <a:pt x="1313100" y="1833487"/>
                  </a:cubicBezTo>
                  <a:lnTo>
                    <a:pt x="1313100" y="1627036"/>
                  </a:lnTo>
                  <a:cubicBezTo>
                    <a:pt x="1313100" y="1621913"/>
                    <a:pt x="1308947" y="1617760"/>
                    <a:pt x="1303824" y="1617760"/>
                  </a:cubicBezTo>
                  <a:lnTo>
                    <a:pt x="1297724" y="1617760"/>
                  </a:lnTo>
                  <a:lnTo>
                    <a:pt x="1297724" y="1472390"/>
                  </a:lnTo>
                  <a:cubicBezTo>
                    <a:pt x="1297724" y="1470978"/>
                    <a:pt x="1298869" y="1469833"/>
                    <a:pt x="1300281" y="1469833"/>
                  </a:cubicBezTo>
                  <a:lnTo>
                    <a:pt x="1322669" y="1469833"/>
                  </a:lnTo>
                  <a:cubicBezTo>
                    <a:pt x="1324082" y="1469833"/>
                    <a:pt x="1325226" y="1470978"/>
                    <a:pt x="1325226" y="1472390"/>
                  </a:cubicBezTo>
                  <a:lnTo>
                    <a:pt x="1325226" y="1617760"/>
                  </a:lnTo>
                  <a:lnTo>
                    <a:pt x="1339364" y="1617760"/>
                  </a:lnTo>
                  <a:cubicBezTo>
                    <a:pt x="1349358" y="1617760"/>
                    <a:pt x="1357459" y="1609659"/>
                    <a:pt x="1357459" y="1599665"/>
                  </a:cubicBezTo>
                  <a:lnTo>
                    <a:pt x="1357459" y="1441244"/>
                  </a:lnTo>
                  <a:cubicBezTo>
                    <a:pt x="1357459" y="1431251"/>
                    <a:pt x="1349358" y="1423149"/>
                    <a:pt x="1339364" y="1423149"/>
                  </a:cubicBezTo>
                  <a:lnTo>
                    <a:pt x="1160198" y="1423149"/>
                  </a:lnTo>
                  <a:close/>
                  <a:moveTo>
                    <a:pt x="1415950" y="1423149"/>
                  </a:moveTo>
                  <a:cubicBezTo>
                    <a:pt x="1405956" y="1423149"/>
                    <a:pt x="1397855" y="1431251"/>
                    <a:pt x="1397855" y="1441244"/>
                  </a:cubicBezTo>
                  <a:lnTo>
                    <a:pt x="1397855" y="1599665"/>
                  </a:lnTo>
                  <a:cubicBezTo>
                    <a:pt x="1397855" y="1609659"/>
                    <a:pt x="1405956" y="1617760"/>
                    <a:pt x="1415950" y="1617760"/>
                  </a:cubicBezTo>
                  <a:lnTo>
                    <a:pt x="1426036" y="1617760"/>
                  </a:lnTo>
                  <a:lnTo>
                    <a:pt x="1426036" y="1472390"/>
                  </a:lnTo>
                  <a:cubicBezTo>
                    <a:pt x="1426036" y="1470978"/>
                    <a:pt x="1427181" y="1469833"/>
                    <a:pt x="1428594" y="1469833"/>
                  </a:cubicBezTo>
                  <a:lnTo>
                    <a:pt x="1450982" y="1469833"/>
                  </a:lnTo>
                  <a:cubicBezTo>
                    <a:pt x="1452394" y="1469833"/>
                    <a:pt x="1453539" y="1470978"/>
                    <a:pt x="1453539" y="1472390"/>
                  </a:cubicBezTo>
                  <a:lnTo>
                    <a:pt x="1453539" y="1617760"/>
                  </a:lnTo>
                  <a:lnTo>
                    <a:pt x="1450288" y="1617760"/>
                  </a:lnTo>
                  <a:cubicBezTo>
                    <a:pt x="1445165" y="1617760"/>
                    <a:pt x="1441012" y="1621913"/>
                    <a:pt x="1441012" y="1627036"/>
                  </a:cubicBezTo>
                  <a:lnTo>
                    <a:pt x="1441012" y="1833487"/>
                  </a:lnTo>
                  <a:cubicBezTo>
                    <a:pt x="1441012" y="1838610"/>
                    <a:pt x="1445165" y="1842763"/>
                    <a:pt x="1450288" y="1842763"/>
                  </a:cubicBezTo>
                  <a:lnTo>
                    <a:pt x="1487390" y="1842763"/>
                  </a:lnTo>
                  <a:cubicBezTo>
                    <a:pt x="1492513" y="1842763"/>
                    <a:pt x="1496666" y="1838610"/>
                    <a:pt x="1496666" y="1833487"/>
                  </a:cubicBezTo>
                  <a:lnTo>
                    <a:pt x="1496666" y="1627036"/>
                  </a:lnTo>
                  <a:cubicBezTo>
                    <a:pt x="1496666" y="1621913"/>
                    <a:pt x="1492513" y="1617760"/>
                    <a:pt x="1487390" y="1617760"/>
                  </a:cubicBezTo>
                  <a:lnTo>
                    <a:pt x="1522474" y="1617760"/>
                  </a:lnTo>
                  <a:cubicBezTo>
                    <a:pt x="1517351" y="1617760"/>
                    <a:pt x="1513198" y="1621913"/>
                    <a:pt x="1513198" y="1627036"/>
                  </a:cubicBezTo>
                  <a:lnTo>
                    <a:pt x="1513198" y="1833487"/>
                  </a:lnTo>
                  <a:cubicBezTo>
                    <a:pt x="1513198" y="1838610"/>
                    <a:pt x="1517351" y="1842763"/>
                    <a:pt x="1522474" y="1842763"/>
                  </a:cubicBezTo>
                  <a:lnTo>
                    <a:pt x="1559576" y="1842763"/>
                  </a:lnTo>
                  <a:cubicBezTo>
                    <a:pt x="1564699" y="1842763"/>
                    <a:pt x="1568852" y="1838610"/>
                    <a:pt x="1568852" y="1833487"/>
                  </a:cubicBezTo>
                  <a:lnTo>
                    <a:pt x="1568852" y="1627036"/>
                  </a:lnTo>
                  <a:cubicBezTo>
                    <a:pt x="1568852" y="1621913"/>
                    <a:pt x="1564699" y="1617760"/>
                    <a:pt x="1559576" y="1617760"/>
                  </a:cubicBezTo>
                  <a:lnTo>
                    <a:pt x="1553476" y="1617760"/>
                  </a:lnTo>
                  <a:lnTo>
                    <a:pt x="1553476" y="1472390"/>
                  </a:lnTo>
                  <a:cubicBezTo>
                    <a:pt x="1553476" y="1470978"/>
                    <a:pt x="1554621" y="1469833"/>
                    <a:pt x="1556033" y="1469833"/>
                  </a:cubicBezTo>
                  <a:lnTo>
                    <a:pt x="1578421" y="1469833"/>
                  </a:lnTo>
                  <a:cubicBezTo>
                    <a:pt x="1579834" y="1469833"/>
                    <a:pt x="1580978" y="1470978"/>
                    <a:pt x="1580978" y="1472390"/>
                  </a:cubicBezTo>
                  <a:lnTo>
                    <a:pt x="1580978" y="1617760"/>
                  </a:lnTo>
                  <a:lnTo>
                    <a:pt x="1595116" y="1617760"/>
                  </a:lnTo>
                  <a:cubicBezTo>
                    <a:pt x="1605110" y="1617760"/>
                    <a:pt x="1613211" y="1609659"/>
                    <a:pt x="1613211" y="1599665"/>
                  </a:cubicBezTo>
                  <a:lnTo>
                    <a:pt x="1613211" y="1441244"/>
                  </a:lnTo>
                  <a:cubicBezTo>
                    <a:pt x="1613211" y="1431251"/>
                    <a:pt x="1605110" y="1423149"/>
                    <a:pt x="1595116" y="1423149"/>
                  </a:cubicBezTo>
                  <a:lnTo>
                    <a:pt x="1415950" y="1423149"/>
                  </a:lnTo>
                  <a:close/>
                  <a:moveTo>
                    <a:pt x="1671701" y="1423149"/>
                  </a:moveTo>
                  <a:cubicBezTo>
                    <a:pt x="1661707" y="1423149"/>
                    <a:pt x="1653606" y="1431251"/>
                    <a:pt x="1653606" y="1441244"/>
                  </a:cubicBezTo>
                  <a:lnTo>
                    <a:pt x="1653606" y="1599665"/>
                  </a:lnTo>
                  <a:cubicBezTo>
                    <a:pt x="1653606" y="1609659"/>
                    <a:pt x="1661707" y="1617760"/>
                    <a:pt x="1671701" y="1617760"/>
                  </a:cubicBezTo>
                  <a:lnTo>
                    <a:pt x="1681787" y="1617760"/>
                  </a:lnTo>
                  <a:lnTo>
                    <a:pt x="1681787" y="1472390"/>
                  </a:lnTo>
                  <a:cubicBezTo>
                    <a:pt x="1681787" y="1470978"/>
                    <a:pt x="1682932" y="1469833"/>
                    <a:pt x="1684345" y="1469833"/>
                  </a:cubicBezTo>
                  <a:lnTo>
                    <a:pt x="1706733" y="1469833"/>
                  </a:lnTo>
                  <a:cubicBezTo>
                    <a:pt x="1708145" y="1469833"/>
                    <a:pt x="1709290" y="1470978"/>
                    <a:pt x="1709290" y="1472390"/>
                  </a:cubicBezTo>
                  <a:lnTo>
                    <a:pt x="1709290" y="1617760"/>
                  </a:lnTo>
                  <a:lnTo>
                    <a:pt x="1706039" y="1617760"/>
                  </a:lnTo>
                  <a:cubicBezTo>
                    <a:pt x="1700916" y="1617760"/>
                    <a:pt x="1696763" y="1621913"/>
                    <a:pt x="1696763" y="1627036"/>
                  </a:cubicBezTo>
                  <a:lnTo>
                    <a:pt x="1696763" y="1833487"/>
                  </a:lnTo>
                  <a:cubicBezTo>
                    <a:pt x="1696763" y="1838610"/>
                    <a:pt x="1700916" y="1842763"/>
                    <a:pt x="1706039" y="1842763"/>
                  </a:cubicBezTo>
                  <a:lnTo>
                    <a:pt x="1743141" y="1842763"/>
                  </a:lnTo>
                  <a:cubicBezTo>
                    <a:pt x="1748264" y="1842763"/>
                    <a:pt x="1752417" y="1838610"/>
                    <a:pt x="1752417" y="1833487"/>
                  </a:cubicBezTo>
                  <a:lnTo>
                    <a:pt x="1752417" y="1627036"/>
                  </a:lnTo>
                  <a:cubicBezTo>
                    <a:pt x="1752417" y="1621913"/>
                    <a:pt x="1748264" y="1617760"/>
                    <a:pt x="1743141" y="1617760"/>
                  </a:cubicBezTo>
                  <a:lnTo>
                    <a:pt x="1778225" y="1617760"/>
                  </a:lnTo>
                  <a:cubicBezTo>
                    <a:pt x="1773102" y="1617760"/>
                    <a:pt x="1768949" y="1621913"/>
                    <a:pt x="1768949" y="1627036"/>
                  </a:cubicBezTo>
                  <a:lnTo>
                    <a:pt x="1768949" y="1833487"/>
                  </a:lnTo>
                  <a:cubicBezTo>
                    <a:pt x="1768949" y="1838610"/>
                    <a:pt x="1773102" y="1842763"/>
                    <a:pt x="1778225" y="1842763"/>
                  </a:cubicBezTo>
                  <a:lnTo>
                    <a:pt x="1815327" y="1842763"/>
                  </a:lnTo>
                  <a:cubicBezTo>
                    <a:pt x="1820450" y="1842763"/>
                    <a:pt x="1824603" y="1838610"/>
                    <a:pt x="1824603" y="1833487"/>
                  </a:cubicBezTo>
                  <a:lnTo>
                    <a:pt x="1824603" y="1627036"/>
                  </a:lnTo>
                  <a:cubicBezTo>
                    <a:pt x="1824603" y="1621913"/>
                    <a:pt x="1820450" y="1617760"/>
                    <a:pt x="1815327" y="1617760"/>
                  </a:cubicBezTo>
                  <a:lnTo>
                    <a:pt x="1809227" y="1617760"/>
                  </a:lnTo>
                  <a:lnTo>
                    <a:pt x="1809227" y="1472390"/>
                  </a:lnTo>
                  <a:cubicBezTo>
                    <a:pt x="1809227" y="1470978"/>
                    <a:pt x="1810372" y="1469833"/>
                    <a:pt x="1811784" y="1469833"/>
                  </a:cubicBezTo>
                  <a:lnTo>
                    <a:pt x="1834172" y="1469833"/>
                  </a:lnTo>
                  <a:cubicBezTo>
                    <a:pt x="1835585" y="1469833"/>
                    <a:pt x="1836730" y="1470978"/>
                    <a:pt x="1836730" y="1472390"/>
                  </a:cubicBezTo>
                  <a:lnTo>
                    <a:pt x="1836730" y="1617760"/>
                  </a:lnTo>
                  <a:lnTo>
                    <a:pt x="1850867" y="1617760"/>
                  </a:lnTo>
                  <a:cubicBezTo>
                    <a:pt x="1860861" y="1617760"/>
                    <a:pt x="1868962" y="1609659"/>
                    <a:pt x="1868962" y="1599665"/>
                  </a:cubicBezTo>
                  <a:lnTo>
                    <a:pt x="1868962" y="1441244"/>
                  </a:lnTo>
                  <a:cubicBezTo>
                    <a:pt x="1868962" y="1431251"/>
                    <a:pt x="1860861" y="1423149"/>
                    <a:pt x="1850867" y="1423149"/>
                  </a:cubicBezTo>
                  <a:lnTo>
                    <a:pt x="1671701" y="1423149"/>
                  </a:lnTo>
                  <a:close/>
                  <a:moveTo>
                    <a:pt x="1927453" y="1423149"/>
                  </a:moveTo>
                  <a:cubicBezTo>
                    <a:pt x="1917459" y="1423149"/>
                    <a:pt x="1909358" y="1431251"/>
                    <a:pt x="1909358" y="1441244"/>
                  </a:cubicBezTo>
                  <a:lnTo>
                    <a:pt x="1909358" y="1599665"/>
                  </a:lnTo>
                  <a:cubicBezTo>
                    <a:pt x="1909358" y="1609659"/>
                    <a:pt x="1917459" y="1617760"/>
                    <a:pt x="1927453" y="1617760"/>
                  </a:cubicBezTo>
                  <a:lnTo>
                    <a:pt x="1937540" y="1617760"/>
                  </a:lnTo>
                  <a:lnTo>
                    <a:pt x="1937540" y="1472390"/>
                  </a:lnTo>
                  <a:cubicBezTo>
                    <a:pt x="1937540" y="1470978"/>
                    <a:pt x="1938684" y="1469833"/>
                    <a:pt x="1940097" y="1469833"/>
                  </a:cubicBezTo>
                  <a:lnTo>
                    <a:pt x="1962485" y="1469833"/>
                  </a:lnTo>
                  <a:cubicBezTo>
                    <a:pt x="1963897" y="1469833"/>
                    <a:pt x="1965042" y="1470978"/>
                    <a:pt x="1965042" y="1472390"/>
                  </a:cubicBezTo>
                  <a:lnTo>
                    <a:pt x="1965042" y="1617760"/>
                  </a:lnTo>
                  <a:lnTo>
                    <a:pt x="1961791" y="1617760"/>
                  </a:lnTo>
                  <a:cubicBezTo>
                    <a:pt x="1956668" y="1617760"/>
                    <a:pt x="1952515" y="1621913"/>
                    <a:pt x="1952515" y="1627036"/>
                  </a:cubicBezTo>
                  <a:lnTo>
                    <a:pt x="1952515" y="1833487"/>
                  </a:lnTo>
                  <a:cubicBezTo>
                    <a:pt x="1952515" y="1838610"/>
                    <a:pt x="1956668" y="1842763"/>
                    <a:pt x="1961791" y="1842763"/>
                  </a:cubicBezTo>
                  <a:lnTo>
                    <a:pt x="1998893" y="1842763"/>
                  </a:lnTo>
                  <a:cubicBezTo>
                    <a:pt x="2004016" y="1842763"/>
                    <a:pt x="2008169" y="1838610"/>
                    <a:pt x="2008169" y="1833487"/>
                  </a:cubicBezTo>
                  <a:lnTo>
                    <a:pt x="2008169" y="1627036"/>
                  </a:lnTo>
                  <a:cubicBezTo>
                    <a:pt x="2008169" y="1621913"/>
                    <a:pt x="2004016" y="1617760"/>
                    <a:pt x="1998893" y="1617760"/>
                  </a:cubicBezTo>
                  <a:lnTo>
                    <a:pt x="2033977" y="1617760"/>
                  </a:lnTo>
                  <a:cubicBezTo>
                    <a:pt x="2028854" y="1617760"/>
                    <a:pt x="2024701" y="1621913"/>
                    <a:pt x="2024701" y="1627036"/>
                  </a:cubicBezTo>
                  <a:lnTo>
                    <a:pt x="2024701" y="1833487"/>
                  </a:lnTo>
                  <a:cubicBezTo>
                    <a:pt x="2024701" y="1838610"/>
                    <a:pt x="2028854" y="1842763"/>
                    <a:pt x="2033977" y="1842763"/>
                  </a:cubicBezTo>
                  <a:lnTo>
                    <a:pt x="2071079" y="1842763"/>
                  </a:lnTo>
                  <a:cubicBezTo>
                    <a:pt x="2076202" y="1842763"/>
                    <a:pt x="2080355" y="1838610"/>
                    <a:pt x="2080355" y="1833487"/>
                  </a:cubicBezTo>
                  <a:lnTo>
                    <a:pt x="2080355" y="1627036"/>
                  </a:lnTo>
                  <a:cubicBezTo>
                    <a:pt x="2080355" y="1621913"/>
                    <a:pt x="2076202" y="1617760"/>
                    <a:pt x="2071079" y="1617760"/>
                  </a:cubicBezTo>
                  <a:lnTo>
                    <a:pt x="2064979" y="1617760"/>
                  </a:lnTo>
                  <a:lnTo>
                    <a:pt x="2064979" y="1472390"/>
                  </a:lnTo>
                  <a:cubicBezTo>
                    <a:pt x="2064979" y="1470978"/>
                    <a:pt x="2066124" y="1469833"/>
                    <a:pt x="2067536" y="1469833"/>
                  </a:cubicBezTo>
                  <a:lnTo>
                    <a:pt x="2089924" y="1469833"/>
                  </a:lnTo>
                  <a:cubicBezTo>
                    <a:pt x="2091337" y="1469833"/>
                    <a:pt x="2092482" y="1470978"/>
                    <a:pt x="2092482" y="1472390"/>
                  </a:cubicBezTo>
                  <a:lnTo>
                    <a:pt x="2092482" y="1617760"/>
                  </a:lnTo>
                  <a:lnTo>
                    <a:pt x="2106619" y="1617760"/>
                  </a:lnTo>
                  <a:cubicBezTo>
                    <a:pt x="2116613" y="1617760"/>
                    <a:pt x="2124714" y="1609659"/>
                    <a:pt x="2124714" y="1599665"/>
                  </a:cubicBezTo>
                  <a:lnTo>
                    <a:pt x="2124714" y="1441244"/>
                  </a:lnTo>
                  <a:cubicBezTo>
                    <a:pt x="2124714" y="1431251"/>
                    <a:pt x="2116613" y="1423149"/>
                    <a:pt x="2106619" y="1423149"/>
                  </a:cubicBezTo>
                  <a:lnTo>
                    <a:pt x="1927453" y="1423149"/>
                  </a:lnTo>
                  <a:close/>
                  <a:moveTo>
                    <a:pt x="2183205" y="1423149"/>
                  </a:moveTo>
                  <a:cubicBezTo>
                    <a:pt x="2173211" y="1423149"/>
                    <a:pt x="2165110" y="1431251"/>
                    <a:pt x="2165110" y="1441244"/>
                  </a:cubicBezTo>
                  <a:lnTo>
                    <a:pt x="2165110" y="1599665"/>
                  </a:lnTo>
                  <a:cubicBezTo>
                    <a:pt x="2165110" y="1609659"/>
                    <a:pt x="2173211" y="1617760"/>
                    <a:pt x="2183205" y="1617760"/>
                  </a:cubicBezTo>
                  <a:lnTo>
                    <a:pt x="2193292" y="1617760"/>
                  </a:lnTo>
                  <a:lnTo>
                    <a:pt x="2193292" y="1472390"/>
                  </a:lnTo>
                  <a:cubicBezTo>
                    <a:pt x="2193292" y="1470978"/>
                    <a:pt x="2194436" y="1469833"/>
                    <a:pt x="2195849" y="1469833"/>
                  </a:cubicBezTo>
                  <a:lnTo>
                    <a:pt x="2218237" y="1469833"/>
                  </a:lnTo>
                  <a:cubicBezTo>
                    <a:pt x="2219649" y="1469833"/>
                    <a:pt x="2220794" y="1470978"/>
                    <a:pt x="2220794" y="1472390"/>
                  </a:cubicBezTo>
                  <a:lnTo>
                    <a:pt x="2220794" y="1617760"/>
                  </a:lnTo>
                  <a:lnTo>
                    <a:pt x="2217543" y="1617760"/>
                  </a:lnTo>
                  <a:cubicBezTo>
                    <a:pt x="2212420" y="1617760"/>
                    <a:pt x="2208267" y="1621913"/>
                    <a:pt x="2208267" y="1627036"/>
                  </a:cubicBezTo>
                  <a:lnTo>
                    <a:pt x="2208267" y="1833487"/>
                  </a:lnTo>
                  <a:cubicBezTo>
                    <a:pt x="2208267" y="1838610"/>
                    <a:pt x="2212420" y="1842763"/>
                    <a:pt x="2217543" y="1842763"/>
                  </a:cubicBezTo>
                  <a:lnTo>
                    <a:pt x="2254645" y="1842763"/>
                  </a:lnTo>
                  <a:cubicBezTo>
                    <a:pt x="2259768" y="1842763"/>
                    <a:pt x="2263921" y="1838610"/>
                    <a:pt x="2263921" y="1833487"/>
                  </a:cubicBezTo>
                  <a:lnTo>
                    <a:pt x="2263921" y="1627036"/>
                  </a:lnTo>
                  <a:cubicBezTo>
                    <a:pt x="2263921" y="1621913"/>
                    <a:pt x="2259768" y="1617760"/>
                    <a:pt x="2254645" y="1617760"/>
                  </a:cubicBezTo>
                  <a:lnTo>
                    <a:pt x="2289729" y="1617760"/>
                  </a:lnTo>
                  <a:cubicBezTo>
                    <a:pt x="2284606" y="1617760"/>
                    <a:pt x="2280453" y="1621913"/>
                    <a:pt x="2280453" y="1627036"/>
                  </a:cubicBezTo>
                  <a:lnTo>
                    <a:pt x="2280453" y="1833487"/>
                  </a:lnTo>
                  <a:cubicBezTo>
                    <a:pt x="2280453" y="1838610"/>
                    <a:pt x="2284606" y="1842763"/>
                    <a:pt x="2289729" y="1842763"/>
                  </a:cubicBezTo>
                  <a:lnTo>
                    <a:pt x="2326831" y="1842763"/>
                  </a:lnTo>
                  <a:cubicBezTo>
                    <a:pt x="2331954" y="1842763"/>
                    <a:pt x="2336107" y="1838610"/>
                    <a:pt x="2336107" y="1833487"/>
                  </a:cubicBezTo>
                  <a:lnTo>
                    <a:pt x="2336107" y="1627036"/>
                  </a:lnTo>
                  <a:cubicBezTo>
                    <a:pt x="2336107" y="1621913"/>
                    <a:pt x="2331954" y="1617760"/>
                    <a:pt x="2326831" y="1617760"/>
                  </a:cubicBezTo>
                  <a:lnTo>
                    <a:pt x="2320731" y="1617760"/>
                  </a:lnTo>
                  <a:lnTo>
                    <a:pt x="2320731" y="1472390"/>
                  </a:lnTo>
                  <a:cubicBezTo>
                    <a:pt x="2320731" y="1470978"/>
                    <a:pt x="2321876" y="1469833"/>
                    <a:pt x="2323288" y="1469833"/>
                  </a:cubicBezTo>
                  <a:lnTo>
                    <a:pt x="2345676" y="1469833"/>
                  </a:lnTo>
                  <a:cubicBezTo>
                    <a:pt x="2347089" y="1469833"/>
                    <a:pt x="2348234" y="1470978"/>
                    <a:pt x="2348234" y="1472390"/>
                  </a:cubicBezTo>
                  <a:lnTo>
                    <a:pt x="2348234" y="1617760"/>
                  </a:lnTo>
                  <a:lnTo>
                    <a:pt x="2362371" y="1617760"/>
                  </a:lnTo>
                  <a:cubicBezTo>
                    <a:pt x="2372365" y="1617760"/>
                    <a:pt x="2380466" y="1609659"/>
                    <a:pt x="2380466" y="1599665"/>
                  </a:cubicBezTo>
                  <a:lnTo>
                    <a:pt x="2380466" y="1441244"/>
                  </a:lnTo>
                  <a:cubicBezTo>
                    <a:pt x="2380466" y="1431251"/>
                    <a:pt x="2372365" y="1423149"/>
                    <a:pt x="2362371" y="1423149"/>
                  </a:cubicBezTo>
                  <a:lnTo>
                    <a:pt x="2183205" y="1423149"/>
                  </a:lnTo>
                  <a:close/>
                  <a:moveTo>
                    <a:pt x="2438957" y="1423149"/>
                  </a:moveTo>
                  <a:cubicBezTo>
                    <a:pt x="2428963" y="1423149"/>
                    <a:pt x="2420862" y="1431251"/>
                    <a:pt x="2420862" y="1441244"/>
                  </a:cubicBezTo>
                  <a:lnTo>
                    <a:pt x="2420862" y="1599665"/>
                  </a:lnTo>
                  <a:cubicBezTo>
                    <a:pt x="2420862" y="1609659"/>
                    <a:pt x="2428963" y="1617760"/>
                    <a:pt x="2438957" y="1617760"/>
                  </a:cubicBezTo>
                  <a:lnTo>
                    <a:pt x="2449044" y="1617760"/>
                  </a:lnTo>
                  <a:lnTo>
                    <a:pt x="2449044" y="1472390"/>
                  </a:lnTo>
                  <a:cubicBezTo>
                    <a:pt x="2449044" y="1470978"/>
                    <a:pt x="2450188" y="1469833"/>
                    <a:pt x="2451601" y="1469833"/>
                  </a:cubicBezTo>
                  <a:lnTo>
                    <a:pt x="2473989" y="1469833"/>
                  </a:lnTo>
                  <a:cubicBezTo>
                    <a:pt x="2475401" y="1469833"/>
                    <a:pt x="2476546" y="1470978"/>
                    <a:pt x="2476546" y="1472390"/>
                  </a:cubicBezTo>
                  <a:lnTo>
                    <a:pt x="2476546" y="1617760"/>
                  </a:lnTo>
                  <a:lnTo>
                    <a:pt x="2473295" y="1617760"/>
                  </a:lnTo>
                  <a:cubicBezTo>
                    <a:pt x="2468172" y="1617760"/>
                    <a:pt x="2464019" y="1621913"/>
                    <a:pt x="2464019" y="1627036"/>
                  </a:cubicBezTo>
                  <a:lnTo>
                    <a:pt x="2464019" y="1833487"/>
                  </a:lnTo>
                  <a:cubicBezTo>
                    <a:pt x="2464019" y="1838610"/>
                    <a:pt x="2468172" y="1842763"/>
                    <a:pt x="2473295" y="1842763"/>
                  </a:cubicBezTo>
                  <a:lnTo>
                    <a:pt x="2510397" y="1842763"/>
                  </a:lnTo>
                  <a:cubicBezTo>
                    <a:pt x="2515520" y="1842763"/>
                    <a:pt x="2519673" y="1838610"/>
                    <a:pt x="2519673" y="1833487"/>
                  </a:cubicBezTo>
                  <a:lnTo>
                    <a:pt x="2519673" y="1627036"/>
                  </a:lnTo>
                  <a:cubicBezTo>
                    <a:pt x="2519673" y="1621913"/>
                    <a:pt x="2515520" y="1617760"/>
                    <a:pt x="2510397" y="1617760"/>
                  </a:cubicBezTo>
                  <a:lnTo>
                    <a:pt x="2545481" y="1617760"/>
                  </a:lnTo>
                  <a:cubicBezTo>
                    <a:pt x="2540358" y="1617760"/>
                    <a:pt x="2536205" y="1621913"/>
                    <a:pt x="2536205" y="1627036"/>
                  </a:cubicBezTo>
                  <a:lnTo>
                    <a:pt x="2536205" y="1833487"/>
                  </a:lnTo>
                  <a:cubicBezTo>
                    <a:pt x="2536205" y="1838610"/>
                    <a:pt x="2540358" y="1842763"/>
                    <a:pt x="2545481" y="1842763"/>
                  </a:cubicBezTo>
                  <a:lnTo>
                    <a:pt x="2582583" y="1842763"/>
                  </a:lnTo>
                  <a:cubicBezTo>
                    <a:pt x="2587706" y="1842763"/>
                    <a:pt x="2591859" y="1838610"/>
                    <a:pt x="2591859" y="1833487"/>
                  </a:cubicBezTo>
                  <a:lnTo>
                    <a:pt x="2591859" y="1627036"/>
                  </a:lnTo>
                  <a:cubicBezTo>
                    <a:pt x="2591859" y="1621913"/>
                    <a:pt x="2587706" y="1617760"/>
                    <a:pt x="2582583" y="1617760"/>
                  </a:cubicBezTo>
                  <a:lnTo>
                    <a:pt x="2576483" y="1617760"/>
                  </a:lnTo>
                  <a:lnTo>
                    <a:pt x="2576483" y="1472390"/>
                  </a:lnTo>
                  <a:cubicBezTo>
                    <a:pt x="2576483" y="1470978"/>
                    <a:pt x="2577628" y="1469833"/>
                    <a:pt x="2579040" y="1469833"/>
                  </a:cubicBezTo>
                  <a:lnTo>
                    <a:pt x="2601428" y="1469833"/>
                  </a:lnTo>
                  <a:cubicBezTo>
                    <a:pt x="2602841" y="1469833"/>
                    <a:pt x="2603986" y="1470978"/>
                    <a:pt x="2603986" y="1472390"/>
                  </a:cubicBezTo>
                  <a:lnTo>
                    <a:pt x="2603986" y="1617760"/>
                  </a:lnTo>
                  <a:lnTo>
                    <a:pt x="2618123" y="1617760"/>
                  </a:lnTo>
                  <a:cubicBezTo>
                    <a:pt x="2628117" y="1617760"/>
                    <a:pt x="2636218" y="1609659"/>
                    <a:pt x="2636218" y="1599665"/>
                  </a:cubicBezTo>
                  <a:lnTo>
                    <a:pt x="2636218" y="1441244"/>
                  </a:lnTo>
                  <a:cubicBezTo>
                    <a:pt x="2636218" y="1431251"/>
                    <a:pt x="2628117" y="1423149"/>
                    <a:pt x="2618123" y="1423149"/>
                  </a:cubicBezTo>
                  <a:lnTo>
                    <a:pt x="2438957" y="1423149"/>
                  </a:lnTo>
                  <a:close/>
                  <a:moveTo>
                    <a:pt x="228740" y="1883940"/>
                  </a:moveTo>
                  <a:cubicBezTo>
                    <a:pt x="196682" y="1883940"/>
                    <a:pt x="170694" y="1909928"/>
                    <a:pt x="170694" y="1941986"/>
                  </a:cubicBezTo>
                  <a:cubicBezTo>
                    <a:pt x="170694" y="1974043"/>
                    <a:pt x="196682" y="2000031"/>
                    <a:pt x="228740" y="2000031"/>
                  </a:cubicBezTo>
                  <a:cubicBezTo>
                    <a:pt x="260797" y="2000031"/>
                    <a:pt x="286785" y="1974043"/>
                    <a:pt x="286785" y="1941986"/>
                  </a:cubicBezTo>
                  <a:cubicBezTo>
                    <a:pt x="286785" y="1909928"/>
                    <a:pt x="260797" y="1883940"/>
                    <a:pt x="228740" y="1883940"/>
                  </a:cubicBezTo>
                  <a:close/>
                  <a:moveTo>
                    <a:pt x="484492" y="1883940"/>
                  </a:moveTo>
                  <a:cubicBezTo>
                    <a:pt x="452434" y="1883940"/>
                    <a:pt x="426447" y="1909928"/>
                    <a:pt x="426447" y="1941986"/>
                  </a:cubicBezTo>
                  <a:cubicBezTo>
                    <a:pt x="426447" y="1974043"/>
                    <a:pt x="452434" y="2000031"/>
                    <a:pt x="484492" y="2000031"/>
                  </a:cubicBezTo>
                  <a:cubicBezTo>
                    <a:pt x="516549" y="2000031"/>
                    <a:pt x="542537" y="1974043"/>
                    <a:pt x="542537" y="1941986"/>
                  </a:cubicBezTo>
                  <a:cubicBezTo>
                    <a:pt x="542537" y="1909928"/>
                    <a:pt x="516549" y="1883940"/>
                    <a:pt x="484492" y="1883940"/>
                  </a:cubicBezTo>
                  <a:close/>
                  <a:moveTo>
                    <a:pt x="740243" y="1883940"/>
                  </a:moveTo>
                  <a:cubicBezTo>
                    <a:pt x="708185" y="1883940"/>
                    <a:pt x="682198" y="1909928"/>
                    <a:pt x="682198" y="1941986"/>
                  </a:cubicBezTo>
                  <a:cubicBezTo>
                    <a:pt x="682198" y="1974043"/>
                    <a:pt x="708185" y="2000031"/>
                    <a:pt x="740243" y="2000031"/>
                  </a:cubicBezTo>
                  <a:cubicBezTo>
                    <a:pt x="772300" y="2000031"/>
                    <a:pt x="798288" y="1974043"/>
                    <a:pt x="798288" y="1941986"/>
                  </a:cubicBezTo>
                  <a:cubicBezTo>
                    <a:pt x="798288" y="1909928"/>
                    <a:pt x="772300" y="1883940"/>
                    <a:pt x="740243" y="1883940"/>
                  </a:cubicBezTo>
                  <a:close/>
                  <a:moveTo>
                    <a:pt x="995995" y="1883940"/>
                  </a:moveTo>
                  <a:cubicBezTo>
                    <a:pt x="963937" y="1883940"/>
                    <a:pt x="937950" y="1909928"/>
                    <a:pt x="937950" y="1941986"/>
                  </a:cubicBezTo>
                  <a:cubicBezTo>
                    <a:pt x="937950" y="1974043"/>
                    <a:pt x="963937" y="2000031"/>
                    <a:pt x="995995" y="2000031"/>
                  </a:cubicBezTo>
                  <a:cubicBezTo>
                    <a:pt x="1028052" y="2000031"/>
                    <a:pt x="1054040" y="1974043"/>
                    <a:pt x="1054040" y="1941986"/>
                  </a:cubicBezTo>
                  <a:cubicBezTo>
                    <a:pt x="1054040" y="1909928"/>
                    <a:pt x="1028052" y="1883940"/>
                    <a:pt x="995995" y="1883940"/>
                  </a:cubicBezTo>
                  <a:close/>
                  <a:moveTo>
                    <a:pt x="1251747" y="1883940"/>
                  </a:moveTo>
                  <a:cubicBezTo>
                    <a:pt x="1219689" y="1883940"/>
                    <a:pt x="1193702" y="1909928"/>
                    <a:pt x="1193702" y="1941986"/>
                  </a:cubicBezTo>
                  <a:cubicBezTo>
                    <a:pt x="1193702" y="1974043"/>
                    <a:pt x="1219689" y="2000031"/>
                    <a:pt x="1251747" y="2000031"/>
                  </a:cubicBezTo>
                  <a:cubicBezTo>
                    <a:pt x="1283804" y="2000031"/>
                    <a:pt x="1309792" y="1974043"/>
                    <a:pt x="1309792" y="1941986"/>
                  </a:cubicBezTo>
                  <a:cubicBezTo>
                    <a:pt x="1309792" y="1909928"/>
                    <a:pt x="1283804" y="1883940"/>
                    <a:pt x="1251747" y="1883940"/>
                  </a:cubicBezTo>
                  <a:close/>
                  <a:moveTo>
                    <a:pt x="1507499" y="1883940"/>
                  </a:moveTo>
                  <a:cubicBezTo>
                    <a:pt x="1475441" y="1883940"/>
                    <a:pt x="1449454" y="1909928"/>
                    <a:pt x="1449454" y="1941986"/>
                  </a:cubicBezTo>
                  <a:cubicBezTo>
                    <a:pt x="1449454" y="1974043"/>
                    <a:pt x="1475441" y="2000031"/>
                    <a:pt x="1507499" y="2000031"/>
                  </a:cubicBezTo>
                  <a:cubicBezTo>
                    <a:pt x="1539557" y="2000031"/>
                    <a:pt x="1565544" y="1974043"/>
                    <a:pt x="1565544" y="1941986"/>
                  </a:cubicBezTo>
                  <a:cubicBezTo>
                    <a:pt x="1565544" y="1909928"/>
                    <a:pt x="1539557" y="1883940"/>
                    <a:pt x="1507499" y="1883940"/>
                  </a:cubicBezTo>
                  <a:close/>
                  <a:moveTo>
                    <a:pt x="1763250" y="1883940"/>
                  </a:moveTo>
                  <a:cubicBezTo>
                    <a:pt x="1731192" y="1883940"/>
                    <a:pt x="1705205" y="1909928"/>
                    <a:pt x="1705205" y="1941986"/>
                  </a:cubicBezTo>
                  <a:cubicBezTo>
                    <a:pt x="1705205" y="1974043"/>
                    <a:pt x="1731192" y="2000031"/>
                    <a:pt x="1763250" y="2000031"/>
                  </a:cubicBezTo>
                  <a:cubicBezTo>
                    <a:pt x="1795308" y="2000031"/>
                    <a:pt x="1821295" y="1974043"/>
                    <a:pt x="1821295" y="1941986"/>
                  </a:cubicBezTo>
                  <a:cubicBezTo>
                    <a:pt x="1821295" y="1909928"/>
                    <a:pt x="1795308" y="1883940"/>
                    <a:pt x="1763250" y="1883940"/>
                  </a:cubicBezTo>
                  <a:close/>
                  <a:moveTo>
                    <a:pt x="2019002" y="1883940"/>
                  </a:moveTo>
                  <a:cubicBezTo>
                    <a:pt x="1986944" y="1883940"/>
                    <a:pt x="1960957" y="1909928"/>
                    <a:pt x="1960957" y="1941986"/>
                  </a:cubicBezTo>
                  <a:cubicBezTo>
                    <a:pt x="1960957" y="1974043"/>
                    <a:pt x="1986944" y="2000031"/>
                    <a:pt x="2019002" y="2000031"/>
                  </a:cubicBezTo>
                  <a:cubicBezTo>
                    <a:pt x="2051060" y="2000031"/>
                    <a:pt x="2077047" y="1974043"/>
                    <a:pt x="2077047" y="1941986"/>
                  </a:cubicBezTo>
                  <a:cubicBezTo>
                    <a:pt x="2077047" y="1909928"/>
                    <a:pt x="2051060" y="1883940"/>
                    <a:pt x="2019002" y="1883940"/>
                  </a:cubicBezTo>
                  <a:close/>
                  <a:moveTo>
                    <a:pt x="2274754" y="1883940"/>
                  </a:moveTo>
                  <a:cubicBezTo>
                    <a:pt x="2242696" y="1883940"/>
                    <a:pt x="2216709" y="1909928"/>
                    <a:pt x="2216709" y="1941986"/>
                  </a:cubicBezTo>
                  <a:cubicBezTo>
                    <a:pt x="2216709" y="1974043"/>
                    <a:pt x="2242696" y="2000031"/>
                    <a:pt x="2274754" y="2000031"/>
                  </a:cubicBezTo>
                  <a:cubicBezTo>
                    <a:pt x="2306812" y="2000031"/>
                    <a:pt x="2332799" y="1974043"/>
                    <a:pt x="2332799" y="1941986"/>
                  </a:cubicBezTo>
                  <a:cubicBezTo>
                    <a:pt x="2332799" y="1909928"/>
                    <a:pt x="2306812" y="1883940"/>
                    <a:pt x="2274754" y="1883940"/>
                  </a:cubicBezTo>
                  <a:close/>
                  <a:moveTo>
                    <a:pt x="2530506" y="1883940"/>
                  </a:moveTo>
                  <a:cubicBezTo>
                    <a:pt x="2498448" y="1883940"/>
                    <a:pt x="2472461" y="1909928"/>
                    <a:pt x="2472461" y="1941986"/>
                  </a:cubicBezTo>
                  <a:cubicBezTo>
                    <a:pt x="2472461" y="1974043"/>
                    <a:pt x="2498448" y="2000031"/>
                    <a:pt x="2530506" y="2000031"/>
                  </a:cubicBezTo>
                  <a:cubicBezTo>
                    <a:pt x="2562564" y="2000031"/>
                    <a:pt x="2588551" y="1974043"/>
                    <a:pt x="2588551" y="1941986"/>
                  </a:cubicBezTo>
                  <a:cubicBezTo>
                    <a:pt x="2588551" y="1909928"/>
                    <a:pt x="2562564" y="1883940"/>
                    <a:pt x="2530506" y="1883940"/>
                  </a:cubicBezTo>
                  <a:close/>
                  <a:moveTo>
                    <a:pt x="648694" y="2009538"/>
                  </a:moveTo>
                  <a:cubicBezTo>
                    <a:pt x="638700" y="2009538"/>
                    <a:pt x="630599" y="2017640"/>
                    <a:pt x="630599" y="2027633"/>
                  </a:cubicBezTo>
                  <a:lnTo>
                    <a:pt x="630599" y="2186054"/>
                  </a:lnTo>
                  <a:cubicBezTo>
                    <a:pt x="630599" y="2196048"/>
                    <a:pt x="638700" y="2204149"/>
                    <a:pt x="648694" y="2204149"/>
                  </a:cubicBezTo>
                  <a:lnTo>
                    <a:pt x="658780" y="2204149"/>
                  </a:lnTo>
                  <a:lnTo>
                    <a:pt x="658780" y="2058780"/>
                  </a:lnTo>
                  <a:cubicBezTo>
                    <a:pt x="658780" y="2057367"/>
                    <a:pt x="659925" y="2056222"/>
                    <a:pt x="661338" y="2056222"/>
                  </a:cubicBezTo>
                  <a:lnTo>
                    <a:pt x="683726" y="2056222"/>
                  </a:lnTo>
                  <a:cubicBezTo>
                    <a:pt x="685138" y="2056222"/>
                    <a:pt x="686283" y="2057367"/>
                    <a:pt x="686283" y="2058780"/>
                  </a:cubicBezTo>
                  <a:lnTo>
                    <a:pt x="686283" y="2204149"/>
                  </a:lnTo>
                  <a:lnTo>
                    <a:pt x="683032" y="2204149"/>
                  </a:lnTo>
                  <a:cubicBezTo>
                    <a:pt x="677909" y="2204149"/>
                    <a:pt x="673756" y="2208302"/>
                    <a:pt x="673756" y="2213425"/>
                  </a:cubicBezTo>
                  <a:lnTo>
                    <a:pt x="673756" y="2419876"/>
                  </a:lnTo>
                  <a:cubicBezTo>
                    <a:pt x="673756" y="2424999"/>
                    <a:pt x="677909" y="2429152"/>
                    <a:pt x="683032" y="2429152"/>
                  </a:cubicBezTo>
                  <a:lnTo>
                    <a:pt x="720134" y="2429152"/>
                  </a:lnTo>
                  <a:cubicBezTo>
                    <a:pt x="725257" y="2429152"/>
                    <a:pt x="729410" y="2424999"/>
                    <a:pt x="729410" y="2419876"/>
                  </a:cubicBezTo>
                  <a:lnTo>
                    <a:pt x="729410" y="2213425"/>
                  </a:lnTo>
                  <a:cubicBezTo>
                    <a:pt x="729410" y="2208302"/>
                    <a:pt x="725257" y="2204149"/>
                    <a:pt x="720134" y="2204149"/>
                  </a:cubicBezTo>
                  <a:lnTo>
                    <a:pt x="755218" y="2204149"/>
                  </a:lnTo>
                  <a:cubicBezTo>
                    <a:pt x="750095" y="2204149"/>
                    <a:pt x="745942" y="2208302"/>
                    <a:pt x="745942" y="2213425"/>
                  </a:cubicBezTo>
                  <a:lnTo>
                    <a:pt x="745942" y="2419876"/>
                  </a:lnTo>
                  <a:cubicBezTo>
                    <a:pt x="745942" y="2424999"/>
                    <a:pt x="750095" y="2429152"/>
                    <a:pt x="755218" y="2429152"/>
                  </a:cubicBezTo>
                  <a:lnTo>
                    <a:pt x="792320" y="2429152"/>
                  </a:lnTo>
                  <a:cubicBezTo>
                    <a:pt x="797443" y="2429152"/>
                    <a:pt x="801596" y="2424999"/>
                    <a:pt x="801596" y="2419876"/>
                  </a:cubicBezTo>
                  <a:lnTo>
                    <a:pt x="801596" y="2213425"/>
                  </a:lnTo>
                  <a:cubicBezTo>
                    <a:pt x="801596" y="2208302"/>
                    <a:pt x="797443" y="2204149"/>
                    <a:pt x="792320" y="2204149"/>
                  </a:cubicBezTo>
                  <a:lnTo>
                    <a:pt x="786220" y="2204149"/>
                  </a:lnTo>
                  <a:lnTo>
                    <a:pt x="786220" y="2058780"/>
                  </a:lnTo>
                  <a:cubicBezTo>
                    <a:pt x="786220" y="2057367"/>
                    <a:pt x="787365" y="2056222"/>
                    <a:pt x="788777" y="2056222"/>
                  </a:cubicBezTo>
                  <a:lnTo>
                    <a:pt x="811165" y="2056222"/>
                  </a:lnTo>
                  <a:cubicBezTo>
                    <a:pt x="812578" y="2056222"/>
                    <a:pt x="813722" y="2057367"/>
                    <a:pt x="813722" y="2058780"/>
                  </a:cubicBezTo>
                  <a:lnTo>
                    <a:pt x="813722" y="2204149"/>
                  </a:lnTo>
                  <a:lnTo>
                    <a:pt x="827860" y="2204149"/>
                  </a:lnTo>
                  <a:cubicBezTo>
                    <a:pt x="837854" y="2204149"/>
                    <a:pt x="845955" y="2196048"/>
                    <a:pt x="845955" y="2186054"/>
                  </a:cubicBezTo>
                  <a:lnTo>
                    <a:pt x="845955" y="2027633"/>
                  </a:lnTo>
                  <a:cubicBezTo>
                    <a:pt x="845955" y="2017640"/>
                    <a:pt x="837854" y="2009538"/>
                    <a:pt x="827860" y="2009538"/>
                  </a:cubicBezTo>
                  <a:lnTo>
                    <a:pt x="648694" y="2009538"/>
                  </a:lnTo>
                  <a:close/>
                  <a:moveTo>
                    <a:pt x="904446" y="2009538"/>
                  </a:moveTo>
                  <a:cubicBezTo>
                    <a:pt x="894452" y="2009538"/>
                    <a:pt x="886351" y="2017640"/>
                    <a:pt x="886351" y="2027633"/>
                  </a:cubicBezTo>
                  <a:lnTo>
                    <a:pt x="886351" y="2186054"/>
                  </a:lnTo>
                  <a:cubicBezTo>
                    <a:pt x="886351" y="2196048"/>
                    <a:pt x="894452" y="2204149"/>
                    <a:pt x="904446" y="2204149"/>
                  </a:cubicBezTo>
                  <a:lnTo>
                    <a:pt x="914532" y="2204149"/>
                  </a:lnTo>
                  <a:lnTo>
                    <a:pt x="914532" y="2058780"/>
                  </a:lnTo>
                  <a:cubicBezTo>
                    <a:pt x="914532" y="2057367"/>
                    <a:pt x="915677" y="2056222"/>
                    <a:pt x="917090" y="2056222"/>
                  </a:cubicBezTo>
                  <a:lnTo>
                    <a:pt x="939478" y="2056222"/>
                  </a:lnTo>
                  <a:cubicBezTo>
                    <a:pt x="940890" y="2056222"/>
                    <a:pt x="942035" y="2057367"/>
                    <a:pt x="942035" y="2058780"/>
                  </a:cubicBezTo>
                  <a:lnTo>
                    <a:pt x="942035" y="2204149"/>
                  </a:lnTo>
                  <a:lnTo>
                    <a:pt x="938784" y="2204149"/>
                  </a:lnTo>
                  <a:cubicBezTo>
                    <a:pt x="933661" y="2204149"/>
                    <a:pt x="929508" y="2208302"/>
                    <a:pt x="929508" y="2213425"/>
                  </a:cubicBezTo>
                  <a:lnTo>
                    <a:pt x="929508" y="2419876"/>
                  </a:lnTo>
                  <a:cubicBezTo>
                    <a:pt x="929508" y="2424999"/>
                    <a:pt x="933661" y="2429152"/>
                    <a:pt x="938784" y="2429152"/>
                  </a:cubicBezTo>
                  <a:lnTo>
                    <a:pt x="975886" y="2429152"/>
                  </a:lnTo>
                  <a:cubicBezTo>
                    <a:pt x="981009" y="2429152"/>
                    <a:pt x="985162" y="2424999"/>
                    <a:pt x="985162" y="2419876"/>
                  </a:cubicBezTo>
                  <a:lnTo>
                    <a:pt x="985162" y="2213425"/>
                  </a:lnTo>
                  <a:cubicBezTo>
                    <a:pt x="985162" y="2208302"/>
                    <a:pt x="981009" y="2204149"/>
                    <a:pt x="975886" y="2204149"/>
                  </a:cubicBezTo>
                  <a:lnTo>
                    <a:pt x="1010970" y="2204149"/>
                  </a:lnTo>
                  <a:cubicBezTo>
                    <a:pt x="1005847" y="2204149"/>
                    <a:pt x="1001694" y="2208302"/>
                    <a:pt x="1001694" y="2213425"/>
                  </a:cubicBezTo>
                  <a:lnTo>
                    <a:pt x="1001694" y="2419876"/>
                  </a:lnTo>
                  <a:cubicBezTo>
                    <a:pt x="1001694" y="2424999"/>
                    <a:pt x="1005847" y="2429152"/>
                    <a:pt x="1010970" y="2429152"/>
                  </a:cubicBezTo>
                  <a:lnTo>
                    <a:pt x="1048072" y="2429152"/>
                  </a:lnTo>
                  <a:cubicBezTo>
                    <a:pt x="1053195" y="2429152"/>
                    <a:pt x="1057348" y="2424999"/>
                    <a:pt x="1057348" y="2419876"/>
                  </a:cubicBezTo>
                  <a:lnTo>
                    <a:pt x="1057348" y="2213425"/>
                  </a:lnTo>
                  <a:cubicBezTo>
                    <a:pt x="1057348" y="2208302"/>
                    <a:pt x="1053195" y="2204149"/>
                    <a:pt x="1048072" y="2204149"/>
                  </a:cubicBezTo>
                  <a:lnTo>
                    <a:pt x="1041972" y="2204149"/>
                  </a:lnTo>
                  <a:lnTo>
                    <a:pt x="1041972" y="2058780"/>
                  </a:lnTo>
                  <a:cubicBezTo>
                    <a:pt x="1041972" y="2057367"/>
                    <a:pt x="1043117" y="2056222"/>
                    <a:pt x="1044529" y="2056222"/>
                  </a:cubicBezTo>
                  <a:lnTo>
                    <a:pt x="1066917" y="2056222"/>
                  </a:lnTo>
                  <a:cubicBezTo>
                    <a:pt x="1068330" y="2056222"/>
                    <a:pt x="1069474" y="2057367"/>
                    <a:pt x="1069474" y="2058780"/>
                  </a:cubicBezTo>
                  <a:lnTo>
                    <a:pt x="1069474" y="2204149"/>
                  </a:lnTo>
                  <a:lnTo>
                    <a:pt x="1083612" y="2204149"/>
                  </a:lnTo>
                  <a:cubicBezTo>
                    <a:pt x="1093606" y="2204149"/>
                    <a:pt x="1101707" y="2196048"/>
                    <a:pt x="1101707" y="2186054"/>
                  </a:cubicBezTo>
                  <a:lnTo>
                    <a:pt x="1101707" y="2027633"/>
                  </a:lnTo>
                  <a:cubicBezTo>
                    <a:pt x="1101707" y="2017640"/>
                    <a:pt x="1093606" y="2009538"/>
                    <a:pt x="1083612" y="2009538"/>
                  </a:cubicBezTo>
                  <a:lnTo>
                    <a:pt x="904446" y="2009538"/>
                  </a:lnTo>
                  <a:close/>
                  <a:moveTo>
                    <a:pt x="1160198" y="2009538"/>
                  </a:moveTo>
                  <a:cubicBezTo>
                    <a:pt x="1150204" y="2009538"/>
                    <a:pt x="1142103" y="2017640"/>
                    <a:pt x="1142103" y="2027633"/>
                  </a:cubicBezTo>
                  <a:lnTo>
                    <a:pt x="1142103" y="2186054"/>
                  </a:lnTo>
                  <a:cubicBezTo>
                    <a:pt x="1142103" y="2196048"/>
                    <a:pt x="1150204" y="2204149"/>
                    <a:pt x="1160198" y="2204149"/>
                  </a:cubicBezTo>
                  <a:lnTo>
                    <a:pt x="1170284" y="2204149"/>
                  </a:lnTo>
                  <a:lnTo>
                    <a:pt x="1170284" y="2058780"/>
                  </a:lnTo>
                  <a:cubicBezTo>
                    <a:pt x="1170284" y="2057367"/>
                    <a:pt x="1171429" y="2056222"/>
                    <a:pt x="1172842" y="2056222"/>
                  </a:cubicBezTo>
                  <a:lnTo>
                    <a:pt x="1195230" y="2056222"/>
                  </a:lnTo>
                  <a:cubicBezTo>
                    <a:pt x="1196642" y="2056222"/>
                    <a:pt x="1197787" y="2057367"/>
                    <a:pt x="1197787" y="2058780"/>
                  </a:cubicBezTo>
                  <a:lnTo>
                    <a:pt x="1197787" y="2204149"/>
                  </a:lnTo>
                  <a:lnTo>
                    <a:pt x="1194536" y="2204149"/>
                  </a:lnTo>
                  <a:cubicBezTo>
                    <a:pt x="1189413" y="2204149"/>
                    <a:pt x="1185260" y="2208302"/>
                    <a:pt x="1185260" y="2213425"/>
                  </a:cubicBezTo>
                  <a:lnTo>
                    <a:pt x="1185260" y="2419876"/>
                  </a:lnTo>
                  <a:cubicBezTo>
                    <a:pt x="1185260" y="2424999"/>
                    <a:pt x="1189413" y="2429152"/>
                    <a:pt x="1194536" y="2429152"/>
                  </a:cubicBezTo>
                  <a:lnTo>
                    <a:pt x="1231638" y="2429152"/>
                  </a:lnTo>
                  <a:cubicBezTo>
                    <a:pt x="1236761" y="2429152"/>
                    <a:pt x="1240914" y="2424999"/>
                    <a:pt x="1240914" y="2419876"/>
                  </a:cubicBezTo>
                  <a:lnTo>
                    <a:pt x="1240914" y="2213425"/>
                  </a:lnTo>
                  <a:cubicBezTo>
                    <a:pt x="1240914" y="2208302"/>
                    <a:pt x="1236761" y="2204149"/>
                    <a:pt x="1231638" y="2204149"/>
                  </a:cubicBezTo>
                  <a:lnTo>
                    <a:pt x="1266722" y="2204149"/>
                  </a:lnTo>
                  <a:cubicBezTo>
                    <a:pt x="1261599" y="2204149"/>
                    <a:pt x="1257446" y="2208302"/>
                    <a:pt x="1257446" y="2213425"/>
                  </a:cubicBezTo>
                  <a:lnTo>
                    <a:pt x="1257446" y="2419876"/>
                  </a:lnTo>
                  <a:cubicBezTo>
                    <a:pt x="1257446" y="2424999"/>
                    <a:pt x="1261599" y="2429152"/>
                    <a:pt x="1266722" y="2429152"/>
                  </a:cubicBezTo>
                  <a:lnTo>
                    <a:pt x="1303824" y="2429152"/>
                  </a:lnTo>
                  <a:cubicBezTo>
                    <a:pt x="1308947" y="2429152"/>
                    <a:pt x="1313100" y="2424999"/>
                    <a:pt x="1313100" y="2419876"/>
                  </a:cubicBezTo>
                  <a:lnTo>
                    <a:pt x="1313100" y="2213425"/>
                  </a:lnTo>
                  <a:cubicBezTo>
                    <a:pt x="1313100" y="2208302"/>
                    <a:pt x="1308947" y="2204149"/>
                    <a:pt x="1303824" y="2204149"/>
                  </a:cubicBezTo>
                  <a:lnTo>
                    <a:pt x="1297724" y="2204149"/>
                  </a:lnTo>
                  <a:lnTo>
                    <a:pt x="1297724" y="2058780"/>
                  </a:lnTo>
                  <a:cubicBezTo>
                    <a:pt x="1297724" y="2057367"/>
                    <a:pt x="1298869" y="2056222"/>
                    <a:pt x="1300281" y="2056222"/>
                  </a:cubicBezTo>
                  <a:lnTo>
                    <a:pt x="1322669" y="2056222"/>
                  </a:lnTo>
                  <a:cubicBezTo>
                    <a:pt x="1324082" y="2056222"/>
                    <a:pt x="1325226" y="2057367"/>
                    <a:pt x="1325226" y="2058780"/>
                  </a:cubicBezTo>
                  <a:lnTo>
                    <a:pt x="1325226" y="2204149"/>
                  </a:lnTo>
                  <a:lnTo>
                    <a:pt x="1339364" y="2204149"/>
                  </a:lnTo>
                  <a:cubicBezTo>
                    <a:pt x="1349358" y="2204149"/>
                    <a:pt x="1357459" y="2196048"/>
                    <a:pt x="1357459" y="2186054"/>
                  </a:cubicBezTo>
                  <a:lnTo>
                    <a:pt x="1357459" y="2027633"/>
                  </a:lnTo>
                  <a:cubicBezTo>
                    <a:pt x="1357459" y="2017640"/>
                    <a:pt x="1349358" y="2009538"/>
                    <a:pt x="1339364" y="2009538"/>
                  </a:cubicBezTo>
                  <a:lnTo>
                    <a:pt x="1160198" y="2009538"/>
                  </a:lnTo>
                  <a:close/>
                  <a:moveTo>
                    <a:pt x="1415950" y="2009538"/>
                  </a:moveTo>
                  <a:cubicBezTo>
                    <a:pt x="1405956" y="2009538"/>
                    <a:pt x="1397855" y="2017640"/>
                    <a:pt x="1397855" y="2027633"/>
                  </a:cubicBezTo>
                  <a:lnTo>
                    <a:pt x="1397855" y="2186054"/>
                  </a:lnTo>
                  <a:cubicBezTo>
                    <a:pt x="1397855" y="2196048"/>
                    <a:pt x="1405956" y="2204149"/>
                    <a:pt x="1415950" y="2204149"/>
                  </a:cubicBezTo>
                  <a:lnTo>
                    <a:pt x="1426036" y="2204149"/>
                  </a:lnTo>
                  <a:lnTo>
                    <a:pt x="1426036" y="2058780"/>
                  </a:lnTo>
                  <a:cubicBezTo>
                    <a:pt x="1426036" y="2057367"/>
                    <a:pt x="1427181" y="2056222"/>
                    <a:pt x="1428594" y="2056222"/>
                  </a:cubicBezTo>
                  <a:lnTo>
                    <a:pt x="1450982" y="2056222"/>
                  </a:lnTo>
                  <a:cubicBezTo>
                    <a:pt x="1452394" y="2056222"/>
                    <a:pt x="1453539" y="2057367"/>
                    <a:pt x="1453539" y="2058780"/>
                  </a:cubicBezTo>
                  <a:lnTo>
                    <a:pt x="1453539" y="2204149"/>
                  </a:lnTo>
                  <a:lnTo>
                    <a:pt x="1450288" y="2204149"/>
                  </a:lnTo>
                  <a:cubicBezTo>
                    <a:pt x="1445165" y="2204149"/>
                    <a:pt x="1441012" y="2208302"/>
                    <a:pt x="1441012" y="2213425"/>
                  </a:cubicBezTo>
                  <a:lnTo>
                    <a:pt x="1441012" y="2419876"/>
                  </a:lnTo>
                  <a:cubicBezTo>
                    <a:pt x="1441012" y="2424999"/>
                    <a:pt x="1445165" y="2429152"/>
                    <a:pt x="1450288" y="2429152"/>
                  </a:cubicBezTo>
                  <a:lnTo>
                    <a:pt x="1487390" y="2429152"/>
                  </a:lnTo>
                  <a:cubicBezTo>
                    <a:pt x="1492513" y="2429152"/>
                    <a:pt x="1496666" y="2424999"/>
                    <a:pt x="1496666" y="2419876"/>
                  </a:cubicBezTo>
                  <a:lnTo>
                    <a:pt x="1496666" y="2213425"/>
                  </a:lnTo>
                  <a:cubicBezTo>
                    <a:pt x="1496666" y="2208302"/>
                    <a:pt x="1492513" y="2204149"/>
                    <a:pt x="1487390" y="2204149"/>
                  </a:cubicBezTo>
                  <a:lnTo>
                    <a:pt x="1522474" y="2204149"/>
                  </a:lnTo>
                  <a:cubicBezTo>
                    <a:pt x="1517351" y="2204149"/>
                    <a:pt x="1513198" y="2208302"/>
                    <a:pt x="1513198" y="2213425"/>
                  </a:cubicBezTo>
                  <a:lnTo>
                    <a:pt x="1513198" y="2419876"/>
                  </a:lnTo>
                  <a:cubicBezTo>
                    <a:pt x="1513198" y="2424999"/>
                    <a:pt x="1517351" y="2429152"/>
                    <a:pt x="1522474" y="2429152"/>
                  </a:cubicBezTo>
                  <a:lnTo>
                    <a:pt x="1559576" y="2429152"/>
                  </a:lnTo>
                  <a:cubicBezTo>
                    <a:pt x="1564699" y="2429152"/>
                    <a:pt x="1568852" y="2424999"/>
                    <a:pt x="1568852" y="2419876"/>
                  </a:cubicBezTo>
                  <a:lnTo>
                    <a:pt x="1568852" y="2213425"/>
                  </a:lnTo>
                  <a:cubicBezTo>
                    <a:pt x="1568852" y="2208302"/>
                    <a:pt x="1564699" y="2204149"/>
                    <a:pt x="1559576" y="2204149"/>
                  </a:cubicBezTo>
                  <a:lnTo>
                    <a:pt x="1553476" y="2204149"/>
                  </a:lnTo>
                  <a:lnTo>
                    <a:pt x="1553476" y="2058780"/>
                  </a:lnTo>
                  <a:cubicBezTo>
                    <a:pt x="1553476" y="2057367"/>
                    <a:pt x="1554621" y="2056222"/>
                    <a:pt x="1556033" y="2056222"/>
                  </a:cubicBezTo>
                  <a:lnTo>
                    <a:pt x="1578421" y="2056222"/>
                  </a:lnTo>
                  <a:cubicBezTo>
                    <a:pt x="1579834" y="2056222"/>
                    <a:pt x="1580978" y="2057367"/>
                    <a:pt x="1580978" y="2058780"/>
                  </a:cubicBezTo>
                  <a:lnTo>
                    <a:pt x="1580978" y="2204149"/>
                  </a:lnTo>
                  <a:lnTo>
                    <a:pt x="1595116" y="2204149"/>
                  </a:lnTo>
                  <a:cubicBezTo>
                    <a:pt x="1605110" y="2204149"/>
                    <a:pt x="1613211" y="2196048"/>
                    <a:pt x="1613211" y="2186054"/>
                  </a:cubicBezTo>
                  <a:lnTo>
                    <a:pt x="1613211" y="2027633"/>
                  </a:lnTo>
                  <a:cubicBezTo>
                    <a:pt x="1613211" y="2017640"/>
                    <a:pt x="1605110" y="2009538"/>
                    <a:pt x="1595116" y="2009538"/>
                  </a:cubicBezTo>
                  <a:lnTo>
                    <a:pt x="1415950" y="2009538"/>
                  </a:lnTo>
                  <a:close/>
                  <a:moveTo>
                    <a:pt x="1671701" y="2009538"/>
                  </a:moveTo>
                  <a:cubicBezTo>
                    <a:pt x="1661707" y="2009538"/>
                    <a:pt x="1653606" y="2017640"/>
                    <a:pt x="1653606" y="2027633"/>
                  </a:cubicBezTo>
                  <a:lnTo>
                    <a:pt x="1653606" y="2186054"/>
                  </a:lnTo>
                  <a:cubicBezTo>
                    <a:pt x="1653606" y="2196048"/>
                    <a:pt x="1661707" y="2204149"/>
                    <a:pt x="1671701" y="2204149"/>
                  </a:cubicBezTo>
                  <a:lnTo>
                    <a:pt x="1681787" y="2204149"/>
                  </a:lnTo>
                  <a:lnTo>
                    <a:pt x="1681787" y="2058780"/>
                  </a:lnTo>
                  <a:cubicBezTo>
                    <a:pt x="1681787" y="2057367"/>
                    <a:pt x="1682932" y="2056222"/>
                    <a:pt x="1684345" y="2056222"/>
                  </a:cubicBezTo>
                  <a:lnTo>
                    <a:pt x="1706733" y="2056222"/>
                  </a:lnTo>
                  <a:cubicBezTo>
                    <a:pt x="1708145" y="2056222"/>
                    <a:pt x="1709290" y="2057367"/>
                    <a:pt x="1709290" y="2058780"/>
                  </a:cubicBezTo>
                  <a:lnTo>
                    <a:pt x="1709290" y="2204149"/>
                  </a:lnTo>
                  <a:lnTo>
                    <a:pt x="1706039" y="2204149"/>
                  </a:lnTo>
                  <a:cubicBezTo>
                    <a:pt x="1700916" y="2204149"/>
                    <a:pt x="1696763" y="2208302"/>
                    <a:pt x="1696763" y="2213425"/>
                  </a:cubicBezTo>
                  <a:lnTo>
                    <a:pt x="1696763" y="2419876"/>
                  </a:lnTo>
                  <a:cubicBezTo>
                    <a:pt x="1696763" y="2424999"/>
                    <a:pt x="1700916" y="2429152"/>
                    <a:pt x="1706039" y="2429152"/>
                  </a:cubicBezTo>
                  <a:lnTo>
                    <a:pt x="1743141" y="2429152"/>
                  </a:lnTo>
                  <a:cubicBezTo>
                    <a:pt x="1748264" y="2429152"/>
                    <a:pt x="1752417" y="2424999"/>
                    <a:pt x="1752417" y="2419876"/>
                  </a:cubicBezTo>
                  <a:lnTo>
                    <a:pt x="1752417" y="2213425"/>
                  </a:lnTo>
                  <a:cubicBezTo>
                    <a:pt x="1752417" y="2208302"/>
                    <a:pt x="1748264" y="2204149"/>
                    <a:pt x="1743141" y="2204149"/>
                  </a:cubicBezTo>
                  <a:lnTo>
                    <a:pt x="1778225" y="2204149"/>
                  </a:lnTo>
                  <a:cubicBezTo>
                    <a:pt x="1773102" y="2204149"/>
                    <a:pt x="1768949" y="2208302"/>
                    <a:pt x="1768949" y="2213425"/>
                  </a:cubicBezTo>
                  <a:lnTo>
                    <a:pt x="1768949" y="2419876"/>
                  </a:lnTo>
                  <a:cubicBezTo>
                    <a:pt x="1768949" y="2424999"/>
                    <a:pt x="1773102" y="2429152"/>
                    <a:pt x="1778225" y="2429152"/>
                  </a:cubicBezTo>
                  <a:lnTo>
                    <a:pt x="1815327" y="2429152"/>
                  </a:lnTo>
                  <a:cubicBezTo>
                    <a:pt x="1820450" y="2429152"/>
                    <a:pt x="1824603" y="2424999"/>
                    <a:pt x="1824603" y="2419876"/>
                  </a:cubicBezTo>
                  <a:lnTo>
                    <a:pt x="1824603" y="2213425"/>
                  </a:lnTo>
                  <a:cubicBezTo>
                    <a:pt x="1824603" y="2208302"/>
                    <a:pt x="1820450" y="2204149"/>
                    <a:pt x="1815327" y="2204149"/>
                  </a:cubicBezTo>
                  <a:lnTo>
                    <a:pt x="1809227" y="2204149"/>
                  </a:lnTo>
                  <a:lnTo>
                    <a:pt x="1809227" y="2058780"/>
                  </a:lnTo>
                  <a:cubicBezTo>
                    <a:pt x="1809227" y="2057367"/>
                    <a:pt x="1810372" y="2056222"/>
                    <a:pt x="1811784" y="2056222"/>
                  </a:cubicBezTo>
                  <a:lnTo>
                    <a:pt x="1834172" y="2056222"/>
                  </a:lnTo>
                  <a:cubicBezTo>
                    <a:pt x="1835585" y="2056222"/>
                    <a:pt x="1836730" y="2057367"/>
                    <a:pt x="1836730" y="2058780"/>
                  </a:cubicBezTo>
                  <a:lnTo>
                    <a:pt x="1836730" y="2204149"/>
                  </a:lnTo>
                  <a:lnTo>
                    <a:pt x="1850867" y="2204149"/>
                  </a:lnTo>
                  <a:cubicBezTo>
                    <a:pt x="1860861" y="2204149"/>
                    <a:pt x="1868962" y="2196048"/>
                    <a:pt x="1868962" y="2186054"/>
                  </a:cubicBezTo>
                  <a:lnTo>
                    <a:pt x="1868962" y="2027633"/>
                  </a:lnTo>
                  <a:cubicBezTo>
                    <a:pt x="1868962" y="2017640"/>
                    <a:pt x="1860861" y="2009538"/>
                    <a:pt x="1850867" y="2009538"/>
                  </a:cubicBezTo>
                  <a:lnTo>
                    <a:pt x="1671701" y="2009538"/>
                  </a:lnTo>
                  <a:close/>
                  <a:moveTo>
                    <a:pt x="1927453" y="2009538"/>
                  </a:moveTo>
                  <a:cubicBezTo>
                    <a:pt x="1917459" y="2009538"/>
                    <a:pt x="1909358" y="2017640"/>
                    <a:pt x="1909358" y="2027633"/>
                  </a:cubicBezTo>
                  <a:lnTo>
                    <a:pt x="1909358" y="2186054"/>
                  </a:lnTo>
                  <a:cubicBezTo>
                    <a:pt x="1909358" y="2196048"/>
                    <a:pt x="1917459" y="2204149"/>
                    <a:pt x="1927453" y="2204149"/>
                  </a:cubicBezTo>
                  <a:lnTo>
                    <a:pt x="1937540" y="2204149"/>
                  </a:lnTo>
                  <a:lnTo>
                    <a:pt x="1937540" y="2058780"/>
                  </a:lnTo>
                  <a:cubicBezTo>
                    <a:pt x="1937540" y="2057367"/>
                    <a:pt x="1938684" y="2056222"/>
                    <a:pt x="1940097" y="2056222"/>
                  </a:cubicBezTo>
                  <a:lnTo>
                    <a:pt x="1962485" y="2056222"/>
                  </a:lnTo>
                  <a:cubicBezTo>
                    <a:pt x="1963897" y="2056222"/>
                    <a:pt x="1965042" y="2057367"/>
                    <a:pt x="1965042" y="2058780"/>
                  </a:cubicBezTo>
                  <a:lnTo>
                    <a:pt x="1965042" y="2204149"/>
                  </a:lnTo>
                  <a:lnTo>
                    <a:pt x="1961791" y="2204149"/>
                  </a:lnTo>
                  <a:cubicBezTo>
                    <a:pt x="1956668" y="2204149"/>
                    <a:pt x="1952515" y="2208302"/>
                    <a:pt x="1952515" y="2213425"/>
                  </a:cubicBezTo>
                  <a:lnTo>
                    <a:pt x="1952515" y="2419876"/>
                  </a:lnTo>
                  <a:cubicBezTo>
                    <a:pt x="1952515" y="2424999"/>
                    <a:pt x="1956668" y="2429152"/>
                    <a:pt x="1961791" y="2429152"/>
                  </a:cubicBezTo>
                  <a:lnTo>
                    <a:pt x="1998893" y="2429152"/>
                  </a:lnTo>
                  <a:cubicBezTo>
                    <a:pt x="2004016" y="2429152"/>
                    <a:pt x="2008169" y="2424999"/>
                    <a:pt x="2008169" y="2419876"/>
                  </a:cubicBezTo>
                  <a:lnTo>
                    <a:pt x="2008169" y="2213425"/>
                  </a:lnTo>
                  <a:cubicBezTo>
                    <a:pt x="2008169" y="2208302"/>
                    <a:pt x="2004016" y="2204149"/>
                    <a:pt x="1998893" y="2204149"/>
                  </a:cubicBezTo>
                  <a:lnTo>
                    <a:pt x="2033977" y="2204149"/>
                  </a:lnTo>
                  <a:cubicBezTo>
                    <a:pt x="2028854" y="2204149"/>
                    <a:pt x="2024701" y="2208302"/>
                    <a:pt x="2024701" y="2213425"/>
                  </a:cubicBezTo>
                  <a:lnTo>
                    <a:pt x="2024701" y="2419876"/>
                  </a:lnTo>
                  <a:cubicBezTo>
                    <a:pt x="2024701" y="2424999"/>
                    <a:pt x="2028854" y="2429152"/>
                    <a:pt x="2033977" y="2429152"/>
                  </a:cubicBezTo>
                  <a:lnTo>
                    <a:pt x="2071079" y="2429152"/>
                  </a:lnTo>
                  <a:cubicBezTo>
                    <a:pt x="2076202" y="2429152"/>
                    <a:pt x="2080355" y="2424999"/>
                    <a:pt x="2080355" y="2419876"/>
                  </a:cubicBezTo>
                  <a:lnTo>
                    <a:pt x="2080355" y="2213425"/>
                  </a:lnTo>
                  <a:cubicBezTo>
                    <a:pt x="2080355" y="2208302"/>
                    <a:pt x="2076202" y="2204149"/>
                    <a:pt x="2071079" y="2204149"/>
                  </a:cubicBezTo>
                  <a:lnTo>
                    <a:pt x="2064979" y="2204149"/>
                  </a:lnTo>
                  <a:lnTo>
                    <a:pt x="2064979" y="2058780"/>
                  </a:lnTo>
                  <a:cubicBezTo>
                    <a:pt x="2064979" y="2057367"/>
                    <a:pt x="2066124" y="2056222"/>
                    <a:pt x="2067536" y="2056222"/>
                  </a:cubicBezTo>
                  <a:lnTo>
                    <a:pt x="2089924" y="2056222"/>
                  </a:lnTo>
                  <a:cubicBezTo>
                    <a:pt x="2091337" y="2056222"/>
                    <a:pt x="2092482" y="2057367"/>
                    <a:pt x="2092482" y="2058780"/>
                  </a:cubicBezTo>
                  <a:lnTo>
                    <a:pt x="2092482" y="2204149"/>
                  </a:lnTo>
                  <a:lnTo>
                    <a:pt x="2106619" y="2204149"/>
                  </a:lnTo>
                  <a:cubicBezTo>
                    <a:pt x="2116613" y="2204149"/>
                    <a:pt x="2124714" y="2196048"/>
                    <a:pt x="2124714" y="2186054"/>
                  </a:cubicBezTo>
                  <a:lnTo>
                    <a:pt x="2124714" y="2027633"/>
                  </a:lnTo>
                  <a:cubicBezTo>
                    <a:pt x="2124714" y="2017640"/>
                    <a:pt x="2116613" y="2009538"/>
                    <a:pt x="2106619" y="2009538"/>
                  </a:cubicBezTo>
                  <a:lnTo>
                    <a:pt x="1927453" y="2009538"/>
                  </a:lnTo>
                  <a:close/>
                  <a:moveTo>
                    <a:pt x="740243" y="2470330"/>
                  </a:moveTo>
                  <a:cubicBezTo>
                    <a:pt x="708185" y="2470330"/>
                    <a:pt x="682198" y="2496318"/>
                    <a:pt x="682198" y="2528376"/>
                  </a:cubicBezTo>
                  <a:cubicBezTo>
                    <a:pt x="682198" y="2560433"/>
                    <a:pt x="708185" y="2586421"/>
                    <a:pt x="740243" y="2586421"/>
                  </a:cubicBezTo>
                  <a:cubicBezTo>
                    <a:pt x="772300" y="2586421"/>
                    <a:pt x="798288" y="2560433"/>
                    <a:pt x="798288" y="2528376"/>
                  </a:cubicBezTo>
                  <a:cubicBezTo>
                    <a:pt x="798288" y="2496318"/>
                    <a:pt x="772300" y="2470330"/>
                    <a:pt x="740243" y="2470330"/>
                  </a:cubicBezTo>
                  <a:close/>
                  <a:moveTo>
                    <a:pt x="995995" y="2470330"/>
                  </a:moveTo>
                  <a:cubicBezTo>
                    <a:pt x="963937" y="2470330"/>
                    <a:pt x="937950" y="2496318"/>
                    <a:pt x="937950" y="2528376"/>
                  </a:cubicBezTo>
                  <a:cubicBezTo>
                    <a:pt x="937950" y="2560433"/>
                    <a:pt x="963937" y="2586421"/>
                    <a:pt x="995995" y="2586421"/>
                  </a:cubicBezTo>
                  <a:cubicBezTo>
                    <a:pt x="1028052" y="2586421"/>
                    <a:pt x="1054040" y="2560433"/>
                    <a:pt x="1054040" y="2528376"/>
                  </a:cubicBezTo>
                  <a:cubicBezTo>
                    <a:pt x="1054040" y="2496318"/>
                    <a:pt x="1028052" y="2470330"/>
                    <a:pt x="995995" y="2470330"/>
                  </a:cubicBezTo>
                  <a:close/>
                  <a:moveTo>
                    <a:pt x="1251747" y="2470330"/>
                  </a:moveTo>
                  <a:cubicBezTo>
                    <a:pt x="1219689" y="2470330"/>
                    <a:pt x="1193702" y="2496318"/>
                    <a:pt x="1193702" y="2528376"/>
                  </a:cubicBezTo>
                  <a:cubicBezTo>
                    <a:pt x="1193702" y="2560433"/>
                    <a:pt x="1219689" y="2586421"/>
                    <a:pt x="1251747" y="2586421"/>
                  </a:cubicBezTo>
                  <a:cubicBezTo>
                    <a:pt x="1283804" y="2586421"/>
                    <a:pt x="1309792" y="2560433"/>
                    <a:pt x="1309792" y="2528376"/>
                  </a:cubicBezTo>
                  <a:cubicBezTo>
                    <a:pt x="1309792" y="2496318"/>
                    <a:pt x="1283804" y="2470330"/>
                    <a:pt x="1251747" y="2470330"/>
                  </a:cubicBezTo>
                  <a:close/>
                  <a:moveTo>
                    <a:pt x="1507499" y="2470330"/>
                  </a:moveTo>
                  <a:cubicBezTo>
                    <a:pt x="1475441" y="2470330"/>
                    <a:pt x="1449454" y="2496318"/>
                    <a:pt x="1449454" y="2528376"/>
                  </a:cubicBezTo>
                  <a:cubicBezTo>
                    <a:pt x="1449454" y="2560433"/>
                    <a:pt x="1475441" y="2586421"/>
                    <a:pt x="1507499" y="2586421"/>
                  </a:cubicBezTo>
                  <a:cubicBezTo>
                    <a:pt x="1539557" y="2586421"/>
                    <a:pt x="1565544" y="2560433"/>
                    <a:pt x="1565544" y="2528376"/>
                  </a:cubicBezTo>
                  <a:cubicBezTo>
                    <a:pt x="1565544" y="2496318"/>
                    <a:pt x="1539557" y="2470330"/>
                    <a:pt x="1507499" y="2470330"/>
                  </a:cubicBezTo>
                  <a:close/>
                  <a:moveTo>
                    <a:pt x="1763250" y="2470330"/>
                  </a:moveTo>
                  <a:cubicBezTo>
                    <a:pt x="1731192" y="2470330"/>
                    <a:pt x="1705205" y="2496318"/>
                    <a:pt x="1705205" y="2528376"/>
                  </a:cubicBezTo>
                  <a:cubicBezTo>
                    <a:pt x="1705205" y="2560433"/>
                    <a:pt x="1731192" y="2586421"/>
                    <a:pt x="1763250" y="2586421"/>
                  </a:cubicBezTo>
                  <a:cubicBezTo>
                    <a:pt x="1795308" y="2586421"/>
                    <a:pt x="1821295" y="2560433"/>
                    <a:pt x="1821295" y="2528376"/>
                  </a:cubicBezTo>
                  <a:cubicBezTo>
                    <a:pt x="1821295" y="2496318"/>
                    <a:pt x="1795308" y="2470330"/>
                    <a:pt x="1763250" y="2470330"/>
                  </a:cubicBezTo>
                  <a:close/>
                  <a:moveTo>
                    <a:pt x="2019002" y="2470330"/>
                  </a:moveTo>
                  <a:cubicBezTo>
                    <a:pt x="1986944" y="2470330"/>
                    <a:pt x="1960957" y="2496318"/>
                    <a:pt x="1960957" y="2528376"/>
                  </a:cubicBezTo>
                  <a:cubicBezTo>
                    <a:pt x="1960957" y="2560433"/>
                    <a:pt x="1986944" y="2586421"/>
                    <a:pt x="2019002" y="2586421"/>
                  </a:cubicBezTo>
                  <a:cubicBezTo>
                    <a:pt x="2051060" y="2586421"/>
                    <a:pt x="2077047" y="2560433"/>
                    <a:pt x="2077047" y="2528376"/>
                  </a:cubicBezTo>
                  <a:cubicBezTo>
                    <a:pt x="2077047" y="2496318"/>
                    <a:pt x="2051060" y="2470330"/>
                    <a:pt x="2019002" y="2470330"/>
                  </a:cubicBezTo>
                  <a:close/>
                </a:path>
              </a:pathLst>
            </a:custGeom>
            <a:solidFill>
              <a:srgbClr val="9ab0b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046" name="任意多边形 49"/>
            <p:cNvSpPr/>
            <p:nvPr/>
          </p:nvSpPr>
          <p:spPr>
            <a:xfrm>
              <a:off x="1350360" y="3343680"/>
              <a:ext cx="2571120" cy="2571120"/>
            </a:xfrm>
            <a:custGeom>
              <a:avLst/>
              <a:gdLst>
                <a:gd name="textAreaLeft" fmla="*/ 0 w 2571120"/>
                <a:gd name="textAreaRight" fmla="*/ 2571480 w 2571120"/>
                <a:gd name="textAreaTop" fmla="*/ 0 h 2571120"/>
                <a:gd name="textAreaBottom" fmla="*/ 2571480 h 2571120"/>
              </a:gdLst>
              <a:ahLst/>
              <a:rect l="textAreaLeft" t="textAreaTop" r="textAreaRight" b="textAreaBottom"/>
              <a:pathLst>
                <a:path w="2571480" h="2571479">
                  <a:moveTo>
                    <a:pt x="1879956" y="2300201"/>
                  </a:moveTo>
                  <a:cubicBezTo>
                    <a:pt x="1850106" y="2300201"/>
                    <a:pt x="1825908" y="2324400"/>
                    <a:pt x="1825908" y="2354250"/>
                  </a:cubicBezTo>
                  <a:cubicBezTo>
                    <a:pt x="1825908" y="2384099"/>
                    <a:pt x="1850106" y="2408297"/>
                    <a:pt x="1879956" y="2408297"/>
                  </a:cubicBezTo>
                  <a:cubicBezTo>
                    <a:pt x="1909806" y="2408297"/>
                    <a:pt x="1934003" y="2384099"/>
                    <a:pt x="1934003" y="2354250"/>
                  </a:cubicBezTo>
                  <a:cubicBezTo>
                    <a:pt x="1934003" y="2324400"/>
                    <a:pt x="1909806" y="2300201"/>
                    <a:pt x="1879956" y="2300201"/>
                  </a:cubicBezTo>
                  <a:close/>
                  <a:moveTo>
                    <a:pt x="1641817" y="2300201"/>
                  </a:moveTo>
                  <a:cubicBezTo>
                    <a:pt x="1611967" y="2300201"/>
                    <a:pt x="1587770" y="2324400"/>
                    <a:pt x="1587770" y="2354250"/>
                  </a:cubicBezTo>
                  <a:cubicBezTo>
                    <a:pt x="1587770" y="2384099"/>
                    <a:pt x="1611967" y="2408297"/>
                    <a:pt x="1641817" y="2408297"/>
                  </a:cubicBezTo>
                  <a:cubicBezTo>
                    <a:pt x="1671667" y="2408297"/>
                    <a:pt x="1695865" y="2384099"/>
                    <a:pt x="1695865" y="2354250"/>
                  </a:cubicBezTo>
                  <a:cubicBezTo>
                    <a:pt x="1695865" y="2324400"/>
                    <a:pt x="1671667" y="2300201"/>
                    <a:pt x="1641817" y="2300201"/>
                  </a:cubicBezTo>
                  <a:close/>
                  <a:moveTo>
                    <a:pt x="1403679" y="2300201"/>
                  </a:moveTo>
                  <a:cubicBezTo>
                    <a:pt x="1373829" y="2300201"/>
                    <a:pt x="1349632" y="2324400"/>
                    <a:pt x="1349632" y="2354250"/>
                  </a:cubicBezTo>
                  <a:cubicBezTo>
                    <a:pt x="1349632" y="2384099"/>
                    <a:pt x="1373829" y="2408297"/>
                    <a:pt x="1403679" y="2408297"/>
                  </a:cubicBezTo>
                  <a:cubicBezTo>
                    <a:pt x="1433530" y="2408297"/>
                    <a:pt x="1457727" y="2384099"/>
                    <a:pt x="1457727" y="2354250"/>
                  </a:cubicBezTo>
                  <a:cubicBezTo>
                    <a:pt x="1457727" y="2324400"/>
                    <a:pt x="1433530" y="2300201"/>
                    <a:pt x="1403679" y="2300201"/>
                  </a:cubicBezTo>
                  <a:close/>
                  <a:moveTo>
                    <a:pt x="1165541" y="2300201"/>
                  </a:moveTo>
                  <a:cubicBezTo>
                    <a:pt x="1135690" y="2300201"/>
                    <a:pt x="1111493" y="2324400"/>
                    <a:pt x="1111493" y="2354250"/>
                  </a:cubicBezTo>
                  <a:cubicBezTo>
                    <a:pt x="1111493" y="2384099"/>
                    <a:pt x="1135690" y="2408297"/>
                    <a:pt x="1165541" y="2408297"/>
                  </a:cubicBezTo>
                  <a:cubicBezTo>
                    <a:pt x="1195390" y="2408297"/>
                    <a:pt x="1219588" y="2384099"/>
                    <a:pt x="1219588" y="2354250"/>
                  </a:cubicBezTo>
                  <a:cubicBezTo>
                    <a:pt x="1219588" y="2324400"/>
                    <a:pt x="1195390" y="2300201"/>
                    <a:pt x="1165541" y="2300201"/>
                  </a:cubicBezTo>
                  <a:close/>
                  <a:moveTo>
                    <a:pt x="927402" y="2300201"/>
                  </a:moveTo>
                  <a:cubicBezTo>
                    <a:pt x="897552" y="2300201"/>
                    <a:pt x="873354" y="2324400"/>
                    <a:pt x="873354" y="2354250"/>
                  </a:cubicBezTo>
                  <a:cubicBezTo>
                    <a:pt x="873354" y="2384099"/>
                    <a:pt x="897552" y="2408297"/>
                    <a:pt x="927402" y="2408297"/>
                  </a:cubicBezTo>
                  <a:cubicBezTo>
                    <a:pt x="957251" y="2408297"/>
                    <a:pt x="981450" y="2384099"/>
                    <a:pt x="981450" y="2354250"/>
                  </a:cubicBezTo>
                  <a:cubicBezTo>
                    <a:pt x="981450" y="2324400"/>
                    <a:pt x="957251" y="2300201"/>
                    <a:pt x="927402" y="2300201"/>
                  </a:cubicBezTo>
                  <a:close/>
                  <a:moveTo>
                    <a:pt x="689263" y="2300201"/>
                  </a:moveTo>
                  <a:cubicBezTo>
                    <a:pt x="659413" y="2300201"/>
                    <a:pt x="635216" y="2324400"/>
                    <a:pt x="635216" y="2354250"/>
                  </a:cubicBezTo>
                  <a:cubicBezTo>
                    <a:pt x="635216" y="2384099"/>
                    <a:pt x="659413" y="2408297"/>
                    <a:pt x="689263" y="2408297"/>
                  </a:cubicBezTo>
                  <a:cubicBezTo>
                    <a:pt x="719113" y="2408297"/>
                    <a:pt x="743311" y="2384099"/>
                    <a:pt x="743311" y="2354250"/>
                  </a:cubicBezTo>
                  <a:cubicBezTo>
                    <a:pt x="743311" y="2324400"/>
                    <a:pt x="719113" y="2300201"/>
                    <a:pt x="689263" y="2300201"/>
                  </a:cubicBezTo>
                  <a:close/>
                  <a:moveTo>
                    <a:pt x="389218" y="2182260"/>
                  </a:moveTo>
                  <a:lnTo>
                    <a:pt x="389218" y="2206378"/>
                  </a:lnTo>
                  <a:lnTo>
                    <a:pt x="376584" y="2194895"/>
                  </a:lnTo>
                  <a:lnTo>
                    <a:pt x="376584" y="2194895"/>
                  </a:lnTo>
                  <a:close/>
                  <a:moveTo>
                    <a:pt x="1794712" y="1871144"/>
                  </a:moveTo>
                  <a:cubicBezTo>
                    <a:pt x="1785406" y="1871144"/>
                    <a:pt x="1777863" y="1878688"/>
                    <a:pt x="1777863" y="1887993"/>
                  </a:cubicBezTo>
                  <a:lnTo>
                    <a:pt x="1777863" y="2035503"/>
                  </a:lnTo>
                  <a:cubicBezTo>
                    <a:pt x="1777863" y="2044809"/>
                    <a:pt x="1785406" y="2052352"/>
                    <a:pt x="1794712" y="2052352"/>
                  </a:cubicBezTo>
                  <a:lnTo>
                    <a:pt x="1804104" y="2052352"/>
                  </a:lnTo>
                  <a:lnTo>
                    <a:pt x="1804104" y="1916995"/>
                  </a:lnTo>
                  <a:cubicBezTo>
                    <a:pt x="1804104" y="1915679"/>
                    <a:pt x="1805169" y="1914613"/>
                    <a:pt x="1806485" y="1914613"/>
                  </a:cubicBezTo>
                  <a:lnTo>
                    <a:pt x="1827331" y="1914613"/>
                  </a:lnTo>
                  <a:cubicBezTo>
                    <a:pt x="1828646" y="1914613"/>
                    <a:pt x="1829712" y="1915679"/>
                    <a:pt x="1829712" y="1916995"/>
                  </a:cubicBezTo>
                  <a:lnTo>
                    <a:pt x="1829712" y="2052352"/>
                  </a:lnTo>
                  <a:lnTo>
                    <a:pt x="1826685" y="2052352"/>
                  </a:lnTo>
                  <a:cubicBezTo>
                    <a:pt x="1821915" y="2052352"/>
                    <a:pt x="1818048" y="2056219"/>
                    <a:pt x="1818048" y="2060989"/>
                  </a:cubicBezTo>
                  <a:lnTo>
                    <a:pt x="1818048" y="2253222"/>
                  </a:lnTo>
                  <a:cubicBezTo>
                    <a:pt x="1818048" y="2257992"/>
                    <a:pt x="1821915" y="2261859"/>
                    <a:pt x="1826685" y="2261859"/>
                  </a:cubicBezTo>
                  <a:lnTo>
                    <a:pt x="1861232" y="2261859"/>
                  </a:lnTo>
                  <a:cubicBezTo>
                    <a:pt x="1866002" y="2261859"/>
                    <a:pt x="1869869" y="2257992"/>
                    <a:pt x="1869869" y="2253222"/>
                  </a:cubicBezTo>
                  <a:lnTo>
                    <a:pt x="1869869" y="2060989"/>
                  </a:lnTo>
                  <a:cubicBezTo>
                    <a:pt x="1869869" y="2056219"/>
                    <a:pt x="1866002" y="2052352"/>
                    <a:pt x="1861232" y="2052352"/>
                  </a:cubicBezTo>
                  <a:lnTo>
                    <a:pt x="1893900" y="2052352"/>
                  </a:lnTo>
                  <a:cubicBezTo>
                    <a:pt x="1889129" y="2052352"/>
                    <a:pt x="1885262" y="2056219"/>
                    <a:pt x="1885262" y="2060989"/>
                  </a:cubicBezTo>
                  <a:lnTo>
                    <a:pt x="1885262" y="2253222"/>
                  </a:lnTo>
                  <a:cubicBezTo>
                    <a:pt x="1885262" y="2257992"/>
                    <a:pt x="1889129" y="2261859"/>
                    <a:pt x="1893900" y="2261859"/>
                  </a:cubicBezTo>
                  <a:lnTo>
                    <a:pt x="1928446" y="2261859"/>
                  </a:lnTo>
                  <a:cubicBezTo>
                    <a:pt x="1933216" y="2261859"/>
                    <a:pt x="1937084" y="2257992"/>
                    <a:pt x="1937084" y="2253222"/>
                  </a:cubicBezTo>
                  <a:lnTo>
                    <a:pt x="1937084" y="2060989"/>
                  </a:lnTo>
                  <a:cubicBezTo>
                    <a:pt x="1937084" y="2056219"/>
                    <a:pt x="1933216" y="2052352"/>
                    <a:pt x="1928446" y="2052352"/>
                  </a:cubicBezTo>
                  <a:lnTo>
                    <a:pt x="1922766" y="2052352"/>
                  </a:lnTo>
                  <a:lnTo>
                    <a:pt x="1922766" y="1916995"/>
                  </a:lnTo>
                  <a:cubicBezTo>
                    <a:pt x="1922766" y="1915679"/>
                    <a:pt x="1923832" y="1914613"/>
                    <a:pt x="1925147" y="1914613"/>
                  </a:cubicBezTo>
                  <a:lnTo>
                    <a:pt x="1945994" y="1914613"/>
                  </a:lnTo>
                  <a:cubicBezTo>
                    <a:pt x="1947309" y="1914613"/>
                    <a:pt x="1948375" y="1915679"/>
                    <a:pt x="1948375" y="1916995"/>
                  </a:cubicBezTo>
                  <a:lnTo>
                    <a:pt x="1948375" y="2052352"/>
                  </a:lnTo>
                  <a:lnTo>
                    <a:pt x="1961539" y="2052352"/>
                  </a:lnTo>
                  <a:cubicBezTo>
                    <a:pt x="1970844" y="2052352"/>
                    <a:pt x="1978388" y="2044809"/>
                    <a:pt x="1978388" y="2035503"/>
                  </a:cubicBezTo>
                  <a:lnTo>
                    <a:pt x="1978388" y="1887993"/>
                  </a:lnTo>
                  <a:cubicBezTo>
                    <a:pt x="1978388" y="1878688"/>
                    <a:pt x="1970844" y="1871144"/>
                    <a:pt x="1961539" y="1871144"/>
                  </a:cubicBezTo>
                  <a:close/>
                  <a:moveTo>
                    <a:pt x="1556573" y="1871144"/>
                  </a:moveTo>
                  <a:cubicBezTo>
                    <a:pt x="1547267" y="1871144"/>
                    <a:pt x="1539724" y="1878688"/>
                    <a:pt x="1539724" y="1887993"/>
                  </a:cubicBezTo>
                  <a:lnTo>
                    <a:pt x="1539724" y="2035503"/>
                  </a:lnTo>
                  <a:cubicBezTo>
                    <a:pt x="1539724" y="2044809"/>
                    <a:pt x="1547267" y="2052352"/>
                    <a:pt x="1556573" y="2052352"/>
                  </a:cubicBezTo>
                  <a:lnTo>
                    <a:pt x="1565964" y="2052352"/>
                  </a:lnTo>
                  <a:lnTo>
                    <a:pt x="1565964" y="1916995"/>
                  </a:lnTo>
                  <a:cubicBezTo>
                    <a:pt x="1565964" y="1915679"/>
                    <a:pt x="1567030" y="1914613"/>
                    <a:pt x="1568346" y="1914613"/>
                  </a:cubicBezTo>
                  <a:lnTo>
                    <a:pt x="1589192" y="1914613"/>
                  </a:lnTo>
                  <a:cubicBezTo>
                    <a:pt x="1590507" y="1914613"/>
                    <a:pt x="1591573" y="1915679"/>
                    <a:pt x="1591573" y="1916995"/>
                  </a:cubicBezTo>
                  <a:lnTo>
                    <a:pt x="1591573" y="2052352"/>
                  </a:lnTo>
                  <a:lnTo>
                    <a:pt x="1588546" y="2052352"/>
                  </a:lnTo>
                  <a:cubicBezTo>
                    <a:pt x="1583776" y="2052352"/>
                    <a:pt x="1579909" y="2056219"/>
                    <a:pt x="1579909" y="2060989"/>
                  </a:cubicBezTo>
                  <a:lnTo>
                    <a:pt x="1579909" y="2253222"/>
                  </a:lnTo>
                  <a:cubicBezTo>
                    <a:pt x="1579909" y="2257992"/>
                    <a:pt x="1583776" y="2261859"/>
                    <a:pt x="1588546" y="2261859"/>
                  </a:cubicBezTo>
                  <a:lnTo>
                    <a:pt x="1623093" y="2261859"/>
                  </a:lnTo>
                  <a:cubicBezTo>
                    <a:pt x="1627863" y="2261859"/>
                    <a:pt x="1631730" y="2257992"/>
                    <a:pt x="1631730" y="2253222"/>
                  </a:cubicBezTo>
                  <a:lnTo>
                    <a:pt x="1631730" y="2060989"/>
                  </a:lnTo>
                  <a:cubicBezTo>
                    <a:pt x="1631730" y="2056219"/>
                    <a:pt x="1627863" y="2052352"/>
                    <a:pt x="1623093" y="2052352"/>
                  </a:cubicBezTo>
                  <a:lnTo>
                    <a:pt x="1655761" y="2052352"/>
                  </a:lnTo>
                  <a:cubicBezTo>
                    <a:pt x="1650991" y="2052352"/>
                    <a:pt x="1647124" y="2056219"/>
                    <a:pt x="1647124" y="2060989"/>
                  </a:cubicBezTo>
                  <a:lnTo>
                    <a:pt x="1647124" y="2253222"/>
                  </a:lnTo>
                  <a:cubicBezTo>
                    <a:pt x="1647124" y="2257992"/>
                    <a:pt x="1650991" y="2261859"/>
                    <a:pt x="1655761" y="2261859"/>
                  </a:cubicBezTo>
                  <a:lnTo>
                    <a:pt x="1690308" y="2261859"/>
                  </a:lnTo>
                  <a:cubicBezTo>
                    <a:pt x="1695078" y="2261859"/>
                    <a:pt x="1698945" y="2257992"/>
                    <a:pt x="1698945" y="2253222"/>
                  </a:cubicBezTo>
                  <a:lnTo>
                    <a:pt x="1698945" y="2060989"/>
                  </a:lnTo>
                  <a:cubicBezTo>
                    <a:pt x="1698945" y="2056219"/>
                    <a:pt x="1695078" y="2052352"/>
                    <a:pt x="1690308" y="2052352"/>
                  </a:cubicBezTo>
                  <a:lnTo>
                    <a:pt x="1684628" y="2052352"/>
                  </a:lnTo>
                  <a:lnTo>
                    <a:pt x="1684628" y="1916995"/>
                  </a:lnTo>
                  <a:cubicBezTo>
                    <a:pt x="1684628" y="1915679"/>
                    <a:pt x="1685694" y="1914613"/>
                    <a:pt x="1687009" y="1914613"/>
                  </a:cubicBezTo>
                  <a:lnTo>
                    <a:pt x="1707855" y="1914613"/>
                  </a:lnTo>
                  <a:cubicBezTo>
                    <a:pt x="1709170" y="1914613"/>
                    <a:pt x="1710237" y="1915679"/>
                    <a:pt x="1710237" y="1916995"/>
                  </a:cubicBezTo>
                  <a:lnTo>
                    <a:pt x="1710237" y="2052352"/>
                  </a:lnTo>
                  <a:lnTo>
                    <a:pt x="1723400" y="2052352"/>
                  </a:lnTo>
                  <a:cubicBezTo>
                    <a:pt x="1732706" y="2052352"/>
                    <a:pt x="1740249" y="2044809"/>
                    <a:pt x="1740249" y="2035503"/>
                  </a:cubicBezTo>
                  <a:lnTo>
                    <a:pt x="1740249" y="1887993"/>
                  </a:lnTo>
                  <a:cubicBezTo>
                    <a:pt x="1740249" y="1878688"/>
                    <a:pt x="1732706" y="1871144"/>
                    <a:pt x="1723400" y="1871144"/>
                  </a:cubicBezTo>
                  <a:close/>
                  <a:moveTo>
                    <a:pt x="1318435" y="1871144"/>
                  </a:moveTo>
                  <a:cubicBezTo>
                    <a:pt x="1309130" y="1871144"/>
                    <a:pt x="1301586" y="1878688"/>
                    <a:pt x="1301586" y="1887993"/>
                  </a:cubicBezTo>
                  <a:lnTo>
                    <a:pt x="1301586" y="2035503"/>
                  </a:lnTo>
                  <a:cubicBezTo>
                    <a:pt x="1301586" y="2044809"/>
                    <a:pt x="1309130" y="2052352"/>
                    <a:pt x="1318435" y="2052352"/>
                  </a:cubicBezTo>
                  <a:lnTo>
                    <a:pt x="1327827" y="2052352"/>
                  </a:lnTo>
                  <a:lnTo>
                    <a:pt x="1327827" y="1916995"/>
                  </a:lnTo>
                  <a:cubicBezTo>
                    <a:pt x="1327827" y="1915679"/>
                    <a:pt x="1328893" y="1914613"/>
                    <a:pt x="1330208" y="1914613"/>
                  </a:cubicBezTo>
                  <a:lnTo>
                    <a:pt x="1351055" y="1914613"/>
                  </a:lnTo>
                  <a:cubicBezTo>
                    <a:pt x="1352369" y="1914613"/>
                    <a:pt x="1353436" y="1915679"/>
                    <a:pt x="1353436" y="1916995"/>
                  </a:cubicBezTo>
                  <a:lnTo>
                    <a:pt x="1353436" y="2052352"/>
                  </a:lnTo>
                  <a:lnTo>
                    <a:pt x="1350408" y="2052352"/>
                  </a:lnTo>
                  <a:cubicBezTo>
                    <a:pt x="1345638" y="2052352"/>
                    <a:pt x="1341771" y="2056219"/>
                    <a:pt x="1341771" y="2060989"/>
                  </a:cubicBezTo>
                  <a:lnTo>
                    <a:pt x="1341771" y="2253222"/>
                  </a:lnTo>
                  <a:cubicBezTo>
                    <a:pt x="1341771" y="2257992"/>
                    <a:pt x="1345638" y="2261859"/>
                    <a:pt x="1350408" y="2261859"/>
                  </a:cubicBezTo>
                  <a:lnTo>
                    <a:pt x="1384955" y="2261859"/>
                  </a:lnTo>
                  <a:cubicBezTo>
                    <a:pt x="1389726" y="2261859"/>
                    <a:pt x="1393592" y="2257992"/>
                    <a:pt x="1393592" y="2253222"/>
                  </a:cubicBezTo>
                  <a:lnTo>
                    <a:pt x="1393592" y="2060989"/>
                  </a:lnTo>
                  <a:cubicBezTo>
                    <a:pt x="1393592" y="2056219"/>
                    <a:pt x="1389726" y="2052352"/>
                    <a:pt x="1384955" y="2052352"/>
                  </a:cubicBezTo>
                  <a:lnTo>
                    <a:pt x="1417623" y="2052352"/>
                  </a:lnTo>
                  <a:cubicBezTo>
                    <a:pt x="1412853" y="2052352"/>
                    <a:pt x="1408986" y="2056219"/>
                    <a:pt x="1408986" y="2060989"/>
                  </a:cubicBezTo>
                  <a:lnTo>
                    <a:pt x="1408986" y="2253222"/>
                  </a:lnTo>
                  <a:cubicBezTo>
                    <a:pt x="1408986" y="2257992"/>
                    <a:pt x="1412853" y="2261859"/>
                    <a:pt x="1417623" y="2261859"/>
                  </a:cubicBezTo>
                  <a:lnTo>
                    <a:pt x="1452170" y="2261859"/>
                  </a:lnTo>
                  <a:cubicBezTo>
                    <a:pt x="1456940" y="2261859"/>
                    <a:pt x="1460807" y="2257992"/>
                    <a:pt x="1460807" y="2253222"/>
                  </a:cubicBezTo>
                  <a:lnTo>
                    <a:pt x="1460807" y="2060989"/>
                  </a:lnTo>
                  <a:cubicBezTo>
                    <a:pt x="1460807" y="2056219"/>
                    <a:pt x="1456940" y="2052352"/>
                    <a:pt x="1452170" y="2052352"/>
                  </a:cubicBezTo>
                  <a:lnTo>
                    <a:pt x="1446490" y="2052352"/>
                  </a:lnTo>
                  <a:lnTo>
                    <a:pt x="1446490" y="1916995"/>
                  </a:lnTo>
                  <a:cubicBezTo>
                    <a:pt x="1446490" y="1915679"/>
                    <a:pt x="1447556" y="1914613"/>
                    <a:pt x="1448871" y="1914613"/>
                  </a:cubicBezTo>
                  <a:lnTo>
                    <a:pt x="1469717" y="1914613"/>
                  </a:lnTo>
                  <a:cubicBezTo>
                    <a:pt x="1471033" y="1914613"/>
                    <a:pt x="1472098" y="1915679"/>
                    <a:pt x="1472098" y="1916995"/>
                  </a:cubicBezTo>
                  <a:lnTo>
                    <a:pt x="1472098" y="2052352"/>
                  </a:lnTo>
                  <a:lnTo>
                    <a:pt x="1485262" y="2052352"/>
                  </a:lnTo>
                  <a:cubicBezTo>
                    <a:pt x="1494568" y="2052352"/>
                    <a:pt x="1502111" y="2044809"/>
                    <a:pt x="1502111" y="2035503"/>
                  </a:cubicBezTo>
                  <a:lnTo>
                    <a:pt x="1502111" y="1887993"/>
                  </a:lnTo>
                  <a:cubicBezTo>
                    <a:pt x="1502111" y="1878688"/>
                    <a:pt x="1494568" y="1871144"/>
                    <a:pt x="1485262" y="1871144"/>
                  </a:cubicBezTo>
                  <a:close/>
                  <a:moveTo>
                    <a:pt x="1080297" y="1871144"/>
                  </a:moveTo>
                  <a:cubicBezTo>
                    <a:pt x="1070991" y="1871144"/>
                    <a:pt x="1063448" y="1878688"/>
                    <a:pt x="1063448" y="1887993"/>
                  </a:cubicBezTo>
                  <a:lnTo>
                    <a:pt x="1063448" y="2035503"/>
                  </a:lnTo>
                  <a:cubicBezTo>
                    <a:pt x="1063448" y="2044809"/>
                    <a:pt x="1070991" y="2052352"/>
                    <a:pt x="1080297" y="2052352"/>
                  </a:cubicBezTo>
                  <a:lnTo>
                    <a:pt x="1089688" y="2052352"/>
                  </a:lnTo>
                  <a:lnTo>
                    <a:pt x="1089688" y="1916995"/>
                  </a:lnTo>
                  <a:cubicBezTo>
                    <a:pt x="1089688" y="1915679"/>
                    <a:pt x="1090754" y="1914613"/>
                    <a:pt x="1092070" y="1914613"/>
                  </a:cubicBezTo>
                  <a:lnTo>
                    <a:pt x="1112916" y="1914613"/>
                  </a:lnTo>
                  <a:cubicBezTo>
                    <a:pt x="1114231" y="1914613"/>
                    <a:pt x="1115297" y="1915679"/>
                    <a:pt x="1115297" y="1916995"/>
                  </a:cubicBezTo>
                  <a:lnTo>
                    <a:pt x="1115297" y="2052352"/>
                  </a:lnTo>
                  <a:lnTo>
                    <a:pt x="1112270" y="2052352"/>
                  </a:lnTo>
                  <a:cubicBezTo>
                    <a:pt x="1107500" y="2052352"/>
                    <a:pt x="1103633" y="2056219"/>
                    <a:pt x="1103633" y="2060989"/>
                  </a:cubicBezTo>
                  <a:lnTo>
                    <a:pt x="1103633" y="2253222"/>
                  </a:lnTo>
                  <a:cubicBezTo>
                    <a:pt x="1103633" y="2257992"/>
                    <a:pt x="1107500" y="2261859"/>
                    <a:pt x="1112270" y="2261859"/>
                  </a:cubicBezTo>
                  <a:lnTo>
                    <a:pt x="1146817" y="2261859"/>
                  </a:lnTo>
                  <a:cubicBezTo>
                    <a:pt x="1151587" y="2261859"/>
                    <a:pt x="1155454" y="2257992"/>
                    <a:pt x="1155454" y="2253222"/>
                  </a:cubicBezTo>
                  <a:lnTo>
                    <a:pt x="1155454" y="2060989"/>
                  </a:lnTo>
                  <a:cubicBezTo>
                    <a:pt x="1155454" y="2056219"/>
                    <a:pt x="1151587" y="2052352"/>
                    <a:pt x="1146817" y="2052352"/>
                  </a:cubicBezTo>
                  <a:lnTo>
                    <a:pt x="1179484" y="2052352"/>
                  </a:lnTo>
                  <a:cubicBezTo>
                    <a:pt x="1174714" y="2052352"/>
                    <a:pt x="1170847" y="2056219"/>
                    <a:pt x="1170847" y="2060989"/>
                  </a:cubicBezTo>
                  <a:lnTo>
                    <a:pt x="1170847" y="2253222"/>
                  </a:lnTo>
                  <a:cubicBezTo>
                    <a:pt x="1170847" y="2257992"/>
                    <a:pt x="1174714" y="2261859"/>
                    <a:pt x="1179484" y="2261859"/>
                  </a:cubicBezTo>
                  <a:lnTo>
                    <a:pt x="1214031" y="2261859"/>
                  </a:lnTo>
                  <a:cubicBezTo>
                    <a:pt x="1218801" y="2261859"/>
                    <a:pt x="1222668" y="2257992"/>
                    <a:pt x="1222668" y="2253222"/>
                  </a:cubicBezTo>
                  <a:lnTo>
                    <a:pt x="1222668" y="2060989"/>
                  </a:lnTo>
                  <a:cubicBezTo>
                    <a:pt x="1222668" y="2056219"/>
                    <a:pt x="1218801" y="2052352"/>
                    <a:pt x="1214031" y="2052352"/>
                  </a:cubicBezTo>
                  <a:lnTo>
                    <a:pt x="1208351" y="2052352"/>
                  </a:lnTo>
                  <a:lnTo>
                    <a:pt x="1208351" y="1916995"/>
                  </a:lnTo>
                  <a:cubicBezTo>
                    <a:pt x="1208351" y="1915679"/>
                    <a:pt x="1209418" y="1914613"/>
                    <a:pt x="1210732" y="1914613"/>
                  </a:cubicBezTo>
                  <a:lnTo>
                    <a:pt x="1231578" y="1914613"/>
                  </a:lnTo>
                  <a:cubicBezTo>
                    <a:pt x="1232894" y="1914613"/>
                    <a:pt x="1233959" y="1915679"/>
                    <a:pt x="1233959" y="1916995"/>
                  </a:cubicBezTo>
                  <a:lnTo>
                    <a:pt x="1233959" y="2052352"/>
                  </a:lnTo>
                  <a:lnTo>
                    <a:pt x="1247124" y="2052352"/>
                  </a:lnTo>
                  <a:cubicBezTo>
                    <a:pt x="1256429" y="2052352"/>
                    <a:pt x="1263972" y="2044809"/>
                    <a:pt x="1263972" y="2035503"/>
                  </a:cubicBezTo>
                  <a:lnTo>
                    <a:pt x="1263972" y="1887993"/>
                  </a:lnTo>
                  <a:cubicBezTo>
                    <a:pt x="1263972" y="1878688"/>
                    <a:pt x="1256429" y="1871144"/>
                    <a:pt x="1247124" y="1871144"/>
                  </a:cubicBezTo>
                  <a:close/>
                  <a:moveTo>
                    <a:pt x="842158" y="1871144"/>
                  </a:moveTo>
                  <a:cubicBezTo>
                    <a:pt x="832852" y="1871144"/>
                    <a:pt x="825309" y="1878688"/>
                    <a:pt x="825309" y="1887993"/>
                  </a:cubicBezTo>
                  <a:lnTo>
                    <a:pt x="825309" y="2035503"/>
                  </a:lnTo>
                  <a:cubicBezTo>
                    <a:pt x="825309" y="2044809"/>
                    <a:pt x="832852" y="2052352"/>
                    <a:pt x="842158" y="2052352"/>
                  </a:cubicBezTo>
                  <a:lnTo>
                    <a:pt x="851549" y="2052352"/>
                  </a:lnTo>
                  <a:lnTo>
                    <a:pt x="851549" y="1916995"/>
                  </a:lnTo>
                  <a:cubicBezTo>
                    <a:pt x="851549" y="1915679"/>
                    <a:pt x="852615" y="1914613"/>
                    <a:pt x="853931" y="1914613"/>
                  </a:cubicBezTo>
                  <a:lnTo>
                    <a:pt x="874777" y="1914613"/>
                  </a:lnTo>
                  <a:cubicBezTo>
                    <a:pt x="876092" y="1914613"/>
                    <a:pt x="877158" y="1915679"/>
                    <a:pt x="877158" y="1916995"/>
                  </a:cubicBezTo>
                  <a:lnTo>
                    <a:pt x="877158" y="2052352"/>
                  </a:lnTo>
                  <a:lnTo>
                    <a:pt x="874131" y="2052352"/>
                  </a:lnTo>
                  <a:cubicBezTo>
                    <a:pt x="869361" y="2052352"/>
                    <a:pt x="865494" y="2056219"/>
                    <a:pt x="865494" y="2060989"/>
                  </a:cubicBezTo>
                  <a:lnTo>
                    <a:pt x="865494" y="2253222"/>
                  </a:lnTo>
                  <a:cubicBezTo>
                    <a:pt x="865494" y="2257992"/>
                    <a:pt x="869361" y="2261859"/>
                    <a:pt x="874131" y="2261859"/>
                  </a:cubicBezTo>
                  <a:lnTo>
                    <a:pt x="908678" y="2261859"/>
                  </a:lnTo>
                  <a:cubicBezTo>
                    <a:pt x="913448" y="2261859"/>
                    <a:pt x="917315" y="2257992"/>
                    <a:pt x="917315" y="2253222"/>
                  </a:cubicBezTo>
                  <a:lnTo>
                    <a:pt x="917315" y="2060989"/>
                  </a:lnTo>
                  <a:cubicBezTo>
                    <a:pt x="917315" y="2056219"/>
                    <a:pt x="913448" y="2052352"/>
                    <a:pt x="908678" y="2052352"/>
                  </a:cubicBezTo>
                  <a:lnTo>
                    <a:pt x="941346" y="2052352"/>
                  </a:lnTo>
                  <a:cubicBezTo>
                    <a:pt x="936576" y="2052352"/>
                    <a:pt x="932709" y="2056219"/>
                    <a:pt x="932709" y="2060989"/>
                  </a:cubicBezTo>
                  <a:lnTo>
                    <a:pt x="932709" y="2253222"/>
                  </a:lnTo>
                  <a:cubicBezTo>
                    <a:pt x="932709" y="2257992"/>
                    <a:pt x="936576" y="2261859"/>
                    <a:pt x="941346" y="2261859"/>
                  </a:cubicBezTo>
                  <a:lnTo>
                    <a:pt x="975893" y="2261859"/>
                  </a:lnTo>
                  <a:cubicBezTo>
                    <a:pt x="980663" y="2261859"/>
                    <a:pt x="984530" y="2257992"/>
                    <a:pt x="984530" y="2253222"/>
                  </a:cubicBezTo>
                  <a:lnTo>
                    <a:pt x="984530" y="2060989"/>
                  </a:lnTo>
                  <a:cubicBezTo>
                    <a:pt x="984530" y="2056219"/>
                    <a:pt x="980663" y="2052352"/>
                    <a:pt x="975893" y="2052352"/>
                  </a:cubicBezTo>
                  <a:lnTo>
                    <a:pt x="970213" y="2052352"/>
                  </a:lnTo>
                  <a:lnTo>
                    <a:pt x="970213" y="1916995"/>
                  </a:lnTo>
                  <a:cubicBezTo>
                    <a:pt x="970213" y="1915679"/>
                    <a:pt x="971279" y="1914613"/>
                    <a:pt x="972594" y="1914613"/>
                  </a:cubicBezTo>
                  <a:lnTo>
                    <a:pt x="993440" y="1914613"/>
                  </a:lnTo>
                  <a:cubicBezTo>
                    <a:pt x="994755" y="1914613"/>
                    <a:pt x="995821" y="1915679"/>
                    <a:pt x="995821" y="1916995"/>
                  </a:cubicBezTo>
                  <a:lnTo>
                    <a:pt x="995821" y="2052352"/>
                  </a:lnTo>
                  <a:lnTo>
                    <a:pt x="1008985" y="2052352"/>
                  </a:lnTo>
                  <a:cubicBezTo>
                    <a:pt x="1018291" y="2052352"/>
                    <a:pt x="1025834" y="2044809"/>
                    <a:pt x="1025834" y="2035503"/>
                  </a:cubicBezTo>
                  <a:lnTo>
                    <a:pt x="1025834" y="1887993"/>
                  </a:lnTo>
                  <a:cubicBezTo>
                    <a:pt x="1025834" y="1878688"/>
                    <a:pt x="1018291" y="1871144"/>
                    <a:pt x="1008985" y="1871144"/>
                  </a:cubicBezTo>
                  <a:close/>
                  <a:moveTo>
                    <a:pt x="2356232" y="1754196"/>
                  </a:moveTo>
                  <a:cubicBezTo>
                    <a:pt x="2326383" y="1754196"/>
                    <a:pt x="2302186" y="1778394"/>
                    <a:pt x="2302186" y="1808244"/>
                  </a:cubicBezTo>
                  <a:cubicBezTo>
                    <a:pt x="2302186" y="1838093"/>
                    <a:pt x="2326383" y="1862291"/>
                    <a:pt x="2356232" y="1862291"/>
                  </a:cubicBezTo>
                  <a:cubicBezTo>
                    <a:pt x="2386084" y="1862291"/>
                    <a:pt x="2410280" y="1838093"/>
                    <a:pt x="2410280" y="1808244"/>
                  </a:cubicBezTo>
                  <a:cubicBezTo>
                    <a:pt x="2410280" y="1778394"/>
                    <a:pt x="2386084" y="1754196"/>
                    <a:pt x="2356232" y="1754196"/>
                  </a:cubicBezTo>
                  <a:close/>
                  <a:moveTo>
                    <a:pt x="2118094" y="1754196"/>
                  </a:moveTo>
                  <a:cubicBezTo>
                    <a:pt x="2088244" y="1754196"/>
                    <a:pt x="2064047" y="1778394"/>
                    <a:pt x="2064047" y="1808244"/>
                  </a:cubicBezTo>
                  <a:cubicBezTo>
                    <a:pt x="2064047" y="1838093"/>
                    <a:pt x="2088244" y="1862291"/>
                    <a:pt x="2118094" y="1862291"/>
                  </a:cubicBezTo>
                  <a:cubicBezTo>
                    <a:pt x="2147945" y="1862291"/>
                    <a:pt x="2172142" y="1838093"/>
                    <a:pt x="2172142" y="1808244"/>
                  </a:cubicBezTo>
                  <a:cubicBezTo>
                    <a:pt x="2172142" y="1778394"/>
                    <a:pt x="2147945" y="1754196"/>
                    <a:pt x="2118094" y="1754196"/>
                  </a:cubicBezTo>
                  <a:close/>
                  <a:moveTo>
                    <a:pt x="1879956" y="1754196"/>
                  </a:moveTo>
                  <a:cubicBezTo>
                    <a:pt x="1850106" y="1754196"/>
                    <a:pt x="1825908" y="1778394"/>
                    <a:pt x="1825908" y="1808244"/>
                  </a:cubicBezTo>
                  <a:cubicBezTo>
                    <a:pt x="1825908" y="1838093"/>
                    <a:pt x="1850106" y="1862291"/>
                    <a:pt x="1879956" y="1862291"/>
                  </a:cubicBezTo>
                  <a:cubicBezTo>
                    <a:pt x="1909806" y="1862291"/>
                    <a:pt x="1934003" y="1838093"/>
                    <a:pt x="1934003" y="1808244"/>
                  </a:cubicBezTo>
                  <a:cubicBezTo>
                    <a:pt x="1934003" y="1778394"/>
                    <a:pt x="1909806" y="1754196"/>
                    <a:pt x="1879956" y="1754196"/>
                  </a:cubicBezTo>
                  <a:close/>
                  <a:moveTo>
                    <a:pt x="1641817" y="1754196"/>
                  </a:moveTo>
                  <a:cubicBezTo>
                    <a:pt x="1611967" y="1754196"/>
                    <a:pt x="1587770" y="1778394"/>
                    <a:pt x="1587770" y="1808244"/>
                  </a:cubicBezTo>
                  <a:cubicBezTo>
                    <a:pt x="1587770" y="1838093"/>
                    <a:pt x="1611967" y="1862291"/>
                    <a:pt x="1641817" y="1862291"/>
                  </a:cubicBezTo>
                  <a:cubicBezTo>
                    <a:pt x="1671667" y="1862291"/>
                    <a:pt x="1695865" y="1838093"/>
                    <a:pt x="1695865" y="1808244"/>
                  </a:cubicBezTo>
                  <a:cubicBezTo>
                    <a:pt x="1695865" y="1778394"/>
                    <a:pt x="1671667" y="1754196"/>
                    <a:pt x="1641817" y="1754196"/>
                  </a:cubicBezTo>
                  <a:close/>
                  <a:moveTo>
                    <a:pt x="1403679" y="1754196"/>
                  </a:moveTo>
                  <a:cubicBezTo>
                    <a:pt x="1373829" y="1754196"/>
                    <a:pt x="1349632" y="1778394"/>
                    <a:pt x="1349632" y="1808244"/>
                  </a:cubicBezTo>
                  <a:cubicBezTo>
                    <a:pt x="1349632" y="1838093"/>
                    <a:pt x="1373829" y="1862291"/>
                    <a:pt x="1403679" y="1862291"/>
                  </a:cubicBezTo>
                  <a:cubicBezTo>
                    <a:pt x="1433530" y="1862291"/>
                    <a:pt x="1457727" y="1838093"/>
                    <a:pt x="1457727" y="1808244"/>
                  </a:cubicBezTo>
                  <a:cubicBezTo>
                    <a:pt x="1457727" y="1778394"/>
                    <a:pt x="1433530" y="1754196"/>
                    <a:pt x="1403679" y="1754196"/>
                  </a:cubicBezTo>
                  <a:close/>
                  <a:moveTo>
                    <a:pt x="1165541" y="1754196"/>
                  </a:moveTo>
                  <a:cubicBezTo>
                    <a:pt x="1135690" y="1754196"/>
                    <a:pt x="1111493" y="1778394"/>
                    <a:pt x="1111493" y="1808244"/>
                  </a:cubicBezTo>
                  <a:cubicBezTo>
                    <a:pt x="1111493" y="1838093"/>
                    <a:pt x="1135690" y="1862291"/>
                    <a:pt x="1165541" y="1862291"/>
                  </a:cubicBezTo>
                  <a:cubicBezTo>
                    <a:pt x="1195390" y="1862291"/>
                    <a:pt x="1219588" y="1838093"/>
                    <a:pt x="1219588" y="1808244"/>
                  </a:cubicBezTo>
                  <a:cubicBezTo>
                    <a:pt x="1219588" y="1778394"/>
                    <a:pt x="1195390" y="1754196"/>
                    <a:pt x="1165541" y="1754196"/>
                  </a:cubicBezTo>
                  <a:close/>
                  <a:moveTo>
                    <a:pt x="927402" y="1754196"/>
                  </a:moveTo>
                  <a:cubicBezTo>
                    <a:pt x="897552" y="1754196"/>
                    <a:pt x="873354" y="1778394"/>
                    <a:pt x="873354" y="1808244"/>
                  </a:cubicBezTo>
                  <a:cubicBezTo>
                    <a:pt x="873354" y="1838093"/>
                    <a:pt x="897552" y="1862291"/>
                    <a:pt x="927402" y="1862291"/>
                  </a:cubicBezTo>
                  <a:cubicBezTo>
                    <a:pt x="957251" y="1862291"/>
                    <a:pt x="981450" y="1838093"/>
                    <a:pt x="981450" y="1808244"/>
                  </a:cubicBezTo>
                  <a:cubicBezTo>
                    <a:pt x="981450" y="1778394"/>
                    <a:pt x="957251" y="1754196"/>
                    <a:pt x="927402" y="1754196"/>
                  </a:cubicBezTo>
                  <a:close/>
                  <a:moveTo>
                    <a:pt x="2270989" y="1325139"/>
                  </a:moveTo>
                  <a:cubicBezTo>
                    <a:pt x="2261683" y="1325139"/>
                    <a:pt x="2254140" y="1332683"/>
                    <a:pt x="2254140" y="1341987"/>
                  </a:cubicBezTo>
                  <a:lnTo>
                    <a:pt x="2254140" y="1489498"/>
                  </a:lnTo>
                  <a:cubicBezTo>
                    <a:pt x="2254140" y="1498804"/>
                    <a:pt x="2261683" y="1506347"/>
                    <a:pt x="2270989" y="1506347"/>
                  </a:cubicBezTo>
                  <a:lnTo>
                    <a:pt x="2280381" y="1506347"/>
                  </a:lnTo>
                  <a:lnTo>
                    <a:pt x="2280381" y="1370988"/>
                  </a:lnTo>
                  <a:cubicBezTo>
                    <a:pt x="2280381" y="1369674"/>
                    <a:pt x="2281446" y="1368608"/>
                    <a:pt x="2282762" y="1368608"/>
                  </a:cubicBezTo>
                  <a:lnTo>
                    <a:pt x="2303608" y="1368608"/>
                  </a:lnTo>
                  <a:cubicBezTo>
                    <a:pt x="2304923" y="1368608"/>
                    <a:pt x="2305989" y="1369674"/>
                    <a:pt x="2305989" y="1370988"/>
                  </a:cubicBezTo>
                  <a:lnTo>
                    <a:pt x="2305989" y="1506347"/>
                  </a:lnTo>
                  <a:lnTo>
                    <a:pt x="2302962" y="1506347"/>
                  </a:lnTo>
                  <a:cubicBezTo>
                    <a:pt x="2298192" y="1506347"/>
                    <a:pt x="2294325" y="1510214"/>
                    <a:pt x="2294325" y="1514984"/>
                  </a:cubicBezTo>
                  <a:lnTo>
                    <a:pt x="2294325" y="1707217"/>
                  </a:lnTo>
                  <a:cubicBezTo>
                    <a:pt x="2294325" y="1711987"/>
                    <a:pt x="2298192" y="1715854"/>
                    <a:pt x="2302962" y="1715854"/>
                  </a:cubicBezTo>
                  <a:lnTo>
                    <a:pt x="2337509" y="1715854"/>
                  </a:lnTo>
                  <a:cubicBezTo>
                    <a:pt x="2342279" y="1715854"/>
                    <a:pt x="2346146" y="1711987"/>
                    <a:pt x="2346146" y="1707217"/>
                  </a:cubicBezTo>
                  <a:lnTo>
                    <a:pt x="2346146" y="1514984"/>
                  </a:lnTo>
                  <a:cubicBezTo>
                    <a:pt x="2346146" y="1510214"/>
                    <a:pt x="2342279" y="1506347"/>
                    <a:pt x="2337509" y="1506347"/>
                  </a:cubicBezTo>
                  <a:lnTo>
                    <a:pt x="2370176" y="1506347"/>
                  </a:lnTo>
                  <a:cubicBezTo>
                    <a:pt x="2365406" y="1506347"/>
                    <a:pt x="2361540" y="1510214"/>
                    <a:pt x="2361540" y="1514984"/>
                  </a:cubicBezTo>
                  <a:lnTo>
                    <a:pt x="2361540" y="1707217"/>
                  </a:lnTo>
                  <a:cubicBezTo>
                    <a:pt x="2361540" y="1711987"/>
                    <a:pt x="2365406" y="1715854"/>
                    <a:pt x="2370176" y="1715854"/>
                  </a:cubicBezTo>
                  <a:lnTo>
                    <a:pt x="2404724" y="1715854"/>
                  </a:lnTo>
                  <a:cubicBezTo>
                    <a:pt x="2409494" y="1715854"/>
                    <a:pt x="2413360" y="1711987"/>
                    <a:pt x="2413360" y="1707217"/>
                  </a:cubicBezTo>
                  <a:lnTo>
                    <a:pt x="2413360" y="1514984"/>
                  </a:lnTo>
                  <a:cubicBezTo>
                    <a:pt x="2413360" y="1510214"/>
                    <a:pt x="2409494" y="1506347"/>
                    <a:pt x="2404724" y="1506347"/>
                  </a:cubicBezTo>
                  <a:lnTo>
                    <a:pt x="2399044" y="1506347"/>
                  </a:lnTo>
                  <a:lnTo>
                    <a:pt x="2399044" y="1370988"/>
                  </a:lnTo>
                  <a:cubicBezTo>
                    <a:pt x="2399044" y="1369674"/>
                    <a:pt x="2400110" y="1368608"/>
                    <a:pt x="2401424" y="1368608"/>
                  </a:cubicBezTo>
                  <a:lnTo>
                    <a:pt x="2422270" y="1368608"/>
                  </a:lnTo>
                  <a:cubicBezTo>
                    <a:pt x="2423586" y="1368608"/>
                    <a:pt x="2424652" y="1369674"/>
                    <a:pt x="2424652" y="1370988"/>
                  </a:cubicBezTo>
                  <a:lnTo>
                    <a:pt x="2424652" y="1506347"/>
                  </a:lnTo>
                  <a:lnTo>
                    <a:pt x="2437816" y="1506347"/>
                  </a:lnTo>
                  <a:cubicBezTo>
                    <a:pt x="2447122" y="1506347"/>
                    <a:pt x="2454664" y="1498804"/>
                    <a:pt x="2454664" y="1489498"/>
                  </a:cubicBezTo>
                  <a:lnTo>
                    <a:pt x="2454664" y="1341987"/>
                  </a:lnTo>
                  <a:cubicBezTo>
                    <a:pt x="2454664" y="1332683"/>
                    <a:pt x="2447122" y="1325139"/>
                    <a:pt x="2437816" y="1325139"/>
                  </a:cubicBezTo>
                  <a:close/>
                  <a:moveTo>
                    <a:pt x="2032850" y="1325139"/>
                  </a:moveTo>
                  <a:cubicBezTo>
                    <a:pt x="2023545" y="1325139"/>
                    <a:pt x="2016002" y="1332683"/>
                    <a:pt x="2016002" y="1341987"/>
                  </a:cubicBezTo>
                  <a:lnTo>
                    <a:pt x="2016002" y="1489498"/>
                  </a:lnTo>
                  <a:cubicBezTo>
                    <a:pt x="2016002" y="1498804"/>
                    <a:pt x="2023545" y="1506347"/>
                    <a:pt x="2032850" y="1506347"/>
                  </a:cubicBezTo>
                  <a:lnTo>
                    <a:pt x="2042243" y="1506347"/>
                  </a:lnTo>
                  <a:lnTo>
                    <a:pt x="2042243" y="1370988"/>
                  </a:lnTo>
                  <a:cubicBezTo>
                    <a:pt x="2042243" y="1369674"/>
                    <a:pt x="2043308" y="1368608"/>
                    <a:pt x="2044624" y="1368608"/>
                  </a:cubicBezTo>
                  <a:lnTo>
                    <a:pt x="2065470" y="1368608"/>
                  </a:lnTo>
                  <a:cubicBezTo>
                    <a:pt x="2066784" y="1368608"/>
                    <a:pt x="2067851" y="1369674"/>
                    <a:pt x="2067851" y="1370988"/>
                  </a:cubicBezTo>
                  <a:lnTo>
                    <a:pt x="2067851" y="1506347"/>
                  </a:lnTo>
                  <a:lnTo>
                    <a:pt x="2064824" y="1506347"/>
                  </a:lnTo>
                  <a:cubicBezTo>
                    <a:pt x="2060053" y="1506347"/>
                    <a:pt x="2056186" y="1510214"/>
                    <a:pt x="2056186" y="1514984"/>
                  </a:cubicBezTo>
                  <a:lnTo>
                    <a:pt x="2056186" y="1707217"/>
                  </a:lnTo>
                  <a:cubicBezTo>
                    <a:pt x="2056186" y="1711987"/>
                    <a:pt x="2060053" y="1715854"/>
                    <a:pt x="2064824" y="1715854"/>
                  </a:cubicBezTo>
                  <a:lnTo>
                    <a:pt x="2099370" y="1715854"/>
                  </a:lnTo>
                  <a:cubicBezTo>
                    <a:pt x="2104140" y="1715854"/>
                    <a:pt x="2108008" y="1711987"/>
                    <a:pt x="2108008" y="1707217"/>
                  </a:cubicBezTo>
                  <a:lnTo>
                    <a:pt x="2108008" y="1514984"/>
                  </a:lnTo>
                  <a:cubicBezTo>
                    <a:pt x="2108008" y="1510214"/>
                    <a:pt x="2104140" y="1506347"/>
                    <a:pt x="2099370" y="1506347"/>
                  </a:cubicBezTo>
                  <a:lnTo>
                    <a:pt x="2132038" y="1506347"/>
                  </a:lnTo>
                  <a:cubicBezTo>
                    <a:pt x="2127268" y="1506347"/>
                    <a:pt x="2123401" y="1510214"/>
                    <a:pt x="2123401" y="1514984"/>
                  </a:cubicBezTo>
                  <a:lnTo>
                    <a:pt x="2123401" y="1707217"/>
                  </a:lnTo>
                  <a:cubicBezTo>
                    <a:pt x="2123401" y="1711987"/>
                    <a:pt x="2127268" y="1715854"/>
                    <a:pt x="2132038" y="1715854"/>
                  </a:cubicBezTo>
                  <a:lnTo>
                    <a:pt x="2166585" y="1715854"/>
                  </a:lnTo>
                  <a:cubicBezTo>
                    <a:pt x="2171355" y="1715854"/>
                    <a:pt x="2175222" y="1711987"/>
                    <a:pt x="2175222" y="1707217"/>
                  </a:cubicBezTo>
                  <a:lnTo>
                    <a:pt x="2175222" y="1514984"/>
                  </a:lnTo>
                  <a:cubicBezTo>
                    <a:pt x="2175222" y="1510214"/>
                    <a:pt x="2171355" y="1506347"/>
                    <a:pt x="2166585" y="1506347"/>
                  </a:cubicBezTo>
                  <a:lnTo>
                    <a:pt x="2160905" y="1506347"/>
                  </a:lnTo>
                  <a:lnTo>
                    <a:pt x="2160905" y="1370988"/>
                  </a:lnTo>
                  <a:cubicBezTo>
                    <a:pt x="2160905" y="1369674"/>
                    <a:pt x="2161971" y="1368608"/>
                    <a:pt x="2163286" y="1368608"/>
                  </a:cubicBezTo>
                  <a:lnTo>
                    <a:pt x="2184132" y="1368608"/>
                  </a:lnTo>
                  <a:cubicBezTo>
                    <a:pt x="2185448" y="1368608"/>
                    <a:pt x="2186514" y="1369674"/>
                    <a:pt x="2186514" y="1370988"/>
                  </a:cubicBezTo>
                  <a:lnTo>
                    <a:pt x="2186514" y="1506347"/>
                  </a:lnTo>
                  <a:lnTo>
                    <a:pt x="2199678" y="1506347"/>
                  </a:lnTo>
                  <a:cubicBezTo>
                    <a:pt x="2208983" y="1506347"/>
                    <a:pt x="2216526" y="1498804"/>
                    <a:pt x="2216526" y="1489498"/>
                  </a:cubicBezTo>
                  <a:lnTo>
                    <a:pt x="2216526" y="1341987"/>
                  </a:lnTo>
                  <a:cubicBezTo>
                    <a:pt x="2216526" y="1332683"/>
                    <a:pt x="2208983" y="1325139"/>
                    <a:pt x="2199678" y="1325139"/>
                  </a:cubicBezTo>
                  <a:close/>
                  <a:moveTo>
                    <a:pt x="1794712" y="1325139"/>
                  </a:moveTo>
                  <a:cubicBezTo>
                    <a:pt x="1785406" y="1325139"/>
                    <a:pt x="1777863" y="1332683"/>
                    <a:pt x="1777863" y="1341987"/>
                  </a:cubicBezTo>
                  <a:lnTo>
                    <a:pt x="1777863" y="1489498"/>
                  </a:lnTo>
                  <a:cubicBezTo>
                    <a:pt x="1777863" y="1498804"/>
                    <a:pt x="1785406" y="1506347"/>
                    <a:pt x="1794712" y="1506347"/>
                  </a:cubicBezTo>
                  <a:lnTo>
                    <a:pt x="1804104" y="1506347"/>
                  </a:lnTo>
                  <a:lnTo>
                    <a:pt x="1804104" y="1370988"/>
                  </a:lnTo>
                  <a:cubicBezTo>
                    <a:pt x="1804104" y="1369674"/>
                    <a:pt x="1805169" y="1368608"/>
                    <a:pt x="1806485" y="1368608"/>
                  </a:cubicBezTo>
                  <a:lnTo>
                    <a:pt x="1827331" y="1368608"/>
                  </a:lnTo>
                  <a:cubicBezTo>
                    <a:pt x="1828646" y="1368608"/>
                    <a:pt x="1829712" y="1369674"/>
                    <a:pt x="1829712" y="1370988"/>
                  </a:cubicBezTo>
                  <a:lnTo>
                    <a:pt x="1829712" y="1506347"/>
                  </a:lnTo>
                  <a:lnTo>
                    <a:pt x="1826685" y="1506347"/>
                  </a:lnTo>
                  <a:cubicBezTo>
                    <a:pt x="1821915" y="1506347"/>
                    <a:pt x="1818048" y="1510214"/>
                    <a:pt x="1818048" y="1514984"/>
                  </a:cubicBezTo>
                  <a:lnTo>
                    <a:pt x="1818048" y="1707217"/>
                  </a:lnTo>
                  <a:cubicBezTo>
                    <a:pt x="1818048" y="1711987"/>
                    <a:pt x="1821915" y="1715854"/>
                    <a:pt x="1826685" y="1715854"/>
                  </a:cubicBezTo>
                  <a:lnTo>
                    <a:pt x="1861232" y="1715854"/>
                  </a:lnTo>
                  <a:cubicBezTo>
                    <a:pt x="1866002" y="1715854"/>
                    <a:pt x="1869869" y="1711987"/>
                    <a:pt x="1869869" y="1707217"/>
                  </a:cubicBezTo>
                  <a:lnTo>
                    <a:pt x="1869869" y="1514984"/>
                  </a:lnTo>
                  <a:cubicBezTo>
                    <a:pt x="1869869" y="1510214"/>
                    <a:pt x="1866002" y="1506347"/>
                    <a:pt x="1861232" y="1506347"/>
                  </a:cubicBezTo>
                  <a:lnTo>
                    <a:pt x="1893900" y="1506347"/>
                  </a:lnTo>
                  <a:cubicBezTo>
                    <a:pt x="1889129" y="1506347"/>
                    <a:pt x="1885262" y="1510214"/>
                    <a:pt x="1885262" y="1514984"/>
                  </a:cubicBezTo>
                  <a:lnTo>
                    <a:pt x="1885262" y="1707217"/>
                  </a:lnTo>
                  <a:cubicBezTo>
                    <a:pt x="1885262" y="1711987"/>
                    <a:pt x="1889129" y="1715854"/>
                    <a:pt x="1893900" y="1715854"/>
                  </a:cubicBezTo>
                  <a:lnTo>
                    <a:pt x="1928446" y="1715854"/>
                  </a:lnTo>
                  <a:cubicBezTo>
                    <a:pt x="1933216" y="1715854"/>
                    <a:pt x="1937084" y="1711987"/>
                    <a:pt x="1937084" y="1707217"/>
                  </a:cubicBezTo>
                  <a:lnTo>
                    <a:pt x="1937084" y="1514984"/>
                  </a:lnTo>
                  <a:cubicBezTo>
                    <a:pt x="1937084" y="1510214"/>
                    <a:pt x="1933216" y="1506347"/>
                    <a:pt x="1928446" y="1506347"/>
                  </a:cubicBezTo>
                  <a:lnTo>
                    <a:pt x="1922766" y="1506347"/>
                  </a:lnTo>
                  <a:lnTo>
                    <a:pt x="1922766" y="1370988"/>
                  </a:lnTo>
                  <a:cubicBezTo>
                    <a:pt x="1922766" y="1369674"/>
                    <a:pt x="1923832" y="1368608"/>
                    <a:pt x="1925147" y="1368608"/>
                  </a:cubicBezTo>
                  <a:lnTo>
                    <a:pt x="1945994" y="1368608"/>
                  </a:lnTo>
                  <a:cubicBezTo>
                    <a:pt x="1947309" y="1368608"/>
                    <a:pt x="1948375" y="1369674"/>
                    <a:pt x="1948375" y="1370988"/>
                  </a:cubicBezTo>
                  <a:lnTo>
                    <a:pt x="1948375" y="1506347"/>
                  </a:lnTo>
                  <a:lnTo>
                    <a:pt x="1961539" y="1506347"/>
                  </a:lnTo>
                  <a:cubicBezTo>
                    <a:pt x="1970844" y="1506347"/>
                    <a:pt x="1978388" y="1498804"/>
                    <a:pt x="1978388" y="1489498"/>
                  </a:cubicBezTo>
                  <a:lnTo>
                    <a:pt x="1978388" y="1341987"/>
                  </a:lnTo>
                  <a:cubicBezTo>
                    <a:pt x="1978388" y="1332683"/>
                    <a:pt x="1970844" y="1325139"/>
                    <a:pt x="1961539" y="1325139"/>
                  </a:cubicBezTo>
                  <a:close/>
                  <a:moveTo>
                    <a:pt x="1556573" y="1325139"/>
                  </a:moveTo>
                  <a:cubicBezTo>
                    <a:pt x="1547267" y="1325139"/>
                    <a:pt x="1539724" y="1332683"/>
                    <a:pt x="1539724" y="1341987"/>
                  </a:cubicBezTo>
                  <a:lnTo>
                    <a:pt x="1539724" y="1489498"/>
                  </a:lnTo>
                  <a:cubicBezTo>
                    <a:pt x="1539724" y="1498804"/>
                    <a:pt x="1547267" y="1506347"/>
                    <a:pt x="1556573" y="1506347"/>
                  </a:cubicBezTo>
                  <a:lnTo>
                    <a:pt x="1565964" y="1506347"/>
                  </a:lnTo>
                  <a:lnTo>
                    <a:pt x="1565964" y="1370988"/>
                  </a:lnTo>
                  <a:cubicBezTo>
                    <a:pt x="1565964" y="1369674"/>
                    <a:pt x="1567030" y="1368608"/>
                    <a:pt x="1568346" y="1368608"/>
                  </a:cubicBezTo>
                  <a:lnTo>
                    <a:pt x="1589192" y="1368608"/>
                  </a:lnTo>
                  <a:cubicBezTo>
                    <a:pt x="1590507" y="1368608"/>
                    <a:pt x="1591573" y="1369674"/>
                    <a:pt x="1591573" y="1370988"/>
                  </a:cubicBezTo>
                  <a:lnTo>
                    <a:pt x="1591573" y="1506347"/>
                  </a:lnTo>
                  <a:lnTo>
                    <a:pt x="1588546" y="1506347"/>
                  </a:lnTo>
                  <a:cubicBezTo>
                    <a:pt x="1583776" y="1506347"/>
                    <a:pt x="1579909" y="1510214"/>
                    <a:pt x="1579909" y="1514984"/>
                  </a:cubicBezTo>
                  <a:lnTo>
                    <a:pt x="1579909" y="1707217"/>
                  </a:lnTo>
                  <a:cubicBezTo>
                    <a:pt x="1579909" y="1711987"/>
                    <a:pt x="1583776" y="1715854"/>
                    <a:pt x="1588546" y="1715854"/>
                  </a:cubicBezTo>
                  <a:lnTo>
                    <a:pt x="1623093" y="1715854"/>
                  </a:lnTo>
                  <a:cubicBezTo>
                    <a:pt x="1627863" y="1715854"/>
                    <a:pt x="1631730" y="1711987"/>
                    <a:pt x="1631730" y="1707217"/>
                  </a:cubicBezTo>
                  <a:lnTo>
                    <a:pt x="1631730" y="1514984"/>
                  </a:lnTo>
                  <a:cubicBezTo>
                    <a:pt x="1631730" y="1510214"/>
                    <a:pt x="1627863" y="1506347"/>
                    <a:pt x="1623093" y="1506347"/>
                  </a:cubicBezTo>
                  <a:lnTo>
                    <a:pt x="1655761" y="1506347"/>
                  </a:lnTo>
                  <a:cubicBezTo>
                    <a:pt x="1650991" y="1506347"/>
                    <a:pt x="1647124" y="1510214"/>
                    <a:pt x="1647124" y="1514984"/>
                  </a:cubicBezTo>
                  <a:lnTo>
                    <a:pt x="1647124" y="1707217"/>
                  </a:lnTo>
                  <a:cubicBezTo>
                    <a:pt x="1647124" y="1711987"/>
                    <a:pt x="1650991" y="1715854"/>
                    <a:pt x="1655761" y="1715854"/>
                  </a:cubicBezTo>
                  <a:lnTo>
                    <a:pt x="1690308" y="1715854"/>
                  </a:lnTo>
                  <a:cubicBezTo>
                    <a:pt x="1695078" y="1715854"/>
                    <a:pt x="1698945" y="1711987"/>
                    <a:pt x="1698945" y="1707217"/>
                  </a:cubicBezTo>
                  <a:lnTo>
                    <a:pt x="1698945" y="1514984"/>
                  </a:lnTo>
                  <a:cubicBezTo>
                    <a:pt x="1698945" y="1510214"/>
                    <a:pt x="1695078" y="1506347"/>
                    <a:pt x="1690308" y="1506347"/>
                  </a:cubicBezTo>
                  <a:lnTo>
                    <a:pt x="1684628" y="1506347"/>
                  </a:lnTo>
                  <a:lnTo>
                    <a:pt x="1684628" y="1370988"/>
                  </a:lnTo>
                  <a:cubicBezTo>
                    <a:pt x="1684628" y="1369674"/>
                    <a:pt x="1685694" y="1368608"/>
                    <a:pt x="1687009" y="1368608"/>
                  </a:cubicBezTo>
                  <a:lnTo>
                    <a:pt x="1707855" y="1368608"/>
                  </a:lnTo>
                  <a:cubicBezTo>
                    <a:pt x="1709170" y="1368608"/>
                    <a:pt x="1710237" y="1369674"/>
                    <a:pt x="1710237" y="1370988"/>
                  </a:cubicBezTo>
                  <a:lnTo>
                    <a:pt x="1710237" y="1506347"/>
                  </a:lnTo>
                  <a:lnTo>
                    <a:pt x="1723400" y="1506347"/>
                  </a:lnTo>
                  <a:cubicBezTo>
                    <a:pt x="1732706" y="1506347"/>
                    <a:pt x="1740249" y="1498804"/>
                    <a:pt x="1740249" y="1489498"/>
                  </a:cubicBezTo>
                  <a:lnTo>
                    <a:pt x="1740249" y="1341987"/>
                  </a:lnTo>
                  <a:cubicBezTo>
                    <a:pt x="1740249" y="1332683"/>
                    <a:pt x="1732706" y="1325139"/>
                    <a:pt x="1723400" y="1325139"/>
                  </a:cubicBezTo>
                  <a:close/>
                  <a:moveTo>
                    <a:pt x="1318435" y="1325139"/>
                  </a:moveTo>
                  <a:cubicBezTo>
                    <a:pt x="1309130" y="1325139"/>
                    <a:pt x="1301586" y="1332683"/>
                    <a:pt x="1301586" y="1341987"/>
                  </a:cubicBezTo>
                  <a:lnTo>
                    <a:pt x="1301586" y="1489498"/>
                  </a:lnTo>
                  <a:cubicBezTo>
                    <a:pt x="1301586" y="1498804"/>
                    <a:pt x="1309130" y="1506347"/>
                    <a:pt x="1318435" y="1506347"/>
                  </a:cubicBezTo>
                  <a:lnTo>
                    <a:pt x="1327827" y="1506347"/>
                  </a:lnTo>
                  <a:lnTo>
                    <a:pt x="1327827" y="1370988"/>
                  </a:lnTo>
                  <a:cubicBezTo>
                    <a:pt x="1327827" y="1369674"/>
                    <a:pt x="1328893" y="1368608"/>
                    <a:pt x="1330208" y="1368608"/>
                  </a:cubicBezTo>
                  <a:lnTo>
                    <a:pt x="1351055" y="1368608"/>
                  </a:lnTo>
                  <a:cubicBezTo>
                    <a:pt x="1352369" y="1368608"/>
                    <a:pt x="1353436" y="1369674"/>
                    <a:pt x="1353436" y="1370988"/>
                  </a:cubicBezTo>
                  <a:lnTo>
                    <a:pt x="1353436" y="1506347"/>
                  </a:lnTo>
                  <a:lnTo>
                    <a:pt x="1350408" y="1506347"/>
                  </a:lnTo>
                  <a:cubicBezTo>
                    <a:pt x="1345638" y="1506347"/>
                    <a:pt x="1341771" y="1510214"/>
                    <a:pt x="1341771" y="1514984"/>
                  </a:cubicBezTo>
                  <a:lnTo>
                    <a:pt x="1341771" y="1707217"/>
                  </a:lnTo>
                  <a:cubicBezTo>
                    <a:pt x="1341771" y="1711987"/>
                    <a:pt x="1345638" y="1715854"/>
                    <a:pt x="1350408" y="1715854"/>
                  </a:cubicBezTo>
                  <a:lnTo>
                    <a:pt x="1384955" y="1715854"/>
                  </a:lnTo>
                  <a:cubicBezTo>
                    <a:pt x="1389726" y="1715854"/>
                    <a:pt x="1393592" y="1711987"/>
                    <a:pt x="1393592" y="1707217"/>
                  </a:cubicBezTo>
                  <a:lnTo>
                    <a:pt x="1393592" y="1514984"/>
                  </a:lnTo>
                  <a:cubicBezTo>
                    <a:pt x="1393592" y="1510214"/>
                    <a:pt x="1389726" y="1506347"/>
                    <a:pt x="1384955" y="1506347"/>
                  </a:cubicBezTo>
                  <a:lnTo>
                    <a:pt x="1417623" y="1506347"/>
                  </a:lnTo>
                  <a:cubicBezTo>
                    <a:pt x="1412853" y="1506347"/>
                    <a:pt x="1408986" y="1510214"/>
                    <a:pt x="1408986" y="1514984"/>
                  </a:cubicBezTo>
                  <a:lnTo>
                    <a:pt x="1408986" y="1707217"/>
                  </a:lnTo>
                  <a:cubicBezTo>
                    <a:pt x="1408986" y="1711987"/>
                    <a:pt x="1412853" y="1715854"/>
                    <a:pt x="1417623" y="1715854"/>
                  </a:cubicBezTo>
                  <a:lnTo>
                    <a:pt x="1452170" y="1715854"/>
                  </a:lnTo>
                  <a:cubicBezTo>
                    <a:pt x="1456940" y="1715854"/>
                    <a:pt x="1460807" y="1711987"/>
                    <a:pt x="1460807" y="1707217"/>
                  </a:cubicBezTo>
                  <a:lnTo>
                    <a:pt x="1460807" y="1514984"/>
                  </a:lnTo>
                  <a:cubicBezTo>
                    <a:pt x="1460807" y="1510214"/>
                    <a:pt x="1456940" y="1506347"/>
                    <a:pt x="1452170" y="1506347"/>
                  </a:cubicBezTo>
                  <a:lnTo>
                    <a:pt x="1446490" y="1506347"/>
                  </a:lnTo>
                  <a:lnTo>
                    <a:pt x="1446490" y="1370988"/>
                  </a:lnTo>
                  <a:cubicBezTo>
                    <a:pt x="1446490" y="1369674"/>
                    <a:pt x="1447556" y="1368608"/>
                    <a:pt x="1448871" y="1368608"/>
                  </a:cubicBezTo>
                  <a:lnTo>
                    <a:pt x="1469717" y="1368608"/>
                  </a:lnTo>
                  <a:cubicBezTo>
                    <a:pt x="1471033" y="1368608"/>
                    <a:pt x="1472098" y="1369674"/>
                    <a:pt x="1472098" y="1370988"/>
                  </a:cubicBezTo>
                  <a:lnTo>
                    <a:pt x="1472098" y="1506347"/>
                  </a:lnTo>
                  <a:lnTo>
                    <a:pt x="1485262" y="1506347"/>
                  </a:lnTo>
                  <a:cubicBezTo>
                    <a:pt x="1494568" y="1506347"/>
                    <a:pt x="1502111" y="1498804"/>
                    <a:pt x="1502111" y="1489498"/>
                  </a:cubicBezTo>
                  <a:lnTo>
                    <a:pt x="1502111" y="1341987"/>
                  </a:lnTo>
                  <a:cubicBezTo>
                    <a:pt x="1502111" y="1332683"/>
                    <a:pt x="1494568" y="1325139"/>
                    <a:pt x="1485262" y="1325139"/>
                  </a:cubicBezTo>
                  <a:close/>
                  <a:moveTo>
                    <a:pt x="539" y="1277196"/>
                  </a:moveTo>
                  <a:lnTo>
                    <a:pt x="539" y="1296414"/>
                  </a:lnTo>
                  <a:lnTo>
                    <a:pt x="0" y="1285740"/>
                  </a:lnTo>
                  <a:close/>
                  <a:moveTo>
                    <a:pt x="2356232" y="1208190"/>
                  </a:moveTo>
                  <a:cubicBezTo>
                    <a:pt x="2326383" y="1208190"/>
                    <a:pt x="2302186" y="1232389"/>
                    <a:pt x="2302186" y="1262238"/>
                  </a:cubicBezTo>
                  <a:cubicBezTo>
                    <a:pt x="2302186" y="1292088"/>
                    <a:pt x="2326383" y="1316286"/>
                    <a:pt x="2356232" y="1316286"/>
                  </a:cubicBezTo>
                  <a:cubicBezTo>
                    <a:pt x="2386084" y="1316286"/>
                    <a:pt x="2410280" y="1292088"/>
                    <a:pt x="2410280" y="1262238"/>
                  </a:cubicBezTo>
                  <a:cubicBezTo>
                    <a:pt x="2410280" y="1232389"/>
                    <a:pt x="2386084" y="1208190"/>
                    <a:pt x="2356232" y="1208190"/>
                  </a:cubicBezTo>
                  <a:close/>
                  <a:moveTo>
                    <a:pt x="2118094" y="1208190"/>
                  </a:moveTo>
                  <a:cubicBezTo>
                    <a:pt x="2088244" y="1208190"/>
                    <a:pt x="2064047" y="1232389"/>
                    <a:pt x="2064047" y="1262238"/>
                  </a:cubicBezTo>
                  <a:cubicBezTo>
                    <a:pt x="2064047" y="1292088"/>
                    <a:pt x="2088244" y="1316286"/>
                    <a:pt x="2118094" y="1316286"/>
                  </a:cubicBezTo>
                  <a:cubicBezTo>
                    <a:pt x="2147945" y="1316286"/>
                    <a:pt x="2172142" y="1292088"/>
                    <a:pt x="2172142" y="1262238"/>
                  </a:cubicBezTo>
                  <a:cubicBezTo>
                    <a:pt x="2172142" y="1232389"/>
                    <a:pt x="2147945" y="1208190"/>
                    <a:pt x="2118094" y="1208190"/>
                  </a:cubicBezTo>
                  <a:close/>
                  <a:moveTo>
                    <a:pt x="1879956" y="1208190"/>
                  </a:moveTo>
                  <a:cubicBezTo>
                    <a:pt x="1850106" y="1208190"/>
                    <a:pt x="1825908" y="1232389"/>
                    <a:pt x="1825908" y="1262238"/>
                  </a:cubicBezTo>
                  <a:cubicBezTo>
                    <a:pt x="1825908" y="1292088"/>
                    <a:pt x="1850106" y="1316286"/>
                    <a:pt x="1879956" y="1316286"/>
                  </a:cubicBezTo>
                  <a:cubicBezTo>
                    <a:pt x="1909806" y="1316286"/>
                    <a:pt x="1934003" y="1292088"/>
                    <a:pt x="1934003" y="1262238"/>
                  </a:cubicBezTo>
                  <a:cubicBezTo>
                    <a:pt x="1934003" y="1232389"/>
                    <a:pt x="1909806" y="1208190"/>
                    <a:pt x="1879956" y="1208190"/>
                  </a:cubicBezTo>
                  <a:close/>
                  <a:moveTo>
                    <a:pt x="1641817" y="1208190"/>
                  </a:moveTo>
                  <a:cubicBezTo>
                    <a:pt x="1611967" y="1208190"/>
                    <a:pt x="1587770" y="1232389"/>
                    <a:pt x="1587770" y="1262238"/>
                  </a:cubicBezTo>
                  <a:cubicBezTo>
                    <a:pt x="1587770" y="1292088"/>
                    <a:pt x="1611967" y="1316286"/>
                    <a:pt x="1641817" y="1316286"/>
                  </a:cubicBezTo>
                  <a:cubicBezTo>
                    <a:pt x="1671667" y="1316286"/>
                    <a:pt x="1695865" y="1292088"/>
                    <a:pt x="1695865" y="1262238"/>
                  </a:cubicBezTo>
                  <a:cubicBezTo>
                    <a:pt x="1695865" y="1232389"/>
                    <a:pt x="1671667" y="1208190"/>
                    <a:pt x="1641817" y="1208190"/>
                  </a:cubicBezTo>
                  <a:close/>
                  <a:moveTo>
                    <a:pt x="1403679" y="1208190"/>
                  </a:moveTo>
                  <a:cubicBezTo>
                    <a:pt x="1373829" y="1208190"/>
                    <a:pt x="1349632" y="1232389"/>
                    <a:pt x="1349632" y="1262238"/>
                  </a:cubicBezTo>
                  <a:cubicBezTo>
                    <a:pt x="1349632" y="1292088"/>
                    <a:pt x="1373829" y="1316286"/>
                    <a:pt x="1403679" y="1316286"/>
                  </a:cubicBezTo>
                  <a:cubicBezTo>
                    <a:pt x="1433530" y="1316286"/>
                    <a:pt x="1457727" y="1292088"/>
                    <a:pt x="1457727" y="1262238"/>
                  </a:cubicBezTo>
                  <a:cubicBezTo>
                    <a:pt x="1457727" y="1232389"/>
                    <a:pt x="1433530" y="1208190"/>
                    <a:pt x="1403679" y="1208190"/>
                  </a:cubicBezTo>
                  <a:close/>
                  <a:moveTo>
                    <a:pt x="2270989" y="779133"/>
                  </a:moveTo>
                  <a:cubicBezTo>
                    <a:pt x="2261683" y="779133"/>
                    <a:pt x="2254140" y="786677"/>
                    <a:pt x="2254140" y="795981"/>
                  </a:cubicBezTo>
                  <a:lnTo>
                    <a:pt x="2254140" y="943492"/>
                  </a:lnTo>
                  <a:cubicBezTo>
                    <a:pt x="2254140" y="952798"/>
                    <a:pt x="2261683" y="960341"/>
                    <a:pt x="2270989" y="960341"/>
                  </a:cubicBezTo>
                  <a:lnTo>
                    <a:pt x="2280381" y="960341"/>
                  </a:lnTo>
                  <a:lnTo>
                    <a:pt x="2280381" y="824982"/>
                  </a:lnTo>
                  <a:cubicBezTo>
                    <a:pt x="2280381" y="823668"/>
                    <a:pt x="2281446" y="822602"/>
                    <a:pt x="2282762" y="822602"/>
                  </a:cubicBezTo>
                  <a:lnTo>
                    <a:pt x="2303608" y="822602"/>
                  </a:lnTo>
                  <a:cubicBezTo>
                    <a:pt x="2304923" y="822602"/>
                    <a:pt x="2305989" y="823668"/>
                    <a:pt x="2305989" y="824982"/>
                  </a:cubicBezTo>
                  <a:lnTo>
                    <a:pt x="2305989" y="960341"/>
                  </a:lnTo>
                  <a:lnTo>
                    <a:pt x="2302962" y="960341"/>
                  </a:lnTo>
                  <a:cubicBezTo>
                    <a:pt x="2298192" y="960341"/>
                    <a:pt x="2294325" y="964208"/>
                    <a:pt x="2294325" y="968978"/>
                  </a:cubicBezTo>
                  <a:lnTo>
                    <a:pt x="2294325" y="1161211"/>
                  </a:lnTo>
                  <a:cubicBezTo>
                    <a:pt x="2294325" y="1165981"/>
                    <a:pt x="2298192" y="1169848"/>
                    <a:pt x="2302962" y="1169848"/>
                  </a:cubicBezTo>
                  <a:lnTo>
                    <a:pt x="2337509" y="1169848"/>
                  </a:lnTo>
                  <a:cubicBezTo>
                    <a:pt x="2342279" y="1169848"/>
                    <a:pt x="2346146" y="1165981"/>
                    <a:pt x="2346146" y="1161211"/>
                  </a:cubicBezTo>
                  <a:lnTo>
                    <a:pt x="2346146" y="968978"/>
                  </a:lnTo>
                  <a:cubicBezTo>
                    <a:pt x="2346146" y="964208"/>
                    <a:pt x="2342279" y="960341"/>
                    <a:pt x="2337509" y="960341"/>
                  </a:cubicBezTo>
                  <a:lnTo>
                    <a:pt x="2370176" y="960341"/>
                  </a:lnTo>
                  <a:cubicBezTo>
                    <a:pt x="2365406" y="960341"/>
                    <a:pt x="2361540" y="964208"/>
                    <a:pt x="2361540" y="968978"/>
                  </a:cubicBezTo>
                  <a:lnTo>
                    <a:pt x="2361540" y="1161211"/>
                  </a:lnTo>
                  <a:cubicBezTo>
                    <a:pt x="2361540" y="1165981"/>
                    <a:pt x="2365406" y="1169848"/>
                    <a:pt x="2370176" y="1169848"/>
                  </a:cubicBezTo>
                  <a:lnTo>
                    <a:pt x="2404724" y="1169848"/>
                  </a:lnTo>
                  <a:cubicBezTo>
                    <a:pt x="2409494" y="1169848"/>
                    <a:pt x="2413360" y="1165981"/>
                    <a:pt x="2413360" y="1161211"/>
                  </a:cubicBezTo>
                  <a:lnTo>
                    <a:pt x="2413360" y="968978"/>
                  </a:lnTo>
                  <a:cubicBezTo>
                    <a:pt x="2413360" y="964208"/>
                    <a:pt x="2409494" y="960341"/>
                    <a:pt x="2404724" y="960341"/>
                  </a:cubicBezTo>
                  <a:lnTo>
                    <a:pt x="2399044" y="960341"/>
                  </a:lnTo>
                  <a:lnTo>
                    <a:pt x="2399044" y="824982"/>
                  </a:lnTo>
                  <a:cubicBezTo>
                    <a:pt x="2399044" y="823668"/>
                    <a:pt x="2400110" y="822602"/>
                    <a:pt x="2401424" y="822602"/>
                  </a:cubicBezTo>
                  <a:lnTo>
                    <a:pt x="2422270" y="822602"/>
                  </a:lnTo>
                  <a:cubicBezTo>
                    <a:pt x="2423586" y="822602"/>
                    <a:pt x="2424652" y="823668"/>
                    <a:pt x="2424652" y="824982"/>
                  </a:cubicBezTo>
                  <a:lnTo>
                    <a:pt x="2424652" y="960341"/>
                  </a:lnTo>
                  <a:lnTo>
                    <a:pt x="2437816" y="960341"/>
                  </a:lnTo>
                  <a:cubicBezTo>
                    <a:pt x="2447122" y="960341"/>
                    <a:pt x="2454664" y="952798"/>
                    <a:pt x="2454664" y="943492"/>
                  </a:cubicBezTo>
                  <a:lnTo>
                    <a:pt x="2454664" y="795981"/>
                  </a:lnTo>
                  <a:cubicBezTo>
                    <a:pt x="2454664" y="786677"/>
                    <a:pt x="2447122" y="779133"/>
                    <a:pt x="2437816" y="779133"/>
                  </a:cubicBezTo>
                  <a:close/>
                  <a:moveTo>
                    <a:pt x="2032850" y="779133"/>
                  </a:moveTo>
                  <a:cubicBezTo>
                    <a:pt x="2023545" y="779133"/>
                    <a:pt x="2016002" y="786677"/>
                    <a:pt x="2016002" y="795981"/>
                  </a:cubicBezTo>
                  <a:lnTo>
                    <a:pt x="2016002" y="943492"/>
                  </a:lnTo>
                  <a:cubicBezTo>
                    <a:pt x="2016002" y="952798"/>
                    <a:pt x="2023545" y="960341"/>
                    <a:pt x="2032850" y="960341"/>
                  </a:cubicBezTo>
                  <a:lnTo>
                    <a:pt x="2042243" y="960341"/>
                  </a:lnTo>
                  <a:lnTo>
                    <a:pt x="2042243" y="824982"/>
                  </a:lnTo>
                  <a:cubicBezTo>
                    <a:pt x="2042243" y="823668"/>
                    <a:pt x="2043308" y="822602"/>
                    <a:pt x="2044624" y="822602"/>
                  </a:cubicBezTo>
                  <a:lnTo>
                    <a:pt x="2065470" y="822602"/>
                  </a:lnTo>
                  <a:cubicBezTo>
                    <a:pt x="2066784" y="822602"/>
                    <a:pt x="2067851" y="823668"/>
                    <a:pt x="2067851" y="824982"/>
                  </a:cubicBezTo>
                  <a:lnTo>
                    <a:pt x="2067851" y="960341"/>
                  </a:lnTo>
                  <a:lnTo>
                    <a:pt x="2064824" y="960341"/>
                  </a:lnTo>
                  <a:cubicBezTo>
                    <a:pt x="2060053" y="960341"/>
                    <a:pt x="2056186" y="964208"/>
                    <a:pt x="2056186" y="968978"/>
                  </a:cubicBezTo>
                  <a:lnTo>
                    <a:pt x="2056186" y="1161211"/>
                  </a:lnTo>
                  <a:cubicBezTo>
                    <a:pt x="2056186" y="1165981"/>
                    <a:pt x="2060053" y="1169848"/>
                    <a:pt x="2064824" y="1169848"/>
                  </a:cubicBezTo>
                  <a:lnTo>
                    <a:pt x="2099370" y="1169848"/>
                  </a:lnTo>
                  <a:cubicBezTo>
                    <a:pt x="2104140" y="1169848"/>
                    <a:pt x="2108008" y="1165981"/>
                    <a:pt x="2108008" y="1161211"/>
                  </a:cubicBezTo>
                  <a:lnTo>
                    <a:pt x="2108008" y="968978"/>
                  </a:lnTo>
                  <a:cubicBezTo>
                    <a:pt x="2108008" y="964208"/>
                    <a:pt x="2104140" y="960341"/>
                    <a:pt x="2099370" y="960341"/>
                  </a:cubicBezTo>
                  <a:lnTo>
                    <a:pt x="2132038" y="960341"/>
                  </a:lnTo>
                  <a:cubicBezTo>
                    <a:pt x="2127268" y="960341"/>
                    <a:pt x="2123401" y="964208"/>
                    <a:pt x="2123401" y="968978"/>
                  </a:cubicBezTo>
                  <a:lnTo>
                    <a:pt x="2123401" y="1161211"/>
                  </a:lnTo>
                  <a:cubicBezTo>
                    <a:pt x="2123401" y="1165981"/>
                    <a:pt x="2127268" y="1169848"/>
                    <a:pt x="2132038" y="1169848"/>
                  </a:cubicBezTo>
                  <a:lnTo>
                    <a:pt x="2166585" y="1169848"/>
                  </a:lnTo>
                  <a:cubicBezTo>
                    <a:pt x="2171355" y="1169848"/>
                    <a:pt x="2175222" y="1165981"/>
                    <a:pt x="2175222" y="1161211"/>
                  </a:cubicBezTo>
                  <a:lnTo>
                    <a:pt x="2175222" y="968978"/>
                  </a:lnTo>
                  <a:cubicBezTo>
                    <a:pt x="2175222" y="964208"/>
                    <a:pt x="2171355" y="960341"/>
                    <a:pt x="2166585" y="960341"/>
                  </a:cubicBezTo>
                  <a:lnTo>
                    <a:pt x="2160905" y="960341"/>
                  </a:lnTo>
                  <a:lnTo>
                    <a:pt x="2160905" y="824982"/>
                  </a:lnTo>
                  <a:cubicBezTo>
                    <a:pt x="2160905" y="823668"/>
                    <a:pt x="2161971" y="822602"/>
                    <a:pt x="2163286" y="822602"/>
                  </a:cubicBezTo>
                  <a:lnTo>
                    <a:pt x="2184132" y="822602"/>
                  </a:lnTo>
                  <a:cubicBezTo>
                    <a:pt x="2185448" y="822602"/>
                    <a:pt x="2186514" y="823668"/>
                    <a:pt x="2186514" y="824982"/>
                  </a:cubicBezTo>
                  <a:lnTo>
                    <a:pt x="2186514" y="960341"/>
                  </a:lnTo>
                  <a:lnTo>
                    <a:pt x="2199678" y="960341"/>
                  </a:lnTo>
                  <a:cubicBezTo>
                    <a:pt x="2208983" y="960341"/>
                    <a:pt x="2216526" y="952798"/>
                    <a:pt x="2216526" y="943492"/>
                  </a:cubicBezTo>
                  <a:lnTo>
                    <a:pt x="2216526" y="795981"/>
                  </a:lnTo>
                  <a:cubicBezTo>
                    <a:pt x="2216526" y="786677"/>
                    <a:pt x="2208983" y="779133"/>
                    <a:pt x="2199678" y="779133"/>
                  </a:cubicBezTo>
                  <a:close/>
                  <a:moveTo>
                    <a:pt x="2356232" y="662184"/>
                  </a:moveTo>
                  <a:cubicBezTo>
                    <a:pt x="2326383" y="662184"/>
                    <a:pt x="2302186" y="686383"/>
                    <a:pt x="2302186" y="716232"/>
                  </a:cubicBezTo>
                  <a:cubicBezTo>
                    <a:pt x="2302186" y="746082"/>
                    <a:pt x="2326383" y="770280"/>
                    <a:pt x="2356232" y="770280"/>
                  </a:cubicBezTo>
                  <a:cubicBezTo>
                    <a:pt x="2386084" y="770280"/>
                    <a:pt x="2410280" y="746082"/>
                    <a:pt x="2410280" y="716232"/>
                  </a:cubicBezTo>
                  <a:cubicBezTo>
                    <a:pt x="2410280" y="686383"/>
                    <a:pt x="2386084" y="662184"/>
                    <a:pt x="2356232" y="662184"/>
                  </a:cubicBezTo>
                  <a:close/>
                  <a:moveTo>
                    <a:pt x="2118094" y="662184"/>
                  </a:moveTo>
                  <a:cubicBezTo>
                    <a:pt x="2088244" y="662184"/>
                    <a:pt x="2064047" y="686383"/>
                    <a:pt x="2064047" y="716232"/>
                  </a:cubicBezTo>
                  <a:cubicBezTo>
                    <a:pt x="2064047" y="746082"/>
                    <a:pt x="2088244" y="770280"/>
                    <a:pt x="2118094" y="770280"/>
                  </a:cubicBezTo>
                  <a:cubicBezTo>
                    <a:pt x="2147945" y="770280"/>
                    <a:pt x="2172142" y="746082"/>
                    <a:pt x="2172142" y="716232"/>
                  </a:cubicBezTo>
                  <a:cubicBezTo>
                    <a:pt x="2172142" y="686383"/>
                    <a:pt x="2147945" y="662184"/>
                    <a:pt x="2118094" y="662184"/>
                  </a:cubicBezTo>
                  <a:close/>
                  <a:moveTo>
                    <a:pt x="2186514" y="384965"/>
                  </a:moveTo>
                  <a:lnTo>
                    <a:pt x="2186514" y="414336"/>
                  </a:lnTo>
                  <a:lnTo>
                    <a:pt x="2199678" y="414336"/>
                  </a:lnTo>
                  <a:cubicBezTo>
                    <a:pt x="2204330" y="414336"/>
                    <a:pt x="2208543" y="412450"/>
                    <a:pt x="2211591" y="409401"/>
                  </a:cubicBezTo>
                  <a:lnTo>
                    <a:pt x="2215702" y="399478"/>
                  </a:lnTo>
                  <a:lnTo>
                    <a:pt x="2277878" y="467890"/>
                  </a:lnTo>
                  <a:lnTo>
                    <a:pt x="2294325" y="489883"/>
                  </a:lnTo>
                  <a:lnTo>
                    <a:pt x="2294325" y="615206"/>
                  </a:lnTo>
                  <a:cubicBezTo>
                    <a:pt x="2294325" y="619976"/>
                    <a:pt x="2298192" y="623843"/>
                    <a:pt x="2302962" y="623843"/>
                  </a:cubicBezTo>
                  <a:lnTo>
                    <a:pt x="2337509" y="623843"/>
                  </a:lnTo>
                  <a:cubicBezTo>
                    <a:pt x="2342279" y="623843"/>
                    <a:pt x="2346146" y="619976"/>
                    <a:pt x="2346146" y="615206"/>
                  </a:cubicBezTo>
                  <a:lnTo>
                    <a:pt x="2346146" y="559183"/>
                  </a:lnTo>
                  <a:lnTo>
                    <a:pt x="2351896" y="566870"/>
                  </a:lnTo>
                  <a:lnTo>
                    <a:pt x="2361540" y="582746"/>
                  </a:lnTo>
                  <a:lnTo>
                    <a:pt x="2361540" y="615206"/>
                  </a:lnTo>
                  <a:cubicBezTo>
                    <a:pt x="2361540" y="619976"/>
                    <a:pt x="2365406" y="623843"/>
                    <a:pt x="2370176" y="623843"/>
                  </a:cubicBezTo>
                  <a:lnTo>
                    <a:pt x="2386508" y="623843"/>
                  </a:lnTo>
                  <a:lnTo>
                    <a:pt x="2416298" y="672879"/>
                  </a:lnTo>
                  <a:cubicBezTo>
                    <a:pt x="2515264" y="855061"/>
                    <a:pt x="2571480" y="1063835"/>
                    <a:pt x="2571480" y="1285740"/>
                  </a:cubicBezTo>
                  <a:cubicBezTo>
                    <a:pt x="2571480" y="1463264"/>
                    <a:pt x="2535500" y="1632384"/>
                    <a:pt x="2470440" y="1786208"/>
                  </a:cubicBezTo>
                  <a:lnTo>
                    <a:pt x="2429524" y="1871144"/>
                  </a:lnTo>
                  <a:lnTo>
                    <a:pt x="2270989" y="1871144"/>
                  </a:lnTo>
                  <a:cubicBezTo>
                    <a:pt x="2261683" y="1871144"/>
                    <a:pt x="2254140" y="1878688"/>
                    <a:pt x="2254140" y="1887993"/>
                  </a:cubicBezTo>
                  <a:lnTo>
                    <a:pt x="2254140" y="2035503"/>
                  </a:lnTo>
                  <a:cubicBezTo>
                    <a:pt x="2254140" y="2044809"/>
                    <a:pt x="2261683" y="2052352"/>
                    <a:pt x="2270989" y="2052352"/>
                  </a:cubicBezTo>
                  <a:lnTo>
                    <a:pt x="2280381" y="2052352"/>
                  </a:lnTo>
                  <a:lnTo>
                    <a:pt x="2280381" y="1916995"/>
                  </a:lnTo>
                  <a:cubicBezTo>
                    <a:pt x="2280381" y="1915679"/>
                    <a:pt x="2281446" y="1914613"/>
                    <a:pt x="2282762" y="1914613"/>
                  </a:cubicBezTo>
                  <a:lnTo>
                    <a:pt x="2303608" y="1914613"/>
                  </a:lnTo>
                  <a:cubicBezTo>
                    <a:pt x="2304923" y="1914613"/>
                    <a:pt x="2305989" y="1915679"/>
                    <a:pt x="2305989" y="1916995"/>
                  </a:cubicBezTo>
                  <a:lnTo>
                    <a:pt x="2305989" y="2052352"/>
                  </a:lnTo>
                  <a:lnTo>
                    <a:pt x="2302962" y="2052352"/>
                  </a:lnTo>
                  <a:cubicBezTo>
                    <a:pt x="2298192" y="2052352"/>
                    <a:pt x="2294325" y="2056219"/>
                    <a:pt x="2294325" y="2060989"/>
                  </a:cubicBezTo>
                  <a:lnTo>
                    <a:pt x="2294325" y="2081596"/>
                  </a:lnTo>
                  <a:lnTo>
                    <a:pt x="2277878" y="2103589"/>
                  </a:lnTo>
                  <a:cubicBezTo>
                    <a:pt x="2251676" y="2135340"/>
                    <a:pt x="2223979" y="2165811"/>
                    <a:pt x="2194895" y="2194895"/>
                  </a:cubicBezTo>
                  <a:lnTo>
                    <a:pt x="2175222" y="2212775"/>
                  </a:lnTo>
                  <a:lnTo>
                    <a:pt x="2175222" y="2060989"/>
                  </a:lnTo>
                  <a:cubicBezTo>
                    <a:pt x="2175222" y="2056219"/>
                    <a:pt x="2171355" y="2052352"/>
                    <a:pt x="2166585" y="2052352"/>
                  </a:cubicBezTo>
                  <a:lnTo>
                    <a:pt x="2160905" y="2052352"/>
                  </a:lnTo>
                  <a:lnTo>
                    <a:pt x="2160905" y="1916995"/>
                  </a:lnTo>
                  <a:cubicBezTo>
                    <a:pt x="2160905" y="1915679"/>
                    <a:pt x="2161971" y="1914613"/>
                    <a:pt x="2163286" y="1914613"/>
                  </a:cubicBezTo>
                  <a:lnTo>
                    <a:pt x="2184132" y="1914613"/>
                  </a:lnTo>
                  <a:cubicBezTo>
                    <a:pt x="2185448" y="1914613"/>
                    <a:pt x="2186514" y="1915679"/>
                    <a:pt x="2186514" y="1916995"/>
                  </a:cubicBezTo>
                  <a:lnTo>
                    <a:pt x="2186514" y="2052352"/>
                  </a:lnTo>
                  <a:lnTo>
                    <a:pt x="2199678" y="2052352"/>
                  </a:lnTo>
                  <a:cubicBezTo>
                    <a:pt x="2208983" y="2052352"/>
                    <a:pt x="2216526" y="2044809"/>
                    <a:pt x="2216526" y="2035503"/>
                  </a:cubicBezTo>
                  <a:lnTo>
                    <a:pt x="2216526" y="1887993"/>
                  </a:lnTo>
                  <a:cubicBezTo>
                    <a:pt x="2216526" y="1878688"/>
                    <a:pt x="2208983" y="1871144"/>
                    <a:pt x="2199678" y="1871144"/>
                  </a:cubicBezTo>
                  <a:lnTo>
                    <a:pt x="2032850" y="1871144"/>
                  </a:lnTo>
                  <a:cubicBezTo>
                    <a:pt x="2023545" y="1871144"/>
                    <a:pt x="2016002" y="1878688"/>
                    <a:pt x="2016002" y="1887993"/>
                  </a:cubicBezTo>
                  <a:lnTo>
                    <a:pt x="2016002" y="2035503"/>
                  </a:lnTo>
                  <a:cubicBezTo>
                    <a:pt x="2016002" y="2044809"/>
                    <a:pt x="2023545" y="2052352"/>
                    <a:pt x="2032850" y="2052352"/>
                  </a:cubicBezTo>
                  <a:lnTo>
                    <a:pt x="2042243" y="2052352"/>
                  </a:lnTo>
                  <a:lnTo>
                    <a:pt x="2042243" y="1916995"/>
                  </a:lnTo>
                  <a:cubicBezTo>
                    <a:pt x="2042243" y="1915679"/>
                    <a:pt x="2043308" y="1914613"/>
                    <a:pt x="2044624" y="1914613"/>
                  </a:cubicBezTo>
                  <a:lnTo>
                    <a:pt x="2065470" y="1914613"/>
                  </a:lnTo>
                  <a:cubicBezTo>
                    <a:pt x="2066784" y="1914613"/>
                    <a:pt x="2067851" y="1915679"/>
                    <a:pt x="2067851" y="1916995"/>
                  </a:cubicBezTo>
                  <a:lnTo>
                    <a:pt x="2067851" y="2052352"/>
                  </a:lnTo>
                  <a:lnTo>
                    <a:pt x="2064824" y="2052352"/>
                  </a:lnTo>
                  <a:cubicBezTo>
                    <a:pt x="2060053" y="2052352"/>
                    <a:pt x="2056186" y="2056219"/>
                    <a:pt x="2056186" y="2060989"/>
                  </a:cubicBezTo>
                  <a:lnTo>
                    <a:pt x="2056186" y="2253222"/>
                  </a:lnTo>
                  <a:cubicBezTo>
                    <a:pt x="2056186" y="2257992"/>
                    <a:pt x="2060053" y="2261859"/>
                    <a:pt x="2064824" y="2261859"/>
                  </a:cubicBezTo>
                  <a:lnTo>
                    <a:pt x="2099370" y="2261859"/>
                  </a:lnTo>
                  <a:cubicBezTo>
                    <a:pt x="2104140" y="2261859"/>
                    <a:pt x="2108008" y="2257992"/>
                    <a:pt x="2108008" y="2253222"/>
                  </a:cubicBezTo>
                  <a:lnTo>
                    <a:pt x="2108008" y="2060989"/>
                  </a:lnTo>
                  <a:cubicBezTo>
                    <a:pt x="2108008" y="2056219"/>
                    <a:pt x="2104140" y="2052352"/>
                    <a:pt x="2099370" y="2052352"/>
                  </a:cubicBezTo>
                  <a:lnTo>
                    <a:pt x="2132038" y="2052352"/>
                  </a:lnTo>
                  <a:cubicBezTo>
                    <a:pt x="2127268" y="2052352"/>
                    <a:pt x="2123401" y="2056219"/>
                    <a:pt x="2123401" y="2060989"/>
                  </a:cubicBezTo>
                  <a:lnTo>
                    <a:pt x="2123401" y="2253222"/>
                  </a:lnTo>
                  <a:lnTo>
                    <a:pt x="2126885" y="2256706"/>
                  </a:lnTo>
                  <a:lnTo>
                    <a:pt x="2103589" y="2277879"/>
                  </a:lnTo>
                  <a:cubicBezTo>
                    <a:pt x="2040089" y="2330284"/>
                    <a:pt x="1971472" y="2376711"/>
                    <a:pt x="1898600" y="2416298"/>
                  </a:cubicBezTo>
                  <a:lnTo>
                    <a:pt x="1896832" y="2417150"/>
                  </a:lnTo>
                  <a:lnTo>
                    <a:pt x="1794712" y="2417150"/>
                  </a:lnTo>
                  <a:cubicBezTo>
                    <a:pt x="1785406" y="2417150"/>
                    <a:pt x="1777863" y="2424694"/>
                    <a:pt x="1777863" y="2433999"/>
                  </a:cubicBezTo>
                  <a:lnTo>
                    <a:pt x="1777863" y="2473493"/>
                  </a:lnTo>
                  <a:lnTo>
                    <a:pt x="1740249" y="2487260"/>
                  </a:lnTo>
                  <a:lnTo>
                    <a:pt x="1740249" y="2433999"/>
                  </a:lnTo>
                  <a:cubicBezTo>
                    <a:pt x="1740249" y="2424694"/>
                    <a:pt x="1732706" y="2417150"/>
                    <a:pt x="1723400" y="2417150"/>
                  </a:cubicBezTo>
                  <a:lnTo>
                    <a:pt x="1556573" y="2417150"/>
                  </a:lnTo>
                  <a:cubicBezTo>
                    <a:pt x="1547267" y="2417150"/>
                    <a:pt x="1539724" y="2424694"/>
                    <a:pt x="1539724" y="2433999"/>
                  </a:cubicBezTo>
                  <a:lnTo>
                    <a:pt x="1539724" y="2546141"/>
                  </a:lnTo>
                  <a:lnTo>
                    <a:pt x="1502111" y="2551882"/>
                  </a:lnTo>
                  <a:lnTo>
                    <a:pt x="1502111" y="2433999"/>
                  </a:lnTo>
                  <a:cubicBezTo>
                    <a:pt x="1502111" y="2424694"/>
                    <a:pt x="1494568" y="2417150"/>
                    <a:pt x="1485262" y="2417150"/>
                  </a:cubicBezTo>
                  <a:lnTo>
                    <a:pt x="1318435" y="2417150"/>
                  </a:lnTo>
                  <a:cubicBezTo>
                    <a:pt x="1309130" y="2417150"/>
                    <a:pt x="1301586" y="2424694"/>
                    <a:pt x="1301586" y="2433999"/>
                  </a:cubicBezTo>
                  <a:lnTo>
                    <a:pt x="1301586" y="2570679"/>
                  </a:lnTo>
                  <a:lnTo>
                    <a:pt x="1285740" y="2571479"/>
                  </a:lnTo>
                  <a:lnTo>
                    <a:pt x="1263972" y="2570380"/>
                  </a:lnTo>
                  <a:lnTo>
                    <a:pt x="1263972" y="2433999"/>
                  </a:lnTo>
                  <a:cubicBezTo>
                    <a:pt x="1263972" y="2424694"/>
                    <a:pt x="1256429" y="2417150"/>
                    <a:pt x="1247124" y="2417150"/>
                  </a:cubicBezTo>
                  <a:lnTo>
                    <a:pt x="1080297" y="2417150"/>
                  </a:lnTo>
                  <a:cubicBezTo>
                    <a:pt x="1070991" y="2417150"/>
                    <a:pt x="1063448" y="2424694"/>
                    <a:pt x="1063448" y="2433999"/>
                  </a:cubicBezTo>
                  <a:lnTo>
                    <a:pt x="1063448" y="2550978"/>
                  </a:lnTo>
                  <a:lnTo>
                    <a:pt x="1026618" y="2545357"/>
                  </a:lnTo>
                  <a:lnTo>
                    <a:pt x="1025834" y="2545156"/>
                  </a:lnTo>
                  <a:lnTo>
                    <a:pt x="1025834" y="2433999"/>
                  </a:lnTo>
                  <a:cubicBezTo>
                    <a:pt x="1025834" y="2424694"/>
                    <a:pt x="1018291" y="2417150"/>
                    <a:pt x="1008985" y="2417150"/>
                  </a:cubicBezTo>
                  <a:lnTo>
                    <a:pt x="842158" y="2417150"/>
                  </a:lnTo>
                  <a:cubicBezTo>
                    <a:pt x="832852" y="2417150"/>
                    <a:pt x="825309" y="2424694"/>
                    <a:pt x="825309" y="2433999"/>
                  </a:cubicBezTo>
                  <a:lnTo>
                    <a:pt x="825309" y="2485093"/>
                  </a:lnTo>
                  <a:lnTo>
                    <a:pt x="787695" y="2471327"/>
                  </a:lnTo>
                  <a:lnTo>
                    <a:pt x="787695" y="2433999"/>
                  </a:lnTo>
                  <a:cubicBezTo>
                    <a:pt x="787695" y="2424694"/>
                    <a:pt x="780152" y="2417150"/>
                    <a:pt x="770846" y="2417150"/>
                  </a:cubicBezTo>
                  <a:lnTo>
                    <a:pt x="674647" y="2417150"/>
                  </a:lnTo>
                  <a:lnTo>
                    <a:pt x="672879" y="2416298"/>
                  </a:lnTo>
                  <a:cubicBezTo>
                    <a:pt x="600007" y="2376711"/>
                    <a:pt x="531390" y="2330284"/>
                    <a:pt x="467890" y="2277879"/>
                  </a:cubicBezTo>
                  <a:lnTo>
                    <a:pt x="440906" y="2253354"/>
                  </a:lnTo>
                  <a:lnTo>
                    <a:pt x="441039" y="2253222"/>
                  </a:lnTo>
                  <a:lnTo>
                    <a:pt x="441039" y="2130439"/>
                  </a:lnTo>
                  <a:lnTo>
                    <a:pt x="456432" y="2115046"/>
                  </a:lnTo>
                  <a:lnTo>
                    <a:pt x="456432" y="2253222"/>
                  </a:lnTo>
                  <a:cubicBezTo>
                    <a:pt x="456432" y="2257992"/>
                    <a:pt x="460299" y="2261859"/>
                    <a:pt x="465069" y="2261859"/>
                  </a:cubicBezTo>
                  <a:lnTo>
                    <a:pt x="499616" y="2261859"/>
                  </a:lnTo>
                  <a:cubicBezTo>
                    <a:pt x="504386" y="2261859"/>
                    <a:pt x="508253" y="2257992"/>
                    <a:pt x="508253" y="2253222"/>
                  </a:cubicBezTo>
                  <a:lnTo>
                    <a:pt x="508253" y="2063225"/>
                  </a:lnTo>
                  <a:lnTo>
                    <a:pt x="519544" y="2051934"/>
                  </a:lnTo>
                  <a:lnTo>
                    <a:pt x="519544" y="2052352"/>
                  </a:lnTo>
                  <a:lnTo>
                    <a:pt x="532709" y="2052352"/>
                  </a:lnTo>
                  <a:cubicBezTo>
                    <a:pt x="542014" y="2052352"/>
                    <a:pt x="549557" y="2044809"/>
                    <a:pt x="549557" y="2035503"/>
                  </a:cubicBezTo>
                  <a:lnTo>
                    <a:pt x="549557" y="2021921"/>
                  </a:lnTo>
                  <a:lnTo>
                    <a:pt x="587170" y="1984308"/>
                  </a:lnTo>
                  <a:lnTo>
                    <a:pt x="587170" y="2035503"/>
                  </a:lnTo>
                  <a:cubicBezTo>
                    <a:pt x="587170" y="2044809"/>
                    <a:pt x="594714" y="2052352"/>
                    <a:pt x="604019" y="2052352"/>
                  </a:cubicBezTo>
                  <a:lnTo>
                    <a:pt x="613411" y="2052352"/>
                  </a:lnTo>
                  <a:lnTo>
                    <a:pt x="613411" y="1958067"/>
                  </a:lnTo>
                  <a:lnTo>
                    <a:pt x="639020" y="1932458"/>
                  </a:lnTo>
                  <a:lnTo>
                    <a:pt x="639020" y="2052352"/>
                  </a:lnTo>
                  <a:lnTo>
                    <a:pt x="635992" y="2052352"/>
                  </a:lnTo>
                  <a:cubicBezTo>
                    <a:pt x="631222" y="2052352"/>
                    <a:pt x="627355" y="2056219"/>
                    <a:pt x="627355" y="2060989"/>
                  </a:cubicBezTo>
                  <a:lnTo>
                    <a:pt x="627355" y="2253222"/>
                  </a:lnTo>
                  <a:cubicBezTo>
                    <a:pt x="627355" y="2257992"/>
                    <a:pt x="631222" y="2261859"/>
                    <a:pt x="635992" y="2261859"/>
                  </a:cubicBezTo>
                  <a:lnTo>
                    <a:pt x="670539" y="2261859"/>
                  </a:lnTo>
                  <a:cubicBezTo>
                    <a:pt x="675309" y="2261859"/>
                    <a:pt x="679176" y="2257992"/>
                    <a:pt x="679176" y="2253222"/>
                  </a:cubicBezTo>
                  <a:lnTo>
                    <a:pt x="679176" y="2060989"/>
                  </a:lnTo>
                  <a:cubicBezTo>
                    <a:pt x="679176" y="2056219"/>
                    <a:pt x="675309" y="2052352"/>
                    <a:pt x="670539" y="2052352"/>
                  </a:cubicBezTo>
                  <a:lnTo>
                    <a:pt x="703207" y="2052352"/>
                  </a:lnTo>
                  <a:cubicBezTo>
                    <a:pt x="698437" y="2052352"/>
                    <a:pt x="694570" y="2056219"/>
                    <a:pt x="694570" y="2060989"/>
                  </a:cubicBezTo>
                  <a:lnTo>
                    <a:pt x="694570" y="2253222"/>
                  </a:lnTo>
                  <a:cubicBezTo>
                    <a:pt x="694570" y="2257992"/>
                    <a:pt x="698437" y="2261859"/>
                    <a:pt x="703207" y="2261859"/>
                  </a:cubicBezTo>
                  <a:lnTo>
                    <a:pt x="737754" y="2261859"/>
                  </a:lnTo>
                  <a:cubicBezTo>
                    <a:pt x="742524" y="2261859"/>
                    <a:pt x="746391" y="2257992"/>
                    <a:pt x="746391" y="2253222"/>
                  </a:cubicBezTo>
                  <a:lnTo>
                    <a:pt x="746391" y="2060989"/>
                  </a:lnTo>
                  <a:cubicBezTo>
                    <a:pt x="746391" y="2056219"/>
                    <a:pt x="742524" y="2052352"/>
                    <a:pt x="737754" y="2052352"/>
                  </a:cubicBezTo>
                  <a:lnTo>
                    <a:pt x="732074" y="2052352"/>
                  </a:lnTo>
                  <a:lnTo>
                    <a:pt x="732074" y="1916995"/>
                  </a:lnTo>
                  <a:cubicBezTo>
                    <a:pt x="732074" y="1915679"/>
                    <a:pt x="733140" y="1914613"/>
                    <a:pt x="734455" y="1914613"/>
                  </a:cubicBezTo>
                  <a:lnTo>
                    <a:pt x="755301" y="1914613"/>
                  </a:lnTo>
                  <a:cubicBezTo>
                    <a:pt x="756617" y="1914613"/>
                    <a:pt x="757682" y="1915679"/>
                    <a:pt x="757682" y="1916995"/>
                  </a:cubicBezTo>
                  <a:lnTo>
                    <a:pt x="757682" y="2052352"/>
                  </a:lnTo>
                  <a:lnTo>
                    <a:pt x="770846" y="2052352"/>
                  </a:lnTo>
                  <a:cubicBezTo>
                    <a:pt x="780152" y="2052352"/>
                    <a:pt x="787695" y="2044809"/>
                    <a:pt x="787695" y="2035503"/>
                  </a:cubicBezTo>
                  <a:lnTo>
                    <a:pt x="787695" y="1887993"/>
                  </a:lnTo>
                  <a:cubicBezTo>
                    <a:pt x="787695" y="1878688"/>
                    <a:pt x="780152" y="1871144"/>
                    <a:pt x="770846" y="1871144"/>
                  </a:cubicBezTo>
                  <a:lnTo>
                    <a:pt x="700335" y="1871144"/>
                  </a:lnTo>
                  <a:lnTo>
                    <a:pt x="719920" y="1851559"/>
                  </a:lnTo>
                  <a:lnTo>
                    <a:pt x="727481" y="1846461"/>
                  </a:lnTo>
                  <a:lnTo>
                    <a:pt x="732579" y="1838899"/>
                  </a:lnTo>
                  <a:lnTo>
                    <a:pt x="865494" y="1705985"/>
                  </a:lnTo>
                  <a:lnTo>
                    <a:pt x="865494" y="1707217"/>
                  </a:lnTo>
                  <a:cubicBezTo>
                    <a:pt x="865494" y="1711987"/>
                    <a:pt x="869361" y="1715854"/>
                    <a:pt x="874131" y="1715854"/>
                  </a:cubicBezTo>
                  <a:lnTo>
                    <a:pt x="908678" y="1715854"/>
                  </a:lnTo>
                  <a:cubicBezTo>
                    <a:pt x="913448" y="1715854"/>
                    <a:pt x="917315" y="1711987"/>
                    <a:pt x="917315" y="1707217"/>
                  </a:cubicBezTo>
                  <a:lnTo>
                    <a:pt x="917315" y="1654164"/>
                  </a:lnTo>
                  <a:lnTo>
                    <a:pt x="932709" y="1638770"/>
                  </a:lnTo>
                  <a:lnTo>
                    <a:pt x="932709" y="1707217"/>
                  </a:lnTo>
                  <a:cubicBezTo>
                    <a:pt x="932709" y="1711987"/>
                    <a:pt x="936576" y="1715854"/>
                    <a:pt x="941346" y="1715854"/>
                  </a:cubicBezTo>
                  <a:lnTo>
                    <a:pt x="975893" y="1715854"/>
                  </a:lnTo>
                  <a:cubicBezTo>
                    <a:pt x="980663" y="1715854"/>
                    <a:pt x="984530" y="1711987"/>
                    <a:pt x="984530" y="1707217"/>
                  </a:cubicBezTo>
                  <a:lnTo>
                    <a:pt x="984530" y="1586949"/>
                  </a:lnTo>
                  <a:lnTo>
                    <a:pt x="1069573" y="1501906"/>
                  </a:lnTo>
                  <a:lnTo>
                    <a:pt x="1080297" y="1506347"/>
                  </a:lnTo>
                  <a:lnTo>
                    <a:pt x="1089688" y="1506347"/>
                  </a:lnTo>
                  <a:lnTo>
                    <a:pt x="1089688" y="1481791"/>
                  </a:lnTo>
                  <a:lnTo>
                    <a:pt x="1115297" y="1456182"/>
                  </a:lnTo>
                  <a:lnTo>
                    <a:pt x="1115297" y="1506347"/>
                  </a:lnTo>
                  <a:lnTo>
                    <a:pt x="1112270" y="1506347"/>
                  </a:lnTo>
                  <a:cubicBezTo>
                    <a:pt x="1107500" y="1506347"/>
                    <a:pt x="1103633" y="1510214"/>
                    <a:pt x="1103633" y="1514984"/>
                  </a:cubicBezTo>
                  <a:lnTo>
                    <a:pt x="1103633" y="1707217"/>
                  </a:lnTo>
                  <a:cubicBezTo>
                    <a:pt x="1103633" y="1711987"/>
                    <a:pt x="1107500" y="1715854"/>
                    <a:pt x="1112270" y="1715854"/>
                  </a:cubicBezTo>
                  <a:lnTo>
                    <a:pt x="1146817" y="1715854"/>
                  </a:lnTo>
                  <a:cubicBezTo>
                    <a:pt x="1151587" y="1715854"/>
                    <a:pt x="1155454" y="1711987"/>
                    <a:pt x="1155454" y="1707217"/>
                  </a:cubicBezTo>
                  <a:lnTo>
                    <a:pt x="1155454" y="1514984"/>
                  </a:lnTo>
                  <a:cubicBezTo>
                    <a:pt x="1155454" y="1510214"/>
                    <a:pt x="1151587" y="1506347"/>
                    <a:pt x="1146817" y="1506347"/>
                  </a:cubicBezTo>
                  <a:lnTo>
                    <a:pt x="1179484" y="1506347"/>
                  </a:lnTo>
                  <a:cubicBezTo>
                    <a:pt x="1174714" y="1506347"/>
                    <a:pt x="1170847" y="1510214"/>
                    <a:pt x="1170847" y="1514984"/>
                  </a:cubicBezTo>
                  <a:lnTo>
                    <a:pt x="1170847" y="1707217"/>
                  </a:lnTo>
                  <a:cubicBezTo>
                    <a:pt x="1170847" y="1711987"/>
                    <a:pt x="1174714" y="1715854"/>
                    <a:pt x="1179484" y="1715854"/>
                  </a:cubicBezTo>
                  <a:lnTo>
                    <a:pt x="1214031" y="1715854"/>
                  </a:lnTo>
                  <a:cubicBezTo>
                    <a:pt x="1218801" y="1715854"/>
                    <a:pt x="1222668" y="1711987"/>
                    <a:pt x="1222668" y="1707217"/>
                  </a:cubicBezTo>
                  <a:lnTo>
                    <a:pt x="1222668" y="1514984"/>
                  </a:lnTo>
                  <a:cubicBezTo>
                    <a:pt x="1222668" y="1510214"/>
                    <a:pt x="1218801" y="1506347"/>
                    <a:pt x="1214031" y="1506347"/>
                  </a:cubicBezTo>
                  <a:lnTo>
                    <a:pt x="1208351" y="1506347"/>
                  </a:lnTo>
                  <a:lnTo>
                    <a:pt x="1208351" y="1370988"/>
                  </a:lnTo>
                  <a:cubicBezTo>
                    <a:pt x="1208351" y="1369674"/>
                    <a:pt x="1209418" y="1368608"/>
                    <a:pt x="1210732" y="1368608"/>
                  </a:cubicBezTo>
                  <a:lnTo>
                    <a:pt x="1231578" y="1368608"/>
                  </a:lnTo>
                  <a:cubicBezTo>
                    <a:pt x="1232894" y="1368608"/>
                    <a:pt x="1233959" y="1369674"/>
                    <a:pt x="1233959" y="1370988"/>
                  </a:cubicBezTo>
                  <a:lnTo>
                    <a:pt x="1233959" y="1506347"/>
                  </a:lnTo>
                  <a:lnTo>
                    <a:pt x="1247124" y="1506347"/>
                  </a:lnTo>
                  <a:cubicBezTo>
                    <a:pt x="1256429" y="1506347"/>
                    <a:pt x="1263972" y="1498804"/>
                    <a:pt x="1263972" y="1489498"/>
                  </a:cubicBezTo>
                  <a:lnTo>
                    <a:pt x="1263972" y="1341987"/>
                  </a:lnTo>
                  <a:cubicBezTo>
                    <a:pt x="1263972" y="1332683"/>
                    <a:pt x="1256429" y="1325139"/>
                    <a:pt x="1247124" y="1325139"/>
                  </a:cubicBezTo>
                  <a:lnTo>
                    <a:pt x="1246340" y="1325139"/>
                  </a:lnTo>
                  <a:lnTo>
                    <a:pt x="1409627" y="1161852"/>
                  </a:lnTo>
                  <a:lnTo>
                    <a:pt x="1417623" y="1169848"/>
                  </a:lnTo>
                  <a:lnTo>
                    <a:pt x="1452170" y="1169848"/>
                  </a:lnTo>
                  <a:cubicBezTo>
                    <a:pt x="1456940" y="1169848"/>
                    <a:pt x="1460807" y="1165981"/>
                    <a:pt x="1460807" y="1161211"/>
                  </a:cubicBezTo>
                  <a:lnTo>
                    <a:pt x="1460807" y="1110672"/>
                  </a:lnTo>
                  <a:lnTo>
                    <a:pt x="1579909" y="991570"/>
                  </a:lnTo>
                  <a:lnTo>
                    <a:pt x="1579909" y="1161211"/>
                  </a:lnTo>
                  <a:cubicBezTo>
                    <a:pt x="1579909" y="1165981"/>
                    <a:pt x="1583776" y="1169848"/>
                    <a:pt x="1588546" y="1169848"/>
                  </a:cubicBezTo>
                  <a:lnTo>
                    <a:pt x="1623093" y="1169848"/>
                  </a:lnTo>
                  <a:cubicBezTo>
                    <a:pt x="1627863" y="1169848"/>
                    <a:pt x="1631730" y="1165981"/>
                    <a:pt x="1631730" y="1161211"/>
                  </a:cubicBezTo>
                  <a:lnTo>
                    <a:pt x="1631730" y="968978"/>
                  </a:lnTo>
                  <a:cubicBezTo>
                    <a:pt x="1631730" y="964208"/>
                    <a:pt x="1627863" y="960341"/>
                    <a:pt x="1623093" y="960341"/>
                  </a:cubicBezTo>
                  <a:lnTo>
                    <a:pt x="1655761" y="960341"/>
                  </a:lnTo>
                  <a:cubicBezTo>
                    <a:pt x="1650991" y="960341"/>
                    <a:pt x="1647124" y="964208"/>
                    <a:pt x="1647124" y="968978"/>
                  </a:cubicBezTo>
                  <a:lnTo>
                    <a:pt x="1647124" y="1161211"/>
                  </a:lnTo>
                  <a:cubicBezTo>
                    <a:pt x="1647124" y="1165981"/>
                    <a:pt x="1650991" y="1169848"/>
                    <a:pt x="1655761" y="1169848"/>
                  </a:cubicBezTo>
                  <a:lnTo>
                    <a:pt x="1690308" y="1169848"/>
                  </a:lnTo>
                  <a:cubicBezTo>
                    <a:pt x="1695078" y="1169848"/>
                    <a:pt x="1698945" y="1165981"/>
                    <a:pt x="1698945" y="1161211"/>
                  </a:cubicBezTo>
                  <a:lnTo>
                    <a:pt x="1698945" y="968978"/>
                  </a:lnTo>
                  <a:cubicBezTo>
                    <a:pt x="1698945" y="964208"/>
                    <a:pt x="1695078" y="960341"/>
                    <a:pt x="1690308" y="960341"/>
                  </a:cubicBezTo>
                  <a:lnTo>
                    <a:pt x="1684628" y="960341"/>
                  </a:lnTo>
                  <a:lnTo>
                    <a:pt x="1684628" y="886851"/>
                  </a:lnTo>
                  <a:lnTo>
                    <a:pt x="1710237" y="861242"/>
                  </a:lnTo>
                  <a:lnTo>
                    <a:pt x="1710237" y="960341"/>
                  </a:lnTo>
                  <a:lnTo>
                    <a:pt x="1723400" y="960341"/>
                  </a:lnTo>
                  <a:cubicBezTo>
                    <a:pt x="1732706" y="960341"/>
                    <a:pt x="1740249" y="952798"/>
                    <a:pt x="1740249" y="943492"/>
                  </a:cubicBezTo>
                  <a:lnTo>
                    <a:pt x="1740249" y="831230"/>
                  </a:lnTo>
                  <a:lnTo>
                    <a:pt x="1779536" y="791943"/>
                  </a:lnTo>
                  <a:lnTo>
                    <a:pt x="1777863" y="795981"/>
                  </a:lnTo>
                  <a:lnTo>
                    <a:pt x="1777863" y="943492"/>
                  </a:lnTo>
                  <a:cubicBezTo>
                    <a:pt x="1777863" y="952798"/>
                    <a:pt x="1785406" y="960341"/>
                    <a:pt x="1794712" y="960341"/>
                  </a:cubicBezTo>
                  <a:lnTo>
                    <a:pt x="1804104" y="960341"/>
                  </a:lnTo>
                  <a:lnTo>
                    <a:pt x="1804104" y="824982"/>
                  </a:lnTo>
                  <a:cubicBezTo>
                    <a:pt x="1804104" y="823668"/>
                    <a:pt x="1805169" y="822602"/>
                    <a:pt x="1806485" y="822602"/>
                  </a:cubicBezTo>
                  <a:lnTo>
                    <a:pt x="1827331" y="822602"/>
                  </a:lnTo>
                  <a:cubicBezTo>
                    <a:pt x="1828646" y="822602"/>
                    <a:pt x="1829712" y="823668"/>
                    <a:pt x="1829712" y="824982"/>
                  </a:cubicBezTo>
                  <a:lnTo>
                    <a:pt x="1829712" y="960341"/>
                  </a:lnTo>
                  <a:lnTo>
                    <a:pt x="1826685" y="960341"/>
                  </a:lnTo>
                  <a:cubicBezTo>
                    <a:pt x="1821915" y="960341"/>
                    <a:pt x="1818048" y="964208"/>
                    <a:pt x="1818048" y="968978"/>
                  </a:cubicBezTo>
                  <a:lnTo>
                    <a:pt x="1818048" y="1161211"/>
                  </a:lnTo>
                  <a:cubicBezTo>
                    <a:pt x="1818048" y="1165981"/>
                    <a:pt x="1821915" y="1169848"/>
                    <a:pt x="1826685" y="1169848"/>
                  </a:cubicBezTo>
                  <a:lnTo>
                    <a:pt x="1861232" y="1169848"/>
                  </a:lnTo>
                  <a:cubicBezTo>
                    <a:pt x="1866002" y="1169848"/>
                    <a:pt x="1869869" y="1165981"/>
                    <a:pt x="1869869" y="1161211"/>
                  </a:cubicBezTo>
                  <a:lnTo>
                    <a:pt x="1869869" y="968978"/>
                  </a:lnTo>
                  <a:cubicBezTo>
                    <a:pt x="1869869" y="964208"/>
                    <a:pt x="1866002" y="960341"/>
                    <a:pt x="1861232" y="960341"/>
                  </a:cubicBezTo>
                  <a:lnTo>
                    <a:pt x="1893900" y="960341"/>
                  </a:lnTo>
                  <a:cubicBezTo>
                    <a:pt x="1889129" y="960341"/>
                    <a:pt x="1885262" y="964208"/>
                    <a:pt x="1885262" y="968978"/>
                  </a:cubicBezTo>
                  <a:lnTo>
                    <a:pt x="1885262" y="1161211"/>
                  </a:lnTo>
                  <a:cubicBezTo>
                    <a:pt x="1885262" y="1165981"/>
                    <a:pt x="1889129" y="1169848"/>
                    <a:pt x="1893900" y="1169848"/>
                  </a:cubicBezTo>
                  <a:lnTo>
                    <a:pt x="1928446" y="1169848"/>
                  </a:lnTo>
                  <a:cubicBezTo>
                    <a:pt x="1933216" y="1169848"/>
                    <a:pt x="1937084" y="1165981"/>
                    <a:pt x="1937084" y="1161211"/>
                  </a:cubicBezTo>
                  <a:lnTo>
                    <a:pt x="1937084" y="968978"/>
                  </a:lnTo>
                  <a:cubicBezTo>
                    <a:pt x="1937084" y="964208"/>
                    <a:pt x="1933216" y="960341"/>
                    <a:pt x="1928446" y="960341"/>
                  </a:cubicBezTo>
                  <a:lnTo>
                    <a:pt x="1922766" y="960341"/>
                  </a:lnTo>
                  <a:lnTo>
                    <a:pt x="1922766" y="824982"/>
                  </a:lnTo>
                  <a:cubicBezTo>
                    <a:pt x="1922766" y="823668"/>
                    <a:pt x="1923832" y="822602"/>
                    <a:pt x="1925147" y="822602"/>
                  </a:cubicBezTo>
                  <a:lnTo>
                    <a:pt x="1945994" y="822602"/>
                  </a:lnTo>
                  <a:cubicBezTo>
                    <a:pt x="1947309" y="822602"/>
                    <a:pt x="1948375" y="823668"/>
                    <a:pt x="1948375" y="824982"/>
                  </a:cubicBezTo>
                  <a:lnTo>
                    <a:pt x="1948375" y="960341"/>
                  </a:lnTo>
                  <a:lnTo>
                    <a:pt x="1961539" y="960341"/>
                  </a:lnTo>
                  <a:cubicBezTo>
                    <a:pt x="1970844" y="960341"/>
                    <a:pt x="1978388" y="952798"/>
                    <a:pt x="1978388" y="943492"/>
                  </a:cubicBezTo>
                  <a:lnTo>
                    <a:pt x="1978388" y="795981"/>
                  </a:lnTo>
                  <a:cubicBezTo>
                    <a:pt x="1978388" y="786677"/>
                    <a:pt x="1970844" y="779133"/>
                    <a:pt x="1961539" y="779133"/>
                  </a:cubicBezTo>
                  <a:lnTo>
                    <a:pt x="1794712" y="779133"/>
                  </a:lnTo>
                  <a:lnTo>
                    <a:pt x="1790673" y="780806"/>
                  </a:lnTo>
                  <a:lnTo>
                    <a:pt x="1831788" y="739691"/>
                  </a:lnTo>
                  <a:lnTo>
                    <a:pt x="1841738" y="754450"/>
                  </a:lnTo>
                  <a:cubicBezTo>
                    <a:pt x="1851519" y="764231"/>
                    <a:pt x="1865031" y="770280"/>
                    <a:pt x="1879956" y="770280"/>
                  </a:cubicBezTo>
                  <a:cubicBezTo>
                    <a:pt x="1909806" y="770280"/>
                    <a:pt x="1934003" y="746082"/>
                    <a:pt x="1934003" y="716232"/>
                  </a:cubicBezTo>
                  <a:cubicBezTo>
                    <a:pt x="1934003" y="701307"/>
                    <a:pt x="1927954" y="687795"/>
                    <a:pt x="1918173" y="678015"/>
                  </a:cubicBezTo>
                  <a:lnTo>
                    <a:pt x="1903415" y="668064"/>
                  </a:lnTo>
                  <a:lnTo>
                    <a:pt x="2056186" y="515293"/>
                  </a:lnTo>
                  <a:lnTo>
                    <a:pt x="2056186" y="615206"/>
                  </a:lnTo>
                  <a:cubicBezTo>
                    <a:pt x="2056186" y="619976"/>
                    <a:pt x="2060053" y="623843"/>
                    <a:pt x="2064824" y="623843"/>
                  </a:cubicBezTo>
                  <a:lnTo>
                    <a:pt x="2099370" y="623843"/>
                  </a:lnTo>
                  <a:cubicBezTo>
                    <a:pt x="2104140" y="623843"/>
                    <a:pt x="2108008" y="619976"/>
                    <a:pt x="2108008" y="615206"/>
                  </a:cubicBezTo>
                  <a:lnTo>
                    <a:pt x="2108008" y="463471"/>
                  </a:lnTo>
                  <a:lnTo>
                    <a:pt x="2123401" y="448078"/>
                  </a:lnTo>
                  <a:lnTo>
                    <a:pt x="2123401" y="615206"/>
                  </a:lnTo>
                  <a:cubicBezTo>
                    <a:pt x="2123401" y="619976"/>
                    <a:pt x="2127268" y="623843"/>
                    <a:pt x="2132038" y="623843"/>
                  </a:cubicBezTo>
                  <a:lnTo>
                    <a:pt x="2166585" y="623843"/>
                  </a:lnTo>
                  <a:cubicBezTo>
                    <a:pt x="2171355" y="623843"/>
                    <a:pt x="2175222" y="619976"/>
                    <a:pt x="2175222" y="615206"/>
                  </a:cubicBezTo>
                  <a:lnTo>
                    <a:pt x="2175222" y="422973"/>
                  </a:lnTo>
                  <a:cubicBezTo>
                    <a:pt x="2175222" y="418203"/>
                    <a:pt x="2171355" y="414336"/>
                    <a:pt x="2166585" y="414336"/>
                  </a:cubicBezTo>
                  <a:lnTo>
                    <a:pt x="2160905" y="414336"/>
                  </a:lnTo>
                  <a:lnTo>
                    <a:pt x="2160905" y="410574"/>
                  </a:lnTo>
                  <a:close/>
                  <a:moveTo>
                    <a:pt x="1285740" y="0"/>
                  </a:moveTo>
                  <a:lnTo>
                    <a:pt x="1296413" y="539"/>
                  </a:lnTo>
                  <a:lnTo>
                    <a:pt x="1275065" y="539"/>
                  </a:lnTo>
                  <a:close/>
                </a:path>
              </a:pathLst>
            </a:custGeom>
            <a:solidFill>
              <a:srgbClr val="728a8e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1047" name="文本框 52"/>
          <p:cNvSpPr/>
          <p:nvPr/>
        </p:nvSpPr>
        <p:spPr>
          <a:xfrm>
            <a:off x="3719160" y="1327680"/>
            <a:ext cx="475308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50000"/>
              </a:lnSpc>
            </a:pPr>
            <a:r>
              <a:rPr b="0" lang="zh-CN" sz="2400" spc="-1" strike="noStrike">
                <a:solidFill>
                  <a:srgbClr val="000000"/>
                </a:solidFill>
                <a:latin typeface="Noto Sans S Chinese Light"/>
                <a:ea typeface="Noto Sans S Chinese Light"/>
              </a:rPr>
              <a:t>海量的用户基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</a:pPr>
            <a:r>
              <a:rPr b="0" lang="zh-CN" sz="2400" spc="-1" strike="noStrike">
                <a:solidFill>
                  <a:srgbClr val="000000"/>
                </a:solidFill>
                <a:latin typeface="Noto Sans S Chinese Light"/>
                <a:ea typeface="Noto Sans S Chinese Light"/>
              </a:rPr>
              <a:t>无论哪种盈利模式，必须从用户出发，以海量用户为基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文本框 1"/>
          <p:cNvSpPr/>
          <p:nvPr/>
        </p:nvSpPr>
        <p:spPr>
          <a:xfrm>
            <a:off x="2563200" y="76320"/>
            <a:ext cx="706536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50000"/>
              </a:lnSpc>
            </a:pPr>
            <a:r>
              <a:rPr b="1" lang="zh-CN" sz="3600" spc="-1" strike="noStrike">
                <a:solidFill>
                  <a:srgbClr val="ffffff"/>
                </a:solidFill>
                <a:latin typeface="Noto Sans S Chinese Bold"/>
                <a:ea typeface="Noto Sans S Chinese Bold"/>
              </a:rPr>
              <a:t>互联网的商业模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文本框 26"/>
          <p:cNvSpPr/>
          <p:nvPr/>
        </p:nvSpPr>
        <p:spPr>
          <a:xfrm>
            <a:off x="3902040" y="1327680"/>
            <a:ext cx="438732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50000"/>
              </a:lnSpc>
            </a:pPr>
            <a:r>
              <a:rPr b="0" lang="zh-CN" sz="2400" spc="-1" strike="noStrike">
                <a:solidFill>
                  <a:srgbClr val="000000"/>
                </a:solidFill>
                <a:latin typeface="Noto Sans S Chinese Light"/>
                <a:ea typeface="Noto Sans S Chinese Light"/>
              </a:rPr>
              <a:t>产品模式为基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</a:pPr>
            <a:r>
              <a:rPr b="0" lang="zh-CN" sz="2400" spc="-1" strike="noStrike">
                <a:solidFill>
                  <a:srgbClr val="000000"/>
                </a:solidFill>
                <a:latin typeface="Noto Sans S Chinese Light"/>
                <a:ea typeface="Noto Sans S Chinese Light"/>
              </a:rPr>
              <a:t>刚开始就想着那几个小钱，终究不能成就伟大的事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0" name="组合 15"/>
          <p:cNvGrpSpPr/>
          <p:nvPr/>
        </p:nvGrpSpPr>
        <p:grpSpPr>
          <a:xfrm>
            <a:off x="1441800" y="2887560"/>
            <a:ext cx="9308160" cy="3267360"/>
            <a:chOff x="1441800" y="2887560"/>
            <a:chExt cx="9308160" cy="3267360"/>
          </a:xfrm>
        </p:grpSpPr>
        <p:grpSp>
          <p:nvGrpSpPr>
            <p:cNvPr id="1051" name="组合 12"/>
            <p:cNvGrpSpPr/>
            <p:nvPr/>
          </p:nvGrpSpPr>
          <p:grpSpPr>
            <a:xfrm>
              <a:off x="1441800" y="2887560"/>
              <a:ext cx="6669720" cy="3267360"/>
              <a:chOff x="1441800" y="2887560"/>
              <a:chExt cx="6669720" cy="3267360"/>
            </a:xfrm>
          </p:grpSpPr>
          <p:sp>
            <p:nvSpPr>
              <p:cNvPr id="1052" name="右箭头 10"/>
              <p:cNvSpPr/>
              <p:nvPr/>
            </p:nvSpPr>
            <p:spPr>
              <a:xfrm>
                <a:off x="1632600" y="2887560"/>
                <a:ext cx="6478920" cy="3267360"/>
              </a:xfrm>
              <a:prstGeom prst="rightArrow">
                <a:avLst>
                  <a:gd name="adj1" fmla="val 50000"/>
                  <a:gd name="adj2" fmla="val 50000"/>
                </a:avLst>
              </a:prstGeom>
              <a:solidFill>
                <a:schemeClr val="tx1"/>
              </a:solidFill>
              <a:ln w="0">
                <a:noFill/>
              </a:ln>
            </p:spPr>
            <p:style>
              <a:lnRef idx="0">
                <a:schemeClr val="accent1">
                  <a:hueOff val="0"/>
                  <a:satOff val="0"/>
                  <a:lumOff val="0"/>
                  <a:alphaOff val="0"/>
                </a:schemeClr>
              </a:lnRef>
              <a:fillRef idx="0"/>
              <a:effectRef idx="0">
                <a:schemeClr val="accent1">
                  <a:tint val="40000"/>
                  <a:hueOff val="0"/>
                  <a:satOff val="0"/>
                  <a:lumOff val="0"/>
                  <a:alphaOff val="0"/>
                </a:schemeClr>
              </a:effectRef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053" name="组合 8"/>
              <p:cNvGrpSpPr/>
              <p:nvPr/>
            </p:nvGrpSpPr>
            <p:grpSpPr>
              <a:xfrm>
                <a:off x="1441800" y="3997080"/>
                <a:ext cx="6657120" cy="1048680"/>
                <a:chOff x="1441800" y="3997080"/>
                <a:chExt cx="6657120" cy="1048680"/>
              </a:xfrm>
            </p:grpSpPr>
            <p:grpSp>
              <p:nvGrpSpPr>
                <p:cNvPr id="1054" name="组合 23"/>
                <p:cNvGrpSpPr/>
                <p:nvPr/>
              </p:nvGrpSpPr>
              <p:grpSpPr>
                <a:xfrm>
                  <a:off x="1441800" y="3997080"/>
                  <a:ext cx="2154960" cy="1048680"/>
                  <a:chOff x="1441800" y="3997080"/>
                  <a:chExt cx="2154960" cy="1048680"/>
                </a:xfrm>
              </p:grpSpPr>
              <p:grpSp>
                <p:nvGrpSpPr>
                  <p:cNvPr id="1055" name="组合 24"/>
                  <p:cNvGrpSpPr/>
                  <p:nvPr/>
                </p:nvGrpSpPr>
                <p:grpSpPr>
                  <a:xfrm>
                    <a:off x="1441800" y="3997080"/>
                    <a:ext cx="2154960" cy="1048680"/>
                    <a:chOff x="1441800" y="3997080"/>
                    <a:chExt cx="2154960" cy="1048680"/>
                  </a:xfrm>
                </p:grpSpPr>
                <p:sp>
                  <p:nvSpPr>
                    <p:cNvPr id="1056" name="任意多边形 31"/>
                    <p:cNvSpPr/>
                    <p:nvPr/>
                  </p:nvSpPr>
                  <p:spPr>
                    <a:xfrm>
                      <a:off x="1441800" y="3997080"/>
                      <a:ext cx="2154960" cy="1048680"/>
                    </a:xfrm>
                    <a:custGeom>
                      <a:avLst/>
                      <a:gdLst>
                        <a:gd name="textAreaLeft" fmla="*/ 0 w 2154960"/>
                        <a:gd name="textAreaRight" fmla="*/ 2155320 w 2154960"/>
                        <a:gd name="textAreaTop" fmla="*/ 0 h 1048680"/>
                        <a:gd name="textAreaBottom" fmla="*/ 1049040 h 1048680"/>
                      </a:gdLst>
                      <a:ahLst/>
                      <a:rect l="textAreaLeft" t="textAreaTop" r="textAreaRight" b="textAreaBottom"/>
                      <a:pathLst>
                        <a:path w="2167200" h="1216800">
                          <a:moveTo>
                            <a:pt x="2167200" y="0"/>
                          </a:moveTo>
                          <a:lnTo>
                            <a:pt x="2167200" y="1216800"/>
                          </a:lnTo>
                          <a:lnTo>
                            <a:pt x="0" y="1216800"/>
                          </a:lnTo>
                          <a:close/>
                        </a:path>
                      </a:pathLst>
                    </a:custGeom>
                    <a:solidFill>
                      <a:srgbClr val="728a8e"/>
                    </a:solidFill>
                    <a:ln>
                      <a:noFill/>
                    </a:ln>
                  </p:spPr>
                  <p:style>
                    <a:lnRef idx="2">
                      <a:schemeClr val="accent1">
                        <a:shade val="50000"/>
                      </a:schemeClr>
                    </a:lnRef>
                    <a:fillRef idx="1">
                      <a:schemeClr val="accent1"/>
                    </a:fillRef>
                    <a:effectRef idx="0">
                      <a:schemeClr val="accent1"/>
                    </a:effectRef>
                    <a:fontRef idx="minor"/>
                  </p:style>
                  <p:txBody>
                    <a:bodyPr lIns="90000" rIns="90000" tIns="45000" bIns="45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lt1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1057" name="任意多边形 32"/>
                    <p:cNvSpPr/>
                    <p:nvPr/>
                  </p:nvSpPr>
                  <p:spPr>
                    <a:xfrm>
                      <a:off x="1441800" y="3997080"/>
                      <a:ext cx="2154960" cy="1048680"/>
                    </a:xfrm>
                    <a:custGeom>
                      <a:avLst/>
                      <a:gdLst>
                        <a:gd name="textAreaLeft" fmla="*/ 0 w 2154960"/>
                        <a:gd name="textAreaRight" fmla="*/ 2155320 w 2154960"/>
                        <a:gd name="textAreaTop" fmla="*/ 0 h 1048680"/>
                        <a:gd name="textAreaBottom" fmla="*/ 1049040 h 1048680"/>
                      </a:gdLst>
                      <a:ahLst/>
                      <a:rect l="textAreaLeft" t="textAreaTop" r="textAreaRight" b="textAreaBottom"/>
                      <a:pathLst>
                        <a:path w="2167200" h="1216800">
                          <a:moveTo>
                            <a:pt x="0" y="0"/>
                          </a:moveTo>
                          <a:lnTo>
                            <a:pt x="2167200" y="0"/>
                          </a:lnTo>
                          <a:lnTo>
                            <a:pt x="0" y="1216800"/>
                          </a:lnTo>
                          <a:close/>
                        </a:path>
                      </a:pathLst>
                    </a:custGeom>
                    <a:solidFill>
                      <a:srgbClr val="9ab0b1"/>
                    </a:solidFill>
                    <a:ln>
                      <a:noFill/>
                    </a:ln>
                  </p:spPr>
                  <p:style>
                    <a:lnRef idx="2">
                      <a:schemeClr val="accent1">
                        <a:shade val="50000"/>
                      </a:schemeClr>
                    </a:lnRef>
                    <a:fillRef idx="1">
                      <a:schemeClr val="accent1"/>
                    </a:fillRef>
                    <a:effectRef idx="0">
                      <a:schemeClr val="accent1"/>
                    </a:effectRef>
                    <a:fontRef idx="minor"/>
                  </p:style>
                  <p:txBody>
                    <a:bodyPr lIns="90000" rIns="90000" tIns="45000" bIns="45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lt1"/>
                        </a:solidFill>
                        <a:latin typeface="Calibri"/>
                      </a:endParaRPr>
                    </a:p>
                  </p:txBody>
                </p:sp>
              </p:grpSp>
              <p:sp>
                <p:nvSpPr>
                  <p:cNvPr id="1058" name="Rectangle 8"/>
                  <p:cNvSpPr/>
                  <p:nvPr/>
                </p:nvSpPr>
                <p:spPr>
                  <a:xfrm>
                    <a:off x="1703160" y="4309200"/>
                    <a:ext cx="1631880" cy="48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lIns="0" rIns="0" tIns="0" bIns="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</a:tabLst>
                    </a:pPr>
                    <a:r>
                      <a:rPr b="0" lang="zh-CN" sz="3200" spc="-1" strike="noStrike">
                        <a:solidFill>
                          <a:srgbClr val="ffffff"/>
                        </a:solidFill>
                        <a:latin typeface="方正粗宋简体"/>
                        <a:ea typeface="方正粗宋简体"/>
                      </a:rPr>
                      <a:t>产品模式</a:t>
                    </a: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59" name="组合 38"/>
                <p:cNvGrpSpPr/>
                <p:nvPr/>
              </p:nvGrpSpPr>
              <p:grpSpPr>
                <a:xfrm>
                  <a:off x="3707280" y="3997080"/>
                  <a:ext cx="2154960" cy="1048680"/>
                  <a:chOff x="3707280" y="3997080"/>
                  <a:chExt cx="2154960" cy="1048680"/>
                </a:xfrm>
              </p:grpSpPr>
              <p:grpSp>
                <p:nvGrpSpPr>
                  <p:cNvPr id="1060" name="组合 39"/>
                  <p:cNvGrpSpPr/>
                  <p:nvPr/>
                </p:nvGrpSpPr>
                <p:grpSpPr>
                  <a:xfrm>
                    <a:off x="3707280" y="3997080"/>
                    <a:ext cx="2154960" cy="1048680"/>
                    <a:chOff x="3707280" y="3997080"/>
                    <a:chExt cx="2154960" cy="1048680"/>
                  </a:xfrm>
                </p:grpSpPr>
                <p:sp>
                  <p:nvSpPr>
                    <p:cNvPr id="1061" name="任意多边形 41"/>
                    <p:cNvSpPr/>
                    <p:nvPr/>
                  </p:nvSpPr>
                  <p:spPr>
                    <a:xfrm>
                      <a:off x="3707280" y="3997080"/>
                      <a:ext cx="2154960" cy="1048680"/>
                    </a:xfrm>
                    <a:custGeom>
                      <a:avLst/>
                      <a:gdLst>
                        <a:gd name="textAreaLeft" fmla="*/ 0 w 2154960"/>
                        <a:gd name="textAreaRight" fmla="*/ 2155320 w 2154960"/>
                        <a:gd name="textAreaTop" fmla="*/ 0 h 1048680"/>
                        <a:gd name="textAreaBottom" fmla="*/ 1049040 h 1048680"/>
                      </a:gdLst>
                      <a:ahLst/>
                      <a:rect l="textAreaLeft" t="textAreaTop" r="textAreaRight" b="textAreaBottom"/>
                      <a:pathLst>
                        <a:path w="2167200" h="1216800">
                          <a:moveTo>
                            <a:pt x="2167200" y="0"/>
                          </a:moveTo>
                          <a:lnTo>
                            <a:pt x="2167200" y="1216800"/>
                          </a:lnTo>
                          <a:lnTo>
                            <a:pt x="0" y="1216800"/>
                          </a:lnTo>
                          <a:close/>
                        </a:path>
                      </a:pathLst>
                    </a:custGeom>
                    <a:solidFill>
                      <a:srgbClr val="728a8e"/>
                    </a:solidFill>
                    <a:ln>
                      <a:noFill/>
                    </a:ln>
                  </p:spPr>
                  <p:style>
                    <a:lnRef idx="2">
                      <a:schemeClr val="accent1">
                        <a:shade val="50000"/>
                      </a:schemeClr>
                    </a:lnRef>
                    <a:fillRef idx="1">
                      <a:schemeClr val="accent1"/>
                    </a:fillRef>
                    <a:effectRef idx="0">
                      <a:schemeClr val="accent1"/>
                    </a:effectRef>
                    <a:fontRef idx="minor"/>
                  </p:style>
                  <p:txBody>
                    <a:bodyPr lIns="90000" rIns="90000" tIns="45000" bIns="45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lt1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1062" name="任意多边形 42"/>
                    <p:cNvSpPr/>
                    <p:nvPr/>
                  </p:nvSpPr>
                  <p:spPr>
                    <a:xfrm>
                      <a:off x="3707280" y="3997080"/>
                      <a:ext cx="2154960" cy="1048680"/>
                    </a:xfrm>
                    <a:custGeom>
                      <a:avLst/>
                      <a:gdLst>
                        <a:gd name="textAreaLeft" fmla="*/ 0 w 2154960"/>
                        <a:gd name="textAreaRight" fmla="*/ 2155320 w 2154960"/>
                        <a:gd name="textAreaTop" fmla="*/ 0 h 1048680"/>
                        <a:gd name="textAreaBottom" fmla="*/ 1049040 h 1048680"/>
                      </a:gdLst>
                      <a:ahLst/>
                      <a:rect l="textAreaLeft" t="textAreaTop" r="textAreaRight" b="textAreaBottom"/>
                      <a:pathLst>
                        <a:path w="2167200" h="1216800">
                          <a:moveTo>
                            <a:pt x="0" y="0"/>
                          </a:moveTo>
                          <a:lnTo>
                            <a:pt x="2167200" y="0"/>
                          </a:lnTo>
                          <a:lnTo>
                            <a:pt x="0" y="1216800"/>
                          </a:lnTo>
                          <a:close/>
                        </a:path>
                      </a:pathLst>
                    </a:custGeom>
                    <a:solidFill>
                      <a:srgbClr val="9ab0b1"/>
                    </a:solidFill>
                    <a:ln>
                      <a:noFill/>
                    </a:ln>
                  </p:spPr>
                  <p:style>
                    <a:lnRef idx="2">
                      <a:schemeClr val="accent1">
                        <a:shade val="50000"/>
                      </a:schemeClr>
                    </a:lnRef>
                    <a:fillRef idx="1">
                      <a:schemeClr val="accent1"/>
                    </a:fillRef>
                    <a:effectRef idx="0">
                      <a:schemeClr val="accent1"/>
                    </a:effectRef>
                    <a:fontRef idx="minor"/>
                  </p:style>
                  <p:txBody>
                    <a:bodyPr lIns="90000" rIns="90000" tIns="45000" bIns="45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lt1"/>
                        </a:solidFill>
                        <a:latin typeface="Calibri"/>
                      </a:endParaRPr>
                    </a:p>
                  </p:txBody>
                </p:sp>
              </p:grpSp>
              <p:sp>
                <p:nvSpPr>
                  <p:cNvPr id="1063" name="Rectangle 8"/>
                  <p:cNvSpPr/>
                  <p:nvPr/>
                </p:nvSpPr>
                <p:spPr>
                  <a:xfrm>
                    <a:off x="3968640" y="4309200"/>
                    <a:ext cx="1631880" cy="48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lIns="0" rIns="0" tIns="0" bIns="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</a:tabLst>
                    </a:pPr>
                    <a:r>
                      <a:rPr b="0" lang="zh-CN" sz="3200" spc="-1" strike="noStrike">
                        <a:solidFill>
                          <a:srgbClr val="ffffff"/>
                        </a:solidFill>
                        <a:latin typeface="方正粗宋简体"/>
                        <a:ea typeface="方正粗宋简体"/>
                      </a:rPr>
                      <a:t>用户模式</a:t>
                    </a: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64" name="组合 48"/>
                <p:cNvGrpSpPr/>
                <p:nvPr/>
              </p:nvGrpSpPr>
              <p:grpSpPr>
                <a:xfrm>
                  <a:off x="5943960" y="3997080"/>
                  <a:ext cx="2154960" cy="1048680"/>
                  <a:chOff x="5943960" y="3997080"/>
                  <a:chExt cx="2154960" cy="1048680"/>
                </a:xfrm>
              </p:grpSpPr>
              <p:grpSp>
                <p:nvGrpSpPr>
                  <p:cNvPr id="1065" name="组合 49"/>
                  <p:cNvGrpSpPr/>
                  <p:nvPr/>
                </p:nvGrpSpPr>
                <p:grpSpPr>
                  <a:xfrm>
                    <a:off x="5943960" y="3997080"/>
                    <a:ext cx="2154960" cy="1048680"/>
                    <a:chOff x="5943960" y="3997080"/>
                    <a:chExt cx="2154960" cy="1048680"/>
                  </a:xfrm>
                </p:grpSpPr>
                <p:sp>
                  <p:nvSpPr>
                    <p:cNvPr id="1066" name="任意多边形 51"/>
                    <p:cNvSpPr/>
                    <p:nvPr/>
                  </p:nvSpPr>
                  <p:spPr>
                    <a:xfrm>
                      <a:off x="5943960" y="3997080"/>
                      <a:ext cx="2154960" cy="1048680"/>
                    </a:xfrm>
                    <a:custGeom>
                      <a:avLst/>
                      <a:gdLst>
                        <a:gd name="textAreaLeft" fmla="*/ 0 w 2154960"/>
                        <a:gd name="textAreaRight" fmla="*/ 2155320 w 2154960"/>
                        <a:gd name="textAreaTop" fmla="*/ 0 h 1048680"/>
                        <a:gd name="textAreaBottom" fmla="*/ 1049040 h 1048680"/>
                      </a:gdLst>
                      <a:ahLst/>
                      <a:rect l="textAreaLeft" t="textAreaTop" r="textAreaRight" b="textAreaBottom"/>
                      <a:pathLst>
                        <a:path w="2167200" h="1216800">
                          <a:moveTo>
                            <a:pt x="2167200" y="0"/>
                          </a:moveTo>
                          <a:lnTo>
                            <a:pt x="2167200" y="1216800"/>
                          </a:lnTo>
                          <a:lnTo>
                            <a:pt x="0" y="1216800"/>
                          </a:lnTo>
                          <a:close/>
                        </a:path>
                      </a:pathLst>
                    </a:custGeom>
                    <a:solidFill>
                      <a:srgbClr val="728a8e"/>
                    </a:solidFill>
                    <a:ln>
                      <a:noFill/>
                    </a:ln>
                  </p:spPr>
                  <p:style>
                    <a:lnRef idx="2">
                      <a:schemeClr val="accent1">
                        <a:shade val="50000"/>
                      </a:schemeClr>
                    </a:lnRef>
                    <a:fillRef idx="1">
                      <a:schemeClr val="accent1"/>
                    </a:fillRef>
                    <a:effectRef idx="0">
                      <a:schemeClr val="accent1"/>
                    </a:effectRef>
                    <a:fontRef idx="minor"/>
                  </p:style>
                  <p:txBody>
                    <a:bodyPr lIns="90000" rIns="90000" tIns="45000" bIns="45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lt1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1067" name="任意多边形 52"/>
                    <p:cNvSpPr/>
                    <p:nvPr/>
                  </p:nvSpPr>
                  <p:spPr>
                    <a:xfrm>
                      <a:off x="5943960" y="3997080"/>
                      <a:ext cx="2154960" cy="1048680"/>
                    </a:xfrm>
                    <a:custGeom>
                      <a:avLst/>
                      <a:gdLst>
                        <a:gd name="textAreaLeft" fmla="*/ 0 w 2154960"/>
                        <a:gd name="textAreaRight" fmla="*/ 2155320 w 2154960"/>
                        <a:gd name="textAreaTop" fmla="*/ 0 h 1048680"/>
                        <a:gd name="textAreaBottom" fmla="*/ 1049040 h 1048680"/>
                      </a:gdLst>
                      <a:ahLst/>
                      <a:rect l="textAreaLeft" t="textAreaTop" r="textAreaRight" b="textAreaBottom"/>
                      <a:pathLst>
                        <a:path w="2167200" h="1216800">
                          <a:moveTo>
                            <a:pt x="0" y="0"/>
                          </a:moveTo>
                          <a:lnTo>
                            <a:pt x="2167200" y="0"/>
                          </a:lnTo>
                          <a:lnTo>
                            <a:pt x="0" y="1216800"/>
                          </a:lnTo>
                          <a:close/>
                        </a:path>
                      </a:pathLst>
                    </a:custGeom>
                    <a:solidFill>
                      <a:srgbClr val="9ab0b1"/>
                    </a:solidFill>
                    <a:ln>
                      <a:noFill/>
                    </a:ln>
                  </p:spPr>
                  <p:style>
                    <a:lnRef idx="2">
                      <a:schemeClr val="accent1">
                        <a:shade val="50000"/>
                      </a:schemeClr>
                    </a:lnRef>
                    <a:fillRef idx="1">
                      <a:schemeClr val="accent1"/>
                    </a:fillRef>
                    <a:effectRef idx="0">
                      <a:schemeClr val="accent1"/>
                    </a:effectRef>
                    <a:fontRef idx="minor"/>
                  </p:style>
                  <p:txBody>
                    <a:bodyPr lIns="90000" rIns="90000" tIns="45000" bIns="45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lt1"/>
                        </a:solidFill>
                        <a:latin typeface="Calibri"/>
                      </a:endParaRPr>
                    </a:p>
                  </p:txBody>
                </p:sp>
              </p:grpSp>
              <p:sp>
                <p:nvSpPr>
                  <p:cNvPr id="1068" name="Rectangle 8"/>
                  <p:cNvSpPr/>
                  <p:nvPr/>
                </p:nvSpPr>
                <p:spPr>
                  <a:xfrm>
                    <a:off x="6205320" y="4309200"/>
                    <a:ext cx="1631880" cy="48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lIns="0" rIns="0" tIns="0" bIns="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</a:tabLst>
                    </a:pPr>
                    <a:r>
                      <a:rPr b="0" lang="zh-CN" sz="3200" spc="-1" strike="noStrike">
                        <a:solidFill>
                          <a:srgbClr val="ffffff"/>
                        </a:solidFill>
                        <a:latin typeface="方正粗宋简体"/>
                        <a:ea typeface="方正粗宋简体"/>
                      </a:rPr>
                      <a:t>推广模式</a:t>
                    </a: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069" name="组合 13"/>
            <p:cNvGrpSpPr/>
            <p:nvPr/>
          </p:nvGrpSpPr>
          <p:grpSpPr>
            <a:xfrm>
              <a:off x="8541000" y="3214080"/>
              <a:ext cx="2208960" cy="2768760"/>
              <a:chOff x="8541000" y="3214080"/>
              <a:chExt cx="2208960" cy="2768760"/>
            </a:xfrm>
          </p:grpSpPr>
          <p:sp>
            <p:nvSpPr>
              <p:cNvPr id="1070" name="Rectangle 8"/>
              <p:cNvSpPr/>
              <p:nvPr/>
            </p:nvSpPr>
            <p:spPr>
              <a:xfrm>
                <a:off x="8813160" y="5495040"/>
                <a:ext cx="1664640" cy="4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0" lang="zh-CN" sz="3200" spc="-1" strike="noStrike">
                    <a:solidFill>
                      <a:srgbClr val="000000"/>
                    </a:solidFill>
                    <a:latin typeface="方正粗宋简体"/>
                    <a:ea typeface="方正粗宋简体"/>
                  </a:rPr>
                  <a:t>收入</a:t>
                </a:r>
                <a:r>
                  <a:rPr b="0" lang="zh-CN" sz="3000" spc="-1" strike="noStrike">
                    <a:solidFill>
                      <a:srgbClr val="000000"/>
                    </a:solidFill>
                    <a:latin typeface="方正粗宋简体"/>
                    <a:ea typeface="方正粗宋简体"/>
                  </a:rPr>
                  <a:t>模式</a:t>
                </a:r>
                <a:endParaRPr b="0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71" name="Picture 2" descr="http://cdn-img.easyicon.cn/png/125/12521.png"/>
              <p:cNvPicPr/>
              <p:nvPr/>
            </p:nvPicPr>
            <p:blipFill>
              <a:blip r:embed="rId1">
                <a:extLst>
                  <a:ext uri="{BEBA8EAE-BF5A-486C-A8C5-ECC9F3942E4B}">
                    <a14:imgProps xmlns:a14="http://schemas.microsoft.com/office/drawing/2010/main">
                      <a14:imgLayer r:embed="rId2">
                        <a14:imgEffect>
                          <a14:saturation sat="66000"/>
                        </a14:imgEffect>
                      </a14:imgLayer>
                    </a14:imgProps>
                  </a:ext>
                </a:extLst>
              </a:blip>
              <a:stretch/>
            </p:blipFill>
            <p:spPr>
              <a:xfrm>
                <a:off x="8541000" y="3214080"/>
                <a:ext cx="2208960" cy="22089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椭圆 116"/>
          <p:cNvSpPr/>
          <p:nvPr/>
        </p:nvSpPr>
        <p:spPr>
          <a:xfrm>
            <a:off x="3040560" y="-2468160"/>
            <a:ext cx="3048840" cy="3048840"/>
          </a:xfrm>
          <a:prstGeom prst="ellipse">
            <a:avLst/>
          </a:prstGeom>
          <a:solidFill>
            <a:srgbClr val="1cabfc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56" name="椭圆 118"/>
          <p:cNvSpPr/>
          <p:nvPr/>
        </p:nvSpPr>
        <p:spPr>
          <a:xfrm>
            <a:off x="6088320" y="-2468160"/>
            <a:ext cx="3048840" cy="3048840"/>
          </a:xfrm>
          <a:prstGeom prst="ellipse">
            <a:avLst/>
          </a:prstGeom>
          <a:solidFill>
            <a:srgbClr val="f9b10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57" name="椭圆 120"/>
          <p:cNvSpPr/>
          <p:nvPr/>
        </p:nvSpPr>
        <p:spPr>
          <a:xfrm>
            <a:off x="9142920" y="-2468160"/>
            <a:ext cx="3048840" cy="3048840"/>
          </a:xfrm>
          <a:prstGeom prst="ellipse">
            <a:avLst/>
          </a:prstGeom>
          <a:solidFill>
            <a:srgbClr val="728a8e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58" name="椭圆 124"/>
          <p:cNvSpPr/>
          <p:nvPr/>
        </p:nvSpPr>
        <p:spPr>
          <a:xfrm>
            <a:off x="0" y="-2468160"/>
            <a:ext cx="3048840" cy="3048840"/>
          </a:xfrm>
          <a:prstGeom prst="ellipse">
            <a:avLst/>
          </a:prstGeom>
          <a:solidFill>
            <a:srgbClr val="92d05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59" name="文本框 146"/>
          <p:cNvSpPr/>
          <p:nvPr/>
        </p:nvSpPr>
        <p:spPr>
          <a:xfrm>
            <a:off x="991800" y="1548720"/>
            <a:ext cx="733896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Noto Sans S Chinese Light"/>
                <a:ea typeface="Noto Sans S Chinese Light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Noto Sans S Chinese Light"/>
                <a:ea typeface="Noto Sans S Chinese Light"/>
              </a:rPr>
              <a:t>这本书看完，如果你能点点头，说着本书写得还可以，能说得出</a:t>
            </a:r>
            <a:r>
              <a:rPr b="1" lang="zh-CN" sz="2400" spc="-1" strike="noStrike">
                <a:solidFill>
                  <a:srgbClr val="000000"/>
                </a:solidFill>
                <a:latin typeface="Noto Sans S Chinese Light"/>
                <a:ea typeface="Noto Sans S Chinese Light"/>
              </a:rPr>
              <a:t>用户至上</a:t>
            </a:r>
            <a:r>
              <a:rPr b="1" lang="zh-CN" sz="2000" spc="-1" strike="noStrike">
                <a:solidFill>
                  <a:srgbClr val="000000"/>
                </a:solidFill>
                <a:latin typeface="Noto Sans S Chinese Light"/>
                <a:ea typeface="Noto Sans S Chinese Light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Noto Sans S Chinese Light"/>
                <a:ea typeface="Noto Sans S Chinese Light"/>
              </a:rPr>
              <a:t>体验为王</a:t>
            </a:r>
            <a:r>
              <a:rPr b="1" lang="zh-CN" sz="2000" spc="-1" strike="noStrike">
                <a:solidFill>
                  <a:srgbClr val="000000"/>
                </a:solidFill>
                <a:latin typeface="Noto Sans S Chinese Light"/>
                <a:ea typeface="Noto Sans S Chinese Light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Noto Sans S Chinese Light"/>
                <a:ea typeface="Noto Sans S Chinese Light"/>
              </a:rPr>
              <a:t>免费的商业模式</a:t>
            </a:r>
            <a:r>
              <a:rPr b="1" lang="zh-CN" sz="2000" spc="-1" strike="noStrike">
                <a:solidFill>
                  <a:srgbClr val="000000"/>
                </a:solidFill>
                <a:latin typeface="Noto Sans S Chinese Light"/>
                <a:ea typeface="Noto Sans S Chinese Light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Noto Sans S Chinese Light"/>
                <a:ea typeface="Noto Sans S Chinese Light"/>
              </a:rPr>
              <a:t>颠覆式创新</a:t>
            </a:r>
            <a:r>
              <a:rPr b="0" lang="zh-CN" sz="2400" spc="-1" strike="noStrike">
                <a:solidFill>
                  <a:srgbClr val="000000"/>
                </a:solidFill>
                <a:latin typeface="Noto Sans S Chinese Light"/>
                <a:ea typeface="Noto Sans S Chinese Light"/>
              </a:rPr>
              <a:t>等等，算是及格。如果你看完后，心里有一种激动，就像当年我读</a:t>
            </a:r>
            <a:r>
              <a:rPr b="0" lang="zh-CN" sz="2400" spc="-1" strike="noStrike">
                <a:solidFill>
                  <a:srgbClr val="000000"/>
                </a:solidFill>
                <a:latin typeface="Noto Sans S Chinese Light"/>
                <a:ea typeface="Noto Sans S Chinese Light"/>
              </a:rPr>
              <a:t>《硅谷热》一样，那你应该是领悟到了影响我的那些价值观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Noto Sans S Chinese Light"/>
                <a:ea typeface="Noto Sans S Chinese Light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Noto Sans S Chinese Light"/>
                <a:ea typeface="Noto Sans S Chinese Light"/>
              </a:rPr>
              <a:t>读出了这些后，虽然我不能保证你能成功，但我可以说，你正在一条正确的起跑线上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矩形 147"/>
          <p:cNvSpPr/>
          <p:nvPr/>
        </p:nvSpPr>
        <p:spPr>
          <a:xfrm>
            <a:off x="4223160" y="5558040"/>
            <a:ext cx="350604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Noto Sans S Chinese Bold"/>
                <a:ea typeface="Noto Sans S Chinese Bold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Noto Sans S Chinese Bold"/>
                <a:ea typeface="Noto Sans S Chinese Bold"/>
              </a:rPr>
              <a:t>奇虎</a:t>
            </a:r>
            <a:r>
              <a:rPr b="1" lang="en-US" sz="2400" spc="-1" strike="noStrike">
                <a:solidFill>
                  <a:srgbClr val="000000"/>
                </a:solidFill>
                <a:latin typeface="Noto Sans S Chinese Bold"/>
                <a:ea typeface="Noto Sans S Chinese Bold"/>
              </a:rPr>
              <a:t>360</a:t>
            </a:r>
            <a:r>
              <a:rPr b="1" lang="zh-CN" sz="2400" spc="-1" strike="noStrike">
                <a:solidFill>
                  <a:srgbClr val="000000"/>
                </a:solidFill>
                <a:latin typeface="Noto Sans S Chinese Bold"/>
                <a:ea typeface="Noto Sans S Chinese Bold"/>
              </a:rPr>
              <a:t>董事长   </a:t>
            </a:r>
            <a:r>
              <a:rPr b="1" lang="zh-CN" sz="3600" spc="-1" strike="noStrike">
                <a:solidFill>
                  <a:srgbClr val="000000"/>
                </a:solidFill>
                <a:latin typeface="Noto Sans S Chinese Bold"/>
                <a:ea typeface="Noto Sans S Chinese Bold"/>
              </a:rPr>
              <a:t>周鸿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1" name="图片 1" descr=""/>
          <p:cNvPicPr/>
          <p:nvPr/>
        </p:nvPicPr>
        <p:blipFill>
          <a:blip r:embed="rId1"/>
          <a:stretch/>
        </p:blipFill>
        <p:spPr>
          <a:xfrm flipH="1">
            <a:off x="8201520" y="973080"/>
            <a:ext cx="4884480" cy="581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文本框 8"/>
          <p:cNvSpPr/>
          <p:nvPr/>
        </p:nvSpPr>
        <p:spPr>
          <a:xfrm>
            <a:off x="2563200" y="76320"/>
            <a:ext cx="706536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50000"/>
              </a:lnSpc>
            </a:pPr>
            <a:r>
              <a:rPr b="1" lang="zh-CN" sz="3600" spc="-1" strike="noStrike">
                <a:solidFill>
                  <a:srgbClr val="ffffff"/>
                </a:solidFill>
                <a:latin typeface="Noto Sans S Chinese Bold"/>
                <a:ea typeface="Noto Sans S Chinese Bold"/>
              </a:rPr>
              <a:t>互联网的未来趋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矩形 1"/>
          <p:cNvSpPr/>
          <p:nvPr/>
        </p:nvSpPr>
        <p:spPr>
          <a:xfrm>
            <a:off x="7359840" y="3328200"/>
            <a:ext cx="32223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lIns="0" rIns="0" tIns="0" bIns="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32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硬件免费是趋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4" name="组合 26"/>
          <p:cNvGrpSpPr/>
          <p:nvPr/>
        </p:nvGrpSpPr>
        <p:grpSpPr>
          <a:xfrm>
            <a:off x="4038120" y="2229120"/>
            <a:ext cx="2682000" cy="1604880"/>
            <a:chOff x="4038120" y="2229120"/>
            <a:chExt cx="2682000" cy="1604880"/>
          </a:xfrm>
        </p:grpSpPr>
        <p:sp>
          <p:nvSpPr>
            <p:cNvPr id="1075" name="矩形 27"/>
            <p:cNvSpPr/>
            <p:nvPr/>
          </p:nvSpPr>
          <p:spPr>
            <a:xfrm>
              <a:off x="4190760" y="2229120"/>
              <a:ext cx="2358000" cy="1411200"/>
            </a:xfrm>
            <a:prstGeom prst="rect">
              <a:avLst/>
            </a:prstGeom>
            <a:solidFill>
              <a:srgbClr val="4d4d4d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076" name="矩形 28"/>
            <p:cNvSpPr/>
            <p:nvPr/>
          </p:nvSpPr>
          <p:spPr>
            <a:xfrm>
              <a:off x="5238000" y="3640680"/>
              <a:ext cx="293760" cy="82080"/>
            </a:xfrm>
            <a:prstGeom prst="rect">
              <a:avLst/>
            </a:prstGeom>
            <a:solidFill>
              <a:srgbClr val="4d4d4d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37440" bIns="374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077" name="矩形 29"/>
            <p:cNvSpPr/>
            <p:nvPr/>
          </p:nvSpPr>
          <p:spPr>
            <a:xfrm>
              <a:off x="4829040" y="3705480"/>
              <a:ext cx="1078920" cy="92880"/>
            </a:xfrm>
            <a:prstGeom prst="rect">
              <a:avLst/>
            </a:prstGeom>
            <a:solidFill>
              <a:srgbClr val="4d4d4d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078" name="矩形 30"/>
            <p:cNvSpPr/>
            <p:nvPr/>
          </p:nvSpPr>
          <p:spPr>
            <a:xfrm>
              <a:off x="4038120" y="3776040"/>
              <a:ext cx="2682000" cy="57960"/>
            </a:xfrm>
            <a:prstGeom prst="rect">
              <a:avLst/>
            </a:prstGeom>
            <a:solidFill>
              <a:srgbClr val="425156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13320" bIns="1332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grpSp>
          <p:nvGrpSpPr>
            <p:cNvPr id="1079" name="组合 31"/>
            <p:cNvGrpSpPr/>
            <p:nvPr/>
          </p:nvGrpSpPr>
          <p:grpSpPr>
            <a:xfrm>
              <a:off x="4305240" y="2308680"/>
              <a:ext cx="2158560" cy="1235160"/>
              <a:chOff x="4305240" y="2308680"/>
              <a:chExt cx="2158560" cy="1235160"/>
            </a:xfrm>
          </p:grpSpPr>
          <p:sp>
            <p:nvSpPr>
              <p:cNvPr id="1080" name="直角三角形 32"/>
              <p:cNvSpPr/>
              <p:nvPr/>
            </p:nvSpPr>
            <p:spPr>
              <a:xfrm flipH="1">
                <a:off x="4304880" y="2308680"/>
                <a:ext cx="2158200" cy="1234800"/>
              </a:xfrm>
              <a:prstGeom prst="rtTriangle">
                <a:avLst/>
              </a:prstGeom>
              <a:solidFill>
                <a:srgbClr val="728a8e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081" name="直角三角形 33"/>
              <p:cNvSpPr/>
              <p:nvPr/>
            </p:nvSpPr>
            <p:spPr>
              <a:xfrm flipH="1" rot="10800000">
                <a:off x="4305240" y="2309040"/>
                <a:ext cx="2158200" cy="1234800"/>
              </a:xfrm>
              <a:prstGeom prst="rtTriangle">
                <a:avLst/>
              </a:prstGeom>
              <a:solidFill>
                <a:srgbClr val="9ab0b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</p:grpSp>
      <p:grpSp>
        <p:nvGrpSpPr>
          <p:cNvPr id="1082" name="组合 101"/>
          <p:cNvGrpSpPr/>
          <p:nvPr/>
        </p:nvGrpSpPr>
        <p:grpSpPr>
          <a:xfrm>
            <a:off x="5754240" y="4087800"/>
            <a:ext cx="912240" cy="1891800"/>
            <a:chOff x="5754240" y="4087800"/>
            <a:chExt cx="912240" cy="1891800"/>
          </a:xfrm>
        </p:grpSpPr>
        <p:grpSp>
          <p:nvGrpSpPr>
            <p:cNvPr id="1083" name="组合 12"/>
            <p:cNvGrpSpPr/>
            <p:nvPr/>
          </p:nvGrpSpPr>
          <p:grpSpPr>
            <a:xfrm>
              <a:off x="5754240" y="4087800"/>
              <a:ext cx="912240" cy="1891800"/>
              <a:chOff x="5754240" y="4087800"/>
              <a:chExt cx="912240" cy="1891800"/>
            </a:xfrm>
          </p:grpSpPr>
          <p:sp>
            <p:nvSpPr>
              <p:cNvPr id="1084" name="圆角矩形 35"/>
              <p:cNvSpPr/>
              <p:nvPr/>
            </p:nvSpPr>
            <p:spPr>
              <a:xfrm>
                <a:off x="5763960" y="4097520"/>
                <a:ext cx="902520" cy="1882080"/>
              </a:xfrm>
              <a:prstGeom prst="roundRect">
                <a:avLst>
                  <a:gd name="adj" fmla="val 15353"/>
                </a:avLst>
              </a:prstGeom>
              <a:solidFill>
                <a:srgbClr val="4d4d4d"/>
              </a:solidFill>
              <a:ln>
                <a:solidFill>
                  <a:srgbClr val="000000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085" name="圆角矩形 36"/>
              <p:cNvSpPr/>
              <p:nvPr/>
            </p:nvSpPr>
            <p:spPr>
              <a:xfrm>
                <a:off x="5772600" y="4107240"/>
                <a:ext cx="884160" cy="1862640"/>
              </a:xfrm>
              <a:prstGeom prst="roundRect">
                <a:avLst>
                  <a:gd name="adj" fmla="val 15353"/>
                </a:avLst>
              </a:prstGeom>
              <a:solidFill>
                <a:srgbClr val="4d4d4d"/>
              </a:solidFill>
              <a:ln w="6350">
                <a:solidFill>
                  <a:srgbClr val="000000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086" name="椭圆 38"/>
              <p:cNvSpPr/>
              <p:nvPr/>
            </p:nvSpPr>
            <p:spPr>
              <a:xfrm>
                <a:off x="6140160" y="5761080"/>
                <a:ext cx="149040" cy="149040"/>
              </a:xfrm>
              <a:prstGeom prst="ellipse">
                <a:avLst/>
              </a:prstGeom>
              <a:noFill/>
              <a:ln>
                <a:solidFill>
                  <a:srgbClr val="231f20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087" name="圆角矩形 39"/>
              <p:cNvSpPr/>
              <p:nvPr/>
            </p:nvSpPr>
            <p:spPr>
              <a:xfrm>
                <a:off x="6132600" y="4214160"/>
                <a:ext cx="164520" cy="24840"/>
              </a:xfrm>
              <a:prstGeom prst="roundRect">
                <a:avLst>
                  <a:gd name="adj" fmla="val 50000"/>
                </a:avLst>
              </a:prstGeom>
              <a:solidFill>
                <a:srgbClr val="231f20"/>
              </a:solidFill>
              <a:ln>
                <a:solidFill>
                  <a:srgbClr val="000000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27360" bIns="-273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088" name="椭圆 40"/>
              <p:cNvSpPr/>
              <p:nvPr/>
            </p:nvSpPr>
            <p:spPr>
              <a:xfrm>
                <a:off x="6198480" y="4156920"/>
                <a:ext cx="29880" cy="28800"/>
              </a:xfrm>
              <a:prstGeom prst="ellipse">
                <a:avLst/>
              </a:prstGeom>
              <a:solidFill>
                <a:srgbClr val="231f20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24120" bIns="-2412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089" name="椭圆 41"/>
              <p:cNvSpPr/>
              <p:nvPr/>
            </p:nvSpPr>
            <p:spPr>
              <a:xfrm>
                <a:off x="6092640" y="4215960"/>
                <a:ext cx="18000" cy="18000"/>
              </a:xfrm>
              <a:prstGeom prst="ellipse">
                <a:avLst/>
              </a:prstGeom>
              <a:solidFill>
                <a:srgbClr val="231f20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32040" bIns="-3204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090" name="矩形 42"/>
              <p:cNvSpPr/>
              <p:nvPr/>
            </p:nvSpPr>
            <p:spPr>
              <a:xfrm>
                <a:off x="5754240" y="4436280"/>
                <a:ext cx="9360" cy="88920"/>
              </a:xfrm>
              <a:prstGeom prst="rect">
                <a:avLst/>
              </a:prstGeom>
              <a:solidFill>
                <a:srgbClr val="e6e5d3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4280" bIns="44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091" name="矩形 43"/>
              <p:cNvSpPr/>
              <p:nvPr/>
            </p:nvSpPr>
            <p:spPr>
              <a:xfrm>
                <a:off x="5754240" y="4586400"/>
                <a:ext cx="9360" cy="72360"/>
              </a:xfrm>
              <a:prstGeom prst="rect">
                <a:avLst/>
              </a:prstGeom>
              <a:solidFill>
                <a:srgbClr val="e6e5d3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27720" bIns="2772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092" name="矩形 44"/>
              <p:cNvSpPr/>
              <p:nvPr/>
            </p:nvSpPr>
            <p:spPr>
              <a:xfrm>
                <a:off x="5754240" y="4736880"/>
                <a:ext cx="9360" cy="73440"/>
              </a:xfrm>
              <a:prstGeom prst="rect">
                <a:avLst/>
              </a:prstGeom>
              <a:solidFill>
                <a:srgbClr val="e6e5d3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28800" bIns="288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093" name="矩形 45"/>
              <p:cNvSpPr/>
              <p:nvPr/>
            </p:nvSpPr>
            <p:spPr>
              <a:xfrm flipV="1">
                <a:off x="6391440" y="4087440"/>
                <a:ext cx="88920" cy="10440"/>
              </a:xfrm>
              <a:prstGeom prst="rect">
                <a:avLst/>
              </a:prstGeom>
              <a:solidFill>
                <a:srgbClr val="e6e5d3"/>
              </a:solidFill>
              <a:ln>
                <a:solidFill>
                  <a:srgbClr val="000000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34200" bIns="-342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094" name="弦形 55"/>
              <p:cNvSpPr/>
              <p:nvPr/>
            </p:nvSpPr>
            <p:spPr>
              <a:xfrm rot="12153600">
                <a:off x="6577920" y="4375440"/>
                <a:ext cx="4320" cy="3600"/>
              </a:xfrm>
              <a:prstGeom prst="chord">
                <a:avLst>
                  <a:gd name="adj1" fmla="val 2700000"/>
                  <a:gd name="adj2" fmla="val 16200000"/>
                </a:avLst>
              </a:prstGeom>
              <a:solidFill>
                <a:srgbClr val="e6e5d3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42120" bIns="-4212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1095" name="组合 57"/>
            <p:cNvGrpSpPr/>
            <p:nvPr/>
          </p:nvGrpSpPr>
          <p:grpSpPr>
            <a:xfrm>
              <a:off x="5826240" y="4347000"/>
              <a:ext cx="783720" cy="1387440"/>
              <a:chOff x="5826240" y="4347000"/>
              <a:chExt cx="783720" cy="1387440"/>
            </a:xfrm>
          </p:grpSpPr>
          <p:sp>
            <p:nvSpPr>
              <p:cNvPr id="1096" name="直角三角形 13"/>
              <p:cNvSpPr/>
              <p:nvPr/>
            </p:nvSpPr>
            <p:spPr>
              <a:xfrm flipH="1" flipV="1" rot="16200000">
                <a:off x="5525640" y="4650480"/>
                <a:ext cx="1384560" cy="783360"/>
              </a:xfrm>
              <a:prstGeom prst="rtTriangle">
                <a:avLst/>
              </a:prstGeom>
              <a:solidFill>
                <a:srgbClr val="9ab0b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097" name="直角三角形 56"/>
              <p:cNvSpPr/>
              <p:nvPr/>
            </p:nvSpPr>
            <p:spPr>
              <a:xfrm flipH="1" flipV="1" rot="5400000">
                <a:off x="5526000" y="4647600"/>
                <a:ext cx="1384560" cy="783360"/>
              </a:xfrm>
              <a:prstGeom prst="rtTriangle">
                <a:avLst/>
              </a:prstGeom>
              <a:solidFill>
                <a:srgbClr val="728a8e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</p:grpSp>
      <p:grpSp>
        <p:nvGrpSpPr>
          <p:cNvPr id="1098" name="组合 59"/>
          <p:cNvGrpSpPr/>
          <p:nvPr/>
        </p:nvGrpSpPr>
        <p:grpSpPr>
          <a:xfrm>
            <a:off x="1814400" y="2229120"/>
            <a:ext cx="1761840" cy="3723840"/>
            <a:chOff x="1814400" y="2229120"/>
            <a:chExt cx="1761840" cy="3723840"/>
          </a:xfrm>
        </p:grpSpPr>
        <p:sp>
          <p:nvSpPr>
            <p:cNvPr id="1099" name="矩形 60"/>
            <p:cNvSpPr/>
            <p:nvPr/>
          </p:nvSpPr>
          <p:spPr>
            <a:xfrm>
              <a:off x="1814400" y="2229120"/>
              <a:ext cx="1761840" cy="2593440"/>
            </a:xfrm>
            <a:prstGeom prst="rect">
              <a:avLst/>
            </a:prstGeom>
            <a:solidFill>
              <a:srgbClr val="4d4d4d"/>
            </a:solidFill>
            <a:ln>
              <a:solidFill>
                <a:srgbClr val="000000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100" name="矩形 61"/>
            <p:cNvSpPr/>
            <p:nvPr/>
          </p:nvSpPr>
          <p:spPr>
            <a:xfrm>
              <a:off x="1814400" y="4822920"/>
              <a:ext cx="1761840" cy="1130040"/>
            </a:xfrm>
            <a:prstGeom prst="rect">
              <a:avLst/>
            </a:prstGeom>
            <a:solidFill>
              <a:srgbClr val="4d4d4d"/>
            </a:solidFill>
            <a:ln>
              <a:solidFill>
                <a:srgbClr val="000000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101" name="圆角矩形 62"/>
            <p:cNvSpPr/>
            <p:nvPr/>
          </p:nvSpPr>
          <p:spPr>
            <a:xfrm>
              <a:off x="2555640" y="2521080"/>
              <a:ext cx="279000" cy="108000"/>
            </a:xfrm>
            <a:prstGeom prst="roundRect">
              <a:avLst>
                <a:gd name="adj" fmla="val 16667"/>
              </a:avLst>
            </a:prstGeom>
            <a:solidFill>
              <a:schemeClr val="bg1">
                <a:lumMod val="8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grpSp>
          <p:nvGrpSpPr>
            <p:cNvPr id="1102" name="组合 63"/>
            <p:cNvGrpSpPr/>
            <p:nvPr/>
          </p:nvGrpSpPr>
          <p:grpSpPr>
            <a:xfrm>
              <a:off x="1977480" y="2689920"/>
              <a:ext cx="1436040" cy="1993320"/>
              <a:chOff x="1977480" y="2689920"/>
              <a:chExt cx="1436040" cy="1993320"/>
            </a:xfrm>
          </p:grpSpPr>
          <p:sp>
            <p:nvSpPr>
              <p:cNvPr id="1103" name="直角三角形 69"/>
              <p:cNvSpPr/>
              <p:nvPr/>
            </p:nvSpPr>
            <p:spPr>
              <a:xfrm flipH="1">
                <a:off x="1977480" y="2689920"/>
                <a:ext cx="1435680" cy="1992960"/>
              </a:xfrm>
              <a:prstGeom prst="rtTriangle">
                <a:avLst/>
              </a:prstGeom>
              <a:solidFill>
                <a:srgbClr val="728a8e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104" name="直角三角形 70"/>
              <p:cNvSpPr/>
              <p:nvPr/>
            </p:nvSpPr>
            <p:spPr>
              <a:xfrm flipH="1" rot="10800000">
                <a:off x="1977840" y="2690280"/>
                <a:ext cx="1435680" cy="1992960"/>
              </a:xfrm>
              <a:prstGeom prst="rtTriangle">
                <a:avLst/>
              </a:prstGeom>
              <a:solidFill>
                <a:srgbClr val="9ab0b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1105" name="组合 64"/>
            <p:cNvGrpSpPr/>
            <p:nvPr/>
          </p:nvGrpSpPr>
          <p:grpSpPr>
            <a:xfrm>
              <a:off x="1977480" y="4883400"/>
              <a:ext cx="1436040" cy="892080"/>
              <a:chOff x="1977480" y="4883400"/>
              <a:chExt cx="1436040" cy="892080"/>
            </a:xfrm>
          </p:grpSpPr>
          <p:sp>
            <p:nvSpPr>
              <p:cNvPr id="1106" name="直角三角形 67"/>
              <p:cNvSpPr/>
              <p:nvPr/>
            </p:nvSpPr>
            <p:spPr>
              <a:xfrm flipH="1">
                <a:off x="1977480" y="4883400"/>
                <a:ext cx="1435680" cy="891720"/>
              </a:xfrm>
              <a:prstGeom prst="rtTriangle">
                <a:avLst/>
              </a:prstGeom>
              <a:solidFill>
                <a:srgbClr val="728a8e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107" name="直角三角形 68"/>
              <p:cNvSpPr/>
              <p:nvPr/>
            </p:nvSpPr>
            <p:spPr>
              <a:xfrm flipH="1" rot="10800000">
                <a:off x="1977840" y="4883760"/>
                <a:ext cx="1435680" cy="891720"/>
              </a:xfrm>
              <a:prstGeom prst="rtTriangle">
                <a:avLst/>
              </a:prstGeom>
              <a:solidFill>
                <a:srgbClr val="9ab0b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sp>
          <p:nvSpPr>
            <p:cNvPr id="1108" name="圆角矩形 65"/>
            <p:cNvSpPr/>
            <p:nvPr/>
          </p:nvSpPr>
          <p:spPr>
            <a:xfrm flipH="1">
              <a:off x="2030040" y="3151800"/>
              <a:ext cx="107640" cy="1069560"/>
            </a:xfrm>
            <a:prstGeom prst="roundRect">
              <a:avLst>
                <a:gd name="adj" fmla="val 16667"/>
              </a:avLst>
            </a:prstGeom>
            <a:solidFill>
              <a:schemeClr val="bg1">
                <a:lumMod val="8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109" name="圆角矩形 66"/>
            <p:cNvSpPr/>
            <p:nvPr/>
          </p:nvSpPr>
          <p:spPr>
            <a:xfrm flipH="1">
              <a:off x="2030040" y="5103000"/>
              <a:ext cx="107640" cy="452520"/>
            </a:xfrm>
            <a:prstGeom prst="roundRect">
              <a:avLst>
                <a:gd name="adj" fmla="val 16667"/>
              </a:avLst>
            </a:prstGeom>
            <a:solidFill>
              <a:schemeClr val="bg1">
                <a:lumMod val="8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1110" name="组合 71"/>
          <p:cNvGrpSpPr/>
          <p:nvPr/>
        </p:nvGrpSpPr>
        <p:grpSpPr>
          <a:xfrm>
            <a:off x="4088160" y="4114440"/>
            <a:ext cx="1329120" cy="1860840"/>
            <a:chOff x="4088160" y="4114440"/>
            <a:chExt cx="1329120" cy="1860840"/>
          </a:xfrm>
        </p:grpSpPr>
        <p:sp>
          <p:nvSpPr>
            <p:cNvPr id="1111" name="圆角矩形 72"/>
            <p:cNvSpPr/>
            <p:nvPr/>
          </p:nvSpPr>
          <p:spPr>
            <a:xfrm>
              <a:off x="4088160" y="4114440"/>
              <a:ext cx="1329120" cy="1860840"/>
            </a:xfrm>
            <a:prstGeom prst="roundRect">
              <a:avLst>
                <a:gd name="adj" fmla="val 1068"/>
              </a:avLst>
            </a:prstGeom>
            <a:solidFill>
              <a:srgbClr val="4d4d4d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112" name="椭圆 73"/>
            <p:cNvSpPr/>
            <p:nvPr/>
          </p:nvSpPr>
          <p:spPr>
            <a:xfrm>
              <a:off x="4271400" y="4575240"/>
              <a:ext cx="963000" cy="963000"/>
            </a:xfrm>
            <a:prstGeom prst="ellipse">
              <a:avLst/>
            </a:prstGeom>
            <a:solidFill>
              <a:schemeClr val="bg2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113" name="任意多边形 74"/>
            <p:cNvSpPr/>
            <p:nvPr/>
          </p:nvSpPr>
          <p:spPr>
            <a:xfrm>
              <a:off x="4402440" y="4705560"/>
              <a:ext cx="699480" cy="460440"/>
            </a:xfrm>
            <a:custGeom>
              <a:avLst/>
              <a:gdLst>
                <a:gd name="textAreaLeft" fmla="*/ 0 w 699480"/>
                <a:gd name="textAreaRight" fmla="*/ 699840 w 699480"/>
                <a:gd name="textAreaTop" fmla="*/ 0 h 460440"/>
                <a:gd name="textAreaBottom" fmla="*/ 460800 h 460440"/>
              </a:gdLst>
              <a:ahLst/>
              <a:rect l="textAreaLeft" t="textAreaTop" r="textAreaRight" b="textAreaBottom"/>
              <a:pathLst>
                <a:path w="1878467" h="1237278">
                  <a:moveTo>
                    <a:pt x="940802" y="0"/>
                  </a:moveTo>
                  <a:cubicBezTo>
                    <a:pt x="1395444" y="0"/>
                    <a:pt x="1774764" y="322490"/>
                    <a:pt x="1862490" y="751198"/>
                  </a:cubicBezTo>
                  <a:lnTo>
                    <a:pt x="1878467" y="909687"/>
                  </a:lnTo>
                  <a:lnTo>
                    <a:pt x="1691526" y="912981"/>
                  </a:lnTo>
                  <a:cubicBezTo>
                    <a:pt x="1263019" y="928307"/>
                    <a:pt x="940802" y="994571"/>
                    <a:pt x="940802" y="1073915"/>
                  </a:cubicBezTo>
                  <a:cubicBezTo>
                    <a:pt x="940802" y="1153260"/>
                    <a:pt x="618585" y="1219524"/>
                    <a:pt x="190079" y="1234850"/>
                  </a:cubicBezTo>
                  <a:lnTo>
                    <a:pt x="52289" y="1237278"/>
                  </a:lnTo>
                  <a:lnTo>
                    <a:pt x="19114" y="1130407"/>
                  </a:lnTo>
                  <a:cubicBezTo>
                    <a:pt x="6582" y="1069163"/>
                    <a:pt x="0" y="1005751"/>
                    <a:pt x="0" y="940802"/>
                  </a:cubicBezTo>
                  <a:cubicBezTo>
                    <a:pt x="0" y="421211"/>
                    <a:pt x="421211" y="0"/>
                    <a:pt x="940802" y="0"/>
                  </a:cubicBezTo>
                  <a:close/>
                </a:path>
              </a:pathLst>
            </a:custGeom>
            <a:solidFill>
              <a:srgbClr val="9ab0b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114" name="椭圆 75"/>
            <p:cNvSpPr/>
            <p:nvPr/>
          </p:nvSpPr>
          <p:spPr>
            <a:xfrm>
              <a:off x="5186160" y="4961160"/>
              <a:ext cx="107640" cy="189000"/>
            </a:xfrm>
            <a:prstGeom prst="ellipse">
              <a:avLst/>
            </a:prstGeom>
            <a:solidFill>
              <a:schemeClr val="bg2"/>
            </a:solidFill>
            <a:ln w="76200">
              <a:solidFill>
                <a:srgbClr val="728a8e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115" name="圆角矩形 76"/>
            <p:cNvSpPr/>
            <p:nvPr/>
          </p:nvSpPr>
          <p:spPr>
            <a:xfrm>
              <a:off x="4882320" y="5716080"/>
              <a:ext cx="405000" cy="167400"/>
            </a:xfrm>
            <a:prstGeom prst="roundRect">
              <a:avLst>
                <a:gd name="adj" fmla="val 16667"/>
              </a:avLst>
            </a:prstGeom>
            <a:solidFill>
              <a:srgbClr val="9ab0b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116" name="椭圆 77"/>
            <p:cNvSpPr/>
            <p:nvPr/>
          </p:nvSpPr>
          <p:spPr>
            <a:xfrm>
              <a:off x="5058720" y="4214160"/>
              <a:ext cx="205920" cy="205920"/>
            </a:xfrm>
            <a:prstGeom prst="ellipse">
              <a:avLst/>
            </a:prstGeom>
            <a:solidFill>
              <a:srgbClr val="9ab0b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117" name="椭圆 78"/>
            <p:cNvSpPr/>
            <p:nvPr/>
          </p:nvSpPr>
          <p:spPr>
            <a:xfrm rot="1920000">
              <a:off x="5123880" y="4230360"/>
              <a:ext cx="75240" cy="173160"/>
            </a:xfrm>
            <a:prstGeom prst="ellipse">
              <a:avLst/>
            </a:prstGeom>
            <a:solidFill>
              <a:srgbClr val="728a8e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118" name="任意多边形 79"/>
            <p:cNvSpPr/>
            <p:nvPr/>
          </p:nvSpPr>
          <p:spPr>
            <a:xfrm>
              <a:off x="4419360" y="5041800"/>
              <a:ext cx="681120" cy="361800"/>
            </a:xfrm>
            <a:custGeom>
              <a:avLst/>
              <a:gdLst>
                <a:gd name="textAreaLeft" fmla="*/ 0 w 681120"/>
                <a:gd name="textAreaRight" fmla="*/ 681480 w 681120"/>
                <a:gd name="textAreaTop" fmla="*/ 0 h 361800"/>
                <a:gd name="textAreaBottom" fmla="*/ 362160 h 361800"/>
              </a:gdLst>
              <a:ahLst/>
              <a:rect l="textAreaLeft" t="textAreaTop" r="textAreaRight" b="textAreaBottom"/>
              <a:pathLst>
                <a:path w="1829316" h="971917">
                  <a:moveTo>
                    <a:pt x="1826179" y="0"/>
                  </a:moveTo>
                  <a:lnTo>
                    <a:pt x="1829316" y="31115"/>
                  </a:lnTo>
                  <a:cubicBezTo>
                    <a:pt x="1829316" y="550706"/>
                    <a:pt x="1408105" y="971917"/>
                    <a:pt x="888514" y="971917"/>
                  </a:cubicBezTo>
                  <a:cubicBezTo>
                    <a:pt x="498821" y="971917"/>
                    <a:pt x="164466" y="734986"/>
                    <a:pt x="21645" y="397318"/>
                  </a:cubicBezTo>
                  <a:lnTo>
                    <a:pt x="0" y="327591"/>
                  </a:lnTo>
                  <a:lnTo>
                    <a:pt x="137790" y="325163"/>
                  </a:lnTo>
                  <a:cubicBezTo>
                    <a:pt x="566297" y="309837"/>
                    <a:pt x="888514" y="243573"/>
                    <a:pt x="888514" y="164228"/>
                  </a:cubicBezTo>
                  <a:cubicBezTo>
                    <a:pt x="888514" y="84884"/>
                    <a:pt x="1210731" y="18620"/>
                    <a:pt x="1639238" y="3294"/>
                  </a:cubicBezTo>
                  <a:close/>
                </a:path>
              </a:pathLst>
            </a:custGeom>
            <a:solidFill>
              <a:srgbClr val="728a8e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1119" name="组合 80"/>
          <p:cNvGrpSpPr/>
          <p:nvPr/>
        </p:nvGrpSpPr>
        <p:grpSpPr>
          <a:xfrm>
            <a:off x="7161840" y="4116240"/>
            <a:ext cx="3582000" cy="1863720"/>
            <a:chOff x="7161840" y="4116240"/>
            <a:chExt cx="3582000" cy="1863720"/>
          </a:xfrm>
        </p:grpSpPr>
        <p:sp>
          <p:nvSpPr>
            <p:cNvPr id="1120" name="圆角矩形 81"/>
            <p:cNvSpPr/>
            <p:nvPr/>
          </p:nvSpPr>
          <p:spPr>
            <a:xfrm>
              <a:off x="7161840" y="4116240"/>
              <a:ext cx="3582000" cy="1404360"/>
            </a:xfrm>
            <a:prstGeom prst="roundRect">
              <a:avLst>
                <a:gd name="adj" fmla="val 7023"/>
              </a:avLst>
            </a:prstGeom>
            <a:solidFill>
              <a:srgbClr val="4d4d4d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121" name="圆角矩形 44"/>
            <p:cNvSpPr/>
            <p:nvPr/>
          </p:nvSpPr>
          <p:spPr>
            <a:xfrm>
              <a:off x="7221600" y="5520960"/>
              <a:ext cx="3457800" cy="459000"/>
            </a:xfrm>
            <a:custGeom>
              <a:avLst/>
              <a:gdLst>
                <a:gd name="textAreaLeft" fmla="*/ 0 w 3457800"/>
                <a:gd name="textAreaRight" fmla="*/ 3458160 w 3457800"/>
                <a:gd name="textAreaTop" fmla="*/ 0 h 459000"/>
                <a:gd name="textAreaBottom" fmla="*/ 459360 h 459000"/>
              </a:gdLst>
              <a:ahLst/>
              <a:rect l="textAreaLeft" t="textAreaTop" r="textAreaRight" b="textAreaBottom"/>
              <a:pathLst>
                <a:path w="7153286" h="581301">
                  <a:moveTo>
                    <a:pt x="0" y="39601"/>
                  </a:moveTo>
                  <a:cubicBezTo>
                    <a:pt x="0" y="17730"/>
                    <a:pt x="17730" y="0"/>
                    <a:pt x="39601" y="0"/>
                  </a:cubicBezTo>
                  <a:lnTo>
                    <a:pt x="7113685" y="0"/>
                  </a:lnTo>
                  <a:cubicBezTo>
                    <a:pt x="7135556" y="0"/>
                    <a:pt x="7153286" y="17730"/>
                    <a:pt x="7153286" y="39601"/>
                  </a:cubicBezTo>
                  <a:lnTo>
                    <a:pt x="6950086" y="538783"/>
                  </a:lnTo>
                  <a:cubicBezTo>
                    <a:pt x="6950086" y="560654"/>
                    <a:pt x="6859784" y="563869"/>
                    <a:pt x="6837913" y="563869"/>
                  </a:cubicBezTo>
                  <a:lnTo>
                    <a:pt x="315372" y="578384"/>
                  </a:lnTo>
                  <a:cubicBezTo>
                    <a:pt x="293501" y="578384"/>
                    <a:pt x="217714" y="589682"/>
                    <a:pt x="217714" y="567811"/>
                  </a:cubicBezTo>
                  <a:lnTo>
                    <a:pt x="0" y="39601"/>
                  </a:lnTo>
                  <a:close/>
                </a:path>
              </a:pathLst>
            </a:custGeom>
            <a:solidFill>
              <a:srgbClr val="4d4d4d"/>
            </a:solidFill>
            <a:ln>
              <a:solidFill>
                <a:srgbClr val="000000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grpSp>
          <p:nvGrpSpPr>
            <p:cNvPr id="1122" name="组合 83"/>
            <p:cNvGrpSpPr/>
            <p:nvPr/>
          </p:nvGrpSpPr>
          <p:grpSpPr>
            <a:xfrm>
              <a:off x="7340040" y="4207680"/>
              <a:ext cx="3225600" cy="917640"/>
              <a:chOff x="7340040" y="4207680"/>
              <a:chExt cx="3225600" cy="917640"/>
            </a:xfrm>
          </p:grpSpPr>
          <p:cxnSp>
            <p:nvCxnSpPr>
              <p:cNvPr id="1123" name="直接连接符 92"/>
              <p:cNvCxnSpPr/>
              <p:nvPr/>
            </p:nvCxnSpPr>
            <p:spPr>
              <a:xfrm>
                <a:off x="7340040" y="4207680"/>
                <a:ext cx="3225960" cy="360"/>
              </a:xfrm>
              <a:prstGeom prst="straightConnector1">
                <a:avLst/>
              </a:prstGeom>
              <a:ln w="50800">
                <a:solidFill>
                  <a:srgbClr val="9ab0b1"/>
                </a:solidFill>
              </a:ln>
            </p:spPr>
          </p:cxnSp>
          <p:cxnSp>
            <p:nvCxnSpPr>
              <p:cNvPr id="1124" name="直接连接符 93"/>
              <p:cNvCxnSpPr/>
              <p:nvPr/>
            </p:nvCxnSpPr>
            <p:spPr>
              <a:xfrm>
                <a:off x="7340040" y="4322520"/>
                <a:ext cx="3225960" cy="360"/>
              </a:xfrm>
              <a:prstGeom prst="straightConnector1">
                <a:avLst/>
              </a:prstGeom>
              <a:ln w="50800">
                <a:solidFill>
                  <a:srgbClr val="9ab0b1"/>
                </a:solidFill>
              </a:ln>
            </p:spPr>
          </p:cxnSp>
          <p:cxnSp>
            <p:nvCxnSpPr>
              <p:cNvPr id="1125" name="直接连接符 94"/>
              <p:cNvCxnSpPr/>
              <p:nvPr/>
            </p:nvCxnSpPr>
            <p:spPr>
              <a:xfrm>
                <a:off x="7340040" y="4437360"/>
                <a:ext cx="3225960" cy="360"/>
              </a:xfrm>
              <a:prstGeom prst="straightConnector1">
                <a:avLst/>
              </a:prstGeom>
              <a:ln w="50800">
                <a:solidFill>
                  <a:srgbClr val="9ab0b1"/>
                </a:solidFill>
              </a:ln>
            </p:spPr>
          </p:cxnSp>
          <p:cxnSp>
            <p:nvCxnSpPr>
              <p:cNvPr id="1126" name="直接连接符 95"/>
              <p:cNvCxnSpPr/>
              <p:nvPr/>
            </p:nvCxnSpPr>
            <p:spPr>
              <a:xfrm>
                <a:off x="7340040" y="4551840"/>
                <a:ext cx="3225960" cy="360"/>
              </a:xfrm>
              <a:prstGeom prst="straightConnector1">
                <a:avLst/>
              </a:prstGeom>
              <a:ln w="50800">
                <a:solidFill>
                  <a:srgbClr val="9ab0b1"/>
                </a:solidFill>
              </a:ln>
            </p:spPr>
          </p:cxnSp>
          <p:cxnSp>
            <p:nvCxnSpPr>
              <p:cNvPr id="1127" name="直接连接符 96"/>
              <p:cNvCxnSpPr/>
              <p:nvPr/>
            </p:nvCxnSpPr>
            <p:spPr>
              <a:xfrm>
                <a:off x="7340040" y="4666680"/>
                <a:ext cx="3225960" cy="360"/>
              </a:xfrm>
              <a:prstGeom prst="straightConnector1">
                <a:avLst/>
              </a:prstGeom>
              <a:ln w="50800">
                <a:solidFill>
                  <a:srgbClr val="9ab0b1"/>
                </a:solidFill>
              </a:ln>
            </p:spPr>
          </p:cxnSp>
          <p:cxnSp>
            <p:nvCxnSpPr>
              <p:cNvPr id="1128" name="直接连接符 97"/>
              <p:cNvCxnSpPr/>
              <p:nvPr/>
            </p:nvCxnSpPr>
            <p:spPr>
              <a:xfrm>
                <a:off x="7340040" y="4781160"/>
                <a:ext cx="3225960" cy="360"/>
              </a:xfrm>
              <a:prstGeom prst="straightConnector1">
                <a:avLst/>
              </a:prstGeom>
              <a:ln w="50800">
                <a:solidFill>
                  <a:srgbClr val="9ab0b1"/>
                </a:solidFill>
              </a:ln>
            </p:spPr>
          </p:cxnSp>
          <p:cxnSp>
            <p:nvCxnSpPr>
              <p:cNvPr id="1129" name="直接连接符 98"/>
              <p:cNvCxnSpPr/>
              <p:nvPr/>
            </p:nvCxnSpPr>
            <p:spPr>
              <a:xfrm>
                <a:off x="7340040" y="4896000"/>
                <a:ext cx="3225960" cy="360"/>
              </a:xfrm>
              <a:prstGeom prst="straightConnector1">
                <a:avLst/>
              </a:prstGeom>
              <a:ln w="50800">
                <a:solidFill>
                  <a:srgbClr val="9ab0b1"/>
                </a:solidFill>
              </a:ln>
            </p:spPr>
          </p:cxnSp>
          <p:cxnSp>
            <p:nvCxnSpPr>
              <p:cNvPr id="1130" name="直接连接符 99"/>
              <p:cNvCxnSpPr/>
              <p:nvPr/>
            </p:nvCxnSpPr>
            <p:spPr>
              <a:xfrm>
                <a:off x="7340040" y="5010480"/>
                <a:ext cx="3225960" cy="360"/>
              </a:xfrm>
              <a:prstGeom prst="straightConnector1">
                <a:avLst/>
              </a:prstGeom>
              <a:ln w="50800">
                <a:solidFill>
                  <a:srgbClr val="9ab0b1"/>
                </a:solidFill>
              </a:ln>
            </p:spPr>
          </p:cxnSp>
          <p:cxnSp>
            <p:nvCxnSpPr>
              <p:cNvPr id="1131" name="直接连接符 100"/>
              <p:cNvCxnSpPr/>
              <p:nvPr/>
            </p:nvCxnSpPr>
            <p:spPr>
              <a:xfrm>
                <a:off x="7340040" y="5125320"/>
                <a:ext cx="3225960" cy="360"/>
              </a:xfrm>
              <a:prstGeom prst="straightConnector1">
                <a:avLst/>
              </a:prstGeom>
              <a:ln w="50800">
                <a:solidFill>
                  <a:srgbClr val="9ab0b1"/>
                </a:solidFill>
              </a:ln>
            </p:spPr>
          </p:cxnSp>
        </p:grpSp>
        <p:cxnSp>
          <p:nvCxnSpPr>
            <p:cNvPr id="1132" name="直接连接符 84"/>
            <p:cNvCxnSpPr/>
            <p:nvPr/>
          </p:nvCxnSpPr>
          <p:spPr>
            <a:xfrm>
              <a:off x="10196640" y="5601600"/>
              <a:ext cx="386280" cy="360"/>
            </a:xfrm>
            <a:prstGeom prst="straightConnector1">
              <a:avLst/>
            </a:prstGeom>
            <a:ln w="38100">
              <a:solidFill>
                <a:srgbClr val="9ab0b1"/>
              </a:solidFill>
            </a:ln>
          </p:spPr>
        </p:cxnSp>
        <p:cxnSp>
          <p:nvCxnSpPr>
            <p:cNvPr id="1133" name="直接连接符 85"/>
            <p:cNvCxnSpPr/>
            <p:nvPr/>
          </p:nvCxnSpPr>
          <p:spPr>
            <a:xfrm>
              <a:off x="10173600" y="5681880"/>
              <a:ext cx="386280" cy="360"/>
            </a:xfrm>
            <a:prstGeom prst="straightConnector1">
              <a:avLst/>
            </a:prstGeom>
            <a:ln w="38100">
              <a:solidFill>
                <a:srgbClr val="9ab0b1"/>
              </a:solidFill>
            </a:ln>
          </p:spPr>
        </p:cxnSp>
        <p:cxnSp>
          <p:nvCxnSpPr>
            <p:cNvPr id="1134" name="直接连接符 86"/>
            <p:cNvCxnSpPr/>
            <p:nvPr/>
          </p:nvCxnSpPr>
          <p:spPr>
            <a:xfrm>
              <a:off x="10150560" y="5762160"/>
              <a:ext cx="386280" cy="360"/>
            </a:xfrm>
            <a:prstGeom prst="straightConnector1">
              <a:avLst/>
            </a:prstGeom>
            <a:ln w="38100">
              <a:solidFill>
                <a:srgbClr val="9ab0b1"/>
              </a:solidFill>
            </a:ln>
          </p:spPr>
        </p:cxnSp>
        <p:cxnSp>
          <p:nvCxnSpPr>
            <p:cNvPr id="1135" name="直接连接符 87"/>
            <p:cNvCxnSpPr/>
            <p:nvPr/>
          </p:nvCxnSpPr>
          <p:spPr>
            <a:xfrm>
              <a:off x="10127520" y="5842440"/>
              <a:ext cx="386280" cy="360"/>
            </a:xfrm>
            <a:prstGeom prst="straightConnector1">
              <a:avLst/>
            </a:prstGeom>
            <a:ln w="38100">
              <a:solidFill>
                <a:srgbClr val="9ab0b1"/>
              </a:solidFill>
            </a:ln>
          </p:spPr>
        </p:cxnSp>
        <p:sp>
          <p:nvSpPr>
            <p:cNvPr id="1136" name="椭圆 88"/>
            <p:cNvSpPr/>
            <p:nvPr/>
          </p:nvSpPr>
          <p:spPr>
            <a:xfrm>
              <a:off x="10338840" y="5199840"/>
              <a:ext cx="130320" cy="213120"/>
            </a:xfrm>
            <a:prstGeom prst="ellipse">
              <a:avLst/>
            </a:prstGeom>
            <a:solidFill>
              <a:srgbClr val="d9d9d9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grpSp>
          <p:nvGrpSpPr>
            <p:cNvPr id="1137" name="组合 89"/>
            <p:cNvGrpSpPr/>
            <p:nvPr/>
          </p:nvGrpSpPr>
          <p:grpSpPr>
            <a:xfrm>
              <a:off x="8644680" y="5222880"/>
              <a:ext cx="632160" cy="213120"/>
              <a:chOff x="8644680" y="5222880"/>
              <a:chExt cx="632160" cy="213120"/>
            </a:xfrm>
          </p:grpSpPr>
          <p:sp>
            <p:nvSpPr>
              <p:cNvPr id="1138" name="直角三角形 90"/>
              <p:cNvSpPr/>
              <p:nvPr/>
            </p:nvSpPr>
            <p:spPr>
              <a:xfrm flipV="1">
                <a:off x="8644680" y="5222880"/>
                <a:ext cx="632160" cy="213120"/>
              </a:xfrm>
              <a:prstGeom prst="rtTriangle">
                <a:avLst/>
              </a:prstGeom>
              <a:solidFill>
                <a:srgbClr val="9ab0b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26280" bIns="26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139" name="直角三角形 91"/>
              <p:cNvSpPr/>
              <p:nvPr/>
            </p:nvSpPr>
            <p:spPr>
              <a:xfrm flipH="1">
                <a:off x="8644680" y="5222880"/>
                <a:ext cx="632160" cy="213120"/>
              </a:xfrm>
              <a:prstGeom prst="rtTriangle">
                <a:avLst/>
              </a:prstGeom>
              <a:solidFill>
                <a:srgbClr val="728a8e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26280" bIns="26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2" name="组合 1"/>
          <p:cNvGrpSpPr/>
          <p:nvPr/>
        </p:nvGrpSpPr>
        <p:grpSpPr>
          <a:xfrm>
            <a:off x="1885680" y="2962080"/>
            <a:ext cx="8420400" cy="1188720"/>
            <a:chOff x="1885680" y="2962080"/>
            <a:chExt cx="8420400" cy="1188720"/>
          </a:xfrm>
        </p:grpSpPr>
        <p:grpSp>
          <p:nvGrpSpPr>
            <p:cNvPr id="663" name="组合 7"/>
            <p:cNvGrpSpPr/>
            <p:nvPr/>
          </p:nvGrpSpPr>
          <p:grpSpPr>
            <a:xfrm>
              <a:off x="1885680" y="2962080"/>
              <a:ext cx="8420400" cy="1188720"/>
              <a:chOff x="1885680" y="2962080"/>
              <a:chExt cx="8420400" cy="1188720"/>
            </a:xfrm>
          </p:grpSpPr>
          <p:grpSp>
            <p:nvGrpSpPr>
              <p:cNvPr id="664" name="组合 9"/>
              <p:cNvGrpSpPr/>
              <p:nvPr/>
            </p:nvGrpSpPr>
            <p:grpSpPr>
              <a:xfrm>
                <a:off x="2041560" y="3929040"/>
                <a:ext cx="8108640" cy="221760"/>
                <a:chOff x="2041560" y="3929040"/>
                <a:chExt cx="8108640" cy="221760"/>
              </a:xfrm>
            </p:grpSpPr>
            <p:sp>
              <p:nvSpPr>
                <p:cNvPr id="665" name="直角三角形 10"/>
                <p:cNvSpPr/>
                <p:nvPr/>
              </p:nvSpPr>
              <p:spPr>
                <a:xfrm flipV="1">
                  <a:off x="2041560" y="3929040"/>
                  <a:ext cx="4096800" cy="221760"/>
                </a:xfrm>
                <a:prstGeom prst="rtTriangle">
                  <a:avLst/>
                </a:prstGeom>
                <a:solidFill>
                  <a:srgbClr val="6ba42c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29160" bIns="291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66" name="直角三角形 11"/>
                <p:cNvSpPr/>
                <p:nvPr/>
              </p:nvSpPr>
              <p:spPr>
                <a:xfrm flipH="1" flipV="1">
                  <a:off x="6053400" y="3929040"/>
                  <a:ext cx="4096800" cy="221760"/>
                </a:xfrm>
                <a:prstGeom prst="rtTriangle">
                  <a:avLst/>
                </a:prstGeom>
                <a:solidFill>
                  <a:srgbClr val="6ba42c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29160" bIns="291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67" name="矩形 75"/>
              <p:cNvSpPr/>
              <p:nvPr/>
            </p:nvSpPr>
            <p:spPr>
              <a:xfrm>
                <a:off x="1885680" y="2962080"/>
                <a:ext cx="8420400" cy="1060200"/>
              </a:xfrm>
              <a:prstGeom prst="rect">
                <a:avLst/>
              </a:prstGeom>
              <a:solidFill>
                <a:srgbClr val="92d050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sp>
          <p:nvSpPr>
            <p:cNvPr id="668" name="文本框 4"/>
            <p:cNvSpPr/>
            <p:nvPr/>
          </p:nvSpPr>
          <p:spPr>
            <a:xfrm>
              <a:off x="2099880" y="3141000"/>
              <a:ext cx="8206200" cy="8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4800" spc="-1" strike="noStrike">
                  <a:solidFill>
                    <a:srgbClr val="000000"/>
                  </a:solidFill>
                  <a:latin typeface="造字工房悦圆（非商用）常规体"/>
                  <a:ea typeface="造字工房悦圆（非商用）常规体"/>
                </a:rPr>
                <a:t>是如何成为安全领域第一的？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9" name="文本框 5"/>
          <p:cNvSpPr/>
          <p:nvPr/>
        </p:nvSpPr>
        <p:spPr>
          <a:xfrm>
            <a:off x="4400640" y="1508040"/>
            <a:ext cx="339048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8000" spc="-1" strike="noStrike">
                <a:solidFill>
                  <a:srgbClr val="92d050"/>
                </a:solidFill>
                <a:latin typeface="Noto Sans S Chinese Bold"/>
                <a:ea typeface="Noto Sans S Chinese Bold"/>
              </a:rPr>
              <a:t>奇虎</a:t>
            </a:r>
            <a:r>
              <a:rPr b="1" lang="en-US" sz="8000" spc="-1" strike="noStrike">
                <a:solidFill>
                  <a:srgbClr val="92d050"/>
                </a:solidFill>
                <a:latin typeface="Noto Sans S Chinese Bold"/>
                <a:ea typeface="Noto Sans S Chinese Bold"/>
              </a:rPr>
              <a:t>360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0" name="组合 12"/>
          <p:cNvGrpSpPr/>
          <p:nvPr/>
        </p:nvGrpSpPr>
        <p:grpSpPr>
          <a:xfrm>
            <a:off x="5884560" y="1630080"/>
            <a:ext cx="5886000" cy="4865400"/>
            <a:chOff x="5884560" y="1630080"/>
            <a:chExt cx="5886000" cy="4865400"/>
          </a:xfrm>
        </p:grpSpPr>
        <p:grpSp>
          <p:nvGrpSpPr>
            <p:cNvPr id="671" name="组合 59"/>
            <p:cNvGrpSpPr/>
            <p:nvPr/>
          </p:nvGrpSpPr>
          <p:grpSpPr>
            <a:xfrm>
              <a:off x="5884560" y="1630080"/>
              <a:ext cx="5886000" cy="4865400"/>
              <a:chOff x="5884560" y="1630080"/>
              <a:chExt cx="5886000" cy="4865400"/>
            </a:xfrm>
          </p:grpSpPr>
          <p:sp>
            <p:nvSpPr>
              <p:cNvPr id="672" name="Freeform 5"/>
              <p:cNvSpPr/>
              <p:nvPr/>
            </p:nvSpPr>
            <p:spPr>
              <a:xfrm>
                <a:off x="9535320" y="6235200"/>
                <a:ext cx="316800" cy="260280"/>
              </a:xfrm>
              <a:custGeom>
                <a:avLst/>
                <a:gdLst>
                  <a:gd name="textAreaLeft" fmla="*/ 0 w 316800"/>
                  <a:gd name="textAreaRight" fmla="*/ 317160 w 316800"/>
                  <a:gd name="textAreaTop" fmla="*/ 0 h 260280"/>
                  <a:gd name="textAreaBottom" fmla="*/ 260640 h 260280"/>
                </a:gdLst>
                <a:ahLst/>
                <a:rect l="textAreaLeft" t="textAreaTop" r="textAreaRight" b="textAreaBottom"/>
                <a:pathLst>
                  <a:path w="135" h="111">
                    <a:moveTo>
                      <a:pt x="46" y="111"/>
                    </a:moveTo>
                    <a:cubicBezTo>
                      <a:pt x="28" y="104"/>
                      <a:pt x="13" y="102"/>
                      <a:pt x="5" y="92"/>
                    </a:cubicBezTo>
                    <a:cubicBezTo>
                      <a:pt x="1" y="77"/>
                      <a:pt x="0" y="55"/>
                      <a:pt x="6" y="44"/>
                    </a:cubicBezTo>
                    <a:cubicBezTo>
                      <a:pt x="10" y="42"/>
                      <a:pt x="19" y="40"/>
                      <a:pt x="23" y="37"/>
                    </a:cubicBezTo>
                    <a:cubicBezTo>
                      <a:pt x="24" y="31"/>
                      <a:pt x="25" y="24"/>
                      <a:pt x="25" y="18"/>
                    </a:cubicBezTo>
                    <a:cubicBezTo>
                      <a:pt x="31" y="12"/>
                      <a:pt x="37" y="19"/>
                      <a:pt x="47" y="17"/>
                    </a:cubicBezTo>
                    <a:cubicBezTo>
                      <a:pt x="56" y="12"/>
                      <a:pt x="64" y="7"/>
                      <a:pt x="72" y="3"/>
                    </a:cubicBezTo>
                    <a:cubicBezTo>
                      <a:pt x="88" y="2"/>
                      <a:pt x="104" y="1"/>
                      <a:pt x="119" y="0"/>
                    </a:cubicBezTo>
                    <a:cubicBezTo>
                      <a:pt x="122" y="2"/>
                      <a:pt x="131" y="7"/>
                      <a:pt x="135" y="16"/>
                    </a:cubicBezTo>
                    <a:cubicBezTo>
                      <a:pt x="135" y="19"/>
                      <a:pt x="135" y="22"/>
                      <a:pt x="135" y="26"/>
                    </a:cubicBezTo>
                    <a:cubicBezTo>
                      <a:pt x="133" y="28"/>
                      <a:pt x="132" y="31"/>
                      <a:pt x="131" y="34"/>
                    </a:cubicBezTo>
                    <a:cubicBezTo>
                      <a:pt x="123" y="45"/>
                      <a:pt x="116" y="55"/>
                      <a:pt x="110" y="67"/>
                    </a:cubicBezTo>
                    <a:cubicBezTo>
                      <a:pt x="109" y="72"/>
                      <a:pt x="108" y="77"/>
                      <a:pt x="102" y="83"/>
                    </a:cubicBezTo>
                    <a:cubicBezTo>
                      <a:pt x="87" y="90"/>
                      <a:pt x="72" y="102"/>
                      <a:pt x="60" y="109"/>
                    </a:cubicBezTo>
                    <a:cubicBezTo>
                      <a:pt x="55" y="110"/>
                      <a:pt x="50" y="110"/>
                      <a:pt x="46" y="111"/>
                    </a:cubicBezTo>
                    <a:close/>
                  </a:path>
                </a:pathLst>
              </a:cu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3" name="Freeform 7"/>
              <p:cNvSpPr/>
              <p:nvPr/>
            </p:nvSpPr>
            <p:spPr>
              <a:xfrm>
                <a:off x="5884560" y="1630080"/>
                <a:ext cx="5886000" cy="4588920"/>
              </a:xfrm>
              <a:custGeom>
                <a:avLst/>
                <a:gdLst>
                  <a:gd name="textAreaLeft" fmla="*/ 0 w 5886000"/>
                  <a:gd name="textAreaRight" fmla="*/ 5886360 w 5886000"/>
                  <a:gd name="textAreaTop" fmla="*/ 0 h 4588920"/>
                  <a:gd name="textAreaBottom" fmla="*/ 4589280 h 4588920"/>
                </a:gdLst>
                <a:ahLst/>
                <a:rect l="textAreaLeft" t="textAreaTop" r="textAreaRight" b="textAreaBottom"/>
                <a:pathLst>
                  <a:path w="2512" h="1957">
                    <a:moveTo>
                      <a:pt x="1637" y="1957"/>
                    </a:moveTo>
                    <a:cubicBezTo>
                      <a:pt x="1625" y="1947"/>
                      <a:pt x="1625" y="1941"/>
                      <a:pt x="1622" y="1933"/>
                    </a:cubicBezTo>
                    <a:cubicBezTo>
                      <a:pt x="1617" y="1926"/>
                      <a:pt x="1613" y="1920"/>
                      <a:pt x="1609" y="1914"/>
                    </a:cubicBezTo>
                    <a:cubicBezTo>
                      <a:pt x="1609" y="1900"/>
                      <a:pt x="1606" y="1894"/>
                      <a:pt x="1618" y="1888"/>
                    </a:cubicBezTo>
                    <a:cubicBezTo>
                      <a:pt x="1618" y="1887"/>
                      <a:pt x="1618" y="1886"/>
                      <a:pt x="1618" y="1885"/>
                    </a:cubicBezTo>
                    <a:cubicBezTo>
                      <a:pt x="1605" y="1885"/>
                      <a:pt x="1603" y="1890"/>
                      <a:pt x="1595" y="1895"/>
                    </a:cubicBezTo>
                    <a:cubicBezTo>
                      <a:pt x="1589" y="1895"/>
                      <a:pt x="1584" y="1895"/>
                      <a:pt x="1578" y="1895"/>
                    </a:cubicBezTo>
                    <a:cubicBezTo>
                      <a:pt x="1577" y="1890"/>
                      <a:pt x="1577" y="1886"/>
                      <a:pt x="1576" y="1882"/>
                    </a:cubicBezTo>
                    <a:cubicBezTo>
                      <a:pt x="1564" y="1878"/>
                      <a:pt x="1567" y="1874"/>
                      <a:pt x="1564" y="1871"/>
                    </a:cubicBezTo>
                    <a:cubicBezTo>
                      <a:pt x="1557" y="1871"/>
                      <a:pt x="1561" y="1877"/>
                      <a:pt x="1557" y="1885"/>
                    </a:cubicBezTo>
                    <a:cubicBezTo>
                      <a:pt x="1555" y="1885"/>
                      <a:pt x="1554" y="1885"/>
                      <a:pt x="1552" y="1885"/>
                    </a:cubicBezTo>
                    <a:cubicBezTo>
                      <a:pt x="1548" y="1881"/>
                      <a:pt x="1538" y="1885"/>
                      <a:pt x="1536" y="1887"/>
                    </a:cubicBezTo>
                    <a:cubicBezTo>
                      <a:pt x="1515" y="1887"/>
                      <a:pt x="1497" y="1882"/>
                      <a:pt x="1482" y="1881"/>
                    </a:cubicBezTo>
                    <a:cubicBezTo>
                      <a:pt x="1469" y="1875"/>
                      <a:pt x="1459" y="1856"/>
                      <a:pt x="1453" y="1849"/>
                    </a:cubicBezTo>
                    <a:cubicBezTo>
                      <a:pt x="1453" y="1844"/>
                      <a:pt x="1453" y="1841"/>
                      <a:pt x="1453" y="1837"/>
                    </a:cubicBezTo>
                    <a:cubicBezTo>
                      <a:pt x="1456" y="1830"/>
                      <a:pt x="1460" y="1823"/>
                      <a:pt x="1460" y="1818"/>
                    </a:cubicBezTo>
                    <a:cubicBezTo>
                      <a:pt x="1456" y="1815"/>
                      <a:pt x="1453" y="1812"/>
                      <a:pt x="1450" y="1810"/>
                    </a:cubicBezTo>
                    <a:cubicBezTo>
                      <a:pt x="1432" y="1809"/>
                      <a:pt x="1400" y="1807"/>
                      <a:pt x="1393" y="1795"/>
                    </a:cubicBezTo>
                    <a:cubicBezTo>
                      <a:pt x="1393" y="1793"/>
                      <a:pt x="1391" y="1790"/>
                      <a:pt x="1390" y="1788"/>
                    </a:cubicBezTo>
                    <a:cubicBezTo>
                      <a:pt x="1389" y="1787"/>
                      <a:pt x="1388" y="1786"/>
                      <a:pt x="1388" y="1786"/>
                    </a:cubicBezTo>
                    <a:cubicBezTo>
                      <a:pt x="1375" y="1786"/>
                      <a:pt x="1365" y="1796"/>
                      <a:pt x="1361" y="1807"/>
                    </a:cubicBezTo>
                    <a:cubicBezTo>
                      <a:pt x="1357" y="1810"/>
                      <a:pt x="1353" y="1813"/>
                      <a:pt x="1350" y="1816"/>
                    </a:cubicBezTo>
                    <a:cubicBezTo>
                      <a:pt x="1344" y="1816"/>
                      <a:pt x="1338" y="1816"/>
                      <a:pt x="1331" y="1816"/>
                    </a:cubicBezTo>
                    <a:cubicBezTo>
                      <a:pt x="1329" y="1821"/>
                      <a:pt x="1320" y="1829"/>
                      <a:pt x="1316" y="1832"/>
                    </a:cubicBezTo>
                    <a:cubicBezTo>
                      <a:pt x="1311" y="1832"/>
                      <a:pt x="1308" y="1832"/>
                      <a:pt x="1304" y="1833"/>
                    </a:cubicBezTo>
                    <a:cubicBezTo>
                      <a:pt x="1301" y="1830"/>
                      <a:pt x="1299" y="1826"/>
                      <a:pt x="1296" y="1824"/>
                    </a:cubicBezTo>
                    <a:cubicBezTo>
                      <a:pt x="1293" y="1814"/>
                      <a:pt x="1274" y="1830"/>
                      <a:pt x="1272" y="1830"/>
                    </a:cubicBezTo>
                    <a:cubicBezTo>
                      <a:pt x="1267" y="1830"/>
                      <a:pt x="1263" y="1830"/>
                      <a:pt x="1259" y="1830"/>
                    </a:cubicBezTo>
                    <a:cubicBezTo>
                      <a:pt x="1251" y="1821"/>
                      <a:pt x="1246" y="1817"/>
                      <a:pt x="1238" y="1819"/>
                    </a:cubicBezTo>
                    <a:cubicBezTo>
                      <a:pt x="1234" y="1824"/>
                      <a:pt x="1229" y="1829"/>
                      <a:pt x="1224" y="1834"/>
                    </a:cubicBezTo>
                    <a:cubicBezTo>
                      <a:pt x="1219" y="1834"/>
                      <a:pt x="1215" y="1834"/>
                      <a:pt x="1211" y="1835"/>
                    </a:cubicBezTo>
                    <a:cubicBezTo>
                      <a:pt x="1204" y="1831"/>
                      <a:pt x="1200" y="1828"/>
                      <a:pt x="1197" y="1828"/>
                    </a:cubicBezTo>
                    <a:cubicBezTo>
                      <a:pt x="1190" y="1835"/>
                      <a:pt x="1192" y="1833"/>
                      <a:pt x="1191" y="1842"/>
                    </a:cubicBezTo>
                    <a:cubicBezTo>
                      <a:pt x="1199" y="1853"/>
                      <a:pt x="1200" y="1854"/>
                      <a:pt x="1200" y="1872"/>
                    </a:cubicBezTo>
                    <a:cubicBezTo>
                      <a:pt x="1197" y="1880"/>
                      <a:pt x="1200" y="1887"/>
                      <a:pt x="1203" y="1898"/>
                    </a:cubicBezTo>
                    <a:cubicBezTo>
                      <a:pt x="1203" y="1902"/>
                      <a:pt x="1203" y="1905"/>
                      <a:pt x="1203" y="1908"/>
                    </a:cubicBezTo>
                    <a:cubicBezTo>
                      <a:pt x="1201" y="1909"/>
                      <a:pt x="1200" y="1911"/>
                      <a:pt x="1198" y="1914"/>
                    </a:cubicBezTo>
                    <a:cubicBezTo>
                      <a:pt x="1194" y="1914"/>
                      <a:pt x="1191" y="1914"/>
                      <a:pt x="1187" y="1914"/>
                    </a:cubicBezTo>
                    <a:cubicBezTo>
                      <a:pt x="1179" y="1908"/>
                      <a:pt x="1170" y="1902"/>
                      <a:pt x="1161" y="1896"/>
                    </a:cubicBezTo>
                    <a:cubicBezTo>
                      <a:pt x="1161" y="1887"/>
                      <a:pt x="1161" y="1879"/>
                      <a:pt x="1161" y="1872"/>
                    </a:cubicBezTo>
                    <a:cubicBezTo>
                      <a:pt x="1158" y="1867"/>
                      <a:pt x="1155" y="1867"/>
                      <a:pt x="1152" y="1867"/>
                    </a:cubicBezTo>
                    <a:cubicBezTo>
                      <a:pt x="1146" y="1872"/>
                      <a:pt x="1137" y="1881"/>
                      <a:pt x="1130" y="1885"/>
                    </a:cubicBezTo>
                    <a:cubicBezTo>
                      <a:pt x="1128" y="1885"/>
                      <a:pt x="1128" y="1885"/>
                      <a:pt x="1126" y="1885"/>
                    </a:cubicBezTo>
                    <a:cubicBezTo>
                      <a:pt x="1122" y="1881"/>
                      <a:pt x="1118" y="1879"/>
                      <a:pt x="1115" y="1878"/>
                    </a:cubicBezTo>
                    <a:cubicBezTo>
                      <a:pt x="1109" y="1871"/>
                      <a:pt x="1106" y="1865"/>
                      <a:pt x="1102" y="1863"/>
                    </a:cubicBezTo>
                    <a:cubicBezTo>
                      <a:pt x="1099" y="1858"/>
                      <a:pt x="1095" y="1854"/>
                      <a:pt x="1092" y="1850"/>
                    </a:cubicBezTo>
                    <a:cubicBezTo>
                      <a:pt x="1058" y="1848"/>
                      <a:pt x="1063" y="1837"/>
                      <a:pt x="1063" y="1811"/>
                    </a:cubicBezTo>
                    <a:cubicBezTo>
                      <a:pt x="1064" y="1808"/>
                      <a:pt x="1065" y="1805"/>
                      <a:pt x="1067" y="1802"/>
                    </a:cubicBezTo>
                    <a:cubicBezTo>
                      <a:pt x="1066" y="1798"/>
                      <a:pt x="1066" y="1794"/>
                      <a:pt x="1066" y="1791"/>
                    </a:cubicBezTo>
                    <a:cubicBezTo>
                      <a:pt x="1060" y="1789"/>
                      <a:pt x="1054" y="1786"/>
                      <a:pt x="1048" y="1785"/>
                    </a:cubicBezTo>
                    <a:cubicBezTo>
                      <a:pt x="1047" y="1784"/>
                      <a:pt x="1046" y="1783"/>
                      <a:pt x="1045" y="1782"/>
                    </a:cubicBezTo>
                    <a:cubicBezTo>
                      <a:pt x="1045" y="1778"/>
                      <a:pt x="1045" y="1775"/>
                      <a:pt x="1045" y="1772"/>
                    </a:cubicBezTo>
                    <a:cubicBezTo>
                      <a:pt x="1042" y="1772"/>
                      <a:pt x="1040" y="1760"/>
                      <a:pt x="1040" y="1758"/>
                    </a:cubicBezTo>
                    <a:cubicBezTo>
                      <a:pt x="1038" y="1753"/>
                      <a:pt x="1035" y="1748"/>
                      <a:pt x="1033" y="1743"/>
                    </a:cubicBezTo>
                    <a:cubicBezTo>
                      <a:pt x="1030" y="1729"/>
                      <a:pt x="1027" y="1728"/>
                      <a:pt x="1019" y="1728"/>
                    </a:cubicBezTo>
                    <a:cubicBezTo>
                      <a:pt x="1012" y="1731"/>
                      <a:pt x="1005" y="1735"/>
                      <a:pt x="998" y="1739"/>
                    </a:cubicBezTo>
                    <a:cubicBezTo>
                      <a:pt x="989" y="1739"/>
                      <a:pt x="986" y="1738"/>
                      <a:pt x="983" y="1735"/>
                    </a:cubicBezTo>
                    <a:cubicBezTo>
                      <a:pt x="983" y="1719"/>
                      <a:pt x="983" y="1703"/>
                      <a:pt x="983" y="1686"/>
                    </a:cubicBezTo>
                    <a:cubicBezTo>
                      <a:pt x="993" y="1658"/>
                      <a:pt x="1008" y="1647"/>
                      <a:pt x="1033" y="1631"/>
                    </a:cubicBezTo>
                    <a:cubicBezTo>
                      <a:pt x="1039" y="1631"/>
                      <a:pt x="1038" y="1606"/>
                      <a:pt x="1038" y="1605"/>
                    </a:cubicBezTo>
                    <a:cubicBezTo>
                      <a:pt x="1044" y="1592"/>
                      <a:pt x="1043" y="1584"/>
                      <a:pt x="1043" y="1573"/>
                    </a:cubicBezTo>
                    <a:cubicBezTo>
                      <a:pt x="1045" y="1564"/>
                      <a:pt x="1045" y="1562"/>
                      <a:pt x="1049" y="1559"/>
                    </a:cubicBezTo>
                    <a:cubicBezTo>
                      <a:pt x="1049" y="1553"/>
                      <a:pt x="1049" y="1548"/>
                      <a:pt x="1050" y="1543"/>
                    </a:cubicBezTo>
                    <a:cubicBezTo>
                      <a:pt x="1043" y="1529"/>
                      <a:pt x="1029" y="1525"/>
                      <a:pt x="1025" y="1518"/>
                    </a:cubicBezTo>
                    <a:cubicBezTo>
                      <a:pt x="1025" y="1511"/>
                      <a:pt x="1025" y="1505"/>
                      <a:pt x="1025" y="1499"/>
                    </a:cubicBezTo>
                    <a:cubicBezTo>
                      <a:pt x="1024" y="1499"/>
                      <a:pt x="1024" y="1499"/>
                      <a:pt x="1023" y="1499"/>
                    </a:cubicBezTo>
                    <a:cubicBezTo>
                      <a:pt x="1018" y="1488"/>
                      <a:pt x="1010" y="1480"/>
                      <a:pt x="1006" y="1476"/>
                    </a:cubicBezTo>
                    <a:cubicBezTo>
                      <a:pt x="1002" y="1476"/>
                      <a:pt x="999" y="1476"/>
                      <a:pt x="996" y="1476"/>
                    </a:cubicBezTo>
                    <a:cubicBezTo>
                      <a:pt x="993" y="1478"/>
                      <a:pt x="991" y="1481"/>
                      <a:pt x="988" y="1483"/>
                    </a:cubicBezTo>
                    <a:cubicBezTo>
                      <a:pt x="988" y="1491"/>
                      <a:pt x="988" y="1505"/>
                      <a:pt x="981" y="1512"/>
                    </a:cubicBezTo>
                    <a:cubicBezTo>
                      <a:pt x="977" y="1512"/>
                      <a:pt x="973" y="1512"/>
                      <a:pt x="969" y="1512"/>
                    </a:cubicBezTo>
                    <a:cubicBezTo>
                      <a:pt x="955" y="1506"/>
                      <a:pt x="949" y="1503"/>
                      <a:pt x="949" y="1491"/>
                    </a:cubicBezTo>
                    <a:cubicBezTo>
                      <a:pt x="936" y="1485"/>
                      <a:pt x="926" y="1483"/>
                      <a:pt x="920" y="1480"/>
                    </a:cubicBezTo>
                    <a:cubicBezTo>
                      <a:pt x="917" y="1478"/>
                      <a:pt x="915" y="1475"/>
                      <a:pt x="914" y="1473"/>
                    </a:cubicBezTo>
                    <a:cubicBezTo>
                      <a:pt x="911" y="1473"/>
                      <a:pt x="908" y="1473"/>
                      <a:pt x="906" y="1473"/>
                    </a:cubicBezTo>
                    <a:cubicBezTo>
                      <a:pt x="895" y="1482"/>
                      <a:pt x="882" y="1490"/>
                      <a:pt x="870" y="1498"/>
                    </a:cubicBezTo>
                    <a:cubicBezTo>
                      <a:pt x="853" y="1501"/>
                      <a:pt x="854" y="1506"/>
                      <a:pt x="845" y="1517"/>
                    </a:cubicBezTo>
                    <a:cubicBezTo>
                      <a:pt x="825" y="1517"/>
                      <a:pt x="825" y="1521"/>
                      <a:pt x="813" y="1536"/>
                    </a:cubicBezTo>
                    <a:cubicBezTo>
                      <a:pt x="806" y="1541"/>
                      <a:pt x="797" y="1542"/>
                      <a:pt x="789" y="1543"/>
                    </a:cubicBezTo>
                    <a:cubicBezTo>
                      <a:pt x="789" y="1545"/>
                      <a:pt x="788" y="1545"/>
                      <a:pt x="788" y="1547"/>
                    </a:cubicBezTo>
                    <a:cubicBezTo>
                      <a:pt x="771" y="1545"/>
                      <a:pt x="754" y="1545"/>
                      <a:pt x="737" y="1544"/>
                    </a:cubicBezTo>
                    <a:cubicBezTo>
                      <a:pt x="726" y="1547"/>
                      <a:pt x="711" y="1546"/>
                      <a:pt x="706" y="1538"/>
                    </a:cubicBezTo>
                    <a:cubicBezTo>
                      <a:pt x="706" y="1535"/>
                      <a:pt x="706" y="1532"/>
                      <a:pt x="706" y="1529"/>
                    </a:cubicBezTo>
                    <a:cubicBezTo>
                      <a:pt x="709" y="1521"/>
                      <a:pt x="712" y="1514"/>
                      <a:pt x="716" y="1506"/>
                    </a:cubicBezTo>
                    <a:cubicBezTo>
                      <a:pt x="707" y="1503"/>
                      <a:pt x="699" y="1497"/>
                      <a:pt x="696" y="1494"/>
                    </a:cubicBezTo>
                    <a:cubicBezTo>
                      <a:pt x="695" y="1489"/>
                      <a:pt x="693" y="1484"/>
                      <a:pt x="692" y="1479"/>
                    </a:cubicBezTo>
                    <a:cubicBezTo>
                      <a:pt x="681" y="1479"/>
                      <a:pt x="674" y="1478"/>
                      <a:pt x="666" y="1476"/>
                    </a:cubicBezTo>
                    <a:cubicBezTo>
                      <a:pt x="663" y="1472"/>
                      <a:pt x="660" y="1468"/>
                      <a:pt x="658" y="1465"/>
                    </a:cubicBezTo>
                    <a:cubicBezTo>
                      <a:pt x="651" y="1462"/>
                      <a:pt x="644" y="1460"/>
                      <a:pt x="638" y="1457"/>
                    </a:cubicBezTo>
                    <a:cubicBezTo>
                      <a:pt x="623" y="1447"/>
                      <a:pt x="611" y="1441"/>
                      <a:pt x="602" y="1457"/>
                    </a:cubicBezTo>
                    <a:cubicBezTo>
                      <a:pt x="597" y="1459"/>
                      <a:pt x="592" y="1462"/>
                      <a:pt x="587" y="1464"/>
                    </a:cubicBezTo>
                    <a:cubicBezTo>
                      <a:pt x="585" y="1466"/>
                      <a:pt x="583" y="1468"/>
                      <a:pt x="581" y="1470"/>
                    </a:cubicBezTo>
                    <a:cubicBezTo>
                      <a:pt x="579" y="1479"/>
                      <a:pt x="576" y="1488"/>
                      <a:pt x="573" y="1498"/>
                    </a:cubicBezTo>
                    <a:cubicBezTo>
                      <a:pt x="569" y="1498"/>
                      <a:pt x="565" y="1498"/>
                      <a:pt x="562" y="1498"/>
                    </a:cubicBezTo>
                    <a:cubicBezTo>
                      <a:pt x="544" y="1492"/>
                      <a:pt x="548" y="1479"/>
                      <a:pt x="548" y="1469"/>
                    </a:cubicBezTo>
                    <a:cubicBezTo>
                      <a:pt x="550" y="1464"/>
                      <a:pt x="552" y="1458"/>
                      <a:pt x="554" y="1452"/>
                    </a:cubicBezTo>
                    <a:cubicBezTo>
                      <a:pt x="552" y="1449"/>
                      <a:pt x="550" y="1447"/>
                      <a:pt x="548" y="1446"/>
                    </a:cubicBezTo>
                    <a:cubicBezTo>
                      <a:pt x="531" y="1447"/>
                      <a:pt x="515" y="1451"/>
                      <a:pt x="503" y="1457"/>
                    </a:cubicBezTo>
                    <a:cubicBezTo>
                      <a:pt x="497" y="1464"/>
                      <a:pt x="481" y="1457"/>
                      <a:pt x="479" y="1456"/>
                    </a:cubicBezTo>
                    <a:cubicBezTo>
                      <a:pt x="473" y="1448"/>
                      <a:pt x="466" y="1440"/>
                      <a:pt x="460" y="1433"/>
                    </a:cubicBezTo>
                    <a:cubicBezTo>
                      <a:pt x="447" y="1433"/>
                      <a:pt x="434" y="1433"/>
                      <a:pt x="421" y="1434"/>
                    </a:cubicBezTo>
                    <a:cubicBezTo>
                      <a:pt x="419" y="1432"/>
                      <a:pt x="417" y="1431"/>
                      <a:pt x="415" y="1430"/>
                    </a:cubicBezTo>
                    <a:cubicBezTo>
                      <a:pt x="407" y="1420"/>
                      <a:pt x="407" y="1410"/>
                      <a:pt x="403" y="1404"/>
                    </a:cubicBezTo>
                    <a:cubicBezTo>
                      <a:pt x="394" y="1403"/>
                      <a:pt x="389" y="1397"/>
                      <a:pt x="389" y="1394"/>
                    </a:cubicBezTo>
                    <a:cubicBezTo>
                      <a:pt x="384" y="1392"/>
                      <a:pt x="380" y="1390"/>
                      <a:pt x="376" y="1387"/>
                    </a:cubicBezTo>
                    <a:cubicBezTo>
                      <a:pt x="373" y="1384"/>
                      <a:pt x="366" y="1386"/>
                      <a:pt x="366" y="1386"/>
                    </a:cubicBezTo>
                    <a:cubicBezTo>
                      <a:pt x="360" y="1382"/>
                      <a:pt x="355" y="1378"/>
                      <a:pt x="351" y="1375"/>
                    </a:cubicBezTo>
                    <a:cubicBezTo>
                      <a:pt x="336" y="1360"/>
                      <a:pt x="342" y="1344"/>
                      <a:pt x="337" y="1332"/>
                    </a:cubicBezTo>
                    <a:cubicBezTo>
                      <a:pt x="330" y="1332"/>
                      <a:pt x="322" y="1333"/>
                      <a:pt x="315" y="1333"/>
                    </a:cubicBezTo>
                    <a:cubicBezTo>
                      <a:pt x="301" y="1329"/>
                      <a:pt x="299" y="1323"/>
                      <a:pt x="297" y="1315"/>
                    </a:cubicBezTo>
                    <a:cubicBezTo>
                      <a:pt x="295" y="1312"/>
                      <a:pt x="293" y="1309"/>
                      <a:pt x="291" y="1305"/>
                    </a:cubicBezTo>
                    <a:cubicBezTo>
                      <a:pt x="281" y="1298"/>
                      <a:pt x="271" y="1291"/>
                      <a:pt x="261" y="1283"/>
                    </a:cubicBezTo>
                    <a:cubicBezTo>
                      <a:pt x="255" y="1274"/>
                      <a:pt x="249" y="1264"/>
                      <a:pt x="244" y="1255"/>
                    </a:cubicBezTo>
                    <a:cubicBezTo>
                      <a:pt x="232" y="1255"/>
                      <a:pt x="225" y="1260"/>
                      <a:pt x="218" y="1265"/>
                    </a:cubicBezTo>
                    <a:cubicBezTo>
                      <a:pt x="210" y="1265"/>
                      <a:pt x="202" y="1265"/>
                      <a:pt x="194" y="1265"/>
                    </a:cubicBezTo>
                    <a:cubicBezTo>
                      <a:pt x="185" y="1259"/>
                      <a:pt x="181" y="1252"/>
                      <a:pt x="178" y="1248"/>
                    </a:cubicBezTo>
                    <a:cubicBezTo>
                      <a:pt x="176" y="1245"/>
                      <a:pt x="175" y="1242"/>
                      <a:pt x="174" y="1239"/>
                    </a:cubicBezTo>
                    <a:cubicBezTo>
                      <a:pt x="173" y="1221"/>
                      <a:pt x="163" y="1211"/>
                      <a:pt x="157" y="1200"/>
                    </a:cubicBezTo>
                    <a:cubicBezTo>
                      <a:pt x="148" y="1195"/>
                      <a:pt x="139" y="1189"/>
                      <a:pt x="130" y="1184"/>
                    </a:cubicBezTo>
                    <a:cubicBezTo>
                      <a:pt x="118" y="1180"/>
                      <a:pt x="107" y="1176"/>
                      <a:pt x="102" y="1172"/>
                    </a:cubicBezTo>
                    <a:cubicBezTo>
                      <a:pt x="97" y="1159"/>
                      <a:pt x="103" y="1150"/>
                      <a:pt x="111" y="1142"/>
                    </a:cubicBezTo>
                    <a:cubicBezTo>
                      <a:pt x="111" y="1129"/>
                      <a:pt x="112" y="1117"/>
                      <a:pt x="113" y="1105"/>
                    </a:cubicBezTo>
                    <a:cubicBezTo>
                      <a:pt x="105" y="1083"/>
                      <a:pt x="103" y="1080"/>
                      <a:pt x="127" y="1080"/>
                    </a:cubicBezTo>
                    <a:cubicBezTo>
                      <a:pt x="133" y="1084"/>
                      <a:pt x="134" y="1085"/>
                      <a:pt x="139" y="1096"/>
                    </a:cubicBezTo>
                    <a:cubicBezTo>
                      <a:pt x="142" y="1097"/>
                      <a:pt x="144" y="1098"/>
                      <a:pt x="146" y="1098"/>
                    </a:cubicBezTo>
                    <a:cubicBezTo>
                      <a:pt x="155" y="1089"/>
                      <a:pt x="151" y="1068"/>
                      <a:pt x="151" y="1059"/>
                    </a:cubicBezTo>
                    <a:cubicBezTo>
                      <a:pt x="147" y="1048"/>
                      <a:pt x="143" y="1037"/>
                      <a:pt x="139" y="1026"/>
                    </a:cubicBezTo>
                    <a:cubicBezTo>
                      <a:pt x="139" y="1003"/>
                      <a:pt x="139" y="1002"/>
                      <a:pt x="151" y="990"/>
                    </a:cubicBezTo>
                    <a:cubicBezTo>
                      <a:pt x="152" y="987"/>
                      <a:pt x="154" y="984"/>
                      <a:pt x="155" y="982"/>
                    </a:cubicBezTo>
                    <a:cubicBezTo>
                      <a:pt x="155" y="981"/>
                      <a:pt x="155" y="979"/>
                      <a:pt x="155" y="979"/>
                    </a:cubicBezTo>
                    <a:cubicBezTo>
                      <a:pt x="149" y="974"/>
                      <a:pt x="143" y="970"/>
                      <a:pt x="137" y="966"/>
                    </a:cubicBezTo>
                    <a:cubicBezTo>
                      <a:pt x="134" y="966"/>
                      <a:pt x="133" y="962"/>
                      <a:pt x="132" y="960"/>
                    </a:cubicBezTo>
                    <a:cubicBezTo>
                      <a:pt x="122" y="952"/>
                      <a:pt x="127" y="937"/>
                      <a:pt x="127" y="930"/>
                    </a:cubicBezTo>
                    <a:cubicBezTo>
                      <a:pt x="127" y="928"/>
                      <a:pt x="128" y="926"/>
                      <a:pt x="129" y="925"/>
                    </a:cubicBezTo>
                    <a:cubicBezTo>
                      <a:pt x="127" y="905"/>
                      <a:pt x="114" y="910"/>
                      <a:pt x="104" y="908"/>
                    </a:cubicBezTo>
                    <a:cubicBezTo>
                      <a:pt x="90" y="903"/>
                      <a:pt x="81" y="885"/>
                      <a:pt x="78" y="877"/>
                    </a:cubicBezTo>
                    <a:cubicBezTo>
                      <a:pt x="52" y="870"/>
                      <a:pt x="57" y="869"/>
                      <a:pt x="57" y="847"/>
                    </a:cubicBezTo>
                    <a:cubicBezTo>
                      <a:pt x="59" y="841"/>
                      <a:pt x="61" y="836"/>
                      <a:pt x="63" y="831"/>
                    </a:cubicBezTo>
                    <a:cubicBezTo>
                      <a:pt x="61" y="815"/>
                      <a:pt x="48" y="807"/>
                      <a:pt x="40" y="801"/>
                    </a:cubicBezTo>
                    <a:cubicBezTo>
                      <a:pt x="33" y="797"/>
                      <a:pt x="26" y="794"/>
                      <a:pt x="19" y="790"/>
                    </a:cubicBezTo>
                    <a:cubicBezTo>
                      <a:pt x="18" y="788"/>
                      <a:pt x="17" y="787"/>
                      <a:pt x="17" y="786"/>
                    </a:cubicBezTo>
                    <a:cubicBezTo>
                      <a:pt x="17" y="760"/>
                      <a:pt x="15" y="766"/>
                      <a:pt x="35" y="756"/>
                    </a:cubicBezTo>
                    <a:cubicBezTo>
                      <a:pt x="38" y="754"/>
                      <a:pt x="40" y="753"/>
                      <a:pt x="43" y="751"/>
                    </a:cubicBezTo>
                    <a:cubicBezTo>
                      <a:pt x="43" y="732"/>
                      <a:pt x="47" y="706"/>
                      <a:pt x="40" y="693"/>
                    </a:cubicBezTo>
                    <a:cubicBezTo>
                      <a:pt x="32" y="687"/>
                      <a:pt x="21" y="689"/>
                      <a:pt x="16" y="691"/>
                    </a:cubicBezTo>
                    <a:cubicBezTo>
                      <a:pt x="14" y="700"/>
                      <a:pt x="5" y="692"/>
                      <a:pt x="4" y="691"/>
                    </a:cubicBezTo>
                    <a:cubicBezTo>
                      <a:pt x="2" y="681"/>
                      <a:pt x="0" y="673"/>
                      <a:pt x="1" y="666"/>
                    </a:cubicBezTo>
                    <a:cubicBezTo>
                      <a:pt x="5" y="663"/>
                      <a:pt x="9" y="662"/>
                      <a:pt x="14" y="660"/>
                    </a:cubicBezTo>
                    <a:cubicBezTo>
                      <a:pt x="14" y="650"/>
                      <a:pt x="7" y="649"/>
                      <a:pt x="5" y="645"/>
                    </a:cubicBezTo>
                    <a:cubicBezTo>
                      <a:pt x="5" y="629"/>
                      <a:pt x="5" y="636"/>
                      <a:pt x="19" y="629"/>
                    </a:cubicBezTo>
                    <a:cubicBezTo>
                      <a:pt x="25" y="623"/>
                      <a:pt x="28" y="616"/>
                      <a:pt x="32" y="610"/>
                    </a:cubicBezTo>
                    <a:cubicBezTo>
                      <a:pt x="36" y="607"/>
                      <a:pt x="40" y="604"/>
                      <a:pt x="45" y="602"/>
                    </a:cubicBezTo>
                    <a:cubicBezTo>
                      <a:pt x="49" y="601"/>
                      <a:pt x="52" y="600"/>
                      <a:pt x="56" y="599"/>
                    </a:cubicBezTo>
                    <a:cubicBezTo>
                      <a:pt x="64" y="599"/>
                      <a:pt x="99" y="599"/>
                      <a:pt x="110" y="588"/>
                    </a:cubicBezTo>
                    <a:cubicBezTo>
                      <a:pt x="122" y="588"/>
                      <a:pt x="125" y="581"/>
                      <a:pt x="128" y="599"/>
                    </a:cubicBezTo>
                    <a:cubicBezTo>
                      <a:pt x="133" y="611"/>
                      <a:pt x="134" y="615"/>
                      <a:pt x="152" y="613"/>
                    </a:cubicBezTo>
                    <a:cubicBezTo>
                      <a:pt x="159" y="606"/>
                      <a:pt x="165" y="594"/>
                      <a:pt x="172" y="589"/>
                    </a:cubicBezTo>
                    <a:cubicBezTo>
                      <a:pt x="179" y="589"/>
                      <a:pt x="187" y="592"/>
                      <a:pt x="198" y="589"/>
                    </a:cubicBezTo>
                    <a:cubicBezTo>
                      <a:pt x="204" y="578"/>
                      <a:pt x="213" y="578"/>
                      <a:pt x="226" y="577"/>
                    </a:cubicBezTo>
                    <a:cubicBezTo>
                      <a:pt x="233" y="579"/>
                      <a:pt x="240" y="582"/>
                      <a:pt x="247" y="585"/>
                    </a:cubicBezTo>
                    <a:cubicBezTo>
                      <a:pt x="250" y="580"/>
                      <a:pt x="282" y="578"/>
                      <a:pt x="296" y="575"/>
                    </a:cubicBezTo>
                    <a:cubicBezTo>
                      <a:pt x="302" y="571"/>
                      <a:pt x="308" y="567"/>
                      <a:pt x="315" y="564"/>
                    </a:cubicBezTo>
                    <a:cubicBezTo>
                      <a:pt x="319" y="549"/>
                      <a:pt x="319" y="548"/>
                      <a:pt x="331" y="540"/>
                    </a:cubicBezTo>
                    <a:cubicBezTo>
                      <a:pt x="335" y="530"/>
                      <a:pt x="339" y="521"/>
                      <a:pt x="343" y="512"/>
                    </a:cubicBezTo>
                    <a:cubicBezTo>
                      <a:pt x="349" y="509"/>
                      <a:pt x="354" y="506"/>
                      <a:pt x="359" y="503"/>
                    </a:cubicBezTo>
                    <a:cubicBezTo>
                      <a:pt x="361" y="497"/>
                      <a:pt x="363" y="492"/>
                      <a:pt x="366" y="486"/>
                    </a:cubicBezTo>
                    <a:cubicBezTo>
                      <a:pt x="366" y="478"/>
                      <a:pt x="366" y="471"/>
                      <a:pt x="367" y="463"/>
                    </a:cubicBezTo>
                    <a:cubicBezTo>
                      <a:pt x="366" y="459"/>
                      <a:pt x="364" y="455"/>
                      <a:pt x="363" y="451"/>
                    </a:cubicBezTo>
                    <a:cubicBezTo>
                      <a:pt x="363" y="447"/>
                      <a:pt x="363" y="443"/>
                      <a:pt x="363" y="439"/>
                    </a:cubicBezTo>
                    <a:cubicBezTo>
                      <a:pt x="367" y="432"/>
                      <a:pt x="367" y="422"/>
                      <a:pt x="367" y="415"/>
                    </a:cubicBezTo>
                    <a:cubicBezTo>
                      <a:pt x="359" y="407"/>
                      <a:pt x="362" y="405"/>
                      <a:pt x="362" y="400"/>
                    </a:cubicBezTo>
                    <a:cubicBezTo>
                      <a:pt x="364" y="397"/>
                      <a:pt x="395" y="399"/>
                      <a:pt x="405" y="399"/>
                    </a:cubicBezTo>
                    <a:cubicBezTo>
                      <a:pt x="417" y="401"/>
                      <a:pt x="428" y="405"/>
                      <a:pt x="444" y="406"/>
                    </a:cubicBezTo>
                    <a:cubicBezTo>
                      <a:pt x="450" y="409"/>
                      <a:pt x="456" y="412"/>
                      <a:pt x="463" y="414"/>
                    </a:cubicBezTo>
                    <a:cubicBezTo>
                      <a:pt x="464" y="412"/>
                      <a:pt x="466" y="411"/>
                      <a:pt x="467" y="409"/>
                    </a:cubicBezTo>
                    <a:cubicBezTo>
                      <a:pt x="466" y="407"/>
                      <a:pt x="465" y="405"/>
                      <a:pt x="464" y="404"/>
                    </a:cubicBezTo>
                    <a:cubicBezTo>
                      <a:pt x="464" y="398"/>
                      <a:pt x="464" y="392"/>
                      <a:pt x="464" y="386"/>
                    </a:cubicBezTo>
                    <a:cubicBezTo>
                      <a:pt x="470" y="376"/>
                      <a:pt x="479" y="365"/>
                      <a:pt x="487" y="356"/>
                    </a:cubicBezTo>
                    <a:cubicBezTo>
                      <a:pt x="489" y="339"/>
                      <a:pt x="495" y="336"/>
                      <a:pt x="505" y="325"/>
                    </a:cubicBezTo>
                    <a:cubicBezTo>
                      <a:pt x="510" y="310"/>
                      <a:pt x="509" y="311"/>
                      <a:pt x="526" y="311"/>
                    </a:cubicBezTo>
                    <a:cubicBezTo>
                      <a:pt x="533" y="314"/>
                      <a:pt x="547" y="327"/>
                      <a:pt x="560" y="331"/>
                    </a:cubicBezTo>
                    <a:cubicBezTo>
                      <a:pt x="566" y="331"/>
                      <a:pt x="575" y="330"/>
                      <a:pt x="583" y="338"/>
                    </a:cubicBezTo>
                    <a:cubicBezTo>
                      <a:pt x="594" y="338"/>
                      <a:pt x="612" y="339"/>
                      <a:pt x="616" y="326"/>
                    </a:cubicBezTo>
                    <a:cubicBezTo>
                      <a:pt x="616" y="322"/>
                      <a:pt x="616" y="318"/>
                      <a:pt x="616" y="314"/>
                    </a:cubicBezTo>
                    <a:cubicBezTo>
                      <a:pt x="611" y="287"/>
                      <a:pt x="616" y="289"/>
                      <a:pt x="629" y="272"/>
                    </a:cubicBezTo>
                    <a:cubicBezTo>
                      <a:pt x="642" y="265"/>
                      <a:pt x="653" y="263"/>
                      <a:pt x="671" y="262"/>
                    </a:cubicBezTo>
                    <a:cubicBezTo>
                      <a:pt x="673" y="261"/>
                      <a:pt x="674" y="260"/>
                      <a:pt x="676" y="260"/>
                    </a:cubicBezTo>
                    <a:cubicBezTo>
                      <a:pt x="677" y="255"/>
                      <a:pt x="679" y="251"/>
                      <a:pt x="681" y="246"/>
                    </a:cubicBezTo>
                    <a:cubicBezTo>
                      <a:pt x="684" y="242"/>
                      <a:pt x="687" y="240"/>
                      <a:pt x="690" y="236"/>
                    </a:cubicBezTo>
                    <a:cubicBezTo>
                      <a:pt x="699" y="236"/>
                      <a:pt x="708" y="236"/>
                      <a:pt x="718" y="236"/>
                    </a:cubicBezTo>
                    <a:cubicBezTo>
                      <a:pt x="723" y="240"/>
                      <a:pt x="725" y="247"/>
                      <a:pt x="726" y="258"/>
                    </a:cubicBezTo>
                    <a:cubicBezTo>
                      <a:pt x="728" y="267"/>
                      <a:pt x="739" y="280"/>
                      <a:pt x="746" y="294"/>
                    </a:cubicBezTo>
                    <a:cubicBezTo>
                      <a:pt x="751" y="302"/>
                      <a:pt x="765" y="304"/>
                      <a:pt x="778" y="308"/>
                    </a:cubicBezTo>
                    <a:cubicBezTo>
                      <a:pt x="784" y="312"/>
                      <a:pt x="790" y="317"/>
                      <a:pt x="797" y="322"/>
                    </a:cubicBezTo>
                    <a:cubicBezTo>
                      <a:pt x="799" y="326"/>
                      <a:pt x="801" y="330"/>
                      <a:pt x="803" y="334"/>
                    </a:cubicBezTo>
                    <a:cubicBezTo>
                      <a:pt x="804" y="342"/>
                      <a:pt x="804" y="351"/>
                      <a:pt x="806" y="360"/>
                    </a:cubicBezTo>
                    <a:cubicBezTo>
                      <a:pt x="806" y="360"/>
                      <a:pt x="806" y="360"/>
                      <a:pt x="807" y="360"/>
                    </a:cubicBezTo>
                    <a:cubicBezTo>
                      <a:pt x="810" y="366"/>
                      <a:pt x="813" y="372"/>
                      <a:pt x="816" y="379"/>
                    </a:cubicBezTo>
                    <a:cubicBezTo>
                      <a:pt x="817" y="388"/>
                      <a:pt x="820" y="409"/>
                      <a:pt x="815" y="423"/>
                    </a:cubicBezTo>
                    <a:cubicBezTo>
                      <a:pt x="808" y="428"/>
                      <a:pt x="801" y="434"/>
                      <a:pt x="795" y="439"/>
                    </a:cubicBezTo>
                    <a:cubicBezTo>
                      <a:pt x="795" y="443"/>
                      <a:pt x="794" y="446"/>
                      <a:pt x="794" y="449"/>
                    </a:cubicBezTo>
                    <a:cubicBezTo>
                      <a:pt x="794" y="451"/>
                      <a:pt x="795" y="461"/>
                      <a:pt x="800" y="469"/>
                    </a:cubicBezTo>
                    <a:cubicBezTo>
                      <a:pt x="806" y="473"/>
                      <a:pt x="811" y="477"/>
                      <a:pt x="818" y="481"/>
                    </a:cubicBezTo>
                    <a:cubicBezTo>
                      <a:pt x="824" y="483"/>
                      <a:pt x="830" y="484"/>
                      <a:pt x="837" y="485"/>
                    </a:cubicBezTo>
                    <a:cubicBezTo>
                      <a:pt x="843" y="488"/>
                      <a:pt x="850" y="492"/>
                      <a:pt x="857" y="495"/>
                    </a:cubicBezTo>
                    <a:cubicBezTo>
                      <a:pt x="870" y="496"/>
                      <a:pt x="884" y="497"/>
                      <a:pt x="897" y="499"/>
                    </a:cubicBezTo>
                    <a:cubicBezTo>
                      <a:pt x="901" y="501"/>
                      <a:pt x="904" y="503"/>
                      <a:pt x="908" y="506"/>
                    </a:cubicBezTo>
                    <a:cubicBezTo>
                      <a:pt x="924" y="524"/>
                      <a:pt x="938" y="539"/>
                      <a:pt x="964" y="547"/>
                    </a:cubicBezTo>
                    <a:cubicBezTo>
                      <a:pt x="968" y="551"/>
                      <a:pt x="972" y="555"/>
                      <a:pt x="976" y="559"/>
                    </a:cubicBezTo>
                    <a:cubicBezTo>
                      <a:pt x="978" y="567"/>
                      <a:pt x="980" y="576"/>
                      <a:pt x="983" y="585"/>
                    </a:cubicBezTo>
                    <a:cubicBezTo>
                      <a:pt x="987" y="596"/>
                      <a:pt x="1003" y="600"/>
                      <a:pt x="997" y="621"/>
                    </a:cubicBezTo>
                    <a:cubicBezTo>
                      <a:pt x="999" y="624"/>
                      <a:pt x="1000" y="632"/>
                      <a:pt x="1009" y="638"/>
                    </a:cubicBezTo>
                    <a:cubicBezTo>
                      <a:pt x="1028" y="640"/>
                      <a:pt x="1046" y="641"/>
                      <a:pt x="1068" y="650"/>
                    </a:cubicBezTo>
                    <a:cubicBezTo>
                      <a:pt x="1081" y="652"/>
                      <a:pt x="1093" y="655"/>
                      <a:pt x="1107" y="659"/>
                    </a:cubicBezTo>
                    <a:cubicBezTo>
                      <a:pt x="1135" y="659"/>
                      <a:pt x="1164" y="659"/>
                      <a:pt x="1193" y="659"/>
                    </a:cubicBezTo>
                    <a:cubicBezTo>
                      <a:pt x="1201" y="662"/>
                      <a:pt x="1218" y="664"/>
                      <a:pt x="1228" y="669"/>
                    </a:cubicBezTo>
                    <a:cubicBezTo>
                      <a:pt x="1237" y="676"/>
                      <a:pt x="1245" y="683"/>
                      <a:pt x="1254" y="691"/>
                    </a:cubicBezTo>
                    <a:cubicBezTo>
                      <a:pt x="1257" y="692"/>
                      <a:pt x="1260" y="694"/>
                      <a:pt x="1264" y="695"/>
                    </a:cubicBezTo>
                    <a:cubicBezTo>
                      <a:pt x="1272" y="696"/>
                      <a:pt x="1281" y="698"/>
                      <a:pt x="1290" y="700"/>
                    </a:cubicBezTo>
                    <a:cubicBezTo>
                      <a:pt x="1293" y="702"/>
                      <a:pt x="1297" y="705"/>
                      <a:pt x="1301" y="707"/>
                    </a:cubicBezTo>
                    <a:cubicBezTo>
                      <a:pt x="1312" y="710"/>
                      <a:pt x="1323" y="714"/>
                      <a:pt x="1334" y="718"/>
                    </a:cubicBezTo>
                    <a:cubicBezTo>
                      <a:pt x="1341" y="721"/>
                      <a:pt x="1355" y="745"/>
                      <a:pt x="1367" y="727"/>
                    </a:cubicBezTo>
                    <a:cubicBezTo>
                      <a:pt x="1370" y="724"/>
                      <a:pt x="1374" y="722"/>
                      <a:pt x="1378" y="719"/>
                    </a:cubicBezTo>
                    <a:cubicBezTo>
                      <a:pt x="1386" y="717"/>
                      <a:pt x="1394" y="712"/>
                      <a:pt x="1401" y="706"/>
                    </a:cubicBezTo>
                    <a:cubicBezTo>
                      <a:pt x="1408" y="703"/>
                      <a:pt x="1416" y="701"/>
                      <a:pt x="1423" y="698"/>
                    </a:cubicBezTo>
                    <a:cubicBezTo>
                      <a:pt x="1433" y="691"/>
                      <a:pt x="1450" y="689"/>
                      <a:pt x="1460" y="681"/>
                    </a:cubicBezTo>
                    <a:cubicBezTo>
                      <a:pt x="1463" y="679"/>
                      <a:pt x="1465" y="678"/>
                      <a:pt x="1469" y="677"/>
                    </a:cubicBezTo>
                    <a:cubicBezTo>
                      <a:pt x="1483" y="667"/>
                      <a:pt x="1503" y="673"/>
                      <a:pt x="1525" y="677"/>
                    </a:cubicBezTo>
                    <a:cubicBezTo>
                      <a:pt x="1532" y="677"/>
                      <a:pt x="1540" y="677"/>
                      <a:pt x="1548" y="677"/>
                    </a:cubicBezTo>
                    <a:cubicBezTo>
                      <a:pt x="1553" y="672"/>
                      <a:pt x="1564" y="671"/>
                      <a:pt x="1571" y="669"/>
                    </a:cubicBezTo>
                    <a:cubicBezTo>
                      <a:pt x="1575" y="666"/>
                      <a:pt x="1579" y="664"/>
                      <a:pt x="1584" y="662"/>
                    </a:cubicBezTo>
                    <a:cubicBezTo>
                      <a:pt x="1596" y="649"/>
                      <a:pt x="1604" y="633"/>
                      <a:pt x="1619" y="625"/>
                    </a:cubicBezTo>
                    <a:cubicBezTo>
                      <a:pt x="1624" y="621"/>
                      <a:pt x="1636" y="606"/>
                      <a:pt x="1642" y="606"/>
                    </a:cubicBezTo>
                    <a:cubicBezTo>
                      <a:pt x="1642" y="606"/>
                      <a:pt x="1642" y="606"/>
                      <a:pt x="1642" y="605"/>
                    </a:cubicBezTo>
                    <a:cubicBezTo>
                      <a:pt x="1647" y="602"/>
                      <a:pt x="1651" y="599"/>
                      <a:pt x="1657" y="596"/>
                    </a:cubicBezTo>
                    <a:cubicBezTo>
                      <a:pt x="1657" y="594"/>
                      <a:pt x="1657" y="591"/>
                      <a:pt x="1657" y="589"/>
                    </a:cubicBezTo>
                    <a:cubicBezTo>
                      <a:pt x="1655" y="587"/>
                      <a:pt x="1652" y="585"/>
                      <a:pt x="1649" y="583"/>
                    </a:cubicBezTo>
                    <a:cubicBezTo>
                      <a:pt x="1632" y="563"/>
                      <a:pt x="1636" y="552"/>
                      <a:pt x="1641" y="531"/>
                    </a:cubicBezTo>
                    <a:cubicBezTo>
                      <a:pt x="1644" y="524"/>
                      <a:pt x="1649" y="520"/>
                      <a:pt x="1652" y="515"/>
                    </a:cubicBezTo>
                    <a:cubicBezTo>
                      <a:pt x="1653" y="514"/>
                      <a:pt x="1655" y="513"/>
                      <a:pt x="1657" y="511"/>
                    </a:cubicBezTo>
                    <a:cubicBezTo>
                      <a:pt x="1661" y="512"/>
                      <a:pt x="1666" y="513"/>
                      <a:pt x="1670" y="514"/>
                    </a:cubicBezTo>
                    <a:cubicBezTo>
                      <a:pt x="1682" y="526"/>
                      <a:pt x="1697" y="537"/>
                      <a:pt x="1718" y="528"/>
                    </a:cubicBezTo>
                    <a:cubicBezTo>
                      <a:pt x="1724" y="520"/>
                      <a:pt x="1728" y="514"/>
                      <a:pt x="1734" y="511"/>
                    </a:cubicBezTo>
                    <a:cubicBezTo>
                      <a:pt x="1734" y="503"/>
                      <a:pt x="1750" y="491"/>
                      <a:pt x="1756" y="486"/>
                    </a:cubicBezTo>
                    <a:cubicBezTo>
                      <a:pt x="1763" y="486"/>
                      <a:pt x="1771" y="486"/>
                      <a:pt x="1778" y="487"/>
                    </a:cubicBezTo>
                    <a:cubicBezTo>
                      <a:pt x="1780" y="485"/>
                      <a:pt x="1781" y="484"/>
                      <a:pt x="1782" y="483"/>
                    </a:cubicBezTo>
                    <a:cubicBezTo>
                      <a:pt x="1794" y="479"/>
                      <a:pt x="1802" y="474"/>
                      <a:pt x="1812" y="464"/>
                    </a:cubicBezTo>
                    <a:cubicBezTo>
                      <a:pt x="1816" y="445"/>
                      <a:pt x="1819" y="434"/>
                      <a:pt x="1836" y="427"/>
                    </a:cubicBezTo>
                    <a:cubicBezTo>
                      <a:pt x="1842" y="426"/>
                      <a:pt x="1848" y="425"/>
                      <a:pt x="1854" y="424"/>
                    </a:cubicBezTo>
                    <a:cubicBezTo>
                      <a:pt x="1857" y="421"/>
                      <a:pt x="1860" y="418"/>
                      <a:pt x="1863" y="415"/>
                    </a:cubicBezTo>
                    <a:cubicBezTo>
                      <a:pt x="1874" y="407"/>
                      <a:pt x="1878" y="404"/>
                      <a:pt x="1891" y="399"/>
                    </a:cubicBezTo>
                    <a:cubicBezTo>
                      <a:pt x="1907" y="400"/>
                      <a:pt x="1923" y="401"/>
                      <a:pt x="1939" y="402"/>
                    </a:cubicBezTo>
                    <a:cubicBezTo>
                      <a:pt x="1941" y="401"/>
                      <a:pt x="1944" y="400"/>
                      <a:pt x="1947" y="399"/>
                    </a:cubicBezTo>
                    <a:cubicBezTo>
                      <a:pt x="1954" y="387"/>
                      <a:pt x="1948" y="378"/>
                      <a:pt x="1943" y="372"/>
                    </a:cubicBezTo>
                    <a:cubicBezTo>
                      <a:pt x="1931" y="363"/>
                      <a:pt x="1919" y="354"/>
                      <a:pt x="1907" y="346"/>
                    </a:cubicBezTo>
                    <a:cubicBezTo>
                      <a:pt x="1898" y="332"/>
                      <a:pt x="1897" y="328"/>
                      <a:pt x="1884" y="330"/>
                    </a:cubicBezTo>
                    <a:cubicBezTo>
                      <a:pt x="1882" y="332"/>
                      <a:pt x="1880" y="335"/>
                      <a:pt x="1878" y="339"/>
                    </a:cubicBezTo>
                    <a:cubicBezTo>
                      <a:pt x="1873" y="338"/>
                      <a:pt x="1867" y="338"/>
                      <a:pt x="1863" y="338"/>
                    </a:cubicBezTo>
                    <a:cubicBezTo>
                      <a:pt x="1862" y="342"/>
                      <a:pt x="1862" y="347"/>
                      <a:pt x="1862" y="351"/>
                    </a:cubicBezTo>
                    <a:cubicBezTo>
                      <a:pt x="1857" y="368"/>
                      <a:pt x="1827" y="351"/>
                      <a:pt x="1823" y="349"/>
                    </a:cubicBezTo>
                    <a:cubicBezTo>
                      <a:pt x="1810" y="349"/>
                      <a:pt x="1802" y="352"/>
                      <a:pt x="1796" y="361"/>
                    </a:cubicBezTo>
                    <a:cubicBezTo>
                      <a:pt x="1792" y="361"/>
                      <a:pt x="1787" y="361"/>
                      <a:pt x="1783" y="362"/>
                    </a:cubicBezTo>
                    <a:cubicBezTo>
                      <a:pt x="1766" y="356"/>
                      <a:pt x="1768" y="343"/>
                      <a:pt x="1768" y="335"/>
                    </a:cubicBezTo>
                    <a:cubicBezTo>
                      <a:pt x="1773" y="330"/>
                      <a:pt x="1778" y="327"/>
                      <a:pt x="1782" y="321"/>
                    </a:cubicBezTo>
                    <a:cubicBezTo>
                      <a:pt x="1782" y="308"/>
                      <a:pt x="1782" y="302"/>
                      <a:pt x="1784" y="293"/>
                    </a:cubicBezTo>
                    <a:cubicBezTo>
                      <a:pt x="1787" y="286"/>
                      <a:pt x="1790" y="280"/>
                      <a:pt x="1793" y="274"/>
                    </a:cubicBezTo>
                    <a:cubicBezTo>
                      <a:pt x="1793" y="256"/>
                      <a:pt x="1792" y="250"/>
                      <a:pt x="1800" y="238"/>
                    </a:cubicBezTo>
                    <a:cubicBezTo>
                      <a:pt x="1806" y="238"/>
                      <a:pt x="1812" y="237"/>
                      <a:pt x="1817" y="237"/>
                    </a:cubicBezTo>
                    <a:cubicBezTo>
                      <a:pt x="1832" y="240"/>
                      <a:pt x="1856" y="244"/>
                      <a:pt x="1870" y="226"/>
                    </a:cubicBezTo>
                    <a:cubicBezTo>
                      <a:pt x="1874" y="223"/>
                      <a:pt x="1878" y="220"/>
                      <a:pt x="1883" y="217"/>
                    </a:cubicBezTo>
                    <a:cubicBezTo>
                      <a:pt x="1886" y="214"/>
                      <a:pt x="1888" y="210"/>
                      <a:pt x="1891" y="207"/>
                    </a:cubicBezTo>
                    <a:cubicBezTo>
                      <a:pt x="1891" y="190"/>
                      <a:pt x="1891" y="174"/>
                      <a:pt x="1894" y="161"/>
                    </a:cubicBezTo>
                    <a:cubicBezTo>
                      <a:pt x="1899" y="150"/>
                      <a:pt x="1908" y="140"/>
                      <a:pt x="1911" y="130"/>
                    </a:cubicBezTo>
                    <a:cubicBezTo>
                      <a:pt x="1911" y="119"/>
                      <a:pt x="1913" y="112"/>
                      <a:pt x="1920" y="105"/>
                    </a:cubicBezTo>
                    <a:cubicBezTo>
                      <a:pt x="1919" y="100"/>
                      <a:pt x="1919" y="95"/>
                      <a:pt x="1919" y="90"/>
                    </a:cubicBezTo>
                    <a:cubicBezTo>
                      <a:pt x="1915" y="85"/>
                      <a:pt x="1910" y="80"/>
                      <a:pt x="1906" y="75"/>
                    </a:cubicBezTo>
                    <a:cubicBezTo>
                      <a:pt x="1900" y="73"/>
                      <a:pt x="1899" y="72"/>
                      <a:pt x="1896" y="69"/>
                    </a:cubicBezTo>
                    <a:cubicBezTo>
                      <a:pt x="1896" y="47"/>
                      <a:pt x="1901" y="43"/>
                      <a:pt x="1919" y="34"/>
                    </a:cubicBezTo>
                    <a:cubicBezTo>
                      <a:pt x="1932" y="34"/>
                      <a:pt x="1944" y="22"/>
                      <a:pt x="1959" y="20"/>
                    </a:cubicBezTo>
                    <a:cubicBezTo>
                      <a:pt x="1967" y="15"/>
                      <a:pt x="1975" y="10"/>
                      <a:pt x="1984" y="5"/>
                    </a:cubicBezTo>
                    <a:cubicBezTo>
                      <a:pt x="1988" y="3"/>
                      <a:pt x="1992" y="1"/>
                      <a:pt x="1997" y="0"/>
                    </a:cubicBezTo>
                    <a:cubicBezTo>
                      <a:pt x="2004" y="0"/>
                      <a:pt x="2011" y="0"/>
                      <a:pt x="2018" y="0"/>
                    </a:cubicBezTo>
                    <a:cubicBezTo>
                      <a:pt x="2021" y="1"/>
                      <a:pt x="2033" y="4"/>
                      <a:pt x="2040" y="10"/>
                    </a:cubicBezTo>
                    <a:cubicBezTo>
                      <a:pt x="2053" y="10"/>
                      <a:pt x="2063" y="7"/>
                      <a:pt x="2080" y="8"/>
                    </a:cubicBezTo>
                    <a:cubicBezTo>
                      <a:pt x="2085" y="10"/>
                      <a:pt x="2090" y="13"/>
                      <a:pt x="2095" y="16"/>
                    </a:cubicBezTo>
                    <a:cubicBezTo>
                      <a:pt x="2106" y="26"/>
                      <a:pt x="2119" y="39"/>
                      <a:pt x="2130" y="58"/>
                    </a:cubicBezTo>
                    <a:cubicBezTo>
                      <a:pt x="2137" y="62"/>
                      <a:pt x="2149" y="80"/>
                      <a:pt x="2151" y="95"/>
                    </a:cubicBezTo>
                    <a:cubicBezTo>
                      <a:pt x="2160" y="102"/>
                      <a:pt x="2170" y="110"/>
                      <a:pt x="2181" y="123"/>
                    </a:cubicBezTo>
                    <a:cubicBezTo>
                      <a:pt x="2186" y="133"/>
                      <a:pt x="2174" y="138"/>
                      <a:pt x="2191" y="147"/>
                    </a:cubicBezTo>
                    <a:cubicBezTo>
                      <a:pt x="2195" y="151"/>
                      <a:pt x="2199" y="155"/>
                      <a:pt x="2204" y="160"/>
                    </a:cubicBezTo>
                    <a:cubicBezTo>
                      <a:pt x="2204" y="164"/>
                      <a:pt x="2204" y="170"/>
                      <a:pt x="2207" y="178"/>
                    </a:cubicBezTo>
                    <a:cubicBezTo>
                      <a:pt x="2216" y="179"/>
                      <a:pt x="2223" y="179"/>
                      <a:pt x="2232" y="177"/>
                    </a:cubicBezTo>
                    <a:cubicBezTo>
                      <a:pt x="2238" y="177"/>
                      <a:pt x="2243" y="177"/>
                      <a:pt x="2250" y="177"/>
                    </a:cubicBezTo>
                    <a:cubicBezTo>
                      <a:pt x="2255" y="180"/>
                      <a:pt x="2257" y="182"/>
                      <a:pt x="2267" y="184"/>
                    </a:cubicBezTo>
                    <a:cubicBezTo>
                      <a:pt x="2267" y="183"/>
                      <a:pt x="2267" y="182"/>
                      <a:pt x="2267" y="182"/>
                    </a:cubicBezTo>
                    <a:cubicBezTo>
                      <a:pt x="2271" y="180"/>
                      <a:pt x="2276" y="180"/>
                      <a:pt x="2285" y="180"/>
                    </a:cubicBezTo>
                    <a:cubicBezTo>
                      <a:pt x="2289" y="184"/>
                      <a:pt x="2295" y="191"/>
                      <a:pt x="2305" y="198"/>
                    </a:cubicBezTo>
                    <a:cubicBezTo>
                      <a:pt x="2332" y="198"/>
                      <a:pt x="2335" y="209"/>
                      <a:pt x="2343" y="240"/>
                    </a:cubicBezTo>
                    <a:cubicBezTo>
                      <a:pt x="2348" y="245"/>
                      <a:pt x="2353" y="251"/>
                      <a:pt x="2357" y="256"/>
                    </a:cubicBezTo>
                    <a:cubicBezTo>
                      <a:pt x="2359" y="256"/>
                      <a:pt x="2361" y="256"/>
                      <a:pt x="2362" y="257"/>
                    </a:cubicBezTo>
                    <a:cubicBezTo>
                      <a:pt x="2372" y="253"/>
                      <a:pt x="2399" y="249"/>
                      <a:pt x="2408" y="240"/>
                    </a:cubicBezTo>
                    <a:cubicBezTo>
                      <a:pt x="2417" y="225"/>
                      <a:pt x="2424" y="216"/>
                      <a:pt x="2438" y="207"/>
                    </a:cubicBezTo>
                    <a:cubicBezTo>
                      <a:pt x="2446" y="194"/>
                      <a:pt x="2461" y="184"/>
                      <a:pt x="2471" y="174"/>
                    </a:cubicBezTo>
                    <a:cubicBezTo>
                      <a:pt x="2475" y="174"/>
                      <a:pt x="2478" y="169"/>
                      <a:pt x="2479" y="168"/>
                    </a:cubicBezTo>
                    <a:cubicBezTo>
                      <a:pt x="2483" y="168"/>
                      <a:pt x="2490" y="168"/>
                      <a:pt x="2498" y="172"/>
                    </a:cubicBezTo>
                    <a:cubicBezTo>
                      <a:pt x="2500" y="175"/>
                      <a:pt x="2498" y="186"/>
                      <a:pt x="2496" y="193"/>
                    </a:cubicBezTo>
                    <a:cubicBezTo>
                      <a:pt x="2496" y="198"/>
                      <a:pt x="2496" y="203"/>
                      <a:pt x="2497" y="209"/>
                    </a:cubicBezTo>
                    <a:cubicBezTo>
                      <a:pt x="2502" y="214"/>
                      <a:pt x="2510" y="219"/>
                      <a:pt x="2512" y="231"/>
                    </a:cubicBezTo>
                    <a:cubicBezTo>
                      <a:pt x="2512" y="240"/>
                      <a:pt x="2511" y="249"/>
                      <a:pt x="2511" y="257"/>
                    </a:cubicBezTo>
                    <a:cubicBezTo>
                      <a:pt x="2509" y="261"/>
                      <a:pt x="2507" y="266"/>
                      <a:pt x="2505" y="270"/>
                    </a:cubicBezTo>
                    <a:cubicBezTo>
                      <a:pt x="2500" y="276"/>
                      <a:pt x="2501" y="284"/>
                      <a:pt x="2503" y="295"/>
                    </a:cubicBezTo>
                    <a:cubicBezTo>
                      <a:pt x="2503" y="307"/>
                      <a:pt x="2503" y="320"/>
                      <a:pt x="2503" y="333"/>
                    </a:cubicBezTo>
                    <a:cubicBezTo>
                      <a:pt x="2501" y="341"/>
                      <a:pt x="2500" y="349"/>
                      <a:pt x="2498" y="358"/>
                    </a:cubicBezTo>
                    <a:cubicBezTo>
                      <a:pt x="2498" y="363"/>
                      <a:pt x="2499" y="369"/>
                      <a:pt x="2499" y="374"/>
                    </a:cubicBezTo>
                    <a:cubicBezTo>
                      <a:pt x="2496" y="377"/>
                      <a:pt x="2494" y="380"/>
                      <a:pt x="2492" y="383"/>
                    </a:cubicBezTo>
                    <a:cubicBezTo>
                      <a:pt x="2482" y="390"/>
                      <a:pt x="2465" y="386"/>
                      <a:pt x="2459" y="383"/>
                    </a:cubicBezTo>
                    <a:cubicBezTo>
                      <a:pt x="2456" y="383"/>
                      <a:pt x="2452" y="383"/>
                      <a:pt x="2448" y="383"/>
                    </a:cubicBezTo>
                    <a:cubicBezTo>
                      <a:pt x="2447" y="386"/>
                      <a:pt x="2445" y="388"/>
                      <a:pt x="2444" y="391"/>
                    </a:cubicBezTo>
                    <a:cubicBezTo>
                      <a:pt x="2431" y="405"/>
                      <a:pt x="2414" y="402"/>
                      <a:pt x="2436" y="427"/>
                    </a:cubicBezTo>
                    <a:cubicBezTo>
                      <a:pt x="2438" y="439"/>
                      <a:pt x="2445" y="457"/>
                      <a:pt x="2454" y="473"/>
                    </a:cubicBezTo>
                    <a:cubicBezTo>
                      <a:pt x="2454" y="480"/>
                      <a:pt x="2455" y="489"/>
                      <a:pt x="2461" y="501"/>
                    </a:cubicBezTo>
                    <a:cubicBezTo>
                      <a:pt x="2461" y="506"/>
                      <a:pt x="2464" y="525"/>
                      <a:pt x="2456" y="530"/>
                    </a:cubicBezTo>
                    <a:cubicBezTo>
                      <a:pt x="2454" y="534"/>
                      <a:pt x="2452" y="539"/>
                      <a:pt x="2451" y="543"/>
                    </a:cubicBezTo>
                    <a:cubicBezTo>
                      <a:pt x="2450" y="549"/>
                      <a:pt x="2449" y="555"/>
                      <a:pt x="2448" y="561"/>
                    </a:cubicBezTo>
                    <a:cubicBezTo>
                      <a:pt x="2446" y="562"/>
                      <a:pt x="2445" y="563"/>
                      <a:pt x="2443" y="564"/>
                    </a:cubicBezTo>
                    <a:cubicBezTo>
                      <a:pt x="2436" y="564"/>
                      <a:pt x="2435" y="563"/>
                      <a:pt x="2431" y="559"/>
                    </a:cubicBezTo>
                    <a:cubicBezTo>
                      <a:pt x="2424" y="562"/>
                      <a:pt x="2420" y="560"/>
                      <a:pt x="2417" y="559"/>
                    </a:cubicBezTo>
                    <a:cubicBezTo>
                      <a:pt x="2416" y="551"/>
                      <a:pt x="2416" y="543"/>
                      <a:pt x="2416" y="535"/>
                    </a:cubicBezTo>
                    <a:cubicBezTo>
                      <a:pt x="2407" y="518"/>
                      <a:pt x="2401" y="548"/>
                      <a:pt x="2399" y="553"/>
                    </a:cubicBezTo>
                    <a:cubicBezTo>
                      <a:pt x="2392" y="565"/>
                      <a:pt x="2387" y="579"/>
                      <a:pt x="2377" y="589"/>
                    </a:cubicBezTo>
                    <a:cubicBezTo>
                      <a:pt x="2369" y="593"/>
                      <a:pt x="2360" y="594"/>
                      <a:pt x="2353" y="594"/>
                    </a:cubicBezTo>
                    <a:cubicBezTo>
                      <a:pt x="2352" y="597"/>
                      <a:pt x="2350" y="598"/>
                      <a:pt x="2350" y="604"/>
                    </a:cubicBezTo>
                    <a:cubicBezTo>
                      <a:pt x="2351" y="606"/>
                      <a:pt x="2352" y="606"/>
                      <a:pt x="2353" y="608"/>
                    </a:cubicBezTo>
                    <a:cubicBezTo>
                      <a:pt x="2359" y="610"/>
                      <a:pt x="2365" y="613"/>
                      <a:pt x="2363" y="627"/>
                    </a:cubicBezTo>
                    <a:cubicBezTo>
                      <a:pt x="2359" y="632"/>
                      <a:pt x="2354" y="636"/>
                      <a:pt x="2348" y="638"/>
                    </a:cubicBezTo>
                    <a:cubicBezTo>
                      <a:pt x="2339" y="638"/>
                      <a:pt x="2330" y="638"/>
                      <a:pt x="2321" y="638"/>
                    </a:cubicBezTo>
                    <a:cubicBezTo>
                      <a:pt x="2313" y="634"/>
                      <a:pt x="2303" y="625"/>
                      <a:pt x="2297" y="631"/>
                    </a:cubicBezTo>
                    <a:cubicBezTo>
                      <a:pt x="2291" y="640"/>
                      <a:pt x="2287" y="654"/>
                      <a:pt x="2282" y="667"/>
                    </a:cubicBezTo>
                    <a:cubicBezTo>
                      <a:pt x="2278" y="672"/>
                      <a:pt x="2276" y="677"/>
                      <a:pt x="2272" y="682"/>
                    </a:cubicBezTo>
                    <a:cubicBezTo>
                      <a:pt x="2269" y="686"/>
                      <a:pt x="2265" y="689"/>
                      <a:pt x="2261" y="693"/>
                    </a:cubicBezTo>
                    <a:cubicBezTo>
                      <a:pt x="2253" y="698"/>
                      <a:pt x="2241" y="704"/>
                      <a:pt x="2238" y="711"/>
                    </a:cubicBezTo>
                    <a:cubicBezTo>
                      <a:pt x="2230" y="716"/>
                      <a:pt x="2221" y="727"/>
                      <a:pt x="2215" y="734"/>
                    </a:cubicBezTo>
                    <a:cubicBezTo>
                      <a:pt x="2215" y="740"/>
                      <a:pt x="2214" y="747"/>
                      <a:pt x="2214" y="753"/>
                    </a:cubicBezTo>
                    <a:cubicBezTo>
                      <a:pt x="2207" y="756"/>
                      <a:pt x="2200" y="759"/>
                      <a:pt x="2193" y="763"/>
                    </a:cubicBezTo>
                    <a:cubicBezTo>
                      <a:pt x="2166" y="768"/>
                      <a:pt x="2156" y="776"/>
                      <a:pt x="2138" y="796"/>
                    </a:cubicBezTo>
                    <a:cubicBezTo>
                      <a:pt x="2135" y="800"/>
                      <a:pt x="2133" y="804"/>
                      <a:pt x="2131" y="808"/>
                    </a:cubicBezTo>
                    <a:cubicBezTo>
                      <a:pt x="2130" y="817"/>
                      <a:pt x="2127" y="826"/>
                      <a:pt x="2123" y="834"/>
                    </a:cubicBezTo>
                    <a:cubicBezTo>
                      <a:pt x="2116" y="839"/>
                      <a:pt x="2091" y="841"/>
                      <a:pt x="2087" y="838"/>
                    </a:cubicBezTo>
                    <a:cubicBezTo>
                      <a:pt x="2087" y="822"/>
                      <a:pt x="2095" y="821"/>
                      <a:pt x="2104" y="810"/>
                    </a:cubicBezTo>
                    <a:cubicBezTo>
                      <a:pt x="2105" y="808"/>
                      <a:pt x="2106" y="805"/>
                      <a:pt x="2107" y="803"/>
                    </a:cubicBezTo>
                    <a:cubicBezTo>
                      <a:pt x="2091" y="795"/>
                      <a:pt x="2092" y="787"/>
                      <a:pt x="2096" y="774"/>
                    </a:cubicBezTo>
                    <a:cubicBezTo>
                      <a:pt x="2102" y="766"/>
                      <a:pt x="2107" y="759"/>
                      <a:pt x="2113" y="752"/>
                    </a:cubicBezTo>
                    <a:cubicBezTo>
                      <a:pt x="2114" y="745"/>
                      <a:pt x="2114" y="738"/>
                      <a:pt x="2115" y="731"/>
                    </a:cubicBezTo>
                    <a:cubicBezTo>
                      <a:pt x="2108" y="722"/>
                      <a:pt x="2098" y="714"/>
                      <a:pt x="2095" y="713"/>
                    </a:cubicBezTo>
                    <a:cubicBezTo>
                      <a:pt x="2089" y="714"/>
                      <a:pt x="2083" y="715"/>
                      <a:pt x="2077" y="716"/>
                    </a:cubicBezTo>
                    <a:cubicBezTo>
                      <a:pt x="2070" y="721"/>
                      <a:pt x="2061" y="733"/>
                      <a:pt x="2056" y="738"/>
                    </a:cubicBezTo>
                    <a:cubicBezTo>
                      <a:pt x="2051" y="746"/>
                      <a:pt x="2044" y="761"/>
                      <a:pt x="2036" y="769"/>
                    </a:cubicBezTo>
                    <a:cubicBezTo>
                      <a:pt x="2021" y="778"/>
                      <a:pt x="2015" y="791"/>
                      <a:pt x="2004" y="806"/>
                    </a:cubicBezTo>
                    <a:cubicBezTo>
                      <a:pt x="2003" y="808"/>
                      <a:pt x="2002" y="811"/>
                      <a:pt x="2002" y="814"/>
                    </a:cubicBezTo>
                    <a:cubicBezTo>
                      <a:pt x="1999" y="816"/>
                      <a:pt x="1995" y="819"/>
                      <a:pt x="1993" y="822"/>
                    </a:cubicBezTo>
                    <a:cubicBezTo>
                      <a:pt x="1986" y="825"/>
                      <a:pt x="1981" y="828"/>
                      <a:pt x="1975" y="832"/>
                    </a:cubicBezTo>
                    <a:cubicBezTo>
                      <a:pt x="1959" y="836"/>
                      <a:pt x="1948" y="837"/>
                      <a:pt x="1934" y="845"/>
                    </a:cubicBezTo>
                    <a:cubicBezTo>
                      <a:pt x="1928" y="858"/>
                      <a:pt x="1936" y="869"/>
                      <a:pt x="1943" y="884"/>
                    </a:cubicBezTo>
                    <a:cubicBezTo>
                      <a:pt x="1947" y="885"/>
                      <a:pt x="1949" y="895"/>
                      <a:pt x="1950" y="903"/>
                    </a:cubicBezTo>
                    <a:cubicBezTo>
                      <a:pt x="1951" y="904"/>
                      <a:pt x="1951" y="905"/>
                      <a:pt x="1952" y="906"/>
                    </a:cubicBezTo>
                    <a:cubicBezTo>
                      <a:pt x="1954" y="906"/>
                      <a:pt x="1955" y="906"/>
                      <a:pt x="1957" y="906"/>
                    </a:cubicBezTo>
                    <a:cubicBezTo>
                      <a:pt x="1963" y="891"/>
                      <a:pt x="1961" y="895"/>
                      <a:pt x="1980" y="895"/>
                    </a:cubicBezTo>
                    <a:cubicBezTo>
                      <a:pt x="1982" y="893"/>
                      <a:pt x="1986" y="893"/>
                      <a:pt x="1992" y="893"/>
                    </a:cubicBezTo>
                    <a:cubicBezTo>
                      <a:pt x="1993" y="897"/>
                      <a:pt x="1996" y="900"/>
                      <a:pt x="2001" y="907"/>
                    </a:cubicBezTo>
                    <a:cubicBezTo>
                      <a:pt x="2001" y="914"/>
                      <a:pt x="2001" y="921"/>
                      <a:pt x="2001" y="928"/>
                    </a:cubicBezTo>
                    <a:cubicBezTo>
                      <a:pt x="2005" y="934"/>
                      <a:pt x="2019" y="941"/>
                      <a:pt x="2031" y="943"/>
                    </a:cubicBezTo>
                    <a:cubicBezTo>
                      <a:pt x="2035" y="935"/>
                      <a:pt x="2040" y="927"/>
                      <a:pt x="2044" y="919"/>
                    </a:cubicBezTo>
                    <a:cubicBezTo>
                      <a:pt x="2061" y="902"/>
                      <a:pt x="2064" y="891"/>
                      <a:pt x="2093" y="897"/>
                    </a:cubicBezTo>
                    <a:cubicBezTo>
                      <a:pt x="2100" y="899"/>
                      <a:pt x="2106" y="902"/>
                      <a:pt x="2112" y="904"/>
                    </a:cubicBezTo>
                    <a:cubicBezTo>
                      <a:pt x="2128" y="904"/>
                      <a:pt x="2144" y="903"/>
                      <a:pt x="2160" y="903"/>
                    </a:cubicBezTo>
                    <a:cubicBezTo>
                      <a:pt x="2162" y="904"/>
                      <a:pt x="2165" y="906"/>
                      <a:pt x="2167" y="907"/>
                    </a:cubicBezTo>
                    <a:cubicBezTo>
                      <a:pt x="2166" y="911"/>
                      <a:pt x="2165" y="914"/>
                      <a:pt x="2165" y="918"/>
                    </a:cubicBezTo>
                    <a:cubicBezTo>
                      <a:pt x="2165" y="923"/>
                      <a:pt x="2167" y="931"/>
                      <a:pt x="2159" y="937"/>
                    </a:cubicBezTo>
                    <a:cubicBezTo>
                      <a:pt x="2153" y="937"/>
                      <a:pt x="2148" y="937"/>
                      <a:pt x="2143" y="937"/>
                    </a:cubicBezTo>
                    <a:cubicBezTo>
                      <a:pt x="2138" y="940"/>
                      <a:pt x="2132" y="943"/>
                      <a:pt x="2127" y="945"/>
                    </a:cubicBezTo>
                    <a:cubicBezTo>
                      <a:pt x="2118" y="953"/>
                      <a:pt x="2100" y="962"/>
                      <a:pt x="2097" y="975"/>
                    </a:cubicBezTo>
                    <a:cubicBezTo>
                      <a:pt x="2094" y="979"/>
                      <a:pt x="2088" y="981"/>
                      <a:pt x="2085" y="983"/>
                    </a:cubicBezTo>
                    <a:cubicBezTo>
                      <a:pt x="2079" y="988"/>
                      <a:pt x="2072" y="990"/>
                      <a:pt x="2068" y="992"/>
                    </a:cubicBezTo>
                    <a:cubicBezTo>
                      <a:pt x="2067" y="997"/>
                      <a:pt x="2066" y="1003"/>
                      <a:pt x="2066" y="1009"/>
                    </a:cubicBezTo>
                    <a:cubicBezTo>
                      <a:pt x="2061" y="1017"/>
                      <a:pt x="2051" y="1026"/>
                      <a:pt x="2047" y="1033"/>
                    </a:cubicBezTo>
                    <a:cubicBezTo>
                      <a:pt x="2047" y="1038"/>
                      <a:pt x="2046" y="1044"/>
                      <a:pt x="2046" y="1051"/>
                    </a:cubicBezTo>
                    <a:cubicBezTo>
                      <a:pt x="2044" y="1054"/>
                      <a:pt x="2042" y="1057"/>
                      <a:pt x="2040" y="1061"/>
                    </a:cubicBezTo>
                    <a:cubicBezTo>
                      <a:pt x="2039" y="1064"/>
                      <a:pt x="2039" y="1067"/>
                      <a:pt x="2039" y="1070"/>
                    </a:cubicBezTo>
                    <a:cubicBezTo>
                      <a:pt x="2041" y="1072"/>
                      <a:pt x="2052" y="1080"/>
                      <a:pt x="2063" y="1084"/>
                    </a:cubicBezTo>
                    <a:cubicBezTo>
                      <a:pt x="2065" y="1086"/>
                      <a:pt x="2075" y="1095"/>
                      <a:pt x="2085" y="1098"/>
                    </a:cubicBezTo>
                    <a:cubicBezTo>
                      <a:pt x="2093" y="1103"/>
                      <a:pt x="2105" y="1128"/>
                      <a:pt x="2112" y="1142"/>
                    </a:cubicBezTo>
                    <a:cubicBezTo>
                      <a:pt x="2117" y="1150"/>
                      <a:pt x="2122" y="1158"/>
                      <a:pt x="2127" y="1166"/>
                    </a:cubicBezTo>
                    <a:cubicBezTo>
                      <a:pt x="2127" y="1175"/>
                      <a:pt x="2132" y="1195"/>
                      <a:pt x="2147" y="1197"/>
                    </a:cubicBezTo>
                    <a:cubicBezTo>
                      <a:pt x="2159" y="1204"/>
                      <a:pt x="2170" y="1211"/>
                      <a:pt x="2182" y="1219"/>
                    </a:cubicBezTo>
                    <a:cubicBezTo>
                      <a:pt x="2183" y="1223"/>
                      <a:pt x="2184" y="1225"/>
                      <a:pt x="2184" y="1231"/>
                    </a:cubicBezTo>
                    <a:cubicBezTo>
                      <a:pt x="2181" y="1232"/>
                      <a:pt x="2179" y="1234"/>
                      <a:pt x="2177" y="1236"/>
                    </a:cubicBezTo>
                    <a:cubicBezTo>
                      <a:pt x="2170" y="1235"/>
                      <a:pt x="2162" y="1235"/>
                      <a:pt x="2155" y="1235"/>
                    </a:cubicBezTo>
                    <a:cubicBezTo>
                      <a:pt x="2155" y="1235"/>
                      <a:pt x="2156" y="1237"/>
                      <a:pt x="2156" y="1237"/>
                    </a:cubicBezTo>
                    <a:cubicBezTo>
                      <a:pt x="2161" y="1239"/>
                      <a:pt x="2174" y="1238"/>
                      <a:pt x="2174" y="1251"/>
                    </a:cubicBezTo>
                    <a:cubicBezTo>
                      <a:pt x="2172" y="1252"/>
                      <a:pt x="2171" y="1254"/>
                      <a:pt x="2171" y="1257"/>
                    </a:cubicBezTo>
                    <a:cubicBezTo>
                      <a:pt x="2177" y="1259"/>
                      <a:pt x="2184" y="1261"/>
                      <a:pt x="2193" y="1269"/>
                    </a:cubicBezTo>
                    <a:cubicBezTo>
                      <a:pt x="2192" y="1273"/>
                      <a:pt x="2192" y="1277"/>
                      <a:pt x="2192" y="1282"/>
                    </a:cubicBezTo>
                    <a:cubicBezTo>
                      <a:pt x="2189" y="1285"/>
                      <a:pt x="2187" y="1288"/>
                      <a:pt x="2184" y="1291"/>
                    </a:cubicBezTo>
                    <a:cubicBezTo>
                      <a:pt x="2167" y="1298"/>
                      <a:pt x="2159" y="1312"/>
                      <a:pt x="2144" y="1323"/>
                    </a:cubicBezTo>
                    <a:cubicBezTo>
                      <a:pt x="2139" y="1324"/>
                      <a:pt x="2136" y="1325"/>
                      <a:pt x="2132" y="1326"/>
                    </a:cubicBezTo>
                    <a:cubicBezTo>
                      <a:pt x="2132" y="1327"/>
                      <a:pt x="2132" y="1329"/>
                      <a:pt x="2132" y="1330"/>
                    </a:cubicBezTo>
                    <a:cubicBezTo>
                      <a:pt x="2134" y="1332"/>
                      <a:pt x="2138" y="1337"/>
                      <a:pt x="2146" y="1335"/>
                    </a:cubicBezTo>
                    <a:cubicBezTo>
                      <a:pt x="2157" y="1327"/>
                      <a:pt x="2156" y="1323"/>
                      <a:pt x="2172" y="1323"/>
                    </a:cubicBezTo>
                    <a:cubicBezTo>
                      <a:pt x="2184" y="1332"/>
                      <a:pt x="2194" y="1333"/>
                      <a:pt x="2213" y="1334"/>
                    </a:cubicBezTo>
                    <a:cubicBezTo>
                      <a:pt x="2220" y="1341"/>
                      <a:pt x="2198" y="1355"/>
                      <a:pt x="2193" y="1358"/>
                    </a:cubicBezTo>
                    <a:cubicBezTo>
                      <a:pt x="2191" y="1360"/>
                      <a:pt x="2186" y="1361"/>
                      <a:pt x="2188" y="1365"/>
                    </a:cubicBezTo>
                    <a:cubicBezTo>
                      <a:pt x="2191" y="1365"/>
                      <a:pt x="2193" y="1365"/>
                      <a:pt x="2196" y="1365"/>
                    </a:cubicBezTo>
                    <a:cubicBezTo>
                      <a:pt x="2198" y="1362"/>
                      <a:pt x="2200" y="1360"/>
                      <a:pt x="2202" y="1357"/>
                    </a:cubicBezTo>
                    <a:cubicBezTo>
                      <a:pt x="2204" y="1357"/>
                      <a:pt x="2206" y="1357"/>
                      <a:pt x="2208" y="1358"/>
                    </a:cubicBezTo>
                    <a:cubicBezTo>
                      <a:pt x="2210" y="1362"/>
                      <a:pt x="2211" y="1365"/>
                      <a:pt x="2211" y="1376"/>
                    </a:cubicBezTo>
                    <a:cubicBezTo>
                      <a:pt x="2210" y="1377"/>
                      <a:pt x="2208" y="1379"/>
                      <a:pt x="2207" y="1381"/>
                    </a:cubicBezTo>
                    <a:cubicBezTo>
                      <a:pt x="2202" y="1383"/>
                      <a:pt x="2190" y="1383"/>
                      <a:pt x="2190" y="1389"/>
                    </a:cubicBezTo>
                    <a:cubicBezTo>
                      <a:pt x="2193" y="1390"/>
                      <a:pt x="2197" y="1392"/>
                      <a:pt x="2200" y="1395"/>
                    </a:cubicBezTo>
                    <a:cubicBezTo>
                      <a:pt x="2200" y="1404"/>
                      <a:pt x="2199" y="1413"/>
                      <a:pt x="2199" y="1423"/>
                    </a:cubicBezTo>
                    <a:cubicBezTo>
                      <a:pt x="2200" y="1425"/>
                      <a:pt x="2201" y="1427"/>
                      <a:pt x="2202" y="1430"/>
                    </a:cubicBezTo>
                    <a:cubicBezTo>
                      <a:pt x="2202" y="1435"/>
                      <a:pt x="2201" y="1447"/>
                      <a:pt x="2195" y="1452"/>
                    </a:cubicBezTo>
                    <a:cubicBezTo>
                      <a:pt x="2191" y="1452"/>
                      <a:pt x="2188" y="1452"/>
                      <a:pt x="2185" y="1452"/>
                    </a:cubicBezTo>
                    <a:cubicBezTo>
                      <a:pt x="2184" y="1450"/>
                      <a:pt x="2183" y="1448"/>
                      <a:pt x="2183" y="1446"/>
                    </a:cubicBezTo>
                    <a:cubicBezTo>
                      <a:pt x="2159" y="1469"/>
                      <a:pt x="2159" y="1470"/>
                      <a:pt x="2158" y="1504"/>
                    </a:cubicBezTo>
                    <a:cubicBezTo>
                      <a:pt x="2157" y="1509"/>
                      <a:pt x="2147" y="1519"/>
                      <a:pt x="2142" y="1524"/>
                    </a:cubicBezTo>
                    <a:cubicBezTo>
                      <a:pt x="2141" y="1530"/>
                      <a:pt x="2141" y="1536"/>
                      <a:pt x="2140" y="1542"/>
                    </a:cubicBezTo>
                    <a:cubicBezTo>
                      <a:pt x="2130" y="1550"/>
                      <a:pt x="2122" y="1542"/>
                      <a:pt x="2113" y="1547"/>
                    </a:cubicBezTo>
                    <a:cubicBezTo>
                      <a:pt x="2115" y="1549"/>
                      <a:pt x="2118" y="1551"/>
                      <a:pt x="2121" y="1554"/>
                    </a:cubicBezTo>
                    <a:cubicBezTo>
                      <a:pt x="2121" y="1555"/>
                      <a:pt x="2122" y="1557"/>
                      <a:pt x="2123" y="1558"/>
                    </a:cubicBezTo>
                    <a:cubicBezTo>
                      <a:pt x="2127" y="1559"/>
                      <a:pt x="2131" y="1561"/>
                      <a:pt x="2135" y="1563"/>
                    </a:cubicBezTo>
                    <a:cubicBezTo>
                      <a:pt x="2135" y="1564"/>
                      <a:pt x="2135" y="1566"/>
                      <a:pt x="2135" y="1567"/>
                    </a:cubicBezTo>
                    <a:cubicBezTo>
                      <a:pt x="2125" y="1574"/>
                      <a:pt x="2123" y="1571"/>
                      <a:pt x="2123" y="1585"/>
                    </a:cubicBezTo>
                    <a:cubicBezTo>
                      <a:pt x="2120" y="1589"/>
                      <a:pt x="2120" y="1593"/>
                      <a:pt x="2120" y="1603"/>
                    </a:cubicBezTo>
                    <a:cubicBezTo>
                      <a:pt x="2121" y="1608"/>
                      <a:pt x="2127" y="1608"/>
                      <a:pt x="2127" y="1619"/>
                    </a:cubicBezTo>
                    <a:cubicBezTo>
                      <a:pt x="2121" y="1619"/>
                      <a:pt x="2114" y="1619"/>
                      <a:pt x="2108" y="1620"/>
                    </a:cubicBezTo>
                    <a:cubicBezTo>
                      <a:pt x="2109" y="1622"/>
                      <a:pt x="2109" y="1625"/>
                      <a:pt x="2112" y="1627"/>
                    </a:cubicBezTo>
                    <a:cubicBezTo>
                      <a:pt x="2112" y="1628"/>
                      <a:pt x="2112" y="1629"/>
                      <a:pt x="2112" y="1631"/>
                    </a:cubicBezTo>
                    <a:cubicBezTo>
                      <a:pt x="2106" y="1634"/>
                      <a:pt x="2101" y="1638"/>
                      <a:pt x="2096" y="1642"/>
                    </a:cubicBezTo>
                    <a:cubicBezTo>
                      <a:pt x="2096" y="1647"/>
                      <a:pt x="2094" y="1657"/>
                      <a:pt x="2088" y="1664"/>
                    </a:cubicBezTo>
                    <a:cubicBezTo>
                      <a:pt x="2085" y="1666"/>
                      <a:pt x="2083" y="1668"/>
                      <a:pt x="2080" y="1671"/>
                    </a:cubicBezTo>
                    <a:cubicBezTo>
                      <a:pt x="2074" y="1671"/>
                      <a:pt x="2068" y="1672"/>
                      <a:pt x="2063" y="1672"/>
                    </a:cubicBezTo>
                    <a:cubicBezTo>
                      <a:pt x="2063" y="1675"/>
                      <a:pt x="2066" y="1677"/>
                      <a:pt x="2068" y="1678"/>
                    </a:cubicBezTo>
                    <a:cubicBezTo>
                      <a:pt x="2068" y="1680"/>
                      <a:pt x="2068" y="1682"/>
                      <a:pt x="2068" y="1685"/>
                    </a:cubicBezTo>
                    <a:cubicBezTo>
                      <a:pt x="2066" y="1688"/>
                      <a:pt x="2059" y="1689"/>
                      <a:pt x="2059" y="1689"/>
                    </a:cubicBezTo>
                    <a:cubicBezTo>
                      <a:pt x="2049" y="1696"/>
                      <a:pt x="2041" y="1704"/>
                      <a:pt x="2033" y="1714"/>
                    </a:cubicBezTo>
                    <a:cubicBezTo>
                      <a:pt x="2033" y="1717"/>
                      <a:pt x="2032" y="1720"/>
                      <a:pt x="2032" y="1722"/>
                    </a:cubicBezTo>
                    <a:cubicBezTo>
                      <a:pt x="2019" y="1735"/>
                      <a:pt x="2011" y="1738"/>
                      <a:pt x="1995" y="1741"/>
                    </a:cubicBezTo>
                    <a:cubicBezTo>
                      <a:pt x="1990" y="1746"/>
                      <a:pt x="1985" y="1750"/>
                      <a:pt x="1980" y="1754"/>
                    </a:cubicBezTo>
                    <a:cubicBezTo>
                      <a:pt x="1980" y="1755"/>
                      <a:pt x="1980" y="1756"/>
                      <a:pt x="1980" y="1757"/>
                    </a:cubicBezTo>
                    <a:cubicBezTo>
                      <a:pt x="1982" y="1759"/>
                      <a:pt x="1985" y="1765"/>
                      <a:pt x="1981" y="1772"/>
                    </a:cubicBezTo>
                    <a:cubicBezTo>
                      <a:pt x="1975" y="1774"/>
                      <a:pt x="1971" y="1776"/>
                      <a:pt x="1966" y="1779"/>
                    </a:cubicBezTo>
                    <a:cubicBezTo>
                      <a:pt x="1951" y="1789"/>
                      <a:pt x="1937" y="1794"/>
                      <a:pt x="1925" y="1806"/>
                    </a:cubicBezTo>
                    <a:cubicBezTo>
                      <a:pt x="1914" y="1806"/>
                      <a:pt x="1912" y="1801"/>
                      <a:pt x="1908" y="1801"/>
                    </a:cubicBezTo>
                    <a:cubicBezTo>
                      <a:pt x="1906" y="1803"/>
                      <a:pt x="1903" y="1806"/>
                      <a:pt x="1901" y="1809"/>
                    </a:cubicBezTo>
                    <a:cubicBezTo>
                      <a:pt x="1897" y="1809"/>
                      <a:pt x="1893" y="1809"/>
                      <a:pt x="1889" y="1809"/>
                    </a:cubicBezTo>
                    <a:cubicBezTo>
                      <a:pt x="1887" y="1807"/>
                      <a:pt x="1885" y="1805"/>
                      <a:pt x="1883" y="1803"/>
                    </a:cubicBezTo>
                    <a:cubicBezTo>
                      <a:pt x="1883" y="1805"/>
                      <a:pt x="1883" y="1814"/>
                      <a:pt x="1878" y="1817"/>
                    </a:cubicBezTo>
                    <a:cubicBezTo>
                      <a:pt x="1866" y="1820"/>
                      <a:pt x="1870" y="1818"/>
                      <a:pt x="1866" y="1827"/>
                    </a:cubicBezTo>
                    <a:cubicBezTo>
                      <a:pt x="1861" y="1833"/>
                      <a:pt x="1848" y="1827"/>
                      <a:pt x="1847" y="1826"/>
                    </a:cubicBezTo>
                    <a:cubicBezTo>
                      <a:pt x="1846" y="1824"/>
                      <a:pt x="1845" y="1822"/>
                      <a:pt x="1845" y="1820"/>
                    </a:cubicBezTo>
                    <a:cubicBezTo>
                      <a:pt x="1844" y="1819"/>
                      <a:pt x="1843" y="1819"/>
                      <a:pt x="1842" y="1819"/>
                    </a:cubicBezTo>
                    <a:cubicBezTo>
                      <a:pt x="1837" y="1815"/>
                      <a:pt x="1831" y="1811"/>
                      <a:pt x="1827" y="1807"/>
                    </a:cubicBezTo>
                    <a:cubicBezTo>
                      <a:pt x="1825" y="1810"/>
                      <a:pt x="1824" y="1814"/>
                      <a:pt x="1823" y="1819"/>
                    </a:cubicBezTo>
                    <a:cubicBezTo>
                      <a:pt x="1818" y="1826"/>
                      <a:pt x="1814" y="1833"/>
                      <a:pt x="1806" y="1840"/>
                    </a:cubicBezTo>
                    <a:cubicBezTo>
                      <a:pt x="1796" y="1844"/>
                      <a:pt x="1796" y="1849"/>
                      <a:pt x="1789" y="1855"/>
                    </a:cubicBezTo>
                    <a:cubicBezTo>
                      <a:pt x="1778" y="1855"/>
                      <a:pt x="1774" y="1860"/>
                      <a:pt x="1769" y="1865"/>
                    </a:cubicBezTo>
                    <a:cubicBezTo>
                      <a:pt x="1760" y="1865"/>
                      <a:pt x="1753" y="1865"/>
                      <a:pt x="1750" y="1867"/>
                    </a:cubicBezTo>
                    <a:cubicBezTo>
                      <a:pt x="1744" y="1878"/>
                      <a:pt x="1734" y="1878"/>
                      <a:pt x="1727" y="1872"/>
                    </a:cubicBezTo>
                    <a:cubicBezTo>
                      <a:pt x="1711" y="1876"/>
                      <a:pt x="1700" y="1883"/>
                      <a:pt x="1686" y="1887"/>
                    </a:cubicBezTo>
                    <a:cubicBezTo>
                      <a:pt x="1665" y="1888"/>
                      <a:pt x="1662" y="1888"/>
                      <a:pt x="1657" y="1908"/>
                    </a:cubicBezTo>
                    <a:cubicBezTo>
                      <a:pt x="1653" y="1913"/>
                      <a:pt x="1647" y="1912"/>
                      <a:pt x="1645" y="1917"/>
                    </a:cubicBezTo>
                    <a:cubicBezTo>
                      <a:pt x="1650" y="1924"/>
                      <a:pt x="1656" y="1931"/>
                      <a:pt x="1662" y="1938"/>
                    </a:cubicBezTo>
                    <a:cubicBezTo>
                      <a:pt x="1662" y="1942"/>
                      <a:pt x="1662" y="1946"/>
                      <a:pt x="1662" y="1949"/>
                    </a:cubicBezTo>
                    <a:cubicBezTo>
                      <a:pt x="1654" y="1956"/>
                      <a:pt x="1645" y="1957"/>
                      <a:pt x="1637" y="1957"/>
                    </a:cubicBezTo>
                    <a:close/>
                  </a:path>
                </a:pathLst>
              </a:cu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4" name="Freeform 11"/>
              <p:cNvSpPr/>
              <p:nvPr/>
            </p:nvSpPr>
            <p:spPr>
              <a:xfrm>
                <a:off x="10936440" y="5409720"/>
                <a:ext cx="210600" cy="483120"/>
              </a:xfrm>
              <a:custGeom>
                <a:avLst/>
                <a:gdLst>
                  <a:gd name="textAreaLeft" fmla="*/ 0 w 210600"/>
                  <a:gd name="textAreaRight" fmla="*/ 210960 w 210600"/>
                  <a:gd name="textAreaTop" fmla="*/ 0 h 483120"/>
                  <a:gd name="textAreaBottom" fmla="*/ 483480 h 483120"/>
                </a:gdLst>
                <a:ahLst/>
                <a:rect l="textAreaLeft" t="textAreaTop" r="textAreaRight" b="textAreaBottom"/>
                <a:pathLst>
                  <a:path w="90" h="206">
                    <a:moveTo>
                      <a:pt x="41" y="206"/>
                    </a:moveTo>
                    <a:cubicBezTo>
                      <a:pt x="35" y="198"/>
                      <a:pt x="30" y="190"/>
                      <a:pt x="24" y="182"/>
                    </a:cubicBezTo>
                    <a:cubicBezTo>
                      <a:pt x="10" y="177"/>
                      <a:pt x="12" y="170"/>
                      <a:pt x="8" y="162"/>
                    </a:cubicBezTo>
                    <a:cubicBezTo>
                      <a:pt x="6" y="159"/>
                      <a:pt x="3" y="155"/>
                      <a:pt x="0" y="152"/>
                    </a:cubicBezTo>
                    <a:cubicBezTo>
                      <a:pt x="0" y="136"/>
                      <a:pt x="6" y="120"/>
                      <a:pt x="3" y="110"/>
                    </a:cubicBezTo>
                    <a:cubicBezTo>
                      <a:pt x="3" y="89"/>
                      <a:pt x="3" y="88"/>
                      <a:pt x="15" y="75"/>
                    </a:cubicBezTo>
                    <a:cubicBezTo>
                      <a:pt x="16" y="69"/>
                      <a:pt x="18" y="63"/>
                      <a:pt x="19" y="56"/>
                    </a:cubicBezTo>
                    <a:cubicBezTo>
                      <a:pt x="22" y="48"/>
                      <a:pt x="26" y="40"/>
                      <a:pt x="30" y="32"/>
                    </a:cubicBezTo>
                    <a:cubicBezTo>
                      <a:pt x="41" y="16"/>
                      <a:pt x="47" y="11"/>
                      <a:pt x="61" y="0"/>
                    </a:cubicBezTo>
                    <a:cubicBezTo>
                      <a:pt x="68" y="0"/>
                      <a:pt x="75" y="0"/>
                      <a:pt x="82" y="1"/>
                    </a:cubicBezTo>
                    <a:cubicBezTo>
                      <a:pt x="83" y="1"/>
                      <a:pt x="84" y="2"/>
                      <a:pt x="85" y="3"/>
                    </a:cubicBezTo>
                    <a:cubicBezTo>
                      <a:pt x="87" y="12"/>
                      <a:pt x="90" y="18"/>
                      <a:pt x="89" y="30"/>
                    </a:cubicBezTo>
                    <a:cubicBezTo>
                      <a:pt x="78" y="45"/>
                      <a:pt x="85" y="72"/>
                      <a:pt x="84" y="94"/>
                    </a:cubicBezTo>
                    <a:cubicBezTo>
                      <a:pt x="82" y="99"/>
                      <a:pt x="81" y="104"/>
                      <a:pt x="79" y="109"/>
                    </a:cubicBezTo>
                    <a:cubicBezTo>
                      <a:pt x="72" y="123"/>
                      <a:pt x="65" y="138"/>
                      <a:pt x="59" y="153"/>
                    </a:cubicBezTo>
                    <a:cubicBezTo>
                      <a:pt x="56" y="168"/>
                      <a:pt x="55" y="183"/>
                      <a:pt x="53" y="199"/>
                    </a:cubicBezTo>
                    <a:cubicBezTo>
                      <a:pt x="52" y="200"/>
                      <a:pt x="50" y="202"/>
                      <a:pt x="48" y="204"/>
                    </a:cubicBezTo>
                    <a:cubicBezTo>
                      <a:pt x="46" y="204"/>
                      <a:pt x="43" y="205"/>
                      <a:pt x="41" y="206"/>
                    </a:cubicBezTo>
                    <a:close/>
                  </a:path>
                </a:pathLst>
              </a:cu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75" name="组合 18"/>
            <p:cNvGrpSpPr/>
            <p:nvPr/>
          </p:nvGrpSpPr>
          <p:grpSpPr>
            <a:xfrm>
              <a:off x="8284680" y="2882520"/>
              <a:ext cx="1910880" cy="1342080"/>
              <a:chOff x="8284680" y="2882520"/>
              <a:chExt cx="1910880" cy="1342080"/>
            </a:xfrm>
          </p:grpSpPr>
          <p:sp>
            <p:nvSpPr>
              <p:cNvPr id="676" name="文本框 19"/>
              <p:cNvSpPr/>
              <p:nvPr/>
            </p:nvSpPr>
            <p:spPr>
              <a:xfrm>
                <a:off x="8284680" y="2882520"/>
                <a:ext cx="1910880" cy="109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4400" spc="-1" strike="noStrike">
                    <a:solidFill>
                      <a:srgbClr val="ffc000"/>
                    </a:solidFill>
                    <a:latin typeface="Segoe UI Black"/>
                    <a:ea typeface="Segoe UI Black"/>
                  </a:rPr>
                  <a:t>90%</a:t>
                </a:r>
                <a:r>
                  <a:rPr b="0" lang="en-US" sz="6600" spc="-1" strike="noStrike">
                    <a:solidFill>
                      <a:srgbClr val="ffc000"/>
                    </a:solidFill>
                    <a:latin typeface="Segoe UI Black"/>
                    <a:ea typeface="Segoe UI Black"/>
                  </a:rPr>
                  <a:t>+</a:t>
                </a:r>
                <a:r>
                  <a:rPr b="0" lang="en-US" sz="4400" spc="-1" strike="noStrike">
                    <a:solidFill>
                      <a:srgbClr val="ffc000"/>
                    </a:solidFill>
                    <a:latin typeface="Segoe UI Black"/>
                    <a:ea typeface="Segoe UI Black"/>
                  </a:rPr>
                  <a:t> </a:t>
                </a: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文本框 20"/>
              <p:cNvSpPr/>
              <p:nvPr/>
            </p:nvSpPr>
            <p:spPr>
              <a:xfrm>
                <a:off x="8497440" y="3769200"/>
                <a:ext cx="1095480" cy="45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Noto Sans S Chinese Light"/>
                    <a:ea typeface="Noto Sans S Chinese Light"/>
                  </a:rPr>
                  <a:t>用户普及率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8" name="组合 21"/>
            <p:cNvGrpSpPr/>
            <p:nvPr/>
          </p:nvGrpSpPr>
          <p:grpSpPr>
            <a:xfrm>
              <a:off x="7469280" y="3937320"/>
              <a:ext cx="3541680" cy="1346040"/>
              <a:chOff x="7469280" y="3937320"/>
              <a:chExt cx="3541680" cy="1346040"/>
            </a:xfrm>
          </p:grpSpPr>
          <p:sp>
            <p:nvSpPr>
              <p:cNvPr id="679" name="文本框 22"/>
              <p:cNvSpPr/>
              <p:nvPr/>
            </p:nvSpPr>
            <p:spPr>
              <a:xfrm>
                <a:off x="7469280" y="3937320"/>
                <a:ext cx="3541680" cy="109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4400" spc="-1" strike="noStrike">
                    <a:solidFill>
                      <a:srgbClr val="ffc000"/>
                    </a:solidFill>
                    <a:latin typeface="Segoe UI Black"/>
                    <a:ea typeface="Segoe UI Black"/>
                  </a:rPr>
                  <a:t>400000000</a:t>
                </a:r>
                <a:r>
                  <a:rPr b="0" lang="en-US" sz="6600" spc="-1" strike="noStrike">
                    <a:solidFill>
                      <a:srgbClr val="ffc000"/>
                    </a:solidFill>
                    <a:latin typeface="Segoe UI Black"/>
                    <a:ea typeface="Segoe UI Black"/>
                  </a:rPr>
                  <a:t>+</a:t>
                </a:r>
                <a:endParaRPr b="0" lang="en-US" sz="6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" name="文本框 23"/>
              <p:cNvSpPr/>
              <p:nvPr/>
            </p:nvSpPr>
            <p:spPr>
              <a:xfrm>
                <a:off x="8405640" y="4827960"/>
                <a:ext cx="1278360" cy="45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Noto Sans S Chinese Light"/>
                    <a:ea typeface="Noto Sans S Chinese Light"/>
                  </a:rPr>
                  <a:t>月活跃用户数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1" name="文本框 29"/>
          <p:cNvSpPr/>
          <p:nvPr/>
        </p:nvSpPr>
        <p:spPr>
          <a:xfrm>
            <a:off x="1202040" y="76320"/>
            <a:ext cx="978732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50000"/>
              </a:lnSpc>
            </a:pPr>
            <a:r>
              <a:rPr b="1" lang="zh-CN" sz="3600" spc="-1" strike="noStrike">
                <a:solidFill>
                  <a:srgbClr val="ffffff"/>
                </a:solidFill>
                <a:latin typeface="思源黑体 CN Normal"/>
                <a:ea typeface="Noto Sans S Chinese Bold"/>
              </a:rPr>
              <a:t>辉煌的数字背后，是全心全意为用户服务的心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2" name="组合 13"/>
          <p:cNvGrpSpPr/>
          <p:nvPr/>
        </p:nvGrpSpPr>
        <p:grpSpPr>
          <a:xfrm>
            <a:off x="678600" y="5008320"/>
            <a:ext cx="5555520" cy="1695240"/>
            <a:chOff x="678600" y="5008320"/>
            <a:chExt cx="5555520" cy="1695240"/>
          </a:xfrm>
        </p:grpSpPr>
        <p:sp>
          <p:nvSpPr>
            <p:cNvPr id="683" name="文本框 4"/>
            <p:cNvSpPr/>
            <p:nvPr/>
          </p:nvSpPr>
          <p:spPr>
            <a:xfrm>
              <a:off x="780480" y="6248160"/>
              <a:ext cx="91260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2400" spc="-1" strike="noStrike">
                  <a:solidFill>
                    <a:srgbClr val="000000"/>
                  </a:solidFill>
                  <a:latin typeface="Noto Sans S Chinese Light"/>
                  <a:ea typeface="Noto Sans S Chinese Light"/>
                </a:rPr>
                <a:t>安全厂商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84" name="组合 7"/>
            <p:cNvGrpSpPr/>
            <p:nvPr/>
          </p:nvGrpSpPr>
          <p:grpSpPr>
            <a:xfrm>
              <a:off x="678600" y="5008320"/>
              <a:ext cx="1142280" cy="1116720"/>
              <a:chOff x="678600" y="5008320"/>
              <a:chExt cx="1142280" cy="1116720"/>
            </a:xfrm>
          </p:grpSpPr>
          <p:sp>
            <p:nvSpPr>
              <p:cNvPr id="685" name="Freeform 45"/>
              <p:cNvSpPr/>
              <p:nvPr/>
            </p:nvSpPr>
            <p:spPr>
              <a:xfrm>
                <a:off x="678600" y="5008320"/>
                <a:ext cx="1116720" cy="1116720"/>
              </a:xfrm>
              <a:custGeom>
                <a:avLst/>
                <a:gdLst>
                  <a:gd name="textAreaLeft" fmla="*/ 0 w 1116720"/>
                  <a:gd name="textAreaRight" fmla="*/ 1117080 w 1116720"/>
                  <a:gd name="textAreaTop" fmla="*/ 0 h 1116720"/>
                  <a:gd name="textAreaBottom" fmla="*/ 1117080 h 1116720"/>
                </a:gdLst>
                <a:ahLst/>
                <a:rect l="textAreaLeft" t="textAreaTop" r="textAreaRight" b="textAreaBottom"/>
                <a:pathLst>
                  <a:path w="2972" h="2972">
                    <a:moveTo>
                      <a:pt x="1462" y="14"/>
                    </a:moveTo>
                    <a:lnTo>
                      <a:pt x="1462" y="14"/>
                    </a:lnTo>
                    <a:lnTo>
                      <a:pt x="1468" y="8"/>
                    </a:lnTo>
                    <a:lnTo>
                      <a:pt x="1474" y="4"/>
                    </a:lnTo>
                    <a:lnTo>
                      <a:pt x="1480" y="2"/>
                    </a:lnTo>
                    <a:lnTo>
                      <a:pt x="1486" y="0"/>
                    </a:lnTo>
                    <a:lnTo>
                      <a:pt x="1492" y="2"/>
                    </a:lnTo>
                    <a:lnTo>
                      <a:pt x="1498" y="4"/>
                    </a:lnTo>
                    <a:lnTo>
                      <a:pt x="1504" y="8"/>
                    </a:lnTo>
                    <a:lnTo>
                      <a:pt x="1510" y="14"/>
                    </a:lnTo>
                    <a:lnTo>
                      <a:pt x="1580" y="106"/>
                    </a:lnTo>
                    <a:lnTo>
                      <a:pt x="1586" y="112"/>
                    </a:lnTo>
                    <a:lnTo>
                      <a:pt x="1592" y="116"/>
                    </a:lnTo>
                    <a:lnTo>
                      <a:pt x="1598" y="118"/>
                    </a:lnTo>
                    <a:lnTo>
                      <a:pt x="1606" y="120"/>
                    </a:lnTo>
                    <a:lnTo>
                      <a:pt x="1612" y="120"/>
                    </a:lnTo>
                    <a:lnTo>
                      <a:pt x="1620" y="118"/>
                    </a:lnTo>
                    <a:lnTo>
                      <a:pt x="1626" y="116"/>
                    </a:lnTo>
                    <a:lnTo>
                      <a:pt x="1634" y="110"/>
                    </a:lnTo>
                    <a:lnTo>
                      <a:pt x="1718" y="32"/>
                    </a:lnTo>
                    <a:lnTo>
                      <a:pt x="1724" y="28"/>
                    </a:lnTo>
                    <a:lnTo>
                      <a:pt x="1730" y="24"/>
                    </a:lnTo>
                    <a:lnTo>
                      <a:pt x="1738" y="22"/>
                    </a:lnTo>
                    <a:lnTo>
                      <a:pt x="1744" y="24"/>
                    </a:lnTo>
                    <a:lnTo>
                      <a:pt x="1750" y="26"/>
                    </a:lnTo>
                    <a:lnTo>
                      <a:pt x="1756" y="28"/>
                    </a:lnTo>
                    <a:lnTo>
                      <a:pt x="1762" y="34"/>
                    </a:lnTo>
                    <a:lnTo>
                      <a:pt x="1766" y="40"/>
                    </a:lnTo>
                    <a:lnTo>
                      <a:pt x="1818" y="142"/>
                    </a:lnTo>
                    <a:lnTo>
                      <a:pt x="1822" y="150"/>
                    </a:lnTo>
                    <a:lnTo>
                      <a:pt x="1828" y="154"/>
                    </a:lnTo>
                    <a:lnTo>
                      <a:pt x="1834" y="158"/>
                    </a:lnTo>
                    <a:lnTo>
                      <a:pt x="1840" y="162"/>
                    </a:lnTo>
                    <a:lnTo>
                      <a:pt x="1848" y="162"/>
                    </a:lnTo>
                    <a:lnTo>
                      <a:pt x="1856" y="162"/>
                    </a:lnTo>
                    <a:lnTo>
                      <a:pt x="1862" y="160"/>
                    </a:lnTo>
                    <a:lnTo>
                      <a:pt x="1870" y="156"/>
                    </a:lnTo>
                    <a:lnTo>
                      <a:pt x="1966" y="94"/>
                    </a:lnTo>
                    <a:lnTo>
                      <a:pt x="1974" y="90"/>
                    </a:lnTo>
                    <a:lnTo>
                      <a:pt x="1980" y="88"/>
                    </a:lnTo>
                    <a:lnTo>
                      <a:pt x="1988" y="88"/>
                    </a:lnTo>
                    <a:lnTo>
                      <a:pt x="1994" y="90"/>
                    </a:lnTo>
                    <a:lnTo>
                      <a:pt x="2000" y="94"/>
                    </a:lnTo>
                    <a:lnTo>
                      <a:pt x="2006" y="98"/>
                    </a:lnTo>
                    <a:lnTo>
                      <a:pt x="2010" y="104"/>
                    </a:lnTo>
                    <a:lnTo>
                      <a:pt x="2012" y="110"/>
                    </a:lnTo>
                    <a:lnTo>
                      <a:pt x="2046" y="220"/>
                    </a:lnTo>
                    <a:lnTo>
                      <a:pt x="2050" y="228"/>
                    </a:lnTo>
                    <a:lnTo>
                      <a:pt x="2054" y="234"/>
                    </a:lnTo>
                    <a:lnTo>
                      <a:pt x="2060" y="240"/>
                    </a:lnTo>
                    <a:lnTo>
                      <a:pt x="2066" y="244"/>
                    </a:lnTo>
                    <a:lnTo>
                      <a:pt x="2072" y="246"/>
                    </a:lnTo>
                    <a:lnTo>
                      <a:pt x="2080" y="246"/>
                    </a:lnTo>
                    <a:lnTo>
                      <a:pt x="2088" y="246"/>
                    </a:lnTo>
                    <a:lnTo>
                      <a:pt x="2094" y="244"/>
                    </a:lnTo>
                    <a:lnTo>
                      <a:pt x="2202" y="198"/>
                    </a:lnTo>
                    <a:lnTo>
                      <a:pt x="2208" y="196"/>
                    </a:lnTo>
                    <a:lnTo>
                      <a:pt x="2216" y="196"/>
                    </a:lnTo>
                    <a:lnTo>
                      <a:pt x="2222" y="196"/>
                    </a:lnTo>
                    <a:lnTo>
                      <a:pt x="2228" y="200"/>
                    </a:lnTo>
                    <a:lnTo>
                      <a:pt x="2234" y="204"/>
                    </a:lnTo>
                    <a:lnTo>
                      <a:pt x="2238" y="208"/>
                    </a:lnTo>
                    <a:lnTo>
                      <a:pt x="2242" y="216"/>
                    </a:lnTo>
                    <a:lnTo>
                      <a:pt x="2244" y="224"/>
                    </a:lnTo>
                    <a:lnTo>
                      <a:pt x="2258" y="338"/>
                    </a:lnTo>
                    <a:lnTo>
                      <a:pt x="2260" y="346"/>
                    </a:lnTo>
                    <a:lnTo>
                      <a:pt x="2262" y="352"/>
                    </a:lnTo>
                    <a:lnTo>
                      <a:pt x="2266" y="358"/>
                    </a:lnTo>
                    <a:lnTo>
                      <a:pt x="2272" y="362"/>
                    </a:lnTo>
                    <a:lnTo>
                      <a:pt x="2278" y="366"/>
                    </a:lnTo>
                    <a:lnTo>
                      <a:pt x="2286" y="368"/>
                    </a:lnTo>
                    <a:lnTo>
                      <a:pt x="2294" y="370"/>
                    </a:lnTo>
                    <a:lnTo>
                      <a:pt x="2302" y="368"/>
                    </a:lnTo>
                    <a:lnTo>
                      <a:pt x="2414" y="342"/>
                    </a:lnTo>
                    <a:lnTo>
                      <a:pt x="2422" y="342"/>
                    </a:lnTo>
                    <a:lnTo>
                      <a:pt x="2428" y="342"/>
                    </a:lnTo>
                    <a:lnTo>
                      <a:pt x="2436" y="344"/>
                    </a:lnTo>
                    <a:lnTo>
                      <a:pt x="2440" y="348"/>
                    </a:lnTo>
                    <a:lnTo>
                      <a:pt x="2446" y="352"/>
                    </a:lnTo>
                    <a:lnTo>
                      <a:pt x="2448" y="358"/>
                    </a:lnTo>
                    <a:lnTo>
                      <a:pt x="2450" y="366"/>
                    </a:lnTo>
                    <a:lnTo>
                      <a:pt x="2450" y="374"/>
                    </a:lnTo>
                    <a:lnTo>
                      <a:pt x="2446" y="488"/>
                    </a:lnTo>
                    <a:lnTo>
                      <a:pt x="2446" y="496"/>
                    </a:lnTo>
                    <a:lnTo>
                      <a:pt x="2448" y="504"/>
                    </a:lnTo>
                    <a:lnTo>
                      <a:pt x="2450" y="510"/>
                    </a:lnTo>
                    <a:lnTo>
                      <a:pt x="2456" y="516"/>
                    </a:lnTo>
                    <a:lnTo>
                      <a:pt x="2462" y="520"/>
                    </a:lnTo>
                    <a:lnTo>
                      <a:pt x="2468" y="524"/>
                    </a:lnTo>
                    <a:lnTo>
                      <a:pt x="2476" y="526"/>
                    </a:lnTo>
                    <a:lnTo>
                      <a:pt x="2484" y="526"/>
                    </a:lnTo>
                    <a:lnTo>
                      <a:pt x="2598" y="522"/>
                    </a:lnTo>
                    <a:lnTo>
                      <a:pt x="2606" y="522"/>
                    </a:lnTo>
                    <a:lnTo>
                      <a:pt x="2614" y="524"/>
                    </a:lnTo>
                    <a:lnTo>
                      <a:pt x="2620" y="526"/>
                    </a:lnTo>
                    <a:lnTo>
                      <a:pt x="2624" y="532"/>
                    </a:lnTo>
                    <a:lnTo>
                      <a:pt x="2628" y="536"/>
                    </a:lnTo>
                    <a:lnTo>
                      <a:pt x="2630" y="544"/>
                    </a:lnTo>
                    <a:lnTo>
                      <a:pt x="2630" y="550"/>
                    </a:lnTo>
                    <a:lnTo>
                      <a:pt x="2630" y="558"/>
                    </a:lnTo>
                    <a:lnTo>
                      <a:pt x="2604" y="670"/>
                    </a:lnTo>
                    <a:lnTo>
                      <a:pt x="2602" y="678"/>
                    </a:lnTo>
                    <a:lnTo>
                      <a:pt x="2604" y="686"/>
                    </a:lnTo>
                    <a:lnTo>
                      <a:pt x="2606" y="694"/>
                    </a:lnTo>
                    <a:lnTo>
                      <a:pt x="2610" y="700"/>
                    </a:lnTo>
                    <a:lnTo>
                      <a:pt x="2614" y="704"/>
                    </a:lnTo>
                    <a:lnTo>
                      <a:pt x="2620" y="710"/>
                    </a:lnTo>
                    <a:lnTo>
                      <a:pt x="2626" y="712"/>
                    </a:lnTo>
                    <a:lnTo>
                      <a:pt x="2634" y="714"/>
                    </a:lnTo>
                    <a:lnTo>
                      <a:pt x="2748" y="728"/>
                    </a:lnTo>
                    <a:lnTo>
                      <a:pt x="2756" y="730"/>
                    </a:lnTo>
                    <a:lnTo>
                      <a:pt x="2764" y="734"/>
                    </a:lnTo>
                    <a:lnTo>
                      <a:pt x="2768" y="738"/>
                    </a:lnTo>
                    <a:lnTo>
                      <a:pt x="2772" y="744"/>
                    </a:lnTo>
                    <a:lnTo>
                      <a:pt x="2774" y="750"/>
                    </a:lnTo>
                    <a:lnTo>
                      <a:pt x="2776" y="756"/>
                    </a:lnTo>
                    <a:lnTo>
                      <a:pt x="2776" y="764"/>
                    </a:lnTo>
                    <a:lnTo>
                      <a:pt x="2774" y="770"/>
                    </a:lnTo>
                    <a:lnTo>
                      <a:pt x="2728" y="876"/>
                    </a:lnTo>
                    <a:lnTo>
                      <a:pt x="2726" y="884"/>
                    </a:lnTo>
                    <a:lnTo>
                      <a:pt x="2726" y="892"/>
                    </a:lnTo>
                    <a:lnTo>
                      <a:pt x="2726" y="900"/>
                    </a:lnTo>
                    <a:lnTo>
                      <a:pt x="2728" y="906"/>
                    </a:lnTo>
                    <a:lnTo>
                      <a:pt x="2732" y="912"/>
                    </a:lnTo>
                    <a:lnTo>
                      <a:pt x="2738" y="918"/>
                    </a:lnTo>
                    <a:lnTo>
                      <a:pt x="2744" y="922"/>
                    </a:lnTo>
                    <a:lnTo>
                      <a:pt x="2752" y="926"/>
                    </a:lnTo>
                    <a:lnTo>
                      <a:pt x="2862" y="960"/>
                    </a:lnTo>
                    <a:lnTo>
                      <a:pt x="2868" y="962"/>
                    </a:lnTo>
                    <a:lnTo>
                      <a:pt x="2874" y="966"/>
                    </a:lnTo>
                    <a:lnTo>
                      <a:pt x="2878" y="972"/>
                    </a:lnTo>
                    <a:lnTo>
                      <a:pt x="2882" y="978"/>
                    </a:lnTo>
                    <a:lnTo>
                      <a:pt x="2884" y="984"/>
                    </a:lnTo>
                    <a:lnTo>
                      <a:pt x="2884" y="992"/>
                    </a:lnTo>
                    <a:lnTo>
                      <a:pt x="2882" y="998"/>
                    </a:lnTo>
                    <a:lnTo>
                      <a:pt x="2878" y="1006"/>
                    </a:lnTo>
                    <a:lnTo>
                      <a:pt x="2816" y="1102"/>
                    </a:lnTo>
                    <a:lnTo>
                      <a:pt x="2812" y="1110"/>
                    </a:lnTo>
                    <a:lnTo>
                      <a:pt x="2810" y="1116"/>
                    </a:lnTo>
                    <a:lnTo>
                      <a:pt x="2810" y="1124"/>
                    </a:lnTo>
                    <a:lnTo>
                      <a:pt x="2810" y="1132"/>
                    </a:lnTo>
                    <a:lnTo>
                      <a:pt x="2814" y="1138"/>
                    </a:lnTo>
                    <a:lnTo>
                      <a:pt x="2818" y="1144"/>
                    </a:lnTo>
                    <a:lnTo>
                      <a:pt x="2822" y="1150"/>
                    </a:lnTo>
                    <a:lnTo>
                      <a:pt x="2830" y="1154"/>
                    </a:lnTo>
                    <a:lnTo>
                      <a:pt x="2932" y="1206"/>
                    </a:lnTo>
                    <a:lnTo>
                      <a:pt x="2938" y="1210"/>
                    </a:lnTo>
                    <a:lnTo>
                      <a:pt x="2944" y="1216"/>
                    </a:lnTo>
                    <a:lnTo>
                      <a:pt x="2946" y="1222"/>
                    </a:lnTo>
                    <a:lnTo>
                      <a:pt x="2948" y="1228"/>
                    </a:lnTo>
                    <a:lnTo>
                      <a:pt x="2950" y="1234"/>
                    </a:lnTo>
                    <a:lnTo>
                      <a:pt x="2948" y="1242"/>
                    </a:lnTo>
                    <a:lnTo>
                      <a:pt x="2944" y="1248"/>
                    </a:lnTo>
                    <a:lnTo>
                      <a:pt x="2940" y="1254"/>
                    </a:lnTo>
                    <a:lnTo>
                      <a:pt x="2862" y="1338"/>
                    </a:lnTo>
                    <a:lnTo>
                      <a:pt x="2856" y="1344"/>
                    </a:lnTo>
                    <a:lnTo>
                      <a:pt x="2854" y="1352"/>
                    </a:lnTo>
                    <a:lnTo>
                      <a:pt x="2852" y="1360"/>
                    </a:lnTo>
                    <a:lnTo>
                      <a:pt x="2852" y="1366"/>
                    </a:lnTo>
                    <a:lnTo>
                      <a:pt x="2854" y="1374"/>
                    </a:lnTo>
                    <a:lnTo>
                      <a:pt x="2856" y="1380"/>
                    </a:lnTo>
                    <a:lnTo>
                      <a:pt x="2860" y="1386"/>
                    </a:lnTo>
                    <a:lnTo>
                      <a:pt x="2866" y="1392"/>
                    </a:lnTo>
                    <a:lnTo>
                      <a:pt x="2958" y="1462"/>
                    </a:lnTo>
                    <a:lnTo>
                      <a:pt x="2964" y="1468"/>
                    </a:lnTo>
                    <a:lnTo>
                      <a:pt x="2968" y="1474"/>
                    </a:lnTo>
                    <a:lnTo>
                      <a:pt x="2970" y="1480"/>
                    </a:lnTo>
                    <a:lnTo>
                      <a:pt x="2972" y="1486"/>
                    </a:lnTo>
                    <a:lnTo>
                      <a:pt x="2970" y="1492"/>
                    </a:lnTo>
                    <a:lnTo>
                      <a:pt x="2968" y="1498"/>
                    </a:lnTo>
                    <a:lnTo>
                      <a:pt x="2964" y="1504"/>
                    </a:lnTo>
                    <a:lnTo>
                      <a:pt x="2958" y="1510"/>
                    </a:lnTo>
                    <a:lnTo>
                      <a:pt x="2866" y="1580"/>
                    </a:lnTo>
                    <a:lnTo>
                      <a:pt x="2860" y="1586"/>
                    </a:lnTo>
                    <a:lnTo>
                      <a:pt x="2856" y="1592"/>
                    </a:lnTo>
                    <a:lnTo>
                      <a:pt x="2854" y="1598"/>
                    </a:lnTo>
                    <a:lnTo>
                      <a:pt x="2852" y="1606"/>
                    </a:lnTo>
                    <a:lnTo>
                      <a:pt x="2852" y="1612"/>
                    </a:lnTo>
                    <a:lnTo>
                      <a:pt x="2854" y="1620"/>
                    </a:lnTo>
                    <a:lnTo>
                      <a:pt x="2856" y="1626"/>
                    </a:lnTo>
                    <a:lnTo>
                      <a:pt x="2862" y="1634"/>
                    </a:lnTo>
                    <a:lnTo>
                      <a:pt x="2940" y="1718"/>
                    </a:lnTo>
                    <a:lnTo>
                      <a:pt x="2944" y="1724"/>
                    </a:lnTo>
                    <a:lnTo>
                      <a:pt x="2948" y="1730"/>
                    </a:lnTo>
                    <a:lnTo>
                      <a:pt x="2950" y="1738"/>
                    </a:lnTo>
                    <a:lnTo>
                      <a:pt x="2948" y="1744"/>
                    </a:lnTo>
                    <a:lnTo>
                      <a:pt x="2946" y="1750"/>
                    </a:lnTo>
                    <a:lnTo>
                      <a:pt x="2944" y="1756"/>
                    </a:lnTo>
                    <a:lnTo>
                      <a:pt x="2938" y="1762"/>
                    </a:lnTo>
                    <a:lnTo>
                      <a:pt x="2932" y="1766"/>
                    </a:lnTo>
                    <a:lnTo>
                      <a:pt x="2830" y="1818"/>
                    </a:lnTo>
                    <a:lnTo>
                      <a:pt x="2822" y="1822"/>
                    </a:lnTo>
                    <a:lnTo>
                      <a:pt x="2818" y="1828"/>
                    </a:lnTo>
                    <a:lnTo>
                      <a:pt x="2814" y="1834"/>
                    </a:lnTo>
                    <a:lnTo>
                      <a:pt x="2810" y="1840"/>
                    </a:lnTo>
                    <a:lnTo>
                      <a:pt x="2810" y="1848"/>
                    </a:lnTo>
                    <a:lnTo>
                      <a:pt x="2810" y="1856"/>
                    </a:lnTo>
                    <a:lnTo>
                      <a:pt x="2812" y="1862"/>
                    </a:lnTo>
                    <a:lnTo>
                      <a:pt x="2816" y="1870"/>
                    </a:lnTo>
                    <a:lnTo>
                      <a:pt x="2878" y="1966"/>
                    </a:lnTo>
                    <a:lnTo>
                      <a:pt x="2882" y="1974"/>
                    </a:lnTo>
                    <a:lnTo>
                      <a:pt x="2884" y="1980"/>
                    </a:lnTo>
                    <a:lnTo>
                      <a:pt x="2884" y="1988"/>
                    </a:lnTo>
                    <a:lnTo>
                      <a:pt x="2882" y="1994"/>
                    </a:lnTo>
                    <a:lnTo>
                      <a:pt x="2878" y="2000"/>
                    </a:lnTo>
                    <a:lnTo>
                      <a:pt x="2874" y="2004"/>
                    </a:lnTo>
                    <a:lnTo>
                      <a:pt x="2868" y="2010"/>
                    </a:lnTo>
                    <a:lnTo>
                      <a:pt x="2862" y="2012"/>
                    </a:lnTo>
                    <a:lnTo>
                      <a:pt x="2752" y="2046"/>
                    </a:lnTo>
                    <a:lnTo>
                      <a:pt x="2744" y="2050"/>
                    </a:lnTo>
                    <a:lnTo>
                      <a:pt x="2738" y="2054"/>
                    </a:lnTo>
                    <a:lnTo>
                      <a:pt x="2732" y="2060"/>
                    </a:lnTo>
                    <a:lnTo>
                      <a:pt x="2728" y="2066"/>
                    </a:lnTo>
                    <a:lnTo>
                      <a:pt x="2726" y="2072"/>
                    </a:lnTo>
                    <a:lnTo>
                      <a:pt x="2726" y="2080"/>
                    </a:lnTo>
                    <a:lnTo>
                      <a:pt x="2726" y="2088"/>
                    </a:lnTo>
                    <a:lnTo>
                      <a:pt x="2728" y="2094"/>
                    </a:lnTo>
                    <a:lnTo>
                      <a:pt x="2774" y="2202"/>
                    </a:lnTo>
                    <a:lnTo>
                      <a:pt x="2776" y="2208"/>
                    </a:lnTo>
                    <a:lnTo>
                      <a:pt x="2776" y="2216"/>
                    </a:lnTo>
                    <a:lnTo>
                      <a:pt x="2774" y="2222"/>
                    </a:lnTo>
                    <a:lnTo>
                      <a:pt x="2772" y="2228"/>
                    </a:lnTo>
                    <a:lnTo>
                      <a:pt x="2768" y="2234"/>
                    </a:lnTo>
                    <a:lnTo>
                      <a:pt x="2764" y="2238"/>
                    </a:lnTo>
                    <a:lnTo>
                      <a:pt x="2756" y="2242"/>
                    </a:lnTo>
                    <a:lnTo>
                      <a:pt x="2748" y="2242"/>
                    </a:lnTo>
                    <a:lnTo>
                      <a:pt x="2634" y="2258"/>
                    </a:lnTo>
                    <a:lnTo>
                      <a:pt x="2626" y="2260"/>
                    </a:lnTo>
                    <a:lnTo>
                      <a:pt x="2620" y="2262"/>
                    </a:lnTo>
                    <a:lnTo>
                      <a:pt x="2614" y="2266"/>
                    </a:lnTo>
                    <a:lnTo>
                      <a:pt x="2610" y="2272"/>
                    </a:lnTo>
                    <a:lnTo>
                      <a:pt x="2606" y="2278"/>
                    </a:lnTo>
                    <a:lnTo>
                      <a:pt x="2604" y="2286"/>
                    </a:lnTo>
                    <a:lnTo>
                      <a:pt x="2602" y="2294"/>
                    </a:lnTo>
                    <a:lnTo>
                      <a:pt x="2604" y="2302"/>
                    </a:lnTo>
                    <a:lnTo>
                      <a:pt x="2630" y="2414"/>
                    </a:lnTo>
                    <a:lnTo>
                      <a:pt x="2630" y="2422"/>
                    </a:lnTo>
                    <a:lnTo>
                      <a:pt x="2630" y="2428"/>
                    </a:lnTo>
                    <a:lnTo>
                      <a:pt x="2628" y="2436"/>
                    </a:lnTo>
                    <a:lnTo>
                      <a:pt x="2624" y="2440"/>
                    </a:lnTo>
                    <a:lnTo>
                      <a:pt x="2620" y="2446"/>
                    </a:lnTo>
                    <a:lnTo>
                      <a:pt x="2614" y="2448"/>
                    </a:lnTo>
                    <a:lnTo>
                      <a:pt x="2606" y="2450"/>
                    </a:lnTo>
                    <a:lnTo>
                      <a:pt x="2598" y="2450"/>
                    </a:lnTo>
                    <a:lnTo>
                      <a:pt x="2484" y="2446"/>
                    </a:lnTo>
                    <a:lnTo>
                      <a:pt x="2476" y="2446"/>
                    </a:lnTo>
                    <a:lnTo>
                      <a:pt x="2468" y="2448"/>
                    </a:lnTo>
                    <a:lnTo>
                      <a:pt x="2462" y="2450"/>
                    </a:lnTo>
                    <a:lnTo>
                      <a:pt x="2456" y="2456"/>
                    </a:lnTo>
                    <a:lnTo>
                      <a:pt x="2450" y="2462"/>
                    </a:lnTo>
                    <a:lnTo>
                      <a:pt x="2448" y="2468"/>
                    </a:lnTo>
                    <a:lnTo>
                      <a:pt x="2446" y="2476"/>
                    </a:lnTo>
                    <a:lnTo>
                      <a:pt x="2446" y="2484"/>
                    </a:lnTo>
                    <a:lnTo>
                      <a:pt x="2450" y="2598"/>
                    </a:lnTo>
                    <a:lnTo>
                      <a:pt x="2450" y="2606"/>
                    </a:lnTo>
                    <a:lnTo>
                      <a:pt x="2448" y="2612"/>
                    </a:lnTo>
                    <a:lnTo>
                      <a:pt x="2446" y="2618"/>
                    </a:lnTo>
                    <a:lnTo>
                      <a:pt x="2440" y="2624"/>
                    </a:lnTo>
                    <a:lnTo>
                      <a:pt x="2436" y="2628"/>
                    </a:lnTo>
                    <a:lnTo>
                      <a:pt x="2428" y="2630"/>
                    </a:lnTo>
                    <a:lnTo>
                      <a:pt x="2422" y="2630"/>
                    </a:lnTo>
                    <a:lnTo>
                      <a:pt x="2414" y="2630"/>
                    </a:lnTo>
                    <a:lnTo>
                      <a:pt x="2302" y="2604"/>
                    </a:lnTo>
                    <a:lnTo>
                      <a:pt x="2294" y="2602"/>
                    </a:lnTo>
                    <a:lnTo>
                      <a:pt x="2286" y="2604"/>
                    </a:lnTo>
                    <a:lnTo>
                      <a:pt x="2278" y="2606"/>
                    </a:lnTo>
                    <a:lnTo>
                      <a:pt x="2272" y="2610"/>
                    </a:lnTo>
                    <a:lnTo>
                      <a:pt x="2266" y="2614"/>
                    </a:lnTo>
                    <a:lnTo>
                      <a:pt x="2262" y="2620"/>
                    </a:lnTo>
                    <a:lnTo>
                      <a:pt x="2260" y="2626"/>
                    </a:lnTo>
                    <a:lnTo>
                      <a:pt x="2258" y="2634"/>
                    </a:lnTo>
                    <a:lnTo>
                      <a:pt x="2244" y="2748"/>
                    </a:lnTo>
                    <a:lnTo>
                      <a:pt x="2242" y="2756"/>
                    </a:lnTo>
                    <a:lnTo>
                      <a:pt x="2238" y="2762"/>
                    </a:lnTo>
                    <a:lnTo>
                      <a:pt x="2234" y="2768"/>
                    </a:lnTo>
                    <a:lnTo>
                      <a:pt x="2228" y="2772"/>
                    </a:lnTo>
                    <a:lnTo>
                      <a:pt x="2222" y="2774"/>
                    </a:lnTo>
                    <a:lnTo>
                      <a:pt x="2216" y="2776"/>
                    </a:lnTo>
                    <a:lnTo>
                      <a:pt x="2208" y="2776"/>
                    </a:lnTo>
                    <a:lnTo>
                      <a:pt x="2202" y="2772"/>
                    </a:lnTo>
                    <a:lnTo>
                      <a:pt x="2094" y="2728"/>
                    </a:lnTo>
                    <a:lnTo>
                      <a:pt x="2088" y="2726"/>
                    </a:lnTo>
                    <a:lnTo>
                      <a:pt x="2080" y="2726"/>
                    </a:lnTo>
                    <a:lnTo>
                      <a:pt x="2072" y="2726"/>
                    </a:lnTo>
                    <a:lnTo>
                      <a:pt x="2066" y="2728"/>
                    </a:lnTo>
                    <a:lnTo>
                      <a:pt x="2060" y="2732"/>
                    </a:lnTo>
                    <a:lnTo>
                      <a:pt x="2054" y="2738"/>
                    </a:lnTo>
                    <a:lnTo>
                      <a:pt x="2050" y="2744"/>
                    </a:lnTo>
                    <a:lnTo>
                      <a:pt x="2046" y="2750"/>
                    </a:lnTo>
                    <a:lnTo>
                      <a:pt x="2012" y="2862"/>
                    </a:lnTo>
                    <a:lnTo>
                      <a:pt x="2010" y="2868"/>
                    </a:lnTo>
                    <a:lnTo>
                      <a:pt x="2006" y="2874"/>
                    </a:lnTo>
                    <a:lnTo>
                      <a:pt x="2000" y="2878"/>
                    </a:lnTo>
                    <a:lnTo>
                      <a:pt x="1994" y="2882"/>
                    </a:lnTo>
                    <a:lnTo>
                      <a:pt x="1988" y="2884"/>
                    </a:lnTo>
                    <a:lnTo>
                      <a:pt x="1980" y="2884"/>
                    </a:lnTo>
                    <a:lnTo>
                      <a:pt x="1974" y="2882"/>
                    </a:lnTo>
                    <a:lnTo>
                      <a:pt x="1966" y="2878"/>
                    </a:lnTo>
                    <a:lnTo>
                      <a:pt x="1870" y="2816"/>
                    </a:lnTo>
                    <a:lnTo>
                      <a:pt x="1862" y="2812"/>
                    </a:lnTo>
                    <a:lnTo>
                      <a:pt x="1856" y="2810"/>
                    </a:lnTo>
                    <a:lnTo>
                      <a:pt x="1848" y="2810"/>
                    </a:lnTo>
                    <a:lnTo>
                      <a:pt x="1840" y="2810"/>
                    </a:lnTo>
                    <a:lnTo>
                      <a:pt x="1834" y="2812"/>
                    </a:lnTo>
                    <a:lnTo>
                      <a:pt x="1828" y="2816"/>
                    </a:lnTo>
                    <a:lnTo>
                      <a:pt x="1822" y="2822"/>
                    </a:lnTo>
                    <a:lnTo>
                      <a:pt x="1818" y="2830"/>
                    </a:lnTo>
                    <a:lnTo>
                      <a:pt x="1766" y="2932"/>
                    </a:lnTo>
                    <a:lnTo>
                      <a:pt x="1762" y="2938"/>
                    </a:lnTo>
                    <a:lnTo>
                      <a:pt x="1756" y="2944"/>
                    </a:lnTo>
                    <a:lnTo>
                      <a:pt x="1750" y="2946"/>
                    </a:lnTo>
                    <a:lnTo>
                      <a:pt x="1744" y="2948"/>
                    </a:lnTo>
                    <a:lnTo>
                      <a:pt x="1738" y="2950"/>
                    </a:lnTo>
                    <a:lnTo>
                      <a:pt x="1730" y="2948"/>
                    </a:lnTo>
                    <a:lnTo>
                      <a:pt x="1724" y="2944"/>
                    </a:lnTo>
                    <a:lnTo>
                      <a:pt x="1718" y="2940"/>
                    </a:lnTo>
                    <a:lnTo>
                      <a:pt x="1634" y="2862"/>
                    </a:lnTo>
                    <a:lnTo>
                      <a:pt x="1626" y="2856"/>
                    </a:lnTo>
                    <a:lnTo>
                      <a:pt x="1620" y="2854"/>
                    </a:lnTo>
                    <a:lnTo>
                      <a:pt x="1612" y="2852"/>
                    </a:lnTo>
                    <a:lnTo>
                      <a:pt x="1606" y="2852"/>
                    </a:lnTo>
                    <a:lnTo>
                      <a:pt x="1598" y="2854"/>
                    </a:lnTo>
                    <a:lnTo>
                      <a:pt x="1592" y="2856"/>
                    </a:lnTo>
                    <a:lnTo>
                      <a:pt x="1586" y="2860"/>
                    </a:lnTo>
                    <a:lnTo>
                      <a:pt x="1580" y="2866"/>
                    </a:lnTo>
                    <a:lnTo>
                      <a:pt x="1510" y="2958"/>
                    </a:lnTo>
                    <a:lnTo>
                      <a:pt x="1504" y="2964"/>
                    </a:lnTo>
                    <a:lnTo>
                      <a:pt x="1498" y="2968"/>
                    </a:lnTo>
                    <a:lnTo>
                      <a:pt x="1492" y="2970"/>
                    </a:lnTo>
                    <a:lnTo>
                      <a:pt x="1486" y="2972"/>
                    </a:lnTo>
                    <a:lnTo>
                      <a:pt x="1480" y="2970"/>
                    </a:lnTo>
                    <a:lnTo>
                      <a:pt x="1474" y="2968"/>
                    </a:lnTo>
                    <a:lnTo>
                      <a:pt x="1468" y="2964"/>
                    </a:lnTo>
                    <a:lnTo>
                      <a:pt x="1462" y="2958"/>
                    </a:lnTo>
                    <a:lnTo>
                      <a:pt x="1392" y="2866"/>
                    </a:lnTo>
                    <a:lnTo>
                      <a:pt x="1386" y="2860"/>
                    </a:lnTo>
                    <a:lnTo>
                      <a:pt x="1380" y="2856"/>
                    </a:lnTo>
                    <a:lnTo>
                      <a:pt x="1374" y="2854"/>
                    </a:lnTo>
                    <a:lnTo>
                      <a:pt x="1366" y="2852"/>
                    </a:lnTo>
                    <a:lnTo>
                      <a:pt x="1360" y="2852"/>
                    </a:lnTo>
                    <a:lnTo>
                      <a:pt x="1352" y="2854"/>
                    </a:lnTo>
                    <a:lnTo>
                      <a:pt x="1346" y="2856"/>
                    </a:lnTo>
                    <a:lnTo>
                      <a:pt x="1338" y="2862"/>
                    </a:lnTo>
                    <a:lnTo>
                      <a:pt x="1254" y="2940"/>
                    </a:lnTo>
                    <a:lnTo>
                      <a:pt x="1248" y="2944"/>
                    </a:lnTo>
                    <a:lnTo>
                      <a:pt x="1242" y="2948"/>
                    </a:lnTo>
                    <a:lnTo>
                      <a:pt x="1234" y="2950"/>
                    </a:lnTo>
                    <a:lnTo>
                      <a:pt x="1228" y="2948"/>
                    </a:lnTo>
                    <a:lnTo>
                      <a:pt x="1222" y="2946"/>
                    </a:lnTo>
                    <a:lnTo>
                      <a:pt x="1216" y="2944"/>
                    </a:lnTo>
                    <a:lnTo>
                      <a:pt x="1210" y="2938"/>
                    </a:lnTo>
                    <a:lnTo>
                      <a:pt x="1206" y="2932"/>
                    </a:lnTo>
                    <a:lnTo>
                      <a:pt x="1154" y="2830"/>
                    </a:lnTo>
                    <a:lnTo>
                      <a:pt x="1150" y="2822"/>
                    </a:lnTo>
                    <a:lnTo>
                      <a:pt x="1144" y="2816"/>
                    </a:lnTo>
                    <a:lnTo>
                      <a:pt x="1138" y="2812"/>
                    </a:lnTo>
                    <a:lnTo>
                      <a:pt x="1132" y="2810"/>
                    </a:lnTo>
                    <a:lnTo>
                      <a:pt x="1124" y="2810"/>
                    </a:lnTo>
                    <a:lnTo>
                      <a:pt x="1116" y="2810"/>
                    </a:lnTo>
                    <a:lnTo>
                      <a:pt x="1110" y="2812"/>
                    </a:lnTo>
                    <a:lnTo>
                      <a:pt x="1102" y="2816"/>
                    </a:lnTo>
                    <a:lnTo>
                      <a:pt x="1006" y="2878"/>
                    </a:lnTo>
                    <a:lnTo>
                      <a:pt x="998" y="2882"/>
                    </a:lnTo>
                    <a:lnTo>
                      <a:pt x="992" y="2884"/>
                    </a:lnTo>
                    <a:lnTo>
                      <a:pt x="984" y="2884"/>
                    </a:lnTo>
                    <a:lnTo>
                      <a:pt x="978" y="2882"/>
                    </a:lnTo>
                    <a:lnTo>
                      <a:pt x="972" y="2878"/>
                    </a:lnTo>
                    <a:lnTo>
                      <a:pt x="968" y="2874"/>
                    </a:lnTo>
                    <a:lnTo>
                      <a:pt x="962" y="2868"/>
                    </a:lnTo>
                    <a:lnTo>
                      <a:pt x="960" y="2862"/>
                    </a:lnTo>
                    <a:lnTo>
                      <a:pt x="926" y="2750"/>
                    </a:lnTo>
                    <a:lnTo>
                      <a:pt x="922" y="2744"/>
                    </a:lnTo>
                    <a:lnTo>
                      <a:pt x="918" y="2738"/>
                    </a:lnTo>
                    <a:lnTo>
                      <a:pt x="912" y="2732"/>
                    </a:lnTo>
                    <a:lnTo>
                      <a:pt x="906" y="2728"/>
                    </a:lnTo>
                    <a:lnTo>
                      <a:pt x="900" y="2726"/>
                    </a:lnTo>
                    <a:lnTo>
                      <a:pt x="892" y="2726"/>
                    </a:lnTo>
                    <a:lnTo>
                      <a:pt x="884" y="2726"/>
                    </a:lnTo>
                    <a:lnTo>
                      <a:pt x="878" y="2728"/>
                    </a:lnTo>
                    <a:lnTo>
                      <a:pt x="770" y="2772"/>
                    </a:lnTo>
                    <a:lnTo>
                      <a:pt x="764" y="2776"/>
                    </a:lnTo>
                    <a:lnTo>
                      <a:pt x="756" y="2776"/>
                    </a:lnTo>
                    <a:lnTo>
                      <a:pt x="750" y="2774"/>
                    </a:lnTo>
                    <a:lnTo>
                      <a:pt x="744" y="2772"/>
                    </a:lnTo>
                    <a:lnTo>
                      <a:pt x="738" y="2768"/>
                    </a:lnTo>
                    <a:lnTo>
                      <a:pt x="734" y="2762"/>
                    </a:lnTo>
                    <a:lnTo>
                      <a:pt x="730" y="2756"/>
                    </a:lnTo>
                    <a:lnTo>
                      <a:pt x="728" y="2748"/>
                    </a:lnTo>
                    <a:lnTo>
                      <a:pt x="714" y="2634"/>
                    </a:lnTo>
                    <a:lnTo>
                      <a:pt x="712" y="2626"/>
                    </a:lnTo>
                    <a:lnTo>
                      <a:pt x="710" y="2620"/>
                    </a:lnTo>
                    <a:lnTo>
                      <a:pt x="706" y="2614"/>
                    </a:lnTo>
                    <a:lnTo>
                      <a:pt x="700" y="2610"/>
                    </a:lnTo>
                    <a:lnTo>
                      <a:pt x="694" y="2606"/>
                    </a:lnTo>
                    <a:lnTo>
                      <a:pt x="686" y="2604"/>
                    </a:lnTo>
                    <a:lnTo>
                      <a:pt x="678" y="2602"/>
                    </a:lnTo>
                    <a:lnTo>
                      <a:pt x="670" y="2604"/>
                    </a:lnTo>
                    <a:lnTo>
                      <a:pt x="558" y="2630"/>
                    </a:lnTo>
                    <a:lnTo>
                      <a:pt x="550" y="2630"/>
                    </a:lnTo>
                    <a:lnTo>
                      <a:pt x="544" y="2630"/>
                    </a:lnTo>
                    <a:lnTo>
                      <a:pt x="536" y="2628"/>
                    </a:lnTo>
                    <a:lnTo>
                      <a:pt x="532" y="2624"/>
                    </a:lnTo>
                    <a:lnTo>
                      <a:pt x="526" y="2618"/>
                    </a:lnTo>
                    <a:lnTo>
                      <a:pt x="524" y="2612"/>
                    </a:lnTo>
                    <a:lnTo>
                      <a:pt x="522" y="2606"/>
                    </a:lnTo>
                    <a:lnTo>
                      <a:pt x="522" y="2598"/>
                    </a:lnTo>
                    <a:lnTo>
                      <a:pt x="526" y="2484"/>
                    </a:lnTo>
                    <a:lnTo>
                      <a:pt x="526" y="2476"/>
                    </a:lnTo>
                    <a:lnTo>
                      <a:pt x="524" y="2468"/>
                    </a:lnTo>
                    <a:lnTo>
                      <a:pt x="522" y="2462"/>
                    </a:lnTo>
                    <a:lnTo>
                      <a:pt x="516" y="2456"/>
                    </a:lnTo>
                    <a:lnTo>
                      <a:pt x="510" y="2450"/>
                    </a:lnTo>
                    <a:lnTo>
                      <a:pt x="504" y="2448"/>
                    </a:lnTo>
                    <a:lnTo>
                      <a:pt x="496" y="2446"/>
                    </a:lnTo>
                    <a:lnTo>
                      <a:pt x="488" y="2446"/>
                    </a:lnTo>
                    <a:lnTo>
                      <a:pt x="374" y="2450"/>
                    </a:lnTo>
                    <a:lnTo>
                      <a:pt x="366" y="2450"/>
                    </a:lnTo>
                    <a:lnTo>
                      <a:pt x="358" y="2448"/>
                    </a:lnTo>
                    <a:lnTo>
                      <a:pt x="352" y="2446"/>
                    </a:lnTo>
                    <a:lnTo>
                      <a:pt x="348" y="2440"/>
                    </a:lnTo>
                    <a:lnTo>
                      <a:pt x="344" y="2436"/>
                    </a:lnTo>
                    <a:lnTo>
                      <a:pt x="342" y="2428"/>
                    </a:lnTo>
                    <a:lnTo>
                      <a:pt x="342" y="2422"/>
                    </a:lnTo>
                    <a:lnTo>
                      <a:pt x="342" y="2414"/>
                    </a:lnTo>
                    <a:lnTo>
                      <a:pt x="368" y="2302"/>
                    </a:lnTo>
                    <a:lnTo>
                      <a:pt x="370" y="2294"/>
                    </a:lnTo>
                    <a:lnTo>
                      <a:pt x="368" y="2286"/>
                    </a:lnTo>
                    <a:lnTo>
                      <a:pt x="366" y="2278"/>
                    </a:lnTo>
                    <a:lnTo>
                      <a:pt x="362" y="2272"/>
                    </a:lnTo>
                    <a:lnTo>
                      <a:pt x="358" y="2266"/>
                    </a:lnTo>
                    <a:lnTo>
                      <a:pt x="352" y="2262"/>
                    </a:lnTo>
                    <a:lnTo>
                      <a:pt x="346" y="2260"/>
                    </a:lnTo>
                    <a:lnTo>
                      <a:pt x="338" y="2258"/>
                    </a:lnTo>
                    <a:lnTo>
                      <a:pt x="224" y="2242"/>
                    </a:lnTo>
                    <a:lnTo>
                      <a:pt x="216" y="2242"/>
                    </a:lnTo>
                    <a:lnTo>
                      <a:pt x="208" y="2238"/>
                    </a:lnTo>
                    <a:lnTo>
                      <a:pt x="204" y="2234"/>
                    </a:lnTo>
                    <a:lnTo>
                      <a:pt x="200" y="2228"/>
                    </a:lnTo>
                    <a:lnTo>
                      <a:pt x="198" y="2222"/>
                    </a:lnTo>
                    <a:lnTo>
                      <a:pt x="196" y="2216"/>
                    </a:lnTo>
                    <a:lnTo>
                      <a:pt x="196" y="2208"/>
                    </a:lnTo>
                    <a:lnTo>
                      <a:pt x="198" y="2202"/>
                    </a:lnTo>
                    <a:lnTo>
                      <a:pt x="244" y="2094"/>
                    </a:lnTo>
                    <a:lnTo>
                      <a:pt x="246" y="2088"/>
                    </a:lnTo>
                    <a:lnTo>
                      <a:pt x="246" y="2080"/>
                    </a:lnTo>
                    <a:lnTo>
                      <a:pt x="246" y="2072"/>
                    </a:lnTo>
                    <a:lnTo>
                      <a:pt x="244" y="2066"/>
                    </a:lnTo>
                    <a:lnTo>
                      <a:pt x="240" y="2060"/>
                    </a:lnTo>
                    <a:lnTo>
                      <a:pt x="234" y="2054"/>
                    </a:lnTo>
                    <a:lnTo>
                      <a:pt x="228" y="2050"/>
                    </a:lnTo>
                    <a:lnTo>
                      <a:pt x="220" y="2046"/>
                    </a:lnTo>
                    <a:lnTo>
                      <a:pt x="110" y="2012"/>
                    </a:lnTo>
                    <a:lnTo>
                      <a:pt x="104" y="2010"/>
                    </a:lnTo>
                    <a:lnTo>
                      <a:pt x="98" y="2004"/>
                    </a:lnTo>
                    <a:lnTo>
                      <a:pt x="94" y="2000"/>
                    </a:lnTo>
                    <a:lnTo>
                      <a:pt x="90" y="1994"/>
                    </a:lnTo>
                    <a:lnTo>
                      <a:pt x="88" y="1988"/>
                    </a:lnTo>
                    <a:lnTo>
                      <a:pt x="88" y="1980"/>
                    </a:lnTo>
                    <a:lnTo>
                      <a:pt x="90" y="1974"/>
                    </a:lnTo>
                    <a:lnTo>
                      <a:pt x="94" y="1966"/>
                    </a:lnTo>
                    <a:lnTo>
                      <a:pt x="156" y="1870"/>
                    </a:lnTo>
                    <a:lnTo>
                      <a:pt x="160" y="1862"/>
                    </a:lnTo>
                    <a:lnTo>
                      <a:pt x="162" y="1856"/>
                    </a:lnTo>
                    <a:lnTo>
                      <a:pt x="162" y="1848"/>
                    </a:lnTo>
                    <a:lnTo>
                      <a:pt x="162" y="1840"/>
                    </a:lnTo>
                    <a:lnTo>
                      <a:pt x="160" y="1834"/>
                    </a:lnTo>
                    <a:lnTo>
                      <a:pt x="154" y="1828"/>
                    </a:lnTo>
                    <a:lnTo>
                      <a:pt x="150" y="1822"/>
                    </a:lnTo>
                    <a:lnTo>
                      <a:pt x="142" y="1818"/>
                    </a:lnTo>
                    <a:lnTo>
                      <a:pt x="40" y="1766"/>
                    </a:lnTo>
                    <a:lnTo>
                      <a:pt x="34" y="1762"/>
                    </a:lnTo>
                    <a:lnTo>
                      <a:pt x="28" y="1756"/>
                    </a:lnTo>
                    <a:lnTo>
                      <a:pt x="26" y="1750"/>
                    </a:lnTo>
                    <a:lnTo>
                      <a:pt x="24" y="1744"/>
                    </a:lnTo>
                    <a:lnTo>
                      <a:pt x="22" y="1738"/>
                    </a:lnTo>
                    <a:lnTo>
                      <a:pt x="24" y="1730"/>
                    </a:lnTo>
                    <a:lnTo>
                      <a:pt x="28" y="1724"/>
                    </a:lnTo>
                    <a:lnTo>
                      <a:pt x="32" y="1718"/>
                    </a:lnTo>
                    <a:lnTo>
                      <a:pt x="110" y="1634"/>
                    </a:lnTo>
                    <a:lnTo>
                      <a:pt x="116" y="1626"/>
                    </a:lnTo>
                    <a:lnTo>
                      <a:pt x="118" y="1620"/>
                    </a:lnTo>
                    <a:lnTo>
                      <a:pt x="120" y="1612"/>
                    </a:lnTo>
                    <a:lnTo>
                      <a:pt x="120" y="1606"/>
                    </a:lnTo>
                    <a:lnTo>
                      <a:pt x="118" y="1598"/>
                    </a:lnTo>
                    <a:lnTo>
                      <a:pt x="116" y="1592"/>
                    </a:lnTo>
                    <a:lnTo>
                      <a:pt x="112" y="1586"/>
                    </a:lnTo>
                    <a:lnTo>
                      <a:pt x="106" y="1580"/>
                    </a:lnTo>
                    <a:lnTo>
                      <a:pt x="14" y="1510"/>
                    </a:lnTo>
                    <a:lnTo>
                      <a:pt x="8" y="1504"/>
                    </a:lnTo>
                    <a:lnTo>
                      <a:pt x="4" y="1498"/>
                    </a:lnTo>
                    <a:lnTo>
                      <a:pt x="2" y="1492"/>
                    </a:lnTo>
                    <a:lnTo>
                      <a:pt x="0" y="1486"/>
                    </a:lnTo>
                    <a:lnTo>
                      <a:pt x="2" y="1480"/>
                    </a:lnTo>
                    <a:lnTo>
                      <a:pt x="4" y="1474"/>
                    </a:lnTo>
                    <a:lnTo>
                      <a:pt x="8" y="1468"/>
                    </a:lnTo>
                    <a:lnTo>
                      <a:pt x="14" y="1462"/>
                    </a:lnTo>
                    <a:lnTo>
                      <a:pt x="106" y="1392"/>
                    </a:lnTo>
                    <a:lnTo>
                      <a:pt x="112" y="1386"/>
                    </a:lnTo>
                    <a:lnTo>
                      <a:pt x="116" y="1380"/>
                    </a:lnTo>
                    <a:lnTo>
                      <a:pt x="118" y="1374"/>
                    </a:lnTo>
                    <a:lnTo>
                      <a:pt x="120" y="1366"/>
                    </a:lnTo>
                    <a:lnTo>
                      <a:pt x="120" y="1360"/>
                    </a:lnTo>
                    <a:lnTo>
                      <a:pt x="118" y="1352"/>
                    </a:lnTo>
                    <a:lnTo>
                      <a:pt x="116" y="1344"/>
                    </a:lnTo>
                    <a:lnTo>
                      <a:pt x="110" y="1338"/>
                    </a:lnTo>
                    <a:lnTo>
                      <a:pt x="32" y="1254"/>
                    </a:lnTo>
                    <a:lnTo>
                      <a:pt x="28" y="1248"/>
                    </a:lnTo>
                    <a:lnTo>
                      <a:pt x="24" y="1242"/>
                    </a:lnTo>
                    <a:lnTo>
                      <a:pt x="22" y="1234"/>
                    </a:lnTo>
                    <a:lnTo>
                      <a:pt x="24" y="1228"/>
                    </a:lnTo>
                    <a:lnTo>
                      <a:pt x="26" y="1222"/>
                    </a:lnTo>
                    <a:lnTo>
                      <a:pt x="28" y="1216"/>
                    </a:lnTo>
                    <a:lnTo>
                      <a:pt x="34" y="1210"/>
                    </a:lnTo>
                    <a:lnTo>
                      <a:pt x="40" y="1206"/>
                    </a:lnTo>
                    <a:lnTo>
                      <a:pt x="142" y="1154"/>
                    </a:lnTo>
                    <a:lnTo>
                      <a:pt x="150" y="1150"/>
                    </a:lnTo>
                    <a:lnTo>
                      <a:pt x="154" y="1144"/>
                    </a:lnTo>
                    <a:lnTo>
                      <a:pt x="160" y="1138"/>
                    </a:lnTo>
                    <a:lnTo>
                      <a:pt x="162" y="1132"/>
                    </a:lnTo>
                    <a:lnTo>
                      <a:pt x="162" y="1124"/>
                    </a:lnTo>
                    <a:lnTo>
                      <a:pt x="162" y="1116"/>
                    </a:lnTo>
                    <a:lnTo>
                      <a:pt x="160" y="1110"/>
                    </a:lnTo>
                    <a:lnTo>
                      <a:pt x="156" y="1102"/>
                    </a:lnTo>
                    <a:lnTo>
                      <a:pt x="94" y="1006"/>
                    </a:lnTo>
                    <a:lnTo>
                      <a:pt x="90" y="998"/>
                    </a:lnTo>
                    <a:lnTo>
                      <a:pt x="88" y="992"/>
                    </a:lnTo>
                    <a:lnTo>
                      <a:pt x="88" y="984"/>
                    </a:lnTo>
                    <a:lnTo>
                      <a:pt x="90" y="978"/>
                    </a:lnTo>
                    <a:lnTo>
                      <a:pt x="94" y="972"/>
                    </a:lnTo>
                    <a:lnTo>
                      <a:pt x="98" y="966"/>
                    </a:lnTo>
                    <a:lnTo>
                      <a:pt x="104" y="962"/>
                    </a:lnTo>
                    <a:lnTo>
                      <a:pt x="110" y="960"/>
                    </a:lnTo>
                    <a:lnTo>
                      <a:pt x="220" y="926"/>
                    </a:lnTo>
                    <a:lnTo>
                      <a:pt x="228" y="922"/>
                    </a:lnTo>
                    <a:lnTo>
                      <a:pt x="234" y="918"/>
                    </a:lnTo>
                    <a:lnTo>
                      <a:pt x="240" y="912"/>
                    </a:lnTo>
                    <a:lnTo>
                      <a:pt x="244" y="906"/>
                    </a:lnTo>
                    <a:lnTo>
                      <a:pt x="246" y="900"/>
                    </a:lnTo>
                    <a:lnTo>
                      <a:pt x="246" y="892"/>
                    </a:lnTo>
                    <a:lnTo>
                      <a:pt x="246" y="884"/>
                    </a:lnTo>
                    <a:lnTo>
                      <a:pt x="244" y="876"/>
                    </a:lnTo>
                    <a:lnTo>
                      <a:pt x="198" y="770"/>
                    </a:lnTo>
                    <a:lnTo>
                      <a:pt x="196" y="764"/>
                    </a:lnTo>
                    <a:lnTo>
                      <a:pt x="196" y="756"/>
                    </a:lnTo>
                    <a:lnTo>
                      <a:pt x="198" y="750"/>
                    </a:lnTo>
                    <a:lnTo>
                      <a:pt x="200" y="744"/>
                    </a:lnTo>
                    <a:lnTo>
                      <a:pt x="204" y="738"/>
                    </a:lnTo>
                    <a:lnTo>
                      <a:pt x="208" y="734"/>
                    </a:lnTo>
                    <a:lnTo>
                      <a:pt x="216" y="730"/>
                    </a:lnTo>
                    <a:lnTo>
                      <a:pt x="224" y="728"/>
                    </a:lnTo>
                    <a:lnTo>
                      <a:pt x="338" y="714"/>
                    </a:lnTo>
                    <a:lnTo>
                      <a:pt x="346" y="712"/>
                    </a:lnTo>
                    <a:lnTo>
                      <a:pt x="352" y="710"/>
                    </a:lnTo>
                    <a:lnTo>
                      <a:pt x="358" y="704"/>
                    </a:lnTo>
                    <a:lnTo>
                      <a:pt x="362" y="700"/>
                    </a:lnTo>
                    <a:lnTo>
                      <a:pt x="366" y="694"/>
                    </a:lnTo>
                    <a:lnTo>
                      <a:pt x="368" y="686"/>
                    </a:lnTo>
                    <a:lnTo>
                      <a:pt x="370" y="678"/>
                    </a:lnTo>
                    <a:lnTo>
                      <a:pt x="368" y="670"/>
                    </a:lnTo>
                    <a:lnTo>
                      <a:pt x="342" y="558"/>
                    </a:lnTo>
                    <a:lnTo>
                      <a:pt x="342" y="550"/>
                    </a:lnTo>
                    <a:lnTo>
                      <a:pt x="342" y="544"/>
                    </a:lnTo>
                    <a:lnTo>
                      <a:pt x="344" y="536"/>
                    </a:lnTo>
                    <a:lnTo>
                      <a:pt x="348" y="532"/>
                    </a:lnTo>
                    <a:lnTo>
                      <a:pt x="352" y="526"/>
                    </a:lnTo>
                    <a:lnTo>
                      <a:pt x="358" y="524"/>
                    </a:lnTo>
                    <a:lnTo>
                      <a:pt x="366" y="522"/>
                    </a:lnTo>
                    <a:lnTo>
                      <a:pt x="374" y="522"/>
                    </a:lnTo>
                    <a:lnTo>
                      <a:pt x="488" y="526"/>
                    </a:lnTo>
                    <a:lnTo>
                      <a:pt x="496" y="526"/>
                    </a:lnTo>
                    <a:lnTo>
                      <a:pt x="504" y="524"/>
                    </a:lnTo>
                    <a:lnTo>
                      <a:pt x="510" y="520"/>
                    </a:lnTo>
                    <a:lnTo>
                      <a:pt x="516" y="516"/>
                    </a:lnTo>
                    <a:lnTo>
                      <a:pt x="522" y="510"/>
                    </a:lnTo>
                    <a:lnTo>
                      <a:pt x="524" y="504"/>
                    </a:lnTo>
                    <a:lnTo>
                      <a:pt x="526" y="496"/>
                    </a:lnTo>
                    <a:lnTo>
                      <a:pt x="526" y="488"/>
                    </a:lnTo>
                    <a:lnTo>
                      <a:pt x="522" y="374"/>
                    </a:lnTo>
                    <a:lnTo>
                      <a:pt x="522" y="366"/>
                    </a:lnTo>
                    <a:lnTo>
                      <a:pt x="524" y="358"/>
                    </a:lnTo>
                    <a:lnTo>
                      <a:pt x="526" y="352"/>
                    </a:lnTo>
                    <a:lnTo>
                      <a:pt x="532" y="348"/>
                    </a:lnTo>
                    <a:lnTo>
                      <a:pt x="536" y="344"/>
                    </a:lnTo>
                    <a:lnTo>
                      <a:pt x="544" y="342"/>
                    </a:lnTo>
                    <a:lnTo>
                      <a:pt x="550" y="342"/>
                    </a:lnTo>
                    <a:lnTo>
                      <a:pt x="558" y="342"/>
                    </a:lnTo>
                    <a:lnTo>
                      <a:pt x="670" y="368"/>
                    </a:lnTo>
                    <a:lnTo>
                      <a:pt x="678" y="370"/>
                    </a:lnTo>
                    <a:lnTo>
                      <a:pt x="686" y="368"/>
                    </a:lnTo>
                    <a:lnTo>
                      <a:pt x="694" y="366"/>
                    </a:lnTo>
                    <a:lnTo>
                      <a:pt x="700" y="362"/>
                    </a:lnTo>
                    <a:lnTo>
                      <a:pt x="706" y="358"/>
                    </a:lnTo>
                    <a:lnTo>
                      <a:pt x="710" y="352"/>
                    </a:lnTo>
                    <a:lnTo>
                      <a:pt x="712" y="346"/>
                    </a:lnTo>
                    <a:lnTo>
                      <a:pt x="714" y="338"/>
                    </a:lnTo>
                    <a:lnTo>
                      <a:pt x="728" y="224"/>
                    </a:lnTo>
                    <a:lnTo>
                      <a:pt x="730" y="216"/>
                    </a:lnTo>
                    <a:lnTo>
                      <a:pt x="734" y="208"/>
                    </a:lnTo>
                    <a:lnTo>
                      <a:pt x="738" y="204"/>
                    </a:lnTo>
                    <a:lnTo>
                      <a:pt x="744" y="200"/>
                    </a:lnTo>
                    <a:lnTo>
                      <a:pt x="750" y="196"/>
                    </a:lnTo>
                    <a:lnTo>
                      <a:pt x="756" y="196"/>
                    </a:lnTo>
                    <a:lnTo>
                      <a:pt x="764" y="196"/>
                    </a:lnTo>
                    <a:lnTo>
                      <a:pt x="770" y="198"/>
                    </a:lnTo>
                    <a:lnTo>
                      <a:pt x="878" y="244"/>
                    </a:lnTo>
                    <a:lnTo>
                      <a:pt x="884" y="246"/>
                    </a:lnTo>
                    <a:lnTo>
                      <a:pt x="892" y="246"/>
                    </a:lnTo>
                    <a:lnTo>
                      <a:pt x="900" y="246"/>
                    </a:lnTo>
                    <a:lnTo>
                      <a:pt x="906" y="244"/>
                    </a:lnTo>
                    <a:lnTo>
                      <a:pt x="912" y="240"/>
                    </a:lnTo>
                    <a:lnTo>
                      <a:pt x="918" y="234"/>
                    </a:lnTo>
                    <a:lnTo>
                      <a:pt x="922" y="228"/>
                    </a:lnTo>
                    <a:lnTo>
                      <a:pt x="926" y="220"/>
                    </a:lnTo>
                    <a:lnTo>
                      <a:pt x="960" y="110"/>
                    </a:lnTo>
                    <a:lnTo>
                      <a:pt x="962" y="104"/>
                    </a:lnTo>
                    <a:lnTo>
                      <a:pt x="968" y="98"/>
                    </a:lnTo>
                    <a:lnTo>
                      <a:pt x="972" y="94"/>
                    </a:lnTo>
                    <a:lnTo>
                      <a:pt x="978" y="90"/>
                    </a:lnTo>
                    <a:lnTo>
                      <a:pt x="984" y="88"/>
                    </a:lnTo>
                    <a:lnTo>
                      <a:pt x="992" y="88"/>
                    </a:lnTo>
                    <a:lnTo>
                      <a:pt x="998" y="90"/>
                    </a:lnTo>
                    <a:lnTo>
                      <a:pt x="1006" y="94"/>
                    </a:lnTo>
                    <a:lnTo>
                      <a:pt x="1102" y="156"/>
                    </a:lnTo>
                    <a:lnTo>
                      <a:pt x="1110" y="160"/>
                    </a:lnTo>
                    <a:lnTo>
                      <a:pt x="1116" y="162"/>
                    </a:lnTo>
                    <a:lnTo>
                      <a:pt x="1124" y="162"/>
                    </a:lnTo>
                    <a:lnTo>
                      <a:pt x="1132" y="162"/>
                    </a:lnTo>
                    <a:lnTo>
                      <a:pt x="1138" y="158"/>
                    </a:lnTo>
                    <a:lnTo>
                      <a:pt x="1144" y="154"/>
                    </a:lnTo>
                    <a:lnTo>
                      <a:pt x="1150" y="150"/>
                    </a:lnTo>
                    <a:lnTo>
                      <a:pt x="1154" y="142"/>
                    </a:lnTo>
                    <a:lnTo>
                      <a:pt x="1206" y="40"/>
                    </a:lnTo>
                    <a:lnTo>
                      <a:pt x="1210" y="34"/>
                    </a:lnTo>
                    <a:lnTo>
                      <a:pt x="1216" y="28"/>
                    </a:lnTo>
                    <a:lnTo>
                      <a:pt x="1222" y="26"/>
                    </a:lnTo>
                    <a:lnTo>
                      <a:pt x="1228" y="24"/>
                    </a:lnTo>
                    <a:lnTo>
                      <a:pt x="1234" y="22"/>
                    </a:lnTo>
                    <a:lnTo>
                      <a:pt x="1242" y="24"/>
                    </a:lnTo>
                    <a:lnTo>
                      <a:pt x="1248" y="28"/>
                    </a:lnTo>
                    <a:lnTo>
                      <a:pt x="1254" y="32"/>
                    </a:lnTo>
                    <a:lnTo>
                      <a:pt x="1338" y="110"/>
                    </a:lnTo>
                    <a:lnTo>
                      <a:pt x="1346" y="116"/>
                    </a:lnTo>
                    <a:lnTo>
                      <a:pt x="1352" y="118"/>
                    </a:lnTo>
                    <a:lnTo>
                      <a:pt x="1360" y="120"/>
                    </a:lnTo>
                    <a:lnTo>
                      <a:pt x="1366" y="120"/>
                    </a:lnTo>
                    <a:lnTo>
                      <a:pt x="1374" y="118"/>
                    </a:lnTo>
                    <a:lnTo>
                      <a:pt x="1380" y="116"/>
                    </a:lnTo>
                    <a:lnTo>
                      <a:pt x="1386" y="112"/>
                    </a:lnTo>
                    <a:lnTo>
                      <a:pt x="1392" y="106"/>
                    </a:lnTo>
                    <a:lnTo>
                      <a:pt x="1462" y="14"/>
                    </a:lnTo>
                    <a:close/>
                  </a:path>
                </a:pathLst>
              </a:custGeom>
              <a:solidFill>
                <a:schemeClr val="bg1"/>
              </a:solidFill>
              <a:ln w="38100">
                <a:solidFill>
                  <a:srgbClr val="6ba42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6" name="Freeform 7"/>
              <p:cNvSpPr/>
              <p:nvPr/>
            </p:nvSpPr>
            <p:spPr>
              <a:xfrm>
                <a:off x="829440" y="5149440"/>
                <a:ext cx="814680" cy="813600"/>
              </a:xfrm>
              <a:custGeom>
                <a:avLst/>
                <a:gdLst>
                  <a:gd name="textAreaLeft" fmla="*/ 0 w 814680"/>
                  <a:gd name="textAreaRight" fmla="*/ 815040 w 814680"/>
                  <a:gd name="textAreaTop" fmla="*/ 0 h 813600"/>
                  <a:gd name="textAreaBottom" fmla="*/ 813960 h 813600"/>
                </a:gdLst>
                <a:ahLst/>
                <a:rect l="textAreaLeft" t="textAreaTop" r="textAreaRight" b="textAreaBottom"/>
                <a:pathLst>
                  <a:path w="1680" h="1680">
                    <a:moveTo>
                      <a:pt x="1680" y="840"/>
                    </a:moveTo>
                    <a:lnTo>
                      <a:pt x="1680" y="840"/>
                    </a:lnTo>
                    <a:lnTo>
                      <a:pt x="1680" y="884"/>
                    </a:lnTo>
                    <a:lnTo>
                      <a:pt x="1676" y="926"/>
                    </a:lnTo>
                    <a:lnTo>
                      <a:pt x="1672" y="968"/>
                    </a:lnTo>
                    <a:lnTo>
                      <a:pt x="1664" y="1010"/>
                    </a:lnTo>
                    <a:lnTo>
                      <a:pt x="1654" y="1050"/>
                    </a:lnTo>
                    <a:lnTo>
                      <a:pt x="1642" y="1090"/>
                    </a:lnTo>
                    <a:lnTo>
                      <a:pt x="1630" y="1130"/>
                    </a:lnTo>
                    <a:lnTo>
                      <a:pt x="1614" y="1168"/>
                    </a:lnTo>
                    <a:lnTo>
                      <a:pt x="1598" y="1204"/>
                    </a:lnTo>
                    <a:lnTo>
                      <a:pt x="1580" y="1240"/>
                    </a:lnTo>
                    <a:lnTo>
                      <a:pt x="1560" y="1276"/>
                    </a:lnTo>
                    <a:lnTo>
                      <a:pt x="1538" y="1310"/>
                    </a:lnTo>
                    <a:lnTo>
                      <a:pt x="1514" y="1342"/>
                    </a:lnTo>
                    <a:lnTo>
                      <a:pt x="1488" y="1374"/>
                    </a:lnTo>
                    <a:lnTo>
                      <a:pt x="1462" y="1404"/>
                    </a:lnTo>
                    <a:lnTo>
                      <a:pt x="1434" y="1434"/>
                    </a:lnTo>
                    <a:lnTo>
                      <a:pt x="1406" y="1462"/>
                    </a:lnTo>
                    <a:lnTo>
                      <a:pt x="1376" y="1488"/>
                    </a:lnTo>
                    <a:lnTo>
                      <a:pt x="1344" y="1514"/>
                    </a:lnTo>
                    <a:lnTo>
                      <a:pt x="1310" y="1536"/>
                    </a:lnTo>
                    <a:lnTo>
                      <a:pt x="1276" y="1558"/>
                    </a:lnTo>
                    <a:lnTo>
                      <a:pt x="1242" y="1578"/>
                    </a:lnTo>
                    <a:lnTo>
                      <a:pt x="1204" y="1598"/>
                    </a:lnTo>
                    <a:lnTo>
                      <a:pt x="1168" y="1614"/>
                    </a:lnTo>
                    <a:lnTo>
                      <a:pt x="1130" y="1630"/>
                    </a:lnTo>
                    <a:lnTo>
                      <a:pt x="1090" y="1642"/>
                    </a:lnTo>
                    <a:lnTo>
                      <a:pt x="1050" y="1654"/>
                    </a:lnTo>
                    <a:lnTo>
                      <a:pt x="1010" y="1664"/>
                    </a:lnTo>
                    <a:lnTo>
                      <a:pt x="968" y="1670"/>
                    </a:lnTo>
                    <a:lnTo>
                      <a:pt x="926" y="1676"/>
                    </a:lnTo>
                    <a:lnTo>
                      <a:pt x="884" y="1680"/>
                    </a:lnTo>
                    <a:lnTo>
                      <a:pt x="840" y="1680"/>
                    </a:lnTo>
                    <a:lnTo>
                      <a:pt x="798" y="1680"/>
                    </a:lnTo>
                    <a:lnTo>
                      <a:pt x="754" y="1676"/>
                    </a:lnTo>
                    <a:lnTo>
                      <a:pt x="712" y="1670"/>
                    </a:lnTo>
                    <a:lnTo>
                      <a:pt x="672" y="1664"/>
                    </a:lnTo>
                    <a:lnTo>
                      <a:pt x="630" y="1654"/>
                    </a:lnTo>
                    <a:lnTo>
                      <a:pt x="590" y="1642"/>
                    </a:lnTo>
                    <a:lnTo>
                      <a:pt x="552" y="1630"/>
                    </a:lnTo>
                    <a:lnTo>
                      <a:pt x="514" y="1614"/>
                    </a:lnTo>
                    <a:lnTo>
                      <a:pt x="476" y="1598"/>
                    </a:lnTo>
                    <a:lnTo>
                      <a:pt x="440" y="1578"/>
                    </a:lnTo>
                    <a:lnTo>
                      <a:pt x="406" y="1558"/>
                    </a:lnTo>
                    <a:lnTo>
                      <a:pt x="372" y="1536"/>
                    </a:lnTo>
                    <a:lnTo>
                      <a:pt x="338" y="1514"/>
                    </a:lnTo>
                    <a:lnTo>
                      <a:pt x="306" y="1488"/>
                    </a:lnTo>
                    <a:lnTo>
                      <a:pt x="276" y="1462"/>
                    </a:lnTo>
                    <a:lnTo>
                      <a:pt x="246" y="1434"/>
                    </a:lnTo>
                    <a:lnTo>
                      <a:pt x="218" y="1404"/>
                    </a:lnTo>
                    <a:lnTo>
                      <a:pt x="192" y="1374"/>
                    </a:lnTo>
                    <a:lnTo>
                      <a:pt x="168" y="1342"/>
                    </a:lnTo>
                    <a:lnTo>
                      <a:pt x="144" y="1310"/>
                    </a:lnTo>
                    <a:lnTo>
                      <a:pt x="122" y="1276"/>
                    </a:lnTo>
                    <a:lnTo>
                      <a:pt x="102" y="1240"/>
                    </a:lnTo>
                    <a:lnTo>
                      <a:pt x="84" y="1204"/>
                    </a:lnTo>
                    <a:lnTo>
                      <a:pt x="66" y="1168"/>
                    </a:lnTo>
                    <a:lnTo>
                      <a:pt x="52" y="1130"/>
                    </a:lnTo>
                    <a:lnTo>
                      <a:pt x="38" y="1090"/>
                    </a:lnTo>
                    <a:lnTo>
                      <a:pt x="28" y="1050"/>
                    </a:lnTo>
                    <a:lnTo>
                      <a:pt x="18" y="1010"/>
                    </a:lnTo>
                    <a:lnTo>
                      <a:pt x="10" y="968"/>
                    </a:lnTo>
                    <a:lnTo>
                      <a:pt x="6" y="926"/>
                    </a:lnTo>
                    <a:lnTo>
                      <a:pt x="2" y="884"/>
                    </a:lnTo>
                    <a:lnTo>
                      <a:pt x="0" y="840"/>
                    </a:lnTo>
                    <a:lnTo>
                      <a:pt x="2" y="796"/>
                    </a:lnTo>
                    <a:lnTo>
                      <a:pt x="6" y="754"/>
                    </a:lnTo>
                    <a:lnTo>
                      <a:pt x="10" y="712"/>
                    </a:lnTo>
                    <a:lnTo>
                      <a:pt x="18" y="670"/>
                    </a:lnTo>
                    <a:lnTo>
                      <a:pt x="28" y="630"/>
                    </a:lnTo>
                    <a:lnTo>
                      <a:pt x="38" y="590"/>
                    </a:lnTo>
                    <a:lnTo>
                      <a:pt x="52" y="552"/>
                    </a:lnTo>
                    <a:lnTo>
                      <a:pt x="66" y="514"/>
                    </a:lnTo>
                    <a:lnTo>
                      <a:pt x="84" y="476"/>
                    </a:lnTo>
                    <a:lnTo>
                      <a:pt x="102" y="440"/>
                    </a:lnTo>
                    <a:lnTo>
                      <a:pt x="122" y="404"/>
                    </a:lnTo>
                    <a:lnTo>
                      <a:pt x="144" y="370"/>
                    </a:lnTo>
                    <a:lnTo>
                      <a:pt x="168" y="338"/>
                    </a:lnTo>
                    <a:lnTo>
                      <a:pt x="192" y="306"/>
                    </a:lnTo>
                    <a:lnTo>
                      <a:pt x="218" y="276"/>
                    </a:lnTo>
                    <a:lnTo>
                      <a:pt x="246" y="246"/>
                    </a:lnTo>
                    <a:lnTo>
                      <a:pt x="276" y="218"/>
                    </a:lnTo>
                    <a:lnTo>
                      <a:pt x="306" y="192"/>
                    </a:lnTo>
                    <a:lnTo>
                      <a:pt x="338" y="168"/>
                    </a:lnTo>
                    <a:lnTo>
                      <a:pt x="372" y="144"/>
                    </a:lnTo>
                    <a:lnTo>
                      <a:pt x="406" y="122"/>
                    </a:lnTo>
                    <a:lnTo>
                      <a:pt x="440" y="102"/>
                    </a:lnTo>
                    <a:lnTo>
                      <a:pt x="476" y="84"/>
                    </a:lnTo>
                    <a:lnTo>
                      <a:pt x="514" y="66"/>
                    </a:lnTo>
                    <a:lnTo>
                      <a:pt x="552" y="52"/>
                    </a:lnTo>
                    <a:lnTo>
                      <a:pt x="590" y="38"/>
                    </a:lnTo>
                    <a:lnTo>
                      <a:pt x="630" y="26"/>
                    </a:lnTo>
                    <a:lnTo>
                      <a:pt x="672" y="18"/>
                    </a:lnTo>
                    <a:lnTo>
                      <a:pt x="712" y="10"/>
                    </a:lnTo>
                    <a:lnTo>
                      <a:pt x="754" y="4"/>
                    </a:lnTo>
                    <a:lnTo>
                      <a:pt x="798" y="2"/>
                    </a:lnTo>
                    <a:lnTo>
                      <a:pt x="840" y="0"/>
                    </a:lnTo>
                    <a:lnTo>
                      <a:pt x="884" y="2"/>
                    </a:lnTo>
                    <a:lnTo>
                      <a:pt x="926" y="4"/>
                    </a:lnTo>
                    <a:lnTo>
                      <a:pt x="968" y="10"/>
                    </a:lnTo>
                    <a:lnTo>
                      <a:pt x="1010" y="18"/>
                    </a:lnTo>
                    <a:lnTo>
                      <a:pt x="1050" y="26"/>
                    </a:lnTo>
                    <a:lnTo>
                      <a:pt x="1090" y="38"/>
                    </a:lnTo>
                    <a:lnTo>
                      <a:pt x="1130" y="52"/>
                    </a:lnTo>
                    <a:lnTo>
                      <a:pt x="1168" y="66"/>
                    </a:lnTo>
                    <a:lnTo>
                      <a:pt x="1204" y="84"/>
                    </a:lnTo>
                    <a:lnTo>
                      <a:pt x="1242" y="102"/>
                    </a:lnTo>
                    <a:lnTo>
                      <a:pt x="1276" y="122"/>
                    </a:lnTo>
                    <a:lnTo>
                      <a:pt x="1310" y="144"/>
                    </a:lnTo>
                    <a:lnTo>
                      <a:pt x="1344" y="168"/>
                    </a:lnTo>
                    <a:lnTo>
                      <a:pt x="1376" y="192"/>
                    </a:lnTo>
                    <a:lnTo>
                      <a:pt x="1406" y="218"/>
                    </a:lnTo>
                    <a:lnTo>
                      <a:pt x="1434" y="246"/>
                    </a:lnTo>
                    <a:lnTo>
                      <a:pt x="1462" y="276"/>
                    </a:lnTo>
                    <a:lnTo>
                      <a:pt x="1488" y="306"/>
                    </a:lnTo>
                    <a:lnTo>
                      <a:pt x="1514" y="338"/>
                    </a:lnTo>
                    <a:lnTo>
                      <a:pt x="1538" y="370"/>
                    </a:lnTo>
                    <a:lnTo>
                      <a:pt x="1560" y="404"/>
                    </a:lnTo>
                    <a:lnTo>
                      <a:pt x="1580" y="440"/>
                    </a:lnTo>
                    <a:lnTo>
                      <a:pt x="1598" y="476"/>
                    </a:lnTo>
                    <a:lnTo>
                      <a:pt x="1614" y="514"/>
                    </a:lnTo>
                    <a:lnTo>
                      <a:pt x="1630" y="552"/>
                    </a:lnTo>
                    <a:lnTo>
                      <a:pt x="1642" y="590"/>
                    </a:lnTo>
                    <a:lnTo>
                      <a:pt x="1654" y="630"/>
                    </a:lnTo>
                    <a:lnTo>
                      <a:pt x="1664" y="670"/>
                    </a:lnTo>
                    <a:lnTo>
                      <a:pt x="1672" y="712"/>
                    </a:lnTo>
                    <a:lnTo>
                      <a:pt x="1676" y="754"/>
                    </a:lnTo>
                    <a:lnTo>
                      <a:pt x="1680" y="796"/>
                    </a:lnTo>
                    <a:lnTo>
                      <a:pt x="1680" y="840"/>
                    </a:lnTo>
                    <a:close/>
                  </a:path>
                </a:pathLst>
              </a:custGeom>
              <a:solidFill>
                <a:srgbClr val="f9b101"/>
              </a:solidFill>
              <a:ln w="1270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7" name="Text Box 46"/>
              <p:cNvSpPr/>
              <p:nvPr/>
            </p:nvSpPr>
            <p:spPr>
              <a:xfrm>
                <a:off x="1142280" y="5389560"/>
                <a:ext cx="63360" cy="95040"/>
              </a:xfrm>
              <a:prstGeom prst="rect">
                <a:avLst/>
              </a:pr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8" name="Freeform 45"/>
              <p:cNvSpPr/>
              <p:nvPr/>
            </p:nvSpPr>
            <p:spPr>
              <a:xfrm>
                <a:off x="728280" y="5052240"/>
                <a:ext cx="1023120" cy="1023120"/>
              </a:xfrm>
              <a:custGeom>
                <a:avLst/>
                <a:gdLst>
                  <a:gd name="textAreaLeft" fmla="*/ 0 w 1023120"/>
                  <a:gd name="textAreaRight" fmla="*/ 1023480 w 1023120"/>
                  <a:gd name="textAreaTop" fmla="*/ 0 h 1023120"/>
                  <a:gd name="textAreaBottom" fmla="*/ 1023480 h 1023120"/>
                </a:gdLst>
                <a:ahLst/>
                <a:rect l="textAreaLeft" t="textAreaTop" r="textAreaRight" b="textAreaBottom"/>
                <a:pathLst>
                  <a:path w="2972" h="2972">
                    <a:moveTo>
                      <a:pt x="1462" y="14"/>
                    </a:moveTo>
                    <a:lnTo>
                      <a:pt x="1462" y="14"/>
                    </a:lnTo>
                    <a:lnTo>
                      <a:pt x="1468" y="8"/>
                    </a:lnTo>
                    <a:lnTo>
                      <a:pt x="1474" y="4"/>
                    </a:lnTo>
                    <a:lnTo>
                      <a:pt x="1480" y="2"/>
                    </a:lnTo>
                    <a:lnTo>
                      <a:pt x="1486" y="0"/>
                    </a:lnTo>
                    <a:lnTo>
                      <a:pt x="1492" y="2"/>
                    </a:lnTo>
                    <a:lnTo>
                      <a:pt x="1498" y="4"/>
                    </a:lnTo>
                    <a:lnTo>
                      <a:pt x="1504" y="8"/>
                    </a:lnTo>
                    <a:lnTo>
                      <a:pt x="1510" y="14"/>
                    </a:lnTo>
                    <a:lnTo>
                      <a:pt x="1580" y="106"/>
                    </a:lnTo>
                    <a:lnTo>
                      <a:pt x="1586" y="112"/>
                    </a:lnTo>
                    <a:lnTo>
                      <a:pt x="1592" y="116"/>
                    </a:lnTo>
                    <a:lnTo>
                      <a:pt x="1598" y="118"/>
                    </a:lnTo>
                    <a:lnTo>
                      <a:pt x="1606" y="120"/>
                    </a:lnTo>
                    <a:lnTo>
                      <a:pt x="1612" y="120"/>
                    </a:lnTo>
                    <a:lnTo>
                      <a:pt x="1620" y="118"/>
                    </a:lnTo>
                    <a:lnTo>
                      <a:pt x="1626" y="116"/>
                    </a:lnTo>
                    <a:lnTo>
                      <a:pt x="1634" y="110"/>
                    </a:lnTo>
                    <a:lnTo>
                      <a:pt x="1718" y="32"/>
                    </a:lnTo>
                    <a:lnTo>
                      <a:pt x="1724" y="28"/>
                    </a:lnTo>
                    <a:lnTo>
                      <a:pt x="1730" y="24"/>
                    </a:lnTo>
                    <a:lnTo>
                      <a:pt x="1738" y="22"/>
                    </a:lnTo>
                    <a:lnTo>
                      <a:pt x="1744" y="24"/>
                    </a:lnTo>
                    <a:lnTo>
                      <a:pt x="1750" y="26"/>
                    </a:lnTo>
                    <a:lnTo>
                      <a:pt x="1756" y="28"/>
                    </a:lnTo>
                    <a:lnTo>
                      <a:pt x="1762" y="34"/>
                    </a:lnTo>
                    <a:lnTo>
                      <a:pt x="1766" y="40"/>
                    </a:lnTo>
                    <a:lnTo>
                      <a:pt x="1818" y="142"/>
                    </a:lnTo>
                    <a:lnTo>
                      <a:pt x="1822" y="150"/>
                    </a:lnTo>
                    <a:lnTo>
                      <a:pt x="1828" y="154"/>
                    </a:lnTo>
                    <a:lnTo>
                      <a:pt x="1834" y="158"/>
                    </a:lnTo>
                    <a:lnTo>
                      <a:pt x="1840" y="162"/>
                    </a:lnTo>
                    <a:lnTo>
                      <a:pt x="1848" y="162"/>
                    </a:lnTo>
                    <a:lnTo>
                      <a:pt x="1856" y="162"/>
                    </a:lnTo>
                    <a:lnTo>
                      <a:pt x="1862" y="160"/>
                    </a:lnTo>
                    <a:lnTo>
                      <a:pt x="1870" y="156"/>
                    </a:lnTo>
                    <a:lnTo>
                      <a:pt x="1966" y="94"/>
                    </a:lnTo>
                    <a:lnTo>
                      <a:pt x="1974" y="90"/>
                    </a:lnTo>
                    <a:lnTo>
                      <a:pt x="1980" y="88"/>
                    </a:lnTo>
                    <a:lnTo>
                      <a:pt x="1988" y="88"/>
                    </a:lnTo>
                    <a:lnTo>
                      <a:pt x="1994" y="90"/>
                    </a:lnTo>
                    <a:lnTo>
                      <a:pt x="2000" y="94"/>
                    </a:lnTo>
                    <a:lnTo>
                      <a:pt x="2006" y="98"/>
                    </a:lnTo>
                    <a:lnTo>
                      <a:pt x="2010" y="104"/>
                    </a:lnTo>
                    <a:lnTo>
                      <a:pt x="2012" y="110"/>
                    </a:lnTo>
                    <a:lnTo>
                      <a:pt x="2046" y="220"/>
                    </a:lnTo>
                    <a:lnTo>
                      <a:pt x="2050" y="228"/>
                    </a:lnTo>
                    <a:lnTo>
                      <a:pt x="2054" y="234"/>
                    </a:lnTo>
                    <a:lnTo>
                      <a:pt x="2060" y="240"/>
                    </a:lnTo>
                    <a:lnTo>
                      <a:pt x="2066" y="244"/>
                    </a:lnTo>
                    <a:lnTo>
                      <a:pt x="2072" y="246"/>
                    </a:lnTo>
                    <a:lnTo>
                      <a:pt x="2080" y="246"/>
                    </a:lnTo>
                    <a:lnTo>
                      <a:pt x="2088" y="246"/>
                    </a:lnTo>
                    <a:lnTo>
                      <a:pt x="2094" y="244"/>
                    </a:lnTo>
                    <a:lnTo>
                      <a:pt x="2202" y="198"/>
                    </a:lnTo>
                    <a:lnTo>
                      <a:pt x="2208" y="196"/>
                    </a:lnTo>
                    <a:lnTo>
                      <a:pt x="2216" y="196"/>
                    </a:lnTo>
                    <a:lnTo>
                      <a:pt x="2222" y="196"/>
                    </a:lnTo>
                    <a:lnTo>
                      <a:pt x="2228" y="200"/>
                    </a:lnTo>
                    <a:lnTo>
                      <a:pt x="2234" y="204"/>
                    </a:lnTo>
                    <a:lnTo>
                      <a:pt x="2238" y="208"/>
                    </a:lnTo>
                    <a:lnTo>
                      <a:pt x="2242" y="216"/>
                    </a:lnTo>
                    <a:lnTo>
                      <a:pt x="2244" y="224"/>
                    </a:lnTo>
                    <a:lnTo>
                      <a:pt x="2258" y="338"/>
                    </a:lnTo>
                    <a:lnTo>
                      <a:pt x="2260" y="346"/>
                    </a:lnTo>
                    <a:lnTo>
                      <a:pt x="2262" y="352"/>
                    </a:lnTo>
                    <a:lnTo>
                      <a:pt x="2266" y="358"/>
                    </a:lnTo>
                    <a:lnTo>
                      <a:pt x="2272" y="362"/>
                    </a:lnTo>
                    <a:lnTo>
                      <a:pt x="2278" y="366"/>
                    </a:lnTo>
                    <a:lnTo>
                      <a:pt x="2286" y="368"/>
                    </a:lnTo>
                    <a:lnTo>
                      <a:pt x="2294" y="370"/>
                    </a:lnTo>
                    <a:lnTo>
                      <a:pt x="2302" y="368"/>
                    </a:lnTo>
                    <a:lnTo>
                      <a:pt x="2414" y="342"/>
                    </a:lnTo>
                    <a:lnTo>
                      <a:pt x="2422" y="342"/>
                    </a:lnTo>
                    <a:lnTo>
                      <a:pt x="2428" y="342"/>
                    </a:lnTo>
                    <a:lnTo>
                      <a:pt x="2436" y="344"/>
                    </a:lnTo>
                    <a:lnTo>
                      <a:pt x="2440" y="348"/>
                    </a:lnTo>
                    <a:lnTo>
                      <a:pt x="2446" y="352"/>
                    </a:lnTo>
                    <a:lnTo>
                      <a:pt x="2448" y="358"/>
                    </a:lnTo>
                    <a:lnTo>
                      <a:pt x="2450" y="366"/>
                    </a:lnTo>
                    <a:lnTo>
                      <a:pt x="2450" y="374"/>
                    </a:lnTo>
                    <a:lnTo>
                      <a:pt x="2446" y="488"/>
                    </a:lnTo>
                    <a:lnTo>
                      <a:pt x="2446" y="496"/>
                    </a:lnTo>
                    <a:lnTo>
                      <a:pt x="2448" y="504"/>
                    </a:lnTo>
                    <a:lnTo>
                      <a:pt x="2450" y="510"/>
                    </a:lnTo>
                    <a:lnTo>
                      <a:pt x="2456" y="516"/>
                    </a:lnTo>
                    <a:lnTo>
                      <a:pt x="2462" y="520"/>
                    </a:lnTo>
                    <a:lnTo>
                      <a:pt x="2468" y="524"/>
                    </a:lnTo>
                    <a:lnTo>
                      <a:pt x="2476" y="526"/>
                    </a:lnTo>
                    <a:lnTo>
                      <a:pt x="2484" y="526"/>
                    </a:lnTo>
                    <a:lnTo>
                      <a:pt x="2598" y="522"/>
                    </a:lnTo>
                    <a:lnTo>
                      <a:pt x="2606" y="522"/>
                    </a:lnTo>
                    <a:lnTo>
                      <a:pt x="2614" y="524"/>
                    </a:lnTo>
                    <a:lnTo>
                      <a:pt x="2620" y="526"/>
                    </a:lnTo>
                    <a:lnTo>
                      <a:pt x="2624" y="532"/>
                    </a:lnTo>
                    <a:lnTo>
                      <a:pt x="2628" y="536"/>
                    </a:lnTo>
                    <a:lnTo>
                      <a:pt x="2630" y="544"/>
                    </a:lnTo>
                    <a:lnTo>
                      <a:pt x="2630" y="550"/>
                    </a:lnTo>
                    <a:lnTo>
                      <a:pt x="2630" y="558"/>
                    </a:lnTo>
                    <a:lnTo>
                      <a:pt x="2604" y="670"/>
                    </a:lnTo>
                    <a:lnTo>
                      <a:pt x="2602" y="678"/>
                    </a:lnTo>
                    <a:lnTo>
                      <a:pt x="2604" y="686"/>
                    </a:lnTo>
                    <a:lnTo>
                      <a:pt x="2606" y="694"/>
                    </a:lnTo>
                    <a:lnTo>
                      <a:pt x="2610" y="700"/>
                    </a:lnTo>
                    <a:lnTo>
                      <a:pt x="2614" y="704"/>
                    </a:lnTo>
                    <a:lnTo>
                      <a:pt x="2620" y="710"/>
                    </a:lnTo>
                    <a:lnTo>
                      <a:pt x="2626" y="712"/>
                    </a:lnTo>
                    <a:lnTo>
                      <a:pt x="2634" y="714"/>
                    </a:lnTo>
                    <a:lnTo>
                      <a:pt x="2748" y="728"/>
                    </a:lnTo>
                    <a:lnTo>
                      <a:pt x="2756" y="730"/>
                    </a:lnTo>
                    <a:lnTo>
                      <a:pt x="2764" y="734"/>
                    </a:lnTo>
                    <a:lnTo>
                      <a:pt x="2768" y="738"/>
                    </a:lnTo>
                    <a:lnTo>
                      <a:pt x="2772" y="744"/>
                    </a:lnTo>
                    <a:lnTo>
                      <a:pt x="2774" y="750"/>
                    </a:lnTo>
                    <a:lnTo>
                      <a:pt x="2776" y="756"/>
                    </a:lnTo>
                    <a:lnTo>
                      <a:pt x="2776" y="764"/>
                    </a:lnTo>
                    <a:lnTo>
                      <a:pt x="2774" y="770"/>
                    </a:lnTo>
                    <a:lnTo>
                      <a:pt x="2728" y="876"/>
                    </a:lnTo>
                    <a:lnTo>
                      <a:pt x="2726" y="884"/>
                    </a:lnTo>
                    <a:lnTo>
                      <a:pt x="2726" y="892"/>
                    </a:lnTo>
                    <a:lnTo>
                      <a:pt x="2726" y="900"/>
                    </a:lnTo>
                    <a:lnTo>
                      <a:pt x="2728" y="906"/>
                    </a:lnTo>
                    <a:lnTo>
                      <a:pt x="2732" y="912"/>
                    </a:lnTo>
                    <a:lnTo>
                      <a:pt x="2738" y="918"/>
                    </a:lnTo>
                    <a:lnTo>
                      <a:pt x="2744" y="922"/>
                    </a:lnTo>
                    <a:lnTo>
                      <a:pt x="2752" y="926"/>
                    </a:lnTo>
                    <a:lnTo>
                      <a:pt x="2862" y="960"/>
                    </a:lnTo>
                    <a:lnTo>
                      <a:pt x="2868" y="962"/>
                    </a:lnTo>
                    <a:lnTo>
                      <a:pt x="2874" y="966"/>
                    </a:lnTo>
                    <a:lnTo>
                      <a:pt x="2878" y="972"/>
                    </a:lnTo>
                    <a:lnTo>
                      <a:pt x="2882" y="978"/>
                    </a:lnTo>
                    <a:lnTo>
                      <a:pt x="2884" y="984"/>
                    </a:lnTo>
                    <a:lnTo>
                      <a:pt x="2884" y="992"/>
                    </a:lnTo>
                    <a:lnTo>
                      <a:pt x="2882" y="998"/>
                    </a:lnTo>
                    <a:lnTo>
                      <a:pt x="2878" y="1006"/>
                    </a:lnTo>
                    <a:lnTo>
                      <a:pt x="2816" y="1102"/>
                    </a:lnTo>
                    <a:lnTo>
                      <a:pt x="2812" y="1110"/>
                    </a:lnTo>
                    <a:lnTo>
                      <a:pt x="2810" y="1116"/>
                    </a:lnTo>
                    <a:lnTo>
                      <a:pt x="2810" y="1124"/>
                    </a:lnTo>
                    <a:lnTo>
                      <a:pt x="2810" y="1132"/>
                    </a:lnTo>
                    <a:lnTo>
                      <a:pt x="2814" y="1138"/>
                    </a:lnTo>
                    <a:lnTo>
                      <a:pt x="2818" y="1144"/>
                    </a:lnTo>
                    <a:lnTo>
                      <a:pt x="2822" y="1150"/>
                    </a:lnTo>
                    <a:lnTo>
                      <a:pt x="2830" y="1154"/>
                    </a:lnTo>
                    <a:lnTo>
                      <a:pt x="2932" y="1206"/>
                    </a:lnTo>
                    <a:lnTo>
                      <a:pt x="2938" y="1210"/>
                    </a:lnTo>
                    <a:lnTo>
                      <a:pt x="2944" y="1216"/>
                    </a:lnTo>
                    <a:lnTo>
                      <a:pt x="2946" y="1222"/>
                    </a:lnTo>
                    <a:lnTo>
                      <a:pt x="2948" y="1228"/>
                    </a:lnTo>
                    <a:lnTo>
                      <a:pt x="2950" y="1234"/>
                    </a:lnTo>
                    <a:lnTo>
                      <a:pt x="2948" y="1242"/>
                    </a:lnTo>
                    <a:lnTo>
                      <a:pt x="2944" y="1248"/>
                    </a:lnTo>
                    <a:lnTo>
                      <a:pt x="2940" y="1254"/>
                    </a:lnTo>
                    <a:lnTo>
                      <a:pt x="2862" y="1338"/>
                    </a:lnTo>
                    <a:lnTo>
                      <a:pt x="2856" y="1344"/>
                    </a:lnTo>
                    <a:lnTo>
                      <a:pt x="2854" y="1352"/>
                    </a:lnTo>
                    <a:lnTo>
                      <a:pt x="2852" y="1360"/>
                    </a:lnTo>
                    <a:lnTo>
                      <a:pt x="2852" y="1366"/>
                    </a:lnTo>
                    <a:lnTo>
                      <a:pt x="2854" y="1374"/>
                    </a:lnTo>
                    <a:lnTo>
                      <a:pt x="2856" y="1380"/>
                    </a:lnTo>
                    <a:lnTo>
                      <a:pt x="2860" y="1386"/>
                    </a:lnTo>
                    <a:lnTo>
                      <a:pt x="2866" y="1392"/>
                    </a:lnTo>
                    <a:lnTo>
                      <a:pt x="2958" y="1462"/>
                    </a:lnTo>
                    <a:lnTo>
                      <a:pt x="2964" y="1468"/>
                    </a:lnTo>
                    <a:lnTo>
                      <a:pt x="2968" y="1474"/>
                    </a:lnTo>
                    <a:lnTo>
                      <a:pt x="2970" y="1480"/>
                    </a:lnTo>
                    <a:lnTo>
                      <a:pt x="2972" y="1486"/>
                    </a:lnTo>
                    <a:lnTo>
                      <a:pt x="2970" y="1492"/>
                    </a:lnTo>
                    <a:lnTo>
                      <a:pt x="2968" y="1498"/>
                    </a:lnTo>
                    <a:lnTo>
                      <a:pt x="2964" y="1504"/>
                    </a:lnTo>
                    <a:lnTo>
                      <a:pt x="2958" y="1510"/>
                    </a:lnTo>
                    <a:lnTo>
                      <a:pt x="2866" y="1580"/>
                    </a:lnTo>
                    <a:lnTo>
                      <a:pt x="2860" y="1586"/>
                    </a:lnTo>
                    <a:lnTo>
                      <a:pt x="2856" y="1592"/>
                    </a:lnTo>
                    <a:lnTo>
                      <a:pt x="2854" y="1598"/>
                    </a:lnTo>
                    <a:lnTo>
                      <a:pt x="2852" y="1606"/>
                    </a:lnTo>
                    <a:lnTo>
                      <a:pt x="2852" y="1612"/>
                    </a:lnTo>
                    <a:lnTo>
                      <a:pt x="2854" y="1620"/>
                    </a:lnTo>
                    <a:lnTo>
                      <a:pt x="2856" y="1626"/>
                    </a:lnTo>
                    <a:lnTo>
                      <a:pt x="2862" y="1634"/>
                    </a:lnTo>
                    <a:lnTo>
                      <a:pt x="2940" y="1718"/>
                    </a:lnTo>
                    <a:lnTo>
                      <a:pt x="2944" y="1724"/>
                    </a:lnTo>
                    <a:lnTo>
                      <a:pt x="2948" y="1730"/>
                    </a:lnTo>
                    <a:lnTo>
                      <a:pt x="2950" y="1738"/>
                    </a:lnTo>
                    <a:lnTo>
                      <a:pt x="2948" y="1744"/>
                    </a:lnTo>
                    <a:lnTo>
                      <a:pt x="2946" y="1750"/>
                    </a:lnTo>
                    <a:lnTo>
                      <a:pt x="2944" y="1756"/>
                    </a:lnTo>
                    <a:lnTo>
                      <a:pt x="2938" y="1762"/>
                    </a:lnTo>
                    <a:lnTo>
                      <a:pt x="2932" y="1766"/>
                    </a:lnTo>
                    <a:lnTo>
                      <a:pt x="2830" y="1818"/>
                    </a:lnTo>
                    <a:lnTo>
                      <a:pt x="2822" y="1822"/>
                    </a:lnTo>
                    <a:lnTo>
                      <a:pt x="2818" y="1828"/>
                    </a:lnTo>
                    <a:lnTo>
                      <a:pt x="2814" y="1834"/>
                    </a:lnTo>
                    <a:lnTo>
                      <a:pt x="2810" y="1840"/>
                    </a:lnTo>
                    <a:lnTo>
                      <a:pt x="2810" y="1848"/>
                    </a:lnTo>
                    <a:lnTo>
                      <a:pt x="2810" y="1856"/>
                    </a:lnTo>
                    <a:lnTo>
                      <a:pt x="2812" y="1862"/>
                    </a:lnTo>
                    <a:lnTo>
                      <a:pt x="2816" y="1870"/>
                    </a:lnTo>
                    <a:lnTo>
                      <a:pt x="2878" y="1966"/>
                    </a:lnTo>
                    <a:lnTo>
                      <a:pt x="2882" y="1974"/>
                    </a:lnTo>
                    <a:lnTo>
                      <a:pt x="2884" y="1980"/>
                    </a:lnTo>
                    <a:lnTo>
                      <a:pt x="2884" y="1988"/>
                    </a:lnTo>
                    <a:lnTo>
                      <a:pt x="2882" y="1994"/>
                    </a:lnTo>
                    <a:lnTo>
                      <a:pt x="2878" y="2000"/>
                    </a:lnTo>
                    <a:lnTo>
                      <a:pt x="2874" y="2004"/>
                    </a:lnTo>
                    <a:lnTo>
                      <a:pt x="2868" y="2010"/>
                    </a:lnTo>
                    <a:lnTo>
                      <a:pt x="2862" y="2012"/>
                    </a:lnTo>
                    <a:lnTo>
                      <a:pt x="2752" y="2046"/>
                    </a:lnTo>
                    <a:lnTo>
                      <a:pt x="2744" y="2050"/>
                    </a:lnTo>
                    <a:lnTo>
                      <a:pt x="2738" y="2054"/>
                    </a:lnTo>
                    <a:lnTo>
                      <a:pt x="2732" y="2060"/>
                    </a:lnTo>
                    <a:lnTo>
                      <a:pt x="2728" y="2066"/>
                    </a:lnTo>
                    <a:lnTo>
                      <a:pt x="2726" y="2072"/>
                    </a:lnTo>
                    <a:lnTo>
                      <a:pt x="2726" y="2080"/>
                    </a:lnTo>
                    <a:lnTo>
                      <a:pt x="2726" y="2088"/>
                    </a:lnTo>
                    <a:lnTo>
                      <a:pt x="2728" y="2094"/>
                    </a:lnTo>
                    <a:lnTo>
                      <a:pt x="2774" y="2202"/>
                    </a:lnTo>
                    <a:lnTo>
                      <a:pt x="2776" y="2208"/>
                    </a:lnTo>
                    <a:lnTo>
                      <a:pt x="2776" y="2216"/>
                    </a:lnTo>
                    <a:lnTo>
                      <a:pt x="2774" y="2222"/>
                    </a:lnTo>
                    <a:lnTo>
                      <a:pt x="2772" y="2228"/>
                    </a:lnTo>
                    <a:lnTo>
                      <a:pt x="2768" y="2234"/>
                    </a:lnTo>
                    <a:lnTo>
                      <a:pt x="2764" y="2238"/>
                    </a:lnTo>
                    <a:lnTo>
                      <a:pt x="2756" y="2242"/>
                    </a:lnTo>
                    <a:lnTo>
                      <a:pt x="2748" y="2242"/>
                    </a:lnTo>
                    <a:lnTo>
                      <a:pt x="2634" y="2258"/>
                    </a:lnTo>
                    <a:lnTo>
                      <a:pt x="2626" y="2260"/>
                    </a:lnTo>
                    <a:lnTo>
                      <a:pt x="2620" y="2262"/>
                    </a:lnTo>
                    <a:lnTo>
                      <a:pt x="2614" y="2266"/>
                    </a:lnTo>
                    <a:lnTo>
                      <a:pt x="2610" y="2272"/>
                    </a:lnTo>
                    <a:lnTo>
                      <a:pt x="2606" y="2278"/>
                    </a:lnTo>
                    <a:lnTo>
                      <a:pt x="2604" y="2286"/>
                    </a:lnTo>
                    <a:lnTo>
                      <a:pt x="2602" y="2294"/>
                    </a:lnTo>
                    <a:lnTo>
                      <a:pt x="2604" y="2302"/>
                    </a:lnTo>
                    <a:lnTo>
                      <a:pt x="2630" y="2414"/>
                    </a:lnTo>
                    <a:lnTo>
                      <a:pt x="2630" y="2422"/>
                    </a:lnTo>
                    <a:lnTo>
                      <a:pt x="2630" y="2428"/>
                    </a:lnTo>
                    <a:lnTo>
                      <a:pt x="2628" y="2436"/>
                    </a:lnTo>
                    <a:lnTo>
                      <a:pt x="2624" y="2440"/>
                    </a:lnTo>
                    <a:lnTo>
                      <a:pt x="2620" y="2446"/>
                    </a:lnTo>
                    <a:lnTo>
                      <a:pt x="2614" y="2448"/>
                    </a:lnTo>
                    <a:lnTo>
                      <a:pt x="2606" y="2450"/>
                    </a:lnTo>
                    <a:lnTo>
                      <a:pt x="2598" y="2450"/>
                    </a:lnTo>
                    <a:lnTo>
                      <a:pt x="2484" y="2446"/>
                    </a:lnTo>
                    <a:lnTo>
                      <a:pt x="2476" y="2446"/>
                    </a:lnTo>
                    <a:lnTo>
                      <a:pt x="2468" y="2448"/>
                    </a:lnTo>
                    <a:lnTo>
                      <a:pt x="2462" y="2450"/>
                    </a:lnTo>
                    <a:lnTo>
                      <a:pt x="2456" y="2456"/>
                    </a:lnTo>
                    <a:lnTo>
                      <a:pt x="2450" y="2462"/>
                    </a:lnTo>
                    <a:lnTo>
                      <a:pt x="2448" y="2468"/>
                    </a:lnTo>
                    <a:lnTo>
                      <a:pt x="2446" y="2476"/>
                    </a:lnTo>
                    <a:lnTo>
                      <a:pt x="2446" y="2484"/>
                    </a:lnTo>
                    <a:lnTo>
                      <a:pt x="2450" y="2598"/>
                    </a:lnTo>
                    <a:lnTo>
                      <a:pt x="2450" y="2606"/>
                    </a:lnTo>
                    <a:lnTo>
                      <a:pt x="2448" y="2612"/>
                    </a:lnTo>
                    <a:lnTo>
                      <a:pt x="2446" y="2618"/>
                    </a:lnTo>
                    <a:lnTo>
                      <a:pt x="2440" y="2624"/>
                    </a:lnTo>
                    <a:lnTo>
                      <a:pt x="2436" y="2628"/>
                    </a:lnTo>
                    <a:lnTo>
                      <a:pt x="2428" y="2630"/>
                    </a:lnTo>
                    <a:lnTo>
                      <a:pt x="2422" y="2630"/>
                    </a:lnTo>
                    <a:lnTo>
                      <a:pt x="2414" y="2630"/>
                    </a:lnTo>
                    <a:lnTo>
                      <a:pt x="2302" y="2604"/>
                    </a:lnTo>
                    <a:lnTo>
                      <a:pt x="2294" y="2602"/>
                    </a:lnTo>
                    <a:lnTo>
                      <a:pt x="2286" y="2604"/>
                    </a:lnTo>
                    <a:lnTo>
                      <a:pt x="2278" y="2606"/>
                    </a:lnTo>
                    <a:lnTo>
                      <a:pt x="2272" y="2610"/>
                    </a:lnTo>
                    <a:lnTo>
                      <a:pt x="2266" y="2614"/>
                    </a:lnTo>
                    <a:lnTo>
                      <a:pt x="2262" y="2620"/>
                    </a:lnTo>
                    <a:lnTo>
                      <a:pt x="2260" y="2626"/>
                    </a:lnTo>
                    <a:lnTo>
                      <a:pt x="2258" y="2634"/>
                    </a:lnTo>
                    <a:lnTo>
                      <a:pt x="2244" y="2748"/>
                    </a:lnTo>
                    <a:lnTo>
                      <a:pt x="2242" y="2756"/>
                    </a:lnTo>
                    <a:lnTo>
                      <a:pt x="2238" y="2762"/>
                    </a:lnTo>
                    <a:lnTo>
                      <a:pt x="2234" y="2768"/>
                    </a:lnTo>
                    <a:lnTo>
                      <a:pt x="2228" y="2772"/>
                    </a:lnTo>
                    <a:lnTo>
                      <a:pt x="2222" y="2774"/>
                    </a:lnTo>
                    <a:lnTo>
                      <a:pt x="2216" y="2776"/>
                    </a:lnTo>
                    <a:lnTo>
                      <a:pt x="2208" y="2776"/>
                    </a:lnTo>
                    <a:lnTo>
                      <a:pt x="2202" y="2772"/>
                    </a:lnTo>
                    <a:lnTo>
                      <a:pt x="2094" y="2728"/>
                    </a:lnTo>
                    <a:lnTo>
                      <a:pt x="2088" y="2726"/>
                    </a:lnTo>
                    <a:lnTo>
                      <a:pt x="2080" y="2726"/>
                    </a:lnTo>
                    <a:lnTo>
                      <a:pt x="2072" y="2726"/>
                    </a:lnTo>
                    <a:lnTo>
                      <a:pt x="2066" y="2728"/>
                    </a:lnTo>
                    <a:lnTo>
                      <a:pt x="2060" y="2732"/>
                    </a:lnTo>
                    <a:lnTo>
                      <a:pt x="2054" y="2738"/>
                    </a:lnTo>
                    <a:lnTo>
                      <a:pt x="2050" y="2744"/>
                    </a:lnTo>
                    <a:lnTo>
                      <a:pt x="2046" y="2750"/>
                    </a:lnTo>
                    <a:lnTo>
                      <a:pt x="2012" y="2862"/>
                    </a:lnTo>
                    <a:lnTo>
                      <a:pt x="2010" y="2868"/>
                    </a:lnTo>
                    <a:lnTo>
                      <a:pt x="2006" y="2874"/>
                    </a:lnTo>
                    <a:lnTo>
                      <a:pt x="2000" y="2878"/>
                    </a:lnTo>
                    <a:lnTo>
                      <a:pt x="1994" y="2882"/>
                    </a:lnTo>
                    <a:lnTo>
                      <a:pt x="1988" y="2884"/>
                    </a:lnTo>
                    <a:lnTo>
                      <a:pt x="1980" y="2884"/>
                    </a:lnTo>
                    <a:lnTo>
                      <a:pt x="1974" y="2882"/>
                    </a:lnTo>
                    <a:lnTo>
                      <a:pt x="1966" y="2878"/>
                    </a:lnTo>
                    <a:lnTo>
                      <a:pt x="1870" y="2816"/>
                    </a:lnTo>
                    <a:lnTo>
                      <a:pt x="1862" y="2812"/>
                    </a:lnTo>
                    <a:lnTo>
                      <a:pt x="1856" y="2810"/>
                    </a:lnTo>
                    <a:lnTo>
                      <a:pt x="1848" y="2810"/>
                    </a:lnTo>
                    <a:lnTo>
                      <a:pt x="1840" y="2810"/>
                    </a:lnTo>
                    <a:lnTo>
                      <a:pt x="1834" y="2812"/>
                    </a:lnTo>
                    <a:lnTo>
                      <a:pt x="1828" y="2816"/>
                    </a:lnTo>
                    <a:lnTo>
                      <a:pt x="1822" y="2822"/>
                    </a:lnTo>
                    <a:lnTo>
                      <a:pt x="1818" y="2830"/>
                    </a:lnTo>
                    <a:lnTo>
                      <a:pt x="1766" y="2932"/>
                    </a:lnTo>
                    <a:lnTo>
                      <a:pt x="1762" y="2938"/>
                    </a:lnTo>
                    <a:lnTo>
                      <a:pt x="1756" y="2944"/>
                    </a:lnTo>
                    <a:lnTo>
                      <a:pt x="1750" y="2946"/>
                    </a:lnTo>
                    <a:lnTo>
                      <a:pt x="1744" y="2948"/>
                    </a:lnTo>
                    <a:lnTo>
                      <a:pt x="1738" y="2950"/>
                    </a:lnTo>
                    <a:lnTo>
                      <a:pt x="1730" y="2948"/>
                    </a:lnTo>
                    <a:lnTo>
                      <a:pt x="1724" y="2944"/>
                    </a:lnTo>
                    <a:lnTo>
                      <a:pt x="1718" y="2940"/>
                    </a:lnTo>
                    <a:lnTo>
                      <a:pt x="1634" y="2862"/>
                    </a:lnTo>
                    <a:lnTo>
                      <a:pt x="1626" y="2856"/>
                    </a:lnTo>
                    <a:lnTo>
                      <a:pt x="1620" y="2854"/>
                    </a:lnTo>
                    <a:lnTo>
                      <a:pt x="1612" y="2852"/>
                    </a:lnTo>
                    <a:lnTo>
                      <a:pt x="1606" y="2852"/>
                    </a:lnTo>
                    <a:lnTo>
                      <a:pt x="1598" y="2854"/>
                    </a:lnTo>
                    <a:lnTo>
                      <a:pt x="1592" y="2856"/>
                    </a:lnTo>
                    <a:lnTo>
                      <a:pt x="1586" y="2860"/>
                    </a:lnTo>
                    <a:lnTo>
                      <a:pt x="1580" y="2866"/>
                    </a:lnTo>
                    <a:lnTo>
                      <a:pt x="1510" y="2958"/>
                    </a:lnTo>
                    <a:lnTo>
                      <a:pt x="1504" y="2964"/>
                    </a:lnTo>
                    <a:lnTo>
                      <a:pt x="1498" y="2968"/>
                    </a:lnTo>
                    <a:lnTo>
                      <a:pt x="1492" y="2970"/>
                    </a:lnTo>
                    <a:lnTo>
                      <a:pt x="1486" y="2972"/>
                    </a:lnTo>
                    <a:lnTo>
                      <a:pt x="1480" y="2970"/>
                    </a:lnTo>
                    <a:lnTo>
                      <a:pt x="1474" y="2968"/>
                    </a:lnTo>
                    <a:lnTo>
                      <a:pt x="1468" y="2964"/>
                    </a:lnTo>
                    <a:lnTo>
                      <a:pt x="1462" y="2958"/>
                    </a:lnTo>
                    <a:lnTo>
                      <a:pt x="1392" y="2866"/>
                    </a:lnTo>
                    <a:lnTo>
                      <a:pt x="1386" y="2860"/>
                    </a:lnTo>
                    <a:lnTo>
                      <a:pt x="1380" y="2856"/>
                    </a:lnTo>
                    <a:lnTo>
                      <a:pt x="1374" y="2854"/>
                    </a:lnTo>
                    <a:lnTo>
                      <a:pt x="1366" y="2852"/>
                    </a:lnTo>
                    <a:lnTo>
                      <a:pt x="1360" y="2852"/>
                    </a:lnTo>
                    <a:lnTo>
                      <a:pt x="1352" y="2854"/>
                    </a:lnTo>
                    <a:lnTo>
                      <a:pt x="1346" y="2856"/>
                    </a:lnTo>
                    <a:lnTo>
                      <a:pt x="1338" y="2862"/>
                    </a:lnTo>
                    <a:lnTo>
                      <a:pt x="1254" y="2940"/>
                    </a:lnTo>
                    <a:lnTo>
                      <a:pt x="1248" y="2944"/>
                    </a:lnTo>
                    <a:lnTo>
                      <a:pt x="1242" y="2948"/>
                    </a:lnTo>
                    <a:lnTo>
                      <a:pt x="1234" y="2950"/>
                    </a:lnTo>
                    <a:lnTo>
                      <a:pt x="1228" y="2948"/>
                    </a:lnTo>
                    <a:lnTo>
                      <a:pt x="1222" y="2946"/>
                    </a:lnTo>
                    <a:lnTo>
                      <a:pt x="1216" y="2944"/>
                    </a:lnTo>
                    <a:lnTo>
                      <a:pt x="1210" y="2938"/>
                    </a:lnTo>
                    <a:lnTo>
                      <a:pt x="1206" y="2932"/>
                    </a:lnTo>
                    <a:lnTo>
                      <a:pt x="1154" y="2830"/>
                    </a:lnTo>
                    <a:lnTo>
                      <a:pt x="1150" y="2822"/>
                    </a:lnTo>
                    <a:lnTo>
                      <a:pt x="1144" y="2816"/>
                    </a:lnTo>
                    <a:lnTo>
                      <a:pt x="1138" y="2812"/>
                    </a:lnTo>
                    <a:lnTo>
                      <a:pt x="1132" y="2810"/>
                    </a:lnTo>
                    <a:lnTo>
                      <a:pt x="1124" y="2810"/>
                    </a:lnTo>
                    <a:lnTo>
                      <a:pt x="1116" y="2810"/>
                    </a:lnTo>
                    <a:lnTo>
                      <a:pt x="1110" y="2812"/>
                    </a:lnTo>
                    <a:lnTo>
                      <a:pt x="1102" y="2816"/>
                    </a:lnTo>
                    <a:lnTo>
                      <a:pt x="1006" y="2878"/>
                    </a:lnTo>
                    <a:lnTo>
                      <a:pt x="998" y="2882"/>
                    </a:lnTo>
                    <a:lnTo>
                      <a:pt x="992" y="2884"/>
                    </a:lnTo>
                    <a:lnTo>
                      <a:pt x="984" y="2884"/>
                    </a:lnTo>
                    <a:lnTo>
                      <a:pt x="978" y="2882"/>
                    </a:lnTo>
                    <a:lnTo>
                      <a:pt x="972" y="2878"/>
                    </a:lnTo>
                    <a:lnTo>
                      <a:pt x="968" y="2874"/>
                    </a:lnTo>
                    <a:lnTo>
                      <a:pt x="962" y="2868"/>
                    </a:lnTo>
                    <a:lnTo>
                      <a:pt x="960" y="2862"/>
                    </a:lnTo>
                    <a:lnTo>
                      <a:pt x="926" y="2750"/>
                    </a:lnTo>
                    <a:lnTo>
                      <a:pt x="922" y="2744"/>
                    </a:lnTo>
                    <a:lnTo>
                      <a:pt x="918" y="2738"/>
                    </a:lnTo>
                    <a:lnTo>
                      <a:pt x="912" y="2732"/>
                    </a:lnTo>
                    <a:lnTo>
                      <a:pt x="906" y="2728"/>
                    </a:lnTo>
                    <a:lnTo>
                      <a:pt x="900" y="2726"/>
                    </a:lnTo>
                    <a:lnTo>
                      <a:pt x="892" y="2726"/>
                    </a:lnTo>
                    <a:lnTo>
                      <a:pt x="884" y="2726"/>
                    </a:lnTo>
                    <a:lnTo>
                      <a:pt x="878" y="2728"/>
                    </a:lnTo>
                    <a:lnTo>
                      <a:pt x="770" y="2772"/>
                    </a:lnTo>
                    <a:lnTo>
                      <a:pt x="764" y="2776"/>
                    </a:lnTo>
                    <a:lnTo>
                      <a:pt x="756" y="2776"/>
                    </a:lnTo>
                    <a:lnTo>
                      <a:pt x="750" y="2774"/>
                    </a:lnTo>
                    <a:lnTo>
                      <a:pt x="744" y="2772"/>
                    </a:lnTo>
                    <a:lnTo>
                      <a:pt x="738" y="2768"/>
                    </a:lnTo>
                    <a:lnTo>
                      <a:pt x="734" y="2762"/>
                    </a:lnTo>
                    <a:lnTo>
                      <a:pt x="730" y="2756"/>
                    </a:lnTo>
                    <a:lnTo>
                      <a:pt x="728" y="2748"/>
                    </a:lnTo>
                    <a:lnTo>
                      <a:pt x="714" y="2634"/>
                    </a:lnTo>
                    <a:lnTo>
                      <a:pt x="712" y="2626"/>
                    </a:lnTo>
                    <a:lnTo>
                      <a:pt x="710" y="2620"/>
                    </a:lnTo>
                    <a:lnTo>
                      <a:pt x="706" y="2614"/>
                    </a:lnTo>
                    <a:lnTo>
                      <a:pt x="700" y="2610"/>
                    </a:lnTo>
                    <a:lnTo>
                      <a:pt x="694" y="2606"/>
                    </a:lnTo>
                    <a:lnTo>
                      <a:pt x="686" y="2604"/>
                    </a:lnTo>
                    <a:lnTo>
                      <a:pt x="678" y="2602"/>
                    </a:lnTo>
                    <a:lnTo>
                      <a:pt x="670" y="2604"/>
                    </a:lnTo>
                    <a:lnTo>
                      <a:pt x="558" y="2630"/>
                    </a:lnTo>
                    <a:lnTo>
                      <a:pt x="550" y="2630"/>
                    </a:lnTo>
                    <a:lnTo>
                      <a:pt x="544" y="2630"/>
                    </a:lnTo>
                    <a:lnTo>
                      <a:pt x="536" y="2628"/>
                    </a:lnTo>
                    <a:lnTo>
                      <a:pt x="532" y="2624"/>
                    </a:lnTo>
                    <a:lnTo>
                      <a:pt x="526" y="2618"/>
                    </a:lnTo>
                    <a:lnTo>
                      <a:pt x="524" y="2612"/>
                    </a:lnTo>
                    <a:lnTo>
                      <a:pt x="522" y="2606"/>
                    </a:lnTo>
                    <a:lnTo>
                      <a:pt x="522" y="2598"/>
                    </a:lnTo>
                    <a:lnTo>
                      <a:pt x="526" y="2484"/>
                    </a:lnTo>
                    <a:lnTo>
                      <a:pt x="526" y="2476"/>
                    </a:lnTo>
                    <a:lnTo>
                      <a:pt x="524" y="2468"/>
                    </a:lnTo>
                    <a:lnTo>
                      <a:pt x="522" y="2462"/>
                    </a:lnTo>
                    <a:lnTo>
                      <a:pt x="516" y="2456"/>
                    </a:lnTo>
                    <a:lnTo>
                      <a:pt x="510" y="2450"/>
                    </a:lnTo>
                    <a:lnTo>
                      <a:pt x="504" y="2448"/>
                    </a:lnTo>
                    <a:lnTo>
                      <a:pt x="496" y="2446"/>
                    </a:lnTo>
                    <a:lnTo>
                      <a:pt x="488" y="2446"/>
                    </a:lnTo>
                    <a:lnTo>
                      <a:pt x="374" y="2450"/>
                    </a:lnTo>
                    <a:lnTo>
                      <a:pt x="366" y="2450"/>
                    </a:lnTo>
                    <a:lnTo>
                      <a:pt x="358" y="2448"/>
                    </a:lnTo>
                    <a:lnTo>
                      <a:pt x="352" y="2446"/>
                    </a:lnTo>
                    <a:lnTo>
                      <a:pt x="348" y="2440"/>
                    </a:lnTo>
                    <a:lnTo>
                      <a:pt x="344" y="2436"/>
                    </a:lnTo>
                    <a:lnTo>
                      <a:pt x="342" y="2428"/>
                    </a:lnTo>
                    <a:lnTo>
                      <a:pt x="342" y="2422"/>
                    </a:lnTo>
                    <a:lnTo>
                      <a:pt x="342" y="2414"/>
                    </a:lnTo>
                    <a:lnTo>
                      <a:pt x="368" y="2302"/>
                    </a:lnTo>
                    <a:lnTo>
                      <a:pt x="370" y="2294"/>
                    </a:lnTo>
                    <a:lnTo>
                      <a:pt x="368" y="2286"/>
                    </a:lnTo>
                    <a:lnTo>
                      <a:pt x="366" y="2278"/>
                    </a:lnTo>
                    <a:lnTo>
                      <a:pt x="362" y="2272"/>
                    </a:lnTo>
                    <a:lnTo>
                      <a:pt x="358" y="2266"/>
                    </a:lnTo>
                    <a:lnTo>
                      <a:pt x="352" y="2262"/>
                    </a:lnTo>
                    <a:lnTo>
                      <a:pt x="346" y="2260"/>
                    </a:lnTo>
                    <a:lnTo>
                      <a:pt x="338" y="2258"/>
                    </a:lnTo>
                    <a:lnTo>
                      <a:pt x="224" y="2242"/>
                    </a:lnTo>
                    <a:lnTo>
                      <a:pt x="216" y="2242"/>
                    </a:lnTo>
                    <a:lnTo>
                      <a:pt x="208" y="2238"/>
                    </a:lnTo>
                    <a:lnTo>
                      <a:pt x="204" y="2234"/>
                    </a:lnTo>
                    <a:lnTo>
                      <a:pt x="200" y="2228"/>
                    </a:lnTo>
                    <a:lnTo>
                      <a:pt x="198" y="2222"/>
                    </a:lnTo>
                    <a:lnTo>
                      <a:pt x="196" y="2216"/>
                    </a:lnTo>
                    <a:lnTo>
                      <a:pt x="196" y="2208"/>
                    </a:lnTo>
                    <a:lnTo>
                      <a:pt x="198" y="2202"/>
                    </a:lnTo>
                    <a:lnTo>
                      <a:pt x="244" y="2094"/>
                    </a:lnTo>
                    <a:lnTo>
                      <a:pt x="246" y="2088"/>
                    </a:lnTo>
                    <a:lnTo>
                      <a:pt x="246" y="2080"/>
                    </a:lnTo>
                    <a:lnTo>
                      <a:pt x="246" y="2072"/>
                    </a:lnTo>
                    <a:lnTo>
                      <a:pt x="244" y="2066"/>
                    </a:lnTo>
                    <a:lnTo>
                      <a:pt x="240" y="2060"/>
                    </a:lnTo>
                    <a:lnTo>
                      <a:pt x="234" y="2054"/>
                    </a:lnTo>
                    <a:lnTo>
                      <a:pt x="228" y="2050"/>
                    </a:lnTo>
                    <a:lnTo>
                      <a:pt x="220" y="2046"/>
                    </a:lnTo>
                    <a:lnTo>
                      <a:pt x="110" y="2012"/>
                    </a:lnTo>
                    <a:lnTo>
                      <a:pt x="104" y="2010"/>
                    </a:lnTo>
                    <a:lnTo>
                      <a:pt x="98" y="2004"/>
                    </a:lnTo>
                    <a:lnTo>
                      <a:pt x="94" y="2000"/>
                    </a:lnTo>
                    <a:lnTo>
                      <a:pt x="90" y="1994"/>
                    </a:lnTo>
                    <a:lnTo>
                      <a:pt x="88" y="1988"/>
                    </a:lnTo>
                    <a:lnTo>
                      <a:pt x="88" y="1980"/>
                    </a:lnTo>
                    <a:lnTo>
                      <a:pt x="90" y="1974"/>
                    </a:lnTo>
                    <a:lnTo>
                      <a:pt x="94" y="1966"/>
                    </a:lnTo>
                    <a:lnTo>
                      <a:pt x="156" y="1870"/>
                    </a:lnTo>
                    <a:lnTo>
                      <a:pt x="160" y="1862"/>
                    </a:lnTo>
                    <a:lnTo>
                      <a:pt x="162" y="1856"/>
                    </a:lnTo>
                    <a:lnTo>
                      <a:pt x="162" y="1848"/>
                    </a:lnTo>
                    <a:lnTo>
                      <a:pt x="162" y="1840"/>
                    </a:lnTo>
                    <a:lnTo>
                      <a:pt x="160" y="1834"/>
                    </a:lnTo>
                    <a:lnTo>
                      <a:pt x="154" y="1828"/>
                    </a:lnTo>
                    <a:lnTo>
                      <a:pt x="150" y="1822"/>
                    </a:lnTo>
                    <a:lnTo>
                      <a:pt x="142" y="1818"/>
                    </a:lnTo>
                    <a:lnTo>
                      <a:pt x="40" y="1766"/>
                    </a:lnTo>
                    <a:lnTo>
                      <a:pt x="34" y="1762"/>
                    </a:lnTo>
                    <a:lnTo>
                      <a:pt x="28" y="1756"/>
                    </a:lnTo>
                    <a:lnTo>
                      <a:pt x="26" y="1750"/>
                    </a:lnTo>
                    <a:lnTo>
                      <a:pt x="24" y="1744"/>
                    </a:lnTo>
                    <a:lnTo>
                      <a:pt x="22" y="1738"/>
                    </a:lnTo>
                    <a:lnTo>
                      <a:pt x="24" y="1730"/>
                    </a:lnTo>
                    <a:lnTo>
                      <a:pt x="28" y="1724"/>
                    </a:lnTo>
                    <a:lnTo>
                      <a:pt x="32" y="1718"/>
                    </a:lnTo>
                    <a:lnTo>
                      <a:pt x="110" y="1634"/>
                    </a:lnTo>
                    <a:lnTo>
                      <a:pt x="116" y="1626"/>
                    </a:lnTo>
                    <a:lnTo>
                      <a:pt x="118" y="1620"/>
                    </a:lnTo>
                    <a:lnTo>
                      <a:pt x="120" y="1612"/>
                    </a:lnTo>
                    <a:lnTo>
                      <a:pt x="120" y="1606"/>
                    </a:lnTo>
                    <a:lnTo>
                      <a:pt x="118" y="1598"/>
                    </a:lnTo>
                    <a:lnTo>
                      <a:pt x="116" y="1592"/>
                    </a:lnTo>
                    <a:lnTo>
                      <a:pt x="112" y="1586"/>
                    </a:lnTo>
                    <a:lnTo>
                      <a:pt x="106" y="1580"/>
                    </a:lnTo>
                    <a:lnTo>
                      <a:pt x="14" y="1510"/>
                    </a:lnTo>
                    <a:lnTo>
                      <a:pt x="8" y="1504"/>
                    </a:lnTo>
                    <a:lnTo>
                      <a:pt x="4" y="1498"/>
                    </a:lnTo>
                    <a:lnTo>
                      <a:pt x="2" y="1492"/>
                    </a:lnTo>
                    <a:lnTo>
                      <a:pt x="0" y="1486"/>
                    </a:lnTo>
                    <a:lnTo>
                      <a:pt x="2" y="1480"/>
                    </a:lnTo>
                    <a:lnTo>
                      <a:pt x="4" y="1474"/>
                    </a:lnTo>
                    <a:lnTo>
                      <a:pt x="8" y="1468"/>
                    </a:lnTo>
                    <a:lnTo>
                      <a:pt x="14" y="1462"/>
                    </a:lnTo>
                    <a:lnTo>
                      <a:pt x="106" y="1392"/>
                    </a:lnTo>
                    <a:lnTo>
                      <a:pt x="112" y="1386"/>
                    </a:lnTo>
                    <a:lnTo>
                      <a:pt x="116" y="1380"/>
                    </a:lnTo>
                    <a:lnTo>
                      <a:pt x="118" y="1374"/>
                    </a:lnTo>
                    <a:lnTo>
                      <a:pt x="120" y="1366"/>
                    </a:lnTo>
                    <a:lnTo>
                      <a:pt x="120" y="1360"/>
                    </a:lnTo>
                    <a:lnTo>
                      <a:pt x="118" y="1352"/>
                    </a:lnTo>
                    <a:lnTo>
                      <a:pt x="116" y="1344"/>
                    </a:lnTo>
                    <a:lnTo>
                      <a:pt x="110" y="1338"/>
                    </a:lnTo>
                    <a:lnTo>
                      <a:pt x="32" y="1254"/>
                    </a:lnTo>
                    <a:lnTo>
                      <a:pt x="28" y="1248"/>
                    </a:lnTo>
                    <a:lnTo>
                      <a:pt x="24" y="1242"/>
                    </a:lnTo>
                    <a:lnTo>
                      <a:pt x="22" y="1234"/>
                    </a:lnTo>
                    <a:lnTo>
                      <a:pt x="24" y="1228"/>
                    </a:lnTo>
                    <a:lnTo>
                      <a:pt x="26" y="1222"/>
                    </a:lnTo>
                    <a:lnTo>
                      <a:pt x="28" y="1216"/>
                    </a:lnTo>
                    <a:lnTo>
                      <a:pt x="34" y="1210"/>
                    </a:lnTo>
                    <a:lnTo>
                      <a:pt x="40" y="1206"/>
                    </a:lnTo>
                    <a:lnTo>
                      <a:pt x="142" y="1154"/>
                    </a:lnTo>
                    <a:lnTo>
                      <a:pt x="150" y="1150"/>
                    </a:lnTo>
                    <a:lnTo>
                      <a:pt x="154" y="1144"/>
                    </a:lnTo>
                    <a:lnTo>
                      <a:pt x="160" y="1138"/>
                    </a:lnTo>
                    <a:lnTo>
                      <a:pt x="162" y="1132"/>
                    </a:lnTo>
                    <a:lnTo>
                      <a:pt x="162" y="1124"/>
                    </a:lnTo>
                    <a:lnTo>
                      <a:pt x="162" y="1116"/>
                    </a:lnTo>
                    <a:lnTo>
                      <a:pt x="160" y="1110"/>
                    </a:lnTo>
                    <a:lnTo>
                      <a:pt x="156" y="1102"/>
                    </a:lnTo>
                    <a:lnTo>
                      <a:pt x="94" y="1006"/>
                    </a:lnTo>
                    <a:lnTo>
                      <a:pt x="90" y="998"/>
                    </a:lnTo>
                    <a:lnTo>
                      <a:pt x="88" y="992"/>
                    </a:lnTo>
                    <a:lnTo>
                      <a:pt x="88" y="984"/>
                    </a:lnTo>
                    <a:lnTo>
                      <a:pt x="90" y="978"/>
                    </a:lnTo>
                    <a:lnTo>
                      <a:pt x="94" y="972"/>
                    </a:lnTo>
                    <a:lnTo>
                      <a:pt x="98" y="966"/>
                    </a:lnTo>
                    <a:lnTo>
                      <a:pt x="104" y="962"/>
                    </a:lnTo>
                    <a:lnTo>
                      <a:pt x="110" y="960"/>
                    </a:lnTo>
                    <a:lnTo>
                      <a:pt x="220" y="926"/>
                    </a:lnTo>
                    <a:lnTo>
                      <a:pt x="228" y="922"/>
                    </a:lnTo>
                    <a:lnTo>
                      <a:pt x="234" y="918"/>
                    </a:lnTo>
                    <a:lnTo>
                      <a:pt x="240" y="912"/>
                    </a:lnTo>
                    <a:lnTo>
                      <a:pt x="244" y="906"/>
                    </a:lnTo>
                    <a:lnTo>
                      <a:pt x="246" y="900"/>
                    </a:lnTo>
                    <a:lnTo>
                      <a:pt x="246" y="892"/>
                    </a:lnTo>
                    <a:lnTo>
                      <a:pt x="246" y="884"/>
                    </a:lnTo>
                    <a:lnTo>
                      <a:pt x="244" y="876"/>
                    </a:lnTo>
                    <a:lnTo>
                      <a:pt x="198" y="770"/>
                    </a:lnTo>
                    <a:lnTo>
                      <a:pt x="196" y="764"/>
                    </a:lnTo>
                    <a:lnTo>
                      <a:pt x="196" y="756"/>
                    </a:lnTo>
                    <a:lnTo>
                      <a:pt x="198" y="750"/>
                    </a:lnTo>
                    <a:lnTo>
                      <a:pt x="200" y="744"/>
                    </a:lnTo>
                    <a:lnTo>
                      <a:pt x="204" y="738"/>
                    </a:lnTo>
                    <a:lnTo>
                      <a:pt x="208" y="734"/>
                    </a:lnTo>
                    <a:lnTo>
                      <a:pt x="216" y="730"/>
                    </a:lnTo>
                    <a:lnTo>
                      <a:pt x="224" y="728"/>
                    </a:lnTo>
                    <a:lnTo>
                      <a:pt x="338" y="714"/>
                    </a:lnTo>
                    <a:lnTo>
                      <a:pt x="346" y="712"/>
                    </a:lnTo>
                    <a:lnTo>
                      <a:pt x="352" y="710"/>
                    </a:lnTo>
                    <a:lnTo>
                      <a:pt x="358" y="704"/>
                    </a:lnTo>
                    <a:lnTo>
                      <a:pt x="362" y="700"/>
                    </a:lnTo>
                    <a:lnTo>
                      <a:pt x="366" y="694"/>
                    </a:lnTo>
                    <a:lnTo>
                      <a:pt x="368" y="686"/>
                    </a:lnTo>
                    <a:lnTo>
                      <a:pt x="370" y="678"/>
                    </a:lnTo>
                    <a:lnTo>
                      <a:pt x="368" y="670"/>
                    </a:lnTo>
                    <a:lnTo>
                      <a:pt x="342" y="558"/>
                    </a:lnTo>
                    <a:lnTo>
                      <a:pt x="342" y="550"/>
                    </a:lnTo>
                    <a:lnTo>
                      <a:pt x="342" y="544"/>
                    </a:lnTo>
                    <a:lnTo>
                      <a:pt x="344" y="536"/>
                    </a:lnTo>
                    <a:lnTo>
                      <a:pt x="348" y="532"/>
                    </a:lnTo>
                    <a:lnTo>
                      <a:pt x="352" y="526"/>
                    </a:lnTo>
                    <a:lnTo>
                      <a:pt x="358" y="524"/>
                    </a:lnTo>
                    <a:lnTo>
                      <a:pt x="366" y="522"/>
                    </a:lnTo>
                    <a:lnTo>
                      <a:pt x="374" y="522"/>
                    </a:lnTo>
                    <a:lnTo>
                      <a:pt x="488" y="526"/>
                    </a:lnTo>
                    <a:lnTo>
                      <a:pt x="496" y="526"/>
                    </a:lnTo>
                    <a:lnTo>
                      <a:pt x="504" y="524"/>
                    </a:lnTo>
                    <a:lnTo>
                      <a:pt x="510" y="520"/>
                    </a:lnTo>
                    <a:lnTo>
                      <a:pt x="516" y="516"/>
                    </a:lnTo>
                    <a:lnTo>
                      <a:pt x="522" y="510"/>
                    </a:lnTo>
                    <a:lnTo>
                      <a:pt x="524" y="504"/>
                    </a:lnTo>
                    <a:lnTo>
                      <a:pt x="526" y="496"/>
                    </a:lnTo>
                    <a:lnTo>
                      <a:pt x="526" y="488"/>
                    </a:lnTo>
                    <a:lnTo>
                      <a:pt x="522" y="374"/>
                    </a:lnTo>
                    <a:lnTo>
                      <a:pt x="522" y="366"/>
                    </a:lnTo>
                    <a:lnTo>
                      <a:pt x="524" y="358"/>
                    </a:lnTo>
                    <a:lnTo>
                      <a:pt x="526" y="352"/>
                    </a:lnTo>
                    <a:lnTo>
                      <a:pt x="532" y="348"/>
                    </a:lnTo>
                    <a:lnTo>
                      <a:pt x="536" y="344"/>
                    </a:lnTo>
                    <a:lnTo>
                      <a:pt x="544" y="342"/>
                    </a:lnTo>
                    <a:lnTo>
                      <a:pt x="550" y="342"/>
                    </a:lnTo>
                    <a:lnTo>
                      <a:pt x="558" y="342"/>
                    </a:lnTo>
                    <a:lnTo>
                      <a:pt x="670" y="368"/>
                    </a:lnTo>
                    <a:lnTo>
                      <a:pt x="678" y="370"/>
                    </a:lnTo>
                    <a:lnTo>
                      <a:pt x="686" y="368"/>
                    </a:lnTo>
                    <a:lnTo>
                      <a:pt x="694" y="366"/>
                    </a:lnTo>
                    <a:lnTo>
                      <a:pt x="700" y="362"/>
                    </a:lnTo>
                    <a:lnTo>
                      <a:pt x="706" y="358"/>
                    </a:lnTo>
                    <a:lnTo>
                      <a:pt x="710" y="352"/>
                    </a:lnTo>
                    <a:lnTo>
                      <a:pt x="712" y="346"/>
                    </a:lnTo>
                    <a:lnTo>
                      <a:pt x="714" y="338"/>
                    </a:lnTo>
                    <a:lnTo>
                      <a:pt x="728" y="224"/>
                    </a:lnTo>
                    <a:lnTo>
                      <a:pt x="730" y="216"/>
                    </a:lnTo>
                    <a:lnTo>
                      <a:pt x="734" y="208"/>
                    </a:lnTo>
                    <a:lnTo>
                      <a:pt x="738" y="204"/>
                    </a:lnTo>
                    <a:lnTo>
                      <a:pt x="744" y="200"/>
                    </a:lnTo>
                    <a:lnTo>
                      <a:pt x="750" y="196"/>
                    </a:lnTo>
                    <a:lnTo>
                      <a:pt x="756" y="196"/>
                    </a:lnTo>
                    <a:lnTo>
                      <a:pt x="764" y="196"/>
                    </a:lnTo>
                    <a:lnTo>
                      <a:pt x="770" y="198"/>
                    </a:lnTo>
                    <a:lnTo>
                      <a:pt x="878" y="244"/>
                    </a:lnTo>
                    <a:lnTo>
                      <a:pt x="884" y="246"/>
                    </a:lnTo>
                    <a:lnTo>
                      <a:pt x="892" y="246"/>
                    </a:lnTo>
                    <a:lnTo>
                      <a:pt x="900" y="246"/>
                    </a:lnTo>
                    <a:lnTo>
                      <a:pt x="906" y="244"/>
                    </a:lnTo>
                    <a:lnTo>
                      <a:pt x="912" y="240"/>
                    </a:lnTo>
                    <a:lnTo>
                      <a:pt x="918" y="234"/>
                    </a:lnTo>
                    <a:lnTo>
                      <a:pt x="922" y="228"/>
                    </a:lnTo>
                    <a:lnTo>
                      <a:pt x="926" y="220"/>
                    </a:lnTo>
                    <a:lnTo>
                      <a:pt x="960" y="110"/>
                    </a:lnTo>
                    <a:lnTo>
                      <a:pt x="962" y="104"/>
                    </a:lnTo>
                    <a:lnTo>
                      <a:pt x="968" y="98"/>
                    </a:lnTo>
                    <a:lnTo>
                      <a:pt x="972" y="94"/>
                    </a:lnTo>
                    <a:lnTo>
                      <a:pt x="978" y="90"/>
                    </a:lnTo>
                    <a:lnTo>
                      <a:pt x="984" y="88"/>
                    </a:lnTo>
                    <a:lnTo>
                      <a:pt x="992" y="88"/>
                    </a:lnTo>
                    <a:lnTo>
                      <a:pt x="998" y="90"/>
                    </a:lnTo>
                    <a:lnTo>
                      <a:pt x="1006" y="94"/>
                    </a:lnTo>
                    <a:lnTo>
                      <a:pt x="1102" y="156"/>
                    </a:lnTo>
                    <a:lnTo>
                      <a:pt x="1110" y="160"/>
                    </a:lnTo>
                    <a:lnTo>
                      <a:pt x="1116" y="162"/>
                    </a:lnTo>
                    <a:lnTo>
                      <a:pt x="1124" y="162"/>
                    </a:lnTo>
                    <a:lnTo>
                      <a:pt x="1132" y="162"/>
                    </a:lnTo>
                    <a:lnTo>
                      <a:pt x="1138" y="158"/>
                    </a:lnTo>
                    <a:lnTo>
                      <a:pt x="1144" y="154"/>
                    </a:lnTo>
                    <a:lnTo>
                      <a:pt x="1150" y="150"/>
                    </a:lnTo>
                    <a:lnTo>
                      <a:pt x="1154" y="142"/>
                    </a:lnTo>
                    <a:lnTo>
                      <a:pt x="1206" y="40"/>
                    </a:lnTo>
                    <a:lnTo>
                      <a:pt x="1210" y="34"/>
                    </a:lnTo>
                    <a:lnTo>
                      <a:pt x="1216" y="28"/>
                    </a:lnTo>
                    <a:lnTo>
                      <a:pt x="1222" y="26"/>
                    </a:lnTo>
                    <a:lnTo>
                      <a:pt x="1228" y="24"/>
                    </a:lnTo>
                    <a:lnTo>
                      <a:pt x="1234" y="22"/>
                    </a:lnTo>
                    <a:lnTo>
                      <a:pt x="1242" y="24"/>
                    </a:lnTo>
                    <a:lnTo>
                      <a:pt x="1248" y="28"/>
                    </a:lnTo>
                    <a:lnTo>
                      <a:pt x="1254" y="32"/>
                    </a:lnTo>
                    <a:lnTo>
                      <a:pt x="1338" y="110"/>
                    </a:lnTo>
                    <a:lnTo>
                      <a:pt x="1346" y="116"/>
                    </a:lnTo>
                    <a:lnTo>
                      <a:pt x="1352" y="118"/>
                    </a:lnTo>
                    <a:lnTo>
                      <a:pt x="1360" y="120"/>
                    </a:lnTo>
                    <a:lnTo>
                      <a:pt x="1366" y="120"/>
                    </a:lnTo>
                    <a:lnTo>
                      <a:pt x="1374" y="118"/>
                    </a:lnTo>
                    <a:lnTo>
                      <a:pt x="1380" y="116"/>
                    </a:lnTo>
                    <a:lnTo>
                      <a:pt x="1386" y="112"/>
                    </a:lnTo>
                    <a:lnTo>
                      <a:pt x="1392" y="106"/>
                    </a:lnTo>
                    <a:lnTo>
                      <a:pt x="1462" y="14"/>
                    </a:lnTo>
                    <a:close/>
                  </a:path>
                </a:pathLst>
              </a:custGeom>
              <a:noFill/>
              <a:ln w="38100">
                <a:solidFill>
                  <a:srgbClr val="92d05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89" name="组合 6"/>
              <p:cNvGrpSpPr/>
              <p:nvPr/>
            </p:nvGrpSpPr>
            <p:grpSpPr>
              <a:xfrm>
                <a:off x="680760" y="5191200"/>
                <a:ext cx="1140120" cy="768960"/>
                <a:chOff x="680760" y="5191200"/>
                <a:chExt cx="1140120" cy="768960"/>
              </a:xfrm>
            </p:grpSpPr>
            <p:sp>
              <p:nvSpPr>
                <p:cNvPr id="690" name="Oval 47"/>
                <p:cNvSpPr/>
                <p:nvPr/>
              </p:nvSpPr>
              <p:spPr>
                <a:xfrm>
                  <a:off x="996840" y="5191200"/>
                  <a:ext cx="824040" cy="601920"/>
                </a:xfrm>
                <a:prstGeom prst="ellipse">
                  <a:avLst/>
                </a:prstGeom>
                <a:noFill/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 anchorCtr="1">
                  <a:noAutofit/>
                </a:bodyPr>
                <a:p>
                  <a:pPr algn="ctr">
                    <a:lnSpc>
                      <a:spcPct val="100000"/>
                    </a:lnSpc>
                  </a:pPr>
                  <a:r>
                    <a:rPr b="1" lang="en-GB" sz="4800" spc="-1" strike="noStrike">
                      <a:solidFill>
                        <a:srgbClr val="ffffff"/>
                      </a:solidFill>
                      <a:latin typeface="Calibri"/>
                      <a:ea typeface="宋体"/>
                    </a:rPr>
                    <a:t>1</a:t>
                  </a:r>
                  <a:endParaRPr b="0" lang="en-US" sz="4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1" name="Oval 47"/>
                <p:cNvSpPr/>
                <p:nvPr/>
              </p:nvSpPr>
              <p:spPr>
                <a:xfrm>
                  <a:off x="680760" y="5358240"/>
                  <a:ext cx="824040" cy="601920"/>
                </a:xfrm>
                <a:prstGeom prst="ellipse">
                  <a:avLst/>
                </a:prstGeom>
                <a:noFill/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 anchorCtr="1">
                  <a:noAutofit/>
                </a:bodyPr>
                <a:p>
                  <a:pPr algn="ctr">
                    <a:lnSpc>
                      <a:spcPct val="100000"/>
                    </a:lnSpc>
                  </a:pPr>
                  <a:r>
                    <a:rPr b="1" lang="en-GB" sz="2800" spc="-1" strike="noStrike" baseline="30000">
                      <a:solidFill>
                        <a:srgbClr val="ffffff"/>
                      </a:solidFill>
                      <a:latin typeface="Calibri"/>
                      <a:ea typeface="宋体"/>
                    </a:rPr>
                    <a:t>NO.</a:t>
                  </a:r>
                  <a:r>
                    <a:rPr b="1" lang="en-GB" sz="3600" spc="-1" strike="noStrike">
                      <a:solidFill>
                        <a:srgbClr val="ffffff"/>
                      </a:solidFill>
                      <a:latin typeface="Calibri"/>
                      <a:ea typeface="宋体"/>
                    </a:rPr>
                    <a:t> </a:t>
                  </a:r>
                  <a:endParaRPr b="0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92" name="文本框 25"/>
            <p:cNvSpPr/>
            <p:nvPr/>
          </p:nvSpPr>
          <p:spPr>
            <a:xfrm>
              <a:off x="2854800" y="6248160"/>
              <a:ext cx="109548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2400" spc="-1" strike="noStrike">
                  <a:solidFill>
                    <a:srgbClr val="000000"/>
                  </a:solidFill>
                  <a:latin typeface="Noto Sans S Chinese Light"/>
                  <a:ea typeface="Noto Sans S Chinese Light"/>
                </a:rPr>
                <a:t>浏览器厂商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93" name="组合 38"/>
            <p:cNvGrpSpPr/>
            <p:nvPr/>
          </p:nvGrpSpPr>
          <p:grpSpPr>
            <a:xfrm>
              <a:off x="2838600" y="5008320"/>
              <a:ext cx="1142640" cy="1116720"/>
              <a:chOff x="2838600" y="5008320"/>
              <a:chExt cx="1142640" cy="1116720"/>
            </a:xfrm>
          </p:grpSpPr>
          <p:sp>
            <p:nvSpPr>
              <p:cNvPr id="694" name="Freeform 45"/>
              <p:cNvSpPr/>
              <p:nvPr/>
            </p:nvSpPr>
            <p:spPr>
              <a:xfrm>
                <a:off x="2838600" y="5008320"/>
                <a:ext cx="1116720" cy="1116720"/>
              </a:xfrm>
              <a:custGeom>
                <a:avLst/>
                <a:gdLst>
                  <a:gd name="textAreaLeft" fmla="*/ 0 w 1116720"/>
                  <a:gd name="textAreaRight" fmla="*/ 1117080 w 1116720"/>
                  <a:gd name="textAreaTop" fmla="*/ 0 h 1116720"/>
                  <a:gd name="textAreaBottom" fmla="*/ 1117080 h 1116720"/>
                </a:gdLst>
                <a:ahLst/>
                <a:rect l="textAreaLeft" t="textAreaTop" r="textAreaRight" b="textAreaBottom"/>
                <a:pathLst>
                  <a:path w="2972" h="2972">
                    <a:moveTo>
                      <a:pt x="1462" y="14"/>
                    </a:moveTo>
                    <a:lnTo>
                      <a:pt x="1462" y="14"/>
                    </a:lnTo>
                    <a:lnTo>
                      <a:pt x="1468" y="8"/>
                    </a:lnTo>
                    <a:lnTo>
                      <a:pt x="1474" y="4"/>
                    </a:lnTo>
                    <a:lnTo>
                      <a:pt x="1480" y="2"/>
                    </a:lnTo>
                    <a:lnTo>
                      <a:pt x="1486" y="0"/>
                    </a:lnTo>
                    <a:lnTo>
                      <a:pt x="1492" y="2"/>
                    </a:lnTo>
                    <a:lnTo>
                      <a:pt x="1498" y="4"/>
                    </a:lnTo>
                    <a:lnTo>
                      <a:pt x="1504" y="8"/>
                    </a:lnTo>
                    <a:lnTo>
                      <a:pt x="1510" y="14"/>
                    </a:lnTo>
                    <a:lnTo>
                      <a:pt x="1580" y="106"/>
                    </a:lnTo>
                    <a:lnTo>
                      <a:pt x="1586" y="112"/>
                    </a:lnTo>
                    <a:lnTo>
                      <a:pt x="1592" y="116"/>
                    </a:lnTo>
                    <a:lnTo>
                      <a:pt x="1598" y="118"/>
                    </a:lnTo>
                    <a:lnTo>
                      <a:pt x="1606" y="120"/>
                    </a:lnTo>
                    <a:lnTo>
                      <a:pt x="1612" y="120"/>
                    </a:lnTo>
                    <a:lnTo>
                      <a:pt x="1620" y="118"/>
                    </a:lnTo>
                    <a:lnTo>
                      <a:pt x="1626" y="116"/>
                    </a:lnTo>
                    <a:lnTo>
                      <a:pt x="1634" y="110"/>
                    </a:lnTo>
                    <a:lnTo>
                      <a:pt x="1718" y="32"/>
                    </a:lnTo>
                    <a:lnTo>
                      <a:pt x="1724" y="28"/>
                    </a:lnTo>
                    <a:lnTo>
                      <a:pt x="1730" y="24"/>
                    </a:lnTo>
                    <a:lnTo>
                      <a:pt x="1738" y="22"/>
                    </a:lnTo>
                    <a:lnTo>
                      <a:pt x="1744" y="24"/>
                    </a:lnTo>
                    <a:lnTo>
                      <a:pt x="1750" y="26"/>
                    </a:lnTo>
                    <a:lnTo>
                      <a:pt x="1756" y="28"/>
                    </a:lnTo>
                    <a:lnTo>
                      <a:pt x="1762" y="34"/>
                    </a:lnTo>
                    <a:lnTo>
                      <a:pt x="1766" y="40"/>
                    </a:lnTo>
                    <a:lnTo>
                      <a:pt x="1818" y="142"/>
                    </a:lnTo>
                    <a:lnTo>
                      <a:pt x="1822" y="150"/>
                    </a:lnTo>
                    <a:lnTo>
                      <a:pt x="1828" y="154"/>
                    </a:lnTo>
                    <a:lnTo>
                      <a:pt x="1834" y="158"/>
                    </a:lnTo>
                    <a:lnTo>
                      <a:pt x="1840" y="162"/>
                    </a:lnTo>
                    <a:lnTo>
                      <a:pt x="1848" y="162"/>
                    </a:lnTo>
                    <a:lnTo>
                      <a:pt x="1856" y="162"/>
                    </a:lnTo>
                    <a:lnTo>
                      <a:pt x="1862" y="160"/>
                    </a:lnTo>
                    <a:lnTo>
                      <a:pt x="1870" y="156"/>
                    </a:lnTo>
                    <a:lnTo>
                      <a:pt x="1966" y="94"/>
                    </a:lnTo>
                    <a:lnTo>
                      <a:pt x="1974" y="90"/>
                    </a:lnTo>
                    <a:lnTo>
                      <a:pt x="1980" y="88"/>
                    </a:lnTo>
                    <a:lnTo>
                      <a:pt x="1988" y="88"/>
                    </a:lnTo>
                    <a:lnTo>
                      <a:pt x="1994" y="90"/>
                    </a:lnTo>
                    <a:lnTo>
                      <a:pt x="2000" y="94"/>
                    </a:lnTo>
                    <a:lnTo>
                      <a:pt x="2006" y="98"/>
                    </a:lnTo>
                    <a:lnTo>
                      <a:pt x="2010" y="104"/>
                    </a:lnTo>
                    <a:lnTo>
                      <a:pt x="2012" y="110"/>
                    </a:lnTo>
                    <a:lnTo>
                      <a:pt x="2046" y="220"/>
                    </a:lnTo>
                    <a:lnTo>
                      <a:pt x="2050" y="228"/>
                    </a:lnTo>
                    <a:lnTo>
                      <a:pt x="2054" y="234"/>
                    </a:lnTo>
                    <a:lnTo>
                      <a:pt x="2060" y="240"/>
                    </a:lnTo>
                    <a:lnTo>
                      <a:pt x="2066" y="244"/>
                    </a:lnTo>
                    <a:lnTo>
                      <a:pt x="2072" y="246"/>
                    </a:lnTo>
                    <a:lnTo>
                      <a:pt x="2080" y="246"/>
                    </a:lnTo>
                    <a:lnTo>
                      <a:pt x="2088" y="246"/>
                    </a:lnTo>
                    <a:lnTo>
                      <a:pt x="2094" y="244"/>
                    </a:lnTo>
                    <a:lnTo>
                      <a:pt x="2202" y="198"/>
                    </a:lnTo>
                    <a:lnTo>
                      <a:pt x="2208" y="196"/>
                    </a:lnTo>
                    <a:lnTo>
                      <a:pt x="2216" y="196"/>
                    </a:lnTo>
                    <a:lnTo>
                      <a:pt x="2222" y="196"/>
                    </a:lnTo>
                    <a:lnTo>
                      <a:pt x="2228" y="200"/>
                    </a:lnTo>
                    <a:lnTo>
                      <a:pt x="2234" y="204"/>
                    </a:lnTo>
                    <a:lnTo>
                      <a:pt x="2238" y="208"/>
                    </a:lnTo>
                    <a:lnTo>
                      <a:pt x="2242" y="216"/>
                    </a:lnTo>
                    <a:lnTo>
                      <a:pt x="2244" y="224"/>
                    </a:lnTo>
                    <a:lnTo>
                      <a:pt x="2258" y="338"/>
                    </a:lnTo>
                    <a:lnTo>
                      <a:pt x="2260" y="346"/>
                    </a:lnTo>
                    <a:lnTo>
                      <a:pt x="2262" y="352"/>
                    </a:lnTo>
                    <a:lnTo>
                      <a:pt x="2266" y="358"/>
                    </a:lnTo>
                    <a:lnTo>
                      <a:pt x="2272" y="362"/>
                    </a:lnTo>
                    <a:lnTo>
                      <a:pt x="2278" y="366"/>
                    </a:lnTo>
                    <a:lnTo>
                      <a:pt x="2286" y="368"/>
                    </a:lnTo>
                    <a:lnTo>
                      <a:pt x="2294" y="370"/>
                    </a:lnTo>
                    <a:lnTo>
                      <a:pt x="2302" y="368"/>
                    </a:lnTo>
                    <a:lnTo>
                      <a:pt x="2414" y="342"/>
                    </a:lnTo>
                    <a:lnTo>
                      <a:pt x="2422" y="342"/>
                    </a:lnTo>
                    <a:lnTo>
                      <a:pt x="2428" y="342"/>
                    </a:lnTo>
                    <a:lnTo>
                      <a:pt x="2436" y="344"/>
                    </a:lnTo>
                    <a:lnTo>
                      <a:pt x="2440" y="348"/>
                    </a:lnTo>
                    <a:lnTo>
                      <a:pt x="2446" y="352"/>
                    </a:lnTo>
                    <a:lnTo>
                      <a:pt x="2448" y="358"/>
                    </a:lnTo>
                    <a:lnTo>
                      <a:pt x="2450" y="366"/>
                    </a:lnTo>
                    <a:lnTo>
                      <a:pt x="2450" y="374"/>
                    </a:lnTo>
                    <a:lnTo>
                      <a:pt x="2446" y="488"/>
                    </a:lnTo>
                    <a:lnTo>
                      <a:pt x="2446" y="496"/>
                    </a:lnTo>
                    <a:lnTo>
                      <a:pt x="2448" y="504"/>
                    </a:lnTo>
                    <a:lnTo>
                      <a:pt x="2450" y="510"/>
                    </a:lnTo>
                    <a:lnTo>
                      <a:pt x="2456" y="516"/>
                    </a:lnTo>
                    <a:lnTo>
                      <a:pt x="2462" y="520"/>
                    </a:lnTo>
                    <a:lnTo>
                      <a:pt x="2468" y="524"/>
                    </a:lnTo>
                    <a:lnTo>
                      <a:pt x="2476" y="526"/>
                    </a:lnTo>
                    <a:lnTo>
                      <a:pt x="2484" y="526"/>
                    </a:lnTo>
                    <a:lnTo>
                      <a:pt x="2598" y="522"/>
                    </a:lnTo>
                    <a:lnTo>
                      <a:pt x="2606" y="522"/>
                    </a:lnTo>
                    <a:lnTo>
                      <a:pt x="2614" y="524"/>
                    </a:lnTo>
                    <a:lnTo>
                      <a:pt x="2620" y="526"/>
                    </a:lnTo>
                    <a:lnTo>
                      <a:pt x="2624" y="532"/>
                    </a:lnTo>
                    <a:lnTo>
                      <a:pt x="2628" y="536"/>
                    </a:lnTo>
                    <a:lnTo>
                      <a:pt x="2630" y="544"/>
                    </a:lnTo>
                    <a:lnTo>
                      <a:pt x="2630" y="550"/>
                    </a:lnTo>
                    <a:lnTo>
                      <a:pt x="2630" y="558"/>
                    </a:lnTo>
                    <a:lnTo>
                      <a:pt x="2604" y="670"/>
                    </a:lnTo>
                    <a:lnTo>
                      <a:pt x="2602" y="678"/>
                    </a:lnTo>
                    <a:lnTo>
                      <a:pt x="2604" y="686"/>
                    </a:lnTo>
                    <a:lnTo>
                      <a:pt x="2606" y="694"/>
                    </a:lnTo>
                    <a:lnTo>
                      <a:pt x="2610" y="700"/>
                    </a:lnTo>
                    <a:lnTo>
                      <a:pt x="2614" y="704"/>
                    </a:lnTo>
                    <a:lnTo>
                      <a:pt x="2620" y="710"/>
                    </a:lnTo>
                    <a:lnTo>
                      <a:pt x="2626" y="712"/>
                    </a:lnTo>
                    <a:lnTo>
                      <a:pt x="2634" y="714"/>
                    </a:lnTo>
                    <a:lnTo>
                      <a:pt x="2748" y="728"/>
                    </a:lnTo>
                    <a:lnTo>
                      <a:pt x="2756" y="730"/>
                    </a:lnTo>
                    <a:lnTo>
                      <a:pt x="2764" y="734"/>
                    </a:lnTo>
                    <a:lnTo>
                      <a:pt x="2768" y="738"/>
                    </a:lnTo>
                    <a:lnTo>
                      <a:pt x="2772" y="744"/>
                    </a:lnTo>
                    <a:lnTo>
                      <a:pt x="2774" y="750"/>
                    </a:lnTo>
                    <a:lnTo>
                      <a:pt x="2776" y="756"/>
                    </a:lnTo>
                    <a:lnTo>
                      <a:pt x="2776" y="764"/>
                    </a:lnTo>
                    <a:lnTo>
                      <a:pt x="2774" y="770"/>
                    </a:lnTo>
                    <a:lnTo>
                      <a:pt x="2728" y="876"/>
                    </a:lnTo>
                    <a:lnTo>
                      <a:pt x="2726" y="884"/>
                    </a:lnTo>
                    <a:lnTo>
                      <a:pt x="2726" y="892"/>
                    </a:lnTo>
                    <a:lnTo>
                      <a:pt x="2726" y="900"/>
                    </a:lnTo>
                    <a:lnTo>
                      <a:pt x="2728" y="906"/>
                    </a:lnTo>
                    <a:lnTo>
                      <a:pt x="2732" y="912"/>
                    </a:lnTo>
                    <a:lnTo>
                      <a:pt x="2738" y="918"/>
                    </a:lnTo>
                    <a:lnTo>
                      <a:pt x="2744" y="922"/>
                    </a:lnTo>
                    <a:lnTo>
                      <a:pt x="2752" y="926"/>
                    </a:lnTo>
                    <a:lnTo>
                      <a:pt x="2862" y="960"/>
                    </a:lnTo>
                    <a:lnTo>
                      <a:pt x="2868" y="962"/>
                    </a:lnTo>
                    <a:lnTo>
                      <a:pt x="2874" y="966"/>
                    </a:lnTo>
                    <a:lnTo>
                      <a:pt x="2878" y="972"/>
                    </a:lnTo>
                    <a:lnTo>
                      <a:pt x="2882" y="978"/>
                    </a:lnTo>
                    <a:lnTo>
                      <a:pt x="2884" y="984"/>
                    </a:lnTo>
                    <a:lnTo>
                      <a:pt x="2884" y="992"/>
                    </a:lnTo>
                    <a:lnTo>
                      <a:pt x="2882" y="998"/>
                    </a:lnTo>
                    <a:lnTo>
                      <a:pt x="2878" y="1006"/>
                    </a:lnTo>
                    <a:lnTo>
                      <a:pt x="2816" y="1102"/>
                    </a:lnTo>
                    <a:lnTo>
                      <a:pt x="2812" y="1110"/>
                    </a:lnTo>
                    <a:lnTo>
                      <a:pt x="2810" y="1116"/>
                    </a:lnTo>
                    <a:lnTo>
                      <a:pt x="2810" y="1124"/>
                    </a:lnTo>
                    <a:lnTo>
                      <a:pt x="2810" y="1132"/>
                    </a:lnTo>
                    <a:lnTo>
                      <a:pt x="2814" y="1138"/>
                    </a:lnTo>
                    <a:lnTo>
                      <a:pt x="2818" y="1144"/>
                    </a:lnTo>
                    <a:lnTo>
                      <a:pt x="2822" y="1150"/>
                    </a:lnTo>
                    <a:lnTo>
                      <a:pt x="2830" y="1154"/>
                    </a:lnTo>
                    <a:lnTo>
                      <a:pt x="2932" y="1206"/>
                    </a:lnTo>
                    <a:lnTo>
                      <a:pt x="2938" y="1210"/>
                    </a:lnTo>
                    <a:lnTo>
                      <a:pt x="2944" y="1216"/>
                    </a:lnTo>
                    <a:lnTo>
                      <a:pt x="2946" y="1222"/>
                    </a:lnTo>
                    <a:lnTo>
                      <a:pt x="2948" y="1228"/>
                    </a:lnTo>
                    <a:lnTo>
                      <a:pt x="2950" y="1234"/>
                    </a:lnTo>
                    <a:lnTo>
                      <a:pt x="2948" y="1242"/>
                    </a:lnTo>
                    <a:lnTo>
                      <a:pt x="2944" y="1248"/>
                    </a:lnTo>
                    <a:lnTo>
                      <a:pt x="2940" y="1254"/>
                    </a:lnTo>
                    <a:lnTo>
                      <a:pt x="2862" y="1338"/>
                    </a:lnTo>
                    <a:lnTo>
                      <a:pt x="2856" y="1344"/>
                    </a:lnTo>
                    <a:lnTo>
                      <a:pt x="2854" y="1352"/>
                    </a:lnTo>
                    <a:lnTo>
                      <a:pt x="2852" y="1360"/>
                    </a:lnTo>
                    <a:lnTo>
                      <a:pt x="2852" y="1366"/>
                    </a:lnTo>
                    <a:lnTo>
                      <a:pt x="2854" y="1374"/>
                    </a:lnTo>
                    <a:lnTo>
                      <a:pt x="2856" y="1380"/>
                    </a:lnTo>
                    <a:lnTo>
                      <a:pt x="2860" y="1386"/>
                    </a:lnTo>
                    <a:lnTo>
                      <a:pt x="2866" y="1392"/>
                    </a:lnTo>
                    <a:lnTo>
                      <a:pt x="2958" y="1462"/>
                    </a:lnTo>
                    <a:lnTo>
                      <a:pt x="2964" y="1468"/>
                    </a:lnTo>
                    <a:lnTo>
                      <a:pt x="2968" y="1474"/>
                    </a:lnTo>
                    <a:lnTo>
                      <a:pt x="2970" y="1480"/>
                    </a:lnTo>
                    <a:lnTo>
                      <a:pt x="2972" y="1486"/>
                    </a:lnTo>
                    <a:lnTo>
                      <a:pt x="2970" y="1492"/>
                    </a:lnTo>
                    <a:lnTo>
                      <a:pt x="2968" y="1498"/>
                    </a:lnTo>
                    <a:lnTo>
                      <a:pt x="2964" y="1504"/>
                    </a:lnTo>
                    <a:lnTo>
                      <a:pt x="2958" y="1510"/>
                    </a:lnTo>
                    <a:lnTo>
                      <a:pt x="2866" y="1580"/>
                    </a:lnTo>
                    <a:lnTo>
                      <a:pt x="2860" y="1586"/>
                    </a:lnTo>
                    <a:lnTo>
                      <a:pt x="2856" y="1592"/>
                    </a:lnTo>
                    <a:lnTo>
                      <a:pt x="2854" y="1598"/>
                    </a:lnTo>
                    <a:lnTo>
                      <a:pt x="2852" y="1606"/>
                    </a:lnTo>
                    <a:lnTo>
                      <a:pt x="2852" y="1612"/>
                    </a:lnTo>
                    <a:lnTo>
                      <a:pt x="2854" y="1620"/>
                    </a:lnTo>
                    <a:lnTo>
                      <a:pt x="2856" y="1626"/>
                    </a:lnTo>
                    <a:lnTo>
                      <a:pt x="2862" y="1634"/>
                    </a:lnTo>
                    <a:lnTo>
                      <a:pt x="2940" y="1718"/>
                    </a:lnTo>
                    <a:lnTo>
                      <a:pt x="2944" y="1724"/>
                    </a:lnTo>
                    <a:lnTo>
                      <a:pt x="2948" y="1730"/>
                    </a:lnTo>
                    <a:lnTo>
                      <a:pt x="2950" y="1738"/>
                    </a:lnTo>
                    <a:lnTo>
                      <a:pt x="2948" y="1744"/>
                    </a:lnTo>
                    <a:lnTo>
                      <a:pt x="2946" y="1750"/>
                    </a:lnTo>
                    <a:lnTo>
                      <a:pt x="2944" y="1756"/>
                    </a:lnTo>
                    <a:lnTo>
                      <a:pt x="2938" y="1762"/>
                    </a:lnTo>
                    <a:lnTo>
                      <a:pt x="2932" y="1766"/>
                    </a:lnTo>
                    <a:lnTo>
                      <a:pt x="2830" y="1818"/>
                    </a:lnTo>
                    <a:lnTo>
                      <a:pt x="2822" y="1822"/>
                    </a:lnTo>
                    <a:lnTo>
                      <a:pt x="2818" y="1828"/>
                    </a:lnTo>
                    <a:lnTo>
                      <a:pt x="2814" y="1834"/>
                    </a:lnTo>
                    <a:lnTo>
                      <a:pt x="2810" y="1840"/>
                    </a:lnTo>
                    <a:lnTo>
                      <a:pt x="2810" y="1848"/>
                    </a:lnTo>
                    <a:lnTo>
                      <a:pt x="2810" y="1856"/>
                    </a:lnTo>
                    <a:lnTo>
                      <a:pt x="2812" y="1862"/>
                    </a:lnTo>
                    <a:lnTo>
                      <a:pt x="2816" y="1870"/>
                    </a:lnTo>
                    <a:lnTo>
                      <a:pt x="2878" y="1966"/>
                    </a:lnTo>
                    <a:lnTo>
                      <a:pt x="2882" y="1974"/>
                    </a:lnTo>
                    <a:lnTo>
                      <a:pt x="2884" y="1980"/>
                    </a:lnTo>
                    <a:lnTo>
                      <a:pt x="2884" y="1988"/>
                    </a:lnTo>
                    <a:lnTo>
                      <a:pt x="2882" y="1994"/>
                    </a:lnTo>
                    <a:lnTo>
                      <a:pt x="2878" y="2000"/>
                    </a:lnTo>
                    <a:lnTo>
                      <a:pt x="2874" y="2004"/>
                    </a:lnTo>
                    <a:lnTo>
                      <a:pt x="2868" y="2010"/>
                    </a:lnTo>
                    <a:lnTo>
                      <a:pt x="2862" y="2012"/>
                    </a:lnTo>
                    <a:lnTo>
                      <a:pt x="2752" y="2046"/>
                    </a:lnTo>
                    <a:lnTo>
                      <a:pt x="2744" y="2050"/>
                    </a:lnTo>
                    <a:lnTo>
                      <a:pt x="2738" y="2054"/>
                    </a:lnTo>
                    <a:lnTo>
                      <a:pt x="2732" y="2060"/>
                    </a:lnTo>
                    <a:lnTo>
                      <a:pt x="2728" y="2066"/>
                    </a:lnTo>
                    <a:lnTo>
                      <a:pt x="2726" y="2072"/>
                    </a:lnTo>
                    <a:lnTo>
                      <a:pt x="2726" y="2080"/>
                    </a:lnTo>
                    <a:lnTo>
                      <a:pt x="2726" y="2088"/>
                    </a:lnTo>
                    <a:lnTo>
                      <a:pt x="2728" y="2094"/>
                    </a:lnTo>
                    <a:lnTo>
                      <a:pt x="2774" y="2202"/>
                    </a:lnTo>
                    <a:lnTo>
                      <a:pt x="2776" y="2208"/>
                    </a:lnTo>
                    <a:lnTo>
                      <a:pt x="2776" y="2216"/>
                    </a:lnTo>
                    <a:lnTo>
                      <a:pt x="2774" y="2222"/>
                    </a:lnTo>
                    <a:lnTo>
                      <a:pt x="2772" y="2228"/>
                    </a:lnTo>
                    <a:lnTo>
                      <a:pt x="2768" y="2234"/>
                    </a:lnTo>
                    <a:lnTo>
                      <a:pt x="2764" y="2238"/>
                    </a:lnTo>
                    <a:lnTo>
                      <a:pt x="2756" y="2242"/>
                    </a:lnTo>
                    <a:lnTo>
                      <a:pt x="2748" y="2242"/>
                    </a:lnTo>
                    <a:lnTo>
                      <a:pt x="2634" y="2258"/>
                    </a:lnTo>
                    <a:lnTo>
                      <a:pt x="2626" y="2260"/>
                    </a:lnTo>
                    <a:lnTo>
                      <a:pt x="2620" y="2262"/>
                    </a:lnTo>
                    <a:lnTo>
                      <a:pt x="2614" y="2266"/>
                    </a:lnTo>
                    <a:lnTo>
                      <a:pt x="2610" y="2272"/>
                    </a:lnTo>
                    <a:lnTo>
                      <a:pt x="2606" y="2278"/>
                    </a:lnTo>
                    <a:lnTo>
                      <a:pt x="2604" y="2286"/>
                    </a:lnTo>
                    <a:lnTo>
                      <a:pt x="2602" y="2294"/>
                    </a:lnTo>
                    <a:lnTo>
                      <a:pt x="2604" y="2302"/>
                    </a:lnTo>
                    <a:lnTo>
                      <a:pt x="2630" y="2414"/>
                    </a:lnTo>
                    <a:lnTo>
                      <a:pt x="2630" y="2422"/>
                    </a:lnTo>
                    <a:lnTo>
                      <a:pt x="2630" y="2428"/>
                    </a:lnTo>
                    <a:lnTo>
                      <a:pt x="2628" y="2436"/>
                    </a:lnTo>
                    <a:lnTo>
                      <a:pt x="2624" y="2440"/>
                    </a:lnTo>
                    <a:lnTo>
                      <a:pt x="2620" y="2446"/>
                    </a:lnTo>
                    <a:lnTo>
                      <a:pt x="2614" y="2448"/>
                    </a:lnTo>
                    <a:lnTo>
                      <a:pt x="2606" y="2450"/>
                    </a:lnTo>
                    <a:lnTo>
                      <a:pt x="2598" y="2450"/>
                    </a:lnTo>
                    <a:lnTo>
                      <a:pt x="2484" y="2446"/>
                    </a:lnTo>
                    <a:lnTo>
                      <a:pt x="2476" y="2446"/>
                    </a:lnTo>
                    <a:lnTo>
                      <a:pt x="2468" y="2448"/>
                    </a:lnTo>
                    <a:lnTo>
                      <a:pt x="2462" y="2450"/>
                    </a:lnTo>
                    <a:lnTo>
                      <a:pt x="2456" y="2456"/>
                    </a:lnTo>
                    <a:lnTo>
                      <a:pt x="2450" y="2462"/>
                    </a:lnTo>
                    <a:lnTo>
                      <a:pt x="2448" y="2468"/>
                    </a:lnTo>
                    <a:lnTo>
                      <a:pt x="2446" y="2476"/>
                    </a:lnTo>
                    <a:lnTo>
                      <a:pt x="2446" y="2484"/>
                    </a:lnTo>
                    <a:lnTo>
                      <a:pt x="2450" y="2598"/>
                    </a:lnTo>
                    <a:lnTo>
                      <a:pt x="2450" y="2606"/>
                    </a:lnTo>
                    <a:lnTo>
                      <a:pt x="2448" y="2612"/>
                    </a:lnTo>
                    <a:lnTo>
                      <a:pt x="2446" y="2618"/>
                    </a:lnTo>
                    <a:lnTo>
                      <a:pt x="2440" y="2624"/>
                    </a:lnTo>
                    <a:lnTo>
                      <a:pt x="2436" y="2628"/>
                    </a:lnTo>
                    <a:lnTo>
                      <a:pt x="2428" y="2630"/>
                    </a:lnTo>
                    <a:lnTo>
                      <a:pt x="2422" y="2630"/>
                    </a:lnTo>
                    <a:lnTo>
                      <a:pt x="2414" y="2630"/>
                    </a:lnTo>
                    <a:lnTo>
                      <a:pt x="2302" y="2604"/>
                    </a:lnTo>
                    <a:lnTo>
                      <a:pt x="2294" y="2602"/>
                    </a:lnTo>
                    <a:lnTo>
                      <a:pt x="2286" y="2604"/>
                    </a:lnTo>
                    <a:lnTo>
                      <a:pt x="2278" y="2606"/>
                    </a:lnTo>
                    <a:lnTo>
                      <a:pt x="2272" y="2610"/>
                    </a:lnTo>
                    <a:lnTo>
                      <a:pt x="2266" y="2614"/>
                    </a:lnTo>
                    <a:lnTo>
                      <a:pt x="2262" y="2620"/>
                    </a:lnTo>
                    <a:lnTo>
                      <a:pt x="2260" y="2626"/>
                    </a:lnTo>
                    <a:lnTo>
                      <a:pt x="2258" y="2634"/>
                    </a:lnTo>
                    <a:lnTo>
                      <a:pt x="2244" y="2748"/>
                    </a:lnTo>
                    <a:lnTo>
                      <a:pt x="2242" y="2756"/>
                    </a:lnTo>
                    <a:lnTo>
                      <a:pt x="2238" y="2762"/>
                    </a:lnTo>
                    <a:lnTo>
                      <a:pt x="2234" y="2768"/>
                    </a:lnTo>
                    <a:lnTo>
                      <a:pt x="2228" y="2772"/>
                    </a:lnTo>
                    <a:lnTo>
                      <a:pt x="2222" y="2774"/>
                    </a:lnTo>
                    <a:lnTo>
                      <a:pt x="2216" y="2776"/>
                    </a:lnTo>
                    <a:lnTo>
                      <a:pt x="2208" y="2776"/>
                    </a:lnTo>
                    <a:lnTo>
                      <a:pt x="2202" y="2772"/>
                    </a:lnTo>
                    <a:lnTo>
                      <a:pt x="2094" y="2728"/>
                    </a:lnTo>
                    <a:lnTo>
                      <a:pt x="2088" y="2726"/>
                    </a:lnTo>
                    <a:lnTo>
                      <a:pt x="2080" y="2726"/>
                    </a:lnTo>
                    <a:lnTo>
                      <a:pt x="2072" y="2726"/>
                    </a:lnTo>
                    <a:lnTo>
                      <a:pt x="2066" y="2728"/>
                    </a:lnTo>
                    <a:lnTo>
                      <a:pt x="2060" y="2732"/>
                    </a:lnTo>
                    <a:lnTo>
                      <a:pt x="2054" y="2738"/>
                    </a:lnTo>
                    <a:lnTo>
                      <a:pt x="2050" y="2744"/>
                    </a:lnTo>
                    <a:lnTo>
                      <a:pt x="2046" y="2750"/>
                    </a:lnTo>
                    <a:lnTo>
                      <a:pt x="2012" y="2862"/>
                    </a:lnTo>
                    <a:lnTo>
                      <a:pt x="2010" y="2868"/>
                    </a:lnTo>
                    <a:lnTo>
                      <a:pt x="2006" y="2874"/>
                    </a:lnTo>
                    <a:lnTo>
                      <a:pt x="2000" y="2878"/>
                    </a:lnTo>
                    <a:lnTo>
                      <a:pt x="1994" y="2882"/>
                    </a:lnTo>
                    <a:lnTo>
                      <a:pt x="1988" y="2884"/>
                    </a:lnTo>
                    <a:lnTo>
                      <a:pt x="1980" y="2884"/>
                    </a:lnTo>
                    <a:lnTo>
                      <a:pt x="1974" y="2882"/>
                    </a:lnTo>
                    <a:lnTo>
                      <a:pt x="1966" y="2878"/>
                    </a:lnTo>
                    <a:lnTo>
                      <a:pt x="1870" y="2816"/>
                    </a:lnTo>
                    <a:lnTo>
                      <a:pt x="1862" y="2812"/>
                    </a:lnTo>
                    <a:lnTo>
                      <a:pt x="1856" y="2810"/>
                    </a:lnTo>
                    <a:lnTo>
                      <a:pt x="1848" y="2810"/>
                    </a:lnTo>
                    <a:lnTo>
                      <a:pt x="1840" y="2810"/>
                    </a:lnTo>
                    <a:lnTo>
                      <a:pt x="1834" y="2812"/>
                    </a:lnTo>
                    <a:lnTo>
                      <a:pt x="1828" y="2816"/>
                    </a:lnTo>
                    <a:lnTo>
                      <a:pt x="1822" y="2822"/>
                    </a:lnTo>
                    <a:lnTo>
                      <a:pt x="1818" y="2830"/>
                    </a:lnTo>
                    <a:lnTo>
                      <a:pt x="1766" y="2932"/>
                    </a:lnTo>
                    <a:lnTo>
                      <a:pt x="1762" y="2938"/>
                    </a:lnTo>
                    <a:lnTo>
                      <a:pt x="1756" y="2944"/>
                    </a:lnTo>
                    <a:lnTo>
                      <a:pt x="1750" y="2946"/>
                    </a:lnTo>
                    <a:lnTo>
                      <a:pt x="1744" y="2948"/>
                    </a:lnTo>
                    <a:lnTo>
                      <a:pt x="1738" y="2950"/>
                    </a:lnTo>
                    <a:lnTo>
                      <a:pt x="1730" y="2948"/>
                    </a:lnTo>
                    <a:lnTo>
                      <a:pt x="1724" y="2944"/>
                    </a:lnTo>
                    <a:lnTo>
                      <a:pt x="1718" y="2940"/>
                    </a:lnTo>
                    <a:lnTo>
                      <a:pt x="1634" y="2862"/>
                    </a:lnTo>
                    <a:lnTo>
                      <a:pt x="1626" y="2856"/>
                    </a:lnTo>
                    <a:lnTo>
                      <a:pt x="1620" y="2854"/>
                    </a:lnTo>
                    <a:lnTo>
                      <a:pt x="1612" y="2852"/>
                    </a:lnTo>
                    <a:lnTo>
                      <a:pt x="1606" y="2852"/>
                    </a:lnTo>
                    <a:lnTo>
                      <a:pt x="1598" y="2854"/>
                    </a:lnTo>
                    <a:lnTo>
                      <a:pt x="1592" y="2856"/>
                    </a:lnTo>
                    <a:lnTo>
                      <a:pt x="1586" y="2860"/>
                    </a:lnTo>
                    <a:lnTo>
                      <a:pt x="1580" y="2866"/>
                    </a:lnTo>
                    <a:lnTo>
                      <a:pt x="1510" y="2958"/>
                    </a:lnTo>
                    <a:lnTo>
                      <a:pt x="1504" y="2964"/>
                    </a:lnTo>
                    <a:lnTo>
                      <a:pt x="1498" y="2968"/>
                    </a:lnTo>
                    <a:lnTo>
                      <a:pt x="1492" y="2970"/>
                    </a:lnTo>
                    <a:lnTo>
                      <a:pt x="1486" y="2972"/>
                    </a:lnTo>
                    <a:lnTo>
                      <a:pt x="1480" y="2970"/>
                    </a:lnTo>
                    <a:lnTo>
                      <a:pt x="1474" y="2968"/>
                    </a:lnTo>
                    <a:lnTo>
                      <a:pt x="1468" y="2964"/>
                    </a:lnTo>
                    <a:lnTo>
                      <a:pt x="1462" y="2958"/>
                    </a:lnTo>
                    <a:lnTo>
                      <a:pt x="1392" y="2866"/>
                    </a:lnTo>
                    <a:lnTo>
                      <a:pt x="1386" y="2860"/>
                    </a:lnTo>
                    <a:lnTo>
                      <a:pt x="1380" y="2856"/>
                    </a:lnTo>
                    <a:lnTo>
                      <a:pt x="1374" y="2854"/>
                    </a:lnTo>
                    <a:lnTo>
                      <a:pt x="1366" y="2852"/>
                    </a:lnTo>
                    <a:lnTo>
                      <a:pt x="1360" y="2852"/>
                    </a:lnTo>
                    <a:lnTo>
                      <a:pt x="1352" y="2854"/>
                    </a:lnTo>
                    <a:lnTo>
                      <a:pt x="1346" y="2856"/>
                    </a:lnTo>
                    <a:lnTo>
                      <a:pt x="1338" y="2862"/>
                    </a:lnTo>
                    <a:lnTo>
                      <a:pt x="1254" y="2940"/>
                    </a:lnTo>
                    <a:lnTo>
                      <a:pt x="1248" y="2944"/>
                    </a:lnTo>
                    <a:lnTo>
                      <a:pt x="1242" y="2948"/>
                    </a:lnTo>
                    <a:lnTo>
                      <a:pt x="1234" y="2950"/>
                    </a:lnTo>
                    <a:lnTo>
                      <a:pt x="1228" y="2948"/>
                    </a:lnTo>
                    <a:lnTo>
                      <a:pt x="1222" y="2946"/>
                    </a:lnTo>
                    <a:lnTo>
                      <a:pt x="1216" y="2944"/>
                    </a:lnTo>
                    <a:lnTo>
                      <a:pt x="1210" y="2938"/>
                    </a:lnTo>
                    <a:lnTo>
                      <a:pt x="1206" y="2932"/>
                    </a:lnTo>
                    <a:lnTo>
                      <a:pt x="1154" y="2830"/>
                    </a:lnTo>
                    <a:lnTo>
                      <a:pt x="1150" y="2822"/>
                    </a:lnTo>
                    <a:lnTo>
                      <a:pt x="1144" y="2816"/>
                    </a:lnTo>
                    <a:lnTo>
                      <a:pt x="1138" y="2812"/>
                    </a:lnTo>
                    <a:lnTo>
                      <a:pt x="1132" y="2810"/>
                    </a:lnTo>
                    <a:lnTo>
                      <a:pt x="1124" y="2810"/>
                    </a:lnTo>
                    <a:lnTo>
                      <a:pt x="1116" y="2810"/>
                    </a:lnTo>
                    <a:lnTo>
                      <a:pt x="1110" y="2812"/>
                    </a:lnTo>
                    <a:lnTo>
                      <a:pt x="1102" y="2816"/>
                    </a:lnTo>
                    <a:lnTo>
                      <a:pt x="1006" y="2878"/>
                    </a:lnTo>
                    <a:lnTo>
                      <a:pt x="998" y="2882"/>
                    </a:lnTo>
                    <a:lnTo>
                      <a:pt x="992" y="2884"/>
                    </a:lnTo>
                    <a:lnTo>
                      <a:pt x="984" y="2884"/>
                    </a:lnTo>
                    <a:lnTo>
                      <a:pt x="978" y="2882"/>
                    </a:lnTo>
                    <a:lnTo>
                      <a:pt x="972" y="2878"/>
                    </a:lnTo>
                    <a:lnTo>
                      <a:pt x="968" y="2874"/>
                    </a:lnTo>
                    <a:lnTo>
                      <a:pt x="962" y="2868"/>
                    </a:lnTo>
                    <a:lnTo>
                      <a:pt x="960" y="2862"/>
                    </a:lnTo>
                    <a:lnTo>
                      <a:pt x="926" y="2750"/>
                    </a:lnTo>
                    <a:lnTo>
                      <a:pt x="922" y="2744"/>
                    </a:lnTo>
                    <a:lnTo>
                      <a:pt x="918" y="2738"/>
                    </a:lnTo>
                    <a:lnTo>
                      <a:pt x="912" y="2732"/>
                    </a:lnTo>
                    <a:lnTo>
                      <a:pt x="906" y="2728"/>
                    </a:lnTo>
                    <a:lnTo>
                      <a:pt x="900" y="2726"/>
                    </a:lnTo>
                    <a:lnTo>
                      <a:pt x="892" y="2726"/>
                    </a:lnTo>
                    <a:lnTo>
                      <a:pt x="884" y="2726"/>
                    </a:lnTo>
                    <a:lnTo>
                      <a:pt x="878" y="2728"/>
                    </a:lnTo>
                    <a:lnTo>
                      <a:pt x="770" y="2772"/>
                    </a:lnTo>
                    <a:lnTo>
                      <a:pt x="764" y="2776"/>
                    </a:lnTo>
                    <a:lnTo>
                      <a:pt x="756" y="2776"/>
                    </a:lnTo>
                    <a:lnTo>
                      <a:pt x="750" y="2774"/>
                    </a:lnTo>
                    <a:lnTo>
                      <a:pt x="744" y="2772"/>
                    </a:lnTo>
                    <a:lnTo>
                      <a:pt x="738" y="2768"/>
                    </a:lnTo>
                    <a:lnTo>
                      <a:pt x="734" y="2762"/>
                    </a:lnTo>
                    <a:lnTo>
                      <a:pt x="730" y="2756"/>
                    </a:lnTo>
                    <a:lnTo>
                      <a:pt x="728" y="2748"/>
                    </a:lnTo>
                    <a:lnTo>
                      <a:pt x="714" y="2634"/>
                    </a:lnTo>
                    <a:lnTo>
                      <a:pt x="712" y="2626"/>
                    </a:lnTo>
                    <a:lnTo>
                      <a:pt x="710" y="2620"/>
                    </a:lnTo>
                    <a:lnTo>
                      <a:pt x="706" y="2614"/>
                    </a:lnTo>
                    <a:lnTo>
                      <a:pt x="700" y="2610"/>
                    </a:lnTo>
                    <a:lnTo>
                      <a:pt x="694" y="2606"/>
                    </a:lnTo>
                    <a:lnTo>
                      <a:pt x="686" y="2604"/>
                    </a:lnTo>
                    <a:lnTo>
                      <a:pt x="678" y="2602"/>
                    </a:lnTo>
                    <a:lnTo>
                      <a:pt x="670" y="2604"/>
                    </a:lnTo>
                    <a:lnTo>
                      <a:pt x="558" y="2630"/>
                    </a:lnTo>
                    <a:lnTo>
                      <a:pt x="550" y="2630"/>
                    </a:lnTo>
                    <a:lnTo>
                      <a:pt x="544" y="2630"/>
                    </a:lnTo>
                    <a:lnTo>
                      <a:pt x="536" y="2628"/>
                    </a:lnTo>
                    <a:lnTo>
                      <a:pt x="532" y="2624"/>
                    </a:lnTo>
                    <a:lnTo>
                      <a:pt x="526" y="2618"/>
                    </a:lnTo>
                    <a:lnTo>
                      <a:pt x="524" y="2612"/>
                    </a:lnTo>
                    <a:lnTo>
                      <a:pt x="522" y="2606"/>
                    </a:lnTo>
                    <a:lnTo>
                      <a:pt x="522" y="2598"/>
                    </a:lnTo>
                    <a:lnTo>
                      <a:pt x="526" y="2484"/>
                    </a:lnTo>
                    <a:lnTo>
                      <a:pt x="526" y="2476"/>
                    </a:lnTo>
                    <a:lnTo>
                      <a:pt x="524" y="2468"/>
                    </a:lnTo>
                    <a:lnTo>
                      <a:pt x="522" y="2462"/>
                    </a:lnTo>
                    <a:lnTo>
                      <a:pt x="516" y="2456"/>
                    </a:lnTo>
                    <a:lnTo>
                      <a:pt x="510" y="2450"/>
                    </a:lnTo>
                    <a:lnTo>
                      <a:pt x="504" y="2448"/>
                    </a:lnTo>
                    <a:lnTo>
                      <a:pt x="496" y="2446"/>
                    </a:lnTo>
                    <a:lnTo>
                      <a:pt x="488" y="2446"/>
                    </a:lnTo>
                    <a:lnTo>
                      <a:pt x="374" y="2450"/>
                    </a:lnTo>
                    <a:lnTo>
                      <a:pt x="366" y="2450"/>
                    </a:lnTo>
                    <a:lnTo>
                      <a:pt x="358" y="2448"/>
                    </a:lnTo>
                    <a:lnTo>
                      <a:pt x="352" y="2446"/>
                    </a:lnTo>
                    <a:lnTo>
                      <a:pt x="348" y="2440"/>
                    </a:lnTo>
                    <a:lnTo>
                      <a:pt x="344" y="2436"/>
                    </a:lnTo>
                    <a:lnTo>
                      <a:pt x="342" y="2428"/>
                    </a:lnTo>
                    <a:lnTo>
                      <a:pt x="342" y="2422"/>
                    </a:lnTo>
                    <a:lnTo>
                      <a:pt x="342" y="2414"/>
                    </a:lnTo>
                    <a:lnTo>
                      <a:pt x="368" y="2302"/>
                    </a:lnTo>
                    <a:lnTo>
                      <a:pt x="370" y="2294"/>
                    </a:lnTo>
                    <a:lnTo>
                      <a:pt x="368" y="2286"/>
                    </a:lnTo>
                    <a:lnTo>
                      <a:pt x="366" y="2278"/>
                    </a:lnTo>
                    <a:lnTo>
                      <a:pt x="362" y="2272"/>
                    </a:lnTo>
                    <a:lnTo>
                      <a:pt x="358" y="2266"/>
                    </a:lnTo>
                    <a:lnTo>
                      <a:pt x="352" y="2262"/>
                    </a:lnTo>
                    <a:lnTo>
                      <a:pt x="346" y="2260"/>
                    </a:lnTo>
                    <a:lnTo>
                      <a:pt x="338" y="2258"/>
                    </a:lnTo>
                    <a:lnTo>
                      <a:pt x="224" y="2242"/>
                    </a:lnTo>
                    <a:lnTo>
                      <a:pt x="216" y="2242"/>
                    </a:lnTo>
                    <a:lnTo>
                      <a:pt x="208" y="2238"/>
                    </a:lnTo>
                    <a:lnTo>
                      <a:pt x="204" y="2234"/>
                    </a:lnTo>
                    <a:lnTo>
                      <a:pt x="200" y="2228"/>
                    </a:lnTo>
                    <a:lnTo>
                      <a:pt x="198" y="2222"/>
                    </a:lnTo>
                    <a:lnTo>
                      <a:pt x="196" y="2216"/>
                    </a:lnTo>
                    <a:lnTo>
                      <a:pt x="196" y="2208"/>
                    </a:lnTo>
                    <a:lnTo>
                      <a:pt x="198" y="2202"/>
                    </a:lnTo>
                    <a:lnTo>
                      <a:pt x="244" y="2094"/>
                    </a:lnTo>
                    <a:lnTo>
                      <a:pt x="246" y="2088"/>
                    </a:lnTo>
                    <a:lnTo>
                      <a:pt x="246" y="2080"/>
                    </a:lnTo>
                    <a:lnTo>
                      <a:pt x="246" y="2072"/>
                    </a:lnTo>
                    <a:lnTo>
                      <a:pt x="244" y="2066"/>
                    </a:lnTo>
                    <a:lnTo>
                      <a:pt x="240" y="2060"/>
                    </a:lnTo>
                    <a:lnTo>
                      <a:pt x="234" y="2054"/>
                    </a:lnTo>
                    <a:lnTo>
                      <a:pt x="228" y="2050"/>
                    </a:lnTo>
                    <a:lnTo>
                      <a:pt x="220" y="2046"/>
                    </a:lnTo>
                    <a:lnTo>
                      <a:pt x="110" y="2012"/>
                    </a:lnTo>
                    <a:lnTo>
                      <a:pt x="104" y="2010"/>
                    </a:lnTo>
                    <a:lnTo>
                      <a:pt x="98" y="2004"/>
                    </a:lnTo>
                    <a:lnTo>
                      <a:pt x="94" y="2000"/>
                    </a:lnTo>
                    <a:lnTo>
                      <a:pt x="90" y="1994"/>
                    </a:lnTo>
                    <a:lnTo>
                      <a:pt x="88" y="1988"/>
                    </a:lnTo>
                    <a:lnTo>
                      <a:pt x="88" y="1980"/>
                    </a:lnTo>
                    <a:lnTo>
                      <a:pt x="90" y="1974"/>
                    </a:lnTo>
                    <a:lnTo>
                      <a:pt x="94" y="1966"/>
                    </a:lnTo>
                    <a:lnTo>
                      <a:pt x="156" y="1870"/>
                    </a:lnTo>
                    <a:lnTo>
                      <a:pt x="160" y="1862"/>
                    </a:lnTo>
                    <a:lnTo>
                      <a:pt x="162" y="1856"/>
                    </a:lnTo>
                    <a:lnTo>
                      <a:pt x="162" y="1848"/>
                    </a:lnTo>
                    <a:lnTo>
                      <a:pt x="162" y="1840"/>
                    </a:lnTo>
                    <a:lnTo>
                      <a:pt x="160" y="1834"/>
                    </a:lnTo>
                    <a:lnTo>
                      <a:pt x="154" y="1828"/>
                    </a:lnTo>
                    <a:lnTo>
                      <a:pt x="150" y="1822"/>
                    </a:lnTo>
                    <a:lnTo>
                      <a:pt x="142" y="1818"/>
                    </a:lnTo>
                    <a:lnTo>
                      <a:pt x="40" y="1766"/>
                    </a:lnTo>
                    <a:lnTo>
                      <a:pt x="34" y="1762"/>
                    </a:lnTo>
                    <a:lnTo>
                      <a:pt x="28" y="1756"/>
                    </a:lnTo>
                    <a:lnTo>
                      <a:pt x="26" y="1750"/>
                    </a:lnTo>
                    <a:lnTo>
                      <a:pt x="24" y="1744"/>
                    </a:lnTo>
                    <a:lnTo>
                      <a:pt x="22" y="1738"/>
                    </a:lnTo>
                    <a:lnTo>
                      <a:pt x="24" y="1730"/>
                    </a:lnTo>
                    <a:lnTo>
                      <a:pt x="28" y="1724"/>
                    </a:lnTo>
                    <a:lnTo>
                      <a:pt x="32" y="1718"/>
                    </a:lnTo>
                    <a:lnTo>
                      <a:pt x="110" y="1634"/>
                    </a:lnTo>
                    <a:lnTo>
                      <a:pt x="116" y="1626"/>
                    </a:lnTo>
                    <a:lnTo>
                      <a:pt x="118" y="1620"/>
                    </a:lnTo>
                    <a:lnTo>
                      <a:pt x="120" y="1612"/>
                    </a:lnTo>
                    <a:lnTo>
                      <a:pt x="120" y="1606"/>
                    </a:lnTo>
                    <a:lnTo>
                      <a:pt x="118" y="1598"/>
                    </a:lnTo>
                    <a:lnTo>
                      <a:pt x="116" y="1592"/>
                    </a:lnTo>
                    <a:lnTo>
                      <a:pt x="112" y="1586"/>
                    </a:lnTo>
                    <a:lnTo>
                      <a:pt x="106" y="1580"/>
                    </a:lnTo>
                    <a:lnTo>
                      <a:pt x="14" y="1510"/>
                    </a:lnTo>
                    <a:lnTo>
                      <a:pt x="8" y="1504"/>
                    </a:lnTo>
                    <a:lnTo>
                      <a:pt x="4" y="1498"/>
                    </a:lnTo>
                    <a:lnTo>
                      <a:pt x="2" y="1492"/>
                    </a:lnTo>
                    <a:lnTo>
                      <a:pt x="0" y="1486"/>
                    </a:lnTo>
                    <a:lnTo>
                      <a:pt x="2" y="1480"/>
                    </a:lnTo>
                    <a:lnTo>
                      <a:pt x="4" y="1474"/>
                    </a:lnTo>
                    <a:lnTo>
                      <a:pt x="8" y="1468"/>
                    </a:lnTo>
                    <a:lnTo>
                      <a:pt x="14" y="1462"/>
                    </a:lnTo>
                    <a:lnTo>
                      <a:pt x="106" y="1392"/>
                    </a:lnTo>
                    <a:lnTo>
                      <a:pt x="112" y="1386"/>
                    </a:lnTo>
                    <a:lnTo>
                      <a:pt x="116" y="1380"/>
                    </a:lnTo>
                    <a:lnTo>
                      <a:pt x="118" y="1374"/>
                    </a:lnTo>
                    <a:lnTo>
                      <a:pt x="120" y="1366"/>
                    </a:lnTo>
                    <a:lnTo>
                      <a:pt x="120" y="1360"/>
                    </a:lnTo>
                    <a:lnTo>
                      <a:pt x="118" y="1352"/>
                    </a:lnTo>
                    <a:lnTo>
                      <a:pt x="116" y="1344"/>
                    </a:lnTo>
                    <a:lnTo>
                      <a:pt x="110" y="1338"/>
                    </a:lnTo>
                    <a:lnTo>
                      <a:pt x="32" y="1254"/>
                    </a:lnTo>
                    <a:lnTo>
                      <a:pt x="28" y="1248"/>
                    </a:lnTo>
                    <a:lnTo>
                      <a:pt x="24" y="1242"/>
                    </a:lnTo>
                    <a:lnTo>
                      <a:pt x="22" y="1234"/>
                    </a:lnTo>
                    <a:lnTo>
                      <a:pt x="24" y="1228"/>
                    </a:lnTo>
                    <a:lnTo>
                      <a:pt x="26" y="1222"/>
                    </a:lnTo>
                    <a:lnTo>
                      <a:pt x="28" y="1216"/>
                    </a:lnTo>
                    <a:lnTo>
                      <a:pt x="34" y="1210"/>
                    </a:lnTo>
                    <a:lnTo>
                      <a:pt x="40" y="1206"/>
                    </a:lnTo>
                    <a:lnTo>
                      <a:pt x="142" y="1154"/>
                    </a:lnTo>
                    <a:lnTo>
                      <a:pt x="150" y="1150"/>
                    </a:lnTo>
                    <a:lnTo>
                      <a:pt x="154" y="1144"/>
                    </a:lnTo>
                    <a:lnTo>
                      <a:pt x="160" y="1138"/>
                    </a:lnTo>
                    <a:lnTo>
                      <a:pt x="162" y="1132"/>
                    </a:lnTo>
                    <a:lnTo>
                      <a:pt x="162" y="1124"/>
                    </a:lnTo>
                    <a:lnTo>
                      <a:pt x="162" y="1116"/>
                    </a:lnTo>
                    <a:lnTo>
                      <a:pt x="160" y="1110"/>
                    </a:lnTo>
                    <a:lnTo>
                      <a:pt x="156" y="1102"/>
                    </a:lnTo>
                    <a:lnTo>
                      <a:pt x="94" y="1006"/>
                    </a:lnTo>
                    <a:lnTo>
                      <a:pt x="90" y="998"/>
                    </a:lnTo>
                    <a:lnTo>
                      <a:pt x="88" y="992"/>
                    </a:lnTo>
                    <a:lnTo>
                      <a:pt x="88" y="984"/>
                    </a:lnTo>
                    <a:lnTo>
                      <a:pt x="90" y="978"/>
                    </a:lnTo>
                    <a:lnTo>
                      <a:pt x="94" y="972"/>
                    </a:lnTo>
                    <a:lnTo>
                      <a:pt x="98" y="966"/>
                    </a:lnTo>
                    <a:lnTo>
                      <a:pt x="104" y="962"/>
                    </a:lnTo>
                    <a:lnTo>
                      <a:pt x="110" y="960"/>
                    </a:lnTo>
                    <a:lnTo>
                      <a:pt x="220" y="926"/>
                    </a:lnTo>
                    <a:lnTo>
                      <a:pt x="228" y="922"/>
                    </a:lnTo>
                    <a:lnTo>
                      <a:pt x="234" y="918"/>
                    </a:lnTo>
                    <a:lnTo>
                      <a:pt x="240" y="912"/>
                    </a:lnTo>
                    <a:lnTo>
                      <a:pt x="244" y="906"/>
                    </a:lnTo>
                    <a:lnTo>
                      <a:pt x="246" y="900"/>
                    </a:lnTo>
                    <a:lnTo>
                      <a:pt x="246" y="892"/>
                    </a:lnTo>
                    <a:lnTo>
                      <a:pt x="246" y="884"/>
                    </a:lnTo>
                    <a:lnTo>
                      <a:pt x="244" y="876"/>
                    </a:lnTo>
                    <a:lnTo>
                      <a:pt x="198" y="770"/>
                    </a:lnTo>
                    <a:lnTo>
                      <a:pt x="196" y="764"/>
                    </a:lnTo>
                    <a:lnTo>
                      <a:pt x="196" y="756"/>
                    </a:lnTo>
                    <a:lnTo>
                      <a:pt x="198" y="750"/>
                    </a:lnTo>
                    <a:lnTo>
                      <a:pt x="200" y="744"/>
                    </a:lnTo>
                    <a:lnTo>
                      <a:pt x="204" y="738"/>
                    </a:lnTo>
                    <a:lnTo>
                      <a:pt x="208" y="734"/>
                    </a:lnTo>
                    <a:lnTo>
                      <a:pt x="216" y="730"/>
                    </a:lnTo>
                    <a:lnTo>
                      <a:pt x="224" y="728"/>
                    </a:lnTo>
                    <a:lnTo>
                      <a:pt x="338" y="714"/>
                    </a:lnTo>
                    <a:lnTo>
                      <a:pt x="346" y="712"/>
                    </a:lnTo>
                    <a:lnTo>
                      <a:pt x="352" y="710"/>
                    </a:lnTo>
                    <a:lnTo>
                      <a:pt x="358" y="704"/>
                    </a:lnTo>
                    <a:lnTo>
                      <a:pt x="362" y="700"/>
                    </a:lnTo>
                    <a:lnTo>
                      <a:pt x="366" y="694"/>
                    </a:lnTo>
                    <a:lnTo>
                      <a:pt x="368" y="686"/>
                    </a:lnTo>
                    <a:lnTo>
                      <a:pt x="370" y="678"/>
                    </a:lnTo>
                    <a:lnTo>
                      <a:pt x="368" y="670"/>
                    </a:lnTo>
                    <a:lnTo>
                      <a:pt x="342" y="558"/>
                    </a:lnTo>
                    <a:lnTo>
                      <a:pt x="342" y="550"/>
                    </a:lnTo>
                    <a:lnTo>
                      <a:pt x="342" y="544"/>
                    </a:lnTo>
                    <a:lnTo>
                      <a:pt x="344" y="536"/>
                    </a:lnTo>
                    <a:lnTo>
                      <a:pt x="348" y="532"/>
                    </a:lnTo>
                    <a:lnTo>
                      <a:pt x="352" y="526"/>
                    </a:lnTo>
                    <a:lnTo>
                      <a:pt x="358" y="524"/>
                    </a:lnTo>
                    <a:lnTo>
                      <a:pt x="366" y="522"/>
                    </a:lnTo>
                    <a:lnTo>
                      <a:pt x="374" y="522"/>
                    </a:lnTo>
                    <a:lnTo>
                      <a:pt x="488" y="526"/>
                    </a:lnTo>
                    <a:lnTo>
                      <a:pt x="496" y="526"/>
                    </a:lnTo>
                    <a:lnTo>
                      <a:pt x="504" y="524"/>
                    </a:lnTo>
                    <a:lnTo>
                      <a:pt x="510" y="520"/>
                    </a:lnTo>
                    <a:lnTo>
                      <a:pt x="516" y="516"/>
                    </a:lnTo>
                    <a:lnTo>
                      <a:pt x="522" y="510"/>
                    </a:lnTo>
                    <a:lnTo>
                      <a:pt x="524" y="504"/>
                    </a:lnTo>
                    <a:lnTo>
                      <a:pt x="526" y="496"/>
                    </a:lnTo>
                    <a:lnTo>
                      <a:pt x="526" y="488"/>
                    </a:lnTo>
                    <a:lnTo>
                      <a:pt x="522" y="374"/>
                    </a:lnTo>
                    <a:lnTo>
                      <a:pt x="522" y="366"/>
                    </a:lnTo>
                    <a:lnTo>
                      <a:pt x="524" y="358"/>
                    </a:lnTo>
                    <a:lnTo>
                      <a:pt x="526" y="352"/>
                    </a:lnTo>
                    <a:lnTo>
                      <a:pt x="532" y="348"/>
                    </a:lnTo>
                    <a:lnTo>
                      <a:pt x="536" y="344"/>
                    </a:lnTo>
                    <a:lnTo>
                      <a:pt x="544" y="342"/>
                    </a:lnTo>
                    <a:lnTo>
                      <a:pt x="550" y="342"/>
                    </a:lnTo>
                    <a:lnTo>
                      <a:pt x="558" y="342"/>
                    </a:lnTo>
                    <a:lnTo>
                      <a:pt x="670" y="368"/>
                    </a:lnTo>
                    <a:lnTo>
                      <a:pt x="678" y="370"/>
                    </a:lnTo>
                    <a:lnTo>
                      <a:pt x="686" y="368"/>
                    </a:lnTo>
                    <a:lnTo>
                      <a:pt x="694" y="366"/>
                    </a:lnTo>
                    <a:lnTo>
                      <a:pt x="700" y="362"/>
                    </a:lnTo>
                    <a:lnTo>
                      <a:pt x="706" y="358"/>
                    </a:lnTo>
                    <a:lnTo>
                      <a:pt x="710" y="352"/>
                    </a:lnTo>
                    <a:lnTo>
                      <a:pt x="712" y="346"/>
                    </a:lnTo>
                    <a:lnTo>
                      <a:pt x="714" y="338"/>
                    </a:lnTo>
                    <a:lnTo>
                      <a:pt x="728" y="224"/>
                    </a:lnTo>
                    <a:lnTo>
                      <a:pt x="730" y="216"/>
                    </a:lnTo>
                    <a:lnTo>
                      <a:pt x="734" y="208"/>
                    </a:lnTo>
                    <a:lnTo>
                      <a:pt x="738" y="204"/>
                    </a:lnTo>
                    <a:lnTo>
                      <a:pt x="744" y="200"/>
                    </a:lnTo>
                    <a:lnTo>
                      <a:pt x="750" y="196"/>
                    </a:lnTo>
                    <a:lnTo>
                      <a:pt x="756" y="196"/>
                    </a:lnTo>
                    <a:lnTo>
                      <a:pt x="764" y="196"/>
                    </a:lnTo>
                    <a:lnTo>
                      <a:pt x="770" y="198"/>
                    </a:lnTo>
                    <a:lnTo>
                      <a:pt x="878" y="244"/>
                    </a:lnTo>
                    <a:lnTo>
                      <a:pt x="884" y="246"/>
                    </a:lnTo>
                    <a:lnTo>
                      <a:pt x="892" y="246"/>
                    </a:lnTo>
                    <a:lnTo>
                      <a:pt x="900" y="246"/>
                    </a:lnTo>
                    <a:lnTo>
                      <a:pt x="906" y="244"/>
                    </a:lnTo>
                    <a:lnTo>
                      <a:pt x="912" y="240"/>
                    </a:lnTo>
                    <a:lnTo>
                      <a:pt x="918" y="234"/>
                    </a:lnTo>
                    <a:lnTo>
                      <a:pt x="922" y="228"/>
                    </a:lnTo>
                    <a:lnTo>
                      <a:pt x="926" y="220"/>
                    </a:lnTo>
                    <a:lnTo>
                      <a:pt x="960" y="110"/>
                    </a:lnTo>
                    <a:lnTo>
                      <a:pt x="962" y="104"/>
                    </a:lnTo>
                    <a:lnTo>
                      <a:pt x="968" y="98"/>
                    </a:lnTo>
                    <a:lnTo>
                      <a:pt x="972" y="94"/>
                    </a:lnTo>
                    <a:lnTo>
                      <a:pt x="978" y="90"/>
                    </a:lnTo>
                    <a:lnTo>
                      <a:pt x="984" y="88"/>
                    </a:lnTo>
                    <a:lnTo>
                      <a:pt x="992" y="88"/>
                    </a:lnTo>
                    <a:lnTo>
                      <a:pt x="998" y="90"/>
                    </a:lnTo>
                    <a:lnTo>
                      <a:pt x="1006" y="94"/>
                    </a:lnTo>
                    <a:lnTo>
                      <a:pt x="1102" y="156"/>
                    </a:lnTo>
                    <a:lnTo>
                      <a:pt x="1110" y="160"/>
                    </a:lnTo>
                    <a:lnTo>
                      <a:pt x="1116" y="162"/>
                    </a:lnTo>
                    <a:lnTo>
                      <a:pt x="1124" y="162"/>
                    </a:lnTo>
                    <a:lnTo>
                      <a:pt x="1132" y="162"/>
                    </a:lnTo>
                    <a:lnTo>
                      <a:pt x="1138" y="158"/>
                    </a:lnTo>
                    <a:lnTo>
                      <a:pt x="1144" y="154"/>
                    </a:lnTo>
                    <a:lnTo>
                      <a:pt x="1150" y="150"/>
                    </a:lnTo>
                    <a:lnTo>
                      <a:pt x="1154" y="142"/>
                    </a:lnTo>
                    <a:lnTo>
                      <a:pt x="1206" y="40"/>
                    </a:lnTo>
                    <a:lnTo>
                      <a:pt x="1210" y="34"/>
                    </a:lnTo>
                    <a:lnTo>
                      <a:pt x="1216" y="28"/>
                    </a:lnTo>
                    <a:lnTo>
                      <a:pt x="1222" y="26"/>
                    </a:lnTo>
                    <a:lnTo>
                      <a:pt x="1228" y="24"/>
                    </a:lnTo>
                    <a:lnTo>
                      <a:pt x="1234" y="22"/>
                    </a:lnTo>
                    <a:lnTo>
                      <a:pt x="1242" y="24"/>
                    </a:lnTo>
                    <a:lnTo>
                      <a:pt x="1248" y="28"/>
                    </a:lnTo>
                    <a:lnTo>
                      <a:pt x="1254" y="32"/>
                    </a:lnTo>
                    <a:lnTo>
                      <a:pt x="1338" y="110"/>
                    </a:lnTo>
                    <a:lnTo>
                      <a:pt x="1346" y="116"/>
                    </a:lnTo>
                    <a:lnTo>
                      <a:pt x="1352" y="118"/>
                    </a:lnTo>
                    <a:lnTo>
                      <a:pt x="1360" y="120"/>
                    </a:lnTo>
                    <a:lnTo>
                      <a:pt x="1366" y="120"/>
                    </a:lnTo>
                    <a:lnTo>
                      <a:pt x="1374" y="118"/>
                    </a:lnTo>
                    <a:lnTo>
                      <a:pt x="1380" y="116"/>
                    </a:lnTo>
                    <a:lnTo>
                      <a:pt x="1386" y="112"/>
                    </a:lnTo>
                    <a:lnTo>
                      <a:pt x="1392" y="106"/>
                    </a:lnTo>
                    <a:lnTo>
                      <a:pt x="1462" y="14"/>
                    </a:lnTo>
                    <a:close/>
                  </a:path>
                </a:pathLst>
              </a:custGeom>
              <a:solidFill>
                <a:schemeClr val="bg1"/>
              </a:solidFill>
              <a:ln w="38100">
                <a:solidFill>
                  <a:srgbClr val="6ba42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5" name="Freeform 7"/>
              <p:cNvSpPr/>
              <p:nvPr/>
            </p:nvSpPr>
            <p:spPr>
              <a:xfrm>
                <a:off x="2989800" y="5149440"/>
                <a:ext cx="814680" cy="813600"/>
              </a:xfrm>
              <a:custGeom>
                <a:avLst/>
                <a:gdLst>
                  <a:gd name="textAreaLeft" fmla="*/ 0 w 814680"/>
                  <a:gd name="textAreaRight" fmla="*/ 815040 w 814680"/>
                  <a:gd name="textAreaTop" fmla="*/ 0 h 813600"/>
                  <a:gd name="textAreaBottom" fmla="*/ 813960 h 813600"/>
                </a:gdLst>
                <a:ahLst/>
                <a:rect l="textAreaLeft" t="textAreaTop" r="textAreaRight" b="textAreaBottom"/>
                <a:pathLst>
                  <a:path w="1680" h="1680">
                    <a:moveTo>
                      <a:pt x="1680" y="840"/>
                    </a:moveTo>
                    <a:lnTo>
                      <a:pt x="1680" y="840"/>
                    </a:lnTo>
                    <a:lnTo>
                      <a:pt x="1680" y="884"/>
                    </a:lnTo>
                    <a:lnTo>
                      <a:pt x="1676" y="926"/>
                    </a:lnTo>
                    <a:lnTo>
                      <a:pt x="1672" y="968"/>
                    </a:lnTo>
                    <a:lnTo>
                      <a:pt x="1664" y="1010"/>
                    </a:lnTo>
                    <a:lnTo>
                      <a:pt x="1654" y="1050"/>
                    </a:lnTo>
                    <a:lnTo>
                      <a:pt x="1642" y="1090"/>
                    </a:lnTo>
                    <a:lnTo>
                      <a:pt x="1630" y="1130"/>
                    </a:lnTo>
                    <a:lnTo>
                      <a:pt x="1614" y="1168"/>
                    </a:lnTo>
                    <a:lnTo>
                      <a:pt x="1598" y="1204"/>
                    </a:lnTo>
                    <a:lnTo>
                      <a:pt x="1580" y="1240"/>
                    </a:lnTo>
                    <a:lnTo>
                      <a:pt x="1560" y="1276"/>
                    </a:lnTo>
                    <a:lnTo>
                      <a:pt x="1538" y="1310"/>
                    </a:lnTo>
                    <a:lnTo>
                      <a:pt x="1514" y="1342"/>
                    </a:lnTo>
                    <a:lnTo>
                      <a:pt x="1488" y="1374"/>
                    </a:lnTo>
                    <a:lnTo>
                      <a:pt x="1462" y="1404"/>
                    </a:lnTo>
                    <a:lnTo>
                      <a:pt x="1434" y="1434"/>
                    </a:lnTo>
                    <a:lnTo>
                      <a:pt x="1406" y="1462"/>
                    </a:lnTo>
                    <a:lnTo>
                      <a:pt x="1376" y="1488"/>
                    </a:lnTo>
                    <a:lnTo>
                      <a:pt x="1344" y="1514"/>
                    </a:lnTo>
                    <a:lnTo>
                      <a:pt x="1310" y="1536"/>
                    </a:lnTo>
                    <a:lnTo>
                      <a:pt x="1276" y="1558"/>
                    </a:lnTo>
                    <a:lnTo>
                      <a:pt x="1242" y="1578"/>
                    </a:lnTo>
                    <a:lnTo>
                      <a:pt x="1204" y="1598"/>
                    </a:lnTo>
                    <a:lnTo>
                      <a:pt x="1168" y="1614"/>
                    </a:lnTo>
                    <a:lnTo>
                      <a:pt x="1130" y="1630"/>
                    </a:lnTo>
                    <a:lnTo>
                      <a:pt x="1090" y="1642"/>
                    </a:lnTo>
                    <a:lnTo>
                      <a:pt x="1050" y="1654"/>
                    </a:lnTo>
                    <a:lnTo>
                      <a:pt x="1010" y="1664"/>
                    </a:lnTo>
                    <a:lnTo>
                      <a:pt x="968" y="1670"/>
                    </a:lnTo>
                    <a:lnTo>
                      <a:pt x="926" y="1676"/>
                    </a:lnTo>
                    <a:lnTo>
                      <a:pt x="884" y="1680"/>
                    </a:lnTo>
                    <a:lnTo>
                      <a:pt x="840" y="1680"/>
                    </a:lnTo>
                    <a:lnTo>
                      <a:pt x="798" y="1680"/>
                    </a:lnTo>
                    <a:lnTo>
                      <a:pt x="754" y="1676"/>
                    </a:lnTo>
                    <a:lnTo>
                      <a:pt x="712" y="1670"/>
                    </a:lnTo>
                    <a:lnTo>
                      <a:pt x="672" y="1664"/>
                    </a:lnTo>
                    <a:lnTo>
                      <a:pt x="630" y="1654"/>
                    </a:lnTo>
                    <a:lnTo>
                      <a:pt x="590" y="1642"/>
                    </a:lnTo>
                    <a:lnTo>
                      <a:pt x="552" y="1630"/>
                    </a:lnTo>
                    <a:lnTo>
                      <a:pt x="514" y="1614"/>
                    </a:lnTo>
                    <a:lnTo>
                      <a:pt x="476" y="1598"/>
                    </a:lnTo>
                    <a:lnTo>
                      <a:pt x="440" y="1578"/>
                    </a:lnTo>
                    <a:lnTo>
                      <a:pt x="406" y="1558"/>
                    </a:lnTo>
                    <a:lnTo>
                      <a:pt x="372" y="1536"/>
                    </a:lnTo>
                    <a:lnTo>
                      <a:pt x="338" y="1514"/>
                    </a:lnTo>
                    <a:lnTo>
                      <a:pt x="306" y="1488"/>
                    </a:lnTo>
                    <a:lnTo>
                      <a:pt x="276" y="1462"/>
                    </a:lnTo>
                    <a:lnTo>
                      <a:pt x="246" y="1434"/>
                    </a:lnTo>
                    <a:lnTo>
                      <a:pt x="218" y="1404"/>
                    </a:lnTo>
                    <a:lnTo>
                      <a:pt x="192" y="1374"/>
                    </a:lnTo>
                    <a:lnTo>
                      <a:pt x="168" y="1342"/>
                    </a:lnTo>
                    <a:lnTo>
                      <a:pt x="144" y="1310"/>
                    </a:lnTo>
                    <a:lnTo>
                      <a:pt x="122" y="1276"/>
                    </a:lnTo>
                    <a:lnTo>
                      <a:pt x="102" y="1240"/>
                    </a:lnTo>
                    <a:lnTo>
                      <a:pt x="84" y="1204"/>
                    </a:lnTo>
                    <a:lnTo>
                      <a:pt x="66" y="1168"/>
                    </a:lnTo>
                    <a:lnTo>
                      <a:pt x="52" y="1130"/>
                    </a:lnTo>
                    <a:lnTo>
                      <a:pt x="38" y="1090"/>
                    </a:lnTo>
                    <a:lnTo>
                      <a:pt x="28" y="1050"/>
                    </a:lnTo>
                    <a:lnTo>
                      <a:pt x="18" y="1010"/>
                    </a:lnTo>
                    <a:lnTo>
                      <a:pt x="10" y="968"/>
                    </a:lnTo>
                    <a:lnTo>
                      <a:pt x="6" y="926"/>
                    </a:lnTo>
                    <a:lnTo>
                      <a:pt x="2" y="884"/>
                    </a:lnTo>
                    <a:lnTo>
                      <a:pt x="0" y="840"/>
                    </a:lnTo>
                    <a:lnTo>
                      <a:pt x="2" y="796"/>
                    </a:lnTo>
                    <a:lnTo>
                      <a:pt x="6" y="754"/>
                    </a:lnTo>
                    <a:lnTo>
                      <a:pt x="10" y="712"/>
                    </a:lnTo>
                    <a:lnTo>
                      <a:pt x="18" y="670"/>
                    </a:lnTo>
                    <a:lnTo>
                      <a:pt x="28" y="630"/>
                    </a:lnTo>
                    <a:lnTo>
                      <a:pt x="38" y="590"/>
                    </a:lnTo>
                    <a:lnTo>
                      <a:pt x="52" y="552"/>
                    </a:lnTo>
                    <a:lnTo>
                      <a:pt x="66" y="514"/>
                    </a:lnTo>
                    <a:lnTo>
                      <a:pt x="84" y="476"/>
                    </a:lnTo>
                    <a:lnTo>
                      <a:pt x="102" y="440"/>
                    </a:lnTo>
                    <a:lnTo>
                      <a:pt x="122" y="404"/>
                    </a:lnTo>
                    <a:lnTo>
                      <a:pt x="144" y="370"/>
                    </a:lnTo>
                    <a:lnTo>
                      <a:pt x="168" y="338"/>
                    </a:lnTo>
                    <a:lnTo>
                      <a:pt x="192" y="306"/>
                    </a:lnTo>
                    <a:lnTo>
                      <a:pt x="218" y="276"/>
                    </a:lnTo>
                    <a:lnTo>
                      <a:pt x="246" y="246"/>
                    </a:lnTo>
                    <a:lnTo>
                      <a:pt x="276" y="218"/>
                    </a:lnTo>
                    <a:lnTo>
                      <a:pt x="306" y="192"/>
                    </a:lnTo>
                    <a:lnTo>
                      <a:pt x="338" y="168"/>
                    </a:lnTo>
                    <a:lnTo>
                      <a:pt x="372" y="144"/>
                    </a:lnTo>
                    <a:lnTo>
                      <a:pt x="406" y="122"/>
                    </a:lnTo>
                    <a:lnTo>
                      <a:pt x="440" y="102"/>
                    </a:lnTo>
                    <a:lnTo>
                      <a:pt x="476" y="84"/>
                    </a:lnTo>
                    <a:lnTo>
                      <a:pt x="514" y="66"/>
                    </a:lnTo>
                    <a:lnTo>
                      <a:pt x="552" y="52"/>
                    </a:lnTo>
                    <a:lnTo>
                      <a:pt x="590" y="38"/>
                    </a:lnTo>
                    <a:lnTo>
                      <a:pt x="630" y="26"/>
                    </a:lnTo>
                    <a:lnTo>
                      <a:pt x="672" y="18"/>
                    </a:lnTo>
                    <a:lnTo>
                      <a:pt x="712" y="10"/>
                    </a:lnTo>
                    <a:lnTo>
                      <a:pt x="754" y="4"/>
                    </a:lnTo>
                    <a:lnTo>
                      <a:pt x="798" y="2"/>
                    </a:lnTo>
                    <a:lnTo>
                      <a:pt x="840" y="0"/>
                    </a:lnTo>
                    <a:lnTo>
                      <a:pt x="884" y="2"/>
                    </a:lnTo>
                    <a:lnTo>
                      <a:pt x="926" y="4"/>
                    </a:lnTo>
                    <a:lnTo>
                      <a:pt x="968" y="10"/>
                    </a:lnTo>
                    <a:lnTo>
                      <a:pt x="1010" y="18"/>
                    </a:lnTo>
                    <a:lnTo>
                      <a:pt x="1050" y="26"/>
                    </a:lnTo>
                    <a:lnTo>
                      <a:pt x="1090" y="38"/>
                    </a:lnTo>
                    <a:lnTo>
                      <a:pt x="1130" y="52"/>
                    </a:lnTo>
                    <a:lnTo>
                      <a:pt x="1168" y="66"/>
                    </a:lnTo>
                    <a:lnTo>
                      <a:pt x="1204" y="84"/>
                    </a:lnTo>
                    <a:lnTo>
                      <a:pt x="1242" y="102"/>
                    </a:lnTo>
                    <a:lnTo>
                      <a:pt x="1276" y="122"/>
                    </a:lnTo>
                    <a:lnTo>
                      <a:pt x="1310" y="144"/>
                    </a:lnTo>
                    <a:lnTo>
                      <a:pt x="1344" y="168"/>
                    </a:lnTo>
                    <a:lnTo>
                      <a:pt x="1376" y="192"/>
                    </a:lnTo>
                    <a:lnTo>
                      <a:pt x="1406" y="218"/>
                    </a:lnTo>
                    <a:lnTo>
                      <a:pt x="1434" y="246"/>
                    </a:lnTo>
                    <a:lnTo>
                      <a:pt x="1462" y="276"/>
                    </a:lnTo>
                    <a:lnTo>
                      <a:pt x="1488" y="306"/>
                    </a:lnTo>
                    <a:lnTo>
                      <a:pt x="1514" y="338"/>
                    </a:lnTo>
                    <a:lnTo>
                      <a:pt x="1538" y="370"/>
                    </a:lnTo>
                    <a:lnTo>
                      <a:pt x="1560" y="404"/>
                    </a:lnTo>
                    <a:lnTo>
                      <a:pt x="1580" y="440"/>
                    </a:lnTo>
                    <a:lnTo>
                      <a:pt x="1598" y="476"/>
                    </a:lnTo>
                    <a:lnTo>
                      <a:pt x="1614" y="514"/>
                    </a:lnTo>
                    <a:lnTo>
                      <a:pt x="1630" y="552"/>
                    </a:lnTo>
                    <a:lnTo>
                      <a:pt x="1642" y="590"/>
                    </a:lnTo>
                    <a:lnTo>
                      <a:pt x="1654" y="630"/>
                    </a:lnTo>
                    <a:lnTo>
                      <a:pt x="1664" y="670"/>
                    </a:lnTo>
                    <a:lnTo>
                      <a:pt x="1672" y="712"/>
                    </a:lnTo>
                    <a:lnTo>
                      <a:pt x="1676" y="754"/>
                    </a:lnTo>
                    <a:lnTo>
                      <a:pt x="1680" y="796"/>
                    </a:lnTo>
                    <a:lnTo>
                      <a:pt x="1680" y="840"/>
                    </a:lnTo>
                    <a:close/>
                  </a:path>
                </a:pathLst>
              </a:custGeom>
              <a:solidFill>
                <a:srgbClr val="f9b101"/>
              </a:solidFill>
              <a:ln w="1270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6" name="Text Box 46"/>
              <p:cNvSpPr/>
              <p:nvPr/>
            </p:nvSpPr>
            <p:spPr>
              <a:xfrm>
                <a:off x="3302640" y="5389560"/>
                <a:ext cx="63360" cy="95040"/>
              </a:xfrm>
              <a:prstGeom prst="rect">
                <a:avLst/>
              </a:pr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7" name="Freeform 45"/>
              <p:cNvSpPr/>
              <p:nvPr/>
            </p:nvSpPr>
            <p:spPr>
              <a:xfrm>
                <a:off x="2888280" y="5052240"/>
                <a:ext cx="1023120" cy="1023120"/>
              </a:xfrm>
              <a:custGeom>
                <a:avLst/>
                <a:gdLst>
                  <a:gd name="textAreaLeft" fmla="*/ 0 w 1023120"/>
                  <a:gd name="textAreaRight" fmla="*/ 1023480 w 1023120"/>
                  <a:gd name="textAreaTop" fmla="*/ 0 h 1023120"/>
                  <a:gd name="textAreaBottom" fmla="*/ 1023480 h 1023120"/>
                </a:gdLst>
                <a:ahLst/>
                <a:rect l="textAreaLeft" t="textAreaTop" r="textAreaRight" b="textAreaBottom"/>
                <a:pathLst>
                  <a:path w="2972" h="2972">
                    <a:moveTo>
                      <a:pt x="1462" y="14"/>
                    </a:moveTo>
                    <a:lnTo>
                      <a:pt x="1462" y="14"/>
                    </a:lnTo>
                    <a:lnTo>
                      <a:pt x="1468" y="8"/>
                    </a:lnTo>
                    <a:lnTo>
                      <a:pt x="1474" y="4"/>
                    </a:lnTo>
                    <a:lnTo>
                      <a:pt x="1480" y="2"/>
                    </a:lnTo>
                    <a:lnTo>
                      <a:pt x="1486" y="0"/>
                    </a:lnTo>
                    <a:lnTo>
                      <a:pt x="1492" y="2"/>
                    </a:lnTo>
                    <a:lnTo>
                      <a:pt x="1498" y="4"/>
                    </a:lnTo>
                    <a:lnTo>
                      <a:pt x="1504" y="8"/>
                    </a:lnTo>
                    <a:lnTo>
                      <a:pt x="1510" y="14"/>
                    </a:lnTo>
                    <a:lnTo>
                      <a:pt x="1580" y="106"/>
                    </a:lnTo>
                    <a:lnTo>
                      <a:pt x="1586" y="112"/>
                    </a:lnTo>
                    <a:lnTo>
                      <a:pt x="1592" y="116"/>
                    </a:lnTo>
                    <a:lnTo>
                      <a:pt x="1598" y="118"/>
                    </a:lnTo>
                    <a:lnTo>
                      <a:pt x="1606" y="120"/>
                    </a:lnTo>
                    <a:lnTo>
                      <a:pt x="1612" y="120"/>
                    </a:lnTo>
                    <a:lnTo>
                      <a:pt x="1620" y="118"/>
                    </a:lnTo>
                    <a:lnTo>
                      <a:pt x="1626" y="116"/>
                    </a:lnTo>
                    <a:lnTo>
                      <a:pt x="1634" y="110"/>
                    </a:lnTo>
                    <a:lnTo>
                      <a:pt x="1718" y="32"/>
                    </a:lnTo>
                    <a:lnTo>
                      <a:pt x="1724" y="28"/>
                    </a:lnTo>
                    <a:lnTo>
                      <a:pt x="1730" y="24"/>
                    </a:lnTo>
                    <a:lnTo>
                      <a:pt x="1738" y="22"/>
                    </a:lnTo>
                    <a:lnTo>
                      <a:pt x="1744" y="24"/>
                    </a:lnTo>
                    <a:lnTo>
                      <a:pt x="1750" y="26"/>
                    </a:lnTo>
                    <a:lnTo>
                      <a:pt x="1756" y="28"/>
                    </a:lnTo>
                    <a:lnTo>
                      <a:pt x="1762" y="34"/>
                    </a:lnTo>
                    <a:lnTo>
                      <a:pt x="1766" y="40"/>
                    </a:lnTo>
                    <a:lnTo>
                      <a:pt x="1818" y="142"/>
                    </a:lnTo>
                    <a:lnTo>
                      <a:pt x="1822" y="150"/>
                    </a:lnTo>
                    <a:lnTo>
                      <a:pt x="1828" y="154"/>
                    </a:lnTo>
                    <a:lnTo>
                      <a:pt x="1834" y="158"/>
                    </a:lnTo>
                    <a:lnTo>
                      <a:pt x="1840" y="162"/>
                    </a:lnTo>
                    <a:lnTo>
                      <a:pt x="1848" y="162"/>
                    </a:lnTo>
                    <a:lnTo>
                      <a:pt x="1856" y="162"/>
                    </a:lnTo>
                    <a:lnTo>
                      <a:pt x="1862" y="160"/>
                    </a:lnTo>
                    <a:lnTo>
                      <a:pt x="1870" y="156"/>
                    </a:lnTo>
                    <a:lnTo>
                      <a:pt x="1966" y="94"/>
                    </a:lnTo>
                    <a:lnTo>
                      <a:pt x="1974" y="90"/>
                    </a:lnTo>
                    <a:lnTo>
                      <a:pt x="1980" y="88"/>
                    </a:lnTo>
                    <a:lnTo>
                      <a:pt x="1988" y="88"/>
                    </a:lnTo>
                    <a:lnTo>
                      <a:pt x="1994" y="90"/>
                    </a:lnTo>
                    <a:lnTo>
                      <a:pt x="2000" y="94"/>
                    </a:lnTo>
                    <a:lnTo>
                      <a:pt x="2006" y="98"/>
                    </a:lnTo>
                    <a:lnTo>
                      <a:pt x="2010" y="104"/>
                    </a:lnTo>
                    <a:lnTo>
                      <a:pt x="2012" y="110"/>
                    </a:lnTo>
                    <a:lnTo>
                      <a:pt x="2046" y="220"/>
                    </a:lnTo>
                    <a:lnTo>
                      <a:pt x="2050" y="228"/>
                    </a:lnTo>
                    <a:lnTo>
                      <a:pt x="2054" y="234"/>
                    </a:lnTo>
                    <a:lnTo>
                      <a:pt x="2060" y="240"/>
                    </a:lnTo>
                    <a:lnTo>
                      <a:pt x="2066" y="244"/>
                    </a:lnTo>
                    <a:lnTo>
                      <a:pt x="2072" y="246"/>
                    </a:lnTo>
                    <a:lnTo>
                      <a:pt x="2080" y="246"/>
                    </a:lnTo>
                    <a:lnTo>
                      <a:pt x="2088" y="246"/>
                    </a:lnTo>
                    <a:lnTo>
                      <a:pt x="2094" y="244"/>
                    </a:lnTo>
                    <a:lnTo>
                      <a:pt x="2202" y="198"/>
                    </a:lnTo>
                    <a:lnTo>
                      <a:pt x="2208" y="196"/>
                    </a:lnTo>
                    <a:lnTo>
                      <a:pt x="2216" y="196"/>
                    </a:lnTo>
                    <a:lnTo>
                      <a:pt x="2222" y="196"/>
                    </a:lnTo>
                    <a:lnTo>
                      <a:pt x="2228" y="200"/>
                    </a:lnTo>
                    <a:lnTo>
                      <a:pt x="2234" y="204"/>
                    </a:lnTo>
                    <a:lnTo>
                      <a:pt x="2238" y="208"/>
                    </a:lnTo>
                    <a:lnTo>
                      <a:pt x="2242" y="216"/>
                    </a:lnTo>
                    <a:lnTo>
                      <a:pt x="2244" y="224"/>
                    </a:lnTo>
                    <a:lnTo>
                      <a:pt x="2258" y="338"/>
                    </a:lnTo>
                    <a:lnTo>
                      <a:pt x="2260" y="346"/>
                    </a:lnTo>
                    <a:lnTo>
                      <a:pt x="2262" y="352"/>
                    </a:lnTo>
                    <a:lnTo>
                      <a:pt x="2266" y="358"/>
                    </a:lnTo>
                    <a:lnTo>
                      <a:pt x="2272" y="362"/>
                    </a:lnTo>
                    <a:lnTo>
                      <a:pt x="2278" y="366"/>
                    </a:lnTo>
                    <a:lnTo>
                      <a:pt x="2286" y="368"/>
                    </a:lnTo>
                    <a:lnTo>
                      <a:pt x="2294" y="370"/>
                    </a:lnTo>
                    <a:lnTo>
                      <a:pt x="2302" y="368"/>
                    </a:lnTo>
                    <a:lnTo>
                      <a:pt x="2414" y="342"/>
                    </a:lnTo>
                    <a:lnTo>
                      <a:pt x="2422" y="342"/>
                    </a:lnTo>
                    <a:lnTo>
                      <a:pt x="2428" y="342"/>
                    </a:lnTo>
                    <a:lnTo>
                      <a:pt x="2436" y="344"/>
                    </a:lnTo>
                    <a:lnTo>
                      <a:pt x="2440" y="348"/>
                    </a:lnTo>
                    <a:lnTo>
                      <a:pt x="2446" y="352"/>
                    </a:lnTo>
                    <a:lnTo>
                      <a:pt x="2448" y="358"/>
                    </a:lnTo>
                    <a:lnTo>
                      <a:pt x="2450" y="366"/>
                    </a:lnTo>
                    <a:lnTo>
                      <a:pt x="2450" y="374"/>
                    </a:lnTo>
                    <a:lnTo>
                      <a:pt x="2446" y="488"/>
                    </a:lnTo>
                    <a:lnTo>
                      <a:pt x="2446" y="496"/>
                    </a:lnTo>
                    <a:lnTo>
                      <a:pt x="2448" y="504"/>
                    </a:lnTo>
                    <a:lnTo>
                      <a:pt x="2450" y="510"/>
                    </a:lnTo>
                    <a:lnTo>
                      <a:pt x="2456" y="516"/>
                    </a:lnTo>
                    <a:lnTo>
                      <a:pt x="2462" y="520"/>
                    </a:lnTo>
                    <a:lnTo>
                      <a:pt x="2468" y="524"/>
                    </a:lnTo>
                    <a:lnTo>
                      <a:pt x="2476" y="526"/>
                    </a:lnTo>
                    <a:lnTo>
                      <a:pt x="2484" y="526"/>
                    </a:lnTo>
                    <a:lnTo>
                      <a:pt x="2598" y="522"/>
                    </a:lnTo>
                    <a:lnTo>
                      <a:pt x="2606" y="522"/>
                    </a:lnTo>
                    <a:lnTo>
                      <a:pt x="2614" y="524"/>
                    </a:lnTo>
                    <a:lnTo>
                      <a:pt x="2620" y="526"/>
                    </a:lnTo>
                    <a:lnTo>
                      <a:pt x="2624" y="532"/>
                    </a:lnTo>
                    <a:lnTo>
                      <a:pt x="2628" y="536"/>
                    </a:lnTo>
                    <a:lnTo>
                      <a:pt x="2630" y="544"/>
                    </a:lnTo>
                    <a:lnTo>
                      <a:pt x="2630" y="550"/>
                    </a:lnTo>
                    <a:lnTo>
                      <a:pt x="2630" y="558"/>
                    </a:lnTo>
                    <a:lnTo>
                      <a:pt x="2604" y="670"/>
                    </a:lnTo>
                    <a:lnTo>
                      <a:pt x="2602" y="678"/>
                    </a:lnTo>
                    <a:lnTo>
                      <a:pt x="2604" y="686"/>
                    </a:lnTo>
                    <a:lnTo>
                      <a:pt x="2606" y="694"/>
                    </a:lnTo>
                    <a:lnTo>
                      <a:pt x="2610" y="700"/>
                    </a:lnTo>
                    <a:lnTo>
                      <a:pt x="2614" y="704"/>
                    </a:lnTo>
                    <a:lnTo>
                      <a:pt x="2620" y="710"/>
                    </a:lnTo>
                    <a:lnTo>
                      <a:pt x="2626" y="712"/>
                    </a:lnTo>
                    <a:lnTo>
                      <a:pt x="2634" y="714"/>
                    </a:lnTo>
                    <a:lnTo>
                      <a:pt x="2748" y="728"/>
                    </a:lnTo>
                    <a:lnTo>
                      <a:pt x="2756" y="730"/>
                    </a:lnTo>
                    <a:lnTo>
                      <a:pt x="2764" y="734"/>
                    </a:lnTo>
                    <a:lnTo>
                      <a:pt x="2768" y="738"/>
                    </a:lnTo>
                    <a:lnTo>
                      <a:pt x="2772" y="744"/>
                    </a:lnTo>
                    <a:lnTo>
                      <a:pt x="2774" y="750"/>
                    </a:lnTo>
                    <a:lnTo>
                      <a:pt x="2776" y="756"/>
                    </a:lnTo>
                    <a:lnTo>
                      <a:pt x="2776" y="764"/>
                    </a:lnTo>
                    <a:lnTo>
                      <a:pt x="2774" y="770"/>
                    </a:lnTo>
                    <a:lnTo>
                      <a:pt x="2728" y="876"/>
                    </a:lnTo>
                    <a:lnTo>
                      <a:pt x="2726" y="884"/>
                    </a:lnTo>
                    <a:lnTo>
                      <a:pt x="2726" y="892"/>
                    </a:lnTo>
                    <a:lnTo>
                      <a:pt x="2726" y="900"/>
                    </a:lnTo>
                    <a:lnTo>
                      <a:pt x="2728" y="906"/>
                    </a:lnTo>
                    <a:lnTo>
                      <a:pt x="2732" y="912"/>
                    </a:lnTo>
                    <a:lnTo>
                      <a:pt x="2738" y="918"/>
                    </a:lnTo>
                    <a:lnTo>
                      <a:pt x="2744" y="922"/>
                    </a:lnTo>
                    <a:lnTo>
                      <a:pt x="2752" y="926"/>
                    </a:lnTo>
                    <a:lnTo>
                      <a:pt x="2862" y="960"/>
                    </a:lnTo>
                    <a:lnTo>
                      <a:pt x="2868" y="962"/>
                    </a:lnTo>
                    <a:lnTo>
                      <a:pt x="2874" y="966"/>
                    </a:lnTo>
                    <a:lnTo>
                      <a:pt x="2878" y="972"/>
                    </a:lnTo>
                    <a:lnTo>
                      <a:pt x="2882" y="978"/>
                    </a:lnTo>
                    <a:lnTo>
                      <a:pt x="2884" y="984"/>
                    </a:lnTo>
                    <a:lnTo>
                      <a:pt x="2884" y="992"/>
                    </a:lnTo>
                    <a:lnTo>
                      <a:pt x="2882" y="998"/>
                    </a:lnTo>
                    <a:lnTo>
                      <a:pt x="2878" y="1006"/>
                    </a:lnTo>
                    <a:lnTo>
                      <a:pt x="2816" y="1102"/>
                    </a:lnTo>
                    <a:lnTo>
                      <a:pt x="2812" y="1110"/>
                    </a:lnTo>
                    <a:lnTo>
                      <a:pt x="2810" y="1116"/>
                    </a:lnTo>
                    <a:lnTo>
                      <a:pt x="2810" y="1124"/>
                    </a:lnTo>
                    <a:lnTo>
                      <a:pt x="2810" y="1132"/>
                    </a:lnTo>
                    <a:lnTo>
                      <a:pt x="2814" y="1138"/>
                    </a:lnTo>
                    <a:lnTo>
                      <a:pt x="2818" y="1144"/>
                    </a:lnTo>
                    <a:lnTo>
                      <a:pt x="2822" y="1150"/>
                    </a:lnTo>
                    <a:lnTo>
                      <a:pt x="2830" y="1154"/>
                    </a:lnTo>
                    <a:lnTo>
                      <a:pt x="2932" y="1206"/>
                    </a:lnTo>
                    <a:lnTo>
                      <a:pt x="2938" y="1210"/>
                    </a:lnTo>
                    <a:lnTo>
                      <a:pt x="2944" y="1216"/>
                    </a:lnTo>
                    <a:lnTo>
                      <a:pt x="2946" y="1222"/>
                    </a:lnTo>
                    <a:lnTo>
                      <a:pt x="2948" y="1228"/>
                    </a:lnTo>
                    <a:lnTo>
                      <a:pt x="2950" y="1234"/>
                    </a:lnTo>
                    <a:lnTo>
                      <a:pt x="2948" y="1242"/>
                    </a:lnTo>
                    <a:lnTo>
                      <a:pt x="2944" y="1248"/>
                    </a:lnTo>
                    <a:lnTo>
                      <a:pt x="2940" y="1254"/>
                    </a:lnTo>
                    <a:lnTo>
                      <a:pt x="2862" y="1338"/>
                    </a:lnTo>
                    <a:lnTo>
                      <a:pt x="2856" y="1344"/>
                    </a:lnTo>
                    <a:lnTo>
                      <a:pt x="2854" y="1352"/>
                    </a:lnTo>
                    <a:lnTo>
                      <a:pt x="2852" y="1360"/>
                    </a:lnTo>
                    <a:lnTo>
                      <a:pt x="2852" y="1366"/>
                    </a:lnTo>
                    <a:lnTo>
                      <a:pt x="2854" y="1374"/>
                    </a:lnTo>
                    <a:lnTo>
                      <a:pt x="2856" y="1380"/>
                    </a:lnTo>
                    <a:lnTo>
                      <a:pt x="2860" y="1386"/>
                    </a:lnTo>
                    <a:lnTo>
                      <a:pt x="2866" y="1392"/>
                    </a:lnTo>
                    <a:lnTo>
                      <a:pt x="2958" y="1462"/>
                    </a:lnTo>
                    <a:lnTo>
                      <a:pt x="2964" y="1468"/>
                    </a:lnTo>
                    <a:lnTo>
                      <a:pt x="2968" y="1474"/>
                    </a:lnTo>
                    <a:lnTo>
                      <a:pt x="2970" y="1480"/>
                    </a:lnTo>
                    <a:lnTo>
                      <a:pt x="2972" y="1486"/>
                    </a:lnTo>
                    <a:lnTo>
                      <a:pt x="2970" y="1492"/>
                    </a:lnTo>
                    <a:lnTo>
                      <a:pt x="2968" y="1498"/>
                    </a:lnTo>
                    <a:lnTo>
                      <a:pt x="2964" y="1504"/>
                    </a:lnTo>
                    <a:lnTo>
                      <a:pt x="2958" y="1510"/>
                    </a:lnTo>
                    <a:lnTo>
                      <a:pt x="2866" y="1580"/>
                    </a:lnTo>
                    <a:lnTo>
                      <a:pt x="2860" y="1586"/>
                    </a:lnTo>
                    <a:lnTo>
                      <a:pt x="2856" y="1592"/>
                    </a:lnTo>
                    <a:lnTo>
                      <a:pt x="2854" y="1598"/>
                    </a:lnTo>
                    <a:lnTo>
                      <a:pt x="2852" y="1606"/>
                    </a:lnTo>
                    <a:lnTo>
                      <a:pt x="2852" y="1612"/>
                    </a:lnTo>
                    <a:lnTo>
                      <a:pt x="2854" y="1620"/>
                    </a:lnTo>
                    <a:lnTo>
                      <a:pt x="2856" y="1626"/>
                    </a:lnTo>
                    <a:lnTo>
                      <a:pt x="2862" y="1634"/>
                    </a:lnTo>
                    <a:lnTo>
                      <a:pt x="2940" y="1718"/>
                    </a:lnTo>
                    <a:lnTo>
                      <a:pt x="2944" y="1724"/>
                    </a:lnTo>
                    <a:lnTo>
                      <a:pt x="2948" y="1730"/>
                    </a:lnTo>
                    <a:lnTo>
                      <a:pt x="2950" y="1738"/>
                    </a:lnTo>
                    <a:lnTo>
                      <a:pt x="2948" y="1744"/>
                    </a:lnTo>
                    <a:lnTo>
                      <a:pt x="2946" y="1750"/>
                    </a:lnTo>
                    <a:lnTo>
                      <a:pt x="2944" y="1756"/>
                    </a:lnTo>
                    <a:lnTo>
                      <a:pt x="2938" y="1762"/>
                    </a:lnTo>
                    <a:lnTo>
                      <a:pt x="2932" y="1766"/>
                    </a:lnTo>
                    <a:lnTo>
                      <a:pt x="2830" y="1818"/>
                    </a:lnTo>
                    <a:lnTo>
                      <a:pt x="2822" y="1822"/>
                    </a:lnTo>
                    <a:lnTo>
                      <a:pt x="2818" y="1828"/>
                    </a:lnTo>
                    <a:lnTo>
                      <a:pt x="2814" y="1834"/>
                    </a:lnTo>
                    <a:lnTo>
                      <a:pt x="2810" y="1840"/>
                    </a:lnTo>
                    <a:lnTo>
                      <a:pt x="2810" y="1848"/>
                    </a:lnTo>
                    <a:lnTo>
                      <a:pt x="2810" y="1856"/>
                    </a:lnTo>
                    <a:lnTo>
                      <a:pt x="2812" y="1862"/>
                    </a:lnTo>
                    <a:lnTo>
                      <a:pt x="2816" y="1870"/>
                    </a:lnTo>
                    <a:lnTo>
                      <a:pt x="2878" y="1966"/>
                    </a:lnTo>
                    <a:lnTo>
                      <a:pt x="2882" y="1974"/>
                    </a:lnTo>
                    <a:lnTo>
                      <a:pt x="2884" y="1980"/>
                    </a:lnTo>
                    <a:lnTo>
                      <a:pt x="2884" y="1988"/>
                    </a:lnTo>
                    <a:lnTo>
                      <a:pt x="2882" y="1994"/>
                    </a:lnTo>
                    <a:lnTo>
                      <a:pt x="2878" y="2000"/>
                    </a:lnTo>
                    <a:lnTo>
                      <a:pt x="2874" y="2004"/>
                    </a:lnTo>
                    <a:lnTo>
                      <a:pt x="2868" y="2010"/>
                    </a:lnTo>
                    <a:lnTo>
                      <a:pt x="2862" y="2012"/>
                    </a:lnTo>
                    <a:lnTo>
                      <a:pt x="2752" y="2046"/>
                    </a:lnTo>
                    <a:lnTo>
                      <a:pt x="2744" y="2050"/>
                    </a:lnTo>
                    <a:lnTo>
                      <a:pt x="2738" y="2054"/>
                    </a:lnTo>
                    <a:lnTo>
                      <a:pt x="2732" y="2060"/>
                    </a:lnTo>
                    <a:lnTo>
                      <a:pt x="2728" y="2066"/>
                    </a:lnTo>
                    <a:lnTo>
                      <a:pt x="2726" y="2072"/>
                    </a:lnTo>
                    <a:lnTo>
                      <a:pt x="2726" y="2080"/>
                    </a:lnTo>
                    <a:lnTo>
                      <a:pt x="2726" y="2088"/>
                    </a:lnTo>
                    <a:lnTo>
                      <a:pt x="2728" y="2094"/>
                    </a:lnTo>
                    <a:lnTo>
                      <a:pt x="2774" y="2202"/>
                    </a:lnTo>
                    <a:lnTo>
                      <a:pt x="2776" y="2208"/>
                    </a:lnTo>
                    <a:lnTo>
                      <a:pt x="2776" y="2216"/>
                    </a:lnTo>
                    <a:lnTo>
                      <a:pt x="2774" y="2222"/>
                    </a:lnTo>
                    <a:lnTo>
                      <a:pt x="2772" y="2228"/>
                    </a:lnTo>
                    <a:lnTo>
                      <a:pt x="2768" y="2234"/>
                    </a:lnTo>
                    <a:lnTo>
                      <a:pt x="2764" y="2238"/>
                    </a:lnTo>
                    <a:lnTo>
                      <a:pt x="2756" y="2242"/>
                    </a:lnTo>
                    <a:lnTo>
                      <a:pt x="2748" y="2242"/>
                    </a:lnTo>
                    <a:lnTo>
                      <a:pt x="2634" y="2258"/>
                    </a:lnTo>
                    <a:lnTo>
                      <a:pt x="2626" y="2260"/>
                    </a:lnTo>
                    <a:lnTo>
                      <a:pt x="2620" y="2262"/>
                    </a:lnTo>
                    <a:lnTo>
                      <a:pt x="2614" y="2266"/>
                    </a:lnTo>
                    <a:lnTo>
                      <a:pt x="2610" y="2272"/>
                    </a:lnTo>
                    <a:lnTo>
                      <a:pt x="2606" y="2278"/>
                    </a:lnTo>
                    <a:lnTo>
                      <a:pt x="2604" y="2286"/>
                    </a:lnTo>
                    <a:lnTo>
                      <a:pt x="2602" y="2294"/>
                    </a:lnTo>
                    <a:lnTo>
                      <a:pt x="2604" y="2302"/>
                    </a:lnTo>
                    <a:lnTo>
                      <a:pt x="2630" y="2414"/>
                    </a:lnTo>
                    <a:lnTo>
                      <a:pt x="2630" y="2422"/>
                    </a:lnTo>
                    <a:lnTo>
                      <a:pt x="2630" y="2428"/>
                    </a:lnTo>
                    <a:lnTo>
                      <a:pt x="2628" y="2436"/>
                    </a:lnTo>
                    <a:lnTo>
                      <a:pt x="2624" y="2440"/>
                    </a:lnTo>
                    <a:lnTo>
                      <a:pt x="2620" y="2446"/>
                    </a:lnTo>
                    <a:lnTo>
                      <a:pt x="2614" y="2448"/>
                    </a:lnTo>
                    <a:lnTo>
                      <a:pt x="2606" y="2450"/>
                    </a:lnTo>
                    <a:lnTo>
                      <a:pt x="2598" y="2450"/>
                    </a:lnTo>
                    <a:lnTo>
                      <a:pt x="2484" y="2446"/>
                    </a:lnTo>
                    <a:lnTo>
                      <a:pt x="2476" y="2446"/>
                    </a:lnTo>
                    <a:lnTo>
                      <a:pt x="2468" y="2448"/>
                    </a:lnTo>
                    <a:lnTo>
                      <a:pt x="2462" y="2450"/>
                    </a:lnTo>
                    <a:lnTo>
                      <a:pt x="2456" y="2456"/>
                    </a:lnTo>
                    <a:lnTo>
                      <a:pt x="2450" y="2462"/>
                    </a:lnTo>
                    <a:lnTo>
                      <a:pt x="2448" y="2468"/>
                    </a:lnTo>
                    <a:lnTo>
                      <a:pt x="2446" y="2476"/>
                    </a:lnTo>
                    <a:lnTo>
                      <a:pt x="2446" y="2484"/>
                    </a:lnTo>
                    <a:lnTo>
                      <a:pt x="2450" y="2598"/>
                    </a:lnTo>
                    <a:lnTo>
                      <a:pt x="2450" y="2606"/>
                    </a:lnTo>
                    <a:lnTo>
                      <a:pt x="2448" y="2612"/>
                    </a:lnTo>
                    <a:lnTo>
                      <a:pt x="2446" y="2618"/>
                    </a:lnTo>
                    <a:lnTo>
                      <a:pt x="2440" y="2624"/>
                    </a:lnTo>
                    <a:lnTo>
                      <a:pt x="2436" y="2628"/>
                    </a:lnTo>
                    <a:lnTo>
                      <a:pt x="2428" y="2630"/>
                    </a:lnTo>
                    <a:lnTo>
                      <a:pt x="2422" y="2630"/>
                    </a:lnTo>
                    <a:lnTo>
                      <a:pt x="2414" y="2630"/>
                    </a:lnTo>
                    <a:lnTo>
                      <a:pt x="2302" y="2604"/>
                    </a:lnTo>
                    <a:lnTo>
                      <a:pt x="2294" y="2602"/>
                    </a:lnTo>
                    <a:lnTo>
                      <a:pt x="2286" y="2604"/>
                    </a:lnTo>
                    <a:lnTo>
                      <a:pt x="2278" y="2606"/>
                    </a:lnTo>
                    <a:lnTo>
                      <a:pt x="2272" y="2610"/>
                    </a:lnTo>
                    <a:lnTo>
                      <a:pt x="2266" y="2614"/>
                    </a:lnTo>
                    <a:lnTo>
                      <a:pt x="2262" y="2620"/>
                    </a:lnTo>
                    <a:lnTo>
                      <a:pt x="2260" y="2626"/>
                    </a:lnTo>
                    <a:lnTo>
                      <a:pt x="2258" y="2634"/>
                    </a:lnTo>
                    <a:lnTo>
                      <a:pt x="2244" y="2748"/>
                    </a:lnTo>
                    <a:lnTo>
                      <a:pt x="2242" y="2756"/>
                    </a:lnTo>
                    <a:lnTo>
                      <a:pt x="2238" y="2762"/>
                    </a:lnTo>
                    <a:lnTo>
                      <a:pt x="2234" y="2768"/>
                    </a:lnTo>
                    <a:lnTo>
                      <a:pt x="2228" y="2772"/>
                    </a:lnTo>
                    <a:lnTo>
                      <a:pt x="2222" y="2774"/>
                    </a:lnTo>
                    <a:lnTo>
                      <a:pt x="2216" y="2776"/>
                    </a:lnTo>
                    <a:lnTo>
                      <a:pt x="2208" y="2776"/>
                    </a:lnTo>
                    <a:lnTo>
                      <a:pt x="2202" y="2772"/>
                    </a:lnTo>
                    <a:lnTo>
                      <a:pt x="2094" y="2728"/>
                    </a:lnTo>
                    <a:lnTo>
                      <a:pt x="2088" y="2726"/>
                    </a:lnTo>
                    <a:lnTo>
                      <a:pt x="2080" y="2726"/>
                    </a:lnTo>
                    <a:lnTo>
                      <a:pt x="2072" y="2726"/>
                    </a:lnTo>
                    <a:lnTo>
                      <a:pt x="2066" y="2728"/>
                    </a:lnTo>
                    <a:lnTo>
                      <a:pt x="2060" y="2732"/>
                    </a:lnTo>
                    <a:lnTo>
                      <a:pt x="2054" y="2738"/>
                    </a:lnTo>
                    <a:lnTo>
                      <a:pt x="2050" y="2744"/>
                    </a:lnTo>
                    <a:lnTo>
                      <a:pt x="2046" y="2750"/>
                    </a:lnTo>
                    <a:lnTo>
                      <a:pt x="2012" y="2862"/>
                    </a:lnTo>
                    <a:lnTo>
                      <a:pt x="2010" y="2868"/>
                    </a:lnTo>
                    <a:lnTo>
                      <a:pt x="2006" y="2874"/>
                    </a:lnTo>
                    <a:lnTo>
                      <a:pt x="2000" y="2878"/>
                    </a:lnTo>
                    <a:lnTo>
                      <a:pt x="1994" y="2882"/>
                    </a:lnTo>
                    <a:lnTo>
                      <a:pt x="1988" y="2884"/>
                    </a:lnTo>
                    <a:lnTo>
                      <a:pt x="1980" y="2884"/>
                    </a:lnTo>
                    <a:lnTo>
                      <a:pt x="1974" y="2882"/>
                    </a:lnTo>
                    <a:lnTo>
                      <a:pt x="1966" y="2878"/>
                    </a:lnTo>
                    <a:lnTo>
                      <a:pt x="1870" y="2816"/>
                    </a:lnTo>
                    <a:lnTo>
                      <a:pt x="1862" y="2812"/>
                    </a:lnTo>
                    <a:lnTo>
                      <a:pt x="1856" y="2810"/>
                    </a:lnTo>
                    <a:lnTo>
                      <a:pt x="1848" y="2810"/>
                    </a:lnTo>
                    <a:lnTo>
                      <a:pt x="1840" y="2810"/>
                    </a:lnTo>
                    <a:lnTo>
                      <a:pt x="1834" y="2812"/>
                    </a:lnTo>
                    <a:lnTo>
                      <a:pt x="1828" y="2816"/>
                    </a:lnTo>
                    <a:lnTo>
                      <a:pt x="1822" y="2822"/>
                    </a:lnTo>
                    <a:lnTo>
                      <a:pt x="1818" y="2830"/>
                    </a:lnTo>
                    <a:lnTo>
                      <a:pt x="1766" y="2932"/>
                    </a:lnTo>
                    <a:lnTo>
                      <a:pt x="1762" y="2938"/>
                    </a:lnTo>
                    <a:lnTo>
                      <a:pt x="1756" y="2944"/>
                    </a:lnTo>
                    <a:lnTo>
                      <a:pt x="1750" y="2946"/>
                    </a:lnTo>
                    <a:lnTo>
                      <a:pt x="1744" y="2948"/>
                    </a:lnTo>
                    <a:lnTo>
                      <a:pt x="1738" y="2950"/>
                    </a:lnTo>
                    <a:lnTo>
                      <a:pt x="1730" y="2948"/>
                    </a:lnTo>
                    <a:lnTo>
                      <a:pt x="1724" y="2944"/>
                    </a:lnTo>
                    <a:lnTo>
                      <a:pt x="1718" y="2940"/>
                    </a:lnTo>
                    <a:lnTo>
                      <a:pt x="1634" y="2862"/>
                    </a:lnTo>
                    <a:lnTo>
                      <a:pt x="1626" y="2856"/>
                    </a:lnTo>
                    <a:lnTo>
                      <a:pt x="1620" y="2854"/>
                    </a:lnTo>
                    <a:lnTo>
                      <a:pt x="1612" y="2852"/>
                    </a:lnTo>
                    <a:lnTo>
                      <a:pt x="1606" y="2852"/>
                    </a:lnTo>
                    <a:lnTo>
                      <a:pt x="1598" y="2854"/>
                    </a:lnTo>
                    <a:lnTo>
                      <a:pt x="1592" y="2856"/>
                    </a:lnTo>
                    <a:lnTo>
                      <a:pt x="1586" y="2860"/>
                    </a:lnTo>
                    <a:lnTo>
                      <a:pt x="1580" y="2866"/>
                    </a:lnTo>
                    <a:lnTo>
                      <a:pt x="1510" y="2958"/>
                    </a:lnTo>
                    <a:lnTo>
                      <a:pt x="1504" y="2964"/>
                    </a:lnTo>
                    <a:lnTo>
                      <a:pt x="1498" y="2968"/>
                    </a:lnTo>
                    <a:lnTo>
                      <a:pt x="1492" y="2970"/>
                    </a:lnTo>
                    <a:lnTo>
                      <a:pt x="1486" y="2972"/>
                    </a:lnTo>
                    <a:lnTo>
                      <a:pt x="1480" y="2970"/>
                    </a:lnTo>
                    <a:lnTo>
                      <a:pt x="1474" y="2968"/>
                    </a:lnTo>
                    <a:lnTo>
                      <a:pt x="1468" y="2964"/>
                    </a:lnTo>
                    <a:lnTo>
                      <a:pt x="1462" y="2958"/>
                    </a:lnTo>
                    <a:lnTo>
                      <a:pt x="1392" y="2866"/>
                    </a:lnTo>
                    <a:lnTo>
                      <a:pt x="1386" y="2860"/>
                    </a:lnTo>
                    <a:lnTo>
                      <a:pt x="1380" y="2856"/>
                    </a:lnTo>
                    <a:lnTo>
                      <a:pt x="1374" y="2854"/>
                    </a:lnTo>
                    <a:lnTo>
                      <a:pt x="1366" y="2852"/>
                    </a:lnTo>
                    <a:lnTo>
                      <a:pt x="1360" y="2852"/>
                    </a:lnTo>
                    <a:lnTo>
                      <a:pt x="1352" y="2854"/>
                    </a:lnTo>
                    <a:lnTo>
                      <a:pt x="1346" y="2856"/>
                    </a:lnTo>
                    <a:lnTo>
                      <a:pt x="1338" y="2862"/>
                    </a:lnTo>
                    <a:lnTo>
                      <a:pt x="1254" y="2940"/>
                    </a:lnTo>
                    <a:lnTo>
                      <a:pt x="1248" y="2944"/>
                    </a:lnTo>
                    <a:lnTo>
                      <a:pt x="1242" y="2948"/>
                    </a:lnTo>
                    <a:lnTo>
                      <a:pt x="1234" y="2950"/>
                    </a:lnTo>
                    <a:lnTo>
                      <a:pt x="1228" y="2948"/>
                    </a:lnTo>
                    <a:lnTo>
                      <a:pt x="1222" y="2946"/>
                    </a:lnTo>
                    <a:lnTo>
                      <a:pt x="1216" y="2944"/>
                    </a:lnTo>
                    <a:lnTo>
                      <a:pt x="1210" y="2938"/>
                    </a:lnTo>
                    <a:lnTo>
                      <a:pt x="1206" y="2932"/>
                    </a:lnTo>
                    <a:lnTo>
                      <a:pt x="1154" y="2830"/>
                    </a:lnTo>
                    <a:lnTo>
                      <a:pt x="1150" y="2822"/>
                    </a:lnTo>
                    <a:lnTo>
                      <a:pt x="1144" y="2816"/>
                    </a:lnTo>
                    <a:lnTo>
                      <a:pt x="1138" y="2812"/>
                    </a:lnTo>
                    <a:lnTo>
                      <a:pt x="1132" y="2810"/>
                    </a:lnTo>
                    <a:lnTo>
                      <a:pt x="1124" y="2810"/>
                    </a:lnTo>
                    <a:lnTo>
                      <a:pt x="1116" y="2810"/>
                    </a:lnTo>
                    <a:lnTo>
                      <a:pt x="1110" y="2812"/>
                    </a:lnTo>
                    <a:lnTo>
                      <a:pt x="1102" y="2816"/>
                    </a:lnTo>
                    <a:lnTo>
                      <a:pt x="1006" y="2878"/>
                    </a:lnTo>
                    <a:lnTo>
                      <a:pt x="998" y="2882"/>
                    </a:lnTo>
                    <a:lnTo>
                      <a:pt x="992" y="2884"/>
                    </a:lnTo>
                    <a:lnTo>
                      <a:pt x="984" y="2884"/>
                    </a:lnTo>
                    <a:lnTo>
                      <a:pt x="978" y="2882"/>
                    </a:lnTo>
                    <a:lnTo>
                      <a:pt x="972" y="2878"/>
                    </a:lnTo>
                    <a:lnTo>
                      <a:pt x="968" y="2874"/>
                    </a:lnTo>
                    <a:lnTo>
                      <a:pt x="962" y="2868"/>
                    </a:lnTo>
                    <a:lnTo>
                      <a:pt x="960" y="2862"/>
                    </a:lnTo>
                    <a:lnTo>
                      <a:pt x="926" y="2750"/>
                    </a:lnTo>
                    <a:lnTo>
                      <a:pt x="922" y="2744"/>
                    </a:lnTo>
                    <a:lnTo>
                      <a:pt x="918" y="2738"/>
                    </a:lnTo>
                    <a:lnTo>
                      <a:pt x="912" y="2732"/>
                    </a:lnTo>
                    <a:lnTo>
                      <a:pt x="906" y="2728"/>
                    </a:lnTo>
                    <a:lnTo>
                      <a:pt x="900" y="2726"/>
                    </a:lnTo>
                    <a:lnTo>
                      <a:pt x="892" y="2726"/>
                    </a:lnTo>
                    <a:lnTo>
                      <a:pt x="884" y="2726"/>
                    </a:lnTo>
                    <a:lnTo>
                      <a:pt x="878" y="2728"/>
                    </a:lnTo>
                    <a:lnTo>
                      <a:pt x="770" y="2772"/>
                    </a:lnTo>
                    <a:lnTo>
                      <a:pt x="764" y="2776"/>
                    </a:lnTo>
                    <a:lnTo>
                      <a:pt x="756" y="2776"/>
                    </a:lnTo>
                    <a:lnTo>
                      <a:pt x="750" y="2774"/>
                    </a:lnTo>
                    <a:lnTo>
                      <a:pt x="744" y="2772"/>
                    </a:lnTo>
                    <a:lnTo>
                      <a:pt x="738" y="2768"/>
                    </a:lnTo>
                    <a:lnTo>
                      <a:pt x="734" y="2762"/>
                    </a:lnTo>
                    <a:lnTo>
                      <a:pt x="730" y="2756"/>
                    </a:lnTo>
                    <a:lnTo>
                      <a:pt x="728" y="2748"/>
                    </a:lnTo>
                    <a:lnTo>
                      <a:pt x="714" y="2634"/>
                    </a:lnTo>
                    <a:lnTo>
                      <a:pt x="712" y="2626"/>
                    </a:lnTo>
                    <a:lnTo>
                      <a:pt x="710" y="2620"/>
                    </a:lnTo>
                    <a:lnTo>
                      <a:pt x="706" y="2614"/>
                    </a:lnTo>
                    <a:lnTo>
                      <a:pt x="700" y="2610"/>
                    </a:lnTo>
                    <a:lnTo>
                      <a:pt x="694" y="2606"/>
                    </a:lnTo>
                    <a:lnTo>
                      <a:pt x="686" y="2604"/>
                    </a:lnTo>
                    <a:lnTo>
                      <a:pt x="678" y="2602"/>
                    </a:lnTo>
                    <a:lnTo>
                      <a:pt x="670" y="2604"/>
                    </a:lnTo>
                    <a:lnTo>
                      <a:pt x="558" y="2630"/>
                    </a:lnTo>
                    <a:lnTo>
                      <a:pt x="550" y="2630"/>
                    </a:lnTo>
                    <a:lnTo>
                      <a:pt x="544" y="2630"/>
                    </a:lnTo>
                    <a:lnTo>
                      <a:pt x="536" y="2628"/>
                    </a:lnTo>
                    <a:lnTo>
                      <a:pt x="532" y="2624"/>
                    </a:lnTo>
                    <a:lnTo>
                      <a:pt x="526" y="2618"/>
                    </a:lnTo>
                    <a:lnTo>
                      <a:pt x="524" y="2612"/>
                    </a:lnTo>
                    <a:lnTo>
                      <a:pt x="522" y="2606"/>
                    </a:lnTo>
                    <a:lnTo>
                      <a:pt x="522" y="2598"/>
                    </a:lnTo>
                    <a:lnTo>
                      <a:pt x="526" y="2484"/>
                    </a:lnTo>
                    <a:lnTo>
                      <a:pt x="526" y="2476"/>
                    </a:lnTo>
                    <a:lnTo>
                      <a:pt x="524" y="2468"/>
                    </a:lnTo>
                    <a:lnTo>
                      <a:pt x="522" y="2462"/>
                    </a:lnTo>
                    <a:lnTo>
                      <a:pt x="516" y="2456"/>
                    </a:lnTo>
                    <a:lnTo>
                      <a:pt x="510" y="2450"/>
                    </a:lnTo>
                    <a:lnTo>
                      <a:pt x="504" y="2448"/>
                    </a:lnTo>
                    <a:lnTo>
                      <a:pt x="496" y="2446"/>
                    </a:lnTo>
                    <a:lnTo>
                      <a:pt x="488" y="2446"/>
                    </a:lnTo>
                    <a:lnTo>
                      <a:pt x="374" y="2450"/>
                    </a:lnTo>
                    <a:lnTo>
                      <a:pt x="366" y="2450"/>
                    </a:lnTo>
                    <a:lnTo>
                      <a:pt x="358" y="2448"/>
                    </a:lnTo>
                    <a:lnTo>
                      <a:pt x="352" y="2446"/>
                    </a:lnTo>
                    <a:lnTo>
                      <a:pt x="348" y="2440"/>
                    </a:lnTo>
                    <a:lnTo>
                      <a:pt x="344" y="2436"/>
                    </a:lnTo>
                    <a:lnTo>
                      <a:pt x="342" y="2428"/>
                    </a:lnTo>
                    <a:lnTo>
                      <a:pt x="342" y="2422"/>
                    </a:lnTo>
                    <a:lnTo>
                      <a:pt x="342" y="2414"/>
                    </a:lnTo>
                    <a:lnTo>
                      <a:pt x="368" y="2302"/>
                    </a:lnTo>
                    <a:lnTo>
                      <a:pt x="370" y="2294"/>
                    </a:lnTo>
                    <a:lnTo>
                      <a:pt x="368" y="2286"/>
                    </a:lnTo>
                    <a:lnTo>
                      <a:pt x="366" y="2278"/>
                    </a:lnTo>
                    <a:lnTo>
                      <a:pt x="362" y="2272"/>
                    </a:lnTo>
                    <a:lnTo>
                      <a:pt x="358" y="2266"/>
                    </a:lnTo>
                    <a:lnTo>
                      <a:pt x="352" y="2262"/>
                    </a:lnTo>
                    <a:lnTo>
                      <a:pt x="346" y="2260"/>
                    </a:lnTo>
                    <a:lnTo>
                      <a:pt x="338" y="2258"/>
                    </a:lnTo>
                    <a:lnTo>
                      <a:pt x="224" y="2242"/>
                    </a:lnTo>
                    <a:lnTo>
                      <a:pt x="216" y="2242"/>
                    </a:lnTo>
                    <a:lnTo>
                      <a:pt x="208" y="2238"/>
                    </a:lnTo>
                    <a:lnTo>
                      <a:pt x="204" y="2234"/>
                    </a:lnTo>
                    <a:lnTo>
                      <a:pt x="200" y="2228"/>
                    </a:lnTo>
                    <a:lnTo>
                      <a:pt x="198" y="2222"/>
                    </a:lnTo>
                    <a:lnTo>
                      <a:pt x="196" y="2216"/>
                    </a:lnTo>
                    <a:lnTo>
                      <a:pt x="196" y="2208"/>
                    </a:lnTo>
                    <a:lnTo>
                      <a:pt x="198" y="2202"/>
                    </a:lnTo>
                    <a:lnTo>
                      <a:pt x="244" y="2094"/>
                    </a:lnTo>
                    <a:lnTo>
                      <a:pt x="246" y="2088"/>
                    </a:lnTo>
                    <a:lnTo>
                      <a:pt x="246" y="2080"/>
                    </a:lnTo>
                    <a:lnTo>
                      <a:pt x="246" y="2072"/>
                    </a:lnTo>
                    <a:lnTo>
                      <a:pt x="244" y="2066"/>
                    </a:lnTo>
                    <a:lnTo>
                      <a:pt x="240" y="2060"/>
                    </a:lnTo>
                    <a:lnTo>
                      <a:pt x="234" y="2054"/>
                    </a:lnTo>
                    <a:lnTo>
                      <a:pt x="228" y="2050"/>
                    </a:lnTo>
                    <a:lnTo>
                      <a:pt x="220" y="2046"/>
                    </a:lnTo>
                    <a:lnTo>
                      <a:pt x="110" y="2012"/>
                    </a:lnTo>
                    <a:lnTo>
                      <a:pt x="104" y="2010"/>
                    </a:lnTo>
                    <a:lnTo>
                      <a:pt x="98" y="2004"/>
                    </a:lnTo>
                    <a:lnTo>
                      <a:pt x="94" y="2000"/>
                    </a:lnTo>
                    <a:lnTo>
                      <a:pt x="90" y="1994"/>
                    </a:lnTo>
                    <a:lnTo>
                      <a:pt x="88" y="1988"/>
                    </a:lnTo>
                    <a:lnTo>
                      <a:pt x="88" y="1980"/>
                    </a:lnTo>
                    <a:lnTo>
                      <a:pt x="90" y="1974"/>
                    </a:lnTo>
                    <a:lnTo>
                      <a:pt x="94" y="1966"/>
                    </a:lnTo>
                    <a:lnTo>
                      <a:pt x="156" y="1870"/>
                    </a:lnTo>
                    <a:lnTo>
                      <a:pt x="160" y="1862"/>
                    </a:lnTo>
                    <a:lnTo>
                      <a:pt x="162" y="1856"/>
                    </a:lnTo>
                    <a:lnTo>
                      <a:pt x="162" y="1848"/>
                    </a:lnTo>
                    <a:lnTo>
                      <a:pt x="162" y="1840"/>
                    </a:lnTo>
                    <a:lnTo>
                      <a:pt x="160" y="1834"/>
                    </a:lnTo>
                    <a:lnTo>
                      <a:pt x="154" y="1828"/>
                    </a:lnTo>
                    <a:lnTo>
                      <a:pt x="150" y="1822"/>
                    </a:lnTo>
                    <a:lnTo>
                      <a:pt x="142" y="1818"/>
                    </a:lnTo>
                    <a:lnTo>
                      <a:pt x="40" y="1766"/>
                    </a:lnTo>
                    <a:lnTo>
                      <a:pt x="34" y="1762"/>
                    </a:lnTo>
                    <a:lnTo>
                      <a:pt x="28" y="1756"/>
                    </a:lnTo>
                    <a:lnTo>
                      <a:pt x="26" y="1750"/>
                    </a:lnTo>
                    <a:lnTo>
                      <a:pt x="24" y="1744"/>
                    </a:lnTo>
                    <a:lnTo>
                      <a:pt x="22" y="1738"/>
                    </a:lnTo>
                    <a:lnTo>
                      <a:pt x="24" y="1730"/>
                    </a:lnTo>
                    <a:lnTo>
                      <a:pt x="28" y="1724"/>
                    </a:lnTo>
                    <a:lnTo>
                      <a:pt x="32" y="1718"/>
                    </a:lnTo>
                    <a:lnTo>
                      <a:pt x="110" y="1634"/>
                    </a:lnTo>
                    <a:lnTo>
                      <a:pt x="116" y="1626"/>
                    </a:lnTo>
                    <a:lnTo>
                      <a:pt x="118" y="1620"/>
                    </a:lnTo>
                    <a:lnTo>
                      <a:pt x="120" y="1612"/>
                    </a:lnTo>
                    <a:lnTo>
                      <a:pt x="120" y="1606"/>
                    </a:lnTo>
                    <a:lnTo>
                      <a:pt x="118" y="1598"/>
                    </a:lnTo>
                    <a:lnTo>
                      <a:pt x="116" y="1592"/>
                    </a:lnTo>
                    <a:lnTo>
                      <a:pt x="112" y="1586"/>
                    </a:lnTo>
                    <a:lnTo>
                      <a:pt x="106" y="1580"/>
                    </a:lnTo>
                    <a:lnTo>
                      <a:pt x="14" y="1510"/>
                    </a:lnTo>
                    <a:lnTo>
                      <a:pt x="8" y="1504"/>
                    </a:lnTo>
                    <a:lnTo>
                      <a:pt x="4" y="1498"/>
                    </a:lnTo>
                    <a:lnTo>
                      <a:pt x="2" y="1492"/>
                    </a:lnTo>
                    <a:lnTo>
                      <a:pt x="0" y="1486"/>
                    </a:lnTo>
                    <a:lnTo>
                      <a:pt x="2" y="1480"/>
                    </a:lnTo>
                    <a:lnTo>
                      <a:pt x="4" y="1474"/>
                    </a:lnTo>
                    <a:lnTo>
                      <a:pt x="8" y="1468"/>
                    </a:lnTo>
                    <a:lnTo>
                      <a:pt x="14" y="1462"/>
                    </a:lnTo>
                    <a:lnTo>
                      <a:pt x="106" y="1392"/>
                    </a:lnTo>
                    <a:lnTo>
                      <a:pt x="112" y="1386"/>
                    </a:lnTo>
                    <a:lnTo>
                      <a:pt x="116" y="1380"/>
                    </a:lnTo>
                    <a:lnTo>
                      <a:pt x="118" y="1374"/>
                    </a:lnTo>
                    <a:lnTo>
                      <a:pt x="120" y="1366"/>
                    </a:lnTo>
                    <a:lnTo>
                      <a:pt x="120" y="1360"/>
                    </a:lnTo>
                    <a:lnTo>
                      <a:pt x="118" y="1352"/>
                    </a:lnTo>
                    <a:lnTo>
                      <a:pt x="116" y="1344"/>
                    </a:lnTo>
                    <a:lnTo>
                      <a:pt x="110" y="1338"/>
                    </a:lnTo>
                    <a:lnTo>
                      <a:pt x="32" y="1254"/>
                    </a:lnTo>
                    <a:lnTo>
                      <a:pt x="28" y="1248"/>
                    </a:lnTo>
                    <a:lnTo>
                      <a:pt x="24" y="1242"/>
                    </a:lnTo>
                    <a:lnTo>
                      <a:pt x="22" y="1234"/>
                    </a:lnTo>
                    <a:lnTo>
                      <a:pt x="24" y="1228"/>
                    </a:lnTo>
                    <a:lnTo>
                      <a:pt x="26" y="1222"/>
                    </a:lnTo>
                    <a:lnTo>
                      <a:pt x="28" y="1216"/>
                    </a:lnTo>
                    <a:lnTo>
                      <a:pt x="34" y="1210"/>
                    </a:lnTo>
                    <a:lnTo>
                      <a:pt x="40" y="1206"/>
                    </a:lnTo>
                    <a:lnTo>
                      <a:pt x="142" y="1154"/>
                    </a:lnTo>
                    <a:lnTo>
                      <a:pt x="150" y="1150"/>
                    </a:lnTo>
                    <a:lnTo>
                      <a:pt x="154" y="1144"/>
                    </a:lnTo>
                    <a:lnTo>
                      <a:pt x="160" y="1138"/>
                    </a:lnTo>
                    <a:lnTo>
                      <a:pt x="162" y="1132"/>
                    </a:lnTo>
                    <a:lnTo>
                      <a:pt x="162" y="1124"/>
                    </a:lnTo>
                    <a:lnTo>
                      <a:pt x="162" y="1116"/>
                    </a:lnTo>
                    <a:lnTo>
                      <a:pt x="160" y="1110"/>
                    </a:lnTo>
                    <a:lnTo>
                      <a:pt x="156" y="1102"/>
                    </a:lnTo>
                    <a:lnTo>
                      <a:pt x="94" y="1006"/>
                    </a:lnTo>
                    <a:lnTo>
                      <a:pt x="90" y="998"/>
                    </a:lnTo>
                    <a:lnTo>
                      <a:pt x="88" y="992"/>
                    </a:lnTo>
                    <a:lnTo>
                      <a:pt x="88" y="984"/>
                    </a:lnTo>
                    <a:lnTo>
                      <a:pt x="90" y="978"/>
                    </a:lnTo>
                    <a:lnTo>
                      <a:pt x="94" y="972"/>
                    </a:lnTo>
                    <a:lnTo>
                      <a:pt x="98" y="966"/>
                    </a:lnTo>
                    <a:lnTo>
                      <a:pt x="104" y="962"/>
                    </a:lnTo>
                    <a:lnTo>
                      <a:pt x="110" y="960"/>
                    </a:lnTo>
                    <a:lnTo>
                      <a:pt x="220" y="926"/>
                    </a:lnTo>
                    <a:lnTo>
                      <a:pt x="228" y="922"/>
                    </a:lnTo>
                    <a:lnTo>
                      <a:pt x="234" y="918"/>
                    </a:lnTo>
                    <a:lnTo>
                      <a:pt x="240" y="912"/>
                    </a:lnTo>
                    <a:lnTo>
                      <a:pt x="244" y="906"/>
                    </a:lnTo>
                    <a:lnTo>
                      <a:pt x="246" y="900"/>
                    </a:lnTo>
                    <a:lnTo>
                      <a:pt x="246" y="892"/>
                    </a:lnTo>
                    <a:lnTo>
                      <a:pt x="246" y="884"/>
                    </a:lnTo>
                    <a:lnTo>
                      <a:pt x="244" y="876"/>
                    </a:lnTo>
                    <a:lnTo>
                      <a:pt x="198" y="770"/>
                    </a:lnTo>
                    <a:lnTo>
                      <a:pt x="196" y="764"/>
                    </a:lnTo>
                    <a:lnTo>
                      <a:pt x="196" y="756"/>
                    </a:lnTo>
                    <a:lnTo>
                      <a:pt x="198" y="750"/>
                    </a:lnTo>
                    <a:lnTo>
                      <a:pt x="200" y="744"/>
                    </a:lnTo>
                    <a:lnTo>
                      <a:pt x="204" y="738"/>
                    </a:lnTo>
                    <a:lnTo>
                      <a:pt x="208" y="734"/>
                    </a:lnTo>
                    <a:lnTo>
                      <a:pt x="216" y="730"/>
                    </a:lnTo>
                    <a:lnTo>
                      <a:pt x="224" y="728"/>
                    </a:lnTo>
                    <a:lnTo>
                      <a:pt x="338" y="714"/>
                    </a:lnTo>
                    <a:lnTo>
                      <a:pt x="346" y="712"/>
                    </a:lnTo>
                    <a:lnTo>
                      <a:pt x="352" y="710"/>
                    </a:lnTo>
                    <a:lnTo>
                      <a:pt x="358" y="704"/>
                    </a:lnTo>
                    <a:lnTo>
                      <a:pt x="362" y="700"/>
                    </a:lnTo>
                    <a:lnTo>
                      <a:pt x="366" y="694"/>
                    </a:lnTo>
                    <a:lnTo>
                      <a:pt x="368" y="686"/>
                    </a:lnTo>
                    <a:lnTo>
                      <a:pt x="370" y="678"/>
                    </a:lnTo>
                    <a:lnTo>
                      <a:pt x="368" y="670"/>
                    </a:lnTo>
                    <a:lnTo>
                      <a:pt x="342" y="558"/>
                    </a:lnTo>
                    <a:lnTo>
                      <a:pt x="342" y="550"/>
                    </a:lnTo>
                    <a:lnTo>
                      <a:pt x="342" y="544"/>
                    </a:lnTo>
                    <a:lnTo>
                      <a:pt x="344" y="536"/>
                    </a:lnTo>
                    <a:lnTo>
                      <a:pt x="348" y="532"/>
                    </a:lnTo>
                    <a:lnTo>
                      <a:pt x="352" y="526"/>
                    </a:lnTo>
                    <a:lnTo>
                      <a:pt x="358" y="524"/>
                    </a:lnTo>
                    <a:lnTo>
                      <a:pt x="366" y="522"/>
                    </a:lnTo>
                    <a:lnTo>
                      <a:pt x="374" y="522"/>
                    </a:lnTo>
                    <a:lnTo>
                      <a:pt x="488" y="526"/>
                    </a:lnTo>
                    <a:lnTo>
                      <a:pt x="496" y="526"/>
                    </a:lnTo>
                    <a:lnTo>
                      <a:pt x="504" y="524"/>
                    </a:lnTo>
                    <a:lnTo>
                      <a:pt x="510" y="520"/>
                    </a:lnTo>
                    <a:lnTo>
                      <a:pt x="516" y="516"/>
                    </a:lnTo>
                    <a:lnTo>
                      <a:pt x="522" y="510"/>
                    </a:lnTo>
                    <a:lnTo>
                      <a:pt x="524" y="504"/>
                    </a:lnTo>
                    <a:lnTo>
                      <a:pt x="526" y="496"/>
                    </a:lnTo>
                    <a:lnTo>
                      <a:pt x="526" y="488"/>
                    </a:lnTo>
                    <a:lnTo>
                      <a:pt x="522" y="374"/>
                    </a:lnTo>
                    <a:lnTo>
                      <a:pt x="522" y="366"/>
                    </a:lnTo>
                    <a:lnTo>
                      <a:pt x="524" y="358"/>
                    </a:lnTo>
                    <a:lnTo>
                      <a:pt x="526" y="352"/>
                    </a:lnTo>
                    <a:lnTo>
                      <a:pt x="532" y="348"/>
                    </a:lnTo>
                    <a:lnTo>
                      <a:pt x="536" y="344"/>
                    </a:lnTo>
                    <a:lnTo>
                      <a:pt x="544" y="342"/>
                    </a:lnTo>
                    <a:lnTo>
                      <a:pt x="550" y="342"/>
                    </a:lnTo>
                    <a:lnTo>
                      <a:pt x="558" y="342"/>
                    </a:lnTo>
                    <a:lnTo>
                      <a:pt x="670" y="368"/>
                    </a:lnTo>
                    <a:lnTo>
                      <a:pt x="678" y="370"/>
                    </a:lnTo>
                    <a:lnTo>
                      <a:pt x="686" y="368"/>
                    </a:lnTo>
                    <a:lnTo>
                      <a:pt x="694" y="366"/>
                    </a:lnTo>
                    <a:lnTo>
                      <a:pt x="700" y="362"/>
                    </a:lnTo>
                    <a:lnTo>
                      <a:pt x="706" y="358"/>
                    </a:lnTo>
                    <a:lnTo>
                      <a:pt x="710" y="352"/>
                    </a:lnTo>
                    <a:lnTo>
                      <a:pt x="712" y="346"/>
                    </a:lnTo>
                    <a:lnTo>
                      <a:pt x="714" y="338"/>
                    </a:lnTo>
                    <a:lnTo>
                      <a:pt x="728" y="224"/>
                    </a:lnTo>
                    <a:lnTo>
                      <a:pt x="730" y="216"/>
                    </a:lnTo>
                    <a:lnTo>
                      <a:pt x="734" y="208"/>
                    </a:lnTo>
                    <a:lnTo>
                      <a:pt x="738" y="204"/>
                    </a:lnTo>
                    <a:lnTo>
                      <a:pt x="744" y="200"/>
                    </a:lnTo>
                    <a:lnTo>
                      <a:pt x="750" y="196"/>
                    </a:lnTo>
                    <a:lnTo>
                      <a:pt x="756" y="196"/>
                    </a:lnTo>
                    <a:lnTo>
                      <a:pt x="764" y="196"/>
                    </a:lnTo>
                    <a:lnTo>
                      <a:pt x="770" y="198"/>
                    </a:lnTo>
                    <a:lnTo>
                      <a:pt x="878" y="244"/>
                    </a:lnTo>
                    <a:lnTo>
                      <a:pt x="884" y="246"/>
                    </a:lnTo>
                    <a:lnTo>
                      <a:pt x="892" y="246"/>
                    </a:lnTo>
                    <a:lnTo>
                      <a:pt x="900" y="246"/>
                    </a:lnTo>
                    <a:lnTo>
                      <a:pt x="906" y="244"/>
                    </a:lnTo>
                    <a:lnTo>
                      <a:pt x="912" y="240"/>
                    </a:lnTo>
                    <a:lnTo>
                      <a:pt x="918" y="234"/>
                    </a:lnTo>
                    <a:lnTo>
                      <a:pt x="922" y="228"/>
                    </a:lnTo>
                    <a:lnTo>
                      <a:pt x="926" y="220"/>
                    </a:lnTo>
                    <a:lnTo>
                      <a:pt x="960" y="110"/>
                    </a:lnTo>
                    <a:lnTo>
                      <a:pt x="962" y="104"/>
                    </a:lnTo>
                    <a:lnTo>
                      <a:pt x="968" y="98"/>
                    </a:lnTo>
                    <a:lnTo>
                      <a:pt x="972" y="94"/>
                    </a:lnTo>
                    <a:lnTo>
                      <a:pt x="978" y="90"/>
                    </a:lnTo>
                    <a:lnTo>
                      <a:pt x="984" y="88"/>
                    </a:lnTo>
                    <a:lnTo>
                      <a:pt x="992" y="88"/>
                    </a:lnTo>
                    <a:lnTo>
                      <a:pt x="998" y="90"/>
                    </a:lnTo>
                    <a:lnTo>
                      <a:pt x="1006" y="94"/>
                    </a:lnTo>
                    <a:lnTo>
                      <a:pt x="1102" y="156"/>
                    </a:lnTo>
                    <a:lnTo>
                      <a:pt x="1110" y="160"/>
                    </a:lnTo>
                    <a:lnTo>
                      <a:pt x="1116" y="162"/>
                    </a:lnTo>
                    <a:lnTo>
                      <a:pt x="1124" y="162"/>
                    </a:lnTo>
                    <a:lnTo>
                      <a:pt x="1132" y="162"/>
                    </a:lnTo>
                    <a:lnTo>
                      <a:pt x="1138" y="158"/>
                    </a:lnTo>
                    <a:lnTo>
                      <a:pt x="1144" y="154"/>
                    </a:lnTo>
                    <a:lnTo>
                      <a:pt x="1150" y="150"/>
                    </a:lnTo>
                    <a:lnTo>
                      <a:pt x="1154" y="142"/>
                    </a:lnTo>
                    <a:lnTo>
                      <a:pt x="1206" y="40"/>
                    </a:lnTo>
                    <a:lnTo>
                      <a:pt x="1210" y="34"/>
                    </a:lnTo>
                    <a:lnTo>
                      <a:pt x="1216" y="28"/>
                    </a:lnTo>
                    <a:lnTo>
                      <a:pt x="1222" y="26"/>
                    </a:lnTo>
                    <a:lnTo>
                      <a:pt x="1228" y="24"/>
                    </a:lnTo>
                    <a:lnTo>
                      <a:pt x="1234" y="22"/>
                    </a:lnTo>
                    <a:lnTo>
                      <a:pt x="1242" y="24"/>
                    </a:lnTo>
                    <a:lnTo>
                      <a:pt x="1248" y="28"/>
                    </a:lnTo>
                    <a:lnTo>
                      <a:pt x="1254" y="32"/>
                    </a:lnTo>
                    <a:lnTo>
                      <a:pt x="1338" y="110"/>
                    </a:lnTo>
                    <a:lnTo>
                      <a:pt x="1346" y="116"/>
                    </a:lnTo>
                    <a:lnTo>
                      <a:pt x="1352" y="118"/>
                    </a:lnTo>
                    <a:lnTo>
                      <a:pt x="1360" y="120"/>
                    </a:lnTo>
                    <a:lnTo>
                      <a:pt x="1366" y="120"/>
                    </a:lnTo>
                    <a:lnTo>
                      <a:pt x="1374" y="118"/>
                    </a:lnTo>
                    <a:lnTo>
                      <a:pt x="1380" y="116"/>
                    </a:lnTo>
                    <a:lnTo>
                      <a:pt x="1386" y="112"/>
                    </a:lnTo>
                    <a:lnTo>
                      <a:pt x="1392" y="106"/>
                    </a:lnTo>
                    <a:lnTo>
                      <a:pt x="1462" y="14"/>
                    </a:lnTo>
                    <a:close/>
                  </a:path>
                </a:pathLst>
              </a:custGeom>
              <a:noFill/>
              <a:ln w="38100">
                <a:solidFill>
                  <a:srgbClr val="92d05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98" name="组合 45"/>
              <p:cNvGrpSpPr/>
              <p:nvPr/>
            </p:nvGrpSpPr>
            <p:grpSpPr>
              <a:xfrm>
                <a:off x="2841120" y="5191200"/>
                <a:ext cx="1140120" cy="768960"/>
                <a:chOff x="2841120" y="5191200"/>
                <a:chExt cx="1140120" cy="768960"/>
              </a:xfrm>
            </p:grpSpPr>
            <p:sp>
              <p:nvSpPr>
                <p:cNvPr id="699" name="Oval 47"/>
                <p:cNvSpPr/>
                <p:nvPr/>
              </p:nvSpPr>
              <p:spPr>
                <a:xfrm>
                  <a:off x="3157200" y="5191200"/>
                  <a:ext cx="824040" cy="601920"/>
                </a:xfrm>
                <a:prstGeom prst="ellipse">
                  <a:avLst/>
                </a:prstGeom>
                <a:noFill/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 anchorCtr="1">
                  <a:noAutofit/>
                </a:bodyPr>
                <a:p>
                  <a:pPr algn="ctr">
                    <a:lnSpc>
                      <a:spcPct val="100000"/>
                    </a:lnSpc>
                  </a:pPr>
                  <a:r>
                    <a:rPr b="1" lang="en-GB" sz="4800" spc="-1" strike="noStrike">
                      <a:solidFill>
                        <a:srgbClr val="ffffff"/>
                      </a:solidFill>
                      <a:latin typeface="Calibri"/>
                      <a:ea typeface="宋体"/>
                    </a:rPr>
                    <a:t>2</a:t>
                  </a:r>
                  <a:endParaRPr b="0" lang="en-US" sz="4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0" name="Oval 47"/>
                <p:cNvSpPr/>
                <p:nvPr/>
              </p:nvSpPr>
              <p:spPr>
                <a:xfrm>
                  <a:off x="2841120" y="5358240"/>
                  <a:ext cx="824040" cy="601920"/>
                </a:xfrm>
                <a:prstGeom prst="ellipse">
                  <a:avLst/>
                </a:prstGeom>
                <a:noFill/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 anchorCtr="1">
                  <a:noAutofit/>
                </a:bodyPr>
                <a:p>
                  <a:pPr algn="ctr">
                    <a:lnSpc>
                      <a:spcPct val="100000"/>
                    </a:lnSpc>
                  </a:pPr>
                  <a:r>
                    <a:rPr b="1" lang="en-GB" sz="2800" spc="-1" strike="noStrike" baseline="30000">
                      <a:solidFill>
                        <a:srgbClr val="ffffff"/>
                      </a:solidFill>
                      <a:latin typeface="Calibri"/>
                      <a:ea typeface="宋体"/>
                    </a:rPr>
                    <a:t>NO.</a:t>
                  </a:r>
                  <a:r>
                    <a:rPr b="1" lang="en-GB" sz="3600" spc="-1" strike="noStrike">
                      <a:solidFill>
                        <a:srgbClr val="ffffff"/>
                      </a:solidFill>
                      <a:latin typeface="Calibri"/>
                      <a:ea typeface="宋体"/>
                    </a:rPr>
                    <a:t> </a:t>
                  </a:r>
                  <a:endParaRPr b="0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01" name="文本框 27"/>
            <p:cNvSpPr/>
            <p:nvPr/>
          </p:nvSpPr>
          <p:spPr>
            <a:xfrm>
              <a:off x="4955760" y="6248160"/>
              <a:ext cx="1278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2400" spc="-1" strike="noStrike">
                  <a:solidFill>
                    <a:srgbClr val="000000"/>
                  </a:solidFill>
                  <a:latin typeface="Noto Sans S Chinese Light"/>
                  <a:ea typeface="Noto Sans S Chinese Light"/>
                </a:rPr>
                <a:t>全球安全厂商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02" name="组合 48"/>
            <p:cNvGrpSpPr/>
            <p:nvPr/>
          </p:nvGrpSpPr>
          <p:grpSpPr>
            <a:xfrm>
              <a:off x="4998960" y="5008320"/>
              <a:ext cx="1142640" cy="1116720"/>
              <a:chOff x="4998960" y="5008320"/>
              <a:chExt cx="1142640" cy="1116720"/>
            </a:xfrm>
          </p:grpSpPr>
          <p:sp>
            <p:nvSpPr>
              <p:cNvPr id="703" name="Freeform 45"/>
              <p:cNvSpPr/>
              <p:nvPr/>
            </p:nvSpPr>
            <p:spPr>
              <a:xfrm>
                <a:off x="4998960" y="5008320"/>
                <a:ext cx="1116720" cy="1116720"/>
              </a:xfrm>
              <a:custGeom>
                <a:avLst/>
                <a:gdLst>
                  <a:gd name="textAreaLeft" fmla="*/ 0 w 1116720"/>
                  <a:gd name="textAreaRight" fmla="*/ 1117080 w 1116720"/>
                  <a:gd name="textAreaTop" fmla="*/ 0 h 1116720"/>
                  <a:gd name="textAreaBottom" fmla="*/ 1117080 h 1116720"/>
                </a:gdLst>
                <a:ahLst/>
                <a:rect l="textAreaLeft" t="textAreaTop" r="textAreaRight" b="textAreaBottom"/>
                <a:pathLst>
                  <a:path w="2972" h="2972">
                    <a:moveTo>
                      <a:pt x="1462" y="14"/>
                    </a:moveTo>
                    <a:lnTo>
                      <a:pt x="1462" y="14"/>
                    </a:lnTo>
                    <a:lnTo>
                      <a:pt x="1468" y="8"/>
                    </a:lnTo>
                    <a:lnTo>
                      <a:pt x="1474" y="4"/>
                    </a:lnTo>
                    <a:lnTo>
                      <a:pt x="1480" y="2"/>
                    </a:lnTo>
                    <a:lnTo>
                      <a:pt x="1486" y="0"/>
                    </a:lnTo>
                    <a:lnTo>
                      <a:pt x="1492" y="2"/>
                    </a:lnTo>
                    <a:lnTo>
                      <a:pt x="1498" y="4"/>
                    </a:lnTo>
                    <a:lnTo>
                      <a:pt x="1504" y="8"/>
                    </a:lnTo>
                    <a:lnTo>
                      <a:pt x="1510" y="14"/>
                    </a:lnTo>
                    <a:lnTo>
                      <a:pt x="1580" y="106"/>
                    </a:lnTo>
                    <a:lnTo>
                      <a:pt x="1586" y="112"/>
                    </a:lnTo>
                    <a:lnTo>
                      <a:pt x="1592" y="116"/>
                    </a:lnTo>
                    <a:lnTo>
                      <a:pt x="1598" y="118"/>
                    </a:lnTo>
                    <a:lnTo>
                      <a:pt x="1606" y="120"/>
                    </a:lnTo>
                    <a:lnTo>
                      <a:pt x="1612" y="120"/>
                    </a:lnTo>
                    <a:lnTo>
                      <a:pt x="1620" y="118"/>
                    </a:lnTo>
                    <a:lnTo>
                      <a:pt x="1626" y="116"/>
                    </a:lnTo>
                    <a:lnTo>
                      <a:pt x="1634" y="110"/>
                    </a:lnTo>
                    <a:lnTo>
                      <a:pt x="1718" y="32"/>
                    </a:lnTo>
                    <a:lnTo>
                      <a:pt x="1724" y="28"/>
                    </a:lnTo>
                    <a:lnTo>
                      <a:pt x="1730" y="24"/>
                    </a:lnTo>
                    <a:lnTo>
                      <a:pt x="1738" y="22"/>
                    </a:lnTo>
                    <a:lnTo>
                      <a:pt x="1744" y="24"/>
                    </a:lnTo>
                    <a:lnTo>
                      <a:pt x="1750" y="26"/>
                    </a:lnTo>
                    <a:lnTo>
                      <a:pt x="1756" y="28"/>
                    </a:lnTo>
                    <a:lnTo>
                      <a:pt x="1762" y="34"/>
                    </a:lnTo>
                    <a:lnTo>
                      <a:pt x="1766" y="40"/>
                    </a:lnTo>
                    <a:lnTo>
                      <a:pt x="1818" y="142"/>
                    </a:lnTo>
                    <a:lnTo>
                      <a:pt x="1822" y="150"/>
                    </a:lnTo>
                    <a:lnTo>
                      <a:pt x="1828" y="154"/>
                    </a:lnTo>
                    <a:lnTo>
                      <a:pt x="1834" y="158"/>
                    </a:lnTo>
                    <a:lnTo>
                      <a:pt x="1840" y="162"/>
                    </a:lnTo>
                    <a:lnTo>
                      <a:pt x="1848" y="162"/>
                    </a:lnTo>
                    <a:lnTo>
                      <a:pt x="1856" y="162"/>
                    </a:lnTo>
                    <a:lnTo>
                      <a:pt x="1862" y="160"/>
                    </a:lnTo>
                    <a:lnTo>
                      <a:pt x="1870" y="156"/>
                    </a:lnTo>
                    <a:lnTo>
                      <a:pt x="1966" y="94"/>
                    </a:lnTo>
                    <a:lnTo>
                      <a:pt x="1974" y="90"/>
                    </a:lnTo>
                    <a:lnTo>
                      <a:pt x="1980" y="88"/>
                    </a:lnTo>
                    <a:lnTo>
                      <a:pt x="1988" y="88"/>
                    </a:lnTo>
                    <a:lnTo>
                      <a:pt x="1994" y="90"/>
                    </a:lnTo>
                    <a:lnTo>
                      <a:pt x="2000" y="94"/>
                    </a:lnTo>
                    <a:lnTo>
                      <a:pt x="2006" y="98"/>
                    </a:lnTo>
                    <a:lnTo>
                      <a:pt x="2010" y="104"/>
                    </a:lnTo>
                    <a:lnTo>
                      <a:pt x="2012" y="110"/>
                    </a:lnTo>
                    <a:lnTo>
                      <a:pt x="2046" y="220"/>
                    </a:lnTo>
                    <a:lnTo>
                      <a:pt x="2050" y="228"/>
                    </a:lnTo>
                    <a:lnTo>
                      <a:pt x="2054" y="234"/>
                    </a:lnTo>
                    <a:lnTo>
                      <a:pt x="2060" y="240"/>
                    </a:lnTo>
                    <a:lnTo>
                      <a:pt x="2066" y="244"/>
                    </a:lnTo>
                    <a:lnTo>
                      <a:pt x="2072" y="246"/>
                    </a:lnTo>
                    <a:lnTo>
                      <a:pt x="2080" y="246"/>
                    </a:lnTo>
                    <a:lnTo>
                      <a:pt x="2088" y="246"/>
                    </a:lnTo>
                    <a:lnTo>
                      <a:pt x="2094" y="244"/>
                    </a:lnTo>
                    <a:lnTo>
                      <a:pt x="2202" y="198"/>
                    </a:lnTo>
                    <a:lnTo>
                      <a:pt x="2208" y="196"/>
                    </a:lnTo>
                    <a:lnTo>
                      <a:pt x="2216" y="196"/>
                    </a:lnTo>
                    <a:lnTo>
                      <a:pt x="2222" y="196"/>
                    </a:lnTo>
                    <a:lnTo>
                      <a:pt x="2228" y="200"/>
                    </a:lnTo>
                    <a:lnTo>
                      <a:pt x="2234" y="204"/>
                    </a:lnTo>
                    <a:lnTo>
                      <a:pt x="2238" y="208"/>
                    </a:lnTo>
                    <a:lnTo>
                      <a:pt x="2242" y="216"/>
                    </a:lnTo>
                    <a:lnTo>
                      <a:pt x="2244" y="224"/>
                    </a:lnTo>
                    <a:lnTo>
                      <a:pt x="2258" y="338"/>
                    </a:lnTo>
                    <a:lnTo>
                      <a:pt x="2260" y="346"/>
                    </a:lnTo>
                    <a:lnTo>
                      <a:pt x="2262" y="352"/>
                    </a:lnTo>
                    <a:lnTo>
                      <a:pt x="2266" y="358"/>
                    </a:lnTo>
                    <a:lnTo>
                      <a:pt x="2272" y="362"/>
                    </a:lnTo>
                    <a:lnTo>
                      <a:pt x="2278" y="366"/>
                    </a:lnTo>
                    <a:lnTo>
                      <a:pt x="2286" y="368"/>
                    </a:lnTo>
                    <a:lnTo>
                      <a:pt x="2294" y="370"/>
                    </a:lnTo>
                    <a:lnTo>
                      <a:pt x="2302" y="368"/>
                    </a:lnTo>
                    <a:lnTo>
                      <a:pt x="2414" y="342"/>
                    </a:lnTo>
                    <a:lnTo>
                      <a:pt x="2422" y="342"/>
                    </a:lnTo>
                    <a:lnTo>
                      <a:pt x="2428" y="342"/>
                    </a:lnTo>
                    <a:lnTo>
                      <a:pt x="2436" y="344"/>
                    </a:lnTo>
                    <a:lnTo>
                      <a:pt x="2440" y="348"/>
                    </a:lnTo>
                    <a:lnTo>
                      <a:pt x="2446" y="352"/>
                    </a:lnTo>
                    <a:lnTo>
                      <a:pt x="2448" y="358"/>
                    </a:lnTo>
                    <a:lnTo>
                      <a:pt x="2450" y="366"/>
                    </a:lnTo>
                    <a:lnTo>
                      <a:pt x="2450" y="374"/>
                    </a:lnTo>
                    <a:lnTo>
                      <a:pt x="2446" y="488"/>
                    </a:lnTo>
                    <a:lnTo>
                      <a:pt x="2446" y="496"/>
                    </a:lnTo>
                    <a:lnTo>
                      <a:pt x="2448" y="504"/>
                    </a:lnTo>
                    <a:lnTo>
                      <a:pt x="2450" y="510"/>
                    </a:lnTo>
                    <a:lnTo>
                      <a:pt x="2456" y="516"/>
                    </a:lnTo>
                    <a:lnTo>
                      <a:pt x="2462" y="520"/>
                    </a:lnTo>
                    <a:lnTo>
                      <a:pt x="2468" y="524"/>
                    </a:lnTo>
                    <a:lnTo>
                      <a:pt x="2476" y="526"/>
                    </a:lnTo>
                    <a:lnTo>
                      <a:pt x="2484" y="526"/>
                    </a:lnTo>
                    <a:lnTo>
                      <a:pt x="2598" y="522"/>
                    </a:lnTo>
                    <a:lnTo>
                      <a:pt x="2606" y="522"/>
                    </a:lnTo>
                    <a:lnTo>
                      <a:pt x="2614" y="524"/>
                    </a:lnTo>
                    <a:lnTo>
                      <a:pt x="2620" y="526"/>
                    </a:lnTo>
                    <a:lnTo>
                      <a:pt x="2624" y="532"/>
                    </a:lnTo>
                    <a:lnTo>
                      <a:pt x="2628" y="536"/>
                    </a:lnTo>
                    <a:lnTo>
                      <a:pt x="2630" y="544"/>
                    </a:lnTo>
                    <a:lnTo>
                      <a:pt x="2630" y="550"/>
                    </a:lnTo>
                    <a:lnTo>
                      <a:pt x="2630" y="558"/>
                    </a:lnTo>
                    <a:lnTo>
                      <a:pt x="2604" y="670"/>
                    </a:lnTo>
                    <a:lnTo>
                      <a:pt x="2602" y="678"/>
                    </a:lnTo>
                    <a:lnTo>
                      <a:pt x="2604" y="686"/>
                    </a:lnTo>
                    <a:lnTo>
                      <a:pt x="2606" y="694"/>
                    </a:lnTo>
                    <a:lnTo>
                      <a:pt x="2610" y="700"/>
                    </a:lnTo>
                    <a:lnTo>
                      <a:pt x="2614" y="704"/>
                    </a:lnTo>
                    <a:lnTo>
                      <a:pt x="2620" y="710"/>
                    </a:lnTo>
                    <a:lnTo>
                      <a:pt x="2626" y="712"/>
                    </a:lnTo>
                    <a:lnTo>
                      <a:pt x="2634" y="714"/>
                    </a:lnTo>
                    <a:lnTo>
                      <a:pt x="2748" y="728"/>
                    </a:lnTo>
                    <a:lnTo>
                      <a:pt x="2756" y="730"/>
                    </a:lnTo>
                    <a:lnTo>
                      <a:pt x="2764" y="734"/>
                    </a:lnTo>
                    <a:lnTo>
                      <a:pt x="2768" y="738"/>
                    </a:lnTo>
                    <a:lnTo>
                      <a:pt x="2772" y="744"/>
                    </a:lnTo>
                    <a:lnTo>
                      <a:pt x="2774" y="750"/>
                    </a:lnTo>
                    <a:lnTo>
                      <a:pt x="2776" y="756"/>
                    </a:lnTo>
                    <a:lnTo>
                      <a:pt x="2776" y="764"/>
                    </a:lnTo>
                    <a:lnTo>
                      <a:pt x="2774" y="770"/>
                    </a:lnTo>
                    <a:lnTo>
                      <a:pt x="2728" y="876"/>
                    </a:lnTo>
                    <a:lnTo>
                      <a:pt x="2726" y="884"/>
                    </a:lnTo>
                    <a:lnTo>
                      <a:pt x="2726" y="892"/>
                    </a:lnTo>
                    <a:lnTo>
                      <a:pt x="2726" y="900"/>
                    </a:lnTo>
                    <a:lnTo>
                      <a:pt x="2728" y="906"/>
                    </a:lnTo>
                    <a:lnTo>
                      <a:pt x="2732" y="912"/>
                    </a:lnTo>
                    <a:lnTo>
                      <a:pt x="2738" y="918"/>
                    </a:lnTo>
                    <a:lnTo>
                      <a:pt x="2744" y="922"/>
                    </a:lnTo>
                    <a:lnTo>
                      <a:pt x="2752" y="926"/>
                    </a:lnTo>
                    <a:lnTo>
                      <a:pt x="2862" y="960"/>
                    </a:lnTo>
                    <a:lnTo>
                      <a:pt x="2868" y="962"/>
                    </a:lnTo>
                    <a:lnTo>
                      <a:pt x="2874" y="966"/>
                    </a:lnTo>
                    <a:lnTo>
                      <a:pt x="2878" y="972"/>
                    </a:lnTo>
                    <a:lnTo>
                      <a:pt x="2882" y="978"/>
                    </a:lnTo>
                    <a:lnTo>
                      <a:pt x="2884" y="984"/>
                    </a:lnTo>
                    <a:lnTo>
                      <a:pt x="2884" y="992"/>
                    </a:lnTo>
                    <a:lnTo>
                      <a:pt x="2882" y="998"/>
                    </a:lnTo>
                    <a:lnTo>
                      <a:pt x="2878" y="1006"/>
                    </a:lnTo>
                    <a:lnTo>
                      <a:pt x="2816" y="1102"/>
                    </a:lnTo>
                    <a:lnTo>
                      <a:pt x="2812" y="1110"/>
                    </a:lnTo>
                    <a:lnTo>
                      <a:pt x="2810" y="1116"/>
                    </a:lnTo>
                    <a:lnTo>
                      <a:pt x="2810" y="1124"/>
                    </a:lnTo>
                    <a:lnTo>
                      <a:pt x="2810" y="1132"/>
                    </a:lnTo>
                    <a:lnTo>
                      <a:pt x="2814" y="1138"/>
                    </a:lnTo>
                    <a:lnTo>
                      <a:pt x="2818" y="1144"/>
                    </a:lnTo>
                    <a:lnTo>
                      <a:pt x="2822" y="1150"/>
                    </a:lnTo>
                    <a:lnTo>
                      <a:pt x="2830" y="1154"/>
                    </a:lnTo>
                    <a:lnTo>
                      <a:pt x="2932" y="1206"/>
                    </a:lnTo>
                    <a:lnTo>
                      <a:pt x="2938" y="1210"/>
                    </a:lnTo>
                    <a:lnTo>
                      <a:pt x="2944" y="1216"/>
                    </a:lnTo>
                    <a:lnTo>
                      <a:pt x="2946" y="1222"/>
                    </a:lnTo>
                    <a:lnTo>
                      <a:pt x="2948" y="1228"/>
                    </a:lnTo>
                    <a:lnTo>
                      <a:pt x="2950" y="1234"/>
                    </a:lnTo>
                    <a:lnTo>
                      <a:pt x="2948" y="1242"/>
                    </a:lnTo>
                    <a:lnTo>
                      <a:pt x="2944" y="1248"/>
                    </a:lnTo>
                    <a:lnTo>
                      <a:pt x="2940" y="1254"/>
                    </a:lnTo>
                    <a:lnTo>
                      <a:pt x="2862" y="1338"/>
                    </a:lnTo>
                    <a:lnTo>
                      <a:pt x="2856" y="1344"/>
                    </a:lnTo>
                    <a:lnTo>
                      <a:pt x="2854" y="1352"/>
                    </a:lnTo>
                    <a:lnTo>
                      <a:pt x="2852" y="1360"/>
                    </a:lnTo>
                    <a:lnTo>
                      <a:pt x="2852" y="1366"/>
                    </a:lnTo>
                    <a:lnTo>
                      <a:pt x="2854" y="1374"/>
                    </a:lnTo>
                    <a:lnTo>
                      <a:pt x="2856" y="1380"/>
                    </a:lnTo>
                    <a:lnTo>
                      <a:pt x="2860" y="1386"/>
                    </a:lnTo>
                    <a:lnTo>
                      <a:pt x="2866" y="1392"/>
                    </a:lnTo>
                    <a:lnTo>
                      <a:pt x="2958" y="1462"/>
                    </a:lnTo>
                    <a:lnTo>
                      <a:pt x="2964" y="1468"/>
                    </a:lnTo>
                    <a:lnTo>
                      <a:pt x="2968" y="1474"/>
                    </a:lnTo>
                    <a:lnTo>
                      <a:pt x="2970" y="1480"/>
                    </a:lnTo>
                    <a:lnTo>
                      <a:pt x="2972" y="1486"/>
                    </a:lnTo>
                    <a:lnTo>
                      <a:pt x="2970" y="1492"/>
                    </a:lnTo>
                    <a:lnTo>
                      <a:pt x="2968" y="1498"/>
                    </a:lnTo>
                    <a:lnTo>
                      <a:pt x="2964" y="1504"/>
                    </a:lnTo>
                    <a:lnTo>
                      <a:pt x="2958" y="1510"/>
                    </a:lnTo>
                    <a:lnTo>
                      <a:pt x="2866" y="1580"/>
                    </a:lnTo>
                    <a:lnTo>
                      <a:pt x="2860" y="1586"/>
                    </a:lnTo>
                    <a:lnTo>
                      <a:pt x="2856" y="1592"/>
                    </a:lnTo>
                    <a:lnTo>
                      <a:pt x="2854" y="1598"/>
                    </a:lnTo>
                    <a:lnTo>
                      <a:pt x="2852" y="1606"/>
                    </a:lnTo>
                    <a:lnTo>
                      <a:pt x="2852" y="1612"/>
                    </a:lnTo>
                    <a:lnTo>
                      <a:pt x="2854" y="1620"/>
                    </a:lnTo>
                    <a:lnTo>
                      <a:pt x="2856" y="1626"/>
                    </a:lnTo>
                    <a:lnTo>
                      <a:pt x="2862" y="1634"/>
                    </a:lnTo>
                    <a:lnTo>
                      <a:pt x="2940" y="1718"/>
                    </a:lnTo>
                    <a:lnTo>
                      <a:pt x="2944" y="1724"/>
                    </a:lnTo>
                    <a:lnTo>
                      <a:pt x="2948" y="1730"/>
                    </a:lnTo>
                    <a:lnTo>
                      <a:pt x="2950" y="1738"/>
                    </a:lnTo>
                    <a:lnTo>
                      <a:pt x="2948" y="1744"/>
                    </a:lnTo>
                    <a:lnTo>
                      <a:pt x="2946" y="1750"/>
                    </a:lnTo>
                    <a:lnTo>
                      <a:pt x="2944" y="1756"/>
                    </a:lnTo>
                    <a:lnTo>
                      <a:pt x="2938" y="1762"/>
                    </a:lnTo>
                    <a:lnTo>
                      <a:pt x="2932" y="1766"/>
                    </a:lnTo>
                    <a:lnTo>
                      <a:pt x="2830" y="1818"/>
                    </a:lnTo>
                    <a:lnTo>
                      <a:pt x="2822" y="1822"/>
                    </a:lnTo>
                    <a:lnTo>
                      <a:pt x="2818" y="1828"/>
                    </a:lnTo>
                    <a:lnTo>
                      <a:pt x="2814" y="1834"/>
                    </a:lnTo>
                    <a:lnTo>
                      <a:pt x="2810" y="1840"/>
                    </a:lnTo>
                    <a:lnTo>
                      <a:pt x="2810" y="1848"/>
                    </a:lnTo>
                    <a:lnTo>
                      <a:pt x="2810" y="1856"/>
                    </a:lnTo>
                    <a:lnTo>
                      <a:pt x="2812" y="1862"/>
                    </a:lnTo>
                    <a:lnTo>
                      <a:pt x="2816" y="1870"/>
                    </a:lnTo>
                    <a:lnTo>
                      <a:pt x="2878" y="1966"/>
                    </a:lnTo>
                    <a:lnTo>
                      <a:pt x="2882" y="1974"/>
                    </a:lnTo>
                    <a:lnTo>
                      <a:pt x="2884" y="1980"/>
                    </a:lnTo>
                    <a:lnTo>
                      <a:pt x="2884" y="1988"/>
                    </a:lnTo>
                    <a:lnTo>
                      <a:pt x="2882" y="1994"/>
                    </a:lnTo>
                    <a:lnTo>
                      <a:pt x="2878" y="2000"/>
                    </a:lnTo>
                    <a:lnTo>
                      <a:pt x="2874" y="2004"/>
                    </a:lnTo>
                    <a:lnTo>
                      <a:pt x="2868" y="2010"/>
                    </a:lnTo>
                    <a:lnTo>
                      <a:pt x="2862" y="2012"/>
                    </a:lnTo>
                    <a:lnTo>
                      <a:pt x="2752" y="2046"/>
                    </a:lnTo>
                    <a:lnTo>
                      <a:pt x="2744" y="2050"/>
                    </a:lnTo>
                    <a:lnTo>
                      <a:pt x="2738" y="2054"/>
                    </a:lnTo>
                    <a:lnTo>
                      <a:pt x="2732" y="2060"/>
                    </a:lnTo>
                    <a:lnTo>
                      <a:pt x="2728" y="2066"/>
                    </a:lnTo>
                    <a:lnTo>
                      <a:pt x="2726" y="2072"/>
                    </a:lnTo>
                    <a:lnTo>
                      <a:pt x="2726" y="2080"/>
                    </a:lnTo>
                    <a:lnTo>
                      <a:pt x="2726" y="2088"/>
                    </a:lnTo>
                    <a:lnTo>
                      <a:pt x="2728" y="2094"/>
                    </a:lnTo>
                    <a:lnTo>
                      <a:pt x="2774" y="2202"/>
                    </a:lnTo>
                    <a:lnTo>
                      <a:pt x="2776" y="2208"/>
                    </a:lnTo>
                    <a:lnTo>
                      <a:pt x="2776" y="2216"/>
                    </a:lnTo>
                    <a:lnTo>
                      <a:pt x="2774" y="2222"/>
                    </a:lnTo>
                    <a:lnTo>
                      <a:pt x="2772" y="2228"/>
                    </a:lnTo>
                    <a:lnTo>
                      <a:pt x="2768" y="2234"/>
                    </a:lnTo>
                    <a:lnTo>
                      <a:pt x="2764" y="2238"/>
                    </a:lnTo>
                    <a:lnTo>
                      <a:pt x="2756" y="2242"/>
                    </a:lnTo>
                    <a:lnTo>
                      <a:pt x="2748" y="2242"/>
                    </a:lnTo>
                    <a:lnTo>
                      <a:pt x="2634" y="2258"/>
                    </a:lnTo>
                    <a:lnTo>
                      <a:pt x="2626" y="2260"/>
                    </a:lnTo>
                    <a:lnTo>
                      <a:pt x="2620" y="2262"/>
                    </a:lnTo>
                    <a:lnTo>
                      <a:pt x="2614" y="2266"/>
                    </a:lnTo>
                    <a:lnTo>
                      <a:pt x="2610" y="2272"/>
                    </a:lnTo>
                    <a:lnTo>
                      <a:pt x="2606" y="2278"/>
                    </a:lnTo>
                    <a:lnTo>
                      <a:pt x="2604" y="2286"/>
                    </a:lnTo>
                    <a:lnTo>
                      <a:pt x="2602" y="2294"/>
                    </a:lnTo>
                    <a:lnTo>
                      <a:pt x="2604" y="2302"/>
                    </a:lnTo>
                    <a:lnTo>
                      <a:pt x="2630" y="2414"/>
                    </a:lnTo>
                    <a:lnTo>
                      <a:pt x="2630" y="2422"/>
                    </a:lnTo>
                    <a:lnTo>
                      <a:pt x="2630" y="2428"/>
                    </a:lnTo>
                    <a:lnTo>
                      <a:pt x="2628" y="2436"/>
                    </a:lnTo>
                    <a:lnTo>
                      <a:pt x="2624" y="2440"/>
                    </a:lnTo>
                    <a:lnTo>
                      <a:pt x="2620" y="2446"/>
                    </a:lnTo>
                    <a:lnTo>
                      <a:pt x="2614" y="2448"/>
                    </a:lnTo>
                    <a:lnTo>
                      <a:pt x="2606" y="2450"/>
                    </a:lnTo>
                    <a:lnTo>
                      <a:pt x="2598" y="2450"/>
                    </a:lnTo>
                    <a:lnTo>
                      <a:pt x="2484" y="2446"/>
                    </a:lnTo>
                    <a:lnTo>
                      <a:pt x="2476" y="2446"/>
                    </a:lnTo>
                    <a:lnTo>
                      <a:pt x="2468" y="2448"/>
                    </a:lnTo>
                    <a:lnTo>
                      <a:pt x="2462" y="2450"/>
                    </a:lnTo>
                    <a:lnTo>
                      <a:pt x="2456" y="2456"/>
                    </a:lnTo>
                    <a:lnTo>
                      <a:pt x="2450" y="2462"/>
                    </a:lnTo>
                    <a:lnTo>
                      <a:pt x="2448" y="2468"/>
                    </a:lnTo>
                    <a:lnTo>
                      <a:pt x="2446" y="2476"/>
                    </a:lnTo>
                    <a:lnTo>
                      <a:pt x="2446" y="2484"/>
                    </a:lnTo>
                    <a:lnTo>
                      <a:pt x="2450" y="2598"/>
                    </a:lnTo>
                    <a:lnTo>
                      <a:pt x="2450" y="2606"/>
                    </a:lnTo>
                    <a:lnTo>
                      <a:pt x="2448" y="2612"/>
                    </a:lnTo>
                    <a:lnTo>
                      <a:pt x="2446" y="2618"/>
                    </a:lnTo>
                    <a:lnTo>
                      <a:pt x="2440" y="2624"/>
                    </a:lnTo>
                    <a:lnTo>
                      <a:pt x="2436" y="2628"/>
                    </a:lnTo>
                    <a:lnTo>
                      <a:pt x="2428" y="2630"/>
                    </a:lnTo>
                    <a:lnTo>
                      <a:pt x="2422" y="2630"/>
                    </a:lnTo>
                    <a:lnTo>
                      <a:pt x="2414" y="2630"/>
                    </a:lnTo>
                    <a:lnTo>
                      <a:pt x="2302" y="2604"/>
                    </a:lnTo>
                    <a:lnTo>
                      <a:pt x="2294" y="2602"/>
                    </a:lnTo>
                    <a:lnTo>
                      <a:pt x="2286" y="2604"/>
                    </a:lnTo>
                    <a:lnTo>
                      <a:pt x="2278" y="2606"/>
                    </a:lnTo>
                    <a:lnTo>
                      <a:pt x="2272" y="2610"/>
                    </a:lnTo>
                    <a:lnTo>
                      <a:pt x="2266" y="2614"/>
                    </a:lnTo>
                    <a:lnTo>
                      <a:pt x="2262" y="2620"/>
                    </a:lnTo>
                    <a:lnTo>
                      <a:pt x="2260" y="2626"/>
                    </a:lnTo>
                    <a:lnTo>
                      <a:pt x="2258" y="2634"/>
                    </a:lnTo>
                    <a:lnTo>
                      <a:pt x="2244" y="2748"/>
                    </a:lnTo>
                    <a:lnTo>
                      <a:pt x="2242" y="2756"/>
                    </a:lnTo>
                    <a:lnTo>
                      <a:pt x="2238" y="2762"/>
                    </a:lnTo>
                    <a:lnTo>
                      <a:pt x="2234" y="2768"/>
                    </a:lnTo>
                    <a:lnTo>
                      <a:pt x="2228" y="2772"/>
                    </a:lnTo>
                    <a:lnTo>
                      <a:pt x="2222" y="2774"/>
                    </a:lnTo>
                    <a:lnTo>
                      <a:pt x="2216" y="2776"/>
                    </a:lnTo>
                    <a:lnTo>
                      <a:pt x="2208" y="2776"/>
                    </a:lnTo>
                    <a:lnTo>
                      <a:pt x="2202" y="2772"/>
                    </a:lnTo>
                    <a:lnTo>
                      <a:pt x="2094" y="2728"/>
                    </a:lnTo>
                    <a:lnTo>
                      <a:pt x="2088" y="2726"/>
                    </a:lnTo>
                    <a:lnTo>
                      <a:pt x="2080" y="2726"/>
                    </a:lnTo>
                    <a:lnTo>
                      <a:pt x="2072" y="2726"/>
                    </a:lnTo>
                    <a:lnTo>
                      <a:pt x="2066" y="2728"/>
                    </a:lnTo>
                    <a:lnTo>
                      <a:pt x="2060" y="2732"/>
                    </a:lnTo>
                    <a:lnTo>
                      <a:pt x="2054" y="2738"/>
                    </a:lnTo>
                    <a:lnTo>
                      <a:pt x="2050" y="2744"/>
                    </a:lnTo>
                    <a:lnTo>
                      <a:pt x="2046" y="2750"/>
                    </a:lnTo>
                    <a:lnTo>
                      <a:pt x="2012" y="2862"/>
                    </a:lnTo>
                    <a:lnTo>
                      <a:pt x="2010" y="2868"/>
                    </a:lnTo>
                    <a:lnTo>
                      <a:pt x="2006" y="2874"/>
                    </a:lnTo>
                    <a:lnTo>
                      <a:pt x="2000" y="2878"/>
                    </a:lnTo>
                    <a:lnTo>
                      <a:pt x="1994" y="2882"/>
                    </a:lnTo>
                    <a:lnTo>
                      <a:pt x="1988" y="2884"/>
                    </a:lnTo>
                    <a:lnTo>
                      <a:pt x="1980" y="2884"/>
                    </a:lnTo>
                    <a:lnTo>
                      <a:pt x="1974" y="2882"/>
                    </a:lnTo>
                    <a:lnTo>
                      <a:pt x="1966" y="2878"/>
                    </a:lnTo>
                    <a:lnTo>
                      <a:pt x="1870" y="2816"/>
                    </a:lnTo>
                    <a:lnTo>
                      <a:pt x="1862" y="2812"/>
                    </a:lnTo>
                    <a:lnTo>
                      <a:pt x="1856" y="2810"/>
                    </a:lnTo>
                    <a:lnTo>
                      <a:pt x="1848" y="2810"/>
                    </a:lnTo>
                    <a:lnTo>
                      <a:pt x="1840" y="2810"/>
                    </a:lnTo>
                    <a:lnTo>
                      <a:pt x="1834" y="2812"/>
                    </a:lnTo>
                    <a:lnTo>
                      <a:pt x="1828" y="2816"/>
                    </a:lnTo>
                    <a:lnTo>
                      <a:pt x="1822" y="2822"/>
                    </a:lnTo>
                    <a:lnTo>
                      <a:pt x="1818" y="2830"/>
                    </a:lnTo>
                    <a:lnTo>
                      <a:pt x="1766" y="2932"/>
                    </a:lnTo>
                    <a:lnTo>
                      <a:pt x="1762" y="2938"/>
                    </a:lnTo>
                    <a:lnTo>
                      <a:pt x="1756" y="2944"/>
                    </a:lnTo>
                    <a:lnTo>
                      <a:pt x="1750" y="2946"/>
                    </a:lnTo>
                    <a:lnTo>
                      <a:pt x="1744" y="2948"/>
                    </a:lnTo>
                    <a:lnTo>
                      <a:pt x="1738" y="2950"/>
                    </a:lnTo>
                    <a:lnTo>
                      <a:pt x="1730" y="2948"/>
                    </a:lnTo>
                    <a:lnTo>
                      <a:pt x="1724" y="2944"/>
                    </a:lnTo>
                    <a:lnTo>
                      <a:pt x="1718" y="2940"/>
                    </a:lnTo>
                    <a:lnTo>
                      <a:pt x="1634" y="2862"/>
                    </a:lnTo>
                    <a:lnTo>
                      <a:pt x="1626" y="2856"/>
                    </a:lnTo>
                    <a:lnTo>
                      <a:pt x="1620" y="2854"/>
                    </a:lnTo>
                    <a:lnTo>
                      <a:pt x="1612" y="2852"/>
                    </a:lnTo>
                    <a:lnTo>
                      <a:pt x="1606" y="2852"/>
                    </a:lnTo>
                    <a:lnTo>
                      <a:pt x="1598" y="2854"/>
                    </a:lnTo>
                    <a:lnTo>
                      <a:pt x="1592" y="2856"/>
                    </a:lnTo>
                    <a:lnTo>
                      <a:pt x="1586" y="2860"/>
                    </a:lnTo>
                    <a:lnTo>
                      <a:pt x="1580" y="2866"/>
                    </a:lnTo>
                    <a:lnTo>
                      <a:pt x="1510" y="2958"/>
                    </a:lnTo>
                    <a:lnTo>
                      <a:pt x="1504" y="2964"/>
                    </a:lnTo>
                    <a:lnTo>
                      <a:pt x="1498" y="2968"/>
                    </a:lnTo>
                    <a:lnTo>
                      <a:pt x="1492" y="2970"/>
                    </a:lnTo>
                    <a:lnTo>
                      <a:pt x="1486" y="2972"/>
                    </a:lnTo>
                    <a:lnTo>
                      <a:pt x="1480" y="2970"/>
                    </a:lnTo>
                    <a:lnTo>
                      <a:pt x="1474" y="2968"/>
                    </a:lnTo>
                    <a:lnTo>
                      <a:pt x="1468" y="2964"/>
                    </a:lnTo>
                    <a:lnTo>
                      <a:pt x="1462" y="2958"/>
                    </a:lnTo>
                    <a:lnTo>
                      <a:pt x="1392" y="2866"/>
                    </a:lnTo>
                    <a:lnTo>
                      <a:pt x="1386" y="2860"/>
                    </a:lnTo>
                    <a:lnTo>
                      <a:pt x="1380" y="2856"/>
                    </a:lnTo>
                    <a:lnTo>
                      <a:pt x="1374" y="2854"/>
                    </a:lnTo>
                    <a:lnTo>
                      <a:pt x="1366" y="2852"/>
                    </a:lnTo>
                    <a:lnTo>
                      <a:pt x="1360" y="2852"/>
                    </a:lnTo>
                    <a:lnTo>
                      <a:pt x="1352" y="2854"/>
                    </a:lnTo>
                    <a:lnTo>
                      <a:pt x="1346" y="2856"/>
                    </a:lnTo>
                    <a:lnTo>
                      <a:pt x="1338" y="2862"/>
                    </a:lnTo>
                    <a:lnTo>
                      <a:pt x="1254" y="2940"/>
                    </a:lnTo>
                    <a:lnTo>
                      <a:pt x="1248" y="2944"/>
                    </a:lnTo>
                    <a:lnTo>
                      <a:pt x="1242" y="2948"/>
                    </a:lnTo>
                    <a:lnTo>
                      <a:pt x="1234" y="2950"/>
                    </a:lnTo>
                    <a:lnTo>
                      <a:pt x="1228" y="2948"/>
                    </a:lnTo>
                    <a:lnTo>
                      <a:pt x="1222" y="2946"/>
                    </a:lnTo>
                    <a:lnTo>
                      <a:pt x="1216" y="2944"/>
                    </a:lnTo>
                    <a:lnTo>
                      <a:pt x="1210" y="2938"/>
                    </a:lnTo>
                    <a:lnTo>
                      <a:pt x="1206" y="2932"/>
                    </a:lnTo>
                    <a:lnTo>
                      <a:pt x="1154" y="2830"/>
                    </a:lnTo>
                    <a:lnTo>
                      <a:pt x="1150" y="2822"/>
                    </a:lnTo>
                    <a:lnTo>
                      <a:pt x="1144" y="2816"/>
                    </a:lnTo>
                    <a:lnTo>
                      <a:pt x="1138" y="2812"/>
                    </a:lnTo>
                    <a:lnTo>
                      <a:pt x="1132" y="2810"/>
                    </a:lnTo>
                    <a:lnTo>
                      <a:pt x="1124" y="2810"/>
                    </a:lnTo>
                    <a:lnTo>
                      <a:pt x="1116" y="2810"/>
                    </a:lnTo>
                    <a:lnTo>
                      <a:pt x="1110" y="2812"/>
                    </a:lnTo>
                    <a:lnTo>
                      <a:pt x="1102" y="2816"/>
                    </a:lnTo>
                    <a:lnTo>
                      <a:pt x="1006" y="2878"/>
                    </a:lnTo>
                    <a:lnTo>
                      <a:pt x="998" y="2882"/>
                    </a:lnTo>
                    <a:lnTo>
                      <a:pt x="992" y="2884"/>
                    </a:lnTo>
                    <a:lnTo>
                      <a:pt x="984" y="2884"/>
                    </a:lnTo>
                    <a:lnTo>
                      <a:pt x="978" y="2882"/>
                    </a:lnTo>
                    <a:lnTo>
                      <a:pt x="972" y="2878"/>
                    </a:lnTo>
                    <a:lnTo>
                      <a:pt x="968" y="2874"/>
                    </a:lnTo>
                    <a:lnTo>
                      <a:pt x="962" y="2868"/>
                    </a:lnTo>
                    <a:lnTo>
                      <a:pt x="960" y="2862"/>
                    </a:lnTo>
                    <a:lnTo>
                      <a:pt x="926" y="2750"/>
                    </a:lnTo>
                    <a:lnTo>
                      <a:pt x="922" y="2744"/>
                    </a:lnTo>
                    <a:lnTo>
                      <a:pt x="918" y="2738"/>
                    </a:lnTo>
                    <a:lnTo>
                      <a:pt x="912" y="2732"/>
                    </a:lnTo>
                    <a:lnTo>
                      <a:pt x="906" y="2728"/>
                    </a:lnTo>
                    <a:lnTo>
                      <a:pt x="900" y="2726"/>
                    </a:lnTo>
                    <a:lnTo>
                      <a:pt x="892" y="2726"/>
                    </a:lnTo>
                    <a:lnTo>
                      <a:pt x="884" y="2726"/>
                    </a:lnTo>
                    <a:lnTo>
                      <a:pt x="878" y="2728"/>
                    </a:lnTo>
                    <a:lnTo>
                      <a:pt x="770" y="2772"/>
                    </a:lnTo>
                    <a:lnTo>
                      <a:pt x="764" y="2776"/>
                    </a:lnTo>
                    <a:lnTo>
                      <a:pt x="756" y="2776"/>
                    </a:lnTo>
                    <a:lnTo>
                      <a:pt x="750" y="2774"/>
                    </a:lnTo>
                    <a:lnTo>
                      <a:pt x="744" y="2772"/>
                    </a:lnTo>
                    <a:lnTo>
                      <a:pt x="738" y="2768"/>
                    </a:lnTo>
                    <a:lnTo>
                      <a:pt x="734" y="2762"/>
                    </a:lnTo>
                    <a:lnTo>
                      <a:pt x="730" y="2756"/>
                    </a:lnTo>
                    <a:lnTo>
                      <a:pt x="728" y="2748"/>
                    </a:lnTo>
                    <a:lnTo>
                      <a:pt x="714" y="2634"/>
                    </a:lnTo>
                    <a:lnTo>
                      <a:pt x="712" y="2626"/>
                    </a:lnTo>
                    <a:lnTo>
                      <a:pt x="710" y="2620"/>
                    </a:lnTo>
                    <a:lnTo>
                      <a:pt x="706" y="2614"/>
                    </a:lnTo>
                    <a:lnTo>
                      <a:pt x="700" y="2610"/>
                    </a:lnTo>
                    <a:lnTo>
                      <a:pt x="694" y="2606"/>
                    </a:lnTo>
                    <a:lnTo>
                      <a:pt x="686" y="2604"/>
                    </a:lnTo>
                    <a:lnTo>
                      <a:pt x="678" y="2602"/>
                    </a:lnTo>
                    <a:lnTo>
                      <a:pt x="670" y="2604"/>
                    </a:lnTo>
                    <a:lnTo>
                      <a:pt x="558" y="2630"/>
                    </a:lnTo>
                    <a:lnTo>
                      <a:pt x="550" y="2630"/>
                    </a:lnTo>
                    <a:lnTo>
                      <a:pt x="544" y="2630"/>
                    </a:lnTo>
                    <a:lnTo>
                      <a:pt x="536" y="2628"/>
                    </a:lnTo>
                    <a:lnTo>
                      <a:pt x="532" y="2624"/>
                    </a:lnTo>
                    <a:lnTo>
                      <a:pt x="526" y="2618"/>
                    </a:lnTo>
                    <a:lnTo>
                      <a:pt x="524" y="2612"/>
                    </a:lnTo>
                    <a:lnTo>
                      <a:pt x="522" y="2606"/>
                    </a:lnTo>
                    <a:lnTo>
                      <a:pt x="522" y="2598"/>
                    </a:lnTo>
                    <a:lnTo>
                      <a:pt x="526" y="2484"/>
                    </a:lnTo>
                    <a:lnTo>
                      <a:pt x="526" y="2476"/>
                    </a:lnTo>
                    <a:lnTo>
                      <a:pt x="524" y="2468"/>
                    </a:lnTo>
                    <a:lnTo>
                      <a:pt x="522" y="2462"/>
                    </a:lnTo>
                    <a:lnTo>
                      <a:pt x="516" y="2456"/>
                    </a:lnTo>
                    <a:lnTo>
                      <a:pt x="510" y="2450"/>
                    </a:lnTo>
                    <a:lnTo>
                      <a:pt x="504" y="2448"/>
                    </a:lnTo>
                    <a:lnTo>
                      <a:pt x="496" y="2446"/>
                    </a:lnTo>
                    <a:lnTo>
                      <a:pt x="488" y="2446"/>
                    </a:lnTo>
                    <a:lnTo>
                      <a:pt x="374" y="2450"/>
                    </a:lnTo>
                    <a:lnTo>
                      <a:pt x="366" y="2450"/>
                    </a:lnTo>
                    <a:lnTo>
                      <a:pt x="358" y="2448"/>
                    </a:lnTo>
                    <a:lnTo>
                      <a:pt x="352" y="2446"/>
                    </a:lnTo>
                    <a:lnTo>
                      <a:pt x="348" y="2440"/>
                    </a:lnTo>
                    <a:lnTo>
                      <a:pt x="344" y="2436"/>
                    </a:lnTo>
                    <a:lnTo>
                      <a:pt x="342" y="2428"/>
                    </a:lnTo>
                    <a:lnTo>
                      <a:pt x="342" y="2422"/>
                    </a:lnTo>
                    <a:lnTo>
                      <a:pt x="342" y="2414"/>
                    </a:lnTo>
                    <a:lnTo>
                      <a:pt x="368" y="2302"/>
                    </a:lnTo>
                    <a:lnTo>
                      <a:pt x="370" y="2294"/>
                    </a:lnTo>
                    <a:lnTo>
                      <a:pt x="368" y="2286"/>
                    </a:lnTo>
                    <a:lnTo>
                      <a:pt x="366" y="2278"/>
                    </a:lnTo>
                    <a:lnTo>
                      <a:pt x="362" y="2272"/>
                    </a:lnTo>
                    <a:lnTo>
                      <a:pt x="358" y="2266"/>
                    </a:lnTo>
                    <a:lnTo>
                      <a:pt x="352" y="2262"/>
                    </a:lnTo>
                    <a:lnTo>
                      <a:pt x="346" y="2260"/>
                    </a:lnTo>
                    <a:lnTo>
                      <a:pt x="338" y="2258"/>
                    </a:lnTo>
                    <a:lnTo>
                      <a:pt x="224" y="2242"/>
                    </a:lnTo>
                    <a:lnTo>
                      <a:pt x="216" y="2242"/>
                    </a:lnTo>
                    <a:lnTo>
                      <a:pt x="208" y="2238"/>
                    </a:lnTo>
                    <a:lnTo>
                      <a:pt x="204" y="2234"/>
                    </a:lnTo>
                    <a:lnTo>
                      <a:pt x="200" y="2228"/>
                    </a:lnTo>
                    <a:lnTo>
                      <a:pt x="198" y="2222"/>
                    </a:lnTo>
                    <a:lnTo>
                      <a:pt x="196" y="2216"/>
                    </a:lnTo>
                    <a:lnTo>
                      <a:pt x="196" y="2208"/>
                    </a:lnTo>
                    <a:lnTo>
                      <a:pt x="198" y="2202"/>
                    </a:lnTo>
                    <a:lnTo>
                      <a:pt x="244" y="2094"/>
                    </a:lnTo>
                    <a:lnTo>
                      <a:pt x="246" y="2088"/>
                    </a:lnTo>
                    <a:lnTo>
                      <a:pt x="246" y="2080"/>
                    </a:lnTo>
                    <a:lnTo>
                      <a:pt x="246" y="2072"/>
                    </a:lnTo>
                    <a:lnTo>
                      <a:pt x="244" y="2066"/>
                    </a:lnTo>
                    <a:lnTo>
                      <a:pt x="240" y="2060"/>
                    </a:lnTo>
                    <a:lnTo>
                      <a:pt x="234" y="2054"/>
                    </a:lnTo>
                    <a:lnTo>
                      <a:pt x="228" y="2050"/>
                    </a:lnTo>
                    <a:lnTo>
                      <a:pt x="220" y="2046"/>
                    </a:lnTo>
                    <a:lnTo>
                      <a:pt x="110" y="2012"/>
                    </a:lnTo>
                    <a:lnTo>
                      <a:pt x="104" y="2010"/>
                    </a:lnTo>
                    <a:lnTo>
                      <a:pt x="98" y="2004"/>
                    </a:lnTo>
                    <a:lnTo>
                      <a:pt x="94" y="2000"/>
                    </a:lnTo>
                    <a:lnTo>
                      <a:pt x="90" y="1994"/>
                    </a:lnTo>
                    <a:lnTo>
                      <a:pt x="88" y="1988"/>
                    </a:lnTo>
                    <a:lnTo>
                      <a:pt x="88" y="1980"/>
                    </a:lnTo>
                    <a:lnTo>
                      <a:pt x="90" y="1974"/>
                    </a:lnTo>
                    <a:lnTo>
                      <a:pt x="94" y="1966"/>
                    </a:lnTo>
                    <a:lnTo>
                      <a:pt x="156" y="1870"/>
                    </a:lnTo>
                    <a:lnTo>
                      <a:pt x="160" y="1862"/>
                    </a:lnTo>
                    <a:lnTo>
                      <a:pt x="162" y="1856"/>
                    </a:lnTo>
                    <a:lnTo>
                      <a:pt x="162" y="1848"/>
                    </a:lnTo>
                    <a:lnTo>
                      <a:pt x="162" y="1840"/>
                    </a:lnTo>
                    <a:lnTo>
                      <a:pt x="160" y="1834"/>
                    </a:lnTo>
                    <a:lnTo>
                      <a:pt x="154" y="1828"/>
                    </a:lnTo>
                    <a:lnTo>
                      <a:pt x="150" y="1822"/>
                    </a:lnTo>
                    <a:lnTo>
                      <a:pt x="142" y="1818"/>
                    </a:lnTo>
                    <a:lnTo>
                      <a:pt x="40" y="1766"/>
                    </a:lnTo>
                    <a:lnTo>
                      <a:pt x="34" y="1762"/>
                    </a:lnTo>
                    <a:lnTo>
                      <a:pt x="28" y="1756"/>
                    </a:lnTo>
                    <a:lnTo>
                      <a:pt x="26" y="1750"/>
                    </a:lnTo>
                    <a:lnTo>
                      <a:pt x="24" y="1744"/>
                    </a:lnTo>
                    <a:lnTo>
                      <a:pt x="22" y="1738"/>
                    </a:lnTo>
                    <a:lnTo>
                      <a:pt x="24" y="1730"/>
                    </a:lnTo>
                    <a:lnTo>
                      <a:pt x="28" y="1724"/>
                    </a:lnTo>
                    <a:lnTo>
                      <a:pt x="32" y="1718"/>
                    </a:lnTo>
                    <a:lnTo>
                      <a:pt x="110" y="1634"/>
                    </a:lnTo>
                    <a:lnTo>
                      <a:pt x="116" y="1626"/>
                    </a:lnTo>
                    <a:lnTo>
                      <a:pt x="118" y="1620"/>
                    </a:lnTo>
                    <a:lnTo>
                      <a:pt x="120" y="1612"/>
                    </a:lnTo>
                    <a:lnTo>
                      <a:pt x="120" y="1606"/>
                    </a:lnTo>
                    <a:lnTo>
                      <a:pt x="118" y="1598"/>
                    </a:lnTo>
                    <a:lnTo>
                      <a:pt x="116" y="1592"/>
                    </a:lnTo>
                    <a:lnTo>
                      <a:pt x="112" y="1586"/>
                    </a:lnTo>
                    <a:lnTo>
                      <a:pt x="106" y="1580"/>
                    </a:lnTo>
                    <a:lnTo>
                      <a:pt x="14" y="1510"/>
                    </a:lnTo>
                    <a:lnTo>
                      <a:pt x="8" y="1504"/>
                    </a:lnTo>
                    <a:lnTo>
                      <a:pt x="4" y="1498"/>
                    </a:lnTo>
                    <a:lnTo>
                      <a:pt x="2" y="1492"/>
                    </a:lnTo>
                    <a:lnTo>
                      <a:pt x="0" y="1486"/>
                    </a:lnTo>
                    <a:lnTo>
                      <a:pt x="2" y="1480"/>
                    </a:lnTo>
                    <a:lnTo>
                      <a:pt x="4" y="1474"/>
                    </a:lnTo>
                    <a:lnTo>
                      <a:pt x="8" y="1468"/>
                    </a:lnTo>
                    <a:lnTo>
                      <a:pt x="14" y="1462"/>
                    </a:lnTo>
                    <a:lnTo>
                      <a:pt x="106" y="1392"/>
                    </a:lnTo>
                    <a:lnTo>
                      <a:pt x="112" y="1386"/>
                    </a:lnTo>
                    <a:lnTo>
                      <a:pt x="116" y="1380"/>
                    </a:lnTo>
                    <a:lnTo>
                      <a:pt x="118" y="1374"/>
                    </a:lnTo>
                    <a:lnTo>
                      <a:pt x="120" y="1366"/>
                    </a:lnTo>
                    <a:lnTo>
                      <a:pt x="120" y="1360"/>
                    </a:lnTo>
                    <a:lnTo>
                      <a:pt x="118" y="1352"/>
                    </a:lnTo>
                    <a:lnTo>
                      <a:pt x="116" y="1344"/>
                    </a:lnTo>
                    <a:lnTo>
                      <a:pt x="110" y="1338"/>
                    </a:lnTo>
                    <a:lnTo>
                      <a:pt x="32" y="1254"/>
                    </a:lnTo>
                    <a:lnTo>
                      <a:pt x="28" y="1248"/>
                    </a:lnTo>
                    <a:lnTo>
                      <a:pt x="24" y="1242"/>
                    </a:lnTo>
                    <a:lnTo>
                      <a:pt x="22" y="1234"/>
                    </a:lnTo>
                    <a:lnTo>
                      <a:pt x="24" y="1228"/>
                    </a:lnTo>
                    <a:lnTo>
                      <a:pt x="26" y="1222"/>
                    </a:lnTo>
                    <a:lnTo>
                      <a:pt x="28" y="1216"/>
                    </a:lnTo>
                    <a:lnTo>
                      <a:pt x="34" y="1210"/>
                    </a:lnTo>
                    <a:lnTo>
                      <a:pt x="40" y="1206"/>
                    </a:lnTo>
                    <a:lnTo>
                      <a:pt x="142" y="1154"/>
                    </a:lnTo>
                    <a:lnTo>
                      <a:pt x="150" y="1150"/>
                    </a:lnTo>
                    <a:lnTo>
                      <a:pt x="154" y="1144"/>
                    </a:lnTo>
                    <a:lnTo>
                      <a:pt x="160" y="1138"/>
                    </a:lnTo>
                    <a:lnTo>
                      <a:pt x="162" y="1132"/>
                    </a:lnTo>
                    <a:lnTo>
                      <a:pt x="162" y="1124"/>
                    </a:lnTo>
                    <a:lnTo>
                      <a:pt x="162" y="1116"/>
                    </a:lnTo>
                    <a:lnTo>
                      <a:pt x="160" y="1110"/>
                    </a:lnTo>
                    <a:lnTo>
                      <a:pt x="156" y="1102"/>
                    </a:lnTo>
                    <a:lnTo>
                      <a:pt x="94" y="1006"/>
                    </a:lnTo>
                    <a:lnTo>
                      <a:pt x="90" y="998"/>
                    </a:lnTo>
                    <a:lnTo>
                      <a:pt x="88" y="992"/>
                    </a:lnTo>
                    <a:lnTo>
                      <a:pt x="88" y="984"/>
                    </a:lnTo>
                    <a:lnTo>
                      <a:pt x="90" y="978"/>
                    </a:lnTo>
                    <a:lnTo>
                      <a:pt x="94" y="972"/>
                    </a:lnTo>
                    <a:lnTo>
                      <a:pt x="98" y="966"/>
                    </a:lnTo>
                    <a:lnTo>
                      <a:pt x="104" y="962"/>
                    </a:lnTo>
                    <a:lnTo>
                      <a:pt x="110" y="960"/>
                    </a:lnTo>
                    <a:lnTo>
                      <a:pt x="220" y="926"/>
                    </a:lnTo>
                    <a:lnTo>
                      <a:pt x="228" y="922"/>
                    </a:lnTo>
                    <a:lnTo>
                      <a:pt x="234" y="918"/>
                    </a:lnTo>
                    <a:lnTo>
                      <a:pt x="240" y="912"/>
                    </a:lnTo>
                    <a:lnTo>
                      <a:pt x="244" y="906"/>
                    </a:lnTo>
                    <a:lnTo>
                      <a:pt x="246" y="900"/>
                    </a:lnTo>
                    <a:lnTo>
                      <a:pt x="246" y="892"/>
                    </a:lnTo>
                    <a:lnTo>
                      <a:pt x="246" y="884"/>
                    </a:lnTo>
                    <a:lnTo>
                      <a:pt x="244" y="876"/>
                    </a:lnTo>
                    <a:lnTo>
                      <a:pt x="198" y="770"/>
                    </a:lnTo>
                    <a:lnTo>
                      <a:pt x="196" y="764"/>
                    </a:lnTo>
                    <a:lnTo>
                      <a:pt x="196" y="756"/>
                    </a:lnTo>
                    <a:lnTo>
                      <a:pt x="198" y="750"/>
                    </a:lnTo>
                    <a:lnTo>
                      <a:pt x="200" y="744"/>
                    </a:lnTo>
                    <a:lnTo>
                      <a:pt x="204" y="738"/>
                    </a:lnTo>
                    <a:lnTo>
                      <a:pt x="208" y="734"/>
                    </a:lnTo>
                    <a:lnTo>
                      <a:pt x="216" y="730"/>
                    </a:lnTo>
                    <a:lnTo>
                      <a:pt x="224" y="728"/>
                    </a:lnTo>
                    <a:lnTo>
                      <a:pt x="338" y="714"/>
                    </a:lnTo>
                    <a:lnTo>
                      <a:pt x="346" y="712"/>
                    </a:lnTo>
                    <a:lnTo>
                      <a:pt x="352" y="710"/>
                    </a:lnTo>
                    <a:lnTo>
                      <a:pt x="358" y="704"/>
                    </a:lnTo>
                    <a:lnTo>
                      <a:pt x="362" y="700"/>
                    </a:lnTo>
                    <a:lnTo>
                      <a:pt x="366" y="694"/>
                    </a:lnTo>
                    <a:lnTo>
                      <a:pt x="368" y="686"/>
                    </a:lnTo>
                    <a:lnTo>
                      <a:pt x="370" y="678"/>
                    </a:lnTo>
                    <a:lnTo>
                      <a:pt x="368" y="670"/>
                    </a:lnTo>
                    <a:lnTo>
                      <a:pt x="342" y="558"/>
                    </a:lnTo>
                    <a:lnTo>
                      <a:pt x="342" y="550"/>
                    </a:lnTo>
                    <a:lnTo>
                      <a:pt x="342" y="544"/>
                    </a:lnTo>
                    <a:lnTo>
                      <a:pt x="344" y="536"/>
                    </a:lnTo>
                    <a:lnTo>
                      <a:pt x="348" y="532"/>
                    </a:lnTo>
                    <a:lnTo>
                      <a:pt x="352" y="526"/>
                    </a:lnTo>
                    <a:lnTo>
                      <a:pt x="358" y="524"/>
                    </a:lnTo>
                    <a:lnTo>
                      <a:pt x="366" y="522"/>
                    </a:lnTo>
                    <a:lnTo>
                      <a:pt x="374" y="522"/>
                    </a:lnTo>
                    <a:lnTo>
                      <a:pt x="488" y="526"/>
                    </a:lnTo>
                    <a:lnTo>
                      <a:pt x="496" y="526"/>
                    </a:lnTo>
                    <a:lnTo>
                      <a:pt x="504" y="524"/>
                    </a:lnTo>
                    <a:lnTo>
                      <a:pt x="510" y="520"/>
                    </a:lnTo>
                    <a:lnTo>
                      <a:pt x="516" y="516"/>
                    </a:lnTo>
                    <a:lnTo>
                      <a:pt x="522" y="510"/>
                    </a:lnTo>
                    <a:lnTo>
                      <a:pt x="524" y="504"/>
                    </a:lnTo>
                    <a:lnTo>
                      <a:pt x="526" y="496"/>
                    </a:lnTo>
                    <a:lnTo>
                      <a:pt x="526" y="488"/>
                    </a:lnTo>
                    <a:lnTo>
                      <a:pt x="522" y="374"/>
                    </a:lnTo>
                    <a:lnTo>
                      <a:pt x="522" y="366"/>
                    </a:lnTo>
                    <a:lnTo>
                      <a:pt x="524" y="358"/>
                    </a:lnTo>
                    <a:lnTo>
                      <a:pt x="526" y="352"/>
                    </a:lnTo>
                    <a:lnTo>
                      <a:pt x="532" y="348"/>
                    </a:lnTo>
                    <a:lnTo>
                      <a:pt x="536" y="344"/>
                    </a:lnTo>
                    <a:lnTo>
                      <a:pt x="544" y="342"/>
                    </a:lnTo>
                    <a:lnTo>
                      <a:pt x="550" y="342"/>
                    </a:lnTo>
                    <a:lnTo>
                      <a:pt x="558" y="342"/>
                    </a:lnTo>
                    <a:lnTo>
                      <a:pt x="670" y="368"/>
                    </a:lnTo>
                    <a:lnTo>
                      <a:pt x="678" y="370"/>
                    </a:lnTo>
                    <a:lnTo>
                      <a:pt x="686" y="368"/>
                    </a:lnTo>
                    <a:lnTo>
                      <a:pt x="694" y="366"/>
                    </a:lnTo>
                    <a:lnTo>
                      <a:pt x="700" y="362"/>
                    </a:lnTo>
                    <a:lnTo>
                      <a:pt x="706" y="358"/>
                    </a:lnTo>
                    <a:lnTo>
                      <a:pt x="710" y="352"/>
                    </a:lnTo>
                    <a:lnTo>
                      <a:pt x="712" y="346"/>
                    </a:lnTo>
                    <a:lnTo>
                      <a:pt x="714" y="338"/>
                    </a:lnTo>
                    <a:lnTo>
                      <a:pt x="728" y="224"/>
                    </a:lnTo>
                    <a:lnTo>
                      <a:pt x="730" y="216"/>
                    </a:lnTo>
                    <a:lnTo>
                      <a:pt x="734" y="208"/>
                    </a:lnTo>
                    <a:lnTo>
                      <a:pt x="738" y="204"/>
                    </a:lnTo>
                    <a:lnTo>
                      <a:pt x="744" y="200"/>
                    </a:lnTo>
                    <a:lnTo>
                      <a:pt x="750" y="196"/>
                    </a:lnTo>
                    <a:lnTo>
                      <a:pt x="756" y="196"/>
                    </a:lnTo>
                    <a:lnTo>
                      <a:pt x="764" y="196"/>
                    </a:lnTo>
                    <a:lnTo>
                      <a:pt x="770" y="198"/>
                    </a:lnTo>
                    <a:lnTo>
                      <a:pt x="878" y="244"/>
                    </a:lnTo>
                    <a:lnTo>
                      <a:pt x="884" y="246"/>
                    </a:lnTo>
                    <a:lnTo>
                      <a:pt x="892" y="246"/>
                    </a:lnTo>
                    <a:lnTo>
                      <a:pt x="900" y="246"/>
                    </a:lnTo>
                    <a:lnTo>
                      <a:pt x="906" y="244"/>
                    </a:lnTo>
                    <a:lnTo>
                      <a:pt x="912" y="240"/>
                    </a:lnTo>
                    <a:lnTo>
                      <a:pt x="918" y="234"/>
                    </a:lnTo>
                    <a:lnTo>
                      <a:pt x="922" y="228"/>
                    </a:lnTo>
                    <a:lnTo>
                      <a:pt x="926" y="220"/>
                    </a:lnTo>
                    <a:lnTo>
                      <a:pt x="960" y="110"/>
                    </a:lnTo>
                    <a:lnTo>
                      <a:pt x="962" y="104"/>
                    </a:lnTo>
                    <a:lnTo>
                      <a:pt x="968" y="98"/>
                    </a:lnTo>
                    <a:lnTo>
                      <a:pt x="972" y="94"/>
                    </a:lnTo>
                    <a:lnTo>
                      <a:pt x="978" y="90"/>
                    </a:lnTo>
                    <a:lnTo>
                      <a:pt x="984" y="88"/>
                    </a:lnTo>
                    <a:lnTo>
                      <a:pt x="992" y="88"/>
                    </a:lnTo>
                    <a:lnTo>
                      <a:pt x="998" y="90"/>
                    </a:lnTo>
                    <a:lnTo>
                      <a:pt x="1006" y="94"/>
                    </a:lnTo>
                    <a:lnTo>
                      <a:pt x="1102" y="156"/>
                    </a:lnTo>
                    <a:lnTo>
                      <a:pt x="1110" y="160"/>
                    </a:lnTo>
                    <a:lnTo>
                      <a:pt x="1116" y="162"/>
                    </a:lnTo>
                    <a:lnTo>
                      <a:pt x="1124" y="162"/>
                    </a:lnTo>
                    <a:lnTo>
                      <a:pt x="1132" y="162"/>
                    </a:lnTo>
                    <a:lnTo>
                      <a:pt x="1138" y="158"/>
                    </a:lnTo>
                    <a:lnTo>
                      <a:pt x="1144" y="154"/>
                    </a:lnTo>
                    <a:lnTo>
                      <a:pt x="1150" y="150"/>
                    </a:lnTo>
                    <a:lnTo>
                      <a:pt x="1154" y="142"/>
                    </a:lnTo>
                    <a:lnTo>
                      <a:pt x="1206" y="40"/>
                    </a:lnTo>
                    <a:lnTo>
                      <a:pt x="1210" y="34"/>
                    </a:lnTo>
                    <a:lnTo>
                      <a:pt x="1216" y="28"/>
                    </a:lnTo>
                    <a:lnTo>
                      <a:pt x="1222" y="26"/>
                    </a:lnTo>
                    <a:lnTo>
                      <a:pt x="1228" y="24"/>
                    </a:lnTo>
                    <a:lnTo>
                      <a:pt x="1234" y="22"/>
                    </a:lnTo>
                    <a:lnTo>
                      <a:pt x="1242" y="24"/>
                    </a:lnTo>
                    <a:lnTo>
                      <a:pt x="1248" y="28"/>
                    </a:lnTo>
                    <a:lnTo>
                      <a:pt x="1254" y="32"/>
                    </a:lnTo>
                    <a:lnTo>
                      <a:pt x="1338" y="110"/>
                    </a:lnTo>
                    <a:lnTo>
                      <a:pt x="1346" y="116"/>
                    </a:lnTo>
                    <a:lnTo>
                      <a:pt x="1352" y="118"/>
                    </a:lnTo>
                    <a:lnTo>
                      <a:pt x="1360" y="120"/>
                    </a:lnTo>
                    <a:lnTo>
                      <a:pt x="1366" y="120"/>
                    </a:lnTo>
                    <a:lnTo>
                      <a:pt x="1374" y="118"/>
                    </a:lnTo>
                    <a:lnTo>
                      <a:pt x="1380" y="116"/>
                    </a:lnTo>
                    <a:lnTo>
                      <a:pt x="1386" y="112"/>
                    </a:lnTo>
                    <a:lnTo>
                      <a:pt x="1392" y="106"/>
                    </a:lnTo>
                    <a:lnTo>
                      <a:pt x="1462" y="14"/>
                    </a:lnTo>
                    <a:close/>
                  </a:path>
                </a:pathLst>
              </a:custGeom>
              <a:solidFill>
                <a:schemeClr val="bg1"/>
              </a:solidFill>
              <a:ln w="38100">
                <a:solidFill>
                  <a:srgbClr val="6ba42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4" name="Freeform 7"/>
              <p:cNvSpPr/>
              <p:nvPr/>
            </p:nvSpPr>
            <p:spPr>
              <a:xfrm>
                <a:off x="5149800" y="5149440"/>
                <a:ext cx="814680" cy="813600"/>
              </a:xfrm>
              <a:custGeom>
                <a:avLst/>
                <a:gdLst>
                  <a:gd name="textAreaLeft" fmla="*/ 0 w 814680"/>
                  <a:gd name="textAreaRight" fmla="*/ 815040 w 814680"/>
                  <a:gd name="textAreaTop" fmla="*/ 0 h 813600"/>
                  <a:gd name="textAreaBottom" fmla="*/ 813960 h 813600"/>
                </a:gdLst>
                <a:ahLst/>
                <a:rect l="textAreaLeft" t="textAreaTop" r="textAreaRight" b="textAreaBottom"/>
                <a:pathLst>
                  <a:path w="1680" h="1680">
                    <a:moveTo>
                      <a:pt x="1680" y="840"/>
                    </a:moveTo>
                    <a:lnTo>
                      <a:pt x="1680" y="840"/>
                    </a:lnTo>
                    <a:lnTo>
                      <a:pt x="1680" y="884"/>
                    </a:lnTo>
                    <a:lnTo>
                      <a:pt x="1676" y="926"/>
                    </a:lnTo>
                    <a:lnTo>
                      <a:pt x="1672" y="968"/>
                    </a:lnTo>
                    <a:lnTo>
                      <a:pt x="1664" y="1010"/>
                    </a:lnTo>
                    <a:lnTo>
                      <a:pt x="1654" y="1050"/>
                    </a:lnTo>
                    <a:lnTo>
                      <a:pt x="1642" y="1090"/>
                    </a:lnTo>
                    <a:lnTo>
                      <a:pt x="1630" y="1130"/>
                    </a:lnTo>
                    <a:lnTo>
                      <a:pt x="1614" y="1168"/>
                    </a:lnTo>
                    <a:lnTo>
                      <a:pt x="1598" y="1204"/>
                    </a:lnTo>
                    <a:lnTo>
                      <a:pt x="1580" y="1240"/>
                    </a:lnTo>
                    <a:lnTo>
                      <a:pt x="1560" y="1276"/>
                    </a:lnTo>
                    <a:lnTo>
                      <a:pt x="1538" y="1310"/>
                    </a:lnTo>
                    <a:lnTo>
                      <a:pt x="1514" y="1342"/>
                    </a:lnTo>
                    <a:lnTo>
                      <a:pt x="1488" y="1374"/>
                    </a:lnTo>
                    <a:lnTo>
                      <a:pt x="1462" y="1404"/>
                    </a:lnTo>
                    <a:lnTo>
                      <a:pt x="1434" y="1434"/>
                    </a:lnTo>
                    <a:lnTo>
                      <a:pt x="1406" y="1462"/>
                    </a:lnTo>
                    <a:lnTo>
                      <a:pt x="1376" y="1488"/>
                    </a:lnTo>
                    <a:lnTo>
                      <a:pt x="1344" y="1514"/>
                    </a:lnTo>
                    <a:lnTo>
                      <a:pt x="1310" y="1536"/>
                    </a:lnTo>
                    <a:lnTo>
                      <a:pt x="1276" y="1558"/>
                    </a:lnTo>
                    <a:lnTo>
                      <a:pt x="1242" y="1578"/>
                    </a:lnTo>
                    <a:lnTo>
                      <a:pt x="1204" y="1598"/>
                    </a:lnTo>
                    <a:lnTo>
                      <a:pt x="1168" y="1614"/>
                    </a:lnTo>
                    <a:lnTo>
                      <a:pt x="1130" y="1630"/>
                    </a:lnTo>
                    <a:lnTo>
                      <a:pt x="1090" y="1642"/>
                    </a:lnTo>
                    <a:lnTo>
                      <a:pt x="1050" y="1654"/>
                    </a:lnTo>
                    <a:lnTo>
                      <a:pt x="1010" y="1664"/>
                    </a:lnTo>
                    <a:lnTo>
                      <a:pt x="968" y="1670"/>
                    </a:lnTo>
                    <a:lnTo>
                      <a:pt x="926" y="1676"/>
                    </a:lnTo>
                    <a:lnTo>
                      <a:pt x="884" y="1680"/>
                    </a:lnTo>
                    <a:lnTo>
                      <a:pt x="840" y="1680"/>
                    </a:lnTo>
                    <a:lnTo>
                      <a:pt x="798" y="1680"/>
                    </a:lnTo>
                    <a:lnTo>
                      <a:pt x="754" y="1676"/>
                    </a:lnTo>
                    <a:lnTo>
                      <a:pt x="712" y="1670"/>
                    </a:lnTo>
                    <a:lnTo>
                      <a:pt x="672" y="1664"/>
                    </a:lnTo>
                    <a:lnTo>
                      <a:pt x="630" y="1654"/>
                    </a:lnTo>
                    <a:lnTo>
                      <a:pt x="590" y="1642"/>
                    </a:lnTo>
                    <a:lnTo>
                      <a:pt x="552" y="1630"/>
                    </a:lnTo>
                    <a:lnTo>
                      <a:pt x="514" y="1614"/>
                    </a:lnTo>
                    <a:lnTo>
                      <a:pt x="476" y="1598"/>
                    </a:lnTo>
                    <a:lnTo>
                      <a:pt x="440" y="1578"/>
                    </a:lnTo>
                    <a:lnTo>
                      <a:pt x="406" y="1558"/>
                    </a:lnTo>
                    <a:lnTo>
                      <a:pt x="372" y="1536"/>
                    </a:lnTo>
                    <a:lnTo>
                      <a:pt x="338" y="1514"/>
                    </a:lnTo>
                    <a:lnTo>
                      <a:pt x="306" y="1488"/>
                    </a:lnTo>
                    <a:lnTo>
                      <a:pt x="276" y="1462"/>
                    </a:lnTo>
                    <a:lnTo>
                      <a:pt x="246" y="1434"/>
                    </a:lnTo>
                    <a:lnTo>
                      <a:pt x="218" y="1404"/>
                    </a:lnTo>
                    <a:lnTo>
                      <a:pt x="192" y="1374"/>
                    </a:lnTo>
                    <a:lnTo>
                      <a:pt x="168" y="1342"/>
                    </a:lnTo>
                    <a:lnTo>
                      <a:pt x="144" y="1310"/>
                    </a:lnTo>
                    <a:lnTo>
                      <a:pt x="122" y="1276"/>
                    </a:lnTo>
                    <a:lnTo>
                      <a:pt x="102" y="1240"/>
                    </a:lnTo>
                    <a:lnTo>
                      <a:pt x="84" y="1204"/>
                    </a:lnTo>
                    <a:lnTo>
                      <a:pt x="66" y="1168"/>
                    </a:lnTo>
                    <a:lnTo>
                      <a:pt x="52" y="1130"/>
                    </a:lnTo>
                    <a:lnTo>
                      <a:pt x="38" y="1090"/>
                    </a:lnTo>
                    <a:lnTo>
                      <a:pt x="28" y="1050"/>
                    </a:lnTo>
                    <a:lnTo>
                      <a:pt x="18" y="1010"/>
                    </a:lnTo>
                    <a:lnTo>
                      <a:pt x="10" y="968"/>
                    </a:lnTo>
                    <a:lnTo>
                      <a:pt x="6" y="926"/>
                    </a:lnTo>
                    <a:lnTo>
                      <a:pt x="2" y="884"/>
                    </a:lnTo>
                    <a:lnTo>
                      <a:pt x="0" y="840"/>
                    </a:lnTo>
                    <a:lnTo>
                      <a:pt x="2" y="796"/>
                    </a:lnTo>
                    <a:lnTo>
                      <a:pt x="6" y="754"/>
                    </a:lnTo>
                    <a:lnTo>
                      <a:pt x="10" y="712"/>
                    </a:lnTo>
                    <a:lnTo>
                      <a:pt x="18" y="670"/>
                    </a:lnTo>
                    <a:lnTo>
                      <a:pt x="28" y="630"/>
                    </a:lnTo>
                    <a:lnTo>
                      <a:pt x="38" y="590"/>
                    </a:lnTo>
                    <a:lnTo>
                      <a:pt x="52" y="552"/>
                    </a:lnTo>
                    <a:lnTo>
                      <a:pt x="66" y="514"/>
                    </a:lnTo>
                    <a:lnTo>
                      <a:pt x="84" y="476"/>
                    </a:lnTo>
                    <a:lnTo>
                      <a:pt x="102" y="440"/>
                    </a:lnTo>
                    <a:lnTo>
                      <a:pt x="122" y="404"/>
                    </a:lnTo>
                    <a:lnTo>
                      <a:pt x="144" y="370"/>
                    </a:lnTo>
                    <a:lnTo>
                      <a:pt x="168" y="338"/>
                    </a:lnTo>
                    <a:lnTo>
                      <a:pt x="192" y="306"/>
                    </a:lnTo>
                    <a:lnTo>
                      <a:pt x="218" y="276"/>
                    </a:lnTo>
                    <a:lnTo>
                      <a:pt x="246" y="246"/>
                    </a:lnTo>
                    <a:lnTo>
                      <a:pt x="276" y="218"/>
                    </a:lnTo>
                    <a:lnTo>
                      <a:pt x="306" y="192"/>
                    </a:lnTo>
                    <a:lnTo>
                      <a:pt x="338" y="168"/>
                    </a:lnTo>
                    <a:lnTo>
                      <a:pt x="372" y="144"/>
                    </a:lnTo>
                    <a:lnTo>
                      <a:pt x="406" y="122"/>
                    </a:lnTo>
                    <a:lnTo>
                      <a:pt x="440" y="102"/>
                    </a:lnTo>
                    <a:lnTo>
                      <a:pt x="476" y="84"/>
                    </a:lnTo>
                    <a:lnTo>
                      <a:pt x="514" y="66"/>
                    </a:lnTo>
                    <a:lnTo>
                      <a:pt x="552" y="52"/>
                    </a:lnTo>
                    <a:lnTo>
                      <a:pt x="590" y="38"/>
                    </a:lnTo>
                    <a:lnTo>
                      <a:pt x="630" y="26"/>
                    </a:lnTo>
                    <a:lnTo>
                      <a:pt x="672" y="18"/>
                    </a:lnTo>
                    <a:lnTo>
                      <a:pt x="712" y="10"/>
                    </a:lnTo>
                    <a:lnTo>
                      <a:pt x="754" y="4"/>
                    </a:lnTo>
                    <a:lnTo>
                      <a:pt x="798" y="2"/>
                    </a:lnTo>
                    <a:lnTo>
                      <a:pt x="840" y="0"/>
                    </a:lnTo>
                    <a:lnTo>
                      <a:pt x="884" y="2"/>
                    </a:lnTo>
                    <a:lnTo>
                      <a:pt x="926" y="4"/>
                    </a:lnTo>
                    <a:lnTo>
                      <a:pt x="968" y="10"/>
                    </a:lnTo>
                    <a:lnTo>
                      <a:pt x="1010" y="18"/>
                    </a:lnTo>
                    <a:lnTo>
                      <a:pt x="1050" y="26"/>
                    </a:lnTo>
                    <a:lnTo>
                      <a:pt x="1090" y="38"/>
                    </a:lnTo>
                    <a:lnTo>
                      <a:pt x="1130" y="52"/>
                    </a:lnTo>
                    <a:lnTo>
                      <a:pt x="1168" y="66"/>
                    </a:lnTo>
                    <a:lnTo>
                      <a:pt x="1204" y="84"/>
                    </a:lnTo>
                    <a:lnTo>
                      <a:pt x="1242" y="102"/>
                    </a:lnTo>
                    <a:lnTo>
                      <a:pt x="1276" y="122"/>
                    </a:lnTo>
                    <a:lnTo>
                      <a:pt x="1310" y="144"/>
                    </a:lnTo>
                    <a:lnTo>
                      <a:pt x="1344" y="168"/>
                    </a:lnTo>
                    <a:lnTo>
                      <a:pt x="1376" y="192"/>
                    </a:lnTo>
                    <a:lnTo>
                      <a:pt x="1406" y="218"/>
                    </a:lnTo>
                    <a:lnTo>
                      <a:pt x="1434" y="246"/>
                    </a:lnTo>
                    <a:lnTo>
                      <a:pt x="1462" y="276"/>
                    </a:lnTo>
                    <a:lnTo>
                      <a:pt x="1488" y="306"/>
                    </a:lnTo>
                    <a:lnTo>
                      <a:pt x="1514" y="338"/>
                    </a:lnTo>
                    <a:lnTo>
                      <a:pt x="1538" y="370"/>
                    </a:lnTo>
                    <a:lnTo>
                      <a:pt x="1560" y="404"/>
                    </a:lnTo>
                    <a:lnTo>
                      <a:pt x="1580" y="440"/>
                    </a:lnTo>
                    <a:lnTo>
                      <a:pt x="1598" y="476"/>
                    </a:lnTo>
                    <a:lnTo>
                      <a:pt x="1614" y="514"/>
                    </a:lnTo>
                    <a:lnTo>
                      <a:pt x="1630" y="552"/>
                    </a:lnTo>
                    <a:lnTo>
                      <a:pt x="1642" y="590"/>
                    </a:lnTo>
                    <a:lnTo>
                      <a:pt x="1654" y="630"/>
                    </a:lnTo>
                    <a:lnTo>
                      <a:pt x="1664" y="670"/>
                    </a:lnTo>
                    <a:lnTo>
                      <a:pt x="1672" y="712"/>
                    </a:lnTo>
                    <a:lnTo>
                      <a:pt x="1676" y="754"/>
                    </a:lnTo>
                    <a:lnTo>
                      <a:pt x="1680" y="796"/>
                    </a:lnTo>
                    <a:lnTo>
                      <a:pt x="1680" y="840"/>
                    </a:lnTo>
                    <a:close/>
                  </a:path>
                </a:pathLst>
              </a:custGeom>
              <a:solidFill>
                <a:srgbClr val="f9b101"/>
              </a:solidFill>
              <a:ln w="1270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5" name="Text Box 46"/>
              <p:cNvSpPr/>
              <p:nvPr/>
            </p:nvSpPr>
            <p:spPr>
              <a:xfrm>
                <a:off x="5462640" y="5389560"/>
                <a:ext cx="63360" cy="95040"/>
              </a:xfrm>
              <a:prstGeom prst="rect">
                <a:avLst/>
              </a:pr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6" name="Freeform 45"/>
              <p:cNvSpPr/>
              <p:nvPr/>
            </p:nvSpPr>
            <p:spPr>
              <a:xfrm>
                <a:off x="5048640" y="5052240"/>
                <a:ext cx="1023120" cy="1023120"/>
              </a:xfrm>
              <a:custGeom>
                <a:avLst/>
                <a:gdLst>
                  <a:gd name="textAreaLeft" fmla="*/ 0 w 1023120"/>
                  <a:gd name="textAreaRight" fmla="*/ 1023480 w 1023120"/>
                  <a:gd name="textAreaTop" fmla="*/ 0 h 1023120"/>
                  <a:gd name="textAreaBottom" fmla="*/ 1023480 h 1023120"/>
                </a:gdLst>
                <a:ahLst/>
                <a:rect l="textAreaLeft" t="textAreaTop" r="textAreaRight" b="textAreaBottom"/>
                <a:pathLst>
                  <a:path w="2972" h="2972">
                    <a:moveTo>
                      <a:pt x="1462" y="14"/>
                    </a:moveTo>
                    <a:lnTo>
                      <a:pt x="1462" y="14"/>
                    </a:lnTo>
                    <a:lnTo>
                      <a:pt x="1468" y="8"/>
                    </a:lnTo>
                    <a:lnTo>
                      <a:pt x="1474" y="4"/>
                    </a:lnTo>
                    <a:lnTo>
                      <a:pt x="1480" y="2"/>
                    </a:lnTo>
                    <a:lnTo>
                      <a:pt x="1486" y="0"/>
                    </a:lnTo>
                    <a:lnTo>
                      <a:pt x="1492" y="2"/>
                    </a:lnTo>
                    <a:lnTo>
                      <a:pt x="1498" y="4"/>
                    </a:lnTo>
                    <a:lnTo>
                      <a:pt x="1504" y="8"/>
                    </a:lnTo>
                    <a:lnTo>
                      <a:pt x="1510" y="14"/>
                    </a:lnTo>
                    <a:lnTo>
                      <a:pt x="1580" y="106"/>
                    </a:lnTo>
                    <a:lnTo>
                      <a:pt x="1586" y="112"/>
                    </a:lnTo>
                    <a:lnTo>
                      <a:pt x="1592" y="116"/>
                    </a:lnTo>
                    <a:lnTo>
                      <a:pt x="1598" y="118"/>
                    </a:lnTo>
                    <a:lnTo>
                      <a:pt x="1606" y="120"/>
                    </a:lnTo>
                    <a:lnTo>
                      <a:pt x="1612" y="120"/>
                    </a:lnTo>
                    <a:lnTo>
                      <a:pt x="1620" y="118"/>
                    </a:lnTo>
                    <a:lnTo>
                      <a:pt x="1626" y="116"/>
                    </a:lnTo>
                    <a:lnTo>
                      <a:pt x="1634" y="110"/>
                    </a:lnTo>
                    <a:lnTo>
                      <a:pt x="1718" y="32"/>
                    </a:lnTo>
                    <a:lnTo>
                      <a:pt x="1724" y="28"/>
                    </a:lnTo>
                    <a:lnTo>
                      <a:pt x="1730" y="24"/>
                    </a:lnTo>
                    <a:lnTo>
                      <a:pt x="1738" y="22"/>
                    </a:lnTo>
                    <a:lnTo>
                      <a:pt x="1744" y="24"/>
                    </a:lnTo>
                    <a:lnTo>
                      <a:pt x="1750" y="26"/>
                    </a:lnTo>
                    <a:lnTo>
                      <a:pt x="1756" y="28"/>
                    </a:lnTo>
                    <a:lnTo>
                      <a:pt x="1762" y="34"/>
                    </a:lnTo>
                    <a:lnTo>
                      <a:pt x="1766" y="40"/>
                    </a:lnTo>
                    <a:lnTo>
                      <a:pt x="1818" y="142"/>
                    </a:lnTo>
                    <a:lnTo>
                      <a:pt x="1822" y="150"/>
                    </a:lnTo>
                    <a:lnTo>
                      <a:pt x="1828" y="154"/>
                    </a:lnTo>
                    <a:lnTo>
                      <a:pt x="1834" y="158"/>
                    </a:lnTo>
                    <a:lnTo>
                      <a:pt x="1840" y="162"/>
                    </a:lnTo>
                    <a:lnTo>
                      <a:pt x="1848" y="162"/>
                    </a:lnTo>
                    <a:lnTo>
                      <a:pt x="1856" y="162"/>
                    </a:lnTo>
                    <a:lnTo>
                      <a:pt x="1862" y="160"/>
                    </a:lnTo>
                    <a:lnTo>
                      <a:pt x="1870" y="156"/>
                    </a:lnTo>
                    <a:lnTo>
                      <a:pt x="1966" y="94"/>
                    </a:lnTo>
                    <a:lnTo>
                      <a:pt x="1974" y="90"/>
                    </a:lnTo>
                    <a:lnTo>
                      <a:pt x="1980" y="88"/>
                    </a:lnTo>
                    <a:lnTo>
                      <a:pt x="1988" y="88"/>
                    </a:lnTo>
                    <a:lnTo>
                      <a:pt x="1994" y="90"/>
                    </a:lnTo>
                    <a:lnTo>
                      <a:pt x="2000" y="94"/>
                    </a:lnTo>
                    <a:lnTo>
                      <a:pt x="2006" y="98"/>
                    </a:lnTo>
                    <a:lnTo>
                      <a:pt x="2010" y="104"/>
                    </a:lnTo>
                    <a:lnTo>
                      <a:pt x="2012" y="110"/>
                    </a:lnTo>
                    <a:lnTo>
                      <a:pt x="2046" y="220"/>
                    </a:lnTo>
                    <a:lnTo>
                      <a:pt x="2050" y="228"/>
                    </a:lnTo>
                    <a:lnTo>
                      <a:pt x="2054" y="234"/>
                    </a:lnTo>
                    <a:lnTo>
                      <a:pt x="2060" y="240"/>
                    </a:lnTo>
                    <a:lnTo>
                      <a:pt x="2066" y="244"/>
                    </a:lnTo>
                    <a:lnTo>
                      <a:pt x="2072" y="246"/>
                    </a:lnTo>
                    <a:lnTo>
                      <a:pt x="2080" y="246"/>
                    </a:lnTo>
                    <a:lnTo>
                      <a:pt x="2088" y="246"/>
                    </a:lnTo>
                    <a:lnTo>
                      <a:pt x="2094" y="244"/>
                    </a:lnTo>
                    <a:lnTo>
                      <a:pt x="2202" y="198"/>
                    </a:lnTo>
                    <a:lnTo>
                      <a:pt x="2208" y="196"/>
                    </a:lnTo>
                    <a:lnTo>
                      <a:pt x="2216" y="196"/>
                    </a:lnTo>
                    <a:lnTo>
                      <a:pt x="2222" y="196"/>
                    </a:lnTo>
                    <a:lnTo>
                      <a:pt x="2228" y="200"/>
                    </a:lnTo>
                    <a:lnTo>
                      <a:pt x="2234" y="204"/>
                    </a:lnTo>
                    <a:lnTo>
                      <a:pt x="2238" y="208"/>
                    </a:lnTo>
                    <a:lnTo>
                      <a:pt x="2242" y="216"/>
                    </a:lnTo>
                    <a:lnTo>
                      <a:pt x="2244" y="224"/>
                    </a:lnTo>
                    <a:lnTo>
                      <a:pt x="2258" y="338"/>
                    </a:lnTo>
                    <a:lnTo>
                      <a:pt x="2260" y="346"/>
                    </a:lnTo>
                    <a:lnTo>
                      <a:pt x="2262" y="352"/>
                    </a:lnTo>
                    <a:lnTo>
                      <a:pt x="2266" y="358"/>
                    </a:lnTo>
                    <a:lnTo>
                      <a:pt x="2272" y="362"/>
                    </a:lnTo>
                    <a:lnTo>
                      <a:pt x="2278" y="366"/>
                    </a:lnTo>
                    <a:lnTo>
                      <a:pt x="2286" y="368"/>
                    </a:lnTo>
                    <a:lnTo>
                      <a:pt x="2294" y="370"/>
                    </a:lnTo>
                    <a:lnTo>
                      <a:pt x="2302" y="368"/>
                    </a:lnTo>
                    <a:lnTo>
                      <a:pt x="2414" y="342"/>
                    </a:lnTo>
                    <a:lnTo>
                      <a:pt x="2422" y="342"/>
                    </a:lnTo>
                    <a:lnTo>
                      <a:pt x="2428" y="342"/>
                    </a:lnTo>
                    <a:lnTo>
                      <a:pt x="2436" y="344"/>
                    </a:lnTo>
                    <a:lnTo>
                      <a:pt x="2440" y="348"/>
                    </a:lnTo>
                    <a:lnTo>
                      <a:pt x="2446" y="352"/>
                    </a:lnTo>
                    <a:lnTo>
                      <a:pt x="2448" y="358"/>
                    </a:lnTo>
                    <a:lnTo>
                      <a:pt x="2450" y="366"/>
                    </a:lnTo>
                    <a:lnTo>
                      <a:pt x="2450" y="374"/>
                    </a:lnTo>
                    <a:lnTo>
                      <a:pt x="2446" y="488"/>
                    </a:lnTo>
                    <a:lnTo>
                      <a:pt x="2446" y="496"/>
                    </a:lnTo>
                    <a:lnTo>
                      <a:pt x="2448" y="504"/>
                    </a:lnTo>
                    <a:lnTo>
                      <a:pt x="2450" y="510"/>
                    </a:lnTo>
                    <a:lnTo>
                      <a:pt x="2456" y="516"/>
                    </a:lnTo>
                    <a:lnTo>
                      <a:pt x="2462" y="520"/>
                    </a:lnTo>
                    <a:lnTo>
                      <a:pt x="2468" y="524"/>
                    </a:lnTo>
                    <a:lnTo>
                      <a:pt x="2476" y="526"/>
                    </a:lnTo>
                    <a:lnTo>
                      <a:pt x="2484" y="526"/>
                    </a:lnTo>
                    <a:lnTo>
                      <a:pt x="2598" y="522"/>
                    </a:lnTo>
                    <a:lnTo>
                      <a:pt x="2606" y="522"/>
                    </a:lnTo>
                    <a:lnTo>
                      <a:pt x="2614" y="524"/>
                    </a:lnTo>
                    <a:lnTo>
                      <a:pt x="2620" y="526"/>
                    </a:lnTo>
                    <a:lnTo>
                      <a:pt x="2624" y="532"/>
                    </a:lnTo>
                    <a:lnTo>
                      <a:pt x="2628" y="536"/>
                    </a:lnTo>
                    <a:lnTo>
                      <a:pt x="2630" y="544"/>
                    </a:lnTo>
                    <a:lnTo>
                      <a:pt x="2630" y="550"/>
                    </a:lnTo>
                    <a:lnTo>
                      <a:pt x="2630" y="558"/>
                    </a:lnTo>
                    <a:lnTo>
                      <a:pt x="2604" y="670"/>
                    </a:lnTo>
                    <a:lnTo>
                      <a:pt x="2602" y="678"/>
                    </a:lnTo>
                    <a:lnTo>
                      <a:pt x="2604" y="686"/>
                    </a:lnTo>
                    <a:lnTo>
                      <a:pt x="2606" y="694"/>
                    </a:lnTo>
                    <a:lnTo>
                      <a:pt x="2610" y="700"/>
                    </a:lnTo>
                    <a:lnTo>
                      <a:pt x="2614" y="704"/>
                    </a:lnTo>
                    <a:lnTo>
                      <a:pt x="2620" y="710"/>
                    </a:lnTo>
                    <a:lnTo>
                      <a:pt x="2626" y="712"/>
                    </a:lnTo>
                    <a:lnTo>
                      <a:pt x="2634" y="714"/>
                    </a:lnTo>
                    <a:lnTo>
                      <a:pt x="2748" y="728"/>
                    </a:lnTo>
                    <a:lnTo>
                      <a:pt x="2756" y="730"/>
                    </a:lnTo>
                    <a:lnTo>
                      <a:pt x="2764" y="734"/>
                    </a:lnTo>
                    <a:lnTo>
                      <a:pt x="2768" y="738"/>
                    </a:lnTo>
                    <a:lnTo>
                      <a:pt x="2772" y="744"/>
                    </a:lnTo>
                    <a:lnTo>
                      <a:pt x="2774" y="750"/>
                    </a:lnTo>
                    <a:lnTo>
                      <a:pt x="2776" y="756"/>
                    </a:lnTo>
                    <a:lnTo>
                      <a:pt x="2776" y="764"/>
                    </a:lnTo>
                    <a:lnTo>
                      <a:pt x="2774" y="770"/>
                    </a:lnTo>
                    <a:lnTo>
                      <a:pt x="2728" y="876"/>
                    </a:lnTo>
                    <a:lnTo>
                      <a:pt x="2726" y="884"/>
                    </a:lnTo>
                    <a:lnTo>
                      <a:pt x="2726" y="892"/>
                    </a:lnTo>
                    <a:lnTo>
                      <a:pt x="2726" y="900"/>
                    </a:lnTo>
                    <a:lnTo>
                      <a:pt x="2728" y="906"/>
                    </a:lnTo>
                    <a:lnTo>
                      <a:pt x="2732" y="912"/>
                    </a:lnTo>
                    <a:lnTo>
                      <a:pt x="2738" y="918"/>
                    </a:lnTo>
                    <a:lnTo>
                      <a:pt x="2744" y="922"/>
                    </a:lnTo>
                    <a:lnTo>
                      <a:pt x="2752" y="926"/>
                    </a:lnTo>
                    <a:lnTo>
                      <a:pt x="2862" y="960"/>
                    </a:lnTo>
                    <a:lnTo>
                      <a:pt x="2868" y="962"/>
                    </a:lnTo>
                    <a:lnTo>
                      <a:pt x="2874" y="966"/>
                    </a:lnTo>
                    <a:lnTo>
                      <a:pt x="2878" y="972"/>
                    </a:lnTo>
                    <a:lnTo>
                      <a:pt x="2882" y="978"/>
                    </a:lnTo>
                    <a:lnTo>
                      <a:pt x="2884" y="984"/>
                    </a:lnTo>
                    <a:lnTo>
                      <a:pt x="2884" y="992"/>
                    </a:lnTo>
                    <a:lnTo>
                      <a:pt x="2882" y="998"/>
                    </a:lnTo>
                    <a:lnTo>
                      <a:pt x="2878" y="1006"/>
                    </a:lnTo>
                    <a:lnTo>
                      <a:pt x="2816" y="1102"/>
                    </a:lnTo>
                    <a:lnTo>
                      <a:pt x="2812" y="1110"/>
                    </a:lnTo>
                    <a:lnTo>
                      <a:pt x="2810" y="1116"/>
                    </a:lnTo>
                    <a:lnTo>
                      <a:pt x="2810" y="1124"/>
                    </a:lnTo>
                    <a:lnTo>
                      <a:pt x="2810" y="1132"/>
                    </a:lnTo>
                    <a:lnTo>
                      <a:pt x="2814" y="1138"/>
                    </a:lnTo>
                    <a:lnTo>
                      <a:pt x="2818" y="1144"/>
                    </a:lnTo>
                    <a:lnTo>
                      <a:pt x="2822" y="1150"/>
                    </a:lnTo>
                    <a:lnTo>
                      <a:pt x="2830" y="1154"/>
                    </a:lnTo>
                    <a:lnTo>
                      <a:pt x="2932" y="1206"/>
                    </a:lnTo>
                    <a:lnTo>
                      <a:pt x="2938" y="1210"/>
                    </a:lnTo>
                    <a:lnTo>
                      <a:pt x="2944" y="1216"/>
                    </a:lnTo>
                    <a:lnTo>
                      <a:pt x="2946" y="1222"/>
                    </a:lnTo>
                    <a:lnTo>
                      <a:pt x="2948" y="1228"/>
                    </a:lnTo>
                    <a:lnTo>
                      <a:pt x="2950" y="1234"/>
                    </a:lnTo>
                    <a:lnTo>
                      <a:pt x="2948" y="1242"/>
                    </a:lnTo>
                    <a:lnTo>
                      <a:pt x="2944" y="1248"/>
                    </a:lnTo>
                    <a:lnTo>
                      <a:pt x="2940" y="1254"/>
                    </a:lnTo>
                    <a:lnTo>
                      <a:pt x="2862" y="1338"/>
                    </a:lnTo>
                    <a:lnTo>
                      <a:pt x="2856" y="1344"/>
                    </a:lnTo>
                    <a:lnTo>
                      <a:pt x="2854" y="1352"/>
                    </a:lnTo>
                    <a:lnTo>
                      <a:pt x="2852" y="1360"/>
                    </a:lnTo>
                    <a:lnTo>
                      <a:pt x="2852" y="1366"/>
                    </a:lnTo>
                    <a:lnTo>
                      <a:pt x="2854" y="1374"/>
                    </a:lnTo>
                    <a:lnTo>
                      <a:pt x="2856" y="1380"/>
                    </a:lnTo>
                    <a:lnTo>
                      <a:pt x="2860" y="1386"/>
                    </a:lnTo>
                    <a:lnTo>
                      <a:pt x="2866" y="1392"/>
                    </a:lnTo>
                    <a:lnTo>
                      <a:pt x="2958" y="1462"/>
                    </a:lnTo>
                    <a:lnTo>
                      <a:pt x="2964" y="1468"/>
                    </a:lnTo>
                    <a:lnTo>
                      <a:pt x="2968" y="1474"/>
                    </a:lnTo>
                    <a:lnTo>
                      <a:pt x="2970" y="1480"/>
                    </a:lnTo>
                    <a:lnTo>
                      <a:pt x="2972" y="1486"/>
                    </a:lnTo>
                    <a:lnTo>
                      <a:pt x="2970" y="1492"/>
                    </a:lnTo>
                    <a:lnTo>
                      <a:pt x="2968" y="1498"/>
                    </a:lnTo>
                    <a:lnTo>
                      <a:pt x="2964" y="1504"/>
                    </a:lnTo>
                    <a:lnTo>
                      <a:pt x="2958" y="1510"/>
                    </a:lnTo>
                    <a:lnTo>
                      <a:pt x="2866" y="1580"/>
                    </a:lnTo>
                    <a:lnTo>
                      <a:pt x="2860" y="1586"/>
                    </a:lnTo>
                    <a:lnTo>
                      <a:pt x="2856" y="1592"/>
                    </a:lnTo>
                    <a:lnTo>
                      <a:pt x="2854" y="1598"/>
                    </a:lnTo>
                    <a:lnTo>
                      <a:pt x="2852" y="1606"/>
                    </a:lnTo>
                    <a:lnTo>
                      <a:pt x="2852" y="1612"/>
                    </a:lnTo>
                    <a:lnTo>
                      <a:pt x="2854" y="1620"/>
                    </a:lnTo>
                    <a:lnTo>
                      <a:pt x="2856" y="1626"/>
                    </a:lnTo>
                    <a:lnTo>
                      <a:pt x="2862" y="1634"/>
                    </a:lnTo>
                    <a:lnTo>
                      <a:pt x="2940" y="1718"/>
                    </a:lnTo>
                    <a:lnTo>
                      <a:pt x="2944" y="1724"/>
                    </a:lnTo>
                    <a:lnTo>
                      <a:pt x="2948" y="1730"/>
                    </a:lnTo>
                    <a:lnTo>
                      <a:pt x="2950" y="1738"/>
                    </a:lnTo>
                    <a:lnTo>
                      <a:pt x="2948" y="1744"/>
                    </a:lnTo>
                    <a:lnTo>
                      <a:pt x="2946" y="1750"/>
                    </a:lnTo>
                    <a:lnTo>
                      <a:pt x="2944" y="1756"/>
                    </a:lnTo>
                    <a:lnTo>
                      <a:pt x="2938" y="1762"/>
                    </a:lnTo>
                    <a:lnTo>
                      <a:pt x="2932" y="1766"/>
                    </a:lnTo>
                    <a:lnTo>
                      <a:pt x="2830" y="1818"/>
                    </a:lnTo>
                    <a:lnTo>
                      <a:pt x="2822" y="1822"/>
                    </a:lnTo>
                    <a:lnTo>
                      <a:pt x="2818" y="1828"/>
                    </a:lnTo>
                    <a:lnTo>
                      <a:pt x="2814" y="1834"/>
                    </a:lnTo>
                    <a:lnTo>
                      <a:pt x="2810" y="1840"/>
                    </a:lnTo>
                    <a:lnTo>
                      <a:pt x="2810" y="1848"/>
                    </a:lnTo>
                    <a:lnTo>
                      <a:pt x="2810" y="1856"/>
                    </a:lnTo>
                    <a:lnTo>
                      <a:pt x="2812" y="1862"/>
                    </a:lnTo>
                    <a:lnTo>
                      <a:pt x="2816" y="1870"/>
                    </a:lnTo>
                    <a:lnTo>
                      <a:pt x="2878" y="1966"/>
                    </a:lnTo>
                    <a:lnTo>
                      <a:pt x="2882" y="1974"/>
                    </a:lnTo>
                    <a:lnTo>
                      <a:pt x="2884" y="1980"/>
                    </a:lnTo>
                    <a:lnTo>
                      <a:pt x="2884" y="1988"/>
                    </a:lnTo>
                    <a:lnTo>
                      <a:pt x="2882" y="1994"/>
                    </a:lnTo>
                    <a:lnTo>
                      <a:pt x="2878" y="2000"/>
                    </a:lnTo>
                    <a:lnTo>
                      <a:pt x="2874" y="2004"/>
                    </a:lnTo>
                    <a:lnTo>
                      <a:pt x="2868" y="2010"/>
                    </a:lnTo>
                    <a:lnTo>
                      <a:pt x="2862" y="2012"/>
                    </a:lnTo>
                    <a:lnTo>
                      <a:pt x="2752" y="2046"/>
                    </a:lnTo>
                    <a:lnTo>
                      <a:pt x="2744" y="2050"/>
                    </a:lnTo>
                    <a:lnTo>
                      <a:pt x="2738" y="2054"/>
                    </a:lnTo>
                    <a:lnTo>
                      <a:pt x="2732" y="2060"/>
                    </a:lnTo>
                    <a:lnTo>
                      <a:pt x="2728" y="2066"/>
                    </a:lnTo>
                    <a:lnTo>
                      <a:pt x="2726" y="2072"/>
                    </a:lnTo>
                    <a:lnTo>
                      <a:pt x="2726" y="2080"/>
                    </a:lnTo>
                    <a:lnTo>
                      <a:pt x="2726" y="2088"/>
                    </a:lnTo>
                    <a:lnTo>
                      <a:pt x="2728" y="2094"/>
                    </a:lnTo>
                    <a:lnTo>
                      <a:pt x="2774" y="2202"/>
                    </a:lnTo>
                    <a:lnTo>
                      <a:pt x="2776" y="2208"/>
                    </a:lnTo>
                    <a:lnTo>
                      <a:pt x="2776" y="2216"/>
                    </a:lnTo>
                    <a:lnTo>
                      <a:pt x="2774" y="2222"/>
                    </a:lnTo>
                    <a:lnTo>
                      <a:pt x="2772" y="2228"/>
                    </a:lnTo>
                    <a:lnTo>
                      <a:pt x="2768" y="2234"/>
                    </a:lnTo>
                    <a:lnTo>
                      <a:pt x="2764" y="2238"/>
                    </a:lnTo>
                    <a:lnTo>
                      <a:pt x="2756" y="2242"/>
                    </a:lnTo>
                    <a:lnTo>
                      <a:pt x="2748" y="2242"/>
                    </a:lnTo>
                    <a:lnTo>
                      <a:pt x="2634" y="2258"/>
                    </a:lnTo>
                    <a:lnTo>
                      <a:pt x="2626" y="2260"/>
                    </a:lnTo>
                    <a:lnTo>
                      <a:pt x="2620" y="2262"/>
                    </a:lnTo>
                    <a:lnTo>
                      <a:pt x="2614" y="2266"/>
                    </a:lnTo>
                    <a:lnTo>
                      <a:pt x="2610" y="2272"/>
                    </a:lnTo>
                    <a:lnTo>
                      <a:pt x="2606" y="2278"/>
                    </a:lnTo>
                    <a:lnTo>
                      <a:pt x="2604" y="2286"/>
                    </a:lnTo>
                    <a:lnTo>
                      <a:pt x="2602" y="2294"/>
                    </a:lnTo>
                    <a:lnTo>
                      <a:pt x="2604" y="2302"/>
                    </a:lnTo>
                    <a:lnTo>
                      <a:pt x="2630" y="2414"/>
                    </a:lnTo>
                    <a:lnTo>
                      <a:pt x="2630" y="2422"/>
                    </a:lnTo>
                    <a:lnTo>
                      <a:pt x="2630" y="2428"/>
                    </a:lnTo>
                    <a:lnTo>
                      <a:pt x="2628" y="2436"/>
                    </a:lnTo>
                    <a:lnTo>
                      <a:pt x="2624" y="2440"/>
                    </a:lnTo>
                    <a:lnTo>
                      <a:pt x="2620" y="2446"/>
                    </a:lnTo>
                    <a:lnTo>
                      <a:pt x="2614" y="2448"/>
                    </a:lnTo>
                    <a:lnTo>
                      <a:pt x="2606" y="2450"/>
                    </a:lnTo>
                    <a:lnTo>
                      <a:pt x="2598" y="2450"/>
                    </a:lnTo>
                    <a:lnTo>
                      <a:pt x="2484" y="2446"/>
                    </a:lnTo>
                    <a:lnTo>
                      <a:pt x="2476" y="2446"/>
                    </a:lnTo>
                    <a:lnTo>
                      <a:pt x="2468" y="2448"/>
                    </a:lnTo>
                    <a:lnTo>
                      <a:pt x="2462" y="2450"/>
                    </a:lnTo>
                    <a:lnTo>
                      <a:pt x="2456" y="2456"/>
                    </a:lnTo>
                    <a:lnTo>
                      <a:pt x="2450" y="2462"/>
                    </a:lnTo>
                    <a:lnTo>
                      <a:pt x="2448" y="2468"/>
                    </a:lnTo>
                    <a:lnTo>
                      <a:pt x="2446" y="2476"/>
                    </a:lnTo>
                    <a:lnTo>
                      <a:pt x="2446" y="2484"/>
                    </a:lnTo>
                    <a:lnTo>
                      <a:pt x="2450" y="2598"/>
                    </a:lnTo>
                    <a:lnTo>
                      <a:pt x="2450" y="2606"/>
                    </a:lnTo>
                    <a:lnTo>
                      <a:pt x="2448" y="2612"/>
                    </a:lnTo>
                    <a:lnTo>
                      <a:pt x="2446" y="2618"/>
                    </a:lnTo>
                    <a:lnTo>
                      <a:pt x="2440" y="2624"/>
                    </a:lnTo>
                    <a:lnTo>
                      <a:pt x="2436" y="2628"/>
                    </a:lnTo>
                    <a:lnTo>
                      <a:pt x="2428" y="2630"/>
                    </a:lnTo>
                    <a:lnTo>
                      <a:pt x="2422" y="2630"/>
                    </a:lnTo>
                    <a:lnTo>
                      <a:pt x="2414" y="2630"/>
                    </a:lnTo>
                    <a:lnTo>
                      <a:pt x="2302" y="2604"/>
                    </a:lnTo>
                    <a:lnTo>
                      <a:pt x="2294" y="2602"/>
                    </a:lnTo>
                    <a:lnTo>
                      <a:pt x="2286" y="2604"/>
                    </a:lnTo>
                    <a:lnTo>
                      <a:pt x="2278" y="2606"/>
                    </a:lnTo>
                    <a:lnTo>
                      <a:pt x="2272" y="2610"/>
                    </a:lnTo>
                    <a:lnTo>
                      <a:pt x="2266" y="2614"/>
                    </a:lnTo>
                    <a:lnTo>
                      <a:pt x="2262" y="2620"/>
                    </a:lnTo>
                    <a:lnTo>
                      <a:pt x="2260" y="2626"/>
                    </a:lnTo>
                    <a:lnTo>
                      <a:pt x="2258" y="2634"/>
                    </a:lnTo>
                    <a:lnTo>
                      <a:pt x="2244" y="2748"/>
                    </a:lnTo>
                    <a:lnTo>
                      <a:pt x="2242" y="2756"/>
                    </a:lnTo>
                    <a:lnTo>
                      <a:pt x="2238" y="2762"/>
                    </a:lnTo>
                    <a:lnTo>
                      <a:pt x="2234" y="2768"/>
                    </a:lnTo>
                    <a:lnTo>
                      <a:pt x="2228" y="2772"/>
                    </a:lnTo>
                    <a:lnTo>
                      <a:pt x="2222" y="2774"/>
                    </a:lnTo>
                    <a:lnTo>
                      <a:pt x="2216" y="2776"/>
                    </a:lnTo>
                    <a:lnTo>
                      <a:pt x="2208" y="2776"/>
                    </a:lnTo>
                    <a:lnTo>
                      <a:pt x="2202" y="2772"/>
                    </a:lnTo>
                    <a:lnTo>
                      <a:pt x="2094" y="2728"/>
                    </a:lnTo>
                    <a:lnTo>
                      <a:pt x="2088" y="2726"/>
                    </a:lnTo>
                    <a:lnTo>
                      <a:pt x="2080" y="2726"/>
                    </a:lnTo>
                    <a:lnTo>
                      <a:pt x="2072" y="2726"/>
                    </a:lnTo>
                    <a:lnTo>
                      <a:pt x="2066" y="2728"/>
                    </a:lnTo>
                    <a:lnTo>
                      <a:pt x="2060" y="2732"/>
                    </a:lnTo>
                    <a:lnTo>
                      <a:pt x="2054" y="2738"/>
                    </a:lnTo>
                    <a:lnTo>
                      <a:pt x="2050" y="2744"/>
                    </a:lnTo>
                    <a:lnTo>
                      <a:pt x="2046" y="2750"/>
                    </a:lnTo>
                    <a:lnTo>
                      <a:pt x="2012" y="2862"/>
                    </a:lnTo>
                    <a:lnTo>
                      <a:pt x="2010" y="2868"/>
                    </a:lnTo>
                    <a:lnTo>
                      <a:pt x="2006" y="2874"/>
                    </a:lnTo>
                    <a:lnTo>
                      <a:pt x="2000" y="2878"/>
                    </a:lnTo>
                    <a:lnTo>
                      <a:pt x="1994" y="2882"/>
                    </a:lnTo>
                    <a:lnTo>
                      <a:pt x="1988" y="2884"/>
                    </a:lnTo>
                    <a:lnTo>
                      <a:pt x="1980" y="2884"/>
                    </a:lnTo>
                    <a:lnTo>
                      <a:pt x="1974" y="2882"/>
                    </a:lnTo>
                    <a:lnTo>
                      <a:pt x="1966" y="2878"/>
                    </a:lnTo>
                    <a:lnTo>
                      <a:pt x="1870" y="2816"/>
                    </a:lnTo>
                    <a:lnTo>
                      <a:pt x="1862" y="2812"/>
                    </a:lnTo>
                    <a:lnTo>
                      <a:pt x="1856" y="2810"/>
                    </a:lnTo>
                    <a:lnTo>
                      <a:pt x="1848" y="2810"/>
                    </a:lnTo>
                    <a:lnTo>
                      <a:pt x="1840" y="2810"/>
                    </a:lnTo>
                    <a:lnTo>
                      <a:pt x="1834" y="2812"/>
                    </a:lnTo>
                    <a:lnTo>
                      <a:pt x="1828" y="2816"/>
                    </a:lnTo>
                    <a:lnTo>
                      <a:pt x="1822" y="2822"/>
                    </a:lnTo>
                    <a:lnTo>
                      <a:pt x="1818" y="2830"/>
                    </a:lnTo>
                    <a:lnTo>
                      <a:pt x="1766" y="2932"/>
                    </a:lnTo>
                    <a:lnTo>
                      <a:pt x="1762" y="2938"/>
                    </a:lnTo>
                    <a:lnTo>
                      <a:pt x="1756" y="2944"/>
                    </a:lnTo>
                    <a:lnTo>
                      <a:pt x="1750" y="2946"/>
                    </a:lnTo>
                    <a:lnTo>
                      <a:pt x="1744" y="2948"/>
                    </a:lnTo>
                    <a:lnTo>
                      <a:pt x="1738" y="2950"/>
                    </a:lnTo>
                    <a:lnTo>
                      <a:pt x="1730" y="2948"/>
                    </a:lnTo>
                    <a:lnTo>
                      <a:pt x="1724" y="2944"/>
                    </a:lnTo>
                    <a:lnTo>
                      <a:pt x="1718" y="2940"/>
                    </a:lnTo>
                    <a:lnTo>
                      <a:pt x="1634" y="2862"/>
                    </a:lnTo>
                    <a:lnTo>
                      <a:pt x="1626" y="2856"/>
                    </a:lnTo>
                    <a:lnTo>
                      <a:pt x="1620" y="2854"/>
                    </a:lnTo>
                    <a:lnTo>
                      <a:pt x="1612" y="2852"/>
                    </a:lnTo>
                    <a:lnTo>
                      <a:pt x="1606" y="2852"/>
                    </a:lnTo>
                    <a:lnTo>
                      <a:pt x="1598" y="2854"/>
                    </a:lnTo>
                    <a:lnTo>
                      <a:pt x="1592" y="2856"/>
                    </a:lnTo>
                    <a:lnTo>
                      <a:pt x="1586" y="2860"/>
                    </a:lnTo>
                    <a:lnTo>
                      <a:pt x="1580" y="2866"/>
                    </a:lnTo>
                    <a:lnTo>
                      <a:pt x="1510" y="2958"/>
                    </a:lnTo>
                    <a:lnTo>
                      <a:pt x="1504" y="2964"/>
                    </a:lnTo>
                    <a:lnTo>
                      <a:pt x="1498" y="2968"/>
                    </a:lnTo>
                    <a:lnTo>
                      <a:pt x="1492" y="2970"/>
                    </a:lnTo>
                    <a:lnTo>
                      <a:pt x="1486" y="2972"/>
                    </a:lnTo>
                    <a:lnTo>
                      <a:pt x="1480" y="2970"/>
                    </a:lnTo>
                    <a:lnTo>
                      <a:pt x="1474" y="2968"/>
                    </a:lnTo>
                    <a:lnTo>
                      <a:pt x="1468" y="2964"/>
                    </a:lnTo>
                    <a:lnTo>
                      <a:pt x="1462" y="2958"/>
                    </a:lnTo>
                    <a:lnTo>
                      <a:pt x="1392" y="2866"/>
                    </a:lnTo>
                    <a:lnTo>
                      <a:pt x="1386" y="2860"/>
                    </a:lnTo>
                    <a:lnTo>
                      <a:pt x="1380" y="2856"/>
                    </a:lnTo>
                    <a:lnTo>
                      <a:pt x="1374" y="2854"/>
                    </a:lnTo>
                    <a:lnTo>
                      <a:pt x="1366" y="2852"/>
                    </a:lnTo>
                    <a:lnTo>
                      <a:pt x="1360" y="2852"/>
                    </a:lnTo>
                    <a:lnTo>
                      <a:pt x="1352" y="2854"/>
                    </a:lnTo>
                    <a:lnTo>
                      <a:pt x="1346" y="2856"/>
                    </a:lnTo>
                    <a:lnTo>
                      <a:pt x="1338" y="2862"/>
                    </a:lnTo>
                    <a:lnTo>
                      <a:pt x="1254" y="2940"/>
                    </a:lnTo>
                    <a:lnTo>
                      <a:pt x="1248" y="2944"/>
                    </a:lnTo>
                    <a:lnTo>
                      <a:pt x="1242" y="2948"/>
                    </a:lnTo>
                    <a:lnTo>
                      <a:pt x="1234" y="2950"/>
                    </a:lnTo>
                    <a:lnTo>
                      <a:pt x="1228" y="2948"/>
                    </a:lnTo>
                    <a:lnTo>
                      <a:pt x="1222" y="2946"/>
                    </a:lnTo>
                    <a:lnTo>
                      <a:pt x="1216" y="2944"/>
                    </a:lnTo>
                    <a:lnTo>
                      <a:pt x="1210" y="2938"/>
                    </a:lnTo>
                    <a:lnTo>
                      <a:pt x="1206" y="2932"/>
                    </a:lnTo>
                    <a:lnTo>
                      <a:pt x="1154" y="2830"/>
                    </a:lnTo>
                    <a:lnTo>
                      <a:pt x="1150" y="2822"/>
                    </a:lnTo>
                    <a:lnTo>
                      <a:pt x="1144" y="2816"/>
                    </a:lnTo>
                    <a:lnTo>
                      <a:pt x="1138" y="2812"/>
                    </a:lnTo>
                    <a:lnTo>
                      <a:pt x="1132" y="2810"/>
                    </a:lnTo>
                    <a:lnTo>
                      <a:pt x="1124" y="2810"/>
                    </a:lnTo>
                    <a:lnTo>
                      <a:pt x="1116" y="2810"/>
                    </a:lnTo>
                    <a:lnTo>
                      <a:pt x="1110" y="2812"/>
                    </a:lnTo>
                    <a:lnTo>
                      <a:pt x="1102" y="2816"/>
                    </a:lnTo>
                    <a:lnTo>
                      <a:pt x="1006" y="2878"/>
                    </a:lnTo>
                    <a:lnTo>
                      <a:pt x="998" y="2882"/>
                    </a:lnTo>
                    <a:lnTo>
                      <a:pt x="992" y="2884"/>
                    </a:lnTo>
                    <a:lnTo>
                      <a:pt x="984" y="2884"/>
                    </a:lnTo>
                    <a:lnTo>
                      <a:pt x="978" y="2882"/>
                    </a:lnTo>
                    <a:lnTo>
                      <a:pt x="972" y="2878"/>
                    </a:lnTo>
                    <a:lnTo>
                      <a:pt x="968" y="2874"/>
                    </a:lnTo>
                    <a:lnTo>
                      <a:pt x="962" y="2868"/>
                    </a:lnTo>
                    <a:lnTo>
                      <a:pt x="960" y="2862"/>
                    </a:lnTo>
                    <a:lnTo>
                      <a:pt x="926" y="2750"/>
                    </a:lnTo>
                    <a:lnTo>
                      <a:pt x="922" y="2744"/>
                    </a:lnTo>
                    <a:lnTo>
                      <a:pt x="918" y="2738"/>
                    </a:lnTo>
                    <a:lnTo>
                      <a:pt x="912" y="2732"/>
                    </a:lnTo>
                    <a:lnTo>
                      <a:pt x="906" y="2728"/>
                    </a:lnTo>
                    <a:lnTo>
                      <a:pt x="900" y="2726"/>
                    </a:lnTo>
                    <a:lnTo>
                      <a:pt x="892" y="2726"/>
                    </a:lnTo>
                    <a:lnTo>
                      <a:pt x="884" y="2726"/>
                    </a:lnTo>
                    <a:lnTo>
                      <a:pt x="878" y="2728"/>
                    </a:lnTo>
                    <a:lnTo>
                      <a:pt x="770" y="2772"/>
                    </a:lnTo>
                    <a:lnTo>
                      <a:pt x="764" y="2776"/>
                    </a:lnTo>
                    <a:lnTo>
                      <a:pt x="756" y="2776"/>
                    </a:lnTo>
                    <a:lnTo>
                      <a:pt x="750" y="2774"/>
                    </a:lnTo>
                    <a:lnTo>
                      <a:pt x="744" y="2772"/>
                    </a:lnTo>
                    <a:lnTo>
                      <a:pt x="738" y="2768"/>
                    </a:lnTo>
                    <a:lnTo>
                      <a:pt x="734" y="2762"/>
                    </a:lnTo>
                    <a:lnTo>
                      <a:pt x="730" y="2756"/>
                    </a:lnTo>
                    <a:lnTo>
                      <a:pt x="728" y="2748"/>
                    </a:lnTo>
                    <a:lnTo>
                      <a:pt x="714" y="2634"/>
                    </a:lnTo>
                    <a:lnTo>
                      <a:pt x="712" y="2626"/>
                    </a:lnTo>
                    <a:lnTo>
                      <a:pt x="710" y="2620"/>
                    </a:lnTo>
                    <a:lnTo>
                      <a:pt x="706" y="2614"/>
                    </a:lnTo>
                    <a:lnTo>
                      <a:pt x="700" y="2610"/>
                    </a:lnTo>
                    <a:lnTo>
                      <a:pt x="694" y="2606"/>
                    </a:lnTo>
                    <a:lnTo>
                      <a:pt x="686" y="2604"/>
                    </a:lnTo>
                    <a:lnTo>
                      <a:pt x="678" y="2602"/>
                    </a:lnTo>
                    <a:lnTo>
                      <a:pt x="670" y="2604"/>
                    </a:lnTo>
                    <a:lnTo>
                      <a:pt x="558" y="2630"/>
                    </a:lnTo>
                    <a:lnTo>
                      <a:pt x="550" y="2630"/>
                    </a:lnTo>
                    <a:lnTo>
                      <a:pt x="544" y="2630"/>
                    </a:lnTo>
                    <a:lnTo>
                      <a:pt x="536" y="2628"/>
                    </a:lnTo>
                    <a:lnTo>
                      <a:pt x="532" y="2624"/>
                    </a:lnTo>
                    <a:lnTo>
                      <a:pt x="526" y="2618"/>
                    </a:lnTo>
                    <a:lnTo>
                      <a:pt x="524" y="2612"/>
                    </a:lnTo>
                    <a:lnTo>
                      <a:pt x="522" y="2606"/>
                    </a:lnTo>
                    <a:lnTo>
                      <a:pt x="522" y="2598"/>
                    </a:lnTo>
                    <a:lnTo>
                      <a:pt x="526" y="2484"/>
                    </a:lnTo>
                    <a:lnTo>
                      <a:pt x="526" y="2476"/>
                    </a:lnTo>
                    <a:lnTo>
                      <a:pt x="524" y="2468"/>
                    </a:lnTo>
                    <a:lnTo>
                      <a:pt x="522" y="2462"/>
                    </a:lnTo>
                    <a:lnTo>
                      <a:pt x="516" y="2456"/>
                    </a:lnTo>
                    <a:lnTo>
                      <a:pt x="510" y="2450"/>
                    </a:lnTo>
                    <a:lnTo>
                      <a:pt x="504" y="2448"/>
                    </a:lnTo>
                    <a:lnTo>
                      <a:pt x="496" y="2446"/>
                    </a:lnTo>
                    <a:lnTo>
                      <a:pt x="488" y="2446"/>
                    </a:lnTo>
                    <a:lnTo>
                      <a:pt x="374" y="2450"/>
                    </a:lnTo>
                    <a:lnTo>
                      <a:pt x="366" y="2450"/>
                    </a:lnTo>
                    <a:lnTo>
                      <a:pt x="358" y="2448"/>
                    </a:lnTo>
                    <a:lnTo>
                      <a:pt x="352" y="2446"/>
                    </a:lnTo>
                    <a:lnTo>
                      <a:pt x="348" y="2440"/>
                    </a:lnTo>
                    <a:lnTo>
                      <a:pt x="344" y="2436"/>
                    </a:lnTo>
                    <a:lnTo>
                      <a:pt x="342" y="2428"/>
                    </a:lnTo>
                    <a:lnTo>
                      <a:pt x="342" y="2422"/>
                    </a:lnTo>
                    <a:lnTo>
                      <a:pt x="342" y="2414"/>
                    </a:lnTo>
                    <a:lnTo>
                      <a:pt x="368" y="2302"/>
                    </a:lnTo>
                    <a:lnTo>
                      <a:pt x="370" y="2294"/>
                    </a:lnTo>
                    <a:lnTo>
                      <a:pt x="368" y="2286"/>
                    </a:lnTo>
                    <a:lnTo>
                      <a:pt x="366" y="2278"/>
                    </a:lnTo>
                    <a:lnTo>
                      <a:pt x="362" y="2272"/>
                    </a:lnTo>
                    <a:lnTo>
                      <a:pt x="358" y="2266"/>
                    </a:lnTo>
                    <a:lnTo>
                      <a:pt x="352" y="2262"/>
                    </a:lnTo>
                    <a:lnTo>
                      <a:pt x="346" y="2260"/>
                    </a:lnTo>
                    <a:lnTo>
                      <a:pt x="338" y="2258"/>
                    </a:lnTo>
                    <a:lnTo>
                      <a:pt x="224" y="2242"/>
                    </a:lnTo>
                    <a:lnTo>
                      <a:pt x="216" y="2242"/>
                    </a:lnTo>
                    <a:lnTo>
                      <a:pt x="208" y="2238"/>
                    </a:lnTo>
                    <a:lnTo>
                      <a:pt x="204" y="2234"/>
                    </a:lnTo>
                    <a:lnTo>
                      <a:pt x="200" y="2228"/>
                    </a:lnTo>
                    <a:lnTo>
                      <a:pt x="198" y="2222"/>
                    </a:lnTo>
                    <a:lnTo>
                      <a:pt x="196" y="2216"/>
                    </a:lnTo>
                    <a:lnTo>
                      <a:pt x="196" y="2208"/>
                    </a:lnTo>
                    <a:lnTo>
                      <a:pt x="198" y="2202"/>
                    </a:lnTo>
                    <a:lnTo>
                      <a:pt x="244" y="2094"/>
                    </a:lnTo>
                    <a:lnTo>
                      <a:pt x="246" y="2088"/>
                    </a:lnTo>
                    <a:lnTo>
                      <a:pt x="246" y="2080"/>
                    </a:lnTo>
                    <a:lnTo>
                      <a:pt x="246" y="2072"/>
                    </a:lnTo>
                    <a:lnTo>
                      <a:pt x="244" y="2066"/>
                    </a:lnTo>
                    <a:lnTo>
                      <a:pt x="240" y="2060"/>
                    </a:lnTo>
                    <a:lnTo>
                      <a:pt x="234" y="2054"/>
                    </a:lnTo>
                    <a:lnTo>
                      <a:pt x="228" y="2050"/>
                    </a:lnTo>
                    <a:lnTo>
                      <a:pt x="220" y="2046"/>
                    </a:lnTo>
                    <a:lnTo>
                      <a:pt x="110" y="2012"/>
                    </a:lnTo>
                    <a:lnTo>
                      <a:pt x="104" y="2010"/>
                    </a:lnTo>
                    <a:lnTo>
                      <a:pt x="98" y="2004"/>
                    </a:lnTo>
                    <a:lnTo>
                      <a:pt x="94" y="2000"/>
                    </a:lnTo>
                    <a:lnTo>
                      <a:pt x="90" y="1994"/>
                    </a:lnTo>
                    <a:lnTo>
                      <a:pt x="88" y="1988"/>
                    </a:lnTo>
                    <a:lnTo>
                      <a:pt x="88" y="1980"/>
                    </a:lnTo>
                    <a:lnTo>
                      <a:pt x="90" y="1974"/>
                    </a:lnTo>
                    <a:lnTo>
                      <a:pt x="94" y="1966"/>
                    </a:lnTo>
                    <a:lnTo>
                      <a:pt x="156" y="1870"/>
                    </a:lnTo>
                    <a:lnTo>
                      <a:pt x="160" y="1862"/>
                    </a:lnTo>
                    <a:lnTo>
                      <a:pt x="162" y="1856"/>
                    </a:lnTo>
                    <a:lnTo>
                      <a:pt x="162" y="1848"/>
                    </a:lnTo>
                    <a:lnTo>
                      <a:pt x="162" y="1840"/>
                    </a:lnTo>
                    <a:lnTo>
                      <a:pt x="160" y="1834"/>
                    </a:lnTo>
                    <a:lnTo>
                      <a:pt x="154" y="1828"/>
                    </a:lnTo>
                    <a:lnTo>
                      <a:pt x="150" y="1822"/>
                    </a:lnTo>
                    <a:lnTo>
                      <a:pt x="142" y="1818"/>
                    </a:lnTo>
                    <a:lnTo>
                      <a:pt x="40" y="1766"/>
                    </a:lnTo>
                    <a:lnTo>
                      <a:pt x="34" y="1762"/>
                    </a:lnTo>
                    <a:lnTo>
                      <a:pt x="28" y="1756"/>
                    </a:lnTo>
                    <a:lnTo>
                      <a:pt x="26" y="1750"/>
                    </a:lnTo>
                    <a:lnTo>
                      <a:pt x="24" y="1744"/>
                    </a:lnTo>
                    <a:lnTo>
                      <a:pt x="22" y="1738"/>
                    </a:lnTo>
                    <a:lnTo>
                      <a:pt x="24" y="1730"/>
                    </a:lnTo>
                    <a:lnTo>
                      <a:pt x="28" y="1724"/>
                    </a:lnTo>
                    <a:lnTo>
                      <a:pt x="32" y="1718"/>
                    </a:lnTo>
                    <a:lnTo>
                      <a:pt x="110" y="1634"/>
                    </a:lnTo>
                    <a:lnTo>
                      <a:pt x="116" y="1626"/>
                    </a:lnTo>
                    <a:lnTo>
                      <a:pt x="118" y="1620"/>
                    </a:lnTo>
                    <a:lnTo>
                      <a:pt x="120" y="1612"/>
                    </a:lnTo>
                    <a:lnTo>
                      <a:pt x="120" y="1606"/>
                    </a:lnTo>
                    <a:lnTo>
                      <a:pt x="118" y="1598"/>
                    </a:lnTo>
                    <a:lnTo>
                      <a:pt x="116" y="1592"/>
                    </a:lnTo>
                    <a:lnTo>
                      <a:pt x="112" y="1586"/>
                    </a:lnTo>
                    <a:lnTo>
                      <a:pt x="106" y="1580"/>
                    </a:lnTo>
                    <a:lnTo>
                      <a:pt x="14" y="1510"/>
                    </a:lnTo>
                    <a:lnTo>
                      <a:pt x="8" y="1504"/>
                    </a:lnTo>
                    <a:lnTo>
                      <a:pt x="4" y="1498"/>
                    </a:lnTo>
                    <a:lnTo>
                      <a:pt x="2" y="1492"/>
                    </a:lnTo>
                    <a:lnTo>
                      <a:pt x="0" y="1486"/>
                    </a:lnTo>
                    <a:lnTo>
                      <a:pt x="2" y="1480"/>
                    </a:lnTo>
                    <a:lnTo>
                      <a:pt x="4" y="1474"/>
                    </a:lnTo>
                    <a:lnTo>
                      <a:pt x="8" y="1468"/>
                    </a:lnTo>
                    <a:lnTo>
                      <a:pt x="14" y="1462"/>
                    </a:lnTo>
                    <a:lnTo>
                      <a:pt x="106" y="1392"/>
                    </a:lnTo>
                    <a:lnTo>
                      <a:pt x="112" y="1386"/>
                    </a:lnTo>
                    <a:lnTo>
                      <a:pt x="116" y="1380"/>
                    </a:lnTo>
                    <a:lnTo>
                      <a:pt x="118" y="1374"/>
                    </a:lnTo>
                    <a:lnTo>
                      <a:pt x="120" y="1366"/>
                    </a:lnTo>
                    <a:lnTo>
                      <a:pt x="120" y="1360"/>
                    </a:lnTo>
                    <a:lnTo>
                      <a:pt x="118" y="1352"/>
                    </a:lnTo>
                    <a:lnTo>
                      <a:pt x="116" y="1344"/>
                    </a:lnTo>
                    <a:lnTo>
                      <a:pt x="110" y="1338"/>
                    </a:lnTo>
                    <a:lnTo>
                      <a:pt x="32" y="1254"/>
                    </a:lnTo>
                    <a:lnTo>
                      <a:pt x="28" y="1248"/>
                    </a:lnTo>
                    <a:lnTo>
                      <a:pt x="24" y="1242"/>
                    </a:lnTo>
                    <a:lnTo>
                      <a:pt x="22" y="1234"/>
                    </a:lnTo>
                    <a:lnTo>
                      <a:pt x="24" y="1228"/>
                    </a:lnTo>
                    <a:lnTo>
                      <a:pt x="26" y="1222"/>
                    </a:lnTo>
                    <a:lnTo>
                      <a:pt x="28" y="1216"/>
                    </a:lnTo>
                    <a:lnTo>
                      <a:pt x="34" y="1210"/>
                    </a:lnTo>
                    <a:lnTo>
                      <a:pt x="40" y="1206"/>
                    </a:lnTo>
                    <a:lnTo>
                      <a:pt x="142" y="1154"/>
                    </a:lnTo>
                    <a:lnTo>
                      <a:pt x="150" y="1150"/>
                    </a:lnTo>
                    <a:lnTo>
                      <a:pt x="154" y="1144"/>
                    </a:lnTo>
                    <a:lnTo>
                      <a:pt x="160" y="1138"/>
                    </a:lnTo>
                    <a:lnTo>
                      <a:pt x="162" y="1132"/>
                    </a:lnTo>
                    <a:lnTo>
                      <a:pt x="162" y="1124"/>
                    </a:lnTo>
                    <a:lnTo>
                      <a:pt x="162" y="1116"/>
                    </a:lnTo>
                    <a:lnTo>
                      <a:pt x="160" y="1110"/>
                    </a:lnTo>
                    <a:lnTo>
                      <a:pt x="156" y="1102"/>
                    </a:lnTo>
                    <a:lnTo>
                      <a:pt x="94" y="1006"/>
                    </a:lnTo>
                    <a:lnTo>
                      <a:pt x="90" y="998"/>
                    </a:lnTo>
                    <a:lnTo>
                      <a:pt x="88" y="992"/>
                    </a:lnTo>
                    <a:lnTo>
                      <a:pt x="88" y="984"/>
                    </a:lnTo>
                    <a:lnTo>
                      <a:pt x="90" y="978"/>
                    </a:lnTo>
                    <a:lnTo>
                      <a:pt x="94" y="972"/>
                    </a:lnTo>
                    <a:lnTo>
                      <a:pt x="98" y="966"/>
                    </a:lnTo>
                    <a:lnTo>
                      <a:pt x="104" y="962"/>
                    </a:lnTo>
                    <a:lnTo>
                      <a:pt x="110" y="960"/>
                    </a:lnTo>
                    <a:lnTo>
                      <a:pt x="220" y="926"/>
                    </a:lnTo>
                    <a:lnTo>
                      <a:pt x="228" y="922"/>
                    </a:lnTo>
                    <a:lnTo>
                      <a:pt x="234" y="918"/>
                    </a:lnTo>
                    <a:lnTo>
                      <a:pt x="240" y="912"/>
                    </a:lnTo>
                    <a:lnTo>
                      <a:pt x="244" y="906"/>
                    </a:lnTo>
                    <a:lnTo>
                      <a:pt x="246" y="900"/>
                    </a:lnTo>
                    <a:lnTo>
                      <a:pt x="246" y="892"/>
                    </a:lnTo>
                    <a:lnTo>
                      <a:pt x="246" y="884"/>
                    </a:lnTo>
                    <a:lnTo>
                      <a:pt x="244" y="876"/>
                    </a:lnTo>
                    <a:lnTo>
                      <a:pt x="198" y="770"/>
                    </a:lnTo>
                    <a:lnTo>
                      <a:pt x="196" y="764"/>
                    </a:lnTo>
                    <a:lnTo>
                      <a:pt x="196" y="756"/>
                    </a:lnTo>
                    <a:lnTo>
                      <a:pt x="198" y="750"/>
                    </a:lnTo>
                    <a:lnTo>
                      <a:pt x="200" y="744"/>
                    </a:lnTo>
                    <a:lnTo>
                      <a:pt x="204" y="738"/>
                    </a:lnTo>
                    <a:lnTo>
                      <a:pt x="208" y="734"/>
                    </a:lnTo>
                    <a:lnTo>
                      <a:pt x="216" y="730"/>
                    </a:lnTo>
                    <a:lnTo>
                      <a:pt x="224" y="728"/>
                    </a:lnTo>
                    <a:lnTo>
                      <a:pt x="338" y="714"/>
                    </a:lnTo>
                    <a:lnTo>
                      <a:pt x="346" y="712"/>
                    </a:lnTo>
                    <a:lnTo>
                      <a:pt x="352" y="710"/>
                    </a:lnTo>
                    <a:lnTo>
                      <a:pt x="358" y="704"/>
                    </a:lnTo>
                    <a:lnTo>
                      <a:pt x="362" y="700"/>
                    </a:lnTo>
                    <a:lnTo>
                      <a:pt x="366" y="694"/>
                    </a:lnTo>
                    <a:lnTo>
                      <a:pt x="368" y="686"/>
                    </a:lnTo>
                    <a:lnTo>
                      <a:pt x="370" y="678"/>
                    </a:lnTo>
                    <a:lnTo>
                      <a:pt x="368" y="670"/>
                    </a:lnTo>
                    <a:lnTo>
                      <a:pt x="342" y="558"/>
                    </a:lnTo>
                    <a:lnTo>
                      <a:pt x="342" y="550"/>
                    </a:lnTo>
                    <a:lnTo>
                      <a:pt x="342" y="544"/>
                    </a:lnTo>
                    <a:lnTo>
                      <a:pt x="344" y="536"/>
                    </a:lnTo>
                    <a:lnTo>
                      <a:pt x="348" y="532"/>
                    </a:lnTo>
                    <a:lnTo>
                      <a:pt x="352" y="526"/>
                    </a:lnTo>
                    <a:lnTo>
                      <a:pt x="358" y="524"/>
                    </a:lnTo>
                    <a:lnTo>
                      <a:pt x="366" y="522"/>
                    </a:lnTo>
                    <a:lnTo>
                      <a:pt x="374" y="522"/>
                    </a:lnTo>
                    <a:lnTo>
                      <a:pt x="488" y="526"/>
                    </a:lnTo>
                    <a:lnTo>
                      <a:pt x="496" y="526"/>
                    </a:lnTo>
                    <a:lnTo>
                      <a:pt x="504" y="524"/>
                    </a:lnTo>
                    <a:lnTo>
                      <a:pt x="510" y="520"/>
                    </a:lnTo>
                    <a:lnTo>
                      <a:pt x="516" y="516"/>
                    </a:lnTo>
                    <a:lnTo>
                      <a:pt x="522" y="510"/>
                    </a:lnTo>
                    <a:lnTo>
                      <a:pt x="524" y="504"/>
                    </a:lnTo>
                    <a:lnTo>
                      <a:pt x="526" y="496"/>
                    </a:lnTo>
                    <a:lnTo>
                      <a:pt x="526" y="488"/>
                    </a:lnTo>
                    <a:lnTo>
                      <a:pt x="522" y="374"/>
                    </a:lnTo>
                    <a:lnTo>
                      <a:pt x="522" y="366"/>
                    </a:lnTo>
                    <a:lnTo>
                      <a:pt x="524" y="358"/>
                    </a:lnTo>
                    <a:lnTo>
                      <a:pt x="526" y="352"/>
                    </a:lnTo>
                    <a:lnTo>
                      <a:pt x="532" y="348"/>
                    </a:lnTo>
                    <a:lnTo>
                      <a:pt x="536" y="344"/>
                    </a:lnTo>
                    <a:lnTo>
                      <a:pt x="544" y="342"/>
                    </a:lnTo>
                    <a:lnTo>
                      <a:pt x="550" y="342"/>
                    </a:lnTo>
                    <a:lnTo>
                      <a:pt x="558" y="342"/>
                    </a:lnTo>
                    <a:lnTo>
                      <a:pt x="670" y="368"/>
                    </a:lnTo>
                    <a:lnTo>
                      <a:pt x="678" y="370"/>
                    </a:lnTo>
                    <a:lnTo>
                      <a:pt x="686" y="368"/>
                    </a:lnTo>
                    <a:lnTo>
                      <a:pt x="694" y="366"/>
                    </a:lnTo>
                    <a:lnTo>
                      <a:pt x="700" y="362"/>
                    </a:lnTo>
                    <a:lnTo>
                      <a:pt x="706" y="358"/>
                    </a:lnTo>
                    <a:lnTo>
                      <a:pt x="710" y="352"/>
                    </a:lnTo>
                    <a:lnTo>
                      <a:pt x="712" y="346"/>
                    </a:lnTo>
                    <a:lnTo>
                      <a:pt x="714" y="338"/>
                    </a:lnTo>
                    <a:lnTo>
                      <a:pt x="728" y="224"/>
                    </a:lnTo>
                    <a:lnTo>
                      <a:pt x="730" y="216"/>
                    </a:lnTo>
                    <a:lnTo>
                      <a:pt x="734" y="208"/>
                    </a:lnTo>
                    <a:lnTo>
                      <a:pt x="738" y="204"/>
                    </a:lnTo>
                    <a:lnTo>
                      <a:pt x="744" y="200"/>
                    </a:lnTo>
                    <a:lnTo>
                      <a:pt x="750" y="196"/>
                    </a:lnTo>
                    <a:lnTo>
                      <a:pt x="756" y="196"/>
                    </a:lnTo>
                    <a:lnTo>
                      <a:pt x="764" y="196"/>
                    </a:lnTo>
                    <a:lnTo>
                      <a:pt x="770" y="198"/>
                    </a:lnTo>
                    <a:lnTo>
                      <a:pt x="878" y="244"/>
                    </a:lnTo>
                    <a:lnTo>
                      <a:pt x="884" y="246"/>
                    </a:lnTo>
                    <a:lnTo>
                      <a:pt x="892" y="246"/>
                    </a:lnTo>
                    <a:lnTo>
                      <a:pt x="900" y="246"/>
                    </a:lnTo>
                    <a:lnTo>
                      <a:pt x="906" y="244"/>
                    </a:lnTo>
                    <a:lnTo>
                      <a:pt x="912" y="240"/>
                    </a:lnTo>
                    <a:lnTo>
                      <a:pt x="918" y="234"/>
                    </a:lnTo>
                    <a:lnTo>
                      <a:pt x="922" y="228"/>
                    </a:lnTo>
                    <a:lnTo>
                      <a:pt x="926" y="220"/>
                    </a:lnTo>
                    <a:lnTo>
                      <a:pt x="960" y="110"/>
                    </a:lnTo>
                    <a:lnTo>
                      <a:pt x="962" y="104"/>
                    </a:lnTo>
                    <a:lnTo>
                      <a:pt x="968" y="98"/>
                    </a:lnTo>
                    <a:lnTo>
                      <a:pt x="972" y="94"/>
                    </a:lnTo>
                    <a:lnTo>
                      <a:pt x="978" y="90"/>
                    </a:lnTo>
                    <a:lnTo>
                      <a:pt x="984" y="88"/>
                    </a:lnTo>
                    <a:lnTo>
                      <a:pt x="992" y="88"/>
                    </a:lnTo>
                    <a:lnTo>
                      <a:pt x="998" y="90"/>
                    </a:lnTo>
                    <a:lnTo>
                      <a:pt x="1006" y="94"/>
                    </a:lnTo>
                    <a:lnTo>
                      <a:pt x="1102" y="156"/>
                    </a:lnTo>
                    <a:lnTo>
                      <a:pt x="1110" y="160"/>
                    </a:lnTo>
                    <a:lnTo>
                      <a:pt x="1116" y="162"/>
                    </a:lnTo>
                    <a:lnTo>
                      <a:pt x="1124" y="162"/>
                    </a:lnTo>
                    <a:lnTo>
                      <a:pt x="1132" y="162"/>
                    </a:lnTo>
                    <a:lnTo>
                      <a:pt x="1138" y="158"/>
                    </a:lnTo>
                    <a:lnTo>
                      <a:pt x="1144" y="154"/>
                    </a:lnTo>
                    <a:lnTo>
                      <a:pt x="1150" y="150"/>
                    </a:lnTo>
                    <a:lnTo>
                      <a:pt x="1154" y="142"/>
                    </a:lnTo>
                    <a:lnTo>
                      <a:pt x="1206" y="40"/>
                    </a:lnTo>
                    <a:lnTo>
                      <a:pt x="1210" y="34"/>
                    </a:lnTo>
                    <a:lnTo>
                      <a:pt x="1216" y="28"/>
                    </a:lnTo>
                    <a:lnTo>
                      <a:pt x="1222" y="26"/>
                    </a:lnTo>
                    <a:lnTo>
                      <a:pt x="1228" y="24"/>
                    </a:lnTo>
                    <a:lnTo>
                      <a:pt x="1234" y="22"/>
                    </a:lnTo>
                    <a:lnTo>
                      <a:pt x="1242" y="24"/>
                    </a:lnTo>
                    <a:lnTo>
                      <a:pt x="1248" y="28"/>
                    </a:lnTo>
                    <a:lnTo>
                      <a:pt x="1254" y="32"/>
                    </a:lnTo>
                    <a:lnTo>
                      <a:pt x="1338" y="110"/>
                    </a:lnTo>
                    <a:lnTo>
                      <a:pt x="1346" y="116"/>
                    </a:lnTo>
                    <a:lnTo>
                      <a:pt x="1352" y="118"/>
                    </a:lnTo>
                    <a:lnTo>
                      <a:pt x="1360" y="120"/>
                    </a:lnTo>
                    <a:lnTo>
                      <a:pt x="1366" y="120"/>
                    </a:lnTo>
                    <a:lnTo>
                      <a:pt x="1374" y="118"/>
                    </a:lnTo>
                    <a:lnTo>
                      <a:pt x="1380" y="116"/>
                    </a:lnTo>
                    <a:lnTo>
                      <a:pt x="1386" y="112"/>
                    </a:lnTo>
                    <a:lnTo>
                      <a:pt x="1392" y="106"/>
                    </a:lnTo>
                    <a:lnTo>
                      <a:pt x="1462" y="14"/>
                    </a:lnTo>
                    <a:close/>
                  </a:path>
                </a:pathLst>
              </a:custGeom>
              <a:noFill/>
              <a:ln w="38100">
                <a:solidFill>
                  <a:srgbClr val="92d05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707" name="组合 55"/>
              <p:cNvGrpSpPr/>
              <p:nvPr/>
            </p:nvGrpSpPr>
            <p:grpSpPr>
              <a:xfrm>
                <a:off x="5001480" y="5191200"/>
                <a:ext cx="1140120" cy="768960"/>
                <a:chOff x="5001480" y="5191200"/>
                <a:chExt cx="1140120" cy="768960"/>
              </a:xfrm>
            </p:grpSpPr>
            <p:sp>
              <p:nvSpPr>
                <p:cNvPr id="708" name="Oval 47"/>
                <p:cNvSpPr/>
                <p:nvPr/>
              </p:nvSpPr>
              <p:spPr>
                <a:xfrm>
                  <a:off x="5317560" y="5191200"/>
                  <a:ext cx="824040" cy="601920"/>
                </a:xfrm>
                <a:prstGeom prst="ellipse">
                  <a:avLst/>
                </a:prstGeom>
                <a:noFill/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 anchorCtr="1">
                  <a:noAutofit/>
                </a:bodyPr>
                <a:p>
                  <a:pPr algn="ctr">
                    <a:lnSpc>
                      <a:spcPct val="100000"/>
                    </a:lnSpc>
                  </a:pPr>
                  <a:r>
                    <a:rPr b="1" lang="en-GB" sz="4800" spc="-1" strike="noStrike">
                      <a:solidFill>
                        <a:srgbClr val="ffffff"/>
                      </a:solidFill>
                      <a:latin typeface="Calibri"/>
                      <a:ea typeface="宋体"/>
                    </a:rPr>
                    <a:t>3</a:t>
                  </a:r>
                  <a:endParaRPr b="0" lang="en-US" sz="4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9" name="Oval 47"/>
                <p:cNvSpPr/>
                <p:nvPr/>
              </p:nvSpPr>
              <p:spPr>
                <a:xfrm>
                  <a:off x="5001480" y="5358240"/>
                  <a:ext cx="824040" cy="601920"/>
                </a:xfrm>
                <a:prstGeom prst="ellipse">
                  <a:avLst/>
                </a:prstGeom>
                <a:noFill/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 anchorCtr="1">
                  <a:noAutofit/>
                </a:bodyPr>
                <a:p>
                  <a:pPr algn="ctr">
                    <a:lnSpc>
                      <a:spcPct val="100000"/>
                    </a:lnSpc>
                  </a:pPr>
                  <a:r>
                    <a:rPr b="1" lang="en-GB" sz="2800" spc="-1" strike="noStrike" baseline="30000">
                      <a:solidFill>
                        <a:srgbClr val="ffffff"/>
                      </a:solidFill>
                      <a:latin typeface="Calibri"/>
                      <a:ea typeface="宋体"/>
                    </a:rPr>
                    <a:t>NO.</a:t>
                  </a:r>
                  <a:r>
                    <a:rPr b="1" lang="en-GB" sz="3600" spc="-1" strike="noStrike">
                      <a:solidFill>
                        <a:srgbClr val="ffffff"/>
                      </a:solidFill>
                      <a:latin typeface="Calibri"/>
                      <a:ea typeface="宋体"/>
                    </a:rPr>
                    <a:t> </a:t>
                  </a:r>
                  <a:endParaRPr b="0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710" name="文本框 14"/>
          <p:cNvSpPr/>
          <p:nvPr/>
        </p:nvSpPr>
        <p:spPr>
          <a:xfrm>
            <a:off x="995760" y="4079520"/>
            <a:ext cx="9126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400" spc="-1" strike="noStrike">
                <a:solidFill>
                  <a:srgbClr val="000000"/>
                </a:solidFill>
                <a:latin typeface="Noto Sans S Chinese Light"/>
                <a:ea typeface="Noto Sans S Chinese Light"/>
              </a:rPr>
              <a:t>市场份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任意多边形 2"/>
          <p:cNvSpPr/>
          <p:nvPr/>
        </p:nvSpPr>
        <p:spPr>
          <a:xfrm>
            <a:off x="9283680" y="5778360"/>
            <a:ext cx="1993680" cy="1523520"/>
          </a:xfrm>
          <a:custGeom>
            <a:avLst/>
            <a:gdLst>
              <a:gd name="textAreaLeft" fmla="*/ 0 w 1993680"/>
              <a:gd name="textAreaRight" fmla="*/ 1994040 w 1993680"/>
              <a:gd name="textAreaTop" fmla="*/ 0 h 1523520"/>
              <a:gd name="textAreaBottom" fmla="*/ 1523880 h 1523520"/>
            </a:gdLst>
            <a:ahLst/>
            <a:rect l="textAreaLeft" t="textAreaTop" r="textAreaRight" b="textAreaBottom"/>
            <a:pathLst>
              <a:path w="1993900" h="1524000">
                <a:moveTo>
                  <a:pt x="1993900" y="0"/>
                </a:moveTo>
                <a:cubicBezTo>
                  <a:pt x="1981200" y="25400"/>
                  <a:pt x="1969591" y="51376"/>
                  <a:pt x="1955800" y="76200"/>
                </a:cubicBezTo>
                <a:cubicBezTo>
                  <a:pt x="1948387" y="89543"/>
                  <a:pt x="1937226" y="100648"/>
                  <a:pt x="1930400" y="114300"/>
                </a:cubicBezTo>
                <a:cubicBezTo>
                  <a:pt x="1905686" y="163728"/>
                  <a:pt x="1929415" y="146233"/>
                  <a:pt x="1905000" y="203200"/>
                </a:cubicBezTo>
                <a:cubicBezTo>
                  <a:pt x="1898987" y="217229"/>
                  <a:pt x="1888067" y="228600"/>
                  <a:pt x="1879600" y="241300"/>
                </a:cubicBezTo>
                <a:cubicBezTo>
                  <a:pt x="1875367" y="262467"/>
                  <a:pt x="1872830" y="284045"/>
                  <a:pt x="1866900" y="304800"/>
                </a:cubicBezTo>
                <a:cubicBezTo>
                  <a:pt x="1855867" y="343416"/>
                  <a:pt x="1835402" y="379486"/>
                  <a:pt x="1828800" y="419100"/>
                </a:cubicBezTo>
                <a:cubicBezTo>
                  <a:pt x="1822452" y="457188"/>
                  <a:pt x="1813062" y="537957"/>
                  <a:pt x="1790700" y="571500"/>
                </a:cubicBezTo>
                <a:lnTo>
                  <a:pt x="1765300" y="609600"/>
                </a:lnTo>
                <a:cubicBezTo>
                  <a:pt x="1761067" y="635000"/>
                  <a:pt x="1756003" y="660276"/>
                  <a:pt x="1752600" y="685800"/>
                </a:cubicBezTo>
                <a:cubicBezTo>
                  <a:pt x="1747534" y="723798"/>
                  <a:pt x="1747418" y="762510"/>
                  <a:pt x="1739900" y="800100"/>
                </a:cubicBezTo>
                <a:cubicBezTo>
                  <a:pt x="1734649" y="826354"/>
                  <a:pt x="1719751" y="850046"/>
                  <a:pt x="1714500" y="876300"/>
                </a:cubicBezTo>
                <a:cubicBezTo>
                  <a:pt x="1710267" y="897467"/>
                  <a:pt x="1706483" y="918728"/>
                  <a:pt x="1701800" y="939800"/>
                </a:cubicBezTo>
                <a:cubicBezTo>
                  <a:pt x="1698014" y="956839"/>
                  <a:pt x="1692523" y="973484"/>
                  <a:pt x="1689100" y="990600"/>
                </a:cubicBezTo>
                <a:cubicBezTo>
                  <a:pt x="1684050" y="1015850"/>
                  <a:pt x="1680042" y="1041308"/>
                  <a:pt x="1676400" y="1066800"/>
                </a:cubicBezTo>
                <a:cubicBezTo>
                  <a:pt x="1671573" y="1100587"/>
                  <a:pt x="1673880" y="1135823"/>
                  <a:pt x="1663700" y="1168400"/>
                </a:cubicBezTo>
                <a:cubicBezTo>
                  <a:pt x="1652406" y="1204541"/>
                  <a:pt x="1622083" y="1233266"/>
                  <a:pt x="1612900" y="1270000"/>
                </a:cubicBezTo>
                <a:cubicBezTo>
                  <a:pt x="1592342" y="1352230"/>
                  <a:pt x="1616145" y="1294046"/>
                  <a:pt x="1562100" y="1358900"/>
                </a:cubicBezTo>
                <a:cubicBezTo>
                  <a:pt x="1552329" y="1370626"/>
                  <a:pt x="1548187" y="1386949"/>
                  <a:pt x="1536700" y="1397000"/>
                </a:cubicBezTo>
                <a:cubicBezTo>
                  <a:pt x="1509069" y="1421177"/>
                  <a:pt x="1388485" y="1493221"/>
                  <a:pt x="1358900" y="1498600"/>
                </a:cubicBezTo>
                <a:lnTo>
                  <a:pt x="1219200" y="1524000"/>
                </a:lnTo>
                <a:cubicBezTo>
                  <a:pt x="1083733" y="1519767"/>
                  <a:pt x="947948" y="1521500"/>
                  <a:pt x="812800" y="1511300"/>
                </a:cubicBezTo>
                <a:cubicBezTo>
                  <a:pt x="723252" y="1504542"/>
                  <a:pt x="546100" y="1473200"/>
                  <a:pt x="546100" y="1473200"/>
                </a:cubicBezTo>
                <a:cubicBezTo>
                  <a:pt x="524933" y="1464733"/>
                  <a:pt x="504025" y="1455591"/>
                  <a:pt x="482600" y="1447800"/>
                </a:cubicBezTo>
                <a:cubicBezTo>
                  <a:pt x="431496" y="1429217"/>
                  <a:pt x="406115" y="1430614"/>
                  <a:pt x="368300" y="1397000"/>
                </a:cubicBezTo>
                <a:cubicBezTo>
                  <a:pt x="341452" y="1373135"/>
                  <a:pt x="292100" y="1320800"/>
                  <a:pt x="292100" y="1320800"/>
                </a:cubicBezTo>
                <a:cubicBezTo>
                  <a:pt x="245783" y="1181849"/>
                  <a:pt x="319652" y="1392316"/>
                  <a:pt x="254000" y="1244600"/>
                </a:cubicBezTo>
                <a:cubicBezTo>
                  <a:pt x="243126" y="1220134"/>
                  <a:pt x="237067" y="1193800"/>
                  <a:pt x="228600" y="1168400"/>
                </a:cubicBezTo>
                <a:lnTo>
                  <a:pt x="215900" y="1130300"/>
                </a:lnTo>
                <a:cubicBezTo>
                  <a:pt x="211667" y="1117600"/>
                  <a:pt x="210626" y="1103339"/>
                  <a:pt x="203200" y="1092200"/>
                </a:cubicBezTo>
                <a:lnTo>
                  <a:pt x="177800" y="1054100"/>
                </a:lnTo>
                <a:cubicBezTo>
                  <a:pt x="172970" y="1029948"/>
                  <a:pt x="165417" y="978535"/>
                  <a:pt x="152400" y="952500"/>
                </a:cubicBezTo>
                <a:cubicBezTo>
                  <a:pt x="145574" y="938848"/>
                  <a:pt x="135467" y="927100"/>
                  <a:pt x="127000" y="914400"/>
                </a:cubicBezTo>
                <a:cubicBezTo>
                  <a:pt x="122767" y="897467"/>
                  <a:pt x="118086" y="880639"/>
                  <a:pt x="114300" y="863600"/>
                </a:cubicBezTo>
                <a:cubicBezTo>
                  <a:pt x="109617" y="842528"/>
                  <a:pt x="107280" y="820925"/>
                  <a:pt x="101600" y="800100"/>
                </a:cubicBezTo>
                <a:cubicBezTo>
                  <a:pt x="94555" y="774269"/>
                  <a:pt x="84667" y="749300"/>
                  <a:pt x="76200" y="723900"/>
                </a:cubicBezTo>
                <a:cubicBezTo>
                  <a:pt x="71967" y="711200"/>
                  <a:pt x="70926" y="696939"/>
                  <a:pt x="63500" y="685800"/>
                </a:cubicBezTo>
                <a:cubicBezTo>
                  <a:pt x="9379" y="604619"/>
                  <a:pt x="34286" y="631186"/>
                  <a:pt x="0" y="596900"/>
                </a:cubicBezTo>
              </a:path>
            </a:pathLst>
          </a:custGeom>
          <a:noFill/>
          <a:ln w="28575">
            <a:solidFill>
              <a:srgbClr val="92d050"/>
            </a:solidFill>
            <a:prstDash val="sysDash"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12" name="TextBox 13"/>
          <p:cNvSpPr/>
          <p:nvPr/>
        </p:nvSpPr>
        <p:spPr>
          <a:xfrm>
            <a:off x="678600" y="2047680"/>
            <a:ext cx="5168160" cy="1186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zh-CN" sz="2400" spc="-1" strike="noStrike">
                <a:solidFill>
                  <a:srgbClr val="000000"/>
                </a:solidFill>
                <a:latin typeface="思源黑体 CN Normal"/>
                <a:ea typeface="Noto Sans S Chinese Light"/>
              </a:rPr>
              <a:t>公司成立于</a:t>
            </a:r>
            <a:r>
              <a:rPr b="0" lang="en-US" sz="2400" spc="-1" strike="noStrike">
                <a:solidFill>
                  <a:srgbClr val="000000"/>
                </a:solidFill>
                <a:latin typeface="思源黑体 CN Normal"/>
                <a:ea typeface="Noto Sans S Chinese Light"/>
              </a:rPr>
              <a:t>2005</a:t>
            </a:r>
            <a:r>
              <a:rPr b="0" lang="zh-CN" sz="2400" spc="-1" strike="noStrike">
                <a:solidFill>
                  <a:srgbClr val="000000"/>
                </a:solidFill>
                <a:latin typeface="思源黑体 CN Normal"/>
                <a:ea typeface="Noto Sans S Chinese Light"/>
              </a:rPr>
              <a:t>年，主营以</a:t>
            </a:r>
            <a:r>
              <a:rPr b="0" lang="en-US" sz="2400" spc="-1" strike="noStrike">
                <a:solidFill>
                  <a:srgbClr val="000000"/>
                </a:solidFill>
                <a:latin typeface="思源黑体 CN Normal"/>
                <a:ea typeface="Noto Sans S Chinese Light"/>
              </a:rPr>
              <a:t>360</a:t>
            </a:r>
            <a:r>
              <a:rPr b="0" lang="zh-CN" sz="2400" spc="-1" strike="noStrike">
                <a:solidFill>
                  <a:srgbClr val="000000"/>
                </a:solidFill>
                <a:latin typeface="思源黑体 CN Normal"/>
                <a:ea typeface="Noto Sans S Chinese Light"/>
              </a:rPr>
              <a:t>杀毒为代表的免费网络安全平台，同时拥有问答等独立业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文本框 23"/>
          <p:cNvSpPr/>
          <p:nvPr/>
        </p:nvSpPr>
        <p:spPr>
          <a:xfrm>
            <a:off x="734760" y="76320"/>
            <a:ext cx="1072188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50000"/>
              </a:lnSpc>
            </a:pPr>
            <a:r>
              <a:rPr b="1" lang="zh-CN" sz="3600" spc="-1" strike="noStrike">
                <a:solidFill>
                  <a:srgbClr val="ffffff"/>
                </a:solidFill>
                <a:latin typeface="Noto Sans S Chinese Bold"/>
                <a:ea typeface="Noto Sans S Chinese Bold"/>
              </a:rPr>
              <a:t>没有布局与规划，只是解决用户亟需解决的安全问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组合 3"/>
          <p:cNvGrpSpPr/>
          <p:nvPr/>
        </p:nvGrpSpPr>
        <p:grpSpPr>
          <a:xfrm>
            <a:off x="613800" y="1332720"/>
            <a:ext cx="10964160" cy="4969080"/>
            <a:chOff x="613800" y="1332720"/>
            <a:chExt cx="10964160" cy="4969080"/>
          </a:xfrm>
        </p:grpSpPr>
        <p:graphicFrame>
          <p:nvGraphicFramePr>
            <p:cNvPr id="715" name="图表 9"/>
            <p:cNvGraphicFramePr/>
            <p:nvPr/>
          </p:nvGraphicFramePr>
          <p:xfrm>
            <a:off x="613800" y="2507760"/>
            <a:ext cx="9984960" cy="3794040"/>
          </p:xfrm>
          <a:graphic>
            <a:graphicData uri="http://schemas.openxmlformats.org/drawingml/2006/chart">
              <c:chart xmlns:c="http://schemas.openxmlformats.org/drawingml/2006/chart" xmlns:r="http://schemas.openxmlformats.org/officeDocument/2006/relationships" r:id="rId1"/>
            </a:graphicData>
          </a:graphic>
        </p:graphicFrame>
        <p:sp>
          <p:nvSpPr>
            <p:cNvPr id="716" name="矩形 6"/>
            <p:cNvSpPr/>
            <p:nvPr/>
          </p:nvSpPr>
          <p:spPr>
            <a:xfrm>
              <a:off x="9957240" y="3477960"/>
              <a:ext cx="1620720" cy="69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25000"/>
                </a:lnSpc>
              </a:pPr>
              <a:r>
                <a:rPr b="1" lang="zh-CN" sz="1600" spc="-1" strike="noStrike">
                  <a:solidFill>
                    <a:srgbClr val="000000"/>
                  </a:solidFill>
                  <a:latin typeface="Noto Sans S Chinese Light"/>
                  <a:ea typeface="Noto Sans S Chinese Light"/>
                </a:rPr>
                <a:t>月度活跃用户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5000"/>
                </a:lnSpc>
              </a:pPr>
              <a:r>
                <a:rPr b="1" lang="zh-CN" sz="1600" spc="-1" strike="noStrike">
                  <a:solidFill>
                    <a:srgbClr val="000000"/>
                  </a:solidFill>
                  <a:latin typeface="Noto Sans S Chinese Light"/>
                  <a:ea typeface="Noto Sans S Chinese Light"/>
                </a:rPr>
                <a:t>（百万）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17" name="图片 12" descr=""/>
            <p:cNvPicPr/>
            <p:nvPr/>
          </p:nvPicPr>
          <p:blipFill>
            <a:blip r:embed="rId2"/>
            <a:srcRect l="37985" t="0" r="0" b="0"/>
            <a:stretch/>
          </p:blipFill>
          <p:spPr>
            <a:xfrm>
              <a:off x="741240" y="4820760"/>
              <a:ext cx="1687680" cy="127872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718" name="直接连接符 11"/>
            <p:cNvCxnSpPr/>
            <p:nvPr/>
          </p:nvCxnSpPr>
          <p:spPr>
            <a:xfrm flipV="1">
              <a:off x="2375280" y="1332720"/>
              <a:ext cx="360" cy="4453200"/>
            </a:xfrm>
            <a:prstGeom prst="straightConnector1">
              <a:avLst/>
            </a:prstGeom>
            <a:ln>
              <a:solidFill>
                <a:srgbClr val="e7e6e6">
                  <a:lumMod val="90000"/>
                </a:srgbClr>
              </a:solidFill>
              <a:prstDash val="dash"/>
            </a:ln>
          </p:spPr>
        </p:cxnSp>
        <p:cxnSp>
          <p:nvCxnSpPr>
            <p:cNvPr id="719" name="直接连接符 14"/>
            <p:cNvCxnSpPr/>
            <p:nvPr/>
          </p:nvCxnSpPr>
          <p:spPr>
            <a:xfrm flipV="1">
              <a:off x="3982680" y="1332720"/>
              <a:ext cx="360" cy="4453560"/>
            </a:xfrm>
            <a:prstGeom prst="straightConnector1">
              <a:avLst/>
            </a:prstGeom>
            <a:ln>
              <a:solidFill>
                <a:srgbClr val="e7e6e6">
                  <a:lumMod val="90000"/>
                </a:srgbClr>
              </a:solidFill>
              <a:prstDash val="dash"/>
            </a:ln>
          </p:spPr>
        </p:cxnSp>
        <p:cxnSp>
          <p:nvCxnSpPr>
            <p:cNvPr id="720" name="直接连接符 15"/>
            <p:cNvCxnSpPr/>
            <p:nvPr/>
          </p:nvCxnSpPr>
          <p:spPr>
            <a:xfrm flipV="1">
              <a:off x="5603760" y="1332720"/>
              <a:ext cx="360" cy="4453560"/>
            </a:xfrm>
            <a:prstGeom prst="straightConnector1">
              <a:avLst/>
            </a:prstGeom>
            <a:ln>
              <a:solidFill>
                <a:srgbClr val="e7e6e6">
                  <a:lumMod val="90000"/>
                </a:srgbClr>
              </a:solidFill>
              <a:prstDash val="dash"/>
            </a:ln>
          </p:spPr>
        </p:cxnSp>
        <p:cxnSp>
          <p:nvCxnSpPr>
            <p:cNvPr id="721" name="直接连接符 16"/>
            <p:cNvCxnSpPr/>
            <p:nvPr/>
          </p:nvCxnSpPr>
          <p:spPr>
            <a:xfrm flipV="1">
              <a:off x="7217280" y="1332720"/>
              <a:ext cx="360" cy="4453560"/>
            </a:xfrm>
            <a:prstGeom prst="straightConnector1">
              <a:avLst/>
            </a:prstGeom>
            <a:ln>
              <a:solidFill>
                <a:srgbClr val="e7e6e6">
                  <a:lumMod val="90000"/>
                </a:srgbClr>
              </a:solidFill>
              <a:prstDash val="dash"/>
            </a:ln>
          </p:spPr>
        </p:cxnSp>
        <p:cxnSp>
          <p:nvCxnSpPr>
            <p:cNvPr id="722" name="直接连接符 17"/>
            <p:cNvCxnSpPr/>
            <p:nvPr/>
          </p:nvCxnSpPr>
          <p:spPr>
            <a:xfrm flipV="1">
              <a:off x="8839800" y="1332720"/>
              <a:ext cx="360" cy="4453560"/>
            </a:xfrm>
            <a:prstGeom prst="straightConnector1">
              <a:avLst/>
            </a:prstGeom>
            <a:ln>
              <a:solidFill>
                <a:srgbClr val="e7e6e6">
                  <a:lumMod val="90000"/>
                </a:srgbClr>
              </a:solidFill>
              <a:prstDash val="dash"/>
            </a:ln>
          </p:spPr>
        </p:cxnSp>
        <p:pic>
          <p:nvPicPr>
            <p:cNvPr id="723" name="图片 24" descr=""/>
            <p:cNvPicPr/>
            <p:nvPr/>
          </p:nvPicPr>
          <p:blipFill>
            <a:blip r:embed="rId3"/>
            <a:srcRect l="0" t="11573" r="62077" b="12107"/>
            <a:stretch/>
          </p:blipFill>
          <p:spPr>
            <a:xfrm>
              <a:off x="1312920" y="4186080"/>
              <a:ext cx="570960" cy="540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24" name="组合 8"/>
            <p:cNvGrpSpPr/>
            <p:nvPr/>
          </p:nvGrpSpPr>
          <p:grpSpPr>
            <a:xfrm>
              <a:off x="4499280" y="3268440"/>
              <a:ext cx="609120" cy="1431360"/>
              <a:chOff x="4499280" y="3268440"/>
              <a:chExt cx="609120" cy="1431360"/>
            </a:xfrm>
          </p:grpSpPr>
          <p:pic>
            <p:nvPicPr>
              <p:cNvPr id="725" name="图片 30" descr=""/>
              <p:cNvPicPr/>
              <p:nvPr/>
            </p:nvPicPr>
            <p:blipFill>
              <a:blip r:embed="rId4"/>
              <a:stretch/>
            </p:blipFill>
            <p:spPr>
              <a:xfrm>
                <a:off x="4529520" y="4016520"/>
                <a:ext cx="578880" cy="683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26" name="图片 31" descr=""/>
              <p:cNvPicPr/>
              <p:nvPr/>
            </p:nvPicPr>
            <p:blipFill>
              <a:blip r:embed="rId5"/>
              <a:stretch/>
            </p:blipFill>
            <p:spPr>
              <a:xfrm>
                <a:off x="4499280" y="3268440"/>
                <a:ext cx="581760" cy="6152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727" name="图片 2" descr=""/>
            <p:cNvPicPr/>
            <p:nvPr/>
          </p:nvPicPr>
          <p:blipFill>
            <a:blip r:embed="rId6"/>
            <a:stretch/>
          </p:blipFill>
          <p:spPr>
            <a:xfrm>
              <a:off x="2904480" y="3997800"/>
              <a:ext cx="549000" cy="539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28" name="组合 10"/>
            <p:cNvGrpSpPr/>
            <p:nvPr/>
          </p:nvGrpSpPr>
          <p:grpSpPr>
            <a:xfrm>
              <a:off x="6150960" y="2877480"/>
              <a:ext cx="606240" cy="1263960"/>
              <a:chOff x="6150960" y="2877480"/>
              <a:chExt cx="606240" cy="1263960"/>
            </a:xfrm>
          </p:grpSpPr>
          <p:pic>
            <p:nvPicPr>
              <p:cNvPr id="729" name="图片 26" descr=""/>
              <p:cNvPicPr/>
              <p:nvPr/>
            </p:nvPicPr>
            <p:blipFill>
              <a:blip r:embed="rId7"/>
              <a:stretch/>
            </p:blipFill>
            <p:spPr>
              <a:xfrm>
                <a:off x="6188400" y="2877480"/>
                <a:ext cx="473400" cy="473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30" name="图片 27" descr=""/>
              <p:cNvPicPr/>
              <p:nvPr/>
            </p:nvPicPr>
            <p:blipFill>
              <a:blip r:embed="rId8"/>
              <a:stretch/>
            </p:blipFill>
            <p:spPr>
              <a:xfrm>
                <a:off x="6150960" y="3535200"/>
                <a:ext cx="606240" cy="6062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731" name="图片 28" descr=""/>
            <p:cNvPicPr/>
            <p:nvPr/>
          </p:nvPicPr>
          <p:blipFill>
            <a:blip r:embed="rId9"/>
            <a:stretch/>
          </p:blipFill>
          <p:spPr>
            <a:xfrm>
              <a:off x="7784640" y="2468520"/>
              <a:ext cx="495000" cy="503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2" name="图片 29" descr=""/>
            <p:cNvPicPr/>
            <p:nvPr/>
          </p:nvPicPr>
          <p:blipFill>
            <a:blip r:embed="rId10"/>
            <a:stretch/>
          </p:blipFill>
          <p:spPr>
            <a:xfrm>
              <a:off x="9362160" y="1904040"/>
              <a:ext cx="537840" cy="520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33" name="TextBox 13"/>
          <p:cNvSpPr/>
          <p:nvPr/>
        </p:nvSpPr>
        <p:spPr>
          <a:xfrm>
            <a:off x="678600" y="1887840"/>
            <a:ext cx="5168160" cy="1735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zh-CN" sz="2400" spc="-1" strike="noStrike">
                <a:solidFill>
                  <a:srgbClr val="000000"/>
                </a:solidFill>
                <a:latin typeface="Noto Sans S Chinese Light"/>
                <a:ea typeface="Noto Sans S Chinese Light"/>
              </a:rPr>
              <a:t>针对用户对互联网安全的渴求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2400" spc="-1" strike="noStrike">
                <a:solidFill>
                  <a:srgbClr val="000000"/>
                </a:solidFill>
                <a:latin typeface="Noto Sans S Chinese Light"/>
                <a:ea typeface="Noto Sans S Chinese Light"/>
              </a:rPr>
              <a:t>从安全卫士到免费杀毒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2400" spc="-1" strike="noStrike">
                <a:solidFill>
                  <a:srgbClr val="000000"/>
                </a:solidFill>
                <a:latin typeface="Noto Sans S Chinese Light"/>
                <a:ea typeface="Noto Sans S Chinese Light"/>
              </a:rPr>
              <a:t>每年推出不同的解决方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Text Box 3"/>
          <p:cNvSpPr/>
          <p:nvPr/>
        </p:nvSpPr>
        <p:spPr>
          <a:xfrm>
            <a:off x="372960" y="6355080"/>
            <a:ext cx="5327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563c1"/>
                </a:solidFill>
                <a:uFillTx/>
                <a:latin typeface="Arial"/>
                <a:ea typeface="宋体"/>
                <a:hlinkClick r:id="rId11"/>
              </a:rPr>
              <a:t>免费ppt模板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文本框 5"/>
          <p:cNvSpPr/>
          <p:nvPr/>
        </p:nvSpPr>
        <p:spPr>
          <a:xfrm>
            <a:off x="734760" y="76320"/>
            <a:ext cx="1072188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50000"/>
              </a:lnSpc>
            </a:pPr>
            <a:r>
              <a:rPr b="1" lang="zh-CN" sz="3600" spc="-1" strike="noStrike">
                <a:solidFill>
                  <a:srgbClr val="ffffff"/>
                </a:solidFill>
                <a:latin typeface="Noto Sans S Chinese Bold"/>
                <a:ea typeface="Noto Sans S Chinese Bold"/>
              </a:rPr>
              <a:t>专注，只做安全的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6" name="组合 393"/>
          <p:cNvGrpSpPr/>
          <p:nvPr/>
        </p:nvGrpSpPr>
        <p:grpSpPr>
          <a:xfrm>
            <a:off x="1255680" y="1921680"/>
            <a:ext cx="1778760" cy="1778760"/>
            <a:chOff x="1255680" y="1921680"/>
            <a:chExt cx="1778760" cy="1778760"/>
          </a:xfrm>
        </p:grpSpPr>
        <p:grpSp>
          <p:nvGrpSpPr>
            <p:cNvPr id="737" name="组合 294"/>
            <p:cNvGrpSpPr/>
            <p:nvPr/>
          </p:nvGrpSpPr>
          <p:grpSpPr>
            <a:xfrm>
              <a:off x="1255680" y="1921680"/>
              <a:ext cx="1778760" cy="1778760"/>
              <a:chOff x="1255680" y="1921680"/>
              <a:chExt cx="1778760" cy="1778760"/>
            </a:xfrm>
          </p:grpSpPr>
          <p:grpSp>
            <p:nvGrpSpPr>
              <p:cNvPr id="738" name="组合 503"/>
              <p:cNvGrpSpPr/>
              <p:nvPr/>
            </p:nvGrpSpPr>
            <p:grpSpPr>
              <a:xfrm>
                <a:off x="1255680" y="1921680"/>
                <a:ext cx="1778760" cy="1778400"/>
                <a:chOff x="1255680" y="1921680"/>
                <a:chExt cx="1778760" cy="1778400"/>
              </a:xfrm>
            </p:grpSpPr>
            <p:grpSp>
              <p:nvGrpSpPr>
                <p:cNvPr id="739" name="组合 511"/>
                <p:cNvGrpSpPr/>
                <p:nvPr/>
              </p:nvGrpSpPr>
              <p:grpSpPr>
                <a:xfrm>
                  <a:off x="1255680" y="1921680"/>
                  <a:ext cx="1778040" cy="1778040"/>
                  <a:chOff x="1255680" y="1921680"/>
                  <a:chExt cx="1778040" cy="1778040"/>
                </a:xfrm>
              </p:grpSpPr>
              <p:sp>
                <p:nvSpPr>
                  <p:cNvPr id="740" name="空心弧 262"/>
                  <p:cNvSpPr/>
                  <p:nvPr/>
                </p:nvSpPr>
                <p:spPr>
                  <a:xfrm rot="208800">
                    <a:off x="1514880" y="2180880"/>
                    <a:ext cx="1259640" cy="1259640"/>
                  </a:xfrm>
                  <a:prstGeom prst="blockArc">
                    <a:avLst>
                      <a:gd name="adj1" fmla="val 10800000"/>
                      <a:gd name="adj2" fmla="val 13319656"/>
                      <a:gd name="adj3" fmla="val 4137"/>
                    </a:avLst>
                  </a:prstGeom>
                  <a:solidFill>
                    <a:srgbClr val="92d050">
                      <a:alpha val="60000"/>
                    </a:srgbClr>
                  </a:solidFill>
                  <a:ln>
                    <a:noFill/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lIns="90000" rIns="90000" tIns="45000" bIns="450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741" name="空心弧 263"/>
                  <p:cNvSpPr/>
                  <p:nvPr/>
                </p:nvSpPr>
                <p:spPr>
                  <a:xfrm rot="2908800">
                    <a:off x="1514880" y="2180880"/>
                    <a:ext cx="1259640" cy="1259640"/>
                  </a:xfrm>
                  <a:prstGeom prst="blockArc">
                    <a:avLst>
                      <a:gd name="adj1" fmla="val 10800000"/>
                      <a:gd name="adj2" fmla="val 13319656"/>
                      <a:gd name="adj3" fmla="val 4137"/>
                    </a:avLst>
                  </a:prstGeom>
                  <a:solidFill>
                    <a:srgbClr val="92d050">
                      <a:alpha val="60000"/>
                    </a:srgbClr>
                  </a:solidFill>
                  <a:ln>
                    <a:noFill/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lIns="90000" rIns="90000" tIns="45000" bIns="450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742" name="组合 512"/>
                <p:cNvGrpSpPr/>
                <p:nvPr/>
              </p:nvGrpSpPr>
              <p:grpSpPr>
                <a:xfrm>
                  <a:off x="1256400" y="1922040"/>
                  <a:ext cx="1778040" cy="1778040"/>
                  <a:chOff x="1256400" y="1922040"/>
                  <a:chExt cx="1778040" cy="1778040"/>
                </a:xfrm>
              </p:grpSpPr>
              <p:sp>
                <p:nvSpPr>
                  <p:cNvPr id="743" name="空心弧 260"/>
                  <p:cNvSpPr/>
                  <p:nvPr/>
                </p:nvSpPr>
                <p:spPr>
                  <a:xfrm rot="5608800">
                    <a:off x="1515240" y="2180880"/>
                    <a:ext cx="1259640" cy="1259640"/>
                  </a:xfrm>
                  <a:prstGeom prst="blockArc">
                    <a:avLst>
                      <a:gd name="adj1" fmla="val 10800000"/>
                      <a:gd name="adj2" fmla="val 13319656"/>
                      <a:gd name="adj3" fmla="val 4137"/>
                    </a:avLst>
                  </a:prstGeom>
                  <a:solidFill>
                    <a:srgbClr val="92d050">
                      <a:alpha val="60000"/>
                    </a:srgbClr>
                  </a:solidFill>
                  <a:ln>
                    <a:noFill/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lIns="90000" rIns="90000" tIns="45000" bIns="450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744" name="空心弧 261"/>
                  <p:cNvSpPr/>
                  <p:nvPr/>
                </p:nvSpPr>
                <p:spPr>
                  <a:xfrm rot="8308800">
                    <a:off x="1515240" y="2181240"/>
                    <a:ext cx="1259640" cy="1259640"/>
                  </a:xfrm>
                  <a:prstGeom prst="blockArc">
                    <a:avLst>
                      <a:gd name="adj1" fmla="val 10800000"/>
                      <a:gd name="adj2" fmla="val 13319656"/>
                      <a:gd name="adj3" fmla="val 4137"/>
                    </a:avLst>
                  </a:prstGeom>
                  <a:solidFill>
                    <a:srgbClr val="92d050">
                      <a:alpha val="60000"/>
                    </a:srgbClr>
                  </a:solidFill>
                  <a:ln>
                    <a:noFill/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lIns="90000" rIns="90000" tIns="45000" bIns="450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  <p:grpSp>
            <p:nvGrpSpPr>
              <p:cNvPr id="745" name="组合 504"/>
              <p:cNvGrpSpPr/>
              <p:nvPr/>
            </p:nvGrpSpPr>
            <p:grpSpPr>
              <a:xfrm>
                <a:off x="1255680" y="1922040"/>
                <a:ext cx="1778400" cy="1778400"/>
                <a:chOff x="1255680" y="1922040"/>
                <a:chExt cx="1778400" cy="1778400"/>
              </a:xfrm>
            </p:grpSpPr>
            <p:grpSp>
              <p:nvGrpSpPr>
                <p:cNvPr id="746" name="组合 505"/>
                <p:cNvGrpSpPr/>
                <p:nvPr/>
              </p:nvGrpSpPr>
              <p:grpSpPr>
                <a:xfrm>
                  <a:off x="1256040" y="1922400"/>
                  <a:ext cx="1778040" cy="1778040"/>
                  <a:chOff x="1256040" y="1922400"/>
                  <a:chExt cx="1778040" cy="1778040"/>
                </a:xfrm>
              </p:grpSpPr>
              <p:sp>
                <p:nvSpPr>
                  <p:cNvPr id="747" name="空心弧 256"/>
                  <p:cNvSpPr/>
                  <p:nvPr/>
                </p:nvSpPr>
                <p:spPr>
                  <a:xfrm rot="11008800">
                    <a:off x="1515240" y="2181600"/>
                    <a:ext cx="1259640" cy="1259640"/>
                  </a:xfrm>
                  <a:prstGeom prst="blockArc">
                    <a:avLst>
                      <a:gd name="adj1" fmla="val 10800000"/>
                      <a:gd name="adj2" fmla="val 13319656"/>
                      <a:gd name="adj3" fmla="val 4137"/>
                    </a:avLst>
                  </a:prstGeom>
                  <a:solidFill>
                    <a:srgbClr val="6ba42c"/>
                  </a:solidFill>
                  <a:ln>
                    <a:noFill/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lIns="90000" rIns="90000" tIns="45000" bIns="450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748" name="空心弧 257"/>
                  <p:cNvSpPr/>
                  <p:nvPr/>
                </p:nvSpPr>
                <p:spPr>
                  <a:xfrm rot="13708800">
                    <a:off x="1514880" y="2181240"/>
                    <a:ext cx="1259640" cy="1259640"/>
                  </a:xfrm>
                  <a:prstGeom prst="blockArc">
                    <a:avLst>
                      <a:gd name="adj1" fmla="val 10800000"/>
                      <a:gd name="adj2" fmla="val 13319656"/>
                      <a:gd name="adj3" fmla="val 4137"/>
                    </a:avLst>
                  </a:prstGeom>
                  <a:solidFill>
                    <a:srgbClr val="6ba42c"/>
                  </a:solidFill>
                  <a:ln>
                    <a:noFill/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lIns="90000" rIns="90000" tIns="45000" bIns="450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749" name="组合 506"/>
                <p:cNvGrpSpPr/>
                <p:nvPr/>
              </p:nvGrpSpPr>
              <p:grpSpPr>
                <a:xfrm>
                  <a:off x="1255680" y="1922040"/>
                  <a:ext cx="1778040" cy="1778040"/>
                  <a:chOff x="1255680" y="1922040"/>
                  <a:chExt cx="1778040" cy="1778040"/>
                </a:xfrm>
              </p:grpSpPr>
              <p:sp>
                <p:nvSpPr>
                  <p:cNvPr id="750" name="空心弧 254"/>
                  <p:cNvSpPr/>
                  <p:nvPr/>
                </p:nvSpPr>
                <p:spPr>
                  <a:xfrm rot="16408800">
                    <a:off x="1514520" y="2181240"/>
                    <a:ext cx="1259640" cy="1259640"/>
                  </a:xfrm>
                  <a:prstGeom prst="blockArc">
                    <a:avLst>
                      <a:gd name="adj1" fmla="val 10800000"/>
                      <a:gd name="adj2" fmla="val 13319656"/>
                      <a:gd name="adj3" fmla="val 4137"/>
                    </a:avLst>
                  </a:prstGeom>
                  <a:solidFill>
                    <a:srgbClr val="6ba42c"/>
                  </a:solidFill>
                  <a:ln>
                    <a:noFill/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lIns="90000" rIns="90000" tIns="45000" bIns="450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751" name="空心弧 255"/>
                  <p:cNvSpPr/>
                  <p:nvPr/>
                </p:nvSpPr>
                <p:spPr>
                  <a:xfrm rot="19108800">
                    <a:off x="1514880" y="2180880"/>
                    <a:ext cx="1259640" cy="1259640"/>
                  </a:xfrm>
                  <a:prstGeom prst="blockArc">
                    <a:avLst>
                      <a:gd name="adj1" fmla="val 10800000"/>
                      <a:gd name="adj2" fmla="val 13319656"/>
                      <a:gd name="adj3" fmla="val 4137"/>
                    </a:avLst>
                  </a:prstGeom>
                  <a:solidFill>
                    <a:srgbClr val="92d050">
                      <a:alpha val="60000"/>
                    </a:srgbClr>
                  </a:solidFill>
                  <a:ln>
                    <a:noFill/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lIns="90000" rIns="90000" tIns="45000" bIns="450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</p:grpSp>
        <p:pic>
          <p:nvPicPr>
            <p:cNvPr id="752" name="图片 311" descr=""/>
            <p:cNvPicPr/>
            <p:nvPr/>
          </p:nvPicPr>
          <p:blipFill>
            <a:blip r:embed="rId1"/>
            <a:srcRect l="0" t="11573" r="62077" b="12107"/>
            <a:stretch/>
          </p:blipFill>
          <p:spPr>
            <a:xfrm>
              <a:off x="1778760" y="2464560"/>
              <a:ext cx="732240" cy="692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53" name="组合 394"/>
          <p:cNvGrpSpPr/>
          <p:nvPr/>
        </p:nvGrpSpPr>
        <p:grpSpPr>
          <a:xfrm>
            <a:off x="3991320" y="1402560"/>
            <a:ext cx="4320360" cy="4320720"/>
            <a:chOff x="3991320" y="1402560"/>
            <a:chExt cx="4320360" cy="4320720"/>
          </a:xfrm>
        </p:grpSpPr>
        <p:pic>
          <p:nvPicPr>
            <p:cNvPr id="754" name="图片 312" descr=""/>
            <p:cNvPicPr/>
            <p:nvPr/>
          </p:nvPicPr>
          <p:blipFill>
            <a:blip r:embed="rId2"/>
            <a:stretch/>
          </p:blipFill>
          <p:spPr>
            <a:xfrm>
              <a:off x="5245200" y="2604240"/>
              <a:ext cx="1812240" cy="1917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55" name="组合 331"/>
            <p:cNvGrpSpPr/>
            <p:nvPr/>
          </p:nvGrpSpPr>
          <p:grpSpPr>
            <a:xfrm>
              <a:off x="3991320" y="1402560"/>
              <a:ext cx="4320360" cy="4320720"/>
              <a:chOff x="3991320" y="1402560"/>
              <a:chExt cx="4320360" cy="4320720"/>
            </a:xfrm>
          </p:grpSpPr>
          <p:grpSp>
            <p:nvGrpSpPr>
              <p:cNvPr id="756" name="组合 503"/>
              <p:cNvGrpSpPr/>
              <p:nvPr/>
            </p:nvGrpSpPr>
            <p:grpSpPr>
              <a:xfrm>
                <a:off x="3991320" y="1402560"/>
                <a:ext cx="4320360" cy="4320360"/>
                <a:chOff x="3991320" y="1402560"/>
                <a:chExt cx="4320360" cy="4320360"/>
              </a:xfrm>
            </p:grpSpPr>
            <p:grpSp>
              <p:nvGrpSpPr>
                <p:cNvPr id="757" name="组合 511"/>
                <p:cNvGrpSpPr/>
                <p:nvPr/>
              </p:nvGrpSpPr>
              <p:grpSpPr>
                <a:xfrm>
                  <a:off x="3991320" y="1402560"/>
                  <a:ext cx="4320000" cy="4320000"/>
                  <a:chOff x="3991320" y="1402560"/>
                  <a:chExt cx="4320000" cy="4320000"/>
                </a:xfrm>
              </p:grpSpPr>
              <p:sp>
                <p:nvSpPr>
                  <p:cNvPr id="758" name="空心弧 344"/>
                  <p:cNvSpPr/>
                  <p:nvPr/>
                </p:nvSpPr>
                <p:spPr>
                  <a:xfrm rot="208800">
                    <a:off x="4620960" y="2032560"/>
                    <a:ext cx="3060360" cy="3060360"/>
                  </a:xfrm>
                  <a:prstGeom prst="blockArc">
                    <a:avLst>
                      <a:gd name="adj1" fmla="val 10800000"/>
                      <a:gd name="adj2" fmla="val 13319656"/>
                      <a:gd name="adj3" fmla="val 4137"/>
                    </a:avLst>
                  </a:prstGeom>
                  <a:solidFill>
                    <a:srgbClr val="92d050">
                      <a:alpha val="60000"/>
                    </a:srgbClr>
                  </a:solidFill>
                  <a:ln>
                    <a:noFill/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lIns="90000" rIns="90000" tIns="45000" bIns="450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759" name="空心弧 345"/>
                  <p:cNvSpPr/>
                  <p:nvPr/>
                </p:nvSpPr>
                <p:spPr>
                  <a:xfrm rot="2908800">
                    <a:off x="4620960" y="2032200"/>
                    <a:ext cx="3060360" cy="3060360"/>
                  </a:xfrm>
                  <a:prstGeom prst="blockArc">
                    <a:avLst>
                      <a:gd name="adj1" fmla="val 10800000"/>
                      <a:gd name="adj2" fmla="val 13319656"/>
                      <a:gd name="adj3" fmla="val 4137"/>
                    </a:avLst>
                  </a:prstGeom>
                  <a:solidFill>
                    <a:srgbClr val="92d050">
                      <a:alpha val="60000"/>
                    </a:srgbClr>
                  </a:solidFill>
                  <a:ln>
                    <a:noFill/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lIns="90000" rIns="90000" tIns="45000" bIns="450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760" name="组合 512"/>
                <p:cNvGrpSpPr/>
                <p:nvPr/>
              </p:nvGrpSpPr>
              <p:grpSpPr>
                <a:xfrm>
                  <a:off x="3991680" y="1402920"/>
                  <a:ext cx="4320000" cy="4320000"/>
                  <a:chOff x="3991680" y="1402920"/>
                  <a:chExt cx="4320000" cy="4320000"/>
                </a:xfrm>
              </p:grpSpPr>
              <p:sp>
                <p:nvSpPr>
                  <p:cNvPr id="761" name="空心弧 342"/>
                  <p:cNvSpPr/>
                  <p:nvPr/>
                </p:nvSpPr>
                <p:spPr>
                  <a:xfrm rot="5608800">
                    <a:off x="4620960" y="2032560"/>
                    <a:ext cx="3060360" cy="3060360"/>
                  </a:xfrm>
                  <a:prstGeom prst="blockArc">
                    <a:avLst>
                      <a:gd name="adj1" fmla="val 10800000"/>
                      <a:gd name="adj2" fmla="val 13319656"/>
                      <a:gd name="adj3" fmla="val 4137"/>
                    </a:avLst>
                  </a:prstGeom>
                  <a:solidFill>
                    <a:srgbClr val="92d050">
                      <a:alpha val="60000"/>
                    </a:srgbClr>
                  </a:solidFill>
                  <a:ln>
                    <a:noFill/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lIns="90000" rIns="90000" tIns="45000" bIns="450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762" name="空心弧 343"/>
                  <p:cNvSpPr/>
                  <p:nvPr/>
                </p:nvSpPr>
                <p:spPr>
                  <a:xfrm rot="8308800">
                    <a:off x="4621320" y="2032560"/>
                    <a:ext cx="3060360" cy="3060360"/>
                  </a:xfrm>
                  <a:prstGeom prst="blockArc">
                    <a:avLst>
                      <a:gd name="adj1" fmla="val 10800000"/>
                      <a:gd name="adj2" fmla="val 13319656"/>
                      <a:gd name="adj3" fmla="val 4137"/>
                    </a:avLst>
                  </a:prstGeom>
                  <a:solidFill>
                    <a:srgbClr val="92d050">
                      <a:alpha val="60000"/>
                    </a:srgbClr>
                  </a:solidFill>
                  <a:ln>
                    <a:noFill/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lIns="90000" rIns="90000" tIns="45000" bIns="450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  <p:grpSp>
            <p:nvGrpSpPr>
              <p:cNvPr id="763" name="组合 504"/>
              <p:cNvGrpSpPr/>
              <p:nvPr/>
            </p:nvGrpSpPr>
            <p:grpSpPr>
              <a:xfrm>
                <a:off x="3991320" y="1402920"/>
                <a:ext cx="4320000" cy="4320360"/>
                <a:chOff x="3991320" y="1402920"/>
                <a:chExt cx="4320000" cy="4320360"/>
              </a:xfrm>
            </p:grpSpPr>
            <p:grpSp>
              <p:nvGrpSpPr>
                <p:cNvPr id="764" name="组合 505"/>
                <p:cNvGrpSpPr/>
                <p:nvPr/>
              </p:nvGrpSpPr>
              <p:grpSpPr>
                <a:xfrm>
                  <a:off x="3991320" y="1403280"/>
                  <a:ext cx="4320000" cy="4320000"/>
                  <a:chOff x="3991320" y="1403280"/>
                  <a:chExt cx="4320000" cy="4320000"/>
                </a:xfrm>
              </p:grpSpPr>
              <p:sp>
                <p:nvSpPr>
                  <p:cNvPr id="765" name="空心弧 338"/>
                  <p:cNvSpPr/>
                  <p:nvPr/>
                </p:nvSpPr>
                <p:spPr>
                  <a:xfrm rot="11008800">
                    <a:off x="4620960" y="2032560"/>
                    <a:ext cx="3060360" cy="3060360"/>
                  </a:xfrm>
                  <a:prstGeom prst="blockArc">
                    <a:avLst>
                      <a:gd name="adj1" fmla="val 10800000"/>
                      <a:gd name="adj2" fmla="val 13319656"/>
                      <a:gd name="adj3" fmla="val 4137"/>
                    </a:avLst>
                  </a:prstGeom>
                  <a:solidFill>
                    <a:srgbClr val="6ba42c"/>
                  </a:solidFill>
                  <a:ln>
                    <a:noFill/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lIns="90000" rIns="90000" tIns="45000" bIns="450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766" name="空心弧 339"/>
                  <p:cNvSpPr/>
                  <p:nvPr/>
                </p:nvSpPr>
                <p:spPr>
                  <a:xfrm rot="13708800">
                    <a:off x="4620960" y="2032920"/>
                    <a:ext cx="3060360" cy="3060360"/>
                  </a:xfrm>
                  <a:prstGeom prst="blockArc">
                    <a:avLst>
                      <a:gd name="adj1" fmla="val 10800000"/>
                      <a:gd name="adj2" fmla="val 13319656"/>
                      <a:gd name="adj3" fmla="val 4137"/>
                    </a:avLst>
                  </a:prstGeom>
                  <a:solidFill>
                    <a:srgbClr val="6ba42c"/>
                  </a:solidFill>
                  <a:ln>
                    <a:noFill/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lIns="90000" rIns="90000" tIns="45000" bIns="450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767" name="组合 506"/>
                <p:cNvGrpSpPr/>
                <p:nvPr/>
              </p:nvGrpSpPr>
              <p:grpSpPr>
                <a:xfrm>
                  <a:off x="3991320" y="1402920"/>
                  <a:ext cx="4320000" cy="4320000"/>
                  <a:chOff x="3991320" y="1402920"/>
                  <a:chExt cx="4320000" cy="4320000"/>
                </a:xfrm>
              </p:grpSpPr>
              <p:sp>
                <p:nvSpPr>
                  <p:cNvPr id="768" name="空心弧 336"/>
                  <p:cNvSpPr/>
                  <p:nvPr/>
                </p:nvSpPr>
                <p:spPr>
                  <a:xfrm rot="16408800">
                    <a:off x="4620960" y="2032560"/>
                    <a:ext cx="3060360" cy="3060360"/>
                  </a:xfrm>
                  <a:prstGeom prst="blockArc">
                    <a:avLst>
                      <a:gd name="adj1" fmla="val 10800000"/>
                      <a:gd name="adj2" fmla="val 13319656"/>
                      <a:gd name="adj3" fmla="val 4137"/>
                    </a:avLst>
                  </a:prstGeom>
                  <a:solidFill>
                    <a:srgbClr val="6ba42c"/>
                  </a:solidFill>
                  <a:ln>
                    <a:noFill/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lIns="90000" rIns="90000" tIns="45000" bIns="450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769" name="空心弧 337"/>
                  <p:cNvSpPr/>
                  <p:nvPr/>
                </p:nvSpPr>
                <p:spPr>
                  <a:xfrm rot="19108800">
                    <a:off x="4620960" y="2032560"/>
                    <a:ext cx="3060360" cy="3060360"/>
                  </a:xfrm>
                  <a:prstGeom prst="blockArc">
                    <a:avLst>
                      <a:gd name="adj1" fmla="val 10800000"/>
                      <a:gd name="adj2" fmla="val 13319656"/>
                      <a:gd name="adj3" fmla="val 4137"/>
                    </a:avLst>
                  </a:prstGeom>
                  <a:solidFill>
                    <a:srgbClr val="92d050">
                      <a:alpha val="60000"/>
                    </a:srgbClr>
                  </a:solidFill>
                  <a:ln>
                    <a:noFill/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lIns="90000" rIns="90000" tIns="45000" bIns="450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</p:grpSp>
      </p:grpSp>
      <p:grpSp>
        <p:nvGrpSpPr>
          <p:cNvPr id="770" name="组合 395"/>
          <p:cNvGrpSpPr/>
          <p:nvPr/>
        </p:nvGrpSpPr>
        <p:grpSpPr>
          <a:xfrm>
            <a:off x="9157680" y="1921680"/>
            <a:ext cx="1778760" cy="1778760"/>
            <a:chOff x="9157680" y="1921680"/>
            <a:chExt cx="1778760" cy="1778760"/>
          </a:xfrm>
        </p:grpSpPr>
        <p:pic>
          <p:nvPicPr>
            <p:cNvPr id="771" name="图片 314" descr=""/>
            <p:cNvPicPr/>
            <p:nvPr/>
          </p:nvPicPr>
          <p:blipFill>
            <a:blip r:embed="rId3"/>
            <a:stretch/>
          </p:blipFill>
          <p:spPr>
            <a:xfrm>
              <a:off x="9743040" y="2507400"/>
              <a:ext cx="607320" cy="6073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72" name="组合 361"/>
            <p:cNvGrpSpPr/>
            <p:nvPr/>
          </p:nvGrpSpPr>
          <p:grpSpPr>
            <a:xfrm>
              <a:off x="9157680" y="1921680"/>
              <a:ext cx="1778760" cy="1778760"/>
              <a:chOff x="9157680" y="1921680"/>
              <a:chExt cx="1778760" cy="1778760"/>
            </a:xfrm>
          </p:grpSpPr>
          <p:grpSp>
            <p:nvGrpSpPr>
              <p:cNvPr id="773" name="组合 503"/>
              <p:cNvGrpSpPr/>
              <p:nvPr/>
            </p:nvGrpSpPr>
            <p:grpSpPr>
              <a:xfrm>
                <a:off x="9158040" y="1921680"/>
                <a:ext cx="1778400" cy="1778400"/>
                <a:chOff x="9158040" y="1921680"/>
                <a:chExt cx="1778400" cy="1778400"/>
              </a:xfrm>
            </p:grpSpPr>
            <p:grpSp>
              <p:nvGrpSpPr>
                <p:cNvPr id="774" name="组合 511"/>
                <p:cNvGrpSpPr/>
                <p:nvPr/>
              </p:nvGrpSpPr>
              <p:grpSpPr>
                <a:xfrm>
                  <a:off x="9158040" y="1921680"/>
                  <a:ext cx="1778040" cy="1778040"/>
                  <a:chOff x="9158040" y="1921680"/>
                  <a:chExt cx="1778040" cy="1778040"/>
                </a:xfrm>
              </p:grpSpPr>
              <p:sp>
                <p:nvSpPr>
                  <p:cNvPr id="775" name="空心弧 374"/>
                  <p:cNvSpPr/>
                  <p:nvPr/>
                </p:nvSpPr>
                <p:spPr>
                  <a:xfrm rot="208800">
                    <a:off x="9416880" y="2180880"/>
                    <a:ext cx="1259640" cy="1259640"/>
                  </a:xfrm>
                  <a:prstGeom prst="blockArc">
                    <a:avLst>
                      <a:gd name="adj1" fmla="val 10800000"/>
                      <a:gd name="adj2" fmla="val 13319656"/>
                      <a:gd name="adj3" fmla="val 4137"/>
                    </a:avLst>
                  </a:prstGeom>
                  <a:solidFill>
                    <a:srgbClr val="92d050">
                      <a:alpha val="60000"/>
                    </a:srgbClr>
                  </a:solidFill>
                  <a:ln>
                    <a:noFill/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lIns="90000" rIns="90000" tIns="45000" bIns="450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776" name="空心弧 375"/>
                  <p:cNvSpPr/>
                  <p:nvPr/>
                </p:nvSpPr>
                <p:spPr>
                  <a:xfrm rot="2908800">
                    <a:off x="9417240" y="2180880"/>
                    <a:ext cx="1259640" cy="1259640"/>
                  </a:xfrm>
                  <a:prstGeom prst="blockArc">
                    <a:avLst>
                      <a:gd name="adj1" fmla="val 10800000"/>
                      <a:gd name="adj2" fmla="val 13319656"/>
                      <a:gd name="adj3" fmla="val 4137"/>
                    </a:avLst>
                  </a:prstGeom>
                  <a:solidFill>
                    <a:srgbClr val="92d050">
                      <a:alpha val="60000"/>
                    </a:srgbClr>
                  </a:solidFill>
                  <a:ln>
                    <a:noFill/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lIns="90000" rIns="90000" tIns="45000" bIns="450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777" name="组合 512"/>
                <p:cNvGrpSpPr/>
                <p:nvPr/>
              </p:nvGrpSpPr>
              <p:grpSpPr>
                <a:xfrm>
                  <a:off x="9158400" y="1922040"/>
                  <a:ext cx="1778040" cy="1778040"/>
                  <a:chOff x="9158400" y="1922040"/>
                  <a:chExt cx="1778040" cy="1778040"/>
                </a:xfrm>
              </p:grpSpPr>
              <p:sp>
                <p:nvSpPr>
                  <p:cNvPr id="778" name="空心弧 372"/>
                  <p:cNvSpPr/>
                  <p:nvPr/>
                </p:nvSpPr>
                <p:spPr>
                  <a:xfrm rot="5608800">
                    <a:off x="9417240" y="2180880"/>
                    <a:ext cx="1259640" cy="1259640"/>
                  </a:xfrm>
                  <a:prstGeom prst="blockArc">
                    <a:avLst>
                      <a:gd name="adj1" fmla="val 10800000"/>
                      <a:gd name="adj2" fmla="val 13319656"/>
                      <a:gd name="adj3" fmla="val 4137"/>
                    </a:avLst>
                  </a:prstGeom>
                  <a:solidFill>
                    <a:srgbClr val="92d050">
                      <a:alpha val="60000"/>
                    </a:srgbClr>
                  </a:solidFill>
                  <a:ln>
                    <a:noFill/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lIns="90000" rIns="90000" tIns="45000" bIns="450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779" name="空心弧 373"/>
                  <p:cNvSpPr/>
                  <p:nvPr/>
                </p:nvSpPr>
                <p:spPr>
                  <a:xfrm rot="8308800">
                    <a:off x="9417240" y="2181240"/>
                    <a:ext cx="1259640" cy="1259640"/>
                  </a:xfrm>
                  <a:prstGeom prst="blockArc">
                    <a:avLst>
                      <a:gd name="adj1" fmla="val 10800000"/>
                      <a:gd name="adj2" fmla="val 13319656"/>
                      <a:gd name="adj3" fmla="val 4137"/>
                    </a:avLst>
                  </a:prstGeom>
                  <a:solidFill>
                    <a:srgbClr val="92d050">
                      <a:alpha val="60000"/>
                    </a:srgbClr>
                  </a:solidFill>
                  <a:ln>
                    <a:noFill/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lIns="90000" rIns="90000" tIns="45000" bIns="450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  <p:grpSp>
            <p:nvGrpSpPr>
              <p:cNvPr id="780" name="组合 504"/>
              <p:cNvGrpSpPr/>
              <p:nvPr/>
            </p:nvGrpSpPr>
            <p:grpSpPr>
              <a:xfrm>
                <a:off x="9157680" y="1922040"/>
                <a:ext cx="1778400" cy="1778400"/>
                <a:chOff x="9157680" y="1922040"/>
                <a:chExt cx="1778400" cy="1778400"/>
              </a:xfrm>
            </p:grpSpPr>
            <p:grpSp>
              <p:nvGrpSpPr>
                <p:cNvPr id="781" name="组合 505"/>
                <p:cNvGrpSpPr/>
                <p:nvPr/>
              </p:nvGrpSpPr>
              <p:grpSpPr>
                <a:xfrm>
                  <a:off x="9158040" y="1922400"/>
                  <a:ext cx="1778040" cy="1778040"/>
                  <a:chOff x="9158040" y="1922400"/>
                  <a:chExt cx="1778040" cy="1778040"/>
                </a:xfrm>
              </p:grpSpPr>
              <p:sp>
                <p:nvSpPr>
                  <p:cNvPr id="782" name="空心弧 368"/>
                  <p:cNvSpPr/>
                  <p:nvPr/>
                </p:nvSpPr>
                <p:spPr>
                  <a:xfrm rot="11008800">
                    <a:off x="9417240" y="2181600"/>
                    <a:ext cx="1259640" cy="1259640"/>
                  </a:xfrm>
                  <a:prstGeom prst="blockArc">
                    <a:avLst>
                      <a:gd name="adj1" fmla="val 10800000"/>
                      <a:gd name="adj2" fmla="val 13319656"/>
                      <a:gd name="adj3" fmla="val 4137"/>
                    </a:avLst>
                  </a:prstGeom>
                  <a:solidFill>
                    <a:srgbClr val="6ba42c"/>
                  </a:solidFill>
                  <a:ln>
                    <a:noFill/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lIns="90000" rIns="90000" tIns="45000" bIns="450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783" name="空心弧 369"/>
                  <p:cNvSpPr/>
                  <p:nvPr/>
                </p:nvSpPr>
                <p:spPr>
                  <a:xfrm rot="13708800">
                    <a:off x="9416880" y="2181240"/>
                    <a:ext cx="1259640" cy="1259640"/>
                  </a:xfrm>
                  <a:prstGeom prst="blockArc">
                    <a:avLst>
                      <a:gd name="adj1" fmla="val 10800000"/>
                      <a:gd name="adj2" fmla="val 13319656"/>
                      <a:gd name="adj3" fmla="val 4137"/>
                    </a:avLst>
                  </a:prstGeom>
                  <a:solidFill>
                    <a:srgbClr val="6ba42c"/>
                  </a:solidFill>
                  <a:ln>
                    <a:noFill/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lIns="90000" rIns="90000" tIns="45000" bIns="450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784" name="组合 506"/>
                <p:cNvGrpSpPr/>
                <p:nvPr/>
              </p:nvGrpSpPr>
              <p:grpSpPr>
                <a:xfrm>
                  <a:off x="9157680" y="1922040"/>
                  <a:ext cx="1778040" cy="1778040"/>
                  <a:chOff x="9157680" y="1922040"/>
                  <a:chExt cx="1778040" cy="1778040"/>
                </a:xfrm>
              </p:grpSpPr>
              <p:sp>
                <p:nvSpPr>
                  <p:cNvPr id="785" name="空心弧 366"/>
                  <p:cNvSpPr/>
                  <p:nvPr/>
                </p:nvSpPr>
                <p:spPr>
                  <a:xfrm rot="16408800">
                    <a:off x="9416520" y="2181240"/>
                    <a:ext cx="1259640" cy="1259640"/>
                  </a:xfrm>
                  <a:prstGeom prst="blockArc">
                    <a:avLst>
                      <a:gd name="adj1" fmla="val 10800000"/>
                      <a:gd name="adj2" fmla="val 13319656"/>
                      <a:gd name="adj3" fmla="val 4137"/>
                    </a:avLst>
                  </a:prstGeom>
                  <a:solidFill>
                    <a:srgbClr val="6ba42c"/>
                  </a:solidFill>
                  <a:ln>
                    <a:noFill/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lIns="90000" rIns="90000" tIns="45000" bIns="450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786" name="空心弧 367"/>
                  <p:cNvSpPr/>
                  <p:nvPr/>
                </p:nvSpPr>
                <p:spPr>
                  <a:xfrm rot="19108800">
                    <a:off x="9416880" y="2180880"/>
                    <a:ext cx="1259640" cy="1259640"/>
                  </a:xfrm>
                  <a:prstGeom prst="blockArc">
                    <a:avLst>
                      <a:gd name="adj1" fmla="val 10800000"/>
                      <a:gd name="adj2" fmla="val 13319656"/>
                      <a:gd name="adj3" fmla="val 4137"/>
                    </a:avLst>
                  </a:prstGeom>
                  <a:solidFill>
                    <a:srgbClr val="92d050">
                      <a:alpha val="60000"/>
                    </a:srgbClr>
                  </a:solidFill>
                  <a:ln>
                    <a:noFill/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lIns="90000" rIns="90000" tIns="45000" bIns="450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</p:grpSp>
      </p:grpSp>
      <p:sp>
        <p:nvSpPr>
          <p:cNvPr id="787" name="文本框 397"/>
          <p:cNvSpPr/>
          <p:nvPr/>
        </p:nvSpPr>
        <p:spPr>
          <a:xfrm>
            <a:off x="485640" y="3497040"/>
            <a:ext cx="3321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2400" spc="-1" strike="noStrike">
                <a:solidFill>
                  <a:srgbClr val="000000"/>
                </a:solidFill>
                <a:latin typeface="Noto Sans S Chinese Light"/>
                <a:ea typeface="Noto Sans S Chinese Light"/>
              </a:rPr>
              <a:t>专注流氓软件木马问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8" name="组合 1"/>
          <p:cNvGrpSpPr/>
          <p:nvPr/>
        </p:nvGrpSpPr>
        <p:grpSpPr>
          <a:xfrm>
            <a:off x="2558520" y="3883320"/>
            <a:ext cx="1778400" cy="2077920"/>
            <a:chOff x="2558520" y="3883320"/>
            <a:chExt cx="1778400" cy="2077920"/>
          </a:xfrm>
        </p:grpSpPr>
        <p:grpSp>
          <p:nvGrpSpPr>
            <p:cNvPr id="789" name="组合 376"/>
            <p:cNvGrpSpPr/>
            <p:nvPr/>
          </p:nvGrpSpPr>
          <p:grpSpPr>
            <a:xfrm>
              <a:off x="2558520" y="3883320"/>
              <a:ext cx="1778400" cy="1778400"/>
              <a:chOff x="2558520" y="3883320"/>
              <a:chExt cx="1778400" cy="1778400"/>
            </a:xfrm>
          </p:grpSpPr>
          <p:pic>
            <p:nvPicPr>
              <p:cNvPr id="790" name="图片 313" descr=""/>
              <p:cNvPicPr/>
              <p:nvPr/>
            </p:nvPicPr>
            <p:blipFill>
              <a:blip r:embed="rId4"/>
              <a:stretch/>
            </p:blipFill>
            <p:spPr>
              <a:xfrm>
                <a:off x="3121200" y="4401000"/>
                <a:ext cx="703800" cy="6919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791" name="组合 316"/>
              <p:cNvGrpSpPr/>
              <p:nvPr/>
            </p:nvGrpSpPr>
            <p:grpSpPr>
              <a:xfrm>
                <a:off x="2558520" y="3883320"/>
                <a:ext cx="1778400" cy="1778400"/>
                <a:chOff x="2558520" y="3883320"/>
                <a:chExt cx="1778400" cy="1778400"/>
              </a:xfrm>
            </p:grpSpPr>
            <p:grpSp>
              <p:nvGrpSpPr>
                <p:cNvPr id="792" name="组合 503"/>
                <p:cNvGrpSpPr/>
                <p:nvPr/>
              </p:nvGrpSpPr>
              <p:grpSpPr>
                <a:xfrm>
                  <a:off x="2558520" y="3883320"/>
                  <a:ext cx="1778400" cy="1778040"/>
                  <a:chOff x="2558520" y="3883320"/>
                  <a:chExt cx="1778400" cy="1778040"/>
                </a:xfrm>
              </p:grpSpPr>
              <p:grpSp>
                <p:nvGrpSpPr>
                  <p:cNvPr id="793" name="组合 511"/>
                  <p:cNvGrpSpPr/>
                  <p:nvPr/>
                </p:nvGrpSpPr>
                <p:grpSpPr>
                  <a:xfrm>
                    <a:off x="2558520" y="3883320"/>
                    <a:ext cx="1778040" cy="1778040"/>
                    <a:chOff x="2558520" y="3883320"/>
                    <a:chExt cx="1778040" cy="1778040"/>
                  </a:xfrm>
                </p:grpSpPr>
                <p:sp>
                  <p:nvSpPr>
                    <p:cNvPr id="794" name="空心弧 329"/>
                    <p:cNvSpPr/>
                    <p:nvPr/>
                  </p:nvSpPr>
                  <p:spPr>
                    <a:xfrm rot="208800">
                      <a:off x="2817720" y="4142160"/>
                      <a:ext cx="1259640" cy="1259640"/>
                    </a:xfrm>
                    <a:prstGeom prst="blockArc">
                      <a:avLst>
                        <a:gd name="adj1" fmla="val 10800000"/>
                        <a:gd name="adj2" fmla="val 13319656"/>
                        <a:gd name="adj3" fmla="val 4137"/>
                      </a:avLst>
                    </a:prstGeom>
                    <a:solidFill>
                      <a:srgbClr val="92d050">
                        <a:alpha val="60000"/>
                      </a:srgbClr>
                    </a:solidFill>
                    <a:ln>
                      <a:noFill/>
                    </a:ln>
                  </p:spPr>
                  <p:style>
                    <a:lnRef idx="2">
                      <a:schemeClr val="accent1">
                        <a:shade val="50000"/>
                      </a:schemeClr>
                    </a:lnRef>
                    <a:fillRef idx="1">
                      <a:schemeClr val="accent1"/>
                    </a:fillRef>
                    <a:effectRef idx="0">
                      <a:schemeClr val="accent1"/>
                    </a:effectRef>
                    <a:fontRef idx="minor"/>
                  </p:style>
                  <p:txBody>
                    <a:bodyPr lIns="90000" rIns="90000" tIns="45000" bIns="45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795" name="空心弧 330"/>
                    <p:cNvSpPr/>
                    <p:nvPr/>
                  </p:nvSpPr>
                  <p:spPr>
                    <a:xfrm rot="2908800">
                      <a:off x="2817720" y="4142520"/>
                      <a:ext cx="1259640" cy="1259640"/>
                    </a:xfrm>
                    <a:prstGeom prst="blockArc">
                      <a:avLst>
                        <a:gd name="adj1" fmla="val 10800000"/>
                        <a:gd name="adj2" fmla="val 13319656"/>
                        <a:gd name="adj3" fmla="val 4137"/>
                      </a:avLst>
                    </a:prstGeom>
                    <a:solidFill>
                      <a:srgbClr val="92d050">
                        <a:alpha val="60000"/>
                      </a:srgbClr>
                    </a:solidFill>
                    <a:ln>
                      <a:noFill/>
                    </a:ln>
                  </p:spPr>
                  <p:style>
                    <a:lnRef idx="2">
                      <a:schemeClr val="accent1">
                        <a:shade val="50000"/>
                      </a:schemeClr>
                    </a:lnRef>
                    <a:fillRef idx="1">
                      <a:schemeClr val="accent1"/>
                    </a:fillRef>
                    <a:effectRef idx="0">
                      <a:schemeClr val="accent1"/>
                    </a:effectRef>
                    <a:fontRef idx="minor"/>
                  </p:style>
                  <p:txBody>
                    <a:bodyPr lIns="90000" rIns="90000" tIns="45000" bIns="45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796" name="组合 512"/>
                  <p:cNvGrpSpPr/>
                  <p:nvPr/>
                </p:nvGrpSpPr>
                <p:grpSpPr>
                  <a:xfrm>
                    <a:off x="2558880" y="3883320"/>
                    <a:ext cx="1778040" cy="1778040"/>
                    <a:chOff x="2558880" y="3883320"/>
                    <a:chExt cx="1778040" cy="1778040"/>
                  </a:xfrm>
                </p:grpSpPr>
                <p:sp>
                  <p:nvSpPr>
                    <p:cNvPr id="797" name="空心弧 327"/>
                    <p:cNvSpPr/>
                    <p:nvPr/>
                  </p:nvSpPr>
                  <p:spPr>
                    <a:xfrm rot="5608800">
                      <a:off x="2818080" y="4142520"/>
                      <a:ext cx="1259640" cy="1259640"/>
                    </a:xfrm>
                    <a:prstGeom prst="blockArc">
                      <a:avLst>
                        <a:gd name="adj1" fmla="val 10800000"/>
                        <a:gd name="adj2" fmla="val 13319656"/>
                        <a:gd name="adj3" fmla="val 4137"/>
                      </a:avLst>
                    </a:prstGeom>
                    <a:solidFill>
                      <a:srgbClr val="92d050">
                        <a:alpha val="60000"/>
                      </a:srgbClr>
                    </a:solidFill>
                    <a:ln>
                      <a:noFill/>
                    </a:ln>
                  </p:spPr>
                  <p:style>
                    <a:lnRef idx="2">
                      <a:schemeClr val="accent1">
                        <a:shade val="50000"/>
                      </a:schemeClr>
                    </a:lnRef>
                    <a:fillRef idx="1">
                      <a:schemeClr val="accent1"/>
                    </a:fillRef>
                    <a:effectRef idx="0">
                      <a:schemeClr val="accent1"/>
                    </a:effectRef>
                    <a:fontRef idx="minor"/>
                  </p:style>
                  <p:txBody>
                    <a:bodyPr lIns="90000" rIns="90000" tIns="45000" bIns="45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798" name="空心弧 328"/>
                    <p:cNvSpPr/>
                    <p:nvPr/>
                  </p:nvSpPr>
                  <p:spPr>
                    <a:xfrm rot="8308800">
                      <a:off x="2817720" y="4142520"/>
                      <a:ext cx="1259640" cy="1259640"/>
                    </a:xfrm>
                    <a:prstGeom prst="blockArc">
                      <a:avLst>
                        <a:gd name="adj1" fmla="val 10800000"/>
                        <a:gd name="adj2" fmla="val 13319656"/>
                        <a:gd name="adj3" fmla="val 4137"/>
                      </a:avLst>
                    </a:prstGeom>
                    <a:solidFill>
                      <a:srgbClr val="92d050">
                        <a:alpha val="60000"/>
                      </a:srgbClr>
                    </a:solidFill>
                    <a:ln>
                      <a:noFill/>
                    </a:ln>
                  </p:spPr>
                  <p:style>
                    <a:lnRef idx="2">
                      <a:schemeClr val="accent1">
                        <a:shade val="50000"/>
                      </a:schemeClr>
                    </a:lnRef>
                    <a:fillRef idx="1">
                      <a:schemeClr val="accent1"/>
                    </a:fillRef>
                    <a:effectRef idx="0">
                      <a:schemeClr val="accent1"/>
                    </a:effectRef>
                    <a:fontRef idx="minor"/>
                  </p:style>
                  <p:txBody>
                    <a:bodyPr lIns="90000" rIns="90000" tIns="45000" bIns="45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</p:grpSp>
            <p:grpSp>
              <p:nvGrpSpPr>
                <p:cNvPr id="799" name="组合 504"/>
                <p:cNvGrpSpPr/>
                <p:nvPr/>
              </p:nvGrpSpPr>
              <p:grpSpPr>
                <a:xfrm>
                  <a:off x="2558520" y="3883680"/>
                  <a:ext cx="1778400" cy="1778040"/>
                  <a:chOff x="2558520" y="3883680"/>
                  <a:chExt cx="1778400" cy="1778040"/>
                </a:xfrm>
              </p:grpSpPr>
              <p:grpSp>
                <p:nvGrpSpPr>
                  <p:cNvPr id="800" name="组合 505"/>
                  <p:cNvGrpSpPr/>
                  <p:nvPr/>
                </p:nvGrpSpPr>
                <p:grpSpPr>
                  <a:xfrm>
                    <a:off x="2558880" y="3883680"/>
                    <a:ext cx="1778040" cy="1778040"/>
                    <a:chOff x="2558880" y="3883680"/>
                    <a:chExt cx="1778040" cy="1778040"/>
                  </a:xfrm>
                </p:grpSpPr>
                <p:sp>
                  <p:nvSpPr>
                    <p:cNvPr id="801" name="空心弧 323"/>
                    <p:cNvSpPr/>
                    <p:nvPr/>
                  </p:nvSpPr>
                  <p:spPr>
                    <a:xfrm rot="11008800">
                      <a:off x="2818080" y="4142880"/>
                      <a:ext cx="1259640" cy="1259640"/>
                    </a:xfrm>
                    <a:prstGeom prst="blockArc">
                      <a:avLst>
                        <a:gd name="adj1" fmla="val 10800000"/>
                        <a:gd name="adj2" fmla="val 13319656"/>
                        <a:gd name="adj3" fmla="val 4137"/>
                      </a:avLst>
                    </a:prstGeom>
                    <a:solidFill>
                      <a:srgbClr val="6ba42c"/>
                    </a:solidFill>
                    <a:ln>
                      <a:noFill/>
                    </a:ln>
                  </p:spPr>
                  <p:style>
                    <a:lnRef idx="2">
                      <a:schemeClr val="accent1">
                        <a:shade val="50000"/>
                      </a:schemeClr>
                    </a:lnRef>
                    <a:fillRef idx="1">
                      <a:schemeClr val="accent1"/>
                    </a:fillRef>
                    <a:effectRef idx="0">
                      <a:schemeClr val="accent1"/>
                    </a:effectRef>
                    <a:fontRef idx="minor"/>
                  </p:style>
                  <p:txBody>
                    <a:bodyPr lIns="90000" rIns="90000" tIns="45000" bIns="45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802" name="空心弧 324"/>
                    <p:cNvSpPr/>
                    <p:nvPr/>
                  </p:nvSpPr>
                  <p:spPr>
                    <a:xfrm rot="13708800">
                      <a:off x="2817720" y="4142520"/>
                      <a:ext cx="1259640" cy="1259640"/>
                    </a:xfrm>
                    <a:prstGeom prst="blockArc">
                      <a:avLst>
                        <a:gd name="adj1" fmla="val 10800000"/>
                        <a:gd name="adj2" fmla="val 13319656"/>
                        <a:gd name="adj3" fmla="val 4137"/>
                      </a:avLst>
                    </a:prstGeom>
                    <a:solidFill>
                      <a:srgbClr val="6ba42c"/>
                    </a:solidFill>
                    <a:ln>
                      <a:noFill/>
                    </a:ln>
                  </p:spPr>
                  <p:style>
                    <a:lnRef idx="2">
                      <a:schemeClr val="accent1">
                        <a:shade val="50000"/>
                      </a:schemeClr>
                    </a:lnRef>
                    <a:fillRef idx="1">
                      <a:schemeClr val="accent1"/>
                    </a:fillRef>
                    <a:effectRef idx="0">
                      <a:schemeClr val="accent1"/>
                    </a:effectRef>
                    <a:fontRef idx="minor"/>
                  </p:style>
                  <p:txBody>
                    <a:bodyPr lIns="90000" rIns="90000" tIns="45000" bIns="45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803" name="组合 506"/>
                  <p:cNvGrpSpPr/>
                  <p:nvPr/>
                </p:nvGrpSpPr>
                <p:grpSpPr>
                  <a:xfrm>
                    <a:off x="2558520" y="3883680"/>
                    <a:ext cx="1778040" cy="1778040"/>
                    <a:chOff x="2558520" y="3883680"/>
                    <a:chExt cx="1778040" cy="1778040"/>
                  </a:xfrm>
                </p:grpSpPr>
                <p:sp>
                  <p:nvSpPr>
                    <p:cNvPr id="804" name="空心弧 321"/>
                    <p:cNvSpPr/>
                    <p:nvPr/>
                  </p:nvSpPr>
                  <p:spPr>
                    <a:xfrm rot="16408800">
                      <a:off x="2817360" y="4142880"/>
                      <a:ext cx="1259640" cy="1259640"/>
                    </a:xfrm>
                    <a:prstGeom prst="blockArc">
                      <a:avLst>
                        <a:gd name="adj1" fmla="val 10800000"/>
                        <a:gd name="adj2" fmla="val 13319656"/>
                        <a:gd name="adj3" fmla="val 4137"/>
                      </a:avLst>
                    </a:prstGeom>
                    <a:solidFill>
                      <a:srgbClr val="6ba42c"/>
                    </a:solidFill>
                    <a:ln>
                      <a:noFill/>
                    </a:ln>
                  </p:spPr>
                  <p:style>
                    <a:lnRef idx="2">
                      <a:schemeClr val="accent1">
                        <a:shade val="50000"/>
                      </a:schemeClr>
                    </a:lnRef>
                    <a:fillRef idx="1">
                      <a:schemeClr val="accent1"/>
                    </a:fillRef>
                    <a:effectRef idx="0">
                      <a:schemeClr val="accent1"/>
                    </a:effectRef>
                    <a:fontRef idx="minor"/>
                  </p:style>
                  <p:txBody>
                    <a:bodyPr lIns="90000" rIns="90000" tIns="45000" bIns="45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805" name="空心弧 322"/>
                    <p:cNvSpPr/>
                    <p:nvPr/>
                  </p:nvSpPr>
                  <p:spPr>
                    <a:xfrm rot="19108800">
                      <a:off x="2817720" y="4142520"/>
                      <a:ext cx="1259640" cy="1259640"/>
                    </a:xfrm>
                    <a:prstGeom prst="blockArc">
                      <a:avLst>
                        <a:gd name="adj1" fmla="val 10800000"/>
                        <a:gd name="adj2" fmla="val 13319656"/>
                        <a:gd name="adj3" fmla="val 4137"/>
                      </a:avLst>
                    </a:prstGeom>
                    <a:solidFill>
                      <a:srgbClr val="92d050">
                        <a:alpha val="60000"/>
                      </a:srgbClr>
                    </a:solidFill>
                    <a:ln>
                      <a:noFill/>
                    </a:ln>
                  </p:spPr>
                  <p:style>
                    <a:lnRef idx="2">
                      <a:schemeClr val="accent1">
                        <a:shade val="50000"/>
                      </a:schemeClr>
                    </a:lnRef>
                    <a:fillRef idx="1">
                      <a:schemeClr val="accent1"/>
                    </a:fillRef>
                    <a:effectRef idx="0">
                      <a:schemeClr val="accent1"/>
                    </a:effectRef>
                    <a:fontRef idx="minor"/>
                  </p:style>
                  <p:txBody>
                    <a:bodyPr lIns="90000" rIns="90000" tIns="45000" bIns="45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</p:grpSp>
          </p:grpSp>
        </p:grpSp>
        <p:sp>
          <p:nvSpPr>
            <p:cNvPr id="806" name="文本框 398"/>
            <p:cNvSpPr/>
            <p:nvPr/>
          </p:nvSpPr>
          <p:spPr>
            <a:xfrm>
              <a:off x="2808360" y="5505840"/>
              <a:ext cx="1278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2400" spc="-1" strike="noStrike">
                  <a:solidFill>
                    <a:srgbClr val="000000"/>
                  </a:solidFill>
                  <a:latin typeface="Noto Sans S Chinese Light"/>
                  <a:ea typeface="Noto Sans S Chinese Light"/>
                </a:rPr>
                <a:t>专保网游账号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7" name="文本框 399"/>
          <p:cNvSpPr/>
          <p:nvPr/>
        </p:nvSpPr>
        <p:spPr>
          <a:xfrm>
            <a:off x="5452200" y="5525280"/>
            <a:ext cx="1278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2400" spc="-1" strike="noStrike">
                <a:solidFill>
                  <a:srgbClr val="000000"/>
                </a:solidFill>
                <a:latin typeface="Noto Sans S Chinese Light"/>
                <a:ea typeface="Noto Sans S Chinese Light"/>
              </a:rPr>
              <a:t>专注免费杀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文本框 400"/>
          <p:cNvSpPr/>
          <p:nvPr/>
        </p:nvSpPr>
        <p:spPr>
          <a:xfrm>
            <a:off x="9224280" y="3497040"/>
            <a:ext cx="164412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2400" spc="-1" strike="noStrike">
                <a:solidFill>
                  <a:srgbClr val="000000"/>
                </a:solidFill>
                <a:latin typeface="Noto Sans S Chinese Light"/>
                <a:ea typeface="Noto Sans S Chinese Light"/>
              </a:rPr>
              <a:t>专为干净软件而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9" name="组合 4"/>
          <p:cNvGrpSpPr/>
          <p:nvPr/>
        </p:nvGrpSpPr>
        <p:grpSpPr>
          <a:xfrm>
            <a:off x="7874280" y="3883320"/>
            <a:ext cx="1778760" cy="2077920"/>
            <a:chOff x="7874280" y="3883320"/>
            <a:chExt cx="1778760" cy="2077920"/>
          </a:xfrm>
        </p:grpSpPr>
        <p:grpSp>
          <p:nvGrpSpPr>
            <p:cNvPr id="810" name="组合 3"/>
            <p:cNvGrpSpPr/>
            <p:nvPr/>
          </p:nvGrpSpPr>
          <p:grpSpPr>
            <a:xfrm>
              <a:off x="7874280" y="3883320"/>
              <a:ext cx="1778760" cy="1778400"/>
              <a:chOff x="7874280" y="3883320"/>
              <a:chExt cx="1778760" cy="1778400"/>
            </a:xfrm>
          </p:grpSpPr>
          <p:pic>
            <p:nvPicPr>
              <p:cNvPr id="811" name="图片 315" descr=""/>
              <p:cNvPicPr/>
              <p:nvPr/>
            </p:nvPicPr>
            <p:blipFill>
              <a:blip r:embed="rId5"/>
              <a:stretch/>
            </p:blipFill>
            <p:spPr>
              <a:xfrm>
                <a:off x="8392320" y="4334400"/>
                <a:ext cx="742320" cy="8762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812" name="组合 346"/>
              <p:cNvGrpSpPr/>
              <p:nvPr/>
            </p:nvGrpSpPr>
            <p:grpSpPr>
              <a:xfrm>
                <a:off x="7874280" y="3883320"/>
                <a:ext cx="1778760" cy="1778400"/>
                <a:chOff x="7874280" y="3883320"/>
                <a:chExt cx="1778760" cy="1778400"/>
              </a:xfrm>
            </p:grpSpPr>
            <p:grpSp>
              <p:nvGrpSpPr>
                <p:cNvPr id="813" name="组合 503"/>
                <p:cNvGrpSpPr/>
                <p:nvPr/>
              </p:nvGrpSpPr>
              <p:grpSpPr>
                <a:xfrm>
                  <a:off x="7874280" y="3883320"/>
                  <a:ext cx="1778760" cy="1778040"/>
                  <a:chOff x="7874280" y="3883320"/>
                  <a:chExt cx="1778760" cy="1778040"/>
                </a:xfrm>
              </p:grpSpPr>
              <p:grpSp>
                <p:nvGrpSpPr>
                  <p:cNvPr id="814" name="组合 511"/>
                  <p:cNvGrpSpPr/>
                  <p:nvPr/>
                </p:nvGrpSpPr>
                <p:grpSpPr>
                  <a:xfrm>
                    <a:off x="7874280" y="3883320"/>
                    <a:ext cx="1778040" cy="1778040"/>
                    <a:chOff x="7874280" y="3883320"/>
                    <a:chExt cx="1778040" cy="1778040"/>
                  </a:xfrm>
                </p:grpSpPr>
                <p:sp>
                  <p:nvSpPr>
                    <p:cNvPr id="815" name="空心弧 359"/>
                    <p:cNvSpPr/>
                    <p:nvPr/>
                  </p:nvSpPr>
                  <p:spPr>
                    <a:xfrm rot="208800">
                      <a:off x="8133480" y="4142160"/>
                      <a:ext cx="1259640" cy="1259640"/>
                    </a:xfrm>
                    <a:prstGeom prst="blockArc">
                      <a:avLst>
                        <a:gd name="adj1" fmla="val 10800000"/>
                        <a:gd name="adj2" fmla="val 13319656"/>
                        <a:gd name="adj3" fmla="val 4137"/>
                      </a:avLst>
                    </a:prstGeom>
                    <a:solidFill>
                      <a:srgbClr val="92d050">
                        <a:alpha val="60000"/>
                      </a:srgbClr>
                    </a:solidFill>
                    <a:ln>
                      <a:noFill/>
                    </a:ln>
                  </p:spPr>
                  <p:style>
                    <a:lnRef idx="2">
                      <a:schemeClr val="accent1">
                        <a:shade val="50000"/>
                      </a:schemeClr>
                    </a:lnRef>
                    <a:fillRef idx="1">
                      <a:schemeClr val="accent1"/>
                    </a:fillRef>
                    <a:effectRef idx="0">
                      <a:schemeClr val="accent1"/>
                    </a:effectRef>
                    <a:fontRef idx="minor"/>
                  </p:style>
                  <p:txBody>
                    <a:bodyPr lIns="90000" rIns="90000" tIns="45000" bIns="45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816" name="空心弧 360"/>
                    <p:cNvSpPr/>
                    <p:nvPr/>
                  </p:nvSpPr>
                  <p:spPr>
                    <a:xfrm rot="2908800">
                      <a:off x="8133480" y="4142520"/>
                      <a:ext cx="1259640" cy="1259640"/>
                    </a:xfrm>
                    <a:prstGeom prst="blockArc">
                      <a:avLst>
                        <a:gd name="adj1" fmla="val 10800000"/>
                        <a:gd name="adj2" fmla="val 13319656"/>
                        <a:gd name="adj3" fmla="val 4137"/>
                      </a:avLst>
                    </a:prstGeom>
                    <a:solidFill>
                      <a:srgbClr val="92d050">
                        <a:alpha val="60000"/>
                      </a:srgbClr>
                    </a:solidFill>
                    <a:ln>
                      <a:noFill/>
                    </a:ln>
                  </p:spPr>
                  <p:style>
                    <a:lnRef idx="2">
                      <a:schemeClr val="accent1">
                        <a:shade val="50000"/>
                      </a:schemeClr>
                    </a:lnRef>
                    <a:fillRef idx="1">
                      <a:schemeClr val="accent1"/>
                    </a:fillRef>
                    <a:effectRef idx="0">
                      <a:schemeClr val="accent1"/>
                    </a:effectRef>
                    <a:fontRef idx="minor"/>
                  </p:style>
                  <p:txBody>
                    <a:bodyPr lIns="90000" rIns="90000" tIns="45000" bIns="45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817" name="组合 512"/>
                  <p:cNvGrpSpPr/>
                  <p:nvPr/>
                </p:nvGrpSpPr>
                <p:grpSpPr>
                  <a:xfrm>
                    <a:off x="7875000" y="3883320"/>
                    <a:ext cx="1778040" cy="1778040"/>
                    <a:chOff x="7875000" y="3883320"/>
                    <a:chExt cx="1778040" cy="1778040"/>
                  </a:xfrm>
                </p:grpSpPr>
                <p:sp>
                  <p:nvSpPr>
                    <p:cNvPr id="818" name="空心弧 357"/>
                    <p:cNvSpPr/>
                    <p:nvPr/>
                  </p:nvSpPr>
                  <p:spPr>
                    <a:xfrm rot="5608800">
                      <a:off x="8133840" y="4142520"/>
                      <a:ext cx="1259640" cy="1259640"/>
                    </a:xfrm>
                    <a:prstGeom prst="blockArc">
                      <a:avLst>
                        <a:gd name="adj1" fmla="val 10800000"/>
                        <a:gd name="adj2" fmla="val 13319656"/>
                        <a:gd name="adj3" fmla="val 4137"/>
                      </a:avLst>
                    </a:prstGeom>
                    <a:solidFill>
                      <a:srgbClr val="92d050">
                        <a:alpha val="60000"/>
                      </a:srgbClr>
                    </a:solidFill>
                    <a:ln>
                      <a:noFill/>
                    </a:ln>
                  </p:spPr>
                  <p:style>
                    <a:lnRef idx="2">
                      <a:schemeClr val="accent1">
                        <a:shade val="50000"/>
                      </a:schemeClr>
                    </a:lnRef>
                    <a:fillRef idx="1">
                      <a:schemeClr val="accent1"/>
                    </a:fillRef>
                    <a:effectRef idx="0">
                      <a:schemeClr val="accent1"/>
                    </a:effectRef>
                    <a:fontRef idx="minor"/>
                  </p:style>
                  <p:txBody>
                    <a:bodyPr lIns="90000" rIns="90000" tIns="45000" bIns="45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819" name="空心弧 358"/>
                    <p:cNvSpPr/>
                    <p:nvPr/>
                  </p:nvSpPr>
                  <p:spPr>
                    <a:xfrm rot="8308800">
                      <a:off x="8133840" y="4142520"/>
                      <a:ext cx="1259640" cy="1259640"/>
                    </a:xfrm>
                    <a:prstGeom prst="blockArc">
                      <a:avLst>
                        <a:gd name="adj1" fmla="val 10800000"/>
                        <a:gd name="adj2" fmla="val 13319656"/>
                        <a:gd name="adj3" fmla="val 4137"/>
                      </a:avLst>
                    </a:prstGeom>
                    <a:solidFill>
                      <a:srgbClr val="92d050">
                        <a:alpha val="60000"/>
                      </a:srgbClr>
                    </a:solidFill>
                    <a:ln>
                      <a:noFill/>
                    </a:ln>
                  </p:spPr>
                  <p:style>
                    <a:lnRef idx="2">
                      <a:schemeClr val="accent1">
                        <a:shade val="50000"/>
                      </a:schemeClr>
                    </a:lnRef>
                    <a:fillRef idx="1">
                      <a:schemeClr val="accent1"/>
                    </a:fillRef>
                    <a:effectRef idx="0">
                      <a:schemeClr val="accent1"/>
                    </a:effectRef>
                    <a:fontRef idx="minor"/>
                  </p:style>
                  <p:txBody>
                    <a:bodyPr lIns="90000" rIns="90000" tIns="45000" bIns="45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</p:grpSp>
            <p:grpSp>
              <p:nvGrpSpPr>
                <p:cNvPr id="820" name="组合 504"/>
                <p:cNvGrpSpPr/>
                <p:nvPr/>
              </p:nvGrpSpPr>
              <p:grpSpPr>
                <a:xfrm>
                  <a:off x="7874280" y="3883680"/>
                  <a:ext cx="1778400" cy="1778040"/>
                  <a:chOff x="7874280" y="3883680"/>
                  <a:chExt cx="1778400" cy="1778040"/>
                </a:xfrm>
              </p:grpSpPr>
              <p:grpSp>
                <p:nvGrpSpPr>
                  <p:cNvPr id="821" name="组合 505"/>
                  <p:cNvGrpSpPr/>
                  <p:nvPr/>
                </p:nvGrpSpPr>
                <p:grpSpPr>
                  <a:xfrm>
                    <a:off x="7874640" y="3883680"/>
                    <a:ext cx="1778040" cy="1778040"/>
                    <a:chOff x="7874640" y="3883680"/>
                    <a:chExt cx="1778040" cy="1778040"/>
                  </a:xfrm>
                </p:grpSpPr>
                <p:sp>
                  <p:nvSpPr>
                    <p:cNvPr id="822" name="空心弧 353"/>
                    <p:cNvSpPr/>
                    <p:nvPr/>
                  </p:nvSpPr>
                  <p:spPr>
                    <a:xfrm rot="11008800">
                      <a:off x="8133840" y="4142880"/>
                      <a:ext cx="1259640" cy="1259640"/>
                    </a:xfrm>
                    <a:prstGeom prst="blockArc">
                      <a:avLst>
                        <a:gd name="adj1" fmla="val 10800000"/>
                        <a:gd name="adj2" fmla="val 13319656"/>
                        <a:gd name="adj3" fmla="val 4137"/>
                      </a:avLst>
                    </a:prstGeom>
                    <a:solidFill>
                      <a:srgbClr val="6ba42c"/>
                    </a:solidFill>
                    <a:ln>
                      <a:noFill/>
                    </a:ln>
                  </p:spPr>
                  <p:style>
                    <a:lnRef idx="2">
                      <a:schemeClr val="accent1">
                        <a:shade val="50000"/>
                      </a:schemeClr>
                    </a:lnRef>
                    <a:fillRef idx="1">
                      <a:schemeClr val="accent1"/>
                    </a:fillRef>
                    <a:effectRef idx="0">
                      <a:schemeClr val="accent1"/>
                    </a:effectRef>
                    <a:fontRef idx="minor"/>
                  </p:style>
                  <p:txBody>
                    <a:bodyPr lIns="90000" rIns="90000" tIns="45000" bIns="45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823" name="空心弧 354"/>
                    <p:cNvSpPr/>
                    <p:nvPr/>
                  </p:nvSpPr>
                  <p:spPr>
                    <a:xfrm rot="13708800">
                      <a:off x="8133480" y="4142520"/>
                      <a:ext cx="1259640" cy="1259640"/>
                    </a:xfrm>
                    <a:prstGeom prst="blockArc">
                      <a:avLst>
                        <a:gd name="adj1" fmla="val 10800000"/>
                        <a:gd name="adj2" fmla="val 13319656"/>
                        <a:gd name="adj3" fmla="val 4137"/>
                      </a:avLst>
                    </a:prstGeom>
                    <a:solidFill>
                      <a:srgbClr val="6ba42c"/>
                    </a:solidFill>
                    <a:ln>
                      <a:noFill/>
                    </a:ln>
                  </p:spPr>
                  <p:style>
                    <a:lnRef idx="2">
                      <a:schemeClr val="accent1">
                        <a:shade val="50000"/>
                      </a:schemeClr>
                    </a:lnRef>
                    <a:fillRef idx="1">
                      <a:schemeClr val="accent1"/>
                    </a:fillRef>
                    <a:effectRef idx="0">
                      <a:schemeClr val="accent1"/>
                    </a:effectRef>
                    <a:fontRef idx="minor"/>
                  </p:style>
                  <p:txBody>
                    <a:bodyPr lIns="90000" rIns="90000" tIns="45000" bIns="45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824" name="组合 506"/>
                  <p:cNvGrpSpPr/>
                  <p:nvPr/>
                </p:nvGrpSpPr>
                <p:grpSpPr>
                  <a:xfrm>
                    <a:off x="7874280" y="3883680"/>
                    <a:ext cx="1778040" cy="1778040"/>
                    <a:chOff x="7874280" y="3883680"/>
                    <a:chExt cx="1778040" cy="1778040"/>
                  </a:xfrm>
                </p:grpSpPr>
                <p:sp>
                  <p:nvSpPr>
                    <p:cNvPr id="825" name="空心弧 351"/>
                    <p:cNvSpPr/>
                    <p:nvPr/>
                  </p:nvSpPr>
                  <p:spPr>
                    <a:xfrm rot="16408800">
                      <a:off x="8133120" y="4142880"/>
                      <a:ext cx="1259640" cy="1259640"/>
                    </a:xfrm>
                    <a:prstGeom prst="blockArc">
                      <a:avLst>
                        <a:gd name="adj1" fmla="val 10800000"/>
                        <a:gd name="adj2" fmla="val 13319656"/>
                        <a:gd name="adj3" fmla="val 4137"/>
                      </a:avLst>
                    </a:prstGeom>
                    <a:solidFill>
                      <a:srgbClr val="6ba42c"/>
                    </a:solidFill>
                    <a:ln>
                      <a:noFill/>
                    </a:ln>
                  </p:spPr>
                  <p:style>
                    <a:lnRef idx="2">
                      <a:schemeClr val="accent1">
                        <a:shade val="50000"/>
                      </a:schemeClr>
                    </a:lnRef>
                    <a:fillRef idx="1">
                      <a:schemeClr val="accent1"/>
                    </a:fillRef>
                    <a:effectRef idx="0">
                      <a:schemeClr val="accent1"/>
                    </a:effectRef>
                    <a:fontRef idx="minor"/>
                  </p:style>
                  <p:txBody>
                    <a:bodyPr lIns="90000" rIns="90000" tIns="45000" bIns="45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826" name="空心弧 352"/>
                    <p:cNvSpPr/>
                    <p:nvPr/>
                  </p:nvSpPr>
                  <p:spPr>
                    <a:xfrm rot="19108800">
                      <a:off x="8133480" y="4142520"/>
                      <a:ext cx="1259640" cy="1259640"/>
                    </a:xfrm>
                    <a:prstGeom prst="blockArc">
                      <a:avLst>
                        <a:gd name="adj1" fmla="val 10800000"/>
                        <a:gd name="adj2" fmla="val 13319656"/>
                        <a:gd name="adj3" fmla="val 4137"/>
                      </a:avLst>
                    </a:prstGeom>
                    <a:solidFill>
                      <a:srgbClr val="92d050">
                        <a:alpha val="60000"/>
                      </a:srgbClr>
                    </a:solidFill>
                    <a:ln>
                      <a:noFill/>
                    </a:ln>
                  </p:spPr>
                  <p:style>
                    <a:lnRef idx="2">
                      <a:schemeClr val="accent1">
                        <a:shade val="50000"/>
                      </a:schemeClr>
                    </a:lnRef>
                    <a:fillRef idx="1">
                      <a:schemeClr val="accent1"/>
                    </a:fillRef>
                    <a:effectRef idx="0">
                      <a:schemeClr val="accent1"/>
                    </a:effectRef>
                    <a:fontRef idx="minor"/>
                  </p:style>
                  <p:txBody>
                    <a:bodyPr lIns="90000" rIns="90000" tIns="45000" bIns="45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</p:grpSp>
          </p:grpSp>
        </p:grpSp>
        <p:sp>
          <p:nvSpPr>
            <p:cNvPr id="827" name="文本框 401"/>
            <p:cNvSpPr/>
            <p:nvPr/>
          </p:nvSpPr>
          <p:spPr>
            <a:xfrm>
              <a:off x="8032680" y="5505840"/>
              <a:ext cx="146124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2400" spc="-1" strike="noStrike">
                  <a:solidFill>
                    <a:srgbClr val="000000"/>
                  </a:solidFill>
                  <a:latin typeface="Noto Sans S Chinese Light"/>
                  <a:ea typeface="Noto Sans S Chinese Light"/>
                </a:rPr>
                <a:t>专注浏览器安全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8" name="组合 7"/>
          <p:cNvGrpSpPr/>
          <p:nvPr/>
        </p:nvGrpSpPr>
        <p:grpSpPr>
          <a:xfrm>
            <a:off x="2348640" y="2962080"/>
            <a:ext cx="7494120" cy="1188720"/>
            <a:chOff x="2348640" y="2962080"/>
            <a:chExt cx="7494120" cy="1188720"/>
          </a:xfrm>
        </p:grpSpPr>
        <p:grpSp>
          <p:nvGrpSpPr>
            <p:cNvPr id="829" name="组合 9"/>
            <p:cNvGrpSpPr/>
            <p:nvPr/>
          </p:nvGrpSpPr>
          <p:grpSpPr>
            <a:xfrm>
              <a:off x="2487600" y="3929040"/>
              <a:ext cx="7216560" cy="221760"/>
              <a:chOff x="2487600" y="3929040"/>
              <a:chExt cx="7216560" cy="221760"/>
            </a:xfrm>
          </p:grpSpPr>
          <p:sp>
            <p:nvSpPr>
              <p:cNvPr id="830" name="直角三角形 10"/>
              <p:cNvSpPr/>
              <p:nvPr/>
            </p:nvSpPr>
            <p:spPr>
              <a:xfrm flipV="1">
                <a:off x="2487600" y="3929040"/>
                <a:ext cx="3646080" cy="221760"/>
              </a:xfrm>
              <a:prstGeom prst="rtTriangle">
                <a:avLst/>
              </a:prstGeom>
              <a:solidFill>
                <a:srgbClr val="0385cd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29160" bIns="291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31" name="直角三角形 11"/>
              <p:cNvSpPr/>
              <p:nvPr/>
            </p:nvSpPr>
            <p:spPr>
              <a:xfrm flipH="1" flipV="1">
                <a:off x="6058080" y="3929040"/>
                <a:ext cx="3646080" cy="221760"/>
              </a:xfrm>
              <a:prstGeom prst="rtTriangle">
                <a:avLst/>
              </a:prstGeom>
              <a:solidFill>
                <a:srgbClr val="0385cd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29160" bIns="291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sp>
          <p:nvSpPr>
            <p:cNvPr id="832" name="矩形 75"/>
            <p:cNvSpPr/>
            <p:nvPr/>
          </p:nvSpPr>
          <p:spPr>
            <a:xfrm>
              <a:off x="2348640" y="2962080"/>
              <a:ext cx="7494120" cy="1060200"/>
            </a:xfrm>
            <a:prstGeom prst="rect">
              <a:avLst/>
            </a:prstGeom>
            <a:solidFill>
              <a:srgbClr val="1cabfc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833" name="文本框 4"/>
          <p:cNvSpPr/>
          <p:nvPr/>
        </p:nvSpPr>
        <p:spPr>
          <a:xfrm>
            <a:off x="2777760" y="3141000"/>
            <a:ext cx="663624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800" spc="-1" strike="noStrike">
                <a:solidFill>
                  <a:srgbClr val="000000"/>
                </a:solidFill>
                <a:latin typeface="造字工房悦圆（非商用）常规体"/>
                <a:ea typeface="造字工房悦圆（非商用）常规体"/>
              </a:rPr>
              <a:t>一般都存在哪些误区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文本框 5"/>
          <p:cNvSpPr/>
          <p:nvPr/>
        </p:nvSpPr>
        <p:spPr>
          <a:xfrm>
            <a:off x="4176720" y="1508040"/>
            <a:ext cx="383868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8000" spc="-1" strike="noStrike">
                <a:solidFill>
                  <a:srgbClr val="1cabfc"/>
                </a:solidFill>
                <a:latin typeface="Noto Sans S Chinese Bold"/>
                <a:ea typeface="Noto Sans S Chinese Bold"/>
              </a:rPr>
              <a:t>互联网方法论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文本框 8"/>
          <p:cNvSpPr/>
          <p:nvPr/>
        </p:nvSpPr>
        <p:spPr>
          <a:xfrm>
            <a:off x="1681560" y="4333680"/>
            <a:ext cx="783936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zh-CN" sz="2400" spc="-1" strike="noStrike">
                <a:solidFill>
                  <a:srgbClr val="000000"/>
                </a:solidFill>
                <a:latin typeface="Noto Sans S Chinese Light"/>
                <a:ea typeface="Noto Sans S Chinese Light"/>
              </a:rPr>
              <a:t>免费是大趋势，但不是什么“免费就灵”，还要看产品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2400" spc="-1" strike="noStrike">
                <a:solidFill>
                  <a:srgbClr val="000000"/>
                </a:solidFill>
                <a:latin typeface="Noto Sans S Chinese Light"/>
                <a:ea typeface="Noto Sans S Chinese Light"/>
              </a:rPr>
              <a:t>产品必须从用户需求出发，具有高度易用性、有效性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文本框 31"/>
          <p:cNvSpPr/>
          <p:nvPr/>
        </p:nvSpPr>
        <p:spPr>
          <a:xfrm>
            <a:off x="1626120" y="76320"/>
            <a:ext cx="893916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50000"/>
              </a:lnSpc>
            </a:pPr>
            <a:r>
              <a:rPr b="1" lang="zh-CN" sz="3600" spc="-1" strike="noStrike">
                <a:solidFill>
                  <a:srgbClr val="ffffff"/>
                </a:solidFill>
                <a:latin typeface="Noto Sans S Chinese Bold"/>
                <a:ea typeface="Noto Sans S Chinese Bold"/>
              </a:rPr>
              <a:t>误区一：免费，商业“万金油”谁用都能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文本框 9"/>
          <p:cNvSpPr/>
          <p:nvPr/>
        </p:nvSpPr>
        <p:spPr>
          <a:xfrm>
            <a:off x="1626120" y="1381680"/>
            <a:ext cx="26712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1" lang="zh-CN" sz="9600" spc="-1" strike="noStrike">
                <a:solidFill>
                  <a:srgbClr val="1cabfc"/>
                </a:solidFill>
                <a:latin typeface="Noto Sans S Chinese Bold"/>
                <a:ea typeface="Noto Sans S Chinese Bold"/>
              </a:rPr>
              <a:t>免费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文本框 15"/>
          <p:cNvSpPr/>
          <p:nvPr/>
        </p:nvSpPr>
        <p:spPr>
          <a:xfrm>
            <a:off x="1681560" y="3148200"/>
            <a:ext cx="267120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1" lang="zh-CN" sz="4800" spc="-1" strike="noStrike">
                <a:solidFill>
                  <a:srgbClr val="f9b91c"/>
                </a:solidFill>
                <a:latin typeface="Noto Sans S Chinese Bold"/>
                <a:ea typeface="Noto Sans S Chinese Bold"/>
              </a:rPr>
              <a:t>岂能通用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9" name="组合 6"/>
          <p:cNvGrpSpPr/>
          <p:nvPr/>
        </p:nvGrpSpPr>
        <p:grpSpPr>
          <a:xfrm>
            <a:off x="9263160" y="2439720"/>
            <a:ext cx="6032160" cy="4802040"/>
            <a:chOff x="9263160" y="2439720"/>
            <a:chExt cx="6032160" cy="4802040"/>
          </a:xfrm>
        </p:grpSpPr>
        <p:sp>
          <p:nvSpPr>
            <p:cNvPr id="840" name="任意多边形 7"/>
            <p:cNvSpPr/>
            <p:nvPr/>
          </p:nvSpPr>
          <p:spPr>
            <a:xfrm>
              <a:off x="9263160" y="2439720"/>
              <a:ext cx="942480" cy="3028680"/>
            </a:xfrm>
            <a:custGeom>
              <a:avLst/>
              <a:gdLst>
                <a:gd name="textAreaLeft" fmla="*/ 0 w 942480"/>
                <a:gd name="textAreaRight" fmla="*/ 942840 w 942480"/>
                <a:gd name="textAreaTop" fmla="*/ 0 h 3028680"/>
                <a:gd name="textAreaBottom" fmla="*/ 3029040 h 3028680"/>
              </a:gdLst>
              <a:ahLst/>
              <a:rect l="textAreaLeft" t="textAreaTop" r="textAreaRight" b="textAreaBottom"/>
              <a:pathLst>
                <a:path w="942975" h="3028950">
                  <a:moveTo>
                    <a:pt x="895350" y="2343150"/>
                  </a:moveTo>
                  <a:lnTo>
                    <a:pt x="561975" y="1504950"/>
                  </a:lnTo>
                  <a:lnTo>
                    <a:pt x="447675" y="1181100"/>
                  </a:lnTo>
                  <a:lnTo>
                    <a:pt x="352425" y="781050"/>
                  </a:lnTo>
                  <a:lnTo>
                    <a:pt x="276225" y="504825"/>
                  </a:lnTo>
                  <a:lnTo>
                    <a:pt x="276225" y="104775"/>
                  </a:lnTo>
                  <a:lnTo>
                    <a:pt x="238125" y="0"/>
                  </a:lnTo>
                  <a:lnTo>
                    <a:pt x="142875" y="85725"/>
                  </a:lnTo>
                  <a:lnTo>
                    <a:pt x="47625" y="200025"/>
                  </a:lnTo>
                  <a:lnTo>
                    <a:pt x="0" y="400050"/>
                  </a:lnTo>
                  <a:lnTo>
                    <a:pt x="9525" y="657225"/>
                  </a:lnTo>
                  <a:lnTo>
                    <a:pt x="28575" y="904875"/>
                  </a:lnTo>
                  <a:lnTo>
                    <a:pt x="76200" y="1171575"/>
                  </a:lnTo>
                  <a:lnTo>
                    <a:pt x="85725" y="1409700"/>
                  </a:lnTo>
                  <a:lnTo>
                    <a:pt x="133350" y="1533525"/>
                  </a:lnTo>
                  <a:lnTo>
                    <a:pt x="276225" y="2114550"/>
                  </a:lnTo>
                  <a:lnTo>
                    <a:pt x="542925" y="2752725"/>
                  </a:lnTo>
                  <a:lnTo>
                    <a:pt x="857250" y="3028950"/>
                  </a:lnTo>
                  <a:lnTo>
                    <a:pt x="942975" y="2581275"/>
                  </a:lnTo>
                  <a:lnTo>
                    <a:pt x="895350" y="2343150"/>
                  </a:lnTo>
                  <a:close/>
                </a:path>
              </a:pathLst>
            </a:custGeom>
            <a:solidFill>
              <a:srgbClr val="fbb575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841" name="任意多边形 10"/>
            <p:cNvSpPr/>
            <p:nvPr/>
          </p:nvSpPr>
          <p:spPr>
            <a:xfrm>
              <a:off x="9358200" y="3849120"/>
              <a:ext cx="1352160" cy="2580840"/>
            </a:xfrm>
            <a:custGeom>
              <a:avLst/>
              <a:gdLst>
                <a:gd name="textAreaLeft" fmla="*/ 0 w 1352160"/>
                <a:gd name="textAreaRight" fmla="*/ 1352520 w 1352160"/>
                <a:gd name="textAreaTop" fmla="*/ 0 h 2580840"/>
                <a:gd name="textAreaBottom" fmla="*/ 2581200 h 2580840"/>
              </a:gdLst>
              <a:ahLst/>
              <a:rect l="textAreaLeft" t="textAreaTop" r="textAreaRight" b="textAreaBottom"/>
              <a:pathLst>
                <a:path w="1352550" h="2581275">
                  <a:moveTo>
                    <a:pt x="1181100" y="2581275"/>
                  </a:moveTo>
                  <a:lnTo>
                    <a:pt x="771525" y="2505075"/>
                  </a:lnTo>
                  <a:lnTo>
                    <a:pt x="438150" y="2286000"/>
                  </a:lnTo>
                  <a:lnTo>
                    <a:pt x="209550" y="1981200"/>
                  </a:lnTo>
                  <a:lnTo>
                    <a:pt x="123825" y="1543050"/>
                  </a:lnTo>
                  <a:lnTo>
                    <a:pt x="142875" y="1343025"/>
                  </a:lnTo>
                  <a:lnTo>
                    <a:pt x="166687" y="1100137"/>
                  </a:lnTo>
                  <a:lnTo>
                    <a:pt x="123825" y="895350"/>
                  </a:lnTo>
                  <a:lnTo>
                    <a:pt x="38100" y="542925"/>
                  </a:lnTo>
                  <a:lnTo>
                    <a:pt x="0" y="328612"/>
                  </a:lnTo>
                  <a:lnTo>
                    <a:pt x="38100" y="119063"/>
                  </a:lnTo>
                  <a:lnTo>
                    <a:pt x="133350" y="28575"/>
                  </a:lnTo>
                  <a:lnTo>
                    <a:pt x="247650" y="0"/>
                  </a:lnTo>
                  <a:lnTo>
                    <a:pt x="333375" y="66675"/>
                  </a:lnTo>
                  <a:lnTo>
                    <a:pt x="381000" y="314325"/>
                  </a:lnTo>
                  <a:lnTo>
                    <a:pt x="447675" y="581025"/>
                  </a:lnTo>
                  <a:lnTo>
                    <a:pt x="504371" y="605064"/>
                  </a:lnTo>
                  <a:lnTo>
                    <a:pt x="535442" y="600075"/>
                  </a:lnTo>
                  <a:lnTo>
                    <a:pt x="574449" y="538390"/>
                  </a:lnTo>
                  <a:cubicBezTo>
                    <a:pt x="573391" y="420159"/>
                    <a:pt x="572558" y="475419"/>
                    <a:pt x="571500" y="357188"/>
                  </a:cubicBezTo>
                  <a:lnTo>
                    <a:pt x="771525" y="828675"/>
                  </a:lnTo>
                  <a:lnTo>
                    <a:pt x="890587" y="1228725"/>
                  </a:lnTo>
                  <a:lnTo>
                    <a:pt x="990600" y="1443038"/>
                  </a:lnTo>
                  <a:lnTo>
                    <a:pt x="1133475" y="1619250"/>
                  </a:lnTo>
                  <a:lnTo>
                    <a:pt x="1209675" y="1676400"/>
                  </a:lnTo>
                  <a:lnTo>
                    <a:pt x="1352550" y="1809750"/>
                  </a:lnTo>
                  <a:lnTo>
                    <a:pt x="1181100" y="2581275"/>
                  </a:lnTo>
                  <a:close/>
                </a:path>
              </a:pathLst>
            </a:custGeom>
            <a:solidFill>
              <a:srgbClr val="fdce9a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842" name="梯形 11"/>
            <p:cNvSpPr/>
            <p:nvPr/>
          </p:nvSpPr>
          <p:spPr>
            <a:xfrm rot="16453200">
              <a:off x="10243080" y="5806440"/>
              <a:ext cx="1018440" cy="366840"/>
            </a:xfrm>
            <a:prstGeom prst="trapezoid">
              <a:avLst>
                <a:gd name="adj" fmla="val 15476"/>
              </a:avLst>
            </a:prstGeom>
            <a:solidFill>
              <a:schemeClr val="bg2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843" name="梯形 12"/>
            <p:cNvSpPr/>
            <p:nvPr/>
          </p:nvSpPr>
          <p:spPr>
            <a:xfrm rot="16453200">
              <a:off x="12123720" y="3970440"/>
              <a:ext cx="1800000" cy="4421880"/>
            </a:xfrm>
            <a:prstGeom prst="trapezoid">
              <a:avLst>
                <a:gd name="adj" fmla="val 15476"/>
              </a:avLst>
            </a:prstGeom>
            <a:solidFill>
              <a:srgbClr val="2f242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844" name="椭圆 13"/>
            <p:cNvSpPr/>
            <p:nvPr/>
          </p:nvSpPr>
          <p:spPr>
            <a:xfrm>
              <a:off x="9474840" y="3913560"/>
              <a:ext cx="228240" cy="271080"/>
            </a:xfrm>
            <a:prstGeom prst="ellipse">
              <a:avLst/>
            </a:prstGeom>
            <a:solidFill>
              <a:srgbClr val="e7e6e6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845" name="任意多边形 14"/>
            <p:cNvSpPr/>
            <p:nvPr/>
          </p:nvSpPr>
          <p:spPr>
            <a:xfrm>
              <a:off x="9429120" y="2480040"/>
              <a:ext cx="91800" cy="16308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163080"/>
                <a:gd name="textAreaBottom" fmla="*/ 163440 h 163080"/>
              </a:gdLst>
              <a:ahLst/>
              <a:rect l="textAreaLeft" t="textAreaTop" r="textAreaRight" b="textAreaBottom"/>
              <a:pathLst>
                <a:path w="92075" h="163512">
                  <a:moveTo>
                    <a:pt x="84931" y="152400"/>
                  </a:moveTo>
                  <a:lnTo>
                    <a:pt x="92075" y="82550"/>
                  </a:lnTo>
                  <a:cubicBezTo>
                    <a:pt x="91546" y="65617"/>
                    <a:pt x="91016" y="48683"/>
                    <a:pt x="90487" y="31750"/>
                  </a:cubicBezTo>
                  <a:lnTo>
                    <a:pt x="36512" y="0"/>
                  </a:lnTo>
                  <a:lnTo>
                    <a:pt x="0" y="64293"/>
                  </a:lnTo>
                  <a:lnTo>
                    <a:pt x="6350" y="125412"/>
                  </a:lnTo>
                  <a:lnTo>
                    <a:pt x="33337" y="163512"/>
                  </a:lnTo>
                  <a:lnTo>
                    <a:pt x="84931" y="152400"/>
                  </a:lnTo>
                  <a:close/>
                </a:path>
              </a:pathLst>
            </a:custGeom>
            <a:solidFill>
              <a:srgbClr val="e7e6e6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846" name="组合 16"/>
          <p:cNvGrpSpPr/>
          <p:nvPr/>
        </p:nvGrpSpPr>
        <p:grpSpPr>
          <a:xfrm>
            <a:off x="13805280" y="1381680"/>
            <a:ext cx="2586600" cy="2059560"/>
            <a:chOff x="13805280" y="1381680"/>
            <a:chExt cx="2586600" cy="2059560"/>
          </a:xfrm>
        </p:grpSpPr>
        <p:sp>
          <p:nvSpPr>
            <p:cNvPr id="847" name="任意多边形 17"/>
            <p:cNvSpPr/>
            <p:nvPr/>
          </p:nvSpPr>
          <p:spPr>
            <a:xfrm>
              <a:off x="13805280" y="1381680"/>
              <a:ext cx="403920" cy="1298520"/>
            </a:xfrm>
            <a:custGeom>
              <a:avLst/>
              <a:gdLst>
                <a:gd name="textAreaLeft" fmla="*/ 0 w 403920"/>
                <a:gd name="textAreaRight" fmla="*/ 404280 w 403920"/>
                <a:gd name="textAreaTop" fmla="*/ 0 h 1298520"/>
                <a:gd name="textAreaBottom" fmla="*/ 1298880 h 1298520"/>
              </a:gdLst>
              <a:ahLst/>
              <a:rect l="textAreaLeft" t="textAreaTop" r="textAreaRight" b="textAreaBottom"/>
              <a:pathLst>
                <a:path w="942975" h="3028950">
                  <a:moveTo>
                    <a:pt x="895350" y="2343150"/>
                  </a:moveTo>
                  <a:lnTo>
                    <a:pt x="561975" y="1504950"/>
                  </a:lnTo>
                  <a:lnTo>
                    <a:pt x="447675" y="1181100"/>
                  </a:lnTo>
                  <a:lnTo>
                    <a:pt x="352425" y="781050"/>
                  </a:lnTo>
                  <a:lnTo>
                    <a:pt x="276225" y="504825"/>
                  </a:lnTo>
                  <a:lnTo>
                    <a:pt x="276225" y="104775"/>
                  </a:lnTo>
                  <a:lnTo>
                    <a:pt x="238125" y="0"/>
                  </a:lnTo>
                  <a:lnTo>
                    <a:pt x="142875" y="85725"/>
                  </a:lnTo>
                  <a:lnTo>
                    <a:pt x="47625" y="200025"/>
                  </a:lnTo>
                  <a:lnTo>
                    <a:pt x="0" y="400050"/>
                  </a:lnTo>
                  <a:lnTo>
                    <a:pt x="9525" y="657225"/>
                  </a:lnTo>
                  <a:lnTo>
                    <a:pt x="28575" y="904875"/>
                  </a:lnTo>
                  <a:lnTo>
                    <a:pt x="76200" y="1171575"/>
                  </a:lnTo>
                  <a:lnTo>
                    <a:pt x="85725" y="1409700"/>
                  </a:lnTo>
                  <a:lnTo>
                    <a:pt x="133350" y="1533525"/>
                  </a:lnTo>
                  <a:lnTo>
                    <a:pt x="276225" y="2114550"/>
                  </a:lnTo>
                  <a:lnTo>
                    <a:pt x="542925" y="2752725"/>
                  </a:lnTo>
                  <a:lnTo>
                    <a:pt x="857250" y="3028950"/>
                  </a:lnTo>
                  <a:lnTo>
                    <a:pt x="942975" y="2581275"/>
                  </a:lnTo>
                  <a:lnTo>
                    <a:pt x="895350" y="2343150"/>
                  </a:lnTo>
                  <a:close/>
                </a:path>
              </a:pathLst>
            </a:custGeom>
            <a:solidFill>
              <a:srgbClr val="fbb575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848" name="任意多边形 19"/>
            <p:cNvSpPr/>
            <p:nvPr/>
          </p:nvSpPr>
          <p:spPr>
            <a:xfrm>
              <a:off x="13846320" y="1986120"/>
              <a:ext cx="579600" cy="110664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1106640"/>
                <a:gd name="textAreaBottom" fmla="*/ 1107000 h 1106640"/>
              </a:gdLst>
              <a:ahLst/>
              <a:rect l="textAreaLeft" t="textAreaTop" r="textAreaRight" b="textAreaBottom"/>
              <a:pathLst>
                <a:path w="1352550" h="2581275">
                  <a:moveTo>
                    <a:pt x="1181100" y="2581275"/>
                  </a:moveTo>
                  <a:lnTo>
                    <a:pt x="771525" y="2505075"/>
                  </a:lnTo>
                  <a:lnTo>
                    <a:pt x="438150" y="2286000"/>
                  </a:lnTo>
                  <a:lnTo>
                    <a:pt x="209550" y="1981200"/>
                  </a:lnTo>
                  <a:lnTo>
                    <a:pt x="123825" y="1543050"/>
                  </a:lnTo>
                  <a:lnTo>
                    <a:pt x="142875" y="1343025"/>
                  </a:lnTo>
                  <a:lnTo>
                    <a:pt x="166687" y="1100137"/>
                  </a:lnTo>
                  <a:lnTo>
                    <a:pt x="123825" y="895350"/>
                  </a:lnTo>
                  <a:lnTo>
                    <a:pt x="38100" y="542925"/>
                  </a:lnTo>
                  <a:lnTo>
                    <a:pt x="0" y="328612"/>
                  </a:lnTo>
                  <a:lnTo>
                    <a:pt x="38100" y="119063"/>
                  </a:lnTo>
                  <a:lnTo>
                    <a:pt x="133350" y="28575"/>
                  </a:lnTo>
                  <a:lnTo>
                    <a:pt x="247650" y="0"/>
                  </a:lnTo>
                  <a:lnTo>
                    <a:pt x="333375" y="66675"/>
                  </a:lnTo>
                  <a:lnTo>
                    <a:pt x="381000" y="314325"/>
                  </a:lnTo>
                  <a:lnTo>
                    <a:pt x="447675" y="581025"/>
                  </a:lnTo>
                  <a:lnTo>
                    <a:pt x="504371" y="605064"/>
                  </a:lnTo>
                  <a:lnTo>
                    <a:pt x="535442" y="600075"/>
                  </a:lnTo>
                  <a:lnTo>
                    <a:pt x="574449" y="538390"/>
                  </a:lnTo>
                  <a:cubicBezTo>
                    <a:pt x="573391" y="420159"/>
                    <a:pt x="572558" y="475419"/>
                    <a:pt x="571500" y="357188"/>
                  </a:cubicBezTo>
                  <a:lnTo>
                    <a:pt x="771525" y="828675"/>
                  </a:lnTo>
                  <a:lnTo>
                    <a:pt x="890587" y="1228725"/>
                  </a:lnTo>
                  <a:lnTo>
                    <a:pt x="990600" y="1443038"/>
                  </a:lnTo>
                  <a:lnTo>
                    <a:pt x="1133475" y="1619250"/>
                  </a:lnTo>
                  <a:lnTo>
                    <a:pt x="1209675" y="1676400"/>
                  </a:lnTo>
                  <a:lnTo>
                    <a:pt x="1352550" y="1809750"/>
                  </a:lnTo>
                  <a:lnTo>
                    <a:pt x="1181100" y="2581275"/>
                  </a:lnTo>
                  <a:close/>
                </a:path>
              </a:pathLst>
            </a:custGeom>
            <a:solidFill>
              <a:srgbClr val="fdce9a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849" name="梯形 20"/>
            <p:cNvSpPr/>
            <p:nvPr/>
          </p:nvSpPr>
          <p:spPr>
            <a:xfrm rot="16453200">
              <a:off x="14225760" y="2825640"/>
              <a:ext cx="436680" cy="157320"/>
            </a:xfrm>
            <a:prstGeom prst="trapezoid">
              <a:avLst>
                <a:gd name="adj" fmla="val 15476"/>
              </a:avLst>
            </a:prstGeom>
            <a:solidFill>
              <a:schemeClr val="bg2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850" name="梯形 21"/>
            <p:cNvSpPr/>
            <p:nvPr/>
          </p:nvSpPr>
          <p:spPr>
            <a:xfrm rot="16453200">
              <a:off x="15032160" y="2038320"/>
              <a:ext cx="771480" cy="1896120"/>
            </a:xfrm>
            <a:prstGeom prst="trapezoid">
              <a:avLst>
                <a:gd name="adj" fmla="val 15476"/>
              </a:avLst>
            </a:prstGeom>
            <a:solidFill>
              <a:srgbClr val="2f242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851" name="椭圆 22"/>
            <p:cNvSpPr/>
            <p:nvPr/>
          </p:nvSpPr>
          <p:spPr>
            <a:xfrm>
              <a:off x="13896360" y="2013840"/>
              <a:ext cx="97560" cy="115920"/>
            </a:xfrm>
            <a:prstGeom prst="ellipse">
              <a:avLst/>
            </a:prstGeom>
            <a:solidFill>
              <a:srgbClr val="e7e6e6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37080" bIns="370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852" name="任意多边形 23"/>
            <p:cNvSpPr/>
            <p:nvPr/>
          </p:nvSpPr>
          <p:spPr>
            <a:xfrm>
              <a:off x="13885560" y="1401840"/>
              <a:ext cx="30240" cy="7524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75240"/>
                <a:gd name="textAreaBottom" fmla="*/ 75600 h 75240"/>
              </a:gdLst>
              <a:ahLst/>
              <a:rect l="textAreaLeft" t="textAreaTop" r="textAreaRight" b="textAreaBottom"/>
              <a:pathLst>
                <a:path w="71438" h="176212">
                  <a:moveTo>
                    <a:pt x="64294" y="171450"/>
                  </a:moveTo>
                  <a:lnTo>
                    <a:pt x="71438" y="76200"/>
                  </a:lnTo>
                  <a:lnTo>
                    <a:pt x="38100" y="0"/>
                  </a:lnTo>
                  <a:lnTo>
                    <a:pt x="0" y="9525"/>
                  </a:lnTo>
                  <a:lnTo>
                    <a:pt x="4763" y="64293"/>
                  </a:lnTo>
                  <a:lnTo>
                    <a:pt x="14288" y="119062"/>
                  </a:lnTo>
                  <a:lnTo>
                    <a:pt x="9525" y="176212"/>
                  </a:lnTo>
                  <a:lnTo>
                    <a:pt x="64294" y="171450"/>
                  </a:lnTo>
                  <a:close/>
                </a:path>
              </a:pathLst>
            </a:custGeom>
            <a:solidFill>
              <a:srgbClr val="e7e6e6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30600" bIns="306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cxnSp>
        <p:nvCxnSpPr>
          <p:cNvPr id="853" name="直接连接符 24"/>
          <p:cNvCxnSpPr/>
          <p:nvPr/>
        </p:nvCxnSpPr>
        <p:spPr>
          <a:xfrm>
            <a:off x="1795320" y="4332600"/>
            <a:ext cx="7071840" cy="360"/>
          </a:xfrm>
          <a:prstGeom prst="straightConnector1">
            <a:avLst/>
          </a:prstGeom>
          <a:ln w="28575">
            <a:solidFill>
              <a:srgbClr val="ffffff">
                <a:lumMod val="85000"/>
              </a:srgbClr>
            </a:solidFill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文本框 8"/>
          <p:cNvSpPr/>
          <p:nvPr/>
        </p:nvSpPr>
        <p:spPr>
          <a:xfrm>
            <a:off x="3552120" y="4332960"/>
            <a:ext cx="721188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50000"/>
              </a:lnSpc>
            </a:pPr>
            <a:r>
              <a:rPr b="0" lang="zh-CN" sz="2400" spc="-1" strike="noStrike">
                <a:solidFill>
                  <a:srgbClr val="000000"/>
                </a:solidFill>
                <a:latin typeface="Noto Sans S Chinese Light"/>
                <a:ea typeface="Noto Sans S Chinese Light"/>
              </a:rPr>
              <a:t>客户，是买你东西并向你付钱的人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</a:pPr>
            <a:r>
              <a:rPr b="0" lang="zh-CN" sz="2400" spc="-1" strike="noStrike">
                <a:solidFill>
                  <a:srgbClr val="000000"/>
                </a:solidFill>
                <a:latin typeface="Noto Sans S Chinese Light"/>
                <a:ea typeface="Noto Sans S Chinese Light"/>
              </a:rPr>
              <a:t>用户使用你的产品或者服务，但他们未必给你付费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文本框 9"/>
          <p:cNvSpPr/>
          <p:nvPr/>
        </p:nvSpPr>
        <p:spPr>
          <a:xfrm>
            <a:off x="8018640" y="1381680"/>
            <a:ext cx="26712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1" lang="zh-CN" sz="9600" spc="-1" strike="noStrike">
                <a:solidFill>
                  <a:srgbClr val="1cabfc"/>
                </a:solidFill>
                <a:latin typeface="Noto Sans S Chinese Bold"/>
                <a:ea typeface="Noto Sans S Chinese Bold"/>
              </a:rPr>
              <a:t>用户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文本框 15"/>
          <p:cNvSpPr/>
          <p:nvPr/>
        </p:nvSpPr>
        <p:spPr>
          <a:xfrm>
            <a:off x="8089560" y="3162960"/>
            <a:ext cx="267480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1" lang="zh-CN" sz="4800" spc="-1" strike="noStrike">
                <a:solidFill>
                  <a:srgbClr val="f9b91c"/>
                </a:solidFill>
                <a:latin typeface="Noto Sans S Chinese Bold"/>
                <a:ea typeface="Noto Sans S Chinese Bold"/>
              </a:rPr>
              <a:t>或不付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文本框 6"/>
          <p:cNvSpPr/>
          <p:nvPr/>
        </p:nvSpPr>
        <p:spPr>
          <a:xfrm>
            <a:off x="1568520" y="76320"/>
            <a:ext cx="905472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50000"/>
              </a:lnSpc>
            </a:pPr>
            <a:r>
              <a:rPr b="1" lang="zh-CN" sz="3600" spc="-1" strike="noStrike">
                <a:solidFill>
                  <a:srgbClr val="ffffff"/>
                </a:solidFill>
                <a:latin typeface="Noto Sans S Chinese Bold"/>
                <a:ea typeface="Noto Sans S Chinese Bold"/>
              </a:rPr>
              <a:t>误区二：客户，用你的商品就是你的用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8" name="组合 5"/>
          <p:cNvGrpSpPr/>
          <p:nvPr/>
        </p:nvGrpSpPr>
        <p:grpSpPr>
          <a:xfrm>
            <a:off x="13852800" y="1791000"/>
            <a:ext cx="3686040" cy="4503600"/>
            <a:chOff x="13852800" y="1791000"/>
            <a:chExt cx="3686040" cy="4503600"/>
          </a:xfrm>
        </p:grpSpPr>
        <p:grpSp>
          <p:nvGrpSpPr>
            <p:cNvPr id="859" name="组合 38"/>
            <p:cNvGrpSpPr/>
            <p:nvPr/>
          </p:nvGrpSpPr>
          <p:grpSpPr>
            <a:xfrm>
              <a:off x="13852800" y="2261160"/>
              <a:ext cx="1767240" cy="1767240"/>
              <a:chOff x="13852800" y="2261160"/>
              <a:chExt cx="1767240" cy="1767240"/>
            </a:xfrm>
          </p:grpSpPr>
          <p:sp>
            <p:nvSpPr>
              <p:cNvPr id="860" name="椭圆 59"/>
              <p:cNvSpPr/>
              <p:nvPr/>
            </p:nvSpPr>
            <p:spPr>
              <a:xfrm rot="19811400">
                <a:off x="14088960" y="2496960"/>
                <a:ext cx="1294920" cy="1294920"/>
              </a:xfrm>
              <a:prstGeom prst="ellipse">
                <a:avLst/>
              </a:prstGeom>
              <a:solidFill>
                <a:srgbClr val="feca04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61" name="椭圆 60"/>
              <p:cNvSpPr/>
              <p:nvPr/>
            </p:nvSpPr>
            <p:spPr>
              <a:xfrm rot="19811400">
                <a:off x="14207400" y="2615400"/>
                <a:ext cx="1058400" cy="1058400"/>
              </a:xfrm>
              <a:prstGeom prst="ellipse">
                <a:avLst/>
              </a:prstGeom>
              <a:solidFill>
                <a:srgbClr val="d7a30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62" name="椭圆 61"/>
              <p:cNvSpPr/>
              <p:nvPr/>
            </p:nvSpPr>
            <p:spPr>
              <a:xfrm rot="19811400">
                <a:off x="14259600" y="2667960"/>
                <a:ext cx="952920" cy="952920"/>
              </a:xfrm>
              <a:prstGeom prst="ellipse">
                <a:avLst/>
              </a:prstGeom>
              <a:solidFill>
                <a:srgbClr val="fbd335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63" name="矩形 62"/>
              <p:cNvSpPr/>
              <p:nvPr/>
            </p:nvSpPr>
            <p:spPr>
              <a:xfrm rot="19811400">
                <a:off x="14504040" y="2805840"/>
                <a:ext cx="546840" cy="82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zh-CN" sz="4800" spc="-1" strike="noStrike">
                    <a:solidFill>
                      <a:srgbClr val="d6a302"/>
                    </a:solidFill>
                    <a:latin typeface="造字工房悦圆（非商用）常规体"/>
                    <a:ea typeface="造字工房悦圆（非商用）常规体"/>
                  </a:rPr>
                  <a:t>￥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4" name="组合 39"/>
            <p:cNvGrpSpPr/>
            <p:nvPr/>
          </p:nvGrpSpPr>
          <p:grpSpPr>
            <a:xfrm>
              <a:off x="14563440" y="1938960"/>
              <a:ext cx="1767240" cy="1767240"/>
              <a:chOff x="14563440" y="1938960"/>
              <a:chExt cx="1767240" cy="1767240"/>
            </a:xfrm>
          </p:grpSpPr>
          <p:sp>
            <p:nvSpPr>
              <p:cNvPr id="865" name="椭圆 55"/>
              <p:cNvSpPr/>
              <p:nvPr/>
            </p:nvSpPr>
            <p:spPr>
              <a:xfrm rot="19811400">
                <a:off x="14799600" y="2174760"/>
                <a:ext cx="1294920" cy="1294920"/>
              </a:xfrm>
              <a:prstGeom prst="ellipse">
                <a:avLst/>
              </a:prstGeom>
              <a:solidFill>
                <a:srgbClr val="feca04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66" name="椭圆 56"/>
              <p:cNvSpPr/>
              <p:nvPr/>
            </p:nvSpPr>
            <p:spPr>
              <a:xfrm rot="19811400">
                <a:off x="14918040" y="2293200"/>
                <a:ext cx="1058400" cy="1058400"/>
              </a:xfrm>
              <a:prstGeom prst="ellipse">
                <a:avLst/>
              </a:prstGeom>
              <a:solidFill>
                <a:srgbClr val="d7a30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67" name="椭圆 57"/>
              <p:cNvSpPr/>
              <p:nvPr/>
            </p:nvSpPr>
            <p:spPr>
              <a:xfrm rot="19811400">
                <a:off x="14970600" y="2345760"/>
                <a:ext cx="952920" cy="952920"/>
              </a:xfrm>
              <a:prstGeom prst="ellipse">
                <a:avLst/>
              </a:prstGeom>
              <a:solidFill>
                <a:srgbClr val="fbd335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68" name="矩形 58"/>
              <p:cNvSpPr/>
              <p:nvPr/>
            </p:nvSpPr>
            <p:spPr>
              <a:xfrm rot="19811400">
                <a:off x="15214680" y="2484000"/>
                <a:ext cx="546840" cy="82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zh-CN" sz="4800" spc="-1" strike="noStrike">
                    <a:solidFill>
                      <a:srgbClr val="d6a302"/>
                    </a:solidFill>
                    <a:latin typeface="造字工房悦圆（非商用）常规体"/>
                    <a:ea typeface="造字工房悦圆（非商用）常规体"/>
                  </a:rPr>
                  <a:t>￥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9" name="组合 40"/>
            <p:cNvGrpSpPr/>
            <p:nvPr/>
          </p:nvGrpSpPr>
          <p:grpSpPr>
            <a:xfrm>
              <a:off x="15550920" y="1791000"/>
              <a:ext cx="1827000" cy="1827000"/>
              <a:chOff x="15550920" y="1791000"/>
              <a:chExt cx="1827000" cy="1827000"/>
            </a:xfrm>
          </p:grpSpPr>
          <p:sp>
            <p:nvSpPr>
              <p:cNvPr id="870" name="椭圆 51"/>
              <p:cNvSpPr/>
              <p:nvPr/>
            </p:nvSpPr>
            <p:spPr>
              <a:xfrm rot="2460000">
                <a:off x="15816600" y="2056680"/>
                <a:ext cx="1294920" cy="1294920"/>
              </a:xfrm>
              <a:prstGeom prst="ellipse">
                <a:avLst/>
              </a:prstGeom>
              <a:solidFill>
                <a:srgbClr val="feca04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71" name="椭圆 52"/>
              <p:cNvSpPr/>
              <p:nvPr/>
            </p:nvSpPr>
            <p:spPr>
              <a:xfrm rot="2460000">
                <a:off x="15935040" y="2175120"/>
                <a:ext cx="1058400" cy="1058400"/>
              </a:xfrm>
              <a:prstGeom prst="ellipse">
                <a:avLst/>
              </a:prstGeom>
              <a:solidFill>
                <a:srgbClr val="d7a30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72" name="椭圆 53"/>
              <p:cNvSpPr/>
              <p:nvPr/>
            </p:nvSpPr>
            <p:spPr>
              <a:xfrm rot="2460000">
                <a:off x="15987960" y="2228040"/>
                <a:ext cx="952920" cy="952920"/>
              </a:xfrm>
              <a:prstGeom prst="ellipse">
                <a:avLst/>
              </a:prstGeom>
              <a:solidFill>
                <a:srgbClr val="fbd335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73" name="矩形 54"/>
              <p:cNvSpPr/>
              <p:nvPr/>
            </p:nvSpPr>
            <p:spPr>
              <a:xfrm rot="2460000">
                <a:off x="16136640" y="2355840"/>
                <a:ext cx="546840" cy="82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zh-CN" sz="4800" spc="-1" strike="noStrike">
                    <a:solidFill>
                      <a:srgbClr val="d6a302"/>
                    </a:solidFill>
                    <a:latin typeface="造字工房悦圆（非商用）常规体"/>
                    <a:ea typeface="造字工房悦圆（非商用）常规体"/>
                  </a:rPr>
                  <a:t>￥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4" name="圆角矩形 41"/>
            <p:cNvSpPr/>
            <p:nvPr/>
          </p:nvSpPr>
          <p:spPr>
            <a:xfrm>
              <a:off x="14030280" y="2964960"/>
              <a:ext cx="3171600" cy="2476080"/>
            </a:xfrm>
            <a:prstGeom prst="roundRect">
              <a:avLst>
                <a:gd name="adj" fmla="val 9359"/>
              </a:avLst>
            </a:prstGeom>
            <a:solidFill>
              <a:srgbClr val="413539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grpSp>
          <p:nvGrpSpPr>
            <p:cNvPr id="875" name="组合 4"/>
            <p:cNvGrpSpPr/>
            <p:nvPr/>
          </p:nvGrpSpPr>
          <p:grpSpPr>
            <a:xfrm>
              <a:off x="16090200" y="3841560"/>
              <a:ext cx="1371240" cy="685440"/>
              <a:chOff x="16090200" y="3841560"/>
              <a:chExt cx="1371240" cy="685440"/>
            </a:xfrm>
          </p:grpSpPr>
          <p:sp>
            <p:nvSpPr>
              <p:cNvPr id="876" name="圆角矩形 42"/>
              <p:cNvSpPr/>
              <p:nvPr/>
            </p:nvSpPr>
            <p:spPr>
              <a:xfrm flipH="1">
                <a:off x="16089840" y="3841560"/>
                <a:ext cx="1371240" cy="685440"/>
              </a:xfrm>
              <a:prstGeom prst="roundRect">
                <a:avLst>
                  <a:gd name="adj" fmla="val 29167"/>
                </a:avLst>
              </a:prstGeom>
              <a:solidFill>
                <a:srgbClr val="4d3e43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77" name="椭圆 43"/>
              <p:cNvSpPr/>
              <p:nvPr/>
            </p:nvSpPr>
            <p:spPr>
              <a:xfrm flipH="1">
                <a:off x="16270560" y="3955680"/>
                <a:ext cx="456840" cy="456840"/>
              </a:xfrm>
              <a:prstGeom prst="ellipse">
                <a:avLst/>
              </a:prstGeom>
              <a:solidFill>
                <a:srgbClr val="fed638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cxnSp>
          <p:nvCxnSpPr>
            <p:cNvPr id="878" name="直接连接符 44"/>
            <p:cNvCxnSpPr/>
            <p:nvPr/>
          </p:nvCxnSpPr>
          <p:spPr>
            <a:xfrm>
              <a:off x="14040720" y="3197520"/>
              <a:ext cx="3187800" cy="25560"/>
            </a:xfrm>
            <a:prstGeom prst="straightConnector1">
              <a:avLst/>
            </a:prstGeom>
            <a:ln w="28575">
              <a:solidFill>
                <a:srgbClr val="e7e6e6"/>
              </a:solidFill>
              <a:prstDash val="dash"/>
            </a:ln>
          </p:spPr>
        </p:cxnSp>
        <p:cxnSp>
          <p:nvCxnSpPr>
            <p:cNvPr id="879" name="直接连接符 45"/>
            <p:cNvCxnSpPr/>
            <p:nvPr/>
          </p:nvCxnSpPr>
          <p:spPr>
            <a:xfrm>
              <a:off x="14040720" y="5145480"/>
              <a:ext cx="3187800" cy="25560"/>
            </a:xfrm>
            <a:prstGeom prst="straightConnector1">
              <a:avLst/>
            </a:prstGeom>
            <a:ln w="28575">
              <a:solidFill>
                <a:srgbClr val="e7e6e6"/>
              </a:solidFill>
              <a:prstDash val="dash"/>
            </a:ln>
          </p:spPr>
        </p:cxnSp>
        <p:grpSp>
          <p:nvGrpSpPr>
            <p:cNvPr id="880" name="组合 46"/>
            <p:cNvGrpSpPr/>
            <p:nvPr/>
          </p:nvGrpSpPr>
          <p:grpSpPr>
            <a:xfrm>
              <a:off x="15771600" y="4527360"/>
              <a:ext cx="1767240" cy="1767240"/>
              <a:chOff x="15771600" y="4527360"/>
              <a:chExt cx="1767240" cy="1767240"/>
            </a:xfrm>
          </p:grpSpPr>
          <p:sp>
            <p:nvSpPr>
              <p:cNvPr id="881" name="椭圆 47"/>
              <p:cNvSpPr/>
              <p:nvPr/>
            </p:nvSpPr>
            <p:spPr>
              <a:xfrm rot="19811400">
                <a:off x="16007760" y="4763160"/>
                <a:ext cx="1294920" cy="1294920"/>
              </a:xfrm>
              <a:prstGeom prst="ellipse">
                <a:avLst/>
              </a:prstGeom>
              <a:solidFill>
                <a:srgbClr val="feca04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82" name="椭圆 48"/>
              <p:cNvSpPr/>
              <p:nvPr/>
            </p:nvSpPr>
            <p:spPr>
              <a:xfrm rot="19811400">
                <a:off x="16126200" y="4881600"/>
                <a:ext cx="1058400" cy="1058400"/>
              </a:xfrm>
              <a:prstGeom prst="ellipse">
                <a:avLst/>
              </a:prstGeom>
              <a:solidFill>
                <a:srgbClr val="d7a30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83" name="椭圆 49"/>
              <p:cNvSpPr/>
              <p:nvPr/>
            </p:nvSpPr>
            <p:spPr>
              <a:xfrm rot="19811400">
                <a:off x="16178760" y="4934160"/>
                <a:ext cx="952920" cy="952920"/>
              </a:xfrm>
              <a:prstGeom prst="ellipse">
                <a:avLst/>
              </a:prstGeom>
              <a:solidFill>
                <a:srgbClr val="fbd335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84" name="矩形 50"/>
              <p:cNvSpPr/>
              <p:nvPr/>
            </p:nvSpPr>
            <p:spPr>
              <a:xfrm rot="19811400">
                <a:off x="16422840" y="5072400"/>
                <a:ext cx="546840" cy="82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zh-CN" sz="4800" spc="-1" strike="noStrike">
                    <a:solidFill>
                      <a:srgbClr val="d6a302"/>
                    </a:solidFill>
                    <a:latin typeface="造字工房悦圆（非商用）常规体"/>
                    <a:ea typeface="造字工房悦圆（非商用）常规体"/>
                  </a:rPr>
                  <a:t>￥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885" name="图片 7" descr=""/>
          <p:cNvPicPr/>
          <p:nvPr/>
        </p:nvPicPr>
        <p:blipFill>
          <a:blip r:embed="rId1"/>
          <a:stretch/>
        </p:blipFill>
        <p:spPr>
          <a:xfrm>
            <a:off x="-996120" y="2548800"/>
            <a:ext cx="4386240" cy="5418360"/>
          </a:xfrm>
          <a:prstGeom prst="rect">
            <a:avLst/>
          </a:prstGeom>
          <a:ln w="0">
            <a:noFill/>
          </a:ln>
        </p:spPr>
      </p:pic>
      <p:cxnSp>
        <p:nvCxnSpPr>
          <p:cNvPr id="886" name="直接连接符 2"/>
          <p:cNvCxnSpPr/>
          <p:nvPr/>
        </p:nvCxnSpPr>
        <p:spPr>
          <a:xfrm>
            <a:off x="3552120" y="4332600"/>
            <a:ext cx="7071480" cy="360"/>
          </a:xfrm>
          <a:prstGeom prst="straightConnector1">
            <a:avLst/>
          </a:prstGeom>
          <a:ln w="28575">
            <a:solidFill>
              <a:srgbClr val="ffffff">
                <a:lumMod val="85000"/>
              </a:srgbClr>
            </a:solidFill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8</TotalTime>
  <Application>LibreOffice/7.4.7.2$Linux_X86_64 LibreOffice_project/40$Build-2</Application>
  <AppVersion>15.0000</AppVersion>
  <Words>717</Words>
  <Paragraphs>130</Paragraphs>
  <Company>Sky123.Org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06T02:39:31Z</dcterms:created>
  <dc:creator>Administrator</dc:creator>
  <dc:description/>
  <dc:language>en-US</dc:language>
  <cp:lastModifiedBy>王玉清</cp:lastModifiedBy>
  <dcterms:modified xsi:type="dcterms:W3CDTF">2016-02-23T03:14:03Z</dcterms:modified>
  <cp:revision>26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7</vt:r8>
  </property>
  <property fmtid="{D5CDD505-2E9C-101B-9397-08002B2CF9AE}" pid="3" name="PresentationFormat">
    <vt:lpwstr>宽屏</vt:lpwstr>
  </property>
  <property fmtid="{D5CDD505-2E9C-101B-9397-08002B2CF9AE}" pid="4" name="Slides">
    <vt:r8>20</vt:r8>
  </property>
</Properties>
</file>