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182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9400" y="4130640"/>
            <a:ext cx="182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940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756684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247880" y="198108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866360" y="198108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29400" y="413064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7247880" y="413064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866360" y="413064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6294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62940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6294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6684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29400" y="4130640"/>
            <a:ext cx="182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182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29400" y="4130640"/>
            <a:ext cx="182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2940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756684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47880" y="198108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866360" y="198108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29400" y="413064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7247880" y="413064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7866360" y="4130640"/>
            <a:ext cx="58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62940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66840" y="413064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566840" y="1981080"/>
            <a:ext cx="892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9400" y="4130640"/>
            <a:ext cx="182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6294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321840" indent="-119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49788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67392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6294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321840" indent="-119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49788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67392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7621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我是酷猫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78" name="眼镜猫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476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7360" y="6399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96160" y="189000"/>
            <a:ext cx="40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微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251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路标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6" name="你的位置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972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90512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安全第一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9" name="安全第一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67816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63120" y="-928080"/>
            <a:ext cx="380880" cy="87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9400" y="1981080"/>
            <a:ext cx="9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标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2" name="人标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01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52578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朋友就是朋友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5" name="pic11478" descr=""/>
          <p:cNvPicPr/>
          <p:nvPr/>
        </p:nvPicPr>
        <p:blipFill>
          <a:blip r:embed="rId1"/>
          <a:srcRect l="0" t="19662" r="17302" b="55763"/>
          <a:stretch/>
        </p:blipFill>
        <p:spPr>
          <a:xfrm>
            <a:off x="304920" y="304920"/>
            <a:ext cx="3276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11478" descr=""/>
          <p:cNvPicPr/>
          <p:nvPr/>
        </p:nvPicPr>
        <p:blipFill>
          <a:blip r:embed="rId2"/>
          <a:srcRect l="0" t="43011" r="0" b="32414"/>
          <a:stretch/>
        </p:blipFill>
        <p:spPr>
          <a:xfrm>
            <a:off x="3276720" y="1066680"/>
            <a:ext cx="4114800" cy="3710160"/>
          </a:xfrm>
          <a:prstGeom prst="rect">
            <a:avLst/>
          </a:prstGeom>
          <a:ln w="0">
            <a:noFill/>
          </a:ln>
        </p:spPr>
      </p:pic>
      <p:pic>
        <p:nvPicPr>
          <p:cNvPr id="117" name="pic11478" descr=""/>
          <p:cNvPicPr/>
          <p:nvPr/>
        </p:nvPicPr>
        <p:blipFill>
          <a:blip r:embed="rId3"/>
          <a:srcRect l="0" t="67592" r="28261" b="10290"/>
          <a:stretch/>
        </p:blipFill>
        <p:spPr>
          <a:xfrm>
            <a:off x="5181480" y="3505320"/>
            <a:ext cx="3581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3316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190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花样游泳的猪儿们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20" name="猪儿也花样游泳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05520" y="50288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痛下决心要减肥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23" name="减肥猪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1088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新一代健康食品——改良型的蔬菜猪：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26" name="改良猪" descr=""/>
          <p:cNvPicPr/>
          <p:nvPr/>
        </p:nvPicPr>
        <p:blipFill>
          <a:blip r:embed="rId1"/>
          <a:srcRect l="0" t="0" r="0" b="9871"/>
          <a:stretch/>
        </p:blipFill>
        <p:spPr>
          <a:xfrm>
            <a:off x="1143000" y="1905120"/>
            <a:ext cx="430704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72200" y="182880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幼圆"/>
              </a:rPr>
              <a:t>无脂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幼圆"/>
              </a:rPr>
              <a:t>高纤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幼圆"/>
              </a:rPr>
              <a:t>富含维生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上学去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30" name="树熊_上学去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43434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1676160"/>
            <a:ext cx="441936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77320" y="1828800"/>
            <a:ext cx="83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小心路滑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33" name="小心路滑" descr=""/>
          <p:cNvPicPr/>
          <p:nvPr/>
        </p:nvPicPr>
        <p:blipFill>
          <a:blip r:embed="rId1"/>
          <a:stretch/>
        </p:blipFill>
        <p:spPr>
          <a:xfrm>
            <a:off x="657360" y="909720"/>
            <a:ext cx="7238880" cy="514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06640" y="504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7120" y="4100040"/>
            <a:ext cx="18288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看完这些可爱的漫画后，是否为您紧张疲惫的工作带来了一丝轻松和笑意？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让我们将微笑进行到老！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37" name="微笑到老" descr=""/>
          <p:cNvPicPr/>
          <p:nvPr/>
        </p:nvPicPr>
        <p:blipFill>
          <a:blip r:embed="rId1"/>
          <a:stretch/>
        </p:blipFill>
        <p:spPr>
          <a:xfrm>
            <a:off x="4273560" y="1905120"/>
            <a:ext cx="405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7621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我是酷猫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3" name="眼镜猫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33960" y="4038120"/>
            <a:ext cx="1904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看着我，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我才是老大！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6" name="我才是老大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79240"/>
            <a:ext cx="91440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5000" y="18288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关键是如何看待自已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9" name="关键是如何看自已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4448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4952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有新鲜热“狗”卖哟……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2" name="热狗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248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905120"/>
            <a:ext cx="388620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62920" y="1066320"/>
            <a:ext cx="838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这个更新鲜！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5" name="热狗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715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3920" y="1447920"/>
            <a:ext cx="221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乘凉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8" name="乘凉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419256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4320" y="5060160"/>
            <a:ext cx="1219320" cy="26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57150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狗儿洗完澡后湿漉漉，就这样晾干了。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1" name="排排晾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383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f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上班族的一周心情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38224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5:47:1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9:32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