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8C9-6DB5-428D-8F80-F7DA944D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C5F-80B5-4227-9A8D-DCF76BDF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0FC-518B-4567-B03D-B1621BAB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4D6-B733-4A94-B1CD-D920AB85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9B7-9D3E-4B74-8BAE-DB010D95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C91-DBA2-4421-99F5-4BA32362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61E-5C28-42AD-99B1-B2BD7F23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8F0-68E0-4F00-BB39-57DD7B88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F8E-C01F-4F64-B2D9-B2AA94C2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ED1-FD3F-4C8D-B36F-964465E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F86-99F9-4320-BF8B-E4C02695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095-B83D-470D-B301-D165F47F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F041F2-D8DA-4803-9EC7-BDBBD3B1582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14_页面_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1982520" y="3575880"/>
            <a:ext cx="5177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有效工作通用</a:t>
            </a:r>
            <a:r>
              <a:rPr b="1" i="1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14_页面_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14_页面_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14_页面_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14_页面_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14_页面_6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72760" y="617976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</TotalTime>
  <Application>LibreOffice/7.4.7.2$Linux_X86_64 LibreOffice_project/40$Build-2</Application>
  <AppVersion>15.0000</AppVersion>
  <Words>28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4T16:15:05Z</dcterms:created>
  <dc:creator>www.pptbz.com</dc:creator>
  <dc:description/>
  <dc:language>en-US</dc:language>
  <cp:lastModifiedBy>王玉清</cp:lastModifiedBy>
  <dcterms:modified xsi:type="dcterms:W3CDTF">2016-03-06T04:35:24Z</dcterms:modified>
  <cp:revision>4</cp:revision>
  <dc:subject/>
  <dc:title>相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