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2E4-5E39-4EA7-BCC6-79B0EDD8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A28-1006-462D-952B-E5B22E5C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98F-2C66-4F55-8C65-BA8C1600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D5C-77C8-4498-870E-28090897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30A6-2A1D-4C88-ABC1-F5D83247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B194-9F13-47E0-ABC8-A7005F59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1C18-67DC-4198-9758-75A12FC3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5C63-BD3D-4E2F-99DC-886B4EE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BCC-7C8F-4C8F-9968-35BBB672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07D-19B6-4548-8998-49D24D00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12EB-DBBB-499E-8F0E-B7593941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FC1-97A2-4314-AB1F-2882FC0B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5561-8DB9-4AEA-8881-0042FFA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6810-5281-41B1-B1E1-D0521D7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1079-1D2C-4B5E-AE6B-ABC3A5FD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042-0EA6-4EEB-939D-B8CF0F3E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B87-586B-415D-9F17-C5DE6A5C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011C-A345-4748-9734-5F29D2B2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3CB5-8472-4C56-BE66-53CC79C9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8FDD-B6B3-44C5-A9D7-0E09AC29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F8BD-5176-4E50-A23D-9146FCF4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B765-2FD7-4E22-A246-3A9D7886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8FB-25AD-4B90-B685-17788F51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FE91-F1E4-4933-BC88-E760F1EA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BFCC-96C7-4226-83F3-072B8F1B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5E41-0F88-49C6-9120-35161C6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1E0F-7DC4-4A02-B575-F64D287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558C-6B26-42B1-A998-4EE6D7DB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D0ACC-6628-4BF9-A08D-7B1D0B64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1029-E112-42BE-B239-1B3F1291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14C-93A4-46BD-80FC-DD267D9C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B83-B0CE-4BFC-8F74-35D8F38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7F8-E872-409C-8671-C7AD7A3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37F-7723-44F7-B24F-10275E78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C65-ACA5-4ABC-AD65-8CBD721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23A-4992-4798-BC21-F6ADBFF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hesea"/>
          <p:cNvPicPr/>
          <p:nvPr/>
        </p:nvPicPr>
        <p:blipFill>
          <a:blip r:embed="rId2"/>
          <a:srcRect l="3126" t="299" r="3126" b="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D6BF-2250-45B4-97BF-6D6DAA617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1085-000E-466A-8092-866D5C50B6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thesea"/>
          <p:cNvPicPr/>
          <p:nvPr/>
        </p:nvPicPr>
        <p:blipFill>
          <a:blip r:embed="rId2"/>
          <a:srcRect l="3126" t="299" r="3126" b="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D129-E96B-4D5D-9FB2-3DDD75801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8"/>
          <p:cNvSpPr/>
          <p:nvPr/>
        </p:nvSpPr>
        <p:spPr>
          <a:xfrm>
            <a:off x="1116000" y="1123920"/>
            <a:ext cx="6840720" cy="505296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6686640" y="5584680"/>
            <a:ext cx="247680" cy="50508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7030a0"/>
          </a:solidFill>
          <a:ln w="76320">
            <a:solidFill>
              <a:srgbClr val="ffff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7"/>
          <p:cNvGrpSpPr/>
          <p:nvPr/>
        </p:nvGrpSpPr>
        <p:grpSpPr>
          <a:xfrm>
            <a:off x="1116000" y="1125360"/>
            <a:ext cx="6840720" cy="5616720"/>
            <a:chOff x="1116000" y="1125360"/>
            <a:chExt cx="6840720" cy="5616720"/>
          </a:xfrm>
        </p:grpSpPr>
        <p:sp>
          <p:nvSpPr>
            <p:cNvPr id="128" name="Freeform 7"/>
            <p:cNvSpPr/>
            <p:nvPr/>
          </p:nvSpPr>
          <p:spPr>
            <a:xfrm>
              <a:off x="1116000" y="1125360"/>
              <a:ext cx="6840720" cy="5053680"/>
            </a:xfrm>
            <a:custGeom>
              <a:avLst/>
              <a:gdLst/>
              <a:ahLst/>
              <a:rect l="l" t="t" r="r" b="b"/>
              <a:pathLst>
                <a:path w="3583" h="2647">
                  <a:moveTo>
                    <a:pt x="3357" y="473"/>
                  </a:moveTo>
                  <a:lnTo>
                    <a:pt x="3357" y="473"/>
                  </a:lnTo>
                  <a:lnTo>
                    <a:pt x="3319" y="393"/>
                  </a:lnTo>
                  <a:lnTo>
                    <a:pt x="3168" y="353"/>
                  </a:lnTo>
                  <a:lnTo>
                    <a:pt x="2987" y="0"/>
                  </a:lnTo>
                  <a:lnTo>
                    <a:pt x="2814" y="0"/>
                  </a:lnTo>
                  <a:lnTo>
                    <a:pt x="2761" y="96"/>
                  </a:lnTo>
                  <a:lnTo>
                    <a:pt x="2648" y="313"/>
                  </a:lnTo>
                  <a:lnTo>
                    <a:pt x="2535" y="313"/>
                  </a:lnTo>
                  <a:lnTo>
                    <a:pt x="2519" y="353"/>
                  </a:lnTo>
                  <a:lnTo>
                    <a:pt x="2519" y="361"/>
                  </a:lnTo>
                  <a:lnTo>
                    <a:pt x="2527" y="361"/>
                  </a:lnTo>
                  <a:lnTo>
                    <a:pt x="2535" y="361"/>
                  </a:lnTo>
                  <a:lnTo>
                    <a:pt x="2535" y="369"/>
                  </a:lnTo>
                  <a:lnTo>
                    <a:pt x="2542" y="369"/>
                  </a:lnTo>
                  <a:lnTo>
                    <a:pt x="2550" y="369"/>
                  </a:lnTo>
                  <a:lnTo>
                    <a:pt x="2550" y="377"/>
                  </a:lnTo>
                  <a:lnTo>
                    <a:pt x="2557" y="377"/>
                  </a:lnTo>
                  <a:lnTo>
                    <a:pt x="2550" y="377"/>
                  </a:lnTo>
                  <a:lnTo>
                    <a:pt x="2550" y="369"/>
                  </a:lnTo>
                  <a:lnTo>
                    <a:pt x="2542" y="369"/>
                  </a:lnTo>
                  <a:lnTo>
                    <a:pt x="2535" y="369"/>
                  </a:lnTo>
                  <a:lnTo>
                    <a:pt x="2535" y="361"/>
                  </a:lnTo>
                  <a:lnTo>
                    <a:pt x="2527" y="361"/>
                  </a:lnTo>
                  <a:lnTo>
                    <a:pt x="2519" y="361"/>
                  </a:lnTo>
                  <a:lnTo>
                    <a:pt x="2519" y="353"/>
                  </a:lnTo>
                  <a:lnTo>
                    <a:pt x="2482" y="433"/>
                  </a:lnTo>
                  <a:lnTo>
                    <a:pt x="2482" y="529"/>
                  </a:lnTo>
                  <a:lnTo>
                    <a:pt x="2648" y="553"/>
                  </a:lnTo>
                  <a:lnTo>
                    <a:pt x="2685" y="634"/>
                  </a:lnTo>
                  <a:lnTo>
                    <a:pt x="2519" y="690"/>
                  </a:lnTo>
                  <a:lnTo>
                    <a:pt x="2384" y="754"/>
                  </a:lnTo>
                  <a:lnTo>
                    <a:pt x="2255" y="810"/>
                  </a:lnTo>
                  <a:lnTo>
                    <a:pt x="2218" y="947"/>
                  </a:lnTo>
                  <a:lnTo>
                    <a:pt x="2014" y="971"/>
                  </a:lnTo>
                  <a:lnTo>
                    <a:pt x="1810" y="1107"/>
                  </a:lnTo>
                  <a:lnTo>
                    <a:pt x="1622" y="1011"/>
                  </a:lnTo>
                  <a:lnTo>
                    <a:pt x="1395" y="987"/>
                  </a:lnTo>
                  <a:lnTo>
                    <a:pt x="1230" y="810"/>
                  </a:lnTo>
                  <a:lnTo>
                    <a:pt x="988" y="730"/>
                  </a:lnTo>
                  <a:lnTo>
                    <a:pt x="966" y="529"/>
                  </a:lnTo>
                  <a:lnTo>
                    <a:pt x="837" y="457"/>
                  </a:lnTo>
                  <a:lnTo>
                    <a:pt x="822" y="433"/>
                  </a:lnTo>
                  <a:lnTo>
                    <a:pt x="784" y="457"/>
                  </a:lnTo>
                  <a:lnTo>
                    <a:pt x="724" y="473"/>
                  </a:lnTo>
                  <a:lnTo>
                    <a:pt x="686" y="594"/>
                  </a:lnTo>
                  <a:lnTo>
                    <a:pt x="536" y="570"/>
                  </a:lnTo>
                  <a:lnTo>
                    <a:pt x="498" y="770"/>
                  </a:lnTo>
                  <a:lnTo>
                    <a:pt x="370" y="794"/>
                  </a:lnTo>
                  <a:lnTo>
                    <a:pt x="332" y="1027"/>
                  </a:lnTo>
                  <a:lnTo>
                    <a:pt x="256" y="1107"/>
                  </a:lnTo>
                  <a:lnTo>
                    <a:pt x="166" y="1187"/>
                  </a:lnTo>
                  <a:lnTo>
                    <a:pt x="15" y="1227"/>
                  </a:lnTo>
                  <a:lnTo>
                    <a:pt x="0" y="1307"/>
                  </a:lnTo>
                  <a:lnTo>
                    <a:pt x="38" y="1340"/>
                  </a:lnTo>
                  <a:lnTo>
                    <a:pt x="53" y="1404"/>
                  </a:lnTo>
                  <a:lnTo>
                    <a:pt x="15" y="1420"/>
                  </a:lnTo>
                  <a:lnTo>
                    <a:pt x="53" y="1460"/>
                  </a:lnTo>
                  <a:lnTo>
                    <a:pt x="113" y="1484"/>
                  </a:lnTo>
                  <a:lnTo>
                    <a:pt x="166" y="1564"/>
                  </a:lnTo>
                  <a:lnTo>
                    <a:pt x="241" y="1564"/>
                  </a:lnTo>
                  <a:lnTo>
                    <a:pt x="355" y="1564"/>
                  </a:lnTo>
                  <a:lnTo>
                    <a:pt x="370" y="1596"/>
                  </a:lnTo>
                  <a:lnTo>
                    <a:pt x="294" y="1717"/>
                  </a:lnTo>
                  <a:lnTo>
                    <a:pt x="317" y="1781"/>
                  </a:lnTo>
                  <a:lnTo>
                    <a:pt x="279" y="1837"/>
                  </a:lnTo>
                  <a:lnTo>
                    <a:pt x="317" y="1917"/>
                  </a:lnTo>
                  <a:lnTo>
                    <a:pt x="407" y="1957"/>
                  </a:lnTo>
                  <a:lnTo>
                    <a:pt x="392" y="1973"/>
                  </a:lnTo>
                  <a:lnTo>
                    <a:pt x="430" y="1973"/>
                  </a:lnTo>
                  <a:lnTo>
                    <a:pt x="558" y="2037"/>
                  </a:lnTo>
                  <a:lnTo>
                    <a:pt x="671" y="2094"/>
                  </a:lnTo>
                  <a:lnTo>
                    <a:pt x="784" y="2118"/>
                  </a:lnTo>
                  <a:lnTo>
                    <a:pt x="822" y="2150"/>
                  </a:lnTo>
                  <a:lnTo>
                    <a:pt x="852" y="2150"/>
                  </a:lnTo>
                  <a:lnTo>
                    <a:pt x="913" y="2190"/>
                  </a:lnTo>
                  <a:lnTo>
                    <a:pt x="988" y="2190"/>
                  </a:lnTo>
                  <a:lnTo>
                    <a:pt x="1064" y="2190"/>
                  </a:lnTo>
                  <a:lnTo>
                    <a:pt x="1116" y="2118"/>
                  </a:lnTo>
                  <a:lnTo>
                    <a:pt x="1192" y="2053"/>
                  </a:lnTo>
                  <a:lnTo>
                    <a:pt x="1282" y="2053"/>
                  </a:lnTo>
                  <a:lnTo>
                    <a:pt x="1358" y="2118"/>
                  </a:lnTo>
                  <a:lnTo>
                    <a:pt x="1395" y="2118"/>
                  </a:lnTo>
                  <a:lnTo>
                    <a:pt x="1433" y="2134"/>
                  </a:lnTo>
                  <a:lnTo>
                    <a:pt x="1456" y="2230"/>
                  </a:lnTo>
                  <a:lnTo>
                    <a:pt x="1418" y="2350"/>
                  </a:lnTo>
                  <a:lnTo>
                    <a:pt x="1418" y="2390"/>
                  </a:lnTo>
                  <a:lnTo>
                    <a:pt x="1471" y="2406"/>
                  </a:lnTo>
                  <a:lnTo>
                    <a:pt x="1509" y="2471"/>
                  </a:lnTo>
                  <a:lnTo>
                    <a:pt x="1509" y="2511"/>
                  </a:lnTo>
                  <a:lnTo>
                    <a:pt x="1599" y="2551"/>
                  </a:lnTo>
                  <a:lnTo>
                    <a:pt x="1584" y="2567"/>
                  </a:lnTo>
                  <a:lnTo>
                    <a:pt x="1675" y="2551"/>
                  </a:lnTo>
                  <a:lnTo>
                    <a:pt x="1697" y="2471"/>
                  </a:lnTo>
                  <a:lnTo>
                    <a:pt x="1886" y="2471"/>
                  </a:lnTo>
                  <a:lnTo>
                    <a:pt x="1954" y="2527"/>
                  </a:lnTo>
                  <a:lnTo>
                    <a:pt x="1976" y="2591"/>
                  </a:lnTo>
                  <a:lnTo>
                    <a:pt x="2014" y="2567"/>
                  </a:lnTo>
                  <a:lnTo>
                    <a:pt x="2142" y="2647"/>
                  </a:lnTo>
                  <a:lnTo>
                    <a:pt x="2142" y="2591"/>
                  </a:lnTo>
                  <a:lnTo>
                    <a:pt x="2293" y="2527"/>
                  </a:lnTo>
                  <a:lnTo>
                    <a:pt x="2308" y="2511"/>
                  </a:lnTo>
                  <a:lnTo>
                    <a:pt x="2346" y="2487"/>
                  </a:lnTo>
                  <a:lnTo>
                    <a:pt x="2384" y="2511"/>
                  </a:lnTo>
                  <a:lnTo>
                    <a:pt x="2459" y="2471"/>
                  </a:lnTo>
                  <a:lnTo>
                    <a:pt x="2557" y="2406"/>
                  </a:lnTo>
                  <a:lnTo>
                    <a:pt x="2648" y="2334"/>
                  </a:lnTo>
                  <a:lnTo>
                    <a:pt x="2685" y="2254"/>
                  </a:lnTo>
                  <a:lnTo>
                    <a:pt x="2738" y="2174"/>
                  </a:lnTo>
                  <a:lnTo>
                    <a:pt x="2799" y="2053"/>
                  </a:lnTo>
                  <a:lnTo>
                    <a:pt x="2799" y="1997"/>
                  </a:lnTo>
                  <a:lnTo>
                    <a:pt x="2776" y="1957"/>
                  </a:lnTo>
                  <a:lnTo>
                    <a:pt x="2799" y="1893"/>
                  </a:lnTo>
                  <a:lnTo>
                    <a:pt x="2776" y="1821"/>
                  </a:lnTo>
                  <a:lnTo>
                    <a:pt x="2685" y="1620"/>
                  </a:lnTo>
                  <a:lnTo>
                    <a:pt x="2700" y="1596"/>
                  </a:lnTo>
                  <a:lnTo>
                    <a:pt x="2776" y="1500"/>
                  </a:lnTo>
                  <a:lnTo>
                    <a:pt x="2836" y="1484"/>
                  </a:lnTo>
                  <a:lnTo>
                    <a:pt x="2844" y="1476"/>
                  </a:lnTo>
                  <a:lnTo>
                    <a:pt x="2844" y="1460"/>
                  </a:lnTo>
                  <a:lnTo>
                    <a:pt x="2836" y="1444"/>
                  </a:lnTo>
                  <a:lnTo>
                    <a:pt x="2738" y="1420"/>
                  </a:lnTo>
                  <a:lnTo>
                    <a:pt x="2685" y="1444"/>
                  </a:lnTo>
                  <a:lnTo>
                    <a:pt x="2648" y="1420"/>
                  </a:lnTo>
                  <a:lnTo>
                    <a:pt x="2610" y="1364"/>
                  </a:lnTo>
                  <a:lnTo>
                    <a:pt x="2572" y="1324"/>
                  </a:lnTo>
                  <a:lnTo>
                    <a:pt x="2663" y="1283"/>
                  </a:lnTo>
                  <a:lnTo>
                    <a:pt x="2723" y="1227"/>
                  </a:lnTo>
                  <a:lnTo>
                    <a:pt x="2814" y="1163"/>
                  </a:lnTo>
                  <a:lnTo>
                    <a:pt x="2851" y="1163"/>
                  </a:lnTo>
                  <a:lnTo>
                    <a:pt x="2799" y="1243"/>
                  </a:lnTo>
                  <a:lnTo>
                    <a:pt x="2836" y="1283"/>
                  </a:lnTo>
                  <a:lnTo>
                    <a:pt x="2874" y="1267"/>
                  </a:lnTo>
                  <a:lnTo>
                    <a:pt x="2964" y="1227"/>
                  </a:lnTo>
                  <a:lnTo>
                    <a:pt x="2987" y="1139"/>
                  </a:lnTo>
                  <a:lnTo>
                    <a:pt x="3040" y="1091"/>
                  </a:lnTo>
                  <a:lnTo>
                    <a:pt x="3093" y="1131"/>
                  </a:lnTo>
                  <a:lnTo>
                    <a:pt x="3085" y="1051"/>
                  </a:lnTo>
                  <a:lnTo>
                    <a:pt x="3161" y="1003"/>
                  </a:lnTo>
                  <a:lnTo>
                    <a:pt x="3259" y="1019"/>
                  </a:lnTo>
                  <a:lnTo>
                    <a:pt x="3304" y="987"/>
                  </a:lnTo>
                  <a:lnTo>
                    <a:pt x="3357" y="1011"/>
                  </a:lnTo>
                  <a:lnTo>
                    <a:pt x="3394" y="794"/>
                  </a:lnTo>
                  <a:lnTo>
                    <a:pt x="3485" y="770"/>
                  </a:lnTo>
                  <a:lnTo>
                    <a:pt x="3583" y="473"/>
                  </a:lnTo>
                  <a:lnTo>
                    <a:pt x="3357" y="473"/>
                  </a:lnTo>
                  <a:close/>
                </a:path>
              </a:pathLst>
            </a:custGeom>
            <a:solidFill>
              <a:srgbClr val="00a0c6"/>
            </a:solidFill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"/>
            <p:cNvSpPr/>
            <p:nvPr/>
          </p:nvSpPr>
          <p:spPr>
            <a:xfrm>
              <a:off x="5148360" y="6434280"/>
              <a:ext cx="343440" cy="307800"/>
            </a:xfrm>
            <a:custGeom>
              <a:avLst/>
              <a:gdLst/>
              <a:ahLst/>
              <a:rect l="l" t="t" r="r" b="b"/>
              <a:pathLst>
                <a:path w="343458" h="307774">
                  <a:moveTo>
                    <a:pt x="0" y="218564"/>
                  </a:moveTo>
                  <a:lnTo>
                    <a:pt x="35684" y="107052"/>
                  </a:lnTo>
                  <a:lnTo>
                    <a:pt x="124894" y="57986"/>
                  </a:lnTo>
                  <a:lnTo>
                    <a:pt x="147196" y="26763"/>
                  </a:lnTo>
                  <a:lnTo>
                    <a:pt x="285471" y="22303"/>
                  </a:lnTo>
                  <a:lnTo>
                    <a:pt x="312234" y="0"/>
                  </a:lnTo>
                  <a:lnTo>
                    <a:pt x="338997" y="40145"/>
                  </a:lnTo>
                  <a:lnTo>
                    <a:pt x="343458" y="89210"/>
                  </a:lnTo>
                  <a:lnTo>
                    <a:pt x="298853" y="107052"/>
                  </a:lnTo>
                  <a:lnTo>
                    <a:pt x="307774" y="173959"/>
                  </a:lnTo>
                  <a:lnTo>
                    <a:pt x="156117" y="307774"/>
                  </a:lnTo>
                  <a:lnTo>
                    <a:pt x="31223" y="263169"/>
                  </a:lnTo>
                  <a:lnTo>
                    <a:pt x="0" y="218564"/>
                  </a:lnTo>
                  <a:close/>
                </a:path>
              </a:pathLst>
            </a:custGeom>
            <a:solidFill>
              <a:srgbClr val="00a0c6"/>
            </a:solidFill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148360" y="6434280"/>
              <a:ext cx="343440" cy="307800"/>
            </a:xfrm>
            <a:custGeom>
              <a:avLst/>
              <a:gdLst/>
              <a:ahLst/>
              <a:rect l="l" t="t" r="r" b="b"/>
              <a:pathLst>
                <a:path w="343458" h="307774">
                  <a:moveTo>
                    <a:pt x="0" y="218564"/>
                  </a:moveTo>
                  <a:lnTo>
                    <a:pt x="35684" y="107052"/>
                  </a:lnTo>
                  <a:lnTo>
                    <a:pt x="124894" y="57986"/>
                  </a:lnTo>
                  <a:lnTo>
                    <a:pt x="147196" y="26763"/>
                  </a:lnTo>
                  <a:lnTo>
                    <a:pt x="285471" y="22303"/>
                  </a:lnTo>
                  <a:lnTo>
                    <a:pt x="312234" y="0"/>
                  </a:lnTo>
                  <a:lnTo>
                    <a:pt x="338997" y="40145"/>
                  </a:lnTo>
                  <a:lnTo>
                    <a:pt x="343458" y="89210"/>
                  </a:lnTo>
                  <a:lnTo>
                    <a:pt x="298853" y="107052"/>
                  </a:lnTo>
                  <a:lnTo>
                    <a:pt x="307774" y="173959"/>
                  </a:lnTo>
                  <a:lnTo>
                    <a:pt x="156117" y="307774"/>
                  </a:lnTo>
                  <a:lnTo>
                    <a:pt x="31223" y="263169"/>
                  </a:lnTo>
                  <a:lnTo>
                    <a:pt x="0" y="218564"/>
                  </a:lnTo>
                  <a:close/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5"/>
          <p:cNvSpPr/>
          <p:nvPr/>
        </p:nvSpPr>
        <p:spPr>
          <a:xfrm>
            <a:off x="6700680" y="5587920"/>
            <a:ext cx="247680" cy="50508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9" descr="red"/>
          <p:cNvPicPr/>
          <p:nvPr/>
        </p:nvPicPr>
        <p:blipFill>
          <a:blip r:embed="rId1"/>
          <a:stretch/>
        </p:blipFill>
        <p:spPr>
          <a:xfrm>
            <a:off x="5148360" y="2852640"/>
            <a:ext cx="888840" cy="72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green"/>
          <p:cNvPicPr/>
          <p:nvPr/>
        </p:nvPicPr>
        <p:blipFill>
          <a:blip r:embed="rId2"/>
          <a:stretch/>
        </p:blipFill>
        <p:spPr>
          <a:xfrm>
            <a:off x="5651640" y="3357720"/>
            <a:ext cx="888840" cy="722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purple"/>
          <p:cNvPicPr/>
          <p:nvPr/>
        </p:nvPicPr>
        <p:blipFill>
          <a:blip r:embed="rId3"/>
          <a:stretch/>
        </p:blipFill>
        <p:spPr>
          <a:xfrm>
            <a:off x="4643280" y="5157720"/>
            <a:ext cx="889200" cy="722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3708360" y="191772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6516720" y="393372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ngha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564000" y="422100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angzh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2494080" y="602136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in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996240" y="5518080"/>
            <a:ext cx="2016000" cy="762120"/>
          </a:xfrm>
          <a:prstGeom prst="rect">
            <a:avLst/>
          </a:prstGeom>
          <a:solidFill>
            <a:srgbClr val="7030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aiw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4" descr="black"/>
          <p:cNvPicPr/>
          <p:nvPr/>
        </p:nvPicPr>
        <p:blipFill>
          <a:blip r:embed="rId4"/>
          <a:stretch/>
        </p:blipFill>
        <p:spPr>
          <a:xfrm>
            <a:off x="6108840" y="5143680"/>
            <a:ext cx="88740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yellow"/>
          <p:cNvPicPr/>
          <p:nvPr/>
        </p:nvPicPr>
        <p:blipFill>
          <a:blip r:embed="rId5"/>
          <a:stretch/>
        </p:blipFill>
        <p:spPr>
          <a:xfrm>
            <a:off x="4572000" y="5919840"/>
            <a:ext cx="887400" cy="72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684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中国地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8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4"/>
          <p:cNvSpPr/>
          <p:nvPr/>
        </p:nvSpPr>
        <p:spPr>
          <a:xfrm flipH="1" flipV="1" rot="19749000">
            <a:off x="2084400" y="1547640"/>
            <a:ext cx="5214600" cy="5214960"/>
          </a:xfrm>
          <a:prstGeom prst="ellipse">
            <a:avLst/>
          </a:prstGeom>
          <a:gradFill rotWithShape="0">
            <a:gsLst>
              <a:gs pos="0">
                <a:srgbClr val="1e73c0"/>
              </a:gs>
              <a:gs pos="100000">
                <a:srgbClr val="0e3d67"/>
              </a:gs>
            </a:gsLst>
            <a:lin ang="9954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in 3d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179800" y="2565360"/>
            <a:ext cx="4319280" cy="319248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solidFill>
            <a:srgbClr val="a9c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 rot="20637000">
            <a:off x="2377800" y="1922040"/>
            <a:ext cx="2490840" cy="1625760"/>
          </a:xfrm>
          <a:custGeom>
            <a:avLst/>
            <a:gdLst/>
            <a:ahLst/>
            <a:rect l="l" t="t" r="r" b="b"/>
            <a:pathLst>
              <a:path w="1569" h="1024">
                <a:moveTo>
                  <a:pt x="755" y="572"/>
                </a:moveTo>
                <a:cubicBezTo>
                  <a:pt x="148" y="862"/>
                  <a:pt x="136" y="1024"/>
                  <a:pt x="68" y="886"/>
                </a:cubicBezTo>
                <a:cubicBezTo>
                  <a:pt x="0" y="747"/>
                  <a:pt x="280" y="381"/>
                  <a:pt x="637" y="218"/>
                </a:cubicBezTo>
                <a:cubicBezTo>
                  <a:pt x="994" y="55"/>
                  <a:pt x="1424" y="0"/>
                  <a:pt x="1496" y="160"/>
                </a:cubicBezTo>
                <a:cubicBezTo>
                  <a:pt x="1569" y="321"/>
                  <a:pt x="1361" y="283"/>
                  <a:pt x="755" y="572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ff">
                  <a:alpha val="0"/>
                </a:srgbClr>
              </a:gs>
            </a:gsLst>
            <a:lin ang="63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"/>
          <p:cNvSpPr/>
          <p:nvPr/>
        </p:nvSpPr>
        <p:spPr>
          <a:xfrm>
            <a:off x="4716360" y="6024600"/>
            <a:ext cx="236520" cy="212760"/>
          </a:xfrm>
          <a:custGeom>
            <a:avLst/>
            <a:gdLst/>
            <a:ahLst/>
            <a:rect l="l" t="t" r="r" b="b"/>
            <a:pathLst>
              <a:path w="343458" h="307774">
                <a:moveTo>
                  <a:pt x="0" y="218564"/>
                </a:moveTo>
                <a:lnTo>
                  <a:pt x="35684" y="107052"/>
                </a:lnTo>
                <a:lnTo>
                  <a:pt x="124894" y="57986"/>
                </a:lnTo>
                <a:lnTo>
                  <a:pt x="147196" y="26763"/>
                </a:lnTo>
                <a:lnTo>
                  <a:pt x="285471" y="22303"/>
                </a:lnTo>
                <a:lnTo>
                  <a:pt x="312234" y="0"/>
                </a:lnTo>
                <a:lnTo>
                  <a:pt x="338997" y="40145"/>
                </a:lnTo>
                <a:lnTo>
                  <a:pt x="343458" y="89210"/>
                </a:lnTo>
                <a:lnTo>
                  <a:pt x="298853" y="107052"/>
                </a:lnTo>
                <a:lnTo>
                  <a:pt x="307774" y="173959"/>
                </a:lnTo>
                <a:lnTo>
                  <a:pt x="156117" y="307774"/>
                </a:lnTo>
                <a:lnTo>
                  <a:pt x="31223" y="263169"/>
                </a:lnTo>
                <a:lnTo>
                  <a:pt x="0" y="218564"/>
                </a:lnTo>
                <a:close/>
              </a:path>
            </a:pathLst>
          </a:custGeom>
          <a:solidFill>
            <a:srgbClr val="a9cde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5697360" y="5407200"/>
            <a:ext cx="169920" cy="34920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a9c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it your own colou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1979640" y="1773360"/>
            <a:ext cx="5688000" cy="420192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solidFill>
            <a:srgbClr val="ff40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5338800" y="6021360"/>
            <a:ext cx="312840" cy="281160"/>
          </a:xfrm>
          <a:custGeom>
            <a:avLst/>
            <a:gdLst/>
            <a:ahLst/>
            <a:rect l="l" t="t" r="r" b="b"/>
            <a:pathLst>
              <a:path w="343458" h="307774">
                <a:moveTo>
                  <a:pt x="0" y="218564"/>
                </a:moveTo>
                <a:lnTo>
                  <a:pt x="35684" y="107052"/>
                </a:lnTo>
                <a:lnTo>
                  <a:pt x="124894" y="57986"/>
                </a:lnTo>
                <a:lnTo>
                  <a:pt x="147196" y="26763"/>
                </a:lnTo>
                <a:lnTo>
                  <a:pt x="285471" y="22303"/>
                </a:lnTo>
                <a:lnTo>
                  <a:pt x="312234" y="0"/>
                </a:lnTo>
                <a:lnTo>
                  <a:pt x="338997" y="40145"/>
                </a:lnTo>
                <a:lnTo>
                  <a:pt x="343458" y="89210"/>
                </a:lnTo>
                <a:lnTo>
                  <a:pt x="298853" y="107052"/>
                </a:lnTo>
                <a:lnTo>
                  <a:pt x="307774" y="173959"/>
                </a:lnTo>
                <a:lnTo>
                  <a:pt x="156117" y="307774"/>
                </a:lnTo>
                <a:lnTo>
                  <a:pt x="31223" y="263169"/>
                </a:lnTo>
                <a:lnTo>
                  <a:pt x="0" y="218564"/>
                </a:lnTo>
                <a:close/>
              </a:path>
            </a:pathLst>
          </a:custGeom>
          <a:solidFill>
            <a:srgbClr val="ff40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6580080" y="5373720"/>
            <a:ext cx="223920" cy="45864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c000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vector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1979640" y="1773360"/>
            <a:ext cx="5688000" cy="420192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5338800" y="6021360"/>
            <a:ext cx="312840" cy="281160"/>
          </a:xfrm>
          <a:custGeom>
            <a:avLst/>
            <a:gdLst/>
            <a:ahLst/>
            <a:rect l="l" t="t" r="r" b="b"/>
            <a:pathLst>
              <a:path w="343458" h="307774">
                <a:moveTo>
                  <a:pt x="0" y="218564"/>
                </a:moveTo>
                <a:lnTo>
                  <a:pt x="35684" y="107052"/>
                </a:lnTo>
                <a:lnTo>
                  <a:pt x="124894" y="57986"/>
                </a:lnTo>
                <a:lnTo>
                  <a:pt x="147196" y="26763"/>
                </a:lnTo>
                <a:lnTo>
                  <a:pt x="285471" y="22303"/>
                </a:lnTo>
                <a:lnTo>
                  <a:pt x="312234" y="0"/>
                </a:lnTo>
                <a:lnTo>
                  <a:pt x="338997" y="40145"/>
                </a:lnTo>
                <a:lnTo>
                  <a:pt x="343458" y="89210"/>
                </a:lnTo>
                <a:lnTo>
                  <a:pt x="298853" y="107052"/>
                </a:lnTo>
                <a:lnTo>
                  <a:pt x="307774" y="173959"/>
                </a:lnTo>
                <a:lnTo>
                  <a:pt x="156117" y="307774"/>
                </a:lnTo>
                <a:lnTo>
                  <a:pt x="31223" y="263169"/>
                </a:lnTo>
                <a:lnTo>
                  <a:pt x="0" y="2185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6580080" y="5373720"/>
            <a:ext cx="223920" cy="45864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5A14-EE0B-49D6-A558-1268612A5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17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0:58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