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F61-AF33-481E-8746-014AB73C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432-FF0C-4D38-938B-C2796716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691-8754-4854-BFFA-001DB0A4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63D-3C39-48F6-B2FA-4616C6BF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C3DA-7AA9-4CEA-BEBA-8B0E4B1E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47EC-BEC6-48FB-8BD8-238FAD20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32CF-F41F-4E49-913E-66157489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444B-83D0-4787-B67D-A8D7D7D7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2C06-FF1B-4345-8533-5CC0C057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06440" y="642600"/>
            <a:ext cx="8331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FB0F-477B-44C1-B8E0-F60FF162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63E5-2BFA-4A84-AC41-BBF54F40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94B-78BE-4ECA-B7E4-1BB62974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188D-A880-4E97-AA96-7728F9A2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5A9A-C0DC-4713-96EF-06D98D82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20CA-3F0C-4CB0-BB28-53D88E18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0670-E884-4513-AB06-FA4F99CB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1750-407B-4F96-86A6-4B90E005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B6B-9466-44F9-A53F-18D6DF64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598-1463-4059-BF35-A346DCE2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B9B-D691-4FA7-94C1-3E363647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642600"/>
            <a:ext cx="8331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3EE-3B2E-48B8-8D90-606EFEF8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1B2-DDA0-4EBB-8AB0-017698EF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635-FC19-4F84-9804-D2CA552C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5C8-1001-40A2-A365-422D89F6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8FB6-9709-4708-BE54-5DEC4BD63A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7" descr=""/>
          <p:cNvPicPr/>
          <p:nvPr/>
        </p:nvPicPr>
        <p:blipFill>
          <a:blip r:embed="rId3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鱼不愚\桌面\图片1.png"/>
          <p:cNvPicPr/>
          <p:nvPr/>
        </p:nvPicPr>
        <p:blipFill>
          <a:blip r:embed="rId4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63C4-BE01-4833-9F12-2FDA31A9E2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469800" y="4151160"/>
            <a:ext cx="500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Calibri"/>
              </a:rPr>
              <a:t>LOGO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1960920" y="1125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炫丽线条立体视觉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7375e"/>
              </a:solidFill>
              <a:latin typeface="Arial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"/>
          <p:cNvSpPr/>
          <p:nvPr/>
        </p:nvSpPr>
        <p:spPr>
          <a:xfrm>
            <a:off x="357120" y="3341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Thank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6:57:20Z</dcterms:created>
  <dc:creator>rachel</dc:creator>
  <dc:description/>
  <cp:keywords/>
  <dc:language>en-US</dc:language>
  <cp:lastModifiedBy>a</cp:lastModifiedBy>
  <cp:lastPrinted>1899-12-30T00:00:00Z</cp:lastPrinted>
  <dcterms:modified xsi:type="dcterms:W3CDTF">2015-07-25T08:14:06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