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394-4E00-47C5-B69D-B72736A3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D0C-08DF-43CC-8804-045D987F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E79-9F13-439E-AA7C-F06DEE4F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353-282C-4C0F-BF8D-61DBBEDF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32BF-AC89-4937-A3E6-A4582427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A605-5A46-4113-B36A-E806D395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143A-59CD-4F0B-A7A8-55C04F70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3CB4-9555-447C-AFE6-52EDE78B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67E1-6611-429B-98EB-95DDF63E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8F26-C922-4A74-B707-2C69CCA7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E67A-6968-493E-A4FA-27E4E231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937-31D8-4451-A21C-CCAB28A5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B8E0-9FDC-4123-9430-F1DACC6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B27A-4574-44FD-96D3-010434E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6B15-6C63-45D9-BF37-90B57CF9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C6E3-4418-45D6-88EC-54A5CB7E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4476-BDAE-427D-80FE-EBC1A9F0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1E2-CE8C-4DCF-A6B8-EB6E2F7B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066-CFDC-4168-B251-0BC4AE3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6DF-8279-419E-B653-14FF761F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16D-DEA5-47E9-A0B3-7F35889E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36E-F8B4-483B-BEFD-06A06A56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A03-2C34-4662-82F3-9DE25772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D61-60C4-4677-9E5E-E7A377F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8F98-A5BA-4865-8C6D-9A5B9B782B4C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2754-29F7-45DB-B4C4-D7631EA4A579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Microstyle Bold Extended ATT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55760" y="6094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周年庆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8120" y="152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tyle Bold Extended ATT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5331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195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457200" y="3352680"/>
            <a:ext cx="3290760" cy="6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549360" y="4114800"/>
            <a:ext cx="2422440" cy="47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558720" y="4629240"/>
            <a:ext cx="241308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533520" y="5162400"/>
            <a:ext cx="241272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409680" y="5734080"/>
            <a:ext cx="3400200" cy="66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4038480" y="2514600"/>
            <a:ext cx="3738600" cy="66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3962520" y="3371760"/>
            <a:ext cx="3830400" cy="66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tretch/>
        </p:blipFill>
        <p:spPr>
          <a:xfrm>
            <a:off x="3962520" y="4208400"/>
            <a:ext cx="3830400" cy="668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6"/>
          <a:stretch/>
        </p:blipFill>
        <p:spPr>
          <a:xfrm>
            <a:off x="3941640" y="5048280"/>
            <a:ext cx="383076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7"/>
          <a:stretch/>
        </p:blipFill>
        <p:spPr>
          <a:xfrm>
            <a:off x="3962520" y="5886360"/>
            <a:ext cx="382104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D23-9F4C-4DA5-8D0E-FF7DEB6A4B43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03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08:0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