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9"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0"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1"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12A10E3-AFB0-4498-BDC9-42CF2DFCCA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685800" y="1143000"/>
            <a:ext cx="5486040" cy="3085920"/>
          </a:xfrm>
          <a:prstGeom prst="rect">
            <a:avLst/>
          </a:prstGeom>
          <a:ln w="0">
            <a:noFill/>
          </a:ln>
        </p:spPr>
      </p:sp>
      <p:sp>
        <p:nvSpPr>
          <p:cNvPr id="56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5"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0FFE3A4-6829-42B9-99B1-82B6AB89476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53311-C67B-442A-B457-4E6A6D890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2B003-D734-4439-9445-FB5CBCD32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45E00-58F6-478B-AB97-B5217EF82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82ECC-D5B5-4F55-BCAD-467ADBB92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9E7AE4-8238-47F2-A038-DA20805E3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05676-7646-4252-8394-BE3EAD3B6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B7B2B-B3ED-4506-8886-02617462B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018A99-6E1D-4DED-923F-D51BA8E6C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E423E-048C-4017-ADAC-001B63D26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523880" y="1122480"/>
            <a:ext cx="91436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2D594-3376-4ADD-A2FC-9072AC491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8AF3C-A388-44A5-BA21-EB904D48F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703D9-975A-425C-ADC9-2B15E3071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45F75-5C3F-433A-B519-48A1B0BE9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281F1-9CFE-44A4-A219-577F67167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601B2-8727-46FB-ADA5-9498FEBEF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6B088-151F-43E1-BEB6-07B1011AFB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98D185-9112-43A8-8251-D33DE579D5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0BAB9A-AFFA-424C-BBC2-CDCDEBD6BE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F929DC-ABBD-4D78-A2DF-B5F2BC5EF4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3"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220C1F-58AD-4DEC-9786-41ABFD4D21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5"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C2C622-A5A0-44C9-B42D-8D60BCC82C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936AF7-E8F0-4798-B551-9262596EA1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A6503-F1C9-467A-B33D-4FD3EECE8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523880" y="1122480"/>
            <a:ext cx="91436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AB38D1-5537-4E22-BACA-FB0E5C211B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55F842-F05D-4938-BA59-805254D9FA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4"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6"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708772-8C23-468B-862D-AB25E0F10D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0"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034F9D-EA47-47CA-86D2-224332A1C1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2"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3"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F3E185-E876-46A5-B01B-DB04AAF67E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8"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71A0E7-523C-4067-949D-679E8B153D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0"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1"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2"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3"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4"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5"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D29299-C5EC-4AE0-81A0-79FE0A8320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67684-EFB1-42F5-9505-031942BB8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7CDE0-A13C-4EF3-94A4-8CDBC97C3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122480"/>
            <a:ext cx="91436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67408-08D8-4DC9-9027-724470EAE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5ED82-D286-428F-B484-C71775ED4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F6086-4E3C-4B54-870A-95058AC81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9578B-7086-4BFD-8EEC-35B83B63D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zh-CN" sz="6000" spc="-1" strike="noStrike">
                <a:solidFill>
                  <a:srgbClr val="000000"/>
                </a:solidFill>
                <a:latin typeface="Calibri Light"/>
              </a:rPr>
              <a:t>单击此处编辑母版标题样式</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 </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8C857E8-DFAE-41A9-886D-2C31228DBEC7}" type="slidenum">
              <a:rPr b="0" lang="en-US" sz="1200" spc="-1" strike="noStrike">
                <a:solidFill>
                  <a:srgbClr val="8b8b8b"/>
                </a:solidFill>
                <a:latin typeface="Calibri"/>
              </a:rPr>
              <a:t>1</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1" lang="en-US" sz="1200" spc="-1" strike="noStrike">
                <a:solidFill>
                  <a:srgbClr val="8b8b8b"/>
                </a:solidFill>
                <a:latin typeface="方正硬笔行书简体"/>
                <a:ea typeface="方正硬笔行书简体"/>
              </a:defRPr>
            </a:lvl1pPr>
          </a:lstStyle>
          <a:p>
            <a:pPr indent="0">
              <a:lnSpc>
                <a:spcPct val="100000"/>
              </a:lnSpc>
              <a:buNone/>
            </a:pPr>
            <a:r>
              <a:rPr b="1" lang="en-US" sz="1200" spc="-1" strike="noStrike">
                <a:solidFill>
                  <a:srgbClr val="8b8b8b"/>
                </a:solidFill>
                <a:latin typeface="方正硬笔行书简体"/>
                <a:ea typeface="方正硬笔行书简体"/>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43" name="组合 25"/>
          <p:cNvGrpSpPr/>
          <p:nvPr/>
        </p:nvGrpSpPr>
        <p:grpSpPr>
          <a:xfrm>
            <a:off x="1647000" y="1991520"/>
            <a:ext cx="3309480" cy="380520"/>
            <a:chOff x="1647000" y="1991520"/>
            <a:chExt cx="3309480" cy="380520"/>
          </a:xfrm>
        </p:grpSpPr>
        <p:sp>
          <p:nvSpPr>
            <p:cNvPr id="44" name="矩形 26"/>
            <p:cNvSpPr/>
            <p:nvPr/>
          </p:nvSpPr>
          <p:spPr>
            <a:xfrm>
              <a:off x="3301560" y="1991520"/>
              <a:ext cx="1654920" cy="369000"/>
            </a:xfrm>
            <a:prstGeom prst="rect">
              <a:avLst/>
            </a:prstGeom>
            <a:solidFill>
              <a:schemeClr val="bg1">
                <a:alpha val="5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45" name="矩形 27"/>
            <p:cNvSpPr/>
            <p:nvPr/>
          </p:nvSpPr>
          <p:spPr>
            <a:xfrm>
              <a:off x="1647000" y="1991520"/>
              <a:ext cx="1654200" cy="380520"/>
            </a:xfrm>
            <a:prstGeom prst="rect">
              <a:avLst/>
            </a:prstGeom>
            <a:solidFill>
              <a:srgbClr val="fadc00">
                <a:alpha val="51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grpSp>
      <p:sp>
        <p:nvSpPr>
          <p:cNvPr id="46" name="PlaceHolder 3"/>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1" lang="en-US" sz="1200" spc="-1" strike="noStrike">
                <a:solidFill>
                  <a:srgbClr val="8b8b8b"/>
                </a:solidFill>
                <a:latin typeface="方正硬笔行书简体"/>
                <a:ea typeface="方正硬笔行书简体"/>
              </a:defRPr>
            </a:lvl1pPr>
          </a:lstStyle>
          <a:p>
            <a:pPr indent="0" algn="r">
              <a:lnSpc>
                <a:spcPct val="100000"/>
              </a:lnSpc>
              <a:buNone/>
            </a:pPr>
            <a:fld id="{6A66758C-6173-4D44-97A0-E05F23C06B5A}" type="slidenum">
              <a:rPr b="1" lang="en-US" sz="1200" spc="-1" strike="noStrike">
                <a:solidFill>
                  <a:srgbClr val="8b8b8b"/>
                </a:solidFill>
                <a:latin typeface="方正硬笔行书简体"/>
                <a:ea typeface="方正硬笔行书简体"/>
              </a:rPr>
              <a:t>&lt;number&gt;</a:t>
            </a:fld>
            <a:endParaRPr b="0" lang="en-US" sz="1200" spc="-1" strike="noStrike">
              <a:solidFill>
                <a:srgbClr val="000000"/>
              </a:solidFill>
              <a:latin typeface="Times New Roman"/>
            </a:endParaRPr>
          </a:p>
        </p:txBody>
      </p:sp>
      <p:sp>
        <p:nvSpPr>
          <p:cNvPr id="47" name="矩形 4"/>
          <p:cNvSpPr/>
          <p:nvPr/>
        </p:nvSpPr>
        <p:spPr>
          <a:xfrm>
            <a:off x="0" y="0"/>
            <a:ext cx="3309480" cy="6857640"/>
          </a:xfrm>
          <a:prstGeom prst="rect">
            <a:avLst/>
          </a:prstGeom>
          <a:solidFill>
            <a:srgbClr val="ffe30d">
              <a:alpha val="54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grpSp>
        <p:nvGrpSpPr>
          <p:cNvPr id="48" name="组合 34"/>
          <p:cNvGrpSpPr/>
          <p:nvPr/>
        </p:nvGrpSpPr>
        <p:grpSpPr>
          <a:xfrm>
            <a:off x="2061360" y="4907880"/>
            <a:ext cx="2443320" cy="380520"/>
            <a:chOff x="2061360" y="4907880"/>
            <a:chExt cx="2443320" cy="380520"/>
          </a:xfrm>
        </p:grpSpPr>
        <p:sp>
          <p:nvSpPr>
            <p:cNvPr id="49" name="矩形 35"/>
            <p:cNvSpPr/>
            <p:nvPr/>
          </p:nvSpPr>
          <p:spPr>
            <a:xfrm>
              <a:off x="3317040" y="4907880"/>
              <a:ext cx="1187640" cy="369000"/>
            </a:xfrm>
            <a:prstGeom prst="rect">
              <a:avLst/>
            </a:prstGeom>
            <a:solidFill>
              <a:schemeClr val="bg1">
                <a:alpha val="5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50" name="矩形 36"/>
            <p:cNvSpPr/>
            <p:nvPr/>
          </p:nvSpPr>
          <p:spPr>
            <a:xfrm>
              <a:off x="2061360" y="4907880"/>
              <a:ext cx="1255320" cy="380520"/>
            </a:xfrm>
            <a:prstGeom prst="rect">
              <a:avLst/>
            </a:prstGeom>
            <a:solidFill>
              <a:srgbClr val="fadc00">
                <a:alpha val="51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grpSp>
      <p:grpSp>
        <p:nvGrpSpPr>
          <p:cNvPr id="51" name="组合 28"/>
          <p:cNvGrpSpPr/>
          <p:nvPr/>
        </p:nvGrpSpPr>
        <p:grpSpPr>
          <a:xfrm>
            <a:off x="1877040" y="2711520"/>
            <a:ext cx="2627640" cy="380520"/>
            <a:chOff x="1877040" y="2711520"/>
            <a:chExt cx="2627640" cy="380520"/>
          </a:xfrm>
        </p:grpSpPr>
        <p:sp>
          <p:nvSpPr>
            <p:cNvPr id="52" name="矩形 29"/>
            <p:cNvSpPr/>
            <p:nvPr/>
          </p:nvSpPr>
          <p:spPr>
            <a:xfrm>
              <a:off x="3317040" y="2711520"/>
              <a:ext cx="1187640" cy="369000"/>
            </a:xfrm>
            <a:prstGeom prst="rect">
              <a:avLst/>
            </a:prstGeom>
            <a:solidFill>
              <a:schemeClr val="bg1">
                <a:alpha val="5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53" name="矩形 30"/>
            <p:cNvSpPr/>
            <p:nvPr/>
          </p:nvSpPr>
          <p:spPr>
            <a:xfrm>
              <a:off x="1877040" y="2711520"/>
              <a:ext cx="1439640" cy="380520"/>
            </a:xfrm>
            <a:prstGeom prst="rect">
              <a:avLst/>
            </a:prstGeom>
            <a:solidFill>
              <a:srgbClr val="fadc00">
                <a:alpha val="51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grpSp>
      <p:sp>
        <p:nvSpPr>
          <p:cNvPr id="54" name="文本框 11"/>
          <p:cNvSpPr/>
          <p:nvPr/>
        </p:nvSpPr>
        <p:spPr>
          <a:xfrm>
            <a:off x="1394280" y="1997280"/>
            <a:ext cx="3833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方正硬笔行书简体"/>
                <a:ea typeface="方正硬笔行书简体"/>
              </a:rPr>
              <a:t>表白：我希望有</a:t>
            </a:r>
            <a:r>
              <a:rPr b="1" lang="zh-CN" sz="1800" spc="-1" strike="noStrike">
                <a:solidFill>
                  <a:srgbClr val="ffe30d"/>
                </a:solidFill>
                <a:latin typeface="方正硬笔行书简体"/>
                <a:ea typeface="方正硬笔行书简体"/>
              </a:rPr>
              <a:t>个如你一般的人</a:t>
            </a:r>
            <a:endParaRPr b="0" lang="en-US" sz="1800" spc="-1" strike="noStrike">
              <a:solidFill>
                <a:srgbClr val="000000"/>
              </a:solidFill>
              <a:latin typeface="Arial"/>
            </a:endParaRPr>
          </a:p>
        </p:txBody>
      </p:sp>
      <p:grpSp>
        <p:nvGrpSpPr>
          <p:cNvPr id="55" name="组合 48"/>
          <p:cNvGrpSpPr/>
          <p:nvPr/>
        </p:nvGrpSpPr>
        <p:grpSpPr>
          <a:xfrm>
            <a:off x="1654920" y="3450600"/>
            <a:ext cx="3130200" cy="380520"/>
            <a:chOff x="1654920" y="3450600"/>
            <a:chExt cx="3130200" cy="380520"/>
          </a:xfrm>
        </p:grpSpPr>
        <p:sp>
          <p:nvSpPr>
            <p:cNvPr id="56" name="矩形 49"/>
            <p:cNvSpPr/>
            <p:nvPr/>
          </p:nvSpPr>
          <p:spPr>
            <a:xfrm>
              <a:off x="3309480" y="3450600"/>
              <a:ext cx="1475640" cy="369000"/>
            </a:xfrm>
            <a:prstGeom prst="rect">
              <a:avLst/>
            </a:prstGeom>
            <a:solidFill>
              <a:schemeClr val="bg1">
                <a:alpha val="5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57" name="矩形 50"/>
            <p:cNvSpPr/>
            <p:nvPr/>
          </p:nvSpPr>
          <p:spPr>
            <a:xfrm>
              <a:off x="1654920" y="3450600"/>
              <a:ext cx="1654200" cy="380520"/>
            </a:xfrm>
            <a:prstGeom prst="rect">
              <a:avLst/>
            </a:prstGeom>
            <a:solidFill>
              <a:srgbClr val="fadc00">
                <a:alpha val="51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grpSp>
      <p:grpSp>
        <p:nvGrpSpPr>
          <p:cNvPr id="58" name="组合 37"/>
          <p:cNvGrpSpPr/>
          <p:nvPr/>
        </p:nvGrpSpPr>
        <p:grpSpPr>
          <a:xfrm>
            <a:off x="1662120" y="5641560"/>
            <a:ext cx="3129840" cy="380520"/>
            <a:chOff x="1662120" y="5641560"/>
            <a:chExt cx="3129840" cy="380520"/>
          </a:xfrm>
        </p:grpSpPr>
        <p:sp>
          <p:nvSpPr>
            <p:cNvPr id="59" name="矩形 38"/>
            <p:cNvSpPr/>
            <p:nvPr/>
          </p:nvSpPr>
          <p:spPr>
            <a:xfrm>
              <a:off x="3316320" y="5641560"/>
              <a:ext cx="1475640" cy="369000"/>
            </a:xfrm>
            <a:prstGeom prst="rect">
              <a:avLst/>
            </a:prstGeom>
            <a:solidFill>
              <a:schemeClr val="bg1">
                <a:alpha val="5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60" name="矩形 39"/>
            <p:cNvSpPr/>
            <p:nvPr/>
          </p:nvSpPr>
          <p:spPr>
            <a:xfrm>
              <a:off x="1662120" y="5641560"/>
              <a:ext cx="1654200" cy="380520"/>
            </a:xfrm>
            <a:prstGeom prst="rect">
              <a:avLst/>
            </a:prstGeom>
            <a:solidFill>
              <a:srgbClr val="fadc00">
                <a:alpha val="51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grpSp>
      <p:sp>
        <p:nvSpPr>
          <p:cNvPr id="61" name="文本框 12"/>
          <p:cNvSpPr/>
          <p:nvPr/>
        </p:nvSpPr>
        <p:spPr>
          <a:xfrm>
            <a:off x="1359360" y="2727360"/>
            <a:ext cx="36774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方正硬笔行书简体"/>
                <a:ea typeface="方正硬笔行书简体"/>
              </a:rPr>
              <a:t>执着：一路陪</a:t>
            </a:r>
            <a:r>
              <a:rPr b="1" lang="zh-CN" sz="1800" spc="-1" strike="noStrike">
                <a:solidFill>
                  <a:srgbClr val="ffe30d"/>
                </a:solidFill>
                <a:latin typeface="方正硬笔行书简体"/>
                <a:ea typeface="方正硬笔行书简体"/>
              </a:rPr>
              <a:t>你笑着逃亡</a:t>
            </a:r>
            <a:endParaRPr b="0" lang="en-US" sz="1800" spc="-1" strike="noStrike">
              <a:solidFill>
                <a:srgbClr val="000000"/>
              </a:solidFill>
              <a:latin typeface="Arial"/>
            </a:endParaRPr>
          </a:p>
        </p:txBody>
      </p:sp>
      <p:sp>
        <p:nvSpPr>
          <p:cNvPr id="62" name="文本框 13"/>
          <p:cNvSpPr/>
          <p:nvPr/>
        </p:nvSpPr>
        <p:spPr>
          <a:xfrm>
            <a:off x="1359360" y="3457080"/>
            <a:ext cx="36774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方正硬笔行书简体"/>
                <a:ea typeface="方正硬笔行书简体"/>
              </a:rPr>
              <a:t>温暖：那些细碎</a:t>
            </a:r>
            <a:r>
              <a:rPr b="1" lang="zh-CN" sz="1800" spc="-1" strike="noStrike">
                <a:solidFill>
                  <a:srgbClr val="ffe30d"/>
                </a:solidFill>
                <a:latin typeface="方正硬笔行书简体"/>
                <a:ea typeface="方正硬笔行书简体"/>
              </a:rPr>
              <a:t>而美好的存在</a:t>
            </a:r>
            <a:endParaRPr b="0" lang="en-US" sz="1800" spc="-1" strike="noStrike">
              <a:solidFill>
                <a:srgbClr val="000000"/>
              </a:solidFill>
              <a:latin typeface="Arial"/>
            </a:endParaRPr>
          </a:p>
        </p:txBody>
      </p:sp>
      <p:grpSp>
        <p:nvGrpSpPr>
          <p:cNvPr id="63" name="组合 31"/>
          <p:cNvGrpSpPr/>
          <p:nvPr/>
        </p:nvGrpSpPr>
        <p:grpSpPr>
          <a:xfrm>
            <a:off x="2061360" y="4166280"/>
            <a:ext cx="2443320" cy="380520"/>
            <a:chOff x="2061360" y="4166280"/>
            <a:chExt cx="2443320" cy="380520"/>
          </a:xfrm>
        </p:grpSpPr>
        <p:sp>
          <p:nvSpPr>
            <p:cNvPr id="64" name="矩形 32"/>
            <p:cNvSpPr/>
            <p:nvPr/>
          </p:nvSpPr>
          <p:spPr>
            <a:xfrm>
              <a:off x="3317040" y="4166280"/>
              <a:ext cx="1187640" cy="369000"/>
            </a:xfrm>
            <a:prstGeom prst="rect">
              <a:avLst/>
            </a:prstGeom>
            <a:solidFill>
              <a:schemeClr val="bg1">
                <a:alpha val="5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65" name="矩形 33"/>
            <p:cNvSpPr/>
            <p:nvPr/>
          </p:nvSpPr>
          <p:spPr>
            <a:xfrm>
              <a:off x="2061360" y="4166280"/>
              <a:ext cx="1255320" cy="380520"/>
            </a:xfrm>
            <a:prstGeom prst="rect">
              <a:avLst/>
            </a:prstGeom>
            <a:solidFill>
              <a:srgbClr val="fadc00">
                <a:alpha val="51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grpSp>
      <p:sp>
        <p:nvSpPr>
          <p:cNvPr id="66" name="文本框 15"/>
          <p:cNvSpPr/>
          <p:nvPr/>
        </p:nvSpPr>
        <p:spPr>
          <a:xfrm>
            <a:off x="1359360" y="5646960"/>
            <a:ext cx="36774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方正硬笔行书简体"/>
                <a:ea typeface="方正硬笔行书简体"/>
              </a:rPr>
              <a:t>怀念：青春里没</a:t>
            </a:r>
            <a:r>
              <a:rPr b="1" lang="zh-CN" sz="1800" spc="-1" strike="noStrike">
                <a:solidFill>
                  <a:srgbClr val="ffe30d"/>
                </a:solidFill>
                <a:latin typeface="方正硬笔行书简体"/>
                <a:ea typeface="方正硬笔行书简体"/>
              </a:rPr>
              <a:t>有返程的旅行</a:t>
            </a:r>
            <a:endParaRPr b="0" lang="en-US" sz="1800" spc="-1" strike="noStrike">
              <a:solidFill>
                <a:srgbClr val="000000"/>
              </a:solidFill>
              <a:latin typeface="Arial"/>
            </a:endParaRPr>
          </a:p>
        </p:txBody>
      </p:sp>
      <p:sp>
        <p:nvSpPr>
          <p:cNvPr id="67" name="文本框 16"/>
          <p:cNvSpPr/>
          <p:nvPr/>
        </p:nvSpPr>
        <p:spPr>
          <a:xfrm>
            <a:off x="1472040" y="4916880"/>
            <a:ext cx="36774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方正硬笔行书简体"/>
                <a:ea typeface="方正硬笔行书简体"/>
              </a:rPr>
              <a:t>放手：我是</a:t>
            </a:r>
            <a:r>
              <a:rPr b="1" lang="zh-CN" sz="1800" spc="-1" strike="noStrike">
                <a:solidFill>
                  <a:srgbClr val="ffe30d"/>
                </a:solidFill>
                <a:latin typeface="方正硬笔行书简体"/>
                <a:ea typeface="方正硬笔行书简体"/>
              </a:rPr>
              <a:t>爱情末等生</a:t>
            </a:r>
            <a:endParaRPr b="0" lang="en-US" sz="1800" spc="-1" strike="noStrike">
              <a:solidFill>
                <a:srgbClr val="000000"/>
              </a:solidFill>
              <a:latin typeface="Arial"/>
            </a:endParaRPr>
          </a:p>
        </p:txBody>
      </p:sp>
      <p:sp>
        <p:nvSpPr>
          <p:cNvPr id="68" name="文本框 17"/>
          <p:cNvSpPr/>
          <p:nvPr/>
        </p:nvSpPr>
        <p:spPr>
          <a:xfrm>
            <a:off x="1472040" y="4187160"/>
            <a:ext cx="36774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方正硬笔行书简体"/>
                <a:ea typeface="方正硬笔行书简体"/>
              </a:rPr>
              <a:t>争吵：有时</a:t>
            </a:r>
            <a:r>
              <a:rPr b="1" lang="zh-CN" sz="1800" spc="-1" strike="noStrike">
                <a:solidFill>
                  <a:srgbClr val="ffe30d"/>
                </a:solidFill>
                <a:latin typeface="方正硬笔行书简体"/>
                <a:ea typeface="方正硬笔行书简体"/>
              </a:rPr>
              <a:t>候我们失控</a:t>
            </a:r>
            <a:endParaRPr b="0" lang="en-US" sz="1800" spc="-1" strike="noStrike">
              <a:solidFill>
                <a:srgbClr val="000000"/>
              </a:solidFill>
              <a:latin typeface="Arial"/>
            </a:endParaRPr>
          </a:p>
        </p:txBody>
      </p:sp>
      <p:grpSp>
        <p:nvGrpSpPr>
          <p:cNvPr id="69" name="组合 22"/>
          <p:cNvGrpSpPr/>
          <p:nvPr/>
        </p:nvGrpSpPr>
        <p:grpSpPr>
          <a:xfrm>
            <a:off x="1877040" y="1270800"/>
            <a:ext cx="2627640" cy="380520"/>
            <a:chOff x="1877040" y="1270800"/>
            <a:chExt cx="2627640" cy="380520"/>
          </a:xfrm>
        </p:grpSpPr>
        <p:sp>
          <p:nvSpPr>
            <p:cNvPr id="70" name="矩形 20"/>
            <p:cNvSpPr/>
            <p:nvPr/>
          </p:nvSpPr>
          <p:spPr>
            <a:xfrm>
              <a:off x="3317040" y="1270800"/>
              <a:ext cx="1187640" cy="369000"/>
            </a:xfrm>
            <a:prstGeom prst="rect">
              <a:avLst/>
            </a:prstGeom>
            <a:solidFill>
              <a:schemeClr val="bg1">
                <a:alpha val="5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71" name="矩形 21"/>
            <p:cNvSpPr/>
            <p:nvPr/>
          </p:nvSpPr>
          <p:spPr>
            <a:xfrm>
              <a:off x="1877040" y="1270800"/>
              <a:ext cx="1439640" cy="380520"/>
            </a:xfrm>
            <a:prstGeom prst="rect">
              <a:avLst/>
            </a:prstGeom>
            <a:solidFill>
              <a:srgbClr val="fadc00">
                <a:alpha val="51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grpSp>
      <p:sp>
        <p:nvSpPr>
          <p:cNvPr id="72" name="文本框 10"/>
          <p:cNvSpPr/>
          <p:nvPr/>
        </p:nvSpPr>
        <p:spPr>
          <a:xfrm>
            <a:off x="1800000" y="1267560"/>
            <a:ext cx="27961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方正硬笔行书简体"/>
                <a:ea typeface="方正硬笔行书简体"/>
              </a:rPr>
              <a:t>初恋：从你的</a:t>
            </a:r>
            <a:r>
              <a:rPr b="1" lang="zh-CN" sz="1800" spc="-1" strike="noStrike">
                <a:solidFill>
                  <a:srgbClr val="ffe30d"/>
                </a:solidFill>
                <a:latin typeface="方正硬笔行书简体"/>
                <a:ea typeface="方正硬笔行书简体"/>
              </a:rPr>
              <a:t>全世界路过</a:t>
            </a:r>
            <a:endParaRPr b="0" lang="en-US" sz="1800" spc="-1" strike="noStrike">
              <a:solidFill>
                <a:srgbClr val="000000"/>
              </a:solidFill>
              <a:latin typeface="Arial"/>
            </a:endParaRPr>
          </a:p>
        </p:txBody>
      </p:sp>
      <p:sp>
        <p:nvSpPr>
          <p:cNvPr id="73" name="文本框 41"/>
          <p:cNvSpPr/>
          <p:nvPr/>
        </p:nvSpPr>
        <p:spPr>
          <a:xfrm>
            <a:off x="2561040" y="362520"/>
            <a:ext cx="15012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3600" spc="-1" strike="noStrike">
                <a:solidFill>
                  <a:srgbClr val="ffffff"/>
                </a:solidFill>
                <a:latin typeface="方正硬笔行书简体"/>
                <a:ea typeface="方正硬笔行书简体"/>
              </a:rPr>
              <a:t>目录</a:t>
            </a:r>
            <a:endParaRPr b="0" lang="en-US" sz="3600" spc="-1" strike="noStrike">
              <a:solidFill>
                <a:srgbClr val="000000"/>
              </a:solidFill>
              <a:latin typeface="Arial"/>
            </a:endParaRPr>
          </a:p>
        </p:txBody>
      </p:sp>
      <p:grpSp>
        <p:nvGrpSpPr>
          <p:cNvPr id="74" name="组合 55"/>
          <p:cNvGrpSpPr/>
          <p:nvPr/>
        </p:nvGrpSpPr>
        <p:grpSpPr>
          <a:xfrm>
            <a:off x="7931880" y="2975400"/>
            <a:ext cx="3319200" cy="3882240"/>
            <a:chOff x="7931880" y="2975400"/>
            <a:chExt cx="3319200" cy="3882240"/>
          </a:xfrm>
        </p:grpSpPr>
        <p:pic>
          <p:nvPicPr>
            <p:cNvPr id="75" name="图片 42" descr=""/>
            <p:cNvPicPr/>
            <p:nvPr/>
          </p:nvPicPr>
          <p:blipFill>
            <a:blip r:embed="rId2"/>
            <a:srcRect l="0" t="17187" r="0" b="0"/>
            <a:stretch/>
          </p:blipFill>
          <p:spPr>
            <a:xfrm>
              <a:off x="7931880" y="2975400"/>
              <a:ext cx="3319200" cy="3882240"/>
            </a:xfrm>
            <a:prstGeom prst="rect">
              <a:avLst/>
            </a:prstGeom>
            <a:ln w="0">
              <a:noFill/>
            </a:ln>
          </p:spPr>
        </p:pic>
        <p:sp>
          <p:nvSpPr>
            <p:cNvPr id="76" name="任意多边形 43"/>
            <p:cNvSpPr/>
            <p:nvPr/>
          </p:nvSpPr>
          <p:spPr>
            <a:xfrm>
              <a:off x="8854920" y="3319920"/>
              <a:ext cx="62640" cy="172440"/>
            </a:xfrm>
            <a:custGeom>
              <a:avLst/>
              <a:gdLst>
                <a:gd name="textAreaLeft" fmla="*/ 0 w 62640"/>
                <a:gd name="textAreaRight" fmla="*/ 63000 w 62640"/>
                <a:gd name="textAreaTop" fmla="*/ 0 h 172440"/>
                <a:gd name="textAreaBottom" fmla="*/ 172800 h 172440"/>
              </a:gdLst>
              <a:ahLst/>
              <a:rect l="textAreaLeft" t="textAreaTop" r="textAreaRight" b="textAreaBottom"/>
              <a:pathLst>
                <a:path w="62948" h="172942">
                  <a:moveTo>
                    <a:pt x="57401" y="0"/>
                  </a:moveTo>
                  <a:cubicBezTo>
                    <a:pt x="34216" y="31820"/>
                    <a:pt x="20557" y="63639"/>
                    <a:pt x="2135" y="95459"/>
                  </a:cubicBezTo>
                  <a:cubicBezTo>
                    <a:pt x="-1659" y="118905"/>
                    <a:pt x="-691" y="149496"/>
                    <a:pt x="7420" y="172942"/>
                  </a:cubicBezTo>
                  <a:cubicBezTo>
                    <a:pt x="36247" y="147559"/>
                    <a:pt x="50789" y="119795"/>
                    <a:pt x="62948" y="87268"/>
                  </a:cubicBezTo>
                  <a:cubicBezTo>
                    <a:pt x="51574" y="58179"/>
                    <a:pt x="59250" y="29089"/>
                    <a:pt x="57401" y="0"/>
                  </a:cubicBezTo>
                  <a:close/>
                </a:path>
              </a:pathLst>
            </a:custGeom>
            <a:pattFill prst="smCheck">
              <a:fgClr>
                <a:srgbClr val="fff07d"/>
              </a:fgClr>
              <a:bgClr>
                <a:srgbClr val="ffffff"/>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grpSp>
      <p:sp>
        <p:nvSpPr>
          <p:cNvPr id="77" name="任意多边形 62"/>
          <p:cNvSpPr/>
          <p:nvPr/>
        </p:nvSpPr>
        <p:spPr>
          <a:xfrm>
            <a:off x="8402400" y="2056320"/>
            <a:ext cx="482040" cy="448920"/>
          </a:xfrm>
          <a:custGeom>
            <a:avLst/>
            <a:gdLst>
              <a:gd name="textAreaLeft" fmla="*/ 0 w 482040"/>
              <a:gd name="textAreaRight" fmla="*/ 482400 w 482040"/>
              <a:gd name="textAreaTop" fmla="*/ 0 h 448920"/>
              <a:gd name="textAreaBottom" fmla="*/ 449280 h 448920"/>
            </a:gdLst>
            <a:ahLst/>
            <a:rect l="textAreaLeft" t="textAreaTop" r="textAreaRight" b="textAreaBottom"/>
            <a:pathLst>
              <a:path w="482346" h="449267">
                <a:moveTo>
                  <a:pt x="245957" y="82657"/>
                </a:moveTo>
                <a:cubicBezTo>
                  <a:pt x="264252" y="34402"/>
                  <a:pt x="287531" y="21030"/>
                  <a:pt x="320775" y="2674"/>
                </a:cubicBezTo>
                <a:cubicBezTo>
                  <a:pt x="383049" y="-8465"/>
                  <a:pt x="415426" y="17768"/>
                  <a:pt x="455276" y="53969"/>
                </a:cubicBezTo>
                <a:cubicBezTo>
                  <a:pt x="485236" y="110735"/>
                  <a:pt x="492772" y="167501"/>
                  <a:pt x="465426" y="221776"/>
                </a:cubicBezTo>
                <a:cubicBezTo>
                  <a:pt x="441439" y="253725"/>
                  <a:pt x="419944" y="285675"/>
                  <a:pt x="388482" y="317624"/>
                </a:cubicBezTo>
                <a:cubicBezTo>
                  <a:pt x="363215" y="339081"/>
                  <a:pt x="285624" y="380470"/>
                  <a:pt x="235442" y="449267"/>
                </a:cubicBezTo>
                <a:cubicBezTo>
                  <a:pt x="196178" y="384380"/>
                  <a:pt x="139474" y="346898"/>
                  <a:pt x="80277" y="299451"/>
                </a:cubicBezTo>
                <a:cubicBezTo>
                  <a:pt x="4614" y="224597"/>
                  <a:pt x="11173" y="202063"/>
                  <a:pt x="292" y="149633"/>
                </a:cubicBezTo>
                <a:cubicBezTo>
                  <a:pt x="-1711" y="124389"/>
                  <a:pt x="6251" y="74229"/>
                  <a:pt x="34146" y="48985"/>
                </a:cubicBezTo>
                <a:cubicBezTo>
                  <a:pt x="55177" y="13554"/>
                  <a:pt x="101123" y="3040"/>
                  <a:pt x="129628" y="0"/>
                </a:cubicBezTo>
                <a:cubicBezTo>
                  <a:pt x="192490" y="5958"/>
                  <a:pt x="222960" y="46799"/>
                  <a:pt x="245957" y="82657"/>
                </a:cubicBezTo>
                <a:close/>
              </a:path>
            </a:pathLst>
          </a:custGeom>
          <a:solidFill>
            <a:srgbClr val="c00000"/>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78" name="任意多边形 63"/>
          <p:cNvSpPr/>
          <p:nvPr/>
        </p:nvSpPr>
        <p:spPr>
          <a:xfrm>
            <a:off x="8795160" y="2547360"/>
            <a:ext cx="299880" cy="279360"/>
          </a:xfrm>
          <a:custGeom>
            <a:avLst/>
            <a:gdLst>
              <a:gd name="textAreaLeft" fmla="*/ 0 w 299880"/>
              <a:gd name="textAreaRight" fmla="*/ 300240 w 299880"/>
              <a:gd name="textAreaTop" fmla="*/ 0 h 279360"/>
              <a:gd name="textAreaBottom" fmla="*/ 279720 h 279360"/>
            </a:gdLst>
            <a:ahLst/>
            <a:rect l="textAreaLeft" t="textAreaTop" r="textAreaRight" b="textAreaBottom"/>
            <a:pathLst>
              <a:path w="482346" h="449267">
                <a:moveTo>
                  <a:pt x="245957" y="82657"/>
                </a:moveTo>
                <a:cubicBezTo>
                  <a:pt x="264252" y="34402"/>
                  <a:pt x="287531" y="21030"/>
                  <a:pt x="320775" y="2674"/>
                </a:cubicBezTo>
                <a:cubicBezTo>
                  <a:pt x="383049" y="-8465"/>
                  <a:pt x="415426" y="17768"/>
                  <a:pt x="455276" y="53969"/>
                </a:cubicBezTo>
                <a:cubicBezTo>
                  <a:pt x="485236" y="110735"/>
                  <a:pt x="492772" y="167501"/>
                  <a:pt x="465426" y="221776"/>
                </a:cubicBezTo>
                <a:cubicBezTo>
                  <a:pt x="441439" y="253725"/>
                  <a:pt x="419944" y="285675"/>
                  <a:pt x="388482" y="317624"/>
                </a:cubicBezTo>
                <a:cubicBezTo>
                  <a:pt x="363215" y="339081"/>
                  <a:pt x="285624" y="380470"/>
                  <a:pt x="235442" y="449267"/>
                </a:cubicBezTo>
                <a:cubicBezTo>
                  <a:pt x="196178" y="384380"/>
                  <a:pt x="139474" y="346898"/>
                  <a:pt x="80277" y="299451"/>
                </a:cubicBezTo>
                <a:cubicBezTo>
                  <a:pt x="4614" y="224597"/>
                  <a:pt x="11173" y="202063"/>
                  <a:pt x="292" y="149633"/>
                </a:cubicBezTo>
                <a:cubicBezTo>
                  <a:pt x="-1711" y="124389"/>
                  <a:pt x="6251" y="74229"/>
                  <a:pt x="34146" y="48985"/>
                </a:cubicBezTo>
                <a:cubicBezTo>
                  <a:pt x="55177" y="13554"/>
                  <a:pt x="101123" y="3040"/>
                  <a:pt x="129628" y="0"/>
                </a:cubicBezTo>
                <a:cubicBezTo>
                  <a:pt x="192490" y="5958"/>
                  <a:pt x="222960" y="46799"/>
                  <a:pt x="245957" y="82657"/>
                </a:cubicBezTo>
                <a:close/>
              </a:path>
            </a:pathLst>
          </a:custGeom>
          <a:solidFill>
            <a:srgbClr val="c00000"/>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79" name="任意多边形 64"/>
          <p:cNvSpPr/>
          <p:nvPr/>
        </p:nvSpPr>
        <p:spPr>
          <a:xfrm>
            <a:off x="8931240" y="1282680"/>
            <a:ext cx="299880" cy="279360"/>
          </a:xfrm>
          <a:custGeom>
            <a:avLst/>
            <a:gdLst>
              <a:gd name="textAreaLeft" fmla="*/ 0 w 299880"/>
              <a:gd name="textAreaRight" fmla="*/ 300240 w 299880"/>
              <a:gd name="textAreaTop" fmla="*/ 0 h 279360"/>
              <a:gd name="textAreaBottom" fmla="*/ 279720 h 279360"/>
            </a:gdLst>
            <a:ahLst/>
            <a:rect l="textAreaLeft" t="textAreaTop" r="textAreaRight" b="textAreaBottom"/>
            <a:pathLst>
              <a:path w="482346" h="449267">
                <a:moveTo>
                  <a:pt x="245957" y="82657"/>
                </a:moveTo>
                <a:cubicBezTo>
                  <a:pt x="264252" y="34402"/>
                  <a:pt x="287531" y="21030"/>
                  <a:pt x="320775" y="2674"/>
                </a:cubicBezTo>
                <a:cubicBezTo>
                  <a:pt x="383049" y="-8465"/>
                  <a:pt x="415426" y="17768"/>
                  <a:pt x="455276" y="53969"/>
                </a:cubicBezTo>
                <a:cubicBezTo>
                  <a:pt x="485236" y="110735"/>
                  <a:pt x="492772" y="167501"/>
                  <a:pt x="465426" y="221776"/>
                </a:cubicBezTo>
                <a:cubicBezTo>
                  <a:pt x="441439" y="253725"/>
                  <a:pt x="419944" y="285675"/>
                  <a:pt x="388482" y="317624"/>
                </a:cubicBezTo>
                <a:cubicBezTo>
                  <a:pt x="363215" y="339081"/>
                  <a:pt x="285624" y="380470"/>
                  <a:pt x="235442" y="449267"/>
                </a:cubicBezTo>
                <a:cubicBezTo>
                  <a:pt x="196178" y="384380"/>
                  <a:pt x="139474" y="346898"/>
                  <a:pt x="80277" y="299451"/>
                </a:cubicBezTo>
                <a:cubicBezTo>
                  <a:pt x="4614" y="224597"/>
                  <a:pt x="11173" y="202063"/>
                  <a:pt x="292" y="149633"/>
                </a:cubicBezTo>
                <a:cubicBezTo>
                  <a:pt x="-1711" y="124389"/>
                  <a:pt x="6251" y="74229"/>
                  <a:pt x="34146" y="48985"/>
                </a:cubicBezTo>
                <a:cubicBezTo>
                  <a:pt x="55177" y="13554"/>
                  <a:pt x="101123" y="3040"/>
                  <a:pt x="129628" y="0"/>
                </a:cubicBezTo>
                <a:cubicBezTo>
                  <a:pt x="192490" y="5958"/>
                  <a:pt x="222960" y="46799"/>
                  <a:pt x="245957" y="82657"/>
                </a:cubicBezTo>
                <a:close/>
              </a:path>
            </a:pathLst>
          </a:custGeom>
          <a:solidFill>
            <a:srgbClr val="c00000"/>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80" name="任意多边形 65"/>
          <p:cNvSpPr/>
          <p:nvPr/>
        </p:nvSpPr>
        <p:spPr>
          <a:xfrm>
            <a:off x="9423360" y="1658160"/>
            <a:ext cx="134640" cy="125280"/>
          </a:xfrm>
          <a:custGeom>
            <a:avLst/>
            <a:gdLst>
              <a:gd name="textAreaLeft" fmla="*/ 0 w 134640"/>
              <a:gd name="textAreaRight" fmla="*/ 135000 w 134640"/>
              <a:gd name="textAreaTop" fmla="*/ 0 h 125280"/>
              <a:gd name="textAreaBottom" fmla="*/ 125640 h 125280"/>
            </a:gdLst>
            <a:ahLst/>
            <a:rect l="textAreaLeft" t="textAreaTop" r="textAreaRight" b="textAreaBottom"/>
            <a:pathLst>
              <a:path w="482346" h="449267">
                <a:moveTo>
                  <a:pt x="245957" y="82657"/>
                </a:moveTo>
                <a:cubicBezTo>
                  <a:pt x="264252" y="34402"/>
                  <a:pt x="287531" y="21030"/>
                  <a:pt x="320775" y="2674"/>
                </a:cubicBezTo>
                <a:cubicBezTo>
                  <a:pt x="383049" y="-8465"/>
                  <a:pt x="415426" y="17768"/>
                  <a:pt x="455276" y="53969"/>
                </a:cubicBezTo>
                <a:cubicBezTo>
                  <a:pt x="485236" y="110735"/>
                  <a:pt x="492772" y="167501"/>
                  <a:pt x="465426" y="221776"/>
                </a:cubicBezTo>
                <a:cubicBezTo>
                  <a:pt x="441439" y="253725"/>
                  <a:pt x="419944" y="285675"/>
                  <a:pt x="388482" y="317624"/>
                </a:cubicBezTo>
                <a:cubicBezTo>
                  <a:pt x="363215" y="339081"/>
                  <a:pt x="285624" y="380470"/>
                  <a:pt x="235442" y="449267"/>
                </a:cubicBezTo>
                <a:cubicBezTo>
                  <a:pt x="196178" y="384380"/>
                  <a:pt x="139474" y="346898"/>
                  <a:pt x="80277" y="299451"/>
                </a:cubicBezTo>
                <a:cubicBezTo>
                  <a:pt x="4614" y="224597"/>
                  <a:pt x="11173" y="202063"/>
                  <a:pt x="292" y="149633"/>
                </a:cubicBezTo>
                <a:cubicBezTo>
                  <a:pt x="-1711" y="124389"/>
                  <a:pt x="6251" y="74229"/>
                  <a:pt x="34146" y="48985"/>
                </a:cubicBezTo>
                <a:cubicBezTo>
                  <a:pt x="55177" y="13554"/>
                  <a:pt x="101123" y="3040"/>
                  <a:pt x="129628" y="0"/>
                </a:cubicBezTo>
                <a:cubicBezTo>
                  <a:pt x="192490" y="5958"/>
                  <a:pt x="222960" y="46799"/>
                  <a:pt x="245957" y="82657"/>
                </a:cubicBezTo>
                <a:close/>
              </a:path>
            </a:pathLst>
          </a:custGeom>
          <a:solidFill>
            <a:srgbClr val="c00000"/>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81" name="任意多边形 66"/>
          <p:cNvSpPr/>
          <p:nvPr/>
        </p:nvSpPr>
        <p:spPr>
          <a:xfrm>
            <a:off x="8566560" y="1108080"/>
            <a:ext cx="134640" cy="125280"/>
          </a:xfrm>
          <a:custGeom>
            <a:avLst/>
            <a:gdLst>
              <a:gd name="textAreaLeft" fmla="*/ 0 w 134640"/>
              <a:gd name="textAreaRight" fmla="*/ 135000 w 134640"/>
              <a:gd name="textAreaTop" fmla="*/ 0 h 125280"/>
              <a:gd name="textAreaBottom" fmla="*/ 125640 h 125280"/>
            </a:gdLst>
            <a:ahLst/>
            <a:rect l="textAreaLeft" t="textAreaTop" r="textAreaRight" b="textAreaBottom"/>
            <a:pathLst>
              <a:path w="482346" h="449267">
                <a:moveTo>
                  <a:pt x="245957" y="82657"/>
                </a:moveTo>
                <a:cubicBezTo>
                  <a:pt x="264252" y="34402"/>
                  <a:pt x="287531" y="21030"/>
                  <a:pt x="320775" y="2674"/>
                </a:cubicBezTo>
                <a:cubicBezTo>
                  <a:pt x="383049" y="-8465"/>
                  <a:pt x="415426" y="17768"/>
                  <a:pt x="455276" y="53969"/>
                </a:cubicBezTo>
                <a:cubicBezTo>
                  <a:pt x="485236" y="110735"/>
                  <a:pt x="492772" y="167501"/>
                  <a:pt x="465426" y="221776"/>
                </a:cubicBezTo>
                <a:cubicBezTo>
                  <a:pt x="441439" y="253725"/>
                  <a:pt x="419944" y="285675"/>
                  <a:pt x="388482" y="317624"/>
                </a:cubicBezTo>
                <a:cubicBezTo>
                  <a:pt x="363215" y="339081"/>
                  <a:pt x="285624" y="380470"/>
                  <a:pt x="235442" y="449267"/>
                </a:cubicBezTo>
                <a:cubicBezTo>
                  <a:pt x="196178" y="384380"/>
                  <a:pt x="139474" y="346898"/>
                  <a:pt x="80277" y="299451"/>
                </a:cubicBezTo>
                <a:cubicBezTo>
                  <a:pt x="4614" y="224597"/>
                  <a:pt x="11173" y="202063"/>
                  <a:pt x="292" y="149633"/>
                </a:cubicBezTo>
                <a:cubicBezTo>
                  <a:pt x="-1711" y="124389"/>
                  <a:pt x="6251" y="74229"/>
                  <a:pt x="34146" y="48985"/>
                </a:cubicBezTo>
                <a:cubicBezTo>
                  <a:pt x="55177" y="13554"/>
                  <a:pt x="101123" y="3040"/>
                  <a:pt x="129628" y="0"/>
                </a:cubicBezTo>
                <a:cubicBezTo>
                  <a:pt x="192490" y="5958"/>
                  <a:pt x="222960" y="46799"/>
                  <a:pt x="245957" y="82657"/>
                </a:cubicBezTo>
                <a:close/>
              </a:path>
            </a:pathLst>
          </a:custGeom>
          <a:solidFill>
            <a:srgbClr val="c00000"/>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82" name="任意多边形 67"/>
          <p:cNvSpPr/>
          <p:nvPr/>
        </p:nvSpPr>
        <p:spPr>
          <a:xfrm>
            <a:off x="8327160" y="2505600"/>
            <a:ext cx="134640" cy="125280"/>
          </a:xfrm>
          <a:custGeom>
            <a:avLst/>
            <a:gdLst>
              <a:gd name="textAreaLeft" fmla="*/ 0 w 134640"/>
              <a:gd name="textAreaRight" fmla="*/ 135000 w 134640"/>
              <a:gd name="textAreaTop" fmla="*/ 0 h 125280"/>
              <a:gd name="textAreaBottom" fmla="*/ 125640 h 125280"/>
            </a:gdLst>
            <a:ahLst/>
            <a:rect l="textAreaLeft" t="textAreaTop" r="textAreaRight" b="textAreaBottom"/>
            <a:pathLst>
              <a:path w="482346" h="449267">
                <a:moveTo>
                  <a:pt x="245957" y="82657"/>
                </a:moveTo>
                <a:cubicBezTo>
                  <a:pt x="264252" y="34402"/>
                  <a:pt x="287531" y="21030"/>
                  <a:pt x="320775" y="2674"/>
                </a:cubicBezTo>
                <a:cubicBezTo>
                  <a:pt x="383049" y="-8465"/>
                  <a:pt x="415426" y="17768"/>
                  <a:pt x="455276" y="53969"/>
                </a:cubicBezTo>
                <a:cubicBezTo>
                  <a:pt x="485236" y="110735"/>
                  <a:pt x="492772" y="167501"/>
                  <a:pt x="465426" y="221776"/>
                </a:cubicBezTo>
                <a:cubicBezTo>
                  <a:pt x="441439" y="253725"/>
                  <a:pt x="419944" y="285675"/>
                  <a:pt x="388482" y="317624"/>
                </a:cubicBezTo>
                <a:cubicBezTo>
                  <a:pt x="363215" y="339081"/>
                  <a:pt x="285624" y="380470"/>
                  <a:pt x="235442" y="449267"/>
                </a:cubicBezTo>
                <a:cubicBezTo>
                  <a:pt x="196178" y="384380"/>
                  <a:pt x="139474" y="346898"/>
                  <a:pt x="80277" y="299451"/>
                </a:cubicBezTo>
                <a:cubicBezTo>
                  <a:pt x="4614" y="224597"/>
                  <a:pt x="11173" y="202063"/>
                  <a:pt x="292" y="149633"/>
                </a:cubicBezTo>
                <a:cubicBezTo>
                  <a:pt x="-1711" y="124389"/>
                  <a:pt x="6251" y="74229"/>
                  <a:pt x="34146" y="48985"/>
                </a:cubicBezTo>
                <a:cubicBezTo>
                  <a:pt x="55177" y="13554"/>
                  <a:pt x="101123" y="3040"/>
                  <a:pt x="129628" y="0"/>
                </a:cubicBezTo>
                <a:cubicBezTo>
                  <a:pt x="192490" y="5958"/>
                  <a:pt x="222960" y="46799"/>
                  <a:pt x="245957" y="82657"/>
                </a:cubicBezTo>
                <a:close/>
              </a:path>
            </a:pathLst>
          </a:custGeom>
          <a:solidFill>
            <a:srgbClr val="c00000"/>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83" name="任意多边形 68"/>
          <p:cNvSpPr/>
          <p:nvPr/>
        </p:nvSpPr>
        <p:spPr>
          <a:xfrm>
            <a:off x="8992080" y="3048480"/>
            <a:ext cx="134640" cy="125280"/>
          </a:xfrm>
          <a:custGeom>
            <a:avLst/>
            <a:gdLst>
              <a:gd name="textAreaLeft" fmla="*/ 0 w 134640"/>
              <a:gd name="textAreaRight" fmla="*/ 135000 w 134640"/>
              <a:gd name="textAreaTop" fmla="*/ 0 h 125280"/>
              <a:gd name="textAreaBottom" fmla="*/ 125640 h 125280"/>
            </a:gdLst>
            <a:ahLst/>
            <a:rect l="textAreaLeft" t="textAreaTop" r="textAreaRight" b="textAreaBottom"/>
            <a:pathLst>
              <a:path w="482346" h="449267">
                <a:moveTo>
                  <a:pt x="245957" y="82657"/>
                </a:moveTo>
                <a:cubicBezTo>
                  <a:pt x="264252" y="34402"/>
                  <a:pt x="287531" y="21030"/>
                  <a:pt x="320775" y="2674"/>
                </a:cubicBezTo>
                <a:cubicBezTo>
                  <a:pt x="383049" y="-8465"/>
                  <a:pt x="415426" y="17768"/>
                  <a:pt x="455276" y="53969"/>
                </a:cubicBezTo>
                <a:cubicBezTo>
                  <a:pt x="485236" y="110735"/>
                  <a:pt x="492772" y="167501"/>
                  <a:pt x="465426" y="221776"/>
                </a:cubicBezTo>
                <a:cubicBezTo>
                  <a:pt x="441439" y="253725"/>
                  <a:pt x="419944" y="285675"/>
                  <a:pt x="388482" y="317624"/>
                </a:cubicBezTo>
                <a:cubicBezTo>
                  <a:pt x="363215" y="339081"/>
                  <a:pt x="285624" y="380470"/>
                  <a:pt x="235442" y="449267"/>
                </a:cubicBezTo>
                <a:cubicBezTo>
                  <a:pt x="196178" y="384380"/>
                  <a:pt x="139474" y="346898"/>
                  <a:pt x="80277" y="299451"/>
                </a:cubicBezTo>
                <a:cubicBezTo>
                  <a:pt x="4614" y="224597"/>
                  <a:pt x="11173" y="202063"/>
                  <a:pt x="292" y="149633"/>
                </a:cubicBezTo>
                <a:cubicBezTo>
                  <a:pt x="-1711" y="124389"/>
                  <a:pt x="6251" y="74229"/>
                  <a:pt x="34146" y="48985"/>
                </a:cubicBezTo>
                <a:cubicBezTo>
                  <a:pt x="55177" y="13554"/>
                  <a:pt x="101123" y="3040"/>
                  <a:pt x="129628" y="0"/>
                </a:cubicBezTo>
                <a:cubicBezTo>
                  <a:pt x="192490" y="5958"/>
                  <a:pt x="222960" y="46799"/>
                  <a:pt x="245957" y="82657"/>
                </a:cubicBezTo>
                <a:close/>
              </a:path>
            </a:pathLst>
          </a:custGeom>
          <a:solidFill>
            <a:srgbClr val="c00000"/>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84"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dt" idx="7"/>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3" name="PlaceHolder 2"/>
          <p:cNvSpPr>
            <a:spLocks noGrp="1"/>
          </p:cNvSpPr>
          <p:nvPr>
            <p:ph type="ftr" idx="8"/>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4" name="PlaceHolder 3"/>
          <p:cNvSpPr>
            <a:spLocks noGrp="1"/>
          </p:cNvSpPr>
          <p:nvPr>
            <p:ph type="sldNum" idx="9"/>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5333E62-C422-4190-A7C7-2AFD3241510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5" name="矩形 5"/>
          <p:cNvSpPr/>
          <p:nvPr/>
        </p:nvSpPr>
        <p:spPr>
          <a:xfrm>
            <a:off x="0" y="1042560"/>
            <a:ext cx="12191760" cy="5020920"/>
          </a:xfrm>
          <a:prstGeom prst="rect">
            <a:avLst/>
          </a:prstGeom>
          <a:solidFill>
            <a:schemeClr val="bg1">
              <a:alpha val="3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 name="矩形 10"/>
          <p:cNvSpPr/>
          <p:nvPr/>
        </p:nvSpPr>
        <p:spPr>
          <a:xfrm>
            <a:off x="465120" y="1508040"/>
            <a:ext cx="11726280" cy="4234680"/>
          </a:xfrm>
          <a:prstGeom prst="rect">
            <a:avLst/>
          </a:prstGeom>
          <a:solidFill>
            <a:schemeClr val="bg1">
              <a:alpha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7" name="任意多边形 14"/>
          <p:cNvSpPr/>
          <p:nvPr/>
        </p:nvSpPr>
        <p:spPr>
          <a:xfrm>
            <a:off x="8021160" y="481320"/>
            <a:ext cx="4170600" cy="561240"/>
          </a:xfrm>
          <a:custGeom>
            <a:avLst/>
            <a:gdLst>
              <a:gd name="textAreaLeft" fmla="*/ 0 w 4170600"/>
              <a:gd name="textAreaRight" fmla="*/ 4170960 w 4170600"/>
              <a:gd name="textAreaTop" fmla="*/ 0 h 561240"/>
              <a:gd name="textAreaBottom" fmla="*/ 561600 h 561240"/>
            </a:gdLst>
            <a:ahLst/>
            <a:rect l="textAreaLeft" t="textAreaTop" r="textAreaRight" b="textAreaBottom"/>
            <a:pathLst>
              <a:path w="3096126" h="561474">
                <a:moveTo>
                  <a:pt x="140369" y="0"/>
                </a:moveTo>
                <a:lnTo>
                  <a:pt x="3096126" y="0"/>
                </a:lnTo>
                <a:lnTo>
                  <a:pt x="3096126" y="561474"/>
                </a:lnTo>
                <a:lnTo>
                  <a:pt x="0" y="561474"/>
                </a:lnTo>
                <a:close/>
              </a:path>
            </a:pathLst>
          </a:custGeom>
          <a:solidFill>
            <a:schemeClr val="bg1">
              <a:alpha val="3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8"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29"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hyperlink" Target="http://www.eeppt.com/moban/" TargetMode="External"/><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图片 3" descr=""/>
          <p:cNvPicPr/>
          <p:nvPr/>
        </p:nvPicPr>
        <p:blipFill>
          <a:blip r:embed="rId1"/>
          <a:stretch/>
        </p:blipFill>
        <p:spPr>
          <a:xfrm rot="21083400">
            <a:off x="1378800" y="1477080"/>
            <a:ext cx="4043160" cy="3573000"/>
          </a:xfrm>
          <a:prstGeom prst="rect">
            <a:avLst/>
          </a:prstGeom>
          <a:ln w="0">
            <a:noFill/>
          </a:ln>
        </p:spPr>
      </p:pic>
      <p:grpSp>
        <p:nvGrpSpPr>
          <p:cNvPr id="173" name="组合 327"/>
          <p:cNvGrpSpPr/>
          <p:nvPr/>
        </p:nvGrpSpPr>
        <p:grpSpPr>
          <a:xfrm>
            <a:off x="-67320" y="6491160"/>
            <a:ext cx="12239640" cy="396000"/>
            <a:chOff x="-67320" y="6491160"/>
            <a:chExt cx="12239640" cy="396000"/>
          </a:xfrm>
        </p:grpSpPr>
        <p:sp>
          <p:nvSpPr>
            <p:cNvPr id="174" name="矩形 328"/>
            <p:cNvSpPr/>
            <p:nvPr/>
          </p:nvSpPr>
          <p:spPr>
            <a:xfrm rot="16200000">
              <a:off x="5854680" y="569520"/>
              <a:ext cx="395640" cy="12239640"/>
            </a:xfrm>
            <a:prstGeom prst="rect">
              <a:avLst/>
            </a:prstGeom>
            <a:solidFill>
              <a:srgbClr val="ccb4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5" name="平行四边形 329"/>
            <p:cNvSpPr/>
            <p:nvPr/>
          </p:nvSpPr>
          <p:spPr>
            <a:xfrm>
              <a:off x="-41040" y="6491160"/>
              <a:ext cx="156204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6" name="平行四边形 330"/>
            <p:cNvSpPr/>
            <p:nvPr/>
          </p:nvSpPr>
          <p:spPr>
            <a:xfrm>
              <a:off x="2513160" y="6491160"/>
              <a:ext cx="109476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7" name="平行四边形 331"/>
            <p:cNvSpPr/>
            <p:nvPr/>
          </p:nvSpPr>
          <p:spPr>
            <a:xfrm>
              <a:off x="4599360" y="6491160"/>
              <a:ext cx="109476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8" name="平行四边形 332"/>
            <p:cNvSpPr/>
            <p:nvPr/>
          </p:nvSpPr>
          <p:spPr>
            <a:xfrm>
              <a:off x="6685920" y="6491160"/>
              <a:ext cx="118764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 name="平行四边形 333"/>
            <p:cNvSpPr/>
            <p:nvPr/>
          </p:nvSpPr>
          <p:spPr>
            <a:xfrm>
              <a:off x="8865360" y="6491160"/>
              <a:ext cx="109476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0" name="平行四边形 334"/>
            <p:cNvSpPr/>
            <p:nvPr/>
          </p:nvSpPr>
          <p:spPr>
            <a:xfrm>
              <a:off x="10951920" y="6491160"/>
              <a:ext cx="109476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81" name="组合 326"/>
          <p:cNvGrpSpPr/>
          <p:nvPr/>
        </p:nvGrpSpPr>
        <p:grpSpPr>
          <a:xfrm>
            <a:off x="-67320" y="-29880"/>
            <a:ext cx="12239640" cy="396000"/>
            <a:chOff x="-67320" y="-29880"/>
            <a:chExt cx="12239640" cy="396000"/>
          </a:xfrm>
        </p:grpSpPr>
        <p:sp>
          <p:nvSpPr>
            <p:cNvPr id="182" name="矩形 307"/>
            <p:cNvSpPr/>
            <p:nvPr/>
          </p:nvSpPr>
          <p:spPr>
            <a:xfrm rot="16200000">
              <a:off x="5854680" y="-5951160"/>
              <a:ext cx="395640" cy="12239640"/>
            </a:xfrm>
            <a:prstGeom prst="rect">
              <a:avLst/>
            </a:prstGeom>
            <a:solidFill>
              <a:srgbClr val="ccb4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3" name="平行四边形 308"/>
            <p:cNvSpPr/>
            <p:nvPr/>
          </p:nvSpPr>
          <p:spPr>
            <a:xfrm>
              <a:off x="-41040" y="-29880"/>
              <a:ext cx="156204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4" name="平行四边形 309"/>
            <p:cNvSpPr/>
            <p:nvPr/>
          </p:nvSpPr>
          <p:spPr>
            <a:xfrm>
              <a:off x="2513160" y="-29880"/>
              <a:ext cx="109476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5" name="平行四边形 310"/>
            <p:cNvSpPr/>
            <p:nvPr/>
          </p:nvSpPr>
          <p:spPr>
            <a:xfrm>
              <a:off x="4599360" y="-29880"/>
              <a:ext cx="109476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6" name="平行四边形 311"/>
            <p:cNvSpPr/>
            <p:nvPr/>
          </p:nvSpPr>
          <p:spPr>
            <a:xfrm>
              <a:off x="6685920" y="-29880"/>
              <a:ext cx="118764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7" name="平行四边形 312"/>
            <p:cNvSpPr/>
            <p:nvPr/>
          </p:nvSpPr>
          <p:spPr>
            <a:xfrm>
              <a:off x="8865360" y="-29880"/>
              <a:ext cx="109476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8" name="平行四边形 313"/>
            <p:cNvSpPr/>
            <p:nvPr/>
          </p:nvSpPr>
          <p:spPr>
            <a:xfrm>
              <a:off x="10951920" y="-29880"/>
              <a:ext cx="109476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89" name="组合 299"/>
          <p:cNvGrpSpPr/>
          <p:nvPr/>
        </p:nvGrpSpPr>
        <p:grpSpPr>
          <a:xfrm>
            <a:off x="11824560" y="-268560"/>
            <a:ext cx="428400" cy="7395480"/>
            <a:chOff x="11824560" y="-268560"/>
            <a:chExt cx="428400" cy="7395480"/>
          </a:xfrm>
        </p:grpSpPr>
        <p:sp>
          <p:nvSpPr>
            <p:cNvPr id="190" name="矩形 296"/>
            <p:cNvSpPr/>
            <p:nvPr/>
          </p:nvSpPr>
          <p:spPr>
            <a:xfrm>
              <a:off x="11824560" y="-169560"/>
              <a:ext cx="395640" cy="7197120"/>
            </a:xfrm>
            <a:prstGeom prst="rect">
              <a:avLst/>
            </a:prstGeom>
            <a:solidFill>
              <a:srgbClr val="ccb4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1" name="平行四边形 26"/>
            <p:cNvSpPr/>
            <p:nvPr/>
          </p:nvSpPr>
          <p:spPr>
            <a:xfrm rot="16200000">
              <a:off x="11241360" y="6148080"/>
              <a:ext cx="156204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2" name="平行四边形 27"/>
            <p:cNvSpPr/>
            <p:nvPr/>
          </p:nvSpPr>
          <p:spPr>
            <a:xfrm rot="16200000">
              <a:off x="11475000" y="4071960"/>
              <a:ext cx="109476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3" name="平行四边形 28"/>
            <p:cNvSpPr/>
            <p:nvPr/>
          </p:nvSpPr>
          <p:spPr>
            <a:xfrm rot="16200000">
              <a:off x="11475000" y="2229840"/>
              <a:ext cx="109476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4" name="平行四边形 29"/>
            <p:cNvSpPr/>
            <p:nvPr/>
          </p:nvSpPr>
          <p:spPr>
            <a:xfrm rot="16200000">
              <a:off x="11338200" y="217800"/>
              <a:ext cx="1401120" cy="42840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95" name="组合 187"/>
          <p:cNvGrpSpPr/>
          <p:nvPr/>
        </p:nvGrpSpPr>
        <p:grpSpPr>
          <a:xfrm>
            <a:off x="9240120" y="855360"/>
            <a:ext cx="1857600" cy="1599120"/>
            <a:chOff x="9240120" y="855360"/>
            <a:chExt cx="1857600" cy="1599120"/>
          </a:xfrm>
        </p:grpSpPr>
        <p:sp>
          <p:nvSpPr>
            <p:cNvPr id="196" name="矩形 38"/>
            <p:cNvSpPr/>
            <p:nvPr/>
          </p:nvSpPr>
          <p:spPr>
            <a:xfrm>
              <a:off x="9300600" y="855360"/>
              <a:ext cx="1797120" cy="1548720"/>
            </a:xfrm>
            <a:prstGeom prst="rect">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97" name="直接连接符 42"/>
            <p:cNvCxnSpPr/>
            <p:nvPr/>
          </p:nvCxnSpPr>
          <p:spPr>
            <a:xfrm>
              <a:off x="9240120" y="892800"/>
              <a:ext cx="89640" cy="360"/>
            </a:xfrm>
            <a:prstGeom prst="straightConnector1">
              <a:avLst/>
            </a:prstGeom>
            <a:ln w="38100">
              <a:solidFill>
                <a:srgbClr val="ffe30d"/>
              </a:solidFill>
            </a:ln>
          </p:spPr>
        </p:cxnSp>
        <p:cxnSp>
          <p:nvCxnSpPr>
            <p:cNvPr id="198" name="直接连接符 44"/>
            <p:cNvCxnSpPr/>
            <p:nvPr/>
          </p:nvCxnSpPr>
          <p:spPr>
            <a:xfrm>
              <a:off x="9240120" y="944640"/>
              <a:ext cx="89640" cy="360"/>
            </a:xfrm>
            <a:prstGeom prst="straightConnector1">
              <a:avLst/>
            </a:prstGeom>
            <a:ln w="38100">
              <a:solidFill>
                <a:srgbClr val="ffe30d"/>
              </a:solidFill>
            </a:ln>
          </p:spPr>
        </p:cxnSp>
        <p:cxnSp>
          <p:nvCxnSpPr>
            <p:cNvPr id="199" name="直接连接符 45"/>
            <p:cNvCxnSpPr/>
            <p:nvPr/>
          </p:nvCxnSpPr>
          <p:spPr>
            <a:xfrm>
              <a:off x="9240120" y="996480"/>
              <a:ext cx="89640" cy="360"/>
            </a:xfrm>
            <a:prstGeom prst="straightConnector1">
              <a:avLst/>
            </a:prstGeom>
            <a:ln w="38100">
              <a:solidFill>
                <a:srgbClr val="ffe30d"/>
              </a:solidFill>
            </a:ln>
          </p:spPr>
        </p:cxnSp>
        <p:cxnSp>
          <p:nvCxnSpPr>
            <p:cNvPr id="200" name="直接连接符 52"/>
            <p:cNvCxnSpPr/>
            <p:nvPr/>
          </p:nvCxnSpPr>
          <p:spPr>
            <a:xfrm>
              <a:off x="9240120" y="1048320"/>
              <a:ext cx="89640" cy="360"/>
            </a:xfrm>
            <a:prstGeom prst="straightConnector1">
              <a:avLst/>
            </a:prstGeom>
            <a:ln w="38100">
              <a:solidFill>
                <a:srgbClr val="ffe30d"/>
              </a:solidFill>
            </a:ln>
          </p:spPr>
        </p:cxnSp>
        <p:cxnSp>
          <p:nvCxnSpPr>
            <p:cNvPr id="201" name="直接连接符 53"/>
            <p:cNvCxnSpPr/>
            <p:nvPr/>
          </p:nvCxnSpPr>
          <p:spPr>
            <a:xfrm>
              <a:off x="9240120" y="1100160"/>
              <a:ext cx="89640" cy="360"/>
            </a:xfrm>
            <a:prstGeom prst="straightConnector1">
              <a:avLst/>
            </a:prstGeom>
            <a:ln w="38100">
              <a:solidFill>
                <a:srgbClr val="ffe30d"/>
              </a:solidFill>
            </a:ln>
          </p:spPr>
        </p:cxnSp>
        <p:cxnSp>
          <p:nvCxnSpPr>
            <p:cNvPr id="202" name="直接连接符 54"/>
            <p:cNvCxnSpPr/>
            <p:nvPr/>
          </p:nvCxnSpPr>
          <p:spPr>
            <a:xfrm>
              <a:off x="9240120" y="1152000"/>
              <a:ext cx="89640" cy="360"/>
            </a:xfrm>
            <a:prstGeom prst="straightConnector1">
              <a:avLst/>
            </a:prstGeom>
            <a:ln w="38100">
              <a:solidFill>
                <a:srgbClr val="ffe30d"/>
              </a:solidFill>
            </a:ln>
          </p:spPr>
        </p:cxnSp>
        <p:cxnSp>
          <p:nvCxnSpPr>
            <p:cNvPr id="203" name="直接连接符 55"/>
            <p:cNvCxnSpPr/>
            <p:nvPr/>
          </p:nvCxnSpPr>
          <p:spPr>
            <a:xfrm>
              <a:off x="9240120" y="1204200"/>
              <a:ext cx="89640" cy="360"/>
            </a:xfrm>
            <a:prstGeom prst="straightConnector1">
              <a:avLst/>
            </a:prstGeom>
            <a:ln w="38100">
              <a:solidFill>
                <a:srgbClr val="ffe30d"/>
              </a:solidFill>
            </a:ln>
          </p:spPr>
        </p:cxnSp>
        <p:cxnSp>
          <p:nvCxnSpPr>
            <p:cNvPr id="204" name="直接连接符 56"/>
            <p:cNvCxnSpPr/>
            <p:nvPr/>
          </p:nvCxnSpPr>
          <p:spPr>
            <a:xfrm>
              <a:off x="9240120" y="1359720"/>
              <a:ext cx="89640" cy="360"/>
            </a:xfrm>
            <a:prstGeom prst="straightConnector1">
              <a:avLst/>
            </a:prstGeom>
            <a:ln w="38100">
              <a:solidFill>
                <a:srgbClr val="ffe30d"/>
              </a:solidFill>
            </a:ln>
          </p:spPr>
        </p:cxnSp>
        <p:cxnSp>
          <p:nvCxnSpPr>
            <p:cNvPr id="205" name="直接连接符 57"/>
            <p:cNvCxnSpPr/>
            <p:nvPr/>
          </p:nvCxnSpPr>
          <p:spPr>
            <a:xfrm>
              <a:off x="9240120" y="1463400"/>
              <a:ext cx="89640" cy="360"/>
            </a:xfrm>
            <a:prstGeom prst="straightConnector1">
              <a:avLst/>
            </a:prstGeom>
            <a:ln w="38100">
              <a:solidFill>
                <a:srgbClr val="ffe30d"/>
              </a:solidFill>
            </a:ln>
          </p:spPr>
        </p:cxnSp>
        <p:cxnSp>
          <p:nvCxnSpPr>
            <p:cNvPr id="206" name="直接连接符 58"/>
            <p:cNvCxnSpPr/>
            <p:nvPr/>
          </p:nvCxnSpPr>
          <p:spPr>
            <a:xfrm>
              <a:off x="9240120" y="1567080"/>
              <a:ext cx="89640" cy="360"/>
            </a:xfrm>
            <a:prstGeom prst="straightConnector1">
              <a:avLst/>
            </a:prstGeom>
            <a:ln w="38100">
              <a:solidFill>
                <a:srgbClr val="ffe30d"/>
              </a:solidFill>
            </a:ln>
          </p:spPr>
        </p:cxnSp>
        <p:cxnSp>
          <p:nvCxnSpPr>
            <p:cNvPr id="207" name="直接连接符 59"/>
            <p:cNvCxnSpPr/>
            <p:nvPr/>
          </p:nvCxnSpPr>
          <p:spPr>
            <a:xfrm>
              <a:off x="9240120" y="1670760"/>
              <a:ext cx="89640" cy="360"/>
            </a:xfrm>
            <a:prstGeom prst="straightConnector1">
              <a:avLst/>
            </a:prstGeom>
            <a:ln w="38100">
              <a:solidFill>
                <a:srgbClr val="ffe30d"/>
              </a:solidFill>
            </a:ln>
          </p:spPr>
        </p:cxnSp>
        <p:cxnSp>
          <p:nvCxnSpPr>
            <p:cNvPr id="208" name="直接连接符 60"/>
            <p:cNvCxnSpPr/>
            <p:nvPr/>
          </p:nvCxnSpPr>
          <p:spPr>
            <a:xfrm>
              <a:off x="9240120" y="1722600"/>
              <a:ext cx="89640" cy="360"/>
            </a:xfrm>
            <a:prstGeom prst="straightConnector1">
              <a:avLst/>
            </a:prstGeom>
            <a:ln w="38100">
              <a:solidFill>
                <a:srgbClr val="ffe30d"/>
              </a:solidFill>
            </a:ln>
          </p:spPr>
        </p:cxnSp>
        <p:cxnSp>
          <p:nvCxnSpPr>
            <p:cNvPr id="209" name="直接连接符 61"/>
            <p:cNvCxnSpPr/>
            <p:nvPr/>
          </p:nvCxnSpPr>
          <p:spPr>
            <a:xfrm>
              <a:off x="9240120" y="1878120"/>
              <a:ext cx="89640" cy="360"/>
            </a:xfrm>
            <a:prstGeom prst="straightConnector1">
              <a:avLst/>
            </a:prstGeom>
            <a:ln w="38100">
              <a:solidFill>
                <a:srgbClr val="ffe30d"/>
              </a:solidFill>
            </a:ln>
          </p:spPr>
        </p:cxnSp>
        <p:cxnSp>
          <p:nvCxnSpPr>
            <p:cNvPr id="210" name="直接连接符 62"/>
            <p:cNvCxnSpPr/>
            <p:nvPr/>
          </p:nvCxnSpPr>
          <p:spPr>
            <a:xfrm>
              <a:off x="9240120" y="1929960"/>
              <a:ext cx="89640" cy="360"/>
            </a:xfrm>
            <a:prstGeom prst="straightConnector1">
              <a:avLst/>
            </a:prstGeom>
            <a:ln w="38100">
              <a:solidFill>
                <a:srgbClr val="ffe30d"/>
              </a:solidFill>
            </a:ln>
          </p:spPr>
        </p:cxnSp>
        <p:cxnSp>
          <p:nvCxnSpPr>
            <p:cNvPr id="211" name="直接连接符 63"/>
            <p:cNvCxnSpPr/>
            <p:nvPr/>
          </p:nvCxnSpPr>
          <p:spPr>
            <a:xfrm>
              <a:off x="9240120" y="2085480"/>
              <a:ext cx="89640" cy="360"/>
            </a:xfrm>
            <a:prstGeom prst="straightConnector1">
              <a:avLst/>
            </a:prstGeom>
            <a:ln w="38100">
              <a:solidFill>
                <a:srgbClr val="ffe30d"/>
              </a:solidFill>
            </a:ln>
          </p:spPr>
        </p:cxnSp>
        <p:cxnSp>
          <p:nvCxnSpPr>
            <p:cNvPr id="212" name="直接连接符 64"/>
            <p:cNvCxnSpPr/>
            <p:nvPr/>
          </p:nvCxnSpPr>
          <p:spPr>
            <a:xfrm>
              <a:off x="9240120" y="2189160"/>
              <a:ext cx="89640" cy="360"/>
            </a:xfrm>
            <a:prstGeom prst="straightConnector1">
              <a:avLst/>
            </a:prstGeom>
            <a:ln w="38100">
              <a:solidFill>
                <a:srgbClr val="ffe30d"/>
              </a:solidFill>
            </a:ln>
          </p:spPr>
        </p:cxnSp>
        <p:cxnSp>
          <p:nvCxnSpPr>
            <p:cNvPr id="213" name="直接连接符 65"/>
            <p:cNvCxnSpPr/>
            <p:nvPr/>
          </p:nvCxnSpPr>
          <p:spPr>
            <a:xfrm>
              <a:off x="9240120" y="2241360"/>
              <a:ext cx="89640" cy="360"/>
            </a:xfrm>
            <a:prstGeom prst="straightConnector1">
              <a:avLst/>
            </a:prstGeom>
            <a:ln w="38100">
              <a:solidFill>
                <a:srgbClr val="ffe30d"/>
              </a:solidFill>
            </a:ln>
          </p:spPr>
        </p:cxnSp>
        <p:cxnSp>
          <p:nvCxnSpPr>
            <p:cNvPr id="214" name="直接连接符 66"/>
            <p:cNvCxnSpPr/>
            <p:nvPr/>
          </p:nvCxnSpPr>
          <p:spPr>
            <a:xfrm>
              <a:off x="9240120" y="2396880"/>
              <a:ext cx="89640" cy="360"/>
            </a:xfrm>
            <a:prstGeom prst="straightConnector1">
              <a:avLst/>
            </a:prstGeom>
            <a:ln w="38100">
              <a:solidFill>
                <a:srgbClr val="ffe30d"/>
              </a:solidFill>
            </a:ln>
          </p:spPr>
        </p:cxnSp>
        <p:cxnSp>
          <p:nvCxnSpPr>
            <p:cNvPr id="215" name="直接连接符 69"/>
            <p:cNvCxnSpPr/>
            <p:nvPr/>
          </p:nvCxnSpPr>
          <p:spPr>
            <a:xfrm>
              <a:off x="9240120" y="1256040"/>
              <a:ext cx="89640" cy="360"/>
            </a:xfrm>
            <a:prstGeom prst="straightConnector1">
              <a:avLst/>
            </a:prstGeom>
            <a:ln w="38100">
              <a:solidFill>
                <a:srgbClr val="ffe30d"/>
              </a:solidFill>
            </a:ln>
          </p:spPr>
        </p:cxnSp>
        <p:cxnSp>
          <p:nvCxnSpPr>
            <p:cNvPr id="216" name="直接连接符 70"/>
            <p:cNvCxnSpPr/>
            <p:nvPr/>
          </p:nvCxnSpPr>
          <p:spPr>
            <a:xfrm>
              <a:off x="9240120" y="1307880"/>
              <a:ext cx="89640" cy="360"/>
            </a:xfrm>
            <a:prstGeom prst="straightConnector1">
              <a:avLst/>
            </a:prstGeom>
            <a:ln w="38100">
              <a:solidFill>
                <a:srgbClr val="ffe30d"/>
              </a:solidFill>
            </a:ln>
          </p:spPr>
        </p:cxnSp>
        <p:cxnSp>
          <p:nvCxnSpPr>
            <p:cNvPr id="217" name="直接连接符 71"/>
            <p:cNvCxnSpPr/>
            <p:nvPr/>
          </p:nvCxnSpPr>
          <p:spPr>
            <a:xfrm>
              <a:off x="9240120" y="1411560"/>
              <a:ext cx="89640" cy="360"/>
            </a:xfrm>
            <a:prstGeom prst="straightConnector1">
              <a:avLst/>
            </a:prstGeom>
            <a:ln w="38100">
              <a:solidFill>
                <a:srgbClr val="ffe30d"/>
              </a:solidFill>
            </a:ln>
          </p:spPr>
        </p:cxnSp>
        <p:cxnSp>
          <p:nvCxnSpPr>
            <p:cNvPr id="218" name="直接连接符 72"/>
            <p:cNvCxnSpPr/>
            <p:nvPr/>
          </p:nvCxnSpPr>
          <p:spPr>
            <a:xfrm>
              <a:off x="9240120" y="1515240"/>
              <a:ext cx="89640" cy="360"/>
            </a:xfrm>
            <a:prstGeom prst="straightConnector1">
              <a:avLst/>
            </a:prstGeom>
            <a:ln w="38100">
              <a:solidFill>
                <a:srgbClr val="ffe30d"/>
              </a:solidFill>
            </a:ln>
          </p:spPr>
        </p:cxnSp>
        <p:cxnSp>
          <p:nvCxnSpPr>
            <p:cNvPr id="219" name="直接连接符 73"/>
            <p:cNvCxnSpPr/>
            <p:nvPr/>
          </p:nvCxnSpPr>
          <p:spPr>
            <a:xfrm>
              <a:off x="9240120" y="1618920"/>
              <a:ext cx="89640" cy="360"/>
            </a:xfrm>
            <a:prstGeom prst="straightConnector1">
              <a:avLst/>
            </a:prstGeom>
            <a:ln w="38100">
              <a:solidFill>
                <a:srgbClr val="ffe30d"/>
              </a:solidFill>
            </a:ln>
          </p:spPr>
        </p:cxnSp>
        <p:cxnSp>
          <p:nvCxnSpPr>
            <p:cNvPr id="220" name="直接连接符 74"/>
            <p:cNvCxnSpPr/>
            <p:nvPr/>
          </p:nvCxnSpPr>
          <p:spPr>
            <a:xfrm>
              <a:off x="9240120" y="1774440"/>
              <a:ext cx="89640" cy="360"/>
            </a:xfrm>
            <a:prstGeom prst="straightConnector1">
              <a:avLst/>
            </a:prstGeom>
            <a:ln w="38100">
              <a:solidFill>
                <a:srgbClr val="ffe30d"/>
              </a:solidFill>
            </a:ln>
          </p:spPr>
        </p:cxnSp>
        <p:cxnSp>
          <p:nvCxnSpPr>
            <p:cNvPr id="221" name="直接连接符 75"/>
            <p:cNvCxnSpPr/>
            <p:nvPr/>
          </p:nvCxnSpPr>
          <p:spPr>
            <a:xfrm>
              <a:off x="9240120" y="1826280"/>
              <a:ext cx="89640" cy="360"/>
            </a:xfrm>
            <a:prstGeom prst="straightConnector1">
              <a:avLst/>
            </a:prstGeom>
            <a:ln w="38100">
              <a:solidFill>
                <a:srgbClr val="ffe30d"/>
              </a:solidFill>
            </a:ln>
          </p:spPr>
        </p:cxnSp>
        <p:cxnSp>
          <p:nvCxnSpPr>
            <p:cNvPr id="222" name="直接连接符 76"/>
            <p:cNvCxnSpPr/>
            <p:nvPr/>
          </p:nvCxnSpPr>
          <p:spPr>
            <a:xfrm>
              <a:off x="9240120" y="1981800"/>
              <a:ext cx="89640" cy="360"/>
            </a:xfrm>
            <a:prstGeom prst="straightConnector1">
              <a:avLst/>
            </a:prstGeom>
            <a:ln w="38100">
              <a:solidFill>
                <a:srgbClr val="ffe30d"/>
              </a:solidFill>
            </a:ln>
          </p:spPr>
        </p:cxnSp>
        <p:cxnSp>
          <p:nvCxnSpPr>
            <p:cNvPr id="223" name="直接连接符 77"/>
            <p:cNvCxnSpPr/>
            <p:nvPr/>
          </p:nvCxnSpPr>
          <p:spPr>
            <a:xfrm>
              <a:off x="9240120" y="2033640"/>
              <a:ext cx="89640" cy="360"/>
            </a:xfrm>
            <a:prstGeom prst="straightConnector1">
              <a:avLst/>
            </a:prstGeom>
            <a:ln w="38100">
              <a:solidFill>
                <a:srgbClr val="ffe30d"/>
              </a:solidFill>
            </a:ln>
          </p:spPr>
        </p:cxnSp>
        <p:cxnSp>
          <p:nvCxnSpPr>
            <p:cNvPr id="224" name="直接连接符 78"/>
            <p:cNvCxnSpPr/>
            <p:nvPr/>
          </p:nvCxnSpPr>
          <p:spPr>
            <a:xfrm>
              <a:off x="9240120" y="2137320"/>
              <a:ext cx="89640" cy="360"/>
            </a:xfrm>
            <a:prstGeom prst="straightConnector1">
              <a:avLst/>
            </a:prstGeom>
            <a:ln w="38100">
              <a:solidFill>
                <a:srgbClr val="ffe30d"/>
              </a:solidFill>
            </a:ln>
          </p:spPr>
        </p:cxnSp>
        <p:cxnSp>
          <p:nvCxnSpPr>
            <p:cNvPr id="225" name="直接连接符 79"/>
            <p:cNvCxnSpPr/>
            <p:nvPr/>
          </p:nvCxnSpPr>
          <p:spPr>
            <a:xfrm>
              <a:off x="9240120" y="2293200"/>
              <a:ext cx="89640" cy="360"/>
            </a:xfrm>
            <a:prstGeom prst="straightConnector1">
              <a:avLst/>
            </a:prstGeom>
            <a:ln w="38100">
              <a:solidFill>
                <a:srgbClr val="ffe30d"/>
              </a:solidFill>
            </a:ln>
          </p:spPr>
        </p:cxnSp>
        <p:cxnSp>
          <p:nvCxnSpPr>
            <p:cNvPr id="226" name="直接连接符 80"/>
            <p:cNvCxnSpPr/>
            <p:nvPr/>
          </p:nvCxnSpPr>
          <p:spPr>
            <a:xfrm>
              <a:off x="9240120" y="2345040"/>
              <a:ext cx="89640" cy="360"/>
            </a:xfrm>
            <a:prstGeom prst="straightConnector1">
              <a:avLst/>
            </a:prstGeom>
            <a:ln w="38100">
              <a:solidFill>
                <a:srgbClr val="ffe30d"/>
              </a:solidFill>
            </a:ln>
          </p:spPr>
        </p:cxnSp>
        <p:cxnSp>
          <p:nvCxnSpPr>
            <p:cNvPr id="227" name="直接连接符 91"/>
            <p:cNvCxnSpPr/>
            <p:nvPr/>
          </p:nvCxnSpPr>
          <p:spPr>
            <a:xfrm flipV="1">
              <a:off x="9300240" y="2387520"/>
              <a:ext cx="360" cy="67320"/>
            </a:xfrm>
            <a:prstGeom prst="straightConnector1">
              <a:avLst/>
            </a:prstGeom>
            <a:ln w="38100">
              <a:solidFill>
                <a:srgbClr val="ffe30d"/>
              </a:solidFill>
            </a:ln>
          </p:spPr>
        </p:cxnSp>
        <p:cxnSp>
          <p:nvCxnSpPr>
            <p:cNvPr id="228" name="直接连接符 92"/>
            <p:cNvCxnSpPr/>
            <p:nvPr/>
          </p:nvCxnSpPr>
          <p:spPr>
            <a:xfrm flipV="1">
              <a:off x="9348480" y="2387520"/>
              <a:ext cx="360" cy="67320"/>
            </a:xfrm>
            <a:prstGeom prst="straightConnector1">
              <a:avLst/>
            </a:prstGeom>
            <a:ln w="38100">
              <a:solidFill>
                <a:srgbClr val="ffe30d"/>
              </a:solidFill>
            </a:ln>
          </p:spPr>
        </p:cxnSp>
        <p:cxnSp>
          <p:nvCxnSpPr>
            <p:cNvPr id="229" name="直接连接符 93"/>
            <p:cNvCxnSpPr/>
            <p:nvPr/>
          </p:nvCxnSpPr>
          <p:spPr>
            <a:xfrm flipV="1">
              <a:off x="9396720" y="2387520"/>
              <a:ext cx="360" cy="67320"/>
            </a:xfrm>
            <a:prstGeom prst="straightConnector1">
              <a:avLst/>
            </a:prstGeom>
            <a:ln w="38100">
              <a:solidFill>
                <a:srgbClr val="ffe30d"/>
              </a:solidFill>
            </a:ln>
          </p:spPr>
        </p:cxnSp>
        <p:cxnSp>
          <p:nvCxnSpPr>
            <p:cNvPr id="230" name="直接连接符 94"/>
            <p:cNvCxnSpPr/>
            <p:nvPr/>
          </p:nvCxnSpPr>
          <p:spPr>
            <a:xfrm flipV="1">
              <a:off x="9444960" y="2387520"/>
              <a:ext cx="360" cy="67320"/>
            </a:xfrm>
            <a:prstGeom prst="straightConnector1">
              <a:avLst/>
            </a:prstGeom>
            <a:ln w="38100">
              <a:solidFill>
                <a:srgbClr val="ffe30d"/>
              </a:solidFill>
            </a:ln>
          </p:spPr>
        </p:cxnSp>
        <p:cxnSp>
          <p:nvCxnSpPr>
            <p:cNvPr id="231" name="直接连接符 95"/>
            <p:cNvCxnSpPr/>
            <p:nvPr/>
          </p:nvCxnSpPr>
          <p:spPr>
            <a:xfrm flipV="1">
              <a:off x="9493200" y="2387520"/>
              <a:ext cx="360" cy="67320"/>
            </a:xfrm>
            <a:prstGeom prst="straightConnector1">
              <a:avLst/>
            </a:prstGeom>
            <a:ln w="38100">
              <a:solidFill>
                <a:srgbClr val="ffe30d"/>
              </a:solidFill>
            </a:ln>
          </p:spPr>
        </p:cxnSp>
        <p:cxnSp>
          <p:nvCxnSpPr>
            <p:cNvPr id="232" name="直接连接符 96"/>
            <p:cNvCxnSpPr/>
            <p:nvPr/>
          </p:nvCxnSpPr>
          <p:spPr>
            <a:xfrm flipV="1">
              <a:off x="9541440" y="2387520"/>
              <a:ext cx="360" cy="67320"/>
            </a:xfrm>
            <a:prstGeom prst="straightConnector1">
              <a:avLst/>
            </a:prstGeom>
            <a:ln w="38100">
              <a:solidFill>
                <a:srgbClr val="ffe30d"/>
              </a:solidFill>
            </a:ln>
          </p:spPr>
        </p:cxnSp>
        <p:cxnSp>
          <p:nvCxnSpPr>
            <p:cNvPr id="233" name="直接连接符 97"/>
            <p:cNvCxnSpPr/>
            <p:nvPr/>
          </p:nvCxnSpPr>
          <p:spPr>
            <a:xfrm flipV="1">
              <a:off x="9589680" y="2387520"/>
              <a:ext cx="360" cy="67320"/>
            </a:xfrm>
            <a:prstGeom prst="straightConnector1">
              <a:avLst/>
            </a:prstGeom>
            <a:ln w="38100">
              <a:solidFill>
                <a:srgbClr val="ffe30d"/>
              </a:solidFill>
            </a:ln>
          </p:spPr>
        </p:cxnSp>
        <p:cxnSp>
          <p:nvCxnSpPr>
            <p:cNvPr id="234" name="直接连接符 98"/>
            <p:cNvCxnSpPr/>
            <p:nvPr/>
          </p:nvCxnSpPr>
          <p:spPr>
            <a:xfrm flipV="1">
              <a:off x="9734400" y="2387520"/>
              <a:ext cx="360" cy="67320"/>
            </a:xfrm>
            <a:prstGeom prst="straightConnector1">
              <a:avLst/>
            </a:prstGeom>
            <a:ln w="38100">
              <a:solidFill>
                <a:srgbClr val="ffe30d"/>
              </a:solidFill>
            </a:ln>
          </p:spPr>
        </p:cxnSp>
        <p:cxnSp>
          <p:nvCxnSpPr>
            <p:cNvPr id="235" name="直接连接符 99"/>
            <p:cNvCxnSpPr/>
            <p:nvPr/>
          </p:nvCxnSpPr>
          <p:spPr>
            <a:xfrm flipV="1">
              <a:off x="9830880" y="2387520"/>
              <a:ext cx="360" cy="67320"/>
            </a:xfrm>
            <a:prstGeom prst="straightConnector1">
              <a:avLst/>
            </a:prstGeom>
            <a:ln w="38100">
              <a:solidFill>
                <a:srgbClr val="ffe30d"/>
              </a:solidFill>
            </a:ln>
          </p:spPr>
        </p:cxnSp>
        <p:cxnSp>
          <p:nvCxnSpPr>
            <p:cNvPr id="236" name="直接连接符 100"/>
            <p:cNvCxnSpPr/>
            <p:nvPr/>
          </p:nvCxnSpPr>
          <p:spPr>
            <a:xfrm flipV="1">
              <a:off x="9927360" y="2387520"/>
              <a:ext cx="360" cy="67320"/>
            </a:xfrm>
            <a:prstGeom prst="straightConnector1">
              <a:avLst/>
            </a:prstGeom>
            <a:ln w="38100">
              <a:solidFill>
                <a:srgbClr val="ffe30d"/>
              </a:solidFill>
            </a:ln>
          </p:spPr>
        </p:cxnSp>
        <p:cxnSp>
          <p:nvCxnSpPr>
            <p:cNvPr id="237" name="直接连接符 106"/>
            <p:cNvCxnSpPr/>
            <p:nvPr/>
          </p:nvCxnSpPr>
          <p:spPr>
            <a:xfrm flipV="1">
              <a:off x="10023840" y="2387520"/>
              <a:ext cx="360" cy="67320"/>
            </a:xfrm>
            <a:prstGeom prst="straightConnector1">
              <a:avLst/>
            </a:prstGeom>
            <a:ln w="38100">
              <a:solidFill>
                <a:srgbClr val="ffe30d"/>
              </a:solidFill>
            </a:ln>
          </p:spPr>
        </p:cxnSp>
        <p:cxnSp>
          <p:nvCxnSpPr>
            <p:cNvPr id="238" name="直接连接符 107"/>
            <p:cNvCxnSpPr/>
            <p:nvPr/>
          </p:nvCxnSpPr>
          <p:spPr>
            <a:xfrm flipV="1">
              <a:off x="10072080" y="2387520"/>
              <a:ext cx="360" cy="67320"/>
            </a:xfrm>
            <a:prstGeom prst="straightConnector1">
              <a:avLst/>
            </a:prstGeom>
            <a:ln w="38100">
              <a:solidFill>
                <a:srgbClr val="ffe30d"/>
              </a:solidFill>
            </a:ln>
          </p:spPr>
        </p:cxnSp>
        <p:cxnSp>
          <p:nvCxnSpPr>
            <p:cNvPr id="239" name="直接连接符 108"/>
            <p:cNvCxnSpPr/>
            <p:nvPr/>
          </p:nvCxnSpPr>
          <p:spPr>
            <a:xfrm flipV="1">
              <a:off x="10216800" y="2387520"/>
              <a:ext cx="360" cy="67320"/>
            </a:xfrm>
            <a:prstGeom prst="straightConnector1">
              <a:avLst/>
            </a:prstGeom>
            <a:ln w="38100">
              <a:solidFill>
                <a:srgbClr val="ffe30d"/>
              </a:solidFill>
            </a:ln>
          </p:spPr>
        </p:cxnSp>
        <p:cxnSp>
          <p:nvCxnSpPr>
            <p:cNvPr id="240" name="直接连接符 109"/>
            <p:cNvCxnSpPr/>
            <p:nvPr/>
          </p:nvCxnSpPr>
          <p:spPr>
            <a:xfrm flipV="1">
              <a:off x="10313280" y="2387520"/>
              <a:ext cx="360" cy="67320"/>
            </a:xfrm>
            <a:prstGeom prst="straightConnector1">
              <a:avLst/>
            </a:prstGeom>
            <a:ln w="38100">
              <a:solidFill>
                <a:srgbClr val="ffe30d"/>
              </a:solidFill>
            </a:ln>
          </p:spPr>
        </p:cxnSp>
        <p:cxnSp>
          <p:nvCxnSpPr>
            <p:cNvPr id="241" name="直接连接符 110"/>
            <p:cNvCxnSpPr/>
            <p:nvPr/>
          </p:nvCxnSpPr>
          <p:spPr>
            <a:xfrm flipV="1">
              <a:off x="10410120" y="2387520"/>
              <a:ext cx="360" cy="67320"/>
            </a:xfrm>
            <a:prstGeom prst="straightConnector1">
              <a:avLst/>
            </a:prstGeom>
            <a:ln w="38100">
              <a:solidFill>
                <a:srgbClr val="ffe30d"/>
              </a:solidFill>
            </a:ln>
          </p:spPr>
        </p:cxnSp>
        <p:cxnSp>
          <p:nvCxnSpPr>
            <p:cNvPr id="242" name="直接连接符 111"/>
            <p:cNvCxnSpPr/>
            <p:nvPr/>
          </p:nvCxnSpPr>
          <p:spPr>
            <a:xfrm flipV="1">
              <a:off x="9637920" y="2387520"/>
              <a:ext cx="360" cy="67320"/>
            </a:xfrm>
            <a:prstGeom prst="straightConnector1">
              <a:avLst/>
            </a:prstGeom>
            <a:ln w="38100">
              <a:solidFill>
                <a:srgbClr val="ffe30d"/>
              </a:solidFill>
            </a:ln>
          </p:spPr>
        </p:cxnSp>
        <p:cxnSp>
          <p:nvCxnSpPr>
            <p:cNvPr id="243" name="直接连接符 112"/>
            <p:cNvCxnSpPr/>
            <p:nvPr/>
          </p:nvCxnSpPr>
          <p:spPr>
            <a:xfrm flipV="1">
              <a:off x="9686160" y="2387520"/>
              <a:ext cx="360" cy="67320"/>
            </a:xfrm>
            <a:prstGeom prst="straightConnector1">
              <a:avLst/>
            </a:prstGeom>
            <a:ln w="38100">
              <a:solidFill>
                <a:srgbClr val="ffe30d"/>
              </a:solidFill>
            </a:ln>
          </p:spPr>
        </p:cxnSp>
        <p:cxnSp>
          <p:nvCxnSpPr>
            <p:cNvPr id="244" name="直接连接符 113"/>
            <p:cNvCxnSpPr/>
            <p:nvPr/>
          </p:nvCxnSpPr>
          <p:spPr>
            <a:xfrm flipV="1">
              <a:off x="9782640" y="2387520"/>
              <a:ext cx="360" cy="67320"/>
            </a:xfrm>
            <a:prstGeom prst="straightConnector1">
              <a:avLst/>
            </a:prstGeom>
            <a:ln w="38100">
              <a:solidFill>
                <a:srgbClr val="ffe30d"/>
              </a:solidFill>
            </a:ln>
          </p:spPr>
        </p:cxnSp>
        <p:cxnSp>
          <p:nvCxnSpPr>
            <p:cNvPr id="245" name="直接连接符 114"/>
            <p:cNvCxnSpPr/>
            <p:nvPr/>
          </p:nvCxnSpPr>
          <p:spPr>
            <a:xfrm flipV="1">
              <a:off x="9879120" y="2387520"/>
              <a:ext cx="360" cy="67320"/>
            </a:xfrm>
            <a:prstGeom prst="straightConnector1">
              <a:avLst/>
            </a:prstGeom>
            <a:ln w="38100">
              <a:solidFill>
                <a:srgbClr val="ffe30d"/>
              </a:solidFill>
            </a:ln>
          </p:spPr>
        </p:cxnSp>
        <p:cxnSp>
          <p:nvCxnSpPr>
            <p:cNvPr id="246" name="直接连接符 115"/>
            <p:cNvCxnSpPr/>
            <p:nvPr/>
          </p:nvCxnSpPr>
          <p:spPr>
            <a:xfrm flipV="1">
              <a:off x="9975600" y="2387520"/>
              <a:ext cx="360" cy="67320"/>
            </a:xfrm>
            <a:prstGeom prst="straightConnector1">
              <a:avLst/>
            </a:prstGeom>
            <a:ln w="38100">
              <a:solidFill>
                <a:srgbClr val="ffe30d"/>
              </a:solidFill>
            </a:ln>
          </p:spPr>
        </p:cxnSp>
        <p:cxnSp>
          <p:nvCxnSpPr>
            <p:cNvPr id="247" name="直接连接符 121"/>
            <p:cNvCxnSpPr/>
            <p:nvPr/>
          </p:nvCxnSpPr>
          <p:spPr>
            <a:xfrm flipV="1">
              <a:off x="10120320" y="2387520"/>
              <a:ext cx="360" cy="67320"/>
            </a:xfrm>
            <a:prstGeom prst="straightConnector1">
              <a:avLst/>
            </a:prstGeom>
            <a:ln w="38100">
              <a:solidFill>
                <a:srgbClr val="ffe30d"/>
              </a:solidFill>
            </a:ln>
          </p:spPr>
        </p:cxnSp>
        <p:cxnSp>
          <p:nvCxnSpPr>
            <p:cNvPr id="248" name="直接连接符 122"/>
            <p:cNvCxnSpPr/>
            <p:nvPr/>
          </p:nvCxnSpPr>
          <p:spPr>
            <a:xfrm flipV="1">
              <a:off x="10168560" y="2387520"/>
              <a:ext cx="360" cy="67320"/>
            </a:xfrm>
            <a:prstGeom prst="straightConnector1">
              <a:avLst/>
            </a:prstGeom>
            <a:ln w="38100">
              <a:solidFill>
                <a:srgbClr val="ffe30d"/>
              </a:solidFill>
            </a:ln>
          </p:spPr>
        </p:cxnSp>
        <p:cxnSp>
          <p:nvCxnSpPr>
            <p:cNvPr id="249" name="直接连接符 123"/>
            <p:cNvCxnSpPr/>
            <p:nvPr/>
          </p:nvCxnSpPr>
          <p:spPr>
            <a:xfrm flipV="1">
              <a:off x="10265040" y="2387520"/>
              <a:ext cx="360" cy="67320"/>
            </a:xfrm>
            <a:prstGeom prst="straightConnector1">
              <a:avLst/>
            </a:prstGeom>
            <a:ln w="38100">
              <a:solidFill>
                <a:srgbClr val="ffe30d"/>
              </a:solidFill>
            </a:ln>
          </p:spPr>
        </p:cxnSp>
        <p:cxnSp>
          <p:nvCxnSpPr>
            <p:cNvPr id="250" name="直接连接符 124"/>
            <p:cNvCxnSpPr/>
            <p:nvPr/>
          </p:nvCxnSpPr>
          <p:spPr>
            <a:xfrm flipV="1">
              <a:off x="10361880" y="2387520"/>
              <a:ext cx="360" cy="67320"/>
            </a:xfrm>
            <a:prstGeom prst="straightConnector1">
              <a:avLst/>
            </a:prstGeom>
            <a:ln w="38100">
              <a:solidFill>
                <a:srgbClr val="ffe30d"/>
              </a:solidFill>
            </a:ln>
          </p:spPr>
        </p:cxnSp>
        <p:cxnSp>
          <p:nvCxnSpPr>
            <p:cNvPr id="251" name="直接连接符 125"/>
            <p:cNvCxnSpPr/>
            <p:nvPr/>
          </p:nvCxnSpPr>
          <p:spPr>
            <a:xfrm flipV="1">
              <a:off x="10458360" y="2387520"/>
              <a:ext cx="360" cy="67320"/>
            </a:xfrm>
            <a:prstGeom prst="straightConnector1">
              <a:avLst/>
            </a:prstGeom>
            <a:ln w="38100">
              <a:solidFill>
                <a:srgbClr val="ffe30d"/>
              </a:solidFill>
            </a:ln>
          </p:spPr>
        </p:cxnSp>
        <p:cxnSp>
          <p:nvCxnSpPr>
            <p:cNvPr id="252" name="直接连接符 126"/>
            <p:cNvCxnSpPr/>
            <p:nvPr/>
          </p:nvCxnSpPr>
          <p:spPr>
            <a:xfrm flipV="1">
              <a:off x="10506600" y="2387520"/>
              <a:ext cx="360" cy="67320"/>
            </a:xfrm>
            <a:prstGeom prst="straightConnector1">
              <a:avLst/>
            </a:prstGeom>
            <a:ln w="38100">
              <a:solidFill>
                <a:srgbClr val="ffe30d"/>
              </a:solidFill>
            </a:ln>
          </p:spPr>
        </p:cxnSp>
        <p:cxnSp>
          <p:nvCxnSpPr>
            <p:cNvPr id="253" name="直接连接符 127"/>
            <p:cNvCxnSpPr/>
            <p:nvPr/>
          </p:nvCxnSpPr>
          <p:spPr>
            <a:xfrm flipV="1">
              <a:off x="10554840" y="2387520"/>
              <a:ext cx="360" cy="67320"/>
            </a:xfrm>
            <a:prstGeom prst="straightConnector1">
              <a:avLst/>
            </a:prstGeom>
            <a:ln w="38100">
              <a:solidFill>
                <a:srgbClr val="ffe30d"/>
              </a:solidFill>
            </a:ln>
          </p:spPr>
        </p:cxnSp>
        <p:cxnSp>
          <p:nvCxnSpPr>
            <p:cNvPr id="254" name="直接连接符 128"/>
            <p:cNvCxnSpPr/>
            <p:nvPr/>
          </p:nvCxnSpPr>
          <p:spPr>
            <a:xfrm flipV="1">
              <a:off x="10603080" y="2387520"/>
              <a:ext cx="360" cy="67320"/>
            </a:xfrm>
            <a:prstGeom prst="straightConnector1">
              <a:avLst/>
            </a:prstGeom>
            <a:ln w="38100">
              <a:solidFill>
                <a:srgbClr val="ffe30d"/>
              </a:solidFill>
            </a:ln>
          </p:spPr>
        </p:cxnSp>
        <p:cxnSp>
          <p:nvCxnSpPr>
            <p:cNvPr id="255" name="直接连接符 129"/>
            <p:cNvCxnSpPr/>
            <p:nvPr/>
          </p:nvCxnSpPr>
          <p:spPr>
            <a:xfrm flipV="1">
              <a:off x="10651320" y="2387520"/>
              <a:ext cx="360" cy="67320"/>
            </a:xfrm>
            <a:prstGeom prst="straightConnector1">
              <a:avLst/>
            </a:prstGeom>
            <a:ln w="38100">
              <a:solidFill>
                <a:srgbClr val="ffe30d"/>
              </a:solidFill>
            </a:ln>
          </p:spPr>
        </p:cxnSp>
        <p:cxnSp>
          <p:nvCxnSpPr>
            <p:cNvPr id="256" name="直接连接符 130"/>
            <p:cNvCxnSpPr/>
            <p:nvPr/>
          </p:nvCxnSpPr>
          <p:spPr>
            <a:xfrm flipV="1">
              <a:off x="10699560" y="2387520"/>
              <a:ext cx="360" cy="67320"/>
            </a:xfrm>
            <a:prstGeom prst="straightConnector1">
              <a:avLst/>
            </a:prstGeom>
            <a:ln w="38100">
              <a:solidFill>
                <a:srgbClr val="ffe30d"/>
              </a:solidFill>
            </a:ln>
          </p:spPr>
        </p:cxnSp>
        <p:cxnSp>
          <p:nvCxnSpPr>
            <p:cNvPr id="257" name="直接连接符 168"/>
            <p:cNvCxnSpPr/>
            <p:nvPr/>
          </p:nvCxnSpPr>
          <p:spPr>
            <a:xfrm flipV="1">
              <a:off x="10796040" y="2387520"/>
              <a:ext cx="360" cy="67320"/>
            </a:xfrm>
            <a:prstGeom prst="straightConnector1">
              <a:avLst/>
            </a:prstGeom>
            <a:ln w="38100">
              <a:solidFill>
                <a:srgbClr val="ffe30d"/>
              </a:solidFill>
            </a:ln>
          </p:spPr>
        </p:cxnSp>
        <p:cxnSp>
          <p:nvCxnSpPr>
            <p:cNvPr id="258" name="直接连接符 169"/>
            <p:cNvCxnSpPr/>
            <p:nvPr/>
          </p:nvCxnSpPr>
          <p:spPr>
            <a:xfrm flipV="1">
              <a:off x="10844280" y="2387520"/>
              <a:ext cx="360" cy="67320"/>
            </a:xfrm>
            <a:prstGeom prst="straightConnector1">
              <a:avLst/>
            </a:prstGeom>
            <a:ln w="38100">
              <a:solidFill>
                <a:srgbClr val="ffe30d"/>
              </a:solidFill>
            </a:ln>
          </p:spPr>
        </p:cxnSp>
        <p:cxnSp>
          <p:nvCxnSpPr>
            <p:cNvPr id="259" name="直接连接符 170"/>
            <p:cNvCxnSpPr/>
            <p:nvPr/>
          </p:nvCxnSpPr>
          <p:spPr>
            <a:xfrm flipV="1">
              <a:off x="10892520" y="2387520"/>
              <a:ext cx="360" cy="67320"/>
            </a:xfrm>
            <a:prstGeom prst="straightConnector1">
              <a:avLst/>
            </a:prstGeom>
            <a:ln w="38100">
              <a:solidFill>
                <a:srgbClr val="ffe30d"/>
              </a:solidFill>
            </a:ln>
          </p:spPr>
        </p:cxnSp>
        <p:cxnSp>
          <p:nvCxnSpPr>
            <p:cNvPr id="260" name="直接连接符 171"/>
            <p:cNvCxnSpPr/>
            <p:nvPr/>
          </p:nvCxnSpPr>
          <p:spPr>
            <a:xfrm flipV="1">
              <a:off x="10940760" y="2387520"/>
              <a:ext cx="360" cy="67320"/>
            </a:xfrm>
            <a:prstGeom prst="straightConnector1">
              <a:avLst/>
            </a:prstGeom>
            <a:ln w="38100">
              <a:solidFill>
                <a:srgbClr val="ffe30d"/>
              </a:solidFill>
            </a:ln>
          </p:spPr>
        </p:cxnSp>
        <p:cxnSp>
          <p:nvCxnSpPr>
            <p:cNvPr id="261" name="直接连接符 172"/>
            <p:cNvCxnSpPr/>
            <p:nvPr/>
          </p:nvCxnSpPr>
          <p:spPr>
            <a:xfrm flipV="1">
              <a:off x="10989000" y="2387520"/>
              <a:ext cx="360" cy="67320"/>
            </a:xfrm>
            <a:prstGeom prst="straightConnector1">
              <a:avLst/>
            </a:prstGeom>
            <a:ln w="38100">
              <a:solidFill>
                <a:srgbClr val="ffe30d"/>
              </a:solidFill>
            </a:ln>
          </p:spPr>
        </p:cxnSp>
        <p:cxnSp>
          <p:nvCxnSpPr>
            <p:cNvPr id="262" name="直接连接符 173"/>
            <p:cNvCxnSpPr/>
            <p:nvPr/>
          </p:nvCxnSpPr>
          <p:spPr>
            <a:xfrm flipV="1">
              <a:off x="11037240" y="2387520"/>
              <a:ext cx="360" cy="67320"/>
            </a:xfrm>
            <a:prstGeom prst="straightConnector1">
              <a:avLst/>
            </a:prstGeom>
            <a:ln w="38100">
              <a:solidFill>
                <a:srgbClr val="ffe30d"/>
              </a:solidFill>
            </a:ln>
          </p:spPr>
        </p:cxnSp>
        <p:cxnSp>
          <p:nvCxnSpPr>
            <p:cNvPr id="263" name="直接连接符 174"/>
            <p:cNvCxnSpPr/>
            <p:nvPr/>
          </p:nvCxnSpPr>
          <p:spPr>
            <a:xfrm flipV="1">
              <a:off x="11085480" y="2387520"/>
              <a:ext cx="360" cy="67320"/>
            </a:xfrm>
            <a:prstGeom prst="straightConnector1">
              <a:avLst/>
            </a:prstGeom>
            <a:ln w="38100">
              <a:solidFill>
                <a:srgbClr val="ffe30d"/>
              </a:solidFill>
            </a:ln>
          </p:spPr>
        </p:cxnSp>
        <p:cxnSp>
          <p:nvCxnSpPr>
            <p:cNvPr id="264" name="直接连接符 183"/>
            <p:cNvCxnSpPr/>
            <p:nvPr/>
          </p:nvCxnSpPr>
          <p:spPr>
            <a:xfrm flipV="1">
              <a:off x="10747800" y="2387520"/>
              <a:ext cx="360" cy="67320"/>
            </a:xfrm>
            <a:prstGeom prst="straightConnector1">
              <a:avLst/>
            </a:prstGeom>
            <a:ln w="38100">
              <a:solidFill>
                <a:srgbClr val="ffe30d"/>
              </a:solidFill>
            </a:ln>
          </p:spPr>
        </p:cxnSp>
        <p:cxnSp>
          <p:nvCxnSpPr>
            <p:cNvPr id="265" name="直接连接符 185"/>
            <p:cNvCxnSpPr/>
            <p:nvPr/>
          </p:nvCxnSpPr>
          <p:spPr>
            <a:xfrm>
              <a:off x="9300240" y="1333080"/>
              <a:ext cx="1785600" cy="360"/>
            </a:xfrm>
            <a:prstGeom prst="straightConnector1">
              <a:avLst/>
            </a:prstGeom>
            <a:ln w="38100">
              <a:solidFill>
                <a:srgbClr val="ffffff"/>
              </a:solidFill>
              <a:prstDash val="sysDot"/>
            </a:ln>
          </p:spPr>
        </p:cxnSp>
        <p:cxnSp>
          <p:nvCxnSpPr>
            <p:cNvPr id="266" name="直接连接符 186"/>
            <p:cNvCxnSpPr/>
            <p:nvPr/>
          </p:nvCxnSpPr>
          <p:spPr>
            <a:xfrm>
              <a:off x="10338480" y="855360"/>
              <a:ext cx="360" cy="1541520"/>
            </a:xfrm>
            <a:prstGeom prst="straightConnector1">
              <a:avLst/>
            </a:prstGeom>
            <a:ln w="38100">
              <a:solidFill>
                <a:srgbClr val="ffffff"/>
              </a:solidFill>
              <a:prstDash val="sysDot"/>
            </a:ln>
          </p:spPr>
        </p:cxnSp>
      </p:grpSp>
      <p:grpSp>
        <p:nvGrpSpPr>
          <p:cNvPr id="267" name="组合 300"/>
          <p:cNvGrpSpPr/>
          <p:nvPr/>
        </p:nvGrpSpPr>
        <p:grpSpPr>
          <a:xfrm>
            <a:off x="-39960" y="-268560"/>
            <a:ext cx="395640" cy="7395480"/>
            <a:chOff x="-39960" y="-268560"/>
            <a:chExt cx="395640" cy="7395480"/>
          </a:xfrm>
        </p:grpSpPr>
        <p:sp>
          <p:nvSpPr>
            <p:cNvPr id="268" name="矩形 301"/>
            <p:cNvSpPr/>
            <p:nvPr/>
          </p:nvSpPr>
          <p:spPr>
            <a:xfrm>
              <a:off x="-39960" y="-169560"/>
              <a:ext cx="395640" cy="7197120"/>
            </a:xfrm>
            <a:prstGeom prst="rect">
              <a:avLst/>
            </a:prstGeom>
            <a:solidFill>
              <a:srgbClr val="ccb4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9" name="平行四边形 302"/>
            <p:cNvSpPr/>
            <p:nvPr/>
          </p:nvSpPr>
          <p:spPr>
            <a:xfrm rot="16200000">
              <a:off x="-622800" y="6148080"/>
              <a:ext cx="156204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0" name="平行四边形 303"/>
            <p:cNvSpPr/>
            <p:nvPr/>
          </p:nvSpPr>
          <p:spPr>
            <a:xfrm rot="16200000">
              <a:off x="-389160" y="4071960"/>
              <a:ext cx="109476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1" name="平行四边形 304"/>
            <p:cNvSpPr/>
            <p:nvPr/>
          </p:nvSpPr>
          <p:spPr>
            <a:xfrm rot="16200000">
              <a:off x="-389160" y="2229840"/>
              <a:ext cx="109476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2" name="平行四边形 305"/>
            <p:cNvSpPr/>
            <p:nvPr/>
          </p:nvSpPr>
          <p:spPr>
            <a:xfrm rot="16200000">
              <a:off x="-542520" y="234000"/>
              <a:ext cx="140112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73" name="文本框 4"/>
          <p:cNvSpPr/>
          <p:nvPr/>
        </p:nvSpPr>
        <p:spPr>
          <a:xfrm>
            <a:off x="2026440" y="605520"/>
            <a:ext cx="725472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ccb400"/>
                </a:solidFill>
                <a:latin typeface="方正清刻本悦宋简体"/>
                <a:ea typeface="方正清刻本悦宋简体"/>
              </a:rPr>
              <a:t>从你的全世界路过通用</a:t>
            </a:r>
            <a:r>
              <a:rPr b="1" lang="en-US" sz="4000" spc="-1" strike="noStrike">
                <a:solidFill>
                  <a:srgbClr val="ccb400"/>
                </a:solidFill>
                <a:latin typeface="方正清刻本悦宋简体"/>
                <a:ea typeface="方正清刻本悦宋简体"/>
              </a:rPr>
              <a:t>PPT</a:t>
            </a:r>
            <a:r>
              <a:rPr b="1" lang="zh-CN" sz="4000" spc="-1" strike="noStrike">
                <a:solidFill>
                  <a:srgbClr val="ccb400"/>
                </a:solidFill>
                <a:latin typeface="方正清刻本悦宋简体"/>
                <a:ea typeface="方正清刻本悦宋简体"/>
              </a:rPr>
              <a:t>模板</a:t>
            </a:r>
            <a:endParaRPr b="0" lang="en-US" sz="4000" spc="-1" strike="noStrike">
              <a:solidFill>
                <a:srgbClr val="000000"/>
              </a:solidFill>
              <a:latin typeface="Arial"/>
            </a:endParaRPr>
          </a:p>
        </p:txBody>
      </p:sp>
      <p:sp>
        <p:nvSpPr>
          <p:cNvPr id="274" name="文本框 5"/>
          <p:cNvSpPr/>
          <p:nvPr/>
        </p:nvSpPr>
        <p:spPr>
          <a:xfrm>
            <a:off x="9493560" y="4722120"/>
            <a:ext cx="1754280" cy="5162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zh-CN" sz="2800" spc="-1" strike="noStrike">
                <a:solidFill>
                  <a:srgbClr val="ccb400"/>
                </a:solidFill>
                <a:latin typeface="方正硬笔行书简体"/>
                <a:ea typeface="方正硬笔行书简体"/>
              </a:rPr>
              <a:t>张嘉佳</a:t>
            </a:r>
            <a:endParaRPr b="0" lang="en-US" sz="2800" spc="-1" strike="noStrike">
              <a:solidFill>
                <a:srgbClr val="000000"/>
              </a:solidFill>
              <a:latin typeface="Arial"/>
            </a:endParaRPr>
          </a:p>
        </p:txBody>
      </p:sp>
      <p:sp>
        <p:nvSpPr>
          <p:cNvPr id="275"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文本框 1"/>
          <p:cNvSpPr/>
          <p:nvPr/>
        </p:nvSpPr>
        <p:spPr>
          <a:xfrm>
            <a:off x="9829800" y="609480"/>
            <a:ext cx="2361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方正硬笔行书简体"/>
                <a:ea typeface="方正硬笔行书简体"/>
              </a:rPr>
              <a:t>第五章：争吵</a:t>
            </a:r>
            <a:endParaRPr b="0" lang="en-US" sz="2800" spc="-1" strike="noStrike">
              <a:solidFill>
                <a:srgbClr val="000000"/>
              </a:solidFill>
              <a:latin typeface="Arial"/>
            </a:endParaRPr>
          </a:p>
        </p:txBody>
      </p:sp>
      <p:sp>
        <p:nvSpPr>
          <p:cNvPr id="370" name="文本框 3"/>
          <p:cNvSpPr/>
          <p:nvPr/>
        </p:nvSpPr>
        <p:spPr>
          <a:xfrm>
            <a:off x="497160" y="609480"/>
            <a:ext cx="43952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chemeClr val="accent6"/>
                </a:solidFill>
                <a:latin typeface="方正硬笔行书简体"/>
                <a:ea typeface="方正硬笔行书简体"/>
              </a:rPr>
              <a:t>争吵</a:t>
            </a:r>
            <a:r>
              <a:rPr b="0" lang="zh-CN" sz="2400" spc="-1" strike="noStrike">
                <a:solidFill>
                  <a:srgbClr val="000000"/>
                </a:solidFill>
                <a:latin typeface="方正硬笔行书简体"/>
                <a:ea typeface="方正硬笔行书简体"/>
              </a:rPr>
              <a:t>是爱情中一场的博弈</a:t>
            </a:r>
            <a:endParaRPr b="0" lang="en-US" sz="2400" spc="-1" strike="noStrike">
              <a:solidFill>
                <a:srgbClr val="000000"/>
              </a:solidFill>
              <a:latin typeface="Arial"/>
            </a:endParaRPr>
          </a:p>
        </p:txBody>
      </p:sp>
      <p:grpSp>
        <p:nvGrpSpPr>
          <p:cNvPr id="371" name="组合 7"/>
          <p:cNvGrpSpPr/>
          <p:nvPr/>
        </p:nvGrpSpPr>
        <p:grpSpPr>
          <a:xfrm>
            <a:off x="497160" y="2961720"/>
            <a:ext cx="4641480" cy="1141200"/>
            <a:chOff x="497160" y="2961720"/>
            <a:chExt cx="4641480" cy="1141200"/>
          </a:xfrm>
        </p:grpSpPr>
        <p:sp>
          <p:nvSpPr>
            <p:cNvPr id="372" name="文本框 4"/>
            <p:cNvSpPr/>
            <p:nvPr/>
          </p:nvSpPr>
          <p:spPr>
            <a:xfrm>
              <a:off x="497160" y="3190320"/>
              <a:ext cx="464148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5400" spc="-1" strike="noStrike">
                  <a:solidFill>
                    <a:schemeClr val="accent6"/>
                  </a:solidFill>
                  <a:latin typeface="方正硬笔行书简体"/>
                  <a:ea typeface="方正硬笔行书简体"/>
                </a:rPr>
                <a:t>感情</a:t>
              </a:r>
              <a:r>
                <a:rPr b="0" lang="en-US" sz="3600" spc="-1" strike="noStrike">
                  <a:solidFill>
                    <a:srgbClr val="000000"/>
                  </a:solidFill>
                  <a:latin typeface="方正硬笔行书简体"/>
                  <a:ea typeface="方正硬笔行书简体"/>
                </a:rPr>
                <a:t>VS</a:t>
              </a:r>
              <a:r>
                <a:rPr b="1" lang="zh-CN" sz="5400" spc="-1" strike="noStrike">
                  <a:solidFill>
                    <a:schemeClr val="accent6"/>
                  </a:solidFill>
                  <a:latin typeface="方正硬笔行书简体"/>
                  <a:ea typeface="方正硬笔行书简体"/>
                </a:rPr>
                <a:t>逻辑</a:t>
              </a:r>
              <a:endParaRPr b="0" lang="en-US" sz="5400" spc="-1" strike="noStrike">
                <a:solidFill>
                  <a:srgbClr val="000000"/>
                </a:solidFill>
                <a:latin typeface="Arial"/>
              </a:endParaRPr>
            </a:p>
          </p:txBody>
        </p:sp>
        <p:sp>
          <p:nvSpPr>
            <p:cNvPr id="373" name="文本框 5"/>
            <p:cNvSpPr/>
            <p:nvPr/>
          </p:nvSpPr>
          <p:spPr>
            <a:xfrm>
              <a:off x="928440" y="2961720"/>
              <a:ext cx="18892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Calibri"/>
                  <a:ea typeface="方正硬笔行书简体"/>
                </a:rPr>
                <a:t>女人吵的是</a:t>
              </a:r>
              <a:endParaRPr b="0" lang="en-US" sz="2000" spc="-1" strike="noStrike">
                <a:solidFill>
                  <a:srgbClr val="000000"/>
                </a:solidFill>
                <a:latin typeface="Arial"/>
              </a:endParaRPr>
            </a:p>
          </p:txBody>
        </p:sp>
        <p:sp>
          <p:nvSpPr>
            <p:cNvPr id="374" name="文本框 6"/>
            <p:cNvSpPr/>
            <p:nvPr/>
          </p:nvSpPr>
          <p:spPr>
            <a:xfrm>
              <a:off x="3086640" y="2961720"/>
              <a:ext cx="17838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Calibri"/>
                  <a:ea typeface="方正硬笔行书简体"/>
                </a:rPr>
                <a:t>男人吵的是</a:t>
              </a:r>
              <a:endParaRPr b="0" lang="en-US" sz="2000" spc="-1" strike="noStrike">
                <a:solidFill>
                  <a:srgbClr val="000000"/>
                </a:solidFill>
                <a:latin typeface="Arial"/>
              </a:endParaRPr>
            </a:p>
          </p:txBody>
        </p:sp>
      </p:grpSp>
      <p:sp>
        <p:nvSpPr>
          <p:cNvPr id="375" name="文本框 9"/>
          <p:cNvSpPr/>
          <p:nvPr/>
        </p:nvSpPr>
        <p:spPr>
          <a:xfrm>
            <a:off x="4948560" y="1908000"/>
            <a:ext cx="7043040" cy="228420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pPr>
            <a:r>
              <a:rPr b="0" lang="zh-CN" sz="2000" spc="-1" strike="noStrike">
                <a:solidFill>
                  <a:srgbClr val="000000"/>
                </a:solidFill>
                <a:latin typeface="Calibri"/>
                <a:ea typeface="方正硬笔行书简体"/>
              </a:rPr>
              <a:t>女朋友哭得讲不出话，程达摔门而出。</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Calibri"/>
                <a:ea typeface="方正硬笔行书简体"/>
              </a:rPr>
              <a:t>整天上班没心情，下班跟哥们儿喝酒，说自己找错女人了。</a:t>
            </a:r>
            <a:endParaRPr b="0" lang="en-US" sz="2000" spc="-1" strike="noStrike">
              <a:solidFill>
                <a:srgbClr val="000000"/>
              </a:solidFill>
              <a:latin typeface="Arial"/>
            </a:endParaRPr>
          </a:p>
          <a:p>
            <a:pPr algn="just">
              <a:lnSpc>
                <a:spcPct val="120000"/>
              </a:lnSpc>
            </a:pPr>
            <a:r>
              <a:rPr b="0" lang="en-US" sz="2000" spc="-1" strike="noStrike">
                <a:solidFill>
                  <a:srgbClr val="000000"/>
                </a:solidFill>
                <a:latin typeface="Calibri"/>
                <a:ea typeface="方正硬笔行书简体"/>
              </a:rPr>
              <a:t>……</a:t>
            </a:r>
            <a:endParaRPr b="0" lang="en-US" sz="2000" spc="-1" strike="noStrike">
              <a:solidFill>
                <a:srgbClr val="000000"/>
              </a:solidFill>
              <a:latin typeface="Arial"/>
            </a:endParaRPr>
          </a:p>
          <a:p>
            <a:pPr algn="just">
              <a:lnSpc>
                <a:spcPct val="120000"/>
              </a:lnSpc>
            </a:pP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Calibri"/>
                <a:ea typeface="方正硬笔行书简体"/>
              </a:rPr>
              <a:t>他跑回家，假装什么事都没有发生，推开门跟平常一样说：“我回来了。”</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Calibri"/>
                <a:ea typeface="方正硬笔行书简体"/>
              </a:rPr>
              <a:t>可是从那天开始，这间屋子里再也听不到她的回答：“哎呀先换鞋。”</a:t>
            </a:r>
            <a:endParaRPr b="0" lang="en-US" sz="2000" spc="-1" strike="noStrike">
              <a:solidFill>
                <a:srgbClr val="000000"/>
              </a:solidFill>
              <a:latin typeface="Arial"/>
            </a:endParaRPr>
          </a:p>
        </p:txBody>
      </p:sp>
      <p:pic>
        <p:nvPicPr>
          <p:cNvPr id="376" name="图片 10" descr=""/>
          <p:cNvPicPr/>
          <p:nvPr/>
        </p:nvPicPr>
        <p:blipFill>
          <a:blip r:embed="rId1"/>
          <a:stretch/>
        </p:blipFill>
        <p:spPr>
          <a:xfrm>
            <a:off x="10261800" y="4281480"/>
            <a:ext cx="1294920" cy="176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文本框 1"/>
          <p:cNvSpPr/>
          <p:nvPr/>
        </p:nvSpPr>
        <p:spPr>
          <a:xfrm>
            <a:off x="9791640" y="609480"/>
            <a:ext cx="24001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方正硬笔行书简体"/>
                <a:ea typeface="方正硬笔行书简体"/>
              </a:rPr>
              <a:t>第六章：放手</a:t>
            </a:r>
            <a:endParaRPr b="0" lang="en-US" sz="2800" spc="-1" strike="noStrike">
              <a:solidFill>
                <a:srgbClr val="000000"/>
              </a:solidFill>
              <a:latin typeface="Arial"/>
            </a:endParaRPr>
          </a:p>
        </p:txBody>
      </p:sp>
      <p:sp>
        <p:nvSpPr>
          <p:cNvPr id="378" name="文本框 2"/>
          <p:cNvSpPr/>
          <p:nvPr/>
        </p:nvSpPr>
        <p:spPr>
          <a:xfrm>
            <a:off x="497160" y="609480"/>
            <a:ext cx="43952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ff6699"/>
                </a:solidFill>
                <a:latin typeface="方正硬笔行书简体"/>
                <a:ea typeface="方正硬笔行书简体"/>
              </a:rPr>
              <a:t>放手</a:t>
            </a:r>
            <a:r>
              <a:rPr b="0" lang="zh-CN" sz="2400" spc="-1" strike="noStrike">
                <a:solidFill>
                  <a:srgbClr val="000000"/>
                </a:solidFill>
                <a:latin typeface="方正硬笔行书简体"/>
                <a:ea typeface="方正硬笔行书简体"/>
              </a:rPr>
              <a:t>不代表是末等生</a:t>
            </a:r>
            <a:endParaRPr b="0" lang="en-US" sz="2400" spc="-1" strike="noStrike">
              <a:solidFill>
                <a:srgbClr val="000000"/>
              </a:solidFill>
              <a:latin typeface="Arial"/>
            </a:endParaRPr>
          </a:p>
        </p:txBody>
      </p:sp>
      <p:sp>
        <p:nvSpPr>
          <p:cNvPr id="379" name="文本框 3"/>
          <p:cNvSpPr/>
          <p:nvPr/>
        </p:nvSpPr>
        <p:spPr>
          <a:xfrm>
            <a:off x="1392480" y="1962720"/>
            <a:ext cx="7764480" cy="8211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0000"/>
                </a:solidFill>
                <a:latin typeface="Calibri"/>
                <a:ea typeface="方正硬笔行书简体"/>
              </a:rPr>
              <a:t>对这个世界绝望是轻而易举的，对这个世界挚爱是举步维艰的</a:t>
            </a:r>
            <a:endParaRPr b="0" lang="en-US" sz="2000" spc="-1" strike="noStrike">
              <a:solidFill>
                <a:srgbClr val="000000"/>
              </a:solidFill>
              <a:latin typeface="Arial"/>
            </a:endParaRPr>
          </a:p>
          <a:p>
            <a:pPr>
              <a:lnSpc>
                <a:spcPct val="120000"/>
              </a:lnSpc>
            </a:pPr>
            <a:r>
              <a:rPr b="0" lang="zh-CN" sz="2000" spc="-1" strike="noStrike">
                <a:solidFill>
                  <a:srgbClr val="000000"/>
                </a:solidFill>
                <a:latin typeface="Calibri"/>
                <a:ea typeface="方正硬笔行书简体"/>
              </a:rPr>
              <a:t>末等生慧子，以男生的方位画一个坐标，跌跌撞撞杀出一条血路</a:t>
            </a:r>
            <a:endParaRPr b="0" lang="en-US" sz="2000" spc="-1" strike="noStrike">
              <a:solidFill>
                <a:srgbClr val="000000"/>
              </a:solidFill>
              <a:latin typeface="Arial"/>
            </a:endParaRPr>
          </a:p>
        </p:txBody>
      </p:sp>
      <p:sp>
        <p:nvSpPr>
          <p:cNvPr id="380" name="文本框 6"/>
          <p:cNvSpPr/>
          <p:nvPr/>
        </p:nvSpPr>
        <p:spPr>
          <a:xfrm>
            <a:off x="4892760" y="3720600"/>
            <a:ext cx="6671160" cy="1125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Calibri"/>
                <a:ea typeface="方正硬笔行书简体"/>
              </a:rPr>
              <a:t>马尾辫还是大波浪，好不好看，不是由自己决定的吗？</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Calibri"/>
                <a:ea typeface="方正硬笔行书简体"/>
              </a:rPr>
              <a:t>对的，所以，慧子，你不是末等生，你是</a:t>
            </a:r>
            <a:r>
              <a:rPr b="1" lang="zh-CN" sz="4800" spc="-1" strike="noStrike">
                <a:solidFill>
                  <a:srgbClr val="ff3399"/>
                </a:solidFill>
                <a:latin typeface="方正硬笔行书简体"/>
                <a:ea typeface="方正硬笔行书简体"/>
              </a:rPr>
              <a:t>一等兵</a:t>
            </a:r>
            <a:endParaRPr b="0" lang="en-US" sz="4800" spc="-1" strike="noStrike">
              <a:solidFill>
                <a:srgbClr val="000000"/>
              </a:solidFill>
              <a:latin typeface="Arial"/>
            </a:endParaRPr>
          </a:p>
        </p:txBody>
      </p:sp>
      <p:pic>
        <p:nvPicPr>
          <p:cNvPr id="381" name="图片 7" descr=""/>
          <p:cNvPicPr/>
          <p:nvPr/>
        </p:nvPicPr>
        <p:blipFill>
          <a:blip r:embed="rId1"/>
          <a:stretch/>
        </p:blipFill>
        <p:spPr>
          <a:xfrm>
            <a:off x="2040120" y="2818080"/>
            <a:ext cx="2657160" cy="2666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文本框 3"/>
          <p:cNvSpPr/>
          <p:nvPr/>
        </p:nvSpPr>
        <p:spPr>
          <a:xfrm>
            <a:off x="9843120" y="609480"/>
            <a:ext cx="23486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方正硬笔行书简体"/>
                <a:ea typeface="方正硬笔行书简体"/>
              </a:rPr>
              <a:t>第六章：放手</a:t>
            </a:r>
            <a:endParaRPr b="0" lang="en-US" sz="2800" spc="-1" strike="noStrike">
              <a:solidFill>
                <a:srgbClr val="000000"/>
              </a:solidFill>
              <a:latin typeface="Arial"/>
            </a:endParaRPr>
          </a:p>
        </p:txBody>
      </p:sp>
      <p:sp>
        <p:nvSpPr>
          <p:cNvPr id="383" name="文本框 4"/>
          <p:cNvSpPr/>
          <p:nvPr/>
        </p:nvSpPr>
        <p:spPr>
          <a:xfrm>
            <a:off x="497160" y="609480"/>
            <a:ext cx="43952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ff3399"/>
                </a:solidFill>
                <a:latin typeface="方正硬笔行书简体"/>
                <a:ea typeface="方正硬笔行书简体"/>
              </a:rPr>
              <a:t>放手</a:t>
            </a:r>
            <a:r>
              <a:rPr b="0" lang="zh-CN" sz="2400" spc="-1" strike="noStrike">
                <a:solidFill>
                  <a:srgbClr val="000000"/>
                </a:solidFill>
                <a:latin typeface="方正硬笔行书简体"/>
                <a:ea typeface="方正硬笔行书简体"/>
              </a:rPr>
              <a:t>不代表是末等生</a:t>
            </a:r>
            <a:endParaRPr b="0" lang="en-US" sz="2400" spc="-1" strike="noStrike">
              <a:solidFill>
                <a:srgbClr val="000000"/>
              </a:solidFill>
              <a:latin typeface="Arial"/>
            </a:endParaRPr>
          </a:p>
        </p:txBody>
      </p:sp>
      <p:pic>
        <p:nvPicPr>
          <p:cNvPr id="384" name="图片 6" descr=""/>
          <p:cNvPicPr/>
          <p:nvPr/>
        </p:nvPicPr>
        <p:blipFill>
          <a:blip r:embed="rId1"/>
          <a:srcRect l="20468" t="0" r="23186" b="0"/>
          <a:stretch/>
        </p:blipFill>
        <p:spPr>
          <a:xfrm flipH="1">
            <a:off x="9843480" y="2424240"/>
            <a:ext cx="2242440" cy="2984760"/>
          </a:xfrm>
          <a:prstGeom prst="rect">
            <a:avLst/>
          </a:prstGeom>
          <a:ln w="0">
            <a:noFill/>
          </a:ln>
        </p:spPr>
      </p:pic>
      <p:pic>
        <p:nvPicPr>
          <p:cNvPr id="385" name="图片 7" descr=""/>
          <p:cNvPicPr/>
          <p:nvPr/>
        </p:nvPicPr>
        <p:blipFill>
          <a:blip r:embed="rId2"/>
          <a:srcRect l="20468" t="0" r="23186" b="0"/>
          <a:stretch/>
        </p:blipFill>
        <p:spPr>
          <a:xfrm>
            <a:off x="645120" y="2424240"/>
            <a:ext cx="2242440" cy="2984760"/>
          </a:xfrm>
          <a:prstGeom prst="rect">
            <a:avLst/>
          </a:prstGeom>
          <a:ln w="0">
            <a:noFill/>
          </a:ln>
        </p:spPr>
      </p:pic>
      <p:sp>
        <p:nvSpPr>
          <p:cNvPr id="386" name="文本框 8"/>
          <p:cNvSpPr/>
          <p:nvPr/>
        </p:nvSpPr>
        <p:spPr>
          <a:xfrm>
            <a:off x="8413200" y="5751360"/>
            <a:ext cx="389592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400" spc="-1" strike="noStrike">
                <a:solidFill>
                  <a:srgbClr val="ff3399"/>
                </a:solidFill>
                <a:latin typeface="方正硬笔行书简体"/>
                <a:ea typeface="方正硬笔行书简体"/>
              </a:rPr>
              <a:t>暴走萝莉</a:t>
            </a:r>
            <a:r>
              <a:rPr b="0" lang="zh-CN" sz="1800" spc="-1" strike="noStrike">
                <a:solidFill>
                  <a:srgbClr val="000000"/>
                </a:solidFill>
                <a:latin typeface="Calibri"/>
                <a:ea typeface="方正硬笔行书简体"/>
              </a:rPr>
              <a:t>何木子</a:t>
            </a:r>
            <a:endParaRPr b="0" lang="en-US" sz="1800" spc="-1" strike="noStrike">
              <a:solidFill>
                <a:srgbClr val="000000"/>
              </a:solidFill>
              <a:latin typeface="Arial"/>
            </a:endParaRPr>
          </a:p>
        </p:txBody>
      </p:sp>
      <p:sp>
        <p:nvSpPr>
          <p:cNvPr id="387" name="文本框 10"/>
          <p:cNvSpPr/>
          <p:nvPr/>
        </p:nvSpPr>
        <p:spPr>
          <a:xfrm>
            <a:off x="2711160" y="1627200"/>
            <a:ext cx="7308360" cy="447876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pPr>
            <a:r>
              <a:rPr b="0" lang="zh-CN" sz="2000" spc="-1" strike="noStrike">
                <a:solidFill>
                  <a:srgbClr val="000000"/>
                </a:solidFill>
                <a:latin typeface="方正硬笔行书简体"/>
                <a:ea typeface="方正硬笔行书简体"/>
              </a:rPr>
              <a:t>教练来扶何木子胳膊，何木子哇地哭了，喊：“别他妈碰我，</a:t>
            </a:r>
            <a:r>
              <a:rPr b="0" lang="en-US" sz="2000" spc="-1" strike="noStrike">
                <a:solidFill>
                  <a:srgbClr val="000000"/>
                </a:solidFill>
                <a:latin typeface="方正硬笔行书简体"/>
                <a:ea typeface="方正硬笔行书简体"/>
              </a:rPr>
              <a:t>……我要回家！我靠，姥姥救命啊，毛里求斯混蛋要弄死我……古秦你个狗娘养的把我逼到这个田地的呀……我错了我不该跳伞的……我要回家吃夫妻肺片呜呜呜呜……”</a:t>
            </a:r>
            <a:endParaRPr b="0" lang="en-US" sz="2000" spc="-1" strike="noStrike">
              <a:solidFill>
                <a:srgbClr val="000000"/>
              </a:solidFill>
              <a:latin typeface="Arial"/>
            </a:endParaRPr>
          </a:p>
          <a:p>
            <a:pPr algn="just">
              <a:lnSpc>
                <a:spcPct val="120000"/>
              </a:lnSpc>
            </a:pPr>
            <a:r>
              <a:rPr b="0" lang="en-US" sz="2000" spc="-1" strike="noStrike">
                <a:solidFill>
                  <a:srgbClr val="000000"/>
                </a:solidFill>
                <a:latin typeface="方正硬笔行书简体"/>
                <a:ea typeface="方正硬笔行书简体"/>
              </a:rPr>
              <a:t>……</a:t>
            </a:r>
            <a:r>
              <a:rPr b="0" lang="zh-CN" sz="2000" spc="-1" strike="noStrike">
                <a:solidFill>
                  <a:srgbClr val="000000"/>
                </a:solidFill>
                <a:latin typeface="方正硬笔行书简体"/>
                <a:ea typeface="方正硬笔行书简体"/>
              </a:rPr>
              <a:t>何木子一愣，大叫：“还能玩儿啊！有种你等我一下！”</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她纵身跳了出去。</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管春一愣，大叫：“还能玩儿啊！看来阿梅也要找个二婚的了！”</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他纵身跳了出去。</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毛毛一愣，大叫：“还能玩儿啊！春狗等老娘来收拾你！”</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她纵身跳了出去；</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我跟韩牛一愣，他大叫：“还能玩儿啊！你说咱俩这是为啥啊！”</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然后他抱着我纵身跳了出去；</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我能隐约听见教练在喊：“你们姿势不标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文本框 3"/>
          <p:cNvSpPr/>
          <p:nvPr/>
        </p:nvSpPr>
        <p:spPr>
          <a:xfrm>
            <a:off x="9753480" y="609480"/>
            <a:ext cx="24379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方正硬笔行书简体"/>
                <a:ea typeface="方正硬笔行书简体"/>
              </a:rPr>
              <a:t>第七章：怀念</a:t>
            </a:r>
            <a:endParaRPr b="0" lang="en-US" sz="2800" spc="-1" strike="noStrike">
              <a:solidFill>
                <a:srgbClr val="000000"/>
              </a:solidFill>
              <a:latin typeface="Arial"/>
            </a:endParaRPr>
          </a:p>
        </p:txBody>
      </p:sp>
      <p:sp>
        <p:nvSpPr>
          <p:cNvPr id="389" name="文本框 4"/>
          <p:cNvSpPr/>
          <p:nvPr/>
        </p:nvSpPr>
        <p:spPr>
          <a:xfrm>
            <a:off x="497160" y="609480"/>
            <a:ext cx="51087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chemeClr val="accent6"/>
                </a:solidFill>
                <a:latin typeface="方正硬笔行书简体"/>
                <a:ea typeface="方正硬笔行书简体"/>
              </a:rPr>
              <a:t>怀念</a:t>
            </a:r>
            <a:r>
              <a:rPr b="0" lang="zh-CN" sz="2400" spc="-1" strike="noStrike">
                <a:solidFill>
                  <a:srgbClr val="000000"/>
                </a:solidFill>
                <a:latin typeface="方正硬笔行书简体"/>
                <a:ea typeface="方正硬笔行书简体"/>
              </a:rPr>
              <a:t>是一场没有返程的旅行</a:t>
            </a:r>
            <a:endParaRPr b="0" lang="en-US" sz="2400" spc="-1" strike="noStrike">
              <a:solidFill>
                <a:srgbClr val="000000"/>
              </a:solidFill>
              <a:latin typeface="Arial"/>
            </a:endParaRPr>
          </a:p>
        </p:txBody>
      </p:sp>
      <p:sp>
        <p:nvSpPr>
          <p:cNvPr id="390" name="文本框 1"/>
          <p:cNvSpPr/>
          <p:nvPr/>
        </p:nvSpPr>
        <p:spPr>
          <a:xfrm>
            <a:off x="2006280" y="2583000"/>
            <a:ext cx="7548840" cy="184356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pPr>
            <a:r>
              <a:rPr b="0" lang="en-US" sz="3200" spc="-1" strike="noStrike">
                <a:solidFill>
                  <a:srgbClr val="000000"/>
                </a:solidFill>
                <a:latin typeface="Calibri"/>
                <a:ea typeface="方正硬笔行书简体"/>
              </a:rPr>
              <a:t>“</a:t>
            </a:r>
            <a:r>
              <a:rPr b="0" lang="zh-CN" sz="3200" spc="-1" strike="noStrike">
                <a:solidFill>
                  <a:srgbClr val="000000"/>
                </a:solidFill>
                <a:latin typeface="Calibri"/>
                <a:ea typeface="方正硬笔行书简体"/>
              </a:rPr>
              <a:t>这世上有没有奋不顾身的爱情？</a:t>
            </a:r>
            <a:r>
              <a:rPr b="0" lang="en-US" sz="3200" spc="-1" strike="noStrike">
                <a:solidFill>
                  <a:srgbClr val="000000"/>
                </a:solidFill>
                <a:latin typeface="Calibri"/>
                <a:ea typeface="方正硬笔行书简体"/>
              </a:rPr>
              <a:t>”</a:t>
            </a:r>
            <a:endParaRPr b="0" lang="en-US" sz="3200" spc="-1" strike="noStrike">
              <a:solidFill>
                <a:srgbClr val="000000"/>
              </a:solidFill>
              <a:latin typeface="Arial"/>
            </a:endParaRPr>
          </a:p>
          <a:p>
            <a:pPr algn="just">
              <a:lnSpc>
                <a:spcPct val="120000"/>
              </a:lnSpc>
            </a:pPr>
            <a:r>
              <a:rPr b="0" lang="en-US" sz="3200" spc="-1" strike="noStrike">
                <a:solidFill>
                  <a:srgbClr val="000000"/>
                </a:solidFill>
                <a:latin typeface="Calibri"/>
                <a:ea typeface="方正硬笔行书简体"/>
              </a:rPr>
              <a:t>“</a:t>
            </a:r>
            <a:r>
              <a:rPr b="0" lang="zh-CN" sz="3200" spc="-1" strike="noStrike">
                <a:solidFill>
                  <a:srgbClr val="000000"/>
                </a:solidFill>
                <a:latin typeface="Calibri"/>
                <a:ea typeface="方正硬笔行书简体"/>
              </a:rPr>
              <a:t>说的好像你没有经历过二十岁一样。”</a:t>
            </a:r>
            <a:endParaRPr b="0" lang="en-US" sz="3200" spc="-1" strike="noStrike">
              <a:solidFill>
                <a:srgbClr val="000000"/>
              </a:solidFill>
              <a:latin typeface="Arial"/>
            </a:endParaRPr>
          </a:p>
          <a:p>
            <a:pPr algn="just">
              <a:lnSpc>
                <a:spcPct val="120000"/>
              </a:lnSpc>
            </a:pPr>
            <a:r>
              <a:rPr b="0" lang="en-US" sz="3200" spc="-1" strike="noStrike">
                <a:solidFill>
                  <a:srgbClr val="000000"/>
                </a:solidFill>
                <a:latin typeface="Calibri"/>
                <a:ea typeface="方正硬笔行书简体"/>
              </a:rPr>
              <a:t>“</a:t>
            </a:r>
            <a:r>
              <a:rPr b="0" lang="zh-CN" sz="3200" spc="-1" strike="noStrike">
                <a:solidFill>
                  <a:srgbClr val="000000"/>
                </a:solidFill>
                <a:latin typeface="Calibri"/>
                <a:ea typeface="方正硬笔行书简体"/>
              </a:rPr>
              <a:t>嗯。”</a:t>
            </a:r>
            <a:endParaRPr b="0" lang="en-US" sz="3200" spc="-1" strike="noStrike">
              <a:solidFill>
                <a:srgbClr val="000000"/>
              </a:solidFill>
              <a:latin typeface="Arial"/>
            </a:endParaRPr>
          </a:p>
        </p:txBody>
      </p:sp>
      <p:sp>
        <p:nvSpPr>
          <p:cNvPr id="391" name="文本框 2"/>
          <p:cNvSpPr/>
          <p:nvPr/>
        </p:nvSpPr>
        <p:spPr>
          <a:xfrm>
            <a:off x="7056000" y="4981680"/>
            <a:ext cx="49986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Calibri"/>
                <a:ea typeface="方正硬笔行书简体"/>
              </a:rPr>
              <a:t>只有最好的爱情，没有伟大的</a:t>
            </a:r>
            <a:r>
              <a:rPr b="1" lang="zh-CN" sz="5400" spc="-1" strike="noStrike">
                <a:solidFill>
                  <a:schemeClr val="accent6"/>
                </a:solidFill>
                <a:latin typeface="方正硬笔行书简体"/>
                <a:ea typeface="方正硬笔行书简体"/>
              </a:rPr>
              <a:t>爱情</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2" name="组合 4"/>
          <p:cNvGrpSpPr/>
          <p:nvPr/>
        </p:nvGrpSpPr>
        <p:grpSpPr>
          <a:xfrm>
            <a:off x="8688240" y="-49320"/>
            <a:ext cx="757440" cy="6906960"/>
            <a:chOff x="8688240" y="-49320"/>
            <a:chExt cx="757440" cy="6906960"/>
          </a:xfrm>
        </p:grpSpPr>
        <p:grpSp>
          <p:nvGrpSpPr>
            <p:cNvPr id="393" name="组合 5"/>
            <p:cNvGrpSpPr/>
            <p:nvPr/>
          </p:nvGrpSpPr>
          <p:grpSpPr>
            <a:xfrm>
              <a:off x="8688240" y="6266520"/>
              <a:ext cx="757440" cy="591120"/>
              <a:chOff x="8688240" y="6266520"/>
              <a:chExt cx="757440" cy="591120"/>
            </a:xfrm>
          </p:grpSpPr>
          <p:grpSp>
            <p:nvGrpSpPr>
              <p:cNvPr id="394" name="组合 156"/>
              <p:cNvGrpSpPr/>
              <p:nvPr/>
            </p:nvGrpSpPr>
            <p:grpSpPr>
              <a:xfrm>
                <a:off x="9159120" y="6500880"/>
                <a:ext cx="286560" cy="356760"/>
                <a:chOff x="9159120" y="6500880"/>
                <a:chExt cx="286560" cy="356760"/>
              </a:xfrm>
            </p:grpSpPr>
            <p:sp>
              <p:nvSpPr>
                <p:cNvPr id="395" name="任意多边形 164"/>
                <p:cNvSpPr/>
                <p:nvPr/>
              </p:nvSpPr>
              <p:spPr>
                <a:xfrm>
                  <a:off x="9232920" y="6572880"/>
                  <a:ext cx="196200" cy="284760"/>
                </a:xfrm>
                <a:custGeom>
                  <a:avLst/>
                  <a:gdLst>
                    <a:gd name="textAreaLeft" fmla="*/ 0 w 196200"/>
                    <a:gd name="textAreaRight" fmla="*/ 19656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396" name="椭圆 165"/>
                <p:cNvSpPr/>
                <p:nvPr/>
              </p:nvSpPr>
              <p:spPr>
                <a:xfrm rot="20643000">
                  <a:off x="9169560" y="651024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397" name="椭圆 166"/>
                <p:cNvSpPr/>
                <p:nvPr/>
              </p:nvSpPr>
              <p:spPr>
                <a:xfrm rot="21346800">
                  <a:off x="9265320" y="6517800"/>
                  <a:ext cx="4536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398" name="椭圆 167"/>
                <p:cNvSpPr/>
                <p:nvPr/>
              </p:nvSpPr>
              <p:spPr>
                <a:xfrm rot="578400">
                  <a:off x="9317880" y="651600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399" name="椭圆 168"/>
                <p:cNvSpPr/>
                <p:nvPr/>
              </p:nvSpPr>
              <p:spPr>
                <a:xfrm rot="1860000">
                  <a:off x="9364320" y="653544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00" name="椭圆 169"/>
                <p:cNvSpPr/>
                <p:nvPr/>
              </p:nvSpPr>
              <p:spPr>
                <a:xfrm rot="1860000">
                  <a:off x="9405360" y="656892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nvGrpSpPr>
              <p:cNvPr id="401" name="组合 157"/>
              <p:cNvGrpSpPr/>
              <p:nvPr/>
            </p:nvGrpSpPr>
            <p:grpSpPr>
              <a:xfrm>
                <a:off x="8688240" y="6266520"/>
                <a:ext cx="286560" cy="356400"/>
                <a:chOff x="8688240" y="6266520"/>
                <a:chExt cx="286560" cy="356400"/>
              </a:xfrm>
            </p:grpSpPr>
            <p:sp>
              <p:nvSpPr>
                <p:cNvPr id="402" name="任意多边形 158"/>
                <p:cNvSpPr/>
                <p:nvPr/>
              </p:nvSpPr>
              <p:spPr>
                <a:xfrm flipH="1">
                  <a:off x="8704440" y="6338160"/>
                  <a:ext cx="196200" cy="284760"/>
                </a:xfrm>
                <a:custGeom>
                  <a:avLst/>
                  <a:gdLst>
                    <a:gd name="textAreaLeft" fmla="*/ -360 w 196200"/>
                    <a:gd name="textAreaRight" fmla="*/ 19620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03" name="椭圆 159"/>
                <p:cNvSpPr/>
                <p:nvPr/>
              </p:nvSpPr>
              <p:spPr>
                <a:xfrm flipH="1" rot="957000">
                  <a:off x="8880840" y="627588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04" name="椭圆 160"/>
                <p:cNvSpPr/>
                <p:nvPr/>
              </p:nvSpPr>
              <p:spPr>
                <a:xfrm flipH="1" rot="253200">
                  <a:off x="8823240" y="6283440"/>
                  <a:ext cx="45360" cy="514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000" bIns="18000" anchor="ctr">
                  <a:noAutofit/>
                </a:bodyPr>
                <a:p>
                  <a:pPr algn="ctr">
                    <a:lnSpc>
                      <a:spcPct val="100000"/>
                    </a:lnSpc>
                  </a:pPr>
                  <a:endParaRPr b="0" lang="en-US" sz="1800" spc="-1" strike="noStrike">
                    <a:solidFill>
                      <a:schemeClr val="lt1"/>
                    </a:solidFill>
                    <a:latin typeface="Calibri"/>
                  </a:endParaRPr>
                </a:p>
              </p:txBody>
            </p:sp>
            <p:sp>
              <p:nvSpPr>
                <p:cNvPr id="405" name="椭圆 161"/>
                <p:cNvSpPr/>
                <p:nvPr/>
              </p:nvSpPr>
              <p:spPr>
                <a:xfrm flipH="1" rot="21021600">
                  <a:off x="8773920" y="628164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06" name="椭圆 162"/>
                <p:cNvSpPr/>
                <p:nvPr/>
              </p:nvSpPr>
              <p:spPr>
                <a:xfrm flipH="1" rot="19740000">
                  <a:off x="8728560" y="630108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07" name="椭圆 163"/>
                <p:cNvSpPr/>
                <p:nvPr/>
              </p:nvSpPr>
              <p:spPr>
                <a:xfrm flipH="1" rot="19740000">
                  <a:off x="8695440" y="633456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grpSp>
          <p:nvGrpSpPr>
            <p:cNvPr id="408" name="组合 6"/>
            <p:cNvGrpSpPr/>
            <p:nvPr/>
          </p:nvGrpSpPr>
          <p:grpSpPr>
            <a:xfrm>
              <a:off x="8688240" y="5635080"/>
              <a:ext cx="757440" cy="590760"/>
              <a:chOff x="8688240" y="5635080"/>
              <a:chExt cx="757440" cy="590760"/>
            </a:xfrm>
          </p:grpSpPr>
          <p:grpSp>
            <p:nvGrpSpPr>
              <p:cNvPr id="409" name="组合 142"/>
              <p:cNvGrpSpPr/>
              <p:nvPr/>
            </p:nvGrpSpPr>
            <p:grpSpPr>
              <a:xfrm>
                <a:off x="9159120" y="5869440"/>
                <a:ext cx="286560" cy="356400"/>
                <a:chOff x="9159120" y="5869440"/>
                <a:chExt cx="286560" cy="356400"/>
              </a:xfrm>
            </p:grpSpPr>
            <p:sp>
              <p:nvSpPr>
                <p:cNvPr id="410" name="任意多边形 150"/>
                <p:cNvSpPr/>
                <p:nvPr/>
              </p:nvSpPr>
              <p:spPr>
                <a:xfrm>
                  <a:off x="9232920" y="5941080"/>
                  <a:ext cx="196200" cy="284760"/>
                </a:xfrm>
                <a:custGeom>
                  <a:avLst/>
                  <a:gdLst>
                    <a:gd name="textAreaLeft" fmla="*/ 0 w 196200"/>
                    <a:gd name="textAreaRight" fmla="*/ 19656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11" name="椭圆 151"/>
                <p:cNvSpPr/>
                <p:nvPr/>
              </p:nvSpPr>
              <p:spPr>
                <a:xfrm rot="20643000">
                  <a:off x="9169560" y="587880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12" name="椭圆 152"/>
                <p:cNvSpPr/>
                <p:nvPr/>
              </p:nvSpPr>
              <p:spPr>
                <a:xfrm rot="21346800">
                  <a:off x="9265320" y="5886360"/>
                  <a:ext cx="4536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13" name="椭圆 153"/>
                <p:cNvSpPr/>
                <p:nvPr/>
              </p:nvSpPr>
              <p:spPr>
                <a:xfrm rot="578400">
                  <a:off x="9317880" y="588456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14" name="椭圆 154"/>
                <p:cNvSpPr/>
                <p:nvPr/>
              </p:nvSpPr>
              <p:spPr>
                <a:xfrm rot="1860000">
                  <a:off x="9364320" y="590400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15" name="椭圆 155"/>
                <p:cNvSpPr/>
                <p:nvPr/>
              </p:nvSpPr>
              <p:spPr>
                <a:xfrm rot="1860000">
                  <a:off x="9405360" y="593748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nvGrpSpPr>
              <p:cNvPr id="416" name="组合 143"/>
              <p:cNvGrpSpPr/>
              <p:nvPr/>
            </p:nvGrpSpPr>
            <p:grpSpPr>
              <a:xfrm>
                <a:off x="8688240" y="5635080"/>
                <a:ext cx="286560" cy="356400"/>
                <a:chOff x="8688240" y="5635080"/>
                <a:chExt cx="286560" cy="356400"/>
              </a:xfrm>
            </p:grpSpPr>
            <p:sp>
              <p:nvSpPr>
                <p:cNvPr id="417" name="任意多边形 144"/>
                <p:cNvSpPr/>
                <p:nvPr/>
              </p:nvSpPr>
              <p:spPr>
                <a:xfrm flipH="1">
                  <a:off x="8704440" y="5706720"/>
                  <a:ext cx="196200" cy="284760"/>
                </a:xfrm>
                <a:custGeom>
                  <a:avLst/>
                  <a:gdLst>
                    <a:gd name="textAreaLeft" fmla="*/ -360 w 196200"/>
                    <a:gd name="textAreaRight" fmla="*/ 19620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18" name="椭圆 145"/>
                <p:cNvSpPr/>
                <p:nvPr/>
              </p:nvSpPr>
              <p:spPr>
                <a:xfrm flipH="1" rot="957000">
                  <a:off x="8880840" y="564444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19" name="椭圆 146"/>
                <p:cNvSpPr/>
                <p:nvPr/>
              </p:nvSpPr>
              <p:spPr>
                <a:xfrm flipH="1" rot="253200">
                  <a:off x="8823240" y="5652000"/>
                  <a:ext cx="45360" cy="514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000" bIns="18000" anchor="ctr">
                  <a:noAutofit/>
                </a:bodyPr>
                <a:p>
                  <a:pPr algn="ctr">
                    <a:lnSpc>
                      <a:spcPct val="100000"/>
                    </a:lnSpc>
                  </a:pPr>
                  <a:endParaRPr b="0" lang="en-US" sz="1800" spc="-1" strike="noStrike">
                    <a:solidFill>
                      <a:schemeClr val="lt1"/>
                    </a:solidFill>
                    <a:latin typeface="Calibri"/>
                  </a:endParaRPr>
                </a:p>
              </p:txBody>
            </p:sp>
            <p:sp>
              <p:nvSpPr>
                <p:cNvPr id="420" name="椭圆 147"/>
                <p:cNvSpPr/>
                <p:nvPr/>
              </p:nvSpPr>
              <p:spPr>
                <a:xfrm flipH="1" rot="21021600">
                  <a:off x="8773920" y="565020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21" name="椭圆 148"/>
                <p:cNvSpPr/>
                <p:nvPr/>
              </p:nvSpPr>
              <p:spPr>
                <a:xfrm flipH="1" rot="19740000">
                  <a:off x="8728560" y="566928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22" name="椭圆 149"/>
                <p:cNvSpPr/>
                <p:nvPr/>
              </p:nvSpPr>
              <p:spPr>
                <a:xfrm flipH="1" rot="19740000">
                  <a:off x="8695440" y="570276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grpSp>
          <p:nvGrpSpPr>
            <p:cNvPr id="423" name="组合 7"/>
            <p:cNvGrpSpPr/>
            <p:nvPr/>
          </p:nvGrpSpPr>
          <p:grpSpPr>
            <a:xfrm>
              <a:off x="8688240" y="5003280"/>
              <a:ext cx="757440" cy="591120"/>
              <a:chOff x="8688240" y="5003280"/>
              <a:chExt cx="757440" cy="591120"/>
            </a:xfrm>
          </p:grpSpPr>
          <p:grpSp>
            <p:nvGrpSpPr>
              <p:cNvPr id="424" name="组合 128"/>
              <p:cNvGrpSpPr/>
              <p:nvPr/>
            </p:nvGrpSpPr>
            <p:grpSpPr>
              <a:xfrm>
                <a:off x="9159120" y="5237640"/>
                <a:ext cx="286560" cy="356760"/>
                <a:chOff x="9159120" y="5237640"/>
                <a:chExt cx="286560" cy="356760"/>
              </a:xfrm>
            </p:grpSpPr>
            <p:sp>
              <p:nvSpPr>
                <p:cNvPr id="425" name="任意多边形 136"/>
                <p:cNvSpPr/>
                <p:nvPr/>
              </p:nvSpPr>
              <p:spPr>
                <a:xfrm>
                  <a:off x="9232920" y="5309640"/>
                  <a:ext cx="196200" cy="284760"/>
                </a:xfrm>
                <a:custGeom>
                  <a:avLst/>
                  <a:gdLst>
                    <a:gd name="textAreaLeft" fmla="*/ 0 w 196200"/>
                    <a:gd name="textAreaRight" fmla="*/ 19656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26" name="椭圆 137"/>
                <p:cNvSpPr/>
                <p:nvPr/>
              </p:nvSpPr>
              <p:spPr>
                <a:xfrm rot="20643000">
                  <a:off x="9169560" y="524700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27" name="椭圆 138"/>
                <p:cNvSpPr/>
                <p:nvPr/>
              </p:nvSpPr>
              <p:spPr>
                <a:xfrm rot="21346800">
                  <a:off x="9265320" y="5254920"/>
                  <a:ext cx="4536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28" name="椭圆 139"/>
                <p:cNvSpPr/>
                <p:nvPr/>
              </p:nvSpPr>
              <p:spPr>
                <a:xfrm rot="578400">
                  <a:off x="9317880" y="525312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29" name="椭圆 140"/>
                <p:cNvSpPr/>
                <p:nvPr/>
              </p:nvSpPr>
              <p:spPr>
                <a:xfrm rot="1860000">
                  <a:off x="9364320" y="527220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30" name="椭圆 141"/>
                <p:cNvSpPr/>
                <p:nvPr/>
              </p:nvSpPr>
              <p:spPr>
                <a:xfrm rot="1860000">
                  <a:off x="9405360" y="530568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nvGrpSpPr>
              <p:cNvPr id="431" name="组合 129"/>
              <p:cNvGrpSpPr/>
              <p:nvPr/>
            </p:nvGrpSpPr>
            <p:grpSpPr>
              <a:xfrm>
                <a:off x="8688240" y="5003280"/>
                <a:ext cx="286560" cy="356760"/>
                <a:chOff x="8688240" y="5003280"/>
                <a:chExt cx="286560" cy="356760"/>
              </a:xfrm>
            </p:grpSpPr>
            <p:sp>
              <p:nvSpPr>
                <p:cNvPr id="432" name="任意多边形 130"/>
                <p:cNvSpPr/>
                <p:nvPr/>
              </p:nvSpPr>
              <p:spPr>
                <a:xfrm flipH="1">
                  <a:off x="8704440" y="5075280"/>
                  <a:ext cx="196200" cy="284760"/>
                </a:xfrm>
                <a:custGeom>
                  <a:avLst/>
                  <a:gdLst>
                    <a:gd name="textAreaLeft" fmla="*/ -360 w 196200"/>
                    <a:gd name="textAreaRight" fmla="*/ 19620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33" name="椭圆 131"/>
                <p:cNvSpPr/>
                <p:nvPr/>
              </p:nvSpPr>
              <p:spPr>
                <a:xfrm flipH="1" rot="957000">
                  <a:off x="8880840" y="501264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34" name="椭圆 132"/>
                <p:cNvSpPr/>
                <p:nvPr/>
              </p:nvSpPr>
              <p:spPr>
                <a:xfrm flipH="1" rot="253200">
                  <a:off x="8823240" y="5020200"/>
                  <a:ext cx="45360" cy="514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000" bIns="18000" anchor="ctr">
                  <a:noAutofit/>
                </a:bodyPr>
                <a:p>
                  <a:pPr algn="ctr">
                    <a:lnSpc>
                      <a:spcPct val="100000"/>
                    </a:lnSpc>
                  </a:pPr>
                  <a:endParaRPr b="0" lang="en-US" sz="1800" spc="-1" strike="noStrike">
                    <a:solidFill>
                      <a:schemeClr val="lt1"/>
                    </a:solidFill>
                    <a:latin typeface="Calibri"/>
                  </a:endParaRPr>
                </a:p>
              </p:txBody>
            </p:sp>
            <p:sp>
              <p:nvSpPr>
                <p:cNvPr id="435" name="椭圆 133"/>
                <p:cNvSpPr/>
                <p:nvPr/>
              </p:nvSpPr>
              <p:spPr>
                <a:xfrm flipH="1" rot="21021600">
                  <a:off x="8773920" y="501840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36" name="椭圆 134"/>
                <p:cNvSpPr/>
                <p:nvPr/>
              </p:nvSpPr>
              <p:spPr>
                <a:xfrm flipH="1" rot="19740000">
                  <a:off x="8728560" y="503784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37" name="椭圆 135"/>
                <p:cNvSpPr/>
                <p:nvPr/>
              </p:nvSpPr>
              <p:spPr>
                <a:xfrm flipH="1" rot="19740000">
                  <a:off x="8695440" y="507132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grpSp>
          <p:nvGrpSpPr>
            <p:cNvPr id="438" name="组合 8"/>
            <p:cNvGrpSpPr/>
            <p:nvPr/>
          </p:nvGrpSpPr>
          <p:grpSpPr>
            <a:xfrm>
              <a:off x="8688240" y="4371840"/>
              <a:ext cx="757440" cy="591120"/>
              <a:chOff x="8688240" y="4371840"/>
              <a:chExt cx="757440" cy="591120"/>
            </a:xfrm>
          </p:grpSpPr>
          <p:grpSp>
            <p:nvGrpSpPr>
              <p:cNvPr id="439" name="组合 114"/>
              <p:cNvGrpSpPr/>
              <p:nvPr/>
            </p:nvGrpSpPr>
            <p:grpSpPr>
              <a:xfrm>
                <a:off x="9159120" y="4606200"/>
                <a:ext cx="286560" cy="356760"/>
                <a:chOff x="9159120" y="4606200"/>
                <a:chExt cx="286560" cy="356760"/>
              </a:xfrm>
            </p:grpSpPr>
            <p:sp>
              <p:nvSpPr>
                <p:cNvPr id="440" name="任意多边形 122"/>
                <p:cNvSpPr/>
                <p:nvPr/>
              </p:nvSpPr>
              <p:spPr>
                <a:xfrm>
                  <a:off x="9232920" y="4678200"/>
                  <a:ext cx="196200" cy="284760"/>
                </a:xfrm>
                <a:custGeom>
                  <a:avLst/>
                  <a:gdLst>
                    <a:gd name="textAreaLeft" fmla="*/ 0 w 196200"/>
                    <a:gd name="textAreaRight" fmla="*/ 19656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41" name="椭圆 123"/>
                <p:cNvSpPr/>
                <p:nvPr/>
              </p:nvSpPr>
              <p:spPr>
                <a:xfrm rot="20643000">
                  <a:off x="9169560" y="461556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42" name="椭圆 124"/>
                <p:cNvSpPr/>
                <p:nvPr/>
              </p:nvSpPr>
              <p:spPr>
                <a:xfrm rot="21346800">
                  <a:off x="9265320" y="4623120"/>
                  <a:ext cx="4536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43" name="椭圆 125"/>
                <p:cNvSpPr/>
                <p:nvPr/>
              </p:nvSpPr>
              <p:spPr>
                <a:xfrm rot="578400">
                  <a:off x="9317880" y="462132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44" name="椭圆 126"/>
                <p:cNvSpPr/>
                <p:nvPr/>
              </p:nvSpPr>
              <p:spPr>
                <a:xfrm rot="1860000">
                  <a:off x="9364320" y="464076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45" name="椭圆 127"/>
                <p:cNvSpPr/>
                <p:nvPr/>
              </p:nvSpPr>
              <p:spPr>
                <a:xfrm rot="1860000">
                  <a:off x="9405360" y="467424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nvGrpSpPr>
              <p:cNvPr id="446" name="组合 115"/>
              <p:cNvGrpSpPr/>
              <p:nvPr/>
            </p:nvGrpSpPr>
            <p:grpSpPr>
              <a:xfrm>
                <a:off x="8688240" y="4371840"/>
                <a:ext cx="286560" cy="356400"/>
                <a:chOff x="8688240" y="4371840"/>
                <a:chExt cx="286560" cy="356400"/>
              </a:xfrm>
            </p:grpSpPr>
            <p:sp>
              <p:nvSpPr>
                <p:cNvPr id="447" name="任意多边形 116"/>
                <p:cNvSpPr/>
                <p:nvPr/>
              </p:nvSpPr>
              <p:spPr>
                <a:xfrm flipH="1">
                  <a:off x="8704440" y="4443480"/>
                  <a:ext cx="196200" cy="284760"/>
                </a:xfrm>
                <a:custGeom>
                  <a:avLst/>
                  <a:gdLst>
                    <a:gd name="textAreaLeft" fmla="*/ -360 w 196200"/>
                    <a:gd name="textAreaRight" fmla="*/ 19620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48" name="椭圆 117"/>
                <p:cNvSpPr/>
                <p:nvPr/>
              </p:nvSpPr>
              <p:spPr>
                <a:xfrm flipH="1" rot="957000">
                  <a:off x="8880840" y="438120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49" name="椭圆 118"/>
                <p:cNvSpPr/>
                <p:nvPr/>
              </p:nvSpPr>
              <p:spPr>
                <a:xfrm flipH="1" rot="253200">
                  <a:off x="8823240" y="4388760"/>
                  <a:ext cx="45360" cy="514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000" bIns="18000" anchor="ctr">
                  <a:noAutofit/>
                </a:bodyPr>
                <a:p>
                  <a:pPr algn="ctr">
                    <a:lnSpc>
                      <a:spcPct val="100000"/>
                    </a:lnSpc>
                  </a:pPr>
                  <a:endParaRPr b="0" lang="en-US" sz="1800" spc="-1" strike="noStrike">
                    <a:solidFill>
                      <a:schemeClr val="lt1"/>
                    </a:solidFill>
                    <a:latin typeface="Calibri"/>
                  </a:endParaRPr>
                </a:p>
              </p:txBody>
            </p:sp>
            <p:sp>
              <p:nvSpPr>
                <p:cNvPr id="450" name="椭圆 119"/>
                <p:cNvSpPr/>
                <p:nvPr/>
              </p:nvSpPr>
              <p:spPr>
                <a:xfrm flipH="1" rot="21021600">
                  <a:off x="8773920" y="438696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51" name="椭圆 120"/>
                <p:cNvSpPr/>
                <p:nvPr/>
              </p:nvSpPr>
              <p:spPr>
                <a:xfrm flipH="1" rot="19740000">
                  <a:off x="8728560" y="440640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52" name="椭圆 121"/>
                <p:cNvSpPr/>
                <p:nvPr/>
              </p:nvSpPr>
              <p:spPr>
                <a:xfrm flipH="1" rot="19740000">
                  <a:off x="8695440" y="443988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grpSp>
          <p:nvGrpSpPr>
            <p:cNvPr id="453" name="组合 9"/>
            <p:cNvGrpSpPr/>
            <p:nvPr/>
          </p:nvGrpSpPr>
          <p:grpSpPr>
            <a:xfrm>
              <a:off x="8688240" y="3740040"/>
              <a:ext cx="757440" cy="591120"/>
              <a:chOff x="8688240" y="3740040"/>
              <a:chExt cx="757440" cy="591120"/>
            </a:xfrm>
          </p:grpSpPr>
          <p:grpSp>
            <p:nvGrpSpPr>
              <p:cNvPr id="454" name="组合 100"/>
              <p:cNvGrpSpPr/>
              <p:nvPr/>
            </p:nvGrpSpPr>
            <p:grpSpPr>
              <a:xfrm>
                <a:off x="9159120" y="3974760"/>
                <a:ext cx="286560" cy="356400"/>
                <a:chOff x="9159120" y="3974760"/>
                <a:chExt cx="286560" cy="356400"/>
              </a:xfrm>
            </p:grpSpPr>
            <p:sp>
              <p:nvSpPr>
                <p:cNvPr id="455" name="任意多边形 108"/>
                <p:cNvSpPr/>
                <p:nvPr/>
              </p:nvSpPr>
              <p:spPr>
                <a:xfrm>
                  <a:off x="9232920" y="4046400"/>
                  <a:ext cx="196200" cy="284760"/>
                </a:xfrm>
                <a:custGeom>
                  <a:avLst/>
                  <a:gdLst>
                    <a:gd name="textAreaLeft" fmla="*/ 0 w 196200"/>
                    <a:gd name="textAreaRight" fmla="*/ 19656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56" name="椭圆 109"/>
                <p:cNvSpPr/>
                <p:nvPr/>
              </p:nvSpPr>
              <p:spPr>
                <a:xfrm rot="20643000">
                  <a:off x="9169560" y="398412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57" name="椭圆 110"/>
                <p:cNvSpPr/>
                <p:nvPr/>
              </p:nvSpPr>
              <p:spPr>
                <a:xfrm rot="21346800">
                  <a:off x="9265320" y="3991680"/>
                  <a:ext cx="4536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58" name="椭圆 111"/>
                <p:cNvSpPr/>
                <p:nvPr/>
              </p:nvSpPr>
              <p:spPr>
                <a:xfrm rot="578400">
                  <a:off x="9317880" y="398988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59" name="椭圆 112"/>
                <p:cNvSpPr/>
                <p:nvPr/>
              </p:nvSpPr>
              <p:spPr>
                <a:xfrm rot="1860000">
                  <a:off x="9364320" y="400932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60" name="椭圆 113"/>
                <p:cNvSpPr/>
                <p:nvPr/>
              </p:nvSpPr>
              <p:spPr>
                <a:xfrm rot="1860000">
                  <a:off x="9405360" y="404280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nvGrpSpPr>
              <p:cNvPr id="461" name="组合 101"/>
              <p:cNvGrpSpPr/>
              <p:nvPr/>
            </p:nvGrpSpPr>
            <p:grpSpPr>
              <a:xfrm>
                <a:off x="8688240" y="3740040"/>
                <a:ext cx="286560" cy="356760"/>
                <a:chOff x="8688240" y="3740040"/>
                <a:chExt cx="286560" cy="356760"/>
              </a:xfrm>
            </p:grpSpPr>
            <p:sp>
              <p:nvSpPr>
                <p:cNvPr id="462" name="任意多边形 102"/>
                <p:cNvSpPr/>
                <p:nvPr/>
              </p:nvSpPr>
              <p:spPr>
                <a:xfrm flipH="1">
                  <a:off x="8704440" y="3812040"/>
                  <a:ext cx="196200" cy="284760"/>
                </a:xfrm>
                <a:custGeom>
                  <a:avLst/>
                  <a:gdLst>
                    <a:gd name="textAreaLeft" fmla="*/ -360 w 196200"/>
                    <a:gd name="textAreaRight" fmla="*/ 19620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63" name="椭圆 103"/>
                <p:cNvSpPr/>
                <p:nvPr/>
              </p:nvSpPr>
              <p:spPr>
                <a:xfrm flipH="1" rot="957000">
                  <a:off x="8880840" y="374940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64" name="椭圆 104"/>
                <p:cNvSpPr/>
                <p:nvPr/>
              </p:nvSpPr>
              <p:spPr>
                <a:xfrm flipH="1" rot="253200">
                  <a:off x="8823240" y="3757320"/>
                  <a:ext cx="45360" cy="514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000" bIns="18000" anchor="ctr">
                  <a:noAutofit/>
                </a:bodyPr>
                <a:p>
                  <a:pPr algn="ctr">
                    <a:lnSpc>
                      <a:spcPct val="100000"/>
                    </a:lnSpc>
                  </a:pPr>
                  <a:endParaRPr b="0" lang="en-US" sz="1800" spc="-1" strike="noStrike">
                    <a:solidFill>
                      <a:schemeClr val="lt1"/>
                    </a:solidFill>
                    <a:latin typeface="Calibri"/>
                  </a:endParaRPr>
                </a:p>
              </p:txBody>
            </p:sp>
            <p:sp>
              <p:nvSpPr>
                <p:cNvPr id="465" name="椭圆 105"/>
                <p:cNvSpPr/>
                <p:nvPr/>
              </p:nvSpPr>
              <p:spPr>
                <a:xfrm flipH="1" rot="21021600">
                  <a:off x="8773920" y="375552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66" name="椭圆 106"/>
                <p:cNvSpPr/>
                <p:nvPr/>
              </p:nvSpPr>
              <p:spPr>
                <a:xfrm flipH="1" rot="19740000">
                  <a:off x="8728560" y="377460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67" name="椭圆 107"/>
                <p:cNvSpPr/>
                <p:nvPr/>
              </p:nvSpPr>
              <p:spPr>
                <a:xfrm flipH="1" rot="19740000">
                  <a:off x="8695440" y="380808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grpSp>
          <p:nvGrpSpPr>
            <p:cNvPr id="468" name="组合 10"/>
            <p:cNvGrpSpPr/>
            <p:nvPr/>
          </p:nvGrpSpPr>
          <p:grpSpPr>
            <a:xfrm>
              <a:off x="8688240" y="3108600"/>
              <a:ext cx="757440" cy="591120"/>
              <a:chOff x="8688240" y="3108600"/>
              <a:chExt cx="757440" cy="591120"/>
            </a:xfrm>
          </p:grpSpPr>
          <p:grpSp>
            <p:nvGrpSpPr>
              <p:cNvPr id="469" name="组合 86"/>
              <p:cNvGrpSpPr/>
              <p:nvPr/>
            </p:nvGrpSpPr>
            <p:grpSpPr>
              <a:xfrm>
                <a:off x="9159120" y="3342960"/>
                <a:ext cx="286560" cy="356760"/>
                <a:chOff x="9159120" y="3342960"/>
                <a:chExt cx="286560" cy="356760"/>
              </a:xfrm>
            </p:grpSpPr>
            <p:sp>
              <p:nvSpPr>
                <p:cNvPr id="470" name="任意多边形 94"/>
                <p:cNvSpPr/>
                <p:nvPr/>
              </p:nvSpPr>
              <p:spPr>
                <a:xfrm>
                  <a:off x="9232920" y="3414960"/>
                  <a:ext cx="196200" cy="284760"/>
                </a:xfrm>
                <a:custGeom>
                  <a:avLst/>
                  <a:gdLst>
                    <a:gd name="textAreaLeft" fmla="*/ 0 w 196200"/>
                    <a:gd name="textAreaRight" fmla="*/ 19656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71" name="椭圆 95"/>
                <p:cNvSpPr/>
                <p:nvPr/>
              </p:nvSpPr>
              <p:spPr>
                <a:xfrm rot="20643000">
                  <a:off x="9169560" y="335232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72" name="椭圆 96"/>
                <p:cNvSpPr/>
                <p:nvPr/>
              </p:nvSpPr>
              <p:spPr>
                <a:xfrm rot="21346800">
                  <a:off x="9265320" y="3359880"/>
                  <a:ext cx="4536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73" name="椭圆 97"/>
                <p:cNvSpPr/>
                <p:nvPr/>
              </p:nvSpPr>
              <p:spPr>
                <a:xfrm rot="578400">
                  <a:off x="9317880" y="335844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74" name="椭圆 98"/>
                <p:cNvSpPr/>
                <p:nvPr/>
              </p:nvSpPr>
              <p:spPr>
                <a:xfrm rot="1860000">
                  <a:off x="9364320" y="337752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75" name="椭圆 99"/>
                <p:cNvSpPr/>
                <p:nvPr/>
              </p:nvSpPr>
              <p:spPr>
                <a:xfrm rot="1860000">
                  <a:off x="9405360" y="341100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nvGrpSpPr>
              <p:cNvPr id="476" name="组合 87"/>
              <p:cNvGrpSpPr/>
              <p:nvPr/>
            </p:nvGrpSpPr>
            <p:grpSpPr>
              <a:xfrm>
                <a:off x="8688240" y="3108600"/>
                <a:ext cx="286560" cy="356760"/>
                <a:chOff x="8688240" y="3108600"/>
                <a:chExt cx="286560" cy="356760"/>
              </a:xfrm>
            </p:grpSpPr>
            <p:sp>
              <p:nvSpPr>
                <p:cNvPr id="477" name="任意多边形 88"/>
                <p:cNvSpPr/>
                <p:nvPr/>
              </p:nvSpPr>
              <p:spPr>
                <a:xfrm flipH="1">
                  <a:off x="8704440" y="3180600"/>
                  <a:ext cx="196200" cy="284760"/>
                </a:xfrm>
                <a:custGeom>
                  <a:avLst/>
                  <a:gdLst>
                    <a:gd name="textAreaLeft" fmla="*/ -360 w 196200"/>
                    <a:gd name="textAreaRight" fmla="*/ 19620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78" name="椭圆 89"/>
                <p:cNvSpPr/>
                <p:nvPr/>
              </p:nvSpPr>
              <p:spPr>
                <a:xfrm flipH="1" rot="957000">
                  <a:off x="8880840" y="311796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79" name="椭圆 90"/>
                <p:cNvSpPr/>
                <p:nvPr/>
              </p:nvSpPr>
              <p:spPr>
                <a:xfrm flipH="1" rot="253200">
                  <a:off x="8823240" y="3125520"/>
                  <a:ext cx="45360" cy="514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000" bIns="18000" anchor="ctr">
                  <a:noAutofit/>
                </a:bodyPr>
                <a:p>
                  <a:pPr algn="ctr">
                    <a:lnSpc>
                      <a:spcPct val="100000"/>
                    </a:lnSpc>
                  </a:pPr>
                  <a:endParaRPr b="0" lang="en-US" sz="1800" spc="-1" strike="noStrike">
                    <a:solidFill>
                      <a:schemeClr val="lt1"/>
                    </a:solidFill>
                    <a:latin typeface="Calibri"/>
                  </a:endParaRPr>
                </a:p>
              </p:txBody>
            </p:sp>
            <p:sp>
              <p:nvSpPr>
                <p:cNvPr id="480" name="椭圆 91"/>
                <p:cNvSpPr/>
                <p:nvPr/>
              </p:nvSpPr>
              <p:spPr>
                <a:xfrm flipH="1" rot="21021600">
                  <a:off x="8773920" y="312372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81" name="椭圆 92"/>
                <p:cNvSpPr/>
                <p:nvPr/>
              </p:nvSpPr>
              <p:spPr>
                <a:xfrm flipH="1" rot="19740000">
                  <a:off x="8728560" y="314316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82" name="椭圆 93"/>
                <p:cNvSpPr/>
                <p:nvPr/>
              </p:nvSpPr>
              <p:spPr>
                <a:xfrm flipH="1" rot="19740000">
                  <a:off x="8695440" y="317664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grpSp>
          <p:nvGrpSpPr>
            <p:cNvPr id="483" name="组合 11"/>
            <p:cNvGrpSpPr/>
            <p:nvPr/>
          </p:nvGrpSpPr>
          <p:grpSpPr>
            <a:xfrm>
              <a:off x="8688240" y="2477160"/>
              <a:ext cx="757440" cy="591120"/>
              <a:chOff x="8688240" y="2477160"/>
              <a:chExt cx="757440" cy="591120"/>
            </a:xfrm>
          </p:grpSpPr>
          <p:grpSp>
            <p:nvGrpSpPr>
              <p:cNvPr id="484" name="组合 72"/>
              <p:cNvGrpSpPr/>
              <p:nvPr/>
            </p:nvGrpSpPr>
            <p:grpSpPr>
              <a:xfrm>
                <a:off x="9159120" y="2711520"/>
                <a:ext cx="286560" cy="356760"/>
                <a:chOff x="9159120" y="2711520"/>
                <a:chExt cx="286560" cy="356760"/>
              </a:xfrm>
            </p:grpSpPr>
            <p:sp>
              <p:nvSpPr>
                <p:cNvPr id="485" name="任意多边形 80"/>
                <p:cNvSpPr/>
                <p:nvPr/>
              </p:nvSpPr>
              <p:spPr>
                <a:xfrm>
                  <a:off x="9232920" y="2783520"/>
                  <a:ext cx="196200" cy="284760"/>
                </a:xfrm>
                <a:custGeom>
                  <a:avLst/>
                  <a:gdLst>
                    <a:gd name="textAreaLeft" fmla="*/ 0 w 196200"/>
                    <a:gd name="textAreaRight" fmla="*/ 19656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86" name="椭圆 81"/>
                <p:cNvSpPr/>
                <p:nvPr/>
              </p:nvSpPr>
              <p:spPr>
                <a:xfrm rot="20643000">
                  <a:off x="9169560" y="272088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87" name="椭圆 82"/>
                <p:cNvSpPr/>
                <p:nvPr/>
              </p:nvSpPr>
              <p:spPr>
                <a:xfrm rot="21346800">
                  <a:off x="9265320" y="2728440"/>
                  <a:ext cx="4536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88" name="椭圆 83"/>
                <p:cNvSpPr/>
                <p:nvPr/>
              </p:nvSpPr>
              <p:spPr>
                <a:xfrm rot="578400">
                  <a:off x="9317880" y="272664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89" name="椭圆 84"/>
                <p:cNvSpPr/>
                <p:nvPr/>
              </p:nvSpPr>
              <p:spPr>
                <a:xfrm rot="1860000">
                  <a:off x="9364320" y="274608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90" name="椭圆 85"/>
                <p:cNvSpPr/>
                <p:nvPr/>
              </p:nvSpPr>
              <p:spPr>
                <a:xfrm rot="1860000">
                  <a:off x="9405360" y="277956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nvGrpSpPr>
              <p:cNvPr id="491" name="组合 73"/>
              <p:cNvGrpSpPr/>
              <p:nvPr/>
            </p:nvGrpSpPr>
            <p:grpSpPr>
              <a:xfrm>
                <a:off x="8688240" y="2477160"/>
                <a:ext cx="286560" cy="356400"/>
                <a:chOff x="8688240" y="2477160"/>
                <a:chExt cx="286560" cy="356400"/>
              </a:xfrm>
            </p:grpSpPr>
            <p:sp>
              <p:nvSpPr>
                <p:cNvPr id="492" name="任意多边形 74"/>
                <p:cNvSpPr/>
                <p:nvPr/>
              </p:nvSpPr>
              <p:spPr>
                <a:xfrm flipH="1">
                  <a:off x="8704440" y="2548800"/>
                  <a:ext cx="196200" cy="284760"/>
                </a:xfrm>
                <a:custGeom>
                  <a:avLst/>
                  <a:gdLst>
                    <a:gd name="textAreaLeft" fmla="*/ -360 w 196200"/>
                    <a:gd name="textAreaRight" fmla="*/ 19620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93" name="椭圆 75"/>
                <p:cNvSpPr/>
                <p:nvPr/>
              </p:nvSpPr>
              <p:spPr>
                <a:xfrm flipH="1" rot="957000">
                  <a:off x="8880840" y="248652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94" name="椭圆 76"/>
                <p:cNvSpPr/>
                <p:nvPr/>
              </p:nvSpPr>
              <p:spPr>
                <a:xfrm flipH="1" rot="253200">
                  <a:off x="8823240" y="2494080"/>
                  <a:ext cx="45360" cy="514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000" bIns="18000" anchor="ctr">
                  <a:noAutofit/>
                </a:bodyPr>
                <a:p>
                  <a:pPr algn="ctr">
                    <a:lnSpc>
                      <a:spcPct val="100000"/>
                    </a:lnSpc>
                  </a:pPr>
                  <a:endParaRPr b="0" lang="en-US" sz="1800" spc="-1" strike="noStrike">
                    <a:solidFill>
                      <a:schemeClr val="lt1"/>
                    </a:solidFill>
                    <a:latin typeface="Calibri"/>
                  </a:endParaRPr>
                </a:p>
              </p:txBody>
            </p:sp>
            <p:sp>
              <p:nvSpPr>
                <p:cNvPr id="495" name="椭圆 77"/>
                <p:cNvSpPr/>
                <p:nvPr/>
              </p:nvSpPr>
              <p:spPr>
                <a:xfrm flipH="1" rot="21021600">
                  <a:off x="8773920" y="249228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96" name="椭圆 78"/>
                <p:cNvSpPr/>
                <p:nvPr/>
              </p:nvSpPr>
              <p:spPr>
                <a:xfrm flipH="1" rot="19740000">
                  <a:off x="8728560" y="251136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97" name="椭圆 79"/>
                <p:cNvSpPr/>
                <p:nvPr/>
              </p:nvSpPr>
              <p:spPr>
                <a:xfrm flipH="1" rot="19740000">
                  <a:off x="8695440" y="254520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grpSp>
          <p:nvGrpSpPr>
            <p:cNvPr id="498" name="组合 12"/>
            <p:cNvGrpSpPr/>
            <p:nvPr/>
          </p:nvGrpSpPr>
          <p:grpSpPr>
            <a:xfrm>
              <a:off x="8688240" y="1845360"/>
              <a:ext cx="757440" cy="591120"/>
              <a:chOff x="8688240" y="1845360"/>
              <a:chExt cx="757440" cy="591120"/>
            </a:xfrm>
          </p:grpSpPr>
          <p:grpSp>
            <p:nvGrpSpPr>
              <p:cNvPr id="499" name="组合 58"/>
              <p:cNvGrpSpPr/>
              <p:nvPr/>
            </p:nvGrpSpPr>
            <p:grpSpPr>
              <a:xfrm>
                <a:off x="9159120" y="2080080"/>
                <a:ext cx="286560" cy="356400"/>
                <a:chOff x="9159120" y="2080080"/>
                <a:chExt cx="286560" cy="356400"/>
              </a:xfrm>
            </p:grpSpPr>
            <p:sp>
              <p:nvSpPr>
                <p:cNvPr id="500" name="任意多边形 66"/>
                <p:cNvSpPr/>
                <p:nvPr/>
              </p:nvSpPr>
              <p:spPr>
                <a:xfrm>
                  <a:off x="9232920" y="2151720"/>
                  <a:ext cx="196200" cy="284760"/>
                </a:xfrm>
                <a:custGeom>
                  <a:avLst/>
                  <a:gdLst>
                    <a:gd name="textAreaLeft" fmla="*/ 0 w 196200"/>
                    <a:gd name="textAreaRight" fmla="*/ 19656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501" name="椭圆 67"/>
                <p:cNvSpPr/>
                <p:nvPr/>
              </p:nvSpPr>
              <p:spPr>
                <a:xfrm rot="20643000">
                  <a:off x="9169560" y="208944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502" name="椭圆 68"/>
                <p:cNvSpPr/>
                <p:nvPr/>
              </p:nvSpPr>
              <p:spPr>
                <a:xfrm rot="21346800">
                  <a:off x="9265320" y="2097000"/>
                  <a:ext cx="4536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503" name="椭圆 69"/>
                <p:cNvSpPr/>
                <p:nvPr/>
              </p:nvSpPr>
              <p:spPr>
                <a:xfrm rot="578400">
                  <a:off x="9317880" y="209520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504" name="椭圆 70"/>
                <p:cNvSpPr/>
                <p:nvPr/>
              </p:nvSpPr>
              <p:spPr>
                <a:xfrm rot="1860000">
                  <a:off x="9364320" y="211428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505" name="椭圆 71"/>
                <p:cNvSpPr/>
                <p:nvPr/>
              </p:nvSpPr>
              <p:spPr>
                <a:xfrm rot="1860000">
                  <a:off x="9405360" y="214776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nvGrpSpPr>
              <p:cNvPr id="506" name="组合 59"/>
              <p:cNvGrpSpPr/>
              <p:nvPr/>
            </p:nvGrpSpPr>
            <p:grpSpPr>
              <a:xfrm>
                <a:off x="8688240" y="1845360"/>
                <a:ext cx="286560" cy="356760"/>
                <a:chOff x="8688240" y="1845360"/>
                <a:chExt cx="286560" cy="356760"/>
              </a:xfrm>
            </p:grpSpPr>
            <p:sp>
              <p:nvSpPr>
                <p:cNvPr id="507" name="任意多边形 60"/>
                <p:cNvSpPr/>
                <p:nvPr/>
              </p:nvSpPr>
              <p:spPr>
                <a:xfrm flipH="1">
                  <a:off x="8704440" y="1917360"/>
                  <a:ext cx="196200" cy="284760"/>
                </a:xfrm>
                <a:custGeom>
                  <a:avLst/>
                  <a:gdLst>
                    <a:gd name="textAreaLeft" fmla="*/ -360 w 196200"/>
                    <a:gd name="textAreaRight" fmla="*/ 19620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508" name="椭圆 61"/>
                <p:cNvSpPr/>
                <p:nvPr/>
              </p:nvSpPr>
              <p:spPr>
                <a:xfrm flipH="1" rot="957000">
                  <a:off x="8880840" y="185472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509" name="椭圆 62"/>
                <p:cNvSpPr/>
                <p:nvPr/>
              </p:nvSpPr>
              <p:spPr>
                <a:xfrm flipH="1" rot="253200">
                  <a:off x="8823240" y="1862280"/>
                  <a:ext cx="45360" cy="514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000" bIns="18000" anchor="ctr">
                  <a:noAutofit/>
                </a:bodyPr>
                <a:p>
                  <a:pPr algn="ctr">
                    <a:lnSpc>
                      <a:spcPct val="100000"/>
                    </a:lnSpc>
                  </a:pPr>
                  <a:endParaRPr b="0" lang="en-US" sz="1800" spc="-1" strike="noStrike">
                    <a:solidFill>
                      <a:schemeClr val="lt1"/>
                    </a:solidFill>
                    <a:latin typeface="Calibri"/>
                  </a:endParaRPr>
                </a:p>
              </p:txBody>
            </p:sp>
            <p:sp>
              <p:nvSpPr>
                <p:cNvPr id="510" name="椭圆 63"/>
                <p:cNvSpPr/>
                <p:nvPr/>
              </p:nvSpPr>
              <p:spPr>
                <a:xfrm flipH="1" rot="21021600">
                  <a:off x="8773920" y="186048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511" name="椭圆 64"/>
                <p:cNvSpPr/>
                <p:nvPr/>
              </p:nvSpPr>
              <p:spPr>
                <a:xfrm flipH="1" rot="19740000">
                  <a:off x="8728560" y="187992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512" name="椭圆 65"/>
                <p:cNvSpPr/>
                <p:nvPr/>
              </p:nvSpPr>
              <p:spPr>
                <a:xfrm flipH="1" rot="19740000">
                  <a:off x="8695440" y="191340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grpSp>
          <p:nvGrpSpPr>
            <p:cNvPr id="513" name="组合 13"/>
            <p:cNvGrpSpPr/>
            <p:nvPr/>
          </p:nvGrpSpPr>
          <p:grpSpPr>
            <a:xfrm>
              <a:off x="8688240" y="1213920"/>
              <a:ext cx="757440" cy="591120"/>
              <a:chOff x="8688240" y="1213920"/>
              <a:chExt cx="757440" cy="591120"/>
            </a:xfrm>
          </p:grpSpPr>
          <p:grpSp>
            <p:nvGrpSpPr>
              <p:cNvPr id="514" name="组合 44"/>
              <p:cNvGrpSpPr/>
              <p:nvPr/>
            </p:nvGrpSpPr>
            <p:grpSpPr>
              <a:xfrm>
                <a:off x="9159120" y="1448280"/>
                <a:ext cx="286560" cy="356760"/>
                <a:chOff x="9159120" y="1448280"/>
                <a:chExt cx="286560" cy="356760"/>
              </a:xfrm>
            </p:grpSpPr>
            <p:sp>
              <p:nvSpPr>
                <p:cNvPr id="515" name="任意多边形 52"/>
                <p:cNvSpPr/>
                <p:nvPr/>
              </p:nvSpPr>
              <p:spPr>
                <a:xfrm>
                  <a:off x="9232920" y="1520280"/>
                  <a:ext cx="196200" cy="284760"/>
                </a:xfrm>
                <a:custGeom>
                  <a:avLst/>
                  <a:gdLst>
                    <a:gd name="textAreaLeft" fmla="*/ 0 w 196200"/>
                    <a:gd name="textAreaRight" fmla="*/ 19656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516" name="椭圆 53"/>
                <p:cNvSpPr/>
                <p:nvPr/>
              </p:nvSpPr>
              <p:spPr>
                <a:xfrm rot="20643000">
                  <a:off x="9169560" y="145764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517" name="椭圆 54"/>
                <p:cNvSpPr/>
                <p:nvPr/>
              </p:nvSpPr>
              <p:spPr>
                <a:xfrm rot="21346800">
                  <a:off x="9265320" y="1465200"/>
                  <a:ext cx="4536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518" name="椭圆 55"/>
                <p:cNvSpPr/>
                <p:nvPr/>
              </p:nvSpPr>
              <p:spPr>
                <a:xfrm rot="578400">
                  <a:off x="9317880" y="146340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519" name="椭圆 56"/>
                <p:cNvSpPr/>
                <p:nvPr/>
              </p:nvSpPr>
              <p:spPr>
                <a:xfrm rot="1860000">
                  <a:off x="9364320" y="148284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520" name="椭圆 57"/>
                <p:cNvSpPr/>
                <p:nvPr/>
              </p:nvSpPr>
              <p:spPr>
                <a:xfrm rot="1860000">
                  <a:off x="9405360" y="151632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nvGrpSpPr>
              <p:cNvPr id="521" name="组合 45"/>
              <p:cNvGrpSpPr/>
              <p:nvPr/>
            </p:nvGrpSpPr>
            <p:grpSpPr>
              <a:xfrm>
                <a:off x="8688240" y="1213920"/>
                <a:ext cx="286560" cy="356400"/>
                <a:chOff x="8688240" y="1213920"/>
                <a:chExt cx="286560" cy="356400"/>
              </a:xfrm>
            </p:grpSpPr>
            <p:sp>
              <p:nvSpPr>
                <p:cNvPr id="522" name="任意多边形 46"/>
                <p:cNvSpPr/>
                <p:nvPr/>
              </p:nvSpPr>
              <p:spPr>
                <a:xfrm flipH="1">
                  <a:off x="8704440" y="1285560"/>
                  <a:ext cx="196200" cy="284760"/>
                </a:xfrm>
                <a:custGeom>
                  <a:avLst/>
                  <a:gdLst>
                    <a:gd name="textAreaLeft" fmla="*/ -360 w 196200"/>
                    <a:gd name="textAreaRight" fmla="*/ 19620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523" name="椭圆 47"/>
                <p:cNvSpPr/>
                <p:nvPr/>
              </p:nvSpPr>
              <p:spPr>
                <a:xfrm flipH="1" rot="957000">
                  <a:off x="8880840" y="122328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524" name="椭圆 48"/>
                <p:cNvSpPr/>
                <p:nvPr/>
              </p:nvSpPr>
              <p:spPr>
                <a:xfrm flipH="1" rot="253200">
                  <a:off x="8823240" y="1230840"/>
                  <a:ext cx="45360" cy="514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000" bIns="18000" anchor="ctr">
                  <a:noAutofit/>
                </a:bodyPr>
                <a:p>
                  <a:pPr algn="ctr">
                    <a:lnSpc>
                      <a:spcPct val="100000"/>
                    </a:lnSpc>
                  </a:pPr>
                  <a:endParaRPr b="0" lang="en-US" sz="1800" spc="-1" strike="noStrike">
                    <a:solidFill>
                      <a:schemeClr val="lt1"/>
                    </a:solidFill>
                    <a:latin typeface="Calibri"/>
                  </a:endParaRPr>
                </a:p>
              </p:txBody>
            </p:sp>
            <p:sp>
              <p:nvSpPr>
                <p:cNvPr id="525" name="椭圆 49"/>
                <p:cNvSpPr/>
                <p:nvPr/>
              </p:nvSpPr>
              <p:spPr>
                <a:xfrm flipH="1" rot="21021600">
                  <a:off x="8773920" y="122904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526" name="椭圆 50"/>
                <p:cNvSpPr/>
                <p:nvPr/>
              </p:nvSpPr>
              <p:spPr>
                <a:xfrm flipH="1" rot="19740000">
                  <a:off x="8728560" y="124848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527" name="椭圆 51"/>
                <p:cNvSpPr/>
                <p:nvPr/>
              </p:nvSpPr>
              <p:spPr>
                <a:xfrm flipH="1" rot="19740000">
                  <a:off x="8695440" y="128196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grpSp>
          <p:nvGrpSpPr>
            <p:cNvPr id="528" name="组合 14"/>
            <p:cNvGrpSpPr/>
            <p:nvPr/>
          </p:nvGrpSpPr>
          <p:grpSpPr>
            <a:xfrm>
              <a:off x="8688240" y="582480"/>
              <a:ext cx="757440" cy="590760"/>
              <a:chOff x="8688240" y="582480"/>
              <a:chExt cx="757440" cy="590760"/>
            </a:xfrm>
          </p:grpSpPr>
          <p:grpSp>
            <p:nvGrpSpPr>
              <p:cNvPr id="529" name="组合 30"/>
              <p:cNvGrpSpPr/>
              <p:nvPr/>
            </p:nvGrpSpPr>
            <p:grpSpPr>
              <a:xfrm>
                <a:off x="9159120" y="816840"/>
                <a:ext cx="286560" cy="356400"/>
                <a:chOff x="9159120" y="816840"/>
                <a:chExt cx="286560" cy="356400"/>
              </a:xfrm>
            </p:grpSpPr>
            <p:sp>
              <p:nvSpPr>
                <p:cNvPr id="530" name="任意多边形 38"/>
                <p:cNvSpPr/>
                <p:nvPr/>
              </p:nvSpPr>
              <p:spPr>
                <a:xfrm>
                  <a:off x="9232920" y="888480"/>
                  <a:ext cx="196200" cy="284760"/>
                </a:xfrm>
                <a:custGeom>
                  <a:avLst/>
                  <a:gdLst>
                    <a:gd name="textAreaLeft" fmla="*/ 0 w 196200"/>
                    <a:gd name="textAreaRight" fmla="*/ 19656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531" name="椭圆 39"/>
                <p:cNvSpPr/>
                <p:nvPr/>
              </p:nvSpPr>
              <p:spPr>
                <a:xfrm rot="20643000">
                  <a:off x="9169560" y="82620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532" name="椭圆 40"/>
                <p:cNvSpPr/>
                <p:nvPr/>
              </p:nvSpPr>
              <p:spPr>
                <a:xfrm rot="21346800">
                  <a:off x="9265320" y="833760"/>
                  <a:ext cx="4536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533" name="椭圆 41"/>
                <p:cNvSpPr/>
                <p:nvPr/>
              </p:nvSpPr>
              <p:spPr>
                <a:xfrm rot="578400">
                  <a:off x="9317880" y="83196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534" name="椭圆 42"/>
                <p:cNvSpPr/>
                <p:nvPr/>
              </p:nvSpPr>
              <p:spPr>
                <a:xfrm rot="1860000">
                  <a:off x="9364320" y="85140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535" name="椭圆 43"/>
                <p:cNvSpPr/>
                <p:nvPr/>
              </p:nvSpPr>
              <p:spPr>
                <a:xfrm rot="1860000">
                  <a:off x="9405360" y="88488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nvGrpSpPr>
              <p:cNvPr id="536" name="组合 31"/>
              <p:cNvGrpSpPr/>
              <p:nvPr/>
            </p:nvGrpSpPr>
            <p:grpSpPr>
              <a:xfrm>
                <a:off x="8688240" y="582480"/>
                <a:ext cx="286560" cy="356400"/>
                <a:chOff x="8688240" y="582480"/>
                <a:chExt cx="286560" cy="356400"/>
              </a:xfrm>
            </p:grpSpPr>
            <p:sp>
              <p:nvSpPr>
                <p:cNvPr id="537" name="任意多边形 32"/>
                <p:cNvSpPr/>
                <p:nvPr/>
              </p:nvSpPr>
              <p:spPr>
                <a:xfrm flipH="1">
                  <a:off x="8704440" y="654120"/>
                  <a:ext cx="196200" cy="284760"/>
                </a:xfrm>
                <a:custGeom>
                  <a:avLst/>
                  <a:gdLst>
                    <a:gd name="textAreaLeft" fmla="*/ -360 w 196200"/>
                    <a:gd name="textAreaRight" fmla="*/ 19620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538" name="椭圆 33"/>
                <p:cNvSpPr/>
                <p:nvPr/>
              </p:nvSpPr>
              <p:spPr>
                <a:xfrm flipH="1" rot="957000">
                  <a:off x="8880840" y="59184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539" name="椭圆 34"/>
                <p:cNvSpPr/>
                <p:nvPr/>
              </p:nvSpPr>
              <p:spPr>
                <a:xfrm flipH="1" rot="253200">
                  <a:off x="8823240" y="599400"/>
                  <a:ext cx="45360" cy="514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000" bIns="18000" anchor="ctr">
                  <a:noAutofit/>
                </a:bodyPr>
                <a:p>
                  <a:pPr algn="ctr">
                    <a:lnSpc>
                      <a:spcPct val="100000"/>
                    </a:lnSpc>
                  </a:pPr>
                  <a:endParaRPr b="0" lang="en-US" sz="1800" spc="-1" strike="noStrike">
                    <a:solidFill>
                      <a:schemeClr val="lt1"/>
                    </a:solidFill>
                    <a:latin typeface="Calibri"/>
                  </a:endParaRPr>
                </a:p>
              </p:txBody>
            </p:sp>
            <p:sp>
              <p:nvSpPr>
                <p:cNvPr id="540" name="椭圆 35"/>
                <p:cNvSpPr/>
                <p:nvPr/>
              </p:nvSpPr>
              <p:spPr>
                <a:xfrm flipH="1" rot="21021600">
                  <a:off x="8773920" y="59760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541" name="椭圆 36"/>
                <p:cNvSpPr/>
                <p:nvPr/>
              </p:nvSpPr>
              <p:spPr>
                <a:xfrm flipH="1" rot="19740000">
                  <a:off x="8728560" y="61668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542" name="椭圆 37"/>
                <p:cNvSpPr/>
                <p:nvPr/>
              </p:nvSpPr>
              <p:spPr>
                <a:xfrm flipH="1" rot="19740000">
                  <a:off x="8695440" y="65016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grpSp>
          <p:nvGrpSpPr>
            <p:cNvPr id="543" name="组合 15"/>
            <p:cNvGrpSpPr/>
            <p:nvPr/>
          </p:nvGrpSpPr>
          <p:grpSpPr>
            <a:xfrm>
              <a:off x="8688240" y="-49320"/>
              <a:ext cx="757440" cy="591120"/>
              <a:chOff x="8688240" y="-49320"/>
              <a:chExt cx="757440" cy="591120"/>
            </a:xfrm>
          </p:grpSpPr>
          <p:grpSp>
            <p:nvGrpSpPr>
              <p:cNvPr id="544" name="组合 16"/>
              <p:cNvGrpSpPr/>
              <p:nvPr/>
            </p:nvGrpSpPr>
            <p:grpSpPr>
              <a:xfrm>
                <a:off x="9159120" y="185400"/>
                <a:ext cx="286560" cy="356400"/>
                <a:chOff x="9159120" y="185400"/>
                <a:chExt cx="286560" cy="356400"/>
              </a:xfrm>
            </p:grpSpPr>
            <p:sp>
              <p:nvSpPr>
                <p:cNvPr id="545" name="任意多边形 24"/>
                <p:cNvSpPr/>
                <p:nvPr/>
              </p:nvSpPr>
              <p:spPr>
                <a:xfrm>
                  <a:off x="9232920" y="257040"/>
                  <a:ext cx="196200" cy="284760"/>
                </a:xfrm>
                <a:custGeom>
                  <a:avLst/>
                  <a:gdLst>
                    <a:gd name="textAreaLeft" fmla="*/ 0 w 196200"/>
                    <a:gd name="textAreaRight" fmla="*/ 19656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546" name="椭圆 25"/>
                <p:cNvSpPr/>
                <p:nvPr/>
              </p:nvSpPr>
              <p:spPr>
                <a:xfrm rot="20643000">
                  <a:off x="9169560" y="19476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547" name="椭圆 26"/>
                <p:cNvSpPr/>
                <p:nvPr/>
              </p:nvSpPr>
              <p:spPr>
                <a:xfrm rot="21346800">
                  <a:off x="9265320" y="202320"/>
                  <a:ext cx="4536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548" name="椭圆 27"/>
                <p:cNvSpPr/>
                <p:nvPr/>
              </p:nvSpPr>
              <p:spPr>
                <a:xfrm rot="578400">
                  <a:off x="9317880" y="20052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549" name="椭圆 28"/>
                <p:cNvSpPr/>
                <p:nvPr/>
              </p:nvSpPr>
              <p:spPr>
                <a:xfrm rot="1860000">
                  <a:off x="9364320" y="21960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550" name="椭圆 29"/>
                <p:cNvSpPr/>
                <p:nvPr/>
              </p:nvSpPr>
              <p:spPr>
                <a:xfrm rot="1860000">
                  <a:off x="9405360" y="25308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nvGrpSpPr>
              <p:cNvPr id="551" name="组合 17"/>
              <p:cNvGrpSpPr/>
              <p:nvPr/>
            </p:nvGrpSpPr>
            <p:grpSpPr>
              <a:xfrm>
                <a:off x="8688240" y="-49320"/>
                <a:ext cx="286560" cy="356760"/>
                <a:chOff x="8688240" y="-49320"/>
                <a:chExt cx="286560" cy="356760"/>
              </a:xfrm>
            </p:grpSpPr>
            <p:sp>
              <p:nvSpPr>
                <p:cNvPr id="552" name="任意多边形 18"/>
                <p:cNvSpPr/>
                <p:nvPr/>
              </p:nvSpPr>
              <p:spPr>
                <a:xfrm flipH="1">
                  <a:off x="8704440" y="22680"/>
                  <a:ext cx="196200" cy="284760"/>
                </a:xfrm>
                <a:custGeom>
                  <a:avLst/>
                  <a:gdLst>
                    <a:gd name="textAreaLeft" fmla="*/ -360 w 196200"/>
                    <a:gd name="textAreaRight" fmla="*/ 19620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553" name="椭圆 19"/>
                <p:cNvSpPr/>
                <p:nvPr/>
              </p:nvSpPr>
              <p:spPr>
                <a:xfrm flipH="1" rot="957000">
                  <a:off x="8880840" y="-3960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554" name="椭圆 20"/>
                <p:cNvSpPr/>
                <p:nvPr/>
              </p:nvSpPr>
              <p:spPr>
                <a:xfrm flipH="1" rot="253200">
                  <a:off x="8823240" y="-32040"/>
                  <a:ext cx="45360" cy="514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000" bIns="18000" anchor="ctr">
                  <a:noAutofit/>
                </a:bodyPr>
                <a:p>
                  <a:pPr algn="ctr">
                    <a:lnSpc>
                      <a:spcPct val="100000"/>
                    </a:lnSpc>
                  </a:pPr>
                  <a:endParaRPr b="0" lang="en-US" sz="1800" spc="-1" strike="noStrike">
                    <a:solidFill>
                      <a:schemeClr val="lt1"/>
                    </a:solidFill>
                    <a:latin typeface="Calibri"/>
                  </a:endParaRPr>
                </a:p>
              </p:txBody>
            </p:sp>
            <p:sp>
              <p:nvSpPr>
                <p:cNvPr id="555" name="椭圆 21"/>
                <p:cNvSpPr/>
                <p:nvPr/>
              </p:nvSpPr>
              <p:spPr>
                <a:xfrm flipH="1" rot="21021600">
                  <a:off x="8773920" y="-3384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556" name="椭圆 22"/>
                <p:cNvSpPr/>
                <p:nvPr/>
              </p:nvSpPr>
              <p:spPr>
                <a:xfrm flipH="1" rot="19740000">
                  <a:off x="8728560" y="-1440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557" name="椭圆 23"/>
                <p:cNvSpPr/>
                <p:nvPr/>
              </p:nvSpPr>
              <p:spPr>
                <a:xfrm flipH="1" rot="19740000">
                  <a:off x="8695440" y="1872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grpSp>
      <p:sp>
        <p:nvSpPr>
          <p:cNvPr id="558" name="矩形 170"/>
          <p:cNvSpPr/>
          <p:nvPr/>
        </p:nvSpPr>
        <p:spPr>
          <a:xfrm>
            <a:off x="-11880" y="3490560"/>
            <a:ext cx="12203640" cy="1871640"/>
          </a:xfrm>
          <a:prstGeom prst="rect">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9" name="文本框 3"/>
          <p:cNvSpPr/>
          <p:nvPr/>
        </p:nvSpPr>
        <p:spPr>
          <a:xfrm>
            <a:off x="1191960" y="3652560"/>
            <a:ext cx="9981720" cy="155268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pPr>
            <a:r>
              <a:rPr b="1" lang="zh-CN" sz="2000" spc="-1" strike="noStrike">
                <a:solidFill>
                  <a:srgbClr val="000000"/>
                </a:solidFill>
                <a:latin typeface="方正硬笔行书简体"/>
                <a:ea typeface="方正硬笔行书简体"/>
              </a:rPr>
              <a:t>这是一本纷杂凌乱的书</a:t>
            </a:r>
            <a:endParaRPr b="0" lang="en-US" sz="2000" spc="-1" strike="noStrike">
              <a:solidFill>
                <a:srgbClr val="000000"/>
              </a:solidFill>
              <a:latin typeface="Arial"/>
            </a:endParaRPr>
          </a:p>
          <a:p>
            <a:pPr algn="just">
              <a:lnSpc>
                <a:spcPct val="120000"/>
              </a:lnSpc>
            </a:pPr>
            <a:r>
              <a:rPr b="1" lang="zh-CN" sz="2000" spc="-1" strike="noStrike">
                <a:solidFill>
                  <a:srgbClr val="000000"/>
                </a:solidFill>
                <a:latin typeface="方正硬笔行书简体"/>
                <a:ea typeface="方正硬笔行书简体"/>
              </a:rPr>
              <a:t>像朋友在深夜跟你在叙述，叙述他走过的千山万水</a:t>
            </a:r>
            <a:endParaRPr b="0" lang="en-US" sz="2000" spc="-1" strike="noStrike">
              <a:solidFill>
                <a:srgbClr val="000000"/>
              </a:solidFill>
              <a:latin typeface="Arial"/>
            </a:endParaRPr>
          </a:p>
          <a:p>
            <a:pPr algn="just">
              <a:lnSpc>
                <a:spcPct val="120000"/>
              </a:lnSpc>
            </a:pPr>
            <a:r>
              <a:rPr b="1" lang="zh-CN" sz="2000" spc="-1" strike="noStrike">
                <a:solidFill>
                  <a:srgbClr val="000000"/>
                </a:solidFill>
                <a:latin typeface="方正硬笔行书简体"/>
                <a:ea typeface="方正硬笔行书简体"/>
              </a:rPr>
              <a:t>那么多篇章，有温暖的，有明亮的，有落单的，有疯狂的，有无聊的，有胡说八道的</a:t>
            </a:r>
            <a:endParaRPr b="0" lang="en-US" sz="2000" spc="-1" strike="noStrike">
              <a:solidFill>
                <a:srgbClr val="000000"/>
              </a:solidFill>
              <a:latin typeface="Arial"/>
            </a:endParaRPr>
          </a:p>
          <a:p>
            <a:pPr algn="just">
              <a:lnSpc>
                <a:spcPct val="120000"/>
              </a:lnSpc>
            </a:pPr>
            <a:r>
              <a:rPr b="1" lang="zh-CN" sz="2000" spc="-1" strike="noStrike">
                <a:solidFill>
                  <a:srgbClr val="000000"/>
                </a:solidFill>
                <a:latin typeface="方正硬笔行书简体"/>
                <a:ea typeface="方正硬笔行书简体"/>
              </a:rPr>
              <a:t>从你的全世界路过，随便打开一篇就可以了</a:t>
            </a:r>
            <a:endParaRPr b="0" lang="en-US" sz="2000" spc="-1" strike="noStrike">
              <a:solidFill>
                <a:srgbClr val="000000"/>
              </a:solidFill>
              <a:latin typeface="Arial"/>
            </a:endParaRPr>
          </a:p>
        </p:txBody>
      </p:sp>
      <p:sp>
        <p:nvSpPr>
          <p:cNvPr id="560" name="任意多边形 176"/>
          <p:cNvSpPr/>
          <p:nvPr/>
        </p:nvSpPr>
        <p:spPr>
          <a:xfrm>
            <a:off x="4774320" y="5188320"/>
            <a:ext cx="204840" cy="804600"/>
          </a:xfrm>
          <a:custGeom>
            <a:avLst/>
            <a:gdLst>
              <a:gd name="textAreaLeft" fmla="*/ 0 w 204840"/>
              <a:gd name="textAreaRight" fmla="*/ 205200 w 204840"/>
              <a:gd name="textAreaTop" fmla="*/ 0 h 804600"/>
              <a:gd name="textAreaBottom" fmla="*/ 804960 h 804600"/>
            </a:gdLst>
            <a:ahLst/>
            <a:rect l="textAreaLeft" t="textAreaTop" r="textAreaRight" b="textAreaBottom"/>
            <a:pathLst>
              <a:path w="205100" h="805137">
                <a:moveTo>
                  <a:pt x="0" y="107231"/>
                </a:moveTo>
                <a:cubicBezTo>
                  <a:pt x="4748" y="104382"/>
                  <a:pt x="10328" y="102600"/>
                  <a:pt x="14243" y="98685"/>
                </a:cubicBezTo>
                <a:cubicBezTo>
                  <a:pt x="29434" y="83494"/>
                  <a:pt x="2851" y="94885"/>
                  <a:pt x="25638" y="87291"/>
                </a:cubicBezTo>
                <a:cubicBezTo>
                  <a:pt x="26587" y="84442"/>
                  <a:pt x="26179" y="80667"/>
                  <a:pt x="28486" y="78745"/>
                </a:cubicBezTo>
                <a:cubicBezTo>
                  <a:pt x="32414" y="75471"/>
                  <a:pt x="38155" y="75335"/>
                  <a:pt x="42729" y="73048"/>
                </a:cubicBezTo>
                <a:cubicBezTo>
                  <a:pt x="45791" y="71517"/>
                  <a:pt x="48676" y="69579"/>
                  <a:pt x="51275" y="67351"/>
                </a:cubicBezTo>
                <a:cubicBezTo>
                  <a:pt x="68480" y="52604"/>
                  <a:pt x="55513" y="58341"/>
                  <a:pt x="71215" y="53108"/>
                </a:cubicBezTo>
                <a:cubicBezTo>
                  <a:pt x="74064" y="51209"/>
                  <a:pt x="76699" y="48941"/>
                  <a:pt x="79761" y="47410"/>
                </a:cubicBezTo>
                <a:cubicBezTo>
                  <a:pt x="82447" y="46067"/>
                  <a:pt x="85682" y="46020"/>
                  <a:pt x="88307" y="44562"/>
                </a:cubicBezTo>
                <a:cubicBezTo>
                  <a:pt x="117694" y="28236"/>
                  <a:pt x="94607" y="36764"/>
                  <a:pt x="113944" y="30319"/>
                </a:cubicBezTo>
                <a:lnTo>
                  <a:pt x="131036" y="18924"/>
                </a:lnTo>
                <a:cubicBezTo>
                  <a:pt x="133885" y="17025"/>
                  <a:pt x="136261" y="14057"/>
                  <a:pt x="139582" y="13227"/>
                </a:cubicBezTo>
                <a:lnTo>
                  <a:pt x="150976" y="10379"/>
                </a:lnTo>
                <a:cubicBezTo>
                  <a:pt x="151926" y="7530"/>
                  <a:pt x="150857" y="2290"/>
                  <a:pt x="153825" y="1833"/>
                </a:cubicBezTo>
                <a:cubicBezTo>
                  <a:pt x="180554" y="-2280"/>
                  <a:pt x="181749" y="508"/>
                  <a:pt x="196554" y="10379"/>
                </a:cubicBezTo>
                <a:cubicBezTo>
                  <a:pt x="198453" y="13227"/>
                  <a:pt x="201873" y="15522"/>
                  <a:pt x="202251" y="18924"/>
                </a:cubicBezTo>
                <a:cubicBezTo>
                  <a:pt x="202551" y="21625"/>
                  <a:pt x="199334" y="39557"/>
                  <a:pt x="196554" y="44562"/>
                </a:cubicBezTo>
                <a:cubicBezTo>
                  <a:pt x="193229" y="50547"/>
                  <a:pt x="185159" y="61653"/>
                  <a:pt x="185159" y="61653"/>
                </a:cubicBezTo>
                <a:cubicBezTo>
                  <a:pt x="184210" y="64502"/>
                  <a:pt x="183654" y="67513"/>
                  <a:pt x="182311" y="70199"/>
                </a:cubicBezTo>
                <a:cubicBezTo>
                  <a:pt x="178717" y="77387"/>
                  <a:pt x="176216" y="79143"/>
                  <a:pt x="170916" y="84442"/>
                </a:cubicBezTo>
                <a:cubicBezTo>
                  <a:pt x="156592" y="113093"/>
                  <a:pt x="173419" y="76936"/>
                  <a:pt x="162371" y="110080"/>
                </a:cubicBezTo>
                <a:cubicBezTo>
                  <a:pt x="161028" y="114109"/>
                  <a:pt x="158250" y="117531"/>
                  <a:pt x="156673" y="121474"/>
                </a:cubicBezTo>
                <a:cubicBezTo>
                  <a:pt x="154443" y="127050"/>
                  <a:pt x="152875" y="132869"/>
                  <a:pt x="150976" y="138566"/>
                </a:cubicBezTo>
                <a:lnTo>
                  <a:pt x="145279" y="155657"/>
                </a:lnTo>
                <a:lnTo>
                  <a:pt x="142430" y="164203"/>
                </a:lnTo>
                <a:cubicBezTo>
                  <a:pt x="141481" y="167052"/>
                  <a:pt x="140925" y="170063"/>
                  <a:pt x="139582" y="172749"/>
                </a:cubicBezTo>
                <a:cubicBezTo>
                  <a:pt x="137683" y="176547"/>
                  <a:pt x="135558" y="180240"/>
                  <a:pt x="133885" y="184143"/>
                </a:cubicBezTo>
                <a:cubicBezTo>
                  <a:pt x="132702" y="186903"/>
                  <a:pt x="132379" y="190003"/>
                  <a:pt x="131036" y="192689"/>
                </a:cubicBezTo>
                <a:cubicBezTo>
                  <a:pt x="129505" y="195751"/>
                  <a:pt x="127038" y="198262"/>
                  <a:pt x="125339" y="201235"/>
                </a:cubicBezTo>
                <a:cubicBezTo>
                  <a:pt x="116143" y="217329"/>
                  <a:pt x="124099" y="208173"/>
                  <a:pt x="113944" y="218326"/>
                </a:cubicBezTo>
                <a:cubicBezTo>
                  <a:pt x="112995" y="221175"/>
                  <a:pt x="112439" y="224186"/>
                  <a:pt x="111096" y="226872"/>
                </a:cubicBezTo>
                <a:cubicBezTo>
                  <a:pt x="109565" y="229934"/>
                  <a:pt x="106790" y="232290"/>
                  <a:pt x="105399" y="235418"/>
                </a:cubicBezTo>
                <a:cubicBezTo>
                  <a:pt x="102960" y="240906"/>
                  <a:pt x="99701" y="252509"/>
                  <a:pt x="99701" y="252509"/>
                </a:cubicBezTo>
                <a:cubicBezTo>
                  <a:pt x="100651" y="266752"/>
                  <a:pt x="100973" y="281051"/>
                  <a:pt x="102550" y="295238"/>
                </a:cubicBezTo>
                <a:cubicBezTo>
                  <a:pt x="102882" y="298222"/>
                  <a:pt x="103733" y="301285"/>
                  <a:pt x="105399" y="303784"/>
                </a:cubicBezTo>
                <a:cubicBezTo>
                  <a:pt x="107633" y="307136"/>
                  <a:pt x="111096" y="309481"/>
                  <a:pt x="113944" y="312330"/>
                </a:cubicBezTo>
                <a:cubicBezTo>
                  <a:pt x="114894" y="315179"/>
                  <a:pt x="115335" y="318251"/>
                  <a:pt x="116793" y="320876"/>
                </a:cubicBezTo>
                <a:cubicBezTo>
                  <a:pt x="120118" y="326861"/>
                  <a:pt x="124389" y="332270"/>
                  <a:pt x="128187" y="337967"/>
                </a:cubicBezTo>
                <a:cubicBezTo>
                  <a:pt x="130086" y="340816"/>
                  <a:pt x="132354" y="343451"/>
                  <a:pt x="133885" y="346513"/>
                </a:cubicBezTo>
                <a:cubicBezTo>
                  <a:pt x="141113" y="360970"/>
                  <a:pt x="137226" y="354375"/>
                  <a:pt x="145279" y="366453"/>
                </a:cubicBezTo>
                <a:cubicBezTo>
                  <a:pt x="145948" y="369129"/>
                  <a:pt x="149120" y="383054"/>
                  <a:pt x="150976" y="386394"/>
                </a:cubicBezTo>
                <a:cubicBezTo>
                  <a:pt x="154301" y="392379"/>
                  <a:pt x="162371" y="403485"/>
                  <a:pt x="162371" y="403485"/>
                </a:cubicBezTo>
                <a:lnTo>
                  <a:pt x="168068" y="420577"/>
                </a:lnTo>
                <a:cubicBezTo>
                  <a:pt x="169017" y="423426"/>
                  <a:pt x="170188" y="426210"/>
                  <a:pt x="170916" y="429123"/>
                </a:cubicBezTo>
                <a:cubicBezTo>
                  <a:pt x="172815" y="436719"/>
                  <a:pt x="174138" y="444483"/>
                  <a:pt x="176614" y="451911"/>
                </a:cubicBezTo>
                <a:lnTo>
                  <a:pt x="182311" y="469003"/>
                </a:lnTo>
                <a:lnTo>
                  <a:pt x="185159" y="477549"/>
                </a:lnTo>
                <a:cubicBezTo>
                  <a:pt x="191153" y="531490"/>
                  <a:pt x="184687" y="483729"/>
                  <a:pt x="190857" y="514580"/>
                </a:cubicBezTo>
                <a:cubicBezTo>
                  <a:pt x="191990" y="520244"/>
                  <a:pt x="192304" y="526069"/>
                  <a:pt x="193705" y="531672"/>
                </a:cubicBezTo>
                <a:cubicBezTo>
                  <a:pt x="195161" y="537498"/>
                  <a:pt x="197945" y="542938"/>
                  <a:pt x="199402" y="548764"/>
                </a:cubicBezTo>
                <a:cubicBezTo>
                  <a:pt x="202979" y="563071"/>
                  <a:pt x="201013" y="556444"/>
                  <a:pt x="205100" y="568704"/>
                </a:cubicBezTo>
                <a:cubicBezTo>
                  <a:pt x="204589" y="587093"/>
                  <a:pt x="206592" y="655244"/>
                  <a:pt x="199402" y="691194"/>
                </a:cubicBezTo>
                <a:cubicBezTo>
                  <a:pt x="198813" y="694138"/>
                  <a:pt x="197379" y="696852"/>
                  <a:pt x="196554" y="699739"/>
                </a:cubicBezTo>
                <a:cubicBezTo>
                  <a:pt x="195478" y="703504"/>
                  <a:pt x="194655" y="707336"/>
                  <a:pt x="193705" y="711134"/>
                </a:cubicBezTo>
                <a:cubicBezTo>
                  <a:pt x="192754" y="724444"/>
                  <a:pt x="190710" y="760444"/>
                  <a:pt x="188008" y="776651"/>
                </a:cubicBezTo>
                <a:cubicBezTo>
                  <a:pt x="187514" y="779613"/>
                  <a:pt x="185984" y="782310"/>
                  <a:pt x="185159" y="785197"/>
                </a:cubicBezTo>
                <a:cubicBezTo>
                  <a:pt x="178008" y="810227"/>
                  <a:pt x="186291" y="784655"/>
                  <a:pt x="179462" y="805137"/>
                </a:cubicBezTo>
                <a:cubicBezTo>
                  <a:pt x="175664" y="803238"/>
                  <a:pt x="171330" y="802158"/>
                  <a:pt x="168068" y="799440"/>
                </a:cubicBezTo>
                <a:cubicBezTo>
                  <a:pt x="165438" y="797248"/>
                  <a:pt x="164792" y="793315"/>
                  <a:pt x="162371" y="790894"/>
                </a:cubicBezTo>
                <a:cubicBezTo>
                  <a:pt x="159950" y="788473"/>
                  <a:pt x="156674" y="787096"/>
                  <a:pt x="153825" y="785197"/>
                </a:cubicBezTo>
                <a:cubicBezTo>
                  <a:pt x="151926" y="782348"/>
                  <a:pt x="149659" y="779713"/>
                  <a:pt x="148128" y="776651"/>
                </a:cubicBezTo>
                <a:cubicBezTo>
                  <a:pt x="144880" y="770155"/>
                  <a:pt x="146999" y="766117"/>
                  <a:pt x="139582" y="762408"/>
                </a:cubicBezTo>
                <a:cubicBezTo>
                  <a:pt x="137884" y="761559"/>
                  <a:pt x="135784" y="762408"/>
                  <a:pt x="133885" y="762408"/>
                </a:cubicBezTo>
              </a:path>
            </a:pathLst>
          </a:cu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61" name="文本框 2"/>
          <p:cNvSpPr/>
          <p:nvPr/>
        </p:nvSpPr>
        <p:spPr>
          <a:xfrm>
            <a:off x="1191960" y="2544480"/>
            <a:ext cx="4308120" cy="1095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6600" spc="-1" strike="noStrike">
                <a:solidFill>
                  <a:srgbClr val="eab200"/>
                </a:solidFill>
                <a:latin typeface="方正黄草简体"/>
                <a:ea typeface="方正黄草简体"/>
              </a:rPr>
              <a:t>谢谢观看！</a:t>
            </a:r>
            <a:endParaRPr b="0" lang="en-US" sz="6600" spc="-1" strike="noStrike">
              <a:solidFill>
                <a:srgbClr val="000000"/>
              </a:solidFill>
              <a:latin typeface="Arial"/>
            </a:endParaRPr>
          </a:p>
        </p:txBody>
      </p:sp>
      <p:sp>
        <p:nvSpPr>
          <p:cNvPr id="562" name="Text Box 6"/>
          <p:cNvSpPr/>
          <p:nvPr/>
        </p:nvSpPr>
        <p:spPr>
          <a:xfrm>
            <a:off x="497160" y="639936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563c1"/>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矩形 2"/>
          <p:cNvSpPr/>
          <p:nvPr/>
        </p:nvSpPr>
        <p:spPr>
          <a:xfrm rot="450000">
            <a:off x="7128720" y="1071000"/>
            <a:ext cx="4147560" cy="5086440"/>
          </a:xfrm>
          <a:prstGeom prst="rect">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7" name="文本框 5"/>
          <p:cNvSpPr/>
          <p:nvPr/>
        </p:nvSpPr>
        <p:spPr>
          <a:xfrm>
            <a:off x="658440" y="2934360"/>
            <a:ext cx="5830920" cy="1308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zh-CN" sz="3200" spc="-1" strike="noStrike">
                <a:solidFill>
                  <a:srgbClr val="eab200"/>
                </a:solidFill>
                <a:latin typeface="方正硬笔行书简体"/>
                <a:ea typeface="方正硬笔行书简体"/>
              </a:rPr>
              <a:t>张嘉佳</a:t>
            </a:r>
            <a:endParaRPr b="0" lang="en-US" sz="32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微博上最会写故事的人</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毕业于南京大学出版小说：</a:t>
            </a:r>
            <a:r>
              <a:rPr b="0" lang="zh-CN" sz="2000" spc="-1" strike="noStrike">
                <a:solidFill>
                  <a:srgbClr val="000000"/>
                </a:solidFill>
                <a:latin typeface="方正硬笔行书简体"/>
                <a:ea typeface="方正硬笔行书简体"/>
              </a:rPr>
              <a:t>《几乎成了英雄》、《情人书》、《刀见笑》、《小夫妻天天恶战》等</a:t>
            </a:r>
            <a:endParaRPr b="0" lang="en-US" sz="2000" spc="-1" strike="noStrike">
              <a:solidFill>
                <a:srgbClr val="000000"/>
              </a:solidFill>
              <a:latin typeface="Arial"/>
            </a:endParaRPr>
          </a:p>
        </p:txBody>
      </p:sp>
      <p:sp>
        <p:nvSpPr>
          <p:cNvPr id="278" name="文本框 6"/>
          <p:cNvSpPr/>
          <p:nvPr/>
        </p:nvSpPr>
        <p:spPr>
          <a:xfrm>
            <a:off x="658440" y="4578120"/>
            <a:ext cx="5697000" cy="82116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pPr>
            <a:r>
              <a:rPr b="0" lang="zh-CN" sz="2000" spc="-1" strike="noStrike">
                <a:solidFill>
                  <a:srgbClr val="000000"/>
                </a:solidFill>
                <a:latin typeface="方正硬笔行书简体"/>
                <a:ea typeface="方正硬笔行书简体"/>
              </a:rPr>
              <a:t>《</a:t>
            </a:r>
            <a:r>
              <a:rPr b="0" lang="zh-CN" sz="2000" spc="-1" strike="noStrike">
                <a:solidFill>
                  <a:srgbClr val="000000"/>
                </a:solidFill>
                <a:latin typeface="方正硬笔行书简体"/>
                <a:ea typeface="方正硬笔行书简体"/>
              </a:rPr>
              <a:t>从你的全世界路过》是一本短篇集，即“睡前故事”系列，发表后广为流传，被转发超</a:t>
            </a:r>
            <a:r>
              <a:rPr b="0" lang="en-US" sz="2000" spc="-1" strike="noStrike">
                <a:solidFill>
                  <a:srgbClr val="000000"/>
                </a:solidFill>
                <a:latin typeface="方正硬笔行书简体"/>
                <a:ea typeface="方正硬笔行书简体"/>
              </a:rPr>
              <a:t>200</a:t>
            </a:r>
            <a:r>
              <a:rPr b="0" lang="zh-CN" sz="2000" spc="-1" strike="noStrike">
                <a:solidFill>
                  <a:srgbClr val="000000"/>
                </a:solidFill>
                <a:latin typeface="方正硬笔行书简体"/>
                <a:ea typeface="方正硬笔行书简体"/>
              </a:rPr>
              <a:t>万次，总阅读量超过四亿</a:t>
            </a:r>
            <a:endParaRPr b="0" lang="en-US" sz="2000" spc="-1" strike="noStrike">
              <a:solidFill>
                <a:srgbClr val="000000"/>
              </a:solidFill>
              <a:latin typeface="Arial"/>
            </a:endParaRPr>
          </a:p>
        </p:txBody>
      </p:sp>
      <p:sp>
        <p:nvSpPr>
          <p:cNvPr id="279" name="文本框 7"/>
          <p:cNvSpPr/>
          <p:nvPr/>
        </p:nvSpPr>
        <p:spPr>
          <a:xfrm rot="482400">
            <a:off x="8000640" y="5300640"/>
            <a:ext cx="318924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ea typeface="方正硬笔行书简体"/>
              </a:rPr>
              <a:t>你可以和张嘉佳一起睡不着</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Calibri"/>
                <a:ea typeface="方正硬笔行书简体"/>
              </a:rPr>
              <a:t>http://weibo.com/zhangjiajia</a:t>
            </a:r>
            <a:endParaRPr b="0" lang="en-US" sz="1600" spc="-1" strike="noStrike">
              <a:solidFill>
                <a:srgbClr val="000000"/>
              </a:solidFill>
              <a:latin typeface="Arial"/>
            </a:endParaRPr>
          </a:p>
        </p:txBody>
      </p:sp>
      <p:pic>
        <p:nvPicPr>
          <p:cNvPr id="280" name="图片 9" descr=""/>
          <p:cNvPicPr/>
          <p:nvPr/>
        </p:nvPicPr>
        <p:blipFill>
          <a:blip r:embed="rId1"/>
          <a:srcRect l="2574" t="30050" r="2574" b="3097"/>
          <a:stretch/>
        </p:blipFill>
        <p:spPr>
          <a:xfrm rot="450600">
            <a:off x="7467480" y="1274040"/>
            <a:ext cx="3678840" cy="3678840"/>
          </a:xfrm>
          <a:prstGeom prst="rect">
            <a:avLst/>
          </a:prstGeom>
          <a:ln w="0">
            <a:noFill/>
          </a:ln>
        </p:spPr>
      </p:pic>
      <p:grpSp>
        <p:nvGrpSpPr>
          <p:cNvPr id="281" name="组合 11"/>
          <p:cNvGrpSpPr/>
          <p:nvPr/>
        </p:nvGrpSpPr>
        <p:grpSpPr>
          <a:xfrm>
            <a:off x="7292880" y="5040000"/>
            <a:ext cx="607320" cy="503640"/>
            <a:chOff x="7292880" y="5040000"/>
            <a:chExt cx="607320" cy="503640"/>
          </a:xfrm>
        </p:grpSpPr>
        <p:sp>
          <p:nvSpPr>
            <p:cNvPr id="282" name="任意多边形 12"/>
            <p:cNvSpPr/>
            <p:nvPr/>
          </p:nvSpPr>
          <p:spPr>
            <a:xfrm>
              <a:off x="7292880" y="5137200"/>
              <a:ext cx="508320" cy="406440"/>
            </a:xfrm>
            <a:custGeom>
              <a:avLst/>
              <a:gdLst>
                <a:gd name="textAreaLeft" fmla="*/ 0 w 508320"/>
                <a:gd name="textAreaRight" fmla="*/ 508680 w 508320"/>
                <a:gd name="textAreaTop" fmla="*/ 0 h 406440"/>
                <a:gd name="textAreaBottom" fmla="*/ 406800 h 406440"/>
              </a:gdLst>
              <a:ahLst/>
              <a:rect l="textAreaLeft" t="textAreaTop" r="textAreaRight" b="textAreaBottom"/>
              <a:pathLst>
                <a:path w="804937" h="643994">
                  <a:moveTo>
                    <a:pt x="432958" y="159112"/>
                  </a:moveTo>
                  <a:cubicBezTo>
                    <a:pt x="508593" y="120898"/>
                    <a:pt x="555383" y="102874"/>
                    <a:pt x="625249" y="113697"/>
                  </a:cubicBezTo>
                  <a:cubicBezTo>
                    <a:pt x="680469" y="140239"/>
                    <a:pt x="701075" y="158127"/>
                    <a:pt x="666874" y="265437"/>
                  </a:cubicBezTo>
                  <a:cubicBezTo>
                    <a:pt x="738608" y="284288"/>
                    <a:pt x="813226" y="311790"/>
                    <a:pt x="804192" y="408524"/>
                  </a:cubicBezTo>
                  <a:cubicBezTo>
                    <a:pt x="778555" y="463665"/>
                    <a:pt x="741380" y="518807"/>
                    <a:pt x="637860" y="591256"/>
                  </a:cubicBezTo>
                  <a:cubicBezTo>
                    <a:pt x="607930" y="606339"/>
                    <a:pt x="367429" y="684882"/>
                    <a:pt x="199041" y="616312"/>
                  </a:cubicBezTo>
                  <a:cubicBezTo>
                    <a:pt x="152553" y="596445"/>
                    <a:pt x="33951" y="562154"/>
                    <a:pt x="7655" y="435558"/>
                  </a:cubicBezTo>
                  <a:cubicBezTo>
                    <a:pt x="-23493" y="402665"/>
                    <a:pt x="43433" y="231316"/>
                    <a:pt x="153627" y="129194"/>
                  </a:cubicBezTo>
                  <a:cubicBezTo>
                    <a:pt x="165009" y="106856"/>
                    <a:pt x="332156" y="-39519"/>
                    <a:pt x="432958" y="10256"/>
                  </a:cubicBezTo>
                  <a:cubicBezTo>
                    <a:pt x="499302" y="36799"/>
                    <a:pt x="456034" y="121032"/>
                    <a:pt x="432958" y="159112"/>
                  </a:cubicBezTo>
                  <a:close/>
                </a:path>
              </a:pathLst>
            </a:custGeom>
            <a:solidFill>
              <a:srgbClr val="ffe30d"/>
            </a:solidFill>
            <a:ln>
              <a:noFill/>
            </a:ln>
            <a:effectLst>
              <a:innerShdw blurRad="63500" dir="108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3" name="椭圆 13"/>
            <p:cNvSpPr/>
            <p:nvPr/>
          </p:nvSpPr>
          <p:spPr>
            <a:xfrm>
              <a:off x="7355880" y="5275080"/>
              <a:ext cx="362880" cy="243720"/>
            </a:xfrm>
            <a:prstGeom prst="ellipse">
              <a:avLst/>
            </a:prstGeom>
            <a:pattFill prst="smCheck">
              <a:fgClr>
                <a:srgbClr val="fff07d"/>
              </a:fgClr>
              <a:bgClr>
                <a:srgbClr val="ffffff"/>
              </a:bgClr>
            </a:patt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4" name="椭圆 14"/>
            <p:cNvSpPr/>
            <p:nvPr/>
          </p:nvSpPr>
          <p:spPr>
            <a:xfrm rot="21376800">
              <a:off x="7430760" y="5333400"/>
              <a:ext cx="192960" cy="158760"/>
            </a:xfrm>
            <a:prstGeom prst="ellipse">
              <a:avLst/>
            </a:prstGeom>
            <a:solidFill>
              <a:srgbClr val="ffe30d"/>
            </a:solidFill>
            <a:ln>
              <a:noFill/>
            </a:ln>
            <a:effectLst>
              <a:innerShdw blurRad="63500" dir="108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5" name="椭圆 15"/>
            <p:cNvSpPr/>
            <p:nvPr/>
          </p:nvSpPr>
          <p:spPr>
            <a:xfrm>
              <a:off x="7467840" y="5399280"/>
              <a:ext cx="68040" cy="68040"/>
            </a:xfrm>
            <a:prstGeom prst="ellipse">
              <a:avLst/>
            </a:prstGeom>
            <a:pattFill prst="smCheck">
              <a:fgClr>
                <a:srgbClr val="fff07d"/>
              </a:fgClr>
              <a:bgClr>
                <a:srgbClr val="ffffff"/>
              </a:bgClr>
            </a:patt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3600" bIns="3600" anchor="ctr">
              <a:noAutofit/>
            </a:bodyPr>
            <a:p>
              <a:pPr algn="ctr">
                <a:lnSpc>
                  <a:spcPct val="100000"/>
                </a:lnSpc>
              </a:pPr>
              <a:endParaRPr b="0" lang="en-US" sz="1800" spc="-1" strike="noStrike">
                <a:solidFill>
                  <a:schemeClr val="lt1"/>
                </a:solidFill>
                <a:latin typeface="Calibri"/>
              </a:endParaRPr>
            </a:p>
          </p:txBody>
        </p:sp>
        <p:sp>
          <p:nvSpPr>
            <p:cNvPr id="286" name="椭圆 16"/>
            <p:cNvSpPr/>
            <p:nvPr/>
          </p:nvSpPr>
          <p:spPr>
            <a:xfrm>
              <a:off x="7538760" y="5391720"/>
              <a:ext cx="28440" cy="28440"/>
            </a:xfrm>
            <a:prstGeom prst="ellipse">
              <a:avLst/>
            </a:prstGeom>
            <a:pattFill prst="smCheck">
              <a:fgClr>
                <a:srgbClr val="fff07d"/>
              </a:fgClr>
              <a:bgClr>
                <a:srgbClr val="ffffff"/>
              </a:bgClr>
            </a:patt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24480" bIns="-24480" anchor="ctr">
              <a:noAutofit/>
            </a:bodyPr>
            <a:p>
              <a:pPr algn="ctr">
                <a:lnSpc>
                  <a:spcPct val="100000"/>
                </a:lnSpc>
              </a:pPr>
              <a:endParaRPr b="0" lang="en-US" sz="1800" spc="-1" strike="noStrike">
                <a:solidFill>
                  <a:schemeClr val="lt1"/>
                </a:solidFill>
                <a:latin typeface="Calibri"/>
              </a:endParaRPr>
            </a:p>
          </p:txBody>
        </p:sp>
        <p:sp>
          <p:nvSpPr>
            <p:cNvPr id="287" name="空心弧 42"/>
            <p:cNvSpPr/>
            <p:nvPr/>
          </p:nvSpPr>
          <p:spPr>
            <a:xfrm rot="3148800">
              <a:off x="7646760" y="5120640"/>
              <a:ext cx="259560" cy="112320"/>
            </a:xfrm>
            <a:custGeom>
              <a:avLst/>
              <a:gdLst>
                <a:gd name="textAreaLeft" fmla="*/ 0 w 259560"/>
                <a:gd name="textAreaRight" fmla="*/ 259920 w 259560"/>
                <a:gd name="textAreaTop" fmla="*/ 0 h 112320"/>
                <a:gd name="textAreaBottom" fmla="*/ 112680 h 112320"/>
              </a:gdLst>
              <a:ahLst/>
              <a:rect l="textAreaLeft" t="textAreaTop" r="textAreaRight" b="textAreaBottom"/>
              <a:pathLst>
                <a:path w="411464" h="178413">
                  <a:moveTo>
                    <a:pt x="0" y="173977"/>
                  </a:moveTo>
                  <a:cubicBezTo>
                    <a:pt x="0" y="79607"/>
                    <a:pt x="89079" y="2444"/>
                    <a:pt x="200778" y="56"/>
                  </a:cubicBezTo>
                  <a:cubicBezTo>
                    <a:pt x="310856" y="-2297"/>
                    <a:pt x="403661" y="68883"/>
                    <a:pt x="411464" y="161649"/>
                  </a:cubicBezTo>
                  <a:lnTo>
                    <a:pt x="348254" y="165441"/>
                  </a:lnTo>
                  <a:cubicBezTo>
                    <a:pt x="342407" y="106812"/>
                    <a:pt x="278469" y="61967"/>
                    <a:pt x="202675" y="63333"/>
                  </a:cubicBezTo>
                  <a:cubicBezTo>
                    <a:pt x="125184" y="64730"/>
                    <a:pt x="63303" y="113855"/>
                    <a:pt x="63303" y="173976"/>
                  </a:cubicBezTo>
                  <a:cubicBezTo>
                    <a:pt x="48945" y="183960"/>
                    <a:pt x="21101" y="173977"/>
                    <a:pt x="0" y="173977"/>
                  </a:cubicBezTo>
                  <a:close/>
                </a:path>
              </a:pathLst>
            </a:custGeom>
            <a:solidFill>
              <a:srgbClr val="ffe30d"/>
            </a:solidFill>
            <a:ln>
              <a:noFill/>
            </a:ln>
            <a:effectLst>
              <a:innerShdw blurRad="63500" dir="108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8" name="空心弧 18"/>
            <p:cNvSpPr/>
            <p:nvPr/>
          </p:nvSpPr>
          <p:spPr>
            <a:xfrm rot="3051600">
              <a:off x="7654680" y="5165640"/>
              <a:ext cx="124920" cy="108000"/>
            </a:xfrm>
            <a:prstGeom prst="blockArc">
              <a:avLst>
                <a:gd name="adj1" fmla="val 10800000"/>
                <a:gd name="adj2" fmla="val 0"/>
                <a:gd name="adj3" fmla="val 25000"/>
              </a:avLst>
            </a:prstGeom>
            <a:solidFill>
              <a:srgbClr val="ffe30d"/>
            </a:solidFill>
            <a:ln>
              <a:noFill/>
            </a:ln>
            <a:effectLst>
              <a:innerShdw blurRad="63500" dir="108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9000" bIns="9000" anchor="ctr">
              <a:noAutofit/>
            </a:bodyPr>
            <a:p>
              <a:pPr algn="ctr">
                <a:lnSpc>
                  <a:spcPct val="100000"/>
                </a:lnSpc>
              </a:pPr>
              <a:endParaRPr b="0" lang="en-US" sz="1800" spc="-1" strike="noStrike">
                <a:solidFill>
                  <a:schemeClr val="lt1"/>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文本框 1"/>
          <p:cNvSpPr/>
          <p:nvPr/>
        </p:nvSpPr>
        <p:spPr>
          <a:xfrm>
            <a:off x="497160" y="609480"/>
            <a:ext cx="43952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ff6699"/>
                </a:solidFill>
                <a:latin typeface="方正硬笔行书简体"/>
                <a:ea typeface="方正硬笔行书简体"/>
              </a:rPr>
              <a:t>初恋</a:t>
            </a:r>
            <a:r>
              <a:rPr b="0" lang="zh-CN" sz="2400" spc="-1" strike="noStrike">
                <a:solidFill>
                  <a:srgbClr val="000000"/>
                </a:solidFill>
                <a:latin typeface="方正硬笔行书简体"/>
                <a:ea typeface="方正硬笔行书简体"/>
              </a:rPr>
              <a:t>是一个人的兵荒马乱</a:t>
            </a:r>
            <a:endParaRPr b="0" lang="en-US" sz="2400" spc="-1" strike="noStrike">
              <a:solidFill>
                <a:srgbClr val="000000"/>
              </a:solidFill>
              <a:latin typeface="Arial"/>
            </a:endParaRPr>
          </a:p>
        </p:txBody>
      </p:sp>
      <p:sp>
        <p:nvSpPr>
          <p:cNvPr id="290" name="文本框 2"/>
          <p:cNvSpPr/>
          <p:nvPr/>
        </p:nvSpPr>
        <p:spPr>
          <a:xfrm>
            <a:off x="6698880" y="2211120"/>
            <a:ext cx="5936040" cy="228420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pPr>
            <a:r>
              <a:rPr b="0" lang="zh-CN" sz="2000" spc="-1" strike="noStrike">
                <a:solidFill>
                  <a:srgbClr val="000000"/>
                </a:solidFill>
                <a:latin typeface="方正硬笔行书简体"/>
                <a:ea typeface="方正硬笔行书简体"/>
              </a:rPr>
              <a:t>我会承诺很多，实现很少，</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我们会面对越走越远，肩并肩悄然失散。</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你会掉眼泪，每一颗都烫伤我的肌肤。</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你应该留在家里，</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把试卷做完，</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而不是和我一起交了空白纸张。</a:t>
            </a:r>
            <a:endParaRPr b="0" lang="en-US" sz="2000" spc="-1" strike="noStrike">
              <a:solidFill>
                <a:srgbClr val="000000"/>
              </a:solidFill>
              <a:latin typeface="Arial"/>
            </a:endParaRPr>
          </a:p>
        </p:txBody>
      </p:sp>
      <p:sp>
        <p:nvSpPr>
          <p:cNvPr id="291" name="矩形 3"/>
          <p:cNvSpPr/>
          <p:nvPr/>
        </p:nvSpPr>
        <p:spPr>
          <a:xfrm>
            <a:off x="6698880" y="4559040"/>
            <a:ext cx="484452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400" spc="-1" strike="noStrike">
                <a:solidFill>
                  <a:srgbClr val="ff6699"/>
                </a:solidFill>
                <a:latin typeface="方正硬笔行书简体"/>
                <a:ea typeface="方正硬笔行书简体"/>
              </a:rPr>
              <a:t>对不起，爱过你。</a:t>
            </a:r>
            <a:endParaRPr b="0" lang="en-US" sz="4400" spc="-1" strike="noStrike">
              <a:solidFill>
                <a:srgbClr val="000000"/>
              </a:solidFill>
              <a:latin typeface="Arial"/>
            </a:endParaRPr>
          </a:p>
        </p:txBody>
      </p:sp>
      <p:pic>
        <p:nvPicPr>
          <p:cNvPr id="292" name="图片 5" descr=""/>
          <p:cNvPicPr/>
          <p:nvPr/>
        </p:nvPicPr>
        <p:blipFill>
          <a:blip r:embed="rId1"/>
          <a:stretch/>
        </p:blipFill>
        <p:spPr>
          <a:xfrm flipH="1" rot="3886800">
            <a:off x="1222920" y="1969200"/>
            <a:ext cx="1470240" cy="1470240"/>
          </a:xfrm>
          <a:prstGeom prst="rect">
            <a:avLst/>
          </a:prstGeom>
          <a:ln w="0">
            <a:noFill/>
          </a:ln>
        </p:spPr>
      </p:pic>
      <p:sp>
        <p:nvSpPr>
          <p:cNvPr id="293" name="任意多边形 7"/>
          <p:cNvSpPr/>
          <p:nvPr/>
        </p:nvSpPr>
        <p:spPr>
          <a:xfrm>
            <a:off x="2790720" y="3371760"/>
            <a:ext cx="952200" cy="2295000"/>
          </a:xfrm>
          <a:custGeom>
            <a:avLst/>
            <a:gdLst>
              <a:gd name="textAreaLeft" fmla="*/ 0 w 952200"/>
              <a:gd name="textAreaRight" fmla="*/ 952560 w 952200"/>
              <a:gd name="textAreaTop" fmla="*/ 0 h 2295000"/>
              <a:gd name="textAreaBottom" fmla="*/ 2295360 h 2295000"/>
            </a:gdLst>
            <a:ahLst/>
            <a:rect l="textAreaLeft" t="textAreaTop" r="textAreaRight" b="textAreaBottom"/>
            <a:pathLst>
              <a:path w="952500" h="2295525">
                <a:moveTo>
                  <a:pt x="952500" y="9525"/>
                </a:moveTo>
                <a:lnTo>
                  <a:pt x="666750" y="0"/>
                </a:lnTo>
                <a:lnTo>
                  <a:pt x="419100" y="304800"/>
                </a:lnTo>
                <a:lnTo>
                  <a:pt x="381000" y="400050"/>
                </a:lnTo>
                <a:lnTo>
                  <a:pt x="371475" y="533400"/>
                </a:lnTo>
                <a:lnTo>
                  <a:pt x="485775" y="609600"/>
                </a:lnTo>
                <a:lnTo>
                  <a:pt x="666750" y="533400"/>
                </a:lnTo>
                <a:lnTo>
                  <a:pt x="714375" y="619125"/>
                </a:lnTo>
                <a:lnTo>
                  <a:pt x="685800" y="666750"/>
                </a:lnTo>
                <a:lnTo>
                  <a:pt x="581025" y="666750"/>
                </a:lnTo>
                <a:lnTo>
                  <a:pt x="161925" y="1171575"/>
                </a:lnTo>
                <a:lnTo>
                  <a:pt x="47625" y="1219200"/>
                </a:lnTo>
                <a:lnTo>
                  <a:pt x="66675" y="1314450"/>
                </a:lnTo>
                <a:lnTo>
                  <a:pt x="209550" y="1352550"/>
                </a:lnTo>
                <a:lnTo>
                  <a:pt x="295275" y="1152525"/>
                </a:lnTo>
                <a:lnTo>
                  <a:pt x="533400" y="809625"/>
                </a:lnTo>
                <a:lnTo>
                  <a:pt x="552450" y="1476375"/>
                </a:lnTo>
                <a:lnTo>
                  <a:pt x="533400" y="1562100"/>
                </a:lnTo>
                <a:lnTo>
                  <a:pt x="457200" y="1609725"/>
                </a:lnTo>
                <a:lnTo>
                  <a:pt x="466725" y="1619250"/>
                </a:lnTo>
                <a:lnTo>
                  <a:pt x="533400" y="1666875"/>
                </a:lnTo>
                <a:lnTo>
                  <a:pt x="114300" y="2028825"/>
                </a:lnTo>
                <a:lnTo>
                  <a:pt x="0" y="2057400"/>
                </a:lnTo>
                <a:lnTo>
                  <a:pt x="28575" y="2143125"/>
                </a:lnTo>
                <a:lnTo>
                  <a:pt x="142875" y="2266950"/>
                </a:lnTo>
                <a:lnTo>
                  <a:pt x="304800" y="2295525"/>
                </a:lnTo>
                <a:lnTo>
                  <a:pt x="390525" y="2181225"/>
                </a:lnTo>
                <a:lnTo>
                  <a:pt x="314325" y="1990725"/>
                </a:lnTo>
              </a:path>
            </a:pathLst>
          </a:cu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94" name="图片 9" descr=""/>
          <p:cNvPicPr/>
          <p:nvPr/>
        </p:nvPicPr>
        <p:blipFill>
          <a:blip r:embed="rId2"/>
          <a:stretch/>
        </p:blipFill>
        <p:spPr>
          <a:xfrm>
            <a:off x="2790720" y="3013560"/>
            <a:ext cx="2379240" cy="2900160"/>
          </a:xfrm>
          <a:prstGeom prst="rect">
            <a:avLst/>
          </a:prstGeom>
          <a:ln w="0">
            <a:noFill/>
          </a:ln>
        </p:spPr>
      </p:pic>
      <p:sp>
        <p:nvSpPr>
          <p:cNvPr id="295" name="文本框 10"/>
          <p:cNvSpPr/>
          <p:nvPr/>
        </p:nvSpPr>
        <p:spPr>
          <a:xfrm>
            <a:off x="9465840" y="547920"/>
            <a:ext cx="27255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方正硬笔行书简体"/>
                <a:ea typeface="方正硬笔行书简体"/>
              </a:rPr>
              <a:t>第一章：初恋</a:t>
            </a:r>
            <a:endParaRPr b="0" lang="en-US" sz="2800" spc="-1" strike="noStrike">
              <a:solidFill>
                <a:srgbClr val="000000"/>
              </a:solidFill>
              <a:latin typeface="Arial"/>
            </a:endParaRPr>
          </a:p>
        </p:txBody>
      </p:sp>
      <p:pic>
        <p:nvPicPr>
          <p:cNvPr id="296" name="图片 4" descr=""/>
          <p:cNvPicPr/>
          <p:nvPr/>
        </p:nvPicPr>
        <p:blipFill>
          <a:blip r:embed="rId3"/>
          <a:stretch/>
        </p:blipFill>
        <p:spPr>
          <a:xfrm rot="639000">
            <a:off x="1652040" y="2376360"/>
            <a:ext cx="4181760" cy="2999160"/>
          </a:xfrm>
          <a:prstGeom prst="rect">
            <a:avLst/>
          </a:prstGeom>
          <a:ln w="0">
            <a:noFill/>
          </a:ln>
        </p:spPr>
      </p:pic>
      <p:sp>
        <p:nvSpPr>
          <p:cNvPr id="297" name="Text Box 6"/>
          <p:cNvSpPr/>
          <p:nvPr/>
        </p:nvSpPr>
        <p:spPr>
          <a:xfrm>
            <a:off x="497160" y="639936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563c1"/>
                </a:solidFill>
                <a:uFillTx/>
                <a:latin typeface="Arial"/>
                <a:ea typeface="宋体"/>
                <a:hlinkClick r:id="rId4"/>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文本框 3"/>
          <p:cNvSpPr/>
          <p:nvPr/>
        </p:nvSpPr>
        <p:spPr>
          <a:xfrm>
            <a:off x="9744840" y="609480"/>
            <a:ext cx="24469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方正硬笔行书简体"/>
                <a:ea typeface="方正硬笔行书简体"/>
              </a:rPr>
              <a:t>第二章：表白</a:t>
            </a:r>
            <a:endParaRPr b="0" lang="en-US" sz="2800" spc="-1" strike="noStrike">
              <a:solidFill>
                <a:srgbClr val="000000"/>
              </a:solidFill>
              <a:latin typeface="Arial"/>
            </a:endParaRPr>
          </a:p>
        </p:txBody>
      </p:sp>
      <p:sp>
        <p:nvSpPr>
          <p:cNvPr id="299" name="文本框 4"/>
          <p:cNvSpPr/>
          <p:nvPr/>
        </p:nvSpPr>
        <p:spPr>
          <a:xfrm>
            <a:off x="497160" y="609480"/>
            <a:ext cx="43952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f89028"/>
                </a:solidFill>
                <a:latin typeface="方正硬笔行书简体"/>
                <a:ea typeface="方正硬笔行书简体"/>
              </a:rPr>
              <a:t>表白</a:t>
            </a:r>
            <a:r>
              <a:rPr b="0" lang="zh-CN" sz="2400" spc="-1" strike="noStrike">
                <a:solidFill>
                  <a:srgbClr val="000000"/>
                </a:solidFill>
                <a:latin typeface="方正硬笔行书简体"/>
                <a:ea typeface="方正硬笔行书简体"/>
              </a:rPr>
              <a:t>是一门技术活</a:t>
            </a:r>
            <a:endParaRPr b="0" lang="en-US" sz="2400" spc="-1" strike="noStrike">
              <a:solidFill>
                <a:srgbClr val="000000"/>
              </a:solidFill>
              <a:latin typeface="Arial"/>
            </a:endParaRPr>
          </a:p>
        </p:txBody>
      </p:sp>
      <p:sp>
        <p:nvSpPr>
          <p:cNvPr id="300" name="文本框 5"/>
          <p:cNvSpPr/>
          <p:nvPr/>
        </p:nvSpPr>
        <p:spPr>
          <a:xfrm>
            <a:off x="1184400" y="2096280"/>
            <a:ext cx="6050880" cy="82116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pPr>
            <a:r>
              <a:rPr b="0" lang="zh-CN" sz="2000" spc="-1" strike="noStrike">
                <a:solidFill>
                  <a:srgbClr val="000000"/>
                </a:solidFill>
                <a:latin typeface="Calibri"/>
                <a:ea typeface="方正硬笔行书简体"/>
              </a:rPr>
              <a:t>有人表白跟熬汤一样，葱姜蒜材料齐全，把姑娘当成一直乌骨鸡，咕嘟咕嘟小火炖着，猛炖一年半载。</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Calibri"/>
                <a:ea typeface="方正硬笔行书简体"/>
              </a:rPr>
              <a:t>有人表白跟爆炒一样，轰一声火光四射，油星万点，孤注一掷，几十秒决战胜负。</a:t>
            </a:r>
            <a:endParaRPr b="0" lang="en-US" sz="2000" spc="-1" strike="noStrike">
              <a:solidFill>
                <a:srgbClr val="000000"/>
              </a:solidFill>
              <a:latin typeface="Arial"/>
            </a:endParaRPr>
          </a:p>
        </p:txBody>
      </p:sp>
      <p:sp>
        <p:nvSpPr>
          <p:cNvPr id="301" name="文本框 6"/>
          <p:cNvSpPr/>
          <p:nvPr/>
        </p:nvSpPr>
        <p:spPr>
          <a:xfrm>
            <a:off x="1184400" y="4041720"/>
            <a:ext cx="5711040" cy="1064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Calibri"/>
                <a:ea typeface="方正硬笔行书简体"/>
              </a:rPr>
              <a:t>表白这种技术活</a:t>
            </a:r>
            <a:endParaRPr b="0" lang="en-US" sz="2000" spc="-1" strike="noStrike">
              <a:solidFill>
                <a:srgbClr val="000000"/>
              </a:solidFill>
              <a:latin typeface="Arial"/>
            </a:endParaRPr>
          </a:p>
          <a:p>
            <a:pPr>
              <a:lnSpc>
                <a:spcPct val="100000"/>
              </a:lnSpc>
            </a:pPr>
            <a:r>
              <a:rPr b="1" lang="zh-CN" sz="4400" spc="-1" strike="noStrike">
                <a:solidFill>
                  <a:srgbClr val="f88818"/>
                </a:solidFill>
                <a:latin typeface="方正硬笔行书简体"/>
                <a:ea typeface="方正硬笔行书简体"/>
              </a:rPr>
              <a:t>谋事在人，成事在天</a:t>
            </a:r>
            <a:endParaRPr b="0" lang="en-US" sz="4400" spc="-1" strike="noStrike">
              <a:solidFill>
                <a:srgbClr val="000000"/>
              </a:solidFill>
              <a:latin typeface="Arial"/>
            </a:endParaRPr>
          </a:p>
        </p:txBody>
      </p:sp>
      <p:pic>
        <p:nvPicPr>
          <p:cNvPr id="302" name="图片 8" descr=""/>
          <p:cNvPicPr/>
          <p:nvPr/>
        </p:nvPicPr>
        <p:blipFill>
          <a:blip r:embed="rId1"/>
          <a:stretch/>
        </p:blipFill>
        <p:spPr>
          <a:xfrm>
            <a:off x="8949240" y="2424600"/>
            <a:ext cx="1273680" cy="2610360"/>
          </a:xfrm>
          <a:prstGeom prst="rect">
            <a:avLst/>
          </a:prstGeom>
          <a:ln w="0">
            <a:noFill/>
          </a:ln>
        </p:spPr>
      </p:pic>
      <p:pic>
        <p:nvPicPr>
          <p:cNvPr id="303" name="图片 11" descr=""/>
          <p:cNvPicPr/>
          <p:nvPr/>
        </p:nvPicPr>
        <p:blipFill>
          <a:blip r:embed="rId2"/>
          <a:stretch/>
        </p:blipFill>
        <p:spPr>
          <a:xfrm>
            <a:off x="7698960" y="3001320"/>
            <a:ext cx="628200" cy="294840"/>
          </a:xfrm>
          <a:prstGeom prst="rect">
            <a:avLst/>
          </a:prstGeom>
          <a:ln w="0">
            <a:noFill/>
          </a:ln>
        </p:spPr>
      </p:pic>
      <p:pic>
        <p:nvPicPr>
          <p:cNvPr id="304" name="图片 12" descr=""/>
          <p:cNvPicPr/>
          <p:nvPr/>
        </p:nvPicPr>
        <p:blipFill>
          <a:blip r:embed="rId3"/>
          <a:stretch/>
        </p:blipFill>
        <p:spPr>
          <a:xfrm>
            <a:off x="10443240" y="2894760"/>
            <a:ext cx="298800" cy="507960"/>
          </a:xfrm>
          <a:prstGeom prst="rect">
            <a:avLst/>
          </a:prstGeom>
          <a:ln w="0">
            <a:noFill/>
          </a:ln>
        </p:spPr>
      </p:pic>
      <p:sp>
        <p:nvSpPr>
          <p:cNvPr id="305" name="图片 23"/>
          <p:cNvSpPr/>
          <p:nvPr/>
        </p:nvSpPr>
        <p:spPr>
          <a:xfrm>
            <a:off x="10888920" y="4353480"/>
            <a:ext cx="560160" cy="548280"/>
          </a:xfrm>
          <a:custGeom>
            <a:avLst/>
            <a:gdLst>
              <a:gd name="textAreaLeft" fmla="*/ 0 w 560160"/>
              <a:gd name="textAreaRight" fmla="*/ 560520 w 560160"/>
              <a:gd name="textAreaTop" fmla="*/ 0 h 548280"/>
              <a:gd name="textAreaBottom" fmla="*/ 548640 h 548280"/>
            </a:gdLst>
            <a:ahLst/>
            <a:rect l="textAreaLeft" t="textAreaTop" r="textAreaRight" b="textAreaBottom"/>
            <a:pathLst>
              <a:path w="1052281" h="1029892">
                <a:moveTo>
                  <a:pt x="588220" y="0"/>
                </a:moveTo>
                <a:lnTo>
                  <a:pt x="1052281" y="0"/>
                </a:lnTo>
                <a:lnTo>
                  <a:pt x="1052281" y="868532"/>
                </a:lnTo>
                <a:lnTo>
                  <a:pt x="787454" y="868532"/>
                </a:lnTo>
                <a:cubicBezTo>
                  <a:pt x="748819" y="868532"/>
                  <a:pt x="717499" y="899852"/>
                  <a:pt x="717499" y="938487"/>
                </a:cubicBezTo>
                <a:lnTo>
                  <a:pt x="717499" y="1029892"/>
                </a:lnTo>
                <a:lnTo>
                  <a:pt x="0" y="1029892"/>
                </a:lnTo>
                <a:lnTo>
                  <a:pt x="0" y="423775"/>
                </a:lnTo>
                <a:lnTo>
                  <a:pt x="8562" y="416166"/>
                </a:lnTo>
                <a:lnTo>
                  <a:pt x="137587" y="561381"/>
                </a:lnTo>
                <a:close/>
                <a:moveTo>
                  <a:pt x="476846" y="0"/>
                </a:moveTo>
                <a:lnTo>
                  <a:pt x="538403" y="0"/>
                </a:lnTo>
                <a:lnTo>
                  <a:pt x="358571" y="105112"/>
                </a:lnTo>
                <a:close/>
              </a:path>
            </a:pathLst>
          </a:custGeom>
          <a:blipFill rotWithShape="0">
            <a:blip r:embed="rId4"/>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06" name="图片 24" descr=""/>
          <p:cNvPicPr/>
          <p:nvPr/>
        </p:nvPicPr>
        <p:blipFill>
          <a:blip r:embed="rId5"/>
          <a:stretch/>
        </p:blipFill>
        <p:spPr>
          <a:xfrm>
            <a:off x="8404560" y="2093760"/>
            <a:ext cx="649080" cy="798120"/>
          </a:xfrm>
          <a:prstGeom prst="rect">
            <a:avLst/>
          </a:prstGeom>
          <a:ln w="0">
            <a:noFill/>
          </a:ln>
        </p:spPr>
      </p:pic>
      <p:pic>
        <p:nvPicPr>
          <p:cNvPr id="307" name="图片 25" descr=""/>
          <p:cNvPicPr/>
          <p:nvPr/>
        </p:nvPicPr>
        <p:blipFill>
          <a:blip r:embed="rId6"/>
          <a:stretch/>
        </p:blipFill>
        <p:spPr>
          <a:xfrm>
            <a:off x="8224560" y="4662000"/>
            <a:ext cx="734040" cy="536760"/>
          </a:xfrm>
          <a:prstGeom prst="rect">
            <a:avLst/>
          </a:prstGeom>
          <a:ln w="0">
            <a:noFill/>
          </a:ln>
        </p:spPr>
      </p:pic>
      <p:pic>
        <p:nvPicPr>
          <p:cNvPr id="308" name="图片 26" descr=""/>
          <p:cNvPicPr/>
          <p:nvPr/>
        </p:nvPicPr>
        <p:blipFill>
          <a:blip r:embed="rId7"/>
          <a:stretch/>
        </p:blipFill>
        <p:spPr>
          <a:xfrm>
            <a:off x="10239840" y="3724920"/>
            <a:ext cx="666360" cy="657000"/>
          </a:xfrm>
          <a:prstGeom prst="rect">
            <a:avLst/>
          </a:prstGeom>
          <a:ln w="0">
            <a:noFill/>
          </a:ln>
        </p:spPr>
      </p:pic>
      <p:pic>
        <p:nvPicPr>
          <p:cNvPr id="309" name="图片 27" descr=""/>
          <p:cNvPicPr/>
          <p:nvPr/>
        </p:nvPicPr>
        <p:blipFill>
          <a:blip r:embed="rId8"/>
          <a:stretch/>
        </p:blipFill>
        <p:spPr>
          <a:xfrm rot="17511600">
            <a:off x="10540800" y="2265840"/>
            <a:ext cx="563400" cy="591480"/>
          </a:xfrm>
          <a:prstGeom prst="rect">
            <a:avLst/>
          </a:prstGeom>
          <a:ln w="0">
            <a:noFill/>
          </a:ln>
        </p:spPr>
      </p:pic>
      <p:pic>
        <p:nvPicPr>
          <p:cNvPr id="310" name="图片 28" descr=""/>
          <p:cNvPicPr/>
          <p:nvPr/>
        </p:nvPicPr>
        <p:blipFill>
          <a:blip r:embed="rId9"/>
          <a:stretch/>
        </p:blipFill>
        <p:spPr>
          <a:xfrm>
            <a:off x="8017920" y="3679560"/>
            <a:ext cx="618840" cy="59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文本框 1"/>
          <p:cNvSpPr/>
          <p:nvPr/>
        </p:nvSpPr>
        <p:spPr>
          <a:xfrm>
            <a:off x="9771120" y="609480"/>
            <a:ext cx="24206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方正硬笔行书简体"/>
                <a:ea typeface="方正硬笔行书简体"/>
              </a:rPr>
              <a:t>第二章：表白</a:t>
            </a:r>
            <a:endParaRPr b="0" lang="en-US" sz="2800" spc="-1" strike="noStrike">
              <a:solidFill>
                <a:srgbClr val="000000"/>
              </a:solidFill>
              <a:latin typeface="Arial"/>
            </a:endParaRPr>
          </a:p>
        </p:txBody>
      </p:sp>
      <p:sp>
        <p:nvSpPr>
          <p:cNvPr id="312" name="文本框 2"/>
          <p:cNvSpPr/>
          <p:nvPr/>
        </p:nvSpPr>
        <p:spPr>
          <a:xfrm>
            <a:off x="497160" y="609480"/>
            <a:ext cx="43952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f89028"/>
                </a:solidFill>
                <a:latin typeface="方正硬笔行书简体"/>
                <a:ea typeface="方正硬笔行书简体"/>
              </a:rPr>
              <a:t>表白</a:t>
            </a:r>
            <a:r>
              <a:rPr b="0" lang="zh-CN" sz="2400" spc="-1" strike="noStrike">
                <a:solidFill>
                  <a:srgbClr val="000000"/>
                </a:solidFill>
                <a:latin typeface="方正硬笔行书简体"/>
                <a:ea typeface="方正硬笔行书简体"/>
              </a:rPr>
              <a:t>是一门技术活</a:t>
            </a:r>
            <a:endParaRPr b="0" lang="en-US" sz="2400" spc="-1" strike="noStrike">
              <a:solidFill>
                <a:srgbClr val="000000"/>
              </a:solidFill>
              <a:latin typeface="Arial"/>
            </a:endParaRPr>
          </a:p>
        </p:txBody>
      </p:sp>
      <p:sp>
        <p:nvSpPr>
          <p:cNvPr id="313" name="文本框 3"/>
          <p:cNvSpPr/>
          <p:nvPr/>
        </p:nvSpPr>
        <p:spPr>
          <a:xfrm>
            <a:off x="1302840" y="1776960"/>
            <a:ext cx="863208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方正硬笔行书简体"/>
              </a:rPr>
              <a:t>这本书中，谁都可以忽略，唯独</a:t>
            </a:r>
            <a:r>
              <a:rPr b="1" lang="zh-CN" sz="4000" spc="-1" strike="noStrike">
                <a:solidFill>
                  <a:srgbClr val="f89028"/>
                </a:solidFill>
                <a:latin typeface="方正硬笔行书简体"/>
                <a:ea typeface="方正硬笔行书简体"/>
              </a:rPr>
              <a:t>管春</a:t>
            </a:r>
            <a:r>
              <a:rPr b="0" lang="zh-CN" sz="1800" spc="-1" strike="noStrike">
                <a:solidFill>
                  <a:srgbClr val="000000"/>
                </a:solidFill>
                <a:latin typeface="Calibri"/>
                <a:ea typeface="方正硬笔行书简体"/>
              </a:rPr>
              <a:t>和</a:t>
            </a:r>
            <a:r>
              <a:rPr b="1" lang="zh-CN" sz="4000" spc="-1" strike="noStrike">
                <a:solidFill>
                  <a:srgbClr val="f89028"/>
                </a:solidFill>
                <a:latin typeface="方正硬笔行书简体"/>
                <a:ea typeface="方正硬笔行书简体"/>
              </a:rPr>
              <a:t>毛毛</a:t>
            </a:r>
            <a:r>
              <a:rPr b="0" lang="zh-CN" sz="1800" spc="-1" strike="noStrike">
                <a:solidFill>
                  <a:srgbClr val="000000"/>
                </a:solidFill>
                <a:latin typeface="Calibri"/>
                <a:ea typeface="方正硬笔行书简体"/>
              </a:rPr>
              <a:t>，必须提起</a:t>
            </a:r>
            <a:endParaRPr b="0" lang="en-US" sz="1800" spc="-1" strike="noStrike">
              <a:solidFill>
                <a:srgbClr val="000000"/>
              </a:solidFill>
              <a:latin typeface="Arial"/>
            </a:endParaRPr>
          </a:p>
        </p:txBody>
      </p:sp>
      <p:sp>
        <p:nvSpPr>
          <p:cNvPr id="314" name="文本框 5"/>
          <p:cNvSpPr/>
          <p:nvPr/>
        </p:nvSpPr>
        <p:spPr>
          <a:xfrm>
            <a:off x="1302840" y="2732040"/>
            <a:ext cx="8366400" cy="191844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pPr>
            <a:r>
              <a:rPr b="0" lang="zh-CN" sz="2000" spc="-1" strike="noStrike">
                <a:solidFill>
                  <a:srgbClr val="000000"/>
                </a:solidFill>
                <a:latin typeface="Calibri"/>
                <a:ea typeface="方正硬笔行书简体"/>
              </a:rPr>
              <a:t>全世界都不知道谁在等谁。</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Calibri"/>
                <a:ea typeface="方正硬笔行书简体"/>
              </a:rPr>
              <a:t>而管春在等毛毛。</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Calibri"/>
                <a:ea typeface="方正硬笔行书简体"/>
              </a:rPr>
              <a:t>我希望有个如你一般的人。这世界有的人的爱情如山间清爽的风，有人的爱情如古城温暖的阳光。但没关系，最后是你就好。</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Calibri"/>
                <a:ea typeface="方正硬笔行书简体"/>
              </a:rPr>
              <a:t>那，总会有人对你点点头，贯彻未来，数遍生命的公路牌。</a:t>
            </a:r>
            <a:endParaRPr b="0" lang="en-US" sz="2000" spc="-1" strike="noStrike">
              <a:solidFill>
                <a:srgbClr val="000000"/>
              </a:solidFill>
              <a:latin typeface="Arial"/>
            </a:endParaRPr>
          </a:p>
        </p:txBody>
      </p:sp>
      <p:sp>
        <p:nvSpPr>
          <p:cNvPr id="315" name="任意多边形 11"/>
          <p:cNvSpPr/>
          <p:nvPr/>
        </p:nvSpPr>
        <p:spPr>
          <a:xfrm>
            <a:off x="10153800" y="3452760"/>
            <a:ext cx="1311840" cy="2319120"/>
          </a:xfrm>
          <a:custGeom>
            <a:avLst/>
            <a:gdLst>
              <a:gd name="textAreaLeft" fmla="*/ 0 w 1311840"/>
              <a:gd name="textAreaRight" fmla="*/ 1312200 w 1311840"/>
              <a:gd name="textAreaTop" fmla="*/ 0 h 2319120"/>
              <a:gd name="textAreaBottom" fmla="*/ 2319480 h 2319120"/>
            </a:gdLst>
            <a:ahLst/>
            <a:rect l="textAreaLeft" t="textAreaTop" r="textAreaRight" b="textAreaBottom"/>
            <a:pathLst>
              <a:path w="1312163" h="2319582">
                <a:moveTo>
                  <a:pt x="656082" y="0"/>
                </a:moveTo>
                <a:lnTo>
                  <a:pt x="1312163" y="1023582"/>
                </a:lnTo>
                <a:lnTo>
                  <a:pt x="699799" y="1023582"/>
                </a:lnTo>
                <a:lnTo>
                  <a:pt x="699799" y="2319582"/>
                </a:lnTo>
                <a:lnTo>
                  <a:pt x="614150" y="2319582"/>
                </a:lnTo>
                <a:lnTo>
                  <a:pt x="614150" y="1023582"/>
                </a:lnTo>
                <a:lnTo>
                  <a:pt x="0" y="1023582"/>
                </a:lnTo>
                <a:close/>
              </a:path>
            </a:pathLst>
          </a:custGeom>
          <a:solidFill>
            <a:srgbClr val="d39705"/>
          </a:solidFill>
          <a:ln>
            <a:noFill/>
          </a:ln>
          <a:effectLst>
            <a:outerShdw algn="tl" blurRad="50760" dir="2700000" dist="37674" rotWithShape="0">
              <a:srgbClr val="000000">
                <a:alpha val="40000"/>
              </a:srgbClr>
            </a:outerShdw>
          </a:effectLst>
          <a:scene3d>
            <a:camera prst="isometricOffAxis2Left"/>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6" name="手杖形箭头 9"/>
          <p:cNvSpPr/>
          <p:nvPr/>
        </p:nvSpPr>
        <p:spPr>
          <a:xfrm flipH="1">
            <a:off x="10580040" y="3917520"/>
            <a:ext cx="400680" cy="438840"/>
          </a:xfrm>
          <a:prstGeom prst="uturnArrow">
            <a:avLst>
              <a:gd name="adj1" fmla="val 25000"/>
              <a:gd name="adj2" fmla="val 25000"/>
              <a:gd name="adj3" fmla="val 25000"/>
              <a:gd name="adj4" fmla="val 43750"/>
              <a:gd name="adj5" fmla="val 75000"/>
            </a:avLst>
          </a:prstGeom>
          <a:solidFill>
            <a:srgbClr val="f9b817"/>
          </a:solidFill>
          <a:ln>
            <a:noFill/>
          </a:ln>
          <a:scene3d>
            <a:camera prst="isometricOffAxis2Left"/>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7" name="文本框 12"/>
          <p:cNvSpPr/>
          <p:nvPr/>
        </p:nvSpPr>
        <p:spPr>
          <a:xfrm>
            <a:off x="1302840" y="4866840"/>
            <a:ext cx="344592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方正硬笔行书简体"/>
              </a:rPr>
              <a:t>这就是一个</a:t>
            </a:r>
            <a:r>
              <a:rPr b="1" lang="zh-CN" sz="2000" spc="-1" strike="noStrike">
                <a:solidFill>
                  <a:srgbClr val="000000"/>
                </a:solidFill>
                <a:latin typeface="Calibri"/>
                <a:ea typeface="方正硬笔行书简体"/>
              </a:rPr>
              <a:t>路痴</a:t>
            </a:r>
            <a:r>
              <a:rPr b="0" lang="zh-CN" sz="1800" spc="-1" strike="noStrike">
                <a:solidFill>
                  <a:srgbClr val="000000"/>
                </a:solidFill>
                <a:latin typeface="Calibri"/>
                <a:ea typeface="方正硬笔行书简体"/>
              </a:rPr>
              <a:t>的爱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文本框 10"/>
          <p:cNvSpPr/>
          <p:nvPr/>
        </p:nvSpPr>
        <p:spPr>
          <a:xfrm>
            <a:off x="587160" y="2003040"/>
            <a:ext cx="11604240" cy="1918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a6a6a6">
                    <a:alpha val="39000"/>
                  </a:srgbClr>
                </a:solidFill>
                <a:latin typeface="方正硬笔行书简体"/>
                <a:ea typeface="方正硬笔行书简体"/>
              </a:rPr>
              <a:t>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a:t>
            </a:r>
            <a:endParaRPr b="0" lang="en-US" sz="2400" spc="-1" strike="noStrike">
              <a:solidFill>
                <a:srgbClr val="000000"/>
              </a:solidFill>
              <a:latin typeface="Arial"/>
            </a:endParaRPr>
          </a:p>
        </p:txBody>
      </p:sp>
      <p:sp>
        <p:nvSpPr>
          <p:cNvPr id="319" name="文本框 3"/>
          <p:cNvSpPr/>
          <p:nvPr/>
        </p:nvSpPr>
        <p:spPr>
          <a:xfrm>
            <a:off x="9829800" y="609480"/>
            <a:ext cx="2361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方正硬笔行书简体"/>
                <a:ea typeface="方正硬笔行书简体"/>
              </a:rPr>
              <a:t>第三章：执着</a:t>
            </a:r>
            <a:endParaRPr b="0" lang="en-US" sz="2800" spc="-1" strike="noStrike">
              <a:solidFill>
                <a:srgbClr val="000000"/>
              </a:solidFill>
              <a:latin typeface="Arial"/>
            </a:endParaRPr>
          </a:p>
        </p:txBody>
      </p:sp>
      <p:sp>
        <p:nvSpPr>
          <p:cNvPr id="320" name="文本框 4"/>
          <p:cNvSpPr/>
          <p:nvPr/>
        </p:nvSpPr>
        <p:spPr>
          <a:xfrm>
            <a:off x="497160" y="609480"/>
            <a:ext cx="43952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chemeClr val="accent6"/>
                </a:solidFill>
                <a:latin typeface="方正硬笔行书简体"/>
                <a:ea typeface="方正硬笔行书简体"/>
              </a:rPr>
              <a:t>执着</a:t>
            </a:r>
            <a:r>
              <a:rPr b="0" lang="zh-CN" sz="2400" spc="-1" strike="noStrike">
                <a:solidFill>
                  <a:srgbClr val="000000"/>
                </a:solidFill>
                <a:latin typeface="方正硬笔行书简体"/>
                <a:ea typeface="方正硬笔行书简体"/>
              </a:rPr>
              <a:t>是一路陪你笑着逃亡</a:t>
            </a:r>
            <a:endParaRPr b="0" lang="en-US" sz="2400" spc="-1" strike="noStrike">
              <a:solidFill>
                <a:srgbClr val="000000"/>
              </a:solidFill>
              <a:latin typeface="Arial"/>
            </a:endParaRPr>
          </a:p>
        </p:txBody>
      </p:sp>
      <p:sp>
        <p:nvSpPr>
          <p:cNvPr id="321" name="文本框 5"/>
          <p:cNvSpPr/>
          <p:nvPr/>
        </p:nvSpPr>
        <p:spPr>
          <a:xfrm flipH="1">
            <a:off x="2493000" y="3049920"/>
            <a:ext cx="7795080" cy="577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3200" spc="-1" strike="noStrike">
                <a:solidFill>
                  <a:srgbClr val="000000"/>
                </a:solidFill>
                <a:latin typeface="Calibri"/>
                <a:ea typeface="方正硬笔行书简体"/>
              </a:rPr>
              <a:t>朋友不能陪你看完，但会在门口等你散场，然后傻笑着去新的地方</a:t>
            </a:r>
            <a:endParaRPr b="0" lang="en-US" sz="3200" spc="-1" strike="noStrike">
              <a:solidFill>
                <a:srgbClr val="000000"/>
              </a:solidFill>
              <a:latin typeface="Arial"/>
            </a:endParaRPr>
          </a:p>
        </p:txBody>
      </p:sp>
      <p:sp>
        <p:nvSpPr>
          <p:cNvPr id="322" name="文本框 6"/>
          <p:cNvSpPr/>
          <p:nvPr/>
        </p:nvSpPr>
        <p:spPr>
          <a:xfrm>
            <a:off x="5936040" y="5063760"/>
            <a:ext cx="6150600" cy="8208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zh-CN" sz="2000" spc="-1" strike="noStrike">
                <a:solidFill>
                  <a:srgbClr val="000000"/>
                </a:solidFill>
                <a:latin typeface="Calibri"/>
                <a:ea typeface="方正硬笔行书简体"/>
              </a:rPr>
              <a:t>再难过，有好基友陪在身边，就可以顺利</a:t>
            </a:r>
            <a:r>
              <a:rPr b="1" lang="zh-CN" sz="4800" spc="-1" strike="noStrike">
                <a:solidFill>
                  <a:schemeClr val="accent6"/>
                </a:solidFill>
                <a:latin typeface="方正硬笔行书简体"/>
                <a:ea typeface="方正硬笔行书简体"/>
              </a:rPr>
              <a:t>逃亡</a:t>
            </a:r>
            <a:endParaRPr b="0" lang="en-US" sz="4800" spc="-1" strike="noStrike">
              <a:solidFill>
                <a:srgbClr val="000000"/>
              </a:solidFill>
              <a:latin typeface="Arial"/>
            </a:endParaRPr>
          </a:p>
        </p:txBody>
      </p:sp>
      <p:sp>
        <p:nvSpPr>
          <p:cNvPr id="323" name="文本框 13"/>
          <p:cNvSpPr/>
          <p:nvPr/>
        </p:nvSpPr>
        <p:spPr>
          <a:xfrm rot="20704200">
            <a:off x="8520480" y="3515040"/>
            <a:ext cx="352044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000" spc="-1" strike="noStrike">
                <a:solidFill>
                  <a:srgbClr val="a6a6a6"/>
                </a:solidFill>
                <a:latin typeface="方正硬笔行书简体"/>
                <a:ea typeface="方正硬笔行书简体"/>
              </a:rPr>
              <a:t>人生必修课</a:t>
            </a:r>
            <a:endParaRPr b="0" lang="en-US" sz="4000" spc="-1" strike="noStrike">
              <a:solidFill>
                <a:srgbClr val="000000"/>
              </a:solidFill>
              <a:latin typeface="Arial"/>
            </a:endParaRPr>
          </a:p>
        </p:txBody>
      </p:sp>
      <p:grpSp>
        <p:nvGrpSpPr>
          <p:cNvPr id="324" name="组合 66"/>
          <p:cNvGrpSpPr/>
          <p:nvPr/>
        </p:nvGrpSpPr>
        <p:grpSpPr>
          <a:xfrm>
            <a:off x="1034640" y="2908800"/>
            <a:ext cx="1230840" cy="1071720"/>
            <a:chOff x="1034640" y="2908800"/>
            <a:chExt cx="1230840" cy="1071720"/>
          </a:xfrm>
        </p:grpSpPr>
        <p:sp>
          <p:nvSpPr>
            <p:cNvPr id="325" name="矩形 1"/>
            <p:cNvSpPr/>
            <p:nvPr/>
          </p:nvSpPr>
          <p:spPr>
            <a:xfrm rot="832200">
              <a:off x="1095840" y="3224880"/>
              <a:ext cx="1046160" cy="639360"/>
            </a:xfrm>
            <a:prstGeom prst="rect">
              <a:avLst/>
            </a:prstGeom>
            <a:solidFill>
              <a:srgbClr val="d295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26" name="直接连接符 7"/>
            <p:cNvCxnSpPr/>
            <p:nvPr/>
          </p:nvCxnSpPr>
          <p:spPr>
            <a:xfrm>
              <a:off x="1058400" y="3632400"/>
              <a:ext cx="1019880" cy="252000"/>
            </a:xfrm>
            <a:prstGeom prst="straightConnector1">
              <a:avLst/>
            </a:prstGeom>
            <a:ln w="12700">
              <a:solidFill>
                <a:srgbClr val="ffffff"/>
              </a:solidFill>
            </a:ln>
          </p:spPr>
        </p:cxnSp>
        <p:cxnSp>
          <p:nvCxnSpPr>
            <p:cNvPr id="327" name="直接连接符 12"/>
            <p:cNvCxnSpPr/>
            <p:nvPr/>
          </p:nvCxnSpPr>
          <p:spPr>
            <a:xfrm>
              <a:off x="1099440" y="3466440"/>
              <a:ext cx="1019880" cy="252360"/>
            </a:xfrm>
            <a:prstGeom prst="straightConnector1">
              <a:avLst/>
            </a:prstGeom>
            <a:ln w="12700">
              <a:solidFill>
                <a:srgbClr val="ffffff"/>
              </a:solidFill>
            </a:ln>
          </p:spPr>
        </p:cxnSp>
        <p:cxnSp>
          <p:nvCxnSpPr>
            <p:cNvPr id="328" name="直接连接符 14"/>
            <p:cNvCxnSpPr/>
            <p:nvPr/>
          </p:nvCxnSpPr>
          <p:spPr>
            <a:xfrm>
              <a:off x="1128240" y="3349080"/>
              <a:ext cx="1020240" cy="252000"/>
            </a:xfrm>
            <a:prstGeom prst="straightConnector1">
              <a:avLst/>
            </a:prstGeom>
            <a:ln w="12700">
              <a:solidFill>
                <a:srgbClr val="ffffff"/>
              </a:solidFill>
            </a:ln>
          </p:spPr>
        </p:cxnSp>
        <p:cxnSp>
          <p:nvCxnSpPr>
            <p:cNvPr id="329" name="直接连接符 15"/>
            <p:cNvCxnSpPr/>
            <p:nvPr/>
          </p:nvCxnSpPr>
          <p:spPr>
            <a:xfrm>
              <a:off x="1159200" y="3223800"/>
              <a:ext cx="1019880" cy="252360"/>
            </a:xfrm>
            <a:prstGeom prst="straightConnector1">
              <a:avLst/>
            </a:prstGeom>
            <a:ln w="12700">
              <a:solidFill>
                <a:srgbClr val="ffffff"/>
              </a:solidFill>
            </a:ln>
          </p:spPr>
        </p:cxnSp>
        <p:cxnSp>
          <p:nvCxnSpPr>
            <p:cNvPr id="330" name="直接连接符 16"/>
            <p:cNvCxnSpPr/>
            <p:nvPr/>
          </p:nvCxnSpPr>
          <p:spPr>
            <a:xfrm flipH="1">
              <a:off x="1239120" y="3511080"/>
              <a:ext cx="41400" cy="166320"/>
            </a:xfrm>
            <a:prstGeom prst="straightConnector1">
              <a:avLst/>
            </a:prstGeom>
            <a:ln w="12700">
              <a:solidFill>
                <a:srgbClr val="ffffff"/>
              </a:solidFill>
            </a:ln>
          </p:spPr>
        </p:cxnSp>
        <p:cxnSp>
          <p:nvCxnSpPr>
            <p:cNvPr id="331" name="直接连接符 17"/>
            <p:cNvCxnSpPr/>
            <p:nvPr/>
          </p:nvCxnSpPr>
          <p:spPr>
            <a:xfrm flipH="1">
              <a:off x="1552320" y="3588480"/>
              <a:ext cx="41400" cy="166320"/>
            </a:xfrm>
            <a:prstGeom prst="straightConnector1">
              <a:avLst/>
            </a:prstGeom>
            <a:ln w="12700">
              <a:solidFill>
                <a:srgbClr val="ffffff"/>
              </a:solidFill>
            </a:ln>
          </p:spPr>
        </p:cxnSp>
        <p:cxnSp>
          <p:nvCxnSpPr>
            <p:cNvPr id="332" name="直接连接符 18"/>
            <p:cNvCxnSpPr/>
            <p:nvPr/>
          </p:nvCxnSpPr>
          <p:spPr>
            <a:xfrm flipH="1">
              <a:off x="1840680" y="3659760"/>
              <a:ext cx="41400" cy="166320"/>
            </a:xfrm>
            <a:prstGeom prst="straightConnector1">
              <a:avLst/>
            </a:prstGeom>
            <a:ln w="12700">
              <a:solidFill>
                <a:srgbClr val="ffffff"/>
              </a:solidFill>
            </a:ln>
          </p:spPr>
        </p:cxnSp>
        <p:grpSp>
          <p:nvGrpSpPr>
            <p:cNvPr id="333" name="组合 30"/>
            <p:cNvGrpSpPr/>
            <p:nvPr/>
          </p:nvGrpSpPr>
          <p:grpSpPr>
            <a:xfrm>
              <a:off x="1188000" y="3009960"/>
              <a:ext cx="1039680" cy="348480"/>
              <a:chOff x="1188000" y="3009960"/>
              <a:chExt cx="1039680" cy="348480"/>
            </a:xfrm>
          </p:grpSpPr>
          <p:sp>
            <p:nvSpPr>
              <p:cNvPr id="334" name="矩形 19"/>
              <p:cNvSpPr/>
              <p:nvPr/>
            </p:nvSpPr>
            <p:spPr>
              <a:xfrm rot="832200">
                <a:off x="1184760" y="3133800"/>
                <a:ext cx="1046160" cy="100800"/>
              </a:xfrm>
              <a:prstGeom prst="rect">
                <a:avLst/>
              </a:prstGeom>
              <a:solidFill>
                <a:srgbClr val="d295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35" name="组合 29"/>
              <p:cNvGrpSpPr/>
              <p:nvPr/>
            </p:nvGrpSpPr>
            <p:grpSpPr>
              <a:xfrm>
                <a:off x="1222560" y="3015720"/>
                <a:ext cx="990360" cy="338040"/>
                <a:chOff x="1222560" y="3015720"/>
                <a:chExt cx="990360" cy="338040"/>
              </a:xfrm>
            </p:grpSpPr>
            <p:sp>
              <p:nvSpPr>
                <p:cNvPr id="336" name="平行四边形 20"/>
                <p:cNvSpPr/>
                <p:nvPr/>
              </p:nvSpPr>
              <p:spPr>
                <a:xfrm flipH="1" rot="832200">
                  <a:off x="1233720" y="302292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37" name="平行四边形 22"/>
                <p:cNvSpPr/>
                <p:nvPr/>
              </p:nvSpPr>
              <p:spPr>
                <a:xfrm flipH="1" rot="832200">
                  <a:off x="1366920" y="305568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38" name="平行四边形 23"/>
                <p:cNvSpPr/>
                <p:nvPr/>
              </p:nvSpPr>
              <p:spPr>
                <a:xfrm flipH="1" rot="832200">
                  <a:off x="1506600" y="309024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39" name="平行四边形 24"/>
                <p:cNvSpPr/>
                <p:nvPr/>
              </p:nvSpPr>
              <p:spPr>
                <a:xfrm flipH="1" rot="832200">
                  <a:off x="1636920" y="312228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40" name="平行四边形 25"/>
                <p:cNvSpPr/>
                <p:nvPr/>
              </p:nvSpPr>
              <p:spPr>
                <a:xfrm flipH="1" rot="832200">
                  <a:off x="1767240" y="315432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41" name="平行四边形 26"/>
                <p:cNvSpPr/>
                <p:nvPr/>
              </p:nvSpPr>
              <p:spPr>
                <a:xfrm flipH="1" rot="832200">
                  <a:off x="1900080" y="318744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42" name="平行四边形 27"/>
                <p:cNvSpPr/>
                <p:nvPr/>
              </p:nvSpPr>
              <p:spPr>
                <a:xfrm flipH="1" rot="832200">
                  <a:off x="2021400" y="321732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43" name="平行四边形 28"/>
                <p:cNvSpPr/>
                <p:nvPr/>
              </p:nvSpPr>
              <p:spPr>
                <a:xfrm flipH="1" rot="832200">
                  <a:off x="2126880" y="324324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grpSp>
        </p:grpSp>
        <p:grpSp>
          <p:nvGrpSpPr>
            <p:cNvPr id="344" name="组合 54"/>
            <p:cNvGrpSpPr/>
            <p:nvPr/>
          </p:nvGrpSpPr>
          <p:grpSpPr>
            <a:xfrm>
              <a:off x="1215000" y="2908800"/>
              <a:ext cx="1050480" cy="172080"/>
              <a:chOff x="1215000" y="2908800"/>
              <a:chExt cx="1050480" cy="172080"/>
            </a:xfrm>
          </p:grpSpPr>
          <p:sp>
            <p:nvSpPr>
              <p:cNvPr id="345" name="矩形 55"/>
              <p:cNvSpPr/>
              <p:nvPr/>
            </p:nvSpPr>
            <p:spPr>
              <a:xfrm rot="232200">
                <a:off x="1217160" y="2944800"/>
                <a:ext cx="1046160" cy="100800"/>
              </a:xfrm>
              <a:prstGeom prst="rect">
                <a:avLst/>
              </a:prstGeom>
              <a:solidFill>
                <a:srgbClr val="d295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46" name="组合 56"/>
              <p:cNvGrpSpPr/>
              <p:nvPr/>
            </p:nvGrpSpPr>
            <p:grpSpPr>
              <a:xfrm>
                <a:off x="1251000" y="2908800"/>
                <a:ext cx="999360" cy="169560"/>
                <a:chOff x="1251000" y="2908800"/>
                <a:chExt cx="999360" cy="169560"/>
              </a:xfrm>
            </p:grpSpPr>
            <p:sp>
              <p:nvSpPr>
                <p:cNvPr id="347" name="平行四边形 57"/>
                <p:cNvSpPr/>
                <p:nvPr/>
              </p:nvSpPr>
              <p:spPr>
                <a:xfrm flipH="1" rot="232200">
                  <a:off x="1254240" y="291096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48" name="平行四边形 58"/>
                <p:cNvSpPr/>
                <p:nvPr/>
              </p:nvSpPr>
              <p:spPr>
                <a:xfrm flipH="1" rot="232200">
                  <a:off x="1391040" y="292032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49" name="平行四边形 59"/>
                <p:cNvSpPr/>
                <p:nvPr/>
              </p:nvSpPr>
              <p:spPr>
                <a:xfrm flipH="1" rot="232200">
                  <a:off x="1534680" y="293004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50" name="平行四边形 60"/>
                <p:cNvSpPr/>
                <p:nvPr/>
              </p:nvSpPr>
              <p:spPr>
                <a:xfrm flipH="1" rot="232200">
                  <a:off x="1668600" y="293904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51" name="平行四边形 61"/>
                <p:cNvSpPr/>
                <p:nvPr/>
              </p:nvSpPr>
              <p:spPr>
                <a:xfrm flipH="1" rot="232200">
                  <a:off x="1802520" y="294840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52" name="平行四边形 62"/>
                <p:cNvSpPr/>
                <p:nvPr/>
              </p:nvSpPr>
              <p:spPr>
                <a:xfrm flipH="1" rot="232200">
                  <a:off x="1939320" y="295740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53" name="平行四边形 63"/>
                <p:cNvSpPr/>
                <p:nvPr/>
              </p:nvSpPr>
              <p:spPr>
                <a:xfrm flipH="1" rot="232200">
                  <a:off x="2063520" y="296604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54" name="平行四边形 64"/>
                <p:cNvSpPr/>
                <p:nvPr/>
              </p:nvSpPr>
              <p:spPr>
                <a:xfrm flipH="1" rot="232200">
                  <a:off x="2172240" y="297324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文本框 1"/>
          <p:cNvSpPr/>
          <p:nvPr/>
        </p:nvSpPr>
        <p:spPr>
          <a:xfrm>
            <a:off x="9810360" y="609480"/>
            <a:ext cx="238140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方正硬笔行书简体"/>
                <a:ea typeface="方正硬笔行书简体"/>
              </a:rPr>
              <a:t>第四章：温暖</a:t>
            </a:r>
            <a:endParaRPr b="0" lang="en-US" sz="2800" spc="-1" strike="noStrike">
              <a:solidFill>
                <a:srgbClr val="000000"/>
              </a:solidFill>
              <a:latin typeface="Arial"/>
            </a:endParaRPr>
          </a:p>
        </p:txBody>
      </p:sp>
      <p:sp>
        <p:nvSpPr>
          <p:cNvPr id="356" name="文本框 2"/>
          <p:cNvSpPr/>
          <p:nvPr/>
        </p:nvSpPr>
        <p:spPr>
          <a:xfrm>
            <a:off x="497160" y="609480"/>
            <a:ext cx="43952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f88818"/>
                </a:solidFill>
                <a:latin typeface="方正硬笔行书简体"/>
                <a:ea typeface="方正硬笔行书简体"/>
              </a:rPr>
              <a:t>温暖</a:t>
            </a:r>
            <a:r>
              <a:rPr b="0" lang="zh-CN" sz="2400" spc="-1" strike="noStrike">
                <a:solidFill>
                  <a:srgbClr val="000000"/>
                </a:solidFill>
                <a:latin typeface="方正硬笔行书简体"/>
                <a:ea typeface="方正硬笔行书简体"/>
              </a:rPr>
              <a:t>是细碎而美好的存在</a:t>
            </a:r>
            <a:endParaRPr b="0" lang="en-US" sz="2400" spc="-1" strike="noStrike">
              <a:solidFill>
                <a:srgbClr val="000000"/>
              </a:solidFill>
              <a:latin typeface="Arial"/>
            </a:endParaRPr>
          </a:p>
        </p:txBody>
      </p:sp>
      <p:sp>
        <p:nvSpPr>
          <p:cNvPr id="357" name="文本框 3"/>
          <p:cNvSpPr/>
          <p:nvPr/>
        </p:nvSpPr>
        <p:spPr>
          <a:xfrm>
            <a:off x="954720" y="1994760"/>
            <a:ext cx="612360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0000"/>
                </a:solidFill>
                <a:latin typeface="Calibri"/>
                <a:ea typeface="方正硬笔行书简体"/>
              </a:rPr>
              <a:t>老太太拄着拐杖，站在酒吧里，痛骂年轻人一顿，抖出张发黄的字条说：“这是老头写给我的，读给你们听。哎呦呆逼，拿错了，这是电费催缴单。”</a:t>
            </a:r>
            <a:endParaRPr b="0" lang="en-US" sz="2000" spc="-1" strike="noStrike">
              <a:solidFill>
                <a:srgbClr val="000000"/>
              </a:solidFill>
              <a:latin typeface="Arial"/>
            </a:endParaRPr>
          </a:p>
        </p:txBody>
      </p:sp>
      <p:pic>
        <p:nvPicPr>
          <p:cNvPr id="358" name="图片 4" descr=""/>
          <p:cNvPicPr/>
          <p:nvPr/>
        </p:nvPicPr>
        <p:blipFill>
          <a:blip r:embed="rId1"/>
          <a:stretch/>
        </p:blipFill>
        <p:spPr>
          <a:xfrm>
            <a:off x="7864920" y="1767240"/>
            <a:ext cx="3352320" cy="3952440"/>
          </a:xfrm>
          <a:prstGeom prst="rect">
            <a:avLst/>
          </a:prstGeom>
          <a:ln w="0">
            <a:noFill/>
          </a:ln>
          <a:effectLst>
            <a:innerShdw blurRad="63500" dir="18900000" dist="50800">
              <a:srgbClr val="000000">
                <a:alpha val="50000"/>
              </a:srgbClr>
            </a:innerShdw>
          </a:effectLst>
        </p:spPr>
      </p:pic>
      <p:sp>
        <p:nvSpPr>
          <p:cNvPr id="359" name="文本框 6"/>
          <p:cNvSpPr/>
          <p:nvPr/>
        </p:nvSpPr>
        <p:spPr>
          <a:xfrm>
            <a:off x="954720" y="4042440"/>
            <a:ext cx="6090480" cy="8208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zh-CN" sz="2000" spc="-1" strike="noStrike">
                <a:solidFill>
                  <a:srgbClr val="000000"/>
                </a:solidFill>
                <a:latin typeface="Calibri"/>
                <a:ea typeface="方正硬笔行书简体"/>
              </a:rPr>
              <a:t>你会不会说话？会说话，就去长沙，告诉人家，你想</a:t>
            </a:r>
            <a:r>
              <a:rPr b="1" lang="zh-CN" sz="4800" spc="-1" strike="noStrike">
                <a:solidFill>
                  <a:srgbClr val="f88818"/>
                </a:solidFill>
                <a:latin typeface="方正硬笔行书简体"/>
                <a:ea typeface="方正硬笔行书简体"/>
              </a:rPr>
              <a:t>娶她</a:t>
            </a:r>
            <a:endParaRPr b="0" lang="en-US" sz="4800" spc="-1" strike="noStrike">
              <a:solidFill>
                <a:srgbClr val="000000"/>
              </a:solidFill>
              <a:latin typeface="Arial"/>
            </a:endParaRPr>
          </a:p>
        </p:txBody>
      </p:sp>
      <p:sp>
        <p:nvSpPr>
          <p:cNvPr id="360" name="文本框 7"/>
          <p:cNvSpPr/>
          <p:nvPr/>
        </p:nvSpPr>
        <p:spPr>
          <a:xfrm>
            <a:off x="135720" y="3449520"/>
            <a:ext cx="13338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7200" spc="-1" strike="noStrike">
                <a:solidFill>
                  <a:srgbClr val="f88818"/>
                </a:solidFill>
                <a:latin typeface="华文宋体"/>
                <a:ea typeface="华文宋体"/>
              </a:rPr>
              <a:t>“</a:t>
            </a:r>
            <a:endParaRPr b="0" lang="en-US" sz="7200" spc="-1" strike="noStrike">
              <a:solidFill>
                <a:srgbClr val="000000"/>
              </a:solidFill>
              <a:latin typeface="Arial"/>
            </a:endParaRPr>
          </a:p>
        </p:txBody>
      </p:sp>
      <p:sp>
        <p:nvSpPr>
          <p:cNvPr id="361" name="文本框 8"/>
          <p:cNvSpPr/>
          <p:nvPr/>
        </p:nvSpPr>
        <p:spPr>
          <a:xfrm>
            <a:off x="6927840" y="5257440"/>
            <a:ext cx="13338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7200" spc="-1" strike="noStrike">
                <a:solidFill>
                  <a:srgbClr val="f88818"/>
                </a:solidFill>
                <a:latin typeface="华文宋体"/>
                <a:ea typeface="华文宋体"/>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文本框 3"/>
          <p:cNvSpPr/>
          <p:nvPr/>
        </p:nvSpPr>
        <p:spPr>
          <a:xfrm>
            <a:off x="9817200" y="609480"/>
            <a:ext cx="23745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方正硬笔行书简体"/>
                <a:ea typeface="方正硬笔行书简体"/>
              </a:rPr>
              <a:t>第四章：温暖</a:t>
            </a:r>
            <a:endParaRPr b="0" lang="en-US" sz="2800" spc="-1" strike="noStrike">
              <a:solidFill>
                <a:srgbClr val="000000"/>
              </a:solidFill>
              <a:latin typeface="Arial"/>
            </a:endParaRPr>
          </a:p>
        </p:txBody>
      </p:sp>
      <p:sp>
        <p:nvSpPr>
          <p:cNvPr id="363" name="文本框 4"/>
          <p:cNvSpPr/>
          <p:nvPr/>
        </p:nvSpPr>
        <p:spPr>
          <a:xfrm>
            <a:off x="497160" y="609480"/>
            <a:ext cx="43952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f89028"/>
                </a:solidFill>
                <a:latin typeface="方正硬笔行书简体"/>
                <a:ea typeface="方正硬笔行书简体"/>
              </a:rPr>
              <a:t>温暖</a:t>
            </a:r>
            <a:r>
              <a:rPr b="0" lang="zh-CN" sz="2400" spc="-1" strike="noStrike">
                <a:solidFill>
                  <a:srgbClr val="000000"/>
                </a:solidFill>
                <a:latin typeface="方正硬笔行书简体"/>
                <a:ea typeface="方正硬笔行书简体"/>
              </a:rPr>
              <a:t>是细碎而美好的存在</a:t>
            </a:r>
            <a:endParaRPr b="0" lang="en-US" sz="2400" spc="-1" strike="noStrike">
              <a:solidFill>
                <a:srgbClr val="000000"/>
              </a:solidFill>
              <a:latin typeface="Arial"/>
            </a:endParaRPr>
          </a:p>
        </p:txBody>
      </p:sp>
      <p:pic>
        <p:nvPicPr>
          <p:cNvPr id="364" name="图片 6" descr=""/>
          <p:cNvPicPr/>
          <p:nvPr/>
        </p:nvPicPr>
        <p:blipFill>
          <a:blip r:embed="rId1"/>
          <a:stretch/>
        </p:blipFill>
        <p:spPr>
          <a:xfrm flipH="1">
            <a:off x="9918360" y="3371040"/>
            <a:ext cx="2440800" cy="2707560"/>
          </a:xfrm>
          <a:prstGeom prst="rect">
            <a:avLst/>
          </a:prstGeom>
          <a:ln w="0">
            <a:noFill/>
          </a:ln>
        </p:spPr>
      </p:pic>
      <p:sp>
        <p:nvSpPr>
          <p:cNvPr id="365" name="文本框 7"/>
          <p:cNvSpPr/>
          <p:nvPr/>
        </p:nvSpPr>
        <p:spPr>
          <a:xfrm>
            <a:off x="1200960" y="1801440"/>
            <a:ext cx="10139760" cy="11869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0000"/>
                </a:solidFill>
                <a:latin typeface="Calibri"/>
                <a:ea typeface="方正硬笔行书简体"/>
              </a:rPr>
              <a:t>每个人到我家，推开门永远都是眼睛放光，喊，梅茜呢梅茜呢？！</a:t>
            </a:r>
            <a:endParaRPr b="0" lang="en-US" sz="2000" spc="-1" strike="noStrike">
              <a:solidFill>
                <a:srgbClr val="000000"/>
              </a:solidFill>
              <a:latin typeface="Arial"/>
            </a:endParaRPr>
          </a:p>
          <a:p>
            <a:pPr>
              <a:lnSpc>
                <a:spcPct val="120000"/>
              </a:lnSpc>
            </a:pPr>
            <a:r>
              <a:rPr b="0" lang="zh-CN" sz="2000" spc="-1" strike="noStrike">
                <a:solidFill>
                  <a:srgbClr val="000000"/>
                </a:solidFill>
                <a:latin typeface="Calibri"/>
                <a:ea typeface="方正硬笔行书简体"/>
              </a:rPr>
              <a:t>然后一只毛茸茸的金毛，比他们还要兴奋，不知道从哪个角落里钻出来，狂叫着就扑上来。</a:t>
            </a:r>
            <a:endParaRPr b="0" lang="en-US" sz="2000" spc="-1" strike="noStrike">
              <a:solidFill>
                <a:srgbClr val="000000"/>
              </a:solidFill>
              <a:latin typeface="Arial"/>
            </a:endParaRPr>
          </a:p>
          <a:p>
            <a:pPr>
              <a:lnSpc>
                <a:spcPct val="120000"/>
              </a:lnSpc>
            </a:pPr>
            <a:r>
              <a:rPr b="0" lang="zh-CN" sz="2000" spc="-1" strike="noStrike">
                <a:solidFill>
                  <a:srgbClr val="000000"/>
                </a:solidFill>
                <a:latin typeface="Calibri"/>
                <a:ea typeface="方正硬笔行书简体"/>
              </a:rPr>
              <a:t>狗毛飞扬，人狗滚成一团</a:t>
            </a:r>
            <a:endParaRPr b="0" lang="en-US" sz="2000" spc="-1" strike="noStrike">
              <a:solidFill>
                <a:srgbClr val="000000"/>
              </a:solidFill>
              <a:latin typeface="Arial"/>
            </a:endParaRPr>
          </a:p>
        </p:txBody>
      </p:sp>
      <p:sp>
        <p:nvSpPr>
          <p:cNvPr id="366" name="文本框 8"/>
          <p:cNvSpPr/>
          <p:nvPr/>
        </p:nvSpPr>
        <p:spPr>
          <a:xfrm>
            <a:off x="1200960" y="3244320"/>
            <a:ext cx="549972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400" spc="-1" strike="noStrike">
                <a:solidFill>
                  <a:srgbClr val="f89028"/>
                </a:solidFill>
                <a:latin typeface="方正硬笔行书简体"/>
                <a:ea typeface="方正硬笔行书简体"/>
              </a:rPr>
              <a:t>梅茜</a:t>
            </a:r>
            <a:r>
              <a:rPr b="0" lang="zh-CN" sz="1600" spc="-1" strike="noStrike">
                <a:solidFill>
                  <a:srgbClr val="000000"/>
                </a:solidFill>
                <a:latin typeface="Calibri"/>
                <a:ea typeface="方正硬笔行书简体"/>
              </a:rPr>
              <a:t>，</a:t>
            </a:r>
            <a:r>
              <a:rPr b="0" lang="zh-CN" sz="2000" spc="-1" strike="noStrike">
                <a:solidFill>
                  <a:srgbClr val="000000"/>
                </a:solidFill>
                <a:latin typeface="Calibri"/>
                <a:ea typeface="方正硬笔行书简体"/>
              </a:rPr>
              <a:t>一岁以前是魔鬼，一岁以后是天使</a:t>
            </a:r>
            <a:endParaRPr b="0" lang="en-US" sz="2000" spc="-1" strike="noStrike">
              <a:solidFill>
                <a:srgbClr val="000000"/>
              </a:solidFill>
              <a:latin typeface="Arial"/>
            </a:endParaRPr>
          </a:p>
        </p:txBody>
      </p:sp>
      <p:sp>
        <p:nvSpPr>
          <p:cNvPr id="367" name="文本框 9"/>
          <p:cNvSpPr/>
          <p:nvPr/>
        </p:nvSpPr>
        <p:spPr>
          <a:xfrm>
            <a:off x="1200960" y="4432680"/>
            <a:ext cx="373896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Calibri"/>
                <a:ea typeface="方正硬笔行书简体"/>
              </a:rPr>
              <a:t>一开始，我以为是它离不开我。</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Calibri"/>
                <a:ea typeface="方正硬笔行书简体"/>
              </a:rPr>
              <a:t>现在，我知道，是自己离不开它。</a:t>
            </a:r>
            <a:endParaRPr b="0" lang="en-US" sz="2000" spc="-1" strike="noStrike">
              <a:solidFill>
                <a:srgbClr val="000000"/>
              </a:solidFill>
              <a:latin typeface="Arial"/>
            </a:endParaRPr>
          </a:p>
        </p:txBody>
      </p:sp>
      <p:sp>
        <p:nvSpPr>
          <p:cNvPr id="368" name="文本框 11"/>
          <p:cNvSpPr/>
          <p:nvPr/>
        </p:nvSpPr>
        <p:spPr>
          <a:xfrm rot="20922000">
            <a:off x="8767080" y="2824560"/>
            <a:ext cx="2709720" cy="980280"/>
          </a:xfrm>
          <a:prstGeom prst="cloudCallout">
            <a:avLst>
              <a:gd name="adj1" fmla="val 7017"/>
              <a:gd name="adj2" fmla="val 67922"/>
            </a:avLst>
          </a:prstGeom>
          <a:noFill/>
          <a:ln w="0">
            <a:solidFill>
              <a:srgbClr val="d39705"/>
            </a:solidFill>
          </a:ln>
        </p:spPr>
        <p:style>
          <a:lnRef idx="0"/>
          <a:fillRef idx="0"/>
          <a:effectRef idx="0"/>
          <a:fontRef idx="minor"/>
        </p:style>
        <p:txBody>
          <a:bodyPr lIns="90000" rIns="90000" tIns="45000" bIns="45000" anchor="t">
            <a:spAutoFit/>
          </a:bodyPr>
          <a:p>
            <a:pPr algn="just">
              <a:lnSpc>
                <a:spcPct val="100000"/>
              </a:lnSpc>
            </a:pPr>
            <a:r>
              <a:rPr b="0" lang="zh-CN" sz="1800" spc="-1" strike="noStrike">
                <a:solidFill>
                  <a:srgbClr val="d39705"/>
                </a:solidFill>
                <a:latin typeface="Calibri"/>
                <a:ea typeface="方正硬笔行书简体"/>
              </a:rPr>
              <a:t>张嘉佳有没有写我的坏话？！</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Words>1292</Words>
  <Paragraphs>9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1T04:22:32Z</dcterms:created>
  <dc:creator>murong</dc:creator>
  <dc:description/>
  <dc:language>en-US</dc:language>
  <cp:lastModifiedBy>王玉清</cp:lastModifiedBy>
  <dcterms:modified xsi:type="dcterms:W3CDTF">2016-03-01T06:43:50Z</dcterms:modified>
  <cp:revision>8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宽屏</vt:lpwstr>
  </property>
  <property fmtid="{D5CDD505-2E9C-101B-9397-08002B2CF9AE}" pid="4" name="Slides">
    <vt:r8>14</vt:r8>
  </property>
</Properties>
</file>