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746-8D18-4C82-8041-2E8F7DF9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98A-9F7D-4573-9D55-6B228DA7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FED-29E6-4AC2-A915-E805374F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EF-DC6D-4207-8749-2276EF6F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0C0-E048-46C7-9069-A35FA3B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967-6F3B-403A-93C5-850D3334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D85-B404-4587-AB90-4025EE7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DC2-BF4F-4CA4-9CE2-5BA4EF4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D27-5DA9-476B-863E-7A7FF64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D7D-BE70-4612-B6E0-7F428C9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88A-46F8-4C26-A2BA-6B23E8A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357-CAF0-4B2F-A1B5-A23410A7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5C087D-78FF-4519-A9DB-37640EC177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214280" y="21430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105200" y="143532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地球电商述职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1" descr="1377110584_YeIvC9.jpg"/>
          <p:cNvPicPr/>
          <p:nvPr/>
        </p:nvPicPr>
        <p:blipFill>
          <a:blip r:embed="rId1"/>
          <a:stretch/>
        </p:blipFill>
        <p:spPr>
          <a:xfrm>
            <a:off x="3071880" y="1785960"/>
            <a:ext cx="4323960" cy="444924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6"/>
          <p:cNvSpPr/>
          <p:nvPr/>
        </p:nvSpPr>
        <p:spPr>
          <a:xfrm>
            <a:off x="2721600" y="22860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18"/>
          <p:cNvSpPr/>
          <p:nvPr/>
        </p:nvSpPr>
        <p:spPr>
          <a:xfrm>
            <a:off x="2286000" y="213048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46" name="燕尾形 19"/>
          <p:cNvSpPr/>
          <p:nvPr/>
        </p:nvSpPr>
        <p:spPr>
          <a:xfrm>
            <a:off x="5500800" y="213192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任意多边形 18"/>
          <p:cNvSpPr/>
          <p:nvPr/>
        </p:nvSpPr>
        <p:spPr>
          <a:xfrm>
            <a:off x="2266920" y="298764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48" name="燕尾形 19"/>
          <p:cNvSpPr/>
          <p:nvPr/>
        </p:nvSpPr>
        <p:spPr>
          <a:xfrm>
            <a:off x="5481720" y="29894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" name="任意多边形 18"/>
          <p:cNvSpPr/>
          <p:nvPr/>
        </p:nvSpPr>
        <p:spPr>
          <a:xfrm>
            <a:off x="2214720" y="384660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50" name="燕尾形 19"/>
          <p:cNvSpPr/>
          <p:nvPr/>
        </p:nvSpPr>
        <p:spPr>
          <a:xfrm>
            <a:off x="5429160" y="38480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71680" y="214200"/>
            <a:ext cx="1213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354672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546720" y="23572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职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3510000" y="32018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21"/>
          <p:cNvSpPr/>
          <p:nvPr/>
        </p:nvSpPr>
        <p:spPr>
          <a:xfrm>
            <a:off x="3357720" y="242892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波形 19"/>
          <p:cNvSpPr/>
          <p:nvPr/>
        </p:nvSpPr>
        <p:spPr>
          <a:xfrm>
            <a:off x="2857680" y="407196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波形 17"/>
          <p:cNvSpPr/>
          <p:nvPr/>
        </p:nvSpPr>
        <p:spPr>
          <a:xfrm>
            <a:off x="2857680" y="350028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波形 14"/>
          <p:cNvSpPr/>
          <p:nvPr/>
        </p:nvSpPr>
        <p:spPr>
          <a:xfrm>
            <a:off x="2857680" y="292896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波形 13"/>
          <p:cNvSpPr/>
          <p:nvPr/>
        </p:nvSpPr>
        <p:spPr>
          <a:xfrm>
            <a:off x="2857680" y="235728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圆角矩形 22"/>
          <p:cNvSpPr/>
          <p:nvPr/>
        </p:nvSpPr>
        <p:spPr>
          <a:xfrm>
            <a:off x="3357720" y="300024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圆角矩形 23"/>
          <p:cNvSpPr/>
          <p:nvPr/>
        </p:nvSpPr>
        <p:spPr>
          <a:xfrm>
            <a:off x="3357720" y="3571920"/>
            <a:ext cx="3928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圆角矩形 24"/>
          <p:cNvSpPr/>
          <p:nvPr/>
        </p:nvSpPr>
        <p:spPr>
          <a:xfrm>
            <a:off x="3357720" y="414324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928960" y="2500200"/>
            <a:ext cx="4571640" cy="209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策划店铺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活动文案地撰写、对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根据销售任务分解、策划和匹配相应的活动，撰写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产品细作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职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285840" y="2143080"/>
            <a:ext cx="4357440" cy="289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要与部门多个岗位沟通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产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产品知识，有利于文案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运营人员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晓推广规则，有利于规划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设计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阐述文案思想，有利于图文和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2" descr="1276207544423880866.jpg"/>
          <p:cNvPicPr/>
          <p:nvPr/>
        </p:nvPicPr>
        <p:blipFill>
          <a:blip r:embed="rId1"/>
          <a:stretch/>
        </p:blipFill>
        <p:spPr>
          <a:xfrm>
            <a:off x="4933800" y="2214720"/>
            <a:ext cx="4066920" cy="2728440"/>
          </a:xfrm>
          <a:prstGeom prst="rect">
            <a:avLst/>
          </a:prstGeom>
          <a:ln w="9525">
            <a:noFill/>
          </a:ln>
        </p:spPr>
      </p:pic>
      <p:sp>
        <p:nvSpPr>
          <p:cNvPr id="83" name="矩形 13"/>
          <p:cNvSpPr/>
          <p:nvPr/>
        </p:nvSpPr>
        <p:spPr>
          <a:xfrm>
            <a:off x="4714920" y="2214720"/>
            <a:ext cx="45720" cy="2714400"/>
          </a:xfrm>
          <a:prstGeom prst="rect">
            <a:avLst/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214200" y="1143000"/>
            <a:ext cx="9072360" cy="209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要根据现代人的阅读习惯写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要做“标题党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好的标题，通常会包含以下元素的某一点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元素、证言、品牌名称、挥旗示意、惊人事实、解决问题、价格、新闻价值、利益点、与图共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证言"/>
          <p:cNvPicPr/>
          <p:nvPr/>
        </p:nvPicPr>
        <p:blipFill>
          <a:blip r:embed="rId1"/>
          <a:stretch/>
        </p:blipFill>
        <p:spPr>
          <a:xfrm>
            <a:off x="928800" y="3643200"/>
            <a:ext cx="3560400" cy="14396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3" descr="利益点"/>
          <p:cNvPicPr/>
          <p:nvPr/>
        </p:nvPicPr>
        <p:blipFill>
          <a:blip r:embed="rId2"/>
          <a:stretch/>
        </p:blipFill>
        <p:spPr>
          <a:xfrm>
            <a:off x="5572080" y="3429000"/>
            <a:ext cx="2180880" cy="2649240"/>
          </a:xfrm>
          <a:prstGeom prst="rect">
            <a:avLst/>
          </a:prstGeom>
          <a:ln w="9525">
            <a:noFill/>
          </a:ln>
        </p:spPr>
      </p:pic>
      <p:sp>
        <p:nvSpPr>
          <p:cNvPr id="93" name="Text Box 8"/>
          <p:cNvSpPr/>
          <p:nvPr/>
        </p:nvSpPr>
        <p:spPr>
          <a:xfrm>
            <a:off x="244080" y="60501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571760" y="1785960"/>
            <a:ext cx="2714400" cy="15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文案正文要“亲民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抽象、主观的形容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白话、简单的句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消费者熟悉的语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子切忌过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幅要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文案亲民3"/>
          <p:cNvPicPr/>
          <p:nvPr/>
        </p:nvPicPr>
        <p:blipFill>
          <a:blip r:embed="rId1"/>
          <a:stretch/>
        </p:blipFill>
        <p:spPr>
          <a:xfrm>
            <a:off x="2071800" y="4357800"/>
            <a:ext cx="6837120" cy="212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000080" y="1428840"/>
            <a:ext cx="65718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文案要以促成转化为最终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限度减轻消费者购买顾虑，是实现转化的关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消除顾虑"/>
          <p:cNvPicPr/>
          <p:nvPr/>
        </p:nvPicPr>
        <p:blipFill>
          <a:blip r:embed="rId1"/>
          <a:stretch/>
        </p:blipFill>
        <p:spPr>
          <a:xfrm>
            <a:off x="4356000" y="2357280"/>
            <a:ext cx="3889080" cy="1806120"/>
          </a:xfrm>
          <a:prstGeom prst="rect">
            <a:avLst/>
          </a:prstGeom>
          <a:ln w="9525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332000" y="2792520"/>
            <a:ext cx="2666520" cy="1006200"/>
          </a:xfrm>
          <a:prstGeom prst="rightArrow">
            <a:avLst>
              <a:gd name="adj1" fmla="val 50000"/>
              <a:gd name="adj2" fmla="val 66246"/>
            </a:avLst>
          </a:prstGeom>
          <a:solidFill>
            <a:srgbClr val="a0ac9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除起球顾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消除顾虑2"/>
          <p:cNvPicPr/>
          <p:nvPr/>
        </p:nvPicPr>
        <p:blipFill>
          <a:blip r:embed="rId2"/>
          <a:stretch/>
        </p:blipFill>
        <p:spPr>
          <a:xfrm>
            <a:off x="611280" y="4229280"/>
            <a:ext cx="4473360" cy="2074680"/>
          </a:xfrm>
          <a:prstGeom prst="rect">
            <a:avLst/>
          </a:prstGeom>
          <a:ln w="9525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5651640" y="4950000"/>
            <a:ext cx="2520720" cy="1007640"/>
          </a:xfrm>
          <a:prstGeom prst="leftArrow">
            <a:avLst>
              <a:gd name="adj1" fmla="val 50000"/>
              <a:gd name="adj2" fmla="val 62520"/>
            </a:avLst>
          </a:prstGeom>
          <a:solidFill>
            <a:srgbClr val="a0ac9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消除掉色顾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357120" y="2000160"/>
            <a:ext cx="8357760" cy="4571640"/>
          </a:xfrm>
          <a:prstGeom prst="rect">
            <a:avLst/>
          </a:prstGeom>
          <a:noFill/>
          <a:ln>
            <a:solidFill>
              <a:srgbClr val="88b1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14"/>
          <p:cNvSpPr/>
          <p:nvPr/>
        </p:nvSpPr>
        <p:spPr>
          <a:xfrm>
            <a:off x="4572000" y="1928880"/>
            <a:ext cx="3785760" cy="378576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圆角矩形 13"/>
          <p:cNvSpPr/>
          <p:nvPr/>
        </p:nvSpPr>
        <p:spPr>
          <a:xfrm>
            <a:off x="642960" y="1928880"/>
            <a:ext cx="2714400" cy="3785760"/>
          </a:xfrm>
          <a:prstGeom prst="roundRect">
            <a:avLst>
              <a:gd name="adj" fmla="val 16667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857160" y="2212920"/>
            <a:ext cx="2142720" cy="136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不足之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部门沟通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与部门人员沟通不足，现在对很多人还依然不是很熟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服装类知识了解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服装知识的欠缺，导致文案写作时出现诸多不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786200" y="2197080"/>
            <a:ext cx="3428640" cy="264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如何改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加强人员沟通与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，让名字与面孔对上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，了解每个人负责的工作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，熟练掌握产品小组的成员、代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服饰类知识的广泛搜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，与产品小组、产品负责人学习相关知识，充分利用每一次的合作掌握服饰类专业术语、专业知识，慢慢积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，搜集经典案例，多看、多记、多读、多写，融汇贯通，化经典为己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，经常阅读时尚服饰杂志，提高对服装类的审美感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箭头 15"/>
          <p:cNvSpPr/>
          <p:nvPr/>
        </p:nvSpPr>
        <p:spPr>
          <a:xfrm>
            <a:off x="3821040" y="3343320"/>
            <a:ext cx="393480" cy="4424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横卷形 12"/>
          <p:cNvSpPr/>
          <p:nvPr/>
        </p:nvSpPr>
        <p:spPr>
          <a:xfrm>
            <a:off x="785880" y="2214720"/>
            <a:ext cx="7500600" cy="2785680"/>
          </a:xfrm>
          <a:prstGeom prst="horizontalScroll">
            <a:avLst>
              <a:gd name="adj" fmla="val 12500"/>
            </a:avLst>
          </a:prstGeom>
          <a:solidFill>
            <a:srgbClr val="88b11c"/>
          </a:solidFill>
          <a:ln>
            <a:solidFill>
              <a:srgbClr val="c8ce2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214280" y="2928960"/>
            <a:ext cx="70718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两个月的实习期间，我从电商小白、服装小白慢慢走来，收获很多以前从未涉及的知识，但是这些还远远不够，在未来地工作中，我会一直保持空心状态，竭尽全力让所学皆有所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上我认真、细心且具有较强的责任心和进取心，勤勉不懈，具有工作热情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开朗，乐于与他人沟通，有很强的团队协作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感强，确实完成领导交付的工作，和公司同事之间能够通力合作，关系相处融洽而和睦，配合各部门负责人成功地完成各项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  <Words>686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10:05:30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