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B7A-642E-481A-B6D1-04C74DF7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CB2-70B4-4DF8-B10B-D93874A0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47E-0244-4FE0-BC9A-FCD53730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2A7-BB7F-4AC7-B010-42C3BD8B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CAE0-3E22-4E8E-A1D0-333DCFAA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85BA-938A-4B23-A55C-359BFA8C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5EF9-E07B-4C7F-877C-362DBBBA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9817-74C2-45D7-B644-98FD741A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3B9E-FC54-4A57-BDFF-043025AC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498C-D962-4038-A81B-F0A3B330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3DEA-21CD-42B2-8E3B-EC1B881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0E6-CF07-4F0D-9671-AA04C10A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2E81-02B5-4188-A498-7D17AB33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5E7A-3F6E-4A91-A807-144A3624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4BCB-FC31-429E-8E2E-B48BCF3D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86A1-AC67-4B41-95CC-3F3B5173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F26-94FE-44C5-B334-B3691E88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0FC-03DC-4A58-9BFC-7F82E1E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76A-CCEF-4DA6-A7F6-0EAD2104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946-EB08-4F22-BD76-E41A3C6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B6E-1D99-4003-AF89-D099D96E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54A-5267-4155-8980-C56930D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4A0-5969-45BB-9740-4D8B604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8C6-2EDE-4561-98E9-EF274EA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D24F-A460-4DFB-BC9D-13BB1AD604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Documents and Settings\Administrator\桌面\商务-韩国\背景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Documents and Settings\Administrator\桌面\商务-韩国\未标题231.png"/>
          <p:cNvPicPr/>
          <p:nvPr/>
        </p:nvPicPr>
        <p:blipFill>
          <a:blip r:embed="rId3"/>
          <a:stretch/>
        </p:blipFill>
        <p:spPr>
          <a:xfrm>
            <a:off x="31680" y="4581360"/>
            <a:ext cx="160020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商务-韩国\背景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istrator\桌面\商务-韩国\未标题231.png"/>
          <p:cNvPicPr/>
          <p:nvPr/>
        </p:nvPicPr>
        <p:blipFill>
          <a:blip r:embed="rId3"/>
          <a:stretch/>
        </p:blipFill>
        <p:spPr>
          <a:xfrm>
            <a:off x="31680" y="4581360"/>
            <a:ext cx="1600200" cy="1641600"/>
          </a:xfrm>
          <a:prstGeom prst="rect">
            <a:avLst/>
          </a:prstGeom>
          <a:ln w="0">
            <a:noFill/>
          </a:ln>
        </p:spPr>
      </p:pic>
      <p:sp>
        <p:nvSpPr>
          <p:cNvPr id="45" name="矩形 8"/>
          <p:cNvSpPr/>
          <p:nvPr/>
        </p:nvSpPr>
        <p:spPr>
          <a:xfrm>
            <a:off x="0" y="0"/>
            <a:ext cx="9217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istrator\桌面\商务-韩国\未标题-231.png"/>
          <p:cNvPicPr/>
          <p:nvPr/>
        </p:nvPicPr>
        <p:blipFill>
          <a:blip r:embed="rId4"/>
          <a:stretch/>
        </p:blipFill>
        <p:spPr>
          <a:xfrm>
            <a:off x="324000" y="2997360"/>
            <a:ext cx="6192720" cy="3689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97E-40B8-4106-9C75-79EE5E7FDB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地球商务箭头完整版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0:45:44Z</dcterms:created>
  <dc:creator>ppt宝藏</dc:creator>
  <dc:description/>
  <dc:language>en-US</dc:language>
  <cp:lastModifiedBy>a</cp:lastModifiedBy>
  <dcterms:modified xsi:type="dcterms:W3CDTF">2015-07-25T06:22:02Z</dcterms:modified>
  <cp:revision>3</cp:revision>
  <dc:subject/>
  <dc:title>www.pptbz.com ppt宝藏提供</dc:title>
</cp:coreProperties>
</file>