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719931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95D1-E254-4FD4-9106-4EFCCDF8A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C7BD-3CD4-409E-920D-D5BCB52DA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42DA-841E-4E38-8E75-99A8516EE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6123-5816-4B00-92E4-CB9798AE3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A81BF-0729-4889-97B9-0965B112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91870-6C07-490D-AFE4-FD30B090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75885-D3D8-4359-800F-BCDD5673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530AC-B09E-4745-B0B4-A2A196CB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49B2A-3904-4498-B699-660B79B1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35071-C993-49D5-9F0F-05E0EB2C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F6219-2151-4CFF-8D42-8F6BA7F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F642-276B-4E3E-AB96-93FEA4C41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C5E8C-8D4D-480F-BE74-28BE0B16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D9110-F5F8-4A59-B574-424769E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BDA1C-A847-4CA2-A249-71EFAFE2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D4623-FB93-45C4-A316-84CD5B85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102EB-9ED6-48EA-BFB4-0863933B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CD6D-B4A8-43D3-BE10-AE32E1505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E44D-8451-4EA2-9745-8AA5598CB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AB94-31D4-42A6-A13D-C981CC1B1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71BC-7F0B-4F8C-BE24-558C5684E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B7AA9-3005-4A15-8D5C-9427F13FF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2A35-44DE-4CD1-BCB2-E69353F4A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A2AC-3DD7-4538-8DE9-1405A9FA5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160960" y="4211280"/>
            <a:ext cx="1765440" cy="52380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7E43D770-6E9B-4DED-A010-9746E0A6113A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482840" y="4108320"/>
            <a:ext cx="156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Oct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3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图片1副本"/>
          <p:cNvPicPr/>
          <p:nvPr/>
        </p:nvPicPr>
        <p:blipFill>
          <a:blip r:embed="rId2"/>
          <a:stretch/>
        </p:blipFill>
        <p:spPr>
          <a:xfrm>
            <a:off x="282600" y="4141800"/>
            <a:ext cx="1192320" cy="30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187200"/>
            <a:ext cx="648000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60360" y="1091880"/>
            <a:ext cx="648000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3600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2460600" y="4262400"/>
            <a:ext cx="2279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51606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B1D4B74D-BEB9-4A40-BF1D-D6568B754E8A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720108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6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9" descr="飞吧"/>
          <p:cNvPicPr/>
          <p:nvPr/>
        </p:nvPicPr>
        <p:blipFill>
          <a:blip r:embed="rId2"/>
          <a:stretch/>
        </p:blipFill>
        <p:spPr>
          <a:xfrm>
            <a:off x="3782880" y="1332000"/>
            <a:ext cx="2909880" cy="16653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50"/>
          <p:cNvGrpSpPr/>
          <p:nvPr/>
        </p:nvGrpSpPr>
        <p:grpSpPr>
          <a:xfrm>
            <a:off x="0" y="0"/>
            <a:ext cx="7238880" cy="652320"/>
            <a:chOff x="0" y="0"/>
            <a:chExt cx="7238880" cy="652320"/>
          </a:xfrm>
        </p:grpSpPr>
        <p:pic>
          <p:nvPicPr>
            <p:cNvPr id="85" name="Picture 51" descr="未标题-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2" descr="未标题-2"/>
            <p:cNvPicPr/>
            <p:nvPr/>
          </p:nvPicPr>
          <p:blipFill>
            <a:blip r:embed="rId4"/>
            <a:stretch/>
          </p:blipFill>
          <p:spPr>
            <a:xfrm>
              <a:off x="4482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3" descr="未标题-2"/>
            <p:cNvPicPr/>
            <p:nvPr/>
          </p:nvPicPr>
          <p:blipFill>
            <a:blip r:embed="rId5"/>
            <a:stretch/>
          </p:blipFill>
          <p:spPr>
            <a:xfrm>
              <a:off x="110844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4" descr="未标题-2"/>
            <p:cNvPicPr/>
            <p:nvPr/>
          </p:nvPicPr>
          <p:blipFill>
            <a:blip r:embed="rId6"/>
            <a:stretch/>
          </p:blipFill>
          <p:spPr>
            <a:xfrm>
              <a:off x="15566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5" descr="未标题-2"/>
            <p:cNvPicPr/>
            <p:nvPr/>
          </p:nvPicPr>
          <p:blipFill>
            <a:blip r:embed="rId7"/>
            <a:stretch/>
          </p:blipFill>
          <p:spPr>
            <a:xfrm>
              <a:off x="21520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6" descr="未标题-2"/>
            <p:cNvPicPr/>
            <p:nvPr/>
          </p:nvPicPr>
          <p:blipFill>
            <a:blip r:embed="rId8"/>
            <a:stretch/>
          </p:blipFill>
          <p:spPr>
            <a:xfrm>
              <a:off x="260028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7" descr="未标题-2"/>
            <p:cNvPicPr/>
            <p:nvPr/>
          </p:nvPicPr>
          <p:blipFill>
            <a:blip r:embed="rId9"/>
            <a:stretch/>
          </p:blipFill>
          <p:spPr>
            <a:xfrm>
              <a:off x="326052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8" descr="未标题-2"/>
            <p:cNvPicPr/>
            <p:nvPr/>
          </p:nvPicPr>
          <p:blipFill>
            <a:blip r:embed="rId10"/>
            <a:stretch/>
          </p:blipFill>
          <p:spPr>
            <a:xfrm>
              <a:off x="370872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9" descr="未标题-2"/>
            <p:cNvPicPr/>
            <p:nvPr/>
          </p:nvPicPr>
          <p:blipFill>
            <a:blip r:embed="rId11"/>
            <a:stretch/>
          </p:blipFill>
          <p:spPr>
            <a:xfrm>
              <a:off x="43434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0" descr="未标题-2"/>
            <p:cNvPicPr/>
            <p:nvPr/>
          </p:nvPicPr>
          <p:blipFill>
            <a:blip r:embed="rId12"/>
            <a:stretch/>
          </p:blipFill>
          <p:spPr>
            <a:xfrm>
              <a:off x="479196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1" descr="未标题-2"/>
            <p:cNvPicPr/>
            <p:nvPr/>
          </p:nvPicPr>
          <p:blipFill>
            <a:blip r:embed="rId13"/>
            <a:stretch/>
          </p:blipFill>
          <p:spPr>
            <a:xfrm>
              <a:off x="54522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2" descr="未标题-2"/>
            <p:cNvPicPr/>
            <p:nvPr/>
          </p:nvPicPr>
          <p:blipFill>
            <a:blip r:embed="rId14"/>
            <a:stretch/>
          </p:blipFill>
          <p:spPr>
            <a:xfrm>
              <a:off x="59004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3" descr="未标题-2"/>
            <p:cNvPicPr/>
            <p:nvPr/>
          </p:nvPicPr>
          <p:blipFill>
            <a:blip r:embed="rId15"/>
            <a:stretch/>
          </p:blipFill>
          <p:spPr>
            <a:xfrm>
              <a:off x="64954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4" descr="未标题-2"/>
            <p:cNvPicPr/>
            <p:nvPr/>
          </p:nvPicPr>
          <p:blipFill>
            <a:blip r:embed="rId16"/>
            <a:stretch/>
          </p:blipFill>
          <p:spPr>
            <a:xfrm>
              <a:off x="69440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树叶的梦想.mp3" descr=""/>
          <p:cNvPicPr/>
          <p:nvPr/>
        </p:nvPicPr>
        <p:blipFill>
          <a:blip r:embed="rId17"/>
          <a:stretch/>
        </p:blipFill>
        <p:spPr>
          <a:xfrm>
            <a:off x="196920" y="4140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134000" y="3524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飞吧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动画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53960" y="4243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680000"/>
          </a:xfrm>
          <a:prstGeom prst="rect">
            <a:avLst/>
          </a:prstGeom>
          <a:ln w="0">
            <a:noFill/>
          </a:ln>
        </p:spPr>
      </p:pic>
      <p:sp>
        <p:nvSpPr>
          <p:cNvPr id="103" name="Oval 708"/>
          <p:cNvSpPr/>
          <p:nvPr/>
        </p:nvSpPr>
        <p:spPr>
          <a:xfrm rot="21079800">
            <a:off x="-11269440" y="-3051000"/>
            <a:ext cx="9296640" cy="8424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97"/>
          <p:cNvSpPr/>
          <p:nvPr/>
        </p:nvSpPr>
        <p:spPr>
          <a:xfrm rot="21079800">
            <a:off x="-8992800" y="-4356000"/>
            <a:ext cx="9296280" cy="7173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98"/>
          <p:cNvSpPr/>
          <p:nvPr/>
        </p:nvSpPr>
        <p:spPr>
          <a:xfrm>
            <a:off x="2989800" y="325440"/>
            <a:ext cx="93528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在空中飞翔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高山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大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那遥远的天堂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扬帆远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狂风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巨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到那美丽的地方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向我招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带我到爱的天堂！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975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107" name="Freeform 976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977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109" name="Group 978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110" name="AutoShape 979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980"/>
                <p:cNvSpPr/>
                <p:nvPr/>
              </p:nvSpPr>
              <p:spPr>
                <a:xfrm rot="399000">
                  <a:off x="-558000" y="35208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981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982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114" name="Freeform 983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984"/>
                <p:cNvSpPr/>
                <p:nvPr/>
              </p:nvSpPr>
              <p:spPr>
                <a:xfrm rot="399000">
                  <a:off x="-778680" y="3495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985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986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987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988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989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90"/>
                <p:cNvSpPr/>
                <p:nvPr/>
              </p:nvSpPr>
              <p:spPr>
                <a:xfrm rot="399000">
                  <a:off x="-739440" y="33123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991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992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993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994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995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996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997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998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999"/>
                <p:cNvSpPr/>
                <p:nvPr/>
              </p:nvSpPr>
              <p:spPr>
                <a:xfrm rot="399000">
                  <a:off x="-459000" y="32508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000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1001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1002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003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004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005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006"/>
                <p:cNvSpPr/>
                <p:nvPr/>
              </p:nvSpPr>
              <p:spPr>
                <a:xfrm rot="399000">
                  <a:off x="-47808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007"/>
                <p:cNvSpPr/>
                <p:nvPr/>
              </p:nvSpPr>
              <p:spPr>
                <a:xfrm rot="399000">
                  <a:off x="-478080" y="35460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1008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009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010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011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012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013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014"/>
                <p:cNvSpPr/>
                <p:nvPr/>
              </p:nvSpPr>
              <p:spPr>
                <a:xfrm rot="399000">
                  <a:off x="-619200" y="34945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015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016"/>
                <p:cNvSpPr/>
                <p:nvPr/>
              </p:nvSpPr>
              <p:spPr>
                <a:xfrm rot="399000">
                  <a:off x="-487080" y="35535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1017"/>
                <p:cNvSpPr/>
                <p:nvPr/>
              </p:nvSpPr>
              <p:spPr>
                <a:xfrm rot="1080000">
                  <a:off x="-438840" y="35132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018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1328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151" name="Freeform 1329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330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153" name="Group 1331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154" name="AutoShape 1332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333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334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1335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158" name="Freeform 1336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337"/>
                <p:cNvSpPr/>
                <p:nvPr/>
              </p:nvSpPr>
              <p:spPr>
                <a:xfrm rot="251400">
                  <a:off x="-761040" y="404928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338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339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340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41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342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343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344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345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346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1347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348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349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350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351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352"/>
                <p:cNvSpPr/>
                <p:nvPr/>
              </p:nvSpPr>
              <p:spPr>
                <a:xfrm rot="251400">
                  <a:off x="-447120" y="379512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353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354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355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356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357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358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359"/>
                <p:cNvSpPr/>
                <p:nvPr/>
              </p:nvSpPr>
              <p:spPr>
                <a:xfrm rot="251400">
                  <a:off x="-459360" y="408636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360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361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362"/>
                <p:cNvSpPr/>
                <p:nvPr/>
              </p:nvSpPr>
              <p:spPr>
                <a:xfrm rot="251400">
                  <a:off x="-484920" y="409644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363"/>
                <p:cNvSpPr/>
                <p:nvPr/>
              </p:nvSpPr>
              <p:spPr>
                <a:xfrm rot="251400">
                  <a:off x="-699840" y="40395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364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365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366"/>
                <p:cNvSpPr/>
                <p:nvPr/>
              </p:nvSpPr>
              <p:spPr>
                <a:xfrm rot="251400">
                  <a:off x="-459000" y="380448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367"/>
                <p:cNvSpPr/>
                <p:nvPr/>
              </p:nvSpPr>
              <p:spPr>
                <a:xfrm rot="251400">
                  <a:off x="-599760" y="404388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368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369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370"/>
                <p:cNvSpPr/>
                <p:nvPr/>
              </p:nvSpPr>
              <p:spPr>
                <a:xfrm rot="932400">
                  <a:off x="-421200" y="405540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371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4" name="Group 1372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195" name="Freeform 1373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374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197" name="Group 1375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198" name="AutoShape 1376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377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378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1379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202" name="Freeform 1380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1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82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383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384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385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386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387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388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389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390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391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392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1393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394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395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1396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397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398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399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400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401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402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403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404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405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406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407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408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409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410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411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412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413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414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415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416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239" name="Freeform 1417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418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241" name="Group 1419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242" name="AutoShape 1420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421"/>
                <p:cNvSpPr/>
                <p:nvPr/>
              </p:nvSpPr>
              <p:spPr>
                <a:xfrm rot="20032800">
                  <a:off x="-565560" y="3853800"/>
                  <a:ext cx="32040" cy="3020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422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423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246" name="Freeform 1424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425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426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427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428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429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430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1431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432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433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434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435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436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437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438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1439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440"/>
                <p:cNvSpPr/>
                <p:nvPr/>
              </p:nvSpPr>
              <p:spPr>
                <a:xfrm rot="20032800">
                  <a:off x="-636840" y="3671640"/>
                  <a:ext cx="31320" cy="19764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441"/>
                <p:cNvSpPr/>
                <p:nvPr/>
              </p:nvSpPr>
              <p:spPr>
                <a:xfrm rot="20032800">
                  <a:off x="-627480" y="3686040"/>
                  <a:ext cx="55080" cy="165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1442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443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444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1445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446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447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448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449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450"/>
                <p:cNvSpPr/>
                <p:nvPr/>
              </p:nvSpPr>
              <p:spPr>
                <a:xfrm rot="20032800">
                  <a:off x="-592920" y="3867480"/>
                  <a:ext cx="4500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451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452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453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454"/>
                <p:cNvSpPr/>
                <p:nvPr/>
              </p:nvSpPr>
              <p:spPr>
                <a:xfrm rot="20032800">
                  <a:off x="-642600" y="3688920"/>
                  <a:ext cx="5760" cy="1818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455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456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1457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1458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459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30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32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34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4" descr="页面1"/>
          <p:cNvPicPr/>
          <p:nvPr/>
        </p:nvPicPr>
        <p:blipFill>
          <a:blip r:embed="rId1"/>
          <a:stretch/>
        </p:blipFill>
        <p:spPr>
          <a:xfrm>
            <a:off x="1440" y="3240"/>
            <a:ext cx="7199640" cy="4703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3"/>
          <p:cNvSpPr/>
          <p:nvPr/>
        </p:nvSpPr>
        <p:spPr>
          <a:xfrm>
            <a:off x="5040360" y="82692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梦想装上一个螺旋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俯视大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心装上一双翅膀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一起去飞翔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天空装上一扇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去星辰徜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8" descr="飞吧副本"/>
          <p:cNvPicPr/>
          <p:nvPr/>
        </p:nvPicPr>
        <p:blipFill>
          <a:blip r:embed="rId2"/>
          <a:stretch/>
        </p:blipFill>
        <p:spPr>
          <a:xfrm>
            <a:off x="144360" y="221760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49"/>
          <p:cNvGrpSpPr/>
          <p:nvPr/>
        </p:nvGrpSpPr>
        <p:grpSpPr>
          <a:xfrm>
            <a:off x="-926640" y="1680480"/>
            <a:ext cx="874440" cy="734400"/>
            <a:chOff x="-926640" y="1680480"/>
            <a:chExt cx="874440" cy="734400"/>
          </a:xfrm>
        </p:grpSpPr>
        <p:sp>
          <p:nvSpPr>
            <p:cNvPr id="286" name="Freeform 50"/>
            <p:cNvSpPr/>
            <p:nvPr/>
          </p:nvSpPr>
          <p:spPr>
            <a:xfrm rot="2931600">
              <a:off x="-381240" y="20710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51"/>
            <p:cNvGrpSpPr/>
            <p:nvPr/>
          </p:nvGrpSpPr>
          <p:grpSpPr>
            <a:xfrm>
              <a:off x="-926640" y="1680480"/>
              <a:ext cx="874440" cy="734400"/>
              <a:chOff x="-926640" y="1680480"/>
              <a:chExt cx="874440" cy="734400"/>
            </a:xfrm>
          </p:grpSpPr>
          <p:grpSp>
            <p:nvGrpSpPr>
              <p:cNvPr id="288" name="Group 52"/>
              <p:cNvGrpSpPr/>
              <p:nvPr/>
            </p:nvGrpSpPr>
            <p:grpSpPr>
              <a:xfrm>
                <a:off x="-926640" y="1973520"/>
                <a:ext cx="597240" cy="441360"/>
                <a:chOff x="-926640" y="1973520"/>
                <a:chExt cx="597240" cy="441360"/>
              </a:xfrm>
            </p:grpSpPr>
            <p:sp>
              <p:nvSpPr>
                <p:cNvPr id="289" name="AutoShape 53"/>
                <p:cNvSpPr/>
                <p:nvPr/>
              </p:nvSpPr>
              <p:spPr>
                <a:xfrm rot="2931600">
                  <a:off x="-436320" y="19944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54"/>
                <p:cNvSpPr/>
                <p:nvPr/>
              </p:nvSpPr>
              <p:spPr>
                <a:xfrm rot="2931600">
                  <a:off x="-608760" y="195336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55"/>
                <p:cNvSpPr/>
                <p:nvPr/>
              </p:nvSpPr>
              <p:spPr>
                <a:xfrm rot="3475200">
                  <a:off x="-853920" y="22442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56"/>
              <p:cNvGrpSpPr/>
              <p:nvPr/>
            </p:nvGrpSpPr>
            <p:grpSpPr>
              <a:xfrm>
                <a:off x="-653760" y="1680480"/>
                <a:ext cx="601560" cy="618840"/>
                <a:chOff x="-653760" y="1680480"/>
                <a:chExt cx="601560" cy="618840"/>
              </a:xfrm>
            </p:grpSpPr>
            <p:sp>
              <p:nvSpPr>
                <p:cNvPr id="293" name="Freeform 57"/>
                <p:cNvSpPr/>
                <p:nvPr/>
              </p:nvSpPr>
              <p:spPr>
                <a:xfrm rot="2931600">
                  <a:off x="-540720" y="1949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58"/>
                <p:cNvSpPr/>
                <p:nvPr/>
              </p:nvSpPr>
              <p:spPr>
                <a:xfrm rot="2931600">
                  <a:off x="-659880" y="19137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59"/>
                <p:cNvSpPr/>
                <p:nvPr/>
              </p:nvSpPr>
              <p:spPr>
                <a:xfrm rot="2931600">
                  <a:off x="-624240" y="18547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0"/>
                <p:cNvSpPr/>
                <p:nvPr/>
              </p:nvSpPr>
              <p:spPr>
                <a:xfrm rot="2931600">
                  <a:off x="-632160" y="18054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61"/>
                <p:cNvSpPr/>
                <p:nvPr/>
              </p:nvSpPr>
              <p:spPr>
                <a:xfrm rot="2931600">
                  <a:off x="-608400" y="180252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62"/>
                <p:cNvSpPr/>
                <p:nvPr/>
              </p:nvSpPr>
              <p:spPr>
                <a:xfrm rot="2931600">
                  <a:off x="-583200" y="18259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63"/>
                <p:cNvSpPr/>
                <p:nvPr/>
              </p:nvSpPr>
              <p:spPr>
                <a:xfrm rot="2931600">
                  <a:off x="-505800" y="178632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64"/>
                <p:cNvSpPr/>
                <p:nvPr/>
              </p:nvSpPr>
              <p:spPr>
                <a:xfrm rot="2931600">
                  <a:off x="-535680" y="17841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5"/>
                <p:cNvSpPr/>
                <p:nvPr/>
              </p:nvSpPr>
              <p:spPr>
                <a:xfrm rot="2931600">
                  <a:off x="-538920" y="18331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66"/>
                <p:cNvSpPr/>
                <p:nvPr/>
              </p:nvSpPr>
              <p:spPr>
                <a:xfrm rot="2931600">
                  <a:off x="-515160" y="17388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67"/>
                <p:cNvSpPr/>
                <p:nvPr/>
              </p:nvSpPr>
              <p:spPr>
                <a:xfrm flipV="1">
                  <a:off x="-396360" y="1754640"/>
                  <a:ext cx="61920" cy="3168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68"/>
                <p:cNvSpPr/>
                <p:nvPr/>
              </p:nvSpPr>
              <p:spPr>
                <a:xfrm rot="2931600">
                  <a:off x="-443160" y="17902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69"/>
                <p:cNvSpPr/>
                <p:nvPr/>
              </p:nvSpPr>
              <p:spPr>
                <a:xfrm rot="2931600">
                  <a:off x="-401040" y="1790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70"/>
                <p:cNvSpPr/>
                <p:nvPr/>
              </p:nvSpPr>
              <p:spPr>
                <a:xfrm rot="2931600">
                  <a:off x="-360720" y="1793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71"/>
                <p:cNvSpPr/>
                <p:nvPr/>
              </p:nvSpPr>
              <p:spPr>
                <a:xfrm rot="2931600">
                  <a:off x="-319320" y="180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72"/>
                <p:cNvSpPr/>
                <p:nvPr/>
              </p:nvSpPr>
              <p:spPr>
                <a:xfrm rot="2931600">
                  <a:off x="-298440" y="17884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73"/>
                <p:cNvSpPr/>
                <p:nvPr/>
              </p:nvSpPr>
              <p:spPr>
                <a:xfrm rot="2931600">
                  <a:off x="-302400" y="18396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74"/>
                <p:cNvSpPr/>
                <p:nvPr/>
              </p:nvSpPr>
              <p:spPr>
                <a:xfrm rot="2931600">
                  <a:off x="-309960" y="18925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75"/>
                <p:cNvSpPr/>
                <p:nvPr/>
              </p:nvSpPr>
              <p:spPr>
                <a:xfrm rot="2931600">
                  <a:off x="-300600" y="18586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76"/>
                <p:cNvSpPr/>
                <p:nvPr/>
              </p:nvSpPr>
              <p:spPr>
                <a:xfrm rot="2931600">
                  <a:off x="-334800" y="19224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77"/>
                <p:cNvSpPr/>
                <p:nvPr/>
              </p:nvSpPr>
              <p:spPr>
                <a:xfrm rot="2931600">
                  <a:off x="-355320" y="1992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78"/>
                <p:cNvSpPr/>
                <p:nvPr/>
              </p:nvSpPr>
              <p:spPr>
                <a:xfrm rot="2931600">
                  <a:off x="-374400" y="203472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9"/>
                <p:cNvSpPr/>
                <p:nvPr/>
              </p:nvSpPr>
              <p:spPr>
                <a:xfrm rot="2931600">
                  <a:off x="-406440" y="20422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80"/>
                <p:cNvSpPr/>
                <p:nvPr/>
              </p:nvSpPr>
              <p:spPr>
                <a:xfrm rot="2931600">
                  <a:off x="-443520" y="213012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81"/>
                <p:cNvSpPr/>
                <p:nvPr/>
              </p:nvSpPr>
              <p:spPr>
                <a:xfrm rot="2931600">
                  <a:off x="-441000" y="21099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82"/>
                <p:cNvSpPr/>
                <p:nvPr/>
              </p:nvSpPr>
              <p:spPr>
                <a:xfrm rot="2931600">
                  <a:off x="-462600" y="20851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83"/>
                <p:cNvSpPr/>
                <p:nvPr/>
              </p:nvSpPr>
              <p:spPr>
                <a:xfrm rot="2931600">
                  <a:off x="-469080" y="2064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84"/>
                <p:cNvSpPr/>
                <p:nvPr/>
              </p:nvSpPr>
              <p:spPr>
                <a:xfrm rot="2931600">
                  <a:off x="-585360" y="19407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85"/>
                <p:cNvSpPr/>
                <p:nvPr/>
              </p:nvSpPr>
              <p:spPr>
                <a:xfrm rot="2931600">
                  <a:off x="-440640" y="2140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86"/>
                <p:cNvSpPr/>
                <p:nvPr/>
              </p:nvSpPr>
              <p:spPr>
                <a:xfrm rot="2931600">
                  <a:off x="-474840" y="2099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87"/>
                <p:cNvSpPr/>
                <p:nvPr/>
              </p:nvSpPr>
              <p:spPr>
                <a:xfrm rot="2931600">
                  <a:off x="-303840" y="182844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88"/>
                <p:cNvSpPr/>
                <p:nvPr/>
              </p:nvSpPr>
              <p:spPr>
                <a:xfrm rot="2931600">
                  <a:off x="-550440" y="196200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89"/>
                <p:cNvSpPr/>
                <p:nvPr/>
              </p:nvSpPr>
              <p:spPr>
                <a:xfrm rot="2931600">
                  <a:off x="-596880" y="197028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90"/>
                <p:cNvSpPr/>
                <p:nvPr/>
              </p:nvSpPr>
              <p:spPr>
                <a:xfrm rot="2931600">
                  <a:off x="-492120" y="20721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91"/>
                <p:cNvSpPr/>
                <p:nvPr/>
              </p:nvSpPr>
              <p:spPr>
                <a:xfrm rot="3612600">
                  <a:off x="-381240" y="21020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92"/>
                <p:cNvSpPr/>
                <p:nvPr/>
              </p:nvSpPr>
              <p:spPr>
                <a:xfrm rot="2931600">
                  <a:off x="-345240" y="19188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5644E-007 -4.55285E-006 C 0.08995 0.01457 0.32716 0.09147 0.53968 0.08673 C 0.75198 0.08198 1.12081 -0.00406 1.27337 -0.02777 E">
                                      <p:cBhvr>
                                        <p:cTn id="51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页面1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26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飞吧副本"/>
          <p:cNvPicPr/>
          <p:nvPr/>
        </p:nvPicPr>
        <p:blipFill>
          <a:blip r:embed="rId2"/>
          <a:stretch/>
        </p:blipFill>
        <p:spPr>
          <a:xfrm>
            <a:off x="144360" y="287352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647640" y="539640"/>
            <a:ext cx="288144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曾经握在手心不放也不舍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平摊了晒在阳光下的诗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怎么也撕不碎梦想中的缠绵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用笔尖细吐生活的心酸和甘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留在夕去的日子怀念今天的当年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时光的尾巴看似很长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不知道何时的一瞬间就定格在了永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画着世人看不见的光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人生就此别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对错不重要功过也成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52"/>
          <p:cNvGrpSpPr/>
          <p:nvPr/>
        </p:nvGrpSpPr>
        <p:grpSpPr>
          <a:xfrm>
            <a:off x="-905760" y="2221920"/>
            <a:ext cx="682200" cy="934920"/>
            <a:chOff x="-905760" y="2221920"/>
            <a:chExt cx="682200" cy="934920"/>
          </a:xfrm>
        </p:grpSpPr>
        <p:sp>
          <p:nvSpPr>
            <p:cNvPr id="333" name="Freeform 53"/>
            <p:cNvSpPr/>
            <p:nvPr/>
          </p:nvSpPr>
          <p:spPr>
            <a:xfrm rot="251400">
              <a:off x="-533520" y="250632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54"/>
            <p:cNvGrpSpPr/>
            <p:nvPr/>
          </p:nvGrpSpPr>
          <p:grpSpPr>
            <a:xfrm>
              <a:off x="-905760" y="2221920"/>
              <a:ext cx="682200" cy="934920"/>
              <a:chOff x="-905760" y="2221920"/>
              <a:chExt cx="682200" cy="934920"/>
            </a:xfrm>
          </p:grpSpPr>
          <p:grpSp>
            <p:nvGrpSpPr>
              <p:cNvPr id="335" name="Group 55"/>
              <p:cNvGrpSpPr/>
              <p:nvPr/>
            </p:nvGrpSpPr>
            <p:grpSpPr>
              <a:xfrm>
                <a:off x="-700200" y="2483280"/>
                <a:ext cx="191160" cy="673560"/>
                <a:chOff x="-700200" y="2483280"/>
                <a:chExt cx="191160" cy="673560"/>
              </a:xfrm>
            </p:grpSpPr>
            <p:sp>
              <p:nvSpPr>
                <p:cNvPr id="336" name="AutoShape 56"/>
                <p:cNvSpPr/>
                <p:nvPr/>
              </p:nvSpPr>
              <p:spPr>
                <a:xfrm rot="251400">
                  <a:off x="-604080" y="248652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57"/>
                <p:cNvSpPr/>
                <p:nvPr/>
              </p:nvSpPr>
              <p:spPr>
                <a:xfrm rot="251400">
                  <a:off x="-621720" y="254196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8"/>
                <p:cNvSpPr/>
                <p:nvPr/>
              </p:nvSpPr>
              <p:spPr>
                <a:xfrm rot="795000">
                  <a:off x="-677880" y="295668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Group 59"/>
              <p:cNvGrpSpPr/>
              <p:nvPr/>
            </p:nvGrpSpPr>
            <p:grpSpPr>
              <a:xfrm>
                <a:off x="-905760" y="2221920"/>
                <a:ext cx="682200" cy="542520"/>
                <a:chOff x="-905760" y="2221920"/>
                <a:chExt cx="682200" cy="542520"/>
              </a:xfrm>
            </p:grpSpPr>
            <p:sp>
              <p:nvSpPr>
                <p:cNvPr id="340" name="Freeform 60"/>
                <p:cNvSpPr/>
                <p:nvPr/>
              </p:nvSpPr>
              <p:spPr>
                <a:xfrm rot="251400">
                  <a:off x="-721800" y="250380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61"/>
                <p:cNvSpPr/>
                <p:nvPr/>
              </p:nvSpPr>
              <p:spPr>
                <a:xfrm rot="251400">
                  <a:off x="-851400" y="25221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62"/>
                <p:cNvSpPr/>
                <p:nvPr/>
              </p:nvSpPr>
              <p:spPr>
                <a:xfrm rot="251400">
                  <a:off x="-869400" y="24508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63"/>
                <p:cNvSpPr/>
                <p:nvPr/>
              </p:nvSpPr>
              <p:spPr>
                <a:xfrm rot="251400">
                  <a:off x="-902520" y="24138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64"/>
                <p:cNvSpPr/>
                <p:nvPr/>
              </p:nvSpPr>
              <p:spPr>
                <a:xfrm rot="251400">
                  <a:off x="-878760" y="239220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65"/>
                <p:cNvSpPr/>
                <p:nvPr/>
              </p:nvSpPr>
              <p:spPr>
                <a:xfrm rot="251400">
                  <a:off x="-843480" y="23947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66"/>
                <p:cNvSpPr/>
                <p:nvPr/>
              </p:nvSpPr>
              <p:spPr>
                <a:xfrm rot="251400">
                  <a:off x="-781200" y="2327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67"/>
                <p:cNvSpPr/>
                <p:nvPr/>
              </p:nvSpPr>
              <p:spPr>
                <a:xfrm rot="251400">
                  <a:off x="-817560" y="23374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68"/>
                <p:cNvSpPr/>
                <p:nvPr/>
              </p:nvSpPr>
              <p:spPr>
                <a:xfrm rot="251400">
                  <a:off x="-785520" y="23745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69"/>
                <p:cNvSpPr/>
                <p:nvPr/>
              </p:nvSpPr>
              <p:spPr>
                <a:xfrm rot="251400">
                  <a:off x="-805680" y="2273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70"/>
                <p:cNvSpPr/>
                <p:nvPr/>
              </p:nvSpPr>
              <p:spPr>
                <a:xfrm flipH="1" flipV="1">
                  <a:off x="-715320" y="228816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71"/>
                <p:cNvSpPr/>
                <p:nvPr/>
              </p:nvSpPr>
              <p:spPr>
                <a:xfrm rot="251400">
                  <a:off x="-701280" y="22960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72"/>
                <p:cNvSpPr/>
                <p:nvPr/>
              </p:nvSpPr>
              <p:spPr>
                <a:xfrm rot="251400">
                  <a:off x="-663480" y="22780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73"/>
                <p:cNvSpPr/>
                <p:nvPr/>
              </p:nvSpPr>
              <p:spPr>
                <a:xfrm rot="251400">
                  <a:off x="-621000" y="226440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74"/>
                <p:cNvSpPr/>
                <p:nvPr/>
              </p:nvSpPr>
              <p:spPr>
                <a:xfrm rot="251400">
                  <a:off x="-567720" y="225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5"/>
                <p:cNvSpPr/>
                <p:nvPr/>
              </p:nvSpPr>
              <p:spPr>
                <a:xfrm rot="251400">
                  <a:off x="-559800" y="222300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76"/>
                <p:cNvSpPr/>
                <p:nvPr/>
              </p:nvSpPr>
              <p:spPr>
                <a:xfrm rot="251400">
                  <a:off x="-537480" y="22680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77"/>
                <p:cNvSpPr/>
                <p:nvPr/>
              </p:nvSpPr>
              <p:spPr>
                <a:xfrm rot="251400">
                  <a:off x="-527040" y="230544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78"/>
                <p:cNvSpPr/>
                <p:nvPr/>
              </p:nvSpPr>
              <p:spPr>
                <a:xfrm rot="251400">
                  <a:off x="-535680" y="223776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79"/>
                <p:cNvSpPr/>
                <p:nvPr/>
              </p:nvSpPr>
              <p:spPr>
                <a:xfrm rot="251400">
                  <a:off x="-537840" y="229752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80"/>
                <p:cNvSpPr/>
                <p:nvPr/>
              </p:nvSpPr>
              <p:spPr>
                <a:xfrm rot="251400">
                  <a:off x="-528480" y="235836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81"/>
                <p:cNvSpPr/>
                <p:nvPr/>
              </p:nvSpPr>
              <p:spPr>
                <a:xfrm rot="251400">
                  <a:off x="-529920" y="23936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82"/>
                <p:cNvSpPr/>
                <p:nvPr/>
              </p:nvSpPr>
              <p:spPr>
                <a:xfrm rot="251400">
                  <a:off x="-554400" y="240552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83"/>
                <p:cNvSpPr/>
                <p:nvPr/>
              </p:nvSpPr>
              <p:spPr>
                <a:xfrm rot="251400">
                  <a:off x="-549720" y="2559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84"/>
                <p:cNvSpPr/>
                <p:nvPr/>
              </p:nvSpPr>
              <p:spPr>
                <a:xfrm rot="251400">
                  <a:off x="-549720" y="25621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85"/>
                <p:cNvSpPr/>
                <p:nvPr/>
              </p:nvSpPr>
              <p:spPr>
                <a:xfrm rot="251400">
                  <a:off x="-563400" y="257076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86"/>
                <p:cNvSpPr/>
                <p:nvPr/>
              </p:nvSpPr>
              <p:spPr>
                <a:xfrm rot="251400">
                  <a:off x="-575280" y="2568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87"/>
                <p:cNvSpPr/>
                <p:nvPr/>
              </p:nvSpPr>
              <p:spPr>
                <a:xfrm rot="251400">
                  <a:off x="-790200" y="2512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88"/>
                <p:cNvSpPr/>
                <p:nvPr/>
              </p:nvSpPr>
              <p:spPr>
                <a:xfrm rot="251400">
                  <a:off x="-547920" y="255384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89"/>
                <p:cNvSpPr/>
                <p:nvPr/>
              </p:nvSpPr>
              <p:spPr>
                <a:xfrm rot="251400">
                  <a:off x="-563760" y="256176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90"/>
                <p:cNvSpPr/>
                <p:nvPr/>
              </p:nvSpPr>
              <p:spPr>
                <a:xfrm rot="251400">
                  <a:off x="-549360" y="227736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91"/>
                <p:cNvSpPr/>
                <p:nvPr/>
              </p:nvSpPr>
              <p:spPr>
                <a:xfrm rot="251400">
                  <a:off x="-690120" y="25167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92"/>
                <p:cNvSpPr/>
                <p:nvPr/>
              </p:nvSpPr>
              <p:spPr>
                <a:xfrm rot="251400">
                  <a:off x="-695160" y="25509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93"/>
                <p:cNvSpPr/>
                <p:nvPr/>
              </p:nvSpPr>
              <p:spPr>
                <a:xfrm rot="251400">
                  <a:off x="-554760" y="257112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94"/>
                <p:cNvSpPr/>
                <p:nvPr/>
              </p:nvSpPr>
              <p:spPr>
                <a:xfrm rot="932400">
                  <a:off x="-511560" y="2528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95"/>
                <p:cNvSpPr/>
                <p:nvPr/>
              </p:nvSpPr>
              <p:spPr>
                <a:xfrm rot="251400">
                  <a:off x="-552600" y="236124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6" name="Text Box 3"/>
          <p:cNvSpPr/>
          <p:nvPr/>
        </p:nvSpPr>
        <p:spPr>
          <a:xfrm>
            <a:off x="297000" y="43149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6d757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65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0" descr="页面2"/>
          <p:cNvPicPr/>
          <p:nvPr/>
        </p:nvPicPr>
        <p:blipFill>
          <a:blip r:embed="rId1"/>
          <a:stretch/>
        </p:blipFill>
        <p:spPr>
          <a:xfrm>
            <a:off x="0" y="-36360"/>
            <a:ext cx="7201080" cy="4762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1" descr="飞吧副本"/>
          <p:cNvPicPr/>
          <p:nvPr/>
        </p:nvPicPr>
        <p:blipFill>
          <a:blip r:embed="rId2"/>
          <a:stretch/>
        </p:blipFill>
        <p:spPr>
          <a:xfrm>
            <a:off x="4176720" y="291636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4"/>
          <p:cNvSpPr/>
          <p:nvPr/>
        </p:nvSpPr>
        <p:spPr>
          <a:xfrm>
            <a:off x="4392720" y="468360"/>
            <a:ext cx="259236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青春里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放肆、张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世界随心所欲地翻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青春，是一朵艳丽的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花蕊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妖冶地飞舞歌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迷失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那上演着繁华不肯谢幕的年华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5"/>
          <p:cNvGrpSpPr/>
          <p:nvPr/>
        </p:nvGrpSpPr>
        <p:grpSpPr>
          <a:xfrm>
            <a:off x="-745560" y="3160080"/>
            <a:ext cx="682200" cy="934920"/>
            <a:chOff x="-745560" y="3160080"/>
            <a:chExt cx="682200" cy="934920"/>
          </a:xfrm>
        </p:grpSpPr>
        <p:sp>
          <p:nvSpPr>
            <p:cNvPr id="381" name="Freeform 46"/>
            <p:cNvSpPr/>
            <p:nvPr/>
          </p:nvSpPr>
          <p:spPr>
            <a:xfrm rot="251400">
              <a:off x="-373320" y="34444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47"/>
            <p:cNvGrpSpPr/>
            <p:nvPr/>
          </p:nvGrpSpPr>
          <p:grpSpPr>
            <a:xfrm>
              <a:off x="-745560" y="3160080"/>
              <a:ext cx="682200" cy="934920"/>
              <a:chOff x="-745560" y="3160080"/>
              <a:chExt cx="682200" cy="934920"/>
            </a:xfrm>
          </p:grpSpPr>
          <p:grpSp>
            <p:nvGrpSpPr>
              <p:cNvPr id="383" name="Group 48"/>
              <p:cNvGrpSpPr/>
              <p:nvPr/>
            </p:nvGrpSpPr>
            <p:grpSpPr>
              <a:xfrm>
                <a:off x="-540000" y="3421440"/>
                <a:ext cx="191160" cy="673560"/>
                <a:chOff x="-540000" y="3421440"/>
                <a:chExt cx="191160" cy="673560"/>
              </a:xfrm>
            </p:grpSpPr>
            <p:sp>
              <p:nvSpPr>
                <p:cNvPr id="384" name="AutoShape 49"/>
                <p:cNvSpPr/>
                <p:nvPr/>
              </p:nvSpPr>
              <p:spPr>
                <a:xfrm rot="251400">
                  <a:off x="-443880" y="342468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0"/>
                <p:cNvSpPr/>
                <p:nvPr/>
              </p:nvSpPr>
              <p:spPr>
                <a:xfrm rot="251400">
                  <a:off x="-461520" y="348012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1"/>
                <p:cNvSpPr/>
                <p:nvPr/>
              </p:nvSpPr>
              <p:spPr>
                <a:xfrm rot="795000">
                  <a:off x="-517680" y="38948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52"/>
              <p:cNvGrpSpPr/>
              <p:nvPr/>
            </p:nvGrpSpPr>
            <p:grpSpPr>
              <a:xfrm>
                <a:off x="-745560" y="3160080"/>
                <a:ext cx="682200" cy="542520"/>
                <a:chOff x="-745560" y="3160080"/>
                <a:chExt cx="682200" cy="542520"/>
              </a:xfrm>
            </p:grpSpPr>
            <p:sp>
              <p:nvSpPr>
                <p:cNvPr id="388" name="Freeform 53"/>
                <p:cNvSpPr/>
                <p:nvPr/>
              </p:nvSpPr>
              <p:spPr>
                <a:xfrm rot="251400">
                  <a:off x="-561600" y="344196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4"/>
                <p:cNvSpPr/>
                <p:nvPr/>
              </p:nvSpPr>
              <p:spPr>
                <a:xfrm rot="251400">
                  <a:off x="-691200" y="346032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5"/>
                <p:cNvSpPr/>
                <p:nvPr/>
              </p:nvSpPr>
              <p:spPr>
                <a:xfrm rot="251400">
                  <a:off x="-709200" y="338904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6"/>
                <p:cNvSpPr/>
                <p:nvPr/>
              </p:nvSpPr>
              <p:spPr>
                <a:xfrm rot="251400">
                  <a:off x="-742320" y="33519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7"/>
                <p:cNvSpPr/>
                <p:nvPr/>
              </p:nvSpPr>
              <p:spPr>
                <a:xfrm rot="251400">
                  <a:off x="-718560" y="333036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8"/>
                <p:cNvSpPr/>
                <p:nvPr/>
              </p:nvSpPr>
              <p:spPr>
                <a:xfrm rot="251400">
                  <a:off x="-683280" y="333288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9"/>
                <p:cNvSpPr/>
                <p:nvPr/>
              </p:nvSpPr>
              <p:spPr>
                <a:xfrm rot="251400">
                  <a:off x="-621000" y="32652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60"/>
                <p:cNvSpPr/>
                <p:nvPr/>
              </p:nvSpPr>
              <p:spPr>
                <a:xfrm rot="251400">
                  <a:off x="-657360" y="327564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61"/>
                <p:cNvSpPr/>
                <p:nvPr/>
              </p:nvSpPr>
              <p:spPr>
                <a:xfrm rot="251400">
                  <a:off x="-625320" y="33127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62"/>
                <p:cNvSpPr/>
                <p:nvPr/>
              </p:nvSpPr>
              <p:spPr>
                <a:xfrm rot="251400">
                  <a:off x="-645480" y="32112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63"/>
                <p:cNvSpPr/>
                <p:nvPr/>
              </p:nvSpPr>
              <p:spPr>
                <a:xfrm flipH="1" flipV="1">
                  <a:off x="-555120" y="322632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64"/>
                <p:cNvSpPr/>
                <p:nvPr/>
              </p:nvSpPr>
              <p:spPr>
                <a:xfrm rot="251400">
                  <a:off x="-541080" y="323424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65"/>
                <p:cNvSpPr/>
                <p:nvPr/>
              </p:nvSpPr>
              <p:spPr>
                <a:xfrm rot="251400">
                  <a:off x="-503280" y="321624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66"/>
                <p:cNvSpPr/>
                <p:nvPr/>
              </p:nvSpPr>
              <p:spPr>
                <a:xfrm rot="251400">
                  <a:off x="-460800" y="32025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67"/>
                <p:cNvSpPr/>
                <p:nvPr/>
              </p:nvSpPr>
              <p:spPr>
                <a:xfrm rot="251400">
                  <a:off x="-407520" y="319752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68"/>
                <p:cNvSpPr/>
                <p:nvPr/>
              </p:nvSpPr>
              <p:spPr>
                <a:xfrm rot="251400">
                  <a:off x="-399600" y="316116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69"/>
                <p:cNvSpPr/>
                <p:nvPr/>
              </p:nvSpPr>
              <p:spPr>
                <a:xfrm rot="251400">
                  <a:off x="-377280" y="320616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70"/>
                <p:cNvSpPr/>
                <p:nvPr/>
              </p:nvSpPr>
              <p:spPr>
                <a:xfrm rot="251400">
                  <a:off x="-366840" y="324360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71"/>
                <p:cNvSpPr/>
                <p:nvPr/>
              </p:nvSpPr>
              <p:spPr>
                <a:xfrm rot="251400">
                  <a:off x="-375480" y="31759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72"/>
                <p:cNvSpPr/>
                <p:nvPr/>
              </p:nvSpPr>
              <p:spPr>
                <a:xfrm rot="251400">
                  <a:off x="-377640" y="323568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73"/>
                <p:cNvSpPr/>
                <p:nvPr/>
              </p:nvSpPr>
              <p:spPr>
                <a:xfrm rot="251400">
                  <a:off x="-368280" y="329652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4"/>
                <p:cNvSpPr/>
                <p:nvPr/>
              </p:nvSpPr>
              <p:spPr>
                <a:xfrm rot="251400">
                  <a:off x="-369720" y="333180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75"/>
                <p:cNvSpPr/>
                <p:nvPr/>
              </p:nvSpPr>
              <p:spPr>
                <a:xfrm rot="251400">
                  <a:off x="-394200" y="33436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76"/>
                <p:cNvSpPr/>
                <p:nvPr/>
              </p:nvSpPr>
              <p:spPr>
                <a:xfrm rot="251400">
                  <a:off x="-389520" y="34974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77"/>
                <p:cNvSpPr/>
                <p:nvPr/>
              </p:nvSpPr>
              <p:spPr>
                <a:xfrm rot="251400">
                  <a:off x="-389520" y="350028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78"/>
                <p:cNvSpPr/>
                <p:nvPr/>
              </p:nvSpPr>
              <p:spPr>
                <a:xfrm rot="251400">
                  <a:off x="-403200" y="35089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79"/>
                <p:cNvSpPr/>
                <p:nvPr/>
              </p:nvSpPr>
              <p:spPr>
                <a:xfrm rot="251400">
                  <a:off x="-415080" y="350712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80"/>
                <p:cNvSpPr/>
                <p:nvPr/>
              </p:nvSpPr>
              <p:spPr>
                <a:xfrm rot="251400">
                  <a:off x="-630000" y="34506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81"/>
                <p:cNvSpPr/>
                <p:nvPr/>
              </p:nvSpPr>
              <p:spPr>
                <a:xfrm rot="251400">
                  <a:off x="-387720" y="349200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82"/>
                <p:cNvSpPr/>
                <p:nvPr/>
              </p:nvSpPr>
              <p:spPr>
                <a:xfrm rot="251400">
                  <a:off x="-403560" y="349992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83"/>
                <p:cNvSpPr/>
                <p:nvPr/>
              </p:nvSpPr>
              <p:spPr>
                <a:xfrm rot="251400">
                  <a:off x="-389160" y="32155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84"/>
                <p:cNvSpPr/>
                <p:nvPr/>
              </p:nvSpPr>
              <p:spPr>
                <a:xfrm rot="251400">
                  <a:off x="-529920" y="3454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85"/>
                <p:cNvSpPr/>
                <p:nvPr/>
              </p:nvSpPr>
              <p:spPr>
                <a:xfrm rot="251400">
                  <a:off x="-534960" y="348912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86"/>
                <p:cNvSpPr/>
                <p:nvPr/>
              </p:nvSpPr>
              <p:spPr>
                <a:xfrm rot="251400">
                  <a:off x="-394560" y="350928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87"/>
                <p:cNvSpPr/>
                <p:nvPr/>
              </p:nvSpPr>
              <p:spPr>
                <a:xfrm rot="932400">
                  <a:off x="-351360" y="34664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88"/>
                <p:cNvSpPr/>
                <p:nvPr/>
              </p:nvSpPr>
              <p:spPr>
                <a:xfrm rot="251400">
                  <a:off x="-392400" y="32994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74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页面5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飞吧副本"/>
          <p:cNvPicPr/>
          <p:nvPr/>
        </p:nvPicPr>
        <p:blipFill>
          <a:blip r:embed="rId2"/>
          <a:stretch/>
        </p:blipFill>
        <p:spPr>
          <a:xfrm>
            <a:off x="2232000" y="301788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4032360" y="468360"/>
            <a:ext cx="23050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活的精彩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命的延续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再泥泞的道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也无法阻拦我的前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因为就在不远的前方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有一道通向梦想的曙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-661320" y="2549160"/>
            <a:ext cx="682200" cy="934920"/>
            <a:chOff x="-661320" y="2549160"/>
            <a:chExt cx="682200" cy="934920"/>
          </a:xfrm>
        </p:grpSpPr>
        <p:sp>
          <p:nvSpPr>
            <p:cNvPr id="428" name="Freeform 7"/>
            <p:cNvSpPr/>
            <p:nvPr/>
          </p:nvSpPr>
          <p:spPr>
            <a:xfrm rot="251400">
              <a:off x="-289080" y="283356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8"/>
            <p:cNvGrpSpPr/>
            <p:nvPr/>
          </p:nvGrpSpPr>
          <p:grpSpPr>
            <a:xfrm>
              <a:off x="-661320" y="2549160"/>
              <a:ext cx="682200" cy="934920"/>
              <a:chOff x="-661320" y="2549160"/>
              <a:chExt cx="682200" cy="934920"/>
            </a:xfrm>
          </p:grpSpPr>
          <p:grpSp>
            <p:nvGrpSpPr>
              <p:cNvPr id="430" name="Group 9"/>
              <p:cNvGrpSpPr/>
              <p:nvPr/>
            </p:nvGrpSpPr>
            <p:grpSpPr>
              <a:xfrm>
                <a:off x="-455760" y="2810520"/>
                <a:ext cx="191160" cy="673560"/>
                <a:chOff x="-455760" y="2810520"/>
                <a:chExt cx="191160" cy="673560"/>
              </a:xfrm>
            </p:grpSpPr>
            <p:sp>
              <p:nvSpPr>
                <p:cNvPr id="431" name="AutoShape 10"/>
                <p:cNvSpPr/>
                <p:nvPr/>
              </p:nvSpPr>
              <p:spPr>
                <a:xfrm rot="251400">
                  <a:off x="-359640" y="28137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11"/>
                <p:cNvSpPr/>
                <p:nvPr/>
              </p:nvSpPr>
              <p:spPr>
                <a:xfrm rot="251400">
                  <a:off x="-377280" y="28692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2"/>
                <p:cNvSpPr/>
                <p:nvPr/>
              </p:nvSpPr>
              <p:spPr>
                <a:xfrm rot="795000">
                  <a:off x="-433440" y="328392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3"/>
              <p:cNvGrpSpPr/>
              <p:nvPr/>
            </p:nvGrpSpPr>
            <p:grpSpPr>
              <a:xfrm>
                <a:off x="-661320" y="2549160"/>
                <a:ext cx="682200" cy="542520"/>
                <a:chOff x="-661320" y="2549160"/>
                <a:chExt cx="682200" cy="542520"/>
              </a:xfrm>
            </p:grpSpPr>
            <p:sp>
              <p:nvSpPr>
                <p:cNvPr id="435" name="Freeform 14"/>
                <p:cNvSpPr/>
                <p:nvPr/>
              </p:nvSpPr>
              <p:spPr>
                <a:xfrm rot="251400">
                  <a:off x="-477360" y="2831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5"/>
                <p:cNvSpPr/>
                <p:nvPr/>
              </p:nvSpPr>
              <p:spPr>
                <a:xfrm rot="251400">
                  <a:off x="-606960" y="28494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6"/>
                <p:cNvSpPr/>
                <p:nvPr/>
              </p:nvSpPr>
              <p:spPr>
                <a:xfrm rot="251400">
                  <a:off x="-624960" y="27781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7"/>
                <p:cNvSpPr/>
                <p:nvPr/>
              </p:nvSpPr>
              <p:spPr>
                <a:xfrm rot="251400">
                  <a:off x="-658080" y="274104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8"/>
                <p:cNvSpPr/>
                <p:nvPr/>
              </p:nvSpPr>
              <p:spPr>
                <a:xfrm rot="251400">
                  <a:off x="-634320" y="27194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9"/>
                <p:cNvSpPr/>
                <p:nvPr/>
              </p:nvSpPr>
              <p:spPr>
                <a:xfrm rot="251400">
                  <a:off x="-599040" y="272196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0"/>
                <p:cNvSpPr/>
                <p:nvPr/>
              </p:nvSpPr>
              <p:spPr>
                <a:xfrm rot="251400">
                  <a:off x="-536760" y="265428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1"/>
                <p:cNvSpPr/>
                <p:nvPr/>
              </p:nvSpPr>
              <p:spPr>
                <a:xfrm rot="251400">
                  <a:off x="-573120" y="26647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2"/>
                <p:cNvSpPr/>
                <p:nvPr/>
              </p:nvSpPr>
              <p:spPr>
                <a:xfrm rot="251400">
                  <a:off x="-541080" y="270180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3"/>
                <p:cNvSpPr/>
                <p:nvPr/>
              </p:nvSpPr>
              <p:spPr>
                <a:xfrm rot="251400">
                  <a:off x="-561240" y="260028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4"/>
                <p:cNvSpPr/>
                <p:nvPr/>
              </p:nvSpPr>
              <p:spPr>
                <a:xfrm flipH="1" flipV="1">
                  <a:off x="-470880" y="261540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5"/>
                <p:cNvSpPr/>
                <p:nvPr/>
              </p:nvSpPr>
              <p:spPr>
                <a:xfrm rot="251400">
                  <a:off x="-456840" y="262332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"/>
                <p:cNvSpPr/>
                <p:nvPr/>
              </p:nvSpPr>
              <p:spPr>
                <a:xfrm rot="251400">
                  <a:off x="-419040" y="2605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"/>
                <p:cNvSpPr/>
                <p:nvPr/>
              </p:nvSpPr>
              <p:spPr>
                <a:xfrm rot="251400">
                  <a:off x="-376560" y="259164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8"/>
                <p:cNvSpPr/>
                <p:nvPr/>
              </p:nvSpPr>
              <p:spPr>
                <a:xfrm rot="251400">
                  <a:off x="-323280" y="258660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9"/>
                <p:cNvSpPr/>
                <p:nvPr/>
              </p:nvSpPr>
              <p:spPr>
                <a:xfrm rot="251400">
                  <a:off x="-315360" y="255024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30"/>
                <p:cNvSpPr/>
                <p:nvPr/>
              </p:nvSpPr>
              <p:spPr>
                <a:xfrm rot="251400">
                  <a:off x="-293040" y="25952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31"/>
                <p:cNvSpPr/>
                <p:nvPr/>
              </p:nvSpPr>
              <p:spPr>
                <a:xfrm rot="251400">
                  <a:off x="-282600" y="263268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2"/>
                <p:cNvSpPr/>
                <p:nvPr/>
              </p:nvSpPr>
              <p:spPr>
                <a:xfrm rot="251400">
                  <a:off x="-291240" y="256500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3"/>
                <p:cNvSpPr/>
                <p:nvPr/>
              </p:nvSpPr>
              <p:spPr>
                <a:xfrm rot="251400">
                  <a:off x="-293400" y="26247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4"/>
                <p:cNvSpPr/>
                <p:nvPr/>
              </p:nvSpPr>
              <p:spPr>
                <a:xfrm rot="251400">
                  <a:off x="-284040" y="2685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5"/>
                <p:cNvSpPr/>
                <p:nvPr/>
              </p:nvSpPr>
              <p:spPr>
                <a:xfrm rot="251400">
                  <a:off x="-285480" y="272088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6"/>
                <p:cNvSpPr/>
                <p:nvPr/>
              </p:nvSpPr>
              <p:spPr>
                <a:xfrm rot="251400">
                  <a:off x="-309960" y="273276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7"/>
                <p:cNvSpPr/>
                <p:nvPr/>
              </p:nvSpPr>
              <p:spPr>
                <a:xfrm rot="251400">
                  <a:off x="-305280" y="288648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8"/>
                <p:cNvSpPr/>
                <p:nvPr/>
              </p:nvSpPr>
              <p:spPr>
                <a:xfrm rot="251400">
                  <a:off x="-305280" y="28893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"/>
                <p:cNvSpPr/>
                <p:nvPr/>
              </p:nvSpPr>
              <p:spPr>
                <a:xfrm rot="251400">
                  <a:off x="-318960" y="28980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40"/>
                <p:cNvSpPr/>
                <p:nvPr/>
              </p:nvSpPr>
              <p:spPr>
                <a:xfrm rot="251400">
                  <a:off x="-330840" y="289620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41"/>
                <p:cNvSpPr/>
                <p:nvPr/>
              </p:nvSpPr>
              <p:spPr>
                <a:xfrm rot="251400">
                  <a:off x="-545760" y="283968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2"/>
                <p:cNvSpPr/>
                <p:nvPr/>
              </p:nvSpPr>
              <p:spPr>
                <a:xfrm rot="251400">
                  <a:off x="-303480" y="28810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3"/>
                <p:cNvSpPr/>
                <p:nvPr/>
              </p:nvSpPr>
              <p:spPr>
                <a:xfrm rot="251400">
                  <a:off x="-319320" y="288900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4"/>
                <p:cNvSpPr/>
                <p:nvPr/>
              </p:nvSpPr>
              <p:spPr>
                <a:xfrm rot="251400">
                  <a:off x="-304920" y="260460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5"/>
                <p:cNvSpPr/>
                <p:nvPr/>
              </p:nvSpPr>
              <p:spPr>
                <a:xfrm rot="251400">
                  <a:off x="-445680" y="284400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6"/>
                <p:cNvSpPr/>
                <p:nvPr/>
              </p:nvSpPr>
              <p:spPr>
                <a:xfrm rot="251400">
                  <a:off x="-450720" y="287820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7"/>
                <p:cNvSpPr/>
                <p:nvPr/>
              </p:nvSpPr>
              <p:spPr>
                <a:xfrm rot="251400">
                  <a:off x="-310320" y="28983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48"/>
                <p:cNvSpPr/>
                <p:nvPr/>
              </p:nvSpPr>
              <p:spPr>
                <a:xfrm rot="932400">
                  <a:off x="-267120" y="285552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49"/>
                <p:cNvSpPr/>
                <p:nvPr/>
              </p:nvSpPr>
              <p:spPr>
                <a:xfrm rot="251400">
                  <a:off x="-308160" y="26884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866E-006 -1.43631E-006 C 0.13073 -0.0603 0.5926 -0.29946 0.78461 -0.3628 C 0.97663 -0.42615 1.07584 -0.37703 1.15256 -0.38076 E">
                                      <p:cBhvr>
                                        <p:cTn id="108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5"/>
          <p:cNvSpPr/>
          <p:nvPr/>
        </p:nvSpPr>
        <p:spPr>
          <a:xfrm>
            <a:off x="936720" y="468360"/>
            <a:ext cx="29527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阳光的孩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都向往自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这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云淡风轻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把自己化作一架纸飞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伴着风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飘逸在空气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划出一道优美的弧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载满快乐和幸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远方</a:t>
            </a:r>
            <a:r>
              <a:rPr b="0" lang="en-US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…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飞吧副本"/>
          <p:cNvPicPr/>
          <p:nvPr/>
        </p:nvPicPr>
        <p:blipFill>
          <a:blip r:embed="rId2"/>
          <a:stretch/>
        </p:blipFill>
        <p:spPr>
          <a:xfrm>
            <a:off x="1584360" y="301788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12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475" name="Freeform 13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4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477" name="Group 15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478" name="AutoShape 16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7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8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19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482" name="Freeform 20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21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2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23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24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5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6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27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8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29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0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2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3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4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5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6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7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8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9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40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41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42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43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44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45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46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7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8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9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50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51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52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53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55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67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9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3" descr="不是你的天使"/>
          <p:cNvPicPr/>
          <p:nvPr/>
        </p:nvPicPr>
        <p:blipFill>
          <a:blip r:embed="rId2"/>
          <a:stretch/>
        </p:blipFill>
        <p:spPr>
          <a:xfrm>
            <a:off x="720720" y="1476360"/>
            <a:ext cx="5961240" cy="1303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4" descr="飞吧副本"/>
          <p:cNvPicPr/>
          <p:nvPr/>
        </p:nvPicPr>
        <p:blipFill>
          <a:blip r:embed="rId3"/>
          <a:stretch/>
        </p:blipFill>
        <p:spPr>
          <a:xfrm>
            <a:off x="5113440" y="3484440"/>
            <a:ext cx="2087640" cy="1195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7" descr="页面4副本"/>
          <p:cNvPicPr/>
          <p:nvPr/>
        </p:nvPicPr>
        <p:blipFill>
          <a:blip r:embed="rId4"/>
          <a:stretch/>
        </p:blipFill>
        <p:spPr>
          <a:xfrm>
            <a:off x="98280" y="-36360"/>
            <a:ext cx="4559400" cy="4752720"/>
          </a:xfrm>
          <a:prstGeom prst="rect">
            <a:avLst/>
          </a:prstGeom>
          <a:ln w="0">
            <a:noFill/>
          </a:ln>
        </p:spPr>
      </p:pic>
      <p:grpSp>
        <p:nvGrpSpPr>
          <p:cNvPr id="522" name="Group 92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523" name="Freeform 93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4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525" name="Group 95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526" name="AutoShape 96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97"/>
                <p:cNvSpPr/>
                <p:nvPr/>
              </p:nvSpPr>
              <p:spPr>
                <a:xfrm rot="399000">
                  <a:off x="-558000" y="35208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98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99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530" name="Freeform 100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1"/>
                <p:cNvSpPr/>
                <p:nvPr/>
              </p:nvSpPr>
              <p:spPr>
                <a:xfrm rot="399000">
                  <a:off x="-778680" y="3495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02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03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04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05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06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07"/>
                <p:cNvSpPr/>
                <p:nvPr/>
              </p:nvSpPr>
              <p:spPr>
                <a:xfrm rot="399000">
                  <a:off x="-739440" y="33123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08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09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0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11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2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13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4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16"/>
                <p:cNvSpPr/>
                <p:nvPr/>
              </p:nvSpPr>
              <p:spPr>
                <a:xfrm rot="399000">
                  <a:off x="-459000" y="32508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7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118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9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120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21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122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23"/>
                <p:cNvSpPr/>
                <p:nvPr/>
              </p:nvSpPr>
              <p:spPr>
                <a:xfrm rot="399000">
                  <a:off x="-47808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24"/>
                <p:cNvSpPr/>
                <p:nvPr/>
              </p:nvSpPr>
              <p:spPr>
                <a:xfrm rot="399000">
                  <a:off x="-478080" y="35460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25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26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127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28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129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30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31"/>
                <p:cNvSpPr/>
                <p:nvPr/>
              </p:nvSpPr>
              <p:spPr>
                <a:xfrm rot="399000">
                  <a:off x="-619200" y="34945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32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33"/>
                <p:cNvSpPr/>
                <p:nvPr/>
              </p:nvSpPr>
              <p:spPr>
                <a:xfrm rot="399000">
                  <a:off x="-487080" y="35535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34"/>
                <p:cNvSpPr/>
                <p:nvPr/>
              </p:nvSpPr>
              <p:spPr>
                <a:xfrm rot="1080000">
                  <a:off x="-438840" y="35132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35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6" name="Group 136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567" name="Freeform 137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138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569" name="Group 139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570" name="AutoShape 140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41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142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143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574" name="Freeform 144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45"/>
                <p:cNvSpPr/>
                <p:nvPr/>
              </p:nvSpPr>
              <p:spPr>
                <a:xfrm rot="251400">
                  <a:off x="-761040" y="404928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46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47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48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149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50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151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52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153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54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155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56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157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58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59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60"/>
                <p:cNvSpPr/>
                <p:nvPr/>
              </p:nvSpPr>
              <p:spPr>
                <a:xfrm rot="251400">
                  <a:off x="-447120" y="379512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61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162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63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164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65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166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67"/>
                <p:cNvSpPr/>
                <p:nvPr/>
              </p:nvSpPr>
              <p:spPr>
                <a:xfrm rot="251400">
                  <a:off x="-459360" y="408636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168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69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70"/>
                <p:cNvSpPr/>
                <p:nvPr/>
              </p:nvSpPr>
              <p:spPr>
                <a:xfrm rot="251400">
                  <a:off x="-484920" y="409644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71"/>
                <p:cNvSpPr/>
                <p:nvPr/>
              </p:nvSpPr>
              <p:spPr>
                <a:xfrm rot="251400">
                  <a:off x="-699840" y="40395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72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173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74"/>
                <p:cNvSpPr/>
                <p:nvPr/>
              </p:nvSpPr>
              <p:spPr>
                <a:xfrm rot="251400">
                  <a:off x="-459000" y="380448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175"/>
                <p:cNvSpPr/>
                <p:nvPr/>
              </p:nvSpPr>
              <p:spPr>
                <a:xfrm rot="251400">
                  <a:off x="-599760" y="404388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76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177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78"/>
                <p:cNvSpPr/>
                <p:nvPr/>
              </p:nvSpPr>
              <p:spPr>
                <a:xfrm rot="932400">
                  <a:off x="-421200" y="405540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79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0" name="Group 180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611" name="Freeform 181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182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613" name="Group 183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614" name="AutoShape 184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85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Oval 186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187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618" name="Freeform 188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89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90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91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92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93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94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195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96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197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98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199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00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201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02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03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04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05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06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07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208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209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10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211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212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13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14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15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216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17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18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9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0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221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222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223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4" name="Group 224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655" name="Freeform 225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Group 226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657" name="Group 227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658" name="AutoShape 228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229"/>
                <p:cNvSpPr/>
                <p:nvPr/>
              </p:nvSpPr>
              <p:spPr>
                <a:xfrm rot="20032800">
                  <a:off x="-565560" y="3853800"/>
                  <a:ext cx="32040" cy="3020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230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231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662" name="Freeform 232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233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234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35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236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237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238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39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40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41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242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3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44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45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246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247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48"/>
                <p:cNvSpPr/>
                <p:nvPr/>
              </p:nvSpPr>
              <p:spPr>
                <a:xfrm rot="20032800">
                  <a:off x="-636840" y="3671640"/>
                  <a:ext cx="31320" cy="19764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49"/>
                <p:cNvSpPr/>
                <p:nvPr/>
              </p:nvSpPr>
              <p:spPr>
                <a:xfrm rot="20032800">
                  <a:off x="-627480" y="3686040"/>
                  <a:ext cx="55080" cy="165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50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251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52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53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54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255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256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57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58"/>
                <p:cNvSpPr/>
                <p:nvPr/>
              </p:nvSpPr>
              <p:spPr>
                <a:xfrm rot="20032800">
                  <a:off x="-592920" y="3867480"/>
                  <a:ext cx="4500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59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260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61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62"/>
                <p:cNvSpPr/>
                <p:nvPr/>
              </p:nvSpPr>
              <p:spPr>
                <a:xfrm rot="20032800">
                  <a:off x="-642600" y="3688920"/>
                  <a:ext cx="5760" cy="1818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63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64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65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66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67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30000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179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181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83" dur="5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185" dur="5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王玉清</cp:lastModifiedBy>
  <cp:lastPrinted>1899-12-30T00:00:00Z</cp:lastPrinted>
  <dcterms:modified xsi:type="dcterms:W3CDTF">2016-02-20T04:03:27Z</dcterms:modified>
  <cp:revision>126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