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D2C2E-158E-48E4-AA9D-A0C362106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8672-ECC8-450C-BA75-0364D6F4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8C870-2EEE-4F8D-9A52-0E244E434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D173A-4CA4-48B0-BC2E-63EF1EA1C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E0972-A27F-4B9A-9CA5-C27180BA6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C2361-4956-491F-85EE-3A6B17045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B8AC5-66BF-4841-98BA-9D2A66219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AD762-31CC-47DD-B983-D11C04579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889F9-A274-41CC-928C-984941BB6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14240" y="274320"/>
            <a:ext cx="6172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1685D-B7E1-43DA-910E-A9019C221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2F200-3D0C-485F-AB87-5D915DD87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6F6D6-DED2-47E6-9C33-D5D560EA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F41D-4FB6-42C8-B21B-ED1C00569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FD93D-85F8-4646-B233-52CF21FD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7A617-5F7D-43E3-AC6E-39D8F7E99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50246-7927-484B-A5CD-40CBEC2DC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1B788-0999-484A-A320-3DA57F476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514D4-37F3-4A09-A561-B7690741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E342-682B-49DA-90B9-FFDF08BFC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9BBFE-14D6-4575-BBD0-D33DCE65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240" y="274320"/>
            <a:ext cx="6172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41B5-C5E1-4EEE-8701-9360052F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555F-E37D-492B-9BB8-0CD748B71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FD4E-E02A-4CB9-A722-A3D83D791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858A-2EC8-46AB-900C-45F53D630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7F1A-6FA7-4574-9C54-F2CD795FFCAD}"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3AF9-B76E-4BE0-9D0F-20BDE693F69C}"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189000"/>
            <a:ext cx="7147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翻开的一本书籍通用</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a:t>
            </a:r>
            <a:endParaRPr b="0" lang="en-US" sz="4000" spc="-1" strike="noStrike">
              <a:solidFill>
                <a:srgbClr val="ffffff"/>
              </a:solidFill>
              <a:latin typeface="Tahoma"/>
            </a:endParaRPr>
          </a:p>
        </p:txBody>
      </p:sp>
      <p:sp>
        <p:nvSpPr>
          <p:cNvPr id="83" name="PlaceHolder 2"/>
          <p:cNvSpPr>
            <a:spLocks noGrp="1"/>
          </p:cNvSpPr>
          <p:nvPr>
            <p:ph type="subTitle"/>
          </p:nvPr>
        </p:nvSpPr>
        <p:spPr>
          <a:xfrm>
            <a:off x="5029200" y="1828440"/>
            <a:ext cx="3581280" cy="60948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Presentation Subtitle</a:t>
            </a:r>
            <a:endParaRPr b="0" lang="en-US" sz="2200" spc="-1" strike="noStrike">
              <a:solidFill>
                <a:srgbClr val="000000"/>
              </a:solidFill>
              <a:latin typeface="Calibri"/>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14240" y="2743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新細明體"/>
              </a:rPr>
              <a:t>Slide Master</a:t>
            </a:r>
            <a:endParaRPr b="0" lang="en-US" sz="4400" spc="-1" strike="noStrike">
              <a:solidFill>
                <a:srgbClr val="ffffff"/>
              </a:solidFill>
              <a:latin typeface="Tahoma"/>
            </a:endParaRPr>
          </a:p>
        </p:txBody>
      </p:sp>
      <p:sp>
        <p:nvSpPr>
          <p:cNvPr id="86" name=""/>
          <p:cNvSpPr txBox="1"/>
          <p:nvPr/>
        </p:nvSpPr>
        <p:spPr>
          <a:xfrm>
            <a:off x="457200" y="2285640"/>
            <a:ext cx="8229600" cy="3962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274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新細明體"/>
              </a:rPr>
              <a:t>Print Master</a:t>
            </a:r>
            <a:endParaRPr b="0" lang="en-US" sz="4400" spc="-1" strike="noStrike">
              <a:solidFill>
                <a:srgbClr val="ffffff"/>
              </a:solidFill>
              <a:latin typeface="Tahoma"/>
            </a:endParaRPr>
          </a:p>
        </p:txBody>
      </p:sp>
      <p:sp>
        <p:nvSpPr>
          <p:cNvPr id="88" name=""/>
          <p:cNvSpPr txBox="1"/>
          <p:nvPr/>
        </p:nvSpPr>
        <p:spPr>
          <a:xfrm>
            <a:off x="2057400" y="1752480"/>
            <a:ext cx="68580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 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Text Box 3"/>
          <p:cNvSpPr/>
          <p:nvPr/>
        </p:nvSpPr>
        <p:spPr>
          <a:xfrm>
            <a:off x="324000" y="64911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9be83"/>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14:53:55Z</dcterms:created>
  <dc:creator>ygx</dc:creator>
  <dc:description/>
  <dc:language>en-US</dc:language>
  <cp:lastModifiedBy>王玉清</cp:lastModifiedBy>
  <dcterms:modified xsi:type="dcterms:W3CDTF">2016-02-24T04:07:56Z</dcterms:modified>
  <cp:revision>3</cp:revision>
  <dc:subject/>
  <dc:title>Presentation Title</dc:title>
</cp:coreProperties>
</file>