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378-ECFB-4CC8-9F59-98B760FB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F0C-4CEF-474E-931A-04040A42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6C165-06D8-49EF-AF4C-8089671B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5D0AC-8663-40D8-AF74-B656BA24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AEA37-88FA-491D-9078-354CBC4D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9179F-52C5-4EBD-8EE6-F5C814AF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A0C9F-194E-4248-8E15-ECE7DA24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FD921-45D3-4CE4-8DA9-E39A1C3F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5AD29-CBBF-40D0-BC15-8BB8E879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31B4B-725A-4963-A188-4A34C62B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EA678-8FDD-4419-B5D5-2903A332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ADB7B-70CE-4B65-9ACE-763D0829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8D5-8671-4AAF-9551-82DFAA5B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54044-9D12-4C5B-B5AB-4FB00E45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78409-9C6D-40DB-A344-4DEDF29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8981D-B202-4C41-9FA4-B80E6E4D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8D623-C986-4B31-8E18-289D4887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3BAD0-F794-4E3A-89F3-31CC42E1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92051-344C-4D65-8762-F0DC5EA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B1FEC-2DDA-4D7C-BD5E-DC5B3781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E6552-1EDD-45EC-8579-EADC34B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B4674-EBF6-4C5D-BE64-8F30A170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18D35-121A-4DAB-89FD-61D99A40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004-9FE7-4906-8BA2-010889F5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B71FF-644E-41A2-BF2E-2CFD58E0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5F4D-67B9-4779-BAE2-6BF21C58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2789-8D93-4E03-A3CB-1A46FBA8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FAAE-EEFA-493A-86E6-ECD714E6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4D18-449A-4023-8A5E-07C269C9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CE6C-4DAF-4A48-9C70-758D7421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0F6A-ECB8-414E-98FC-F26EA946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A24B-E5FC-413B-99E7-D85422C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4F4-4A04-4668-975D-9DC04EDA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A0A5-79A0-43B5-B376-3FE45D5F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3AD6-E34B-42F6-9074-51FDB0A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430E-AF07-4AEB-86BD-AA712D99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3A89-0D86-4B40-95E1-DB9A6CAC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7672-EF01-42F3-9529-9C81253D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7E57-F680-4EED-B1D6-EB9FA081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382B-A059-41B7-9649-27CD618E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CCC6-1B40-4639-8256-D8D225A2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5811-E32C-4F6A-815B-9C9E31A9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A3A3-F35D-4346-9BAF-2E755184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F11-FCBE-4799-B7C3-2DF17C2D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CBE5-7C13-4872-8BE9-D657C542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7B55-105D-4570-8CB1-352CC4A6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DD3B-F4B5-4435-81CC-1F0B2B3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3C60-61EA-4F44-B9CB-93028D2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2770-C8E5-4DC2-BCE2-7807D3B2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A370-E9B7-4EBB-84E0-38746627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A427-C18D-43FE-AF9F-355F9220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6830-19AB-42C5-A2BA-798EB08B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6A19-E80B-4D6A-9EE5-BF8E72E9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B8C6-1B0B-4515-8748-27B420F4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B1C-5D8F-433A-A5A1-28C38921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6B0FF-EFFE-4F72-B43F-9BD4AD37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BE85D-2710-49A4-A5EA-DDE291FB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D541-A664-4EFA-90FB-C64249FF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9B11-BFE4-4626-9F48-C079376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01BD-8205-4199-9BBA-EB41C9E0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A3328-D660-4F02-807A-8563ADF9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EDD20-E849-45B9-99B6-E48998E4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6BF3-1B92-40B6-B0EA-7CE32D0E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5610-0DA8-4754-B982-7468C0B2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43026-8A4E-4B42-AF43-2F602C67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7A9-F0AA-4D7A-BB21-D5EC147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14EA4-9BA4-4435-8E75-801FB664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A1F7-D49B-43F1-A238-A0E8F02F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59B5-AC0F-41F1-A16A-7B2E64E3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E1165-F5E1-40DB-84C6-2BA2CA4D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B1A5-7827-4EE9-802F-2C70E8B6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1077-937B-4624-8FDC-D3D15A7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C8E10-E19A-4C2C-AF02-8EB0D7F3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59B60-7844-4608-8760-65DE91E1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24AF7-C600-455A-9D60-924664A9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340F8-B78C-4338-9A61-8886A49D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0E0-7194-4A10-9903-E8D0AE34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0244-1165-4F47-B3DE-CCCE0E89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3AAC6-1050-4887-B7FB-92EEA38A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81772-1401-4AF3-B602-5AD234B5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44C5-D648-431A-A963-A83972A6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6C01F-8C16-496E-8932-E453DE0E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CB271-F173-455E-B5AB-DB59BD38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63E19-427D-4C1E-8BA0-4DB0618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216AC-16BC-4D36-B318-A7C258C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6EBD3-EAD2-4608-BBE3-41002812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81884-3BE4-4003-80AB-710A53F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9D0-33A5-4F01-BE46-66D3E548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278B-0BB8-4900-B589-586144C4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39259-10D9-42EB-AB8A-E582645D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222C4-09BE-4E2E-854F-C4049BEB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C3F5C-02C3-472D-87F1-34412AA7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2F65D-E7B3-4243-935E-1C25E22A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BCA97-E175-4644-9135-C0681AB2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E2C2D-7A87-4EA8-B140-605D47FE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FDF6A-38DE-4C2E-828F-18B715A2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417C6-F2CF-4B8D-9539-3639F39C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83A2A-7BB7-4BD0-9AEE-E170FDBC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A3C-FF7D-4060-8FB0-3AD7EBE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D124-D09E-4366-A953-1968CAFA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5C2D6-B342-4580-A0C1-122B1458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C4900-AF34-411B-B85A-DAFD54D9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E83A0-88C5-4D6D-8AA8-E034AF02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CA3EF-5FC7-4BCF-9EE5-34F13B66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423CD-B5FD-4E98-974C-43C3F1DF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D7029-8746-49E6-857E-D76395EF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97DCC-1D33-4346-862F-3F2B2A4A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CEF5D-448D-4E72-933F-39EC6660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74DD1-3CCF-42D9-BAF5-AA3B0E01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E3B-C810-414B-9F9A-5B08882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A0015-3AE2-459A-A96D-5FB1050F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A7BC2-91D6-4502-BC32-C6D8A126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7592E-01AA-4FEA-876E-A27F497C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980DB-9096-4436-A75A-32296B2C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37D81-AF45-48D0-B069-53AB3F68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8C999-924D-4AF9-AF28-9C51B524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67018-65C8-4925-A1B0-669F8043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7D3D4-FB8A-4F3D-8B49-5401A1DF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1182B-EF7A-47C1-A525-747ADEF4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9D464-C298-4157-9D8F-EE2D434D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Forme 7"/>
          <p:cNvGrpSpPr/>
          <p:nvPr/>
        </p:nvGrpSpPr>
        <p:grpSpPr>
          <a:xfrm>
            <a:off x="4383000" y="-6480"/>
            <a:ext cx="4760640" cy="603360"/>
            <a:chOff x="4383000" y="-6480"/>
            <a:chExt cx="4760640" cy="603360"/>
          </a:xfrm>
        </p:grpSpPr>
        <p:pic>
          <p:nvPicPr>
            <p:cNvPr id="2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3000" y="-6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BAF9-AF82-480F-9BAD-ECBDB87F286C}" type="datetime2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E8C0-8574-4857-91E8-5521CBBBA044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9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10" name="Group 10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11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3040"/>
                <a:ext cx="9143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Text Box 12"/>
              <p:cNvSpPr/>
              <p:nvPr/>
            </p:nvSpPr>
            <p:spPr>
              <a:xfrm rot="21435600">
                <a:off x="-1728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3"/>
            <p:cNvGrpSpPr/>
            <p:nvPr/>
          </p:nvGrpSpPr>
          <p:grpSpPr>
            <a:xfrm>
              <a:off x="-11520" y="248040"/>
              <a:ext cx="9173520" cy="561600"/>
              <a:chOff x="-11520" y="248040"/>
              <a:chExt cx="9173520" cy="561600"/>
            </a:xfrm>
          </p:grpSpPr>
          <p:pic>
            <p:nvPicPr>
              <p:cNvPr id="14" name="Pictur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320" y="248040"/>
                <a:ext cx="91576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" name="Text Box 15"/>
              <p:cNvSpPr/>
              <p:nvPr/>
            </p:nvSpPr>
            <p:spPr>
              <a:xfrm rot="21435600">
                <a:off x="-1116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rme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Forme 7"/>
          <p:cNvGrpSpPr/>
          <p:nvPr/>
        </p:nvGrpSpPr>
        <p:grpSpPr>
          <a:xfrm>
            <a:off x="4383000" y="-6480"/>
            <a:ext cx="4760640" cy="603360"/>
            <a:chOff x="4383000" y="-6480"/>
            <a:chExt cx="4760640" cy="603360"/>
          </a:xfrm>
        </p:grpSpPr>
        <p:pic>
          <p:nvPicPr>
            <p:cNvPr id="470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383000" y="-6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475" name="Group 7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476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3040"/>
                <a:ext cx="9143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Text Box 9"/>
              <p:cNvSpPr/>
              <p:nvPr/>
            </p:nvSpPr>
            <p:spPr>
              <a:xfrm rot="21435600">
                <a:off x="-1728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0"/>
            <p:cNvGrpSpPr/>
            <p:nvPr/>
          </p:nvGrpSpPr>
          <p:grpSpPr>
            <a:xfrm>
              <a:off x="-11520" y="248040"/>
              <a:ext cx="9173520" cy="561600"/>
              <a:chOff x="-11520" y="248040"/>
              <a:chExt cx="9173520" cy="561600"/>
            </a:xfrm>
          </p:grpSpPr>
          <p:pic>
            <p:nvPicPr>
              <p:cNvPr id="479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20" y="248040"/>
                <a:ext cx="91576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Text Box 12"/>
              <p:cNvSpPr/>
              <p:nvPr/>
            </p:nvSpPr>
            <p:spPr>
              <a:xfrm rot="21435600">
                <a:off x="-1116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3259-E042-437C-8803-E07374E9FF0F}" type="datetime2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74B7-F6B6-4B20-9BAA-142FD60AA9C6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rme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Forme 7"/>
          <p:cNvGrpSpPr/>
          <p:nvPr/>
        </p:nvGrpSpPr>
        <p:grpSpPr>
          <a:xfrm>
            <a:off x="4383000" y="-6480"/>
            <a:ext cx="4760640" cy="603360"/>
            <a:chOff x="4383000" y="-6480"/>
            <a:chExt cx="4760640" cy="603360"/>
          </a:xfrm>
        </p:grpSpPr>
        <p:pic>
          <p:nvPicPr>
            <p:cNvPr id="54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83000" y="-6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59" name="Group 7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6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3040"/>
                <a:ext cx="9143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9"/>
              <p:cNvSpPr/>
              <p:nvPr/>
            </p:nvSpPr>
            <p:spPr>
              <a:xfrm rot="21435600">
                <a:off x="-1728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0"/>
            <p:cNvGrpSpPr/>
            <p:nvPr/>
          </p:nvGrpSpPr>
          <p:grpSpPr>
            <a:xfrm>
              <a:off x="-11520" y="248040"/>
              <a:ext cx="9173520" cy="561600"/>
              <a:chOff x="-11520" y="248040"/>
              <a:chExt cx="9173520" cy="561600"/>
            </a:xfrm>
          </p:grpSpPr>
          <p:pic>
            <p:nvPicPr>
              <p:cNvPr id="63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20" y="248040"/>
                <a:ext cx="91576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12"/>
              <p:cNvSpPr/>
              <p:nvPr/>
            </p:nvSpPr>
            <p:spPr>
              <a:xfrm rot="21435600">
                <a:off x="-1116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6B63-ECB5-4BDD-A19E-E43DA9FD99A0}" type="datetime2">
              <a:rPr b="0" lang="en-US" sz="1200" spc="-1" strike="noStrike">
                <a:solidFill>
                  <a:srgbClr val="d1eaee"/>
                </a:solidFill>
                <a:latin typeface="Constantia"/>
                <a:ea typeface="宋体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4685-6CAC-48BB-A87F-9B54E673EB82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rme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Forme 7"/>
          <p:cNvGrpSpPr/>
          <p:nvPr/>
        </p:nvGrpSpPr>
        <p:grpSpPr>
          <a:xfrm>
            <a:off x="4383000" y="-6480"/>
            <a:ext cx="4760640" cy="603360"/>
            <a:chOff x="4383000" y="-6480"/>
            <a:chExt cx="4760640" cy="603360"/>
          </a:xfrm>
        </p:grpSpPr>
        <p:pic>
          <p:nvPicPr>
            <p:cNvPr id="106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383000" y="-6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111" name="Group 7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11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3040"/>
                <a:ext cx="9143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9"/>
              <p:cNvSpPr/>
              <p:nvPr/>
            </p:nvSpPr>
            <p:spPr>
              <a:xfrm rot="21435600">
                <a:off x="-1728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10"/>
            <p:cNvGrpSpPr/>
            <p:nvPr/>
          </p:nvGrpSpPr>
          <p:grpSpPr>
            <a:xfrm>
              <a:off x="-11520" y="248040"/>
              <a:ext cx="9173520" cy="561600"/>
              <a:chOff x="-11520" y="248040"/>
              <a:chExt cx="9173520" cy="561600"/>
            </a:xfrm>
          </p:grpSpPr>
          <p:pic>
            <p:nvPicPr>
              <p:cNvPr id="115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20" y="248040"/>
                <a:ext cx="91576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12"/>
              <p:cNvSpPr/>
              <p:nvPr/>
            </p:nvSpPr>
            <p:spPr>
              <a:xfrm rot="21435600">
                <a:off x="-1116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428E-0180-4A21-9044-8EC2ECCBF4BC}" type="datetime2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E8E1-84A0-4029-BE63-22695BD7769D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rme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Forme 7"/>
          <p:cNvGrpSpPr/>
          <p:nvPr/>
        </p:nvGrpSpPr>
        <p:grpSpPr>
          <a:xfrm>
            <a:off x="4383000" y="-6480"/>
            <a:ext cx="4760640" cy="603360"/>
            <a:chOff x="4383000" y="-6480"/>
            <a:chExt cx="4760640" cy="603360"/>
          </a:xfrm>
        </p:grpSpPr>
        <p:pic>
          <p:nvPicPr>
            <p:cNvPr id="158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383000" y="-6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163" name="Group 7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164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3040"/>
                <a:ext cx="9143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Text Box 9"/>
              <p:cNvSpPr/>
              <p:nvPr/>
            </p:nvSpPr>
            <p:spPr>
              <a:xfrm rot="21435600">
                <a:off x="-1728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0"/>
            <p:cNvGrpSpPr/>
            <p:nvPr/>
          </p:nvGrpSpPr>
          <p:grpSpPr>
            <a:xfrm>
              <a:off x="-11520" y="248040"/>
              <a:ext cx="9173520" cy="561600"/>
              <a:chOff x="-11520" y="248040"/>
              <a:chExt cx="9173520" cy="561600"/>
            </a:xfrm>
          </p:grpSpPr>
          <p:pic>
            <p:nvPicPr>
              <p:cNvPr id="167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20" y="248040"/>
                <a:ext cx="91576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Text Box 12"/>
              <p:cNvSpPr/>
              <p:nvPr/>
            </p:nvSpPr>
            <p:spPr>
              <a:xfrm rot="21435600">
                <a:off x="-1116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03F3-D212-4737-9CE1-EE7BD7B23445}" type="datetime2">
              <a:rPr b="0" lang="en-US" sz="1200" spc="-1" strike="noStrike">
                <a:solidFill>
                  <a:srgbClr val="d1eaee"/>
                </a:solidFill>
                <a:latin typeface="Constantia"/>
                <a:ea typeface="宋体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7C5-41CB-4C6F-A91B-2D7797AE51C9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rme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Forme 7"/>
          <p:cNvGrpSpPr/>
          <p:nvPr/>
        </p:nvGrpSpPr>
        <p:grpSpPr>
          <a:xfrm>
            <a:off x="4383000" y="-6480"/>
            <a:ext cx="4760640" cy="603360"/>
            <a:chOff x="4383000" y="-6480"/>
            <a:chExt cx="4760640" cy="603360"/>
          </a:xfrm>
        </p:grpSpPr>
        <p:pic>
          <p:nvPicPr>
            <p:cNvPr id="210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383000" y="-6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4" name="Group 6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215" name="Group 7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216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3040"/>
                <a:ext cx="9143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9"/>
              <p:cNvSpPr/>
              <p:nvPr/>
            </p:nvSpPr>
            <p:spPr>
              <a:xfrm rot="21435600">
                <a:off x="-1728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0"/>
            <p:cNvGrpSpPr/>
            <p:nvPr/>
          </p:nvGrpSpPr>
          <p:grpSpPr>
            <a:xfrm>
              <a:off x="-11520" y="248040"/>
              <a:ext cx="9173520" cy="561600"/>
              <a:chOff x="-11520" y="248040"/>
              <a:chExt cx="9173520" cy="561600"/>
            </a:xfrm>
          </p:grpSpPr>
          <p:pic>
            <p:nvPicPr>
              <p:cNvPr id="219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20" y="248040"/>
                <a:ext cx="91576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12"/>
              <p:cNvSpPr/>
              <p:nvPr/>
            </p:nvSpPr>
            <p:spPr>
              <a:xfrm rot="21435600">
                <a:off x="-1116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54CA-C918-4B3A-AFFF-1B434CD2A2AE}" type="datetime2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27F3-3210-4877-8DFE-8CB61EB98398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rme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Forme 7"/>
          <p:cNvGrpSpPr/>
          <p:nvPr/>
        </p:nvGrpSpPr>
        <p:grpSpPr>
          <a:xfrm>
            <a:off x="4383000" y="-6480"/>
            <a:ext cx="4760640" cy="603360"/>
            <a:chOff x="4383000" y="-6480"/>
            <a:chExt cx="4760640" cy="603360"/>
          </a:xfrm>
        </p:grpSpPr>
        <p:pic>
          <p:nvPicPr>
            <p:cNvPr id="262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383000" y="-6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267" name="Group 7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268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3040"/>
                <a:ext cx="9143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Text Box 9"/>
              <p:cNvSpPr/>
              <p:nvPr/>
            </p:nvSpPr>
            <p:spPr>
              <a:xfrm rot="21435600">
                <a:off x="-1728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0"/>
            <p:cNvGrpSpPr/>
            <p:nvPr/>
          </p:nvGrpSpPr>
          <p:grpSpPr>
            <a:xfrm>
              <a:off x="-11520" y="248040"/>
              <a:ext cx="9173520" cy="561600"/>
              <a:chOff x="-11520" y="248040"/>
              <a:chExt cx="9173520" cy="561600"/>
            </a:xfrm>
          </p:grpSpPr>
          <p:pic>
            <p:nvPicPr>
              <p:cNvPr id="271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20" y="248040"/>
                <a:ext cx="91576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2"/>
              <p:cNvSpPr/>
              <p:nvPr/>
            </p:nvSpPr>
            <p:spPr>
              <a:xfrm rot="21435600">
                <a:off x="-1116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7895-839E-4C88-9EB2-2030599568C4}" type="datetime2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2B13-F490-411C-AB0F-4BA46EF5992E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rme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Forme 7"/>
          <p:cNvGrpSpPr/>
          <p:nvPr/>
        </p:nvGrpSpPr>
        <p:grpSpPr>
          <a:xfrm>
            <a:off x="4383000" y="-6480"/>
            <a:ext cx="4760640" cy="603360"/>
            <a:chOff x="4383000" y="-6480"/>
            <a:chExt cx="4760640" cy="603360"/>
          </a:xfrm>
        </p:grpSpPr>
        <p:pic>
          <p:nvPicPr>
            <p:cNvPr id="314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383000" y="-6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319" name="Group 7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32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3040"/>
                <a:ext cx="9143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Text Box 9"/>
              <p:cNvSpPr/>
              <p:nvPr/>
            </p:nvSpPr>
            <p:spPr>
              <a:xfrm rot="21435600">
                <a:off x="-1728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10"/>
            <p:cNvGrpSpPr/>
            <p:nvPr/>
          </p:nvGrpSpPr>
          <p:grpSpPr>
            <a:xfrm>
              <a:off x="-11520" y="248040"/>
              <a:ext cx="9173520" cy="561600"/>
              <a:chOff x="-11520" y="248040"/>
              <a:chExt cx="9173520" cy="561600"/>
            </a:xfrm>
          </p:grpSpPr>
          <p:pic>
            <p:nvPicPr>
              <p:cNvPr id="323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20" y="248040"/>
                <a:ext cx="91576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Text Box 12"/>
              <p:cNvSpPr/>
              <p:nvPr/>
            </p:nvSpPr>
            <p:spPr>
              <a:xfrm rot="21435600">
                <a:off x="-1116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F20A-EE5C-4601-8A90-DAF97A15EDE9}" type="datetime2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38BB-B62E-401A-B714-E4B71AF97857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rme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Forme 7"/>
          <p:cNvGrpSpPr/>
          <p:nvPr/>
        </p:nvGrpSpPr>
        <p:grpSpPr>
          <a:xfrm>
            <a:off x="4383000" y="-6480"/>
            <a:ext cx="4760640" cy="603360"/>
            <a:chOff x="4383000" y="-6480"/>
            <a:chExt cx="4760640" cy="603360"/>
          </a:xfrm>
        </p:grpSpPr>
        <p:pic>
          <p:nvPicPr>
            <p:cNvPr id="366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83000" y="-6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70" name="Group 6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371" name="Group 7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37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3040"/>
                <a:ext cx="9143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Text Box 9"/>
              <p:cNvSpPr/>
              <p:nvPr/>
            </p:nvSpPr>
            <p:spPr>
              <a:xfrm rot="21435600">
                <a:off x="-1728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0"/>
            <p:cNvGrpSpPr/>
            <p:nvPr/>
          </p:nvGrpSpPr>
          <p:grpSpPr>
            <a:xfrm>
              <a:off x="-11520" y="248040"/>
              <a:ext cx="9173520" cy="561600"/>
              <a:chOff x="-11520" y="248040"/>
              <a:chExt cx="9173520" cy="561600"/>
            </a:xfrm>
          </p:grpSpPr>
          <p:pic>
            <p:nvPicPr>
              <p:cNvPr id="375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20" y="248040"/>
                <a:ext cx="91576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2"/>
              <p:cNvSpPr/>
              <p:nvPr/>
            </p:nvSpPr>
            <p:spPr>
              <a:xfrm rot="21435600">
                <a:off x="-1116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A8B5-FDB3-422E-AB57-702189B16704}" type="datetime2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5D20-9740-430D-8A0B-7C6080A977ED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rme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Forme 7"/>
          <p:cNvGrpSpPr/>
          <p:nvPr/>
        </p:nvGrpSpPr>
        <p:grpSpPr>
          <a:xfrm>
            <a:off x="4383000" y="-6480"/>
            <a:ext cx="4760640" cy="603360"/>
            <a:chOff x="4383000" y="-6480"/>
            <a:chExt cx="4760640" cy="603360"/>
          </a:xfrm>
        </p:grpSpPr>
        <p:pic>
          <p:nvPicPr>
            <p:cNvPr id="418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6480"/>
              <a:ext cx="4759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383000" y="-6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22" name="Group 6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423" name="Group 7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424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03040"/>
                <a:ext cx="9143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9"/>
              <p:cNvSpPr/>
              <p:nvPr/>
            </p:nvSpPr>
            <p:spPr>
              <a:xfrm rot="21435600">
                <a:off x="-1728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10"/>
            <p:cNvGrpSpPr/>
            <p:nvPr/>
          </p:nvGrpSpPr>
          <p:grpSpPr>
            <a:xfrm>
              <a:off x="-11520" y="248040"/>
              <a:ext cx="9173520" cy="561600"/>
              <a:chOff x="-11520" y="248040"/>
              <a:chExt cx="9173520" cy="561600"/>
            </a:xfrm>
          </p:grpSpPr>
          <p:pic>
            <p:nvPicPr>
              <p:cNvPr id="427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320" y="248040"/>
                <a:ext cx="91576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2"/>
              <p:cNvSpPr/>
              <p:nvPr/>
            </p:nvSpPr>
            <p:spPr>
              <a:xfrm rot="21435600">
                <a:off x="-1116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9BC5-8B1D-49BE-8029-CFFA4D4CE5C4}" type="datetime2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281F-7C86-402C-B3CC-651E839E8257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2"/>
          <p:cNvSpPr/>
          <p:nvPr/>
        </p:nvSpPr>
        <p:spPr>
          <a:xfrm>
            <a:off x="1881720" y="836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代后宫庭院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ZoneTexte 2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nstanti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5:27:14Z</dcterms:created>
  <dc:creator>Ric</dc:creator>
  <dc:description>www.3lian.com</dc:description>
  <cp:keywords>www.3lian.com</cp:keywords>
  <dc:language>en-US</dc:language>
  <cp:lastModifiedBy>王玉清</cp:lastModifiedBy>
  <dcterms:modified xsi:type="dcterms:W3CDTF">2016-03-01T07:08:32Z</dcterms:modified>
  <cp:revision>12</cp:revision>
  <dc:subject/>
  <dc:title>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