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A52-25C7-488B-BD0A-4FFA1BF2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5A0-7AA3-4DF2-AD29-3CD0AA99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049-CAF3-44CB-9487-5FC3BF36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74C-9C8D-4612-89E4-9E6C855E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AA37-FCEA-45D6-B128-9BAB5C7E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6425-872A-4990-A04C-0012166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8CB4-6235-4170-A81E-0DEA521E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6FF1-06BB-4F2B-B32B-8BA2AA48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96AB-7A22-4672-83D2-F466A945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3CE-1E51-47D4-8D68-C5B46CBC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4E4-7D1A-44E8-A0B1-EBC3DEA9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790-BA9A-46C2-8F6B-200D1AC2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6A80-8457-4CEF-A90C-4CAF4C65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6BE3-27AB-4332-988A-38F36C6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764B-80E3-48FD-95B0-43DDF91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EC40-E359-438B-8C8B-BC9FE7D3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08A9-FA6D-4137-B56E-7D8E7B86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505-64CD-496C-8887-ADFCA36F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CBB-9977-44AB-8869-BFEF1DE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DA9-347C-408B-BC9F-29BF5FE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CDF-C321-4FE0-B6A1-EA9565A4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3CE-2C5C-46B6-B5D6-710DABF1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509-C7D9-4C21-9406-528FAB2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9556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DDC-DF8F-463F-A737-47CDCD6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85"/>
          <p:cNvSpPr/>
          <p:nvPr/>
        </p:nvSpPr>
        <p:spPr>
          <a:xfrm>
            <a:off x="152280" y="152280"/>
            <a:ext cx="8839440" cy="914400"/>
          </a:xfrm>
          <a:prstGeom prst="roundRect">
            <a:avLst>
              <a:gd name="adj" fmla="val 2361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06a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0d7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75" descr="2"/>
          <p:cNvPicPr/>
          <p:nvPr/>
        </p:nvPicPr>
        <p:blipFill>
          <a:blip r:embed="rId3"/>
          <a:stretch/>
        </p:blipFill>
        <p:spPr>
          <a:xfrm>
            <a:off x="4917960" y="0"/>
            <a:ext cx="43023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1752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9916-33D4-4196-9913-1FEAF2C483C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90" descr="03"/>
          <p:cNvPicPr/>
          <p:nvPr/>
        </p:nvPicPr>
        <p:blipFill>
          <a:blip r:embed="rId4"/>
          <a:stretch/>
        </p:blipFill>
        <p:spPr>
          <a:xfrm>
            <a:off x="247680" y="209520"/>
            <a:ext cx="71424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91" descr="04"/>
          <p:cNvPicPr/>
          <p:nvPr/>
        </p:nvPicPr>
        <p:blipFill>
          <a:blip r:embed="rId5"/>
          <a:srcRect l="0" t="0" r="0" b="2409"/>
          <a:stretch/>
        </p:blipFill>
        <p:spPr>
          <a:xfrm>
            <a:off x="8377200" y="5562720"/>
            <a:ext cx="7668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78"/>
          <p:cNvSpPr/>
          <p:nvPr/>
        </p:nvSpPr>
        <p:spPr>
          <a:xfrm>
            <a:off x="239760" y="266760"/>
            <a:ext cx="8656560" cy="3085920"/>
          </a:xfrm>
          <a:prstGeom prst="roundRect">
            <a:avLst>
              <a:gd name="adj" fmla="val 698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3" descr="3"/>
          <p:cNvPicPr/>
          <p:nvPr/>
        </p:nvPicPr>
        <p:blipFill>
          <a:blip r:embed="rId3"/>
          <a:stretch/>
        </p:blipFill>
        <p:spPr>
          <a:xfrm>
            <a:off x="1905120" y="76320"/>
            <a:ext cx="6449760" cy="2095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7772400" y="6324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宋体"/>
              </a:rPr>
              <a:t>LOG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2" descr="2"/>
          <p:cNvPicPr/>
          <p:nvPr/>
        </p:nvPicPr>
        <p:blipFill>
          <a:blip r:embed="rId4"/>
          <a:stretch/>
        </p:blipFill>
        <p:spPr>
          <a:xfrm>
            <a:off x="152280" y="76320"/>
            <a:ext cx="5029200" cy="105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0" descr="04"/>
          <p:cNvPicPr/>
          <p:nvPr/>
        </p:nvPicPr>
        <p:blipFill>
          <a:blip r:embed="rId5"/>
          <a:srcRect l="0" t="0" r="0" b="2399"/>
          <a:stretch/>
        </p:blipFill>
        <p:spPr>
          <a:xfrm>
            <a:off x="0" y="609480"/>
            <a:ext cx="367668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06a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0d7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50288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1905120" y="6400440"/>
            <a:ext cx="21333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190760" y="6400800"/>
            <a:ext cx="609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3B5-F88B-410C-9D7F-8F637BAF23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3"/>
          <p:cNvSpPr/>
          <p:nvPr/>
        </p:nvSpPr>
        <p:spPr>
          <a:xfrm>
            <a:off x="3649680" y="5210280"/>
            <a:ext cx="74520" cy="152280"/>
          </a:xfrm>
          <a:prstGeom prst="rect">
            <a:avLst/>
          </a:prstGeom>
          <a:solidFill>
            <a:srgbClr val="b0d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7640" y="3733920"/>
            <a:ext cx="6931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zh-CN" sz="4000" spc="-1" strike="noStrike">
                <a:solidFill>
                  <a:srgbClr val="106a3f"/>
                </a:solidFill>
                <a:latin typeface="Arial"/>
                <a:ea typeface="宋体"/>
              </a:rPr>
              <a:t>高尔夫通用</a:t>
            </a:r>
            <a:r>
              <a:rPr b="1" lang="en-US" sz="4000" spc="-1" strike="noStrike">
                <a:solidFill>
                  <a:srgbClr val="106a3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06a3f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505320" y="5044320"/>
            <a:ext cx="5333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" name="Group 58"/>
          <p:cNvGrpSpPr/>
          <p:nvPr/>
        </p:nvGrpSpPr>
        <p:grpSpPr>
          <a:xfrm>
            <a:off x="1876320" y="3460680"/>
            <a:ext cx="5311800" cy="689040"/>
            <a:chOff x="1876320" y="3460680"/>
            <a:chExt cx="5311800" cy="689040"/>
          </a:xfrm>
        </p:grpSpPr>
        <p:sp>
          <p:nvSpPr>
            <p:cNvPr id="98" name="AutoShape 59"/>
            <p:cNvSpPr/>
            <p:nvPr/>
          </p:nvSpPr>
          <p:spPr>
            <a:xfrm>
              <a:off x="187632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590d4"/>
                </a:gs>
                <a:gs pos="50000">
                  <a:srgbClr val="8985c3"/>
                </a:gs>
                <a:gs pos="100000">
                  <a:srgbClr val="9590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60"/>
            <p:cNvGrpSpPr/>
            <p:nvPr/>
          </p:nvGrpSpPr>
          <p:grpSpPr>
            <a:xfrm>
              <a:off x="1889280" y="3481920"/>
              <a:ext cx="5292000" cy="636840"/>
              <a:chOff x="1889280" y="3481920"/>
              <a:chExt cx="5292000" cy="636840"/>
            </a:xfrm>
          </p:grpSpPr>
          <p:sp>
            <p:nvSpPr>
              <p:cNvPr id="100" name="AutoShape 61"/>
              <p:cNvSpPr/>
              <p:nvPr/>
            </p:nvSpPr>
            <p:spPr>
              <a:xfrm>
                <a:off x="188928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590d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62"/>
              <p:cNvSpPr/>
              <p:nvPr/>
            </p:nvSpPr>
            <p:spPr>
              <a:xfrm>
                <a:off x="1889280" y="34819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590d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63"/>
          <p:cNvGrpSpPr/>
          <p:nvPr/>
        </p:nvGrpSpPr>
        <p:grpSpPr>
          <a:xfrm>
            <a:off x="1876320" y="4325760"/>
            <a:ext cx="5311800" cy="689040"/>
            <a:chOff x="1876320" y="4325760"/>
            <a:chExt cx="5311800" cy="689040"/>
          </a:xfrm>
        </p:grpSpPr>
        <p:sp>
          <p:nvSpPr>
            <p:cNvPr id="103" name="AutoShape 64"/>
            <p:cNvSpPr/>
            <p:nvPr/>
          </p:nvSpPr>
          <p:spPr>
            <a:xfrm>
              <a:off x="187632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0d795"/>
                </a:gs>
                <a:gs pos="50000">
                  <a:srgbClr val="a2c689"/>
                </a:gs>
                <a:gs pos="100000">
                  <a:srgbClr val="b0d7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65"/>
            <p:cNvGrpSpPr/>
            <p:nvPr/>
          </p:nvGrpSpPr>
          <p:grpSpPr>
            <a:xfrm>
              <a:off x="1889280" y="4347000"/>
              <a:ext cx="5292000" cy="636840"/>
              <a:chOff x="1889280" y="4347000"/>
              <a:chExt cx="5292000" cy="636840"/>
            </a:xfrm>
          </p:grpSpPr>
          <p:sp>
            <p:nvSpPr>
              <p:cNvPr id="105" name="AutoShape 66"/>
              <p:cNvSpPr/>
              <p:nvPr/>
            </p:nvSpPr>
            <p:spPr>
              <a:xfrm>
                <a:off x="188928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0d79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67"/>
              <p:cNvSpPr/>
              <p:nvPr/>
            </p:nvSpPr>
            <p:spPr>
              <a:xfrm>
                <a:off x="1889280" y="4347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0d7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68"/>
          <p:cNvGrpSpPr/>
          <p:nvPr/>
        </p:nvGrpSpPr>
        <p:grpSpPr>
          <a:xfrm>
            <a:off x="1876320" y="5183280"/>
            <a:ext cx="5311800" cy="689040"/>
            <a:chOff x="1876320" y="5183280"/>
            <a:chExt cx="5311800" cy="689040"/>
          </a:xfrm>
        </p:grpSpPr>
        <p:sp>
          <p:nvSpPr>
            <p:cNvPr id="108" name="AutoShape 69"/>
            <p:cNvSpPr/>
            <p:nvPr/>
          </p:nvSpPr>
          <p:spPr>
            <a:xfrm>
              <a:off x="187632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4d578"/>
                </a:gs>
                <a:gs pos="50000">
                  <a:srgbClr val="d2c46f"/>
                </a:gs>
                <a:gs pos="100000">
                  <a:srgbClr val="e4d5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70"/>
            <p:cNvGrpSpPr/>
            <p:nvPr/>
          </p:nvGrpSpPr>
          <p:grpSpPr>
            <a:xfrm>
              <a:off x="1889280" y="5204520"/>
              <a:ext cx="5292000" cy="636840"/>
              <a:chOff x="1889280" y="5204520"/>
              <a:chExt cx="5292000" cy="636840"/>
            </a:xfrm>
          </p:grpSpPr>
          <p:sp>
            <p:nvSpPr>
              <p:cNvPr id="110" name="AutoShape 71"/>
              <p:cNvSpPr/>
              <p:nvPr/>
            </p:nvSpPr>
            <p:spPr>
              <a:xfrm>
                <a:off x="188928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d5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72"/>
              <p:cNvSpPr/>
              <p:nvPr/>
            </p:nvSpPr>
            <p:spPr>
              <a:xfrm>
                <a:off x="1889280" y="52045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4d57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73"/>
          <p:cNvGrpSpPr/>
          <p:nvPr/>
        </p:nvGrpSpPr>
        <p:grpSpPr>
          <a:xfrm>
            <a:off x="1876320" y="2597040"/>
            <a:ext cx="5311800" cy="689040"/>
            <a:chOff x="1876320" y="2597040"/>
            <a:chExt cx="5311800" cy="689040"/>
          </a:xfrm>
        </p:grpSpPr>
        <p:sp>
          <p:nvSpPr>
            <p:cNvPr id="113" name="AutoShape 74"/>
            <p:cNvSpPr/>
            <p:nvPr/>
          </p:nvSpPr>
          <p:spPr>
            <a:xfrm>
              <a:off x="187632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cd2c1"/>
                </a:gs>
                <a:gs pos="50000">
                  <a:srgbClr val="64c2b2"/>
                </a:gs>
                <a:gs pos="100000">
                  <a:srgbClr val="6cd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75"/>
            <p:cNvGrpSpPr/>
            <p:nvPr/>
          </p:nvGrpSpPr>
          <p:grpSpPr>
            <a:xfrm>
              <a:off x="1889280" y="2618280"/>
              <a:ext cx="5292000" cy="636840"/>
              <a:chOff x="1889280" y="2618280"/>
              <a:chExt cx="5292000" cy="636840"/>
            </a:xfrm>
          </p:grpSpPr>
          <p:sp>
            <p:nvSpPr>
              <p:cNvPr id="115" name="AutoShape 76"/>
              <p:cNvSpPr/>
              <p:nvPr/>
            </p:nvSpPr>
            <p:spPr>
              <a:xfrm>
                <a:off x="188928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cd2c1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77"/>
              <p:cNvSpPr/>
              <p:nvPr/>
            </p:nvSpPr>
            <p:spPr>
              <a:xfrm>
                <a:off x="1889280" y="26182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cd2c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78"/>
          <p:cNvSpPr/>
          <p:nvPr/>
        </p:nvSpPr>
        <p:spPr>
          <a:xfrm>
            <a:off x="234324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9"/>
          <p:cNvSpPr/>
          <p:nvPr/>
        </p:nvSpPr>
        <p:spPr>
          <a:xfrm>
            <a:off x="235440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0"/>
          <p:cNvSpPr/>
          <p:nvPr/>
        </p:nvSpPr>
        <p:spPr>
          <a:xfrm>
            <a:off x="235440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1"/>
          <p:cNvSpPr/>
          <p:nvPr/>
        </p:nvSpPr>
        <p:spPr>
          <a:xfrm>
            <a:off x="235440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2"/>
          <p:cNvSpPr/>
          <p:nvPr/>
        </p:nvSpPr>
        <p:spPr>
          <a:xfrm>
            <a:off x="1930320" y="176832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3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67652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4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69236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5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69236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6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68120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7"/>
          <p:cNvSpPr/>
          <p:nvPr/>
        </p:nvSpPr>
        <p:spPr>
          <a:xfrm>
            <a:off x="202248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8"/>
          <p:cNvSpPr/>
          <p:nvPr/>
        </p:nvSpPr>
        <p:spPr>
          <a:xfrm>
            <a:off x="200196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201456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0"/>
          <p:cNvSpPr/>
          <p:nvPr/>
        </p:nvSpPr>
        <p:spPr>
          <a:xfrm>
            <a:off x="201456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87320" y="1457280"/>
            <a:ext cx="740736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06a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52320" y="3733920"/>
            <a:ext cx="5334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06a3f"/>
                </a:solidFill>
                <a:latin typeface="Arial"/>
                <a:ea typeface="宋体"/>
              </a:rPr>
              <a:t>Thank You!</a:t>
            </a:r>
            <a:endParaRPr b="1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583080" y="5210280"/>
            <a:ext cx="74520" cy="152280"/>
          </a:xfrm>
          <a:prstGeom prst="rect">
            <a:avLst/>
          </a:prstGeom>
          <a:solidFill>
            <a:srgbClr val="b0d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505320" y="5044320"/>
            <a:ext cx="5333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6:28:43Z</dcterms:created>
  <dc:creator>keke</dc:creator>
  <dc:description/>
  <dc:language>en-US</dc:language>
  <cp:lastModifiedBy>王玉清</cp:lastModifiedBy>
  <dcterms:modified xsi:type="dcterms:W3CDTF">2016-02-21T04:58:27Z</dcterms:modified>
  <cp:revision>5</cp:revision>
  <dc:subject/>
  <dc:title>Themegallery PowerTemplate</dc:title>
</cp:coreProperties>
</file>