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2A9-612C-4CAE-AD95-031367DF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E4E-4207-4BBC-98AC-B33E47CA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B1838-8331-45B1-A72E-34E3B646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0E1B8-1AD9-49E1-A273-5D5FE114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69088-1D70-41A5-AFE4-9E0E4F82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CE66A-CF27-488C-AECE-C5FFCE4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88B80-3CBB-4F7C-8F9E-2B9B565F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11FD2-2932-40AA-8DCB-9B5EBF9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EC1B1-28D6-4FBB-863A-3A16A0E8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04ED-4018-461E-833D-D7F92845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24FAB-D4A4-4D66-B52A-464A5B62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9DC7F-C8B8-49DB-B741-324233DA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846-A537-4C94-A4F3-24C6E553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0F21B-7AC5-4014-8466-0CB3862C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BE714-A8B5-446F-ADC8-695E2602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C6A55-77B2-4B05-A0D5-9D583C22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53DE7-FB54-4B8E-A47E-020787F4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19DAA-3045-45E4-9ECB-25209939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3CB89-F236-425F-AE1C-FC41FE6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799E8-B987-40DB-AB8D-99B32A8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0E56D-63EC-47BD-94BE-2DB53D5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2D700-8DE0-4226-A867-EBCECDD4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B9636-ADF0-4145-8A1A-5C7936F5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F09-3989-45D6-8644-2372B3CA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1590E-273F-4C80-9E9A-1651082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E0B12-A490-4E0C-B303-BE8DD5EA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8E4EE-E118-4702-989E-FE1A5E3A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CE6E8-B881-4C26-89EB-EFA1EB8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7E3E7-65C1-44A4-8EF1-631D955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9CE73-EFEE-43C6-876F-99661AF0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BA20A-9FB3-423E-AA4F-3A01ED7F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2EC3D-43A7-4AD9-96DC-B1844734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C5800-8EC9-4A62-B015-643BA59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79A6B-C7FA-4A85-849C-4C7814B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75BD-EE74-4659-A301-99FE6012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8ADED-3668-430A-B639-B4E66F11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BA575-F034-481B-91FC-56557384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6950A-A730-473D-9455-EC6F61B6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7A1D9-5B70-4FB5-8831-5200B6F8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291B8-1C81-450B-9BFF-FFA99A2F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9B0D9-0728-4048-9036-4BEB9231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168AC-EE4C-4291-9A5F-A3E5E0F2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B2D05-B53F-4600-857F-46A29A94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48216-FD25-42C7-959B-201AA9D9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090BF-EC58-4A15-9A6E-72C68EA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1D24-8351-4AD7-B32B-9F546567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5B828-D10C-40E9-98EB-526CFDF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00E12-146B-4EF3-BBA5-5386FC82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FACEA-D63C-4261-87B5-F245A6CB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16D32-D00F-4486-A526-EF09C00E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A5DC0-69EB-4DBD-8A07-1436CD0E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624F4-EB84-4292-8271-FCF3CA6B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DAAD8-6FFC-4C7E-BC24-C4CED631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21A56-BBB9-49B7-9359-1598AFA9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F0FA0-8EF3-43CB-BB59-C7B3DB76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8648D-9068-48D6-8624-4D891427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3B9E-D05C-4B3E-AE1B-B93A66DA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28AEB-2335-4836-A798-4F65231F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47CAF-BA9B-4050-8094-39FEDC01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7E508-E492-47DE-991F-5D715DB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DC89F-4D76-4EE4-9CF0-CA8851A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A246F-049C-4FC6-BEEE-0F63668D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33B70-95AB-43A3-A9A4-86C5B237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6B5F1-30EB-45F9-BBFF-E4FBC9EA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4CC2-BFDE-494E-9673-6E2B3384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0947-A92D-4454-92C2-C4845083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8C06-A21C-4C20-BD71-80B92360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5FB3-307C-48A7-B6B9-A783B796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068-9C5D-4BE9-8693-B39A184F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6EC5-F0A3-4E2A-9EB7-0FACA53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BB28-5F98-4CF5-B6AF-53F756AE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EC7E-0094-46F6-AF52-6CA801E4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D743-0264-4171-82F3-516427CF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8071-5665-4E78-BCB0-A5960877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938-181C-41A8-A850-1FBDF594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E4D8-0753-46CD-AB7B-10DD7D45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1145-85AD-4A1E-9DB6-B6220862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3C38-3CD8-4F42-80E0-582939B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F59-97CA-4A8C-B36F-D3674A24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4AF0-BF3A-434C-A045-540C039C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4815-1A49-4D46-B651-E7E0E673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7F45-A39D-4B95-AF42-6C88D72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46F2-42FB-4365-97EB-79D65CC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B079-73D5-4F0A-8880-913E41B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AFBB-D16F-447D-90E7-C67DA28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1C1D-75F7-4101-BB12-8C9D7B84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8D62-D8C7-4C0A-BD5B-F6B7ACC7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22FE-C0D2-4ACD-85DC-6F8A8754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4B98-AE81-4B66-9F2B-D0688295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389-95BC-4491-94E2-2C2EC85D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A8CC-265B-403E-B2CD-8524B37F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22275-2DCC-48F2-A3E2-74506985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FEBC-2CBF-449F-BCA8-B9913720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EC8F-1A54-4751-BDD5-F2A4F4C7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C2EED-D9FD-4CFC-8F10-606062C6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3402-6817-401A-842E-33E11EA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B754-558F-4FC7-BFC8-A31F5E5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0EFA-DD22-419A-86DF-4FA189C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91C1-0F1A-46AD-9F2A-A009A9EC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C9F8-8D3B-49B4-AA1D-523C10E5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33D-3FCC-4BAA-B7D7-CC6F8C52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AF2B-611D-4325-9428-CCF38CE8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116A-B195-40B4-AD91-A4115ABC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0343F-4311-40E2-8ECF-F7C64A68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4C146-F759-464A-9DF8-20084EAE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40FC-3C76-48D1-9390-B83FE2B9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26F5-0048-430E-A5AD-519E16C4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2C9B6-350D-410B-ACB5-A4358C7A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DD7F6-DF1A-44AE-B6C8-8239C75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F7599-DEF8-4B87-A318-F8F60E84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7449-761B-43F3-ACE9-79B231E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AE9-CF9E-46A1-A0D3-C74B3C9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5E8E-720D-4FD7-8F2A-DA4823C8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63E8-C1F9-45CF-85E9-2D55DC48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03414-FA66-42D0-857B-FB747BA6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798F-E824-4460-BB53-C386722C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DD1E5-3338-4FFF-B024-162F16DF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101B8-482F-428A-B2D0-C77D4B4C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B7D7D-3049-434F-9A92-E648DB8A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6AC83-BC6B-41C2-A70F-7F2F5844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5389B-DC7F-4286-B0C3-FD129C1E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B687D-DDD2-41DB-AF82-319BAEDC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049-6825-4BC4-BD69-43BB896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FACB2-9FF0-4123-94E2-66D44A53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4476A-AEBB-42B5-A75E-F0D7B13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0EB1-ECA4-40C4-A3D9-9855365C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2775-12B4-42A2-A26B-87EB1F2D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405F-D799-458E-85D0-826A4654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BDB5A-24A4-4FF1-A413-B5B7EDB0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45B1-1ADE-4684-9035-F167121B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21C84-ABFC-4CFF-8069-1BFF303F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F5D70-92D1-4AB1-93E6-1C9BC54D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85EF9-89E2-48F4-806F-9983D3D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D3F-74DC-4913-8A7F-FBB1FB6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91D72-5EB6-4366-A277-D001FA84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6338-043D-4A66-A01A-219F2746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DFCC1-9B06-4552-97C6-36A3763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17A4E-3A09-461A-966E-CBF1E81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B24B6-0F2D-4E90-A7B6-86ED8763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0ABA3-F6B0-49F8-BE57-C6FD4F8B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D83D9-684F-4D7D-BF39-E819AA90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C0756-4FBE-4545-8A4A-34C62278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34DF9-3E54-4161-AF34-83F1965F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36371-D16B-4981-BEE5-4A8B0632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EE5-B285-44E1-862E-595F75A38A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DBE3-93C1-4179-9FE5-6C28C3A521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BFB3-5BFE-4CD9-9645-1A0E6F54C9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55ED-FFDC-4A5F-86F6-6C43CB1CC5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958D-489A-4A00-BE7A-3393DE27C1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CDEF-C19B-417D-A21D-158DC6265B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8523-9DC7-48DF-9F6C-BAA7CA86D5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A86-75C9-4B30-BD47-73ACF6BD36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F92F-3224-4997-BE6B-6F314E86B5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C8B2-497C-4C10-9E4B-E95B8C3D24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400B-C294-4836-BAFB-EC0E5A5E8D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E1A4-0867-447F-BBDF-71A1D02FF0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矩形 4" descr=""/>
          <p:cNvPicPr/>
          <p:nvPr/>
        </p:nvPicPr>
        <p:blipFill>
          <a:blip r:embed="rId1"/>
          <a:stretch/>
        </p:blipFill>
        <p:spPr>
          <a:xfrm>
            <a:off x="828720" y="1395360"/>
            <a:ext cx="3468600" cy="2036880"/>
          </a:xfrm>
          <a:prstGeom prst="rect">
            <a:avLst/>
          </a:prstGeom>
          <a:ln w="0">
            <a:noFill/>
          </a:ln>
        </p:spPr>
      </p:pic>
      <p:sp>
        <p:nvSpPr>
          <p:cNvPr id="532" name="矩形 12"/>
          <p:cNvSpPr/>
          <p:nvPr/>
        </p:nvSpPr>
        <p:spPr>
          <a:xfrm>
            <a:off x="234720" y="4944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李晓婧</dc:creator>
  <dc:description/>
  <dc:language>en-US</dc:language>
  <cp:lastModifiedBy>王玉清</cp:lastModifiedBy>
  <dcterms:modified xsi:type="dcterms:W3CDTF">2016-03-05T12:55:53Z</dcterms:modified>
  <cp:revision>12</cp:revision>
  <dc:subject/>
  <dc:title>PowerPoint 演示文稿</dc:title>
</cp:coreProperties>
</file>