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F335-172F-4CB0-BEBC-D7A00FFB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EAC6-4FBD-44A6-8C9D-4A02CB5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368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4362-BA7E-46FD-A389-3433005F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26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80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26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80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08B3-137E-4EBA-8A29-41204B18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A6BD-B704-4263-8D87-23A0D1A7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349-6395-45DF-8F24-20097643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AC07-2290-45ED-8DCA-31E1F32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1EE3-94A3-44D7-BA21-FFEA26EF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BD59-8171-4525-858A-B13BE4D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69640"/>
            <a:ext cx="586764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E7BF-685D-40F3-BA98-695C60FA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DF10-4C77-470A-B9CF-87A6F792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89D4-8F96-4248-B674-4338D95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368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667-FBDC-4FDF-9017-514A687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610-C5A3-486B-80F9-28A6A14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8EEC-876B-4677-B7A8-2B2F34F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368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BBC-EDE0-4C7E-9314-3288FCF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26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8000" y="161136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26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8000" y="4073040"/>
            <a:ext cx="266184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DDBF-61C5-4555-A4CB-62D4E00C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8AAD-4716-495B-B5EF-F15408F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6FECD-448F-4EEF-8C33-4757B74A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DF3A-9300-4680-B7BE-569485F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120" y="269640"/>
            <a:ext cx="586764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D5E8-4E38-4616-BBA1-D5D69B0A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E647-FD88-47ED-B0B1-04DCEBA8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3680" y="407304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B785-32B0-492D-BEE9-8FCF135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2480"/>
            <a:ext cx="5867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611360"/>
            <a:ext cx="40345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677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4C52-2771-4086-8A03-89EE0BF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76"/>
          <p:cNvGraphicFramePr/>
          <p:nvPr/>
        </p:nvGraphicFramePr>
        <p:xfrm>
          <a:off x="304920" y="228600"/>
          <a:ext cx="861048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610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Group 80"/>
          <p:cNvGrpSpPr/>
          <p:nvPr/>
        </p:nvGrpSpPr>
        <p:grpSpPr>
          <a:xfrm>
            <a:off x="304920" y="3240"/>
            <a:ext cx="8686800" cy="1577880"/>
            <a:chOff x="304920" y="3240"/>
            <a:chExt cx="8686800" cy="1577880"/>
          </a:xfrm>
        </p:grpSpPr>
        <p:pic>
          <p:nvPicPr>
            <p:cNvPr id="3" name="Picture 78" descr="p11_a"/>
            <p:cNvPicPr/>
            <p:nvPr/>
          </p:nvPicPr>
          <p:blipFill>
            <a:blip r:embed="rId4"/>
            <a:stretch/>
          </p:blipFill>
          <p:spPr>
            <a:xfrm>
              <a:off x="6629400" y="3240"/>
              <a:ext cx="19432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79"/>
            <p:cNvSpPr/>
            <p:nvPr/>
          </p:nvSpPr>
          <p:spPr>
            <a:xfrm>
              <a:off x="304920" y="762120"/>
              <a:ext cx="8686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8004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35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8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315200" y="637812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80048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80048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91120" y="655308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480048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2E00-F678-42FC-8DFE-E3BCA7A5E9F8}" type="slidenum">
              <a:rPr b="0" lang="zh-CN" sz="1000" spc="-1" strike="noStrike">
                <a:solidFill>
                  <a:srgbClr val="480048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293400" y="6553080"/>
            <a:ext cx="190476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Object 81"/>
          <p:cNvGraphicFramePr/>
          <p:nvPr/>
        </p:nvGraphicFramePr>
        <p:xfrm>
          <a:off x="380880" y="6477120"/>
          <a:ext cx="6877080" cy="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" name="Object 8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6477120"/>
                    <a:ext cx="6877080" cy="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4"/>
          <p:cNvSpPr/>
          <p:nvPr/>
        </p:nvSpPr>
        <p:spPr>
          <a:xfrm>
            <a:off x="7238880" y="5834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11360"/>
            <a:ext cx="82677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8004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35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8a0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290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952520" y="5943240"/>
            <a:ext cx="2297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48004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80048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454560" y="652572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648-A6A1-4658-9561-C3D104A461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50640"/>
            <a:ext cx="792504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0048"/>
                </a:solidFill>
                <a:latin typeface="Arial"/>
                <a:ea typeface="宋体"/>
              </a:rPr>
              <a:t>画笔商务通用</a:t>
            </a:r>
            <a:r>
              <a:rPr b="0" lang="en-US" sz="4000" spc="-1" strike="noStrike">
                <a:solidFill>
                  <a:srgbClr val="480048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80048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4038120"/>
            <a:ext cx="4800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317" name="Group 42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18" name="AutoShape 3"/>
            <p:cNvSpPr/>
            <p:nvPr/>
          </p:nvSpPr>
          <p:spPr>
            <a:xfrm>
              <a:off x="2976840" y="317484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35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"/>
            <p:cNvSpPr/>
            <p:nvPr/>
          </p:nvSpPr>
          <p:spPr>
            <a:xfrm>
              <a:off x="5491440" y="317484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5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"/>
            <p:cNvSpPr/>
            <p:nvPr/>
          </p:nvSpPr>
          <p:spPr>
            <a:xfrm>
              <a:off x="60213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7"/>
            <p:cNvSpPr/>
            <p:nvPr/>
          </p:nvSpPr>
          <p:spPr>
            <a:xfrm>
              <a:off x="61516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8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006161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"/>
            <p:cNvSpPr/>
            <p:nvPr/>
          </p:nvSpPr>
          <p:spPr>
            <a:xfrm>
              <a:off x="6243840" y="266076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0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77a5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d77a5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2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744232"/>
                </a:gs>
                <a:gs pos="50000">
                  <a:srgbClr val="d77a5d"/>
                </a:gs>
                <a:gs pos="100000">
                  <a:srgbClr val="74423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3"/>
            <p:cNvSpPr/>
            <p:nvPr/>
          </p:nvSpPr>
          <p:spPr>
            <a:xfrm>
              <a:off x="1122480" y="25718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894e3b"/>
                </a:gs>
                <a:gs pos="100000">
                  <a:srgbClr val="d77a5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4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Group 15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31" name="Oval 16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7"/>
              <p:cNvSpPr/>
              <p:nvPr/>
            </p:nvSpPr>
            <p:spPr>
              <a:xfrm>
                <a:off x="12506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Oval 18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Oval 20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2353d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1"/>
            <p:cNvSpPr/>
            <p:nvPr/>
          </p:nvSpPr>
          <p:spPr>
            <a:xfrm>
              <a:off x="3506760" y="244476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2353d9">
                    <a:alpha val="32156"/>
                  </a:srgbClr>
                </a:gs>
                <a:gs pos="100000">
                  <a:srgbClr val="1026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2"/>
            <p:cNvSpPr/>
            <p:nvPr/>
          </p:nvSpPr>
          <p:spPr>
            <a:xfrm>
              <a:off x="3637080" y="257508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132d75"/>
                </a:gs>
                <a:gs pos="50000">
                  <a:srgbClr val="2353d9"/>
                </a:gs>
                <a:gs pos="100000">
                  <a:srgbClr val="132d7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3"/>
            <p:cNvSpPr/>
            <p:nvPr/>
          </p:nvSpPr>
          <p:spPr>
            <a:xfrm>
              <a:off x="3638520" y="257796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16358a"/>
                </a:gs>
                <a:gs pos="100000">
                  <a:srgbClr val="2353d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4"/>
            <p:cNvSpPr/>
            <p:nvPr/>
          </p:nvSpPr>
          <p:spPr>
            <a:xfrm>
              <a:off x="3722760" y="266076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25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41" name="Oval 26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27"/>
              <p:cNvSpPr/>
              <p:nvPr/>
            </p:nvSpPr>
            <p:spPr>
              <a:xfrm>
                <a:off x="3767040" y="268632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28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29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30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46" name="Oval 31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32"/>
              <p:cNvSpPr/>
              <p:nvPr/>
            </p:nvSpPr>
            <p:spPr>
              <a:xfrm>
                <a:off x="6291360" y="268632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33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34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35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36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7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8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39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0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357" name="Group 34"/>
          <p:cNvGrpSpPr/>
          <p:nvPr/>
        </p:nvGrpSpPr>
        <p:grpSpPr>
          <a:xfrm>
            <a:off x="1752480" y="1619280"/>
            <a:ext cx="7086600" cy="4476600"/>
            <a:chOff x="1752480" y="1619280"/>
            <a:chExt cx="7086600" cy="4476600"/>
          </a:xfrm>
        </p:grpSpPr>
        <p:sp>
          <p:nvSpPr>
            <p:cNvPr id="358" name="Freeform 35"/>
            <p:cNvSpPr/>
            <p:nvPr/>
          </p:nvSpPr>
          <p:spPr>
            <a:xfrm>
              <a:off x="1752480" y="205740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38a0da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6"/>
            <p:cNvSpPr/>
            <p:nvPr/>
          </p:nvSpPr>
          <p:spPr>
            <a:xfrm>
              <a:off x="6172200" y="35812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7"/>
            <p:cNvSpPr/>
            <p:nvPr/>
          </p:nvSpPr>
          <p:spPr>
            <a:xfrm rot="20876400">
              <a:off x="40021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8"/>
            <p:cNvSpPr/>
            <p:nvPr/>
          </p:nvSpPr>
          <p:spPr>
            <a:xfrm>
              <a:off x="3933720" y="382896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9"/>
            <p:cNvSpPr/>
            <p:nvPr/>
          </p:nvSpPr>
          <p:spPr>
            <a:xfrm>
              <a:off x="3954600" y="3838680"/>
              <a:ext cx="166500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40"/>
            <p:cNvSpPr/>
            <p:nvPr/>
          </p:nvSpPr>
          <p:spPr>
            <a:xfrm>
              <a:off x="3971880" y="385452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41"/>
            <p:cNvSpPr/>
            <p:nvPr/>
          </p:nvSpPr>
          <p:spPr>
            <a:xfrm>
              <a:off x="4064040" y="389880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2"/>
            <p:cNvSpPr/>
            <p:nvPr/>
          </p:nvSpPr>
          <p:spPr>
            <a:xfrm>
              <a:off x="435168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43"/>
            <p:cNvSpPr/>
            <p:nvPr/>
          </p:nvSpPr>
          <p:spPr>
            <a:xfrm rot="20826600">
              <a:off x="2158920" y="4438440"/>
              <a:ext cx="113364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44"/>
            <p:cNvGrpSpPr/>
            <p:nvPr/>
          </p:nvGrpSpPr>
          <p:grpSpPr>
            <a:xfrm>
              <a:off x="2082960" y="3448080"/>
              <a:ext cx="1371240" cy="1441080"/>
              <a:chOff x="2082960" y="3448080"/>
              <a:chExt cx="1371240" cy="1441080"/>
            </a:xfrm>
          </p:grpSpPr>
          <p:sp>
            <p:nvSpPr>
              <p:cNvPr id="368" name="Oval 45"/>
              <p:cNvSpPr/>
              <p:nvPr/>
            </p:nvSpPr>
            <p:spPr>
              <a:xfrm>
                <a:off x="208296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46"/>
              <p:cNvSpPr/>
              <p:nvPr/>
            </p:nvSpPr>
            <p:spPr>
              <a:xfrm>
                <a:off x="2100600" y="3456360"/>
                <a:ext cx="133740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47"/>
              <p:cNvSpPr/>
              <p:nvPr/>
            </p:nvSpPr>
            <p:spPr>
              <a:xfrm>
                <a:off x="2113920" y="3470040"/>
                <a:ext cx="1271880" cy="1313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48"/>
              <p:cNvSpPr/>
              <p:nvPr/>
            </p:nvSpPr>
            <p:spPr>
              <a:xfrm>
                <a:off x="2185560" y="3506760"/>
                <a:ext cx="1131840" cy="106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49"/>
              <p:cNvSpPr/>
              <p:nvPr/>
            </p:nvSpPr>
            <p:spPr>
              <a:xfrm>
                <a:off x="236340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Oval 50"/>
            <p:cNvSpPr/>
            <p:nvPr/>
          </p:nvSpPr>
          <p:spPr>
            <a:xfrm>
              <a:off x="1981080" y="2682720"/>
              <a:ext cx="914400" cy="5335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51"/>
            <p:cNvSpPr/>
            <p:nvPr/>
          </p:nvSpPr>
          <p:spPr>
            <a:xfrm>
              <a:off x="2057400" y="207648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52"/>
            <p:cNvSpPr/>
            <p:nvPr/>
          </p:nvSpPr>
          <p:spPr>
            <a:xfrm>
              <a:off x="2070000" y="20811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53"/>
            <p:cNvSpPr/>
            <p:nvPr/>
          </p:nvSpPr>
          <p:spPr>
            <a:xfrm>
              <a:off x="2081160" y="2092320"/>
              <a:ext cx="95112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54"/>
            <p:cNvSpPr/>
            <p:nvPr/>
          </p:nvSpPr>
          <p:spPr>
            <a:xfrm>
              <a:off x="21351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22543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56"/>
            <p:cNvSpPr/>
            <p:nvPr/>
          </p:nvSpPr>
          <p:spPr>
            <a:xfrm>
              <a:off x="3247920" y="215280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7"/>
            <p:cNvSpPr/>
            <p:nvPr/>
          </p:nvSpPr>
          <p:spPr>
            <a:xfrm>
              <a:off x="3370320" y="16192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58"/>
            <p:cNvSpPr/>
            <p:nvPr/>
          </p:nvSpPr>
          <p:spPr>
            <a:xfrm>
              <a:off x="3379680" y="162252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9"/>
            <p:cNvSpPr/>
            <p:nvPr/>
          </p:nvSpPr>
          <p:spPr>
            <a:xfrm>
              <a:off x="3386160" y="162864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60"/>
            <p:cNvSpPr/>
            <p:nvPr/>
          </p:nvSpPr>
          <p:spPr>
            <a:xfrm>
              <a:off x="3422520" y="1647720"/>
              <a:ext cx="56376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61"/>
            <p:cNvSpPr/>
            <p:nvPr/>
          </p:nvSpPr>
          <p:spPr>
            <a:xfrm>
              <a:off x="3440520" y="184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386" name="Group 33"/>
          <p:cNvGrpSpPr/>
          <p:nvPr/>
        </p:nvGrpSpPr>
        <p:grpSpPr>
          <a:xfrm>
            <a:off x="752760" y="2021040"/>
            <a:ext cx="7282800" cy="3770280"/>
            <a:chOff x="752760" y="2021040"/>
            <a:chExt cx="7282800" cy="3770280"/>
          </a:xfrm>
        </p:grpSpPr>
        <p:sp>
          <p:nvSpPr>
            <p:cNvPr id="387" name="AutoShape 3"/>
            <p:cNvSpPr/>
            <p:nvPr/>
          </p:nvSpPr>
          <p:spPr>
            <a:xfrm rot="17973000">
              <a:off x="4574520" y="27072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 rot="3465600">
              <a:off x="4624920" y="48171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5"/>
            <p:cNvSpPr/>
            <p:nvPr/>
          </p:nvSpPr>
          <p:spPr>
            <a:xfrm rot="14368800">
              <a:off x="3405960" y="2729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6"/>
            <p:cNvSpPr/>
            <p:nvPr/>
          </p:nvSpPr>
          <p:spPr>
            <a:xfrm rot="7534800">
              <a:off x="3367440" y="4783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7"/>
            <p:cNvSpPr/>
            <p:nvPr/>
          </p:nvSpPr>
          <p:spPr>
            <a:xfrm>
              <a:off x="5203800" y="37814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8"/>
            <p:cNvSpPr/>
            <p:nvPr/>
          </p:nvSpPr>
          <p:spPr>
            <a:xfrm rot="10800000">
              <a:off x="2793600" y="37746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2353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"/>
            <p:cNvSpPr/>
            <p:nvPr/>
          </p:nvSpPr>
          <p:spPr>
            <a:xfrm>
              <a:off x="2505240" y="204624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4800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10"/>
            <p:cNvSpPr/>
            <p:nvPr/>
          </p:nvSpPr>
          <p:spPr>
            <a:xfrm>
              <a:off x="5556600" y="20210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11"/>
            <p:cNvSpPr/>
            <p:nvPr/>
          </p:nvSpPr>
          <p:spPr>
            <a:xfrm>
              <a:off x="1667160" y="20210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2"/>
            <p:cNvSpPr/>
            <p:nvPr/>
          </p:nvSpPr>
          <p:spPr>
            <a:xfrm>
              <a:off x="6471000" y="37735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3"/>
            <p:cNvSpPr/>
            <p:nvPr/>
          </p:nvSpPr>
          <p:spPr>
            <a:xfrm>
              <a:off x="5556600" y="5373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4"/>
            <p:cNvSpPr/>
            <p:nvPr/>
          </p:nvSpPr>
          <p:spPr>
            <a:xfrm>
              <a:off x="752760" y="37735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1590840" y="5311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6"/>
            <p:cNvSpPr/>
            <p:nvPr/>
          </p:nvSpPr>
          <p:spPr>
            <a:xfrm>
              <a:off x="2362320" y="38242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7"/>
            <p:cNvSpPr/>
            <p:nvPr/>
          </p:nvSpPr>
          <p:spPr>
            <a:xfrm>
              <a:off x="3276720" y="21733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8"/>
            <p:cNvSpPr/>
            <p:nvPr/>
          </p:nvSpPr>
          <p:spPr>
            <a:xfrm>
              <a:off x="5181480" y="2173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9"/>
            <p:cNvSpPr/>
            <p:nvPr/>
          </p:nvSpPr>
          <p:spPr>
            <a:xfrm>
              <a:off x="3200400" y="5373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20"/>
            <p:cNvSpPr/>
            <p:nvPr/>
          </p:nvSpPr>
          <p:spPr>
            <a:xfrm>
              <a:off x="5181480" y="53737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21"/>
            <p:cNvSpPr/>
            <p:nvPr/>
          </p:nvSpPr>
          <p:spPr>
            <a:xfrm>
              <a:off x="6095880" y="38116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9ed1ed"/>
                </a:gs>
                <a:gs pos="100000">
                  <a:srgbClr val="38a0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22"/>
            <p:cNvSpPr/>
            <p:nvPr/>
          </p:nvSpPr>
          <p:spPr>
            <a:xfrm>
              <a:off x="3544920" y="307656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23"/>
            <p:cNvSpPr/>
            <p:nvPr/>
          </p:nvSpPr>
          <p:spPr>
            <a:xfrm>
              <a:off x="3549600" y="307512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99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24"/>
            <p:cNvSpPr/>
            <p:nvPr/>
          </p:nvSpPr>
          <p:spPr>
            <a:xfrm>
              <a:off x="3656160" y="31860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25"/>
            <p:cNvSpPr/>
            <p:nvPr/>
          </p:nvSpPr>
          <p:spPr>
            <a:xfrm>
              <a:off x="3652920" y="3189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006161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26"/>
            <p:cNvSpPr/>
            <p:nvPr/>
          </p:nvSpPr>
          <p:spPr>
            <a:xfrm>
              <a:off x="3730680" y="326088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27"/>
            <p:cNvGrpSpPr/>
            <p:nvPr/>
          </p:nvGrpSpPr>
          <p:grpSpPr>
            <a:xfrm>
              <a:off x="3751200" y="3279600"/>
              <a:ext cx="1290600" cy="1278000"/>
              <a:chOff x="3751200" y="3279600"/>
              <a:chExt cx="1290600" cy="1278000"/>
            </a:xfrm>
          </p:grpSpPr>
          <p:sp>
            <p:nvSpPr>
              <p:cNvPr id="412" name="Oval 28"/>
              <p:cNvSpPr/>
              <p:nvPr/>
            </p:nvSpPr>
            <p:spPr>
              <a:xfrm>
                <a:off x="3751200" y="32796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9"/>
              <p:cNvSpPr/>
              <p:nvPr/>
            </p:nvSpPr>
            <p:spPr>
              <a:xfrm>
                <a:off x="3767400" y="328644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30"/>
              <p:cNvSpPr/>
              <p:nvPr/>
            </p:nvSpPr>
            <p:spPr>
              <a:xfrm>
                <a:off x="3781080" y="32990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31"/>
              <p:cNvSpPr/>
              <p:nvPr/>
            </p:nvSpPr>
            <p:spPr>
              <a:xfrm>
                <a:off x="3850920" y="33314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 Box 32"/>
            <p:cNvSpPr/>
            <p:nvPr/>
          </p:nvSpPr>
          <p:spPr>
            <a:xfrm>
              <a:off x="4014360" y="37530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418" name="Group 53"/>
          <p:cNvGrpSpPr/>
          <p:nvPr/>
        </p:nvGrpSpPr>
        <p:grpSpPr>
          <a:xfrm>
            <a:off x="2632680" y="2057400"/>
            <a:ext cx="3979800" cy="3652920"/>
            <a:chOff x="2632680" y="2057400"/>
            <a:chExt cx="3979800" cy="3652920"/>
          </a:xfrm>
        </p:grpSpPr>
        <p:sp>
          <p:nvSpPr>
            <p:cNvPr id="419" name="AutoShape 54"/>
            <p:cNvSpPr/>
            <p:nvPr/>
          </p:nvSpPr>
          <p:spPr>
            <a:xfrm>
              <a:off x="3195360" y="2357640"/>
              <a:ext cx="2917800" cy="2881080"/>
            </a:xfrm>
            <a:custGeom>
              <a:avLst/>
              <a:gdLst>
                <a:gd name="textAreaLeft" fmla="*/ 426960 w 2917800"/>
                <a:gd name="textAreaRight" fmla="*/ 2490840 w 2917800"/>
                <a:gd name="textAreaTop" fmla="*/ 422280 h 2881080"/>
                <a:gd name="textAreaBottom" fmla="*/ 2458800 h 28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5"/>
            <p:cNvSpPr/>
            <p:nvPr/>
          </p:nvSpPr>
          <p:spPr>
            <a:xfrm rot="5400000">
              <a:off x="4632480" y="2285280"/>
              <a:ext cx="143676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6"/>
            <p:cNvSpPr/>
            <p:nvPr/>
          </p:nvSpPr>
          <p:spPr>
            <a:xfrm rot="7200000">
              <a:off x="4902480" y="2743560"/>
              <a:ext cx="1436400" cy="14605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100000">
                  <a:srgbClr val="3399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57"/>
            <p:cNvSpPr/>
            <p:nvPr/>
          </p:nvSpPr>
          <p:spPr>
            <a:xfrm rot="1800000">
              <a:off x="4983120" y="3741480"/>
              <a:ext cx="1231920" cy="782640"/>
            </a:xfrm>
            <a:prstGeom prst="triangle">
              <a:avLst>
                <a:gd name="adj" fmla="val 50000"/>
              </a:avLst>
            </a:prstGeom>
            <a:solidFill>
              <a:srgbClr val="4e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58"/>
            <p:cNvGrpSpPr/>
            <p:nvPr/>
          </p:nvGrpSpPr>
          <p:grpSpPr>
            <a:xfrm>
              <a:off x="3359520" y="3734640"/>
              <a:ext cx="2514240" cy="1975680"/>
              <a:chOff x="3359520" y="3734640"/>
              <a:chExt cx="2514240" cy="1975680"/>
            </a:xfrm>
          </p:grpSpPr>
          <p:sp>
            <p:nvSpPr>
              <p:cNvPr id="424" name="Freeform 59"/>
              <p:cNvSpPr/>
              <p:nvPr/>
            </p:nvSpPr>
            <p:spPr>
              <a:xfrm rot="12600000">
                <a:off x="4155120" y="4001760"/>
                <a:ext cx="1455840" cy="144000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4ec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0"/>
              <p:cNvSpPr/>
              <p:nvPr/>
            </p:nvSpPr>
            <p:spPr>
              <a:xfrm rot="14400000">
                <a:off x="3632040" y="3993480"/>
                <a:ext cx="1436760" cy="14594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45b24"/>
                  </a:gs>
                  <a:gs pos="100000">
                    <a:srgbClr val="4ec44e"/>
                  </a:gs>
                </a:gsLst>
                <a:lin ang="12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AutoShape 61"/>
            <p:cNvSpPr/>
            <p:nvPr/>
          </p:nvSpPr>
          <p:spPr>
            <a:xfrm rot="9000000">
              <a:off x="3123720" y="4001400"/>
              <a:ext cx="1231920" cy="70020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62"/>
            <p:cNvGrpSpPr/>
            <p:nvPr/>
          </p:nvGrpSpPr>
          <p:grpSpPr>
            <a:xfrm>
              <a:off x="2632680" y="2295720"/>
              <a:ext cx="1984680" cy="2165760"/>
              <a:chOff x="2632680" y="2295720"/>
              <a:chExt cx="1984680" cy="2165760"/>
            </a:xfrm>
          </p:grpSpPr>
          <p:sp>
            <p:nvSpPr>
              <p:cNvPr id="428" name="Freeform 63"/>
              <p:cNvSpPr/>
              <p:nvPr/>
            </p:nvSpPr>
            <p:spPr>
              <a:xfrm rot="19800000">
                <a:off x="2895120" y="2752560"/>
                <a:ext cx="145620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64"/>
              <p:cNvSpPr/>
              <p:nvPr/>
            </p:nvSpPr>
            <p:spPr>
              <a:xfrm>
                <a:off x="3161520" y="2295720"/>
                <a:ext cx="1455840" cy="144108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AutoShape 65"/>
            <p:cNvSpPr/>
            <p:nvPr/>
          </p:nvSpPr>
          <p:spPr>
            <a:xfrm rot="16200000">
              <a:off x="3836520" y="2268360"/>
              <a:ext cx="1216080" cy="79380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AutoShape 66"/>
          <p:cNvSpPr/>
          <p:nvPr/>
        </p:nvSpPr>
        <p:spPr>
          <a:xfrm>
            <a:off x="1066680" y="270180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67"/>
          <p:cNvSpPr/>
          <p:nvPr/>
        </p:nvSpPr>
        <p:spPr>
          <a:xfrm>
            <a:off x="6172200" y="270180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8"/>
          <p:cNvSpPr/>
          <p:nvPr/>
        </p:nvSpPr>
        <p:spPr>
          <a:xfrm>
            <a:off x="3657600" y="544500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435" name="Group 99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36" name="Group 92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37" name="Rectangle 3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4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95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40" name="Group 58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41" name="Group 59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42" name="Freeform 60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Freeform 61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62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45" name="Freeform 63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64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65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48" name="Oval 66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68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69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70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Group 71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54" name="Oval 72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Oval 73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74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75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Text Box 76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77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96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61" name="Group 40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62" name="Group 41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63" name="Freeform 42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43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44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46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Group 47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69" name="Oval 48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50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Oval 51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Oval 52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53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75" name="Oval 54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Oval 55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56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57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Text Box 78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79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97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82" name="Group 5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83" name="Group 6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84" name="Freeform 7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8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9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87" name="Freeform 10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Freeform 11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2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90" name="Oval 13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15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16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17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18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96" name="Oval 19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Oval 20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21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22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0" name="Text Box 80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81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98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503" name="Group 23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504" name="Group 24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505" name="Freeform 25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26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Group 27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508" name="Freeform 28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Freeform 29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0" name="Oval 30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Oval 32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3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Oval 34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5" name="Group 35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516" name="Oval 36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37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Oval 38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39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Text Box 82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3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94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23" name="Text Box 84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0048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85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0048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86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80048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87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80048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7" name="AutoShape 88"/>
              <p:cNvCxnSpPr>
                <a:stCxn id="523" idx="3"/>
                <a:endCxn id="524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480048"/>
                </a:solidFill>
                <a:miter/>
                <a:tailEnd len="med" type="triangle" w="med"/>
              </a:ln>
            </p:spPr>
          </p:cxnSp>
          <p:cxnSp>
            <p:nvCxnSpPr>
              <p:cNvPr id="528" name="AutoShape 89"/>
              <p:cNvCxnSpPr>
                <a:stCxn id="524" idx="3"/>
                <a:endCxn id="525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480048"/>
                </a:solidFill>
                <a:miter/>
                <a:tailEnd len="med" type="triangle" w="med"/>
              </a:ln>
            </p:spPr>
          </p:cxnSp>
          <p:cxnSp>
            <p:nvCxnSpPr>
              <p:cNvPr id="529" name="AutoShape 93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480048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531" name="Group 9"/>
          <p:cNvGrpSpPr/>
          <p:nvPr/>
        </p:nvGrpSpPr>
        <p:grpSpPr>
          <a:xfrm>
            <a:off x="990720" y="2133720"/>
            <a:ext cx="6857640" cy="3428640"/>
            <a:chOff x="990720" y="2133720"/>
            <a:chExt cx="6857640" cy="3428640"/>
          </a:xfrm>
        </p:grpSpPr>
        <p:sp>
          <p:nvSpPr>
            <p:cNvPr id="532" name="AutoShape 3"/>
            <p:cNvSpPr/>
            <p:nvPr/>
          </p:nvSpPr>
          <p:spPr>
            <a:xfrm>
              <a:off x="5285520" y="2903400"/>
              <a:ext cx="2562840" cy="2658960"/>
            </a:xfrm>
            <a:custGeom>
              <a:avLst/>
              <a:gdLst>
                <a:gd name="textAreaLeft" fmla="*/ 0 w 2562840"/>
                <a:gd name="textAreaRight" fmla="*/ 2562840 w 25628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8a0da"/>
                </a:gs>
                <a:gs pos="100000">
                  <a:srgbClr val="74bde5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4"/>
            <p:cNvSpPr/>
            <p:nvPr/>
          </p:nvSpPr>
          <p:spPr>
            <a:xfrm>
              <a:off x="31381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4db8b8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5"/>
            <p:cNvSpPr/>
            <p:nvPr/>
          </p:nvSpPr>
          <p:spPr>
            <a:xfrm>
              <a:off x="990720" y="2903400"/>
              <a:ext cx="2701440" cy="265896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8960"/>
                <a:gd name="textAreaBottom" fmla="*/ 2659320 h 265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353d9"/>
                </a:gs>
                <a:gs pos="100000">
                  <a:srgbClr val="6587e4"/>
                </a:gs>
              </a:gsLst>
              <a:lin ang="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6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353d9"/>
                </a:gs>
                <a:gs pos="100000">
                  <a:srgbClr val="6587e4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7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4db8b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8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a0da"/>
                </a:gs>
                <a:gs pos="100000">
                  <a:srgbClr val="74bde5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Block Diagram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39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44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46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Oval 12"/>
              <p:cNvSpPr/>
              <p:nvPr/>
            </p:nvSpPr>
            <p:spPr>
              <a:xfrm>
                <a:off x="302292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13"/>
              <p:cNvSpPr/>
              <p:nvPr/>
            </p:nvSpPr>
            <p:spPr>
              <a:xfrm>
                <a:off x="309636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35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52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8"/>
              <p:cNvSpPr/>
              <p:nvPr/>
            </p:nvSpPr>
            <p:spPr>
              <a:xfrm>
                <a:off x="4687560" y="2246400"/>
                <a:ext cx="13680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9"/>
              <p:cNvSpPr/>
              <p:nvPr/>
            </p:nvSpPr>
            <p:spPr>
              <a:xfrm>
                <a:off x="4761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Rectangle 20"/>
            <p:cNvSpPr/>
            <p:nvPr/>
          </p:nvSpPr>
          <p:spPr>
            <a:xfrm rot="3418800">
              <a:off x="4595400" y="200916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58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Oval 25"/>
              <p:cNvSpPr/>
              <p:nvPr/>
            </p:nvSpPr>
            <p:spPr>
              <a:xfrm>
                <a:off x="668376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2353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004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004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004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004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669960" y="641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Table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573" name="Freeform 171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b6dcf2"/>
              </a:gs>
              <a:gs pos="100000">
                <a:srgbClr val="38a0d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172"/>
          <p:cNvGrpSpPr/>
          <p:nvPr/>
        </p:nvGrpSpPr>
        <p:grpSpPr>
          <a:xfrm>
            <a:off x="875160" y="2018880"/>
            <a:ext cx="4125960" cy="3931560"/>
            <a:chOff x="875160" y="2018880"/>
            <a:chExt cx="4125960" cy="3931560"/>
          </a:xfrm>
        </p:grpSpPr>
        <p:sp>
          <p:nvSpPr>
            <p:cNvPr id="575" name="AutoShape 173"/>
            <p:cNvSpPr/>
            <p:nvPr/>
          </p:nvSpPr>
          <p:spPr>
            <a:xfrm rot="5433000">
              <a:off x="350964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74"/>
            <p:cNvSpPr/>
            <p:nvPr/>
          </p:nvSpPr>
          <p:spPr>
            <a:xfrm rot="5433000">
              <a:off x="2797920" y="2068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a4a65"/>
                </a:gs>
                <a:gs pos="50000">
                  <a:srgbClr val="38a0da"/>
                </a:gs>
                <a:gs pos="100000">
                  <a:srgbClr val="1a4a65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utoShape 175"/>
            <p:cNvSpPr/>
            <p:nvPr/>
          </p:nvSpPr>
          <p:spPr>
            <a:xfrm rot="5433000">
              <a:off x="2874240" y="4402440"/>
              <a:ext cx="1527480" cy="1441080"/>
            </a:xfrm>
            <a:prstGeom prst="hexagon">
              <a:avLst>
                <a:gd name="adj" fmla="val 26499"/>
                <a:gd name="vf" fmla="val 115470"/>
              </a:avLst>
            </a:prstGeom>
            <a:gradFill rotWithShape="0">
              <a:gsLst>
                <a:gs pos="0">
                  <a:srgbClr val="1a4a65"/>
                </a:gs>
                <a:gs pos="50000">
                  <a:srgbClr val="38a0da"/>
                </a:gs>
                <a:gs pos="100000">
                  <a:srgbClr val="1a4a65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76"/>
            <p:cNvSpPr/>
            <p:nvPr/>
          </p:nvSpPr>
          <p:spPr>
            <a:xfrm rot="5400000">
              <a:off x="2166120" y="325440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63382b"/>
                </a:gs>
                <a:gs pos="50000">
                  <a:srgbClr val="d77a5d"/>
                </a:gs>
                <a:gs pos="100000">
                  <a:srgbClr val="63382b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77"/>
            <p:cNvSpPr/>
            <p:nvPr/>
          </p:nvSpPr>
          <p:spPr>
            <a:xfrm rot="5433000">
              <a:off x="1483560" y="213048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8"/>
            <p:cNvSpPr/>
            <p:nvPr/>
          </p:nvSpPr>
          <p:spPr>
            <a:xfrm rot="5433000">
              <a:off x="1535760" y="445932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AutoShape 179"/>
            <p:cNvSpPr/>
            <p:nvPr/>
          </p:nvSpPr>
          <p:spPr>
            <a:xfrm rot="5433000">
              <a:off x="839160" y="3319560"/>
              <a:ext cx="1527120" cy="1441080"/>
            </a:xfrm>
            <a:prstGeom prst="hexagon">
              <a:avLst>
                <a:gd name="adj" fmla="val 26493"/>
                <a:gd name="vf" fmla="val 115470"/>
              </a:avLst>
            </a:prstGeom>
            <a:gradFill rotWithShape="0">
              <a:gsLst>
                <a:gs pos="0">
                  <a:srgbClr val="1a4a65"/>
                </a:gs>
                <a:gs pos="50000">
                  <a:srgbClr val="38a0da"/>
                </a:gs>
                <a:gs pos="100000">
                  <a:srgbClr val="1a4a65"/>
                </a:gs>
              </a:gsLst>
              <a:lin ang="1887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Rectangle 181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0048"/>
                </a:solidFill>
                <a:latin typeface="Arial"/>
                <a:ea typeface="宋体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584" name="Group 30"/>
          <p:cNvGrpSpPr/>
          <p:nvPr/>
        </p:nvGrpSpPr>
        <p:grpSpPr>
          <a:xfrm>
            <a:off x="1074960" y="1531440"/>
            <a:ext cx="6602040" cy="4675320"/>
            <a:chOff x="1074960" y="1531440"/>
            <a:chExt cx="6602040" cy="4675320"/>
          </a:xfrm>
        </p:grpSpPr>
        <p:sp>
          <p:nvSpPr>
            <p:cNvPr id="585" name="Oval 3"/>
            <p:cNvSpPr/>
            <p:nvPr/>
          </p:nvSpPr>
          <p:spPr>
            <a:xfrm>
              <a:off x="2111400" y="449568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d2d2d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4"/>
            <p:cNvSpPr/>
            <p:nvPr/>
          </p:nvSpPr>
          <p:spPr>
            <a:xfrm rot="20601600">
              <a:off x="1386000" y="24285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Oval 5"/>
            <p:cNvSpPr/>
            <p:nvPr/>
          </p:nvSpPr>
          <p:spPr>
            <a:xfrm rot="20601600">
              <a:off x="1441080" y="22669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rc 6"/>
            <p:cNvSpPr/>
            <p:nvPr/>
          </p:nvSpPr>
          <p:spPr>
            <a:xfrm rot="20601600">
              <a:off x="4314960" y="3338640"/>
              <a:ext cx="2652480" cy="1320840"/>
            </a:xfrm>
            <a:custGeom>
              <a:avLst/>
              <a:gdLst/>
              <a:ahLst/>
              <a:rect l="l" t="t" r="r" b="b"/>
              <a:pathLst>
                <a:path fill="none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</a:path>
                <a:path stroke="0" w="19933" h="19523">
                  <a:moveTo>
                    <a:pt x="19932" y="8320"/>
                  </a:moveTo>
                  <a:cubicBezTo>
                    <a:pt x="17876" y="13247"/>
                    <a:pt x="14067" y="17238"/>
                    <a:pt x="9241" y="19522"/>
                  </a:cubicBezTo>
                  <a:lnTo>
                    <a:pt x="0" y="0"/>
                  </a:lnTo>
                  <a:lnTo>
                    <a:pt x="19932" y="8320"/>
                  </a:lnTo>
                  <a:close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rc 7"/>
            <p:cNvSpPr/>
            <p:nvPr/>
          </p:nvSpPr>
          <p:spPr>
            <a:xfrm rot="20601600">
              <a:off x="4091040" y="2344680"/>
              <a:ext cx="28494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rc 8"/>
            <p:cNvSpPr/>
            <p:nvPr/>
          </p:nvSpPr>
          <p:spPr>
            <a:xfrm flipH="1" rot="20602200">
              <a:off x="1522800" y="363960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Arc 9"/>
            <p:cNvSpPr/>
            <p:nvPr/>
          </p:nvSpPr>
          <p:spPr>
            <a:xfrm rot="20601600">
              <a:off x="3333600" y="2073240"/>
              <a:ext cx="28148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rc 10"/>
            <p:cNvSpPr/>
            <p:nvPr/>
          </p:nvSpPr>
          <p:spPr>
            <a:xfrm flipH="1" rot="20602200">
              <a:off x="1294920" y="27252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1"/>
            <p:cNvSpPr/>
            <p:nvPr/>
          </p:nvSpPr>
          <p:spPr>
            <a:xfrm rot="20601600">
              <a:off x="4430880" y="358776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"/>
            <p:cNvSpPr/>
            <p:nvPr/>
          </p:nvSpPr>
          <p:spPr>
            <a:xfrm rot="20601600">
              <a:off x="4323960" y="333504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Group 13"/>
            <p:cNvGrpSpPr/>
            <p:nvPr/>
          </p:nvGrpSpPr>
          <p:grpSpPr>
            <a:xfrm>
              <a:off x="3912480" y="3011760"/>
              <a:ext cx="3252240" cy="2230920"/>
              <a:chOff x="3912480" y="3011760"/>
              <a:chExt cx="3252240" cy="2230920"/>
            </a:xfrm>
          </p:grpSpPr>
          <p:sp>
            <p:nvSpPr>
              <p:cNvPr id="596" name="Arc 14"/>
              <p:cNvSpPr/>
              <p:nvPr/>
            </p:nvSpPr>
            <p:spPr>
              <a:xfrm rot="20712600">
                <a:off x="4025880" y="3366720"/>
                <a:ext cx="2949480" cy="127152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5"/>
              <p:cNvSpPr/>
              <p:nvPr/>
            </p:nvSpPr>
            <p:spPr>
              <a:xfrm rot="20712600">
                <a:off x="4110120" y="3555360"/>
                <a:ext cx="137772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6198"/>
                  </a:gs>
                  <a:gs pos="100000">
                    <a:srgbClr val="352973"/>
                  </a:gs>
                </a:gsLst>
                <a:lin ang="35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6"/>
              <p:cNvSpPr/>
              <p:nvPr/>
            </p:nvSpPr>
            <p:spPr>
              <a:xfrm rot="20712600">
                <a:off x="5486400" y="3724200"/>
                <a:ext cx="1579320" cy="9788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17"/>
            <p:cNvGrpSpPr/>
            <p:nvPr/>
          </p:nvGrpSpPr>
          <p:grpSpPr>
            <a:xfrm>
              <a:off x="4406040" y="2838240"/>
              <a:ext cx="3270960" cy="2463840"/>
              <a:chOff x="4406040" y="2838240"/>
              <a:chExt cx="3270960" cy="2463840"/>
            </a:xfrm>
          </p:grpSpPr>
          <p:sp>
            <p:nvSpPr>
              <p:cNvPr id="600" name="Freeform 18"/>
              <p:cNvSpPr/>
              <p:nvPr/>
            </p:nvSpPr>
            <p:spPr>
              <a:xfrm rot="20601600">
                <a:off x="5997240" y="362700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8be8"/>
                  </a:gs>
                  <a:gs pos="100000">
                    <a:srgbClr val="66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rc 19"/>
              <p:cNvSpPr/>
              <p:nvPr/>
            </p:nvSpPr>
            <p:spPr>
              <a:xfrm rot="20539200">
                <a:off x="4549320" y="3246120"/>
                <a:ext cx="2905200" cy="1397160"/>
              </a:xfrm>
              <a:custGeom>
                <a:avLst/>
                <a:gdLst/>
                <a:ahLst/>
                <a:rect l="l" t="t" r="r" b="b"/>
                <a:pathLst>
                  <a:path fill="none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</a:path>
                  <a:path stroke="0" w="19866" h="19523">
                    <a:moveTo>
                      <a:pt x="19866" y="8479"/>
                    </a:moveTo>
                    <a:cubicBezTo>
                      <a:pt x="17793" y="13335"/>
                      <a:pt x="14014" y="17263"/>
                      <a:pt x="9241" y="19522"/>
                    </a:cubicBezTo>
                    <a:lnTo>
                      <a:pt x="0" y="0"/>
                    </a:lnTo>
                    <a:lnTo>
                      <a:pt x="19866" y="8479"/>
                    </a:lnTo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0"/>
              <p:cNvSpPr/>
              <p:nvPr/>
            </p:nvSpPr>
            <p:spPr>
              <a:xfrm rot="20601600">
                <a:off x="4681440" y="3457800"/>
                <a:ext cx="1332000" cy="168876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007a1"/>
                  </a:gs>
                  <a:gs pos="100000">
                    <a:srgbClr val="af8ed4"/>
                  </a:gs>
                </a:gsLst>
                <a:lin ang="36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Oval 21"/>
            <p:cNvSpPr/>
            <p:nvPr/>
          </p:nvSpPr>
          <p:spPr>
            <a:xfrm rot="20601600">
              <a:off x="2903400" y="29808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22"/>
            <p:cNvSpPr/>
            <p:nvPr/>
          </p:nvSpPr>
          <p:spPr>
            <a:xfrm rot="20601600">
              <a:off x="2979720" y="321588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23"/>
            <p:cNvSpPr/>
            <p:nvPr/>
          </p:nvSpPr>
          <p:spPr>
            <a:xfrm>
              <a:off x="5639760" y="28018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 Box 24"/>
            <p:cNvSpPr/>
            <p:nvPr/>
          </p:nvSpPr>
          <p:spPr>
            <a:xfrm>
              <a:off x="4039560" y="23446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 Box 25"/>
            <p:cNvSpPr/>
            <p:nvPr/>
          </p:nvSpPr>
          <p:spPr>
            <a:xfrm>
              <a:off x="2210760" y="3106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982160" y="44020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3735000" y="46306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28"/>
            <p:cNvSpPr/>
            <p:nvPr/>
          </p:nvSpPr>
          <p:spPr>
            <a:xfrm>
              <a:off x="5716080" y="37926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612" name="Group 47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613" name="AutoShape 48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49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50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51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52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53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54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620" name="Oval 55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56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57"/>
              <p:cNvSpPr/>
              <p:nvPr/>
            </p:nvSpPr>
            <p:spPr>
              <a:xfrm>
                <a:off x="190188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58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Oval 59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60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61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62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628" name="AutoShape 63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64"/>
            <p:cNvSpPr/>
            <p:nvPr/>
          </p:nvSpPr>
          <p:spPr>
            <a:xfrm>
              <a:off x="353844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5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66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67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68"/>
            <p:cNvSpPr/>
            <p:nvPr/>
          </p:nvSpPr>
          <p:spPr>
            <a:xfrm>
              <a:off x="4255920" y="1989000"/>
              <a:ext cx="62244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69"/>
            <p:cNvSpPr/>
            <p:nvPr/>
          </p:nvSpPr>
          <p:spPr>
            <a:xfrm>
              <a:off x="4264200" y="199224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70"/>
            <p:cNvSpPr/>
            <p:nvPr/>
          </p:nvSpPr>
          <p:spPr>
            <a:xfrm>
              <a:off x="4270320" y="1998720"/>
              <a:ext cx="57780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71"/>
            <p:cNvSpPr/>
            <p:nvPr/>
          </p:nvSpPr>
          <p:spPr>
            <a:xfrm>
              <a:off x="4305240" y="2014560"/>
              <a:ext cx="51300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72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73"/>
            <p:cNvSpPr/>
            <p:nvPr/>
          </p:nvSpPr>
          <p:spPr>
            <a:xfrm>
              <a:off x="358128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74"/>
            <p:cNvSpPr/>
            <p:nvPr/>
          </p:nvSpPr>
          <p:spPr>
            <a:xfrm>
              <a:off x="3508200" y="5149800"/>
              <a:ext cx="21639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75"/>
            <p:cNvSpPr/>
            <p:nvPr/>
          </p:nvSpPr>
          <p:spPr>
            <a:xfrm>
              <a:off x="35528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Group 76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642" name="AutoShape 77"/>
            <p:cNvSpPr/>
            <p:nvPr/>
          </p:nvSpPr>
          <p:spPr>
            <a:xfrm>
              <a:off x="5867280" y="22921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78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79"/>
            <p:cNvSpPr/>
            <p:nvPr/>
          </p:nvSpPr>
          <p:spPr>
            <a:xfrm>
              <a:off x="5918040" y="43639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80"/>
            <p:cNvSpPr/>
            <p:nvPr/>
          </p:nvSpPr>
          <p:spPr>
            <a:xfrm>
              <a:off x="5918040" y="23223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81"/>
            <p:cNvGrpSpPr/>
            <p:nvPr/>
          </p:nvGrpSpPr>
          <p:grpSpPr>
            <a:xfrm>
              <a:off x="6611760" y="1984320"/>
              <a:ext cx="642960" cy="642960"/>
              <a:chOff x="6611760" y="1984320"/>
              <a:chExt cx="642960" cy="642960"/>
            </a:xfrm>
          </p:grpSpPr>
          <p:sp>
            <p:nvSpPr>
              <p:cNvPr id="647" name="Oval 82"/>
              <p:cNvSpPr/>
              <p:nvPr/>
            </p:nvSpPr>
            <p:spPr>
              <a:xfrm>
                <a:off x="661176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Oval 83"/>
              <p:cNvSpPr/>
              <p:nvPr/>
            </p:nvSpPr>
            <p:spPr>
              <a:xfrm>
                <a:off x="661824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Oval 84"/>
              <p:cNvSpPr/>
              <p:nvPr/>
            </p:nvSpPr>
            <p:spPr>
              <a:xfrm>
                <a:off x="6626160" y="19929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85"/>
              <p:cNvSpPr/>
              <p:nvPr/>
            </p:nvSpPr>
            <p:spPr>
              <a:xfrm>
                <a:off x="663264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86"/>
              <p:cNvSpPr/>
              <p:nvPr/>
            </p:nvSpPr>
            <p:spPr>
              <a:xfrm>
                <a:off x="666648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2" name="Text Box 87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88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AutoShape 89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90"/>
            <p:cNvSpPr/>
            <p:nvPr/>
          </p:nvSpPr>
          <p:spPr>
            <a:xfrm>
              <a:off x="590544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762120" y="1066680"/>
            <a:ext cx="60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80048"/>
                </a:solidFill>
                <a:latin typeface="Arial"/>
                <a:ea typeface="宋体"/>
              </a:rPr>
              <a:t>Add a short content slide p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1752480" y="695160"/>
            <a:ext cx="670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8a0da"/>
                </a:solidFill>
                <a:latin typeface="Arial"/>
                <a:ea typeface="宋体"/>
              </a:rPr>
              <a:t>Add your company slog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5"/>
          <p:cNvGrpSpPr/>
          <p:nvPr/>
        </p:nvGrpSpPr>
        <p:grpSpPr>
          <a:xfrm>
            <a:off x="1981080" y="2666880"/>
            <a:ext cx="5334120" cy="528480"/>
            <a:chOff x="1981080" y="2666880"/>
            <a:chExt cx="5334120" cy="528480"/>
          </a:xfrm>
        </p:grpSpPr>
        <p:grpSp>
          <p:nvGrpSpPr>
            <p:cNvPr id="98" name="Group 36"/>
            <p:cNvGrpSpPr/>
            <p:nvPr/>
          </p:nvGrpSpPr>
          <p:grpSpPr>
            <a:xfrm>
              <a:off x="1981080" y="2666880"/>
              <a:ext cx="5334120" cy="512640"/>
              <a:chOff x="1981080" y="2666880"/>
              <a:chExt cx="5334120" cy="512640"/>
            </a:xfrm>
          </p:grpSpPr>
          <p:sp>
            <p:nvSpPr>
              <p:cNvPr id="99" name="AutoShape 37"/>
              <p:cNvSpPr/>
              <p:nvPr/>
            </p:nvSpPr>
            <p:spPr>
              <a:xfrm>
                <a:off x="1981080" y="266688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48be67"/>
                  </a:gs>
                  <a:gs pos="100000">
                    <a:srgbClr val="bce7c8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38"/>
              <p:cNvSpPr/>
              <p:nvPr/>
            </p:nvSpPr>
            <p:spPr>
              <a:xfrm>
                <a:off x="2026440" y="30430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2f094">
                      <a:alpha val="0"/>
                    </a:srgbClr>
                  </a:gs>
                  <a:gs pos="100000">
                    <a:srgbClr val="91f2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39"/>
              <p:cNvSpPr/>
              <p:nvPr/>
            </p:nvSpPr>
            <p:spPr>
              <a:xfrm>
                <a:off x="2026440" y="267804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40"/>
            <p:cNvSpPr/>
            <p:nvPr/>
          </p:nvSpPr>
          <p:spPr>
            <a:xfrm>
              <a:off x="2895480" y="27270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41"/>
            <p:cNvGrpSpPr/>
            <p:nvPr/>
          </p:nvGrpSpPr>
          <p:grpSpPr>
            <a:xfrm>
              <a:off x="2362320" y="2666880"/>
              <a:ext cx="533160" cy="528480"/>
              <a:chOff x="2362320" y="2666880"/>
              <a:chExt cx="533160" cy="528480"/>
            </a:xfrm>
          </p:grpSpPr>
          <p:sp>
            <p:nvSpPr>
              <p:cNvPr id="104" name="Oval 42"/>
              <p:cNvSpPr/>
              <p:nvPr/>
            </p:nvSpPr>
            <p:spPr>
              <a:xfrm>
                <a:off x="2362320" y="2666880"/>
                <a:ext cx="53316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43"/>
              <p:cNvSpPr/>
              <p:nvPr/>
            </p:nvSpPr>
            <p:spPr>
              <a:xfrm>
                <a:off x="2367720" y="2670840"/>
                <a:ext cx="515520" cy="511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44"/>
              <p:cNvSpPr/>
              <p:nvPr/>
            </p:nvSpPr>
            <p:spPr>
              <a:xfrm>
                <a:off x="2374200" y="2673720"/>
                <a:ext cx="50364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45"/>
              <p:cNvSpPr/>
              <p:nvPr/>
            </p:nvSpPr>
            <p:spPr>
              <a:xfrm>
                <a:off x="2379600" y="2678760"/>
                <a:ext cx="478800" cy="46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46"/>
              <p:cNvSpPr/>
              <p:nvPr/>
            </p:nvSpPr>
            <p:spPr>
              <a:xfrm>
                <a:off x="2407680" y="2691360"/>
                <a:ext cx="425520" cy="37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47"/>
            <p:cNvSpPr/>
            <p:nvPr/>
          </p:nvSpPr>
          <p:spPr>
            <a:xfrm>
              <a:off x="2438280" y="2679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8"/>
          <p:cNvGrpSpPr/>
          <p:nvPr/>
        </p:nvGrpSpPr>
        <p:grpSpPr>
          <a:xfrm>
            <a:off x="1981080" y="3390840"/>
            <a:ext cx="5333760" cy="528840"/>
            <a:chOff x="1981080" y="3390840"/>
            <a:chExt cx="5333760" cy="528840"/>
          </a:xfrm>
        </p:grpSpPr>
        <p:grpSp>
          <p:nvGrpSpPr>
            <p:cNvPr id="111" name="Group 49"/>
            <p:cNvGrpSpPr/>
            <p:nvPr/>
          </p:nvGrpSpPr>
          <p:grpSpPr>
            <a:xfrm>
              <a:off x="1981080" y="3403800"/>
              <a:ext cx="5333760" cy="512640"/>
              <a:chOff x="1981080" y="3403800"/>
              <a:chExt cx="5333760" cy="512640"/>
            </a:xfrm>
          </p:grpSpPr>
          <p:sp>
            <p:nvSpPr>
              <p:cNvPr id="112" name="AutoShape 50"/>
              <p:cNvSpPr/>
              <p:nvPr/>
            </p:nvSpPr>
            <p:spPr>
              <a:xfrm>
                <a:off x="1981080" y="3403800"/>
                <a:ext cx="533376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0d4f2"/>
                  </a:gs>
                  <a:gs pos="100000">
                    <a:srgbClr val="3ca1e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51"/>
              <p:cNvSpPr/>
              <p:nvPr/>
            </p:nvSpPr>
            <p:spPr>
              <a:xfrm>
                <a:off x="2026440" y="3780000"/>
                <a:ext cx="525744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d4f2">
                      <a:alpha val="0"/>
                    </a:srgbClr>
                  </a:gs>
                  <a:gs pos="100000">
                    <a:srgbClr val="8fd9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52"/>
              <p:cNvSpPr/>
              <p:nvPr/>
            </p:nvSpPr>
            <p:spPr>
              <a:xfrm>
                <a:off x="2026440" y="3414960"/>
                <a:ext cx="525744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5f1fb"/>
                  </a:gs>
                  <a:gs pos="100000">
                    <a:srgbClr val="80d4f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53"/>
            <p:cNvSpPr/>
            <p:nvPr/>
          </p:nvSpPr>
          <p:spPr>
            <a:xfrm>
              <a:off x="2895480" y="3463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4"/>
            <p:cNvGrpSpPr/>
            <p:nvPr/>
          </p:nvGrpSpPr>
          <p:grpSpPr>
            <a:xfrm>
              <a:off x="2361960" y="3390840"/>
              <a:ext cx="533520" cy="528840"/>
              <a:chOff x="2361960" y="3390840"/>
              <a:chExt cx="533520" cy="528840"/>
            </a:xfrm>
          </p:grpSpPr>
          <p:sp>
            <p:nvSpPr>
              <p:cNvPr id="117" name="Oval 55"/>
              <p:cNvSpPr/>
              <p:nvPr/>
            </p:nvSpPr>
            <p:spPr>
              <a:xfrm>
                <a:off x="2361960" y="3390840"/>
                <a:ext cx="533520" cy="52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6"/>
              <p:cNvSpPr/>
              <p:nvPr/>
            </p:nvSpPr>
            <p:spPr>
              <a:xfrm>
                <a:off x="2367360" y="3394800"/>
                <a:ext cx="515880" cy="512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7"/>
              <p:cNvSpPr/>
              <p:nvPr/>
            </p:nvSpPr>
            <p:spPr>
              <a:xfrm>
                <a:off x="2373840" y="3397680"/>
                <a:ext cx="504000" cy="499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8"/>
              <p:cNvSpPr/>
              <p:nvPr/>
            </p:nvSpPr>
            <p:spPr>
              <a:xfrm>
                <a:off x="2379240" y="3402720"/>
                <a:ext cx="479160" cy="466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59"/>
              <p:cNvSpPr/>
              <p:nvPr/>
            </p:nvSpPr>
            <p:spPr>
              <a:xfrm>
                <a:off x="2407320" y="3415320"/>
                <a:ext cx="425880" cy="37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 Box 60"/>
            <p:cNvSpPr/>
            <p:nvPr/>
          </p:nvSpPr>
          <p:spPr>
            <a:xfrm>
              <a:off x="2438280" y="3403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61"/>
          <p:cNvGrpSpPr/>
          <p:nvPr/>
        </p:nvGrpSpPr>
        <p:grpSpPr>
          <a:xfrm>
            <a:off x="1995480" y="4195800"/>
            <a:ext cx="5334120" cy="528480"/>
            <a:chOff x="1995480" y="4195800"/>
            <a:chExt cx="5334120" cy="528480"/>
          </a:xfrm>
        </p:grpSpPr>
        <p:grpSp>
          <p:nvGrpSpPr>
            <p:cNvPr id="124" name="Group 62"/>
            <p:cNvGrpSpPr/>
            <p:nvPr/>
          </p:nvGrpSpPr>
          <p:grpSpPr>
            <a:xfrm>
              <a:off x="1995480" y="4195800"/>
              <a:ext cx="5334120" cy="512640"/>
              <a:chOff x="1995480" y="4195800"/>
              <a:chExt cx="5334120" cy="512640"/>
            </a:xfrm>
          </p:grpSpPr>
          <p:sp>
            <p:nvSpPr>
              <p:cNvPr id="125" name="AutoShape 63"/>
              <p:cNvSpPr/>
              <p:nvPr/>
            </p:nvSpPr>
            <p:spPr>
              <a:xfrm>
                <a:off x="1995480" y="419580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a82e8"/>
                  </a:gs>
                  <a:gs pos="100000">
                    <a:srgbClr val="dad1f7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64"/>
              <p:cNvSpPr/>
              <p:nvPr/>
            </p:nvSpPr>
            <p:spPr>
              <a:xfrm>
                <a:off x="2040840" y="457200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d67e1">
                      <a:alpha val="0"/>
                    </a:srgbClr>
                  </a:gs>
                  <a:gs pos="100000">
                    <a:srgbClr val="9b79e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65"/>
              <p:cNvSpPr/>
              <p:nvPr/>
            </p:nvSpPr>
            <p:spPr>
              <a:xfrm>
                <a:off x="2040840" y="420696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eeffe"/>
                  </a:gs>
                  <a:gs pos="100000">
                    <a:srgbClr val="cbd0f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66"/>
            <p:cNvSpPr/>
            <p:nvPr/>
          </p:nvSpPr>
          <p:spPr>
            <a:xfrm>
              <a:off x="2909880" y="42559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67"/>
            <p:cNvGrpSpPr/>
            <p:nvPr/>
          </p:nvGrpSpPr>
          <p:grpSpPr>
            <a:xfrm>
              <a:off x="2376720" y="4195800"/>
              <a:ext cx="533160" cy="528480"/>
              <a:chOff x="2376720" y="4195800"/>
              <a:chExt cx="533160" cy="528480"/>
            </a:xfrm>
          </p:grpSpPr>
          <p:sp>
            <p:nvSpPr>
              <p:cNvPr id="130" name="Oval 68"/>
              <p:cNvSpPr/>
              <p:nvPr/>
            </p:nvSpPr>
            <p:spPr>
              <a:xfrm>
                <a:off x="2376720" y="4195800"/>
                <a:ext cx="53316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69"/>
              <p:cNvSpPr/>
              <p:nvPr/>
            </p:nvSpPr>
            <p:spPr>
              <a:xfrm>
                <a:off x="2382120" y="4199760"/>
                <a:ext cx="515520" cy="511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70"/>
              <p:cNvSpPr/>
              <p:nvPr/>
            </p:nvSpPr>
            <p:spPr>
              <a:xfrm>
                <a:off x="2388600" y="4202640"/>
                <a:ext cx="50364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71"/>
              <p:cNvSpPr/>
              <p:nvPr/>
            </p:nvSpPr>
            <p:spPr>
              <a:xfrm>
                <a:off x="2394000" y="4207680"/>
                <a:ext cx="478800" cy="46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72"/>
              <p:cNvSpPr/>
              <p:nvPr/>
            </p:nvSpPr>
            <p:spPr>
              <a:xfrm>
                <a:off x="2422080" y="4220280"/>
                <a:ext cx="425520" cy="37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73"/>
            <p:cNvSpPr/>
            <p:nvPr/>
          </p:nvSpPr>
          <p:spPr>
            <a:xfrm>
              <a:off x="2452680" y="4208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74"/>
          <p:cNvGrpSpPr/>
          <p:nvPr/>
        </p:nvGrpSpPr>
        <p:grpSpPr>
          <a:xfrm>
            <a:off x="1981080" y="4952880"/>
            <a:ext cx="5334120" cy="528480"/>
            <a:chOff x="1981080" y="4952880"/>
            <a:chExt cx="5334120" cy="528480"/>
          </a:xfrm>
        </p:grpSpPr>
        <p:grpSp>
          <p:nvGrpSpPr>
            <p:cNvPr id="137" name="Group 75"/>
            <p:cNvGrpSpPr/>
            <p:nvPr/>
          </p:nvGrpSpPr>
          <p:grpSpPr>
            <a:xfrm>
              <a:off x="1981080" y="4952880"/>
              <a:ext cx="5334120" cy="512640"/>
              <a:chOff x="1981080" y="4952880"/>
              <a:chExt cx="5334120" cy="512640"/>
            </a:xfrm>
          </p:grpSpPr>
          <p:sp>
            <p:nvSpPr>
              <p:cNvPr id="138" name="AutoShape 76"/>
              <p:cNvSpPr/>
              <p:nvPr/>
            </p:nvSpPr>
            <p:spPr>
              <a:xfrm>
                <a:off x="1981080" y="495288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d9e85"/>
                  </a:gs>
                  <a:gs pos="100000">
                    <a:srgbClr val="f8dcd3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utoShape 77"/>
              <p:cNvSpPr/>
              <p:nvPr/>
            </p:nvSpPr>
            <p:spPr>
              <a:xfrm>
                <a:off x="2026440" y="53290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d9e85">
                      <a:alpha val="0"/>
                    </a:srgbClr>
                  </a:gs>
                  <a:gs pos="100000">
                    <a:srgbClr val="efaa9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78"/>
              <p:cNvSpPr/>
              <p:nvPr/>
            </p:nvSpPr>
            <p:spPr>
              <a:xfrm>
                <a:off x="2026440" y="496404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9dfd6"/>
                  </a:gs>
                  <a:gs pos="100000">
                    <a:srgbClr val="ed9e8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79"/>
            <p:cNvSpPr/>
            <p:nvPr/>
          </p:nvSpPr>
          <p:spPr>
            <a:xfrm>
              <a:off x="2895480" y="501300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80"/>
            <p:cNvGrpSpPr/>
            <p:nvPr/>
          </p:nvGrpSpPr>
          <p:grpSpPr>
            <a:xfrm>
              <a:off x="2362320" y="4952880"/>
              <a:ext cx="533160" cy="528480"/>
              <a:chOff x="2362320" y="4952880"/>
              <a:chExt cx="533160" cy="528480"/>
            </a:xfrm>
          </p:grpSpPr>
          <p:sp>
            <p:nvSpPr>
              <p:cNvPr id="143" name="Oval 81"/>
              <p:cNvSpPr/>
              <p:nvPr/>
            </p:nvSpPr>
            <p:spPr>
              <a:xfrm>
                <a:off x="2362320" y="4952880"/>
                <a:ext cx="53316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82"/>
              <p:cNvSpPr/>
              <p:nvPr/>
            </p:nvSpPr>
            <p:spPr>
              <a:xfrm>
                <a:off x="2367720" y="4956840"/>
                <a:ext cx="515520" cy="511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83"/>
              <p:cNvSpPr/>
              <p:nvPr/>
            </p:nvSpPr>
            <p:spPr>
              <a:xfrm>
                <a:off x="2374200" y="4959720"/>
                <a:ext cx="50364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84"/>
              <p:cNvSpPr/>
              <p:nvPr/>
            </p:nvSpPr>
            <p:spPr>
              <a:xfrm>
                <a:off x="2379600" y="4964760"/>
                <a:ext cx="478800" cy="46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85"/>
              <p:cNvSpPr/>
              <p:nvPr/>
            </p:nvSpPr>
            <p:spPr>
              <a:xfrm>
                <a:off x="2407680" y="4977360"/>
                <a:ext cx="425520" cy="37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86"/>
            <p:cNvSpPr/>
            <p:nvPr/>
          </p:nvSpPr>
          <p:spPr>
            <a:xfrm>
              <a:off x="2438280" y="496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7"/>
          <p:cNvGrpSpPr/>
          <p:nvPr/>
        </p:nvGrpSpPr>
        <p:grpSpPr>
          <a:xfrm>
            <a:off x="1981080" y="1905120"/>
            <a:ext cx="5334120" cy="528480"/>
            <a:chOff x="1981080" y="1905120"/>
            <a:chExt cx="5334120" cy="528480"/>
          </a:xfrm>
        </p:grpSpPr>
        <p:grpSp>
          <p:nvGrpSpPr>
            <p:cNvPr id="150" name="Group 88"/>
            <p:cNvGrpSpPr/>
            <p:nvPr/>
          </p:nvGrpSpPr>
          <p:grpSpPr>
            <a:xfrm>
              <a:off x="1981080" y="1905120"/>
              <a:ext cx="5334120" cy="512640"/>
              <a:chOff x="1981080" y="1905120"/>
              <a:chExt cx="5334120" cy="512640"/>
            </a:xfrm>
          </p:grpSpPr>
          <p:sp>
            <p:nvSpPr>
              <p:cNvPr id="151" name="AutoShape 89"/>
              <p:cNvSpPr/>
              <p:nvPr/>
            </p:nvSpPr>
            <p:spPr>
              <a:xfrm>
                <a:off x="1981080" y="1905120"/>
                <a:ext cx="5334120" cy="512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eac924"/>
                  </a:gs>
                  <a:gs pos="100000">
                    <a:srgbClr val="f7eba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90"/>
              <p:cNvSpPr/>
              <p:nvPr/>
            </p:nvSpPr>
            <p:spPr>
              <a:xfrm>
                <a:off x="2026440" y="228132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ac924">
                      <a:alpha val="0"/>
                    </a:srgbClr>
                  </a:gs>
                  <a:gs pos="100000">
                    <a:srgbClr val="edd0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91"/>
              <p:cNvSpPr/>
              <p:nvPr/>
            </p:nvSpPr>
            <p:spPr>
              <a:xfrm>
                <a:off x="2026440" y="1916280"/>
                <a:ext cx="5257800" cy="13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edb6"/>
                  </a:gs>
                  <a:gs pos="100000">
                    <a:srgbClr val="eac92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92"/>
            <p:cNvSpPr/>
            <p:nvPr/>
          </p:nvSpPr>
          <p:spPr>
            <a:xfrm>
              <a:off x="2895480" y="196524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93"/>
            <p:cNvGrpSpPr/>
            <p:nvPr/>
          </p:nvGrpSpPr>
          <p:grpSpPr>
            <a:xfrm>
              <a:off x="2362320" y="1905120"/>
              <a:ext cx="533160" cy="528480"/>
              <a:chOff x="2362320" y="1905120"/>
              <a:chExt cx="533160" cy="528480"/>
            </a:xfrm>
          </p:grpSpPr>
          <p:sp>
            <p:nvSpPr>
              <p:cNvPr id="156" name="Oval 94"/>
              <p:cNvSpPr/>
              <p:nvPr/>
            </p:nvSpPr>
            <p:spPr>
              <a:xfrm>
                <a:off x="2362320" y="1905120"/>
                <a:ext cx="533160" cy="52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95"/>
              <p:cNvSpPr/>
              <p:nvPr/>
            </p:nvSpPr>
            <p:spPr>
              <a:xfrm>
                <a:off x="2367720" y="1909080"/>
                <a:ext cx="515520" cy="511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96"/>
              <p:cNvSpPr/>
              <p:nvPr/>
            </p:nvSpPr>
            <p:spPr>
              <a:xfrm>
                <a:off x="2374200" y="1911960"/>
                <a:ext cx="503640" cy="499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97"/>
              <p:cNvSpPr/>
              <p:nvPr/>
            </p:nvSpPr>
            <p:spPr>
              <a:xfrm>
                <a:off x="2379600" y="1917000"/>
                <a:ext cx="478800" cy="465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98"/>
              <p:cNvSpPr/>
              <p:nvPr/>
            </p:nvSpPr>
            <p:spPr>
              <a:xfrm>
                <a:off x="2407680" y="1929600"/>
                <a:ext cx="425520" cy="37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99"/>
            <p:cNvSpPr/>
            <p:nvPr/>
          </p:nvSpPr>
          <p:spPr>
            <a:xfrm>
              <a:off x="2438280" y="1917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WordArt 3"/>
          <p:cNvSpPr txBox="1"/>
          <p:nvPr/>
        </p:nvSpPr>
        <p:spPr>
          <a:xfrm>
            <a:off x="2133720" y="3124080"/>
            <a:ext cx="4647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80048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80048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0280" y="1895040"/>
            <a:ext cx="7861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8004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2353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353d9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353d9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353d9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353d9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447920" y="5500800"/>
            <a:ext cx="6324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166" name="Group 22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67" name="AutoShape 3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5715000" y="370044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21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70" name="AutoShape 5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1238400" y="3705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Freeform 8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8a0da"/>
              </a:gs>
              <a:gs pos="100000">
                <a:srgbClr val="81c3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 flipH="1">
            <a:off x="4869000" y="34052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aedfd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3"/>
          <p:cNvGrpSpPr/>
          <p:nvPr/>
        </p:nvGrpSpPr>
        <p:grpSpPr>
          <a:xfrm>
            <a:off x="3048120" y="1781280"/>
            <a:ext cx="2998440" cy="1600920"/>
            <a:chOff x="3048120" y="1781280"/>
            <a:chExt cx="2998440" cy="1600920"/>
          </a:xfrm>
        </p:grpSpPr>
        <p:grpSp>
          <p:nvGrpSpPr>
            <p:cNvPr id="176" name="Group 11"/>
            <p:cNvGrpSpPr/>
            <p:nvPr/>
          </p:nvGrpSpPr>
          <p:grpSpPr>
            <a:xfrm>
              <a:off x="3048120" y="1781280"/>
              <a:ext cx="2998440" cy="1600920"/>
              <a:chOff x="3048120" y="1781280"/>
              <a:chExt cx="2998440" cy="1600920"/>
            </a:xfrm>
          </p:grpSpPr>
          <p:grpSp>
            <p:nvGrpSpPr>
              <p:cNvPr id="177" name="Group 12"/>
              <p:cNvGrpSpPr/>
              <p:nvPr/>
            </p:nvGrpSpPr>
            <p:grpSpPr>
              <a:xfrm>
                <a:off x="3048120" y="1923840"/>
                <a:ext cx="2998440" cy="1458360"/>
                <a:chOff x="3048120" y="1923840"/>
                <a:chExt cx="2998440" cy="1458360"/>
              </a:xfrm>
            </p:grpSpPr>
            <p:sp>
              <p:nvSpPr>
                <p:cNvPr id="178" name="Oval 13"/>
                <p:cNvSpPr/>
                <p:nvPr/>
              </p:nvSpPr>
              <p:spPr>
                <a:xfrm>
                  <a:off x="3080880" y="1970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a4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14"/>
                <p:cNvSpPr/>
                <p:nvPr/>
              </p:nvSpPr>
              <p:spPr>
                <a:xfrm>
                  <a:off x="3048120" y="192384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ed2d2"/>
                    </a:gs>
                    <a:gs pos="100000">
                      <a:srgbClr val="00999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Oval 15"/>
              <p:cNvSpPr/>
              <p:nvPr/>
            </p:nvSpPr>
            <p:spPr>
              <a:xfrm>
                <a:off x="318960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102664"/>
                  </a:gs>
                  <a:gs pos="100000">
                    <a:srgbClr val="2353d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6"/>
              <p:cNvSpPr/>
              <p:nvPr/>
            </p:nvSpPr>
            <p:spPr>
              <a:xfrm>
                <a:off x="3224520" y="178884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2353d9">
                      <a:alpha val="0"/>
                    </a:srgbClr>
                  </a:gs>
                  <a:gs pos="100000">
                    <a:srgbClr val="b2c3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7"/>
              <p:cNvSpPr/>
              <p:nvPr/>
            </p:nvSpPr>
            <p:spPr>
              <a:xfrm>
                <a:off x="3251520" y="180180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1c42ac"/>
                  </a:gs>
                  <a:gs pos="100000">
                    <a:srgbClr val="2353d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8"/>
              <p:cNvSpPr/>
              <p:nvPr/>
            </p:nvSpPr>
            <p:spPr>
              <a:xfrm>
                <a:off x="3383280" y="182880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2353d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19"/>
            <p:cNvSpPr/>
            <p:nvPr/>
          </p:nvSpPr>
          <p:spPr>
            <a:xfrm>
              <a:off x="3882960" y="1981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80048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186" name="Group 45"/>
          <p:cNvGrpSpPr/>
          <p:nvPr/>
        </p:nvGrpSpPr>
        <p:grpSpPr>
          <a:xfrm>
            <a:off x="762120" y="1722600"/>
            <a:ext cx="6955920" cy="4583160"/>
            <a:chOff x="762120" y="1722600"/>
            <a:chExt cx="6955920" cy="4583160"/>
          </a:xfrm>
        </p:grpSpPr>
        <p:sp>
          <p:nvSpPr>
            <p:cNvPr id="187" name="Freeform 46"/>
            <p:cNvSpPr/>
            <p:nvPr/>
          </p:nvSpPr>
          <p:spPr>
            <a:xfrm rot="20241600">
              <a:off x="1391760" y="2801880"/>
              <a:ext cx="609408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7"/>
            <p:cNvSpPr/>
            <p:nvPr/>
          </p:nvSpPr>
          <p:spPr>
            <a:xfrm>
              <a:off x="3821040" y="2057400"/>
              <a:ext cx="1142640" cy="110196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8"/>
            <p:cNvSpPr/>
            <p:nvPr/>
          </p:nvSpPr>
          <p:spPr>
            <a:xfrm>
              <a:off x="1585800" y="3375000"/>
              <a:ext cx="1141200" cy="1101960"/>
            </a:xfrm>
            <a:prstGeom prst="ellipse">
              <a:avLst/>
            </a:prstGeom>
            <a:gradFill rotWithShape="0">
              <a:gsLst>
                <a:gs pos="0">
                  <a:srgbClr val="2353d9"/>
                </a:gs>
                <a:gs pos="100000">
                  <a:srgbClr val="0b1a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9"/>
            <p:cNvSpPr/>
            <p:nvPr/>
          </p:nvSpPr>
          <p:spPr>
            <a:xfrm>
              <a:off x="236988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38a0da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50"/>
            <p:cNvSpPr/>
            <p:nvPr/>
          </p:nvSpPr>
          <p:spPr>
            <a:xfrm>
              <a:off x="4838760" y="4297320"/>
              <a:ext cx="114084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1"/>
            <p:cNvSpPr/>
            <p:nvPr/>
          </p:nvSpPr>
          <p:spPr>
            <a:xfrm>
              <a:off x="646416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d77a5d"/>
                </a:gs>
                <a:gs pos="100000">
                  <a:srgbClr val="4a2a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2"/>
            <p:cNvSpPr/>
            <p:nvPr/>
          </p:nvSpPr>
          <p:spPr>
            <a:xfrm>
              <a:off x="1812600" y="37702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3"/>
            <p:cNvSpPr/>
            <p:nvPr/>
          </p:nvSpPr>
          <p:spPr>
            <a:xfrm>
              <a:off x="4116240" y="245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4"/>
            <p:cNvSpPr/>
            <p:nvPr/>
          </p:nvSpPr>
          <p:spPr>
            <a:xfrm>
              <a:off x="6726240" y="269244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5"/>
            <p:cNvSpPr/>
            <p:nvPr/>
          </p:nvSpPr>
          <p:spPr>
            <a:xfrm>
              <a:off x="5133960" y="4692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56"/>
            <p:cNvSpPr/>
            <p:nvPr/>
          </p:nvSpPr>
          <p:spPr>
            <a:xfrm>
              <a:off x="2624040" y="5230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7"/>
            <p:cNvSpPr/>
            <p:nvPr/>
          </p:nvSpPr>
          <p:spPr>
            <a:xfrm>
              <a:off x="3429000" y="3657600"/>
              <a:ext cx="23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58"/>
            <p:cNvSpPr/>
            <p:nvPr/>
          </p:nvSpPr>
          <p:spPr>
            <a:xfrm>
              <a:off x="2601720" y="2452680"/>
              <a:ext cx="162684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AutoShape 59"/>
            <p:cNvCxnSpPr/>
            <p:nvPr/>
          </p:nvCxnSpPr>
          <p:spPr>
            <a:xfrm flipH="1">
              <a:off x="887040" y="2452320"/>
              <a:ext cx="1725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01" name="Text Box 60"/>
            <p:cNvSpPr/>
            <p:nvPr/>
          </p:nvSpPr>
          <p:spPr>
            <a:xfrm>
              <a:off x="762120" y="20574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80048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3"/>
          <p:cNvSpPr/>
          <p:nvPr/>
        </p:nvSpPr>
        <p:spPr>
          <a:xfrm>
            <a:off x="669960" y="6416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204" name="Group 71"/>
          <p:cNvGrpSpPr/>
          <p:nvPr/>
        </p:nvGrpSpPr>
        <p:grpSpPr>
          <a:xfrm>
            <a:off x="762120" y="1676520"/>
            <a:ext cx="7695720" cy="4419000"/>
            <a:chOff x="762120" y="1676520"/>
            <a:chExt cx="7695720" cy="4419000"/>
          </a:xfrm>
        </p:grpSpPr>
        <p:sp>
          <p:nvSpPr>
            <p:cNvPr id="205" name="Oval 23"/>
            <p:cNvSpPr/>
            <p:nvPr/>
          </p:nvSpPr>
          <p:spPr>
            <a:xfrm>
              <a:off x="2721240" y="2448000"/>
              <a:ext cx="3708000" cy="3647520"/>
            </a:xfrm>
            <a:prstGeom prst="ellipse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24"/>
            <p:cNvGrpSpPr/>
            <p:nvPr/>
          </p:nvGrpSpPr>
          <p:grpSpPr>
            <a:xfrm>
              <a:off x="3630600" y="3359880"/>
              <a:ext cx="1888920" cy="1964160"/>
              <a:chOff x="3630600" y="3359880"/>
              <a:chExt cx="1888920" cy="1964160"/>
            </a:xfrm>
          </p:grpSpPr>
          <p:sp>
            <p:nvSpPr>
              <p:cNvPr id="207" name="Oval 25"/>
              <p:cNvSpPr/>
              <p:nvPr/>
            </p:nvSpPr>
            <p:spPr>
              <a:xfrm>
                <a:off x="3630600" y="3359880"/>
                <a:ext cx="1888920" cy="19641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4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3846240" y="3392280"/>
                <a:ext cx="1457280" cy="741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27"/>
            <p:cNvSpPr/>
            <p:nvPr/>
          </p:nvSpPr>
          <p:spPr>
            <a:xfrm>
              <a:off x="3914280" y="41313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8"/>
            <p:cNvGrpSpPr/>
            <p:nvPr/>
          </p:nvGrpSpPr>
          <p:grpSpPr>
            <a:xfrm>
              <a:off x="4190400" y="2097360"/>
              <a:ext cx="629640" cy="606240"/>
              <a:chOff x="4190400" y="2097360"/>
              <a:chExt cx="629640" cy="606240"/>
            </a:xfrm>
          </p:grpSpPr>
          <p:grpSp>
            <p:nvGrpSpPr>
              <p:cNvPr id="211" name="Group 29"/>
              <p:cNvGrpSpPr/>
              <p:nvPr/>
            </p:nvGrpSpPr>
            <p:grpSpPr>
              <a:xfrm>
                <a:off x="4190400" y="2097360"/>
                <a:ext cx="629640" cy="606240"/>
                <a:chOff x="4190400" y="2097360"/>
                <a:chExt cx="629640" cy="606240"/>
              </a:xfrm>
            </p:grpSpPr>
            <p:sp>
              <p:nvSpPr>
                <p:cNvPr id="212" name="Oval 30"/>
                <p:cNvSpPr/>
                <p:nvPr/>
              </p:nvSpPr>
              <p:spPr>
                <a:xfrm>
                  <a:off x="4190400" y="2097360"/>
                  <a:ext cx="629640" cy="60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6c6c2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4262400" y="2107080"/>
                  <a:ext cx="48564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ff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32"/>
              <p:cNvSpPr/>
              <p:nvPr/>
            </p:nvSpPr>
            <p:spPr>
              <a:xfrm>
                <a:off x="4327200" y="21906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33"/>
            <p:cNvGrpSpPr/>
            <p:nvPr/>
          </p:nvGrpSpPr>
          <p:grpSpPr>
            <a:xfrm>
              <a:off x="3578760" y="5122440"/>
              <a:ext cx="337320" cy="306720"/>
              <a:chOff x="3578760" y="5122440"/>
              <a:chExt cx="337320" cy="306720"/>
            </a:xfrm>
          </p:grpSpPr>
          <p:sp>
            <p:nvSpPr>
              <p:cNvPr id="216" name="Oval 34"/>
              <p:cNvSpPr/>
              <p:nvPr/>
            </p:nvSpPr>
            <p:spPr>
              <a:xfrm rot="18226800">
                <a:off x="3604680" y="5280480"/>
                <a:ext cx="119520" cy="1267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2888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35"/>
              <p:cNvSpPr/>
              <p:nvPr/>
            </p:nvSpPr>
            <p:spPr>
              <a:xfrm rot="18226800">
                <a:off x="3770640" y="5144040"/>
                <a:ext cx="119520" cy="1263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22888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36"/>
            <p:cNvGrpSpPr/>
            <p:nvPr/>
          </p:nvGrpSpPr>
          <p:grpSpPr>
            <a:xfrm>
              <a:off x="3000600" y="5389920"/>
              <a:ext cx="629640" cy="631080"/>
              <a:chOff x="3000600" y="5389920"/>
              <a:chExt cx="629640" cy="631080"/>
            </a:xfrm>
          </p:grpSpPr>
          <p:grpSp>
            <p:nvGrpSpPr>
              <p:cNvPr id="219" name="Group 37"/>
              <p:cNvGrpSpPr/>
              <p:nvPr/>
            </p:nvGrpSpPr>
            <p:grpSpPr>
              <a:xfrm>
                <a:off x="3000600" y="5389920"/>
                <a:ext cx="629640" cy="631080"/>
                <a:chOff x="3000600" y="5389920"/>
                <a:chExt cx="629640" cy="631080"/>
              </a:xfrm>
            </p:grpSpPr>
            <p:sp>
              <p:nvSpPr>
                <p:cNvPr id="220" name="Oval 38"/>
                <p:cNvSpPr/>
                <p:nvPr/>
              </p:nvSpPr>
              <p:spPr>
                <a:xfrm>
                  <a:off x="3000600" y="5389920"/>
                  <a:ext cx="629640" cy="63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0c323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9"/>
                <p:cNvSpPr/>
                <p:nvPr/>
              </p:nvSpPr>
              <p:spPr>
                <a:xfrm>
                  <a:off x="3072600" y="5400360"/>
                  <a:ext cx="48564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40"/>
              <p:cNvSpPr/>
              <p:nvPr/>
            </p:nvSpPr>
            <p:spPr>
              <a:xfrm>
                <a:off x="3131280" y="55083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41"/>
            <p:cNvGrpSpPr/>
            <p:nvPr/>
          </p:nvGrpSpPr>
          <p:grpSpPr>
            <a:xfrm>
              <a:off x="6082200" y="3359880"/>
              <a:ext cx="626760" cy="638280"/>
              <a:chOff x="6082200" y="3359880"/>
              <a:chExt cx="626760" cy="638280"/>
            </a:xfrm>
          </p:grpSpPr>
          <p:grpSp>
            <p:nvGrpSpPr>
              <p:cNvPr id="224" name="Group 42"/>
              <p:cNvGrpSpPr/>
              <p:nvPr/>
            </p:nvGrpSpPr>
            <p:grpSpPr>
              <a:xfrm>
                <a:off x="6082200" y="3359880"/>
                <a:ext cx="626760" cy="638280"/>
                <a:chOff x="6082200" y="3359880"/>
                <a:chExt cx="626760" cy="638280"/>
              </a:xfrm>
            </p:grpSpPr>
            <p:sp>
              <p:nvSpPr>
                <p:cNvPr id="225" name="Oval 43"/>
                <p:cNvSpPr/>
                <p:nvPr/>
              </p:nvSpPr>
              <p:spPr>
                <a:xfrm>
                  <a:off x="6082200" y="3359880"/>
                  <a:ext cx="626760" cy="63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96e3"/>
                    </a:gs>
                    <a:gs pos="100000">
                      <a:srgbClr val="2144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4"/>
                <p:cNvSpPr/>
                <p:nvPr/>
              </p:nvSpPr>
              <p:spPr>
                <a:xfrm>
                  <a:off x="6153840" y="3370320"/>
                  <a:ext cx="483480" cy="240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a7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Text Box 45"/>
              <p:cNvSpPr/>
              <p:nvPr/>
            </p:nvSpPr>
            <p:spPr>
              <a:xfrm>
                <a:off x="6200280" y="34473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6"/>
            <p:cNvGrpSpPr/>
            <p:nvPr/>
          </p:nvGrpSpPr>
          <p:grpSpPr>
            <a:xfrm>
              <a:off x="5519520" y="5394240"/>
              <a:ext cx="600480" cy="572760"/>
              <a:chOff x="5519520" y="5394240"/>
              <a:chExt cx="600480" cy="572760"/>
            </a:xfrm>
          </p:grpSpPr>
          <p:grpSp>
            <p:nvGrpSpPr>
              <p:cNvPr id="229" name="Group 47"/>
              <p:cNvGrpSpPr/>
              <p:nvPr/>
            </p:nvGrpSpPr>
            <p:grpSpPr>
              <a:xfrm>
                <a:off x="5519520" y="5394240"/>
                <a:ext cx="600480" cy="572760"/>
                <a:chOff x="5519520" y="5394240"/>
                <a:chExt cx="600480" cy="572760"/>
              </a:xfrm>
            </p:grpSpPr>
            <p:sp>
              <p:nvSpPr>
                <p:cNvPr id="230" name="Oval 48"/>
                <p:cNvSpPr/>
                <p:nvPr/>
              </p:nvSpPr>
              <p:spPr>
                <a:xfrm>
                  <a:off x="5519520" y="5394240"/>
                  <a:ext cx="600480" cy="572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3399"/>
                    </a:gs>
                    <a:gs pos="100000">
                      <a:srgbClr val="74174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>
                  <a:off x="5587920" y="5403600"/>
                  <a:ext cx="463320" cy="216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33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50"/>
              <p:cNvSpPr/>
              <p:nvPr/>
            </p:nvSpPr>
            <p:spPr>
              <a:xfrm>
                <a:off x="5646960" y="54248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51"/>
            <p:cNvGrpSpPr/>
            <p:nvPr/>
          </p:nvGrpSpPr>
          <p:grpSpPr>
            <a:xfrm>
              <a:off x="2511360" y="3359880"/>
              <a:ext cx="629640" cy="631080"/>
              <a:chOff x="2511360" y="3359880"/>
              <a:chExt cx="629640" cy="631080"/>
            </a:xfrm>
          </p:grpSpPr>
          <p:grpSp>
            <p:nvGrpSpPr>
              <p:cNvPr id="234" name="Group 52"/>
              <p:cNvGrpSpPr/>
              <p:nvPr/>
            </p:nvGrpSpPr>
            <p:grpSpPr>
              <a:xfrm>
                <a:off x="2511360" y="3359880"/>
                <a:ext cx="629640" cy="631080"/>
                <a:chOff x="2511360" y="3359880"/>
                <a:chExt cx="629640" cy="631080"/>
              </a:xfrm>
            </p:grpSpPr>
            <p:sp>
              <p:nvSpPr>
                <p:cNvPr id="235" name="Oval 53"/>
                <p:cNvSpPr/>
                <p:nvPr/>
              </p:nvSpPr>
              <p:spPr>
                <a:xfrm>
                  <a:off x="2511360" y="3359880"/>
                  <a:ext cx="629640" cy="63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57575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4"/>
                <p:cNvSpPr/>
                <p:nvPr/>
              </p:nvSpPr>
              <p:spPr>
                <a:xfrm>
                  <a:off x="2583360" y="3370320"/>
                  <a:ext cx="48564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Text Box 55"/>
              <p:cNvSpPr/>
              <p:nvPr/>
            </p:nvSpPr>
            <p:spPr>
              <a:xfrm>
                <a:off x="2643840" y="343008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Oval 56"/>
            <p:cNvSpPr/>
            <p:nvPr/>
          </p:nvSpPr>
          <p:spPr>
            <a:xfrm rot="18226800">
              <a:off x="5452560" y="5250240"/>
              <a:ext cx="119880" cy="12636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aa22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7"/>
            <p:cNvSpPr/>
            <p:nvPr/>
          </p:nvSpPr>
          <p:spPr>
            <a:xfrm rot="18226800">
              <a:off x="5312880" y="5109840"/>
              <a:ext cx="119520" cy="126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aa22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58"/>
            <p:cNvGrpSpPr/>
            <p:nvPr/>
          </p:nvGrpSpPr>
          <p:grpSpPr>
            <a:xfrm>
              <a:off x="3187800" y="3755520"/>
              <a:ext cx="381240" cy="240120"/>
              <a:chOff x="3187800" y="3755520"/>
              <a:chExt cx="381240" cy="240120"/>
            </a:xfrm>
          </p:grpSpPr>
          <p:sp>
            <p:nvSpPr>
              <p:cNvPr id="241" name="Oval 59"/>
              <p:cNvSpPr/>
              <p:nvPr/>
            </p:nvSpPr>
            <p:spPr>
              <a:xfrm rot="18226800">
                <a:off x="3213720" y="3776760"/>
                <a:ext cx="119520" cy="12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60"/>
              <p:cNvSpPr/>
              <p:nvPr/>
            </p:nvSpPr>
            <p:spPr>
              <a:xfrm rot="18226800">
                <a:off x="3423240" y="3846960"/>
                <a:ext cx="119520" cy="12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1"/>
            <p:cNvGrpSpPr/>
            <p:nvPr/>
          </p:nvGrpSpPr>
          <p:grpSpPr>
            <a:xfrm>
              <a:off x="4447440" y="2814480"/>
              <a:ext cx="171720" cy="429840"/>
              <a:chOff x="4447440" y="2814480"/>
              <a:chExt cx="171720" cy="429840"/>
            </a:xfrm>
          </p:grpSpPr>
          <p:sp>
            <p:nvSpPr>
              <p:cNvPr id="244" name="Oval 62"/>
              <p:cNvSpPr/>
              <p:nvPr/>
            </p:nvSpPr>
            <p:spPr>
              <a:xfrm rot="18226800">
                <a:off x="4473360" y="2835720"/>
                <a:ext cx="119520" cy="12672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aaaa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63"/>
              <p:cNvSpPr/>
              <p:nvPr/>
            </p:nvSpPr>
            <p:spPr>
              <a:xfrm rot="18226800">
                <a:off x="4473360" y="3095640"/>
                <a:ext cx="119520" cy="126720"/>
              </a:xfrm>
              <a:prstGeom prst="ellipse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aaaa4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Oval 64"/>
            <p:cNvSpPr/>
            <p:nvPr/>
          </p:nvSpPr>
          <p:spPr>
            <a:xfrm rot="18226800">
              <a:off x="5820120" y="3803040"/>
              <a:ext cx="119880" cy="1267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66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65"/>
            <p:cNvSpPr/>
            <p:nvPr/>
          </p:nvSpPr>
          <p:spPr>
            <a:xfrm rot="18226800">
              <a:off x="5592960" y="3917160"/>
              <a:ext cx="119880" cy="1267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66a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6"/>
            <p:cNvSpPr/>
            <p:nvPr/>
          </p:nvSpPr>
          <p:spPr>
            <a:xfrm>
              <a:off x="762120" y="350028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7"/>
            <p:cNvSpPr/>
            <p:nvPr/>
          </p:nvSpPr>
          <p:spPr>
            <a:xfrm>
              <a:off x="3630600" y="167652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68"/>
            <p:cNvSpPr/>
            <p:nvPr/>
          </p:nvSpPr>
          <p:spPr>
            <a:xfrm>
              <a:off x="6708960" y="3513240"/>
              <a:ext cx="174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69"/>
            <p:cNvSpPr/>
            <p:nvPr/>
          </p:nvSpPr>
          <p:spPr>
            <a:xfrm>
              <a:off x="1111680" y="560448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0"/>
            <p:cNvSpPr/>
            <p:nvPr/>
          </p:nvSpPr>
          <p:spPr>
            <a:xfrm>
              <a:off x="6149160" y="5604480"/>
              <a:ext cx="174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1914120" y="1717560"/>
            <a:ext cx="4943880" cy="4606560"/>
            <a:chOff x="1914120" y="1717560"/>
            <a:chExt cx="4943880" cy="4606560"/>
          </a:xfrm>
        </p:grpSpPr>
        <p:sp>
          <p:nvSpPr>
            <p:cNvPr id="255" name="Rectangle 86"/>
            <p:cNvSpPr/>
            <p:nvPr/>
          </p:nvSpPr>
          <p:spPr>
            <a:xfrm rot="13770000">
              <a:off x="4800960" y="3953880"/>
              <a:ext cx="878040" cy="169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7"/>
            <p:cNvSpPr/>
            <p:nvPr/>
          </p:nvSpPr>
          <p:spPr>
            <a:xfrm rot="20856000">
              <a:off x="3049200" y="3536640"/>
              <a:ext cx="894960" cy="15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0e0e0"/>
                </a:gs>
                <a:gs pos="100000">
                  <a:srgbClr val="c0c0c0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8"/>
            <p:cNvSpPr/>
            <p:nvPr/>
          </p:nvSpPr>
          <p:spPr>
            <a:xfrm rot="18394200">
              <a:off x="4917240" y="2538000"/>
              <a:ext cx="545760" cy="1177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cecec"/>
                </a:gs>
                <a:gs pos="100000">
                  <a:srgbClr val="c0c0c0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89"/>
            <p:cNvGrpSpPr/>
            <p:nvPr/>
          </p:nvGrpSpPr>
          <p:grpSpPr>
            <a:xfrm>
              <a:off x="3880440" y="2566440"/>
              <a:ext cx="1429560" cy="1455480"/>
              <a:chOff x="3880440" y="2566440"/>
              <a:chExt cx="1429560" cy="1455480"/>
            </a:xfrm>
          </p:grpSpPr>
          <p:grpSp>
            <p:nvGrpSpPr>
              <p:cNvPr id="259" name="Group 90"/>
              <p:cNvGrpSpPr/>
              <p:nvPr/>
            </p:nvGrpSpPr>
            <p:grpSpPr>
              <a:xfrm>
                <a:off x="3882240" y="2566440"/>
                <a:ext cx="1427760" cy="1455480"/>
                <a:chOff x="3882240" y="2566440"/>
                <a:chExt cx="1427760" cy="1455480"/>
              </a:xfrm>
            </p:grpSpPr>
            <p:sp>
              <p:nvSpPr>
                <p:cNvPr id="260" name="Oval 91"/>
                <p:cNvSpPr/>
                <p:nvPr/>
              </p:nvSpPr>
              <p:spPr>
                <a:xfrm>
                  <a:off x="3882240" y="2566440"/>
                  <a:ext cx="1427760" cy="145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7a5d"/>
                    </a:gs>
                    <a:gs pos="100000">
                      <a:srgbClr val="341e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92"/>
                <p:cNvSpPr/>
                <p:nvPr/>
              </p:nvSpPr>
              <p:spPr>
                <a:xfrm>
                  <a:off x="4045320" y="2590560"/>
                  <a:ext cx="1101240" cy="549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77a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Text Box 93"/>
              <p:cNvSpPr/>
              <p:nvPr/>
            </p:nvSpPr>
            <p:spPr>
              <a:xfrm>
                <a:off x="3880440" y="3199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4"/>
            <p:cNvGrpSpPr/>
            <p:nvPr/>
          </p:nvGrpSpPr>
          <p:grpSpPr>
            <a:xfrm>
              <a:off x="5084640" y="1717560"/>
              <a:ext cx="909360" cy="788040"/>
              <a:chOff x="5084640" y="1717560"/>
              <a:chExt cx="909360" cy="788040"/>
            </a:xfrm>
          </p:grpSpPr>
          <p:grpSp>
            <p:nvGrpSpPr>
              <p:cNvPr id="264" name="Group 95"/>
              <p:cNvGrpSpPr/>
              <p:nvPr/>
            </p:nvGrpSpPr>
            <p:grpSpPr>
              <a:xfrm>
                <a:off x="5131800" y="1717560"/>
                <a:ext cx="773640" cy="788040"/>
                <a:chOff x="5131800" y="1717560"/>
                <a:chExt cx="773640" cy="788040"/>
              </a:xfrm>
            </p:grpSpPr>
            <p:sp>
              <p:nvSpPr>
                <p:cNvPr id="265" name="Oval 96"/>
                <p:cNvSpPr/>
                <p:nvPr/>
              </p:nvSpPr>
              <p:spPr>
                <a:xfrm>
                  <a:off x="5131800" y="1717560"/>
                  <a:ext cx="773640" cy="78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353d9"/>
                    </a:gs>
                    <a:gs pos="100000">
                      <a:srgbClr val="0914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97"/>
                <p:cNvSpPr/>
                <p:nvPr/>
              </p:nvSpPr>
              <p:spPr>
                <a:xfrm>
                  <a:off x="5220000" y="1730520"/>
                  <a:ext cx="596880" cy="297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353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Text Box 98"/>
              <p:cNvSpPr/>
              <p:nvPr/>
            </p:nvSpPr>
            <p:spPr>
              <a:xfrm>
                <a:off x="5084640" y="20206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99"/>
            <p:cNvGrpSpPr/>
            <p:nvPr/>
          </p:nvGrpSpPr>
          <p:grpSpPr>
            <a:xfrm>
              <a:off x="1914120" y="2869560"/>
              <a:ext cx="1551600" cy="1637280"/>
              <a:chOff x="1914120" y="2869560"/>
              <a:chExt cx="1551600" cy="1637280"/>
            </a:xfrm>
          </p:grpSpPr>
          <p:grpSp>
            <p:nvGrpSpPr>
              <p:cNvPr id="269" name="Group 100"/>
              <p:cNvGrpSpPr/>
              <p:nvPr/>
            </p:nvGrpSpPr>
            <p:grpSpPr>
              <a:xfrm>
                <a:off x="1918800" y="2869560"/>
                <a:ext cx="1546920" cy="1637280"/>
                <a:chOff x="1918800" y="2869560"/>
                <a:chExt cx="1546920" cy="1637280"/>
              </a:xfrm>
            </p:grpSpPr>
            <p:sp>
              <p:nvSpPr>
                <p:cNvPr id="270" name="Oval 101"/>
                <p:cNvSpPr/>
                <p:nvPr/>
              </p:nvSpPr>
              <p:spPr>
                <a:xfrm>
                  <a:off x="1918800" y="2869560"/>
                  <a:ext cx="1546920" cy="163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a0da"/>
                    </a:gs>
                    <a:gs pos="100000">
                      <a:srgbClr val="2466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02"/>
                <p:cNvSpPr/>
                <p:nvPr/>
              </p:nvSpPr>
              <p:spPr>
                <a:xfrm>
                  <a:off x="2095560" y="2896560"/>
                  <a:ext cx="1193400" cy="61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8a0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103"/>
              <p:cNvSpPr/>
              <p:nvPr/>
            </p:nvSpPr>
            <p:spPr>
              <a:xfrm>
                <a:off x="1914120" y="359712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04"/>
            <p:cNvGrpSpPr/>
            <p:nvPr/>
          </p:nvGrpSpPr>
          <p:grpSpPr>
            <a:xfrm>
              <a:off x="5072760" y="4082760"/>
              <a:ext cx="1785240" cy="1819440"/>
              <a:chOff x="5072760" y="4082760"/>
              <a:chExt cx="1785240" cy="1819440"/>
            </a:xfrm>
          </p:grpSpPr>
          <p:grpSp>
            <p:nvGrpSpPr>
              <p:cNvPr id="274" name="Group 105"/>
              <p:cNvGrpSpPr/>
              <p:nvPr/>
            </p:nvGrpSpPr>
            <p:grpSpPr>
              <a:xfrm>
                <a:off x="5072760" y="4082760"/>
                <a:ext cx="1785240" cy="1819440"/>
                <a:chOff x="5072760" y="4082760"/>
                <a:chExt cx="1785240" cy="1819440"/>
              </a:xfrm>
            </p:grpSpPr>
            <p:sp>
              <p:nvSpPr>
                <p:cNvPr id="275" name="Oval 106"/>
                <p:cNvSpPr/>
                <p:nvPr/>
              </p:nvSpPr>
              <p:spPr>
                <a:xfrm>
                  <a:off x="5072760" y="4082760"/>
                  <a:ext cx="1785240" cy="181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004f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07"/>
                <p:cNvSpPr/>
                <p:nvPr/>
              </p:nvSpPr>
              <p:spPr>
                <a:xfrm>
                  <a:off x="5276880" y="4112640"/>
                  <a:ext cx="1377000" cy="686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99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Text Box 108"/>
              <p:cNvSpPr/>
              <p:nvPr/>
            </p:nvSpPr>
            <p:spPr>
              <a:xfrm>
                <a:off x="5235840" y="48722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Oval 109"/>
            <p:cNvSpPr/>
            <p:nvPr/>
          </p:nvSpPr>
          <p:spPr>
            <a:xfrm>
              <a:off x="2097000" y="4568040"/>
              <a:ext cx="1257120" cy="421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10"/>
            <p:cNvSpPr/>
            <p:nvPr/>
          </p:nvSpPr>
          <p:spPr>
            <a:xfrm>
              <a:off x="4001400" y="4024440"/>
              <a:ext cx="1258200" cy="421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1"/>
            <p:cNvSpPr/>
            <p:nvPr/>
          </p:nvSpPr>
          <p:spPr>
            <a:xfrm>
              <a:off x="5370120" y="5902200"/>
              <a:ext cx="1256760" cy="421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2"/>
            <p:cNvSpPr/>
            <p:nvPr/>
          </p:nvSpPr>
          <p:spPr>
            <a:xfrm>
              <a:off x="5250960" y="2566440"/>
              <a:ext cx="576000" cy="210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84" name="Freeform 4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5"/>
            <p:cNvSpPr/>
            <p:nvPr/>
          </p:nvSpPr>
          <p:spPr>
            <a:xfrm>
              <a:off x="4832640" y="2286000"/>
              <a:ext cx="30157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7"/>
            <p:cNvSpPr/>
            <p:nvPr/>
          </p:nvSpPr>
          <p:spPr>
            <a:xfrm>
              <a:off x="4083480" y="3126600"/>
              <a:ext cx="3241800" cy="5403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"/>
            <p:cNvSpPr/>
            <p:nvPr/>
          </p:nvSpPr>
          <p:spPr>
            <a:xfrm>
              <a:off x="6275520" y="3958560"/>
              <a:ext cx="517320" cy="8452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 flipH="1">
              <a:off x="1523880" y="5632560"/>
              <a:ext cx="106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 flipH="1">
              <a:off x="1523880" y="4791960"/>
              <a:ext cx="181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 flipH="1">
              <a:off x="1523880" y="3133800"/>
              <a:ext cx="331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6"/>
            <p:cNvSpPr/>
            <p:nvPr/>
          </p:nvSpPr>
          <p:spPr>
            <a:xfrm>
              <a:off x="1685160" y="2286000"/>
              <a:ext cx="0" cy="8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7"/>
            <p:cNvSpPr/>
            <p:nvPr/>
          </p:nvSpPr>
          <p:spPr>
            <a:xfrm>
              <a:off x="1685160" y="31579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8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9"/>
            <p:cNvSpPr/>
            <p:nvPr/>
          </p:nvSpPr>
          <p:spPr>
            <a:xfrm>
              <a:off x="1685160" y="4791960"/>
              <a:ext cx="0" cy="81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0"/>
            <p:cNvSpPr/>
            <p:nvPr/>
          </p:nvSpPr>
          <p:spPr>
            <a:xfrm>
              <a:off x="3127320" y="2449080"/>
              <a:ext cx="165816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1"/>
            <p:cNvSpPr/>
            <p:nvPr/>
          </p:nvSpPr>
          <p:spPr>
            <a:xfrm>
              <a:off x="4837680" y="2827440"/>
              <a:ext cx="2496960" cy="3038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4084560" y="3666960"/>
              <a:ext cx="2720880" cy="2973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4"/>
            <p:cNvSpPr/>
            <p:nvPr/>
          </p:nvSpPr>
          <p:spPr>
            <a:xfrm>
              <a:off x="3341880" y="4502880"/>
              <a:ext cx="2944800" cy="29736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5"/>
            <p:cNvSpPr/>
            <p:nvPr/>
          </p:nvSpPr>
          <p:spPr>
            <a:xfrm>
              <a:off x="259236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6"/>
            <p:cNvSpPr/>
            <p:nvPr/>
          </p:nvSpPr>
          <p:spPr>
            <a:xfrm>
              <a:off x="172476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8004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7"/>
            <p:cNvSpPr/>
            <p:nvPr/>
          </p:nvSpPr>
          <p:spPr>
            <a:xfrm>
              <a:off x="172476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8004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8"/>
            <p:cNvSpPr/>
            <p:nvPr/>
          </p:nvSpPr>
          <p:spPr>
            <a:xfrm>
              <a:off x="172476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8004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29"/>
            <p:cNvSpPr/>
            <p:nvPr/>
          </p:nvSpPr>
          <p:spPr>
            <a:xfrm>
              <a:off x="172476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8004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69640"/>
            <a:ext cx="58676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0048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480048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ffffff"/>
              </a:gs>
              <a:gs pos="100000">
                <a:srgbClr val="2353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8a0da"/>
              </a:gs>
              <a:gs pos="100000">
                <a:srgbClr val="74bde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9999"/>
              </a:gs>
              <a:gs pos="100000">
                <a:srgbClr val="4db8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14:54:35Z</dcterms:created>
  <dc:creator>pc</dc:creator>
  <dc:description/>
  <dc:language>en-US</dc:language>
  <cp:lastModifiedBy>王玉清</cp:lastModifiedBy>
  <dcterms:modified xsi:type="dcterms:W3CDTF">2016-02-25T02:37:35Z</dcterms:modified>
  <cp:revision>2</cp:revision>
  <dc:subject/>
  <dc:title>PowerPoint Template</dc:title>
</cp:coreProperties>
</file>