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  <a:r>
              <a:rPr b="1" sz="216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hart Tit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02891094848199"/>
          <c:y val="0.0089980004443457"/>
          <c:w val="0.597565393812043"/>
          <c:h val="0.91601866251944"/>
        </c:manualLayout>
      </c:layout>
      <c:pieChart>
        <c:varyColors val="1"/>
        <c:ser>
          <c:idx val="0"/>
          <c:order val="0"/>
          <c:spPr>
            <a:solidFill>
              <a:srgbClr val="ffd62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d62e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ca82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aa30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bd2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ENTRY 1</c:v>
                </c:pt>
                <c:pt idx="1">
                  <c:v>ENTRY 2</c:v>
                </c:pt>
                <c:pt idx="2">
                  <c:v>ENTRY 3</c:v>
                </c:pt>
                <c:pt idx="3">
                  <c:v>ENT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.5</c:v>
                </c:pt>
                <c:pt idx="1">
                  <c:v>1.5</c:v>
                </c:pt>
                <c:pt idx="2">
                  <c:v>1.3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cked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67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2</c:f>
              <c:numCache>
                <c:formatCode>General</c:formatCode>
                <c:ptCount val="5"/>
                <c:pt idx="0">
                  <c:v>35</c:v>
                </c:pt>
                <c:pt idx="1">
                  <c:v>27</c:v>
                </c:pt>
                <c:pt idx="2">
                  <c:v>56</c:v>
                </c:pt>
                <c:pt idx="3">
                  <c:v>34</c:v>
                </c:pt>
                <c:pt idx="4">
                  <c:v>2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Series 4</c:v>
                </c:pt>
              </c:strCache>
            </c:strRef>
          </c:tx>
          <c:spPr>
            <a:solidFill>
              <a:srgbClr val="dbd200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3</c:f>
              <c:numCache>
                <c:formatCode>General</c:formatCode>
                <c:ptCount val="5"/>
                <c:pt idx="0">
                  <c:v>23</c:v>
                </c:pt>
                <c:pt idx="1">
                  <c:v>35</c:v>
                </c:pt>
                <c:pt idx="2">
                  <c:v>56</c:v>
                </c:pt>
                <c:pt idx="3">
                  <c:v>67</c:v>
                </c:pt>
                <c:pt idx="4">
                  <c:v>43</c:v>
                </c:pt>
              </c:numCache>
            </c:numRef>
          </c:val>
        </c:ser>
        <c:axId val="37900658"/>
        <c:axId val="94015337"/>
      </c:areaChart>
      <c:dateAx>
        <c:axId val="37900658"/>
        <c:scaling>
          <c:orientation val="minMax"/>
        </c:scaling>
        <c:delete val="0"/>
        <c:axPos val="b"/>
        <c:numFmt formatCode="m/d/yy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94015337"/>
        <c:crosses val="autoZero"/>
        <c:auto val="1"/>
        <c:lblOffset val="100"/>
        <c:baseTimeUnit val="days"/>
        <c:noMultiLvlLbl val="0"/>
      </c:dateAx>
      <c:valAx>
        <c:axId val="94015337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37900658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2.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3.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6</c:v>
                </c:pt>
              </c:numCache>
            </c:numRef>
          </c:val>
        </c:ser>
        <c:gapWidth val="150"/>
        <c:overlap val="0"/>
        <c:axId val="49712573"/>
        <c:axId val="34867933"/>
      </c:barChart>
      <c:catAx>
        <c:axId val="497125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34867933"/>
        <c:crosses val="autoZero"/>
        <c:auto val="1"/>
        <c:lblAlgn val="ctr"/>
        <c:lblOffset val="100"/>
        <c:noMultiLvlLbl val="0"/>
      </c:catAx>
      <c:valAx>
        <c:axId val="34867933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49712573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14101504"/>
        <c:axId val="57675609"/>
      </c:barChart>
      <c:catAx>
        <c:axId val="141015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57675609"/>
        <c:crosses val="autoZero"/>
        <c:auto val="1"/>
        <c:lblAlgn val="ctr"/>
        <c:lblOffset val="100"/>
        <c:noMultiLvlLbl val="0"/>
      </c:catAx>
      <c:valAx>
        <c:axId val="57675609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14101504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76719639"/>
        <c:axId val="85009240"/>
      </c:barChart>
      <c:catAx>
        <c:axId val="767196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85009240"/>
        <c:crosses val="autoZero"/>
        <c:auto val="1"/>
        <c:lblAlgn val="ctr"/>
        <c:lblOffset val="100"/>
        <c:noMultiLvlLbl val="0"/>
      </c:catAx>
      <c:valAx>
        <c:axId val="85009240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76719639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04196887543131"/>
          <c:y val="0.0355476560764275"/>
          <c:w val="0.756214351102035"/>
          <c:h val="0.87458342590535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ed427"/>
            </a:solidFill>
            <a:ln w="76320">
              <a:solidFill>
                <a:srgbClr val="fed427"/>
              </a:solidFill>
              <a:round/>
            </a:ln>
          </c:spPr>
          <c:marker>
            <c:symbol val="circle"/>
            <c:size val="12"/>
            <c:spPr>
              <a:solidFill>
                <a:srgbClr val="fed427"/>
              </a:solidFill>
            </c:spPr>
          </c:marke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cba629"/>
            </a:solidFill>
            <a:ln w="76320">
              <a:solidFill>
                <a:srgbClr val="cba629"/>
              </a:solidFill>
              <a:round/>
            </a:ln>
          </c:spPr>
          <c:marker>
            <c:symbol val="circle"/>
            <c:size val="12"/>
            <c:spPr>
              <a:solidFill>
                <a:srgbClr val="cba629"/>
              </a:solidFill>
            </c:spPr>
          </c:marke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ffffff"/>
            </a:solidFill>
            <a:ln cap="rnd" w="76320">
              <a:solidFill>
                <a:srgbClr val="ffffff"/>
              </a:solidFill>
              <a:round/>
            </a:ln>
          </c:spPr>
          <c:marker>
            <c:symbol val="circle"/>
            <c:size val="12"/>
            <c:spPr>
              <a:solidFill>
                <a:srgbClr val="ffffff"/>
              </a:solidFill>
            </c:spPr>
          </c:marke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589125"/>
        <c:axId val="54778868"/>
      </c:lineChart>
      <c:catAx>
        <c:axId val="25891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54778868"/>
        <c:crosses val="autoZero"/>
        <c:auto val="1"/>
        <c:lblAlgn val="ctr"/>
        <c:lblOffset val="100"/>
        <c:noMultiLvlLbl val="0"/>
      </c:catAx>
      <c:valAx>
        <c:axId val="54778868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2589125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28367241949271"/>
          <c:y val="0.345928159657821"/>
          <c:w val="0.163964344606212"/>
          <c:h val="0.26503811772169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538366785015579"/>
          <c:y val="0.0264385692068429"/>
          <c:w val="0.627345844504021"/>
          <c:h val="0.961675183292602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d62e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ca82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aa30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bd2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4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1st Qtr</c:v>
                </c:pt>
                <c:pt idx="1">
                  <c:v>2nd Qtr</c:v>
                </c:pt>
                <c:pt idx="2">
                  <c:v>3rd Qtr</c:v>
                </c:pt>
                <c:pt idx="3">
                  <c:v>4th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65744398988986"/>
          <c:y val="0.371755946010055"/>
          <c:w val="0.126587256701147"/>
          <c:h val="0.2564881079798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523800" y="3057480"/>
            <a:ext cx="8138880" cy="9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461880"/>
            <a:ext cx="4176360" cy="2485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3314880"/>
            <a:ext cx="4176360" cy="1680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7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econd level</a:t>
            </a:r>
            <a:endParaRPr b="0" lang="en-US" sz="27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623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21640" y="1275480"/>
            <a:ext cx="1485000" cy="1863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2717640" y="1329480"/>
            <a:ext cx="1485000" cy="1890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4914000" y="1329480"/>
            <a:ext cx="1485000" cy="1890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body"/>
          </p:nvPr>
        </p:nvSpPr>
        <p:spPr>
          <a:xfrm>
            <a:off x="7110360" y="1329480"/>
            <a:ext cx="1485000" cy="1890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body"/>
          </p:nvPr>
        </p:nvSpPr>
        <p:spPr>
          <a:xfrm>
            <a:off x="38664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 type="body"/>
          </p:nvPr>
        </p:nvSpPr>
        <p:spPr>
          <a:xfrm>
            <a:off x="260064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8"/>
          <p:cNvSpPr>
            <a:spLocks noGrp="1"/>
          </p:cNvSpPr>
          <p:nvPr>
            <p:ph type="body"/>
          </p:nvPr>
        </p:nvSpPr>
        <p:spPr>
          <a:xfrm>
            <a:off x="478800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9"/>
          <p:cNvSpPr>
            <a:spLocks noGrp="1"/>
          </p:cNvSpPr>
          <p:nvPr>
            <p:ph type="body"/>
          </p:nvPr>
        </p:nvSpPr>
        <p:spPr>
          <a:xfrm>
            <a:off x="700236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0"/>
          <p:cNvSpPr>
            <a:spLocks noGrp="1"/>
          </p:cNvSpPr>
          <p:nvPr>
            <p:ph type="body"/>
          </p:nvPr>
        </p:nvSpPr>
        <p:spPr>
          <a:xfrm>
            <a:off x="2600640" y="3732840"/>
            <a:ext cx="1728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1"/>
          <p:cNvSpPr>
            <a:spLocks noGrp="1"/>
          </p:cNvSpPr>
          <p:nvPr>
            <p:ph type="body"/>
          </p:nvPr>
        </p:nvSpPr>
        <p:spPr>
          <a:xfrm>
            <a:off x="7002360" y="3732840"/>
            <a:ext cx="1728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2"/>
          <p:cNvSpPr>
            <a:spLocks noGrp="1"/>
          </p:cNvSpPr>
          <p:nvPr>
            <p:ph type="body"/>
          </p:nvPr>
        </p:nvSpPr>
        <p:spPr>
          <a:xfrm>
            <a:off x="4788000" y="3732840"/>
            <a:ext cx="1728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13"/>
          <p:cNvSpPr>
            <a:spLocks noGrp="1"/>
          </p:cNvSpPr>
          <p:nvPr>
            <p:ph type="body"/>
          </p:nvPr>
        </p:nvSpPr>
        <p:spPr>
          <a:xfrm>
            <a:off x="386640" y="3732840"/>
            <a:ext cx="1674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4"/>
          <p:cNvSpPr>
            <a:spLocks noGrp="1"/>
          </p:cNvSpPr>
          <p:nvPr>
            <p:ph type="ftr" idx="9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0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36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1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2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3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ourth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4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ifth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360" cy="2061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3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395280" y="2571840"/>
            <a:ext cx="4176360" cy="2257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7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econd level</a:t>
            </a:r>
            <a:endParaRPr b="0" lang="en-US" sz="27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4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3735000" y="1032480"/>
            <a:ext cx="504900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5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3951000" y="519480"/>
            <a:ext cx="3564000" cy="402300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40000"/>
              </a:srgbClr>
            </a:outerShdw>
          </a:effectLst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97640" y="195120"/>
            <a:ext cx="8775720" cy="4455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6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358640" y="519840"/>
            <a:ext cx="2835000" cy="361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950000" y="519840"/>
            <a:ext cx="2835000" cy="361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body"/>
          </p:nvPr>
        </p:nvSpPr>
        <p:spPr>
          <a:xfrm>
            <a:off x="122364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478836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7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35964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27600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624636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494280" y="519840"/>
            <a:ext cx="2295000" cy="2862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3410640" y="519840"/>
            <a:ext cx="2295000" cy="2862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body"/>
          </p:nvPr>
        </p:nvSpPr>
        <p:spPr>
          <a:xfrm>
            <a:off x="6354000" y="519840"/>
            <a:ext cx="2295000" cy="2862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 type="ftr" idx="8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8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95480"/>
            <a:ext cx="8208720" cy="2485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zh-CN" sz="40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黑灰怀旧格子背景欧美风格商务</a:t>
            </a:r>
            <a:r>
              <a:rPr b="0" lang="en-US" sz="40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3314880"/>
            <a:ext cx="4176360" cy="1680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Presenting your ideas 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with a bold design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209160" y="4826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5964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7600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4636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7" name="Picture Placeholder 7" descr="PlaceholderImage.jpg"/>
          <p:cNvPicPr/>
          <p:nvPr/>
        </p:nvPicPr>
        <p:blipFill>
          <a:blip r:embed="rId1"/>
          <a:srcRect l="2029" t="0" r="52816" b="0"/>
          <a:stretch/>
        </p:blipFill>
        <p:spPr>
          <a:xfrm>
            <a:off x="494280" y="519840"/>
            <a:ext cx="2295000" cy="2862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Placeholder 8" descr="PlaceholderImage.jpg"/>
          <p:cNvPicPr/>
          <p:nvPr/>
        </p:nvPicPr>
        <p:blipFill>
          <a:blip r:embed="rId2"/>
          <a:srcRect l="1784" t="0" r="53062" b="0"/>
          <a:stretch/>
        </p:blipFill>
        <p:spPr>
          <a:xfrm>
            <a:off x="3410640" y="519840"/>
            <a:ext cx="2295000" cy="2862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Placeholder 9" descr="PlaceholderImage.jpg"/>
          <p:cNvPicPr/>
          <p:nvPr/>
        </p:nvPicPr>
        <p:blipFill>
          <a:blip r:embed="rId3"/>
          <a:srcRect l="1535" t="0" r="53307" b="0"/>
          <a:stretch/>
        </p:blipFill>
        <p:spPr>
          <a:xfrm>
            <a:off x="6354000" y="519840"/>
            <a:ext cx="2295000" cy="2862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623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Zerox"/>
                <a:ea typeface="ヒラギノ角ゴ ProN W3"/>
              </a:rPr>
              <a:t>The rubicon tea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1" name="Picture Placeholder 14" descr="PlaceholderImage.jpg"/>
          <p:cNvPicPr/>
          <p:nvPr/>
        </p:nvPicPr>
        <p:blipFill>
          <a:blip r:embed="rId1"/>
          <a:srcRect l="1887" t="6869" r="59403" b="14561"/>
          <a:stretch/>
        </p:blipFill>
        <p:spPr>
          <a:xfrm>
            <a:off x="521640" y="1329480"/>
            <a:ext cx="1485000" cy="1890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Placeholder 15" descr="PlaceholderImage.jpg"/>
          <p:cNvPicPr/>
          <p:nvPr/>
        </p:nvPicPr>
        <p:blipFill>
          <a:blip r:embed="rId2"/>
          <a:srcRect l="3831" t="7068" r="57420" b="10919"/>
          <a:stretch/>
        </p:blipFill>
        <p:spPr>
          <a:xfrm>
            <a:off x="2717640" y="1329480"/>
            <a:ext cx="1485000" cy="18903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664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Martin Sanchez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60064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Astrid Niedrigg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8800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audia Schus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00236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Jeff Wallingfor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2600640" y="3732840"/>
            <a:ext cx="1728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002360" y="3732840"/>
            <a:ext cx="1728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8"/>
          <p:cNvSpPr>
            <a:spLocks noGrp="1"/>
          </p:cNvSpPr>
          <p:nvPr>
            <p:ph/>
          </p:nvPr>
        </p:nvSpPr>
        <p:spPr>
          <a:xfrm>
            <a:off x="4788000" y="3732840"/>
            <a:ext cx="1728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9"/>
          <p:cNvSpPr>
            <a:spLocks noGrp="1"/>
          </p:cNvSpPr>
          <p:nvPr>
            <p:ph/>
          </p:nvPr>
        </p:nvSpPr>
        <p:spPr>
          <a:xfrm>
            <a:off x="386640" y="3732840"/>
            <a:ext cx="1674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1" name="Picture Placeholder 15" descr="PlaceholderImage.jpg"/>
          <p:cNvPicPr/>
          <p:nvPr/>
        </p:nvPicPr>
        <p:blipFill>
          <a:blip r:embed="rId3"/>
          <a:srcRect l="2220" t="1641" r="58616" b="15900"/>
          <a:stretch/>
        </p:blipFill>
        <p:spPr>
          <a:xfrm>
            <a:off x="4914000" y="1329480"/>
            <a:ext cx="1485000" cy="1890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Placeholder 15" descr="PlaceholderImage.jpg"/>
          <p:cNvPicPr/>
          <p:nvPr/>
        </p:nvPicPr>
        <p:blipFill>
          <a:blip r:embed="rId4"/>
          <a:srcRect l="3964" t="5739" r="54652" b="12511"/>
          <a:stretch/>
        </p:blipFill>
        <p:spPr>
          <a:xfrm>
            <a:off x="7110360" y="1329480"/>
            <a:ext cx="1485000" cy="1890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0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Embedded Video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4" name="Picture Placeholder 5" descr="VideoIcon.png"/>
          <p:cNvPicPr/>
          <p:nvPr/>
        </p:nvPicPr>
        <p:blipFill>
          <a:blip r:embed="rId1"/>
          <a:srcRect l="0" t="4377" r="0" b="4377"/>
          <a:stretch/>
        </p:blipFill>
        <p:spPr>
          <a:xfrm>
            <a:off x="3735000" y="1032480"/>
            <a:ext cx="504900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360" cy="2061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section 3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2571840"/>
            <a:ext cx="4176360" cy="2257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harts and Graph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Pie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98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Area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0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Bar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2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olumn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4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Stacked column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6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Line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8" name="Chart Placeholder 2"/>
          <p:cNvGraphicFramePr/>
          <p:nvPr/>
        </p:nvGraphicFramePr>
        <p:xfrm>
          <a:off x="3708360" y="951480"/>
          <a:ext cx="5112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ONE KEY THOUGH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Add one page for each idea</a:t>
            </a:r>
            <a:endParaRPr b="0" lang="en-US" sz="36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Ring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1" name="Text Box 9"/>
          <p:cNvSpPr/>
          <p:nvPr/>
        </p:nvSpPr>
        <p:spPr>
          <a:xfrm>
            <a:off x="251640" y="4327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dbd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"/>
          <p:cNvGrpSpPr/>
          <p:nvPr/>
        </p:nvGrpSpPr>
        <p:grpSpPr>
          <a:xfrm>
            <a:off x="5867280" y="1747800"/>
            <a:ext cx="1623600" cy="313920"/>
            <a:chOff x="5867280" y="1747800"/>
            <a:chExt cx="1623600" cy="313920"/>
          </a:xfrm>
        </p:grpSpPr>
        <p:sp>
          <p:nvSpPr>
            <p:cNvPr id="513" name="Freeform 1"/>
            <p:cNvSpPr/>
            <p:nvPr/>
          </p:nvSpPr>
          <p:spPr>
            <a:xfrm>
              <a:off x="5905440" y="189540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5867280" y="1747800"/>
              <a:ext cx="162360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6"/>
          <p:cNvGrpSpPr/>
          <p:nvPr/>
        </p:nvGrpSpPr>
        <p:grpSpPr>
          <a:xfrm>
            <a:off x="5867280" y="2567160"/>
            <a:ext cx="1623600" cy="323640"/>
            <a:chOff x="5867280" y="2567160"/>
            <a:chExt cx="1623600" cy="323640"/>
          </a:xfrm>
        </p:grpSpPr>
        <p:sp>
          <p:nvSpPr>
            <p:cNvPr id="516" name="Freeform 4"/>
            <p:cNvSpPr/>
            <p:nvPr/>
          </p:nvSpPr>
          <p:spPr>
            <a:xfrm>
              <a:off x="5905440" y="272412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5867280" y="2567160"/>
              <a:ext cx="162360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Group 9"/>
          <p:cNvGrpSpPr/>
          <p:nvPr/>
        </p:nvGrpSpPr>
        <p:grpSpPr>
          <a:xfrm>
            <a:off x="5867280" y="1119240"/>
            <a:ext cx="1623600" cy="313920"/>
            <a:chOff x="5867280" y="1119240"/>
            <a:chExt cx="1623600" cy="313920"/>
          </a:xfrm>
        </p:grpSpPr>
        <p:sp>
          <p:nvSpPr>
            <p:cNvPr id="519" name="Freeform 7"/>
            <p:cNvSpPr/>
            <p:nvPr/>
          </p:nvSpPr>
          <p:spPr>
            <a:xfrm>
              <a:off x="5905440" y="127620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0" name="Picture 8" descr=""/>
            <p:cNvPicPr/>
            <p:nvPr/>
          </p:nvPicPr>
          <p:blipFill>
            <a:blip r:embed="rId3"/>
            <a:stretch/>
          </p:blipFill>
          <p:spPr>
            <a:xfrm>
              <a:off x="5867280" y="1119240"/>
              <a:ext cx="162360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Group 12"/>
          <p:cNvGrpSpPr/>
          <p:nvPr/>
        </p:nvGrpSpPr>
        <p:grpSpPr>
          <a:xfrm>
            <a:off x="4157640" y="638280"/>
            <a:ext cx="1437840" cy="966600"/>
            <a:chOff x="4157640" y="638280"/>
            <a:chExt cx="1437840" cy="966600"/>
          </a:xfrm>
        </p:grpSpPr>
        <p:sp>
          <p:nvSpPr>
            <p:cNvPr id="522" name="Oval 10"/>
            <p:cNvSpPr/>
            <p:nvPr/>
          </p:nvSpPr>
          <p:spPr>
            <a:xfrm>
              <a:off x="4195800" y="676440"/>
              <a:ext cx="1361880" cy="890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3" name="Picture 11" descr=""/>
            <p:cNvPicPr/>
            <p:nvPr/>
          </p:nvPicPr>
          <p:blipFill>
            <a:blip r:embed="rId4"/>
            <a:stretch/>
          </p:blipFill>
          <p:spPr>
            <a:xfrm>
              <a:off x="4157640" y="638280"/>
              <a:ext cx="1437840" cy="9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oup 15"/>
          <p:cNvGrpSpPr/>
          <p:nvPr/>
        </p:nvGrpSpPr>
        <p:grpSpPr>
          <a:xfrm>
            <a:off x="4143240" y="1871640"/>
            <a:ext cx="1442520" cy="1014120"/>
            <a:chOff x="4143240" y="1871640"/>
            <a:chExt cx="1442520" cy="1014120"/>
          </a:xfrm>
        </p:grpSpPr>
        <p:sp>
          <p:nvSpPr>
            <p:cNvPr id="525" name="Freeform 13"/>
            <p:cNvSpPr/>
            <p:nvPr/>
          </p:nvSpPr>
          <p:spPr>
            <a:xfrm>
              <a:off x="4181400" y="1914480"/>
              <a:ext cx="1366560" cy="92844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19095" h="19068">
                  <a:moveTo>
                    <a:pt x="9363" y="436"/>
                  </a:moveTo>
                  <a:cubicBezTo>
                    <a:pt x="9363" y="436"/>
                    <a:pt x="11665" y="238"/>
                    <a:pt x="14272" y="1682"/>
                  </a:cubicBezTo>
                  <a:cubicBezTo>
                    <a:pt x="16771" y="3067"/>
                    <a:pt x="18966" y="4136"/>
                    <a:pt x="19092" y="9990"/>
                  </a:cubicBezTo>
                  <a:cubicBezTo>
                    <a:pt x="19181" y="14144"/>
                    <a:pt x="17200" y="18503"/>
                    <a:pt x="11862" y="18990"/>
                  </a:cubicBezTo>
                  <a:cubicBezTo>
                    <a:pt x="4275" y="19682"/>
                    <a:pt x="2133" y="15528"/>
                    <a:pt x="2133" y="15528"/>
                  </a:cubicBezTo>
                  <a:cubicBezTo>
                    <a:pt x="2133" y="15528"/>
                    <a:pt x="-2419" y="10544"/>
                    <a:pt x="1776" y="4313"/>
                  </a:cubicBezTo>
                  <a:cubicBezTo>
                    <a:pt x="5971" y="-1918"/>
                    <a:pt x="16057" y="436"/>
                    <a:pt x="16057" y="43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6" name="Picture 14" descr=""/>
            <p:cNvPicPr/>
            <p:nvPr/>
          </p:nvPicPr>
          <p:blipFill>
            <a:blip r:embed="rId5"/>
            <a:stretch/>
          </p:blipFill>
          <p:spPr>
            <a:xfrm>
              <a:off x="4143240" y="1871640"/>
              <a:ext cx="1442520" cy="101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Group 18"/>
          <p:cNvGrpSpPr/>
          <p:nvPr/>
        </p:nvGrpSpPr>
        <p:grpSpPr>
          <a:xfrm>
            <a:off x="4158360" y="3152160"/>
            <a:ext cx="1442520" cy="1371240"/>
            <a:chOff x="4158360" y="3152160"/>
            <a:chExt cx="1442520" cy="1371240"/>
          </a:xfrm>
        </p:grpSpPr>
        <p:sp>
          <p:nvSpPr>
            <p:cNvPr id="528" name="Freeform 16"/>
            <p:cNvSpPr/>
            <p:nvPr/>
          </p:nvSpPr>
          <p:spPr>
            <a:xfrm>
              <a:off x="4196520" y="3190320"/>
              <a:ext cx="1366560" cy="129492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19178" h="19019">
                  <a:moveTo>
                    <a:pt x="4564" y="1589"/>
                  </a:moveTo>
                  <a:cubicBezTo>
                    <a:pt x="4564" y="1589"/>
                    <a:pt x="11499" y="231"/>
                    <a:pt x="14049" y="1633"/>
                  </a:cubicBezTo>
                  <a:cubicBezTo>
                    <a:pt x="16494" y="2977"/>
                    <a:pt x="18889" y="4210"/>
                    <a:pt x="19171" y="9885"/>
                  </a:cubicBezTo>
                  <a:cubicBezTo>
                    <a:pt x="19323" y="12946"/>
                    <a:pt x="17194" y="18237"/>
                    <a:pt x="11588" y="18926"/>
                  </a:cubicBezTo>
                  <a:cubicBezTo>
                    <a:pt x="4969" y="19739"/>
                    <a:pt x="1816" y="14990"/>
                    <a:pt x="1816" y="14990"/>
                  </a:cubicBezTo>
                  <a:cubicBezTo>
                    <a:pt x="1816" y="14990"/>
                    <a:pt x="-2277" y="10234"/>
                    <a:pt x="1826" y="4186"/>
                  </a:cubicBezTo>
                  <a:cubicBezTo>
                    <a:pt x="5930" y="-1861"/>
                    <a:pt x="15796" y="424"/>
                    <a:pt x="15796" y="42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9" name="Picture 17" descr=""/>
            <p:cNvPicPr/>
            <p:nvPr/>
          </p:nvPicPr>
          <p:blipFill>
            <a:blip r:embed="rId6"/>
            <a:stretch/>
          </p:blipFill>
          <p:spPr>
            <a:xfrm>
              <a:off x="4158360" y="3152160"/>
              <a:ext cx="1442520" cy="137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Group 21"/>
          <p:cNvGrpSpPr/>
          <p:nvPr/>
        </p:nvGrpSpPr>
        <p:grpSpPr>
          <a:xfrm>
            <a:off x="5815080" y="3357720"/>
            <a:ext cx="1618920" cy="1133280"/>
            <a:chOff x="5815080" y="3357720"/>
            <a:chExt cx="1618920" cy="1133280"/>
          </a:xfrm>
        </p:grpSpPr>
        <p:sp>
          <p:nvSpPr>
            <p:cNvPr id="531" name="AutoShape 19"/>
            <p:cNvSpPr/>
            <p:nvPr/>
          </p:nvSpPr>
          <p:spPr>
            <a:xfrm>
              <a:off x="6338880" y="3395520"/>
              <a:ext cx="1056960" cy="10569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6091" h="21600">
                  <a:moveTo>
                    <a:pt x="1449" y="0"/>
                  </a:moveTo>
                  <a:cubicBezTo>
                    <a:pt x="649" y="0"/>
                    <a:pt x="0" y="871"/>
                    <a:pt x="0" y="1946"/>
                  </a:cubicBezTo>
                  <a:lnTo>
                    <a:pt x="0" y="6747"/>
                  </a:lnTo>
                  <a:lnTo>
                    <a:pt x="-5509" y="8562"/>
                  </a:lnTo>
                  <a:lnTo>
                    <a:pt x="0" y="10377"/>
                  </a:lnTo>
                  <a:lnTo>
                    <a:pt x="0" y="19654"/>
                  </a:lnTo>
                  <a:cubicBezTo>
                    <a:pt x="0" y="20729"/>
                    <a:pt x="649" y="21600"/>
                    <a:pt x="1449" y="21600"/>
                  </a:cubicBezTo>
                  <a:lnTo>
                    <a:pt x="14641" y="21600"/>
                  </a:lnTo>
                  <a:cubicBezTo>
                    <a:pt x="15442" y="21600"/>
                    <a:pt x="16091" y="20729"/>
                    <a:pt x="16091" y="19654"/>
                  </a:cubicBezTo>
                  <a:lnTo>
                    <a:pt x="16091" y="1946"/>
                  </a:lnTo>
                  <a:cubicBezTo>
                    <a:pt x="16091" y="871"/>
                    <a:pt x="15442" y="0"/>
                    <a:pt x="14641" y="0"/>
                  </a:cubicBezTo>
                  <a:lnTo>
                    <a:pt x="1449" y="0"/>
                  </a:lnTo>
                  <a:close/>
                  <a:moveTo>
                    <a:pt x="1449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32" name="Picture 20" descr=""/>
            <p:cNvPicPr/>
            <p:nvPr/>
          </p:nvPicPr>
          <p:blipFill>
            <a:blip r:embed="rId7"/>
            <a:stretch/>
          </p:blipFill>
          <p:spPr>
            <a:xfrm>
              <a:off x="5815080" y="3357720"/>
              <a:ext cx="16189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Extra </a:t>
            </a:r>
            <a:br>
              <a:rPr sz="3800"/>
            </a:b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shapes &amp; lin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4" name="Group 25"/>
          <p:cNvGrpSpPr/>
          <p:nvPr/>
        </p:nvGrpSpPr>
        <p:grpSpPr>
          <a:xfrm>
            <a:off x="5867280" y="628560"/>
            <a:ext cx="1623600" cy="85320"/>
            <a:chOff x="5867280" y="628560"/>
            <a:chExt cx="1623600" cy="85320"/>
          </a:xfrm>
        </p:grpSpPr>
        <p:sp>
          <p:nvSpPr>
            <p:cNvPr id="535" name="Freeform 23"/>
            <p:cNvSpPr/>
            <p:nvPr/>
          </p:nvSpPr>
          <p:spPr>
            <a:xfrm>
              <a:off x="5905440" y="66672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36" name="Picture 24" descr=""/>
            <p:cNvPicPr/>
            <p:nvPr/>
          </p:nvPicPr>
          <p:blipFill>
            <a:blip r:embed="rId8"/>
            <a:stretch/>
          </p:blipFill>
          <p:spPr>
            <a:xfrm>
              <a:off x="5867280" y="628560"/>
              <a:ext cx="162360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6f9f9"/>
              </a:solidFill>
              <a:latin typeface="Zerox"/>
              <a:ea typeface="ヒラギノ角ゴ ProN W3"/>
            </a:endParaRPr>
          </a:p>
        </p:txBody>
      </p:sp>
      <p:pic>
        <p:nvPicPr>
          <p:cNvPr id="538" name="图表占位符 2" descr=""/>
          <p:cNvPicPr/>
          <p:nvPr/>
        </p:nvPicPr>
        <p:blipFill>
          <a:blip r:embed="rId1"/>
          <a:stretch/>
        </p:blipFill>
        <p:spPr>
          <a:xfrm>
            <a:off x="3708000" y="951480"/>
            <a:ext cx="496836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Expanding on an idea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the place where you can add a block of text to present a single idea. Remember to keep it brief, as people cannot read and listen at the same time. </a:t>
            </a:r>
            <a:endParaRPr b="0" lang="en-US" sz="32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some bullet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600360" y="843480"/>
            <a:ext cx="5291640" cy="3563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aution, using too many bulle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an kill your presentation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  <a:p>
            <a:pPr marL="321480" indent="-321480">
              <a:lnSpc>
                <a:spcPct val="100000"/>
              </a:lnSpc>
              <a:spcBef>
                <a:spcPts val="1908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o, be sure to use them sparingly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  <a:p>
            <a:pPr marL="321480" indent="-321480">
              <a:lnSpc>
                <a:spcPct val="100000"/>
              </a:lnSpc>
              <a:spcBef>
                <a:spcPts val="1908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You want your audience to g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your ideas quickly and easily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360" cy="2061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Section 2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2571840"/>
            <a:ext cx="4176360" cy="2257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mages and Photo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Horizontal image &amp; tit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5" name="Picture Placeholder 5" descr="PlaceholderImage.jpg"/>
          <p:cNvPicPr/>
          <p:nvPr/>
        </p:nvPicPr>
        <p:blipFill>
          <a:blip r:embed="rId1"/>
          <a:srcRect l="3813" t="0" r="3813" b="0"/>
          <a:stretch/>
        </p:blipFill>
        <p:spPr>
          <a:xfrm>
            <a:off x="3735000" y="1032480"/>
            <a:ext cx="504900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Vertical Imag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7" name="Picture Placeholder 2" descr="PlaceholderImage.jpg"/>
          <p:cNvPicPr/>
          <p:nvPr/>
        </p:nvPicPr>
        <p:blipFill>
          <a:blip r:embed="rId1"/>
          <a:srcRect l="902" t="1506" r="50276" b="1963"/>
          <a:stretch/>
        </p:blipFill>
        <p:spPr>
          <a:xfrm>
            <a:off x="3951000" y="519480"/>
            <a:ext cx="3564000" cy="402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468" name="Text Box 9"/>
          <p:cNvSpPr/>
          <p:nvPr/>
        </p:nvSpPr>
        <p:spPr>
          <a:xfrm>
            <a:off x="124200" y="43740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dbd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Placeholder 7" descr="PlaceholderImage.jpg"/>
          <p:cNvPicPr/>
          <p:nvPr/>
        </p:nvPicPr>
        <p:blipFill>
          <a:blip r:embed="rId1"/>
          <a:srcRect l="0" t="4911" r="0" b="4911"/>
          <a:stretch/>
        </p:blipFill>
        <p:spPr>
          <a:xfrm>
            <a:off x="197640" y="195120"/>
            <a:ext cx="8775720" cy="445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Placeholder 5" descr="PlaceholderImage.jpg"/>
          <p:cNvPicPr/>
          <p:nvPr/>
        </p:nvPicPr>
        <p:blipFill>
          <a:blip r:embed="rId1"/>
          <a:srcRect l="3755" t="0" r="52123" b="0"/>
          <a:stretch/>
        </p:blipFill>
        <p:spPr>
          <a:xfrm>
            <a:off x="1358640" y="519840"/>
            <a:ext cx="2835000" cy="361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Placeholder 6" descr="PlaceholderImage.jpg"/>
          <p:cNvPicPr/>
          <p:nvPr/>
        </p:nvPicPr>
        <p:blipFill>
          <a:blip r:embed="rId2"/>
          <a:srcRect l="3365" t="0" r="52511" b="0"/>
          <a:stretch/>
        </p:blipFill>
        <p:spPr>
          <a:xfrm>
            <a:off x="4950000" y="519840"/>
            <a:ext cx="2835000" cy="361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22364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Short descritption text of the image abov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78836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Short description Text of the image abov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Title &amp; Subtitle">
  <a:themeElements>
    <a:clrScheme name="RUBICON - GRAY GOLD COLOR SCHEME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cca82f"/>
      </a:accent1>
      <a:accent2>
        <a:srgbClr val="907900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ection Divider">
  <a:themeElements>
    <a:clrScheme name="Section Divid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  <Pages>0</Pages>
  <Words>681</Words>
  <Characters>0</Character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5T08:11:09Z</dcterms:modified>
  <cp:revision>57</cp:revision>
  <dc:subject/>
  <dc:title>RUBIC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2</vt:r8>
  </property>
</Properties>
</file>