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487-E126-40CD-9F44-2C65EFF8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2492-8FE7-4F9E-B789-3090A305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C07-EABF-4047-B9B6-23E52F3B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7E4-9E5E-41ED-B112-7039EC3F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4FE-958B-4535-8BE2-00C4C79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BAE-A422-4E35-9758-40AE155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725-1D5B-4D4F-AB20-4E9A85ED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BAC-344A-48F9-8E21-3640EC1A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32A-29FC-4BDC-83BB-F34C4207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1F87-3392-46FB-838C-7609A49F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2CB-3577-418A-A236-5431DDA7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EDB-22F1-4004-8CA3-BEC50050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BD4A-56A1-4840-81A1-2EC037D398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7843-B045-41F7-B87F-7615194F05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6" descr=""/>
          <p:cNvPicPr/>
          <p:nvPr/>
        </p:nvPicPr>
        <p:blipFill>
          <a:blip r:embed="rId10"/>
          <a:stretch/>
        </p:blipFill>
        <p:spPr>
          <a:xfrm>
            <a:off x="-3240" y="0"/>
            <a:ext cx="3575160" cy="5745240"/>
          </a:xfrm>
          <a:prstGeom prst="rect">
            <a:avLst/>
          </a:prstGeom>
          <a:ln w="0">
            <a:noFill/>
          </a:ln>
        </p:spPr>
      </p:pic>
      <p:sp>
        <p:nvSpPr>
          <p:cNvPr id="43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4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5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4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5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2091b6"/>
              </a:gs>
              <a:gs pos="50000">
                <a:srgbClr val="24b6da"/>
              </a:gs>
              <a:gs pos="100000">
                <a:srgbClr val="2091b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渐变方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br>
              <a:rPr sz="36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647640" y="5278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"/>
          <p:cNvPicPr/>
          <p:nvPr/>
        </p:nvPicPr>
        <p:blipFill>
          <a:blip r:embed="rId1"/>
          <a:stretch/>
        </p:blipFill>
        <p:spPr>
          <a:xfrm>
            <a:off x="-3240" y="0"/>
            <a:ext cx="2487600" cy="5745240"/>
          </a:xfrm>
          <a:prstGeom prst="rect">
            <a:avLst/>
          </a:prstGeom>
          <a:ln w="0">
            <a:noFill/>
          </a:ln>
        </p:spPr>
      </p:pic>
      <p:sp>
        <p:nvSpPr>
          <p:cNvPr id="78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81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2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0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6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2091b6"/>
                </a:gs>
                <a:gs pos="50000">
                  <a:srgbClr val="24b6da"/>
                </a:gs>
                <a:gs pos="100000">
                  <a:srgbClr val="2091b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100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797979"/>
                </a:gs>
                <a:gs pos="100000">
                  <a:srgbClr val="3f3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8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4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3f3f3f"/>
                </a:gs>
                <a:gs pos="50000">
                  <a:srgbClr val="797979"/>
                </a:gs>
                <a:gs pos="100000">
                  <a:srgbClr val="3f3f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1"/>
          <a:stretch/>
        </p:blipFill>
        <p:spPr>
          <a:xfrm>
            <a:off x="-3240" y="0"/>
            <a:ext cx="2487600" cy="574524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111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46" descr=""/>
          <p:cNvPicPr/>
          <p:nvPr/>
        </p:nvPicPr>
        <p:blipFill>
          <a:blip r:embed="rId1"/>
          <a:stretch/>
        </p:blipFill>
        <p:spPr>
          <a:xfrm>
            <a:off x="-3240" y="0"/>
            <a:ext cx="3575160" cy="5745240"/>
          </a:xfrm>
          <a:prstGeom prst="rect">
            <a:avLst/>
          </a:prstGeom>
          <a:ln w="0">
            <a:noFill/>
          </a:ln>
        </p:spPr>
      </p:pic>
      <p:sp>
        <p:nvSpPr>
          <p:cNvPr id="12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12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4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14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2091b6"/>
              </a:gs>
              <a:gs pos="50000">
                <a:srgbClr val="24b6da"/>
              </a:gs>
              <a:gs pos="100000">
                <a:srgbClr val="2091b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nks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！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cp:keywords/>
  <dc:language>en-US</dc:language>
  <cp:lastModifiedBy>a</cp:lastModifiedBy>
  <cp:lastPrinted>1899-12-30T00:00:00Z</cp:lastPrinted>
  <dcterms:modified xsi:type="dcterms:W3CDTF">2015-07-25T09:48:04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