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158-8A2F-4EF3-A934-8ED682C1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E0A-29B9-4EC1-9192-1D8D29CF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EEC-723D-463A-B93C-63C73CE5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490-423B-4628-B0F0-1852242D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1BA-FA64-45DB-B552-09EAE483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6F8-FF19-4E49-86CB-5F14DD94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A825-E922-4C45-8F8C-A85D0C51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A618-B70A-427B-A77E-9DB0C634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7030-6E87-484F-9BFC-91689813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8E2-688C-417B-918C-FB766592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F0BF-B96C-451F-A938-E24C944E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A9B-90AF-457A-8E0E-EA02D16E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9482-B15B-479E-8811-80D0DA185E6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B61F-B9C4-421D-9C9D-014C8882067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3109" t="1584" r="4673" b="2659"/>
          <a:stretch/>
        </p:blipFill>
        <p:spPr>
          <a:xfrm>
            <a:off x="1224000" y="11160"/>
            <a:ext cx="6592680" cy="684684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3780000" y="2781360"/>
            <a:ext cx="18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TextBox 7" descr=""/>
          <p:cNvPicPr/>
          <p:nvPr/>
        </p:nvPicPr>
        <p:blipFill>
          <a:blip r:embed="rId2"/>
          <a:stretch/>
        </p:blipFill>
        <p:spPr>
          <a:xfrm>
            <a:off x="523800" y="2255760"/>
            <a:ext cx="7991640" cy="706680"/>
          </a:xfrm>
          <a:prstGeom prst="rect">
            <a:avLst/>
          </a:prstGeom>
          <a:ln w="0">
            <a:noFill/>
          </a:ln>
        </p:spPr>
      </p:pic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669000" cy="6669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63720" y="2659320"/>
            <a:ext cx="31766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Brush Script MT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6128-D57E-4987-8DCB-CE1DFD53CD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54100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点点滴滴回忆中。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47840" y="170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9840" indent="-339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       </a:t>
            </a: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第一次的相遇。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        </a:t>
            </a: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鼓起勇气牵你的手。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                 </a:t>
            </a: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习惯每晚对你</a:t>
            </a:r>
            <a:r>
              <a:rPr b="0" lang="en-US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say good night</a:t>
            </a: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。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                          </a:t>
            </a: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对你许下一生一世的诺言。。。</a:t>
            </a:r>
            <a:r>
              <a:rPr b="0" lang="en-US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rcRect l="3116" t="1585" r="4665" b="2658"/>
          <a:stretch/>
        </p:blipFill>
        <p:spPr>
          <a:xfrm>
            <a:off x="7261200" y="4897440"/>
            <a:ext cx="18828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771640" y="2832120"/>
            <a:ext cx="6388200" cy="3992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第一次相遇。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5520" y="1196640"/>
            <a:ext cx="8291520" cy="17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9840" indent="-339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在那个暖日的下午相遇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让我知道原来身边有一个温暖的你。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4062240" y="2716200"/>
            <a:ext cx="5051520" cy="31575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66560" y="5877000"/>
            <a:ext cx="5761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你笑了，原来你也在等我。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标题 1"/>
          <p:cNvSpPr/>
          <p:nvPr/>
        </p:nvSpPr>
        <p:spPr>
          <a:xfrm>
            <a:off x="84240" y="260280"/>
            <a:ext cx="576108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我勇敢地对你讲：</a:t>
            </a:r>
            <a:r>
              <a:rPr b="0" lang="en-US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I  love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317520" y="1035000"/>
            <a:ext cx="47592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5"/>
          <p:cNvSpPr/>
          <p:nvPr/>
        </p:nvSpPr>
        <p:spPr>
          <a:xfrm>
            <a:off x="5291280" y="5769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5"/>
          <a:stretch/>
        </p:blipFill>
        <p:spPr>
          <a:xfrm>
            <a:off x="2055960" y="2363760"/>
            <a:ext cx="7119720" cy="4451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7848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我要鼓起勇气牵你的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2392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9840" indent="-339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牵住你的手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顿时感到幸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因为看到你</a:t>
            </a:r>
            <a:r>
              <a:rPr b="0" lang="en-US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sweet</a:t>
            </a: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的样子。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66800" y="648000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0996-E772-4E10-BFE6-3D76972D0E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6804000" cy="4465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5360" y="259920"/>
            <a:ext cx="5786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每一晚，</a:t>
            </a:r>
            <a:r>
              <a:rPr b="0" lang="en-US" sz="36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say goodnig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标题 1"/>
          <p:cNvSpPr/>
          <p:nvPr/>
        </p:nvSpPr>
        <p:spPr>
          <a:xfrm>
            <a:off x="6300720" y="1268280"/>
            <a:ext cx="26640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我不舍得将电话盖了，等到那一边响起：嘟嘟嘟，我脑海浮现扬起嘴角的你睡美人的样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2"/>
          <p:cNvSpPr/>
          <p:nvPr/>
        </p:nvSpPr>
        <p:spPr>
          <a:xfrm>
            <a:off x="0" y="2378160"/>
            <a:ext cx="9144000" cy="1439640"/>
          </a:xfrm>
          <a:prstGeom prst="rect">
            <a:avLst/>
          </a:prstGeom>
          <a:solidFill>
            <a:srgbClr val="fbe9f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6560" y="1806480"/>
            <a:ext cx="8229600" cy="22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Brush Script MT"/>
              </a:rPr>
              <a:t>Are you merry me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3"/>
          <p:cNvSpPr/>
          <p:nvPr/>
        </p:nvSpPr>
        <p:spPr>
          <a:xfrm>
            <a:off x="3203640" y="3962520"/>
            <a:ext cx="594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一生一世的诺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你愿意与我一起相守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我明白你担心，我承诺你，作为一个爱你的人，我会保护你，爱护你，珍惜你，爱惜你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534440" cy="4709880"/>
          </a:xfrm>
          <a:prstGeom prst="rect">
            <a:avLst/>
          </a:prstGeom>
          <a:ln w="0">
            <a:noFill/>
          </a:ln>
        </p:spPr>
      </p:pic>
      <p:sp>
        <p:nvSpPr>
          <p:cNvPr id="70" name="标题 1"/>
          <p:cNvSpPr/>
          <p:nvPr/>
        </p:nvSpPr>
        <p:spPr>
          <a:xfrm>
            <a:off x="8218440" y="1917720"/>
            <a:ext cx="504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那你的回答是</a:t>
            </a:r>
            <a:r>
              <a:rPr b="0" lang="en-US" sz="36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…</a:t>
            </a:r>
            <a:r>
              <a:rPr b="0" lang="zh-CN" sz="36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1904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原来牵住你的手，</a:t>
            </a:r>
            <a:br>
              <a:rPr sz="2000"/>
            </a:br>
            <a:r>
              <a:rPr b="0" lang="zh-CN" sz="20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走进教堂，</a:t>
            </a:r>
            <a:br>
              <a:rPr sz="2000"/>
            </a:br>
            <a:r>
              <a:rPr b="0" lang="zh-CN" sz="20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那才是最幸福的事情。。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912000" cy="4135320"/>
          </a:xfrm>
          <a:prstGeom prst="rect">
            <a:avLst/>
          </a:prstGeom>
          <a:ln w="0">
            <a:noFill/>
          </a:ln>
        </p:spPr>
      </p:pic>
      <p:sp>
        <p:nvSpPr>
          <p:cNvPr id="73" name="标题 1"/>
          <p:cNvSpPr/>
          <p:nvPr/>
        </p:nvSpPr>
        <p:spPr>
          <a:xfrm>
            <a:off x="609480" y="569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625968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04:28:00Z</dcterms:created>
  <dc:creator>Administrator</dc:creator>
  <dc:description/>
  <cp:keywords/>
  <dc:language>en-US</dc:language>
  <cp:lastModifiedBy>王玉清</cp:lastModifiedBy>
  <cp:lastPrinted>1899-12-30T00:00:00Z</cp:lastPrinted>
  <dcterms:modified xsi:type="dcterms:W3CDTF">2016-02-20T03:22:30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