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76D-7AA1-4DBA-81BB-F11E023B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D53-C578-4280-B7FC-E30B2A63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E81FA-4520-4E16-A830-B0078E05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7AF48-3386-4BEA-9279-43CA038C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8EE11-4C00-49C6-8E0F-E07DC664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CC0B5-2CA9-4A3C-94F7-67CD5191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B0F46-70E9-40C1-AD07-8CF922B1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757C1-C4FE-40E5-9764-4374DDC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025AD-F261-4D60-9F9D-63788D9E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C538D-32B5-4A48-8B8D-A7EA9F4D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8CF9A-47E5-46EE-940A-53D8952A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A87FE-B1D9-40C1-A191-1109DDF1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8DD-A70B-4944-8C7F-8C95A1F7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6AA71-6E9B-4CC9-BA98-9D5F0646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8078D-FBB3-4341-8AE2-DA76EC5D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C798C-01F2-4E2F-8535-C152CAB2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92E41-BC80-4C26-A253-47C99A3A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D65A2-7AB5-46D9-AB52-E17CC394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D3656-0BB9-43A0-9F1E-582CA376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B3950-5730-49E4-8207-8BE65377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476FD-A61B-4CD0-9ABF-3C75E754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FEB55-35A0-4D16-AF5F-7A51B60E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493EF-4189-48F5-A542-6861349C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A79-CEBC-4729-A8BA-6A8D9487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4C704-A188-4F7E-96AB-D43E714A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591C7-827E-4F83-BE95-41D94886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D0DC1-63F9-460C-9242-991CB38A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8488D-FEB1-43EE-A712-1870CB5A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71FF9-173E-4672-8BA5-1D2B53C6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E9555-CEB9-4849-9A4F-D2D48825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658DA-0792-4E26-BA17-28070432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C1F23-44B1-43B0-ABBE-8D810392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842C6-7C5D-453E-9A9D-6CC1E8AC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F6E96-52AB-43B5-8487-5777BEE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504A-93E5-4DBB-B7B3-9FB61C32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FB7EC-41D1-47CB-A525-223EB244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284E1-5C9D-46AA-A8E7-25C260F5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9A10D-8D69-4868-BA17-1EA009D5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F73CE-7B64-493B-A62D-EAE5D59B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F4B4C-07E4-430F-9457-D1464C6A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E6A17-E39B-4295-A069-A9EDF8F2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0F495-827A-4231-8E0A-A9AE55C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D55E5-7333-4B7A-9783-7D91F0E3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E9618-CC12-4744-90E0-43FF86E9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6441C-9C0D-4624-B8FE-9D42F69E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ABB5-280A-4D08-9BD5-FA90790B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91291-9100-4D51-86F1-2DBC0BAE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3B0E8-A09A-4322-BC4F-85C6261A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A9B48-9CBC-470C-BAFC-D9DD59CB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3354E-BC3C-4E02-BF4E-5B60AEBE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228AF-FAEE-4D18-AEC2-AC100570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83D6C-B270-449C-BCEA-1751A9C9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4B043-02B7-44CE-BF0E-21AEDDC7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2F030-2B16-4D4D-B3FD-1CF94B3F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2F43D-D216-4EB8-885C-2458B0EF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DFFF1-8379-46F8-BF55-3242B368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EDCD-95EF-44F7-A808-E4E3F5B5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722D4-DEA8-4708-AC84-3E04F4E3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8EB30-5D77-449F-9C07-4DA71F2A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95AB1-49AE-43DE-A4D9-FFEF9EA4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EE6BE-E775-484B-BC89-7602D237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E8A5C-21B5-4093-AD81-B9A7A00B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4127C-C091-4136-80F8-8E45FE48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5B9CE-C9DC-405A-9C93-40F343E8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57E1-634A-45C1-A390-77A62506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0B1B-4D01-46A8-9804-8A0C8288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CA8A-BC32-446B-8737-FD19C024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FE63-B834-4739-8582-9006B6DD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7DC-5867-430A-AC4F-5625F918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DF83-A544-425A-BEB9-496084D6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29B1-5CC2-4174-8A68-70F99EC5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982B-D4B8-42BD-B198-4312076C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1FD0-E793-4CA4-BBD0-F3AFF7D8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3C24-E012-4DAC-B2C3-39A562AC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C392C-E902-4803-9325-6482D4FB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F0D7B-C33F-4E1B-841A-9B2905BE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93059-2C08-42C6-87FC-45161D52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B799-338A-4A3E-8693-E7919CED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EE1C-890F-4059-AD6B-6EBEE8C5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EB1-589D-4690-92AA-BBC99A87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5D8C-D0DE-4B59-87D0-382B9808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149E9-EF78-48D1-8922-52A7C826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6CE2-6295-47DF-BEAA-83C5F290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39A4-032B-4B61-8C69-BBCFDA6B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0A54-880A-4C02-9065-3355C044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3725-3B5A-4FF4-A0BD-8D1B4E35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A67A6-09E3-4AFC-A400-254559AD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814F0-01A7-4FF8-A220-04539BE1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D49FF-41B4-43C9-B84D-8B3743F5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92DA5-0372-4BD8-B79F-01B8D752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EE7-AA07-40DC-A5B5-F7E58F90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FBBDD-2C27-4A27-94CB-866F6BD9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DC65C-987C-46E0-B7BA-783DA4BA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28FCD-3545-4755-AF49-B7F03B57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698E1-0164-4BFB-B166-ED609D65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D59A9-B679-46AC-B61A-2887D8B2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D0B4-CF74-4802-BA08-1A532EA4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EB6F-6830-4137-8C31-8B81284B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80355-469C-4808-98EC-B700BD1F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629A-F106-49FD-A7E6-B39326DB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F8B8D-6938-4A5E-B72E-C8899C72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13D-45D1-4A79-982F-BF4B8A06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DDD6-AA86-4B8A-ADC0-15877BF6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32D7-0C37-4669-92CA-9E3F3718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2F95A-8E6F-4837-9360-6776E67E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92108-5CE6-4E64-AFAE-8BFC4969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EA78A-BE75-49E4-B1AC-D21C8128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395D9-AF41-4BAA-9CA4-20A9633E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0252E-C7FD-497A-B8E2-48E28433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6092A-7E61-43B6-9DC3-1B8E1757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78909-4290-44A4-8A87-30061BDE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1365-6D2D-42A6-8469-CEEAF96A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58A-CF26-4D56-87CE-BE9CED7C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662F-AF6B-4CDE-A962-4B827721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C9BF5-B71C-4EC3-A7A7-CA25F081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78E4-B67D-4FE0-A393-B5502C34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F8F64-FBC4-433B-B195-576B9E99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B526C-260C-41BA-9169-17521610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6CEFA-B812-4187-BCEF-34297BAA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2E254-4D08-4819-A54A-DC6B5BCA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C110-83E4-42AB-BED8-D67A003E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0AB5A-C3B1-4DB1-B255-3D391836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18D5F-221C-4973-911E-16734F6C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411-1CE8-4E3F-8C70-320BECA8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A93E2-3E2F-4395-895F-B6009E17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A9302-EAA8-4F8B-A016-190FAAD4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36445-F2E5-4094-8DF8-80384097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D11BE-2FFD-47D3-93AA-42B63F2B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C1FFC-D06B-4E13-8C31-724173D7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02D62-6F6E-42AE-B88C-FD177DE2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F8893-DB1D-4A0D-B2A1-E1F0A082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13EBC-EF50-40AC-8EB2-9B3924F8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1015E-3B43-43C0-AD52-6492F15A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D84D9-183E-4B47-B3C0-7549739B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D2C-03D5-4646-AAD1-27A9E7FD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FD641-5E10-4CFB-A525-DFFFC9F0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382AF-5DDC-437E-AF49-16D0F57C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286B0-B6D1-4C13-A573-587D1276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16655-1566-453B-AE75-BB9CABBD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35965-ACBA-44E5-AAD5-4ECD29E8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E61C0-E755-4CE2-950E-BE446C2E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F4016-9FD4-4B5B-B4CF-5B7EB776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B4544-AD9C-4DA9-97FC-D869BB8C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B2912-CB3F-4DCC-BD93-4FF1BF28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0F2F1-2C62-4A25-AAD6-4A3A354B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19A-0B8C-4DB1-8088-0034837B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F9053-D6C9-4703-A43F-20877564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8C7A2-322C-481B-B634-2FCBE5F6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09341-5F7D-4FAA-B9A2-3FB65176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B6C99-A854-4955-AD1A-30540D8A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CA8FA-C364-4D40-9ADE-FE825274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2A256-8F57-4467-8A4E-E4311BCD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C9042-CCD8-4626-A6F6-973F847E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19D26-5C20-435B-8E9B-8A821B53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AAA07-F7D4-4F39-8A16-26C710E9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6667F-4540-4EE5-9616-8A88F35F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53F0-3A1B-476C-9324-A6CB4DB70DFB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477F-1173-4A70-93B1-7B8542B0ED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47F5-E6A0-4475-8FC0-4A712751060E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64AD-25DC-4ACB-BAC8-DB28394579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A87B-F107-4798-B765-CC4471ED0CC8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64ED-E6CA-4EA9-ABF3-F8A20F89C9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271F-26CB-4DF0-B38F-91C99FACA7AA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F4CA-F863-48E8-B11F-539B39DD6F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964D-1070-4208-918C-189F38E38F33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9CE3-868C-434B-B5E2-D9C8BB716B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3649-B12A-43F6-8F97-A400A5A14462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BBEB-4616-4B0A-8EA8-E14604B1DF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13E7-28CD-481F-9682-86F738EFE6E5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154E-5700-4A2A-932D-F8C02FDBB9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2126-FDB7-4371-A8AE-3AF07A5F6F48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8C5C-C3C5-498B-9610-DAF4BA8227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515A-C23F-407C-84FE-D092EC7FB814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18D8-A693-490C-A7F3-C94EBA3130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165F-B930-469B-9943-E68B6ADA36F5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CA20-42BF-4507-ABF5-2D31D487F6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95F4-4063-4D4B-B7DA-C114EF757228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CBFC-AC71-4249-9F57-08C1E00EBA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E50B-2A3D-4F64-A1D4-DBC49EC37328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0A8A-D37E-4FC9-B713-1FA6FA42CF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7FFB-1D4F-428D-A9E0-36D3F39940B2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3138-BE84-4EF2-8BA6-7B8D62284B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Box 6"/>
          <p:cNvSpPr/>
          <p:nvPr/>
        </p:nvSpPr>
        <p:spPr>
          <a:xfrm>
            <a:off x="3989520" y="5013360"/>
            <a:ext cx="21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r>
              <a:rPr b="0" lang="en-US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·</a:t>
            </a: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그림 4" descr=""/>
          <p:cNvPicPr/>
          <p:nvPr/>
        </p:nvPicPr>
        <p:blipFill>
          <a:blip r:embed="rId2"/>
          <a:stretch/>
        </p:blipFill>
        <p:spPr>
          <a:xfrm>
            <a:off x="2965320" y="2184480"/>
            <a:ext cx="3876840" cy="2781360"/>
          </a:xfrm>
          <a:prstGeom prst="rect">
            <a:avLst/>
          </a:prstGeom>
          <a:ln w="0">
            <a:noFill/>
          </a:ln>
        </p:spPr>
      </p:pic>
      <p:sp>
        <p:nvSpPr>
          <p:cNvPr id="536" name="矩形 1"/>
          <p:cNvSpPr/>
          <p:nvPr/>
        </p:nvSpPr>
        <p:spPr>
          <a:xfrm>
            <a:off x="2522160" y="6066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结婚纪念册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92BE-8E1C-4B8A-A720-39F2A9ACB3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그림 5" descr=""/>
          <p:cNvPicPr/>
          <p:nvPr/>
        </p:nvPicPr>
        <p:blipFill>
          <a:blip r:embed="rId2"/>
          <a:stretch/>
        </p:blipFill>
        <p:spPr>
          <a:xfrm>
            <a:off x="2965320" y="2184480"/>
            <a:ext cx="3876840" cy="2781360"/>
          </a:xfrm>
          <a:prstGeom prst="rect">
            <a:avLst/>
          </a:prstGeom>
          <a:ln w="0">
            <a:noFill/>
          </a:ln>
        </p:spPr>
      </p:pic>
      <p:sp>
        <p:nvSpPr>
          <p:cNvPr id="541" name="TextBox 6"/>
          <p:cNvSpPr/>
          <p:nvPr/>
        </p:nvSpPr>
        <p:spPr>
          <a:xfrm>
            <a:off x="4494240" y="5040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r>
              <a:rPr b="0" lang="en-US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·</a:t>
            </a: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1"/>
          <p:cNvSpPr/>
          <p:nvPr/>
        </p:nvSpPr>
        <p:spPr>
          <a:xfrm>
            <a:off x="1384920" y="835200"/>
            <a:ext cx="218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000" spc="-1" strike="noStrike" u="sng">
                <a:solidFill>
                  <a:srgbClr val="7f7f7f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그림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그림 4" descr=""/>
          <p:cNvPicPr/>
          <p:nvPr/>
        </p:nvPicPr>
        <p:blipFill>
          <a:blip r:embed="rId3"/>
          <a:stretch/>
        </p:blipFill>
        <p:spPr>
          <a:xfrm>
            <a:off x="1698480" y="1592280"/>
            <a:ext cx="5734080" cy="3683160"/>
          </a:xfrm>
          <a:prstGeom prst="rect">
            <a:avLst/>
          </a:prstGeom>
          <a:ln cap="sq" w="1440">
            <a:solidFill>
              <a:srgbClr val="000000"/>
            </a:solidFill>
            <a:miter/>
          </a:ln>
        </p:spPr>
      </p:pic>
      <p:sp>
        <p:nvSpPr>
          <p:cNvPr id="545" name="TextBox 8"/>
          <p:cNvSpPr/>
          <p:nvPr/>
        </p:nvSpPr>
        <p:spPr>
          <a:xfrm>
            <a:off x="4302000" y="5353200"/>
            <a:ext cx="32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09090"/>
                </a:solidFill>
                <a:latin typeface="나눔고딕"/>
                <a:ea typeface="나눔고딕"/>
              </a:rPr>
              <a:t>I  LOVE YO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그림 4" descr=""/>
          <p:cNvPicPr/>
          <p:nvPr/>
        </p:nvPicPr>
        <p:blipFill>
          <a:blip r:embed="rId2"/>
          <a:stretch/>
        </p:blipFill>
        <p:spPr>
          <a:xfrm>
            <a:off x="749160" y="746280"/>
            <a:ext cx="3733920" cy="4457520"/>
          </a:xfrm>
          <a:prstGeom prst="rect">
            <a:avLst/>
          </a:prstGeom>
          <a:ln w="0">
            <a:noFill/>
          </a:ln>
        </p:spPr>
      </p:pic>
      <p:pic>
        <p:nvPicPr>
          <p:cNvPr id="548" name="그림 5" descr=""/>
          <p:cNvPicPr/>
          <p:nvPr/>
        </p:nvPicPr>
        <p:blipFill>
          <a:blip r:embed="rId3"/>
          <a:stretch/>
        </p:blipFill>
        <p:spPr>
          <a:xfrm>
            <a:off x="4657680" y="1554120"/>
            <a:ext cx="3733920" cy="44578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6"/>
          <p:cNvSpPr/>
          <p:nvPr/>
        </p:nvSpPr>
        <p:spPr>
          <a:xfrm>
            <a:off x="5257800" y="6078600"/>
            <a:ext cx="324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09090"/>
                </a:solidFill>
                <a:latin typeface="나눔고딕"/>
                <a:ea typeface="나눔고딕"/>
              </a:rPr>
              <a:t>I  LOVE YO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1" name="그림 4" descr=""/>
          <p:cNvPicPr/>
          <p:nvPr/>
        </p:nvPicPr>
        <p:blipFill>
          <a:blip r:embed="rId2"/>
          <a:stretch/>
        </p:blipFill>
        <p:spPr>
          <a:xfrm>
            <a:off x="727200" y="563400"/>
            <a:ext cx="3352680" cy="2648160"/>
          </a:xfrm>
          <a:prstGeom prst="rect">
            <a:avLst/>
          </a:prstGeom>
          <a:ln w="0">
            <a:noFill/>
          </a:ln>
        </p:spPr>
      </p:pic>
      <p:pic>
        <p:nvPicPr>
          <p:cNvPr id="552" name="그림 5" descr=""/>
          <p:cNvPicPr/>
          <p:nvPr/>
        </p:nvPicPr>
        <p:blipFill>
          <a:blip r:embed="rId3"/>
          <a:stretch/>
        </p:blipFill>
        <p:spPr>
          <a:xfrm>
            <a:off x="4255920" y="577800"/>
            <a:ext cx="4305600" cy="5467320"/>
          </a:xfrm>
          <a:prstGeom prst="rect">
            <a:avLst/>
          </a:prstGeom>
          <a:ln w="0">
            <a:noFill/>
          </a:ln>
        </p:spPr>
      </p:pic>
      <p:pic>
        <p:nvPicPr>
          <p:cNvPr id="553" name="그림 6" descr=""/>
          <p:cNvPicPr/>
          <p:nvPr/>
        </p:nvPicPr>
        <p:blipFill>
          <a:blip r:embed="rId4"/>
          <a:stretch/>
        </p:blipFill>
        <p:spPr>
          <a:xfrm>
            <a:off x="723960" y="3390840"/>
            <a:ext cx="3352680" cy="26481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1"/>
          <p:cNvSpPr/>
          <p:nvPr/>
        </p:nvSpPr>
        <p:spPr>
          <a:xfrm>
            <a:off x="5429160" y="6107040"/>
            <a:ext cx="324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09090"/>
                </a:solidFill>
                <a:latin typeface="나눔고딕"/>
                <a:ea typeface="나눔고딕"/>
              </a:rPr>
              <a:t>I  LOVE YO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그림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Box 4"/>
          <p:cNvSpPr/>
          <p:nvPr/>
        </p:nvSpPr>
        <p:spPr>
          <a:xfrm>
            <a:off x="2308320" y="2421000"/>
            <a:ext cx="4527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나눔명조"/>
              </a:rPr>
              <a:t>Thank you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2232000" y="3348000"/>
            <a:ext cx="468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e9e9e"/>
                </a:solidFill>
                <a:latin typeface="나눔명조"/>
              </a:rPr>
              <a:t>이 순간을 영원히 기억하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e9e9e"/>
                </a:solidFill>
                <a:latin typeface="나눔명조"/>
              </a:rPr>
              <a:t>아끼는 마음으로 행복하게 살겠습니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8"/>
          <p:cNvSpPr/>
          <p:nvPr/>
        </p:nvSpPr>
        <p:spPr>
          <a:xfrm>
            <a:off x="3348000" y="6324480"/>
            <a:ext cx="2448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e8e8e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8e8e8e"/>
                </a:solidFill>
                <a:latin typeface="나눔고딕"/>
                <a:ea typeface="나눔고딕"/>
              </a:rPr>
              <a:t>.  </a:t>
            </a:r>
            <a:r>
              <a:rPr b="0" lang="zh-CN" sz="800" spc="-1" strike="noStrike" u="sng">
                <a:solidFill>
                  <a:srgbClr val="7f7f7f"/>
                </a:solidFill>
                <a:uFillTx/>
                <a:latin typeface="나눔고딕"/>
                <a:ea typeface="나눔고딕"/>
                <a:hlinkClick r:id="rId2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4:21:00Z</dcterms:created>
  <dc:creator>네이버 한글캠페인</dc:creator>
  <dc:description/>
  <cp:keywords/>
  <dc:language>en-US</dc:language>
  <cp:lastModifiedBy>王玉清</cp:lastModifiedBy>
  <cp:lastPrinted>1899-12-30T00:00:00Z</cp:lastPrinted>
  <dcterms:modified xsi:type="dcterms:W3CDTF">2016-02-20T03:57:13Z</dcterms:modified>
  <cp:revision>4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