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9F1E58-3F7B-4E50-8A1E-6283910C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B0FEE0-46F7-40D4-A323-AC7127F5D58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9DE-4B64-44F5-8621-166DA78E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D10-13E8-4DD3-9F5F-B6856C0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C9B-FC90-44B1-B73B-F71B2989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18C-F907-43DA-A658-BCDA56D2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0D42-AF56-496C-B8A9-4D864865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BD15-547E-48C6-B22F-129D3BE5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1DF-ACF9-4CF1-9262-61DCA11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5B20-13BA-4D82-8E9C-01A313D0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316B-CDD7-408E-9B9A-EF855DEF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F909-A815-4071-9FFF-0BC6490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F35B-05B9-49EC-892F-08D510D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385-4953-4196-B16D-232B62A0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B078-D527-4D17-8A6C-7C61D81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CB14-ED5D-402E-A110-9AAC849C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F82F-A1ED-4D1D-8498-2FF71A73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7DDD-AEF5-4890-A89E-50651860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AE0C-CF2A-47B6-992B-4A339F54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0CFD-65F5-4019-9C4C-D13BF856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BC54-7A57-4E09-AF6A-5003DB7B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D145-62D4-449B-8ABC-8B1F81DF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E7DBF-F666-4902-9273-328B6E7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4FBF-92CB-41F8-905F-341FE83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E10-BCE6-45C5-8182-DBA0102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8C90-7D14-4028-83E2-994582EF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856F-BBD4-4EB9-B2C1-3AE4A4E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C67A-23DB-4BD2-8931-4EB1923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C203-902E-4059-AEF9-88B0410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707E-953E-47DE-BD32-3A7A8DD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C8D5-5C7B-48B4-AF01-05B40AB1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40B3-BC54-4F31-84C3-80601D2B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B5C-38F3-4821-92C7-D9204ED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115-8FE2-4FBF-8C67-132C992F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F88-EDE4-4008-9811-5C15ED11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D37-5CAD-413D-9909-401B316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319-E641-44AF-A9D7-4348CBE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01A-5C72-48A0-89CF-A6CDEC6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53E82-4A18-4603-B3D7-165278E94224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EDB485-47D9-44C5-BD81-D36256EC1312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0AC3D1-ACD4-4FBF-8CC5-222DBBC454F2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"/>
          <p:cNvSpPr/>
          <p:nvPr/>
        </p:nvSpPr>
        <p:spPr>
          <a:xfrm>
            <a:off x="10058400" y="2019960"/>
            <a:ext cx="354600" cy="12006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7" descr=""/>
          <p:cNvPicPr/>
          <p:nvPr/>
        </p:nvPicPr>
        <p:blipFill>
          <a:blip r:embed="rId1"/>
          <a:stretch/>
        </p:blipFill>
        <p:spPr>
          <a:xfrm>
            <a:off x="401400" y="5154840"/>
            <a:ext cx="3940560" cy="4942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329" name="矩形 1"/>
          <p:cNvSpPr/>
          <p:nvPr/>
        </p:nvSpPr>
        <p:spPr>
          <a:xfrm>
            <a:off x="0" y="1995840"/>
            <a:ext cx="12191760" cy="2865600"/>
          </a:xfrm>
          <a:prstGeom prst="rect">
            <a:avLst/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44e7f"/>
              </a:solidFill>
              <a:latin typeface="微软雅黑"/>
              <a:ea typeface="微软雅黑"/>
            </a:endParaRPr>
          </a:p>
        </p:txBody>
      </p:sp>
      <p:pic>
        <p:nvPicPr>
          <p:cNvPr id="330" name="图片 3" descr=""/>
          <p:cNvPicPr/>
          <p:nvPr/>
        </p:nvPicPr>
        <p:blipFill>
          <a:blip r:embed="rId2"/>
          <a:stretch/>
        </p:blipFill>
        <p:spPr>
          <a:xfrm>
            <a:off x="751680" y="1247040"/>
            <a:ext cx="3151440" cy="416844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8"/>
          <p:cNvGrpSpPr/>
          <p:nvPr/>
        </p:nvGrpSpPr>
        <p:grpSpPr>
          <a:xfrm>
            <a:off x="4273920" y="2151720"/>
            <a:ext cx="8120160" cy="2437920"/>
            <a:chOff x="4273920" y="2151720"/>
            <a:chExt cx="8120160" cy="2437920"/>
          </a:xfrm>
        </p:grpSpPr>
        <p:sp>
          <p:nvSpPr>
            <p:cNvPr id="332" name="文本框 4"/>
            <p:cNvSpPr/>
            <p:nvPr/>
          </p:nvSpPr>
          <p:spPr>
            <a:xfrm>
              <a:off x="4273920" y="2151720"/>
              <a:ext cx="8120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8000" spc="-1" strike="noStrike">
                <a:solidFill>
                  <a:srgbClr val="ffffff"/>
                </a:solidFill>
                <a:latin typeface="华康俪金黑W8(P)"/>
                <a:ea typeface="华康俪金黑W8(P)"/>
              </a:endParaRPr>
            </a:p>
          </p:txBody>
        </p:sp>
        <p:sp>
          <p:nvSpPr>
            <p:cNvPr id="333" name="文本框 2"/>
            <p:cNvSpPr/>
            <p:nvPr/>
          </p:nvSpPr>
          <p:spPr>
            <a:xfrm>
              <a:off x="8442360" y="2500200"/>
              <a:ext cx="30625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会你如何在激烈的竞争中脱颖而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6"/>
            <p:cNvSpPr/>
            <p:nvPr/>
          </p:nvSpPr>
          <p:spPr>
            <a:xfrm>
              <a:off x="4273920" y="3768480"/>
              <a:ext cx="2304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老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木白言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图片 5" descr=""/>
          <p:cNvPicPr/>
          <p:nvPr/>
        </p:nvPicPr>
        <p:blipFill>
          <a:blip r:embed="rId3"/>
          <a:stretch/>
        </p:blipFill>
        <p:spPr>
          <a:xfrm>
            <a:off x="3694320" y="1929600"/>
            <a:ext cx="836424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文本框 1"/>
          <p:cNvSpPr/>
          <p:nvPr/>
        </p:nvSpPr>
        <p:spPr>
          <a:xfrm>
            <a:off x="1111680" y="1168200"/>
            <a:ext cx="44258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找到</a:t>
            </a:r>
            <a:r>
              <a:rPr b="1" lang="en-US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A(Amb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就事件的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11"/>
          <p:cNvGrpSpPr/>
          <p:nvPr/>
        </p:nvGrpSpPr>
        <p:grpSpPr>
          <a:xfrm>
            <a:off x="6648840" y="3071880"/>
            <a:ext cx="4695120" cy="2856960"/>
            <a:chOff x="6648840" y="3071880"/>
            <a:chExt cx="4695120" cy="2856960"/>
          </a:xfrm>
        </p:grpSpPr>
        <p:grpSp>
          <p:nvGrpSpPr>
            <p:cNvPr id="431" name="组合 104"/>
            <p:cNvGrpSpPr/>
            <p:nvPr/>
          </p:nvGrpSpPr>
          <p:grpSpPr>
            <a:xfrm>
              <a:off x="6648840" y="3071880"/>
              <a:ext cx="4695120" cy="2307240"/>
              <a:chOff x="6648840" y="3071880"/>
              <a:chExt cx="4695120" cy="2307240"/>
            </a:xfrm>
          </p:grpSpPr>
          <p:cxnSp>
            <p:nvCxnSpPr>
              <p:cNvPr id="432" name="直接箭头连接符 5"/>
              <p:cNvCxnSpPr/>
              <p:nvPr/>
            </p:nvCxnSpPr>
            <p:spPr>
              <a:xfrm flipV="1">
                <a:off x="6716520" y="4303800"/>
                <a:ext cx="4423680" cy="2268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cxnSp>
            <p:nvCxnSpPr>
              <p:cNvPr id="433" name="直接连接符 7"/>
              <p:cNvCxnSpPr/>
              <p:nvPr/>
            </p:nvCxnSpPr>
            <p:spPr>
              <a:xfrm>
                <a:off x="9578520" y="3206160"/>
                <a:ext cx="849960" cy="10980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4" name="直接连接符 16"/>
              <p:cNvCxnSpPr/>
              <p:nvPr/>
            </p:nvCxnSpPr>
            <p:spPr>
              <a:xfrm flipH="1">
                <a:off x="10212480" y="4303800"/>
                <a:ext cx="63144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5" name="直接连接符 17"/>
              <p:cNvCxnSpPr/>
              <p:nvPr/>
            </p:nvCxnSpPr>
            <p:spPr>
              <a:xfrm flipH="1">
                <a:off x="9066600" y="4303800"/>
                <a:ext cx="63108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6" name="直接连接符 18"/>
              <p:cNvCxnSpPr/>
              <p:nvPr/>
            </p:nvCxnSpPr>
            <p:spPr>
              <a:xfrm flipH="1">
                <a:off x="7989480" y="4326120"/>
                <a:ext cx="63144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7" name="直接连接符 19"/>
              <p:cNvCxnSpPr/>
              <p:nvPr/>
            </p:nvCxnSpPr>
            <p:spPr>
              <a:xfrm flipH="1">
                <a:off x="6912720" y="4303800"/>
                <a:ext cx="63144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8" name="直接连接符 21"/>
              <p:cNvCxnSpPr/>
              <p:nvPr/>
            </p:nvCxnSpPr>
            <p:spPr>
              <a:xfrm>
                <a:off x="8335800" y="3206160"/>
                <a:ext cx="850320" cy="10980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9" name="直接连接符 22"/>
              <p:cNvCxnSpPr/>
              <p:nvPr/>
            </p:nvCxnSpPr>
            <p:spPr>
              <a:xfrm>
                <a:off x="7093080" y="3228480"/>
                <a:ext cx="850320" cy="10980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0" name="直接连接符 28"/>
              <p:cNvCxnSpPr/>
              <p:nvPr/>
            </p:nvCxnSpPr>
            <p:spPr>
              <a:xfrm flipH="1">
                <a:off x="9264600" y="3977280"/>
                <a:ext cx="935280" cy="1548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1" name="直接连接符 29"/>
              <p:cNvCxnSpPr/>
              <p:nvPr/>
            </p:nvCxnSpPr>
            <p:spPr>
              <a:xfrm flipH="1">
                <a:off x="9211320" y="365112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2" name="直接连接符 30"/>
              <p:cNvCxnSpPr/>
              <p:nvPr/>
            </p:nvCxnSpPr>
            <p:spPr>
              <a:xfrm flipH="1">
                <a:off x="9185760" y="3354480"/>
                <a:ext cx="5119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3" name="直接连接符 35"/>
              <p:cNvCxnSpPr/>
              <p:nvPr/>
            </p:nvCxnSpPr>
            <p:spPr>
              <a:xfrm flipH="1">
                <a:off x="7933320" y="4007160"/>
                <a:ext cx="1024200" cy="1512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4" name="直接连接符 36"/>
              <p:cNvCxnSpPr/>
              <p:nvPr/>
            </p:nvCxnSpPr>
            <p:spPr>
              <a:xfrm flipH="1">
                <a:off x="7968600" y="3680640"/>
                <a:ext cx="7120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5" name="直接连接符 37"/>
              <p:cNvCxnSpPr/>
              <p:nvPr/>
            </p:nvCxnSpPr>
            <p:spPr>
              <a:xfrm flipH="1">
                <a:off x="7943040" y="338400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6" name="直接连接符 38"/>
              <p:cNvCxnSpPr/>
              <p:nvPr/>
            </p:nvCxnSpPr>
            <p:spPr>
              <a:xfrm flipH="1">
                <a:off x="6716520" y="4066560"/>
                <a:ext cx="10270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7" name="直接连接符 39"/>
              <p:cNvCxnSpPr/>
              <p:nvPr/>
            </p:nvCxnSpPr>
            <p:spPr>
              <a:xfrm flipH="1">
                <a:off x="6768000" y="374004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8" name="直接连接符 40"/>
              <p:cNvCxnSpPr/>
              <p:nvPr/>
            </p:nvCxnSpPr>
            <p:spPr>
              <a:xfrm flipH="1">
                <a:off x="6742080" y="344340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9" name="直接连接符 41"/>
              <p:cNvCxnSpPr/>
              <p:nvPr/>
            </p:nvCxnSpPr>
            <p:spPr>
              <a:xfrm flipH="1">
                <a:off x="10653480" y="461520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0" name="直接连接符 42"/>
              <p:cNvCxnSpPr/>
              <p:nvPr/>
            </p:nvCxnSpPr>
            <p:spPr>
              <a:xfrm flipH="1">
                <a:off x="10487880" y="492660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1" name="直接连接符 44"/>
              <p:cNvCxnSpPr/>
              <p:nvPr/>
            </p:nvCxnSpPr>
            <p:spPr>
              <a:xfrm flipH="1">
                <a:off x="10291320" y="5223240"/>
                <a:ext cx="8359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2" name="直接连接符 49"/>
              <p:cNvCxnSpPr/>
              <p:nvPr/>
            </p:nvCxnSpPr>
            <p:spPr>
              <a:xfrm flipH="1">
                <a:off x="9496440" y="4600440"/>
                <a:ext cx="5119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3" name="直接连接符 50"/>
              <p:cNvCxnSpPr/>
              <p:nvPr/>
            </p:nvCxnSpPr>
            <p:spPr>
              <a:xfrm flipH="1">
                <a:off x="9330480" y="491184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4" name="直接连接符 51"/>
              <p:cNvCxnSpPr/>
              <p:nvPr/>
            </p:nvCxnSpPr>
            <p:spPr>
              <a:xfrm flipH="1">
                <a:off x="9158400" y="5193720"/>
                <a:ext cx="858240" cy="1512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5" name="直接连接符 52"/>
              <p:cNvCxnSpPr/>
              <p:nvPr/>
            </p:nvCxnSpPr>
            <p:spPr>
              <a:xfrm flipH="1">
                <a:off x="8479080" y="457092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6" name="直接连接符 53"/>
              <p:cNvCxnSpPr/>
              <p:nvPr/>
            </p:nvCxnSpPr>
            <p:spPr>
              <a:xfrm flipH="1">
                <a:off x="8287560" y="488232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7" name="直接连接符 54"/>
              <p:cNvCxnSpPr/>
              <p:nvPr/>
            </p:nvCxnSpPr>
            <p:spPr>
              <a:xfrm flipH="1">
                <a:off x="8062200" y="5223240"/>
                <a:ext cx="9586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8" name="直接连接符 55"/>
              <p:cNvCxnSpPr/>
              <p:nvPr/>
            </p:nvCxnSpPr>
            <p:spPr>
              <a:xfrm flipH="1">
                <a:off x="7390080" y="457092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9" name="直接连接符 56"/>
              <p:cNvCxnSpPr/>
              <p:nvPr/>
            </p:nvCxnSpPr>
            <p:spPr>
              <a:xfrm flipH="1">
                <a:off x="7198560" y="488232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60" name="直接连接符 57"/>
              <p:cNvCxnSpPr/>
              <p:nvPr/>
            </p:nvCxnSpPr>
            <p:spPr>
              <a:xfrm flipH="1">
                <a:off x="6985800" y="5196240"/>
                <a:ext cx="937440" cy="27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sp>
            <p:nvSpPr>
              <p:cNvPr id="461" name="文本框 71"/>
              <p:cNvSpPr/>
              <p:nvPr/>
            </p:nvSpPr>
            <p:spPr>
              <a:xfrm>
                <a:off x="6737400" y="312984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文本框 72"/>
              <p:cNvSpPr/>
              <p:nvPr/>
            </p:nvSpPr>
            <p:spPr>
              <a:xfrm>
                <a:off x="6672600" y="34207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文本框 73"/>
              <p:cNvSpPr/>
              <p:nvPr/>
            </p:nvSpPr>
            <p:spPr>
              <a:xfrm>
                <a:off x="6648840" y="375516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文本框 74"/>
              <p:cNvSpPr/>
              <p:nvPr/>
            </p:nvSpPr>
            <p:spPr>
              <a:xfrm>
                <a:off x="7935120" y="308628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文本框 75"/>
              <p:cNvSpPr/>
              <p:nvPr/>
            </p:nvSpPr>
            <p:spPr>
              <a:xfrm>
                <a:off x="9184680" y="307188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文本框 76"/>
              <p:cNvSpPr/>
              <p:nvPr/>
            </p:nvSpPr>
            <p:spPr>
              <a:xfrm>
                <a:off x="7524360" y="428832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文本框 77"/>
              <p:cNvSpPr/>
              <p:nvPr/>
            </p:nvSpPr>
            <p:spPr>
              <a:xfrm>
                <a:off x="8606160" y="428832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文本框 78"/>
              <p:cNvSpPr/>
              <p:nvPr/>
            </p:nvSpPr>
            <p:spPr>
              <a:xfrm>
                <a:off x="9649080" y="429984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文本框 79"/>
              <p:cNvSpPr/>
              <p:nvPr/>
            </p:nvSpPr>
            <p:spPr>
              <a:xfrm>
                <a:off x="10801440" y="429984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文本框 80"/>
              <p:cNvSpPr/>
              <p:nvPr/>
            </p:nvSpPr>
            <p:spPr>
              <a:xfrm>
                <a:off x="7871040" y="33613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文本框 81"/>
              <p:cNvSpPr/>
              <p:nvPr/>
            </p:nvSpPr>
            <p:spPr>
              <a:xfrm>
                <a:off x="9128880" y="33613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文本框 86"/>
              <p:cNvSpPr/>
              <p:nvPr/>
            </p:nvSpPr>
            <p:spPr>
              <a:xfrm>
                <a:off x="7313760" y="454788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文本框 87"/>
              <p:cNvSpPr/>
              <p:nvPr/>
            </p:nvSpPr>
            <p:spPr>
              <a:xfrm>
                <a:off x="8382240" y="456444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文本框 88"/>
              <p:cNvSpPr/>
              <p:nvPr/>
            </p:nvSpPr>
            <p:spPr>
              <a:xfrm>
                <a:off x="9440280" y="46087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文本框 89"/>
              <p:cNvSpPr/>
              <p:nvPr/>
            </p:nvSpPr>
            <p:spPr>
              <a:xfrm>
                <a:off x="10591200" y="46195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文本框 90"/>
              <p:cNvSpPr/>
              <p:nvPr/>
            </p:nvSpPr>
            <p:spPr>
              <a:xfrm>
                <a:off x="7860600" y="374040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文本框 91"/>
              <p:cNvSpPr/>
              <p:nvPr/>
            </p:nvSpPr>
            <p:spPr>
              <a:xfrm>
                <a:off x="9122040" y="36950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文本框 92"/>
              <p:cNvSpPr/>
              <p:nvPr/>
            </p:nvSpPr>
            <p:spPr>
              <a:xfrm>
                <a:off x="7102080" y="49118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文本框 93"/>
              <p:cNvSpPr/>
              <p:nvPr/>
            </p:nvSpPr>
            <p:spPr>
              <a:xfrm>
                <a:off x="8169120" y="49118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文本框 94"/>
              <p:cNvSpPr/>
              <p:nvPr/>
            </p:nvSpPr>
            <p:spPr>
              <a:xfrm>
                <a:off x="9250200" y="489888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文本框 95"/>
              <p:cNvSpPr/>
              <p:nvPr/>
            </p:nvSpPr>
            <p:spPr>
              <a:xfrm>
                <a:off x="10368720" y="49118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文本框 96"/>
              <p:cNvSpPr/>
              <p:nvPr/>
            </p:nvSpPr>
            <p:spPr>
              <a:xfrm>
                <a:off x="7430760" y="4025520"/>
                <a:ext cx="115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文本框 97"/>
              <p:cNvSpPr/>
              <p:nvPr/>
            </p:nvSpPr>
            <p:spPr>
              <a:xfrm>
                <a:off x="7819920" y="4037040"/>
                <a:ext cx="333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文本框 98"/>
              <p:cNvSpPr/>
              <p:nvPr/>
            </p:nvSpPr>
            <p:spPr>
              <a:xfrm>
                <a:off x="8448120" y="402228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文本框 99"/>
              <p:cNvSpPr/>
              <p:nvPr/>
            </p:nvSpPr>
            <p:spPr>
              <a:xfrm>
                <a:off x="9066600" y="402156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文本框 100"/>
              <p:cNvSpPr/>
              <p:nvPr/>
            </p:nvSpPr>
            <p:spPr>
              <a:xfrm>
                <a:off x="9543600" y="403272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文本框 101"/>
              <p:cNvSpPr/>
              <p:nvPr/>
            </p:nvSpPr>
            <p:spPr>
              <a:xfrm>
                <a:off x="10362960" y="402948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文本框 102"/>
              <p:cNvSpPr/>
              <p:nvPr/>
            </p:nvSpPr>
            <p:spPr>
              <a:xfrm>
                <a:off x="10663560" y="402552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文本框 105"/>
            <p:cNvSpPr/>
            <p:nvPr/>
          </p:nvSpPr>
          <p:spPr>
            <a:xfrm>
              <a:off x="8059320" y="5564880"/>
              <a:ext cx="1874520" cy="363960"/>
            </a:xfrm>
            <a:prstGeom prst="rect">
              <a:avLst/>
            </a:pr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就事件鱼骨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文本框 62"/>
          <p:cNvSpPr/>
          <p:nvPr/>
        </p:nvSpPr>
        <p:spPr>
          <a:xfrm>
            <a:off x="7422840" y="870480"/>
            <a:ext cx="3771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10"/>
          <p:cNvGrpSpPr/>
          <p:nvPr/>
        </p:nvGrpSpPr>
        <p:grpSpPr>
          <a:xfrm>
            <a:off x="1104480" y="3151800"/>
            <a:ext cx="5091120" cy="2224080"/>
            <a:chOff x="1104480" y="3151800"/>
            <a:chExt cx="5091120" cy="2224080"/>
          </a:xfrm>
        </p:grpSpPr>
        <p:sp>
          <p:nvSpPr>
            <p:cNvPr id="492" name="文本框 106"/>
            <p:cNvSpPr/>
            <p:nvPr/>
          </p:nvSpPr>
          <p:spPr>
            <a:xfrm>
              <a:off x="1434240" y="3151800"/>
              <a:ext cx="47613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感到有成就感的事件写出来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BCDEF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每件事的兴趣、能力、价值观抽取出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取出鱼骨图中相同的兴趣、能力、价值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找出兴趣、能力、价值观交集对应的职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组合 2"/>
            <p:cNvGrpSpPr/>
            <p:nvPr/>
          </p:nvGrpSpPr>
          <p:grpSpPr>
            <a:xfrm>
              <a:off x="1104480" y="3156840"/>
              <a:ext cx="353520" cy="394560"/>
              <a:chOff x="1104480" y="3156840"/>
              <a:chExt cx="353520" cy="394560"/>
            </a:xfrm>
          </p:grpSpPr>
          <p:sp>
            <p:nvSpPr>
              <p:cNvPr id="494" name="椭圆 64"/>
              <p:cNvSpPr/>
              <p:nvPr/>
            </p:nvSpPr>
            <p:spPr>
              <a:xfrm>
                <a:off x="1104480" y="316008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95" name="文本框 65"/>
              <p:cNvSpPr/>
              <p:nvPr/>
            </p:nvSpPr>
            <p:spPr>
              <a:xfrm>
                <a:off x="1108800" y="315684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组合 6"/>
            <p:cNvGrpSpPr/>
            <p:nvPr/>
          </p:nvGrpSpPr>
          <p:grpSpPr>
            <a:xfrm>
              <a:off x="1104480" y="3780360"/>
              <a:ext cx="353520" cy="394560"/>
              <a:chOff x="1104480" y="3780360"/>
              <a:chExt cx="353520" cy="394560"/>
            </a:xfrm>
          </p:grpSpPr>
          <p:sp>
            <p:nvSpPr>
              <p:cNvPr id="497" name="椭圆 66"/>
              <p:cNvSpPr/>
              <p:nvPr/>
            </p:nvSpPr>
            <p:spPr>
              <a:xfrm>
                <a:off x="1104480" y="378036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98" name="文本框 67"/>
              <p:cNvSpPr/>
              <p:nvPr/>
            </p:nvSpPr>
            <p:spPr>
              <a:xfrm>
                <a:off x="1111680" y="378036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组合 4"/>
            <p:cNvGrpSpPr/>
            <p:nvPr/>
          </p:nvGrpSpPr>
          <p:grpSpPr>
            <a:xfrm>
              <a:off x="1104480" y="4372560"/>
              <a:ext cx="353520" cy="394560"/>
              <a:chOff x="1104480" y="4372560"/>
              <a:chExt cx="353520" cy="394560"/>
            </a:xfrm>
          </p:grpSpPr>
          <p:sp>
            <p:nvSpPr>
              <p:cNvPr id="500" name="椭圆 68"/>
              <p:cNvSpPr/>
              <p:nvPr/>
            </p:nvSpPr>
            <p:spPr>
              <a:xfrm>
                <a:off x="1104480" y="438948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01" name="文本框 69"/>
              <p:cNvSpPr/>
              <p:nvPr/>
            </p:nvSpPr>
            <p:spPr>
              <a:xfrm>
                <a:off x="1112760" y="437256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组合 3"/>
            <p:cNvGrpSpPr/>
            <p:nvPr/>
          </p:nvGrpSpPr>
          <p:grpSpPr>
            <a:xfrm>
              <a:off x="1104480" y="4967640"/>
              <a:ext cx="353520" cy="394560"/>
              <a:chOff x="1104480" y="4967640"/>
              <a:chExt cx="353520" cy="394560"/>
            </a:xfrm>
          </p:grpSpPr>
          <p:sp>
            <p:nvSpPr>
              <p:cNvPr id="503" name="椭圆 70"/>
              <p:cNvSpPr/>
              <p:nvPr/>
            </p:nvSpPr>
            <p:spPr>
              <a:xfrm>
                <a:off x="1104480" y="498744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04" name="文本框 82"/>
              <p:cNvSpPr/>
              <p:nvPr/>
            </p:nvSpPr>
            <p:spPr>
              <a:xfrm>
                <a:off x="1116000" y="496764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1"/>
          <p:cNvSpPr/>
          <p:nvPr/>
        </p:nvSpPr>
        <p:spPr>
          <a:xfrm>
            <a:off x="6694200" y="858600"/>
            <a:ext cx="375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评估职业抉择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70"/>
          <p:cNvGrpSpPr/>
          <p:nvPr/>
        </p:nvGrpSpPr>
        <p:grpSpPr>
          <a:xfrm>
            <a:off x="7124040" y="1775880"/>
            <a:ext cx="4135320" cy="4118400"/>
            <a:chOff x="7124040" y="1775880"/>
            <a:chExt cx="4135320" cy="4118400"/>
          </a:xfrm>
        </p:grpSpPr>
        <p:sp>
          <p:nvSpPr>
            <p:cNvPr id="507" name="椭圆 2"/>
            <p:cNvSpPr/>
            <p:nvPr/>
          </p:nvSpPr>
          <p:spPr>
            <a:xfrm>
              <a:off x="8787240" y="358776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8" name="椭圆 3"/>
            <p:cNvSpPr/>
            <p:nvPr/>
          </p:nvSpPr>
          <p:spPr>
            <a:xfrm>
              <a:off x="8029080" y="27882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9" name="椭圆 4"/>
            <p:cNvSpPr/>
            <p:nvPr/>
          </p:nvSpPr>
          <p:spPr>
            <a:xfrm>
              <a:off x="9589320" y="27882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0" name="椭圆 5"/>
            <p:cNvSpPr/>
            <p:nvPr/>
          </p:nvSpPr>
          <p:spPr>
            <a:xfrm>
              <a:off x="8029080" y="43326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1" name="椭圆 6"/>
            <p:cNvSpPr/>
            <p:nvPr/>
          </p:nvSpPr>
          <p:spPr>
            <a:xfrm>
              <a:off x="9589320" y="427896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2" name="椭圆 7"/>
            <p:cNvSpPr/>
            <p:nvPr/>
          </p:nvSpPr>
          <p:spPr>
            <a:xfrm>
              <a:off x="9843120" y="177588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3" name="椭圆 8"/>
            <p:cNvSpPr/>
            <p:nvPr/>
          </p:nvSpPr>
          <p:spPr>
            <a:xfrm>
              <a:off x="10656360" y="296964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4" name="椭圆 9"/>
            <p:cNvSpPr/>
            <p:nvPr/>
          </p:nvSpPr>
          <p:spPr>
            <a:xfrm>
              <a:off x="7818480" y="518652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5" name="椭圆 10"/>
            <p:cNvSpPr/>
            <p:nvPr/>
          </p:nvSpPr>
          <p:spPr>
            <a:xfrm>
              <a:off x="7124040" y="27342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6" name="椭圆 11"/>
            <p:cNvSpPr/>
            <p:nvPr/>
          </p:nvSpPr>
          <p:spPr>
            <a:xfrm>
              <a:off x="7148520" y="394812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7" name="椭圆 12"/>
            <p:cNvSpPr/>
            <p:nvPr/>
          </p:nvSpPr>
          <p:spPr>
            <a:xfrm>
              <a:off x="7620840" y="18288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8" name="椭圆 13"/>
            <p:cNvSpPr/>
            <p:nvPr/>
          </p:nvSpPr>
          <p:spPr>
            <a:xfrm>
              <a:off x="10567800" y="400176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9" name="椭圆 14"/>
            <p:cNvSpPr/>
            <p:nvPr/>
          </p:nvSpPr>
          <p:spPr>
            <a:xfrm>
              <a:off x="8739360" y="1900440"/>
              <a:ext cx="5994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0" name="椭圆 15"/>
            <p:cNvSpPr/>
            <p:nvPr/>
          </p:nvSpPr>
          <p:spPr>
            <a:xfrm>
              <a:off x="10343520" y="488484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1" name="椭圆 16"/>
            <p:cNvSpPr/>
            <p:nvPr/>
          </p:nvSpPr>
          <p:spPr>
            <a:xfrm>
              <a:off x="9397800" y="529128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22" name="直接连接符 18"/>
            <p:cNvCxnSpPr/>
            <p:nvPr/>
          </p:nvCxnSpPr>
          <p:spPr>
            <a:xfrm flipH="1">
              <a:off x="9412560" y="3391560"/>
              <a:ext cx="287280" cy="25596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3" name="直接连接符 20"/>
            <p:cNvCxnSpPr/>
            <p:nvPr/>
          </p:nvCxnSpPr>
          <p:spPr>
            <a:xfrm flipV="1">
              <a:off x="8602200" y="4176360"/>
              <a:ext cx="277200" cy="24300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4" name="直接连接符 23"/>
            <p:cNvCxnSpPr>
              <a:endCxn id="507" idx="1"/>
            </p:cNvCxnSpPr>
            <p:nvPr/>
          </p:nvCxnSpPr>
          <p:spPr>
            <a:xfrm>
              <a:off x="8602920" y="3359520"/>
              <a:ext cx="272880" cy="31680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5" name="直接连接符 28"/>
            <p:cNvCxnSpPr>
              <a:endCxn id="511" idx="1"/>
            </p:cNvCxnSpPr>
            <p:nvPr/>
          </p:nvCxnSpPr>
          <p:spPr>
            <a:xfrm>
              <a:off x="9368280" y="4132440"/>
              <a:ext cx="309600" cy="23508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6" name="直接连接符 30"/>
            <p:cNvCxnSpPr/>
            <p:nvPr/>
          </p:nvCxnSpPr>
          <p:spPr>
            <a:xfrm flipH="1">
              <a:off x="10001160" y="2435400"/>
              <a:ext cx="73800" cy="35316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7" name="直接连接符 33"/>
            <p:cNvCxnSpPr>
              <a:endCxn id="513" idx="2"/>
            </p:cNvCxnSpPr>
            <p:nvPr/>
          </p:nvCxnSpPr>
          <p:spPr>
            <a:xfrm>
              <a:off x="10192320" y="3239280"/>
              <a:ext cx="464040" cy="320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8" name="直接连接符 36"/>
            <p:cNvCxnSpPr/>
            <p:nvPr/>
          </p:nvCxnSpPr>
          <p:spPr>
            <a:xfrm flipV="1">
              <a:off x="10192320" y="4367160"/>
              <a:ext cx="302040" cy="8892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9" name="直接连接符 38"/>
            <p:cNvCxnSpPr/>
            <p:nvPr/>
          </p:nvCxnSpPr>
          <p:spPr>
            <a:xfrm>
              <a:off x="10144440" y="4825440"/>
              <a:ext cx="210240" cy="16020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0" name="直接连接符 41"/>
            <p:cNvCxnSpPr>
              <a:endCxn id="521" idx="0"/>
            </p:cNvCxnSpPr>
            <p:nvPr/>
          </p:nvCxnSpPr>
          <p:spPr>
            <a:xfrm flipH="1">
              <a:off x="9699480" y="4971240"/>
              <a:ext cx="72000" cy="3200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1" name="直接连接符 46"/>
            <p:cNvCxnSpPr/>
            <p:nvPr/>
          </p:nvCxnSpPr>
          <p:spPr>
            <a:xfrm flipH="1">
              <a:off x="8223840" y="4971240"/>
              <a:ext cx="22320" cy="2156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2" name="直接连接符 48"/>
            <p:cNvCxnSpPr/>
            <p:nvPr/>
          </p:nvCxnSpPr>
          <p:spPr>
            <a:xfrm>
              <a:off x="7751520" y="4374720"/>
              <a:ext cx="326880" cy="8892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3" name="直接连接符 50"/>
            <p:cNvCxnSpPr/>
            <p:nvPr/>
          </p:nvCxnSpPr>
          <p:spPr>
            <a:xfrm>
              <a:off x="8057160" y="2468160"/>
              <a:ext cx="156960" cy="2840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4" name="直接连接符 52"/>
            <p:cNvCxnSpPr/>
            <p:nvPr/>
          </p:nvCxnSpPr>
          <p:spPr>
            <a:xfrm flipH="1">
              <a:off x="8582400" y="2503800"/>
              <a:ext cx="219960" cy="32868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5" name="直接连接符 54"/>
            <p:cNvCxnSpPr/>
            <p:nvPr/>
          </p:nvCxnSpPr>
          <p:spPr>
            <a:xfrm>
              <a:off x="7786080" y="3056040"/>
              <a:ext cx="209520" cy="576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</p:grpSp>
      <p:sp>
        <p:nvSpPr>
          <p:cNvPr id="536" name="矩形 17"/>
          <p:cNvSpPr/>
          <p:nvPr/>
        </p:nvSpPr>
        <p:spPr>
          <a:xfrm>
            <a:off x="8979120" y="621252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险锁链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5"/>
          <p:cNvSpPr/>
          <p:nvPr/>
        </p:nvSpPr>
        <p:spPr>
          <a:xfrm>
            <a:off x="1009800" y="1501560"/>
            <a:ext cx="462636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决定伴随风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运用风险锁链图可以帮助你看清潜在的风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逐层破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先写下你的决定，思考这一决定带来的风险，再思考风险所带来的潜在风险，依此类推，逐层破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思考对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 破拆之后，先做排序，找出最重要的风险，然后为每一个风险思考对策，必要的时候要做出危机预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34"/>
          <p:cNvGrpSpPr/>
          <p:nvPr/>
        </p:nvGrpSpPr>
        <p:grpSpPr>
          <a:xfrm>
            <a:off x="1109160" y="1690560"/>
            <a:ext cx="353520" cy="394560"/>
            <a:chOff x="1109160" y="1690560"/>
            <a:chExt cx="353520" cy="394560"/>
          </a:xfrm>
        </p:grpSpPr>
        <p:sp>
          <p:nvSpPr>
            <p:cNvPr id="539" name="椭圆 35"/>
            <p:cNvSpPr/>
            <p:nvPr/>
          </p:nvSpPr>
          <p:spPr>
            <a:xfrm>
              <a:off x="1109160" y="16938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0" name="文本框 37"/>
            <p:cNvSpPr/>
            <p:nvPr/>
          </p:nvSpPr>
          <p:spPr>
            <a:xfrm>
              <a:off x="1113480" y="169056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39"/>
          <p:cNvGrpSpPr/>
          <p:nvPr/>
        </p:nvGrpSpPr>
        <p:grpSpPr>
          <a:xfrm>
            <a:off x="1076400" y="3003840"/>
            <a:ext cx="353520" cy="394560"/>
            <a:chOff x="1076400" y="3003840"/>
            <a:chExt cx="353520" cy="394560"/>
          </a:xfrm>
        </p:grpSpPr>
        <p:sp>
          <p:nvSpPr>
            <p:cNvPr id="542" name="椭圆 40"/>
            <p:cNvSpPr/>
            <p:nvPr/>
          </p:nvSpPr>
          <p:spPr>
            <a:xfrm>
              <a:off x="1076400" y="300384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3" name="文本框 42"/>
            <p:cNvSpPr/>
            <p:nvPr/>
          </p:nvSpPr>
          <p:spPr>
            <a:xfrm>
              <a:off x="1083600" y="300384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43"/>
          <p:cNvGrpSpPr/>
          <p:nvPr/>
        </p:nvGrpSpPr>
        <p:grpSpPr>
          <a:xfrm>
            <a:off x="1080720" y="4654080"/>
            <a:ext cx="353520" cy="394560"/>
            <a:chOff x="1080720" y="4654080"/>
            <a:chExt cx="353520" cy="394560"/>
          </a:xfrm>
        </p:grpSpPr>
        <p:sp>
          <p:nvSpPr>
            <p:cNvPr id="545" name="椭圆 44"/>
            <p:cNvSpPr/>
            <p:nvPr/>
          </p:nvSpPr>
          <p:spPr>
            <a:xfrm>
              <a:off x="1080720" y="46710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6" name="文本框 45"/>
            <p:cNvSpPr/>
            <p:nvPr/>
          </p:nvSpPr>
          <p:spPr>
            <a:xfrm>
              <a:off x="1089360" y="465408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48" name="文本框 1"/>
          <p:cNvSpPr/>
          <p:nvPr/>
        </p:nvSpPr>
        <p:spPr>
          <a:xfrm>
            <a:off x="4763160" y="1842480"/>
            <a:ext cx="5308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建立你自己的价值金字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1"/>
          <p:cNvSpPr/>
          <p:nvPr/>
        </p:nvSpPr>
        <p:spPr>
          <a:xfrm>
            <a:off x="1085400" y="1908000"/>
            <a:ext cx="7014600" cy="19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在迷信木桶理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人一生取得成就的高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44e7f"/>
                </a:solidFill>
                <a:latin typeface="微软雅黑"/>
                <a:ea typeface="微软雅黑"/>
              </a:rPr>
              <a:t>由你的最长板决定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"/>
          <p:cNvSpPr/>
          <p:nvPr/>
        </p:nvSpPr>
        <p:spPr>
          <a:xfrm>
            <a:off x="6742080" y="859680"/>
            <a:ext cx="378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成就高度由最长板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3" descr=""/>
          <p:cNvPicPr/>
          <p:nvPr/>
        </p:nvPicPr>
        <p:blipFill>
          <a:blip r:embed="rId1"/>
          <a:stretch/>
        </p:blipFill>
        <p:spPr>
          <a:xfrm>
            <a:off x="7863840" y="3431160"/>
            <a:ext cx="3607200" cy="3306600"/>
          </a:xfrm>
          <a:prstGeom prst="rect">
            <a:avLst/>
          </a:prstGeom>
          <a:ln w="0">
            <a:noFill/>
          </a:ln>
        </p:spPr>
      </p:pic>
      <p:cxnSp>
        <p:nvCxnSpPr>
          <p:cNvPr id="552" name="直接连接符 5"/>
          <p:cNvCxnSpPr/>
          <p:nvPr/>
        </p:nvCxnSpPr>
        <p:spPr>
          <a:xfrm>
            <a:off x="1187280" y="4060440"/>
            <a:ext cx="514548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2"/>
          <p:cNvSpPr/>
          <p:nvPr/>
        </p:nvSpPr>
        <p:spPr>
          <a:xfrm>
            <a:off x="6745320" y="825840"/>
            <a:ext cx="390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建立自己的价值金字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1"/>
          <p:cNvGrpSpPr/>
          <p:nvPr/>
        </p:nvGrpSpPr>
        <p:grpSpPr>
          <a:xfrm>
            <a:off x="1456560" y="1617120"/>
            <a:ext cx="3777840" cy="2530800"/>
            <a:chOff x="1456560" y="1617120"/>
            <a:chExt cx="3777840" cy="2530800"/>
          </a:xfrm>
        </p:grpSpPr>
        <p:sp>
          <p:nvSpPr>
            <p:cNvPr id="555" name="圆角矩形标注 18"/>
            <p:cNvSpPr/>
            <p:nvPr/>
          </p:nvSpPr>
          <p:spPr>
            <a:xfrm flipH="1">
              <a:off x="1456560" y="1617120"/>
              <a:ext cx="3777840" cy="2530800"/>
            </a:xfrm>
            <a:prstGeom prst="wedgeRoundRectCallout">
              <a:avLst>
                <a:gd name="adj1" fmla="val -37479"/>
                <a:gd name="adj2" fmla="val 57841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56" name="矩形 1"/>
            <p:cNvSpPr/>
            <p:nvPr/>
          </p:nvSpPr>
          <p:spPr>
            <a:xfrm>
              <a:off x="1549080" y="1913400"/>
              <a:ext cx="359280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远高于他人的</a:t>
              </a: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核心竞争力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才是立身之本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矩形 3"/>
          <p:cNvSpPr/>
          <p:nvPr/>
        </p:nvSpPr>
        <p:spPr>
          <a:xfrm>
            <a:off x="2753280" y="5056200"/>
            <a:ext cx="1972080" cy="1209600"/>
          </a:xfrm>
          <a:prstGeom prst="rect">
            <a:avLst/>
          </a:prstGeom>
          <a:noFill/>
          <a:ln w="38100">
            <a:solidFill>
              <a:srgbClr val="044e7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58" name="文本框 4"/>
          <p:cNvSpPr/>
          <p:nvPr/>
        </p:nvSpPr>
        <p:spPr>
          <a:xfrm>
            <a:off x="9164880" y="5880600"/>
            <a:ext cx="109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5"/>
          <p:cNvSpPr/>
          <p:nvPr/>
        </p:nvSpPr>
        <p:spPr>
          <a:xfrm>
            <a:off x="3266640" y="6292800"/>
            <a:ext cx="94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等腰三角形 6"/>
          <p:cNvSpPr/>
          <p:nvPr/>
        </p:nvSpPr>
        <p:spPr>
          <a:xfrm>
            <a:off x="6737400" y="4403520"/>
            <a:ext cx="1765080" cy="1862280"/>
          </a:xfrm>
          <a:prstGeom prst="triangle">
            <a:avLst>
              <a:gd name="adj" fmla="val 50000"/>
            </a:avLst>
          </a:prstGeom>
          <a:noFill/>
          <a:ln w="38100">
            <a:solidFill>
              <a:srgbClr val="044e7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>
                  <a:alpha val="1000"/>
                </a:srgbClr>
              </a:solidFill>
              <a:latin typeface="微软雅黑"/>
              <a:ea typeface="微软雅黑"/>
            </a:endParaRPr>
          </a:p>
        </p:txBody>
      </p:sp>
      <p:sp>
        <p:nvSpPr>
          <p:cNvPr id="561" name="文本框 7"/>
          <p:cNvSpPr/>
          <p:nvPr/>
        </p:nvSpPr>
        <p:spPr>
          <a:xfrm>
            <a:off x="5402880" y="1225440"/>
            <a:ext cx="74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高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"/>
          <p:cNvSpPr/>
          <p:nvPr/>
        </p:nvSpPr>
        <p:spPr>
          <a:xfrm>
            <a:off x="7269120" y="6292800"/>
            <a:ext cx="7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表格 11"/>
          <p:cNvGraphicFramePr/>
          <p:nvPr/>
        </p:nvGraphicFramePr>
        <p:xfrm>
          <a:off x="5325840" y="1893240"/>
          <a:ext cx="832680" cy="4393440"/>
        </p:xfrm>
        <a:graphic>
          <a:graphicData uri="http://schemas.openxmlformats.org/drawingml/2006/table">
            <a:tbl>
              <a:tblPr/>
              <a:tblGrid>
                <a:gridCol w="208080"/>
                <a:gridCol w="208080"/>
                <a:gridCol w="208080"/>
                <a:gridCol w="208080"/>
              </a:tblGrid>
              <a:tr h="27432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64" name="直接连接符 13"/>
          <p:cNvCxnSpPr/>
          <p:nvPr/>
        </p:nvCxnSpPr>
        <p:spPr>
          <a:xfrm>
            <a:off x="1456200" y="6264000"/>
            <a:ext cx="8257320" cy="360"/>
          </a:xfrm>
          <a:prstGeom prst="straightConnector1">
            <a:avLst/>
          </a:prstGeom>
          <a:ln w="38100">
            <a:solidFill>
              <a:srgbClr val="044e7f"/>
            </a:solidFill>
          </a:ln>
        </p:spPr>
      </p:cxnSp>
      <p:cxnSp>
        <p:nvCxnSpPr>
          <p:cNvPr id="565" name="直接连接符 17"/>
          <p:cNvCxnSpPr/>
          <p:nvPr/>
        </p:nvCxnSpPr>
        <p:spPr>
          <a:xfrm>
            <a:off x="1578960" y="4362480"/>
            <a:ext cx="8042760" cy="360"/>
          </a:xfrm>
          <a:prstGeom prst="straightConnector1">
            <a:avLst/>
          </a:prstGeom>
          <a:ln>
            <a:solidFill>
              <a:srgbClr val="044e7f"/>
            </a:solidFill>
            <a:prstDash val="dash"/>
          </a:ln>
        </p:spPr>
      </p:cxnSp>
      <p:sp>
        <p:nvSpPr>
          <p:cNvPr id="566" name="圆角矩形标注 19"/>
          <p:cNvSpPr/>
          <p:nvPr/>
        </p:nvSpPr>
        <p:spPr>
          <a:xfrm>
            <a:off x="7984440" y="3600360"/>
            <a:ext cx="977400" cy="654840"/>
          </a:xfrm>
          <a:prstGeom prst="wedgeRoundRectCallout">
            <a:avLst>
              <a:gd name="adj1" fmla="val -23625"/>
              <a:gd name="adj2" fmla="val 62500"/>
              <a:gd name="adj3" fmla="val 16667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人脉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圆角矩形标注 20"/>
          <p:cNvSpPr/>
          <p:nvPr/>
        </p:nvSpPr>
        <p:spPr>
          <a:xfrm flipH="1">
            <a:off x="6340320" y="3600360"/>
            <a:ext cx="977400" cy="654840"/>
          </a:xfrm>
          <a:prstGeom prst="wedgeRoundRectCallout">
            <a:avLst>
              <a:gd name="adj1" fmla="val -23625"/>
              <a:gd name="adj2" fmla="val 62500"/>
              <a:gd name="adj3" fmla="val 16667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技能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1"/>
          <p:cNvSpPr/>
          <p:nvPr/>
        </p:nvSpPr>
        <p:spPr>
          <a:xfrm>
            <a:off x="7779240" y="859680"/>
            <a:ext cx="272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事情做到极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4"/>
          <p:cNvSpPr/>
          <p:nvPr/>
        </p:nvSpPr>
        <p:spPr>
          <a:xfrm>
            <a:off x="2552400" y="1206000"/>
            <a:ext cx="33508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怎样建立自己的价值金字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事情做到极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9"/>
          <p:cNvGrpSpPr/>
          <p:nvPr/>
        </p:nvGrpSpPr>
        <p:grpSpPr>
          <a:xfrm>
            <a:off x="1468440" y="4145040"/>
            <a:ext cx="3149280" cy="1875600"/>
            <a:chOff x="1468440" y="4145040"/>
            <a:chExt cx="3149280" cy="1875600"/>
          </a:xfrm>
        </p:grpSpPr>
        <p:grpSp>
          <p:nvGrpSpPr>
            <p:cNvPr id="571" name="组合 11"/>
            <p:cNvGrpSpPr/>
            <p:nvPr/>
          </p:nvGrpSpPr>
          <p:grpSpPr>
            <a:xfrm>
              <a:off x="1468440" y="5180040"/>
              <a:ext cx="3149280" cy="840600"/>
              <a:chOff x="1468440" y="5180040"/>
              <a:chExt cx="3149280" cy="840600"/>
            </a:xfrm>
          </p:grpSpPr>
          <p:pic>
            <p:nvPicPr>
              <p:cNvPr id="572" name="图片 57" descr=""/>
              <p:cNvPicPr/>
              <p:nvPr/>
            </p:nvPicPr>
            <p:blipFill>
              <a:blip r:embed="rId1"/>
              <a:srcRect l="1312" t="5825" r="-1312" b="24245"/>
              <a:stretch/>
            </p:blipFill>
            <p:spPr>
              <a:xfrm>
                <a:off x="1468440" y="5180040"/>
                <a:ext cx="824040" cy="82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矩形 2"/>
              <p:cNvSpPr/>
              <p:nvPr/>
            </p:nvSpPr>
            <p:spPr>
              <a:xfrm>
                <a:off x="2235960" y="5626080"/>
                <a:ext cx="23817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科比</a:t>
                </a:r>
                <a:r>
                  <a:rPr b="1" lang="en-US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-6-6-6</a:t>
                </a: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训练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8"/>
            <p:cNvGrpSpPr/>
            <p:nvPr/>
          </p:nvGrpSpPr>
          <p:grpSpPr>
            <a:xfrm>
              <a:off x="1468800" y="4145040"/>
              <a:ext cx="2743200" cy="807120"/>
              <a:chOff x="1468800" y="4145040"/>
              <a:chExt cx="2743200" cy="807120"/>
            </a:xfrm>
          </p:grpSpPr>
          <p:pic>
            <p:nvPicPr>
              <p:cNvPr id="575" name="图片 55" descr=""/>
              <p:cNvPicPr/>
              <p:nvPr/>
            </p:nvPicPr>
            <p:blipFill>
              <a:blip r:embed="rId2"/>
              <a:srcRect l="22385" t="1295" r="3198" b="-1295"/>
              <a:stretch/>
            </p:blipFill>
            <p:spPr>
              <a:xfrm flipH="1">
                <a:off x="1468800" y="4145040"/>
                <a:ext cx="807120" cy="80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矩形 56"/>
              <p:cNvSpPr/>
              <p:nvPr/>
            </p:nvSpPr>
            <p:spPr>
              <a:xfrm>
                <a:off x="2607840" y="4548600"/>
                <a:ext cx="16041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贝克汉姆</a:t>
                </a:r>
                <a:r>
                  <a:rPr b="1" lang="en-US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-</a:t>
                </a: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贝氏弯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577" name="直接连接符 64"/>
          <p:cNvCxnSpPr/>
          <p:nvPr/>
        </p:nvCxnSpPr>
        <p:spPr>
          <a:xfrm>
            <a:off x="1569240" y="2368080"/>
            <a:ext cx="305748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  <p:grpSp>
        <p:nvGrpSpPr>
          <p:cNvPr id="578" name="组合 26"/>
          <p:cNvGrpSpPr/>
          <p:nvPr/>
        </p:nvGrpSpPr>
        <p:grpSpPr>
          <a:xfrm>
            <a:off x="5315040" y="2368440"/>
            <a:ext cx="5772600" cy="3657600"/>
            <a:chOff x="5315040" y="2368440"/>
            <a:chExt cx="5772600" cy="3657600"/>
          </a:xfrm>
        </p:grpSpPr>
        <p:grpSp>
          <p:nvGrpSpPr>
            <p:cNvPr id="579" name="组合 67"/>
            <p:cNvGrpSpPr/>
            <p:nvPr/>
          </p:nvGrpSpPr>
          <p:grpSpPr>
            <a:xfrm>
              <a:off x="7326360" y="2368440"/>
              <a:ext cx="1768680" cy="630360"/>
              <a:chOff x="7326360" y="2368440"/>
              <a:chExt cx="1768680" cy="630360"/>
            </a:xfrm>
          </p:grpSpPr>
          <p:sp>
            <p:nvSpPr>
              <p:cNvPr id="580" name="矩形 93"/>
              <p:cNvSpPr/>
              <p:nvPr/>
            </p:nvSpPr>
            <p:spPr>
              <a:xfrm>
                <a:off x="7354440" y="2368440"/>
                <a:ext cx="1740600" cy="506160"/>
              </a:xfrm>
              <a:prstGeom prst="rect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ffff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81" name="矩形 94"/>
              <p:cNvSpPr/>
              <p:nvPr/>
            </p:nvSpPr>
            <p:spPr>
              <a:xfrm>
                <a:off x="7326360" y="2421720"/>
                <a:ext cx="1768680" cy="577080"/>
              </a:xfrm>
              <a:prstGeom prst="rect">
                <a:avLst/>
              </a:prstGeom>
              <a:solidFill>
                <a:srgbClr val="044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把事情做极致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!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22"/>
            <p:cNvGrpSpPr/>
            <p:nvPr/>
          </p:nvGrpSpPr>
          <p:grpSpPr>
            <a:xfrm>
              <a:off x="5315040" y="5502240"/>
              <a:ext cx="5772600" cy="523800"/>
              <a:chOff x="5315040" y="5502240"/>
              <a:chExt cx="5772600" cy="523800"/>
            </a:xfrm>
          </p:grpSpPr>
          <p:grpSp>
            <p:nvGrpSpPr>
              <p:cNvPr id="583" name="组合 66"/>
              <p:cNvGrpSpPr/>
              <p:nvPr/>
            </p:nvGrpSpPr>
            <p:grpSpPr>
              <a:xfrm>
                <a:off x="5315040" y="5502240"/>
                <a:ext cx="1999800" cy="523800"/>
                <a:chOff x="5315040" y="5502240"/>
                <a:chExt cx="1999800" cy="523800"/>
              </a:xfrm>
            </p:grpSpPr>
            <p:sp>
              <p:nvSpPr>
                <p:cNvPr id="584" name="下箭头 95"/>
                <p:cNvSpPr/>
                <p:nvPr/>
              </p:nvSpPr>
              <p:spPr>
                <a:xfrm rot="16200000">
                  <a:off x="6915960" y="5627160"/>
                  <a:ext cx="523800" cy="273960"/>
                </a:xfrm>
                <a:prstGeom prst="downArrow">
                  <a:avLst>
                    <a:gd name="adj1" fmla="val 50000"/>
                    <a:gd name="adj2" fmla="val 50000"/>
                  </a:avLst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grpSp>
              <p:nvGrpSpPr>
                <p:cNvPr id="585" name="组合 96"/>
                <p:cNvGrpSpPr/>
                <p:nvPr/>
              </p:nvGrpSpPr>
              <p:grpSpPr>
                <a:xfrm>
                  <a:off x="5315040" y="5504040"/>
                  <a:ext cx="1754640" cy="506160"/>
                  <a:chOff x="5315040" y="5504040"/>
                  <a:chExt cx="1754640" cy="506160"/>
                </a:xfrm>
              </p:grpSpPr>
              <p:sp>
                <p:nvSpPr>
                  <p:cNvPr id="586" name="矩形 97"/>
                  <p:cNvSpPr/>
                  <p:nvPr/>
                </p:nvSpPr>
                <p:spPr>
                  <a:xfrm>
                    <a:off x="5329080" y="5504040"/>
                    <a:ext cx="1740600" cy="506160"/>
                  </a:xfrm>
                  <a:prstGeom prst="rect">
                    <a:avLst/>
                  </a:prstGeom>
                  <a:solidFill>
                    <a:srgbClr val="044e7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587" name="矩形 98"/>
                  <p:cNvSpPr/>
                  <p:nvPr/>
                </p:nvSpPr>
                <p:spPr>
                  <a:xfrm>
                    <a:off x="5315040" y="5556240"/>
                    <a:ext cx="1754640" cy="394560"/>
                  </a:xfrm>
                  <a:prstGeom prst="rect">
                    <a:avLst/>
                  </a:prstGeom>
                  <a:solidFill>
                    <a:srgbClr val="044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zh-CN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多赚钱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8" name="组合 68"/>
              <p:cNvGrpSpPr/>
              <p:nvPr/>
            </p:nvGrpSpPr>
            <p:grpSpPr>
              <a:xfrm>
                <a:off x="7314480" y="5502240"/>
                <a:ext cx="1982160" cy="523800"/>
                <a:chOff x="7314480" y="5502240"/>
                <a:chExt cx="1982160" cy="523800"/>
              </a:xfrm>
            </p:grpSpPr>
            <p:grpSp>
              <p:nvGrpSpPr>
                <p:cNvPr id="589" name="组合 89"/>
                <p:cNvGrpSpPr/>
                <p:nvPr/>
              </p:nvGrpSpPr>
              <p:grpSpPr>
                <a:xfrm>
                  <a:off x="7314480" y="5504040"/>
                  <a:ext cx="1754640" cy="506160"/>
                  <a:chOff x="7314480" y="5504040"/>
                  <a:chExt cx="1754640" cy="506160"/>
                </a:xfrm>
              </p:grpSpPr>
              <p:sp>
                <p:nvSpPr>
                  <p:cNvPr id="590" name="矩形 91"/>
                  <p:cNvSpPr/>
                  <p:nvPr/>
                </p:nvSpPr>
                <p:spPr>
                  <a:xfrm>
                    <a:off x="7328520" y="5504040"/>
                    <a:ext cx="1740600" cy="506160"/>
                  </a:xfrm>
                  <a:prstGeom prst="rect">
                    <a:avLst/>
                  </a:prstGeom>
                  <a:solidFill>
                    <a:srgbClr val="044e7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591" name="矩形 92"/>
                  <p:cNvSpPr/>
                  <p:nvPr/>
                </p:nvSpPr>
                <p:spPr>
                  <a:xfrm>
                    <a:off x="7314480" y="5557320"/>
                    <a:ext cx="1754640" cy="394560"/>
                  </a:xfrm>
                  <a:prstGeom prst="rect">
                    <a:avLst/>
                  </a:prstGeom>
                  <a:solidFill>
                    <a:srgbClr val="044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zh-CN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贡献更多利润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" name="下箭头 90"/>
                <p:cNvSpPr/>
                <p:nvPr/>
              </p:nvSpPr>
              <p:spPr>
                <a:xfrm rot="16200000">
                  <a:off x="8897760" y="5627160"/>
                  <a:ext cx="523800" cy="273960"/>
                </a:xfrm>
                <a:prstGeom prst="downArrow">
                  <a:avLst>
                    <a:gd name="adj1" fmla="val 50000"/>
                    <a:gd name="adj2" fmla="val 50000"/>
                  </a:avLst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593" name="组合 85"/>
              <p:cNvGrpSpPr/>
              <p:nvPr/>
            </p:nvGrpSpPr>
            <p:grpSpPr>
              <a:xfrm>
                <a:off x="9300240" y="5504040"/>
                <a:ext cx="1787400" cy="506160"/>
                <a:chOff x="9300240" y="5504040"/>
                <a:chExt cx="1787400" cy="506160"/>
              </a:xfrm>
            </p:grpSpPr>
            <p:sp>
              <p:nvSpPr>
                <p:cNvPr id="594" name="矩形 87"/>
                <p:cNvSpPr/>
                <p:nvPr/>
              </p:nvSpPr>
              <p:spPr>
                <a:xfrm>
                  <a:off x="9347040" y="5504040"/>
                  <a:ext cx="1740600" cy="506160"/>
                </a:xfrm>
                <a:prstGeom prst="rect">
                  <a:avLst/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595" name="矩形 88"/>
                <p:cNvSpPr/>
                <p:nvPr/>
              </p:nvSpPr>
              <p:spPr>
                <a:xfrm>
                  <a:off x="9300240" y="5555160"/>
                  <a:ext cx="1787400" cy="394560"/>
                </a:xfrm>
                <a:prstGeom prst="rect">
                  <a:avLst/>
                </a:prstGeom>
                <a:solidFill>
                  <a:srgbClr val="044e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提高工作效率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6" name="组合 74"/>
            <p:cNvGrpSpPr/>
            <p:nvPr/>
          </p:nvGrpSpPr>
          <p:grpSpPr>
            <a:xfrm>
              <a:off x="7323840" y="3876120"/>
              <a:ext cx="1754640" cy="506160"/>
              <a:chOff x="7323840" y="3876120"/>
              <a:chExt cx="1754640" cy="506160"/>
            </a:xfrm>
          </p:grpSpPr>
          <p:sp>
            <p:nvSpPr>
              <p:cNvPr id="597" name="矩形 75"/>
              <p:cNvSpPr/>
              <p:nvPr/>
            </p:nvSpPr>
            <p:spPr>
              <a:xfrm rot="10800000">
                <a:off x="7324200" y="3876120"/>
                <a:ext cx="1740600" cy="506160"/>
              </a:xfrm>
              <a:prstGeom prst="rect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98" name="矩形 76"/>
              <p:cNvSpPr/>
              <p:nvPr/>
            </p:nvSpPr>
            <p:spPr>
              <a:xfrm>
                <a:off x="7323840" y="3930120"/>
                <a:ext cx="1754640" cy="394560"/>
              </a:xfrm>
              <a:prstGeom prst="rect">
                <a:avLst/>
              </a:prstGeom>
              <a:solidFill>
                <a:srgbClr val="044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聚焦范围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下箭头 99"/>
            <p:cNvSpPr/>
            <p:nvPr/>
          </p:nvSpPr>
          <p:spPr>
            <a:xfrm rot="13500000">
              <a:off x="6678360" y="4290480"/>
              <a:ext cx="523800" cy="273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600" name="组合 21"/>
            <p:cNvGrpSpPr/>
            <p:nvPr/>
          </p:nvGrpSpPr>
          <p:grpSpPr>
            <a:xfrm>
              <a:off x="6269040" y="4680000"/>
              <a:ext cx="3864240" cy="523800"/>
              <a:chOff x="6269040" y="4680000"/>
              <a:chExt cx="3864240" cy="523800"/>
            </a:xfrm>
          </p:grpSpPr>
          <p:grpSp>
            <p:nvGrpSpPr>
              <p:cNvPr id="601" name="组合 82"/>
              <p:cNvGrpSpPr/>
              <p:nvPr/>
            </p:nvGrpSpPr>
            <p:grpSpPr>
              <a:xfrm>
                <a:off x="8378640" y="4684680"/>
                <a:ext cx="1754640" cy="506160"/>
                <a:chOff x="8378640" y="4684680"/>
                <a:chExt cx="1754640" cy="506160"/>
              </a:xfrm>
            </p:grpSpPr>
            <p:sp>
              <p:nvSpPr>
                <p:cNvPr id="602" name="矩形 83"/>
                <p:cNvSpPr/>
                <p:nvPr/>
              </p:nvSpPr>
              <p:spPr>
                <a:xfrm>
                  <a:off x="8392680" y="4684680"/>
                  <a:ext cx="1740600" cy="506160"/>
                </a:xfrm>
                <a:prstGeom prst="rect">
                  <a:avLst/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603" name="矩形 84"/>
                <p:cNvSpPr/>
                <p:nvPr/>
              </p:nvSpPr>
              <p:spPr>
                <a:xfrm>
                  <a:off x="8378640" y="4736880"/>
                  <a:ext cx="175464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专业程度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组合 78"/>
              <p:cNvGrpSpPr/>
              <p:nvPr/>
            </p:nvGrpSpPr>
            <p:grpSpPr>
              <a:xfrm>
                <a:off x="6269040" y="4680360"/>
                <a:ext cx="1754640" cy="506160"/>
                <a:chOff x="6269040" y="4680360"/>
                <a:chExt cx="1754640" cy="506160"/>
              </a:xfrm>
            </p:grpSpPr>
            <p:sp>
              <p:nvSpPr>
                <p:cNvPr id="605" name="矩形 79"/>
                <p:cNvSpPr/>
                <p:nvPr/>
              </p:nvSpPr>
              <p:spPr>
                <a:xfrm rot="10800000">
                  <a:off x="6269400" y="4680360"/>
                  <a:ext cx="1740600" cy="506160"/>
                </a:xfrm>
                <a:prstGeom prst="rect">
                  <a:avLst/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606" name="矩形 80"/>
                <p:cNvSpPr/>
                <p:nvPr/>
              </p:nvSpPr>
              <p:spPr>
                <a:xfrm>
                  <a:off x="6269040" y="4734360"/>
                  <a:ext cx="1754640" cy="394560"/>
                </a:xfrm>
                <a:prstGeom prst="rect">
                  <a:avLst/>
                </a:prstGeom>
                <a:solidFill>
                  <a:srgbClr val="044e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投入时间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下箭头 100"/>
              <p:cNvSpPr/>
              <p:nvPr/>
            </p:nvSpPr>
            <p:spPr>
              <a:xfrm rot="5400000">
                <a:off x="7939800" y="4804920"/>
                <a:ext cx="523800" cy="2739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608" name="下箭头 101"/>
            <p:cNvSpPr/>
            <p:nvPr/>
          </p:nvSpPr>
          <p:spPr>
            <a:xfrm flipV="1" rot="18900000">
              <a:off x="10217160" y="5045400"/>
              <a:ext cx="523800" cy="273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09" name="下箭头 102"/>
            <p:cNvSpPr/>
            <p:nvPr/>
          </p:nvSpPr>
          <p:spPr>
            <a:xfrm rot="10800000">
              <a:off x="7937280" y="3536640"/>
              <a:ext cx="523800" cy="273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1"/>
          <p:cNvSpPr/>
          <p:nvPr/>
        </p:nvSpPr>
        <p:spPr>
          <a:xfrm>
            <a:off x="5876280" y="822240"/>
            <a:ext cx="4591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钉子法则：成功</a:t>
            </a: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=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聚焦</a:t>
            </a: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x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图片 2" descr=""/>
          <p:cNvPicPr/>
          <p:nvPr/>
        </p:nvPicPr>
        <p:blipFill>
          <a:blip r:embed="rId1"/>
          <a:stretch/>
        </p:blipFill>
        <p:spPr>
          <a:xfrm>
            <a:off x="6589440" y="2338200"/>
            <a:ext cx="5601960" cy="388116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3"/>
          <p:cNvSpPr/>
          <p:nvPr/>
        </p:nvSpPr>
        <p:spPr>
          <a:xfrm>
            <a:off x="740520" y="1397520"/>
            <a:ext cx="608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怎样把事情做到极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44e7f"/>
              </a:buClr>
              <a:buFont typeface="Wingdings" charset="2"/>
              <a:buChar char=""/>
            </a:pP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成功</a:t>
            </a:r>
            <a:r>
              <a:rPr b="1" lang="en-US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=</a:t>
            </a: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聚焦</a:t>
            </a:r>
            <a:r>
              <a:rPr b="1" lang="en-US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焦就好比钉子的那个尖儿，在职场上就是我们选择的突破点，而投入就是我们的努力与坚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44e7f"/>
              </a:buClr>
              <a:buFont typeface="Wingdings" charset="2"/>
              <a:buChar char=""/>
            </a:pP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围绕自己的兴趣点建立核心竞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核心竞争力是你的兴趣点时，你才会有持续的激情与投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44e7f"/>
              </a:buClr>
              <a:buFont typeface="Wingdings" charset="2"/>
              <a:buChar char=""/>
            </a:pP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围绕聚焦点付出努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选择好突破点之后，聚焦足够精确明晰之后，你所要做的就是持续不断地围绕这个点来投入，付出比别人高百倍的辛苦与汗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直接连接符 4"/>
          <p:cNvCxnSpPr/>
          <p:nvPr/>
        </p:nvCxnSpPr>
        <p:spPr>
          <a:xfrm>
            <a:off x="846000" y="1999800"/>
            <a:ext cx="383544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1"/>
          <p:cNvSpPr/>
          <p:nvPr/>
        </p:nvSpPr>
        <p:spPr>
          <a:xfrm>
            <a:off x="7506360" y="1869840"/>
            <a:ext cx="25243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产品化生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2"/>
          <p:cNvSpPr/>
          <p:nvPr/>
        </p:nvSpPr>
        <p:spPr>
          <a:xfrm>
            <a:off x="7169040" y="83880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是运营自己的产品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"/>
          <p:cNvSpPr/>
          <p:nvPr/>
        </p:nvSpPr>
        <p:spPr>
          <a:xfrm>
            <a:off x="2607840" y="4029840"/>
            <a:ext cx="6800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既是产品，又是运营自己这个产品的产品经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仅要负责产品的定位、设计等环节，确保产品的品质，还必须考虑产品的营销、推广等运营环节，让自己这个产品在市场中成为“紧俏商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8"/>
          <p:cNvGrpSpPr/>
          <p:nvPr/>
        </p:nvGrpSpPr>
        <p:grpSpPr>
          <a:xfrm>
            <a:off x="2607840" y="2329200"/>
            <a:ext cx="6800040" cy="1239480"/>
            <a:chOff x="2607840" y="2329200"/>
            <a:chExt cx="6800040" cy="1239480"/>
          </a:xfrm>
        </p:grpSpPr>
        <p:sp>
          <p:nvSpPr>
            <p:cNvPr id="619" name="矩形标注 7"/>
            <p:cNvSpPr/>
            <p:nvPr/>
          </p:nvSpPr>
          <p:spPr>
            <a:xfrm>
              <a:off x="2607840" y="2329200"/>
              <a:ext cx="6800040" cy="1239480"/>
            </a:xfrm>
            <a:prstGeom prst="wedgeRectCallout">
              <a:avLst>
                <a:gd name="adj1" fmla="val -33076"/>
                <a:gd name="adj2" fmla="val 77913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20" name="矩形 5"/>
            <p:cNvSpPr/>
            <p:nvPr/>
          </p:nvSpPr>
          <p:spPr>
            <a:xfrm>
              <a:off x="2959920" y="2348640"/>
              <a:ext cx="60955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化生存：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职场上的人看成产品，而把自己看成运营自己的产品经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"/>
          <p:cNvSpPr/>
          <p:nvPr/>
        </p:nvSpPr>
        <p:spPr>
          <a:xfrm>
            <a:off x="7069680" y="846000"/>
            <a:ext cx="354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满足客户的迫切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8"/>
          <p:cNvGrpSpPr/>
          <p:nvPr/>
        </p:nvGrpSpPr>
        <p:grpSpPr>
          <a:xfrm>
            <a:off x="1907280" y="1863000"/>
            <a:ext cx="8377200" cy="1937520"/>
            <a:chOff x="1907280" y="1863000"/>
            <a:chExt cx="8377200" cy="1937520"/>
          </a:xfrm>
        </p:grpSpPr>
        <p:sp>
          <p:nvSpPr>
            <p:cNvPr id="623" name="椭圆 3"/>
            <p:cNvSpPr/>
            <p:nvPr/>
          </p:nvSpPr>
          <p:spPr>
            <a:xfrm>
              <a:off x="1907280" y="1863000"/>
              <a:ext cx="1937520" cy="1937520"/>
            </a:xfrm>
            <a:prstGeom prst="ellipse">
              <a:avLst/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烫伤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椭圆 4"/>
            <p:cNvSpPr/>
            <p:nvPr/>
          </p:nvSpPr>
          <p:spPr>
            <a:xfrm>
              <a:off x="5133240" y="1863000"/>
              <a:ext cx="1937520" cy="1937520"/>
            </a:xfrm>
            <a:prstGeom prst="ellipse">
              <a:avLst/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牙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椭圆 5"/>
            <p:cNvSpPr/>
            <p:nvPr/>
          </p:nvSpPr>
          <p:spPr>
            <a:xfrm>
              <a:off x="8346960" y="1863000"/>
              <a:ext cx="1937520" cy="1937520"/>
            </a:xfrm>
            <a:prstGeom prst="ellipse">
              <a:avLst/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疼痛缓解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加号 6"/>
            <p:cNvSpPr/>
            <p:nvPr/>
          </p:nvSpPr>
          <p:spPr>
            <a:xfrm>
              <a:off x="4147920" y="2490840"/>
              <a:ext cx="682200" cy="682200"/>
            </a:xfrm>
            <a:prstGeom prst="mathPlus">
              <a:avLst>
                <a:gd name="adj1" fmla="val 23520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27" name="等于号 7"/>
            <p:cNvSpPr/>
            <p:nvPr/>
          </p:nvSpPr>
          <p:spPr>
            <a:xfrm>
              <a:off x="7373880" y="2496960"/>
              <a:ext cx="669960" cy="669960"/>
            </a:xfrm>
            <a:prstGeom prst="mathEqual">
              <a:avLst>
                <a:gd name="adj1" fmla="val 23520"/>
                <a:gd name="adj2" fmla="val 11760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628" name="组合 11"/>
          <p:cNvGrpSpPr/>
          <p:nvPr/>
        </p:nvGrpSpPr>
        <p:grpSpPr>
          <a:xfrm>
            <a:off x="1301040" y="4017600"/>
            <a:ext cx="9589680" cy="2438280"/>
            <a:chOff x="1301040" y="4017600"/>
            <a:chExt cx="9589680" cy="2438280"/>
          </a:xfrm>
        </p:grpSpPr>
        <p:sp>
          <p:nvSpPr>
            <p:cNvPr id="629" name="文本框 2"/>
            <p:cNvSpPr/>
            <p:nvPr/>
          </p:nvSpPr>
          <p:spPr>
            <a:xfrm>
              <a:off x="1623960" y="4812120"/>
              <a:ext cx="9266400" cy="16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好的产品，必须能解决一个问题，而这个问题越是用户的一个痛点越好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周鸿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1301040" y="4017600"/>
              <a:ext cx="888480" cy="794160"/>
            </a:xfrm>
            <a:custGeom>
              <a:avLst/>
              <a:gdLst>
                <a:gd name="textAreaLeft" fmla="*/ 0 w 888480"/>
                <a:gd name="textAreaRight" fmla="*/ 888840 w 88848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3172" h="2597">
                  <a:moveTo>
                    <a:pt x="0" y="2597"/>
                  </a:moveTo>
                  <a:lnTo>
                    <a:pt x="0" y="1579"/>
                  </a:lnTo>
                  <a:lnTo>
                    <a:pt x="926" y="0"/>
                  </a:lnTo>
                  <a:lnTo>
                    <a:pt x="1347" y="0"/>
                  </a:lnTo>
                  <a:lnTo>
                    <a:pt x="682" y="1425"/>
                  </a:lnTo>
                  <a:lnTo>
                    <a:pt x="1170" y="1425"/>
                  </a:lnTo>
                  <a:lnTo>
                    <a:pt x="1170" y="2597"/>
                  </a:lnTo>
                  <a:lnTo>
                    <a:pt x="0" y="2597"/>
                  </a:lnTo>
                  <a:close/>
                  <a:moveTo>
                    <a:pt x="1775" y="2597"/>
                  </a:moveTo>
                  <a:lnTo>
                    <a:pt x="1775" y="1579"/>
                  </a:lnTo>
                  <a:lnTo>
                    <a:pt x="2732" y="0"/>
                  </a:lnTo>
                  <a:lnTo>
                    <a:pt x="3172" y="0"/>
                  </a:lnTo>
                  <a:lnTo>
                    <a:pt x="2476" y="1425"/>
                  </a:lnTo>
                  <a:lnTo>
                    <a:pt x="2968" y="1425"/>
                  </a:lnTo>
                  <a:lnTo>
                    <a:pt x="2968" y="2597"/>
                  </a:lnTo>
                  <a:lnTo>
                    <a:pt x="1775" y="2597"/>
                  </a:lnTo>
                  <a:close/>
                </a:path>
              </a:pathLst>
            </a:cu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31" name="Freeform 9"/>
            <p:cNvSpPr/>
            <p:nvPr/>
          </p:nvSpPr>
          <p:spPr>
            <a:xfrm rot="10800000">
              <a:off x="10010520" y="5606280"/>
              <a:ext cx="880200" cy="78660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3172" h="2597">
                  <a:moveTo>
                    <a:pt x="0" y="2597"/>
                  </a:moveTo>
                  <a:lnTo>
                    <a:pt x="0" y="1579"/>
                  </a:lnTo>
                  <a:lnTo>
                    <a:pt x="926" y="0"/>
                  </a:lnTo>
                  <a:lnTo>
                    <a:pt x="1347" y="0"/>
                  </a:lnTo>
                  <a:lnTo>
                    <a:pt x="682" y="1425"/>
                  </a:lnTo>
                  <a:lnTo>
                    <a:pt x="1170" y="1425"/>
                  </a:lnTo>
                  <a:lnTo>
                    <a:pt x="1170" y="2597"/>
                  </a:lnTo>
                  <a:lnTo>
                    <a:pt x="0" y="2597"/>
                  </a:lnTo>
                  <a:close/>
                  <a:moveTo>
                    <a:pt x="1775" y="2597"/>
                  </a:moveTo>
                  <a:lnTo>
                    <a:pt x="1775" y="1579"/>
                  </a:lnTo>
                  <a:lnTo>
                    <a:pt x="2732" y="0"/>
                  </a:lnTo>
                  <a:lnTo>
                    <a:pt x="3172" y="0"/>
                  </a:lnTo>
                  <a:lnTo>
                    <a:pt x="2476" y="1425"/>
                  </a:lnTo>
                  <a:lnTo>
                    <a:pt x="2968" y="1425"/>
                  </a:lnTo>
                  <a:lnTo>
                    <a:pt x="2968" y="2597"/>
                  </a:lnTo>
                  <a:lnTo>
                    <a:pt x="1775" y="2597"/>
                  </a:lnTo>
                  <a:close/>
                </a:path>
              </a:pathLst>
            </a:cu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2" descr=""/>
          <p:cNvPicPr/>
          <p:nvPr/>
        </p:nvPicPr>
        <p:blipFill>
          <a:blip r:embed="rId1"/>
          <a:stretch/>
        </p:blipFill>
        <p:spPr>
          <a:xfrm>
            <a:off x="4410720" y="3404520"/>
            <a:ext cx="3370320" cy="345312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1"/>
          <p:cNvSpPr/>
          <p:nvPr/>
        </p:nvSpPr>
        <p:spPr>
          <a:xfrm>
            <a:off x="2487600" y="135360"/>
            <a:ext cx="7216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40000"/>
              </a:lnSpc>
            </a:pPr>
            <a:r>
              <a:rPr b="1" lang="zh-CN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正在面对这样的生活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形标注 8"/>
          <p:cNvSpPr/>
          <p:nvPr/>
        </p:nvSpPr>
        <p:spPr>
          <a:xfrm>
            <a:off x="9097200" y="3076920"/>
            <a:ext cx="2565360" cy="1718640"/>
          </a:xfrm>
          <a:prstGeom prst="wedgeEllipseCallout">
            <a:avLst>
              <a:gd name="adj1" fmla="val -54876"/>
              <a:gd name="adj2" fmla="val 51385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椭圆形标注 9"/>
          <p:cNvSpPr/>
          <p:nvPr/>
        </p:nvSpPr>
        <p:spPr>
          <a:xfrm>
            <a:off x="6831720" y="1463760"/>
            <a:ext cx="2565360" cy="1718640"/>
          </a:xfrm>
          <a:prstGeom prst="wedgeEllipseCallout">
            <a:avLst>
              <a:gd name="adj1" fmla="val -28812"/>
              <a:gd name="adj2" fmla="val 66469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1" name="椭圆形标注 10"/>
          <p:cNvSpPr/>
          <p:nvPr/>
        </p:nvSpPr>
        <p:spPr>
          <a:xfrm flipH="1">
            <a:off x="2697480" y="1463760"/>
            <a:ext cx="2565360" cy="1718640"/>
          </a:xfrm>
          <a:prstGeom prst="wedgeEllipseCallout">
            <a:avLst>
              <a:gd name="adj1" fmla="val -36259"/>
              <a:gd name="adj2" fmla="val 68851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2" name="椭圆形标注 11"/>
          <p:cNvSpPr/>
          <p:nvPr/>
        </p:nvSpPr>
        <p:spPr>
          <a:xfrm flipH="1">
            <a:off x="563400" y="3182760"/>
            <a:ext cx="2565360" cy="1718640"/>
          </a:xfrm>
          <a:prstGeom prst="wedgeEllipseCallout">
            <a:avLst>
              <a:gd name="adj1" fmla="val -57536"/>
              <a:gd name="adj2" fmla="val 47415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3" name="矩形 12"/>
          <p:cNvSpPr/>
          <p:nvPr/>
        </p:nvSpPr>
        <p:spPr>
          <a:xfrm>
            <a:off x="7283520" y="163080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行动却总是懒惰拖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3"/>
          <p:cNvSpPr/>
          <p:nvPr/>
        </p:nvSpPr>
        <p:spPr>
          <a:xfrm>
            <a:off x="9549000" y="324396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做出改变却又顾虑重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4"/>
          <p:cNvSpPr/>
          <p:nvPr/>
        </p:nvSpPr>
        <p:spPr>
          <a:xfrm>
            <a:off x="3149280" y="163080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努力奋斗却找不到方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5"/>
          <p:cNvSpPr/>
          <p:nvPr/>
        </p:nvSpPr>
        <p:spPr>
          <a:xfrm>
            <a:off x="1015560" y="341388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日奔波忙碌却入不敷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1"/>
          <p:cNvSpPr/>
          <p:nvPr/>
        </p:nvSpPr>
        <p:spPr>
          <a:xfrm>
            <a:off x="1481760" y="2306160"/>
            <a:ext cx="653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2000" spc="-1" strike="noStrike">
                <a:solidFill>
                  <a:srgbClr val="044e7f">
                    <a:alpha val="71000"/>
                  </a:srgbClr>
                </a:solidFill>
                <a:latin typeface="微软雅黑"/>
                <a:ea typeface="微软雅黑"/>
              </a:rPr>
              <a:t>是只有你才能解决他们的这些需求，还是别人也能解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3"/>
          <p:cNvSpPr/>
          <p:nvPr/>
        </p:nvSpPr>
        <p:spPr>
          <a:xfrm>
            <a:off x="7732080" y="84636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满足客户的迫切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4" descr=""/>
          <p:cNvPicPr/>
          <p:nvPr/>
        </p:nvPicPr>
        <p:blipFill>
          <a:blip r:embed="rId1"/>
          <a:srcRect l="43209" t="6202" r="14613" b="0"/>
          <a:stretch/>
        </p:blipFill>
        <p:spPr>
          <a:xfrm>
            <a:off x="8448120" y="2333160"/>
            <a:ext cx="2770200" cy="4102920"/>
          </a:xfrm>
          <a:prstGeom prst="rect">
            <a:avLst/>
          </a:prstGeom>
          <a:ln w="0">
            <a:noFill/>
          </a:ln>
        </p:spPr>
      </p:pic>
      <p:sp>
        <p:nvSpPr>
          <p:cNvPr id="635" name="矩形 5"/>
          <p:cNvSpPr/>
          <p:nvPr/>
        </p:nvSpPr>
        <p:spPr>
          <a:xfrm>
            <a:off x="1764360" y="1230840"/>
            <a:ext cx="1004040" cy="74772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想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矩形 6"/>
          <p:cNvSpPr/>
          <p:nvPr/>
        </p:nvSpPr>
        <p:spPr>
          <a:xfrm>
            <a:off x="4552560" y="155880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果把你自己比作一个产品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7"/>
          <p:cNvSpPr/>
          <p:nvPr/>
        </p:nvSpPr>
        <p:spPr>
          <a:xfrm>
            <a:off x="3997440" y="5144400"/>
            <a:ext cx="58788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能解决一个什么用户需求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8"/>
          <p:cNvSpPr/>
          <p:nvPr/>
        </p:nvSpPr>
        <p:spPr>
          <a:xfrm>
            <a:off x="5451480" y="4338000"/>
            <a:ext cx="2527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044e7f"/>
                </a:solidFill>
                <a:latin typeface="微软雅黑"/>
                <a:ea typeface="微软雅黑"/>
              </a:rPr>
              <a:t>谁是你的用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9"/>
          <p:cNvSpPr/>
          <p:nvPr/>
        </p:nvSpPr>
        <p:spPr>
          <a:xfrm>
            <a:off x="2300400" y="3834360"/>
            <a:ext cx="2666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他们对你有什么需求</a:t>
            </a:r>
            <a:r>
              <a:rPr b="1" lang="en-US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4802760" y="3389040"/>
            <a:ext cx="3107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2400" spc="-1" strike="noStrike">
                <a:solidFill>
                  <a:srgbClr val="044e7f">
                    <a:alpha val="71000"/>
                  </a:srgbClr>
                </a:solidFill>
                <a:latin typeface="微软雅黑"/>
                <a:ea typeface="微软雅黑"/>
              </a:rPr>
              <a:t>有哪些是他们感到疼痛的迫切需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11"/>
          <p:cNvSpPr/>
          <p:nvPr/>
        </p:nvSpPr>
        <p:spPr>
          <a:xfrm>
            <a:off x="3350880" y="2684160"/>
            <a:ext cx="37472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能解决他们的这些需求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2"/>
          <p:cNvSpPr/>
          <p:nvPr/>
        </p:nvSpPr>
        <p:spPr>
          <a:xfrm>
            <a:off x="5168520" y="5777640"/>
            <a:ext cx="2375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44e7f">
                    <a:alpha val="71000"/>
                  </a:srgbClr>
                </a:solidFill>
                <a:latin typeface="微软雅黑"/>
                <a:ea typeface="微软雅黑"/>
              </a:rPr>
              <a:t>那相互比较之下，你有什么有点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559080" y="640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1"/>
          <p:cNvSpPr/>
          <p:nvPr/>
        </p:nvSpPr>
        <p:spPr>
          <a:xfrm>
            <a:off x="7042320" y="846000"/>
            <a:ext cx="3575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核心功能做到极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"/>
          <p:cNvSpPr/>
          <p:nvPr/>
        </p:nvSpPr>
        <p:spPr>
          <a:xfrm>
            <a:off x="4321440" y="5029920"/>
            <a:ext cx="6741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</a:pPr>
            <a:r>
              <a:rPr b="1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你自己看成一个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</a:t>
            </a:r>
            <a:r>
              <a:rPr b="0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核心功能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能满足用户的</a:t>
            </a:r>
            <a:r>
              <a:rPr b="0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核心诉求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能不能把自己的这个核心功能打造到</a:t>
            </a:r>
            <a:r>
              <a:rPr b="0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极致的水平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组合 9"/>
          <p:cNvGrpSpPr/>
          <p:nvPr/>
        </p:nvGrpSpPr>
        <p:grpSpPr>
          <a:xfrm>
            <a:off x="1153440" y="1583280"/>
            <a:ext cx="9884880" cy="3446640"/>
            <a:chOff x="1153440" y="1583280"/>
            <a:chExt cx="9884880" cy="3446640"/>
          </a:xfrm>
        </p:grpSpPr>
        <p:sp>
          <p:nvSpPr>
            <p:cNvPr id="647" name="圆角矩形标注 7"/>
            <p:cNvSpPr/>
            <p:nvPr/>
          </p:nvSpPr>
          <p:spPr>
            <a:xfrm flipH="1">
              <a:off x="1153440" y="2009520"/>
              <a:ext cx="7778880" cy="1153440"/>
            </a:xfrm>
            <a:prstGeom prst="wedgeRoundRectCallout">
              <a:avLst>
                <a:gd name="adj1" fmla="val -54692"/>
                <a:gd name="adj2" fmla="val 4222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48" name="文本框 2"/>
            <p:cNvSpPr/>
            <p:nvPr/>
          </p:nvSpPr>
          <p:spPr>
            <a:xfrm>
              <a:off x="1283040" y="2170800"/>
              <a:ext cx="7519680" cy="455400"/>
            </a:xfrm>
            <a:prstGeom prst="rect">
              <a:avLst/>
            </a:pr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马化腾：核心功能要做到极致。要多想如何通过技术实现差异化，让人家做不到，或通过一年半载才能追上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图片 4"/>
            <p:cNvSpPr/>
            <p:nvPr/>
          </p:nvSpPr>
          <p:spPr>
            <a:xfrm>
              <a:off x="1153440" y="3336840"/>
              <a:ext cx="1693080" cy="1693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575">
              <a:solidFill>
                <a:srgbClr val="044e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图片 5"/>
            <p:cNvSpPr/>
            <p:nvPr/>
          </p:nvSpPr>
          <p:spPr>
            <a:xfrm>
              <a:off x="9285120" y="1583280"/>
              <a:ext cx="1753200" cy="1753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solidFill>
                <a:srgbClr val="044e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圆角矩形标注 8"/>
            <p:cNvSpPr/>
            <p:nvPr/>
          </p:nvSpPr>
          <p:spPr>
            <a:xfrm>
              <a:off x="3259440" y="3421440"/>
              <a:ext cx="7778880" cy="1153440"/>
            </a:xfrm>
            <a:prstGeom prst="wedgeRoundRectCallout">
              <a:avLst>
                <a:gd name="adj1" fmla="val -54166"/>
                <a:gd name="adj2" fmla="val 39703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2" name="矩形 6"/>
            <p:cNvSpPr/>
            <p:nvPr/>
          </p:nvSpPr>
          <p:spPr>
            <a:xfrm>
              <a:off x="3463920" y="3598560"/>
              <a:ext cx="7369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周鸿祎：有一个功能能够打动用户已经很不简单了，把这个功能想办法做到极致。把有限的资源聚焦到一个点上，才能形成压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文本框 1"/>
          <p:cNvSpPr/>
          <p:nvPr/>
        </p:nvSpPr>
        <p:spPr>
          <a:xfrm>
            <a:off x="8830080" y="846000"/>
            <a:ext cx="166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迭代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2"/>
          <p:cNvSpPr/>
          <p:nvPr/>
        </p:nvSpPr>
        <p:spPr>
          <a:xfrm>
            <a:off x="2452680" y="3355560"/>
            <a:ext cx="72864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次只要攻克一个难题就够了，在这个问题没有解决之前，绝不碰下一个。这样你的注意力就会集中很多，焦虑感也会大幅降低，幸福感则会大大增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一层意思：</a:t>
            </a:r>
            <a:r>
              <a:rPr b="1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不断地优化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迭代开发的能力，无论从哪里起步，最后总能越做越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4"/>
          <p:cNvGrpSpPr/>
          <p:nvPr/>
        </p:nvGrpSpPr>
        <p:grpSpPr>
          <a:xfrm>
            <a:off x="2452680" y="1569600"/>
            <a:ext cx="7286400" cy="1760040"/>
            <a:chOff x="2452680" y="1569600"/>
            <a:chExt cx="7286400" cy="1760040"/>
          </a:xfrm>
        </p:grpSpPr>
        <p:sp>
          <p:nvSpPr>
            <p:cNvPr id="656" name="矩形标注 5"/>
            <p:cNvSpPr/>
            <p:nvPr/>
          </p:nvSpPr>
          <p:spPr>
            <a:xfrm>
              <a:off x="2452680" y="1569600"/>
              <a:ext cx="7286400" cy="1760040"/>
            </a:xfrm>
            <a:prstGeom prst="wedgeRectCallout">
              <a:avLst>
                <a:gd name="adj1" fmla="val -32889"/>
                <a:gd name="adj2" fmla="val 70160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7" name="矩形 6"/>
            <p:cNvSpPr/>
            <p:nvPr/>
          </p:nvSpPr>
          <p:spPr>
            <a:xfrm>
              <a:off x="2452680" y="1595160"/>
              <a:ext cx="7286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迭代开发：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个项目都被分成一系列较小的项目（称为迭代），后一个迭代基于前一个迭代的结果进行构建，循序渐进地实现宏观项目目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1"/>
          <p:cNvSpPr/>
          <p:nvPr/>
        </p:nvSpPr>
        <p:spPr>
          <a:xfrm>
            <a:off x="6701040" y="841680"/>
            <a:ext cx="375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给自己贴上明确的标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2"/>
          <p:cNvSpPr/>
          <p:nvPr/>
        </p:nvSpPr>
        <p:spPr>
          <a:xfrm>
            <a:off x="1441800" y="4770360"/>
            <a:ext cx="9012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做到了极致之后，我们还必须让外界知道我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是做什么的，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标签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必须明确，而且你要想方设法让自己成为行业中的名牌，这样你才能让自己取得优势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14"/>
          <p:cNvGrpSpPr/>
          <p:nvPr/>
        </p:nvGrpSpPr>
        <p:grpSpPr>
          <a:xfrm>
            <a:off x="1442160" y="1761120"/>
            <a:ext cx="8444880" cy="2433600"/>
            <a:chOff x="1442160" y="1761120"/>
            <a:chExt cx="8444880" cy="2433600"/>
          </a:xfrm>
        </p:grpSpPr>
        <p:pic>
          <p:nvPicPr>
            <p:cNvPr id="661" name="图片 4" descr=""/>
            <p:cNvPicPr/>
            <p:nvPr/>
          </p:nvPicPr>
          <p:blipFill>
            <a:blip r:embed="rId1"/>
            <a:stretch/>
          </p:blipFill>
          <p:spPr>
            <a:xfrm>
              <a:off x="2851920" y="1761120"/>
              <a:ext cx="1188360" cy="11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文本框 5"/>
            <p:cNvSpPr/>
            <p:nvPr/>
          </p:nvSpPr>
          <p:spPr>
            <a:xfrm>
              <a:off x="4683240" y="2001600"/>
              <a:ext cx="32860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2e6ca4"/>
                  </a:solidFill>
                  <a:latin typeface="微软雅黑"/>
                  <a:ea typeface="微软雅黑"/>
                </a:rPr>
                <a:t>SAMSU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4" descr="http://pic19.nipic.com/20120303/9188260_160741588155_2.jpg"/>
            <p:cNvPicPr/>
            <p:nvPr/>
          </p:nvPicPr>
          <p:blipFill>
            <a:blip r:embed="rId2"/>
            <a:srcRect l="19589" t="15775" r="21347" b="19474"/>
            <a:stretch/>
          </p:blipFill>
          <p:spPr>
            <a:xfrm>
              <a:off x="8706240" y="1761120"/>
              <a:ext cx="1180800" cy="118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4" name="组合 13"/>
            <p:cNvGrpSpPr/>
            <p:nvPr/>
          </p:nvGrpSpPr>
          <p:grpSpPr>
            <a:xfrm>
              <a:off x="1442160" y="2842200"/>
              <a:ext cx="1791720" cy="1352520"/>
              <a:chOff x="1442160" y="2842200"/>
              <a:chExt cx="1791720" cy="1352520"/>
            </a:xfrm>
          </p:grpSpPr>
          <p:sp>
            <p:nvSpPr>
              <p:cNvPr id="665" name="任意多边形 15"/>
              <p:cNvSpPr/>
              <p:nvPr/>
            </p:nvSpPr>
            <p:spPr>
              <a:xfrm flipH="1" flipV="1" rot="14400000">
                <a:off x="2079360" y="2691720"/>
                <a:ext cx="596160" cy="1632240"/>
              </a:xfrm>
              <a:custGeom>
                <a:avLst/>
                <a:gdLst>
                  <a:gd name="textAreaLeft" fmla="*/ 360 w 596160"/>
                  <a:gd name="textAreaRight" fmla="*/ 596880 w 596160"/>
                  <a:gd name="textAreaTop" fmla="*/ 360 h 1632240"/>
                  <a:gd name="textAreaBottom" fmla="*/ 1632960 h 1632240"/>
                </a:gdLst>
                <a:ahLst/>
                <a:rect l="textAreaLeft" t="textAreaTop" r="textAreaRight" b="textAreaBottom"/>
                <a:pathLst>
                  <a:path w="1151016" h="3149501">
                    <a:moveTo>
                      <a:pt x="1151016" y="447245"/>
                    </a:moveTo>
                    <a:lnTo>
                      <a:pt x="1151016" y="3149501"/>
                    </a:lnTo>
                    <a:lnTo>
                      <a:pt x="0" y="3149501"/>
                    </a:lnTo>
                    <a:lnTo>
                      <a:pt x="0" y="447245"/>
                    </a:lnTo>
                    <a:lnTo>
                      <a:pt x="304369" y="447245"/>
                    </a:lnTo>
                    <a:lnTo>
                      <a:pt x="563771" y="0"/>
                    </a:lnTo>
                    <a:lnTo>
                      <a:pt x="823173" y="447245"/>
                    </a:ln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66" name="文本框 6"/>
              <p:cNvSpPr/>
              <p:nvPr/>
            </p:nvSpPr>
            <p:spPr>
              <a:xfrm flipV="1" rot="9000000">
                <a:off x="1461600" y="3305160"/>
                <a:ext cx="16318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颠覆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组合 17"/>
            <p:cNvGrpSpPr/>
            <p:nvPr/>
          </p:nvGrpSpPr>
          <p:grpSpPr>
            <a:xfrm>
              <a:off x="4262400" y="2842200"/>
              <a:ext cx="1792080" cy="1352520"/>
              <a:chOff x="4262400" y="2842200"/>
              <a:chExt cx="1792080" cy="1352520"/>
            </a:xfrm>
          </p:grpSpPr>
          <p:sp>
            <p:nvSpPr>
              <p:cNvPr id="668" name="任意多边形 18"/>
              <p:cNvSpPr/>
              <p:nvPr/>
            </p:nvSpPr>
            <p:spPr>
              <a:xfrm flipH="1" flipV="1" rot="14400000">
                <a:off x="4899960" y="2691720"/>
                <a:ext cx="596160" cy="1632240"/>
              </a:xfrm>
              <a:custGeom>
                <a:avLst/>
                <a:gdLst>
                  <a:gd name="textAreaLeft" fmla="*/ 360 w 596160"/>
                  <a:gd name="textAreaRight" fmla="*/ 596880 w 596160"/>
                  <a:gd name="textAreaTop" fmla="*/ 360 h 1632240"/>
                  <a:gd name="textAreaBottom" fmla="*/ 1632960 h 1632240"/>
                </a:gdLst>
                <a:ahLst/>
                <a:rect l="textAreaLeft" t="textAreaTop" r="textAreaRight" b="textAreaBottom"/>
                <a:pathLst>
                  <a:path w="1151016" h="3149501">
                    <a:moveTo>
                      <a:pt x="1151016" y="447245"/>
                    </a:moveTo>
                    <a:lnTo>
                      <a:pt x="1151016" y="3149501"/>
                    </a:lnTo>
                    <a:lnTo>
                      <a:pt x="0" y="3149501"/>
                    </a:lnTo>
                    <a:lnTo>
                      <a:pt x="0" y="447245"/>
                    </a:lnTo>
                    <a:lnTo>
                      <a:pt x="304369" y="447245"/>
                    </a:lnTo>
                    <a:lnTo>
                      <a:pt x="563771" y="0"/>
                    </a:lnTo>
                    <a:lnTo>
                      <a:pt x="823173" y="447245"/>
                    </a:ln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69" name="文本框 19"/>
              <p:cNvSpPr/>
              <p:nvPr/>
            </p:nvSpPr>
            <p:spPr>
              <a:xfrm flipV="1" rot="9000000">
                <a:off x="4281840" y="3305160"/>
                <a:ext cx="16318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大屏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组合 20"/>
            <p:cNvGrpSpPr/>
            <p:nvPr/>
          </p:nvGrpSpPr>
          <p:grpSpPr>
            <a:xfrm>
              <a:off x="7083000" y="2842200"/>
              <a:ext cx="1792080" cy="1352520"/>
              <a:chOff x="7083000" y="2842200"/>
              <a:chExt cx="1792080" cy="1352520"/>
            </a:xfrm>
          </p:grpSpPr>
          <p:sp>
            <p:nvSpPr>
              <p:cNvPr id="671" name="任意多边形 21"/>
              <p:cNvSpPr/>
              <p:nvPr/>
            </p:nvSpPr>
            <p:spPr>
              <a:xfrm flipH="1" flipV="1" rot="14400000">
                <a:off x="7720560" y="2691720"/>
                <a:ext cx="596160" cy="1632240"/>
              </a:xfrm>
              <a:custGeom>
                <a:avLst/>
                <a:gdLst>
                  <a:gd name="textAreaLeft" fmla="*/ 360 w 596160"/>
                  <a:gd name="textAreaRight" fmla="*/ 596880 w 596160"/>
                  <a:gd name="textAreaTop" fmla="*/ 360 h 1632240"/>
                  <a:gd name="textAreaBottom" fmla="*/ 1632960 h 1632240"/>
                </a:gdLst>
                <a:ahLst/>
                <a:rect l="textAreaLeft" t="textAreaTop" r="textAreaRight" b="textAreaBottom"/>
                <a:pathLst>
                  <a:path w="1151016" h="3149501">
                    <a:moveTo>
                      <a:pt x="1151016" y="447245"/>
                    </a:moveTo>
                    <a:lnTo>
                      <a:pt x="1151016" y="3149501"/>
                    </a:lnTo>
                    <a:lnTo>
                      <a:pt x="0" y="3149501"/>
                    </a:lnTo>
                    <a:lnTo>
                      <a:pt x="0" y="447245"/>
                    </a:lnTo>
                    <a:lnTo>
                      <a:pt x="304369" y="447245"/>
                    </a:lnTo>
                    <a:lnTo>
                      <a:pt x="563771" y="0"/>
                    </a:lnTo>
                    <a:lnTo>
                      <a:pt x="823173" y="447245"/>
                    </a:ln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72" name="文本框 22"/>
              <p:cNvSpPr/>
              <p:nvPr/>
            </p:nvSpPr>
            <p:spPr>
              <a:xfrm flipV="1" rot="9000000">
                <a:off x="7102440" y="3305160"/>
                <a:ext cx="16318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发烧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文本框 1"/>
          <p:cNvSpPr/>
          <p:nvPr/>
        </p:nvSpPr>
        <p:spPr>
          <a:xfrm>
            <a:off x="7874640" y="835200"/>
            <a:ext cx="2579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营销漏斗赚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"/>
          <p:cNvSpPr/>
          <p:nvPr/>
        </p:nvSpPr>
        <p:spPr>
          <a:xfrm>
            <a:off x="6792120" y="4339800"/>
            <a:ext cx="4744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的产品有核心竞争力，做到了极致，你要做的就是用一个足够大的</a:t>
            </a:r>
            <a:r>
              <a:rPr b="1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营销漏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通过各种途径不断地推销自己，把更多的客户筛到自己的“店铺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"/>
          <p:cNvSpPr/>
          <p:nvPr/>
        </p:nvSpPr>
        <p:spPr>
          <a:xfrm>
            <a:off x="856440" y="1599480"/>
            <a:ext cx="6833880" cy="758880"/>
          </a:xfrm>
          <a:custGeom>
            <a:avLst/>
            <a:gdLst>
              <a:gd name="textAreaLeft" fmla="*/ 0 w 6833880"/>
              <a:gd name="textAreaRight" fmla="*/ 6834240 w 6833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834414" h="759379">
                <a:moveTo>
                  <a:pt x="6834414" y="1"/>
                </a:moveTo>
                <a:lnTo>
                  <a:pt x="6264880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6834414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238040" rIns="123804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9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听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任意多边形 14"/>
          <p:cNvSpPr/>
          <p:nvPr/>
        </p:nvSpPr>
        <p:spPr>
          <a:xfrm>
            <a:off x="1425960" y="2359080"/>
            <a:ext cx="5694840" cy="758880"/>
          </a:xfrm>
          <a:custGeom>
            <a:avLst/>
            <a:gdLst>
              <a:gd name="textAreaLeft" fmla="*/ 0 w 5694840"/>
              <a:gd name="textAreaRight" fmla="*/ 5695200 w 56948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5695345" h="759379">
                <a:moveTo>
                  <a:pt x="5695345" y="1"/>
                </a:moveTo>
                <a:lnTo>
                  <a:pt x="5125811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5695345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038600" rIns="103860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6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了解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任意多边形 15"/>
          <p:cNvSpPr/>
          <p:nvPr/>
        </p:nvSpPr>
        <p:spPr>
          <a:xfrm>
            <a:off x="1995480" y="3118320"/>
            <a:ext cx="4555800" cy="758880"/>
          </a:xfrm>
          <a:custGeom>
            <a:avLst/>
            <a:gdLst>
              <a:gd name="textAreaLeft" fmla="*/ 0 w 4555800"/>
              <a:gd name="textAreaRight" fmla="*/ 4556160 w 45558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4556276" h="759379">
                <a:moveTo>
                  <a:pt x="4556276" y="1"/>
                </a:moveTo>
                <a:lnTo>
                  <a:pt x="3986742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4556276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839160" rIns="8391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3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任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任意多边形 16"/>
          <p:cNvSpPr/>
          <p:nvPr/>
        </p:nvSpPr>
        <p:spPr>
          <a:xfrm>
            <a:off x="2565000" y="3877560"/>
            <a:ext cx="3416760" cy="758880"/>
          </a:xfrm>
          <a:custGeom>
            <a:avLst/>
            <a:gdLst>
              <a:gd name="textAreaLeft" fmla="*/ 0 w 3416760"/>
              <a:gd name="textAreaRight" fmla="*/ 3417120 w 341676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3417207" h="759379">
                <a:moveTo>
                  <a:pt x="3417207" y="1"/>
                </a:moveTo>
                <a:lnTo>
                  <a:pt x="2847673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3417207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40080" rIns="64008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1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交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任意多边形 19"/>
          <p:cNvSpPr/>
          <p:nvPr/>
        </p:nvSpPr>
        <p:spPr>
          <a:xfrm>
            <a:off x="3134520" y="4637160"/>
            <a:ext cx="2277720" cy="1518480"/>
          </a:xfrm>
          <a:custGeom>
            <a:avLst/>
            <a:gdLst>
              <a:gd name="textAreaLeft" fmla="*/ 0 w 2277720"/>
              <a:gd name="textAreaRight" fmla="*/ 2278080 w 2277720"/>
              <a:gd name="textAreaTop" fmla="*/ 0 h 1518480"/>
              <a:gd name="textAreaBottom" fmla="*/ 1518840 h 1518480"/>
            </a:gdLst>
            <a:ahLst/>
            <a:rect l="textAreaLeft" t="textAreaTop" r="textAreaRight" b="textAreaBottom"/>
            <a:pathLst>
              <a:path w="2278138" h="1518757">
                <a:moveTo>
                  <a:pt x="0" y="0"/>
                </a:moveTo>
                <a:lnTo>
                  <a:pt x="2278138" y="0"/>
                </a:lnTo>
                <a:lnTo>
                  <a:pt x="1708604" y="759378"/>
                </a:lnTo>
                <a:lnTo>
                  <a:pt x="1708603" y="759378"/>
                </a:lnTo>
                <a:lnTo>
                  <a:pt x="1139069" y="1518757"/>
                </a:lnTo>
                <a:lnTo>
                  <a:pt x="1139068" y="1518757"/>
                </a:lnTo>
                <a:lnTo>
                  <a:pt x="569533" y="759378"/>
                </a:lnTo>
                <a:lnTo>
                  <a:pt x="569534" y="759378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endParaRPr b="0" lang="en-US" sz="33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680" name="任意多边形 20"/>
          <p:cNvSpPr/>
          <p:nvPr/>
        </p:nvSpPr>
        <p:spPr>
          <a:xfrm>
            <a:off x="3186000" y="4751280"/>
            <a:ext cx="2226240" cy="758880"/>
          </a:xfrm>
          <a:custGeom>
            <a:avLst/>
            <a:gdLst>
              <a:gd name="textAreaLeft" fmla="*/ 0 w 2226240"/>
              <a:gd name="textAreaRight" fmla="*/ 2226600 w 22262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3417207" h="759379">
                <a:moveTo>
                  <a:pt x="3417207" y="1"/>
                </a:moveTo>
                <a:lnTo>
                  <a:pt x="2847673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3417207" y="1"/>
                </a:lnTo>
                <a:close/>
              </a:path>
            </a:pathLst>
          </a:custGeom>
          <a:noFill/>
          <a:ln>
            <a:noFill/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40080" rIns="64008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5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推荐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21"/>
          <p:cNvSpPr/>
          <p:nvPr/>
        </p:nvSpPr>
        <p:spPr>
          <a:xfrm>
            <a:off x="856440" y="5509440"/>
            <a:ext cx="2026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营销漏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1"/>
          <p:cNvSpPr/>
          <p:nvPr/>
        </p:nvSpPr>
        <p:spPr>
          <a:xfrm>
            <a:off x="8939160" y="852480"/>
            <a:ext cx="1472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5P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24"/>
          <p:cNvGrpSpPr/>
          <p:nvPr/>
        </p:nvGrpSpPr>
        <p:grpSpPr>
          <a:xfrm>
            <a:off x="1650240" y="1924560"/>
            <a:ext cx="8891280" cy="3919680"/>
            <a:chOff x="1650240" y="1924560"/>
            <a:chExt cx="8891280" cy="3919680"/>
          </a:xfrm>
        </p:grpSpPr>
        <p:grpSp>
          <p:nvGrpSpPr>
            <p:cNvPr id="684" name="组合 5"/>
            <p:cNvGrpSpPr/>
            <p:nvPr/>
          </p:nvGrpSpPr>
          <p:grpSpPr>
            <a:xfrm>
              <a:off x="1650960" y="2590560"/>
              <a:ext cx="8890560" cy="3253680"/>
              <a:chOff x="1650960" y="2590560"/>
              <a:chExt cx="8890560" cy="3253680"/>
            </a:xfrm>
          </p:grpSpPr>
          <p:sp>
            <p:nvSpPr>
              <p:cNvPr id="685" name="L 形 7"/>
              <p:cNvSpPr/>
              <p:nvPr/>
            </p:nvSpPr>
            <p:spPr>
              <a:xfrm rot="5400000">
                <a:off x="1977840" y="405720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任意多边形 9"/>
              <p:cNvSpPr/>
              <p:nvPr/>
            </p:nvSpPr>
            <p:spPr>
              <a:xfrm>
                <a:off x="1812960" y="454716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内心的激情是核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等腰三角形 10"/>
              <p:cNvSpPr/>
              <p:nvPr/>
            </p:nvSpPr>
            <p:spPr>
              <a:xfrm>
                <a:off x="3013920" y="393660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 形 12"/>
              <p:cNvSpPr/>
              <p:nvPr/>
            </p:nvSpPr>
            <p:spPr>
              <a:xfrm rot="5400000">
                <a:off x="3789720" y="360864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任意多边形 13"/>
              <p:cNvSpPr/>
              <p:nvPr/>
            </p:nvSpPr>
            <p:spPr>
              <a:xfrm>
                <a:off x="3625200" y="409860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位要小而明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等腰三角形 14"/>
              <p:cNvSpPr/>
              <p:nvPr/>
            </p:nvSpPr>
            <p:spPr>
              <a:xfrm>
                <a:off x="4826160" y="348804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 形 15"/>
              <p:cNvSpPr/>
              <p:nvPr/>
            </p:nvSpPr>
            <p:spPr>
              <a:xfrm rot="5400000">
                <a:off x="5601960" y="316044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任意多边形 16"/>
              <p:cNvSpPr/>
              <p:nvPr/>
            </p:nvSpPr>
            <p:spPr>
              <a:xfrm>
                <a:off x="5437080" y="365040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自己的核心竞争力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等腰三角形 17"/>
              <p:cNvSpPr/>
              <p:nvPr/>
            </p:nvSpPr>
            <p:spPr>
              <a:xfrm>
                <a:off x="6638040" y="303984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 形 18"/>
              <p:cNvSpPr/>
              <p:nvPr/>
            </p:nvSpPr>
            <p:spPr>
              <a:xfrm rot="5400000">
                <a:off x="7414200" y="271188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任意多边形 19"/>
              <p:cNvSpPr/>
              <p:nvPr/>
            </p:nvSpPr>
            <p:spPr>
              <a:xfrm>
                <a:off x="7249320" y="320184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要学会营销自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等腰三角形 20"/>
              <p:cNvSpPr/>
              <p:nvPr/>
            </p:nvSpPr>
            <p:spPr>
              <a:xfrm>
                <a:off x="8450280" y="259128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 形 21"/>
              <p:cNvSpPr/>
              <p:nvPr/>
            </p:nvSpPr>
            <p:spPr>
              <a:xfrm rot="5400000">
                <a:off x="9226080" y="226332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任意多边形 22"/>
              <p:cNvSpPr/>
              <p:nvPr/>
            </p:nvSpPr>
            <p:spPr>
              <a:xfrm>
                <a:off x="9061560" y="275364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四也要坚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文本框 23"/>
            <p:cNvSpPr/>
            <p:nvPr/>
          </p:nvSpPr>
          <p:spPr>
            <a:xfrm>
              <a:off x="1650240" y="3699720"/>
              <a:ext cx="136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a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文本框 40"/>
            <p:cNvSpPr/>
            <p:nvPr/>
          </p:nvSpPr>
          <p:spPr>
            <a:xfrm>
              <a:off x="3462480" y="3283560"/>
              <a:ext cx="136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文本框 41"/>
            <p:cNvSpPr/>
            <p:nvPr/>
          </p:nvSpPr>
          <p:spPr>
            <a:xfrm>
              <a:off x="5271120" y="2818440"/>
              <a:ext cx="136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文本框 42"/>
            <p:cNvSpPr/>
            <p:nvPr/>
          </p:nvSpPr>
          <p:spPr>
            <a:xfrm>
              <a:off x="7071840" y="2321280"/>
              <a:ext cx="14947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43"/>
            <p:cNvSpPr/>
            <p:nvPr/>
          </p:nvSpPr>
          <p:spPr>
            <a:xfrm>
              <a:off x="8898840" y="1924560"/>
              <a:ext cx="1639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ersist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1"/>
          <p:cNvSpPr/>
          <p:nvPr/>
        </p:nvSpPr>
        <p:spPr>
          <a:xfrm>
            <a:off x="6414480" y="1869840"/>
            <a:ext cx="36572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产品化管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文本框 1"/>
          <p:cNvSpPr/>
          <p:nvPr/>
        </p:nvSpPr>
        <p:spPr>
          <a:xfrm>
            <a:off x="8586720" y="888480"/>
            <a:ext cx="188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TRM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2"/>
          <p:cNvSpPr/>
          <p:nvPr/>
        </p:nvSpPr>
        <p:spPr>
          <a:xfrm>
            <a:off x="5996880" y="2911680"/>
            <a:ext cx="51793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准定位并建立自己的价值金字塔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还要懂得如何管理自己，保证计划的落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11"/>
          <p:cNvGrpSpPr/>
          <p:nvPr/>
        </p:nvGrpSpPr>
        <p:grpSpPr>
          <a:xfrm>
            <a:off x="979920" y="2324160"/>
            <a:ext cx="4331520" cy="3693240"/>
            <a:chOff x="979920" y="2324160"/>
            <a:chExt cx="4331520" cy="3693240"/>
          </a:xfrm>
        </p:grpSpPr>
        <p:sp>
          <p:nvSpPr>
            <p:cNvPr id="709" name="等腰三角形 3"/>
            <p:cNvSpPr/>
            <p:nvPr/>
          </p:nvSpPr>
          <p:spPr>
            <a:xfrm>
              <a:off x="2103840" y="232416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0" name="等腰三角形 4"/>
            <p:cNvSpPr/>
            <p:nvPr/>
          </p:nvSpPr>
          <p:spPr>
            <a:xfrm rot="3580800">
              <a:off x="2359800" y="376272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1" name="等腰三角形 5"/>
            <p:cNvSpPr/>
            <p:nvPr/>
          </p:nvSpPr>
          <p:spPr>
            <a:xfrm>
              <a:off x="979920" y="420984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2" name="等腰三角形 6"/>
            <p:cNvSpPr/>
            <p:nvPr/>
          </p:nvSpPr>
          <p:spPr>
            <a:xfrm>
              <a:off x="3227760" y="422100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3" name="文本框 7"/>
            <p:cNvSpPr/>
            <p:nvPr/>
          </p:nvSpPr>
          <p:spPr>
            <a:xfrm>
              <a:off x="2395440" y="3125160"/>
              <a:ext cx="1500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8"/>
            <p:cNvSpPr/>
            <p:nvPr/>
          </p:nvSpPr>
          <p:spPr>
            <a:xfrm>
              <a:off x="1175040" y="5029200"/>
              <a:ext cx="16934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心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文本框 9"/>
            <p:cNvSpPr/>
            <p:nvPr/>
          </p:nvSpPr>
          <p:spPr>
            <a:xfrm>
              <a:off x="3680640" y="5033160"/>
              <a:ext cx="11732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10"/>
            <p:cNvSpPr/>
            <p:nvPr/>
          </p:nvSpPr>
          <p:spPr>
            <a:xfrm>
              <a:off x="2716920" y="4430520"/>
              <a:ext cx="857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文本框 12"/>
          <p:cNvSpPr/>
          <p:nvPr/>
        </p:nvSpPr>
        <p:spPr>
          <a:xfrm>
            <a:off x="979920" y="1355400"/>
            <a:ext cx="404892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管理的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RM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8" name="直接连接符 14"/>
          <p:cNvCxnSpPr/>
          <p:nvPr/>
        </p:nvCxnSpPr>
        <p:spPr>
          <a:xfrm>
            <a:off x="6031440" y="4430520"/>
            <a:ext cx="514548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文本框 1"/>
          <p:cNvSpPr/>
          <p:nvPr/>
        </p:nvSpPr>
        <p:spPr>
          <a:xfrm>
            <a:off x="8502480" y="873360"/>
            <a:ext cx="193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项目管理</a:t>
            </a: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33"/>
          <p:cNvGrpSpPr/>
          <p:nvPr/>
        </p:nvGrpSpPr>
        <p:grpSpPr>
          <a:xfrm>
            <a:off x="720720" y="873360"/>
            <a:ext cx="6630840" cy="4935960"/>
            <a:chOff x="720720" y="873360"/>
            <a:chExt cx="6630840" cy="4935960"/>
          </a:xfrm>
        </p:grpSpPr>
        <p:sp>
          <p:nvSpPr>
            <p:cNvPr id="721" name="文本框 2"/>
            <p:cNvSpPr/>
            <p:nvPr/>
          </p:nvSpPr>
          <p:spPr>
            <a:xfrm>
              <a:off x="720720" y="873360"/>
              <a:ext cx="6630840" cy="38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WBS(</a:t>
              </a:r>
              <a:r>
                <a:rPr b="1" lang="zh-CN" sz="2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工作分解结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ork Breakdown 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是将任务有序地分解到不能再分，分解到可以由特定人去执行的一种方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你分解的必须是工作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work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）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被分解的任务必须围绕目的来进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分解（</a:t>
              </a:r>
              <a:r>
                <a:rPr b="1" lang="en-US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breakdown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）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分解的目的是要具备可操作性，分解要到不能再分为止，分解之后的若干小任务，都是你实现自己目标的具体手段与途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结构化（</a:t>
              </a:r>
              <a:r>
                <a:rPr b="1" lang="en-US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structure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）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工作分解必须是结构化的，也就是要有层次，并且有编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组合 3"/>
            <p:cNvGrpSpPr/>
            <p:nvPr/>
          </p:nvGrpSpPr>
          <p:grpSpPr>
            <a:xfrm>
              <a:off x="866160" y="2880720"/>
              <a:ext cx="353520" cy="394560"/>
              <a:chOff x="866160" y="2880720"/>
              <a:chExt cx="353520" cy="394560"/>
            </a:xfrm>
          </p:grpSpPr>
          <p:sp>
            <p:nvSpPr>
              <p:cNvPr id="723" name="椭圆 4"/>
              <p:cNvSpPr/>
              <p:nvPr/>
            </p:nvSpPr>
            <p:spPr>
              <a:xfrm>
                <a:off x="866160" y="288432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24" name="文本框 5"/>
              <p:cNvSpPr/>
              <p:nvPr/>
            </p:nvSpPr>
            <p:spPr>
              <a:xfrm>
                <a:off x="870480" y="288072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组合 6"/>
            <p:cNvGrpSpPr/>
            <p:nvPr/>
          </p:nvGrpSpPr>
          <p:grpSpPr>
            <a:xfrm>
              <a:off x="833400" y="3959640"/>
              <a:ext cx="353520" cy="394560"/>
              <a:chOff x="833400" y="3959640"/>
              <a:chExt cx="353520" cy="394560"/>
            </a:xfrm>
          </p:grpSpPr>
          <p:sp>
            <p:nvSpPr>
              <p:cNvPr id="726" name="椭圆 7"/>
              <p:cNvSpPr/>
              <p:nvPr/>
            </p:nvSpPr>
            <p:spPr>
              <a:xfrm>
                <a:off x="833400" y="395964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27" name="文本框 8"/>
              <p:cNvSpPr/>
              <p:nvPr/>
            </p:nvSpPr>
            <p:spPr>
              <a:xfrm>
                <a:off x="840600" y="395964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组合 9"/>
            <p:cNvGrpSpPr/>
            <p:nvPr/>
          </p:nvGrpSpPr>
          <p:grpSpPr>
            <a:xfrm>
              <a:off x="817560" y="5414760"/>
              <a:ext cx="353520" cy="394560"/>
              <a:chOff x="817560" y="5414760"/>
              <a:chExt cx="353520" cy="394560"/>
            </a:xfrm>
          </p:grpSpPr>
          <p:sp>
            <p:nvSpPr>
              <p:cNvPr id="729" name="椭圆 10"/>
              <p:cNvSpPr/>
              <p:nvPr/>
            </p:nvSpPr>
            <p:spPr>
              <a:xfrm>
                <a:off x="817560" y="543168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30" name="文本框 11"/>
              <p:cNvSpPr/>
              <p:nvPr/>
            </p:nvSpPr>
            <p:spPr>
              <a:xfrm>
                <a:off x="826200" y="541476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组合 13"/>
          <p:cNvGrpSpPr/>
          <p:nvPr/>
        </p:nvGrpSpPr>
        <p:grpSpPr>
          <a:xfrm>
            <a:off x="7829280" y="2685960"/>
            <a:ext cx="3284280" cy="2394720"/>
            <a:chOff x="7829280" y="2685960"/>
            <a:chExt cx="3284280" cy="2394720"/>
          </a:xfrm>
        </p:grpSpPr>
        <p:sp>
          <p:nvSpPr>
            <p:cNvPr id="732" name="任意多边形 14"/>
            <p:cNvSpPr/>
            <p:nvPr/>
          </p:nvSpPr>
          <p:spPr>
            <a:xfrm>
              <a:off x="10514520" y="4128120"/>
              <a:ext cx="69120" cy="268200"/>
            </a:xfrm>
            <a:custGeom>
              <a:avLst/>
              <a:gdLst/>
              <a:ahLst/>
              <a:rect l="l" t="t" r="r" b="b"/>
              <a:pathLst>
                <a:path w="91440" h="353294">
                  <a:moveTo>
                    <a:pt x="45720" y="0"/>
                  </a:moveTo>
                  <a:lnTo>
                    <a:pt x="45720" y="353294"/>
                  </a:lnTo>
                </a:path>
              </a:pathLst>
            </a:custGeom>
            <a:noFill/>
            <a:ln>
              <a:solidFill>
                <a:srgbClr val="528cc1"/>
              </a:solidFill>
            </a:ln>
          </p:spPr>
          <p:style>
            <a:lnRef idx="2">
              <a:schemeClr val="accent1">
                <a:shade val="8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15"/>
            <p:cNvSpPr/>
            <p:nvPr/>
          </p:nvSpPr>
          <p:spPr>
            <a:xfrm>
              <a:off x="9702360" y="3272760"/>
              <a:ext cx="846360" cy="268200"/>
            </a:xfrm>
            <a:custGeom>
              <a:avLst/>
              <a:gdLst/>
              <a:ahLst/>
              <a:rect l="l" t="t" r="r" b="b"/>
              <a:pathLst>
                <a:path w="1113535" h="353294">
                  <a:moveTo>
                    <a:pt x="0" y="0"/>
                  </a:moveTo>
                  <a:lnTo>
                    <a:pt x="0" y="240759"/>
                  </a:lnTo>
                  <a:lnTo>
                    <a:pt x="1113535" y="240759"/>
                  </a:lnTo>
                  <a:lnTo>
                    <a:pt x="1113535" y="353294"/>
                  </a:lnTo>
                </a:path>
              </a:pathLst>
            </a:custGeom>
            <a:noFill/>
            <a:ln>
              <a:solidFill>
                <a:srgbClr val="487caa"/>
              </a:solidFill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任意多边形 16"/>
            <p:cNvSpPr/>
            <p:nvPr/>
          </p:nvSpPr>
          <p:spPr>
            <a:xfrm>
              <a:off x="8855640" y="4128120"/>
              <a:ext cx="564120" cy="268200"/>
            </a:xfrm>
            <a:custGeom>
              <a:avLst/>
              <a:gdLst/>
              <a:ahLst/>
              <a:rect l="l" t="t" r="r" b="b"/>
              <a:pathLst>
                <a:path w="742357" h="353294">
                  <a:moveTo>
                    <a:pt x="0" y="0"/>
                  </a:moveTo>
                  <a:lnTo>
                    <a:pt x="0" y="240759"/>
                  </a:lnTo>
                  <a:lnTo>
                    <a:pt x="742357" y="240759"/>
                  </a:lnTo>
                  <a:lnTo>
                    <a:pt x="742357" y="353294"/>
                  </a:lnTo>
                </a:path>
              </a:pathLst>
            </a:custGeom>
            <a:noFill/>
            <a:ln>
              <a:solidFill>
                <a:srgbClr val="528cc1"/>
              </a:solidFill>
            </a:ln>
          </p:spPr>
          <p:style>
            <a:lnRef idx="2">
              <a:schemeClr val="accent1">
                <a:shade val="8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17"/>
            <p:cNvSpPr/>
            <p:nvPr/>
          </p:nvSpPr>
          <p:spPr>
            <a:xfrm>
              <a:off x="8291160" y="4128120"/>
              <a:ext cx="564120" cy="268200"/>
            </a:xfrm>
            <a:custGeom>
              <a:avLst/>
              <a:gdLst/>
              <a:ahLst/>
              <a:rect l="l" t="t" r="r" b="b"/>
              <a:pathLst>
                <a:path w="742357" h="353294">
                  <a:moveTo>
                    <a:pt x="742357" y="0"/>
                  </a:moveTo>
                  <a:lnTo>
                    <a:pt x="742357" y="240759"/>
                  </a:lnTo>
                  <a:lnTo>
                    <a:pt x="0" y="240759"/>
                  </a:lnTo>
                  <a:lnTo>
                    <a:pt x="0" y="353294"/>
                  </a:lnTo>
                </a:path>
              </a:pathLst>
            </a:custGeom>
            <a:noFill/>
            <a:ln>
              <a:solidFill>
                <a:srgbClr val="528cc1"/>
              </a:solidFill>
            </a:ln>
          </p:spPr>
          <p:style>
            <a:lnRef idx="2">
              <a:schemeClr val="accent1">
                <a:shade val="8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18"/>
            <p:cNvSpPr/>
            <p:nvPr/>
          </p:nvSpPr>
          <p:spPr>
            <a:xfrm>
              <a:off x="8855640" y="3272760"/>
              <a:ext cx="846360" cy="268200"/>
            </a:xfrm>
            <a:custGeom>
              <a:avLst/>
              <a:gdLst/>
              <a:ahLst/>
              <a:rect l="l" t="t" r="r" b="b"/>
              <a:pathLst>
                <a:path w="1113535" h="353294">
                  <a:moveTo>
                    <a:pt x="1113535" y="0"/>
                  </a:moveTo>
                  <a:lnTo>
                    <a:pt x="1113535" y="240759"/>
                  </a:lnTo>
                  <a:lnTo>
                    <a:pt x="0" y="240759"/>
                  </a:lnTo>
                  <a:lnTo>
                    <a:pt x="0" y="353294"/>
                  </a:lnTo>
                </a:path>
              </a:pathLst>
            </a:custGeom>
            <a:noFill/>
            <a:ln>
              <a:solidFill>
                <a:srgbClr val="487caa"/>
              </a:solidFill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圆角矩形 19"/>
            <p:cNvSpPr/>
            <p:nvPr/>
          </p:nvSpPr>
          <p:spPr>
            <a:xfrm>
              <a:off x="9240480" y="268596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任意多边形 20"/>
            <p:cNvSpPr/>
            <p:nvPr/>
          </p:nvSpPr>
          <p:spPr>
            <a:xfrm>
              <a:off x="9343080" y="278352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39" name="圆角矩形 21"/>
            <p:cNvSpPr/>
            <p:nvPr/>
          </p:nvSpPr>
          <p:spPr>
            <a:xfrm>
              <a:off x="8393760" y="354132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任意多边形 22"/>
            <p:cNvSpPr/>
            <p:nvPr/>
          </p:nvSpPr>
          <p:spPr>
            <a:xfrm>
              <a:off x="8496360" y="363888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1" name="圆角矩形 23"/>
            <p:cNvSpPr/>
            <p:nvPr/>
          </p:nvSpPr>
          <p:spPr>
            <a:xfrm>
              <a:off x="7829280" y="439668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任意多边形 24"/>
            <p:cNvSpPr/>
            <p:nvPr/>
          </p:nvSpPr>
          <p:spPr>
            <a:xfrm>
              <a:off x="7931880" y="449424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3" name="圆角矩形 25"/>
            <p:cNvSpPr/>
            <p:nvPr/>
          </p:nvSpPr>
          <p:spPr>
            <a:xfrm>
              <a:off x="8958240" y="439668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任意多边形 26"/>
            <p:cNvSpPr/>
            <p:nvPr/>
          </p:nvSpPr>
          <p:spPr>
            <a:xfrm>
              <a:off x="9060840" y="449424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5" name="圆角矩形 27"/>
            <p:cNvSpPr/>
            <p:nvPr/>
          </p:nvSpPr>
          <p:spPr>
            <a:xfrm>
              <a:off x="10087560" y="354132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任意多边形 28"/>
            <p:cNvSpPr/>
            <p:nvPr/>
          </p:nvSpPr>
          <p:spPr>
            <a:xfrm>
              <a:off x="10190160" y="363888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7" name="圆角矩形 29"/>
            <p:cNvSpPr/>
            <p:nvPr/>
          </p:nvSpPr>
          <p:spPr>
            <a:xfrm>
              <a:off x="10087560" y="439668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任意多边形 30"/>
            <p:cNvSpPr/>
            <p:nvPr/>
          </p:nvSpPr>
          <p:spPr>
            <a:xfrm>
              <a:off x="10190160" y="449424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文本框 1"/>
          <p:cNvSpPr/>
          <p:nvPr/>
        </p:nvSpPr>
        <p:spPr>
          <a:xfrm>
            <a:off x="8809560" y="840600"/>
            <a:ext cx="1637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时间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4"/>
          <p:cNvGrpSpPr/>
          <p:nvPr/>
        </p:nvGrpSpPr>
        <p:grpSpPr>
          <a:xfrm>
            <a:off x="7086600" y="2684520"/>
            <a:ext cx="4614480" cy="2869200"/>
            <a:chOff x="7086600" y="2684520"/>
            <a:chExt cx="4614480" cy="2869200"/>
          </a:xfrm>
        </p:grpSpPr>
        <p:cxnSp>
          <p:nvCxnSpPr>
            <p:cNvPr id="751" name="直接箭头连接符 4"/>
            <p:cNvCxnSpPr/>
            <p:nvPr/>
          </p:nvCxnSpPr>
          <p:spPr>
            <a:xfrm>
              <a:off x="7388640" y="4407480"/>
              <a:ext cx="3070800" cy="36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cxnSp>
          <p:nvCxnSpPr>
            <p:cNvPr id="752" name="直接箭头连接符 6"/>
            <p:cNvCxnSpPr/>
            <p:nvPr/>
          </p:nvCxnSpPr>
          <p:spPr>
            <a:xfrm flipV="1">
              <a:off x="8848800" y="3056400"/>
              <a:ext cx="360" cy="249768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sp>
          <p:nvSpPr>
            <p:cNvPr id="753" name="文本框 7"/>
            <p:cNvSpPr/>
            <p:nvPr/>
          </p:nvSpPr>
          <p:spPr>
            <a:xfrm>
              <a:off x="10459440" y="4222800"/>
              <a:ext cx="124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迫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文本框 8"/>
            <p:cNvSpPr/>
            <p:nvPr/>
          </p:nvSpPr>
          <p:spPr>
            <a:xfrm>
              <a:off x="8371440" y="2684520"/>
              <a:ext cx="955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文本框 9"/>
            <p:cNvSpPr/>
            <p:nvPr/>
          </p:nvSpPr>
          <p:spPr>
            <a:xfrm>
              <a:off x="8992440" y="3679200"/>
              <a:ext cx="153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且紧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文本框 10"/>
            <p:cNvSpPr/>
            <p:nvPr/>
          </p:nvSpPr>
          <p:spPr>
            <a:xfrm>
              <a:off x="8992440" y="4592160"/>
              <a:ext cx="153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急不重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11"/>
            <p:cNvSpPr/>
            <p:nvPr/>
          </p:nvSpPr>
          <p:spPr>
            <a:xfrm>
              <a:off x="7086600" y="4611600"/>
              <a:ext cx="1715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紧急不重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文本框 12"/>
            <p:cNvSpPr/>
            <p:nvPr/>
          </p:nvSpPr>
          <p:spPr>
            <a:xfrm>
              <a:off x="7388640" y="3676320"/>
              <a:ext cx="153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不紧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文本框 15"/>
          <p:cNvSpPr/>
          <p:nvPr/>
        </p:nvSpPr>
        <p:spPr>
          <a:xfrm>
            <a:off x="1522080" y="3022560"/>
            <a:ext cx="498096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且紧急的事第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重要不紧急的事最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务越高越要重视重要但不紧急的事，把紧急不重要的事交给下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组合 13"/>
          <p:cNvGrpSpPr/>
          <p:nvPr/>
        </p:nvGrpSpPr>
        <p:grpSpPr>
          <a:xfrm>
            <a:off x="1209240" y="3022560"/>
            <a:ext cx="353520" cy="394560"/>
            <a:chOff x="1209240" y="3022560"/>
            <a:chExt cx="353520" cy="394560"/>
          </a:xfrm>
        </p:grpSpPr>
        <p:sp>
          <p:nvSpPr>
            <p:cNvPr id="761" name="椭圆 16"/>
            <p:cNvSpPr/>
            <p:nvPr/>
          </p:nvSpPr>
          <p:spPr>
            <a:xfrm>
              <a:off x="1209240" y="302616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62" name="文本框 17"/>
            <p:cNvSpPr/>
            <p:nvPr/>
          </p:nvSpPr>
          <p:spPr>
            <a:xfrm>
              <a:off x="1213560" y="302256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18"/>
          <p:cNvGrpSpPr/>
          <p:nvPr/>
        </p:nvGrpSpPr>
        <p:grpSpPr>
          <a:xfrm>
            <a:off x="1201680" y="3634920"/>
            <a:ext cx="353520" cy="394560"/>
            <a:chOff x="1201680" y="3634920"/>
            <a:chExt cx="353520" cy="394560"/>
          </a:xfrm>
        </p:grpSpPr>
        <p:sp>
          <p:nvSpPr>
            <p:cNvPr id="764" name="椭圆 19"/>
            <p:cNvSpPr/>
            <p:nvPr/>
          </p:nvSpPr>
          <p:spPr>
            <a:xfrm>
              <a:off x="1201680" y="363492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65" name="文本框 20"/>
            <p:cNvSpPr/>
            <p:nvPr/>
          </p:nvSpPr>
          <p:spPr>
            <a:xfrm>
              <a:off x="1208880" y="363492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1185120" y="4329720"/>
            <a:ext cx="353520" cy="394560"/>
            <a:chOff x="1185120" y="4329720"/>
            <a:chExt cx="353520" cy="394560"/>
          </a:xfrm>
        </p:grpSpPr>
        <p:sp>
          <p:nvSpPr>
            <p:cNvPr id="767" name="椭圆 22"/>
            <p:cNvSpPr/>
            <p:nvPr/>
          </p:nvSpPr>
          <p:spPr>
            <a:xfrm>
              <a:off x="1185120" y="43470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68" name="文本框 23"/>
            <p:cNvSpPr/>
            <p:nvPr/>
          </p:nvSpPr>
          <p:spPr>
            <a:xfrm>
              <a:off x="1193400" y="432972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文本框 26"/>
          <p:cNvSpPr/>
          <p:nvPr/>
        </p:nvSpPr>
        <p:spPr>
          <a:xfrm>
            <a:off x="979920" y="1355400"/>
            <a:ext cx="365688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艾维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李时间管理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组合 5"/>
          <p:cNvGrpSpPr/>
          <p:nvPr/>
        </p:nvGrpSpPr>
        <p:grpSpPr>
          <a:xfrm>
            <a:off x="2113200" y="1678680"/>
            <a:ext cx="7965360" cy="3500280"/>
            <a:chOff x="2113200" y="1678680"/>
            <a:chExt cx="7965360" cy="3500280"/>
          </a:xfrm>
        </p:grpSpPr>
        <p:pic>
          <p:nvPicPr>
            <p:cNvPr id="348" name="图片 2" descr=""/>
            <p:cNvPicPr/>
            <p:nvPr/>
          </p:nvPicPr>
          <p:blipFill>
            <a:blip r:embed="rId1"/>
            <a:stretch/>
          </p:blipFill>
          <p:spPr>
            <a:xfrm>
              <a:off x="7597080" y="1678680"/>
              <a:ext cx="2481480" cy="35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9" name="组合 4"/>
            <p:cNvGrpSpPr/>
            <p:nvPr/>
          </p:nvGrpSpPr>
          <p:grpSpPr>
            <a:xfrm>
              <a:off x="2113200" y="1678680"/>
              <a:ext cx="5483880" cy="3484440"/>
              <a:chOff x="2113200" y="1678680"/>
              <a:chExt cx="5483880" cy="3484440"/>
            </a:xfrm>
          </p:grpSpPr>
          <p:sp>
            <p:nvSpPr>
              <p:cNvPr id="350" name="文本框 1"/>
              <p:cNvSpPr/>
              <p:nvPr/>
            </p:nvSpPr>
            <p:spPr>
              <a:xfrm>
                <a:off x="2113200" y="3732840"/>
                <a:ext cx="5483880" cy="14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8800" spc="-1" strike="noStrike">
                    <a:solidFill>
                      <a:srgbClr val="044e7f"/>
                    </a:solidFill>
                    <a:latin typeface="华康俪金黑W8(P)"/>
                    <a:ea typeface="华康俪金黑W8(P)"/>
                  </a:rPr>
                  <a:t>它能帮你！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矩形 3"/>
              <p:cNvSpPr/>
              <p:nvPr/>
            </p:nvSpPr>
            <p:spPr>
              <a:xfrm>
                <a:off x="2113200" y="1678680"/>
                <a:ext cx="5483880" cy="22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摆脱现状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找准你的定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发现你的“价值金字塔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把你自己打造成“顶尖产品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让你能够在激烈的竞争中脱颖而出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文本框 3"/>
          <p:cNvSpPr/>
          <p:nvPr/>
        </p:nvSpPr>
        <p:spPr>
          <a:xfrm>
            <a:off x="8809560" y="840600"/>
            <a:ext cx="1637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时间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"/>
          <p:cNvSpPr/>
          <p:nvPr/>
        </p:nvSpPr>
        <p:spPr>
          <a:xfrm>
            <a:off x="1755720" y="4956480"/>
            <a:ext cx="3860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空你大脑的内存，把所有要做的事情分门别类，存放到一个逻辑性强而又可靠的系统里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组合 4"/>
          <p:cNvGrpSpPr/>
          <p:nvPr/>
        </p:nvGrpSpPr>
        <p:grpSpPr>
          <a:xfrm>
            <a:off x="1442520" y="5070960"/>
            <a:ext cx="353520" cy="394560"/>
            <a:chOff x="1442520" y="5070960"/>
            <a:chExt cx="353520" cy="394560"/>
          </a:xfrm>
        </p:grpSpPr>
        <p:sp>
          <p:nvSpPr>
            <p:cNvPr id="773" name="椭圆 5"/>
            <p:cNvSpPr/>
            <p:nvPr/>
          </p:nvSpPr>
          <p:spPr>
            <a:xfrm>
              <a:off x="1442520" y="50742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74" name="文本框 6"/>
            <p:cNvSpPr/>
            <p:nvPr/>
          </p:nvSpPr>
          <p:spPr>
            <a:xfrm>
              <a:off x="1446840" y="507096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7"/>
          <p:cNvGrpSpPr/>
          <p:nvPr/>
        </p:nvGrpSpPr>
        <p:grpSpPr>
          <a:xfrm>
            <a:off x="6678360" y="5072400"/>
            <a:ext cx="353520" cy="394560"/>
            <a:chOff x="6678360" y="5072400"/>
            <a:chExt cx="353520" cy="394560"/>
          </a:xfrm>
        </p:grpSpPr>
        <p:sp>
          <p:nvSpPr>
            <p:cNvPr id="776" name="椭圆 8"/>
            <p:cNvSpPr/>
            <p:nvPr/>
          </p:nvSpPr>
          <p:spPr>
            <a:xfrm>
              <a:off x="6678360" y="50724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77" name="文本框 9"/>
            <p:cNvSpPr/>
            <p:nvPr/>
          </p:nvSpPr>
          <p:spPr>
            <a:xfrm>
              <a:off x="6685560" y="507240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图片 27" descr=""/>
          <p:cNvPicPr/>
          <p:nvPr/>
        </p:nvPicPr>
        <p:blipFill>
          <a:blip r:embed="rId1"/>
          <a:stretch/>
        </p:blipFill>
        <p:spPr>
          <a:xfrm>
            <a:off x="2808720" y="2325240"/>
            <a:ext cx="1597680" cy="2334600"/>
          </a:xfrm>
          <a:prstGeom prst="rect">
            <a:avLst/>
          </a:prstGeom>
          <a:ln w="0">
            <a:noFill/>
          </a:ln>
        </p:spPr>
      </p:pic>
      <p:sp>
        <p:nvSpPr>
          <p:cNvPr id="779" name="文本框 29"/>
          <p:cNvSpPr/>
          <p:nvPr/>
        </p:nvSpPr>
        <p:spPr>
          <a:xfrm>
            <a:off x="979920" y="1355400"/>
            <a:ext cx="365688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TD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右箭头 30"/>
          <p:cNvSpPr/>
          <p:nvPr/>
        </p:nvSpPr>
        <p:spPr>
          <a:xfrm>
            <a:off x="5600880" y="3233160"/>
            <a:ext cx="1077480" cy="603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781" name="云形标注 31"/>
          <p:cNvSpPr/>
          <p:nvPr/>
        </p:nvSpPr>
        <p:spPr>
          <a:xfrm>
            <a:off x="7429680" y="2533680"/>
            <a:ext cx="2495880" cy="1671840"/>
          </a:xfrm>
          <a:prstGeom prst="cloudCallout">
            <a:avLst>
              <a:gd name="adj1" fmla="val -44643"/>
              <a:gd name="adj2" fmla="val 58946"/>
            </a:avLst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What’s nex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矩形 32"/>
          <p:cNvSpPr/>
          <p:nvPr/>
        </p:nvSpPr>
        <p:spPr>
          <a:xfrm>
            <a:off x="7035120" y="4956480"/>
            <a:ext cx="354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任务和项目具体分解为行动，不管什么任务、项目，要问的都是，下一个动作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1"/>
          <p:cNvSpPr/>
          <p:nvPr/>
        </p:nvSpPr>
        <p:spPr>
          <a:xfrm>
            <a:off x="7915680" y="846000"/>
            <a:ext cx="2524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自我能量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组合 16"/>
          <p:cNvGrpSpPr/>
          <p:nvPr/>
        </p:nvGrpSpPr>
        <p:grpSpPr>
          <a:xfrm>
            <a:off x="2841480" y="4970880"/>
            <a:ext cx="6036480" cy="1435680"/>
            <a:chOff x="2841480" y="4970880"/>
            <a:chExt cx="6036480" cy="1435680"/>
          </a:xfrm>
        </p:grpSpPr>
        <p:sp>
          <p:nvSpPr>
            <p:cNvPr id="785" name="圆角矩形标注 15"/>
            <p:cNvSpPr/>
            <p:nvPr/>
          </p:nvSpPr>
          <p:spPr>
            <a:xfrm flipH="1" flipV="1">
              <a:off x="2841480" y="5006160"/>
              <a:ext cx="6036480" cy="1400400"/>
            </a:xfrm>
            <a:prstGeom prst="wedgeRoundRectCallout">
              <a:avLst>
                <a:gd name="adj1" fmla="val -23094"/>
                <a:gd name="adj2" fmla="val 82961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86" name="文本框 2"/>
            <p:cNvSpPr/>
            <p:nvPr/>
          </p:nvSpPr>
          <p:spPr>
            <a:xfrm>
              <a:off x="3338280" y="4970880"/>
              <a:ext cx="50428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业中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低潮时学会调节，放松心态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;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攻坚时调动好自己和团队的能量潮；冲锋过后休息和调整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12"/>
          <p:cNvGrpSpPr/>
          <p:nvPr/>
        </p:nvGrpSpPr>
        <p:grpSpPr>
          <a:xfrm>
            <a:off x="1689120" y="2249640"/>
            <a:ext cx="8396280" cy="4626000"/>
            <a:chOff x="1689120" y="2249640"/>
            <a:chExt cx="8396280" cy="4626000"/>
          </a:xfrm>
        </p:grpSpPr>
        <p:grpSp>
          <p:nvGrpSpPr>
            <p:cNvPr id="788" name="组合 5"/>
            <p:cNvGrpSpPr/>
            <p:nvPr/>
          </p:nvGrpSpPr>
          <p:grpSpPr>
            <a:xfrm>
              <a:off x="1689120" y="2249640"/>
              <a:ext cx="7488720" cy="4290120"/>
              <a:chOff x="1689120" y="2249640"/>
              <a:chExt cx="7488720" cy="4290120"/>
            </a:xfrm>
          </p:grpSpPr>
          <p:cxnSp>
            <p:nvCxnSpPr>
              <p:cNvPr id="789" name="直接箭头连接符 3"/>
              <p:cNvCxnSpPr/>
              <p:nvPr/>
            </p:nvCxnSpPr>
            <p:spPr>
              <a:xfrm flipH="1" flipV="1">
                <a:off x="2265120" y="2249640"/>
                <a:ext cx="14400" cy="429048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arrow" w="med"/>
              </a:ln>
            </p:spPr>
          </p:cxnSp>
          <p:cxnSp>
            <p:nvCxnSpPr>
              <p:cNvPr id="790" name="直接箭头连接符 4"/>
              <p:cNvCxnSpPr/>
              <p:nvPr/>
            </p:nvCxnSpPr>
            <p:spPr>
              <a:xfrm>
                <a:off x="1689120" y="5128920"/>
                <a:ext cx="74890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arrow" w="med"/>
              </a:ln>
            </p:spPr>
          </p:cxnSp>
        </p:grpSp>
        <p:sp>
          <p:nvSpPr>
            <p:cNvPr id="791" name="文本框 7"/>
            <p:cNvSpPr/>
            <p:nvPr/>
          </p:nvSpPr>
          <p:spPr>
            <a:xfrm>
              <a:off x="9021240" y="5523120"/>
              <a:ext cx="1064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文本框 8"/>
            <p:cNvSpPr/>
            <p:nvPr/>
          </p:nvSpPr>
          <p:spPr>
            <a:xfrm>
              <a:off x="2129760" y="6481080"/>
              <a:ext cx="1064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精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9"/>
            <p:cNvSpPr/>
            <p:nvPr/>
          </p:nvSpPr>
          <p:spPr>
            <a:xfrm>
              <a:off x="2279160" y="2711520"/>
              <a:ext cx="6632280" cy="3357000"/>
            </a:xfrm>
            <a:custGeom>
              <a:avLst/>
              <a:gdLst>
                <a:gd name="textAreaLeft" fmla="*/ 0 w 6632280"/>
                <a:gd name="textAreaRight" fmla="*/ 6632640 w 6632280"/>
                <a:gd name="textAreaTop" fmla="*/ 0 h 3357000"/>
                <a:gd name="textAreaBottom" fmla="*/ 3357360 h 3357000"/>
              </a:gdLst>
              <a:ahLst/>
              <a:rect l="textAreaLeft" t="textAreaTop" r="textAreaRight" b="textAreaBottom"/>
              <a:pathLst>
                <a:path w="6632812" h="3357349">
                  <a:moveTo>
                    <a:pt x="0" y="3357349"/>
                  </a:moveTo>
                  <a:lnTo>
                    <a:pt x="1719618" y="1214650"/>
                  </a:lnTo>
                  <a:lnTo>
                    <a:pt x="2006221" y="1419367"/>
                  </a:lnTo>
                  <a:lnTo>
                    <a:pt x="2961564" y="0"/>
                  </a:lnTo>
                  <a:lnTo>
                    <a:pt x="3534770" y="1296537"/>
                  </a:lnTo>
                  <a:lnTo>
                    <a:pt x="4135272" y="395785"/>
                  </a:lnTo>
                  <a:lnTo>
                    <a:pt x="4899546" y="1637731"/>
                  </a:lnTo>
                  <a:lnTo>
                    <a:pt x="5622878" y="846161"/>
                  </a:lnTo>
                  <a:lnTo>
                    <a:pt x="6632812" y="3138985"/>
                  </a:lnTo>
                </a:path>
              </a:pathLst>
            </a:cu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94" name="文本框 10"/>
            <p:cNvSpPr/>
            <p:nvPr/>
          </p:nvSpPr>
          <p:spPr>
            <a:xfrm>
              <a:off x="1689120" y="5229720"/>
              <a:ext cx="575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圆角矩形标注 14"/>
          <p:cNvSpPr/>
          <p:nvPr/>
        </p:nvSpPr>
        <p:spPr>
          <a:xfrm flipH="1">
            <a:off x="1459080" y="900360"/>
            <a:ext cx="6036480" cy="1400400"/>
          </a:xfrm>
          <a:prstGeom prst="wedgeRoundRectCallout">
            <a:avLst>
              <a:gd name="adj1" fmla="val -12921"/>
              <a:gd name="adj2" fmla="val 75166"/>
              <a:gd name="adj3" fmla="val 16667"/>
            </a:avLst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796" name="矩形 11"/>
          <p:cNvSpPr/>
          <p:nvPr/>
        </p:nvSpPr>
        <p:spPr>
          <a:xfrm>
            <a:off x="1429560" y="907920"/>
            <a:ext cx="609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天中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在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力最旺盛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时候，安排最重要或者最需要思考的工作，在自己精力不太好的时候，做一些执行层面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椭圆 13"/>
          <p:cNvSpPr/>
          <p:nvPr/>
        </p:nvSpPr>
        <p:spPr>
          <a:xfrm>
            <a:off x="2920320" y="2292840"/>
            <a:ext cx="3755880" cy="3755880"/>
          </a:xfrm>
          <a:prstGeom prst="ellipse">
            <a:avLst/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你本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有价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椭圆 14"/>
          <p:cNvSpPr/>
          <p:nvPr/>
        </p:nvSpPr>
        <p:spPr>
          <a:xfrm>
            <a:off x="6120720" y="2292840"/>
            <a:ext cx="3755880" cy="3755880"/>
          </a:xfrm>
          <a:prstGeom prst="ellipse">
            <a:avLst/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你真心对人好，不求回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文本框 1"/>
          <p:cNvSpPr/>
          <p:nvPr/>
        </p:nvSpPr>
        <p:spPr>
          <a:xfrm>
            <a:off x="8106840" y="846000"/>
            <a:ext cx="231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人际关系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9"/>
          <p:cNvSpPr/>
          <p:nvPr/>
        </p:nvSpPr>
        <p:spPr>
          <a:xfrm>
            <a:off x="979920" y="1355400"/>
            <a:ext cx="458784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积累人际关系资源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任意多边形 12"/>
          <p:cNvSpPr/>
          <p:nvPr/>
        </p:nvSpPr>
        <p:spPr>
          <a:xfrm>
            <a:off x="6120720" y="3191400"/>
            <a:ext cx="555480" cy="1958400"/>
          </a:xfrm>
          <a:custGeom>
            <a:avLst/>
            <a:gdLst>
              <a:gd name="textAreaLeft" fmla="*/ 0 w 555480"/>
              <a:gd name="textAreaRight" fmla="*/ 555840 w 555480"/>
              <a:gd name="textAreaTop" fmla="*/ 0 h 1958400"/>
              <a:gd name="textAreaBottom" fmla="*/ 1958760 h 1958400"/>
            </a:gdLst>
            <a:ahLst/>
            <a:rect l="textAreaLeft" t="textAreaTop" r="textAreaRight" b="textAreaBottom"/>
            <a:pathLst>
              <a:path w="555666" h="1958863">
                <a:moveTo>
                  <a:pt x="277833" y="0"/>
                </a:moveTo>
                <a:lnTo>
                  <a:pt x="328985" y="84197"/>
                </a:lnTo>
                <a:cubicBezTo>
                  <a:pt x="473550" y="350317"/>
                  <a:pt x="555666" y="655285"/>
                  <a:pt x="555666" y="979431"/>
                </a:cubicBezTo>
                <a:cubicBezTo>
                  <a:pt x="555666" y="1303578"/>
                  <a:pt x="473550" y="1608545"/>
                  <a:pt x="328985" y="1874665"/>
                </a:cubicBezTo>
                <a:lnTo>
                  <a:pt x="277833" y="1958863"/>
                </a:lnTo>
                <a:lnTo>
                  <a:pt x="226682" y="1874665"/>
                </a:lnTo>
                <a:cubicBezTo>
                  <a:pt x="82117" y="1608545"/>
                  <a:pt x="0" y="1303578"/>
                  <a:pt x="0" y="979431"/>
                </a:cubicBezTo>
                <a:cubicBezTo>
                  <a:pt x="0" y="655285"/>
                  <a:pt x="82117" y="350317"/>
                  <a:pt x="226682" y="84197"/>
                </a:cubicBezTo>
                <a:close/>
              </a:path>
            </a:pathLst>
          </a:cu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3" descr=""/>
          <p:cNvPicPr/>
          <p:nvPr/>
        </p:nvPicPr>
        <p:blipFill>
          <a:blip r:embed="rId1"/>
          <a:srcRect l="2955" t="3415" r="3318" b="5673"/>
          <a:stretch/>
        </p:blipFill>
        <p:spPr>
          <a:xfrm>
            <a:off x="7110360" y="2213640"/>
            <a:ext cx="4313520" cy="4239000"/>
          </a:xfrm>
          <a:prstGeom prst="rect">
            <a:avLst/>
          </a:prstGeom>
          <a:ln w="0">
            <a:noFill/>
          </a:ln>
        </p:spPr>
      </p:pic>
      <p:sp>
        <p:nvSpPr>
          <p:cNvPr id="803" name="文本框 1"/>
          <p:cNvSpPr/>
          <p:nvPr/>
        </p:nvSpPr>
        <p:spPr>
          <a:xfrm>
            <a:off x="854280" y="1121400"/>
            <a:ext cx="6256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1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对自己狠一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出心理的舒适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2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慎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一个人独处的时候，你能不能管理好自己，能不能严格要求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3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克服拖延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心中所爱，立刻去行动，坚持下去并养成良好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4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培养专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每次集中精力一个小时开始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5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学会整理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理分配好自己的时间与工作可以把压力分解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6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提高你的逆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-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2"/>
          <p:cNvSpPr/>
          <p:nvPr/>
        </p:nvSpPr>
        <p:spPr>
          <a:xfrm>
            <a:off x="9137880" y="85968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心智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559080" y="640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07" name="文本框 1"/>
          <p:cNvSpPr/>
          <p:nvPr/>
        </p:nvSpPr>
        <p:spPr>
          <a:xfrm>
            <a:off x="4708440" y="1842480"/>
            <a:ext cx="5335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慢慢来，一切都还来得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8"/>
          <p:cNvGrpSpPr/>
          <p:nvPr/>
        </p:nvGrpSpPr>
        <p:grpSpPr>
          <a:xfrm>
            <a:off x="1166400" y="0"/>
            <a:ext cx="910080" cy="6857640"/>
            <a:chOff x="1166400" y="0"/>
            <a:chExt cx="910080" cy="6857640"/>
          </a:xfrm>
        </p:grpSpPr>
        <p:sp>
          <p:nvSpPr>
            <p:cNvPr id="353" name="矩形 16"/>
            <p:cNvSpPr/>
            <p:nvPr/>
          </p:nvSpPr>
          <p:spPr>
            <a:xfrm>
              <a:off x="1166400" y="0"/>
              <a:ext cx="759240" cy="6857640"/>
            </a:xfrm>
            <a:prstGeom prst="rect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4" name="矩形 17"/>
            <p:cNvSpPr/>
            <p:nvPr/>
          </p:nvSpPr>
          <p:spPr>
            <a:xfrm>
              <a:off x="1985400" y="0"/>
              <a:ext cx="91080" cy="6857640"/>
            </a:xfrm>
            <a:prstGeom prst="rect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55" name="文本框 19"/>
          <p:cNvSpPr/>
          <p:nvPr/>
        </p:nvSpPr>
        <p:spPr>
          <a:xfrm>
            <a:off x="127080" y="0"/>
            <a:ext cx="8035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44e7f"/>
                </a:solidFill>
                <a:latin typeface="华康俪金黑W8(P)"/>
                <a:ea typeface="华康俪金黑W8(P)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9"/>
          <p:cNvSpPr/>
          <p:nvPr/>
        </p:nvSpPr>
        <p:spPr>
          <a:xfrm>
            <a:off x="7165800" y="1218600"/>
            <a:ext cx="13906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找到钟爱一生的事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矩形 40"/>
          <p:cNvSpPr/>
          <p:nvPr/>
        </p:nvSpPr>
        <p:spPr>
          <a:xfrm>
            <a:off x="5885640" y="2209320"/>
            <a:ext cx="395100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你自己的价值金字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矩形 41"/>
          <p:cNvSpPr/>
          <p:nvPr/>
        </p:nvSpPr>
        <p:spPr>
          <a:xfrm>
            <a:off x="5323320" y="3200040"/>
            <a:ext cx="23050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化生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矩形 43"/>
          <p:cNvSpPr/>
          <p:nvPr/>
        </p:nvSpPr>
        <p:spPr>
          <a:xfrm rot="21597600">
            <a:off x="5323320" y="4190760"/>
            <a:ext cx="23050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化管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矩形 45"/>
          <p:cNvSpPr/>
          <p:nvPr/>
        </p:nvSpPr>
        <p:spPr>
          <a:xfrm>
            <a:off x="7165800" y="5181480"/>
            <a:ext cx="13906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慢慢来，一切都还来得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直角三角形 4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62" name="组合 3"/>
          <p:cNvGrpSpPr/>
          <p:nvPr/>
        </p:nvGrpSpPr>
        <p:grpSpPr>
          <a:xfrm>
            <a:off x="4831200" y="1868040"/>
            <a:ext cx="5581800" cy="1461240"/>
            <a:chOff x="4831200" y="1868040"/>
            <a:chExt cx="5581800" cy="1461240"/>
          </a:xfrm>
        </p:grpSpPr>
        <p:sp>
          <p:nvSpPr>
            <p:cNvPr id="363" name="文本框 1"/>
            <p:cNvSpPr/>
            <p:nvPr/>
          </p:nvSpPr>
          <p:spPr>
            <a:xfrm>
              <a:off x="4831200" y="1868040"/>
              <a:ext cx="522684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如何找到钟爱一生的事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2"/>
            <p:cNvSpPr/>
            <p:nvPr/>
          </p:nvSpPr>
          <p:spPr>
            <a:xfrm>
              <a:off x="10058400" y="2019960"/>
              <a:ext cx="354600" cy="1200600"/>
            </a:xfrm>
            <a:prstGeom prst="rect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文本框 1"/>
          <p:cNvSpPr/>
          <p:nvPr/>
        </p:nvSpPr>
        <p:spPr>
          <a:xfrm>
            <a:off x="6742080" y="832680"/>
            <a:ext cx="3711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47" descr=""/>
          <p:cNvPicPr/>
          <p:nvPr/>
        </p:nvPicPr>
        <p:blipFill>
          <a:blip r:embed="rId1"/>
          <a:srcRect l="7921" t="13594" r="52963" b="5573"/>
          <a:stretch/>
        </p:blipFill>
        <p:spPr>
          <a:xfrm>
            <a:off x="150480" y="1660680"/>
            <a:ext cx="3725640" cy="5158440"/>
          </a:xfrm>
          <a:prstGeom prst="rect">
            <a:avLst/>
          </a:prstGeom>
          <a:ln w="0">
            <a:noFill/>
          </a:ln>
        </p:spPr>
      </p:pic>
      <p:sp>
        <p:nvSpPr>
          <p:cNvPr id="367" name="文本框 52"/>
          <p:cNvSpPr/>
          <p:nvPr/>
        </p:nvSpPr>
        <p:spPr>
          <a:xfrm>
            <a:off x="3876120" y="4582440"/>
            <a:ext cx="7487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人的职业生涯中，最困难的是做选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1" lang="zh-CN" sz="4000" spc="-1" strike="noStrike">
                <a:solidFill>
                  <a:srgbClr val="044e7f"/>
                </a:solidFill>
                <a:latin typeface="微软雅黑"/>
                <a:ea typeface="微软雅黑"/>
              </a:rPr>
              <a:t>生涯平衡单让你远离选择恐惧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1"/>
          <p:cNvGrpSpPr/>
          <p:nvPr/>
        </p:nvGrpSpPr>
        <p:grpSpPr>
          <a:xfrm>
            <a:off x="1773360" y="884160"/>
            <a:ext cx="1351800" cy="921960"/>
            <a:chOff x="1773360" y="884160"/>
            <a:chExt cx="1351800" cy="921960"/>
          </a:xfrm>
        </p:grpSpPr>
        <p:pic>
          <p:nvPicPr>
            <p:cNvPr id="369" name="图片 6" descr=""/>
            <p:cNvPicPr/>
            <p:nvPr/>
          </p:nvPicPr>
          <p:blipFill>
            <a:blip r:embed="rId2"/>
            <a:srcRect l="29794" t="6527" r="0" b="0"/>
            <a:stretch/>
          </p:blipFill>
          <p:spPr>
            <a:xfrm>
              <a:off x="1773360" y="884160"/>
              <a:ext cx="1351800" cy="9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文本框 8"/>
            <p:cNvSpPr/>
            <p:nvPr/>
          </p:nvSpPr>
          <p:spPr>
            <a:xfrm>
              <a:off x="1986120" y="1114560"/>
              <a:ext cx="1077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留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10"/>
          <p:cNvGrpSpPr/>
          <p:nvPr/>
        </p:nvGrpSpPr>
        <p:grpSpPr>
          <a:xfrm>
            <a:off x="3415680" y="1222200"/>
            <a:ext cx="1802520" cy="1229760"/>
            <a:chOff x="3415680" y="1222200"/>
            <a:chExt cx="1802520" cy="1229760"/>
          </a:xfrm>
        </p:grpSpPr>
        <p:pic>
          <p:nvPicPr>
            <p:cNvPr id="372" name="图片 53" descr=""/>
            <p:cNvPicPr/>
            <p:nvPr/>
          </p:nvPicPr>
          <p:blipFill>
            <a:blip r:embed="rId3"/>
            <a:srcRect l="29794" t="6527" r="0" b="0"/>
            <a:stretch/>
          </p:blipFill>
          <p:spPr>
            <a:xfrm>
              <a:off x="3415680" y="1222200"/>
              <a:ext cx="1802520" cy="12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文本框 55"/>
            <p:cNvSpPr/>
            <p:nvPr/>
          </p:nvSpPr>
          <p:spPr>
            <a:xfrm>
              <a:off x="3753000" y="1551600"/>
              <a:ext cx="1077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行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9"/>
          <p:cNvGrpSpPr/>
          <p:nvPr/>
        </p:nvGrpSpPr>
        <p:grpSpPr>
          <a:xfrm>
            <a:off x="4758480" y="2452320"/>
            <a:ext cx="2454840" cy="1674720"/>
            <a:chOff x="4758480" y="2452320"/>
            <a:chExt cx="2454840" cy="1674720"/>
          </a:xfrm>
        </p:grpSpPr>
        <p:pic>
          <p:nvPicPr>
            <p:cNvPr id="375" name="图片 54" descr=""/>
            <p:cNvPicPr/>
            <p:nvPr/>
          </p:nvPicPr>
          <p:blipFill>
            <a:blip r:embed="rId4"/>
            <a:srcRect l="29794" t="6527" r="0" b="0"/>
            <a:stretch/>
          </p:blipFill>
          <p:spPr>
            <a:xfrm>
              <a:off x="4758480" y="2452320"/>
              <a:ext cx="245484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56"/>
            <p:cNvSpPr/>
            <p:nvPr/>
          </p:nvSpPr>
          <p:spPr>
            <a:xfrm>
              <a:off x="5256720" y="2907360"/>
              <a:ext cx="1458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业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2"/>
          <p:cNvSpPr/>
          <p:nvPr/>
        </p:nvSpPr>
        <p:spPr>
          <a:xfrm>
            <a:off x="4149000" y="5875920"/>
            <a:ext cx="7129080" cy="9108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4"/>
          <p:cNvSpPr/>
          <p:nvPr/>
        </p:nvSpPr>
        <p:spPr>
          <a:xfrm>
            <a:off x="1797840" y="1361520"/>
            <a:ext cx="261936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涯平衡单的四个维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矩形 2"/>
          <p:cNvSpPr/>
          <p:nvPr/>
        </p:nvSpPr>
        <p:spPr>
          <a:xfrm>
            <a:off x="7963200" y="8208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44"/>
          <p:cNvGrpSpPr/>
          <p:nvPr/>
        </p:nvGrpSpPr>
        <p:grpSpPr>
          <a:xfrm>
            <a:off x="1812960" y="1841400"/>
            <a:ext cx="8231400" cy="4884840"/>
            <a:chOff x="1812960" y="1841400"/>
            <a:chExt cx="8231400" cy="4884840"/>
          </a:xfrm>
        </p:grpSpPr>
        <p:cxnSp>
          <p:nvCxnSpPr>
            <p:cNvPr id="381" name="直接箭头连接符 7"/>
            <p:cNvCxnSpPr/>
            <p:nvPr/>
          </p:nvCxnSpPr>
          <p:spPr>
            <a:xfrm>
              <a:off x="2262240" y="4253760"/>
              <a:ext cx="7418880" cy="36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cxnSp>
          <p:nvCxnSpPr>
            <p:cNvPr id="382" name="直接箭头连接符 9"/>
            <p:cNvCxnSpPr/>
            <p:nvPr/>
          </p:nvCxnSpPr>
          <p:spPr>
            <a:xfrm flipV="1">
              <a:off x="6007320" y="1966680"/>
              <a:ext cx="360" cy="438624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sp>
          <p:nvSpPr>
            <p:cNvPr id="383" name="文本框 12"/>
            <p:cNvSpPr/>
            <p:nvPr/>
          </p:nvSpPr>
          <p:spPr>
            <a:xfrm>
              <a:off x="6007320" y="184140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物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33"/>
            <p:cNvSpPr/>
            <p:nvPr/>
          </p:nvSpPr>
          <p:spPr>
            <a:xfrm>
              <a:off x="5971680" y="627084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精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34"/>
            <p:cNvSpPr/>
            <p:nvPr/>
          </p:nvSpPr>
          <p:spPr>
            <a:xfrm>
              <a:off x="1812960" y="428616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自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35"/>
            <p:cNvSpPr/>
            <p:nvPr/>
          </p:nvSpPr>
          <p:spPr>
            <a:xfrm>
              <a:off x="9145800" y="432072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他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4"/>
            <p:cNvSpPr/>
            <p:nvPr/>
          </p:nvSpPr>
          <p:spPr>
            <a:xfrm>
              <a:off x="3171240" y="2466360"/>
              <a:ext cx="2601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自我物质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收入多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的难易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5"/>
            <p:cNvSpPr/>
            <p:nvPr/>
          </p:nvSpPr>
          <p:spPr>
            <a:xfrm>
              <a:off x="6250680" y="2466360"/>
              <a:ext cx="2583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他人物质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家庭经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家庭地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6"/>
            <p:cNvSpPr/>
            <p:nvPr/>
          </p:nvSpPr>
          <p:spPr>
            <a:xfrm>
              <a:off x="3171240" y="4408920"/>
              <a:ext cx="2592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自我精神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活方式的改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实现的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17"/>
            <p:cNvSpPr/>
            <p:nvPr/>
          </p:nvSpPr>
          <p:spPr>
            <a:xfrm>
              <a:off x="6250680" y="4407120"/>
              <a:ext cx="2583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他人精神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父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配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9"/>
            <p:cNvSpPr/>
            <p:nvPr/>
          </p:nvSpPr>
          <p:spPr>
            <a:xfrm>
              <a:off x="2937240" y="23407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2" name="矩形 40"/>
            <p:cNvSpPr/>
            <p:nvPr/>
          </p:nvSpPr>
          <p:spPr>
            <a:xfrm>
              <a:off x="6007320" y="23407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3" name="矩形 41"/>
            <p:cNvSpPr/>
            <p:nvPr/>
          </p:nvSpPr>
          <p:spPr>
            <a:xfrm>
              <a:off x="6007320" y="42541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4" name="矩形 42"/>
            <p:cNvSpPr/>
            <p:nvPr/>
          </p:nvSpPr>
          <p:spPr>
            <a:xfrm>
              <a:off x="2937240" y="42559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1"/>
          <p:cNvSpPr/>
          <p:nvPr/>
        </p:nvSpPr>
        <p:spPr>
          <a:xfrm>
            <a:off x="7396560" y="861840"/>
            <a:ext cx="3771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2"/>
          <p:cNvGrpSpPr/>
          <p:nvPr/>
        </p:nvGrpSpPr>
        <p:grpSpPr>
          <a:xfrm>
            <a:off x="1493640" y="2103480"/>
            <a:ext cx="8854920" cy="3554640"/>
            <a:chOff x="1493640" y="2103480"/>
            <a:chExt cx="8854920" cy="3554640"/>
          </a:xfrm>
        </p:grpSpPr>
        <p:grpSp>
          <p:nvGrpSpPr>
            <p:cNvPr id="397" name="组合 3"/>
            <p:cNvGrpSpPr/>
            <p:nvPr/>
          </p:nvGrpSpPr>
          <p:grpSpPr>
            <a:xfrm>
              <a:off x="1493640" y="2103480"/>
              <a:ext cx="8854920" cy="3554640"/>
              <a:chOff x="1493640" y="2103480"/>
              <a:chExt cx="8854920" cy="3554640"/>
            </a:xfrm>
          </p:grpSpPr>
          <p:sp>
            <p:nvSpPr>
              <p:cNvPr id="398" name="椭圆 2"/>
              <p:cNvSpPr/>
              <p:nvPr/>
            </p:nvSpPr>
            <p:spPr>
              <a:xfrm>
                <a:off x="5706360" y="2822400"/>
                <a:ext cx="738000" cy="1456560"/>
              </a:xfrm>
              <a:prstGeom prst="ellipse">
                <a:avLst/>
              </a:prstGeom>
              <a:noFill/>
              <a:ln w="38100"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399" name="椭圆 5"/>
              <p:cNvSpPr/>
              <p:nvPr/>
            </p:nvSpPr>
            <p:spPr>
              <a:xfrm rot="3154200">
                <a:off x="5295240" y="3426120"/>
                <a:ext cx="738000" cy="1456560"/>
              </a:xfrm>
              <a:prstGeom prst="ellipse">
                <a:avLst/>
              </a:prstGeom>
              <a:noFill/>
              <a:ln w="38100"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00" name="椭圆 6"/>
              <p:cNvSpPr/>
              <p:nvPr/>
            </p:nvSpPr>
            <p:spPr>
              <a:xfrm rot="18720600">
                <a:off x="6075000" y="3433680"/>
                <a:ext cx="738000" cy="1456560"/>
              </a:xfrm>
              <a:prstGeom prst="ellipse">
                <a:avLst/>
              </a:prstGeom>
              <a:noFill/>
              <a:ln w="38100"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cxnSp>
            <p:nvCxnSpPr>
              <p:cNvPr id="401" name="直接连接符 8"/>
              <p:cNvCxnSpPr/>
              <p:nvPr/>
            </p:nvCxnSpPr>
            <p:spPr>
              <a:xfrm flipH="1">
                <a:off x="5886720" y="3550680"/>
                <a:ext cx="189000" cy="4608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02" name="直接连接符 9"/>
              <p:cNvCxnSpPr/>
              <p:nvPr/>
            </p:nvCxnSpPr>
            <p:spPr>
              <a:xfrm flipH="1">
                <a:off x="5937120" y="3689640"/>
                <a:ext cx="186120" cy="4539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03" name="直接连接符 10"/>
              <p:cNvCxnSpPr/>
              <p:nvPr/>
            </p:nvCxnSpPr>
            <p:spPr>
              <a:xfrm flipH="1">
                <a:off x="6032160" y="3711960"/>
                <a:ext cx="210960" cy="5295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04" name="直接箭头连接符 20"/>
              <p:cNvCxnSpPr/>
              <p:nvPr/>
            </p:nvCxnSpPr>
            <p:spPr>
              <a:xfrm flipV="1">
                <a:off x="6438240" y="2693160"/>
                <a:ext cx="998640" cy="2394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cxnSp>
            <p:nvCxnSpPr>
              <p:cNvPr id="405" name="直接箭头连接符 23"/>
              <p:cNvCxnSpPr/>
              <p:nvPr/>
            </p:nvCxnSpPr>
            <p:spPr>
              <a:xfrm>
                <a:off x="7129080" y="4610880"/>
                <a:ext cx="669600" cy="4809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cxnSp>
            <p:nvCxnSpPr>
              <p:cNvPr id="406" name="直接箭头连接符 28"/>
              <p:cNvCxnSpPr/>
              <p:nvPr/>
            </p:nvCxnSpPr>
            <p:spPr>
              <a:xfrm flipH="1" flipV="1">
                <a:off x="4628880" y="3466080"/>
                <a:ext cx="1331640" cy="27504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sp>
            <p:nvSpPr>
              <p:cNvPr id="407" name="文本框 31"/>
              <p:cNvSpPr/>
              <p:nvPr/>
            </p:nvSpPr>
            <p:spPr>
              <a:xfrm>
                <a:off x="7606080" y="2103480"/>
                <a:ext cx="2169360" cy="9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雄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你有多大的野心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文本框 32"/>
              <p:cNvSpPr/>
              <p:nvPr/>
            </p:nvSpPr>
            <p:spPr>
              <a:xfrm>
                <a:off x="7910280" y="4714920"/>
                <a:ext cx="2438280" cy="9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天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你天生擅长做什么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文本框 33"/>
              <p:cNvSpPr/>
              <p:nvPr/>
            </p:nvSpPr>
            <p:spPr>
              <a:xfrm>
                <a:off x="1843200" y="4714920"/>
                <a:ext cx="2356200" cy="9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金钱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你做什么可以赚钱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文本框 34"/>
              <p:cNvSpPr/>
              <p:nvPr/>
            </p:nvSpPr>
            <p:spPr>
              <a:xfrm rot="4200">
                <a:off x="1493640" y="2990520"/>
                <a:ext cx="29530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就是你的理想职业，就是你的“</a:t>
                </a:r>
                <a:r>
                  <a:rPr b="1" lang="zh-CN" sz="18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自动提款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”哦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1" name="直接箭头连接符 24"/>
              <p:cNvCxnSpPr/>
              <p:nvPr/>
            </p:nvCxnSpPr>
            <p:spPr>
              <a:xfrm flipH="1">
                <a:off x="4276800" y="4610880"/>
                <a:ext cx="669600" cy="4809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</p:grpSp>
        <p:sp>
          <p:nvSpPr>
            <p:cNvPr id="412" name="文本框 4"/>
            <p:cNvSpPr/>
            <p:nvPr/>
          </p:nvSpPr>
          <p:spPr>
            <a:xfrm>
              <a:off x="5907240" y="3110040"/>
              <a:ext cx="355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9"/>
            <p:cNvSpPr/>
            <p:nvPr/>
          </p:nvSpPr>
          <p:spPr>
            <a:xfrm>
              <a:off x="6465960" y="4086360"/>
              <a:ext cx="355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21"/>
            <p:cNvSpPr/>
            <p:nvPr/>
          </p:nvSpPr>
          <p:spPr>
            <a:xfrm>
              <a:off x="5360040" y="4086360"/>
              <a:ext cx="355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29"/>
          <p:cNvSpPr/>
          <p:nvPr/>
        </p:nvSpPr>
        <p:spPr>
          <a:xfrm>
            <a:off x="1492200" y="1361520"/>
            <a:ext cx="295596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定位的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M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59080" y="640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文本框 1"/>
          <p:cNvSpPr/>
          <p:nvPr/>
        </p:nvSpPr>
        <p:spPr>
          <a:xfrm>
            <a:off x="963720" y="2767320"/>
            <a:ext cx="449748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访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职业岗位的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实际工作情况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相关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职业领域的信息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你是否真的对该工作感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兴趣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上是一次间接、快速的职业体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"/>
          <p:cNvSpPr/>
          <p:nvPr/>
        </p:nvSpPr>
        <p:spPr>
          <a:xfrm>
            <a:off x="7382880" y="851040"/>
            <a:ext cx="3771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6"/>
          <p:cNvSpPr/>
          <p:nvPr/>
        </p:nvSpPr>
        <p:spPr>
          <a:xfrm>
            <a:off x="1298520" y="1361520"/>
            <a:ext cx="115632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访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组合 26"/>
          <p:cNvGrpSpPr/>
          <p:nvPr/>
        </p:nvGrpSpPr>
        <p:grpSpPr>
          <a:xfrm>
            <a:off x="6109560" y="2767320"/>
            <a:ext cx="5044320" cy="3417120"/>
            <a:chOff x="6109560" y="2767320"/>
            <a:chExt cx="5044320" cy="3417120"/>
          </a:xfrm>
        </p:grpSpPr>
        <p:sp>
          <p:nvSpPr>
            <p:cNvPr id="421" name="椭圆形标注 7"/>
            <p:cNvSpPr/>
            <p:nvPr/>
          </p:nvSpPr>
          <p:spPr>
            <a:xfrm flipH="1">
              <a:off x="6109200" y="3352680"/>
              <a:ext cx="1676520" cy="11232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行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信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形标注 8"/>
            <p:cNvSpPr/>
            <p:nvPr/>
          </p:nvSpPr>
          <p:spPr>
            <a:xfrm>
              <a:off x="7835760" y="2767320"/>
              <a:ext cx="1591920" cy="1066680"/>
            </a:xfrm>
            <a:prstGeom prst="wedgeEllipseCallout">
              <a:avLst>
                <a:gd name="adj1" fmla="val -1833"/>
                <a:gd name="adj2" fmla="val 68473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位内部信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椭圆形标注 9"/>
            <p:cNvSpPr/>
            <p:nvPr/>
          </p:nvSpPr>
          <p:spPr>
            <a:xfrm>
              <a:off x="9428400" y="3431880"/>
              <a:ext cx="1725480" cy="115596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职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信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组合 25"/>
            <p:cNvGrpSpPr/>
            <p:nvPr/>
          </p:nvGrpSpPr>
          <p:grpSpPr>
            <a:xfrm>
              <a:off x="7020000" y="4642200"/>
              <a:ext cx="3065760" cy="1542240"/>
              <a:chOff x="7020000" y="4642200"/>
              <a:chExt cx="3065760" cy="1542240"/>
            </a:xfrm>
          </p:grpSpPr>
          <p:sp>
            <p:nvSpPr>
              <p:cNvPr id="425" name="任意多边形 24"/>
              <p:cNvSpPr/>
              <p:nvPr/>
            </p:nvSpPr>
            <p:spPr>
              <a:xfrm>
                <a:off x="7850520" y="5162040"/>
                <a:ext cx="1405440" cy="1022400"/>
              </a:xfrm>
              <a:custGeom>
                <a:avLst/>
                <a:gdLst>
                  <a:gd name="textAreaLeft" fmla="*/ 0 w 1405440"/>
                  <a:gd name="textAreaRight" fmla="*/ 1405800 w 1405440"/>
                  <a:gd name="textAreaTop" fmla="*/ 0 h 1022400"/>
                  <a:gd name="textAreaBottom" fmla="*/ 1022760 h 1022400"/>
                </a:gdLst>
                <a:ahLst/>
                <a:rect l="textAreaLeft" t="textAreaTop" r="textAreaRight" b="textAreaBottom"/>
                <a:pathLst>
                  <a:path w="1484985" h="1080368">
                    <a:moveTo>
                      <a:pt x="656743" y="0"/>
                    </a:moveTo>
                    <a:lnTo>
                      <a:pt x="843253" y="0"/>
                    </a:lnTo>
                    <a:cubicBezTo>
                      <a:pt x="869005" y="0"/>
                      <a:pt x="889882" y="20877"/>
                      <a:pt x="889882" y="46629"/>
                    </a:cubicBezTo>
                    <a:lnTo>
                      <a:pt x="889882" y="782569"/>
                    </a:lnTo>
                    <a:lnTo>
                      <a:pt x="890885" y="782582"/>
                    </a:lnTo>
                    <a:cubicBezTo>
                      <a:pt x="1228753" y="791051"/>
                      <a:pt x="1482911" y="827673"/>
                      <a:pt x="1482911" y="871568"/>
                    </a:cubicBezTo>
                    <a:lnTo>
                      <a:pt x="1479084" y="876219"/>
                    </a:lnTo>
                    <a:lnTo>
                      <a:pt x="1484985" y="877835"/>
                    </a:lnTo>
                    <a:cubicBezTo>
                      <a:pt x="1484985" y="918819"/>
                      <a:pt x="1484985" y="959803"/>
                      <a:pt x="1484985" y="1000788"/>
                    </a:cubicBezTo>
                    <a:lnTo>
                      <a:pt x="1470357" y="1004792"/>
                    </a:lnTo>
                    <a:lnTo>
                      <a:pt x="1467847" y="1007842"/>
                    </a:lnTo>
                    <a:cubicBezTo>
                      <a:pt x="1398710" y="1049233"/>
                      <a:pt x="1099764" y="1080368"/>
                      <a:pt x="741456" y="1080368"/>
                    </a:cubicBezTo>
                    <a:cubicBezTo>
                      <a:pt x="383148" y="1080368"/>
                      <a:pt x="84202" y="1049233"/>
                      <a:pt x="15064" y="1007842"/>
                    </a:cubicBezTo>
                    <a:lnTo>
                      <a:pt x="11952" y="1004060"/>
                    </a:lnTo>
                    <a:lnTo>
                      <a:pt x="0" y="1000788"/>
                    </a:lnTo>
                    <a:lnTo>
                      <a:pt x="0" y="877835"/>
                    </a:lnTo>
                    <a:lnTo>
                      <a:pt x="0" y="877835"/>
                    </a:lnTo>
                    <a:lnTo>
                      <a:pt x="4209" y="876683"/>
                    </a:lnTo>
                    <a:lnTo>
                      <a:pt x="0" y="871568"/>
                    </a:lnTo>
                    <a:cubicBezTo>
                      <a:pt x="0" y="827673"/>
                      <a:pt x="254158" y="791051"/>
                      <a:pt x="592027" y="782582"/>
                    </a:cubicBezTo>
                    <a:lnTo>
                      <a:pt x="610114" y="782358"/>
                    </a:lnTo>
                    <a:lnTo>
                      <a:pt x="610114" y="46629"/>
                    </a:lnTo>
                    <a:cubicBezTo>
                      <a:pt x="610114" y="20877"/>
                      <a:pt x="630991" y="0"/>
                      <a:pt x="656743" y="0"/>
                    </a:cubicBez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43729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426" name="组合 16"/>
              <p:cNvGrpSpPr/>
              <p:nvPr/>
            </p:nvGrpSpPr>
            <p:grpSpPr>
              <a:xfrm>
                <a:off x="7020000" y="4642200"/>
                <a:ext cx="3065760" cy="814320"/>
                <a:chOff x="7020000" y="4642200"/>
                <a:chExt cx="3065760" cy="814320"/>
              </a:xfrm>
            </p:grpSpPr>
            <p:sp>
              <p:nvSpPr>
                <p:cNvPr id="427" name="任意多边形 15"/>
                <p:cNvSpPr/>
                <p:nvPr/>
              </p:nvSpPr>
              <p:spPr>
                <a:xfrm>
                  <a:off x="7020000" y="4850640"/>
                  <a:ext cx="3065760" cy="605880"/>
                </a:xfrm>
                <a:custGeom>
                  <a:avLst/>
                  <a:gdLst>
                    <a:gd name="textAreaLeft" fmla="*/ 0 w 3065760"/>
                    <a:gd name="textAreaRight" fmla="*/ 3066120 w 3065760"/>
                    <a:gd name="textAreaTop" fmla="*/ 0 h 605880"/>
                    <a:gd name="textAreaBottom" fmla="*/ 606240 h 605880"/>
                  </a:gdLst>
                  <a:ahLst/>
                  <a:rect l="textAreaLeft" t="textAreaTop" r="textAreaRight" b="textAreaBottom"/>
                  <a:pathLst>
                    <a:path w="3239045" h="640559">
                      <a:moveTo>
                        <a:pt x="1619522" y="0"/>
                      </a:moveTo>
                      <a:lnTo>
                        <a:pt x="1619523" y="0"/>
                      </a:lnTo>
                      <a:cubicBezTo>
                        <a:pt x="2513960" y="0"/>
                        <a:pt x="3239045" y="26351"/>
                        <a:pt x="3239045" y="58856"/>
                      </a:cubicBezTo>
                      <a:cubicBezTo>
                        <a:pt x="3239045" y="176568"/>
                        <a:pt x="3239044" y="294281"/>
                        <a:pt x="3239044" y="411993"/>
                      </a:cubicBezTo>
                      <a:lnTo>
                        <a:pt x="3207138" y="423495"/>
                      </a:lnTo>
                      <a:lnTo>
                        <a:pt x="3201664" y="432255"/>
                      </a:lnTo>
                      <a:cubicBezTo>
                        <a:pt x="3050861" y="551134"/>
                        <a:pt x="2398801" y="640559"/>
                        <a:pt x="1617261" y="640559"/>
                      </a:cubicBezTo>
                      <a:cubicBezTo>
                        <a:pt x="835722" y="640559"/>
                        <a:pt x="183662" y="551134"/>
                        <a:pt x="32858" y="432255"/>
                      </a:cubicBezTo>
                      <a:lnTo>
                        <a:pt x="26069" y="421391"/>
                      </a:lnTo>
                      <a:lnTo>
                        <a:pt x="0" y="411993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0" y="58856"/>
                      </a:lnTo>
                      <a:cubicBezTo>
                        <a:pt x="0" y="26351"/>
                        <a:pt x="725085" y="0"/>
                        <a:pt x="1619522" y="0"/>
                      </a:cubicBezTo>
                      <a:close/>
                    </a:path>
                  </a:pathLst>
                </a:custGeom>
                <a:solidFill>
                  <a:srgbClr val="044e7f"/>
                </a:solidFill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8" name="椭圆 10"/>
                <p:cNvSpPr/>
                <p:nvPr/>
              </p:nvSpPr>
              <p:spPr>
                <a:xfrm>
                  <a:off x="7020000" y="4642200"/>
                  <a:ext cx="3061440" cy="493560"/>
                </a:xfrm>
                <a:prstGeom prst="ellipse">
                  <a:avLst/>
                </a:prstGeom>
                <a:solidFill>
                  <a:srgbClr val="044e7f"/>
                </a:solidFill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  <Words>1809</Words>
  <Paragraphs>307</Paragraphs>
  <Company>xin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01:45:05Z</dcterms:created>
  <dc:creator>baixing wu</dc:creator>
  <dc:description/>
  <dc:language>en-US</dc:language>
  <cp:lastModifiedBy>王玉清</cp:lastModifiedBy>
  <dcterms:modified xsi:type="dcterms:W3CDTF">2016-02-23T02:53:18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34</vt:r8>
  </property>
</Properties>
</file>