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D45-451F-4893-B08F-61E939FC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8B3-5854-41B0-B82F-DCECB107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B1E-728C-4E9F-A5EA-2A3DC293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EF0-3B2C-4302-BE2F-07A0D964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3C3E-EAD7-40EF-8B26-5C39DA5B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7BFD-0180-4C0C-9C5D-FE0AB6E2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EBA5-D499-4AFF-8696-1CE3A5A1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9106-2B3B-4D0D-BF98-EFDCFDCC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1249-ABCE-4C50-A193-320E53CB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87A0-79BA-4307-8F80-2B120C67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6E2F-293A-4E6C-974A-13CAC28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5D5-123A-43E0-B7CE-ACEE6CD3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266B-FA52-4FCF-8BFF-9F3385DF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D31A-F6C2-428F-AA7C-5638D163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D666-1671-4C14-BEBA-EEA8B4BB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139D-4D49-4F92-8E6B-F0E4BB54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3CBC-0A8E-4A67-99A8-11D26FDD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8C9-6FB1-4E2C-B7FF-F12C697A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795-1F9E-4AA3-84C5-BDED19F1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272-0678-4BCD-B3FA-0C00FB83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14C-6B05-43E6-A293-90726705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EEE-F3E4-4683-A451-F4505914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DC9-AF54-4C4C-A64C-F9E5077D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816-3445-48BA-9E19-6B1B40CD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1EDA-FB21-4EB5-8021-6F9304C88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4B86-DD57-4B80-AB71-155210102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76360" y="1989000"/>
            <a:ext cx="4572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11920" y="260280"/>
            <a:ext cx="37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军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228600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大标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600200" y="1996920"/>
            <a:ext cx="466560" cy="533520"/>
          </a:xfrm>
          <a:custGeom>
            <a:avLst/>
            <a:gdLst>
              <a:gd name="textAreaLeft" fmla="*/ 192240 w 466560"/>
              <a:gd name="textAreaRight" fmla="*/ 274320 w 4665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057400" y="1843200"/>
            <a:ext cx="5257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标题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1600200" y="2865600"/>
            <a:ext cx="466560" cy="533160"/>
          </a:xfrm>
          <a:custGeom>
            <a:avLst/>
            <a:gdLst>
              <a:gd name="textAreaLeft" fmla="*/ 192240 w 466560"/>
              <a:gd name="textAreaRight" fmla="*/ 274320 w 46656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057400" y="2712960"/>
            <a:ext cx="5257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标题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1600200" y="3733920"/>
            <a:ext cx="466560" cy="533160"/>
          </a:xfrm>
          <a:custGeom>
            <a:avLst/>
            <a:gdLst>
              <a:gd name="textAreaLeft" fmla="*/ 192240 w 466560"/>
              <a:gd name="textAreaRight" fmla="*/ 274320 w 46656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057400" y="3581280"/>
            <a:ext cx="5257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标题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290520" y="414360"/>
            <a:ext cx="466560" cy="533520"/>
          </a:xfrm>
          <a:custGeom>
            <a:avLst/>
            <a:gdLst>
              <a:gd name="textAreaLeft" fmla="*/ 192240 w 466560"/>
              <a:gd name="textAreaRight" fmla="*/ 274320 w 4665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8240" y="870120"/>
            <a:ext cx="838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标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题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大标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290520" y="414360"/>
            <a:ext cx="466560" cy="533520"/>
          </a:xfrm>
          <a:custGeom>
            <a:avLst/>
            <a:gdLst>
              <a:gd name="textAreaLeft" fmla="*/ 192240 w 466560"/>
              <a:gd name="textAreaRight" fmla="*/ 274320 w 4665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8240" y="870120"/>
            <a:ext cx="838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标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题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大标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290520" y="414360"/>
            <a:ext cx="466560" cy="533520"/>
          </a:xfrm>
          <a:custGeom>
            <a:avLst/>
            <a:gdLst>
              <a:gd name="textAreaLeft" fmla="*/ 192240 w 466560"/>
              <a:gd name="textAreaRight" fmla="*/ 274320 w 4665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38240" y="870120"/>
            <a:ext cx="838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标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题</a:t>
            </a:r>
            <a:br>
              <a:rPr sz="4400"/>
            </a:b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大标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BCD0-CF7F-4DE3-A9A2-7427888015DE}" type="slidenum">
              <a:t>6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3:58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42:54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