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move the slide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A46A-8A91-4C0F-806B-15B18134F8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7353-4E32-4B89-BBE7-4F26758251A7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C8EC-436C-4F81-AD42-7299F6C7BC83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3FD-DBF7-43B6-A783-4CB4C01B8680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7CFC-9B6A-4DE4-BBBF-D249493F0088}" type="slidenum">
              <a:rPr b="0" lang="zh-CN" sz="1200" spc="-1" strike="noStrike">
                <a:solidFill>
                  <a:srgbClr val="26262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898-3710-42FF-9541-19FD4D6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AA4-DFE6-4D15-99CA-9403D479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8823-5598-4F45-A6D6-299086A1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4C3-4491-447D-94D0-6172E285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2BC-112A-45BD-B64E-20725C6A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5480" y="134100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056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5480" y="4124160"/>
            <a:ext cx="275904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561-8B8B-460C-AB4F-F3DF2FAA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C63-B0A6-4D6F-9529-26C0E568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5BA-9EEE-42C8-8E3A-4993792A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764640"/>
            <a:ext cx="8569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3F5-12C4-4F71-8E55-F47EDA6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791-503D-45EA-A328-DC1F18D6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1480" y="412416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CD2-E36B-4514-A9D5-4C2E755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1480" y="1341000"/>
            <a:ext cx="418140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560" y="4124160"/>
            <a:ext cx="8569080" cy="25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F56-D6FB-4B7E-92E3-FC6F3F2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0" t="1716" r="24" b="0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A7FB-91FC-4773-B8E3-4D90FF37D54C}" type="slidenum">
              <a:rPr b="0" lang="zh-CN" sz="1200" spc="-1" strike="noStrike">
                <a:solidFill>
                  <a:srgbClr val="8d8d8d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rcRect l="380" t="0" r="0" b="1690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标题 3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719928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副标题 4" descr=""/>
          <p:cNvPicPr/>
          <p:nvPr/>
        </p:nvPicPr>
        <p:blipFill>
          <a:blip r:embed="rId2"/>
          <a:stretch/>
        </p:blipFill>
        <p:spPr>
          <a:xfrm>
            <a:off x="2712960" y="3743280"/>
            <a:ext cx="3395880" cy="6764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6262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标题 3" descr=""/>
          <p:cNvPicPr/>
          <p:nvPr/>
        </p:nvPicPr>
        <p:blipFill>
          <a:blip r:embed="rId1"/>
          <a:stretch/>
        </p:blipFill>
        <p:spPr>
          <a:xfrm>
            <a:off x="2266920" y="2676600"/>
            <a:ext cx="4249800" cy="682560"/>
          </a:xfrm>
          <a:prstGeom prst="rect">
            <a:avLst/>
          </a:prstGeom>
          <a:ln w="0">
            <a:noFill/>
          </a:ln>
        </p:spPr>
      </p:pic>
      <p:pic>
        <p:nvPicPr>
          <p:cNvPr id="92" name="文本占位符 4" descr=""/>
          <p:cNvPicPr/>
          <p:nvPr/>
        </p:nvPicPr>
        <p:blipFill>
          <a:blip r:embed="rId2"/>
          <a:stretch/>
        </p:blipFill>
        <p:spPr>
          <a:xfrm>
            <a:off x="2809800" y="3359160"/>
            <a:ext cx="318312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标题 1" descr=""/>
          <p:cNvPicPr/>
          <p:nvPr/>
        </p:nvPicPr>
        <p:blipFill>
          <a:blip r:embed="rId1"/>
          <a:stretch/>
        </p:blipFill>
        <p:spPr>
          <a:xfrm>
            <a:off x="249120" y="835200"/>
            <a:ext cx="8645760" cy="506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0920" y="1341000"/>
            <a:ext cx="86421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标题 4" descr=""/>
          <p:cNvPicPr/>
          <p:nvPr/>
        </p:nvPicPr>
        <p:blipFill>
          <a:blip r:embed="rId1"/>
          <a:stretch/>
        </p:blipFill>
        <p:spPr>
          <a:xfrm>
            <a:off x="249120" y="762120"/>
            <a:ext cx="8570880" cy="579240"/>
          </a:xfrm>
          <a:prstGeom prst="rect">
            <a:avLst/>
          </a:prstGeom>
          <a:ln w="0">
            <a:noFill/>
          </a:ln>
        </p:spPr>
      </p:pic>
      <p:sp>
        <p:nvSpPr>
          <p:cNvPr id="96" name="十字星 5"/>
          <p:cNvSpPr/>
          <p:nvPr/>
        </p:nvSpPr>
        <p:spPr>
          <a:xfrm>
            <a:off x="2131920" y="2754360"/>
            <a:ext cx="93600" cy="71280"/>
          </a:xfrm>
          <a:custGeom>
            <a:avLst/>
            <a:gdLst>
              <a:gd name="textAreaLeft" fmla="*/ 38520 w 93600"/>
              <a:gd name="textAreaRight" fmla="*/ 55080 w 9360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d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十字星 6"/>
          <p:cNvSpPr/>
          <p:nvPr/>
        </p:nvSpPr>
        <p:spPr>
          <a:xfrm>
            <a:off x="2147760" y="3473280"/>
            <a:ext cx="93960" cy="73080"/>
          </a:xfrm>
          <a:custGeom>
            <a:avLst/>
            <a:gdLst>
              <a:gd name="textAreaLeft" fmla="*/ 38520 w 93960"/>
              <a:gd name="textAreaRight" fmla="*/ 55440 w 9396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08000" y="6381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262626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76923c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chen.zhb;ivywang</dc:creator>
  <dc:description/>
  <dc:language>en-US</dc:language>
  <cp:lastModifiedBy>王玉清</cp:lastModifiedBy>
  <dcterms:modified xsi:type="dcterms:W3CDTF">2016-02-29T07:46:46Z</dcterms:modified>
  <cp:revision>1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IP等级">
    <vt:lpwstr>2</vt:lpwstr>
  </property>
  <property fmtid="{D5CDD505-2E9C-101B-9397-08002B2CF9AE}" pid="3" name="价格">
    <vt:lpwstr>20</vt:lpwstr>
  </property>
  <property fmtid="{D5CDD505-2E9C-101B-9397-08002B2CF9AE}" pid="4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5" name="使用软件">
    <vt:lpwstr>ppt</vt:lpwstr>
  </property>
  <property fmtid="{D5CDD505-2E9C-101B-9397-08002B2CF9AE}" pid="6" name="关键字">
    <vt:lpwstr>PPT背景模板 PPT 格式 炫光 炫丽 华丽 黄 黄色 金黄 叶子 植物 光 光线 动态 动感 活力 背景 V2</vt:lpwstr>
  </property>
  <property fmtid="{D5CDD505-2E9C-101B-9397-08002B2CF9AE}" pid="7" name="操作代码">
    <vt:lpwstr>2</vt:lpwstr>
  </property>
  <property fmtid="{D5CDD505-2E9C-101B-9397-08002B2CF9AE}" pid="8" name="是否可购买">
    <vt:lpwstr>1</vt:lpwstr>
  </property>
  <property fmtid="{D5CDD505-2E9C-101B-9397-08002B2CF9AE}" pid="9" name="显示VIP等级">
    <vt:lpwstr>2</vt:lpwstr>
  </property>
  <property fmtid="{D5CDD505-2E9C-101B-9397-08002B2CF9AE}" pid="10" name="标题">
    <vt:lpwstr>炫光叶子</vt:lpwstr>
  </property>
  <property fmtid="{D5CDD505-2E9C-101B-9397-08002B2CF9AE}" pid="11" name="模板ID">
    <vt:lpwstr>A30220130313A03</vt:lpwstr>
  </property>
  <property fmtid="{D5CDD505-2E9C-101B-9397-08002B2CF9AE}" pid="12" name="模板缩略图">
    <vt:lpwstr>A30220130313A03.png</vt:lpwstr>
  </property>
  <property fmtid="{D5CDD505-2E9C-101B-9397-08002B2CF9AE}" pid="13" name="相关案例">
    <vt:lpwstr>854</vt:lpwstr>
  </property>
  <property fmtid="{D5CDD505-2E9C-101B-9397-08002B2CF9AE}" pid="14" name="缩略图标题">
    <vt:lpwstr>炫光叶子</vt:lpwstr>
  </property>
  <property fmtid="{D5CDD505-2E9C-101B-9397-08002B2CF9AE}" pid="15" name="适用软件">
    <vt:lpwstr>PowerPoint 2007及以上版本</vt:lpwstr>
  </property>
  <property fmtid="{D5CDD505-2E9C-101B-9397-08002B2CF9AE}" pid="16" name="附件ID">
    <vt:lpwstr>A30220130313A0301</vt:lpwstr>
  </property>
  <property fmtid="{D5CDD505-2E9C-101B-9397-08002B2CF9AE}" pid="17" name="附件缩略图">
    <vt:lpwstr>A30220130313A0301.png</vt:lpwstr>
  </property>
  <property fmtid="{D5CDD505-2E9C-101B-9397-08002B2CF9AE}" pid="18" name="附件路径">
    <vt:lpwstr>A30220130313A0301.pptx</vt:lpwstr>
  </property>
</Properties>
</file>