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2E6-07F1-41BA-A37F-0D68DE4F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F02-A925-47FB-92B9-D8A95025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E26-60F4-473D-9C31-2648CC18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69E-2FC9-4434-83E5-5045A0C2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EF8-0055-4344-A663-9E8C8DCC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AD5-25F2-43D4-AB9A-92E69F92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D49-CA86-42B2-A14F-EAA0E357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D0C-0EC7-4E8A-B590-20BCA75F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151-C04D-4024-ADB0-731D8125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AA0-F9BE-4BBF-A8B2-42E64D24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A15-D168-4888-B64D-BA4F2AE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464-167B-46C0-B6BE-914FEAA1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CE6618-BAC8-4AD7-B1C3-F702CE95911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3365280" y="48960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可爱的流氓兔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4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135320" y="3137400"/>
            <a:ext cx="308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51pptmo 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77280" y="63266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rdri Tools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  <Words>34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00:42:22Z</dcterms:created>
  <dc:creator>杜鹏亮</dc:creator>
  <dc:description/>
  <dc:language>en-US</dc:language>
  <cp:lastModifiedBy>王玉清</cp:lastModifiedBy>
  <dcterms:modified xsi:type="dcterms:W3CDTF">2016-02-23T03:38:19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0</vt:r8>
  </property>
</Properties>
</file>