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Enigmate-Asim_Kha-2032.wav" ContentType="audio/x-wav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96AE-38B2-4241-BB2C-FDB8340EC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010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24DB-CE00-4FD6-88FF-9375D5118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010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39C3-C5F2-4F5B-A677-0909DBA4B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010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DE29-3F28-47CD-B223-C34DCF55E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5395F-0C9C-4B1B-B366-0CE0E3176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010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514F7-A3B3-49F7-867D-29E540D9A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010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0CF6C-13C3-4596-A2AB-59776C1A1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010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EF80E-C3DB-4088-ACAE-26E57DC4C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010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02E1A-E162-40AE-96C4-F09219A9A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80880" y="152280"/>
            <a:ext cx="701064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5F1E1-524A-4E40-946A-2A09744BC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010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E1642-93CE-431E-81CD-BF2D2E0DE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010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7E31-F30B-4CF9-BCD2-AA3D50B2C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010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C3686-F5C3-4FC9-AAF5-CC2372725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010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A2F4E-4721-4032-A983-638099C0D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010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71D5A-48D0-440E-BD56-93B52BE31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010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06B81-AEC2-45A2-9761-123751C60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010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60615-AE4C-433F-859D-96889DFB7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010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2F96-D3EB-4C09-9879-A66A00397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010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CC94-A660-486B-8DBD-FA8FADE8E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010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A0B1-B579-4187-8839-3992BBE9F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152280"/>
            <a:ext cx="701064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0591-7CE9-4E2B-B639-EBEF2F795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010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F0E3-1DC8-4404-8586-D6B49C074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010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2173-7417-49BA-9C66-532C17164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010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7F12-F308-41A0-BECC-D5B001BEE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010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6B599-0F6A-4677-99D9-87ADA9C5FCD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010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7FD1F-CB6C-43A7-9E46-638E3F946236}" type="slidenum"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Enigmate-Asim_Kha-2032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C:\Documents and Settings\Administrator\桌面\3D小人图片素材\跨栏.jpg"/>
          <p:cNvPicPr/>
          <p:nvPr/>
        </p:nvPicPr>
        <p:blipFill>
          <a:blip r:embed="rId1"/>
          <a:stretch/>
        </p:blipFill>
        <p:spPr>
          <a:xfrm>
            <a:off x="15840" y="0"/>
            <a:ext cx="6035760" cy="4267080"/>
          </a:xfrm>
          <a:prstGeom prst="rect">
            <a:avLst/>
          </a:prstGeom>
          <a:ln w="0">
            <a:noFill/>
          </a:ln>
        </p:spPr>
      </p:pic>
      <p:sp>
        <p:nvSpPr>
          <p:cNvPr id="83" name="矩形 4"/>
          <p:cNvSpPr/>
          <p:nvPr/>
        </p:nvSpPr>
        <p:spPr>
          <a:xfrm>
            <a:off x="380880" y="4267080"/>
            <a:ext cx="714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0f0"/>
                </a:solidFill>
                <a:latin typeface="微软雅黑"/>
                <a:ea typeface="微软雅黑"/>
              </a:rPr>
              <a:t>跨栏动态</a:t>
            </a:r>
            <a:r>
              <a:rPr b="1" lang="en-US" sz="4000" spc="-1" strike="noStrike">
                <a:solidFill>
                  <a:srgbClr val="00b0f0"/>
                </a:solidFill>
                <a:latin typeface="微软雅黑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00b0f0"/>
                </a:solidFill>
                <a:latin typeface="微软雅黑"/>
                <a:ea typeface="微软雅黑"/>
              </a:rPr>
              <a:t>模板免费下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1933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1933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1933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0">
    <p:cover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5"/>
          <p:cNvSpPr/>
          <p:nvPr/>
        </p:nvSpPr>
        <p:spPr>
          <a:xfrm>
            <a:off x="2198520" y="2819520"/>
            <a:ext cx="4626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  <a:ea typeface="宋体"/>
              </a:rPr>
              <a:t>Emerge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4000">
    <p:cover dir="u"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0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11">
                                  <p:stCondLst>
                                    <p:cond delay="50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58" dur="3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260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9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WordArt 5"/>
          <p:cNvSpPr txBox="1"/>
          <p:nvPr/>
        </p:nvSpPr>
        <p:spPr>
          <a:xfrm>
            <a:off x="1371600" y="3124080"/>
            <a:ext cx="6553080" cy="17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Exploding</a:t>
            </a:r>
            <a:endParaRPr b="0" lang="en-US" sz="96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advTm="0">
    <p:cover dir="u"/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0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autoRev="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7" dur="2000" fill="hold"/>
                                        <p:tgtEl>
                                          <p:spTgt spid="148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7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0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xit" presetID="23" presetSubtype="1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3" dur="20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0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287" dur="30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3"/>
          <p:cNvSpPr/>
          <p:nvPr/>
        </p:nvSpPr>
        <p:spPr>
          <a:xfrm>
            <a:off x="955440" y="2832120"/>
            <a:ext cx="7415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  <a:ea typeface="宋体"/>
              </a:rPr>
              <a:t>Falling Apart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0">
    <p:cover dir="u"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0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path" presetID="29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293" dur="5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4" nodeType="withEffect" fill="hold" presetClass="exit" presetID="37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95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Group 13"/>
          <p:cNvGrpSpPr/>
          <p:nvPr/>
        </p:nvGrpSpPr>
        <p:grpSpPr>
          <a:xfrm>
            <a:off x="-360" y="990720"/>
            <a:ext cx="17373600" cy="1809720"/>
            <a:chOff x="-360" y="990720"/>
            <a:chExt cx="17373600" cy="1809720"/>
          </a:xfrm>
        </p:grpSpPr>
        <p:sp>
          <p:nvSpPr>
            <p:cNvPr id="151" name="Film"/>
            <p:cNvSpPr/>
            <p:nvPr/>
          </p:nvSpPr>
          <p:spPr>
            <a:xfrm rot="5400000">
              <a:off x="542520" y="447480"/>
              <a:ext cx="1809720" cy="2895480"/>
            </a:xfrm>
            <a:custGeom>
              <a:avLst/>
              <a:gdLst>
                <a:gd name="textAreaLeft" fmla="*/ 415800 w 1809720"/>
                <a:gd name="textAreaRight" fmla="*/ 1430280 w 1809720"/>
                <a:gd name="textAreaTop" fmla="*/ 1089000 h 2895480"/>
                <a:gd name="textAreaBottom" fmla="*/ 1800360 h 289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lnTo>
                    <a:pt x="21600" y="0"/>
                  </a:lnTo>
                  <a:close/>
                </a:path>
                <a:path w="21600" h="21600">
                  <a:moveTo>
                    <a:pt x="3014" y="21600"/>
                  </a:moveTo>
                  <a:lnTo>
                    <a:pt x="3014" y="0"/>
                  </a:lnTo>
                  <a:lnTo>
                    <a:pt x="0" y="0"/>
                  </a:lnTo>
                  <a:lnTo>
                    <a:pt x="0" y="21600"/>
                  </a:lnTo>
                  <a:lnTo>
                    <a:pt x="3014" y="21600"/>
                  </a:lnTo>
                  <a:close/>
                </a:path>
                <a:path w="21600" h="21600">
                  <a:moveTo>
                    <a:pt x="21600" y="21600"/>
                  </a:moveTo>
                  <a:lnTo>
                    <a:pt x="21600" y="0"/>
                  </a:lnTo>
                  <a:lnTo>
                    <a:pt x="18586" y="0"/>
                  </a:lnTo>
                  <a:lnTo>
                    <a:pt x="18586" y="21600"/>
                  </a:lnTo>
                  <a:lnTo>
                    <a:pt x="21600" y="21600"/>
                  </a:lnTo>
                  <a:close/>
                </a:path>
                <a:path w="21600" h="21600">
                  <a:moveTo>
                    <a:pt x="6028" y="6574"/>
                  </a:moveTo>
                  <a:lnTo>
                    <a:pt x="15572" y="6574"/>
                  </a:lnTo>
                  <a:lnTo>
                    <a:pt x="16074" y="6574"/>
                  </a:lnTo>
                  <a:lnTo>
                    <a:pt x="16326" y="6457"/>
                  </a:lnTo>
                  <a:lnTo>
                    <a:pt x="16577" y="6339"/>
                  </a:lnTo>
                  <a:lnTo>
                    <a:pt x="16828" y="6222"/>
                  </a:lnTo>
                  <a:lnTo>
                    <a:pt x="17079" y="6222"/>
                  </a:lnTo>
                  <a:lnTo>
                    <a:pt x="17330" y="5987"/>
                  </a:lnTo>
                  <a:lnTo>
                    <a:pt x="17330" y="5870"/>
                  </a:lnTo>
                  <a:lnTo>
                    <a:pt x="17581" y="5635"/>
                  </a:lnTo>
                  <a:lnTo>
                    <a:pt x="17581" y="1526"/>
                  </a:lnTo>
                  <a:lnTo>
                    <a:pt x="17330" y="1291"/>
                  </a:lnTo>
                  <a:lnTo>
                    <a:pt x="17330" y="1174"/>
                  </a:lnTo>
                  <a:lnTo>
                    <a:pt x="17079" y="1057"/>
                  </a:lnTo>
                  <a:lnTo>
                    <a:pt x="16828" y="939"/>
                  </a:lnTo>
                  <a:lnTo>
                    <a:pt x="16577" y="822"/>
                  </a:lnTo>
                  <a:lnTo>
                    <a:pt x="16326" y="704"/>
                  </a:lnTo>
                  <a:lnTo>
                    <a:pt x="16074" y="704"/>
                  </a:lnTo>
                  <a:lnTo>
                    <a:pt x="15572" y="587"/>
                  </a:lnTo>
                  <a:lnTo>
                    <a:pt x="6028" y="587"/>
                  </a:lnTo>
                  <a:lnTo>
                    <a:pt x="5526" y="704"/>
                  </a:lnTo>
                  <a:lnTo>
                    <a:pt x="5274" y="704"/>
                  </a:lnTo>
                  <a:lnTo>
                    <a:pt x="5023" y="822"/>
                  </a:lnTo>
                  <a:lnTo>
                    <a:pt x="4772" y="939"/>
                  </a:lnTo>
                  <a:lnTo>
                    <a:pt x="4521" y="1057"/>
                  </a:lnTo>
                  <a:lnTo>
                    <a:pt x="4270" y="1174"/>
                  </a:lnTo>
                  <a:lnTo>
                    <a:pt x="4270" y="1291"/>
                  </a:lnTo>
                  <a:lnTo>
                    <a:pt x="4019" y="1526"/>
                  </a:lnTo>
                  <a:lnTo>
                    <a:pt x="4019" y="5635"/>
                  </a:lnTo>
                  <a:lnTo>
                    <a:pt x="4270" y="5870"/>
                  </a:lnTo>
                  <a:lnTo>
                    <a:pt x="4270" y="5987"/>
                  </a:lnTo>
                  <a:lnTo>
                    <a:pt x="4521" y="6222"/>
                  </a:lnTo>
                  <a:lnTo>
                    <a:pt x="4772" y="6222"/>
                  </a:lnTo>
                  <a:lnTo>
                    <a:pt x="5023" y="6339"/>
                  </a:lnTo>
                  <a:lnTo>
                    <a:pt x="5274" y="6457"/>
                  </a:lnTo>
                  <a:lnTo>
                    <a:pt x="5526" y="6574"/>
                  </a:lnTo>
                  <a:lnTo>
                    <a:pt x="6028" y="6574"/>
                  </a:lnTo>
                  <a:close/>
                </a:path>
                <a:path w="21600" h="21600">
                  <a:moveTo>
                    <a:pt x="6028" y="13617"/>
                  </a:moveTo>
                  <a:lnTo>
                    <a:pt x="15572" y="13617"/>
                  </a:lnTo>
                  <a:lnTo>
                    <a:pt x="16074" y="13617"/>
                  </a:lnTo>
                  <a:lnTo>
                    <a:pt x="16326" y="13617"/>
                  </a:lnTo>
                  <a:lnTo>
                    <a:pt x="16577" y="13500"/>
                  </a:lnTo>
                  <a:lnTo>
                    <a:pt x="16828" y="13383"/>
                  </a:lnTo>
                  <a:lnTo>
                    <a:pt x="17079" y="13265"/>
                  </a:lnTo>
                  <a:lnTo>
                    <a:pt x="17330" y="13148"/>
                  </a:lnTo>
                  <a:lnTo>
                    <a:pt x="17330" y="12913"/>
                  </a:lnTo>
                  <a:lnTo>
                    <a:pt x="17581" y="12796"/>
                  </a:lnTo>
                  <a:lnTo>
                    <a:pt x="17581" y="8687"/>
                  </a:lnTo>
                  <a:lnTo>
                    <a:pt x="17330" y="8452"/>
                  </a:lnTo>
                  <a:lnTo>
                    <a:pt x="17330" y="8335"/>
                  </a:lnTo>
                  <a:lnTo>
                    <a:pt x="17079" y="8217"/>
                  </a:lnTo>
                  <a:lnTo>
                    <a:pt x="16828" y="7983"/>
                  </a:lnTo>
                  <a:lnTo>
                    <a:pt x="16577" y="7983"/>
                  </a:lnTo>
                  <a:lnTo>
                    <a:pt x="16326" y="7865"/>
                  </a:lnTo>
                  <a:lnTo>
                    <a:pt x="16074" y="7865"/>
                  </a:lnTo>
                  <a:lnTo>
                    <a:pt x="15572" y="7748"/>
                  </a:lnTo>
                  <a:lnTo>
                    <a:pt x="6028" y="7748"/>
                  </a:lnTo>
                  <a:lnTo>
                    <a:pt x="5526" y="7865"/>
                  </a:lnTo>
                  <a:lnTo>
                    <a:pt x="5274" y="7865"/>
                  </a:lnTo>
                  <a:lnTo>
                    <a:pt x="5023" y="7983"/>
                  </a:lnTo>
                  <a:lnTo>
                    <a:pt x="4772" y="7983"/>
                  </a:lnTo>
                  <a:lnTo>
                    <a:pt x="4521" y="8217"/>
                  </a:lnTo>
                  <a:lnTo>
                    <a:pt x="4270" y="8335"/>
                  </a:lnTo>
                  <a:lnTo>
                    <a:pt x="4270" y="8452"/>
                  </a:lnTo>
                  <a:lnTo>
                    <a:pt x="4019" y="8687"/>
                  </a:lnTo>
                  <a:lnTo>
                    <a:pt x="4019" y="12796"/>
                  </a:lnTo>
                  <a:lnTo>
                    <a:pt x="4270" y="12913"/>
                  </a:lnTo>
                  <a:lnTo>
                    <a:pt x="4270" y="13148"/>
                  </a:lnTo>
                  <a:lnTo>
                    <a:pt x="4521" y="13265"/>
                  </a:lnTo>
                  <a:lnTo>
                    <a:pt x="4772" y="13383"/>
                  </a:lnTo>
                  <a:lnTo>
                    <a:pt x="5023" y="13500"/>
                  </a:lnTo>
                  <a:lnTo>
                    <a:pt x="5274" y="13617"/>
                  </a:lnTo>
                  <a:lnTo>
                    <a:pt x="5526" y="13617"/>
                  </a:lnTo>
                  <a:lnTo>
                    <a:pt x="6028" y="13617"/>
                  </a:lnTo>
                  <a:close/>
                </a:path>
                <a:path w="21600" h="21600">
                  <a:moveTo>
                    <a:pt x="6028" y="20778"/>
                  </a:moveTo>
                  <a:lnTo>
                    <a:pt x="15572" y="20778"/>
                  </a:lnTo>
                  <a:lnTo>
                    <a:pt x="16074" y="20778"/>
                  </a:lnTo>
                  <a:lnTo>
                    <a:pt x="16326" y="20661"/>
                  </a:lnTo>
                  <a:lnTo>
                    <a:pt x="16577" y="20661"/>
                  </a:lnTo>
                  <a:lnTo>
                    <a:pt x="16828" y="20543"/>
                  </a:lnTo>
                  <a:lnTo>
                    <a:pt x="17079" y="20426"/>
                  </a:lnTo>
                  <a:lnTo>
                    <a:pt x="17330" y="20309"/>
                  </a:lnTo>
                  <a:lnTo>
                    <a:pt x="17330" y="20074"/>
                  </a:lnTo>
                  <a:lnTo>
                    <a:pt x="17581" y="19957"/>
                  </a:lnTo>
                  <a:lnTo>
                    <a:pt x="17581" y="15730"/>
                  </a:lnTo>
                  <a:lnTo>
                    <a:pt x="17330" y="15613"/>
                  </a:lnTo>
                  <a:lnTo>
                    <a:pt x="17330" y="15378"/>
                  </a:lnTo>
                  <a:lnTo>
                    <a:pt x="17079" y="15378"/>
                  </a:lnTo>
                  <a:lnTo>
                    <a:pt x="16828" y="15143"/>
                  </a:lnTo>
                  <a:lnTo>
                    <a:pt x="16577" y="15026"/>
                  </a:lnTo>
                  <a:lnTo>
                    <a:pt x="16326" y="15026"/>
                  </a:lnTo>
                  <a:lnTo>
                    <a:pt x="16074" y="15026"/>
                  </a:lnTo>
                  <a:lnTo>
                    <a:pt x="15572" y="14909"/>
                  </a:lnTo>
                  <a:lnTo>
                    <a:pt x="6028" y="14909"/>
                  </a:lnTo>
                  <a:lnTo>
                    <a:pt x="5526" y="15026"/>
                  </a:lnTo>
                  <a:lnTo>
                    <a:pt x="5274" y="15026"/>
                  </a:lnTo>
                  <a:lnTo>
                    <a:pt x="5023" y="15026"/>
                  </a:lnTo>
                  <a:lnTo>
                    <a:pt x="4772" y="15143"/>
                  </a:lnTo>
                  <a:lnTo>
                    <a:pt x="4521" y="15378"/>
                  </a:lnTo>
                  <a:lnTo>
                    <a:pt x="4270" y="15378"/>
                  </a:lnTo>
                  <a:lnTo>
                    <a:pt x="4270" y="15613"/>
                  </a:lnTo>
                  <a:lnTo>
                    <a:pt x="4019" y="15730"/>
                  </a:lnTo>
                  <a:lnTo>
                    <a:pt x="4019" y="19957"/>
                  </a:lnTo>
                  <a:lnTo>
                    <a:pt x="4270" y="20074"/>
                  </a:lnTo>
                  <a:lnTo>
                    <a:pt x="4270" y="20309"/>
                  </a:lnTo>
                  <a:lnTo>
                    <a:pt x="4521" y="20426"/>
                  </a:lnTo>
                  <a:lnTo>
                    <a:pt x="4772" y="20543"/>
                  </a:lnTo>
                  <a:lnTo>
                    <a:pt x="5023" y="20661"/>
                  </a:lnTo>
                  <a:lnTo>
                    <a:pt x="5274" y="20661"/>
                  </a:lnTo>
                  <a:lnTo>
                    <a:pt x="5526" y="20778"/>
                  </a:lnTo>
                  <a:lnTo>
                    <a:pt x="6028" y="20778"/>
                  </a:lnTo>
                  <a:close/>
                </a:path>
                <a:path w="21600" h="21600">
                  <a:moveTo>
                    <a:pt x="753" y="1291"/>
                  </a:moveTo>
                  <a:lnTo>
                    <a:pt x="2260" y="1291"/>
                  </a:lnTo>
                  <a:lnTo>
                    <a:pt x="2260" y="235"/>
                  </a:lnTo>
                  <a:lnTo>
                    <a:pt x="753" y="235"/>
                  </a:lnTo>
                  <a:lnTo>
                    <a:pt x="753" y="1291"/>
                  </a:lnTo>
                  <a:close/>
                </a:path>
                <a:path w="21600" h="21600">
                  <a:moveTo>
                    <a:pt x="753" y="2700"/>
                  </a:moveTo>
                  <a:lnTo>
                    <a:pt x="2260" y="2700"/>
                  </a:lnTo>
                  <a:lnTo>
                    <a:pt x="2260" y="1643"/>
                  </a:lnTo>
                  <a:lnTo>
                    <a:pt x="753" y="1643"/>
                  </a:lnTo>
                  <a:lnTo>
                    <a:pt x="753" y="2700"/>
                  </a:lnTo>
                  <a:close/>
                </a:path>
                <a:path w="21600" h="21600">
                  <a:moveTo>
                    <a:pt x="753" y="4109"/>
                  </a:moveTo>
                  <a:lnTo>
                    <a:pt x="2260" y="4109"/>
                  </a:lnTo>
                  <a:lnTo>
                    <a:pt x="2260" y="3052"/>
                  </a:lnTo>
                  <a:lnTo>
                    <a:pt x="753" y="3052"/>
                  </a:lnTo>
                  <a:lnTo>
                    <a:pt x="753" y="4109"/>
                  </a:lnTo>
                  <a:close/>
                </a:path>
                <a:path w="21600" h="21600">
                  <a:moveTo>
                    <a:pt x="753" y="5517"/>
                  </a:moveTo>
                  <a:lnTo>
                    <a:pt x="2260" y="5517"/>
                  </a:lnTo>
                  <a:lnTo>
                    <a:pt x="2260" y="4461"/>
                  </a:lnTo>
                  <a:lnTo>
                    <a:pt x="753" y="4461"/>
                  </a:lnTo>
                  <a:lnTo>
                    <a:pt x="753" y="5517"/>
                  </a:lnTo>
                  <a:close/>
                </a:path>
                <a:path w="21600" h="21600">
                  <a:moveTo>
                    <a:pt x="753" y="6926"/>
                  </a:moveTo>
                  <a:lnTo>
                    <a:pt x="2260" y="6926"/>
                  </a:lnTo>
                  <a:lnTo>
                    <a:pt x="2260" y="5870"/>
                  </a:lnTo>
                  <a:lnTo>
                    <a:pt x="753" y="5870"/>
                  </a:lnTo>
                  <a:lnTo>
                    <a:pt x="753" y="6926"/>
                  </a:lnTo>
                  <a:close/>
                </a:path>
                <a:path w="21600" h="21600">
                  <a:moveTo>
                    <a:pt x="753" y="8335"/>
                  </a:moveTo>
                  <a:lnTo>
                    <a:pt x="2260" y="8335"/>
                  </a:lnTo>
                  <a:lnTo>
                    <a:pt x="2260" y="7278"/>
                  </a:lnTo>
                  <a:lnTo>
                    <a:pt x="753" y="7278"/>
                  </a:lnTo>
                  <a:lnTo>
                    <a:pt x="753" y="8335"/>
                  </a:lnTo>
                  <a:close/>
                </a:path>
                <a:path w="21600" h="21600">
                  <a:moveTo>
                    <a:pt x="753" y="9743"/>
                  </a:moveTo>
                  <a:lnTo>
                    <a:pt x="2260" y="9743"/>
                  </a:lnTo>
                  <a:lnTo>
                    <a:pt x="2260" y="8687"/>
                  </a:lnTo>
                  <a:lnTo>
                    <a:pt x="753" y="8687"/>
                  </a:lnTo>
                  <a:lnTo>
                    <a:pt x="753" y="9743"/>
                  </a:lnTo>
                  <a:close/>
                </a:path>
                <a:path w="21600" h="21600">
                  <a:moveTo>
                    <a:pt x="753" y="11152"/>
                  </a:moveTo>
                  <a:lnTo>
                    <a:pt x="2260" y="11152"/>
                  </a:lnTo>
                  <a:lnTo>
                    <a:pt x="2260" y="10096"/>
                  </a:lnTo>
                  <a:lnTo>
                    <a:pt x="753" y="10096"/>
                  </a:lnTo>
                  <a:lnTo>
                    <a:pt x="753" y="11152"/>
                  </a:lnTo>
                  <a:close/>
                </a:path>
                <a:path w="21600" h="21600">
                  <a:moveTo>
                    <a:pt x="753" y="12561"/>
                  </a:moveTo>
                  <a:lnTo>
                    <a:pt x="2260" y="12561"/>
                  </a:lnTo>
                  <a:lnTo>
                    <a:pt x="2260" y="11504"/>
                  </a:lnTo>
                  <a:lnTo>
                    <a:pt x="753" y="11504"/>
                  </a:lnTo>
                  <a:lnTo>
                    <a:pt x="753" y="12561"/>
                  </a:lnTo>
                  <a:close/>
                </a:path>
                <a:path w="21600" h="21600">
                  <a:moveTo>
                    <a:pt x="753" y="13970"/>
                  </a:moveTo>
                  <a:lnTo>
                    <a:pt x="2260" y="13970"/>
                  </a:lnTo>
                  <a:lnTo>
                    <a:pt x="2260" y="12913"/>
                  </a:lnTo>
                  <a:lnTo>
                    <a:pt x="753" y="12913"/>
                  </a:lnTo>
                  <a:lnTo>
                    <a:pt x="753" y="13970"/>
                  </a:lnTo>
                  <a:close/>
                </a:path>
                <a:path w="21600" h="21600">
                  <a:moveTo>
                    <a:pt x="753" y="15378"/>
                  </a:moveTo>
                  <a:lnTo>
                    <a:pt x="2260" y="15378"/>
                  </a:lnTo>
                  <a:lnTo>
                    <a:pt x="2260" y="14322"/>
                  </a:lnTo>
                  <a:lnTo>
                    <a:pt x="753" y="14322"/>
                  </a:lnTo>
                  <a:lnTo>
                    <a:pt x="753" y="15378"/>
                  </a:lnTo>
                  <a:close/>
                </a:path>
                <a:path w="21600" h="21600">
                  <a:moveTo>
                    <a:pt x="753" y="16787"/>
                  </a:moveTo>
                  <a:lnTo>
                    <a:pt x="2260" y="16787"/>
                  </a:lnTo>
                  <a:lnTo>
                    <a:pt x="2260" y="15730"/>
                  </a:lnTo>
                  <a:lnTo>
                    <a:pt x="753" y="15730"/>
                  </a:lnTo>
                  <a:lnTo>
                    <a:pt x="753" y="16787"/>
                  </a:lnTo>
                  <a:close/>
                </a:path>
                <a:path w="21600" h="21600">
                  <a:moveTo>
                    <a:pt x="753" y="18196"/>
                  </a:moveTo>
                  <a:lnTo>
                    <a:pt x="2260" y="18196"/>
                  </a:lnTo>
                  <a:lnTo>
                    <a:pt x="2260" y="17139"/>
                  </a:lnTo>
                  <a:lnTo>
                    <a:pt x="753" y="17139"/>
                  </a:lnTo>
                  <a:lnTo>
                    <a:pt x="753" y="18196"/>
                  </a:lnTo>
                  <a:close/>
                </a:path>
                <a:path w="21600" h="21600">
                  <a:moveTo>
                    <a:pt x="753" y="19604"/>
                  </a:moveTo>
                  <a:lnTo>
                    <a:pt x="2260" y="19604"/>
                  </a:lnTo>
                  <a:lnTo>
                    <a:pt x="2260" y="18548"/>
                  </a:lnTo>
                  <a:lnTo>
                    <a:pt x="753" y="18548"/>
                  </a:lnTo>
                  <a:lnTo>
                    <a:pt x="753" y="19604"/>
                  </a:lnTo>
                  <a:close/>
                </a:path>
                <a:path w="21600" h="21600">
                  <a:moveTo>
                    <a:pt x="753" y="21013"/>
                  </a:moveTo>
                  <a:lnTo>
                    <a:pt x="2260" y="21013"/>
                  </a:lnTo>
                  <a:lnTo>
                    <a:pt x="2260" y="19957"/>
                  </a:lnTo>
                  <a:lnTo>
                    <a:pt x="753" y="19957"/>
                  </a:lnTo>
                  <a:lnTo>
                    <a:pt x="753" y="21013"/>
                  </a:lnTo>
                  <a:close/>
                </a:path>
                <a:path w="21600" h="21600">
                  <a:moveTo>
                    <a:pt x="19340" y="1409"/>
                  </a:moveTo>
                  <a:lnTo>
                    <a:pt x="20595" y="1409"/>
                  </a:lnTo>
                  <a:lnTo>
                    <a:pt x="20595" y="352"/>
                  </a:lnTo>
                  <a:lnTo>
                    <a:pt x="19340" y="352"/>
                  </a:lnTo>
                  <a:lnTo>
                    <a:pt x="19340" y="1409"/>
                  </a:lnTo>
                  <a:close/>
                </a:path>
                <a:path w="21600" h="21600">
                  <a:moveTo>
                    <a:pt x="19340" y="2700"/>
                  </a:moveTo>
                  <a:lnTo>
                    <a:pt x="20595" y="2700"/>
                  </a:lnTo>
                  <a:lnTo>
                    <a:pt x="20595" y="1643"/>
                  </a:lnTo>
                  <a:lnTo>
                    <a:pt x="19340" y="1643"/>
                  </a:lnTo>
                  <a:lnTo>
                    <a:pt x="19340" y="2700"/>
                  </a:lnTo>
                  <a:close/>
                </a:path>
                <a:path w="21600" h="21600">
                  <a:moveTo>
                    <a:pt x="19340" y="4109"/>
                  </a:moveTo>
                  <a:lnTo>
                    <a:pt x="20595" y="4109"/>
                  </a:lnTo>
                  <a:lnTo>
                    <a:pt x="20595" y="3052"/>
                  </a:lnTo>
                  <a:lnTo>
                    <a:pt x="19340" y="3052"/>
                  </a:lnTo>
                  <a:lnTo>
                    <a:pt x="19340" y="4109"/>
                  </a:lnTo>
                  <a:close/>
                </a:path>
                <a:path w="21600" h="21600">
                  <a:moveTo>
                    <a:pt x="19340" y="5517"/>
                  </a:moveTo>
                  <a:lnTo>
                    <a:pt x="20595" y="5517"/>
                  </a:lnTo>
                  <a:lnTo>
                    <a:pt x="20595" y="4461"/>
                  </a:lnTo>
                  <a:lnTo>
                    <a:pt x="19340" y="4461"/>
                  </a:lnTo>
                  <a:lnTo>
                    <a:pt x="19340" y="5517"/>
                  </a:lnTo>
                  <a:close/>
                </a:path>
                <a:path w="21600" h="21600">
                  <a:moveTo>
                    <a:pt x="19340" y="6926"/>
                  </a:moveTo>
                  <a:lnTo>
                    <a:pt x="20595" y="6926"/>
                  </a:lnTo>
                  <a:lnTo>
                    <a:pt x="20595" y="5870"/>
                  </a:lnTo>
                  <a:lnTo>
                    <a:pt x="19340" y="5870"/>
                  </a:lnTo>
                  <a:lnTo>
                    <a:pt x="19340" y="6926"/>
                  </a:lnTo>
                  <a:close/>
                </a:path>
                <a:path w="21600" h="21600">
                  <a:moveTo>
                    <a:pt x="19340" y="8335"/>
                  </a:moveTo>
                  <a:lnTo>
                    <a:pt x="20595" y="8335"/>
                  </a:lnTo>
                  <a:lnTo>
                    <a:pt x="20595" y="7278"/>
                  </a:lnTo>
                  <a:lnTo>
                    <a:pt x="19340" y="7278"/>
                  </a:lnTo>
                  <a:lnTo>
                    <a:pt x="19340" y="8335"/>
                  </a:lnTo>
                  <a:close/>
                </a:path>
                <a:path w="21600" h="21600">
                  <a:moveTo>
                    <a:pt x="19340" y="9743"/>
                  </a:moveTo>
                  <a:lnTo>
                    <a:pt x="20595" y="9743"/>
                  </a:lnTo>
                  <a:lnTo>
                    <a:pt x="20595" y="8687"/>
                  </a:lnTo>
                  <a:lnTo>
                    <a:pt x="19340" y="8687"/>
                  </a:lnTo>
                  <a:lnTo>
                    <a:pt x="19340" y="9743"/>
                  </a:lnTo>
                  <a:close/>
                </a:path>
                <a:path w="21600" h="21600">
                  <a:moveTo>
                    <a:pt x="19340" y="11152"/>
                  </a:moveTo>
                  <a:lnTo>
                    <a:pt x="20595" y="11152"/>
                  </a:lnTo>
                  <a:lnTo>
                    <a:pt x="20595" y="10096"/>
                  </a:lnTo>
                  <a:lnTo>
                    <a:pt x="19340" y="10096"/>
                  </a:lnTo>
                  <a:lnTo>
                    <a:pt x="19340" y="11152"/>
                  </a:lnTo>
                  <a:close/>
                </a:path>
                <a:path w="21600" h="21600">
                  <a:moveTo>
                    <a:pt x="19340" y="12561"/>
                  </a:moveTo>
                  <a:lnTo>
                    <a:pt x="20595" y="12561"/>
                  </a:lnTo>
                  <a:lnTo>
                    <a:pt x="20595" y="11504"/>
                  </a:lnTo>
                  <a:lnTo>
                    <a:pt x="19340" y="11504"/>
                  </a:lnTo>
                  <a:lnTo>
                    <a:pt x="19340" y="12561"/>
                  </a:lnTo>
                  <a:close/>
                </a:path>
                <a:path w="21600" h="21600">
                  <a:moveTo>
                    <a:pt x="19340" y="13970"/>
                  </a:moveTo>
                  <a:lnTo>
                    <a:pt x="20595" y="13970"/>
                  </a:lnTo>
                  <a:lnTo>
                    <a:pt x="20595" y="12913"/>
                  </a:lnTo>
                  <a:lnTo>
                    <a:pt x="19340" y="12913"/>
                  </a:lnTo>
                  <a:lnTo>
                    <a:pt x="19340" y="13970"/>
                  </a:lnTo>
                  <a:close/>
                </a:path>
                <a:path w="21600" h="21600">
                  <a:moveTo>
                    <a:pt x="19340" y="15378"/>
                  </a:moveTo>
                  <a:lnTo>
                    <a:pt x="20595" y="15378"/>
                  </a:lnTo>
                  <a:lnTo>
                    <a:pt x="20595" y="14322"/>
                  </a:lnTo>
                  <a:lnTo>
                    <a:pt x="19340" y="14322"/>
                  </a:lnTo>
                  <a:lnTo>
                    <a:pt x="19340" y="15378"/>
                  </a:lnTo>
                  <a:close/>
                </a:path>
                <a:path w="21600" h="21600">
                  <a:moveTo>
                    <a:pt x="19340" y="16787"/>
                  </a:moveTo>
                  <a:lnTo>
                    <a:pt x="20595" y="16787"/>
                  </a:lnTo>
                  <a:lnTo>
                    <a:pt x="20595" y="15730"/>
                  </a:lnTo>
                  <a:lnTo>
                    <a:pt x="19340" y="15730"/>
                  </a:lnTo>
                  <a:lnTo>
                    <a:pt x="19340" y="16787"/>
                  </a:lnTo>
                  <a:close/>
                </a:path>
                <a:path w="21600" h="21600">
                  <a:moveTo>
                    <a:pt x="19340" y="18196"/>
                  </a:moveTo>
                  <a:lnTo>
                    <a:pt x="20595" y="18196"/>
                  </a:lnTo>
                  <a:lnTo>
                    <a:pt x="20595" y="17139"/>
                  </a:lnTo>
                  <a:lnTo>
                    <a:pt x="19340" y="17139"/>
                  </a:lnTo>
                  <a:lnTo>
                    <a:pt x="19340" y="18196"/>
                  </a:lnTo>
                  <a:close/>
                </a:path>
                <a:path w="21600" h="21600">
                  <a:moveTo>
                    <a:pt x="19340" y="19604"/>
                  </a:moveTo>
                  <a:lnTo>
                    <a:pt x="20595" y="19604"/>
                  </a:lnTo>
                  <a:lnTo>
                    <a:pt x="20595" y="18548"/>
                  </a:lnTo>
                  <a:lnTo>
                    <a:pt x="19340" y="18548"/>
                  </a:lnTo>
                  <a:lnTo>
                    <a:pt x="19340" y="19604"/>
                  </a:lnTo>
                  <a:close/>
                </a:path>
                <a:path w="21600" h="21600">
                  <a:moveTo>
                    <a:pt x="19340" y="21013"/>
                  </a:moveTo>
                  <a:lnTo>
                    <a:pt x="20595" y="21013"/>
                  </a:lnTo>
                  <a:lnTo>
                    <a:pt x="20595" y="19957"/>
                  </a:lnTo>
                  <a:lnTo>
                    <a:pt x="19340" y="19957"/>
                  </a:lnTo>
                  <a:lnTo>
                    <a:pt x="19340" y="21013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666666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Film"/>
            <p:cNvSpPr/>
            <p:nvPr/>
          </p:nvSpPr>
          <p:spPr>
            <a:xfrm rot="5400000">
              <a:off x="3438360" y="447480"/>
              <a:ext cx="1809720" cy="2895840"/>
            </a:xfrm>
            <a:custGeom>
              <a:avLst/>
              <a:gdLst>
                <a:gd name="textAreaLeft" fmla="*/ 415800 w 1809720"/>
                <a:gd name="textAreaRight" fmla="*/ 1430280 w 1809720"/>
                <a:gd name="textAreaTop" fmla="*/ 1089000 h 2895840"/>
                <a:gd name="textAreaBottom" fmla="*/ 1800360 h 289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lnTo>
                    <a:pt x="21600" y="0"/>
                  </a:lnTo>
                  <a:close/>
                </a:path>
                <a:path w="21600" h="21600">
                  <a:moveTo>
                    <a:pt x="3014" y="21600"/>
                  </a:moveTo>
                  <a:lnTo>
                    <a:pt x="3014" y="0"/>
                  </a:lnTo>
                  <a:lnTo>
                    <a:pt x="0" y="0"/>
                  </a:lnTo>
                  <a:lnTo>
                    <a:pt x="0" y="21600"/>
                  </a:lnTo>
                  <a:lnTo>
                    <a:pt x="3014" y="21600"/>
                  </a:lnTo>
                  <a:close/>
                </a:path>
                <a:path w="21600" h="21600">
                  <a:moveTo>
                    <a:pt x="21600" y="21600"/>
                  </a:moveTo>
                  <a:lnTo>
                    <a:pt x="21600" y="0"/>
                  </a:lnTo>
                  <a:lnTo>
                    <a:pt x="18586" y="0"/>
                  </a:lnTo>
                  <a:lnTo>
                    <a:pt x="18586" y="21600"/>
                  </a:lnTo>
                  <a:lnTo>
                    <a:pt x="21600" y="21600"/>
                  </a:lnTo>
                  <a:close/>
                </a:path>
                <a:path w="21600" h="21600">
                  <a:moveTo>
                    <a:pt x="6028" y="6574"/>
                  </a:moveTo>
                  <a:lnTo>
                    <a:pt x="15572" y="6574"/>
                  </a:lnTo>
                  <a:lnTo>
                    <a:pt x="16074" y="6574"/>
                  </a:lnTo>
                  <a:lnTo>
                    <a:pt x="16326" y="6457"/>
                  </a:lnTo>
                  <a:lnTo>
                    <a:pt x="16577" y="6339"/>
                  </a:lnTo>
                  <a:lnTo>
                    <a:pt x="16828" y="6222"/>
                  </a:lnTo>
                  <a:lnTo>
                    <a:pt x="17079" y="6222"/>
                  </a:lnTo>
                  <a:lnTo>
                    <a:pt x="17330" y="5987"/>
                  </a:lnTo>
                  <a:lnTo>
                    <a:pt x="17330" y="5870"/>
                  </a:lnTo>
                  <a:lnTo>
                    <a:pt x="17581" y="5635"/>
                  </a:lnTo>
                  <a:lnTo>
                    <a:pt x="17581" y="1526"/>
                  </a:lnTo>
                  <a:lnTo>
                    <a:pt x="17330" y="1291"/>
                  </a:lnTo>
                  <a:lnTo>
                    <a:pt x="17330" y="1174"/>
                  </a:lnTo>
                  <a:lnTo>
                    <a:pt x="17079" y="1057"/>
                  </a:lnTo>
                  <a:lnTo>
                    <a:pt x="16828" y="939"/>
                  </a:lnTo>
                  <a:lnTo>
                    <a:pt x="16577" y="822"/>
                  </a:lnTo>
                  <a:lnTo>
                    <a:pt x="16326" y="704"/>
                  </a:lnTo>
                  <a:lnTo>
                    <a:pt x="16074" y="704"/>
                  </a:lnTo>
                  <a:lnTo>
                    <a:pt x="15572" y="587"/>
                  </a:lnTo>
                  <a:lnTo>
                    <a:pt x="6028" y="587"/>
                  </a:lnTo>
                  <a:lnTo>
                    <a:pt x="5526" y="704"/>
                  </a:lnTo>
                  <a:lnTo>
                    <a:pt x="5274" y="704"/>
                  </a:lnTo>
                  <a:lnTo>
                    <a:pt x="5023" y="822"/>
                  </a:lnTo>
                  <a:lnTo>
                    <a:pt x="4772" y="939"/>
                  </a:lnTo>
                  <a:lnTo>
                    <a:pt x="4521" y="1057"/>
                  </a:lnTo>
                  <a:lnTo>
                    <a:pt x="4270" y="1174"/>
                  </a:lnTo>
                  <a:lnTo>
                    <a:pt x="4270" y="1291"/>
                  </a:lnTo>
                  <a:lnTo>
                    <a:pt x="4019" y="1526"/>
                  </a:lnTo>
                  <a:lnTo>
                    <a:pt x="4019" y="5635"/>
                  </a:lnTo>
                  <a:lnTo>
                    <a:pt x="4270" y="5870"/>
                  </a:lnTo>
                  <a:lnTo>
                    <a:pt x="4270" y="5987"/>
                  </a:lnTo>
                  <a:lnTo>
                    <a:pt x="4521" y="6222"/>
                  </a:lnTo>
                  <a:lnTo>
                    <a:pt x="4772" y="6222"/>
                  </a:lnTo>
                  <a:lnTo>
                    <a:pt x="5023" y="6339"/>
                  </a:lnTo>
                  <a:lnTo>
                    <a:pt x="5274" y="6457"/>
                  </a:lnTo>
                  <a:lnTo>
                    <a:pt x="5526" y="6574"/>
                  </a:lnTo>
                  <a:lnTo>
                    <a:pt x="6028" y="6574"/>
                  </a:lnTo>
                  <a:close/>
                </a:path>
                <a:path w="21600" h="21600">
                  <a:moveTo>
                    <a:pt x="6028" y="13617"/>
                  </a:moveTo>
                  <a:lnTo>
                    <a:pt x="15572" y="13617"/>
                  </a:lnTo>
                  <a:lnTo>
                    <a:pt x="16074" y="13617"/>
                  </a:lnTo>
                  <a:lnTo>
                    <a:pt x="16326" y="13617"/>
                  </a:lnTo>
                  <a:lnTo>
                    <a:pt x="16577" y="13500"/>
                  </a:lnTo>
                  <a:lnTo>
                    <a:pt x="16828" y="13383"/>
                  </a:lnTo>
                  <a:lnTo>
                    <a:pt x="17079" y="13265"/>
                  </a:lnTo>
                  <a:lnTo>
                    <a:pt x="17330" y="13148"/>
                  </a:lnTo>
                  <a:lnTo>
                    <a:pt x="17330" y="12913"/>
                  </a:lnTo>
                  <a:lnTo>
                    <a:pt x="17581" y="12796"/>
                  </a:lnTo>
                  <a:lnTo>
                    <a:pt x="17581" y="8687"/>
                  </a:lnTo>
                  <a:lnTo>
                    <a:pt x="17330" y="8452"/>
                  </a:lnTo>
                  <a:lnTo>
                    <a:pt x="17330" y="8335"/>
                  </a:lnTo>
                  <a:lnTo>
                    <a:pt x="17079" y="8217"/>
                  </a:lnTo>
                  <a:lnTo>
                    <a:pt x="16828" y="7983"/>
                  </a:lnTo>
                  <a:lnTo>
                    <a:pt x="16577" y="7983"/>
                  </a:lnTo>
                  <a:lnTo>
                    <a:pt x="16326" y="7865"/>
                  </a:lnTo>
                  <a:lnTo>
                    <a:pt x="16074" y="7865"/>
                  </a:lnTo>
                  <a:lnTo>
                    <a:pt x="15572" y="7748"/>
                  </a:lnTo>
                  <a:lnTo>
                    <a:pt x="6028" y="7748"/>
                  </a:lnTo>
                  <a:lnTo>
                    <a:pt x="5526" y="7865"/>
                  </a:lnTo>
                  <a:lnTo>
                    <a:pt x="5274" y="7865"/>
                  </a:lnTo>
                  <a:lnTo>
                    <a:pt x="5023" y="7983"/>
                  </a:lnTo>
                  <a:lnTo>
                    <a:pt x="4772" y="7983"/>
                  </a:lnTo>
                  <a:lnTo>
                    <a:pt x="4521" y="8217"/>
                  </a:lnTo>
                  <a:lnTo>
                    <a:pt x="4270" y="8335"/>
                  </a:lnTo>
                  <a:lnTo>
                    <a:pt x="4270" y="8452"/>
                  </a:lnTo>
                  <a:lnTo>
                    <a:pt x="4019" y="8687"/>
                  </a:lnTo>
                  <a:lnTo>
                    <a:pt x="4019" y="12796"/>
                  </a:lnTo>
                  <a:lnTo>
                    <a:pt x="4270" y="12913"/>
                  </a:lnTo>
                  <a:lnTo>
                    <a:pt x="4270" y="13148"/>
                  </a:lnTo>
                  <a:lnTo>
                    <a:pt x="4521" y="13265"/>
                  </a:lnTo>
                  <a:lnTo>
                    <a:pt x="4772" y="13383"/>
                  </a:lnTo>
                  <a:lnTo>
                    <a:pt x="5023" y="13500"/>
                  </a:lnTo>
                  <a:lnTo>
                    <a:pt x="5274" y="13617"/>
                  </a:lnTo>
                  <a:lnTo>
                    <a:pt x="5526" y="13617"/>
                  </a:lnTo>
                  <a:lnTo>
                    <a:pt x="6028" y="13617"/>
                  </a:lnTo>
                  <a:close/>
                </a:path>
                <a:path w="21600" h="21600">
                  <a:moveTo>
                    <a:pt x="6028" y="20778"/>
                  </a:moveTo>
                  <a:lnTo>
                    <a:pt x="15572" y="20778"/>
                  </a:lnTo>
                  <a:lnTo>
                    <a:pt x="16074" y="20778"/>
                  </a:lnTo>
                  <a:lnTo>
                    <a:pt x="16326" y="20661"/>
                  </a:lnTo>
                  <a:lnTo>
                    <a:pt x="16577" y="20661"/>
                  </a:lnTo>
                  <a:lnTo>
                    <a:pt x="16828" y="20543"/>
                  </a:lnTo>
                  <a:lnTo>
                    <a:pt x="17079" y="20426"/>
                  </a:lnTo>
                  <a:lnTo>
                    <a:pt x="17330" y="20309"/>
                  </a:lnTo>
                  <a:lnTo>
                    <a:pt x="17330" y="20074"/>
                  </a:lnTo>
                  <a:lnTo>
                    <a:pt x="17581" y="19957"/>
                  </a:lnTo>
                  <a:lnTo>
                    <a:pt x="17581" y="15730"/>
                  </a:lnTo>
                  <a:lnTo>
                    <a:pt x="17330" y="15613"/>
                  </a:lnTo>
                  <a:lnTo>
                    <a:pt x="17330" y="15378"/>
                  </a:lnTo>
                  <a:lnTo>
                    <a:pt x="17079" y="15378"/>
                  </a:lnTo>
                  <a:lnTo>
                    <a:pt x="16828" y="15143"/>
                  </a:lnTo>
                  <a:lnTo>
                    <a:pt x="16577" y="15026"/>
                  </a:lnTo>
                  <a:lnTo>
                    <a:pt x="16326" y="15026"/>
                  </a:lnTo>
                  <a:lnTo>
                    <a:pt x="16074" y="15026"/>
                  </a:lnTo>
                  <a:lnTo>
                    <a:pt x="15572" y="14909"/>
                  </a:lnTo>
                  <a:lnTo>
                    <a:pt x="6028" y="14909"/>
                  </a:lnTo>
                  <a:lnTo>
                    <a:pt x="5526" y="15026"/>
                  </a:lnTo>
                  <a:lnTo>
                    <a:pt x="5274" y="15026"/>
                  </a:lnTo>
                  <a:lnTo>
                    <a:pt x="5023" y="15026"/>
                  </a:lnTo>
                  <a:lnTo>
                    <a:pt x="4772" y="15143"/>
                  </a:lnTo>
                  <a:lnTo>
                    <a:pt x="4521" y="15378"/>
                  </a:lnTo>
                  <a:lnTo>
                    <a:pt x="4270" y="15378"/>
                  </a:lnTo>
                  <a:lnTo>
                    <a:pt x="4270" y="15613"/>
                  </a:lnTo>
                  <a:lnTo>
                    <a:pt x="4019" y="15730"/>
                  </a:lnTo>
                  <a:lnTo>
                    <a:pt x="4019" y="19957"/>
                  </a:lnTo>
                  <a:lnTo>
                    <a:pt x="4270" y="20074"/>
                  </a:lnTo>
                  <a:lnTo>
                    <a:pt x="4270" y="20309"/>
                  </a:lnTo>
                  <a:lnTo>
                    <a:pt x="4521" y="20426"/>
                  </a:lnTo>
                  <a:lnTo>
                    <a:pt x="4772" y="20543"/>
                  </a:lnTo>
                  <a:lnTo>
                    <a:pt x="5023" y="20661"/>
                  </a:lnTo>
                  <a:lnTo>
                    <a:pt x="5274" y="20661"/>
                  </a:lnTo>
                  <a:lnTo>
                    <a:pt x="5526" y="20778"/>
                  </a:lnTo>
                  <a:lnTo>
                    <a:pt x="6028" y="20778"/>
                  </a:lnTo>
                  <a:close/>
                </a:path>
                <a:path w="21600" h="21600">
                  <a:moveTo>
                    <a:pt x="753" y="1291"/>
                  </a:moveTo>
                  <a:lnTo>
                    <a:pt x="2260" y="1291"/>
                  </a:lnTo>
                  <a:lnTo>
                    <a:pt x="2260" y="235"/>
                  </a:lnTo>
                  <a:lnTo>
                    <a:pt x="753" y="235"/>
                  </a:lnTo>
                  <a:lnTo>
                    <a:pt x="753" y="1291"/>
                  </a:lnTo>
                  <a:close/>
                </a:path>
                <a:path w="21600" h="21600">
                  <a:moveTo>
                    <a:pt x="753" y="2700"/>
                  </a:moveTo>
                  <a:lnTo>
                    <a:pt x="2260" y="2700"/>
                  </a:lnTo>
                  <a:lnTo>
                    <a:pt x="2260" y="1643"/>
                  </a:lnTo>
                  <a:lnTo>
                    <a:pt x="753" y="1643"/>
                  </a:lnTo>
                  <a:lnTo>
                    <a:pt x="753" y="2700"/>
                  </a:lnTo>
                  <a:close/>
                </a:path>
                <a:path w="21600" h="21600">
                  <a:moveTo>
                    <a:pt x="753" y="4109"/>
                  </a:moveTo>
                  <a:lnTo>
                    <a:pt x="2260" y="4109"/>
                  </a:lnTo>
                  <a:lnTo>
                    <a:pt x="2260" y="3052"/>
                  </a:lnTo>
                  <a:lnTo>
                    <a:pt x="753" y="3052"/>
                  </a:lnTo>
                  <a:lnTo>
                    <a:pt x="753" y="4109"/>
                  </a:lnTo>
                  <a:close/>
                </a:path>
                <a:path w="21600" h="21600">
                  <a:moveTo>
                    <a:pt x="753" y="5517"/>
                  </a:moveTo>
                  <a:lnTo>
                    <a:pt x="2260" y="5517"/>
                  </a:lnTo>
                  <a:lnTo>
                    <a:pt x="2260" y="4461"/>
                  </a:lnTo>
                  <a:lnTo>
                    <a:pt x="753" y="4461"/>
                  </a:lnTo>
                  <a:lnTo>
                    <a:pt x="753" y="5517"/>
                  </a:lnTo>
                  <a:close/>
                </a:path>
                <a:path w="21600" h="21600">
                  <a:moveTo>
                    <a:pt x="753" y="6926"/>
                  </a:moveTo>
                  <a:lnTo>
                    <a:pt x="2260" y="6926"/>
                  </a:lnTo>
                  <a:lnTo>
                    <a:pt x="2260" y="5870"/>
                  </a:lnTo>
                  <a:lnTo>
                    <a:pt x="753" y="5870"/>
                  </a:lnTo>
                  <a:lnTo>
                    <a:pt x="753" y="6926"/>
                  </a:lnTo>
                  <a:close/>
                </a:path>
                <a:path w="21600" h="21600">
                  <a:moveTo>
                    <a:pt x="753" y="8335"/>
                  </a:moveTo>
                  <a:lnTo>
                    <a:pt x="2260" y="8335"/>
                  </a:lnTo>
                  <a:lnTo>
                    <a:pt x="2260" y="7278"/>
                  </a:lnTo>
                  <a:lnTo>
                    <a:pt x="753" y="7278"/>
                  </a:lnTo>
                  <a:lnTo>
                    <a:pt x="753" y="8335"/>
                  </a:lnTo>
                  <a:close/>
                </a:path>
                <a:path w="21600" h="21600">
                  <a:moveTo>
                    <a:pt x="753" y="9743"/>
                  </a:moveTo>
                  <a:lnTo>
                    <a:pt x="2260" y="9743"/>
                  </a:lnTo>
                  <a:lnTo>
                    <a:pt x="2260" y="8687"/>
                  </a:lnTo>
                  <a:lnTo>
                    <a:pt x="753" y="8687"/>
                  </a:lnTo>
                  <a:lnTo>
                    <a:pt x="753" y="9743"/>
                  </a:lnTo>
                  <a:close/>
                </a:path>
                <a:path w="21600" h="21600">
                  <a:moveTo>
                    <a:pt x="753" y="11152"/>
                  </a:moveTo>
                  <a:lnTo>
                    <a:pt x="2260" y="11152"/>
                  </a:lnTo>
                  <a:lnTo>
                    <a:pt x="2260" y="10096"/>
                  </a:lnTo>
                  <a:lnTo>
                    <a:pt x="753" y="10096"/>
                  </a:lnTo>
                  <a:lnTo>
                    <a:pt x="753" y="11152"/>
                  </a:lnTo>
                  <a:close/>
                </a:path>
                <a:path w="21600" h="21600">
                  <a:moveTo>
                    <a:pt x="753" y="12561"/>
                  </a:moveTo>
                  <a:lnTo>
                    <a:pt x="2260" y="12561"/>
                  </a:lnTo>
                  <a:lnTo>
                    <a:pt x="2260" y="11504"/>
                  </a:lnTo>
                  <a:lnTo>
                    <a:pt x="753" y="11504"/>
                  </a:lnTo>
                  <a:lnTo>
                    <a:pt x="753" y="12561"/>
                  </a:lnTo>
                  <a:close/>
                </a:path>
                <a:path w="21600" h="21600">
                  <a:moveTo>
                    <a:pt x="753" y="13970"/>
                  </a:moveTo>
                  <a:lnTo>
                    <a:pt x="2260" y="13970"/>
                  </a:lnTo>
                  <a:lnTo>
                    <a:pt x="2260" y="12913"/>
                  </a:lnTo>
                  <a:lnTo>
                    <a:pt x="753" y="12913"/>
                  </a:lnTo>
                  <a:lnTo>
                    <a:pt x="753" y="13970"/>
                  </a:lnTo>
                  <a:close/>
                </a:path>
                <a:path w="21600" h="21600">
                  <a:moveTo>
                    <a:pt x="753" y="15378"/>
                  </a:moveTo>
                  <a:lnTo>
                    <a:pt x="2260" y="15378"/>
                  </a:lnTo>
                  <a:lnTo>
                    <a:pt x="2260" y="14322"/>
                  </a:lnTo>
                  <a:lnTo>
                    <a:pt x="753" y="14322"/>
                  </a:lnTo>
                  <a:lnTo>
                    <a:pt x="753" y="15378"/>
                  </a:lnTo>
                  <a:close/>
                </a:path>
                <a:path w="21600" h="21600">
                  <a:moveTo>
                    <a:pt x="753" y="16787"/>
                  </a:moveTo>
                  <a:lnTo>
                    <a:pt x="2260" y="16787"/>
                  </a:lnTo>
                  <a:lnTo>
                    <a:pt x="2260" y="15730"/>
                  </a:lnTo>
                  <a:lnTo>
                    <a:pt x="753" y="15730"/>
                  </a:lnTo>
                  <a:lnTo>
                    <a:pt x="753" y="16787"/>
                  </a:lnTo>
                  <a:close/>
                </a:path>
                <a:path w="21600" h="21600">
                  <a:moveTo>
                    <a:pt x="753" y="18196"/>
                  </a:moveTo>
                  <a:lnTo>
                    <a:pt x="2260" y="18196"/>
                  </a:lnTo>
                  <a:lnTo>
                    <a:pt x="2260" y="17139"/>
                  </a:lnTo>
                  <a:lnTo>
                    <a:pt x="753" y="17139"/>
                  </a:lnTo>
                  <a:lnTo>
                    <a:pt x="753" y="18196"/>
                  </a:lnTo>
                  <a:close/>
                </a:path>
                <a:path w="21600" h="21600">
                  <a:moveTo>
                    <a:pt x="753" y="19604"/>
                  </a:moveTo>
                  <a:lnTo>
                    <a:pt x="2260" y="19604"/>
                  </a:lnTo>
                  <a:lnTo>
                    <a:pt x="2260" y="18548"/>
                  </a:lnTo>
                  <a:lnTo>
                    <a:pt x="753" y="18548"/>
                  </a:lnTo>
                  <a:lnTo>
                    <a:pt x="753" y="19604"/>
                  </a:lnTo>
                  <a:close/>
                </a:path>
                <a:path w="21600" h="21600">
                  <a:moveTo>
                    <a:pt x="753" y="21013"/>
                  </a:moveTo>
                  <a:lnTo>
                    <a:pt x="2260" y="21013"/>
                  </a:lnTo>
                  <a:lnTo>
                    <a:pt x="2260" y="19957"/>
                  </a:lnTo>
                  <a:lnTo>
                    <a:pt x="753" y="19957"/>
                  </a:lnTo>
                  <a:lnTo>
                    <a:pt x="753" y="21013"/>
                  </a:lnTo>
                  <a:close/>
                </a:path>
                <a:path w="21600" h="21600">
                  <a:moveTo>
                    <a:pt x="19340" y="1409"/>
                  </a:moveTo>
                  <a:lnTo>
                    <a:pt x="20595" y="1409"/>
                  </a:lnTo>
                  <a:lnTo>
                    <a:pt x="20595" y="352"/>
                  </a:lnTo>
                  <a:lnTo>
                    <a:pt x="19340" y="352"/>
                  </a:lnTo>
                  <a:lnTo>
                    <a:pt x="19340" y="1409"/>
                  </a:lnTo>
                  <a:close/>
                </a:path>
                <a:path w="21600" h="21600">
                  <a:moveTo>
                    <a:pt x="19340" y="2700"/>
                  </a:moveTo>
                  <a:lnTo>
                    <a:pt x="20595" y="2700"/>
                  </a:lnTo>
                  <a:lnTo>
                    <a:pt x="20595" y="1643"/>
                  </a:lnTo>
                  <a:lnTo>
                    <a:pt x="19340" y="1643"/>
                  </a:lnTo>
                  <a:lnTo>
                    <a:pt x="19340" y="2700"/>
                  </a:lnTo>
                  <a:close/>
                </a:path>
                <a:path w="21600" h="21600">
                  <a:moveTo>
                    <a:pt x="19340" y="4109"/>
                  </a:moveTo>
                  <a:lnTo>
                    <a:pt x="20595" y="4109"/>
                  </a:lnTo>
                  <a:lnTo>
                    <a:pt x="20595" y="3052"/>
                  </a:lnTo>
                  <a:lnTo>
                    <a:pt x="19340" y="3052"/>
                  </a:lnTo>
                  <a:lnTo>
                    <a:pt x="19340" y="4109"/>
                  </a:lnTo>
                  <a:close/>
                </a:path>
                <a:path w="21600" h="21600">
                  <a:moveTo>
                    <a:pt x="19340" y="5517"/>
                  </a:moveTo>
                  <a:lnTo>
                    <a:pt x="20595" y="5517"/>
                  </a:lnTo>
                  <a:lnTo>
                    <a:pt x="20595" y="4461"/>
                  </a:lnTo>
                  <a:lnTo>
                    <a:pt x="19340" y="4461"/>
                  </a:lnTo>
                  <a:lnTo>
                    <a:pt x="19340" y="5517"/>
                  </a:lnTo>
                  <a:close/>
                </a:path>
                <a:path w="21600" h="21600">
                  <a:moveTo>
                    <a:pt x="19340" y="6926"/>
                  </a:moveTo>
                  <a:lnTo>
                    <a:pt x="20595" y="6926"/>
                  </a:lnTo>
                  <a:lnTo>
                    <a:pt x="20595" y="5870"/>
                  </a:lnTo>
                  <a:lnTo>
                    <a:pt x="19340" y="5870"/>
                  </a:lnTo>
                  <a:lnTo>
                    <a:pt x="19340" y="6926"/>
                  </a:lnTo>
                  <a:close/>
                </a:path>
                <a:path w="21600" h="21600">
                  <a:moveTo>
                    <a:pt x="19340" y="8335"/>
                  </a:moveTo>
                  <a:lnTo>
                    <a:pt x="20595" y="8335"/>
                  </a:lnTo>
                  <a:lnTo>
                    <a:pt x="20595" y="7278"/>
                  </a:lnTo>
                  <a:lnTo>
                    <a:pt x="19340" y="7278"/>
                  </a:lnTo>
                  <a:lnTo>
                    <a:pt x="19340" y="8335"/>
                  </a:lnTo>
                  <a:close/>
                </a:path>
                <a:path w="21600" h="21600">
                  <a:moveTo>
                    <a:pt x="19340" y="9743"/>
                  </a:moveTo>
                  <a:lnTo>
                    <a:pt x="20595" y="9743"/>
                  </a:lnTo>
                  <a:lnTo>
                    <a:pt x="20595" y="8687"/>
                  </a:lnTo>
                  <a:lnTo>
                    <a:pt x="19340" y="8687"/>
                  </a:lnTo>
                  <a:lnTo>
                    <a:pt x="19340" y="9743"/>
                  </a:lnTo>
                  <a:close/>
                </a:path>
                <a:path w="21600" h="21600">
                  <a:moveTo>
                    <a:pt x="19340" y="11152"/>
                  </a:moveTo>
                  <a:lnTo>
                    <a:pt x="20595" y="11152"/>
                  </a:lnTo>
                  <a:lnTo>
                    <a:pt x="20595" y="10096"/>
                  </a:lnTo>
                  <a:lnTo>
                    <a:pt x="19340" y="10096"/>
                  </a:lnTo>
                  <a:lnTo>
                    <a:pt x="19340" y="11152"/>
                  </a:lnTo>
                  <a:close/>
                </a:path>
                <a:path w="21600" h="21600">
                  <a:moveTo>
                    <a:pt x="19340" y="12561"/>
                  </a:moveTo>
                  <a:lnTo>
                    <a:pt x="20595" y="12561"/>
                  </a:lnTo>
                  <a:lnTo>
                    <a:pt x="20595" y="11504"/>
                  </a:lnTo>
                  <a:lnTo>
                    <a:pt x="19340" y="11504"/>
                  </a:lnTo>
                  <a:lnTo>
                    <a:pt x="19340" y="12561"/>
                  </a:lnTo>
                  <a:close/>
                </a:path>
                <a:path w="21600" h="21600">
                  <a:moveTo>
                    <a:pt x="19340" y="13970"/>
                  </a:moveTo>
                  <a:lnTo>
                    <a:pt x="20595" y="13970"/>
                  </a:lnTo>
                  <a:lnTo>
                    <a:pt x="20595" y="12913"/>
                  </a:lnTo>
                  <a:lnTo>
                    <a:pt x="19340" y="12913"/>
                  </a:lnTo>
                  <a:lnTo>
                    <a:pt x="19340" y="13970"/>
                  </a:lnTo>
                  <a:close/>
                </a:path>
                <a:path w="21600" h="21600">
                  <a:moveTo>
                    <a:pt x="19340" y="15378"/>
                  </a:moveTo>
                  <a:lnTo>
                    <a:pt x="20595" y="15378"/>
                  </a:lnTo>
                  <a:lnTo>
                    <a:pt x="20595" y="14322"/>
                  </a:lnTo>
                  <a:lnTo>
                    <a:pt x="19340" y="14322"/>
                  </a:lnTo>
                  <a:lnTo>
                    <a:pt x="19340" y="15378"/>
                  </a:lnTo>
                  <a:close/>
                </a:path>
                <a:path w="21600" h="21600">
                  <a:moveTo>
                    <a:pt x="19340" y="16787"/>
                  </a:moveTo>
                  <a:lnTo>
                    <a:pt x="20595" y="16787"/>
                  </a:lnTo>
                  <a:lnTo>
                    <a:pt x="20595" y="15730"/>
                  </a:lnTo>
                  <a:lnTo>
                    <a:pt x="19340" y="15730"/>
                  </a:lnTo>
                  <a:lnTo>
                    <a:pt x="19340" y="16787"/>
                  </a:lnTo>
                  <a:close/>
                </a:path>
                <a:path w="21600" h="21600">
                  <a:moveTo>
                    <a:pt x="19340" y="18196"/>
                  </a:moveTo>
                  <a:lnTo>
                    <a:pt x="20595" y="18196"/>
                  </a:lnTo>
                  <a:lnTo>
                    <a:pt x="20595" y="17139"/>
                  </a:lnTo>
                  <a:lnTo>
                    <a:pt x="19340" y="17139"/>
                  </a:lnTo>
                  <a:lnTo>
                    <a:pt x="19340" y="18196"/>
                  </a:lnTo>
                  <a:close/>
                </a:path>
                <a:path w="21600" h="21600">
                  <a:moveTo>
                    <a:pt x="19340" y="19604"/>
                  </a:moveTo>
                  <a:lnTo>
                    <a:pt x="20595" y="19604"/>
                  </a:lnTo>
                  <a:lnTo>
                    <a:pt x="20595" y="18548"/>
                  </a:lnTo>
                  <a:lnTo>
                    <a:pt x="19340" y="18548"/>
                  </a:lnTo>
                  <a:lnTo>
                    <a:pt x="19340" y="19604"/>
                  </a:lnTo>
                  <a:close/>
                </a:path>
                <a:path w="21600" h="21600">
                  <a:moveTo>
                    <a:pt x="19340" y="21013"/>
                  </a:moveTo>
                  <a:lnTo>
                    <a:pt x="20595" y="21013"/>
                  </a:lnTo>
                  <a:lnTo>
                    <a:pt x="20595" y="19957"/>
                  </a:lnTo>
                  <a:lnTo>
                    <a:pt x="19340" y="19957"/>
                  </a:lnTo>
                  <a:lnTo>
                    <a:pt x="19340" y="21013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666666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Film"/>
            <p:cNvSpPr/>
            <p:nvPr/>
          </p:nvSpPr>
          <p:spPr>
            <a:xfrm rot="5400000">
              <a:off x="6333840" y="447480"/>
              <a:ext cx="1809720" cy="2895480"/>
            </a:xfrm>
            <a:custGeom>
              <a:avLst/>
              <a:gdLst>
                <a:gd name="textAreaLeft" fmla="*/ 415800 w 1809720"/>
                <a:gd name="textAreaRight" fmla="*/ 1430280 w 1809720"/>
                <a:gd name="textAreaTop" fmla="*/ 1089000 h 2895480"/>
                <a:gd name="textAreaBottom" fmla="*/ 1800360 h 289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lnTo>
                    <a:pt x="21600" y="0"/>
                  </a:lnTo>
                  <a:close/>
                </a:path>
                <a:path w="21600" h="21600">
                  <a:moveTo>
                    <a:pt x="3014" y="21600"/>
                  </a:moveTo>
                  <a:lnTo>
                    <a:pt x="3014" y="0"/>
                  </a:lnTo>
                  <a:lnTo>
                    <a:pt x="0" y="0"/>
                  </a:lnTo>
                  <a:lnTo>
                    <a:pt x="0" y="21600"/>
                  </a:lnTo>
                  <a:lnTo>
                    <a:pt x="3014" y="21600"/>
                  </a:lnTo>
                  <a:close/>
                </a:path>
                <a:path w="21600" h="21600">
                  <a:moveTo>
                    <a:pt x="21600" y="21600"/>
                  </a:moveTo>
                  <a:lnTo>
                    <a:pt x="21600" y="0"/>
                  </a:lnTo>
                  <a:lnTo>
                    <a:pt x="18586" y="0"/>
                  </a:lnTo>
                  <a:lnTo>
                    <a:pt x="18586" y="21600"/>
                  </a:lnTo>
                  <a:lnTo>
                    <a:pt x="21600" y="21600"/>
                  </a:lnTo>
                  <a:close/>
                </a:path>
                <a:path w="21600" h="21600">
                  <a:moveTo>
                    <a:pt x="6028" y="6574"/>
                  </a:moveTo>
                  <a:lnTo>
                    <a:pt x="15572" y="6574"/>
                  </a:lnTo>
                  <a:lnTo>
                    <a:pt x="16074" y="6574"/>
                  </a:lnTo>
                  <a:lnTo>
                    <a:pt x="16326" y="6457"/>
                  </a:lnTo>
                  <a:lnTo>
                    <a:pt x="16577" y="6339"/>
                  </a:lnTo>
                  <a:lnTo>
                    <a:pt x="16828" y="6222"/>
                  </a:lnTo>
                  <a:lnTo>
                    <a:pt x="17079" y="6222"/>
                  </a:lnTo>
                  <a:lnTo>
                    <a:pt x="17330" y="5987"/>
                  </a:lnTo>
                  <a:lnTo>
                    <a:pt x="17330" y="5870"/>
                  </a:lnTo>
                  <a:lnTo>
                    <a:pt x="17581" y="5635"/>
                  </a:lnTo>
                  <a:lnTo>
                    <a:pt x="17581" y="1526"/>
                  </a:lnTo>
                  <a:lnTo>
                    <a:pt x="17330" y="1291"/>
                  </a:lnTo>
                  <a:lnTo>
                    <a:pt x="17330" y="1174"/>
                  </a:lnTo>
                  <a:lnTo>
                    <a:pt x="17079" y="1057"/>
                  </a:lnTo>
                  <a:lnTo>
                    <a:pt x="16828" y="939"/>
                  </a:lnTo>
                  <a:lnTo>
                    <a:pt x="16577" y="822"/>
                  </a:lnTo>
                  <a:lnTo>
                    <a:pt x="16326" y="704"/>
                  </a:lnTo>
                  <a:lnTo>
                    <a:pt x="16074" y="704"/>
                  </a:lnTo>
                  <a:lnTo>
                    <a:pt x="15572" y="587"/>
                  </a:lnTo>
                  <a:lnTo>
                    <a:pt x="6028" y="587"/>
                  </a:lnTo>
                  <a:lnTo>
                    <a:pt x="5526" y="704"/>
                  </a:lnTo>
                  <a:lnTo>
                    <a:pt x="5274" y="704"/>
                  </a:lnTo>
                  <a:lnTo>
                    <a:pt x="5023" y="822"/>
                  </a:lnTo>
                  <a:lnTo>
                    <a:pt x="4772" y="939"/>
                  </a:lnTo>
                  <a:lnTo>
                    <a:pt x="4521" y="1057"/>
                  </a:lnTo>
                  <a:lnTo>
                    <a:pt x="4270" y="1174"/>
                  </a:lnTo>
                  <a:lnTo>
                    <a:pt x="4270" y="1291"/>
                  </a:lnTo>
                  <a:lnTo>
                    <a:pt x="4019" y="1526"/>
                  </a:lnTo>
                  <a:lnTo>
                    <a:pt x="4019" y="5635"/>
                  </a:lnTo>
                  <a:lnTo>
                    <a:pt x="4270" y="5870"/>
                  </a:lnTo>
                  <a:lnTo>
                    <a:pt x="4270" y="5987"/>
                  </a:lnTo>
                  <a:lnTo>
                    <a:pt x="4521" y="6222"/>
                  </a:lnTo>
                  <a:lnTo>
                    <a:pt x="4772" y="6222"/>
                  </a:lnTo>
                  <a:lnTo>
                    <a:pt x="5023" y="6339"/>
                  </a:lnTo>
                  <a:lnTo>
                    <a:pt x="5274" y="6457"/>
                  </a:lnTo>
                  <a:lnTo>
                    <a:pt x="5526" y="6574"/>
                  </a:lnTo>
                  <a:lnTo>
                    <a:pt x="6028" y="6574"/>
                  </a:lnTo>
                  <a:close/>
                </a:path>
                <a:path w="21600" h="21600">
                  <a:moveTo>
                    <a:pt x="6028" y="13617"/>
                  </a:moveTo>
                  <a:lnTo>
                    <a:pt x="15572" y="13617"/>
                  </a:lnTo>
                  <a:lnTo>
                    <a:pt x="16074" y="13617"/>
                  </a:lnTo>
                  <a:lnTo>
                    <a:pt x="16326" y="13617"/>
                  </a:lnTo>
                  <a:lnTo>
                    <a:pt x="16577" y="13500"/>
                  </a:lnTo>
                  <a:lnTo>
                    <a:pt x="16828" y="13383"/>
                  </a:lnTo>
                  <a:lnTo>
                    <a:pt x="17079" y="13265"/>
                  </a:lnTo>
                  <a:lnTo>
                    <a:pt x="17330" y="13148"/>
                  </a:lnTo>
                  <a:lnTo>
                    <a:pt x="17330" y="12913"/>
                  </a:lnTo>
                  <a:lnTo>
                    <a:pt x="17581" y="12796"/>
                  </a:lnTo>
                  <a:lnTo>
                    <a:pt x="17581" y="8687"/>
                  </a:lnTo>
                  <a:lnTo>
                    <a:pt x="17330" y="8452"/>
                  </a:lnTo>
                  <a:lnTo>
                    <a:pt x="17330" y="8335"/>
                  </a:lnTo>
                  <a:lnTo>
                    <a:pt x="17079" y="8217"/>
                  </a:lnTo>
                  <a:lnTo>
                    <a:pt x="16828" y="7983"/>
                  </a:lnTo>
                  <a:lnTo>
                    <a:pt x="16577" y="7983"/>
                  </a:lnTo>
                  <a:lnTo>
                    <a:pt x="16326" y="7865"/>
                  </a:lnTo>
                  <a:lnTo>
                    <a:pt x="16074" y="7865"/>
                  </a:lnTo>
                  <a:lnTo>
                    <a:pt x="15572" y="7748"/>
                  </a:lnTo>
                  <a:lnTo>
                    <a:pt x="6028" y="7748"/>
                  </a:lnTo>
                  <a:lnTo>
                    <a:pt x="5526" y="7865"/>
                  </a:lnTo>
                  <a:lnTo>
                    <a:pt x="5274" y="7865"/>
                  </a:lnTo>
                  <a:lnTo>
                    <a:pt x="5023" y="7983"/>
                  </a:lnTo>
                  <a:lnTo>
                    <a:pt x="4772" y="7983"/>
                  </a:lnTo>
                  <a:lnTo>
                    <a:pt x="4521" y="8217"/>
                  </a:lnTo>
                  <a:lnTo>
                    <a:pt x="4270" y="8335"/>
                  </a:lnTo>
                  <a:lnTo>
                    <a:pt x="4270" y="8452"/>
                  </a:lnTo>
                  <a:lnTo>
                    <a:pt x="4019" y="8687"/>
                  </a:lnTo>
                  <a:lnTo>
                    <a:pt x="4019" y="12796"/>
                  </a:lnTo>
                  <a:lnTo>
                    <a:pt x="4270" y="12913"/>
                  </a:lnTo>
                  <a:lnTo>
                    <a:pt x="4270" y="13148"/>
                  </a:lnTo>
                  <a:lnTo>
                    <a:pt x="4521" y="13265"/>
                  </a:lnTo>
                  <a:lnTo>
                    <a:pt x="4772" y="13383"/>
                  </a:lnTo>
                  <a:lnTo>
                    <a:pt x="5023" y="13500"/>
                  </a:lnTo>
                  <a:lnTo>
                    <a:pt x="5274" y="13617"/>
                  </a:lnTo>
                  <a:lnTo>
                    <a:pt x="5526" y="13617"/>
                  </a:lnTo>
                  <a:lnTo>
                    <a:pt x="6028" y="13617"/>
                  </a:lnTo>
                  <a:close/>
                </a:path>
                <a:path w="21600" h="21600">
                  <a:moveTo>
                    <a:pt x="6028" y="20778"/>
                  </a:moveTo>
                  <a:lnTo>
                    <a:pt x="15572" y="20778"/>
                  </a:lnTo>
                  <a:lnTo>
                    <a:pt x="16074" y="20778"/>
                  </a:lnTo>
                  <a:lnTo>
                    <a:pt x="16326" y="20661"/>
                  </a:lnTo>
                  <a:lnTo>
                    <a:pt x="16577" y="20661"/>
                  </a:lnTo>
                  <a:lnTo>
                    <a:pt x="16828" y="20543"/>
                  </a:lnTo>
                  <a:lnTo>
                    <a:pt x="17079" y="20426"/>
                  </a:lnTo>
                  <a:lnTo>
                    <a:pt x="17330" y="20309"/>
                  </a:lnTo>
                  <a:lnTo>
                    <a:pt x="17330" y="20074"/>
                  </a:lnTo>
                  <a:lnTo>
                    <a:pt x="17581" y="19957"/>
                  </a:lnTo>
                  <a:lnTo>
                    <a:pt x="17581" y="15730"/>
                  </a:lnTo>
                  <a:lnTo>
                    <a:pt x="17330" y="15613"/>
                  </a:lnTo>
                  <a:lnTo>
                    <a:pt x="17330" y="15378"/>
                  </a:lnTo>
                  <a:lnTo>
                    <a:pt x="17079" y="15378"/>
                  </a:lnTo>
                  <a:lnTo>
                    <a:pt x="16828" y="15143"/>
                  </a:lnTo>
                  <a:lnTo>
                    <a:pt x="16577" y="15026"/>
                  </a:lnTo>
                  <a:lnTo>
                    <a:pt x="16326" y="15026"/>
                  </a:lnTo>
                  <a:lnTo>
                    <a:pt x="16074" y="15026"/>
                  </a:lnTo>
                  <a:lnTo>
                    <a:pt x="15572" y="14909"/>
                  </a:lnTo>
                  <a:lnTo>
                    <a:pt x="6028" y="14909"/>
                  </a:lnTo>
                  <a:lnTo>
                    <a:pt x="5526" y="15026"/>
                  </a:lnTo>
                  <a:lnTo>
                    <a:pt x="5274" y="15026"/>
                  </a:lnTo>
                  <a:lnTo>
                    <a:pt x="5023" y="15026"/>
                  </a:lnTo>
                  <a:lnTo>
                    <a:pt x="4772" y="15143"/>
                  </a:lnTo>
                  <a:lnTo>
                    <a:pt x="4521" y="15378"/>
                  </a:lnTo>
                  <a:lnTo>
                    <a:pt x="4270" y="15378"/>
                  </a:lnTo>
                  <a:lnTo>
                    <a:pt x="4270" y="15613"/>
                  </a:lnTo>
                  <a:lnTo>
                    <a:pt x="4019" y="15730"/>
                  </a:lnTo>
                  <a:lnTo>
                    <a:pt x="4019" y="19957"/>
                  </a:lnTo>
                  <a:lnTo>
                    <a:pt x="4270" y="20074"/>
                  </a:lnTo>
                  <a:lnTo>
                    <a:pt x="4270" y="20309"/>
                  </a:lnTo>
                  <a:lnTo>
                    <a:pt x="4521" y="20426"/>
                  </a:lnTo>
                  <a:lnTo>
                    <a:pt x="4772" y="20543"/>
                  </a:lnTo>
                  <a:lnTo>
                    <a:pt x="5023" y="20661"/>
                  </a:lnTo>
                  <a:lnTo>
                    <a:pt x="5274" y="20661"/>
                  </a:lnTo>
                  <a:lnTo>
                    <a:pt x="5526" y="20778"/>
                  </a:lnTo>
                  <a:lnTo>
                    <a:pt x="6028" y="20778"/>
                  </a:lnTo>
                  <a:close/>
                </a:path>
                <a:path w="21600" h="21600">
                  <a:moveTo>
                    <a:pt x="753" y="1291"/>
                  </a:moveTo>
                  <a:lnTo>
                    <a:pt x="2260" y="1291"/>
                  </a:lnTo>
                  <a:lnTo>
                    <a:pt x="2260" y="235"/>
                  </a:lnTo>
                  <a:lnTo>
                    <a:pt x="753" y="235"/>
                  </a:lnTo>
                  <a:lnTo>
                    <a:pt x="753" y="1291"/>
                  </a:lnTo>
                  <a:close/>
                </a:path>
                <a:path w="21600" h="21600">
                  <a:moveTo>
                    <a:pt x="753" y="2700"/>
                  </a:moveTo>
                  <a:lnTo>
                    <a:pt x="2260" y="2700"/>
                  </a:lnTo>
                  <a:lnTo>
                    <a:pt x="2260" y="1643"/>
                  </a:lnTo>
                  <a:lnTo>
                    <a:pt x="753" y="1643"/>
                  </a:lnTo>
                  <a:lnTo>
                    <a:pt x="753" y="2700"/>
                  </a:lnTo>
                  <a:close/>
                </a:path>
                <a:path w="21600" h="21600">
                  <a:moveTo>
                    <a:pt x="753" y="4109"/>
                  </a:moveTo>
                  <a:lnTo>
                    <a:pt x="2260" y="4109"/>
                  </a:lnTo>
                  <a:lnTo>
                    <a:pt x="2260" y="3052"/>
                  </a:lnTo>
                  <a:lnTo>
                    <a:pt x="753" y="3052"/>
                  </a:lnTo>
                  <a:lnTo>
                    <a:pt x="753" y="4109"/>
                  </a:lnTo>
                  <a:close/>
                </a:path>
                <a:path w="21600" h="21600">
                  <a:moveTo>
                    <a:pt x="753" y="5517"/>
                  </a:moveTo>
                  <a:lnTo>
                    <a:pt x="2260" y="5517"/>
                  </a:lnTo>
                  <a:lnTo>
                    <a:pt x="2260" y="4461"/>
                  </a:lnTo>
                  <a:lnTo>
                    <a:pt x="753" y="4461"/>
                  </a:lnTo>
                  <a:lnTo>
                    <a:pt x="753" y="5517"/>
                  </a:lnTo>
                  <a:close/>
                </a:path>
                <a:path w="21600" h="21600">
                  <a:moveTo>
                    <a:pt x="753" y="6926"/>
                  </a:moveTo>
                  <a:lnTo>
                    <a:pt x="2260" y="6926"/>
                  </a:lnTo>
                  <a:lnTo>
                    <a:pt x="2260" y="5870"/>
                  </a:lnTo>
                  <a:lnTo>
                    <a:pt x="753" y="5870"/>
                  </a:lnTo>
                  <a:lnTo>
                    <a:pt x="753" y="6926"/>
                  </a:lnTo>
                  <a:close/>
                </a:path>
                <a:path w="21600" h="21600">
                  <a:moveTo>
                    <a:pt x="753" y="8335"/>
                  </a:moveTo>
                  <a:lnTo>
                    <a:pt x="2260" y="8335"/>
                  </a:lnTo>
                  <a:lnTo>
                    <a:pt x="2260" y="7278"/>
                  </a:lnTo>
                  <a:lnTo>
                    <a:pt x="753" y="7278"/>
                  </a:lnTo>
                  <a:lnTo>
                    <a:pt x="753" y="8335"/>
                  </a:lnTo>
                  <a:close/>
                </a:path>
                <a:path w="21600" h="21600">
                  <a:moveTo>
                    <a:pt x="753" y="9743"/>
                  </a:moveTo>
                  <a:lnTo>
                    <a:pt x="2260" y="9743"/>
                  </a:lnTo>
                  <a:lnTo>
                    <a:pt x="2260" y="8687"/>
                  </a:lnTo>
                  <a:lnTo>
                    <a:pt x="753" y="8687"/>
                  </a:lnTo>
                  <a:lnTo>
                    <a:pt x="753" y="9743"/>
                  </a:lnTo>
                  <a:close/>
                </a:path>
                <a:path w="21600" h="21600">
                  <a:moveTo>
                    <a:pt x="753" y="11152"/>
                  </a:moveTo>
                  <a:lnTo>
                    <a:pt x="2260" y="11152"/>
                  </a:lnTo>
                  <a:lnTo>
                    <a:pt x="2260" y="10096"/>
                  </a:lnTo>
                  <a:lnTo>
                    <a:pt x="753" y="10096"/>
                  </a:lnTo>
                  <a:lnTo>
                    <a:pt x="753" y="11152"/>
                  </a:lnTo>
                  <a:close/>
                </a:path>
                <a:path w="21600" h="21600">
                  <a:moveTo>
                    <a:pt x="753" y="12561"/>
                  </a:moveTo>
                  <a:lnTo>
                    <a:pt x="2260" y="12561"/>
                  </a:lnTo>
                  <a:lnTo>
                    <a:pt x="2260" y="11504"/>
                  </a:lnTo>
                  <a:lnTo>
                    <a:pt x="753" y="11504"/>
                  </a:lnTo>
                  <a:lnTo>
                    <a:pt x="753" y="12561"/>
                  </a:lnTo>
                  <a:close/>
                </a:path>
                <a:path w="21600" h="21600">
                  <a:moveTo>
                    <a:pt x="753" y="13970"/>
                  </a:moveTo>
                  <a:lnTo>
                    <a:pt x="2260" y="13970"/>
                  </a:lnTo>
                  <a:lnTo>
                    <a:pt x="2260" y="12913"/>
                  </a:lnTo>
                  <a:lnTo>
                    <a:pt x="753" y="12913"/>
                  </a:lnTo>
                  <a:lnTo>
                    <a:pt x="753" y="13970"/>
                  </a:lnTo>
                  <a:close/>
                </a:path>
                <a:path w="21600" h="21600">
                  <a:moveTo>
                    <a:pt x="753" y="15378"/>
                  </a:moveTo>
                  <a:lnTo>
                    <a:pt x="2260" y="15378"/>
                  </a:lnTo>
                  <a:lnTo>
                    <a:pt x="2260" y="14322"/>
                  </a:lnTo>
                  <a:lnTo>
                    <a:pt x="753" y="14322"/>
                  </a:lnTo>
                  <a:lnTo>
                    <a:pt x="753" y="15378"/>
                  </a:lnTo>
                  <a:close/>
                </a:path>
                <a:path w="21600" h="21600">
                  <a:moveTo>
                    <a:pt x="753" y="16787"/>
                  </a:moveTo>
                  <a:lnTo>
                    <a:pt x="2260" y="16787"/>
                  </a:lnTo>
                  <a:lnTo>
                    <a:pt x="2260" y="15730"/>
                  </a:lnTo>
                  <a:lnTo>
                    <a:pt x="753" y="15730"/>
                  </a:lnTo>
                  <a:lnTo>
                    <a:pt x="753" y="16787"/>
                  </a:lnTo>
                  <a:close/>
                </a:path>
                <a:path w="21600" h="21600">
                  <a:moveTo>
                    <a:pt x="753" y="18196"/>
                  </a:moveTo>
                  <a:lnTo>
                    <a:pt x="2260" y="18196"/>
                  </a:lnTo>
                  <a:lnTo>
                    <a:pt x="2260" y="17139"/>
                  </a:lnTo>
                  <a:lnTo>
                    <a:pt x="753" y="17139"/>
                  </a:lnTo>
                  <a:lnTo>
                    <a:pt x="753" y="18196"/>
                  </a:lnTo>
                  <a:close/>
                </a:path>
                <a:path w="21600" h="21600">
                  <a:moveTo>
                    <a:pt x="753" y="19604"/>
                  </a:moveTo>
                  <a:lnTo>
                    <a:pt x="2260" y="19604"/>
                  </a:lnTo>
                  <a:lnTo>
                    <a:pt x="2260" y="18548"/>
                  </a:lnTo>
                  <a:lnTo>
                    <a:pt x="753" y="18548"/>
                  </a:lnTo>
                  <a:lnTo>
                    <a:pt x="753" y="19604"/>
                  </a:lnTo>
                  <a:close/>
                </a:path>
                <a:path w="21600" h="21600">
                  <a:moveTo>
                    <a:pt x="753" y="21013"/>
                  </a:moveTo>
                  <a:lnTo>
                    <a:pt x="2260" y="21013"/>
                  </a:lnTo>
                  <a:lnTo>
                    <a:pt x="2260" y="19957"/>
                  </a:lnTo>
                  <a:lnTo>
                    <a:pt x="753" y="19957"/>
                  </a:lnTo>
                  <a:lnTo>
                    <a:pt x="753" y="21013"/>
                  </a:lnTo>
                  <a:close/>
                </a:path>
                <a:path w="21600" h="21600">
                  <a:moveTo>
                    <a:pt x="19340" y="1409"/>
                  </a:moveTo>
                  <a:lnTo>
                    <a:pt x="20595" y="1409"/>
                  </a:lnTo>
                  <a:lnTo>
                    <a:pt x="20595" y="352"/>
                  </a:lnTo>
                  <a:lnTo>
                    <a:pt x="19340" y="352"/>
                  </a:lnTo>
                  <a:lnTo>
                    <a:pt x="19340" y="1409"/>
                  </a:lnTo>
                  <a:close/>
                </a:path>
                <a:path w="21600" h="21600">
                  <a:moveTo>
                    <a:pt x="19340" y="2700"/>
                  </a:moveTo>
                  <a:lnTo>
                    <a:pt x="20595" y="2700"/>
                  </a:lnTo>
                  <a:lnTo>
                    <a:pt x="20595" y="1643"/>
                  </a:lnTo>
                  <a:lnTo>
                    <a:pt x="19340" y="1643"/>
                  </a:lnTo>
                  <a:lnTo>
                    <a:pt x="19340" y="2700"/>
                  </a:lnTo>
                  <a:close/>
                </a:path>
                <a:path w="21600" h="21600">
                  <a:moveTo>
                    <a:pt x="19340" y="4109"/>
                  </a:moveTo>
                  <a:lnTo>
                    <a:pt x="20595" y="4109"/>
                  </a:lnTo>
                  <a:lnTo>
                    <a:pt x="20595" y="3052"/>
                  </a:lnTo>
                  <a:lnTo>
                    <a:pt x="19340" y="3052"/>
                  </a:lnTo>
                  <a:lnTo>
                    <a:pt x="19340" y="4109"/>
                  </a:lnTo>
                  <a:close/>
                </a:path>
                <a:path w="21600" h="21600">
                  <a:moveTo>
                    <a:pt x="19340" y="5517"/>
                  </a:moveTo>
                  <a:lnTo>
                    <a:pt x="20595" y="5517"/>
                  </a:lnTo>
                  <a:lnTo>
                    <a:pt x="20595" y="4461"/>
                  </a:lnTo>
                  <a:lnTo>
                    <a:pt x="19340" y="4461"/>
                  </a:lnTo>
                  <a:lnTo>
                    <a:pt x="19340" y="5517"/>
                  </a:lnTo>
                  <a:close/>
                </a:path>
                <a:path w="21600" h="21600">
                  <a:moveTo>
                    <a:pt x="19340" y="6926"/>
                  </a:moveTo>
                  <a:lnTo>
                    <a:pt x="20595" y="6926"/>
                  </a:lnTo>
                  <a:lnTo>
                    <a:pt x="20595" y="5870"/>
                  </a:lnTo>
                  <a:lnTo>
                    <a:pt x="19340" y="5870"/>
                  </a:lnTo>
                  <a:lnTo>
                    <a:pt x="19340" y="6926"/>
                  </a:lnTo>
                  <a:close/>
                </a:path>
                <a:path w="21600" h="21600">
                  <a:moveTo>
                    <a:pt x="19340" y="8335"/>
                  </a:moveTo>
                  <a:lnTo>
                    <a:pt x="20595" y="8335"/>
                  </a:lnTo>
                  <a:lnTo>
                    <a:pt x="20595" y="7278"/>
                  </a:lnTo>
                  <a:lnTo>
                    <a:pt x="19340" y="7278"/>
                  </a:lnTo>
                  <a:lnTo>
                    <a:pt x="19340" y="8335"/>
                  </a:lnTo>
                  <a:close/>
                </a:path>
                <a:path w="21600" h="21600">
                  <a:moveTo>
                    <a:pt x="19340" y="9743"/>
                  </a:moveTo>
                  <a:lnTo>
                    <a:pt x="20595" y="9743"/>
                  </a:lnTo>
                  <a:lnTo>
                    <a:pt x="20595" y="8687"/>
                  </a:lnTo>
                  <a:lnTo>
                    <a:pt x="19340" y="8687"/>
                  </a:lnTo>
                  <a:lnTo>
                    <a:pt x="19340" y="9743"/>
                  </a:lnTo>
                  <a:close/>
                </a:path>
                <a:path w="21600" h="21600">
                  <a:moveTo>
                    <a:pt x="19340" y="11152"/>
                  </a:moveTo>
                  <a:lnTo>
                    <a:pt x="20595" y="11152"/>
                  </a:lnTo>
                  <a:lnTo>
                    <a:pt x="20595" y="10096"/>
                  </a:lnTo>
                  <a:lnTo>
                    <a:pt x="19340" y="10096"/>
                  </a:lnTo>
                  <a:lnTo>
                    <a:pt x="19340" y="11152"/>
                  </a:lnTo>
                  <a:close/>
                </a:path>
                <a:path w="21600" h="21600">
                  <a:moveTo>
                    <a:pt x="19340" y="12561"/>
                  </a:moveTo>
                  <a:lnTo>
                    <a:pt x="20595" y="12561"/>
                  </a:lnTo>
                  <a:lnTo>
                    <a:pt x="20595" y="11504"/>
                  </a:lnTo>
                  <a:lnTo>
                    <a:pt x="19340" y="11504"/>
                  </a:lnTo>
                  <a:lnTo>
                    <a:pt x="19340" y="12561"/>
                  </a:lnTo>
                  <a:close/>
                </a:path>
                <a:path w="21600" h="21600">
                  <a:moveTo>
                    <a:pt x="19340" y="13970"/>
                  </a:moveTo>
                  <a:lnTo>
                    <a:pt x="20595" y="13970"/>
                  </a:lnTo>
                  <a:lnTo>
                    <a:pt x="20595" y="12913"/>
                  </a:lnTo>
                  <a:lnTo>
                    <a:pt x="19340" y="12913"/>
                  </a:lnTo>
                  <a:lnTo>
                    <a:pt x="19340" y="13970"/>
                  </a:lnTo>
                  <a:close/>
                </a:path>
                <a:path w="21600" h="21600">
                  <a:moveTo>
                    <a:pt x="19340" y="15378"/>
                  </a:moveTo>
                  <a:lnTo>
                    <a:pt x="20595" y="15378"/>
                  </a:lnTo>
                  <a:lnTo>
                    <a:pt x="20595" y="14322"/>
                  </a:lnTo>
                  <a:lnTo>
                    <a:pt x="19340" y="14322"/>
                  </a:lnTo>
                  <a:lnTo>
                    <a:pt x="19340" y="15378"/>
                  </a:lnTo>
                  <a:close/>
                </a:path>
                <a:path w="21600" h="21600">
                  <a:moveTo>
                    <a:pt x="19340" y="16787"/>
                  </a:moveTo>
                  <a:lnTo>
                    <a:pt x="20595" y="16787"/>
                  </a:lnTo>
                  <a:lnTo>
                    <a:pt x="20595" y="15730"/>
                  </a:lnTo>
                  <a:lnTo>
                    <a:pt x="19340" y="15730"/>
                  </a:lnTo>
                  <a:lnTo>
                    <a:pt x="19340" y="16787"/>
                  </a:lnTo>
                  <a:close/>
                </a:path>
                <a:path w="21600" h="21600">
                  <a:moveTo>
                    <a:pt x="19340" y="18196"/>
                  </a:moveTo>
                  <a:lnTo>
                    <a:pt x="20595" y="18196"/>
                  </a:lnTo>
                  <a:lnTo>
                    <a:pt x="20595" y="17139"/>
                  </a:lnTo>
                  <a:lnTo>
                    <a:pt x="19340" y="17139"/>
                  </a:lnTo>
                  <a:lnTo>
                    <a:pt x="19340" y="18196"/>
                  </a:lnTo>
                  <a:close/>
                </a:path>
                <a:path w="21600" h="21600">
                  <a:moveTo>
                    <a:pt x="19340" y="19604"/>
                  </a:moveTo>
                  <a:lnTo>
                    <a:pt x="20595" y="19604"/>
                  </a:lnTo>
                  <a:lnTo>
                    <a:pt x="20595" y="18548"/>
                  </a:lnTo>
                  <a:lnTo>
                    <a:pt x="19340" y="18548"/>
                  </a:lnTo>
                  <a:lnTo>
                    <a:pt x="19340" y="19604"/>
                  </a:lnTo>
                  <a:close/>
                </a:path>
                <a:path w="21600" h="21600">
                  <a:moveTo>
                    <a:pt x="19340" y="21013"/>
                  </a:moveTo>
                  <a:lnTo>
                    <a:pt x="20595" y="21013"/>
                  </a:lnTo>
                  <a:lnTo>
                    <a:pt x="20595" y="19957"/>
                  </a:lnTo>
                  <a:lnTo>
                    <a:pt x="19340" y="19957"/>
                  </a:lnTo>
                  <a:lnTo>
                    <a:pt x="19340" y="21013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666666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Film"/>
            <p:cNvSpPr/>
            <p:nvPr/>
          </p:nvSpPr>
          <p:spPr>
            <a:xfrm rot="5400000">
              <a:off x="9229320" y="447480"/>
              <a:ext cx="1809720" cy="2895480"/>
            </a:xfrm>
            <a:custGeom>
              <a:avLst/>
              <a:gdLst>
                <a:gd name="textAreaLeft" fmla="*/ 415800 w 1809720"/>
                <a:gd name="textAreaRight" fmla="*/ 1430280 w 1809720"/>
                <a:gd name="textAreaTop" fmla="*/ 1089000 h 2895480"/>
                <a:gd name="textAreaBottom" fmla="*/ 1800360 h 289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lnTo>
                    <a:pt x="21600" y="0"/>
                  </a:lnTo>
                  <a:close/>
                </a:path>
                <a:path w="21600" h="21600">
                  <a:moveTo>
                    <a:pt x="3014" y="21600"/>
                  </a:moveTo>
                  <a:lnTo>
                    <a:pt x="3014" y="0"/>
                  </a:lnTo>
                  <a:lnTo>
                    <a:pt x="0" y="0"/>
                  </a:lnTo>
                  <a:lnTo>
                    <a:pt x="0" y="21600"/>
                  </a:lnTo>
                  <a:lnTo>
                    <a:pt x="3014" y="21600"/>
                  </a:lnTo>
                  <a:close/>
                </a:path>
                <a:path w="21600" h="21600">
                  <a:moveTo>
                    <a:pt x="21600" y="21600"/>
                  </a:moveTo>
                  <a:lnTo>
                    <a:pt x="21600" y="0"/>
                  </a:lnTo>
                  <a:lnTo>
                    <a:pt x="18586" y="0"/>
                  </a:lnTo>
                  <a:lnTo>
                    <a:pt x="18586" y="21600"/>
                  </a:lnTo>
                  <a:lnTo>
                    <a:pt x="21600" y="21600"/>
                  </a:lnTo>
                  <a:close/>
                </a:path>
                <a:path w="21600" h="21600">
                  <a:moveTo>
                    <a:pt x="6028" y="6574"/>
                  </a:moveTo>
                  <a:lnTo>
                    <a:pt x="15572" y="6574"/>
                  </a:lnTo>
                  <a:lnTo>
                    <a:pt x="16074" y="6574"/>
                  </a:lnTo>
                  <a:lnTo>
                    <a:pt x="16326" y="6457"/>
                  </a:lnTo>
                  <a:lnTo>
                    <a:pt x="16577" y="6339"/>
                  </a:lnTo>
                  <a:lnTo>
                    <a:pt x="16828" y="6222"/>
                  </a:lnTo>
                  <a:lnTo>
                    <a:pt x="17079" y="6222"/>
                  </a:lnTo>
                  <a:lnTo>
                    <a:pt x="17330" y="5987"/>
                  </a:lnTo>
                  <a:lnTo>
                    <a:pt x="17330" y="5870"/>
                  </a:lnTo>
                  <a:lnTo>
                    <a:pt x="17581" y="5635"/>
                  </a:lnTo>
                  <a:lnTo>
                    <a:pt x="17581" y="1526"/>
                  </a:lnTo>
                  <a:lnTo>
                    <a:pt x="17330" y="1291"/>
                  </a:lnTo>
                  <a:lnTo>
                    <a:pt x="17330" y="1174"/>
                  </a:lnTo>
                  <a:lnTo>
                    <a:pt x="17079" y="1057"/>
                  </a:lnTo>
                  <a:lnTo>
                    <a:pt x="16828" y="939"/>
                  </a:lnTo>
                  <a:lnTo>
                    <a:pt x="16577" y="822"/>
                  </a:lnTo>
                  <a:lnTo>
                    <a:pt x="16326" y="704"/>
                  </a:lnTo>
                  <a:lnTo>
                    <a:pt x="16074" y="704"/>
                  </a:lnTo>
                  <a:lnTo>
                    <a:pt x="15572" y="587"/>
                  </a:lnTo>
                  <a:lnTo>
                    <a:pt x="6028" y="587"/>
                  </a:lnTo>
                  <a:lnTo>
                    <a:pt x="5526" y="704"/>
                  </a:lnTo>
                  <a:lnTo>
                    <a:pt x="5274" y="704"/>
                  </a:lnTo>
                  <a:lnTo>
                    <a:pt x="5023" y="822"/>
                  </a:lnTo>
                  <a:lnTo>
                    <a:pt x="4772" y="939"/>
                  </a:lnTo>
                  <a:lnTo>
                    <a:pt x="4521" y="1057"/>
                  </a:lnTo>
                  <a:lnTo>
                    <a:pt x="4270" y="1174"/>
                  </a:lnTo>
                  <a:lnTo>
                    <a:pt x="4270" y="1291"/>
                  </a:lnTo>
                  <a:lnTo>
                    <a:pt x="4019" y="1526"/>
                  </a:lnTo>
                  <a:lnTo>
                    <a:pt x="4019" y="5635"/>
                  </a:lnTo>
                  <a:lnTo>
                    <a:pt x="4270" y="5870"/>
                  </a:lnTo>
                  <a:lnTo>
                    <a:pt x="4270" y="5987"/>
                  </a:lnTo>
                  <a:lnTo>
                    <a:pt x="4521" y="6222"/>
                  </a:lnTo>
                  <a:lnTo>
                    <a:pt x="4772" y="6222"/>
                  </a:lnTo>
                  <a:lnTo>
                    <a:pt x="5023" y="6339"/>
                  </a:lnTo>
                  <a:lnTo>
                    <a:pt x="5274" y="6457"/>
                  </a:lnTo>
                  <a:lnTo>
                    <a:pt x="5526" y="6574"/>
                  </a:lnTo>
                  <a:lnTo>
                    <a:pt x="6028" y="6574"/>
                  </a:lnTo>
                  <a:close/>
                </a:path>
                <a:path w="21600" h="21600">
                  <a:moveTo>
                    <a:pt x="6028" y="13617"/>
                  </a:moveTo>
                  <a:lnTo>
                    <a:pt x="15572" y="13617"/>
                  </a:lnTo>
                  <a:lnTo>
                    <a:pt x="16074" y="13617"/>
                  </a:lnTo>
                  <a:lnTo>
                    <a:pt x="16326" y="13617"/>
                  </a:lnTo>
                  <a:lnTo>
                    <a:pt x="16577" y="13500"/>
                  </a:lnTo>
                  <a:lnTo>
                    <a:pt x="16828" y="13383"/>
                  </a:lnTo>
                  <a:lnTo>
                    <a:pt x="17079" y="13265"/>
                  </a:lnTo>
                  <a:lnTo>
                    <a:pt x="17330" y="13148"/>
                  </a:lnTo>
                  <a:lnTo>
                    <a:pt x="17330" y="12913"/>
                  </a:lnTo>
                  <a:lnTo>
                    <a:pt x="17581" y="12796"/>
                  </a:lnTo>
                  <a:lnTo>
                    <a:pt x="17581" y="8687"/>
                  </a:lnTo>
                  <a:lnTo>
                    <a:pt x="17330" y="8452"/>
                  </a:lnTo>
                  <a:lnTo>
                    <a:pt x="17330" y="8335"/>
                  </a:lnTo>
                  <a:lnTo>
                    <a:pt x="17079" y="8217"/>
                  </a:lnTo>
                  <a:lnTo>
                    <a:pt x="16828" y="7983"/>
                  </a:lnTo>
                  <a:lnTo>
                    <a:pt x="16577" y="7983"/>
                  </a:lnTo>
                  <a:lnTo>
                    <a:pt x="16326" y="7865"/>
                  </a:lnTo>
                  <a:lnTo>
                    <a:pt x="16074" y="7865"/>
                  </a:lnTo>
                  <a:lnTo>
                    <a:pt x="15572" y="7748"/>
                  </a:lnTo>
                  <a:lnTo>
                    <a:pt x="6028" y="7748"/>
                  </a:lnTo>
                  <a:lnTo>
                    <a:pt x="5526" y="7865"/>
                  </a:lnTo>
                  <a:lnTo>
                    <a:pt x="5274" y="7865"/>
                  </a:lnTo>
                  <a:lnTo>
                    <a:pt x="5023" y="7983"/>
                  </a:lnTo>
                  <a:lnTo>
                    <a:pt x="4772" y="7983"/>
                  </a:lnTo>
                  <a:lnTo>
                    <a:pt x="4521" y="8217"/>
                  </a:lnTo>
                  <a:lnTo>
                    <a:pt x="4270" y="8335"/>
                  </a:lnTo>
                  <a:lnTo>
                    <a:pt x="4270" y="8452"/>
                  </a:lnTo>
                  <a:lnTo>
                    <a:pt x="4019" y="8687"/>
                  </a:lnTo>
                  <a:lnTo>
                    <a:pt x="4019" y="12796"/>
                  </a:lnTo>
                  <a:lnTo>
                    <a:pt x="4270" y="12913"/>
                  </a:lnTo>
                  <a:lnTo>
                    <a:pt x="4270" y="13148"/>
                  </a:lnTo>
                  <a:lnTo>
                    <a:pt x="4521" y="13265"/>
                  </a:lnTo>
                  <a:lnTo>
                    <a:pt x="4772" y="13383"/>
                  </a:lnTo>
                  <a:lnTo>
                    <a:pt x="5023" y="13500"/>
                  </a:lnTo>
                  <a:lnTo>
                    <a:pt x="5274" y="13617"/>
                  </a:lnTo>
                  <a:lnTo>
                    <a:pt x="5526" y="13617"/>
                  </a:lnTo>
                  <a:lnTo>
                    <a:pt x="6028" y="13617"/>
                  </a:lnTo>
                  <a:close/>
                </a:path>
                <a:path w="21600" h="21600">
                  <a:moveTo>
                    <a:pt x="6028" y="20778"/>
                  </a:moveTo>
                  <a:lnTo>
                    <a:pt x="15572" y="20778"/>
                  </a:lnTo>
                  <a:lnTo>
                    <a:pt x="16074" y="20778"/>
                  </a:lnTo>
                  <a:lnTo>
                    <a:pt x="16326" y="20661"/>
                  </a:lnTo>
                  <a:lnTo>
                    <a:pt x="16577" y="20661"/>
                  </a:lnTo>
                  <a:lnTo>
                    <a:pt x="16828" y="20543"/>
                  </a:lnTo>
                  <a:lnTo>
                    <a:pt x="17079" y="20426"/>
                  </a:lnTo>
                  <a:lnTo>
                    <a:pt x="17330" y="20309"/>
                  </a:lnTo>
                  <a:lnTo>
                    <a:pt x="17330" y="20074"/>
                  </a:lnTo>
                  <a:lnTo>
                    <a:pt x="17581" y="19957"/>
                  </a:lnTo>
                  <a:lnTo>
                    <a:pt x="17581" y="15730"/>
                  </a:lnTo>
                  <a:lnTo>
                    <a:pt x="17330" y="15613"/>
                  </a:lnTo>
                  <a:lnTo>
                    <a:pt x="17330" y="15378"/>
                  </a:lnTo>
                  <a:lnTo>
                    <a:pt x="17079" y="15378"/>
                  </a:lnTo>
                  <a:lnTo>
                    <a:pt x="16828" y="15143"/>
                  </a:lnTo>
                  <a:lnTo>
                    <a:pt x="16577" y="15026"/>
                  </a:lnTo>
                  <a:lnTo>
                    <a:pt x="16326" y="15026"/>
                  </a:lnTo>
                  <a:lnTo>
                    <a:pt x="16074" y="15026"/>
                  </a:lnTo>
                  <a:lnTo>
                    <a:pt x="15572" y="14909"/>
                  </a:lnTo>
                  <a:lnTo>
                    <a:pt x="6028" y="14909"/>
                  </a:lnTo>
                  <a:lnTo>
                    <a:pt x="5526" y="15026"/>
                  </a:lnTo>
                  <a:lnTo>
                    <a:pt x="5274" y="15026"/>
                  </a:lnTo>
                  <a:lnTo>
                    <a:pt x="5023" y="15026"/>
                  </a:lnTo>
                  <a:lnTo>
                    <a:pt x="4772" y="15143"/>
                  </a:lnTo>
                  <a:lnTo>
                    <a:pt x="4521" y="15378"/>
                  </a:lnTo>
                  <a:lnTo>
                    <a:pt x="4270" y="15378"/>
                  </a:lnTo>
                  <a:lnTo>
                    <a:pt x="4270" y="15613"/>
                  </a:lnTo>
                  <a:lnTo>
                    <a:pt x="4019" y="15730"/>
                  </a:lnTo>
                  <a:lnTo>
                    <a:pt x="4019" y="19957"/>
                  </a:lnTo>
                  <a:lnTo>
                    <a:pt x="4270" y="20074"/>
                  </a:lnTo>
                  <a:lnTo>
                    <a:pt x="4270" y="20309"/>
                  </a:lnTo>
                  <a:lnTo>
                    <a:pt x="4521" y="20426"/>
                  </a:lnTo>
                  <a:lnTo>
                    <a:pt x="4772" y="20543"/>
                  </a:lnTo>
                  <a:lnTo>
                    <a:pt x="5023" y="20661"/>
                  </a:lnTo>
                  <a:lnTo>
                    <a:pt x="5274" y="20661"/>
                  </a:lnTo>
                  <a:lnTo>
                    <a:pt x="5526" y="20778"/>
                  </a:lnTo>
                  <a:lnTo>
                    <a:pt x="6028" y="20778"/>
                  </a:lnTo>
                  <a:close/>
                </a:path>
                <a:path w="21600" h="21600">
                  <a:moveTo>
                    <a:pt x="753" y="1291"/>
                  </a:moveTo>
                  <a:lnTo>
                    <a:pt x="2260" y="1291"/>
                  </a:lnTo>
                  <a:lnTo>
                    <a:pt x="2260" y="235"/>
                  </a:lnTo>
                  <a:lnTo>
                    <a:pt x="753" y="235"/>
                  </a:lnTo>
                  <a:lnTo>
                    <a:pt x="753" y="1291"/>
                  </a:lnTo>
                  <a:close/>
                </a:path>
                <a:path w="21600" h="21600">
                  <a:moveTo>
                    <a:pt x="753" y="2700"/>
                  </a:moveTo>
                  <a:lnTo>
                    <a:pt x="2260" y="2700"/>
                  </a:lnTo>
                  <a:lnTo>
                    <a:pt x="2260" y="1643"/>
                  </a:lnTo>
                  <a:lnTo>
                    <a:pt x="753" y="1643"/>
                  </a:lnTo>
                  <a:lnTo>
                    <a:pt x="753" y="2700"/>
                  </a:lnTo>
                  <a:close/>
                </a:path>
                <a:path w="21600" h="21600">
                  <a:moveTo>
                    <a:pt x="753" y="4109"/>
                  </a:moveTo>
                  <a:lnTo>
                    <a:pt x="2260" y="4109"/>
                  </a:lnTo>
                  <a:lnTo>
                    <a:pt x="2260" y="3052"/>
                  </a:lnTo>
                  <a:lnTo>
                    <a:pt x="753" y="3052"/>
                  </a:lnTo>
                  <a:lnTo>
                    <a:pt x="753" y="4109"/>
                  </a:lnTo>
                  <a:close/>
                </a:path>
                <a:path w="21600" h="21600">
                  <a:moveTo>
                    <a:pt x="753" y="5517"/>
                  </a:moveTo>
                  <a:lnTo>
                    <a:pt x="2260" y="5517"/>
                  </a:lnTo>
                  <a:lnTo>
                    <a:pt x="2260" y="4461"/>
                  </a:lnTo>
                  <a:lnTo>
                    <a:pt x="753" y="4461"/>
                  </a:lnTo>
                  <a:lnTo>
                    <a:pt x="753" y="5517"/>
                  </a:lnTo>
                  <a:close/>
                </a:path>
                <a:path w="21600" h="21600">
                  <a:moveTo>
                    <a:pt x="753" y="6926"/>
                  </a:moveTo>
                  <a:lnTo>
                    <a:pt x="2260" y="6926"/>
                  </a:lnTo>
                  <a:lnTo>
                    <a:pt x="2260" y="5870"/>
                  </a:lnTo>
                  <a:lnTo>
                    <a:pt x="753" y="5870"/>
                  </a:lnTo>
                  <a:lnTo>
                    <a:pt x="753" y="6926"/>
                  </a:lnTo>
                  <a:close/>
                </a:path>
                <a:path w="21600" h="21600">
                  <a:moveTo>
                    <a:pt x="753" y="8335"/>
                  </a:moveTo>
                  <a:lnTo>
                    <a:pt x="2260" y="8335"/>
                  </a:lnTo>
                  <a:lnTo>
                    <a:pt x="2260" y="7278"/>
                  </a:lnTo>
                  <a:lnTo>
                    <a:pt x="753" y="7278"/>
                  </a:lnTo>
                  <a:lnTo>
                    <a:pt x="753" y="8335"/>
                  </a:lnTo>
                  <a:close/>
                </a:path>
                <a:path w="21600" h="21600">
                  <a:moveTo>
                    <a:pt x="753" y="9743"/>
                  </a:moveTo>
                  <a:lnTo>
                    <a:pt x="2260" y="9743"/>
                  </a:lnTo>
                  <a:lnTo>
                    <a:pt x="2260" y="8687"/>
                  </a:lnTo>
                  <a:lnTo>
                    <a:pt x="753" y="8687"/>
                  </a:lnTo>
                  <a:lnTo>
                    <a:pt x="753" y="9743"/>
                  </a:lnTo>
                  <a:close/>
                </a:path>
                <a:path w="21600" h="21600">
                  <a:moveTo>
                    <a:pt x="753" y="11152"/>
                  </a:moveTo>
                  <a:lnTo>
                    <a:pt x="2260" y="11152"/>
                  </a:lnTo>
                  <a:lnTo>
                    <a:pt x="2260" y="10096"/>
                  </a:lnTo>
                  <a:lnTo>
                    <a:pt x="753" y="10096"/>
                  </a:lnTo>
                  <a:lnTo>
                    <a:pt x="753" y="11152"/>
                  </a:lnTo>
                  <a:close/>
                </a:path>
                <a:path w="21600" h="21600">
                  <a:moveTo>
                    <a:pt x="753" y="12561"/>
                  </a:moveTo>
                  <a:lnTo>
                    <a:pt x="2260" y="12561"/>
                  </a:lnTo>
                  <a:lnTo>
                    <a:pt x="2260" y="11504"/>
                  </a:lnTo>
                  <a:lnTo>
                    <a:pt x="753" y="11504"/>
                  </a:lnTo>
                  <a:lnTo>
                    <a:pt x="753" y="12561"/>
                  </a:lnTo>
                  <a:close/>
                </a:path>
                <a:path w="21600" h="21600">
                  <a:moveTo>
                    <a:pt x="753" y="13970"/>
                  </a:moveTo>
                  <a:lnTo>
                    <a:pt x="2260" y="13970"/>
                  </a:lnTo>
                  <a:lnTo>
                    <a:pt x="2260" y="12913"/>
                  </a:lnTo>
                  <a:lnTo>
                    <a:pt x="753" y="12913"/>
                  </a:lnTo>
                  <a:lnTo>
                    <a:pt x="753" y="13970"/>
                  </a:lnTo>
                  <a:close/>
                </a:path>
                <a:path w="21600" h="21600">
                  <a:moveTo>
                    <a:pt x="753" y="15378"/>
                  </a:moveTo>
                  <a:lnTo>
                    <a:pt x="2260" y="15378"/>
                  </a:lnTo>
                  <a:lnTo>
                    <a:pt x="2260" y="14322"/>
                  </a:lnTo>
                  <a:lnTo>
                    <a:pt x="753" y="14322"/>
                  </a:lnTo>
                  <a:lnTo>
                    <a:pt x="753" y="15378"/>
                  </a:lnTo>
                  <a:close/>
                </a:path>
                <a:path w="21600" h="21600">
                  <a:moveTo>
                    <a:pt x="753" y="16787"/>
                  </a:moveTo>
                  <a:lnTo>
                    <a:pt x="2260" y="16787"/>
                  </a:lnTo>
                  <a:lnTo>
                    <a:pt x="2260" y="15730"/>
                  </a:lnTo>
                  <a:lnTo>
                    <a:pt x="753" y="15730"/>
                  </a:lnTo>
                  <a:lnTo>
                    <a:pt x="753" y="16787"/>
                  </a:lnTo>
                  <a:close/>
                </a:path>
                <a:path w="21600" h="21600">
                  <a:moveTo>
                    <a:pt x="753" y="18196"/>
                  </a:moveTo>
                  <a:lnTo>
                    <a:pt x="2260" y="18196"/>
                  </a:lnTo>
                  <a:lnTo>
                    <a:pt x="2260" y="17139"/>
                  </a:lnTo>
                  <a:lnTo>
                    <a:pt x="753" y="17139"/>
                  </a:lnTo>
                  <a:lnTo>
                    <a:pt x="753" y="18196"/>
                  </a:lnTo>
                  <a:close/>
                </a:path>
                <a:path w="21600" h="21600">
                  <a:moveTo>
                    <a:pt x="753" y="19604"/>
                  </a:moveTo>
                  <a:lnTo>
                    <a:pt x="2260" y="19604"/>
                  </a:lnTo>
                  <a:lnTo>
                    <a:pt x="2260" y="18548"/>
                  </a:lnTo>
                  <a:lnTo>
                    <a:pt x="753" y="18548"/>
                  </a:lnTo>
                  <a:lnTo>
                    <a:pt x="753" y="19604"/>
                  </a:lnTo>
                  <a:close/>
                </a:path>
                <a:path w="21600" h="21600">
                  <a:moveTo>
                    <a:pt x="753" y="21013"/>
                  </a:moveTo>
                  <a:lnTo>
                    <a:pt x="2260" y="21013"/>
                  </a:lnTo>
                  <a:lnTo>
                    <a:pt x="2260" y="19957"/>
                  </a:lnTo>
                  <a:lnTo>
                    <a:pt x="753" y="19957"/>
                  </a:lnTo>
                  <a:lnTo>
                    <a:pt x="753" y="21013"/>
                  </a:lnTo>
                  <a:close/>
                </a:path>
                <a:path w="21600" h="21600">
                  <a:moveTo>
                    <a:pt x="19340" y="1409"/>
                  </a:moveTo>
                  <a:lnTo>
                    <a:pt x="20595" y="1409"/>
                  </a:lnTo>
                  <a:lnTo>
                    <a:pt x="20595" y="352"/>
                  </a:lnTo>
                  <a:lnTo>
                    <a:pt x="19340" y="352"/>
                  </a:lnTo>
                  <a:lnTo>
                    <a:pt x="19340" y="1409"/>
                  </a:lnTo>
                  <a:close/>
                </a:path>
                <a:path w="21600" h="21600">
                  <a:moveTo>
                    <a:pt x="19340" y="2700"/>
                  </a:moveTo>
                  <a:lnTo>
                    <a:pt x="20595" y="2700"/>
                  </a:lnTo>
                  <a:lnTo>
                    <a:pt x="20595" y="1643"/>
                  </a:lnTo>
                  <a:lnTo>
                    <a:pt x="19340" y="1643"/>
                  </a:lnTo>
                  <a:lnTo>
                    <a:pt x="19340" y="2700"/>
                  </a:lnTo>
                  <a:close/>
                </a:path>
                <a:path w="21600" h="21600">
                  <a:moveTo>
                    <a:pt x="19340" y="4109"/>
                  </a:moveTo>
                  <a:lnTo>
                    <a:pt x="20595" y="4109"/>
                  </a:lnTo>
                  <a:lnTo>
                    <a:pt x="20595" y="3052"/>
                  </a:lnTo>
                  <a:lnTo>
                    <a:pt x="19340" y="3052"/>
                  </a:lnTo>
                  <a:lnTo>
                    <a:pt x="19340" y="4109"/>
                  </a:lnTo>
                  <a:close/>
                </a:path>
                <a:path w="21600" h="21600">
                  <a:moveTo>
                    <a:pt x="19340" y="5517"/>
                  </a:moveTo>
                  <a:lnTo>
                    <a:pt x="20595" y="5517"/>
                  </a:lnTo>
                  <a:lnTo>
                    <a:pt x="20595" y="4461"/>
                  </a:lnTo>
                  <a:lnTo>
                    <a:pt x="19340" y="4461"/>
                  </a:lnTo>
                  <a:lnTo>
                    <a:pt x="19340" y="5517"/>
                  </a:lnTo>
                  <a:close/>
                </a:path>
                <a:path w="21600" h="21600">
                  <a:moveTo>
                    <a:pt x="19340" y="6926"/>
                  </a:moveTo>
                  <a:lnTo>
                    <a:pt x="20595" y="6926"/>
                  </a:lnTo>
                  <a:lnTo>
                    <a:pt x="20595" y="5870"/>
                  </a:lnTo>
                  <a:lnTo>
                    <a:pt x="19340" y="5870"/>
                  </a:lnTo>
                  <a:lnTo>
                    <a:pt x="19340" y="6926"/>
                  </a:lnTo>
                  <a:close/>
                </a:path>
                <a:path w="21600" h="21600">
                  <a:moveTo>
                    <a:pt x="19340" y="8335"/>
                  </a:moveTo>
                  <a:lnTo>
                    <a:pt x="20595" y="8335"/>
                  </a:lnTo>
                  <a:lnTo>
                    <a:pt x="20595" y="7278"/>
                  </a:lnTo>
                  <a:lnTo>
                    <a:pt x="19340" y="7278"/>
                  </a:lnTo>
                  <a:lnTo>
                    <a:pt x="19340" y="8335"/>
                  </a:lnTo>
                  <a:close/>
                </a:path>
                <a:path w="21600" h="21600">
                  <a:moveTo>
                    <a:pt x="19340" y="9743"/>
                  </a:moveTo>
                  <a:lnTo>
                    <a:pt x="20595" y="9743"/>
                  </a:lnTo>
                  <a:lnTo>
                    <a:pt x="20595" y="8687"/>
                  </a:lnTo>
                  <a:lnTo>
                    <a:pt x="19340" y="8687"/>
                  </a:lnTo>
                  <a:lnTo>
                    <a:pt x="19340" y="9743"/>
                  </a:lnTo>
                  <a:close/>
                </a:path>
                <a:path w="21600" h="21600">
                  <a:moveTo>
                    <a:pt x="19340" y="11152"/>
                  </a:moveTo>
                  <a:lnTo>
                    <a:pt x="20595" y="11152"/>
                  </a:lnTo>
                  <a:lnTo>
                    <a:pt x="20595" y="10096"/>
                  </a:lnTo>
                  <a:lnTo>
                    <a:pt x="19340" y="10096"/>
                  </a:lnTo>
                  <a:lnTo>
                    <a:pt x="19340" y="11152"/>
                  </a:lnTo>
                  <a:close/>
                </a:path>
                <a:path w="21600" h="21600">
                  <a:moveTo>
                    <a:pt x="19340" y="12561"/>
                  </a:moveTo>
                  <a:lnTo>
                    <a:pt x="20595" y="12561"/>
                  </a:lnTo>
                  <a:lnTo>
                    <a:pt x="20595" y="11504"/>
                  </a:lnTo>
                  <a:lnTo>
                    <a:pt x="19340" y="11504"/>
                  </a:lnTo>
                  <a:lnTo>
                    <a:pt x="19340" y="12561"/>
                  </a:lnTo>
                  <a:close/>
                </a:path>
                <a:path w="21600" h="21600">
                  <a:moveTo>
                    <a:pt x="19340" y="13970"/>
                  </a:moveTo>
                  <a:lnTo>
                    <a:pt x="20595" y="13970"/>
                  </a:lnTo>
                  <a:lnTo>
                    <a:pt x="20595" y="12913"/>
                  </a:lnTo>
                  <a:lnTo>
                    <a:pt x="19340" y="12913"/>
                  </a:lnTo>
                  <a:lnTo>
                    <a:pt x="19340" y="13970"/>
                  </a:lnTo>
                  <a:close/>
                </a:path>
                <a:path w="21600" h="21600">
                  <a:moveTo>
                    <a:pt x="19340" y="15378"/>
                  </a:moveTo>
                  <a:lnTo>
                    <a:pt x="20595" y="15378"/>
                  </a:lnTo>
                  <a:lnTo>
                    <a:pt x="20595" y="14322"/>
                  </a:lnTo>
                  <a:lnTo>
                    <a:pt x="19340" y="14322"/>
                  </a:lnTo>
                  <a:lnTo>
                    <a:pt x="19340" y="15378"/>
                  </a:lnTo>
                  <a:close/>
                </a:path>
                <a:path w="21600" h="21600">
                  <a:moveTo>
                    <a:pt x="19340" y="16787"/>
                  </a:moveTo>
                  <a:lnTo>
                    <a:pt x="20595" y="16787"/>
                  </a:lnTo>
                  <a:lnTo>
                    <a:pt x="20595" y="15730"/>
                  </a:lnTo>
                  <a:lnTo>
                    <a:pt x="19340" y="15730"/>
                  </a:lnTo>
                  <a:lnTo>
                    <a:pt x="19340" y="16787"/>
                  </a:lnTo>
                  <a:close/>
                </a:path>
                <a:path w="21600" h="21600">
                  <a:moveTo>
                    <a:pt x="19340" y="18196"/>
                  </a:moveTo>
                  <a:lnTo>
                    <a:pt x="20595" y="18196"/>
                  </a:lnTo>
                  <a:lnTo>
                    <a:pt x="20595" y="17139"/>
                  </a:lnTo>
                  <a:lnTo>
                    <a:pt x="19340" y="17139"/>
                  </a:lnTo>
                  <a:lnTo>
                    <a:pt x="19340" y="18196"/>
                  </a:lnTo>
                  <a:close/>
                </a:path>
                <a:path w="21600" h="21600">
                  <a:moveTo>
                    <a:pt x="19340" y="19604"/>
                  </a:moveTo>
                  <a:lnTo>
                    <a:pt x="20595" y="19604"/>
                  </a:lnTo>
                  <a:lnTo>
                    <a:pt x="20595" y="18548"/>
                  </a:lnTo>
                  <a:lnTo>
                    <a:pt x="19340" y="18548"/>
                  </a:lnTo>
                  <a:lnTo>
                    <a:pt x="19340" y="19604"/>
                  </a:lnTo>
                  <a:close/>
                </a:path>
                <a:path w="21600" h="21600">
                  <a:moveTo>
                    <a:pt x="19340" y="21013"/>
                  </a:moveTo>
                  <a:lnTo>
                    <a:pt x="20595" y="21013"/>
                  </a:lnTo>
                  <a:lnTo>
                    <a:pt x="20595" y="19957"/>
                  </a:lnTo>
                  <a:lnTo>
                    <a:pt x="19340" y="19957"/>
                  </a:lnTo>
                  <a:lnTo>
                    <a:pt x="19340" y="21013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666666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Film"/>
            <p:cNvSpPr/>
            <p:nvPr/>
          </p:nvSpPr>
          <p:spPr>
            <a:xfrm rot="5400000">
              <a:off x="12125160" y="447480"/>
              <a:ext cx="1809720" cy="2895840"/>
            </a:xfrm>
            <a:custGeom>
              <a:avLst/>
              <a:gdLst>
                <a:gd name="textAreaLeft" fmla="*/ 415800 w 1809720"/>
                <a:gd name="textAreaRight" fmla="*/ 1430280 w 1809720"/>
                <a:gd name="textAreaTop" fmla="*/ 1089000 h 2895840"/>
                <a:gd name="textAreaBottom" fmla="*/ 1800360 h 289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lnTo>
                    <a:pt x="21600" y="0"/>
                  </a:lnTo>
                  <a:close/>
                </a:path>
                <a:path w="21600" h="21600">
                  <a:moveTo>
                    <a:pt x="3014" y="21600"/>
                  </a:moveTo>
                  <a:lnTo>
                    <a:pt x="3014" y="0"/>
                  </a:lnTo>
                  <a:lnTo>
                    <a:pt x="0" y="0"/>
                  </a:lnTo>
                  <a:lnTo>
                    <a:pt x="0" y="21600"/>
                  </a:lnTo>
                  <a:lnTo>
                    <a:pt x="3014" y="21600"/>
                  </a:lnTo>
                  <a:close/>
                </a:path>
                <a:path w="21600" h="21600">
                  <a:moveTo>
                    <a:pt x="21600" y="21600"/>
                  </a:moveTo>
                  <a:lnTo>
                    <a:pt x="21600" y="0"/>
                  </a:lnTo>
                  <a:lnTo>
                    <a:pt x="18586" y="0"/>
                  </a:lnTo>
                  <a:lnTo>
                    <a:pt x="18586" y="21600"/>
                  </a:lnTo>
                  <a:lnTo>
                    <a:pt x="21600" y="21600"/>
                  </a:lnTo>
                  <a:close/>
                </a:path>
                <a:path w="21600" h="21600">
                  <a:moveTo>
                    <a:pt x="6028" y="6574"/>
                  </a:moveTo>
                  <a:lnTo>
                    <a:pt x="15572" y="6574"/>
                  </a:lnTo>
                  <a:lnTo>
                    <a:pt x="16074" y="6574"/>
                  </a:lnTo>
                  <a:lnTo>
                    <a:pt x="16326" y="6457"/>
                  </a:lnTo>
                  <a:lnTo>
                    <a:pt x="16577" y="6339"/>
                  </a:lnTo>
                  <a:lnTo>
                    <a:pt x="16828" y="6222"/>
                  </a:lnTo>
                  <a:lnTo>
                    <a:pt x="17079" y="6222"/>
                  </a:lnTo>
                  <a:lnTo>
                    <a:pt x="17330" y="5987"/>
                  </a:lnTo>
                  <a:lnTo>
                    <a:pt x="17330" y="5870"/>
                  </a:lnTo>
                  <a:lnTo>
                    <a:pt x="17581" y="5635"/>
                  </a:lnTo>
                  <a:lnTo>
                    <a:pt x="17581" y="1526"/>
                  </a:lnTo>
                  <a:lnTo>
                    <a:pt x="17330" y="1291"/>
                  </a:lnTo>
                  <a:lnTo>
                    <a:pt x="17330" y="1174"/>
                  </a:lnTo>
                  <a:lnTo>
                    <a:pt x="17079" y="1057"/>
                  </a:lnTo>
                  <a:lnTo>
                    <a:pt x="16828" y="939"/>
                  </a:lnTo>
                  <a:lnTo>
                    <a:pt x="16577" y="822"/>
                  </a:lnTo>
                  <a:lnTo>
                    <a:pt x="16326" y="704"/>
                  </a:lnTo>
                  <a:lnTo>
                    <a:pt x="16074" y="704"/>
                  </a:lnTo>
                  <a:lnTo>
                    <a:pt x="15572" y="587"/>
                  </a:lnTo>
                  <a:lnTo>
                    <a:pt x="6028" y="587"/>
                  </a:lnTo>
                  <a:lnTo>
                    <a:pt x="5526" y="704"/>
                  </a:lnTo>
                  <a:lnTo>
                    <a:pt x="5274" y="704"/>
                  </a:lnTo>
                  <a:lnTo>
                    <a:pt x="5023" y="822"/>
                  </a:lnTo>
                  <a:lnTo>
                    <a:pt x="4772" y="939"/>
                  </a:lnTo>
                  <a:lnTo>
                    <a:pt x="4521" y="1057"/>
                  </a:lnTo>
                  <a:lnTo>
                    <a:pt x="4270" y="1174"/>
                  </a:lnTo>
                  <a:lnTo>
                    <a:pt x="4270" y="1291"/>
                  </a:lnTo>
                  <a:lnTo>
                    <a:pt x="4019" y="1526"/>
                  </a:lnTo>
                  <a:lnTo>
                    <a:pt x="4019" y="5635"/>
                  </a:lnTo>
                  <a:lnTo>
                    <a:pt x="4270" y="5870"/>
                  </a:lnTo>
                  <a:lnTo>
                    <a:pt x="4270" y="5987"/>
                  </a:lnTo>
                  <a:lnTo>
                    <a:pt x="4521" y="6222"/>
                  </a:lnTo>
                  <a:lnTo>
                    <a:pt x="4772" y="6222"/>
                  </a:lnTo>
                  <a:lnTo>
                    <a:pt x="5023" y="6339"/>
                  </a:lnTo>
                  <a:lnTo>
                    <a:pt x="5274" y="6457"/>
                  </a:lnTo>
                  <a:lnTo>
                    <a:pt x="5526" y="6574"/>
                  </a:lnTo>
                  <a:lnTo>
                    <a:pt x="6028" y="6574"/>
                  </a:lnTo>
                  <a:close/>
                </a:path>
                <a:path w="21600" h="21600">
                  <a:moveTo>
                    <a:pt x="6028" y="13617"/>
                  </a:moveTo>
                  <a:lnTo>
                    <a:pt x="15572" y="13617"/>
                  </a:lnTo>
                  <a:lnTo>
                    <a:pt x="16074" y="13617"/>
                  </a:lnTo>
                  <a:lnTo>
                    <a:pt x="16326" y="13617"/>
                  </a:lnTo>
                  <a:lnTo>
                    <a:pt x="16577" y="13500"/>
                  </a:lnTo>
                  <a:lnTo>
                    <a:pt x="16828" y="13383"/>
                  </a:lnTo>
                  <a:lnTo>
                    <a:pt x="17079" y="13265"/>
                  </a:lnTo>
                  <a:lnTo>
                    <a:pt x="17330" y="13148"/>
                  </a:lnTo>
                  <a:lnTo>
                    <a:pt x="17330" y="12913"/>
                  </a:lnTo>
                  <a:lnTo>
                    <a:pt x="17581" y="12796"/>
                  </a:lnTo>
                  <a:lnTo>
                    <a:pt x="17581" y="8687"/>
                  </a:lnTo>
                  <a:lnTo>
                    <a:pt x="17330" y="8452"/>
                  </a:lnTo>
                  <a:lnTo>
                    <a:pt x="17330" y="8335"/>
                  </a:lnTo>
                  <a:lnTo>
                    <a:pt x="17079" y="8217"/>
                  </a:lnTo>
                  <a:lnTo>
                    <a:pt x="16828" y="7983"/>
                  </a:lnTo>
                  <a:lnTo>
                    <a:pt x="16577" y="7983"/>
                  </a:lnTo>
                  <a:lnTo>
                    <a:pt x="16326" y="7865"/>
                  </a:lnTo>
                  <a:lnTo>
                    <a:pt x="16074" y="7865"/>
                  </a:lnTo>
                  <a:lnTo>
                    <a:pt x="15572" y="7748"/>
                  </a:lnTo>
                  <a:lnTo>
                    <a:pt x="6028" y="7748"/>
                  </a:lnTo>
                  <a:lnTo>
                    <a:pt x="5526" y="7865"/>
                  </a:lnTo>
                  <a:lnTo>
                    <a:pt x="5274" y="7865"/>
                  </a:lnTo>
                  <a:lnTo>
                    <a:pt x="5023" y="7983"/>
                  </a:lnTo>
                  <a:lnTo>
                    <a:pt x="4772" y="7983"/>
                  </a:lnTo>
                  <a:lnTo>
                    <a:pt x="4521" y="8217"/>
                  </a:lnTo>
                  <a:lnTo>
                    <a:pt x="4270" y="8335"/>
                  </a:lnTo>
                  <a:lnTo>
                    <a:pt x="4270" y="8452"/>
                  </a:lnTo>
                  <a:lnTo>
                    <a:pt x="4019" y="8687"/>
                  </a:lnTo>
                  <a:lnTo>
                    <a:pt x="4019" y="12796"/>
                  </a:lnTo>
                  <a:lnTo>
                    <a:pt x="4270" y="12913"/>
                  </a:lnTo>
                  <a:lnTo>
                    <a:pt x="4270" y="13148"/>
                  </a:lnTo>
                  <a:lnTo>
                    <a:pt x="4521" y="13265"/>
                  </a:lnTo>
                  <a:lnTo>
                    <a:pt x="4772" y="13383"/>
                  </a:lnTo>
                  <a:lnTo>
                    <a:pt x="5023" y="13500"/>
                  </a:lnTo>
                  <a:lnTo>
                    <a:pt x="5274" y="13617"/>
                  </a:lnTo>
                  <a:lnTo>
                    <a:pt x="5526" y="13617"/>
                  </a:lnTo>
                  <a:lnTo>
                    <a:pt x="6028" y="13617"/>
                  </a:lnTo>
                  <a:close/>
                </a:path>
                <a:path w="21600" h="21600">
                  <a:moveTo>
                    <a:pt x="6028" y="20778"/>
                  </a:moveTo>
                  <a:lnTo>
                    <a:pt x="15572" y="20778"/>
                  </a:lnTo>
                  <a:lnTo>
                    <a:pt x="16074" y="20778"/>
                  </a:lnTo>
                  <a:lnTo>
                    <a:pt x="16326" y="20661"/>
                  </a:lnTo>
                  <a:lnTo>
                    <a:pt x="16577" y="20661"/>
                  </a:lnTo>
                  <a:lnTo>
                    <a:pt x="16828" y="20543"/>
                  </a:lnTo>
                  <a:lnTo>
                    <a:pt x="17079" y="20426"/>
                  </a:lnTo>
                  <a:lnTo>
                    <a:pt x="17330" y="20309"/>
                  </a:lnTo>
                  <a:lnTo>
                    <a:pt x="17330" y="20074"/>
                  </a:lnTo>
                  <a:lnTo>
                    <a:pt x="17581" y="19957"/>
                  </a:lnTo>
                  <a:lnTo>
                    <a:pt x="17581" y="15730"/>
                  </a:lnTo>
                  <a:lnTo>
                    <a:pt x="17330" y="15613"/>
                  </a:lnTo>
                  <a:lnTo>
                    <a:pt x="17330" y="15378"/>
                  </a:lnTo>
                  <a:lnTo>
                    <a:pt x="17079" y="15378"/>
                  </a:lnTo>
                  <a:lnTo>
                    <a:pt x="16828" y="15143"/>
                  </a:lnTo>
                  <a:lnTo>
                    <a:pt x="16577" y="15026"/>
                  </a:lnTo>
                  <a:lnTo>
                    <a:pt x="16326" y="15026"/>
                  </a:lnTo>
                  <a:lnTo>
                    <a:pt x="16074" y="15026"/>
                  </a:lnTo>
                  <a:lnTo>
                    <a:pt x="15572" y="14909"/>
                  </a:lnTo>
                  <a:lnTo>
                    <a:pt x="6028" y="14909"/>
                  </a:lnTo>
                  <a:lnTo>
                    <a:pt x="5526" y="15026"/>
                  </a:lnTo>
                  <a:lnTo>
                    <a:pt x="5274" y="15026"/>
                  </a:lnTo>
                  <a:lnTo>
                    <a:pt x="5023" y="15026"/>
                  </a:lnTo>
                  <a:lnTo>
                    <a:pt x="4772" y="15143"/>
                  </a:lnTo>
                  <a:lnTo>
                    <a:pt x="4521" y="15378"/>
                  </a:lnTo>
                  <a:lnTo>
                    <a:pt x="4270" y="15378"/>
                  </a:lnTo>
                  <a:lnTo>
                    <a:pt x="4270" y="15613"/>
                  </a:lnTo>
                  <a:lnTo>
                    <a:pt x="4019" y="15730"/>
                  </a:lnTo>
                  <a:lnTo>
                    <a:pt x="4019" y="19957"/>
                  </a:lnTo>
                  <a:lnTo>
                    <a:pt x="4270" y="20074"/>
                  </a:lnTo>
                  <a:lnTo>
                    <a:pt x="4270" y="20309"/>
                  </a:lnTo>
                  <a:lnTo>
                    <a:pt x="4521" y="20426"/>
                  </a:lnTo>
                  <a:lnTo>
                    <a:pt x="4772" y="20543"/>
                  </a:lnTo>
                  <a:lnTo>
                    <a:pt x="5023" y="20661"/>
                  </a:lnTo>
                  <a:lnTo>
                    <a:pt x="5274" y="20661"/>
                  </a:lnTo>
                  <a:lnTo>
                    <a:pt x="5526" y="20778"/>
                  </a:lnTo>
                  <a:lnTo>
                    <a:pt x="6028" y="20778"/>
                  </a:lnTo>
                  <a:close/>
                </a:path>
                <a:path w="21600" h="21600">
                  <a:moveTo>
                    <a:pt x="753" y="1291"/>
                  </a:moveTo>
                  <a:lnTo>
                    <a:pt x="2260" y="1291"/>
                  </a:lnTo>
                  <a:lnTo>
                    <a:pt x="2260" y="235"/>
                  </a:lnTo>
                  <a:lnTo>
                    <a:pt x="753" y="235"/>
                  </a:lnTo>
                  <a:lnTo>
                    <a:pt x="753" y="1291"/>
                  </a:lnTo>
                  <a:close/>
                </a:path>
                <a:path w="21600" h="21600">
                  <a:moveTo>
                    <a:pt x="753" y="2700"/>
                  </a:moveTo>
                  <a:lnTo>
                    <a:pt x="2260" y="2700"/>
                  </a:lnTo>
                  <a:lnTo>
                    <a:pt x="2260" y="1643"/>
                  </a:lnTo>
                  <a:lnTo>
                    <a:pt x="753" y="1643"/>
                  </a:lnTo>
                  <a:lnTo>
                    <a:pt x="753" y="2700"/>
                  </a:lnTo>
                  <a:close/>
                </a:path>
                <a:path w="21600" h="21600">
                  <a:moveTo>
                    <a:pt x="753" y="4109"/>
                  </a:moveTo>
                  <a:lnTo>
                    <a:pt x="2260" y="4109"/>
                  </a:lnTo>
                  <a:lnTo>
                    <a:pt x="2260" y="3052"/>
                  </a:lnTo>
                  <a:lnTo>
                    <a:pt x="753" y="3052"/>
                  </a:lnTo>
                  <a:lnTo>
                    <a:pt x="753" y="4109"/>
                  </a:lnTo>
                  <a:close/>
                </a:path>
                <a:path w="21600" h="21600">
                  <a:moveTo>
                    <a:pt x="753" y="5517"/>
                  </a:moveTo>
                  <a:lnTo>
                    <a:pt x="2260" y="5517"/>
                  </a:lnTo>
                  <a:lnTo>
                    <a:pt x="2260" y="4461"/>
                  </a:lnTo>
                  <a:lnTo>
                    <a:pt x="753" y="4461"/>
                  </a:lnTo>
                  <a:lnTo>
                    <a:pt x="753" y="5517"/>
                  </a:lnTo>
                  <a:close/>
                </a:path>
                <a:path w="21600" h="21600">
                  <a:moveTo>
                    <a:pt x="753" y="6926"/>
                  </a:moveTo>
                  <a:lnTo>
                    <a:pt x="2260" y="6926"/>
                  </a:lnTo>
                  <a:lnTo>
                    <a:pt x="2260" y="5870"/>
                  </a:lnTo>
                  <a:lnTo>
                    <a:pt x="753" y="5870"/>
                  </a:lnTo>
                  <a:lnTo>
                    <a:pt x="753" y="6926"/>
                  </a:lnTo>
                  <a:close/>
                </a:path>
                <a:path w="21600" h="21600">
                  <a:moveTo>
                    <a:pt x="753" y="8335"/>
                  </a:moveTo>
                  <a:lnTo>
                    <a:pt x="2260" y="8335"/>
                  </a:lnTo>
                  <a:lnTo>
                    <a:pt x="2260" y="7278"/>
                  </a:lnTo>
                  <a:lnTo>
                    <a:pt x="753" y="7278"/>
                  </a:lnTo>
                  <a:lnTo>
                    <a:pt x="753" y="8335"/>
                  </a:lnTo>
                  <a:close/>
                </a:path>
                <a:path w="21600" h="21600">
                  <a:moveTo>
                    <a:pt x="753" y="9743"/>
                  </a:moveTo>
                  <a:lnTo>
                    <a:pt x="2260" y="9743"/>
                  </a:lnTo>
                  <a:lnTo>
                    <a:pt x="2260" y="8687"/>
                  </a:lnTo>
                  <a:lnTo>
                    <a:pt x="753" y="8687"/>
                  </a:lnTo>
                  <a:lnTo>
                    <a:pt x="753" y="9743"/>
                  </a:lnTo>
                  <a:close/>
                </a:path>
                <a:path w="21600" h="21600">
                  <a:moveTo>
                    <a:pt x="753" y="11152"/>
                  </a:moveTo>
                  <a:lnTo>
                    <a:pt x="2260" y="11152"/>
                  </a:lnTo>
                  <a:lnTo>
                    <a:pt x="2260" y="10096"/>
                  </a:lnTo>
                  <a:lnTo>
                    <a:pt x="753" y="10096"/>
                  </a:lnTo>
                  <a:lnTo>
                    <a:pt x="753" y="11152"/>
                  </a:lnTo>
                  <a:close/>
                </a:path>
                <a:path w="21600" h="21600">
                  <a:moveTo>
                    <a:pt x="753" y="12561"/>
                  </a:moveTo>
                  <a:lnTo>
                    <a:pt x="2260" y="12561"/>
                  </a:lnTo>
                  <a:lnTo>
                    <a:pt x="2260" y="11504"/>
                  </a:lnTo>
                  <a:lnTo>
                    <a:pt x="753" y="11504"/>
                  </a:lnTo>
                  <a:lnTo>
                    <a:pt x="753" y="12561"/>
                  </a:lnTo>
                  <a:close/>
                </a:path>
                <a:path w="21600" h="21600">
                  <a:moveTo>
                    <a:pt x="753" y="13970"/>
                  </a:moveTo>
                  <a:lnTo>
                    <a:pt x="2260" y="13970"/>
                  </a:lnTo>
                  <a:lnTo>
                    <a:pt x="2260" y="12913"/>
                  </a:lnTo>
                  <a:lnTo>
                    <a:pt x="753" y="12913"/>
                  </a:lnTo>
                  <a:lnTo>
                    <a:pt x="753" y="13970"/>
                  </a:lnTo>
                  <a:close/>
                </a:path>
                <a:path w="21600" h="21600">
                  <a:moveTo>
                    <a:pt x="753" y="15378"/>
                  </a:moveTo>
                  <a:lnTo>
                    <a:pt x="2260" y="15378"/>
                  </a:lnTo>
                  <a:lnTo>
                    <a:pt x="2260" y="14322"/>
                  </a:lnTo>
                  <a:lnTo>
                    <a:pt x="753" y="14322"/>
                  </a:lnTo>
                  <a:lnTo>
                    <a:pt x="753" y="15378"/>
                  </a:lnTo>
                  <a:close/>
                </a:path>
                <a:path w="21600" h="21600">
                  <a:moveTo>
                    <a:pt x="753" y="16787"/>
                  </a:moveTo>
                  <a:lnTo>
                    <a:pt x="2260" y="16787"/>
                  </a:lnTo>
                  <a:lnTo>
                    <a:pt x="2260" y="15730"/>
                  </a:lnTo>
                  <a:lnTo>
                    <a:pt x="753" y="15730"/>
                  </a:lnTo>
                  <a:lnTo>
                    <a:pt x="753" y="16787"/>
                  </a:lnTo>
                  <a:close/>
                </a:path>
                <a:path w="21600" h="21600">
                  <a:moveTo>
                    <a:pt x="753" y="18196"/>
                  </a:moveTo>
                  <a:lnTo>
                    <a:pt x="2260" y="18196"/>
                  </a:lnTo>
                  <a:lnTo>
                    <a:pt x="2260" y="17139"/>
                  </a:lnTo>
                  <a:lnTo>
                    <a:pt x="753" y="17139"/>
                  </a:lnTo>
                  <a:lnTo>
                    <a:pt x="753" y="18196"/>
                  </a:lnTo>
                  <a:close/>
                </a:path>
                <a:path w="21600" h="21600">
                  <a:moveTo>
                    <a:pt x="753" y="19604"/>
                  </a:moveTo>
                  <a:lnTo>
                    <a:pt x="2260" y="19604"/>
                  </a:lnTo>
                  <a:lnTo>
                    <a:pt x="2260" y="18548"/>
                  </a:lnTo>
                  <a:lnTo>
                    <a:pt x="753" y="18548"/>
                  </a:lnTo>
                  <a:lnTo>
                    <a:pt x="753" y="19604"/>
                  </a:lnTo>
                  <a:close/>
                </a:path>
                <a:path w="21600" h="21600">
                  <a:moveTo>
                    <a:pt x="753" y="21013"/>
                  </a:moveTo>
                  <a:lnTo>
                    <a:pt x="2260" y="21013"/>
                  </a:lnTo>
                  <a:lnTo>
                    <a:pt x="2260" y="19957"/>
                  </a:lnTo>
                  <a:lnTo>
                    <a:pt x="753" y="19957"/>
                  </a:lnTo>
                  <a:lnTo>
                    <a:pt x="753" y="21013"/>
                  </a:lnTo>
                  <a:close/>
                </a:path>
                <a:path w="21600" h="21600">
                  <a:moveTo>
                    <a:pt x="19340" y="1409"/>
                  </a:moveTo>
                  <a:lnTo>
                    <a:pt x="20595" y="1409"/>
                  </a:lnTo>
                  <a:lnTo>
                    <a:pt x="20595" y="352"/>
                  </a:lnTo>
                  <a:lnTo>
                    <a:pt x="19340" y="352"/>
                  </a:lnTo>
                  <a:lnTo>
                    <a:pt x="19340" y="1409"/>
                  </a:lnTo>
                  <a:close/>
                </a:path>
                <a:path w="21600" h="21600">
                  <a:moveTo>
                    <a:pt x="19340" y="2700"/>
                  </a:moveTo>
                  <a:lnTo>
                    <a:pt x="20595" y="2700"/>
                  </a:lnTo>
                  <a:lnTo>
                    <a:pt x="20595" y="1643"/>
                  </a:lnTo>
                  <a:lnTo>
                    <a:pt x="19340" y="1643"/>
                  </a:lnTo>
                  <a:lnTo>
                    <a:pt x="19340" y="2700"/>
                  </a:lnTo>
                  <a:close/>
                </a:path>
                <a:path w="21600" h="21600">
                  <a:moveTo>
                    <a:pt x="19340" y="4109"/>
                  </a:moveTo>
                  <a:lnTo>
                    <a:pt x="20595" y="4109"/>
                  </a:lnTo>
                  <a:lnTo>
                    <a:pt x="20595" y="3052"/>
                  </a:lnTo>
                  <a:lnTo>
                    <a:pt x="19340" y="3052"/>
                  </a:lnTo>
                  <a:lnTo>
                    <a:pt x="19340" y="4109"/>
                  </a:lnTo>
                  <a:close/>
                </a:path>
                <a:path w="21600" h="21600">
                  <a:moveTo>
                    <a:pt x="19340" y="5517"/>
                  </a:moveTo>
                  <a:lnTo>
                    <a:pt x="20595" y="5517"/>
                  </a:lnTo>
                  <a:lnTo>
                    <a:pt x="20595" y="4461"/>
                  </a:lnTo>
                  <a:lnTo>
                    <a:pt x="19340" y="4461"/>
                  </a:lnTo>
                  <a:lnTo>
                    <a:pt x="19340" y="5517"/>
                  </a:lnTo>
                  <a:close/>
                </a:path>
                <a:path w="21600" h="21600">
                  <a:moveTo>
                    <a:pt x="19340" y="6926"/>
                  </a:moveTo>
                  <a:lnTo>
                    <a:pt x="20595" y="6926"/>
                  </a:lnTo>
                  <a:lnTo>
                    <a:pt x="20595" y="5870"/>
                  </a:lnTo>
                  <a:lnTo>
                    <a:pt x="19340" y="5870"/>
                  </a:lnTo>
                  <a:lnTo>
                    <a:pt x="19340" y="6926"/>
                  </a:lnTo>
                  <a:close/>
                </a:path>
                <a:path w="21600" h="21600">
                  <a:moveTo>
                    <a:pt x="19340" y="8335"/>
                  </a:moveTo>
                  <a:lnTo>
                    <a:pt x="20595" y="8335"/>
                  </a:lnTo>
                  <a:lnTo>
                    <a:pt x="20595" y="7278"/>
                  </a:lnTo>
                  <a:lnTo>
                    <a:pt x="19340" y="7278"/>
                  </a:lnTo>
                  <a:lnTo>
                    <a:pt x="19340" y="8335"/>
                  </a:lnTo>
                  <a:close/>
                </a:path>
                <a:path w="21600" h="21600">
                  <a:moveTo>
                    <a:pt x="19340" y="9743"/>
                  </a:moveTo>
                  <a:lnTo>
                    <a:pt x="20595" y="9743"/>
                  </a:lnTo>
                  <a:lnTo>
                    <a:pt x="20595" y="8687"/>
                  </a:lnTo>
                  <a:lnTo>
                    <a:pt x="19340" y="8687"/>
                  </a:lnTo>
                  <a:lnTo>
                    <a:pt x="19340" y="9743"/>
                  </a:lnTo>
                  <a:close/>
                </a:path>
                <a:path w="21600" h="21600">
                  <a:moveTo>
                    <a:pt x="19340" y="11152"/>
                  </a:moveTo>
                  <a:lnTo>
                    <a:pt x="20595" y="11152"/>
                  </a:lnTo>
                  <a:lnTo>
                    <a:pt x="20595" y="10096"/>
                  </a:lnTo>
                  <a:lnTo>
                    <a:pt x="19340" y="10096"/>
                  </a:lnTo>
                  <a:lnTo>
                    <a:pt x="19340" y="11152"/>
                  </a:lnTo>
                  <a:close/>
                </a:path>
                <a:path w="21600" h="21600">
                  <a:moveTo>
                    <a:pt x="19340" y="12561"/>
                  </a:moveTo>
                  <a:lnTo>
                    <a:pt x="20595" y="12561"/>
                  </a:lnTo>
                  <a:lnTo>
                    <a:pt x="20595" y="11504"/>
                  </a:lnTo>
                  <a:lnTo>
                    <a:pt x="19340" y="11504"/>
                  </a:lnTo>
                  <a:lnTo>
                    <a:pt x="19340" y="12561"/>
                  </a:lnTo>
                  <a:close/>
                </a:path>
                <a:path w="21600" h="21600">
                  <a:moveTo>
                    <a:pt x="19340" y="13970"/>
                  </a:moveTo>
                  <a:lnTo>
                    <a:pt x="20595" y="13970"/>
                  </a:lnTo>
                  <a:lnTo>
                    <a:pt x="20595" y="12913"/>
                  </a:lnTo>
                  <a:lnTo>
                    <a:pt x="19340" y="12913"/>
                  </a:lnTo>
                  <a:lnTo>
                    <a:pt x="19340" y="13970"/>
                  </a:lnTo>
                  <a:close/>
                </a:path>
                <a:path w="21600" h="21600">
                  <a:moveTo>
                    <a:pt x="19340" y="15378"/>
                  </a:moveTo>
                  <a:lnTo>
                    <a:pt x="20595" y="15378"/>
                  </a:lnTo>
                  <a:lnTo>
                    <a:pt x="20595" y="14322"/>
                  </a:lnTo>
                  <a:lnTo>
                    <a:pt x="19340" y="14322"/>
                  </a:lnTo>
                  <a:lnTo>
                    <a:pt x="19340" y="15378"/>
                  </a:lnTo>
                  <a:close/>
                </a:path>
                <a:path w="21600" h="21600">
                  <a:moveTo>
                    <a:pt x="19340" y="16787"/>
                  </a:moveTo>
                  <a:lnTo>
                    <a:pt x="20595" y="16787"/>
                  </a:lnTo>
                  <a:lnTo>
                    <a:pt x="20595" y="15730"/>
                  </a:lnTo>
                  <a:lnTo>
                    <a:pt x="19340" y="15730"/>
                  </a:lnTo>
                  <a:lnTo>
                    <a:pt x="19340" y="16787"/>
                  </a:lnTo>
                  <a:close/>
                </a:path>
                <a:path w="21600" h="21600">
                  <a:moveTo>
                    <a:pt x="19340" y="18196"/>
                  </a:moveTo>
                  <a:lnTo>
                    <a:pt x="20595" y="18196"/>
                  </a:lnTo>
                  <a:lnTo>
                    <a:pt x="20595" y="17139"/>
                  </a:lnTo>
                  <a:lnTo>
                    <a:pt x="19340" y="17139"/>
                  </a:lnTo>
                  <a:lnTo>
                    <a:pt x="19340" y="18196"/>
                  </a:lnTo>
                  <a:close/>
                </a:path>
                <a:path w="21600" h="21600">
                  <a:moveTo>
                    <a:pt x="19340" y="19604"/>
                  </a:moveTo>
                  <a:lnTo>
                    <a:pt x="20595" y="19604"/>
                  </a:lnTo>
                  <a:lnTo>
                    <a:pt x="20595" y="18548"/>
                  </a:lnTo>
                  <a:lnTo>
                    <a:pt x="19340" y="18548"/>
                  </a:lnTo>
                  <a:lnTo>
                    <a:pt x="19340" y="19604"/>
                  </a:lnTo>
                  <a:close/>
                </a:path>
                <a:path w="21600" h="21600">
                  <a:moveTo>
                    <a:pt x="19340" y="21013"/>
                  </a:moveTo>
                  <a:lnTo>
                    <a:pt x="20595" y="21013"/>
                  </a:lnTo>
                  <a:lnTo>
                    <a:pt x="20595" y="19957"/>
                  </a:lnTo>
                  <a:lnTo>
                    <a:pt x="19340" y="19957"/>
                  </a:lnTo>
                  <a:lnTo>
                    <a:pt x="19340" y="21013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666666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Film"/>
            <p:cNvSpPr/>
            <p:nvPr/>
          </p:nvSpPr>
          <p:spPr>
            <a:xfrm rot="5400000">
              <a:off x="15020640" y="447480"/>
              <a:ext cx="1809720" cy="2895480"/>
            </a:xfrm>
            <a:custGeom>
              <a:avLst/>
              <a:gdLst>
                <a:gd name="textAreaLeft" fmla="*/ 415800 w 1809720"/>
                <a:gd name="textAreaRight" fmla="*/ 1430280 w 1809720"/>
                <a:gd name="textAreaTop" fmla="*/ 1089000 h 2895480"/>
                <a:gd name="textAreaBottom" fmla="*/ 1800360 h 289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lnTo>
                    <a:pt x="21600" y="0"/>
                  </a:lnTo>
                  <a:close/>
                </a:path>
                <a:path w="21600" h="21600">
                  <a:moveTo>
                    <a:pt x="3014" y="21600"/>
                  </a:moveTo>
                  <a:lnTo>
                    <a:pt x="3014" y="0"/>
                  </a:lnTo>
                  <a:lnTo>
                    <a:pt x="0" y="0"/>
                  </a:lnTo>
                  <a:lnTo>
                    <a:pt x="0" y="21600"/>
                  </a:lnTo>
                  <a:lnTo>
                    <a:pt x="3014" y="21600"/>
                  </a:lnTo>
                  <a:close/>
                </a:path>
                <a:path w="21600" h="21600">
                  <a:moveTo>
                    <a:pt x="21600" y="21600"/>
                  </a:moveTo>
                  <a:lnTo>
                    <a:pt x="21600" y="0"/>
                  </a:lnTo>
                  <a:lnTo>
                    <a:pt x="18586" y="0"/>
                  </a:lnTo>
                  <a:lnTo>
                    <a:pt x="18586" y="21600"/>
                  </a:lnTo>
                  <a:lnTo>
                    <a:pt x="21600" y="21600"/>
                  </a:lnTo>
                  <a:close/>
                </a:path>
                <a:path w="21600" h="21600">
                  <a:moveTo>
                    <a:pt x="6028" y="6574"/>
                  </a:moveTo>
                  <a:lnTo>
                    <a:pt x="15572" y="6574"/>
                  </a:lnTo>
                  <a:lnTo>
                    <a:pt x="16074" y="6574"/>
                  </a:lnTo>
                  <a:lnTo>
                    <a:pt x="16326" y="6457"/>
                  </a:lnTo>
                  <a:lnTo>
                    <a:pt x="16577" y="6339"/>
                  </a:lnTo>
                  <a:lnTo>
                    <a:pt x="16828" y="6222"/>
                  </a:lnTo>
                  <a:lnTo>
                    <a:pt x="17079" y="6222"/>
                  </a:lnTo>
                  <a:lnTo>
                    <a:pt x="17330" y="5987"/>
                  </a:lnTo>
                  <a:lnTo>
                    <a:pt x="17330" y="5870"/>
                  </a:lnTo>
                  <a:lnTo>
                    <a:pt x="17581" y="5635"/>
                  </a:lnTo>
                  <a:lnTo>
                    <a:pt x="17581" y="1526"/>
                  </a:lnTo>
                  <a:lnTo>
                    <a:pt x="17330" y="1291"/>
                  </a:lnTo>
                  <a:lnTo>
                    <a:pt x="17330" y="1174"/>
                  </a:lnTo>
                  <a:lnTo>
                    <a:pt x="17079" y="1057"/>
                  </a:lnTo>
                  <a:lnTo>
                    <a:pt x="16828" y="939"/>
                  </a:lnTo>
                  <a:lnTo>
                    <a:pt x="16577" y="822"/>
                  </a:lnTo>
                  <a:lnTo>
                    <a:pt x="16326" y="704"/>
                  </a:lnTo>
                  <a:lnTo>
                    <a:pt x="16074" y="704"/>
                  </a:lnTo>
                  <a:lnTo>
                    <a:pt x="15572" y="587"/>
                  </a:lnTo>
                  <a:lnTo>
                    <a:pt x="6028" y="587"/>
                  </a:lnTo>
                  <a:lnTo>
                    <a:pt x="5526" y="704"/>
                  </a:lnTo>
                  <a:lnTo>
                    <a:pt x="5274" y="704"/>
                  </a:lnTo>
                  <a:lnTo>
                    <a:pt x="5023" y="822"/>
                  </a:lnTo>
                  <a:lnTo>
                    <a:pt x="4772" y="939"/>
                  </a:lnTo>
                  <a:lnTo>
                    <a:pt x="4521" y="1057"/>
                  </a:lnTo>
                  <a:lnTo>
                    <a:pt x="4270" y="1174"/>
                  </a:lnTo>
                  <a:lnTo>
                    <a:pt x="4270" y="1291"/>
                  </a:lnTo>
                  <a:lnTo>
                    <a:pt x="4019" y="1526"/>
                  </a:lnTo>
                  <a:lnTo>
                    <a:pt x="4019" y="5635"/>
                  </a:lnTo>
                  <a:lnTo>
                    <a:pt x="4270" y="5870"/>
                  </a:lnTo>
                  <a:lnTo>
                    <a:pt x="4270" y="5987"/>
                  </a:lnTo>
                  <a:lnTo>
                    <a:pt x="4521" y="6222"/>
                  </a:lnTo>
                  <a:lnTo>
                    <a:pt x="4772" y="6222"/>
                  </a:lnTo>
                  <a:lnTo>
                    <a:pt x="5023" y="6339"/>
                  </a:lnTo>
                  <a:lnTo>
                    <a:pt x="5274" y="6457"/>
                  </a:lnTo>
                  <a:lnTo>
                    <a:pt x="5526" y="6574"/>
                  </a:lnTo>
                  <a:lnTo>
                    <a:pt x="6028" y="6574"/>
                  </a:lnTo>
                  <a:close/>
                </a:path>
                <a:path w="21600" h="21600">
                  <a:moveTo>
                    <a:pt x="6028" y="13617"/>
                  </a:moveTo>
                  <a:lnTo>
                    <a:pt x="15572" y="13617"/>
                  </a:lnTo>
                  <a:lnTo>
                    <a:pt x="16074" y="13617"/>
                  </a:lnTo>
                  <a:lnTo>
                    <a:pt x="16326" y="13617"/>
                  </a:lnTo>
                  <a:lnTo>
                    <a:pt x="16577" y="13500"/>
                  </a:lnTo>
                  <a:lnTo>
                    <a:pt x="16828" y="13383"/>
                  </a:lnTo>
                  <a:lnTo>
                    <a:pt x="17079" y="13265"/>
                  </a:lnTo>
                  <a:lnTo>
                    <a:pt x="17330" y="13148"/>
                  </a:lnTo>
                  <a:lnTo>
                    <a:pt x="17330" y="12913"/>
                  </a:lnTo>
                  <a:lnTo>
                    <a:pt x="17581" y="12796"/>
                  </a:lnTo>
                  <a:lnTo>
                    <a:pt x="17581" y="8687"/>
                  </a:lnTo>
                  <a:lnTo>
                    <a:pt x="17330" y="8452"/>
                  </a:lnTo>
                  <a:lnTo>
                    <a:pt x="17330" y="8335"/>
                  </a:lnTo>
                  <a:lnTo>
                    <a:pt x="17079" y="8217"/>
                  </a:lnTo>
                  <a:lnTo>
                    <a:pt x="16828" y="7983"/>
                  </a:lnTo>
                  <a:lnTo>
                    <a:pt x="16577" y="7983"/>
                  </a:lnTo>
                  <a:lnTo>
                    <a:pt x="16326" y="7865"/>
                  </a:lnTo>
                  <a:lnTo>
                    <a:pt x="16074" y="7865"/>
                  </a:lnTo>
                  <a:lnTo>
                    <a:pt x="15572" y="7748"/>
                  </a:lnTo>
                  <a:lnTo>
                    <a:pt x="6028" y="7748"/>
                  </a:lnTo>
                  <a:lnTo>
                    <a:pt x="5526" y="7865"/>
                  </a:lnTo>
                  <a:lnTo>
                    <a:pt x="5274" y="7865"/>
                  </a:lnTo>
                  <a:lnTo>
                    <a:pt x="5023" y="7983"/>
                  </a:lnTo>
                  <a:lnTo>
                    <a:pt x="4772" y="7983"/>
                  </a:lnTo>
                  <a:lnTo>
                    <a:pt x="4521" y="8217"/>
                  </a:lnTo>
                  <a:lnTo>
                    <a:pt x="4270" y="8335"/>
                  </a:lnTo>
                  <a:lnTo>
                    <a:pt x="4270" y="8452"/>
                  </a:lnTo>
                  <a:lnTo>
                    <a:pt x="4019" y="8687"/>
                  </a:lnTo>
                  <a:lnTo>
                    <a:pt x="4019" y="12796"/>
                  </a:lnTo>
                  <a:lnTo>
                    <a:pt x="4270" y="12913"/>
                  </a:lnTo>
                  <a:lnTo>
                    <a:pt x="4270" y="13148"/>
                  </a:lnTo>
                  <a:lnTo>
                    <a:pt x="4521" y="13265"/>
                  </a:lnTo>
                  <a:lnTo>
                    <a:pt x="4772" y="13383"/>
                  </a:lnTo>
                  <a:lnTo>
                    <a:pt x="5023" y="13500"/>
                  </a:lnTo>
                  <a:lnTo>
                    <a:pt x="5274" y="13617"/>
                  </a:lnTo>
                  <a:lnTo>
                    <a:pt x="5526" y="13617"/>
                  </a:lnTo>
                  <a:lnTo>
                    <a:pt x="6028" y="13617"/>
                  </a:lnTo>
                  <a:close/>
                </a:path>
                <a:path w="21600" h="21600">
                  <a:moveTo>
                    <a:pt x="6028" y="20778"/>
                  </a:moveTo>
                  <a:lnTo>
                    <a:pt x="15572" y="20778"/>
                  </a:lnTo>
                  <a:lnTo>
                    <a:pt x="16074" y="20778"/>
                  </a:lnTo>
                  <a:lnTo>
                    <a:pt x="16326" y="20661"/>
                  </a:lnTo>
                  <a:lnTo>
                    <a:pt x="16577" y="20661"/>
                  </a:lnTo>
                  <a:lnTo>
                    <a:pt x="16828" y="20543"/>
                  </a:lnTo>
                  <a:lnTo>
                    <a:pt x="17079" y="20426"/>
                  </a:lnTo>
                  <a:lnTo>
                    <a:pt x="17330" y="20309"/>
                  </a:lnTo>
                  <a:lnTo>
                    <a:pt x="17330" y="20074"/>
                  </a:lnTo>
                  <a:lnTo>
                    <a:pt x="17581" y="19957"/>
                  </a:lnTo>
                  <a:lnTo>
                    <a:pt x="17581" y="15730"/>
                  </a:lnTo>
                  <a:lnTo>
                    <a:pt x="17330" y="15613"/>
                  </a:lnTo>
                  <a:lnTo>
                    <a:pt x="17330" y="15378"/>
                  </a:lnTo>
                  <a:lnTo>
                    <a:pt x="17079" y="15378"/>
                  </a:lnTo>
                  <a:lnTo>
                    <a:pt x="16828" y="15143"/>
                  </a:lnTo>
                  <a:lnTo>
                    <a:pt x="16577" y="15026"/>
                  </a:lnTo>
                  <a:lnTo>
                    <a:pt x="16326" y="15026"/>
                  </a:lnTo>
                  <a:lnTo>
                    <a:pt x="16074" y="15026"/>
                  </a:lnTo>
                  <a:lnTo>
                    <a:pt x="15572" y="14909"/>
                  </a:lnTo>
                  <a:lnTo>
                    <a:pt x="6028" y="14909"/>
                  </a:lnTo>
                  <a:lnTo>
                    <a:pt x="5526" y="15026"/>
                  </a:lnTo>
                  <a:lnTo>
                    <a:pt x="5274" y="15026"/>
                  </a:lnTo>
                  <a:lnTo>
                    <a:pt x="5023" y="15026"/>
                  </a:lnTo>
                  <a:lnTo>
                    <a:pt x="4772" y="15143"/>
                  </a:lnTo>
                  <a:lnTo>
                    <a:pt x="4521" y="15378"/>
                  </a:lnTo>
                  <a:lnTo>
                    <a:pt x="4270" y="15378"/>
                  </a:lnTo>
                  <a:lnTo>
                    <a:pt x="4270" y="15613"/>
                  </a:lnTo>
                  <a:lnTo>
                    <a:pt x="4019" y="15730"/>
                  </a:lnTo>
                  <a:lnTo>
                    <a:pt x="4019" y="19957"/>
                  </a:lnTo>
                  <a:lnTo>
                    <a:pt x="4270" y="20074"/>
                  </a:lnTo>
                  <a:lnTo>
                    <a:pt x="4270" y="20309"/>
                  </a:lnTo>
                  <a:lnTo>
                    <a:pt x="4521" y="20426"/>
                  </a:lnTo>
                  <a:lnTo>
                    <a:pt x="4772" y="20543"/>
                  </a:lnTo>
                  <a:lnTo>
                    <a:pt x="5023" y="20661"/>
                  </a:lnTo>
                  <a:lnTo>
                    <a:pt x="5274" y="20661"/>
                  </a:lnTo>
                  <a:lnTo>
                    <a:pt x="5526" y="20778"/>
                  </a:lnTo>
                  <a:lnTo>
                    <a:pt x="6028" y="20778"/>
                  </a:lnTo>
                  <a:close/>
                </a:path>
                <a:path w="21600" h="21600">
                  <a:moveTo>
                    <a:pt x="753" y="1291"/>
                  </a:moveTo>
                  <a:lnTo>
                    <a:pt x="2260" y="1291"/>
                  </a:lnTo>
                  <a:lnTo>
                    <a:pt x="2260" y="235"/>
                  </a:lnTo>
                  <a:lnTo>
                    <a:pt x="753" y="235"/>
                  </a:lnTo>
                  <a:lnTo>
                    <a:pt x="753" y="1291"/>
                  </a:lnTo>
                  <a:close/>
                </a:path>
                <a:path w="21600" h="21600">
                  <a:moveTo>
                    <a:pt x="753" y="2700"/>
                  </a:moveTo>
                  <a:lnTo>
                    <a:pt x="2260" y="2700"/>
                  </a:lnTo>
                  <a:lnTo>
                    <a:pt x="2260" y="1643"/>
                  </a:lnTo>
                  <a:lnTo>
                    <a:pt x="753" y="1643"/>
                  </a:lnTo>
                  <a:lnTo>
                    <a:pt x="753" y="2700"/>
                  </a:lnTo>
                  <a:close/>
                </a:path>
                <a:path w="21600" h="21600">
                  <a:moveTo>
                    <a:pt x="753" y="4109"/>
                  </a:moveTo>
                  <a:lnTo>
                    <a:pt x="2260" y="4109"/>
                  </a:lnTo>
                  <a:lnTo>
                    <a:pt x="2260" y="3052"/>
                  </a:lnTo>
                  <a:lnTo>
                    <a:pt x="753" y="3052"/>
                  </a:lnTo>
                  <a:lnTo>
                    <a:pt x="753" y="4109"/>
                  </a:lnTo>
                  <a:close/>
                </a:path>
                <a:path w="21600" h="21600">
                  <a:moveTo>
                    <a:pt x="753" y="5517"/>
                  </a:moveTo>
                  <a:lnTo>
                    <a:pt x="2260" y="5517"/>
                  </a:lnTo>
                  <a:lnTo>
                    <a:pt x="2260" y="4461"/>
                  </a:lnTo>
                  <a:lnTo>
                    <a:pt x="753" y="4461"/>
                  </a:lnTo>
                  <a:lnTo>
                    <a:pt x="753" y="5517"/>
                  </a:lnTo>
                  <a:close/>
                </a:path>
                <a:path w="21600" h="21600">
                  <a:moveTo>
                    <a:pt x="753" y="6926"/>
                  </a:moveTo>
                  <a:lnTo>
                    <a:pt x="2260" y="6926"/>
                  </a:lnTo>
                  <a:lnTo>
                    <a:pt x="2260" y="5870"/>
                  </a:lnTo>
                  <a:lnTo>
                    <a:pt x="753" y="5870"/>
                  </a:lnTo>
                  <a:lnTo>
                    <a:pt x="753" y="6926"/>
                  </a:lnTo>
                  <a:close/>
                </a:path>
                <a:path w="21600" h="21600">
                  <a:moveTo>
                    <a:pt x="753" y="8335"/>
                  </a:moveTo>
                  <a:lnTo>
                    <a:pt x="2260" y="8335"/>
                  </a:lnTo>
                  <a:lnTo>
                    <a:pt x="2260" y="7278"/>
                  </a:lnTo>
                  <a:lnTo>
                    <a:pt x="753" y="7278"/>
                  </a:lnTo>
                  <a:lnTo>
                    <a:pt x="753" y="8335"/>
                  </a:lnTo>
                  <a:close/>
                </a:path>
                <a:path w="21600" h="21600">
                  <a:moveTo>
                    <a:pt x="753" y="9743"/>
                  </a:moveTo>
                  <a:lnTo>
                    <a:pt x="2260" y="9743"/>
                  </a:lnTo>
                  <a:lnTo>
                    <a:pt x="2260" y="8687"/>
                  </a:lnTo>
                  <a:lnTo>
                    <a:pt x="753" y="8687"/>
                  </a:lnTo>
                  <a:lnTo>
                    <a:pt x="753" y="9743"/>
                  </a:lnTo>
                  <a:close/>
                </a:path>
                <a:path w="21600" h="21600">
                  <a:moveTo>
                    <a:pt x="753" y="11152"/>
                  </a:moveTo>
                  <a:lnTo>
                    <a:pt x="2260" y="11152"/>
                  </a:lnTo>
                  <a:lnTo>
                    <a:pt x="2260" y="10096"/>
                  </a:lnTo>
                  <a:lnTo>
                    <a:pt x="753" y="10096"/>
                  </a:lnTo>
                  <a:lnTo>
                    <a:pt x="753" y="11152"/>
                  </a:lnTo>
                  <a:close/>
                </a:path>
                <a:path w="21600" h="21600">
                  <a:moveTo>
                    <a:pt x="753" y="12561"/>
                  </a:moveTo>
                  <a:lnTo>
                    <a:pt x="2260" y="12561"/>
                  </a:lnTo>
                  <a:lnTo>
                    <a:pt x="2260" y="11504"/>
                  </a:lnTo>
                  <a:lnTo>
                    <a:pt x="753" y="11504"/>
                  </a:lnTo>
                  <a:lnTo>
                    <a:pt x="753" y="12561"/>
                  </a:lnTo>
                  <a:close/>
                </a:path>
                <a:path w="21600" h="21600">
                  <a:moveTo>
                    <a:pt x="753" y="13970"/>
                  </a:moveTo>
                  <a:lnTo>
                    <a:pt x="2260" y="13970"/>
                  </a:lnTo>
                  <a:lnTo>
                    <a:pt x="2260" y="12913"/>
                  </a:lnTo>
                  <a:lnTo>
                    <a:pt x="753" y="12913"/>
                  </a:lnTo>
                  <a:lnTo>
                    <a:pt x="753" y="13970"/>
                  </a:lnTo>
                  <a:close/>
                </a:path>
                <a:path w="21600" h="21600">
                  <a:moveTo>
                    <a:pt x="753" y="15378"/>
                  </a:moveTo>
                  <a:lnTo>
                    <a:pt x="2260" y="15378"/>
                  </a:lnTo>
                  <a:lnTo>
                    <a:pt x="2260" y="14322"/>
                  </a:lnTo>
                  <a:lnTo>
                    <a:pt x="753" y="14322"/>
                  </a:lnTo>
                  <a:lnTo>
                    <a:pt x="753" y="15378"/>
                  </a:lnTo>
                  <a:close/>
                </a:path>
                <a:path w="21600" h="21600">
                  <a:moveTo>
                    <a:pt x="753" y="16787"/>
                  </a:moveTo>
                  <a:lnTo>
                    <a:pt x="2260" y="16787"/>
                  </a:lnTo>
                  <a:lnTo>
                    <a:pt x="2260" y="15730"/>
                  </a:lnTo>
                  <a:lnTo>
                    <a:pt x="753" y="15730"/>
                  </a:lnTo>
                  <a:lnTo>
                    <a:pt x="753" y="16787"/>
                  </a:lnTo>
                  <a:close/>
                </a:path>
                <a:path w="21600" h="21600">
                  <a:moveTo>
                    <a:pt x="753" y="18196"/>
                  </a:moveTo>
                  <a:lnTo>
                    <a:pt x="2260" y="18196"/>
                  </a:lnTo>
                  <a:lnTo>
                    <a:pt x="2260" y="17139"/>
                  </a:lnTo>
                  <a:lnTo>
                    <a:pt x="753" y="17139"/>
                  </a:lnTo>
                  <a:lnTo>
                    <a:pt x="753" y="18196"/>
                  </a:lnTo>
                  <a:close/>
                </a:path>
                <a:path w="21600" h="21600">
                  <a:moveTo>
                    <a:pt x="753" y="19604"/>
                  </a:moveTo>
                  <a:lnTo>
                    <a:pt x="2260" y="19604"/>
                  </a:lnTo>
                  <a:lnTo>
                    <a:pt x="2260" y="18548"/>
                  </a:lnTo>
                  <a:lnTo>
                    <a:pt x="753" y="18548"/>
                  </a:lnTo>
                  <a:lnTo>
                    <a:pt x="753" y="19604"/>
                  </a:lnTo>
                  <a:close/>
                </a:path>
                <a:path w="21600" h="21600">
                  <a:moveTo>
                    <a:pt x="753" y="21013"/>
                  </a:moveTo>
                  <a:lnTo>
                    <a:pt x="2260" y="21013"/>
                  </a:lnTo>
                  <a:lnTo>
                    <a:pt x="2260" y="19957"/>
                  </a:lnTo>
                  <a:lnTo>
                    <a:pt x="753" y="19957"/>
                  </a:lnTo>
                  <a:lnTo>
                    <a:pt x="753" y="21013"/>
                  </a:lnTo>
                  <a:close/>
                </a:path>
                <a:path w="21600" h="21600">
                  <a:moveTo>
                    <a:pt x="19340" y="1409"/>
                  </a:moveTo>
                  <a:lnTo>
                    <a:pt x="20595" y="1409"/>
                  </a:lnTo>
                  <a:lnTo>
                    <a:pt x="20595" y="352"/>
                  </a:lnTo>
                  <a:lnTo>
                    <a:pt x="19340" y="352"/>
                  </a:lnTo>
                  <a:lnTo>
                    <a:pt x="19340" y="1409"/>
                  </a:lnTo>
                  <a:close/>
                </a:path>
                <a:path w="21600" h="21600">
                  <a:moveTo>
                    <a:pt x="19340" y="2700"/>
                  </a:moveTo>
                  <a:lnTo>
                    <a:pt x="20595" y="2700"/>
                  </a:lnTo>
                  <a:lnTo>
                    <a:pt x="20595" y="1643"/>
                  </a:lnTo>
                  <a:lnTo>
                    <a:pt x="19340" y="1643"/>
                  </a:lnTo>
                  <a:lnTo>
                    <a:pt x="19340" y="2700"/>
                  </a:lnTo>
                  <a:close/>
                </a:path>
                <a:path w="21600" h="21600">
                  <a:moveTo>
                    <a:pt x="19340" y="4109"/>
                  </a:moveTo>
                  <a:lnTo>
                    <a:pt x="20595" y="4109"/>
                  </a:lnTo>
                  <a:lnTo>
                    <a:pt x="20595" y="3052"/>
                  </a:lnTo>
                  <a:lnTo>
                    <a:pt x="19340" y="3052"/>
                  </a:lnTo>
                  <a:lnTo>
                    <a:pt x="19340" y="4109"/>
                  </a:lnTo>
                  <a:close/>
                </a:path>
                <a:path w="21600" h="21600">
                  <a:moveTo>
                    <a:pt x="19340" y="5517"/>
                  </a:moveTo>
                  <a:lnTo>
                    <a:pt x="20595" y="5517"/>
                  </a:lnTo>
                  <a:lnTo>
                    <a:pt x="20595" y="4461"/>
                  </a:lnTo>
                  <a:lnTo>
                    <a:pt x="19340" y="4461"/>
                  </a:lnTo>
                  <a:lnTo>
                    <a:pt x="19340" y="5517"/>
                  </a:lnTo>
                  <a:close/>
                </a:path>
                <a:path w="21600" h="21600">
                  <a:moveTo>
                    <a:pt x="19340" y="6926"/>
                  </a:moveTo>
                  <a:lnTo>
                    <a:pt x="20595" y="6926"/>
                  </a:lnTo>
                  <a:lnTo>
                    <a:pt x="20595" y="5870"/>
                  </a:lnTo>
                  <a:lnTo>
                    <a:pt x="19340" y="5870"/>
                  </a:lnTo>
                  <a:lnTo>
                    <a:pt x="19340" y="6926"/>
                  </a:lnTo>
                  <a:close/>
                </a:path>
                <a:path w="21600" h="21600">
                  <a:moveTo>
                    <a:pt x="19340" y="8335"/>
                  </a:moveTo>
                  <a:lnTo>
                    <a:pt x="20595" y="8335"/>
                  </a:lnTo>
                  <a:lnTo>
                    <a:pt x="20595" y="7278"/>
                  </a:lnTo>
                  <a:lnTo>
                    <a:pt x="19340" y="7278"/>
                  </a:lnTo>
                  <a:lnTo>
                    <a:pt x="19340" y="8335"/>
                  </a:lnTo>
                  <a:close/>
                </a:path>
                <a:path w="21600" h="21600">
                  <a:moveTo>
                    <a:pt x="19340" y="9743"/>
                  </a:moveTo>
                  <a:lnTo>
                    <a:pt x="20595" y="9743"/>
                  </a:lnTo>
                  <a:lnTo>
                    <a:pt x="20595" y="8687"/>
                  </a:lnTo>
                  <a:lnTo>
                    <a:pt x="19340" y="8687"/>
                  </a:lnTo>
                  <a:lnTo>
                    <a:pt x="19340" y="9743"/>
                  </a:lnTo>
                  <a:close/>
                </a:path>
                <a:path w="21600" h="21600">
                  <a:moveTo>
                    <a:pt x="19340" y="11152"/>
                  </a:moveTo>
                  <a:lnTo>
                    <a:pt x="20595" y="11152"/>
                  </a:lnTo>
                  <a:lnTo>
                    <a:pt x="20595" y="10096"/>
                  </a:lnTo>
                  <a:lnTo>
                    <a:pt x="19340" y="10096"/>
                  </a:lnTo>
                  <a:lnTo>
                    <a:pt x="19340" y="11152"/>
                  </a:lnTo>
                  <a:close/>
                </a:path>
                <a:path w="21600" h="21600">
                  <a:moveTo>
                    <a:pt x="19340" y="12561"/>
                  </a:moveTo>
                  <a:lnTo>
                    <a:pt x="20595" y="12561"/>
                  </a:lnTo>
                  <a:lnTo>
                    <a:pt x="20595" y="11504"/>
                  </a:lnTo>
                  <a:lnTo>
                    <a:pt x="19340" y="11504"/>
                  </a:lnTo>
                  <a:lnTo>
                    <a:pt x="19340" y="12561"/>
                  </a:lnTo>
                  <a:close/>
                </a:path>
                <a:path w="21600" h="21600">
                  <a:moveTo>
                    <a:pt x="19340" y="13970"/>
                  </a:moveTo>
                  <a:lnTo>
                    <a:pt x="20595" y="13970"/>
                  </a:lnTo>
                  <a:lnTo>
                    <a:pt x="20595" y="12913"/>
                  </a:lnTo>
                  <a:lnTo>
                    <a:pt x="19340" y="12913"/>
                  </a:lnTo>
                  <a:lnTo>
                    <a:pt x="19340" y="13970"/>
                  </a:lnTo>
                  <a:close/>
                </a:path>
                <a:path w="21600" h="21600">
                  <a:moveTo>
                    <a:pt x="19340" y="15378"/>
                  </a:moveTo>
                  <a:lnTo>
                    <a:pt x="20595" y="15378"/>
                  </a:lnTo>
                  <a:lnTo>
                    <a:pt x="20595" y="14322"/>
                  </a:lnTo>
                  <a:lnTo>
                    <a:pt x="19340" y="14322"/>
                  </a:lnTo>
                  <a:lnTo>
                    <a:pt x="19340" y="15378"/>
                  </a:lnTo>
                  <a:close/>
                </a:path>
                <a:path w="21600" h="21600">
                  <a:moveTo>
                    <a:pt x="19340" y="16787"/>
                  </a:moveTo>
                  <a:lnTo>
                    <a:pt x="20595" y="16787"/>
                  </a:lnTo>
                  <a:lnTo>
                    <a:pt x="20595" y="15730"/>
                  </a:lnTo>
                  <a:lnTo>
                    <a:pt x="19340" y="15730"/>
                  </a:lnTo>
                  <a:lnTo>
                    <a:pt x="19340" y="16787"/>
                  </a:lnTo>
                  <a:close/>
                </a:path>
                <a:path w="21600" h="21600">
                  <a:moveTo>
                    <a:pt x="19340" y="18196"/>
                  </a:moveTo>
                  <a:lnTo>
                    <a:pt x="20595" y="18196"/>
                  </a:lnTo>
                  <a:lnTo>
                    <a:pt x="20595" y="17139"/>
                  </a:lnTo>
                  <a:lnTo>
                    <a:pt x="19340" y="17139"/>
                  </a:lnTo>
                  <a:lnTo>
                    <a:pt x="19340" y="18196"/>
                  </a:lnTo>
                  <a:close/>
                </a:path>
                <a:path w="21600" h="21600">
                  <a:moveTo>
                    <a:pt x="19340" y="19604"/>
                  </a:moveTo>
                  <a:lnTo>
                    <a:pt x="20595" y="19604"/>
                  </a:lnTo>
                  <a:lnTo>
                    <a:pt x="20595" y="18548"/>
                  </a:lnTo>
                  <a:lnTo>
                    <a:pt x="19340" y="18548"/>
                  </a:lnTo>
                  <a:lnTo>
                    <a:pt x="19340" y="19604"/>
                  </a:lnTo>
                  <a:close/>
                </a:path>
                <a:path w="21600" h="21600">
                  <a:moveTo>
                    <a:pt x="19340" y="21013"/>
                  </a:moveTo>
                  <a:lnTo>
                    <a:pt x="20595" y="21013"/>
                  </a:lnTo>
                  <a:lnTo>
                    <a:pt x="20595" y="19957"/>
                  </a:lnTo>
                  <a:lnTo>
                    <a:pt x="19340" y="19957"/>
                  </a:lnTo>
                  <a:lnTo>
                    <a:pt x="19340" y="21013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666666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7" name="Group 14"/>
          <p:cNvGrpSpPr/>
          <p:nvPr/>
        </p:nvGrpSpPr>
        <p:grpSpPr>
          <a:xfrm>
            <a:off x="-8153280" y="5124240"/>
            <a:ext cx="17373240" cy="1810080"/>
            <a:chOff x="-8153280" y="5124240"/>
            <a:chExt cx="17373240" cy="1810080"/>
          </a:xfrm>
        </p:grpSpPr>
        <p:sp>
          <p:nvSpPr>
            <p:cNvPr id="158" name="Film"/>
            <p:cNvSpPr/>
            <p:nvPr/>
          </p:nvSpPr>
          <p:spPr>
            <a:xfrm rot="5400000">
              <a:off x="-7610400" y="4581360"/>
              <a:ext cx="1809720" cy="2895480"/>
            </a:xfrm>
            <a:custGeom>
              <a:avLst/>
              <a:gdLst>
                <a:gd name="textAreaLeft" fmla="*/ 415800 w 1809720"/>
                <a:gd name="textAreaRight" fmla="*/ 1430280 w 1809720"/>
                <a:gd name="textAreaTop" fmla="*/ 1089000 h 2895480"/>
                <a:gd name="textAreaBottom" fmla="*/ 1800360 h 289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lnTo>
                    <a:pt x="21600" y="0"/>
                  </a:lnTo>
                  <a:close/>
                </a:path>
                <a:path w="21600" h="21600">
                  <a:moveTo>
                    <a:pt x="3014" y="21600"/>
                  </a:moveTo>
                  <a:lnTo>
                    <a:pt x="3014" y="0"/>
                  </a:lnTo>
                  <a:lnTo>
                    <a:pt x="0" y="0"/>
                  </a:lnTo>
                  <a:lnTo>
                    <a:pt x="0" y="21600"/>
                  </a:lnTo>
                  <a:lnTo>
                    <a:pt x="3014" y="21600"/>
                  </a:lnTo>
                  <a:close/>
                </a:path>
                <a:path w="21600" h="21600">
                  <a:moveTo>
                    <a:pt x="21600" y="21600"/>
                  </a:moveTo>
                  <a:lnTo>
                    <a:pt x="21600" y="0"/>
                  </a:lnTo>
                  <a:lnTo>
                    <a:pt x="18586" y="0"/>
                  </a:lnTo>
                  <a:lnTo>
                    <a:pt x="18586" y="21600"/>
                  </a:lnTo>
                  <a:lnTo>
                    <a:pt x="21600" y="21600"/>
                  </a:lnTo>
                  <a:close/>
                </a:path>
                <a:path w="21600" h="21600">
                  <a:moveTo>
                    <a:pt x="6028" y="6574"/>
                  </a:moveTo>
                  <a:lnTo>
                    <a:pt x="15572" y="6574"/>
                  </a:lnTo>
                  <a:lnTo>
                    <a:pt x="16074" y="6574"/>
                  </a:lnTo>
                  <a:lnTo>
                    <a:pt x="16326" y="6457"/>
                  </a:lnTo>
                  <a:lnTo>
                    <a:pt x="16577" y="6339"/>
                  </a:lnTo>
                  <a:lnTo>
                    <a:pt x="16828" y="6222"/>
                  </a:lnTo>
                  <a:lnTo>
                    <a:pt x="17079" y="6222"/>
                  </a:lnTo>
                  <a:lnTo>
                    <a:pt x="17330" y="5987"/>
                  </a:lnTo>
                  <a:lnTo>
                    <a:pt x="17330" y="5870"/>
                  </a:lnTo>
                  <a:lnTo>
                    <a:pt x="17581" y="5635"/>
                  </a:lnTo>
                  <a:lnTo>
                    <a:pt x="17581" y="1526"/>
                  </a:lnTo>
                  <a:lnTo>
                    <a:pt x="17330" y="1291"/>
                  </a:lnTo>
                  <a:lnTo>
                    <a:pt x="17330" y="1174"/>
                  </a:lnTo>
                  <a:lnTo>
                    <a:pt x="17079" y="1057"/>
                  </a:lnTo>
                  <a:lnTo>
                    <a:pt x="16828" y="939"/>
                  </a:lnTo>
                  <a:lnTo>
                    <a:pt x="16577" y="822"/>
                  </a:lnTo>
                  <a:lnTo>
                    <a:pt x="16326" y="704"/>
                  </a:lnTo>
                  <a:lnTo>
                    <a:pt x="16074" y="704"/>
                  </a:lnTo>
                  <a:lnTo>
                    <a:pt x="15572" y="587"/>
                  </a:lnTo>
                  <a:lnTo>
                    <a:pt x="6028" y="587"/>
                  </a:lnTo>
                  <a:lnTo>
                    <a:pt x="5526" y="704"/>
                  </a:lnTo>
                  <a:lnTo>
                    <a:pt x="5274" y="704"/>
                  </a:lnTo>
                  <a:lnTo>
                    <a:pt x="5023" y="822"/>
                  </a:lnTo>
                  <a:lnTo>
                    <a:pt x="4772" y="939"/>
                  </a:lnTo>
                  <a:lnTo>
                    <a:pt x="4521" y="1057"/>
                  </a:lnTo>
                  <a:lnTo>
                    <a:pt x="4270" y="1174"/>
                  </a:lnTo>
                  <a:lnTo>
                    <a:pt x="4270" y="1291"/>
                  </a:lnTo>
                  <a:lnTo>
                    <a:pt x="4019" y="1526"/>
                  </a:lnTo>
                  <a:lnTo>
                    <a:pt x="4019" y="5635"/>
                  </a:lnTo>
                  <a:lnTo>
                    <a:pt x="4270" y="5870"/>
                  </a:lnTo>
                  <a:lnTo>
                    <a:pt x="4270" y="5987"/>
                  </a:lnTo>
                  <a:lnTo>
                    <a:pt x="4521" y="6222"/>
                  </a:lnTo>
                  <a:lnTo>
                    <a:pt x="4772" y="6222"/>
                  </a:lnTo>
                  <a:lnTo>
                    <a:pt x="5023" y="6339"/>
                  </a:lnTo>
                  <a:lnTo>
                    <a:pt x="5274" y="6457"/>
                  </a:lnTo>
                  <a:lnTo>
                    <a:pt x="5526" y="6574"/>
                  </a:lnTo>
                  <a:lnTo>
                    <a:pt x="6028" y="6574"/>
                  </a:lnTo>
                  <a:close/>
                </a:path>
                <a:path w="21600" h="21600">
                  <a:moveTo>
                    <a:pt x="6028" y="13617"/>
                  </a:moveTo>
                  <a:lnTo>
                    <a:pt x="15572" y="13617"/>
                  </a:lnTo>
                  <a:lnTo>
                    <a:pt x="16074" y="13617"/>
                  </a:lnTo>
                  <a:lnTo>
                    <a:pt x="16326" y="13617"/>
                  </a:lnTo>
                  <a:lnTo>
                    <a:pt x="16577" y="13500"/>
                  </a:lnTo>
                  <a:lnTo>
                    <a:pt x="16828" y="13383"/>
                  </a:lnTo>
                  <a:lnTo>
                    <a:pt x="17079" y="13265"/>
                  </a:lnTo>
                  <a:lnTo>
                    <a:pt x="17330" y="13148"/>
                  </a:lnTo>
                  <a:lnTo>
                    <a:pt x="17330" y="12913"/>
                  </a:lnTo>
                  <a:lnTo>
                    <a:pt x="17581" y="12796"/>
                  </a:lnTo>
                  <a:lnTo>
                    <a:pt x="17581" y="8687"/>
                  </a:lnTo>
                  <a:lnTo>
                    <a:pt x="17330" y="8452"/>
                  </a:lnTo>
                  <a:lnTo>
                    <a:pt x="17330" y="8335"/>
                  </a:lnTo>
                  <a:lnTo>
                    <a:pt x="17079" y="8217"/>
                  </a:lnTo>
                  <a:lnTo>
                    <a:pt x="16828" y="7983"/>
                  </a:lnTo>
                  <a:lnTo>
                    <a:pt x="16577" y="7983"/>
                  </a:lnTo>
                  <a:lnTo>
                    <a:pt x="16326" y="7865"/>
                  </a:lnTo>
                  <a:lnTo>
                    <a:pt x="16074" y="7865"/>
                  </a:lnTo>
                  <a:lnTo>
                    <a:pt x="15572" y="7748"/>
                  </a:lnTo>
                  <a:lnTo>
                    <a:pt x="6028" y="7748"/>
                  </a:lnTo>
                  <a:lnTo>
                    <a:pt x="5526" y="7865"/>
                  </a:lnTo>
                  <a:lnTo>
                    <a:pt x="5274" y="7865"/>
                  </a:lnTo>
                  <a:lnTo>
                    <a:pt x="5023" y="7983"/>
                  </a:lnTo>
                  <a:lnTo>
                    <a:pt x="4772" y="7983"/>
                  </a:lnTo>
                  <a:lnTo>
                    <a:pt x="4521" y="8217"/>
                  </a:lnTo>
                  <a:lnTo>
                    <a:pt x="4270" y="8335"/>
                  </a:lnTo>
                  <a:lnTo>
                    <a:pt x="4270" y="8452"/>
                  </a:lnTo>
                  <a:lnTo>
                    <a:pt x="4019" y="8687"/>
                  </a:lnTo>
                  <a:lnTo>
                    <a:pt x="4019" y="12796"/>
                  </a:lnTo>
                  <a:lnTo>
                    <a:pt x="4270" y="12913"/>
                  </a:lnTo>
                  <a:lnTo>
                    <a:pt x="4270" y="13148"/>
                  </a:lnTo>
                  <a:lnTo>
                    <a:pt x="4521" y="13265"/>
                  </a:lnTo>
                  <a:lnTo>
                    <a:pt x="4772" y="13383"/>
                  </a:lnTo>
                  <a:lnTo>
                    <a:pt x="5023" y="13500"/>
                  </a:lnTo>
                  <a:lnTo>
                    <a:pt x="5274" y="13617"/>
                  </a:lnTo>
                  <a:lnTo>
                    <a:pt x="5526" y="13617"/>
                  </a:lnTo>
                  <a:lnTo>
                    <a:pt x="6028" y="13617"/>
                  </a:lnTo>
                  <a:close/>
                </a:path>
                <a:path w="21600" h="21600">
                  <a:moveTo>
                    <a:pt x="6028" y="20778"/>
                  </a:moveTo>
                  <a:lnTo>
                    <a:pt x="15572" y="20778"/>
                  </a:lnTo>
                  <a:lnTo>
                    <a:pt x="16074" y="20778"/>
                  </a:lnTo>
                  <a:lnTo>
                    <a:pt x="16326" y="20661"/>
                  </a:lnTo>
                  <a:lnTo>
                    <a:pt x="16577" y="20661"/>
                  </a:lnTo>
                  <a:lnTo>
                    <a:pt x="16828" y="20543"/>
                  </a:lnTo>
                  <a:lnTo>
                    <a:pt x="17079" y="20426"/>
                  </a:lnTo>
                  <a:lnTo>
                    <a:pt x="17330" y="20309"/>
                  </a:lnTo>
                  <a:lnTo>
                    <a:pt x="17330" y="20074"/>
                  </a:lnTo>
                  <a:lnTo>
                    <a:pt x="17581" y="19957"/>
                  </a:lnTo>
                  <a:lnTo>
                    <a:pt x="17581" y="15730"/>
                  </a:lnTo>
                  <a:lnTo>
                    <a:pt x="17330" y="15613"/>
                  </a:lnTo>
                  <a:lnTo>
                    <a:pt x="17330" y="15378"/>
                  </a:lnTo>
                  <a:lnTo>
                    <a:pt x="17079" y="15378"/>
                  </a:lnTo>
                  <a:lnTo>
                    <a:pt x="16828" y="15143"/>
                  </a:lnTo>
                  <a:lnTo>
                    <a:pt x="16577" y="15026"/>
                  </a:lnTo>
                  <a:lnTo>
                    <a:pt x="16326" y="15026"/>
                  </a:lnTo>
                  <a:lnTo>
                    <a:pt x="16074" y="15026"/>
                  </a:lnTo>
                  <a:lnTo>
                    <a:pt x="15572" y="14909"/>
                  </a:lnTo>
                  <a:lnTo>
                    <a:pt x="6028" y="14909"/>
                  </a:lnTo>
                  <a:lnTo>
                    <a:pt x="5526" y="15026"/>
                  </a:lnTo>
                  <a:lnTo>
                    <a:pt x="5274" y="15026"/>
                  </a:lnTo>
                  <a:lnTo>
                    <a:pt x="5023" y="15026"/>
                  </a:lnTo>
                  <a:lnTo>
                    <a:pt x="4772" y="15143"/>
                  </a:lnTo>
                  <a:lnTo>
                    <a:pt x="4521" y="15378"/>
                  </a:lnTo>
                  <a:lnTo>
                    <a:pt x="4270" y="15378"/>
                  </a:lnTo>
                  <a:lnTo>
                    <a:pt x="4270" y="15613"/>
                  </a:lnTo>
                  <a:lnTo>
                    <a:pt x="4019" y="15730"/>
                  </a:lnTo>
                  <a:lnTo>
                    <a:pt x="4019" y="19957"/>
                  </a:lnTo>
                  <a:lnTo>
                    <a:pt x="4270" y="20074"/>
                  </a:lnTo>
                  <a:lnTo>
                    <a:pt x="4270" y="20309"/>
                  </a:lnTo>
                  <a:lnTo>
                    <a:pt x="4521" y="20426"/>
                  </a:lnTo>
                  <a:lnTo>
                    <a:pt x="4772" y="20543"/>
                  </a:lnTo>
                  <a:lnTo>
                    <a:pt x="5023" y="20661"/>
                  </a:lnTo>
                  <a:lnTo>
                    <a:pt x="5274" y="20661"/>
                  </a:lnTo>
                  <a:lnTo>
                    <a:pt x="5526" y="20778"/>
                  </a:lnTo>
                  <a:lnTo>
                    <a:pt x="6028" y="20778"/>
                  </a:lnTo>
                  <a:close/>
                </a:path>
                <a:path w="21600" h="21600">
                  <a:moveTo>
                    <a:pt x="753" y="1291"/>
                  </a:moveTo>
                  <a:lnTo>
                    <a:pt x="2260" y="1291"/>
                  </a:lnTo>
                  <a:lnTo>
                    <a:pt x="2260" y="235"/>
                  </a:lnTo>
                  <a:lnTo>
                    <a:pt x="753" y="235"/>
                  </a:lnTo>
                  <a:lnTo>
                    <a:pt x="753" y="1291"/>
                  </a:lnTo>
                  <a:close/>
                </a:path>
                <a:path w="21600" h="21600">
                  <a:moveTo>
                    <a:pt x="753" y="2700"/>
                  </a:moveTo>
                  <a:lnTo>
                    <a:pt x="2260" y="2700"/>
                  </a:lnTo>
                  <a:lnTo>
                    <a:pt x="2260" y="1643"/>
                  </a:lnTo>
                  <a:lnTo>
                    <a:pt x="753" y="1643"/>
                  </a:lnTo>
                  <a:lnTo>
                    <a:pt x="753" y="2700"/>
                  </a:lnTo>
                  <a:close/>
                </a:path>
                <a:path w="21600" h="21600">
                  <a:moveTo>
                    <a:pt x="753" y="4109"/>
                  </a:moveTo>
                  <a:lnTo>
                    <a:pt x="2260" y="4109"/>
                  </a:lnTo>
                  <a:lnTo>
                    <a:pt x="2260" y="3052"/>
                  </a:lnTo>
                  <a:lnTo>
                    <a:pt x="753" y="3052"/>
                  </a:lnTo>
                  <a:lnTo>
                    <a:pt x="753" y="4109"/>
                  </a:lnTo>
                  <a:close/>
                </a:path>
                <a:path w="21600" h="21600">
                  <a:moveTo>
                    <a:pt x="753" y="5517"/>
                  </a:moveTo>
                  <a:lnTo>
                    <a:pt x="2260" y="5517"/>
                  </a:lnTo>
                  <a:lnTo>
                    <a:pt x="2260" y="4461"/>
                  </a:lnTo>
                  <a:lnTo>
                    <a:pt x="753" y="4461"/>
                  </a:lnTo>
                  <a:lnTo>
                    <a:pt x="753" y="5517"/>
                  </a:lnTo>
                  <a:close/>
                </a:path>
                <a:path w="21600" h="21600">
                  <a:moveTo>
                    <a:pt x="753" y="6926"/>
                  </a:moveTo>
                  <a:lnTo>
                    <a:pt x="2260" y="6926"/>
                  </a:lnTo>
                  <a:lnTo>
                    <a:pt x="2260" y="5870"/>
                  </a:lnTo>
                  <a:lnTo>
                    <a:pt x="753" y="5870"/>
                  </a:lnTo>
                  <a:lnTo>
                    <a:pt x="753" y="6926"/>
                  </a:lnTo>
                  <a:close/>
                </a:path>
                <a:path w="21600" h="21600">
                  <a:moveTo>
                    <a:pt x="753" y="8335"/>
                  </a:moveTo>
                  <a:lnTo>
                    <a:pt x="2260" y="8335"/>
                  </a:lnTo>
                  <a:lnTo>
                    <a:pt x="2260" y="7278"/>
                  </a:lnTo>
                  <a:lnTo>
                    <a:pt x="753" y="7278"/>
                  </a:lnTo>
                  <a:lnTo>
                    <a:pt x="753" y="8335"/>
                  </a:lnTo>
                  <a:close/>
                </a:path>
                <a:path w="21600" h="21600">
                  <a:moveTo>
                    <a:pt x="753" y="9743"/>
                  </a:moveTo>
                  <a:lnTo>
                    <a:pt x="2260" y="9743"/>
                  </a:lnTo>
                  <a:lnTo>
                    <a:pt x="2260" y="8687"/>
                  </a:lnTo>
                  <a:lnTo>
                    <a:pt x="753" y="8687"/>
                  </a:lnTo>
                  <a:lnTo>
                    <a:pt x="753" y="9743"/>
                  </a:lnTo>
                  <a:close/>
                </a:path>
                <a:path w="21600" h="21600">
                  <a:moveTo>
                    <a:pt x="753" y="11152"/>
                  </a:moveTo>
                  <a:lnTo>
                    <a:pt x="2260" y="11152"/>
                  </a:lnTo>
                  <a:lnTo>
                    <a:pt x="2260" y="10096"/>
                  </a:lnTo>
                  <a:lnTo>
                    <a:pt x="753" y="10096"/>
                  </a:lnTo>
                  <a:lnTo>
                    <a:pt x="753" y="11152"/>
                  </a:lnTo>
                  <a:close/>
                </a:path>
                <a:path w="21600" h="21600">
                  <a:moveTo>
                    <a:pt x="753" y="12561"/>
                  </a:moveTo>
                  <a:lnTo>
                    <a:pt x="2260" y="12561"/>
                  </a:lnTo>
                  <a:lnTo>
                    <a:pt x="2260" y="11504"/>
                  </a:lnTo>
                  <a:lnTo>
                    <a:pt x="753" y="11504"/>
                  </a:lnTo>
                  <a:lnTo>
                    <a:pt x="753" y="12561"/>
                  </a:lnTo>
                  <a:close/>
                </a:path>
                <a:path w="21600" h="21600">
                  <a:moveTo>
                    <a:pt x="753" y="13970"/>
                  </a:moveTo>
                  <a:lnTo>
                    <a:pt x="2260" y="13970"/>
                  </a:lnTo>
                  <a:lnTo>
                    <a:pt x="2260" y="12913"/>
                  </a:lnTo>
                  <a:lnTo>
                    <a:pt x="753" y="12913"/>
                  </a:lnTo>
                  <a:lnTo>
                    <a:pt x="753" y="13970"/>
                  </a:lnTo>
                  <a:close/>
                </a:path>
                <a:path w="21600" h="21600">
                  <a:moveTo>
                    <a:pt x="753" y="15378"/>
                  </a:moveTo>
                  <a:lnTo>
                    <a:pt x="2260" y="15378"/>
                  </a:lnTo>
                  <a:lnTo>
                    <a:pt x="2260" y="14322"/>
                  </a:lnTo>
                  <a:lnTo>
                    <a:pt x="753" y="14322"/>
                  </a:lnTo>
                  <a:lnTo>
                    <a:pt x="753" y="15378"/>
                  </a:lnTo>
                  <a:close/>
                </a:path>
                <a:path w="21600" h="21600">
                  <a:moveTo>
                    <a:pt x="753" y="16787"/>
                  </a:moveTo>
                  <a:lnTo>
                    <a:pt x="2260" y="16787"/>
                  </a:lnTo>
                  <a:lnTo>
                    <a:pt x="2260" y="15730"/>
                  </a:lnTo>
                  <a:lnTo>
                    <a:pt x="753" y="15730"/>
                  </a:lnTo>
                  <a:lnTo>
                    <a:pt x="753" y="16787"/>
                  </a:lnTo>
                  <a:close/>
                </a:path>
                <a:path w="21600" h="21600">
                  <a:moveTo>
                    <a:pt x="753" y="18196"/>
                  </a:moveTo>
                  <a:lnTo>
                    <a:pt x="2260" y="18196"/>
                  </a:lnTo>
                  <a:lnTo>
                    <a:pt x="2260" y="17139"/>
                  </a:lnTo>
                  <a:lnTo>
                    <a:pt x="753" y="17139"/>
                  </a:lnTo>
                  <a:lnTo>
                    <a:pt x="753" y="18196"/>
                  </a:lnTo>
                  <a:close/>
                </a:path>
                <a:path w="21600" h="21600">
                  <a:moveTo>
                    <a:pt x="753" y="19604"/>
                  </a:moveTo>
                  <a:lnTo>
                    <a:pt x="2260" y="19604"/>
                  </a:lnTo>
                  <a:lnTo>
                    <a:pt x="2260" y="18548"/>
                  </a:lnTo>
                  <a:lnTo>
                    <a:pt x="753" y="18548"/>
                  </a:lnTo>
                  <a:lnTo>
                    <a:pt x="753" y="19604"/>
                  </a:lnTo>
                  <a:close/>
                </a:path>
                <a:path w="21600" h="21600">
                  <a:moveTo>
                    <a:pt x="753" y="21013"/>
                  </a:moveTo>
                  <a:lnTo>
                    <a:pt x="2260" y="21013"/>
                  </a:lnTo>
                  <a:lnTo>
                    <a:pt x="2260" y="19957"/>
                  </a:lnTo>
                  <a:lnTo>
                    <a:pt x="753" y="19957"/>
                  </a:lnTo>
                  <a:lnTo>
                    <a:pt x="753" y="21013"/>
                  </a:lnTo>
                  <a:close/>
                </a:path>
                <a:path w="21600" h="21600">
                  <a:moveTo>
                    <a:pt x="19340" y="1409"/>
                  </a:moveTo>
                  <a:lnTo>
                    <a:pt x="20595" y="1409"/>
                  </a:lnTo>
                  <a:lnTo>
                    <a:pt x="20595" y="352"/>
                  </a:lnTo>
                  <a:lnTo>
                    <a:pt x="19340" y="352"/>
                  </a:lnTo>
                  <a:lnTo>
                    <a:pt x="19340" y="1409"/>
                  </a:lnTo>
                  <a:close/>
                </a:path>
                <a:path w="21600" h="21600">
                  <a:moveTo>
                    <a:pt x="19340" y="2700"/>
                  </a:moveTo>
                  <a:lnTo>
                    <a:pt x="20595" y="2700"/>
                  </a:lnTo>
                  <a:lnTo>
                    <a:pt x="20595" y="1643"/>
                  </a:lnTo>
                  <a:lnTo>
                    <a:pt x="19340" y="1643"/>
                  </a:lnTo>
                  <a:lnTo>
                    <a:pt x="19340" y="2700"/>
                  </a:lnTo>
                  <a:close/>
                </a:path>
                <a:path w="21600" h="21600">
                  <a:moveTo>
                    <a:pt x="19340" y="4109"/>
                  </a:moveTo>
                  <a:lnTo>
                    <a:pt x="20595" y="4109"/>
                  </a:lnTo>
                  <a:lnTo>
                    <a:pt x="20595" y="3052"/>
                  </a:lnTo>
                  <a:lnTo>
                    <a:pt x="19340" y="3052"/>
                  </a:lnTo>
                  <a:lnTo>
                    <a:pt x="19340" y="4109"/>
                  </a:lnTo>
                  <a:close/>
                </a:path>
                <a:path w="21600" h="21600">
                  <a:moveTo>
                    <a:pt x="19340" y="5517"/>
                  </a:moveTo>
                  <a:lnTo>
                    <a:pt x="20595" y="5517"/>
                  </a:lnTo>
                  <a:lnTo>
                    <a:pt x="20595" y="4461"/>
                  </a:lnTo>
                  <a:lnTo>
                    <a:pt x="19340" y="4461"/>
                  </a:lnTo>
                  <a:lnTo>
                    <a:pt x="19340" y="5517"/>
                  </a:lnTo>
                  <a:close/>
                </a:path>
                <a:path w="21600" h="21600">
                  <a:moveTo>
                    <a:pt x="19340" y="6926"/>
                  </a:moveTo>
                  <a:lnTo>
                    <a:pt x="20595" y="6926"/>
                  </a:lnTo>
                  <a:lnTo>
                    <a:pt x="20595" y="5870"/>
                  </a:lnTo>
                  <a:lnTo>
                    <a:pt x="19340" y="5870"/>
                  </a:lnTo>
                  <a:lnTo>
                    <a:pt x="19340" y="6926"/>
                  </a:lnTo>
                  <a:close/>
                </a:path>
                <a:path w="21600" h="21600">
                  <a:moveTo>
                    <a:pt x="19340" y="8335"/>
                  </a:moveTo>
                  <a:lnTo>
                    <a:pt x="20595" y="8335"/>
                  </a:lnTo>
                  <a:lnTo>
                    <a:pt x="20595" y="7278"/>
                  </a:lnTo>
                  <a:lnTo>
                    <a:pt x="19340" y="7278"/>
                  </a:lnTo>
                  <a:lnTo>
                    <a:pt x="19340" y="8335"/>
                  </a:lnTo>
                  <a:close/>
                </a:path>
                <a:path w="21600" h="21600">
                  <a:moveTo>
                    <a:pt x="19340" y="9743"/>
                  </a:moveTo>
                  <a:lnTo>
                    <a:pt x="20595" y="9743"/>
                  </a:lnTo>
                  <a:lnTo>
                    <a:pt x="20595" y="8687"/>
                  </a:lnTo>
                  <a:lnTo>
                    <a:pt x="19340" y="8687"/>
                  </a:lnTo>
                  <a:lnTo>
                    <a:pt x="19340" y="9743"/>
                  </a:lnTo>
                  <a:close/>
                </a:path>
                <a:path w="21600" h="21600">
                  <a:moveTo>
                    <a:pt x="19340" y="11152"/>
                  </a:moveTo>
                  <a:lnTo>
                    <a:pt x="20595" y="11152"/>
                  </a:lnTo>
                  <a:lnTo>
                    <a:pt x="20595" y="10096"/>
                  </a:lnTo>
                  <a:lnTo>
                    <a:pt x="19340" y="10096"/>
                  </a:lnTo>
                  <a:lnTo>
                    <a:pt x="19340" y="11152"/>
                  </a:lnTo>
                  <a:close/>
                </a:path>
                <a:path w="21600" h="21600">
                  <a:moveTo>
                    <a:pt x="19340" y="12561"/>
                  </a:moveTo>
                  <a:lnTo>
                    <a:pt x="20595" y="12561"/>
                  </a:lnTo>
                  <a:lnTo>
                    <a:pt x="20595" y="11504"/>
                  </a:lnTo>
                  <a:lnTo>
                    <a:pt x="19340" y="11504"/>
                  </a:lnTo>
                  <a:lnTo>
                    <a:pt x="19340" y="12561"/>
                  </a:lnTo>
                  <a:close/>
                </a:path>
                <a:path w="21600" h="21600">
                  <a:moveTo>
                    <a:pt x="19340" y="13970"/>
                  </a:moveTo>
                  <a:lnTo>
                    <a:pt x="20595" y="13970"/>
                  </a:lnTo>
                  <a:lnTo>
                    <a:pt x="20595" y="12913"/>
                  </a:lnTo>
                  <a:lnTo>
                    <a:pt x="19340" y="12913"/>
                  </a:lnTo>
                  <a:lnTo>
                    <a:pt x="19340" y="13970"/>
                  </a:lnTo>
                  <a:close/>
                </a:path>
                <a:path w="21600" h="21600">
                  <a:moveTo>
                    <a:pt x="19340" y="15378"/>
                  </a:moveTo>
                  <a:lnTo>
                    <a:pt x="20595" y="15378"/>
                  </a:lnTo>
                  <a:lnTo>
                    <a:pt x="20595" y="14322"/>
                  </a:lnTo>
                  <a:lnTo>
                    <a:pt x="19340" y="14322"/>
                  </a:lnTo>
                  <a:lnTo>
                    <a:pt x="19340" y="15378"/>
                  </a:lnTo>
                  <a:close/>
                </a:path>
                <a:path w="21600" h="21600">
                  <a:moveTo>
                    <a:pt x="19340" y="16787"/>
                  </a:moveTo>
                  <a:lnTo>
                    <a:pt x="20595" y="16787"/>
                  </a:lnTo>
                  <a:lnTo>
                    <a:pt x="20595" y="15730"/>
                  </a:lnTo>
                  <a:lnTo>
                    <a:pt x="19340" y="15730"/>
                  </a:lnTo>
                  <a:lnTo>
                    <a:pt x="19340" y="16787"/>
                  </a:lnTo>
                  <a:close/>
                </a:path>
                <a:path w="21600" h="21600">
                  <a:moveTo>
                    <a:pt x="19340" y="18196"/>
                  </a:moveTo>
                  <a:lnTo>
                    <a:pt x="20595" y="18196"/>
                  </a:lnTo>
                  <a:lnTo>
                    <a:pt x="20595" y="17139"/>
                  </a:lnTo>
                  <a:lnTo>
                    <a:pt x="19340" y="17139"/>
                  </a:lnTo>
                  <a:lnTo>
                    <a:pt x="19340" y="18196"/>
                  </a:lnTo>
                  <a:close/>
                </a:path>
                <a:path w="21600" h="21600">
                  <a:moveTo>
                    <a:pt x="19340" y="19604"/>
                  </a:moveTo>
                  <a:lnTo>
                    <a:pt x="20595" y="19604"/>
                  </a:lnTo>
                  <a:lnTo>
                    <a:pt x="20595" y="18548"/>
                  </a:lnTo>
                  <a:lnTo>
                    <a:pt x="19340" y="18548"/>
                  </a:lnTo>
                  <a:lnTo>
                    <a:pt x="19340" y="19604"/>
                  </a:lnTo>
                  <a:close/>
                </a:path>
                <a:path w="21600" h="21600">
                  <a:moveTo>
                    <a:pt x="19340" y="21013"/>
                  </a:moveTo>
                  <a:lnTo>
                    <a:pt x="20595" y="21013"/>
                  </a:lnTo>
                  <a:lnTo>
                    <a:pt x="20595" y="19957"/>
                  </a:lnTo>
                  <a:lnTo>
                    <a:pt x="19340" y="19957"/>
                  </a:lnTo>
                  <a:lnTo>
                    <a:pt x="19340" y="21013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666666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Film"/>
            <p:cNvSpPr/>
            <p:nvPr/>
          </p:nvSpPr>
          <p:spPr>
            <a:xfrm rot="5400000">
              <a:off x="-4714200" y="4581000"/>
              <a:ext cx="1809720" cy="2895840"/>
            </a:xfrm>
            <a:custGeom>
              <a:avLst/>
              <a:gdLst>
                <a:gd name="textAreaLeft" fmla="*/ 415800 w 1809720"/>
                <a:gd name="textAreaRight" fmla="*/ 1430280 w 1809720"/>
                <a:gd name="textAreaTop" fmla="*/ 1089000 h 2895840"/>
                <a:gd name="textAreaBottom" fmla="*/ 1800360 h 289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lnTo>
                    <a:pt x="21600" y="0"/>
                  </a:lnTo>
                  <a:close/>
                </a:path>
                <a:path w="21600" h="21600">
                  <a:moveTo>
                    <a:pt x="3014" y="21600"/>
                  </a:moveTo>
                  <a:lnTo>
                    <a:pt x="3014" y="0"/>
                  </a:lnTo>
                  <a:lnTo>
                    <a:pt x="0" y="0"/>
                  </a:lnTo>
                  <a:lnTo>
                    <a:pt x="0" y="21600"/>
                  </a:lnTo>
                  <a:lnTo>
                    <a:pt x="3014" y="21600"/>
                  </a:lnTo>
                  <a:close/>
                </a:path>
                <a:path w="21600" h="21600">
                  <a:moveTo>
                    <a:pt x="21600" y="21600"/>
                  </a:moveTo>
                  <a:lnTo>
                    <a:pt x="21600" y="0"/>
                  </a:lnTo>
                  <a:lnTo>
                    <a:pt x="18586" y="0"/>
                  </a:lnTo>
                  <a:lnTo>
                    <a:pt x="18586" y="21600"/>
                  </a:lnTo>
                  <a:lnTo>
                    <a:pt x="21600" y="21600"/>
                  </a:lnTo>
                  <a:close/>
                </a:path>
                <a:path w="21600" h="21600">
                  <a:moveTo>
                    <a:pt x="6028" y="6574"/>
                  </a:moveTo>
                  <a:lnTo>
                    <a:pt x="15572" y="6574"/>
                  </a:lnTo>
                  <a:lnTo>
                    <a:pt x="16074" y="6574"/>
                  </a:lnTo>
                  <a:lnTo>
                    <a:pt x="16326" y="6457"/>
                  </a:lnTo>
                  <a:lnTo>
                    <a:pt x="16577" y="6339"/>
                  </a:lnTo>
                  <a:lnTo>
                    <a:pt x="16828" y="6222"/>
                  </a:lnTo>
                  <a:lnTo>
                    <a:pt x="17079" y="6222"/>
                  </a:lnTo>
                  <a:lnTo>
                    <a:pt x="17330" y="5987"/>
                  </a:lnTo>
                  <a:lnTo>
                    <a:pt x="17330" y="5870"/>
                  </a:lnTo>
                  <a:lnTo>
                    <a:pt x="17581" y="5635"/>
                  </a:lnTo>
                  <a:lnTo>
                    <a:pt x="17581" y="1526"/>
                  </a:lnTo>
                  <a:lnTo>
                    <a:pt x="17330" y="1291"/>
                  </a:lnTo>
                  <a:lnTo>
                    <a:pt x="17330" y="1174"/>
                  </a:lnTo>
                  <a:lnTo>
                    <a:pt x="17079" y="1057"/>
                  </a:lnTo>
                  <a:lnTo>
                    <a:pt x="16828" y="939"/>
                  </a:lnTo>
                  <a:lnTo>
                    <a:pt x="16577" y="822"/>
                  </a:lnTo>
                  <a:lnTo>
                    <a:pt x="16326" y="704"/>
                  </a:lnTo>
                  <a:lnTo>
                    <a:pt x="16074" y="704"/>
                  </a:lnTo>
                  <a:lnTo>
                    <a:pt x="15572" y="587"/>
                  </a:lnTo>
                  <a:lnTo>
                    <a:pt x="6028" y="587"/>
                  </a:lnTo>
                  <a:lnTo>
                    <a:pt x="5526" y="704"/>
                  </a:lnTo>
                  <a:lnTo>
                    <a:pt x="5274" y="704"/>
                  </a:lnTo>
                  <a:lnTo>
                    <a:pt x="5023" y="822"/>
                  </a:lnTo>
                  <a:lnTo>
                    <a:pt x="4772" y="939"/>
                  </a:lnTo>
                  <a:lnTo>
                    <a:pt x="4521" y="1057"/>
                  </a:lnTo>
                  <a:lnTo>
                    <a:pt x="4270" y="1174"/>
                  </a:lnTo>
                  <a:lnTo>
                    <a:pt x="4270" y="1291"/>
                  </a:lnTo>
                  <a:lnTo>
                    <a:pt x="4019" y="1526"/>
                  </a:lnTo>
                  <a:lnTo>
                    <a:pt x="4019" y="5635"/>
                  </a:lnTo>
                  <a:lnTo>
                    <a:pt x="4270" y="5870"/>
                  </a:lnTo>
                  <a:lnTo>
                    <a:pt x="4270" y="5987"/>
                  </a:lnTo>
                  <a:lnTo>
                    <a:pt x="4521" y="6222"/>
                  </a:lnTo>
                  <a:lnTo>
                    <a:pt x="4772" y="6222"/>
                  </a:lnTo>
                  <a:lnTo>
                    <a:pt x="5023" y="6339"/>
                  </a:lnTo>
                  <a:lnTo>
                    <a:pt x="5274" y="6457"/>
                  </a:lnTo>
                  <a:lnTo>
                    <a:pt x="5526" y="6574"/>
                  </a:lnTo>
                  <a:lnTo>
                    <a:pt x="6028" y="6574"/>
                  </a:lnTo>
                  <a:close/>
                </a:path>
                <a:path w="21600" h="21600">
                  <a:moveTo>
                    <a:pt x="6028" y="13617"/>
                  </a:moveTo>
                  <a:lnTo>
                    <a:pt x="15572" y="13617"/>
                  </a:lnTo>
                  <a:lnTo>
                    <a:pt x="16074" y="13617"/>
                  </a:lnTo>
                  <a:lnTo>
                    <a:pt x="16326" y="13617"/>
                  </a:lnTo>
                  <a:lnTo>
                    <a:pt x="16577" y="13500"/>
                  </a:lnTo>
                  <a:lnTo>
                    <a:pt x="16828" y="13383"/>
                  </a:lnTo>
                  <a:lnTo>
                    <a:pt x="17079" y="13265"/>
                  </a:lnTo>
                  <a:lnTo>
                    <a:pt x="17330" y="13148"/>
                  </a:lnTo>
                  <a:lnTo>
                    <a:pt x="17330" y="12913"/>
                  </a:lnTo>
                  <a:lnTo>
                    <a:pt x="17581" y="12796"/>
                  </a:lnTo>
                  <a:lnTo>
                    <a:pt x="17581" y="8687"/>
                  </a:lnTo>
                  <a:lnTo>
                    <a:pt x="17330" y="8452"/>
                  </a:lnTo>
                  <a:lnTo>
                    <a:pt x="17330" y="8335"/>
                  </a:lnTo>
                  <a:lnTo>
                    <a:pt x="17079" y="8217"/>
                  </a:lnTo>
                  <a:lnTo>
                    <a:pt x="16828" y="7983"/>
                  </a:lnTo>
                  <a:lnTo>
                    <a:pt x="16577" y="7983"/>
                  </a:lnTo>
                  <a:lnTo>
                    <a:pt x="16326" y="7865"/>
                  </a:lnTo>
                  <a:lnTo>
                    <a:pt x="16074" y="7865"/>
                  </a:lnTo>
                  <a:lnTo>
                    <a:pt x="15572" y="7748"/>
                  </a:lnTo>
                  <a:lnTo>
                    <a:pt x="6028" y="7748"/>
                  </a:lnTo>
                  <a:lnTo>
                    <a:pt x="5526" y="7865"/>
                  </a:lnTo>
                  <a:lnTo>
                    <a:pt x="5274" y="7865"/>
                  </a:lnTo>
                  <a:lnTo>
                    <a:pt x="5023" y="7983"/>
                  </a:lnTo>
                  <a:lnTo>
                    <a:pt x="4772" y="7983"/>
                  </a:lnTo>
                  <a:lnTo>
                    <a:pt x="4521" y="8217"/>
                  </a:lnTo>
                  <a:lnTo>
                    <a:pt x="4270" y="8335"/>
                  </a:lnTo>
                  <a:lnTo>
                    <a:pt x="4270" y="8452"/>
                  </a:lnTo>
                  <a:lnTo>
                    <a:pt x="4019" y="8687"/>
                  </a:lnTo>
                  <a:lnTo>
                    <a:pt x="4019" y="12796"/>
                  </a:lnTo>
                  <a:lnTo>
                    <a:pt x="4270" y="12913"/>
                  </a:lnTo>
                  <a:lnTo>
                    <a:pt x="4270" y="13148"/>
                  </a:lnTo>
                  <a:lnTo>
                    <a:pt x="4521" y="13265"/>
                  </a:lnTo>
                  <a:lnTo>
                    <a:pt x="4772" y="13383"/>
                  </a:lnTo>
                  <a:lnTo>
                    <a:pt x="5023" y="13500"/>
                  </a:lnTo>
                  <a:lnTo>
                    <a:pt x="5274" y="13617"/>
                  </a:lnTo>
                  <a:lnTo>
                    <a:pt x="5526" y="13617"/>
                  </a:lnTo>
                  <a:lnTo>
                    <a:pt x="6028" y="13617"/>
                  </a:lnTo>
                  <a:close/>
                </a:path>
                <a:path w="21600" h="21600">
                  <a:moveTo>
                    <a:pt x="6028" y="20778"/>
                  </a:moveTo>
                  <a:lnTo>
                    <a:pt x="15572" y="20778"/>
                  </a:lnTo>
                  <a:lnTo>
                    <a:pt x="16074" y="20778"/>
                  </a:lnTo>
                  <a:lnTo>
                    <a:pt x="16326" y="20661"/>
                  </a:lnTo>
                  <a:lnTo>
                    <a:pt x="16577" y="20661"/>
                  </a:lnTo>
                  <a:lnTo>
                    <a:pt x="16828" y="20543"/>
                  </a:lnTo>
                  <a:lnTo>
                    <a:pt x="17079" y="20426"/>
                  </a:lnTo>
                  <a:lnTo>
                    <a:pt x="17330" y="20309"/>
                  </a:lnTo>
                  <a:lnTo>
                    <a:pt x="17330" y="20074"/>
                  </a:lnTo>
                  <a:lnTo>
                    <a:pt x="17581" y="19957"/>
                  </a:lnTo>
                  <a:lnTo>
                    <a:pt x="17581" y="15730"/>
                  </a:lnTo>
                  <a:lnTo>
                    <a:pt x="17330" y="15613"/>
                  </a:lnTo>
                  <a:lnTo>
                    <a:pt x="17330" y="15378"/>
                  </a:lnTo>
                  <a:lnTo>
                    <a:pt x="17079" y="15378"/>
                  </a:lnTo>
                  <a:lnTo>
                    <a:pt x="16828" y="15143"/>
                  </a:lnTo>
                  <a:lnTo>
                    <a:pt x="16577" y="15026"/>
                  </a:lnTo>
                  <a:lnTo>
                    <a:pt x="16326" y="15026"/>
                  </a:lnTo>
                  <a:lnTo>
                    <a:pt x="16074" y="15026"/>
                  </a:lnTo>
                  <a:lnTo>
                    <a:pt x="15572" y="14909"/>
                  </a:lnTo>
                  <a:lnTo>
                    <a:pt x="6028" y="14909"/>
                  </a:lnTo>
                  <a:lnTo>
                    <a:pt x="5526" y="15026"/>
                  </a:lnTo>
                  <a:lnTo>
                    <a:pt x="5274" y="15026"/>
                  </a:lnTo>
                  <a:lnTo>
                    <a:pt x="5023" y="15026"/>
                  </a:lnTo>
                  <a:lnTo>
                    <a:pt x="4772" y="15143"/>
                  </a:lnTo>
                  <a:lnTo>
                    <a:pt x="4521" y="15378"/>
                  </a:lnTo>
                  <a:lnTo>
                    <a:pt x="4270" y="15378"/>
                  </a:lnTo>
                  <a:lnTo>
                    <a:pt x="4270" y="15613"/>
                  </a:lnTo>
                  <a:lnTo>
                    <a:pt x="4019" y="15730"/>
                  </a:lnTo>
                  <a:lnTo>
                    <a:pt x="4019" y="19957"/>
                  </a:lnTo>
                  <a:lnTo>
                    <a:pt x="4270" y="20074"/>
                  </a:lnTo>
                  <a:lnTo>
                    <a:pt x="4270" y="20309"/>
                  </a:lnTo>
                  <a:lnTo>
                    <a:pt x="4521" y="20426"/>
                  </a:lnTo>
                  <a:lnTo>
                    <a:pt x="4772" y="20543"/>
                  </a:lnTo>
                  <a:lnTo>
                    <a:pt x="5023" y="20661"/>
                  </a:lnTo>
                  <a:lnTo>
                    <a:pt x="5274" y="20661"/>
                  </a:lnTo>
                  <a:lnTo>
                    <a:pt x="5526" y="20778"/>
                  </a:lnTo>
                  <a:lnTo>
                    <a:pt x="6028" y="20778"/>
                  </a:lnTo>
                  <a:close/>
                </a:path>
                <a:path w="21600" h="21600">
                  <a:moveTo>
                    <a:pt x="753" y="1291"/>
                  </a:moveTo>
                  <a:lnTo>
                    <a:pt x="2260" y="1291"/>
                  </a:lnTo>
                  <a:lnTo>
                    <a:pt x="2260" y="235"/>
                  </a:lnTo>
                  <a:lnTo>
                    <a:pt x="753" y="235"/>
                  </a:lnTo>
                  <a:lnTo>
                    <a:pt x="753" y="1291"/>
                  </a:lnTo>
                  <a:close/>
                </a:path>
                <a:path w="21600" h="21600">
                  <a:moveTo>
                    <a:pt x="753" y="2700"/>
                  </a:moveTo>
                  <a:lnTo>
                    <a:pt x="2260" y="2700"/>
                  </a:lnTo>
                  <a:lnTo>
                    <a:pt x="2260" y="1643"/>
                  </a:lnTo>
                  <a:lnTo>
                    <a:pt x="753" y="1643"/>
                  </a:lnTo>
                  <a:lnTo>
                    <a:pt x="753" y="2700"/>
                  </a:lnTo>
                  <a:close/>
                </a:path>
                <a:path w="21600" h="21600">
                  <a:moveTo>
                    <a:pt x="753" y="4109"/>
                  </a:moveTo>
                  <a:lnTo>
                    <a:pt x="2260" y="4109"/>
                  </a:lnTo>
                  <a:lnTo>
                    <a:pt x="2260" y="3052"/>
                  </a:lnTo>
                  <a:lnTo>
                    <a:pt x="753" y="3052"/>
                  </a:lnTo>
                  <a:lnTo>
                    <a:pt x="753" y="4109"/>
                  </a:lnTo>
                  <a:close/>
                </a:path>
                <a:path w="21600" h="21600">
                  <a:moveTo>
                    <a:pt x="753" y="5517"/>
                  </a:moveTo>
                  <a:lnTo>
                    <a:pt x="2260" y="5517"/>
                  </a:lnTo>
                  <a:lnTo>
                    <a:pt x="2260" y="4461"/>
                  </a:lnTo>
                  <a:lnTo>
                    <a:pt x="753" y="4461"/>
                  </a:lnTo>
                  <a:lnTo>
                    <a:pt x="753" y="5517"/>
                  </a:lnTo>
                  <a:close/>
                </a:path>
                <a:path w="21600" h="21600">
                  <a:moveTo>
                    <a:pt x="753" y="6926"/>
                  </a:moveTo>
                  <a:lnTo>
                    <a:pt x="2260" y="6926"/>
                  </a:lnTo>
                  <a:lnTo>
                    <a:pt x="2260" y="5870"/>
                  </a:lnTo>
                  <a:lnTo>
                    <a:pt x="753" y="5870"/>
                  </a:lnTo>
                  <a:lnTo>
                    <a:pt x="753" y="6926"/>
                  </a:lnTo>
                  <a:close/>
                </a:path>
                <a:path w="21600" h="21600">
                  <a:moveTo>
                    <a:pt x="753" y="8335"/>
                  </a:moveTo>
                  <a:lnTo>
                    <a:pt x="2260" y="8335"/>
                  </a:lnTo>
                  <a:lnTo>
                    <a:pt x="2260" y="7278"/>
                  </a:lnTo>
                  <a:lnTo>
                    <a:pt x="753" y="7278"/>
                  </a:lnTo>
                  <a:lnTo>
                    <a:pt x="753" y="8335"/>
                  </a:lnTo>
                  <a:close/>
                </a:path>
                <a:path w="21600" h="21600">
                  <a:moveTo>
                    <a:pt x="753" y="9743"/>
                  </a:moveTo>
                  <a:lnTo>
                    <a:pt x="2260" y="9743"/>
                  </a:lnTo>
                  <a:lnTo>
                    <a:pt x="2260" y="8687"/>
                  </a:lnTo>
                  <a:lnTo>
                    <a:pt x="753" y="8687"/>
                  </a:lnTo>
                  <a:lnTo>
                    <a:pt x="753" y="9743"/>
                  </a:lnTo>
                  <a:close/>
                </a:path>
                <a:path w="21600" h="21600">
                  <a:moveTo>
                    <a:pt x="753" y="11152"/>
                  </a:moveTo>
                  <a:lnTo>
                    <a:pt x="2260" y="11152"/>
                  </a:lnTo>
                  <a:lnTo>
                    <a:pt x="2260" y="10096"/>
                  </a:lnTo>
                  <a:lnTo>
                    <a:pt x="753" y="10096"/>
                  </a:lnTo>
                  <a:lnTo>
                    <a:pt x="753" y="11152"/>
                  </a:lnTo>
                  <a:close/>
                </a:path>
                <a:path w="21600" h="21600">
                  <a:moveTo>
                    <a:pt x="753" y="12561"/>
                  </a:moveTo>
                  <a:lnTo>
                    <a:pt x="2260" y="12561"/>
                  </a:lnTo>
                  <a:lnTo>
                    <a:pt x="2260" y="11504"/>
                  </a:lnTo>
                  <a:lnTo>
                    <a:pt x="753" y="11504"/>
                  </a:lnTo>
                  <a:lnTo>
                    <a:pt x="753" y="12561"/>
                  </a:lnTo>
                  <a:close/>
                </a:path>
                <a:path w="21600" h="21600">
                  <a:moveTo>
                    <a:pt x="753" y="13970"/>
                  </a:moveTo>
                  <a:lnTo>
                    <a:pt x="2260" y="13970"/>
                  </a:lnTo>
                  <a:lnTo>
                    <a:pt x="2260" y="12913"/>
                  </a:lnTo>
                  <a:lnTo>
                    <a:pt x="753" y="12913"/>
                  </a:lnTo>
                  <a:lnTo>
                    <a:pt x="753" y="13970"/>
                  </a:lnTo>
                  <a:close/>
                </a:path>
                <a:path w="21600" h="21600">
                  <a:moveTo>
                    <a:pt x="753" y="15378"/>
                  </a:moveTo>
                  <a:lnTo>
                    <a:pt x="2260" y="15378"/>
                  </a:lnTo>
                  <a:lnTo>
                    <a:pt x="2260" y="14322"/>
                  </a:lnTo>
                  <a:lnTo>
                    <a:pt x="753" y="14322"/>
                  </a:lnTo>
                  <a:lnTo>
                    <a:pt x="753" y="15378"/>
                  </a:lnTo>
                  <a:close/>
                </a:path>
                <a:path w="21600" h="21600">
                  <a:moveTo>
                    <a:pt x="753" y="16787"/>
                  </a:moveTo>
                  <a:lnTo>
                    <a:pt x="2260" y="16787"/>
                  </a:lnTo>
                  <a:lnTo>
                    <a:pt x="2260" y="15730"/>
                  </a:lnTo>
                  <a:lnTo>
                    <a:pt x="753" y="15730"/>
                  </a:lnTo>
                  <a:lnTo>
                    <a:pt x="753" y="16787"/>
                  </a:lnTo>
                  <a:close/>
                </a:path>
                <a:path w="21600" h="21600">
                  <a:moveTo>
                    <a:pt x="753" y="18196"/>
                  </a:moveTo>
                  <a:lnTo>
                    <a:pt x="2260" y="18196"/>
                  </a:lnTo>
                  <a:lnTo>
                    <a:pt x="2260" y="17139"/>
                  </a:lnTo>
                  <a:lnTo>
                    <a:pt x="753" y="17139"/>
                  </a:lnTo>
                  <a:lnTo>
                    <a:pt x="753" y="18196"/>
                  </a:lnTo>
                  <a:close/>
                </a:path>
                <a:path w="21600" h="21600">
                  <a:moveTo>
                    <a:pt x="753" y="19604"/>
                  </a:moveTo>
                  <a:lnTo>
                    <a:pt x="2260" y="19604"/>
                  </a:lnTo>
                  <a:lnTo>
                    <a:pt x="2260" y="18548"/>
                  </a:lnTo>
                  <a:lnTo>
                    <a:pt x="753" y="18548"/>
                  </a:lnTo>
                  <a:lnTo>
                    <a:pt x="753" y="19604"/>
                  </a:lnTo>
                  <a:close/>
                </a:path>
                <a:path w="21600" h="21600">
                  <a:moveTo>
                    <a:pt x="753" y="21013"/>
                  </a:moveTo>
                  <a:lnTo>
                    <a:pt x="2260" y="21013"/>
                  </a:lnTo>
                  <a:lnTo>
                    <a:pt x="2260" y="19957"/>
                  </a:lnTo>
                  <a:lnTo>
                    <a:pt x="753" y="19957"/>
                  </a:lnTo>
                  <a:lnTo>
                    <a:pt x="753" y="21013"/>
                  </a:lnTo>
                  <a:close/>
                </a:path>
                <a:path w="21600" h="21600">
                  <a:moveTo>
                    <a:pt x="19340" y="1409"/>
                  </a:moveTo>
                  <a:lnTo>
                    <a:pt x="20595" y="1409"/>
                  </a:lnTo>
                  <a:lnTo>
                    <a:pt x="20595" y="352"/>
                  </a:lnTo>
                  <a:lnTo>
                    <a:pt x="19340" y="352"/>
                  </a:lnTo>
                  <a:lnTo>
                    <a:pt x="19340" y="1409"/>
                  </a:lnTo>
                  <a:close/>
                </a:path>
                <a:path w="21600" h="21600">
                  <a:moveTo>
                    <a:pt x="19340" y="2700"/>
                  </a:moveTo>
                  <a:lnTo>
                    <a:pt x="20595" y="2700"/>
                  </a:lnTo>
                  <a:lnTo>
                    <a:pt x="20595" y="1643"/>
                  </a:lnTo>
                  <a:lnTo>
                    <a:pt x="19340" y="1643"/>
                  </a:lnTo>
                  <a:lnTo>
                    <a:pt x="19340" y="2700"/>
                  </a:lnTo>
                  <a:close/>
                </a:path>
                <a:path w="21600" h="21600">
                  <a:moveTo>
                    <a:pt x="19340" y="4109"/>
                  </a:moveTo>
                  <a:lnTo>
                    <a:pt x="20595" y="4109"/>
                  </a:lnTo>
                  <a:lnTo>
                    <a:pt x="20595" y="3052"/>
                  </a:lnTo>
                  <a:lnTo>
                    <a:pt x="19340" y="3052"/>
                  </a:lnTo>
                  <a:lnTo>
                    <a:pt x="19340" y="4109"/>
                  </a:lnTo>
                  <a:close/>
                </a:path>
                <a:path w="21600" h="21600">
                  <a:moveTo>
                    <a:pt x="19340" y="5517"/>
                  </a:moveTo>
                  <a:lnTo>
                    <a:pt x="20595" y="5517"/>
                  </a:lnTo>
                  <a:lnTo>
                    <a:pt x="20595" y="4461"/>
                  </a:lnTo>
                  <a:lnTo>
                    <a:pt x="19340" y="4461"/>
                  </a:lnTo>
                  <a:lnTo>
                    <a:pt x="19340" y="5517"/>
                  </a:lnTo>
                  <a:close/>
                </a:path>
                <a:path w="21600" h="21600">
                  <a:moveTo>
                    <a:pt x="19340" y="6926"/>
                  </a:moveTo>
                  <a:lnTo>
                    <a:pt x="20595" y="6926"/>
                  </a:lnTo>
                  <a:lnTo>
                    <a:pt x="20595" y="5870"/>
                  </a:lnTo>
                  <a:lnTo>
                    <a:pt x="19340" y="5870"/>
                  </a:lnTo>
                  <a:lnTo>
                    <a:pt x="19340" y="6926"/>
                  </a:lnTo>
                  <a:close/>
                </a:path>
                <a:path w="21600" h="21600">
                  <a:moveTo>
                    <a:pt x="19340" y="8335"/>
                  </a:moveTo>
                  <a:lnTo>
                    <a:pt x="20595" y="8335"/>
                  </a:lnTo>
                  <a:lnTo>
                    <a:pt x="20595" y="7278"/>
                  </a:lnTo>
                  <a:lnTo>
                    <a:pt x="19340" y="7278"/>
                  </a:lnTo>
                  <a:lnTo>
                    <a:pt x="19340" y="8335"/>
                  </a:lnTo>
                  <a:close/>
                </a:path>
                <a:path w="21600" h="21600">
                  <a:moveTo>
                    <a:pt x="19340" y="9743"/>
                  </a:moveTo>
                  <a:lnTo>
                    <a:pt x="20595" y="9743"/>
                  </a:lnTo>
                  <a:lnTo>
                    <a:pt x="20595" y="8687"/>
                  </a:lnTo>
                  <a:lnTo>
                    <a:pt x="19340" y="8687"/>
                  </a:lnTo>
                  <a:lnTo>
                    <a:pt x="19340" y="9743"/>
                  </a:lnTo>
                  <a:close/>
                </a:path>
                <a:path w="21600" h="21600">
                  <a:moveTo>
                    <a:pt x="19340" y="11152"/>
                  </a:moveTo>
                  <a:lnTo>
                    <a:pt x="20595" y="11152"/>
                  </a:lnTo>
                  <a:lnTo>
                    <a:pt x="20595" y="10096"/>
                  </a:lnTo>
                  <a:lnTo>
                    <a:pt x="19340" y="10096"/>
                  </a:lnTo>
                  <a:lnTo>
                    <a:pt x="19340" y="11152"/>
                  </a:lnTo>
                  <a:close/>
                </a:path>
                <a:path w="21600" h="21600">
                  <a:moveTo>
                    <a:pt x="19340" y="12561"/>
                  </a:moveTo>
                  <a:lnTo>
                    <a:pt x="20595" y="12561"/>
                  </a:lnTo>
                  <a:lnTo>
                    <a:pt x="20595" y="11504"/>
                  </a:lnTo>
                  <a:lnTo>
                    <a:pt x="19340" y="11504"/>
                  </a:lnTo>
                  <a:lnTo>
                    <a:pt x="19340" y="12561"/>
                  </a:lnTo>
                  <a:close/>
                </a:path>
                <a:path w="21600" h="21600">
                  <a:moveTo>
                    <a:pt x="19340" y="13970"/>
                  </a:moveTo>
                  <a:lnTo>
                    <a:pt x="20595" y="13970"/>
                  </a:lnTo>
                  <a:lnTo>
                    <a:pt x="20595" y="12913"/>
                  </a:lnTo>
                  <a:lnTo>
                    <a:pt x="19340" y="12913"/>
                  </a:lnTo>
                  <a:lnTo>
                    <a:pt x="19340" y="13970"/>
                  </a:lnTo>
                  <a:close/>
                </a:path>
                <a:path w="21600" h="21600">
                  <a:moveTo>
                    <a:pt x="19340" y="15378"/>
                  </a:moveTo>
                  <a:lnTo>
                    <a:pt x="20595" y="15378"/>
                  </a:lnTo>
                  <a:lnTo>
                    <a:pt x="20595" y="14322"/>
                  </a:lnTo>
                  <a:lnTo>
                    <a:pt x="19340" y="14322"/>
                  </a:lnTo>
                  <a:lnTo>
                    <a:pt x="19340" y="15378"/>
                  </a:lnTo>
                  <a:close/>
                </a:path>
                <a:path w="21600" h="21600">
                  <a:moveTo>
                    <a:pt x="19340" y="16787"/>
                  </a:moveTo>
                  <a:lnTo>
                    <a:pt x="20595" y="16787"/>
                  </a:lnTo>
                  <a:lnTo>
                    <a:pt x="20595" y="15730"/>
                  </a:lnTo>
                  <a:lnTo>
                    <a:pt x="19340" y="15730"/>
                  </a:lnTo>
                  <a:lnTo>
                    <a:pt x="19340" y="16787"/>
                  </a:lnTo>
                  <a:close/>
                </a:path>
                <a:path w="21600" h="21600">
                  <a:moveTo>
                    <a:pt x="19340" y="18196"/>
                  </a:moveTo>
                  <a:lnTo>
                    <a:pt x="20595" y="18196"/>
                  </a:lnTo>
                  <a:lnTo>
                    <a:pt x="20595" y="17139"/>
                  </a:lnTo>
                  <a:lnTo>
                    <a:pt x="19340" y="17139"/>
                  </a:lnTo>
                  <a:lnTo>
                    <a:pt x="19340" y="18196"/>
                  </a:lnTo>
                  <a:close/>
                </a:path>
                <a:path w="21600" h="21600">
                  <a:moveTo>
                    <a:pt x="19340" y="19604"/>
                  </a:moveTo>
                  <a:lnTo>
                    <a:pt x="20595" y="19604"/>
                  </a:lnTo>
                  <a:lnTo>
                    <a:pt x="20595" y="18548"/>
                  </a:lnTo>
                  <a:lnTo>
                    <a:pt x="19340" y="18548"/>
                  </a:lnTo>
                  <a:lnTo>
                    <a:pt x="19340" y="19604"/>
                  </a:lnTo>
                  <a:close/>
                </a:path>
                <a:path w="21600" h="21600">
                  <a:moveTo>
                    <a:pt x="19340" y="21013"/>
                  </a:moveTo>
                  <a:lnTo>
                    <a:pt x="20595" y="21013"/>
                  </a:lnTo>
                  <a:lnTo>
                    <a:pt x="20595" y="19957"/>
                  </a:lnTo>
                  <a:lnTo>
                    <a:pt x="19340" y="19957"/>
                  </a:lnTo>
                  <a:lnTo>
                    <a:pt x="19340" y="21013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666666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Film"/>
            <p:cNvSpPr/>
            <p:nvPr/>
          </p:nvSpPr>
          <p:spPr>
            <a:xfrm rot="5400000">
              <a:off x="-1819080" y="4581360"/>
              <a:ext cx="1809720" cy="2895480"/>
            </a:xfrm>
            <a:custGeom>
              <a:avLst/>
              <a:gdLst>
                <a:gd name="textAreaLeft" fmla="*/ 415800 w 1809720"/>
                <a:gd name="textAreaRight" fmla="*/ 1430280 w 1809720"/>
                <a:gd name="textAreaTop" fmla="*/ 1089000 h 2895480"/>
                <a:gd name="textAreaBottom" fmla="*/ 1800360 h 289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lnTo>
                    <a:pt x="21600" y="0"/>
                  </a:lnTo>
                  <a:close/>
                </a:path>
                <a:path w="21600" h="21600">
                  <a:moveTo>
                    <a:pt x="3014" y="21600"/>
                  </a:moveTo>
                  <a:lnTo>
                    <a:pt x="3014" y="0"/>
                  </a:lnTo>
                  <a:lnTo>
                    <a:pt x="0" y="0"/>
                  </a:lnTo>
                  <a:lnTo>
                    <a:pt x="0" y="21600"/>
                  </a:lnTo>
                  <a:lnTo>
                    <a:pt x="3014" y="21600"/>
                  </a:lnTo>
                  <a:close/>
                </a:path>
                <a:path w="21600" h="21600">
                  <a:moveTo>
                    <a:pt x="21600" y="21600"/>
                  </a:moveTo>
                  <a:lnTo>
                    <a:pt x="21600" y="0"/>
                  </a:lnTo>
                  <a:lnTo>
                    <a:pt x="18586" y="0"/>
                  </a:lnTo>
                  <a:lnTo>
                    <a:pt x="18586" y="21600"/>
                  </a:lnTo>
                  <a:lnTo>
                    <a:pt x="21600" y="21600"/>
                  </a:lnTo>
                  <a:close/>
                </a:path>
                <a:path w="21600" h="21600">
                  <a:moveTo>
                    <a:pt x="6028" y="6574"/>
                  </a:moveTo>
                  <a:lnTo>
                    <a:pt x="15572" y="6574"/>
                  </a:lnTo>
                  <a:lnTo>
                    <a:pt x="16074" y="6574"/>
                  </a:lnTo>
                  <a:lnTo>
                    <a:pt x="16326" y="6457"/>
                  </a:lnTo>
                  <a:lnTo>
                    <a:pt x="16577" y="6339"/>
                  </a:lnTo>
                  <a:lnTo>
                    <a:pt x="16828" y="6222"/>
                  </a:lnTo>
                  <a:lnTo>
                    <a:pt x="17079" y="6222"/>
                  </a:lnTo>
                  <a:lnTo>
                    <a:pt x="17330" y="5987"/>
                  </a:lnTo>
                  <a:lnTo>
                    <a:pt x="17330" y="5870"/>
                  </a:lnTo>
                  <a:lnTo>
                    <a:pt x="17581" y="5635"/>
                  </a:lnTo>
                  <a:lnTo>
                    <a:pt x="17581" y="1526"/>
                  </a:lnTo>
                  <a:lnTo>
                    <a:pt x="17330" y="1291"/>
                  </a:lnTo>
                  <a:lnTo>
                    <a:pt x="17330" y="1174"/>
                  </a:lnTo>
                  <a:lnTo>
                    <a:pt x="17079" y="1057"/>
                  </a:lnTo>
                  <a:lnTo>
                    <a:pt x="16828" y="939"/>
                  </a:lnTo>
                  <a:lnTo>
                    <a:pt x="16577" y="822"/>
                  </a:lnTo>
                  <a:lnTo>
                    <a:pt x="16326" y="704"/>
                  </a:lnTo>
                  <a:lnTo>
                    <a:pt x="16074" y="704"/>
                  </a:lnTo>
                  <a:lnTo>
                    <a:pt x="15572" y="587"/>
                  </a:lnTo>
                  <a:lnTo>
                    <a:pt x="6028" y="587"/>
                  </a:lnTo>
                  <a:lnTo>
                    <a:pt x="5526" y="704"/>
                  </a:lnTo>
                  <a:lnTo>
                    <a:pt x="5274" y="704"/>
                  </a:lnTo>
                  <a:lnTo>
                    <a:pt x="5023" y="822"/>
                  </a:lnTo>
                  <a:lnTo>
                    <a:pt x="4772" y="939"/>
                  </a:lnTo>
                  <a:lnTo>
                    <a:pt x="4521" y="1057"/>
                  </a:lnTo>
                  <a:lnTo>
                    <a:pt x="4270" y="1174"/>
                  </a:lnTo>
                  <a:lnTo>
                    <a:pt x="4270" y="1291"/>
                  </a:lnTo>
                  <a:lnTo>
                    <a:pt x="4019" y="1526"/>
                  </a:lnTo>
                  <a:lnTo>
                    <a:pt x="4019" y="5635"/>
                  </a:lnTo>
                  <a:lnTo>
                    <a:pt x="4270" y="5870"/>
                  </a:lnTo>
                  <a:lnTo>
                    <a:pt x="4270" y="5987"/>
                  </a:lnTo>
                  <a:lnTo>
                    <a:pt x="4521" y="6222"/>
                  </a:lnTo>
                  <a:lnTo>
                    <a:pt x="4772" y="6222"/>
                  </a:lnTo>
                  <a:lnTo>
                    <a:pt x="5023" y="6339"/>
                  </a:lnTo>
                  <a:lnTo>
                    <a:pt x="5274" y="6457"/>
                  </a:lnTo>
                  <a:lnTo>
                    <a:pt x="5526" y="6574"/>
                  </a:lnTo>
                  <a:lnTo>
                    <a:pt x="6028" y="6574"/>
                  </a:lnTo>
                  <a:close/>
                </a:path>
                <a:path w="21600" h="21600">
                  <a:moveTo>
                    <a:pt x="6028" y="13617"/>
                  </a:moveTo>
                  <a:lnTo>
                    <a:pt x="15572" y="13617"/>
                  </a:lnTo>
                  <a:lnTo>
                    <a:pt x="16074" y="13617"/>
                  </a:lnTo>
                  <a:lnTo>
                    <a:pt x="16326" y="13617"/>
                  </a:lnTo>
                  <a:lnTo>
                    <a:pt x="16577" y="13500"/>
                  </a:lnTo>
                  <a:lnTo>
                    <a:pt x="16828" y="13383"/>
                  </a:lnTo>
                  <a:lnTo>
                    <a:pt x="17079" y="13265"/>
                  </a:lnTo>
                  <a:lnTo>
                    <a:pt x="17330" y="13148"/>
                  </a:lnTo>
                  <a:lnTo>
                    <a:pt x="17330" y="12913"/>
                  </a:lnTo>
                  <a:lnTo>
                    <a:pt x="17581" y="12796"/>
                  </a:lnTo>
                  <a:lnTo>
                    <a:pt x="17581" y="8687"/>
                  </a:lnTo>
                  <a:lnTo>
                    <a:pt x="17330" y="8452"/>
                  </a:lnTo>
                  <a:lnTo>
                    <a:pt x="17330" y="8335"/>
                  </a:lnTo>
                  <a:lnTo>
                    <a:pt x="17079" y="8217"/>
                  </a:lnTo>
                  <a:lnTo>
                    <a:pt x="16828" y="7983"/>
                  </a:lnTo>
                  <a:lnTo>
                    <a:pt x="16577" y="7983"/>
                  </a:lnTo>
                  <a:lnTo>
                    <a:pt x="16326" y="7865"/>
                  </a:lnTo>
                  <a:lnTo>
                    <a:pt x="16074" y="7865"/>
                  </a:lnTo>
                  <a:lnTo>
                    <a:pt x="15572" y="7748"/>
                  </a:lnTo>
                  <a:lnTo>
                    <a:pt x="6028" y="7748"/>
                  </a:lnTo>
                  <a:lnTo>
                    <a:pt x="5526" y="7865"/>
                  </a:lnTo>
                  <a:lnTo>
                    <a:pt x="5274" y="7865"/>
                  </a:lnTo>
                  <a:lnTo>
                    <a:pt x="5023" y="7983"/>
                  </a:lnTo>
                  <a:lnTo>
                    <a:pt x="4772" y="7983"/>
                  </a:lnTo>
                  <a:lnTo>
                    <a:pt x="4521" y="8217"/>
                  </a:lnTo>
                  <a:lnTo>
                    <a:pt x="4270" y="8335"/>
                  </a:lnTo>
                  <a:lnTo>
                    <a:pt x="4270" y="8452"/>
                  </a:lnTo>
                  <a:lnTo>
                    <a:pt x="4019" y="8687"/>
                  </a:lnTo>
                  <a:lnTo>
                    <a:pt x="4019" y="12796"/>
                  </a:lnTo>
                  <a:lnTo>
                    <a:pt x="4270" y="12913"/>
                  </a:lnTo>
                  <a:lnTo>
                    <a:pt x="4270" y="13148"/>
                  </a:lnTo>
                  <a:lnTo>
                    <a:pt x="4521" y="13265"/>
                  </a:lnTo>
                  <a:lnTo>
                    <a:pt x="4772" y="13383"/>
                  </a:lnTo>
                  <a:lnTo>
                    <a:pt x="5023" y="13500"/>
                  </a:lnTo>
                  <a:lnTo>
                    <a:pt x="5274" y="13617"/>
                  </a:lnTo>
                  <a:lnTo>
                    <a:pt x="5526" y="13617"/>
                  </a:lnTo>
                  <a:lnTo>
                    <a:pt x="6028" y="13617"/>
                  </a:lnTo>
                  <a:close/>
                </a:path>
                <a:path w="21600" h="21600">
                  <a:moveTo>
                    <a:pt x="6028" y="20778"/>
                  </a:moveTo>
                  <a:lnTo>
                    <a:pt x="15572" y="20778"/>
                  </a:lnTo>
                  <a:lnTo>
                    <a:pt x="16074" y="20778"/>
                  </a:lnTo>
                  <a:lnTo>
                    <a:pt x="16326" y="20661"/>
                  </a:lnTo>
                  <a:lnTo>
                    <a:pt x="16577" y="20661"/>
                  </a:lnTo>
                  <a:lnTo>
                    <a:pt x="16828" y="20543"/>
                  </a:lnTo>
                  <a:lnTo>
                    <a:pt x="17079" y="20426"/>
                  </a:lnTo>
                  <a:lnTo>
                    <a:pt x="17330" y="20309"/>
                  </a:lnTo>
                  <a:lnTo>
                    <a:pt x="17330" y="20074"/>
                  </a:lnTo>
                  <a:lnTo>
                    <a:pt x="17581" y="19957"/>
                  </a:lnTo>
                  <a:lnTo>
                    <a:pt x="17581" y="15730"/>
                  </a:lnTo>
                  <a:lnTo>
                    <a:pt x="17330" y="15613"/>
                  </a:lnTo>
                  <a:lnTo>
                    <a:pt x="17330" y="15378"/>
                  </a:lnTo>
                  <a:lnTo>
                    <a:pt x="17079" y="15378"/>
                  </a:lnTo>
                  <a:lnTo>
                    <a:pt x="16828" y="15143"/>
                  </a:lnTo>
                  <a:lnTo>
                    <a:pt x="16577" y="15026"/>
                  </a:lnTo>
                  <a:lnTo>
                    <a:pt x="16326" y="15026"/>
                  </a:lnTo>
                  <a:lnTo>
                    <a:pt x="16074" y="15026"/>
                  </a:lnTo>
                  <a:lnTo>
                    <a:pt x="15572" y="14909"/>
                  </a:lnTo>
                  <a:lnTo>
                    <a:pt x="6028" y="14909"/>
                  </a:lnTo>
                  <a:lnTo>
                    <a:pt x="5526" y="15026"/>
                  </a:lnTo>
                  <a:lnTo>
                    <a:pt x="5274" y="15026"/>
                  </a:lnTo>
                  <a:lnTo>
                    <a:pt x="5023" y="15026"/>
                  </a:lnTo>
                  <a:lnTo>
                    <a:pt x="4772" y="15143"/>
                  </a:lnTo>
                  <a:lnTo>
                    <a:pt x="4521" y="15378"/>
                  </a:lnTo>
                  <a:lnTo>
                    <a:pt x="4270" y="15378"/>
                  </a:lnTo>
                  <a:lnTo>
                    <a:pt x="4270" y="15613"/>
                  </a:lnTo>
                  <a:lnTo>
                    <a:pt x="4019" y="15730"/>
                  </a:lnTo>
                  <a:lnTo>
                    <a:pt x="4019" y="19957"/>
                  </a:lnTo>
                  <a:lnTo>
                    <a:pt x="4270" y="20074"/>
                  </a:lnTo>
                  <a:lnTo>
                    <a:pt x="4270" y="20309"/>
                  </a:lnTo>
                  <a:lnTo>
                    <a:pt x="4521" y="20426"/>
                  </a:lnTo>
                  <a:lnTo>
                    <a:pt x="4772" y="20543"/>
                  </a:lnTo>
                  <a:lnTo>
                    <a:pt x="5023" y="20661"/>
                  </a:lnTo>
                  <a:lnTo>
                    <a:pt x="5274" y="20661"/>
                  </a:lnTo>
                  <a:lnTo>
                    <a:pt x="5526" y="20778"/>
                  </a:lnTo>
                  <a:lnTo>
                    <a:pt x="6028" y="20778"/>
                  </a:lnTo>
                  <a:close/>
                </a:path>
                <a:path w="21600" h="21600">
                  <a:moveTo>
                    <a:pt x="753" y="1291"/>
                  </a:moveTo>
                  <a:lnTo>
                    <a:pt x="2260" y="1291"/>
                  </a:lnTo>
                  <a:lnTo>
                    <a:pt x="2260" y="235"/>
                  </a:lnTo>
                  <a:lnTo>
                    <a:pt x="753" y="235"/>
                  </a:lnTo>
                  <a:lnTo>
                    <a:pt x="753" y="1291"/>
                  </a:lnTo>
                  <a:close/>
                </a:path>
                <a:path w="21600" h="21600">
                  <a:moveTo>
                    <a:pt x="753" y="2700"/>
                  </a:moveTo>
                  <a:lnTo>
                    <a:pt x="2260" y="2700"/>
                  </a:lnTo>
                  <a:lnTo>
                    <a:pt x="2260" y="1643"/>
                  </a:lnTo>
                  <a:lnTo>
                    <a:pt x="753" y="1643"/>
                  </a:lnTo>
                  <a:lnTo>
                    <a:pt x="753" y="2700"/>
                  </a:lnTo>
                  <a:close/>
                </a:path>
                <a:path w="21600" h="21600">
                  <a:moveTo>
                    <a:pt x="753" y="4109"/>
                  </a:moveTo>
                  <a:lnTo>
                    <a:pt x="2260" y="4109"/>
                  </a:lnTo>
                  <a:lnTo>
                    <a:pt x="2260" y="3052"/>
                  </a:lnTo>
                  <a:lnTo>
                    <a:pt x="753" y="3052"/>
                  </a:lnTo>
                  <a:lnTo>
                    <a:pt x="753" y="4109"/>
                  </a:lnTo>
                  <a:close/>
                </a:path>
                <a:path w="21600" h="21600">
                  <a:moveTo>
                    <a:pt x="753" y="5517"/>
                  </a:moveTo>
                  <a:lnTo>
                    <a:pt x="2260" y="5517"/>
                  </a:lnTo>
                  <a:lnTo>
                    <a:pt x="2260" y="4461"/>
                  </a:lnTo>
                  <a:lnTo>
                    <a:pt x="753" y="4461"/>
                  </a:lnTo>
                  <a:lnTo>
                    <a:pt x="753" y="5517"/>
                  </a:lnTo>
                  <a:close/>
                </a:path>
                <a:path w="21600" h="21600">
                  <a:moveTo>
                    <a:pt x="753" y="6926"/>
                  </a:moveTo>
                  <a:lnTo>
                    <a:pt x="2260" y="6926"/>
                  </a:lnTo>
                  <a:lnTo>
                    <a:pt x="2260" y="5870"/>
                  </a:lnTo>
                  <a:lnTo>
                    <a:pt x="753" y="5870"/>
                  </a:lnTo>
                  <a:lnTo>
                    <a:pt x="753" y="6926"/>
                  </a:lnTo>
                  <a:close/>
                </a:path>
                <a:path w="21600" h="21600">
                  <a:moveTo>
                    <a:pt x="753" y="8335"/>
                  </a:moveTo>
                  <a:lnTo>
                    <a:pt x="2260" y="8335"/>
                  </a:lnTo>
                  <a:lnTo>
                    <a:pt x="2260" y="7278"/>
                  </a:lnTo>
                  <a:lnTo>
                    <a:pt x="753" y="7278"/>
                  </a:lnTo>
                  <a:lnTo>
                    <a:pt x="753" y="8335"/>
                  </a:lnTo>
                  <a:close/>
                </a:path>
                <a:path w="21600" h="21600">
                  <a:moveTo>
                    <a:pt x="753" y="9743"/>
                  </a:moveTo>
                  <a:lnTo>
                    <a:pt x="2260" y="9743"/>
                  </a:lnTo>
                  <a:lnTo>
                    <a:pt x="2260" y="8687"/>
                  </a:lnTo>
                  <a:lnTo>
                    <a:pt x="753" y="8687"/>
                  </a:lnTo>
                  <a:lnTo>
                    <a:pt x="753" y="9743"/>
                  </a:lnTo>
                  <a:close/>
                </a:path>
                <a:path w="21600" h="21600">
                  <a:moveTo>
                    <a:pt x="753" y="11152"/>
                  </a:moveTo>
                  <a:lnTo>
                    <a:pt x="2260" y="11152"/>
                  </a:lnTo>
                  <a:lnTo>
                    <a:pt x="2260" y="10096"/>
                  </a:lnTo>
                  <a:lnTo>
                    <a:pt x="753" y="10096"/>
                  </a:lnTo>
                  <a:lnTo>
                    <a:pt x="753" y="11152"/>
                  </a:lnTo>
                  <a:close/>
                </a:path>
                <a:path w="21600" h="21600">
                  <a:moveTo>
                    <a:pt x="753" y="12561"/>
                  </a:moveTo>
                  <a:lnTo>
                    <a:pt x="2260" y="12561"/>
                  </a:lnTo>
                  <a:lnTo>
                    <a:pt x="2260" y="11504"/>
                  </a:lnTo>
                  <a:lnTo>
                    <a:pt x="753" y="11504"/>
                  </a:lnTo>
                  <a:lnTo>
                    <a:pt x="753" y="12561"/>
                  </a:lnTo>
                  <a:close/>
                </a:path>
                <a:path w="21600" h="21600">
                  <a:moveTo>
                    <a:pt x="753" y="13970"/>
                  </a:moveTo>
                  <a:lnTo>
                    <a:pt x="2260" y="13970"/>
                  </a:lnTo>
                  <a:lnTo>
                    <a:pt x="2260" y="12913"/>
                  </a:lnTo>
                  <a:lnTo>
                    <a:pt x="753" y="12913"/>
                  </a:lnTo>
                  <a:lnTo>
                    <a:pt x="753" y="13970"/>
                  </a:lnTo>
                  <a:close/>
                </a:path>
                <a:path w="21600" h="21600">
                  <a:moveTo>
                    <a:pt x="753" y="15378"/>
                  </a:moveTo>
                  <a:lnTo>
                    <a:pt x="2260" y="15378"/>
                  </a:lnTo>
                  <a:lnTo>
                    <a:pt x="2260" y="14322"/>
                  </a:lnTo>
                  <a:lnTo>
                    <a:pt x="753" y="14322"/>
                  </a:lnTo>
                  <a:lnTo>
                    <a:pt x="753" y="15378"/>
                  </a:lnTo>
                  <a:close/>
                </a:path>
                <a:path w="21600" h="21600">
                  <a:moveTo>
                    <a:pt x="753" y="16787"/>
                  </a:moveTo>
                  <a:lnTo>
                    <a:pt x="2260" y="16787"/>
                  </a:lnTo>
                  <a:lnTo>
                    <a:pt x="2260" y="15730"/>
                  </a:lnTo>
                  <a:lnTo>
                    <a:pt x="753" y="15730"/>
                  </a:lnTo>
                  <a:lnTo>
                    <a:pt x="753" y="16787"/>
                  </a:lnTo>
                  <a:close/>
                </a:path>
                <a:path w="21600" h="21600">
                  <a:moveTo>
                    <a:pt x="753" y="18196"/>
                  </a:moveTo>
                  <a:lnTo>
                    <a:pt x="2260" y="18196"/>
                  </a:lnTo>
                  <a:lnTo>
                    <a:pt x="2260" y="17139"/>
                  </a:lnTo>
                  <a:lnTo>
                    <a:pt x="753" y="17139"/>
                  </a:lnTo>
                  <a:lnTo>
                    <a:pt x="753" y="18196"/>
                  </a:lnTo>
                  <a:close/>
                </a:path>
                <a:path w="21600" h="21600">
                  <a:moveTo>
                    <a:pt x="753" y="19604"/>
                  </a:moveTo>
                  <a:lnTo>
                    <a:pt x="2260" y="19604"/>
                  </a:lnTo>
                  <a:lnTo>
                    <a:pt x="2260" y="18548"/>
                  </a:lnTo>
                  <a:lnTo>
                    <a:pt x="753" y="18548"/>
                  </a:lnTo>
                  <a:lnTo>
                    <a:pt x="753" y="19604"/>
                  </a:lnTo>
                  <a:close/>
                </a:path>
                <a:path w="21600" h="21600">
                  <a:moveTo>
                    <a:pt x="753" y="21013"/>
                  </a:moveTo>
                  <a:lnTo>
                    <a:pt x="2260" y="21013"/>
                  </a:lnTo>
                  <a:lnTo>
                    <a:pt x="2260" y="19957"/>
                  </a:lnTo>
                  <a:lnTo>
                    <a:pt x="753" y="19957"/>
                  </a:lnTo>
                  <a:lnTo>
                    <a:pt x="753" y="21013"/>
                  </a:lnTo>
                  <a:close/>
                </a:path>
                <a:path w="21600" h="21600">
                  <a:moveTo>
                    <a:pt x="19340" y="1409"/>
                  </a:moveTo>
                  <a:lnTo>
                    <a:pt x="20595" y="1409"/>
                  </a:lnTo>
                  <a:lnTo>
                    <a:pt x="20595" y="352"/>
                  </a:lnTo>
                  <a:lnTo>
                    <a:pt x="19340" y="352"/>
                  </a:lnTo>
                  <a:lnTo>
                    <a:pt x="19340" y="1409"/>
                  </a:lnTo>
                  <a:close/>
                </a:path>
                <a:path w="21600" h="21600">
                  <a:moveTo>
                    <a:pt x="19340" y="2700"/>
                  </a:moveTo>
                  <a:lnTo>
                    <a:pt x="20595" y="2700"/>
                  </a:lnTo>
                  <a:lnTo>
                    <a:pt x="20595" y="1643"/>
                  </a:lnTo>
                  <a:lnTo>
                    <a:pt x="19340" y="1643"/>
                  </a:lnTo>
                  <a:lnTo>
                    <a:pt x="19340" y="2700"/>
                  </a:lnTo>
                  <a:close/>
                </a:path>
                <a:path w="21600" h="21600">
                  <a:moveTo>
                    <a:pt x="19340" y="4109"/>
                  </a:moveTo>
                  <a:lnTo>
                    <a:pt x="20595" y="4109"/>
                  </a:lnTo>
                  <a:lnTo>
                    <a:pt x="20595" y="3052"/>
                  </a:lnTo>
                  <a:lnTo>
                    <a:pt x="19340" y="3052"/>
                  </a:lnTo>
                  <a:lnTo>
                    <a:pt x="19340" y="4109"/>
                  </a:lnTo>
                  <a:close/>
                </a:path>
                <a:path w="21600" h="21600">
                  <a:moveTo>
                    <a:pt x="19340" y="5517"/>
                  </a:moveTo>
                  <a:lnTo>
                    <a:pt x="20595" y="5517"/>
                  </a:lnTo>
                  <a:lnTo>
                    <a:pt x="20595" y="4461"/>
                  </a:lnTo>
                  <a:lnTo>
                    <a:pt x="19340" y="4461"/>
                  </a:lnTo>
                  <a:lnTo>
                    <a:pt x="19340" y="5517"/>
                  </a:lnTo>
                  <a:close/>
                </a:path>
                <a:path w="21600" h="21600">
                  <a:moveTo>
                    <a:pt x="19340" y="6926"/>
                  </a:moveTo>
                  <a:lnTo>
                    <a:pt x="20595" y="6926"/>
                  </a:lnTo>
                  <a:lnTo>
                    <a:pt x="20595" y="5870"/>
                  </a:lnTo>
                  <a:lnTo>
                    <a:pt x="19340" y="5870"/>
                  </a:lnTo>
                  <a:lnTo>
                    <a:pt x="19340" y="6926"/>
                  </a:lnTo>
                  <a:close/>
                </a:path>
                <a:path w="21600" h="21600">
                  <a:moveTo>
                    <a:pt x="19340" y="8335"/>
                  </a:moveTo>
                  <a:lnTo>
                    <a:pt x="20595" y="8335"/>
                  </a:lnTo>
                  <a:lnTo>
                    <a:pt x="20595" y="7278"/>
                  </a:lnTo>
                  <a:lnTo>
                    <a:pt x="19340" y="7278"/>
                  </a:lnTo>
                  <a:lnTo>
                    <a:pt x="19340" y="8335"/>
                  </a:lnTo>
                  <a:close/>
                </a:path>
                <a:path w="21600" h="21600">
                  <a:moveTo>
                    <a:pt x="19340" y="9743"/>
                  </a:moveTo>
                  <a:lnTo>
                    <a:pt x="20595" y="9743"/>
                  </a:lnTo>
                  <a:lnTo>
                    <a:pt x="20595" y="8687"/>
                  </a:lnTo>
                  <a:lnTo>
                    <a:pt x="19340" y="8687"/>
                  </a:lnTo>
                  <a:lnTo>
                    <a:pt x="19340" y="9743"/>
                  </a:lnTo>
                  <a:close/>
                </a:path>
                <a:path w="21600" h="21600">
                  <a:moveTo>
                    <a:pt x="19340" y="11152"/>
                  </a:moveTo>
                  <a:lnTo>
                    <a:pt x="20595" y="11152"/>
                  </a:lnTo>
                  <a:lnTo>
                    <a:pt x="20595" y="10096"/>
                  </a:lnTo>
                  <a:lnTo>
                    <a:pt x="19340" y="10096"/>
                  </a:lnTo>
                  <a:lnTo>
                    <a:pt x="19340" y="11152"/>
                  </a:lnTo>
                  <a:close/>
                </a:path>
                <a:path w="21600" h="21600">
                  <a:moveTo>
                    <a:pt x="19340" y="12561"/>
                  </a:moveTo>
                  <a:lnTo>
                    <a:pt x="20595" y="12561"/>
                  </a:lnTo>
                  <a:lnTo>
                    <a:pt x="20595" y="11504"/>
                  </a:lnTo>
                  <a:lnTo>
                    <a:pt x="19340" y="11504"/>
                  </a:lnTo>
                  <a:lnTo>
                    <a:pt x="19340" y="12561"/>
                  </a:lnTo>
                  <a:close/>
                </a:path>
                <a:path w="21600" h="21600">
                  <a:moveTo>
                    <a:pt x="19340" y="13970"/>
                  </a:moveTo>
                  <a:lnTo>
                    <a:pt x="20595" y="13970"/>
                  </a:lnTo>
                  <a:lnTo>
                    <a:pt x="20595" y="12913"/>
                  </a:lnTo>
                  <a:lnTo>
                    <a:pt x="19340" y="12913"/>
                  </a:lnTo>
                  <a:lnTo>
                    <a:pt x="19340" y="13970"/>
                  </a:lnTo>
                  <a:close/>
                </a:path>
                <a:path w="21600" h="21600">
                  <a:moveTo>
                    <a:pt x="19340" y="15378"/>
                  </a:moveTo>
                  <a:lnTo>
                    <a:pt x="20595" y="15378"/>
                  </a:lnTo>
                  <a:lnTo>
                    <a:pt x="20595" y="14322"/>
                  </a:lnTo>
                  <a:lnTo>
                    <a:pt x="19340" y="14322"/>
                  </a:lnTo>
                  <a:lnTo>
                    <a:pt x="19340" y="15378"/>
                  </a:lnTo>
                  <a:close/>
                </a:path>
                <a:path w="21600" h="21600">
                  <a:moveTo>
                    <a:pt x="19340" y="16787"/>
                  </a:moveTo>
                  <a:lnTo>
                    <a:pt x="20595" y="16787"/>
                  </a:lnTo>
                  <a:lnTo>
                    <a:pt x="20595" y="15730"/>
                  </a:lnTo>
                  <a:lnTo>
                    <a:pt x="19340" y="15730"/>
                  </a:lnTo>
                  <a:lnTo>
                    <a:pt x="19340" y="16787"/>
                  </a:lnTo>
                  <a:close/>
                </a:path>
                <a:path w="21600" h="21600">
                  <a:moveTo>
                    <a:pt x="19340" y="18196"/>
                  </a:moveTo>
                  <a:lnTo>
                    <a:pt x="20595" y="18196"/>
                  </a:lnTo>
                  <a:lnTo>
                    <a:pt x="20595" y="17139"/>
                  </a:lnTo>
                  <a:lnTo>
                    <a:pt x="19340" y="17139"/>
                  </a:lnTo>
                  <a:lnTo>
                    <a:pt x="19340" y="18196"/>
                  </a:lnTo>
                  <a:close/>
                </a:path>
                <a:path w="21600" h="21600">
                  <a:moveTo>
                    <a:pt x="19340" y="19604"/>
                  </a:moveTo>
                  <a:lnTo>
                    <a:pt x="20595" y="19604"/>
                  </a:lnTo>
                  <a:lnTo>
                    <a:pt x="20595" y="18548"/>
                  </a:lnTo>
                  <a:lnTo>
                    <a:pt x="19340" y="18548"/>
                  </a:lnTo>
                  <a:lnTo>
                    <a:pt x="19340" y="19604"/>
                  </a:lnTo>
                  <a:close/>
                </a:path>
                <a:path w="21600" h="21600">
                  <a:moveTo>
                    <a:pt x="19340" y="21013"/>
                  </a:moveTo>
                  <a:lnTo>
                    <a:pt x="20595" y="21013"/>
                  </a:lnTo>
                  <a:lnTo>
                    <a:pt x="20595" y="19957"/>
                  </a:lnTo>
                  <a:lnTo>
                    <a:pt x="19340" y="19957"/>
                  </a:lnTo>
                  <a:lnTo>
                    <a:pt x="19340" y="21013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666666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Film"/>
            <p:cNvSpPr/>
            <p:nvPr/>
          </p:nvSpPr>
          <p:spPr>
            <a:xfrm rot="5400000">
              <a:off x="1076040" y="4581720"/>
              <a:ext cx="1809720" cy="2895480"/>
            </a:xfrm>
            <a:custGeom>
              <a:avLst/>
              <a:gdLst>
                <a:gd name="textAreaLeft" fmla="*/ 415800 w 1809720"/>
                <a:gd name="textAreaRight" fmla="*/ 1430280 w 1809720"/>
                <a:gd name="textAreaTop" fmla="*/ 1089000 h 2895480"/>
                <a:gd name="textAreaBottom" fmla="*/ 1800360 h 289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lnTo>
                    <a:pt x="21600" y="0"/>
                  </a:lnTo>
                  <a:close/>
                </a:path>
                <a:path w="21600" h="21600">
                  <a:moveTo>
                    <a:pt x="3014" y="21600"/>
                  </a:moveTo>
                  <a:lnTo>
                    <a:pt x="3014" y="0"/>
                  </a:lnTo>
                  <a:lnTo>
                    <a:pt x="0" y="0"/>
                  </a:lnTo>
                  <a:lnTo>
                    <a:pt x="0" y="21600"/>
                  </a:lnTo>
                  <a:lnTo>
                    <a:pt x="3014" y="21600"/>
                  </a:lnTo>
                  <a:close/>
                </a:path>
                <a:path w="21600" h="21600">
                  <a:moveTo>
                    <a:pt x="21600" y="21600"/>
                  </a:moveTo>
                  <a:lnTo>
                    <a:pt x="21600" y="0"/>
                  </a:lnTo>
                  <a:lnTo>
                    <a:pt x="18586" y="0"/>
                  </a:lnTo>
                  <a:lnTo>
                    <a:pt x="18586" y="21600"/>
                  </a:lnTo>
                  <a:lnTo>
                    <a:pt x="21600" y="21600"/>
                  </a:lnTo>
                  <a:close/>
                </a:path>
                <a:path w="21600" h="21600">
                  <a:moveTo>
                    <a:pt x="6028" y="6574"/>
                  </a:moveTo>
                  <a:lnTo>
                    <a:pt x="15572" y="6574"/>
                  </a:lnTo>
                  <a:lnTo>
                    <a:pt x="16074" y="6574"/>
                  </a:lnTo>
                  <a:lnTo>
                    <a:pt x="16326" y="6457"/>
                  </a:lnTo>
                  <a:lnTo>
                    <a:pt x="16577" y="6339"/>
                  </a:lnTo>
                  <a:lnTo>
                    <a:pt x="16828" y="6222"/>
                  </a:lnTo>
                  <a:lnTo>
                    <a:pt x="17079" y="6222"/>
                  </a:lnTo>
                  <a:lnTo>
                    <a:pt x="17330" y="5987"/>
                  </a:lnTo>
                  <a:lnTo>
                    <a:pt x="17330" y="5870"/>
                  </a:lnTo>
                  <a:lnTo>
                    <a:pt x="17581" y="5635"/>
                  </a:lnTo>
                  <a:lnTo>
                    <a:pt x="17581" y="1526"/>
                  </a:lnTo>
                  <a:lnTo>
                    <a:pt x="17330" y="1291"/>
                  </a:lnTo>
                  <a:lnTo>
                    <a:pt x="17330" y="1174"/>
                  </a:lnTo>
                  <a:lnTo>
                    <a:pt x="17079" y="1057"/>
                  </a:lnTo>
                  <a:lnTo>
                    <a:pt x="16828" y="939"/>
                  </a:lnTo>
                  <a:lnTo>
                    <a:pt x="16577" y="822"/>
                  </a:lnTo>
                  <a:lnTo>
                    <a:pt x="16326" y="704"/>
                  </a:lnTo>
                  <a:lnTo>
                    <a:pt x="16074" y="704"/>
                  </a:lnTo>
                  <a:lnTo>
                    <a:pt x="15572" y="587"/>
                  </a:lnTo>
                  <a:lnTo>
                    <a:pt x="6028" y="587"/>
                  </a:lnTo>
                  <a:lnTo>
                    <a:pt x="5526" y="704"/>
                  </a:lnTo>
                  <a:lnTo>
                    <a:pt x="5274" y="704"/>
                  </a:lnTo>
                  <a:lnTo>
                    <a:pt x="5023" y="822"/>
                  </a:lnTo>
                  <a:lnTo>
                    <a:pt x="4772" y="939"/>
                  </a:lnTo>
                  <a:lnTo>
                    <a:pt x="4521" y="1057"/>
                  </a:lnTo>
                  <a:lnTo>
                    <a:pt x="4270" y="1174"/>
                  </a:lnTo>
                  <a:lnTo>
                    <a:pt x="4270" y="1291"/>
                  </a:lnTo>
                  <a:lnTo>
                    <a:pt x="4019" y="1526"/>
                  </a:lnTo>
                  <a:lnTo>
                    <a:pt x="4019" y="5635"/>
                  </a:lnTo>
                  <a:lnTo>
                    <a:pt x="4270" y="5870"/>
                  </a:lnTo>
                  <a:lnTo>
                    <a:pt x="4270" y="5987"/>
                  </a:lnTo>
                  <a:lnTo>
                    <a:pt x="4521" y="6222"/>
                  </a:lnTo>
                  <a:lnTo>
                    <a:pt x="4772" y="6222"/>
                  </a:lnTo>
                  <a:lnTo>
                    <a:pt x="5023" y="6339"/>
                  </a:lnTo>
                  <a:lnTo>
                    <a:pt x="5274" y="6457"/>
                  </a:lnTo>
                  <a:lnTo>
                    <a:pt x="5526" y="6574"/>
                  </a:lnTo>
                  <a:lnTo>
                    <a:pt x="6028" y="6574"/>
                  </a:lnTo>
                  <a:close/>
                </a:path>
                <a:path w="21600" h="21600">
                  <a:moveTo>
                    <a:pt x="6028" y="13617"/>
                  </a:moveTo>
                  <a:lnTo>
                    <a:pt x="15572" y="13617"/>
                  </a:lnTo>
                  <a:lnTo>
                    <a:pt x="16074" y="13617"/>
                  </a:lnTo>
                  <a:lnTo>
                    <a:pt x="16326" y="13617"/>
                  </a:lnTo>
                  <a:lnTo>
                    <a:pt x="16577" y="13500"/>
                  </a:lnTo>
                  <a:lnTo>
                    <a:pt x="16828" y="13383"/>
                  </a:lnTo>
                  <a:lnTo>
                    <a:pt x="17079" y="13265"/>
                  </a:lnTo>
                  <a:lnTo>
                    <a:pt x="17330" y="13148"/>
                  </a:lnTo>
                  <a:lnTo>
                    <a:pt x="17330" y="12913"/>
                  </a:lnTo>
                  <a:lnTo>
                    <a:pt x="17581" y="12796"/>
                  </a:lnTo>
                  <a:lnTo>
                    <a:pt x="17581" y="8687"/>
                  </a:lnTo>
                  <a:lnTo>
                    <a:pt x="17330" y="8452"/>
                  </a:lnTo>
                  <a:lnTo>
                    <a:pt x="17330" y="8335"/>
                  </a:lnTo>
                  <a:lnTo>
                    <a:pt x="17079" y="8217"/>
                  </a:lnTo>
                  <a:lnTo>
                    <a:pt x="16828" y="7983"/>
                  </a:lnTo>
                  <a:lnTo>
                    <a:pt x="16577" y="7983"/>
                  </a:lnTo>
                  <a:lnTo>
                    <a:pt x="16326" y="7865"/>
                  </a:lnTo>
                  <a:lnTo>
                    <a:pt x="16074" y="7865"/>
                  </a:lnTo>
                  <a:lnTo>
                    <a:pt x="15572" y="7748"/>
                  </a:lnTo>
                  <a:lnTo>
                    <a:pt x="6028" y="7748"/>
                  </a:lnTo>
                  <a:lnTo>
                    <a:pt x="5526" y="7865"/>
                  </a:lnTo>
                  <a:lnTo>
                    <a:pt x="5274" y="7865"/>
                  </a:lnTo>
                  <a:lnTo>
                    <a:pt x="5023" y="7983"/>
                  </a:lnTo>
                  <a:lnTo>
                    <a:pt x="4772" y="7983"/>
                  </a:lnTo>
                  <a:lnTo>
                    <a:pt x="4521" y="8217"/>
                  </a:lnTo>
                  <a:lnTo>
                    <a:pt x="4270" y="8335"/>
                  </a:lnTo>
                  <a:lnTo>
                    <a:pt x="4270" y="8452"/>
                  </a:lnTo>
                  <a:lnTo>
                    <a:pt x="4019" y="8687"/>
                  </a:lnTo>
                  <a:lnTo>
                    <a:pt x="4019" y="12796"/>
                  </a:lnTo>
                  <a:lnTo>
                    <a:pt x="4270" y="12913"/>
                  </a:lnTo>
                  <a:lnTo>
                    <a:pt x="4270" y="13148"/>
                  </a:lnTo>
                  <a:lnTo>
                    <a:pt x="4521" y="13265"/>
                  </a:lnTo>
                  <a:lnTo>
                    <a:pt x="4772" y="13383"/>
                  </a:lnTo>
                  <a:lnTo>
                    <a:pt x="5023" y="13500"/>
                  </a:lnTo>
                  <a:lnTo>
                    <a:pt x="5274" y="13617"/>
                  </a:lnTo>
                  <a:lnTo>
                    <a:pt x="5526" y="13617"/>
                  </a:lnTo>
                  <a:lnTo>
                    <a:pt x="6028" y="13617"/>
                  </a:lnTo>
                  <a:close/>
                </a:path>
                <a:path w="21600" h="21600">
                  <a:moveTo>
                    <a:pt x="6028" y="20778"/>
                  </a:moveTo>
                  <a:lnTo>
                    <a:pt x="15572" y="20778"/>
                  </a:lnTo>
                  <a:lnTo>
                    <a:pt x="16074" y="20778"/>
                  </a:lnTo>
                  <a:lnTo>
                    <a:pt x="16326" y="20661"/>
                  </a:lnTo>
                  <a:lnTo>
                    <a:pt x="16577" y="20661"/>
                  </a:lnTo>
                  <a:lnTo>
                    <a:pt x="16828" y="20543"/>
                  </a:lnTo>
                  <a:lnTo>
                    <a:pt x="17079" y="20426"/>
                  </a:lnTo>
                  <a:lnTo>
                    <a:pt x="17330" y="20309"/>
                  </a:lnTo>
                  <a:lnTo>
                    <a:pt x="17330" y="20074"/>
                  </a:lnTo>
                  <a:lnTo>
                    <a:pt x="17581" y="19957"/>
                  </a:lnTo>
                  <a:lnTo>
                    <a:pt x="17581" y="15730"/>
                  </a:lnTo>
                  <a:lnTo>
                    <a:pt x="17330" y="15613"/>
                  </a:lnTo>
                  <a:lnTo>
                    <a:pt x="17330" y="15378"/>
                  </a:lnTo>
                  <a:lnTo>
                    <a:pt x="17079" y="15378"/>
                  </a:lnTo>
                  <a:lnTo>
                    <a:pt x="16828" y="15143"/>
                  </a:lnTo>
                  <a:lnTo>
                    <a:pt x="16577" y="15026"/>
                  </a:lnTo>
                  <a:lnTo>
                    <a:pt x="16326" y="15026"/>
                  </a:lnTo>
                  <a:lnTo>
                    <a:pt x="16074" y="15026"/>
                  </a:lnTo>
                  <a:lnTo>
                    <a:pt x="15572" y="14909"/>
                  </a:lnTo>
                  <a:lnTo>
                    <a:pt x="6028" y="14909"/>
                  </a:lnTo>
                  <a:lnTo>
                    <a:pt x="5526" y="15026"/>
                  </a:lnTo>
                  <a:lnTo>
                    <a:pt x="5274" y="15026"/>
                  </a:lnTo>
                  <a:lnTo>
                    <a:pt x="5023" y="15026"/>
                  </a:lnTo>
                  <a:lnTo>
                    <a:pt x="4772" y="15143"/>
                  </a:lnTo>
                  <a:lnTo>
                    <a:pt x="4521" y="15378"/>
                  </a:lnTo>
                  <a:lnTo>
                    <a:pt x="4270" y="15378"/>
                  </a:lnTo>
                  <a:lnTo>
                    <a:pt x="4270" y="15613"/>
                  </a:lnTo>
                  <a:lnTo>
                    <a:pt x="4019" y="15730"/>
                  </a:lnTo>
                  <a:lnTo>
                    <a:pt x="4019" y="19957"/>
                  </a:lnTo>
                  <a:lnTo>
                    <a:pt x="4270" y="20074"/>
                  </a:lnTo>
                  <a:lnTo>
                    <a:pt x="4270" y="20309"/>
                  </a:lnTo>
                  <a:lnTo>
                    <a:pt x="4521" y="20426"/>
                  </a:lnTo>
                  <a:lnTo>
                    <a:pt x="4772" y="20543"/>
                  </a:lnTo>
                  <a:lnTo>
                    <a:pt x="5023" y="20661"/>
                  </a:lnTo>
                  <a:lnTo>
                    <a:pt x="5274" y="20661"/>
                  </a:lnTo>
                  <a:lnTo>
                    <a:pt x="5526" y="20778"/>
                  </a:lnTo>
                  <a:lnTo>
                    <a:pt x="6028" y="20778"/>
                  </a:lnTo>
                  <a:close/>
                </a:path>
                <a:path w="21600" h="21600">
                  <a:moveTo>
                    <a:pt x="753" y="1291"/>
                  </a:moveTo>
                  <a:lnTo>
                    <a:pt x="2260" y="1291"/>
                  </a:lnTo>
                  <a:lnTo>
                    <a:pt x="2260" y="235"/>
                  </a:lnTo>
                  <a:lnTo>
                    <a:pt x="753" y="235"/>
                  </a:lnTo>
                  <a:lnTo>
                    <a:pt x="753" y="1291"/>
                  </a:lnTo>
                  <a:close/>
                </a:path>
                <a:path w="21600" h="21600">
                  <a:moveTo>
                    <a:pt x="753" y="2700"/>
                  </a:moveTo>
                  <a:lnTo>
                    <a:pt x="2260" y="2700"/>
                  </a:lnTo>
                  <a:lnTo>
                    <a:pt x="2260" y="1643"/>
                  </a:lnTo>
                  <a:lnTo>
                    <a:pt x="753" y="1643"/>
                  </a:lnTo>
                  <a:lnTo>
                    <a:pt x="753" y="2700"/>
                  </a:lnTo>
                  <a:close/>
                </a:path>
                <a:path w="21600" h="21600">
                  <a:moveTo>
                    <a:pt x="753" y="4109"/>
                  </a:moveTo>
                  <a:lnTo>
                    <a:pt x="2260" y="4109"/>
                  </a:lnTo>
                  <a:lnTo>
                    <a:pt x="2260" y="3052"/>
                  </a:lnTo>
                  <a:lnTo>
                    <a:pt x="753" y="3052"/>
                  </a:lnTo>
                  <a:lnTo>
                    <a:pt x="753" y="4109"/>
                  </a:lnTo>
                  <a:close/>
                </a:path>
                <a:path w="21600" h="21600">
                  <a:moveTo>
                    <a:pt x="753" y="5517"/>
                  </a:moveTo>
                  <a:lnTo>
                    <a:pt x="2260" y="5517"/>
                  </a:lnTo>
                  <a:lnTo>
                    <a:pt x="2260" y="4461"/>
                  </a:lnTo>
                  <a:lnTo>
                    <a:pt x="753" y="4461"/>
                  </a:lnTo>
                  <a:lnTo>
                    <a:pt x="753" y="5517"/>
                  </a:lnTo>
                  <a:close/>
                </a:path>
                <a:path w="21600" h="21600">
                  <a:moveTo>
                    <a:pt x="753" y="6926"/>
                  </a:moveTo>
                  <a:lnTo>
                    <a:pt x="2260" y="6926"/>
                  </a:lnTo>
                  <a:lnTo>
                    <a:pt x="2260" y="5870"/>
                  </a:lnTo>
                  <a:lnTo>
                    <a:pt x="753" y="5870"/>
                  </a:lnTo>
                  <a:lnTo>
                    <a:pt x="753" y="6926"/>
                  </a:lnTo>
                  <a:close/>
                </a:path>
                <a:path w="21600" h="21600">
                  <a:moveTo>
                    <a:pt x="753" y="8335"/>
                  </a:moveTo>
                  <a:lnTo>
                    <a:pt x="2260" y="8335"/>
                  </a:lnTo>
                  <a:lnTo>
                    <a:pt x="2260" y="7278"/>
                  </a:lnTo>
                  <a:lnTo>
                    <a:pt x="753" y="7278"/>
                  </a:lnTo>
                  <a:lnTo>
                    <a:pt x="753" y="8335"/>
                  </a:lnTo>
                  <a:close/>
                </a:path>
                <a:path w="21600" h="21600">
                  <a:moveTo>
                    <a:pt x="753" y="9743"/>
                  </a:moveTo>
                  <a:lnTo>
                    <a:pt x="2260" y="9743"/>
                  </a:lnTo>
                  <a:lnTo>
                    <a:pt x="2260" y="8687"/>
                  </a:lnTo>
                  <a:lnTo>
                    <a:pt x="753" y="8687"/>
                  </a:lnTo>
                  <a:lnTo>
                    <a:pt x="753" y="9743"/>
                  </a:lnTo>
                  <a:close/>
                </a:path>
                <a:path w="21600" h="21600">
                  <a:moveTo>
                    <a:pt x="753" y="11152"/>
                  </a:moveTo>
                  <a:lnTo>
                    <a:pt x="2260" y="11152"/>
                  </a:lnTo>
                  <a:lnTo>
                    <a:pt x="2260" y="10096"/>
                  </a:lnTo>
                  <a:lnTo>
                    <a:pt x="753" y="10096"/>
                  </a:lnTo>
                  <a:lnTo>
                    <a:pt x="753" y="11152"/>
                  </a:lnTo>
                  <a:close/>
                </a:path>
                <a:path w="21600" h="21600">
                  <a:moveTo>
                    <a:pt x="753" y="12561"/>
                  </a:moveTo>
                  <a:lnTo>
                    <a:pt x="2260" y="12561"/>
                  </a:lnTo>
                  <a:lnTo>
                    <a:pt x="2260" y="11504"/>
                  </a:lnTo>
                  <a:lnTo>
                    <a:pt x="753" y="11504"/>
                  </a:lnTo>
                  <a:lnTo>
                    <a:pt x="753" y="12561"/>
                  </a:lnTo>
                  <a:close/>
                </a:path>
                <a:path w="21600" h="21600">
                  <a:moveTo>
                    <a:pt x="753" y="13970"/>
                  </a:moveTo>
                  <a:lnTo>
                    <a:pt x="2260" y="13970"/>
                  </a:lnTo>
                  <a:lnTo>
                    <a:pt x="2260" y="12913"/>
                  </a:lnTo>
                  <a:lnTo>
                    <a:pt x="753" y="12913"/>
                  </a:lnTo>
                  <a:lnTo>
                    <a:pt x="753" y="13970"/>
                  </a:lnTo>
                  <a:close/>
                </a:path>
                <a:path w="21600" h="21600">
                  <a:moveTo>
                    <a:pt x="753" y="15378"/>
                  </a:moveTo>
                  <a:lnTo>
                    <a:pt x="2260" y="15378"/>
                  </a:lnTo>
                  <a:lnTo>
                    <a:pt x="2260" y="14322"/>
                  </a:lnTo>
                  <a:lnTo>
                    <a:pt x="753" y="14322"/>
                  </a:lnTo>
                  <a:lnTo>
                    <a:pt x="753" y="15378"/>
                  </a:lnTo>
                  <a:close/>
                </a:path>
                <a:path w="21600" h="21600">
                  <a:moveTo>
                    <a:pt x="753" y="16787"/>
                  </a:moveTo>
                  <a:lnTo>
                    <a:pt x="2260" y="16787"/>
                  </a:lnTo>
                  <a:lnTo>
                    <a:pt x="2260" y="15730"/>
                  </a:lnTo>
                  <a:lnTo>
                    <a:pt x="753" y="15730"/>
                  </a:lnTo>
                  <a:lnTo>
                    <a:pt x="753" y="16787"/>
                  </a:lnTo>
                  <a:close/>
                </a:path>
                <a:path w="21600" h="21600">
                  <a:moveTo>
                    <a:pt x="753" y="18196"/>
                  </a:moveTo>
                  <a:lnTo>
                    <a:pt x="2260" y="18196"/>
                  </a:lnTo>
                  <a:lnTo>
                    <a:pt x="2260" y="17139"/>
                  </a:lnTo>
                  <a:lnTo>
                    <a:pt x="753" y="17139"/>
                  </a:lnTo>
                  <a:lnTo>
                    <a:pt x="753" y="18196"/>
                  </a:lnTo>
                  <a:close/>
                </a:path>
                <a:path w="21600" h="21600">
                  <a:moveTo>
                    <a:pt x="753" y="19604"/>
                  </a:moveTo>
                  <a:lnTo>
                    <a:pt x="2260" y="19604"/>
                  </a:lnTo>
                  <a:lnTo>
                    <a:pt x="2260" y="18548"/>
                  </a:lnTo>
                  <a:lnTo>
                    <a:pt x="753" y="18548"/>
                  </a:lnTo>
                  <a:lnTo>
                    <a:pt x="753" y="19604"/>
                  </a:lnTo>
                  <a:close/>
                </a:path>
                <a:path w="21600" h="21600">
                  <a:moveTo>
                    <a:pt x="753" y="21013"/>
                  </a:moveTo>
                  <a:lnTo>
                    <a:pt x="2260" y="21013"/>
                  </a:lnTo>
                  <a:lnTo>
                    <a:pt x="2260" y="19957"/>
                  </a:lnTo>
                  <a:lnTo>
                    <a:pt x="753" y="19957"/>
                  </a:lnTo>
                  <a:lnTo>
                    <a:pt x="753" y="21013"/>
                  </a:lnTo>
                  <a:close/>
                </a:path>
                <a:path w="21600" h="21600">
                  <a:moveTo>
                    <a:pt x="19340" y="1409"/>
                  </a:moveTo>
                  <a:lnTo>
                    <a:pt x="20595" y="1409"/>
                  </a:lnTo>
                  <a:lnTo>
                    <a:pt x="20595" y="352"/>
                  </a:lnTo>
                  <a:lnTo>
                    <a:pt x="19340" y="352"/>
                  </a:lnTo>
                  <a:lnTo>
                    <a:pt x="19340" y="1409"/>
                  </a:lnTo>
                  <a:close/>
                </a:path>
                <a:path w="21600" h="21600">
                  <a:moveTo>
                    <a:pt x="19340" y="2700"/>
                  </a:moveTo>
                  <a:lnTo>
                    <a:pt x="20595" y="2700"/>
                  </a:lnTo>
                  <a:lnTo>
                    <a:pt x="20595" y="1643"/>
                  </a:lnTo>
                  <a:lnTo>
                    <a:pt x="19340" y="1643"/>
                  </a:lnTo>
                  <a:lnTo>
                    <a:pt x="19340" y="2700"/>
                  </a:lnTo>
                  <a:close/>
                </a:path>
                <a:path w="21600" h="21600">
                  <a:moveTo>
                    <a:pt x="19340" y="4109"/>
                  </a:moveTo>
                  <a:lnTo>
                    <a:pt x="20595" y="4109"/>
                  </a:lnTo>
                  <a:lnTo>
                    <a:pt x="20595" y="3052"/>
                  </a:lnTo>
                  <a:lnTo>
                    <a:pt x="19340" y="3052"/>
                  </a:lnTo>
                  <a:lnTo>
                    <a:pt x="19340" y="4109"/>
                  </a:lnTo>
                  <a:close/>
                </a:path>
                <a:path w="21600" h="21600">
                  <a:moveTo>
                    <a:pt x="19340" y="5517"/>
                  </a:moveTo>
                  <a:lnTo>
                    <a:pt x="20595" y="5517"/>
                  </a:lnTo>
                  <a:lnTo>
                    <a:pt x="20595" y="4461"/>
                  </a:lnTo>
                  <a:lnTo>
                    <a:pt x="19340" y="4461"/>
                  </a:lnTo>
                  <a:lnTo>
                    <a:pt x="19340" y="5517"/>
                  </a:lnTo>
                  <a:close/>
                </a:path>
                <a:path w="21600" h="21600">
                  <a:moveTo>
                    <a:pt x="19340" y="6926"/>
                  </a:moveTo>
                  <a:lnTo>
                    <a:pt x="20595" y="6926"/>
                  </a:lnTo>
                  <a:lnTo>
                    <a:pt x="20595" y="5870"/>
                  </a:lnTo>
                  <a:lnTo>
                    <a:pt x="19340" y="5870"/>
                  </a:lnTo>
                  <a:lnTo>
                    <a:pt x="19340" y="6926"/>
                  </a:lnTo>
                  <a:close/>
                </a:path>
                <a:path w="21600" h="21600">
                  <a:moveTo>
                    <a:pt x="19340" y="8335"/>
                  </a:moveTo>
                  <a:lnTo>
                    <a:pt x="20595" y="8335"/>
                  </a:lnTo>
                  <a:lnTo>
                    <a:pt x="20595" y="7278"/>
                  </a:lnTo>
                  <a:lnTo>
                    <a:pt x="19340" y="7278"/>
                  </a:lnTo>
                  <a:lnTo>
                    <a:pt x="19340" y="8335"/>
                  </a:lnTo>
                  <a:close/>
                </a:path>
                <a:path w="21600" h="21600">
                  <a:moveTo>
                    <a:pt x="19340" y="9743"/>
                  </a:moveTo>
                  <a:lnTo>
                    <a:pt x="20595" y="9743"/>
                  </a:lnTo>
                  <a:lnTo>
                    <a:pt x="20595" y="8687"/>
                  </a:lnTo>
                  <a:lnTo>
                    <a:pt x="19340" y="8687"/>
                  </a:lnTo>
                  <a:lnTo>
                    <a:pt x="19340" y="9743"/>
                  </a:lnTo>
                  <a:close/>
                </a:path>
                <a:path w="21600" h="21600">
                  <a:moveTo>
                    <a:pt x="19340" y="11152"/>
                  </a:moveTo>
                  <a:lnTo>
                    <a:pt x="20595" y="11152"/>
                  </a:lnTo>
                  <a:lnTo>
                    <a:pt x="20595" y="10096"/>
                  </a:lnTo>
                  <a:lnTo>
                    <a:pt x="19340" y="10096"/>
                  </a:lnTo>
                  <a:lnTo>
                    <a:pt x="19340" y="11152"/>
                  </a:lnTo>
                  <a:close/>
                </a:path>
                <a:path w="21600" h="21600">
                  <a:moveTo>
                    <a:pt x="19340" y="12561"/>
                  </a:moveTo>
                  <a:lnTo>
                    <a:pt x="20595" y="12561"/>
                  </a:lnTo>
                  <a:lnTo>
                    <a:pt x="20595" y="11504"/>
                  </a:lnTo>
                  <a:lnTo>
                    <a:pt x="19340" y="11504"/>
                  </a:lnTo>
                  <a:lnTo>
                    <a:pt x="19340" y="12561"/>
                  </a:lnTo>
                  <a:close/>
                </a:path>
                <a:path w="21600" h="21600">
                  <a:moveTo>
                    <a:pt x="19340" y="13970"/>
                  </a:moveTo>
                  <a:lnTo>
                    <a:pt x="20595" y="13970"/>
                  </a:lnTo>
                  <a:lnTo>
                    <a:pt x="20595" y="12913"/>
                  </a:lnTo>
                  <a:lnTo>
                    <a:pt x="19340" y="12913"/>
                  </a:lnTo>
                  <a:lnTo>
                    <a:pt x="19340" y="13970"/>
                  </a:lnTo>
                  <a:close/>
                </a:path>
                <a:path w="21600" h="21600">
                  <a:moveTo>
                    <a:pt x="19340" y="15378"/>
                  </a:moveTo>
                  <a:lnTo>
                    <a:pt x="20595" y="15378"/>
                  </a:lnTo>
                  <a:lnTo>
                    <a:pt x="20595" y="14322"/>
                  </a:lnTo>
                  <a:lnTo>
                    <a:pt x="19340" y="14322"/>
                  </a:lnTo>
                  <a:lnTo>
                    <a:pt x="19340" y="15378"/>
                  </a:lnTo>
                  <a:close/>
                </a:path>
                <a:path w="21600" h="21600">
                  <a:moveTo>
                    <a:pt x="19340" y="16787"/>
                  </a:moveTo>
                  <a:lnTo>
                    <a:pt x="20595" y="16787"/>
                  </a:lnTo>
                  <a:lnTo>
                    <a:pt x="20595" y="15730"/>
                  </a:lnTo>
                  <a:lnTo>
                    <a:pt x="19340" y="15730"/>
                  </a:lnTo>
                  <a:lnTo>
                    <a:pt x="19340" y="16787"/>
                  </a:lnTo>
                  <a:close/>
                </a:path>
                <a:path w="21600" h="21600">
                  <a:moveTo>
                    <a:pt x="19340" y="18196"/>
                  </a:moveTo>
                  <a:lnTo>
                    <a:pt x="20595" y="18196"/>
                  </a:lnTo>
                  <a:lnTo>
                    <a:pt x="20595" y="17139"/>
                  </a:lnTo>
                  <a:lnTo>
                    <a:pt x="19340" y="17139"/>
                  </a:lnTo>
                  <a:lnTo>
                    <a:pt x="19340" y="18196"/>
                  </a:lnTo>
                  <a:close/>
                </a:path>
                <a:path w="21600" h="21600">
                  <a:moveTo>
                    <a:pt x="19340" y="19604"/>
                  </a:moveTo>
                  <a:lnTo>
                    <a:pt x="20595" y="19604"/>
                  </a:lnTo>
                  <a:lnTo>
                    <a:pt x="20595" y="18548"/>
                  </a:lnTo>
                  <a:lnTo>
                    <a:pt x="19340" y="18548"/>
                  </a:lnTo>
                  <a:lnTo>
                    <a:pt x="19340" y="19604"/>
                  </a:lnTo>
                  <a:close/>
                </a:path>
                <a:path w="21600" h="21600">
                  <a:moveTo>
                    <a:pt x="19340" y="21013"/>
                  </a:moveTo>
                  <a:lnTo>
                    <a:pt x="20595" y="21013"/>
                  </a:lnTo>
                  <a:lnTo>
                    <a:pt x="20595" y="19957"/>
                  </a:lnTo>
                  <a:lnTo>
                    <a:pt x="19340" y="19957"/>
                  </a:lnTo>
                  <a:lnTo>
                    <a:pt x="19340" y="21013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666666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Film"/>
            <p:cNvSpPr/>
            <p:nvPr/>
          </p:nvSpPr>
          <p:spPr>
            <a:xfrm rot="5400000">
              <a:off x="3971880" y="4581360"/>
              <a:ext cx="1809720" cy="2895840"/>
            </a:xfrm>
            <a:custGeom>
              <a:avLst/>
              <a:gdLst>
                <a:gd name="textAreaLeft" fmla="*/ 415800 w 1809720"/>
                <a:gd name="textAreaRight" fmla="*/ 1430280 w 1809720"/>
                <a:gd name="textAreaTop" fmla="*/ 1089000 h 2895840"/>
                <a:gd name="textAreaBottom" fmla="*/ 1800360 h 289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lnTo>
                    <a:pt x="21600" y="0"/>
                  </a:lnTo>
                  <a:close/>
                </a:path>
                <a:path w="21600" h="21600">
                  <a:moveTo>
                    <a:pt x="3014" y="21600"/>
                  </a:moveTo>
                  <a:lnTo>
                    <a:pt x="3014" y="0"/>
                  </a:lnTo>
                  <a:lnTo>
                    <a:pt x="0" y="0"/>
                  </a:lnTo>
                  <a:lnTo>
                    <a:pt x="0" y="21600"/>
                  </a:lnTo>
                  <a:lnTo>
                    <a:pt x="3014" y="21600"/>
                  </a:lnTo>
                  <a:close/>
                </a:path>
                <a:path w="21600" h="21600">
                  <a:moveTo>
                    <a:pt x="21600" y="21600"/>
                  </a:moveTo>
                  <a:lnTo>
                    <a:pt x="21600" y="0"/>
                  </a:lnTo>
                  <a:lnTo>
                    <a:pt x="18586" y="0"/>
                  </a:lnTo>
                  <a:lnTo>
                    <a:pt x="18586" y="21600"/>
                  </a:lnTo>
                  <a:lnTo>
                    <a:pt x="21600" y="21600"/>
                  </a:lnTo>
                  <a:close/>
                </a:path>
                <a:path w="21600" h="21600">
                  <a:moveTo>
                    <a:pt x="6028" y="6574"/>
                  </a:moveTo>
                  <a:lnTo>
                    <a:pt x="15572" y="6574"/>
                  </a:lnTo>
                  <a:lnTo>
                    <a:pt x="16074" y="6574"/>
                  </a:lnTo>
                  <a:lnTo>
                    <a:pt x="16326" y="6457"/>
                  </a:lnTo>
                  <a:lnTo>
                    <a:pt x="16577" y="6339"/>
                  </a:lnTo>
                  <a:lnTo>
                    <a:pt x="16828" y="6222"/>
                  </a:lnTo>
                  <a:lnTo>
                    <a:pt x="17079" y="6222"/>
                  </a:lnTo>
                  <a:lnTo>
                    <a:pt x="17330" y="5987"/>
                  </a:lnTo>
                  <a:lnTo>
                    <a:pt x="17330" y="5870"/>
                  </a:lnTo>
                  <a:lnTo>
                    <a:pt x="17581" y="5635"/>
                  </a:lnTo>
                  <a:lnTo>
                    <a:pt x="17581" y="1526"/>
                  </a:lnTo>
                  <a:lnTo>
                    <a:pt x="17330" y="1291"/>
                  </a:lnTo>
                  <a:lnTo>
                    <a:pt x="17330" y="1174"/>
                  </a:lnTo>
                  <a:lnTo>
                    <a:pt x="17079" y="1057"/>
                  </a:lnTo>
                  <a:lnTo>
                    <a:pt x="16828" y="939"/>
                  </a:lnTo>
                  <a:lnTo>
                    <a:pt x="16577" y="822"/>
                  </a:lnTo>
                  <a:lnTo>
                    <a:pt x="16326" y="704"/>
                  </a:lnTo>
                  <a:lnTo>
                    <a:pt x="16074" y="704"/>
                  </a:lnTo>
                  <a:lnTo>
                    <a:pt x="15572" y="587"/>
                  </a:lnTo>
                  <a:lnTo>
                    <a:pt x="6028" y="587"/>
                  </a:lnTo>
                  <a:lnTo>
                    <a:pt x="5526" y="704"/>
                  </a:lnTo>
                  <a:lnTo>
                    <a:pt x="5274" y="704"/>
                  </a:lnTo>
                  <a:lnTo>
                    <a:pt x="5023" y="822"/>
                  </a:lnTo>
                  <a:lnTo>
                    <a:pt x="4772" y="939"/>
                  </a:lnTo>
                  <a:lnTo>
                    <a:pt x="4521" y="1057"/>
                  </a:lnTo>
                  <a:lnTo>
                    <a:pt x="4270" y="1174"/>
                  </a:lnTo>
                  <a:lnTo>
                    <a:pt x="4270" y="1291"/>
                  </a:lnTo>
                  <a:lnTo>
                    <a:pt x="4019" y="1526"/>
                  </a:lnTo>
                  <a:lnTo>
                    <a:pt x="4019" y="5635"/>
                  </a:lnTo>
                  <a:lnTo>
                    <a:pt x="4270" y="5870"/>
                  </a:lnTo>
                  <a:lnTo>
                    <a:pt x="4270" y="5987"/>
                  </a:lnTo>
                  <a:lnTo>
                    <a:pt x="4521" y="6222"/>
                  </a:lnTo>
                  <a:lnTo>
                    <a:pt x="4772" y="6222"/>
                  </a:lnTo>
                  <a:lnTo>
                    <a:pt x="5023" y="6339"/>
                  </a:lnTo>
                  <a:lnTo>
                    <a:pt x="5274" y="6457"/>
                  </a:lnTo>
                  <a:lnTo>
                    <a:pt x="5526" y="6574"/>
                  </a:lnTo>
                  <a:lnTo>
                    <a:pt x="6028" y="6574"/>
                  </a:lnTo>
                  <a:close/>
                </a:path>
                <a:path w="21600" h="21600">
                  <a:moveTo>
                    <a:pt x="6028" y="13617"/>
                  </a:moveTo>
                  <a:lnTo>
                    <a:pt x="15572" y="13617"/>
                  </a:lnTo>
                  <a:lnTo>
                    <a:pt x="16074" y="13617"/>
                  </a:lnTo>
                  <a:lnTo>
                    <a:pt x="16326" y="13617"/>
                  </a:lnTo>
                  <a:lnTo>
                    <a:pt x="16577" y="13500"/>
                  </a:lnTo>
                  <a:lnTo>
                    <a:pt x="16828" y="13383"/>
                  </a:lnTo>
                  <a:lnTo>
                    <a:pt x="17079" y="13265"/>
                  </a:lnTo>
                  <a:lnTo>
                    <a:pt x="17330" y="13148"/>
                  </a:lnTo>
                  <a:lnTo>
                    <a:pt x="17330" y="12913"/>
                  </a:lnTo>
                  <a:lnTo>
                    <a:pt x="17581" y="12796"/>
                  </a:lnTo>
                  <a:lnTo>
                    <a:pt x="17581" y="8687"/>
                  </a:lnTo>
                  <a:lnTo>
                    <a:pt x="17330" y="8452"/>
                  </a:lnTo>
                  <a:lnTo>
                    <a:pt x="17330" y="8335"/>
                  </a:lnTo>
                  <a:lnTo>
                    <a:pt x="17079" y="8217"/>
                  </a:lnTo>
                  <a:lnTo>
                    <a:pt x="16828" y="7983"/>
                  </a:lnTo>
                  <a:lnTo>
                    <a:pt x="16577" y="7983"/>
                  </a:lnTo>
                  <a:lnTo>
                    <a:pt x="16326" y="7865"/>
                  </a:lnTo>
                  <a:lnTo>
                    <a:pt x="16074" y="7865"/>
                  </a:lnTo>
                  <a:lnTo>
                    <a:pt x="15572" y="7748"/>
                  </a:lnTo>
                  <a:lnTo>
                    <a:pt x="6028" y="7748"/>
                  </a:lnTo>
                  <a:lnTo>
                    <a:pt x="5526" y="7865"/>
                  </a:lnTo>
                  <a:lnTo>
                    <a:pt x="5274" y="7865"/>
                  </a:lnTo>
                  <a:lnTo>
                    <a:pt x="5023" y="7983"/>
                  </a:lnTo>
                  <a:lnTo>
                    <a:pt x="4772" y="7983"/>
                  </a:lnTo>
                  <a:lnTo>
                    <a:pt x="4521" y="8217"/>
                  </a:lnTo>
                  <a:lnTo>
                    <a:pt x="4270" y="8335"/>
                  </a:lnTo>
                  <a:lnTo>
                    <a:pt x="4270" y="8452"/>
                  </a:lnTo>
                  <a:lnTo>
                    <a:pt x="4019" y="8687"/>
                  </a:lnTo>
                  <a:lnTo>
                    <a:pt x="4019" y="12796"/>
                  </a:lnTo>
                  <a:lnTo>
                    <a:pt x="4270" y="12913"/>
                  </a:lnTo>
                  <a:lnTo>
                    <a:pt x="4270" y="13148"/>
                  </a:lnTo>
                  <a:lnTo>
                    <a:pt x="4521" y="13265"/>
                  </a:lnTo>
                  <a:lnTo>
                    <a:pt x="4772" y="13383"/>
                  </a:lnTo>
                  <a:lnTo>
                    <a:pt x="5023" y="13500"/>
                  </a:lnTo>
                  <a:lnTo>
                    <a:pt x="5274" y="13617"/>
                  </a:lnTo>
                  <a:lnTo>
                    <a:pt x="5526" y="13617"/>
                  </a:lnTo>
                  <a:lnTo>
                    <a:pt x="6028" y="13617"/>
                  </a:lnTo>
                  <a:close/>
                </a:path>
                <a:path w="21600" h="21600">
                  <a:moveTo>
                    <a:pt x="6028" y="20778"/>
                  </a:moveTo>
                  <a:lnTo>
                    <a:pt x="15572" y="20778"/>
                  </a:lnTo>
                  <a:lnTo>
                    <a:pt x="16074" y="20778"/>
                  </a:lnTo>
                  <a:lnTo>
                    <a:pt x="16326" y="20661"/>
                  </a:lnTo>
                  <a:lnTo>
                    <a:pt x="16577" y="20661"/>
                  </a:lnTo>
                  <a:lnTo>
                    <a:pt x="16828" y="20543"/>
                  </a:lnTo>
                  <a:lnTo>
                    <a:pt x="17079" y="20426"/>
                  </a:lnTo>
                  <a:lnTo>
                    <a:pt x="17330" y="20309"/>
                  </a:lnTo>
                  <a:lnTo>
                    <a:pt x="17330" y="20074"/>
                  </a:lnTo>
                  <a:lnTo>
                    <a:pt x="17581" y="19957"/>
                  </a:lnTo>
                  <a:lnTo>
                    <a:pt x="17581" y="15730"/>
                  </a:lnTo>
                  <a:lnTo>
                    <a:pt x="17330" y="15613"/>
                  </a:lnTo>
                  <a:lnTo>
                    <a:pt x="17330" y="15378"/>
                  </a:lnTo>
                  <a:lnTo>
                    <a:pt x="17079" y="15378"/>
                  </a:lnTo>
                  <a:lnTo>
                    <a:pt x="16828" y="15143"/>
                  </a:lnTo>
                  <a:lnTo>
                    <a:pt x="16577" y="15026"/>
                  </a:lnTo>
                  <a:lnTo>
                    <a:pt x="16326" y="15026"/>
                  </a:lnTo>
                  <a:lnTo>
                    <a:pt x="16074" y="15026"/>
                  </a:lnTo>
                  <a:lnTo>
                    <a:pt x="15572" y="14909"/>
                  </a:lnTo>
                  <a:lnTo>
                    <a:pt x="6028" y="14909"/>
                  </a:lnTo>
                  <a:lnTo>
                    <a:pt x="5526" y="15026"/>
                  </a:lnTo>
                  <a:lnTo>
                    <a:pt x="5274" y="15026"/>
                  </a:lnTo>
                  <a:lnTo>
                    <a:pt x="5023" y="15026"/>
                  </a:lnTo>
                  <a:lnTo>
                    <a:pt x="4772" y="15143"/>
                  </a:lnTo>
                  <a:lnTo>
                    <a:pt x="4521" y="15378"/>
                  </a:lnTo>
                  <a:lnTo>
                    <a:pt x="4270" y="15378"/>
                  </a:lnTo>
                  <a:lnTo>
                    <a:pt x="4270" y="15613"/>
                  </a:lnTo>
                  <a:lnTo>
                    <a:pt x="4019" y="15730"/>
                  </a:lnTo>
                  <a:lnTo>
                    <a:pt x="4019" y="19957"/>
                  </a:lnTo>
                  <a:lnTo>
                    <a:pt x="4270" y="20074"/>
                  </a:lnTo>
                  <a:lnTo>
                    <a:pt x="4270" y="20309"/>
                  </a:lnTo>
                  <a:lnTo>
                    <a:pt x="4521" y="20426"/>
                  </a:lnTo>
                  <a:lnTo>
                    <a:pt x="4772" y="20543"/>
                  </a:lnTo>
                  <a:lnTo>
                    <a:pt x="5023" y="20661"/>
                  </a:lnTo>
                  <a:lnTo>
                    <a:pt x="5274" y="20661"/>
                  </a:lnTo>
                  <a:lnTo>
                    <a:pt x="5526" y="20778"/>
                  </a:lnTo>
                  <a:lnTo>
                    <a:pt x="6028" y="20778"/>
                  </a:lnTo>
                  <a:close/>
                </a:path>
                <a:path w="21600" h="21600">
                  <a:moveTo>
                    <a:pt x="753" y="1291"/>
                  </a:moveTo>
                  <a:lnTo>
                    <a:pt x="2260" y="1291"/>
                  </a:lnTo>
                  <a:lnTo>
                    <a:pt x="2260" y="235"/>
                  </a:lnTo>
                  <a:lnTo>
                    <a:pt x="753" y="235"/>
                  </a:lnTo>
                  <a:lnTo>
                    <a:pt x="753" y="1291"/>
                  </a:lnTo>
                  <a:close/>
                </a:path>
                <a:path w="21600" h="21600">
                  <a:moveTo>
                    <a:pt x="753" y="2700"/>
                  </a:moveTo>
                  <a:lnTo>
                    <a:pt x="2260" y="2700"/>
                  </a:lnTo>
                  <a:lnTo>
                    <a:pt x="2260" y="1643"/>
                  </a:lnTo>
                  <a:lnTo>
                    <a:pt x="753" y="1643"/>
                  </a:lnTo>
                  <a:lnTo>
                    <a:pt x="753" y="2700"/>
                  </a:lnTo>
                  <a:close/>
                </a:path>
                <a:path w="21600" h="21600">
                  <a:moveTo>
                    <a:pt x="753" y="4109"/>
                  </a:moveTo>
                  <a:lnTo>
                    <a:pt x="2260" y="4109"/>
                  </a:lnTo>
                  <a:lnTo>
                    <a:pt x="2260" y="3052"/>
                  </a:lnTo>
                  <a:lnTo>
                    <a:pt x="753" y="3052"/>
                  </a:lnTo>
                  <a:lnTo>
                    <a:pt x="753" y="4109"/>
                  </a:lnTo>
                  <a:close/>
                </a:path>
                <a:path w="21600" h="21600">
                  <a:moveTo>
                    <a:pt x="753" y="5517"/>
                  </a:moveTo>
                  <a:lnTo>
                    <a:pt x="2260" y="5517"/>
                  </a:lnTo>
                  <a:lnTo>
                    <a:pt x="2260" y="4461"/>
                  </a:lnTo>
                  <a:lnTo>
                    <a:pt x="753" y="4461"/>
                  </a:lnTo>
                  <a:lnTo>
                    <a:pt x="753" y="5517"/>
                  </a:lnTo>
                  <a:close/>
                </a:path>
                <a:path w="21600" h="21600">
                  <a:moveTo>
                    <a:pt x="753" y="6926"/>
                  </a:moveTo>
                  <a:lnTo>
                    <a:pt x="2260" y="6926"/>
                  </a:lnTo>
                  <a:lnTo>
                    <a:pt x="2260" y="5870"/>
                  </a:lnTo>
                  <a:lnTo>
                    <a:pt x="753" y="5870"/>
                  </a:lnTo>
                  <a:lnTo>
                    <a:pt x="753" y="6926"/>
                  </a:lnTo>
                  <a:close/>
                </a:path>
                <a:path w="21600" h="21600">
                  <a:moveTo>
                    <a:pt x="753" y="8335"/>
                  </a:moveTo>
                  <a:lnTo>
                    <a:pt x="2260" y="8335"/>
                  </a:lnTo>
                  <a:lnTo>
                    <a:pt x="2260" y="7278"/>
                  </a:lnTo>
                  <a:lnTo>
                    <a:pt x="753" y="7278"/>
                  </a:lnTo>
                  <a:lnTo>
                    <a:pt x="753" y="8335"/>
                  </a:lnTo>
                  <a:close/>
                </a:path>
                <a:path w="21600" h="21600">
                  <a:moveTo>
                    <a:pt x="753" y="9743"/>
                  </a:moveTo>
                  <a:lnTo>
                    <a:pt x="2260" y="9743"/>
                  </a:lnTo>
                  <a:lnTo>
                    <a:pt x="2260" y="8687"/>
                  </a:lnTo>
                  <a:lnTo>
                    <a:pt x="753" y="8687"/>
                  </a:lnTo>
                  <a:lnTo>
                    <a:pt x="753" y="9743"/>
                  </a:lnTo>
                  <a:close/>
                </a:path>
                <a:path w="21600" h="21600">
                  <a:moveTo>
                    <a:pt x="753" y="11152"/>
                  </a:moveTo>
                  <a:lnTo>
                    <a:pt x="2260" y="11152"/>
                  </a:lnTo>
                  <a:lnTo>
                    <a:pt x="2260" y="10096"/>
                  </a:lnTo>
                  <a:lnTo>
                    <a:pt x="753" y="10096"/>
                  </a:lnTo>
                  <a:lnTo>
                    <a:pt x="753" y="11152"/>
                  </a:lnTo>
                  <a:close/>
                </a:path>
                <a:path w="21600" h="21600">
                  <a:moveTo>
                    <a:pt x="753" y="12561"/>
                  </a:moveTo>
                  <a:lnTo>
                    <a:pt x="2260" y="12561"/>
                  </a:lnTo>
                  <a:lnTo>
                    <a:pt x="2260" y="11504"/>
                  </a:lnTo>
                  <a:lnTo>
                    <a:pt x="753" y="11504"/>
                  </a:lnTo>
                  <a:lnTo>
                    <a:pt x="753" y="12561"/>
                  </a:lnTo>
                  <a:close/>
                </a:path>
                <a:path w="21600" h="21600">
                  <a:moveTo>
                    <a:pt x="753" y="13970"/>
                  </a:moveTo>
                  <a:lnTo>
                    <a:pt x="2260" y="13970"/>
                  </a:lnTo>
                  <a:lnTo>
                    <a:pt x="2260" y="12913"/>
                  </a:lnTo>
                  <a:lnTo>
                    <a:pt x="753" y="12913"/>
                  </a:lnTo>
                  <a:lnTo>
                    <a:pt x="753" y="13970"/>
                  </a:lnTo>
                  <a:close/>
                </a:path>
                <a:path w="21600" h="21600">
                  <a:moveTo>
                    <a:pt x="753" y="15378"/>
                  </a:moveTo>
                  <a:lnTo>
                    <a:pt x="2260" y="15378"/>
                  </a:lnTo>
                  <a:lnTo>
                    <a:pt x="2260" y="14322"/>
                  </a:lnTo>
                  <a:lnTo>
                    <a:pt x="753" y="14322"/>
                  </a:lnTo>
                  <a:lnTo>
                    <a:pt x="753" y="15378"/>
                  </a:lnTo>
                  <a:close/>
                </a:path>
                <a:path w="21600" h="21600">
                  <a:moveTo>
                    <a:pt x="753" y="16787"/>
                  </a:moveTo>
                  <a:lnTo>
                    <a:pt x="2260" y="16787"/>
                  </a:lnTo>
                  <a:lnTo>
                    <a:pt x="2260" y="15730"/>
                  </a:lnTo>
                  <a:lnTo>
                    <a:pt x="753" y="15730"/>
                  </a:lnTo>
                  <a:lnTo>
                    <a:pt x="753" y="16787"/>
                  </a:lnTo>
                  <a:close/>
                </a:path>
                <a:path w="21600" h="21600">
                  <a:moveTo>
                    <a:pt x="753" y="18196"/>
                  </a:moveTo>
                  <a:lnTo>
                    <a:pt x="2260" y="18196"/>
                  </a:lnTo>
                  <a:lnTo>
                    <a:pt x="2260" y="17139"/>
                  </a:lnTo>
                  <a:lnTo>
                    <a:pt x="753" y="17139"/>
                  </a:lnTo>
                  <a:lnTo>
                    <a:pt x="753" y="18196"/>
                  </a:lnTo>
                  <a:close/>
                </a:path>
                <a:path w="21600" h="21600">
                  <a:moveTo>
                    <a:pt x="753" y="19604"/>
                  </a:moveTo>
                  <a:lnTo>
                    <a:pt x="2260" y="19604"/>
                  </a:lnTo>
                  <a:lnTo>
                    <a:pt x="2260" y="18548"/>
                  </a:lnTo>
                  <a:lnTo>
                    <a:pt x="753" y="18548"/>
                  </a:lnTo>
                  <a:lnTo>
                    <a:pt x="753" y="19604"/>
                  </a:lnTo>
                  <a:close/>
                </a:path>
                <a:path w="21600" h="21600">
                  <a:moveTo>
                    <a:pt x="753" y="21013"/>
                  </a:moveTo>
                  <a:lnTo>
                    <a:pt x="2260" y="21013"/>
                  </a:lnTo>
                  <a:lnTo>
                    <a:pt x="2260" y="19957"/>
                  </a:lnTo>
                  <a:lnTo>
                    <a:pt x="753" y="19957"/>
                  </a:lnTo>
                  <a:lnTo>
                    <a:pt x="753" y="21013"/>
                  </a:lnTo>
                  <a:close/>
                </a:path>
                <a:path w="21600" h="21600">
                  <a:moveTo>
                    <a:pt x="19340" y="1409"/>
                  </a:moveTo>
                  <a:lnTo>
                    <a:pt x="20595" y="1409"/>
                  </a:lnTo>
                  <a:lnTo>
                    <a:pt x="20595" y="352"/>
                  </a:lnTo>
                  <a:lnTo>
                    <a:pt x="19340" y="352"/>
                  </a:lnTo>
                  <a:lnTo>
                    <a:pt x="19340" y="1409"/>
                  </a:lnTo>
                  <a:close/>
                </a:path>
                <a:path w="21600" h="21600">
                  <a:moveTo>
                    <a:pt x="19340" y="2700"/>
                  </a:moveTo>
                  <a:lnTo>
                    <a:pt x="20595" y="2700"/>
                  </a:lnTo>
                  <a:lnTo>
                    <a:pt x="20595" y="1643"/>
                  </a:lnTo>
                  <a:lnTo>
                    <a:pt x="19340" y="1643"/>
                  </a:lnTo>
                  <a:lnTo>
                    <a:pt x="19340" y="2700"/>
                  </a:lnTo>
                  <a:close/>
                </a:path>
                <a:path w="21600" h="21600">
                  <a:moveTo>
                    <a:pt x="19340" y="4109"/>
                  </a:moveTo>
                  <a:lnTo>
                    <a:pt x="20595" y="4109"/>
                  </a:lnTo>
                  <a:lnTo>
                    <a:pt x="20595" y="3052"/>
                  </a:lnTo>
                  <a:lnTo>
                    <a:pt x="19340" y="3052"/>
                  </a:lnTo>
                  <a:lnTo>
                    <a:pt x="19340" y="4109"/>
                  </a:lnTo>
                  <a:close/>
                </a:path>
                <a:path w="21600" h="21600">
                  <a:moveTo>
                    <a:pt x="19340" y="5517"/>
                  </a:moveTo>
                  <a:lnTo>
                    <a:pt x="20595" y="5517"/>
                  </a:lnTo>
                  <a:lnTo>
                    <a:pt x="20595" y="4461"/>
                  </a:lnTo>
                  <a:lnTo>
                    <a:pt x="19340" y="4461"/>
                  </a:lnTo>
                  <a:lnTo>
                    <a:pt x="19340" y="5517"/>
                  </a:lnTo>
                  <a:close/>
                </a:path>
                <a:path w="21600" h="21600">
                  <a:moveTo>
                    <a:pt x="19340" y="6926"/>
                  </a:moveTo>
                  <a:lnTo>
                    <a:pt x="20595" y="6926"/>
                  </a:lnTo>
                  <a:lnTo>
                    <a:pt x="20595" y="5870"/>
                  </a:lnTo>
                  <a:lnTo>
                    <a:pt x="19340" y="5870"/>
                  </a:lnTo>
                  <a:lnTo>
                    <a:pt x="19340" y="6926"/>
                  </a:lnTo>
                  <a:close/>
                </a:path>
                <a:path w="21600" h="21600">
                  <a:moveTo>
                    <a:pt x="19340" y="8335"/>
                  </a:moveTo>
                  <a:lnTo>
                    <a:pt x="20595" y="8335"/>
                  </a:lnTo>
                  <a:lnTo>
                    <a:pt x="20595" y="7278"/>
                  </a:lnTo>
                  <a:lnTo>
                    <a:pt x="19340" y="7278"/>
                  </a:lnTo>
                  <a:lnTo>
                    <a:pt x="19340" y="8335"/>
                  </a:lnTo>
                  <a:close/>
                </a:path>
                <a:path w="21600" h="21600">
                  <a:moveTo>
                    <a:pt x="19340" y="9743"/>
                  </a:moveTo>
                  <a:lnTo>
                    <a:pt x="20595" y="9743"/>
                  </a:lnTo>
                  <a:lnTo>
                    <a:pt x="20595" y="8687"/>
                  </a:lnTo>
                  <a:lnTo>
                    <a:pt x="19340" y="8687"/>
                  </a:lnTo>
                  <a:lnTo>
                    <a:pt x="19340" y="9743"/>
                  </a:lnTo>
                  <a:close/>
                </a:path>
                <a:path w="21600" h="21600">
                  <a:moveTo>
                    <a:pt x="19340" y="11152"/>
                  </a:moveTo>
                  <a:lnTo>
                    <a:pt x="20595" y="11152"/>
                  </a:lnTo>
                  <a:lnTo>
                    <a:pt x="20595" y="10096"/>
                  </a:lnTo>
                  <a:lnTo>
                    <a:pt x="19340" y="10096"/>
                  </a:lnTo>
                  <a:lnTo>
                    <a:pt x="19340" y="11152"/>
                  </a:lnTo>
                  <a:close/>
                </a:path>
                <a:path w="21600" h="21600">
                  <a:moveTo>
                    <a:pt x="19340" y="12561"/>
                  </a:moveTo>
                  <a:lnTo>
                    <a:pt x="20595" y="12561"/>
                  </a:lnTo>
                  <a:lnTo>
                    <a:pt x="20595" y="11504"/>
                  </a:lnTo>
                  <a:lnTo>
                    <a:pt x="19340" y="11504"/>
                  </a:lnTo>
                  <a:lnTo>
                    <a:pt x="19340" y="12561"/>
                  </a:lnTo>
                  <a:close/>
                </a:path>
                <a:path w="21600" h="21600">
                  <a:moveTo>
                    <a:pt x="19340" y="13970"/>
                  </a:moveTo>
                  <a:lnTo>
                    <a:pt x="20595" y="13970"/>
                  </a:lnTo>
                  <a:lnTo>
                    <a:pt x="20595" y="12913"/>
                  </a:lnTo>
                  <a:lnTo>
                    <a:pt x="19340" y="12913"/>
                  </a:lnTo>
                  <a:lnTo>
                    <a:pt x="19340" y="13970"/>
                  </a:lnTo>
                  <a:close/>
                </a:path>
                <a:path w="21600" h="21600">
                  <a:moveTo>
                    <a:pt x="19340" y="15378"/>
                  </a:moveTo>
                  <a:lnTo>
                    <a:pt x="20595" y="15378"/>
                  </a:lnTo>
                  <a:lnTo>
                    <a:pt x="20595" y="14322"/>
                  </a:lnTo>
                  <a:lnTo>
                    <a:pt x="19340" y="14322"/>
                  </a:lnTo>
                  <a:lnTo>
                    <a:pt x="19340" y="15378"/>
                  </a:lnTo>
                  <a:close/>
                </a:path>
                <a:path w="21600" h="21600">
                  <a:moveTo>
                    <a:pt x="19340" y="16787"/>
                  </a:moveTo>
                  <a:lnTo>
                    <a:pt x="20595" y="16787"/>
                  </a:lnTo>
                  <a:lnTo>
                    <a:pt x="20595" y="15730"/>
                  </a:lnTo>
                  <a:lnTo>
                    <a:pt x="19340" y="15730"/>
                  </a:lnTo>
                  <a:lnTo>
                    <a:pt x="19340" y="16787"/>
                  </a:lnTo>
                  <a:close/>
                </a:path>
                <a:path w="21600" h="21600">
                  <a:moveTo>
                    <a:pt x="19340" y="18196"/>
                  </a:moveTo>
                  <a:lnTo>
                    <a:pt x="20595" y="18196"/>
                  </a:lnTo>
                  <a:lnTo>
                    <a:pt x="20595" y="17139"/>
                  </a:lnTo>
                  <a:lnTo>
                    <a:pt x="19340" y="17139"/>
                  </a:lnTo>
                  <a:lnTo>
                    <a:pt x="19340" y="18196"/>
                  </a:lnTo>
                  <a:close/>
                </a:path>
                <a:path w="21600" h="21600">
                  <a:moveTo>
                    <a:pt x="19340" y="19604"/>
                  </a:moveTo>
                  <a:lnTo>
                    <a:pt x="20595" y="19604"/>
                  </a:lnTo>
                  <a:lnTo>
                    <a:pt x="20595" y="18548"/>
                  </a:lnTo>
                  <a:lnTo>
                    <a:pt x="19340" y="18548"/>
                  </a:lnTo>
                  <a:lnTo>
                    <a:pt x="19340" y="19604"/>
                  </a:lnTo>
                  <a:close/>
                </a:path>
                <a:path w="21600" h="21600">
                  <a:moveTo>
                    <a:pt x="19340" y="21013"/>
                  </a:moveTo>
                  <a:lnTo>
                    <a:pt x="20595" y="21013"/>
                  </a:lnTo>
                  <a:lnTo>
                    <a:pt x="20595" y="19957"/>
                  </a:lnTo>
                  <a:lnTo>
                    <a:pt x="19340" y="19957"/>
                  </a:lnTo>
                  <a:lnTo>
                    <a:pt x="19340" y="21013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666666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Film"/>
            <p:cNvSpPr/>
            <p:nvPr/>
          </p:nvSpPr>
          <p:spPr>
            <a:xfrm rot="5400000">
              <a:off x="6867360" y="4581720"/>
              <a:ext cx="1809720" cy="2895480"/>
            </a:xfrm>
            <a:custGeom>
              <a:avLst/>
              <a:gdLst>
                <a:gd name="textAreaLeft" fmla="*/ 415800 w 1809720"/>
                <a:gd name="textAreaRight" fmla="*/ 1430280 w 1809720"/>
                <a:gd name="textAreaTop" fmla="*/ 1089000 h 2895480"/>
                <a:gd name="textAreaBottom" fmla="*/ 1800360 h 289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lnTo>
                    <a:pt x="21600" y="0"/>
                  </a:lnTo>
                  <a:close/>
                </a:path>
                <a:path w="21600" h="21600">
                  <a:moveTo>
                    <a:pt x="3014" y="21600"/>
                  </a:moveTo>
                  <a:lnTo>
                    <a:pt x="3014" y="0"/>
                  </a:lnTo>
                  <a:lnTo>
                    <a:pt x="0" y="0"/>
                  </a:lnTo>
                  <a:lnTo>
                    <a:pt x="0" y="21600"/>
                  </a:lnTo>
                  <a:lnTo>
                    <a:pt x="3014" y="21600"/>
                  </a:lnTo>
                  <a:close/>
                </a:path>
                <a:path w="21600" h="21600">
                  <a:moveTo>
                    <a:pt x="21600" y="21600"/>
                  </a:moveTo>
                  <a:lnTo>
                    <a:pt x="21600" y="0"/>
                  </a:lnTo>
                  <a:lnTo>
                    <a:pt x="18586" y="0"/>
                  </a:lnTo>
                  <a:lnTo>
                    <a:pt x="18586" y="21600"/>
                  </a:lnTo>
                  <a:lnTo>
                    <a:pt x="21600" y="21600"/>
                  </a:lnTo>
                  <a:close/>
                </a:path>
                <a:path w="21600" h="21600">
                  <a:moveTo>
                    <a:pt x="6028" y="6574"/>
                  </a:moveTo>
                  <a:lnTo>
                    <a:pt x="15572" y="6574"/>
                  </a:lnTo>
                  <a:lnTo>
                    <a:pt x="16074" y="6574"/>
                  </a:lnTo>
                  <a:lnTo>
                    <a:pt x="16326" y="6457"/>
                  </a:lnTo>
                  <a:lnTo>
                    <a:pt x="16577" y="6339"/>
                  </a:lnTo>
                  <a:lnTo>
                    <a:pt x="16828" y="6222"/>
                  </a:lnTo>
                  <a:lnTo>
                    <a:pt x="17079" y="6222"/>
                  </a:lnTo>
                  <a:lnTo>
                    <a:pt x="17330" y="5987"/>
                  </a:lnTo>
                  <a:lnTo>
                    <a:pt x="17330" y="5870"/>
                  </a:lnTo>
                  <a:lnTo>
                    <a:pt x="17581" y="5635"/>
                  </a:lnTo>
                  <a:lnTo>
                    <a:pt x="17581" y="1526"/>
                  </a:lnTo>
                  <a:lnTo>
                    <a:pt x="17330" y="1291"/>
                  </a:lnTo>
                  <a:lnTo>
                    <a:pt x="17330" y="1174"/>
                  </a:lnTo>
                  <a:lnTo>
                    <a:pt x="17079" y="1057"/>
                  </a:lnTo>
                  <a:lnTo>
                    <a:pt x="16828" y="939"/>
                  </a:lnTo>
                  <a:lnTo>
                    <a:pt x="16577" y="822"/>
                  </a:lnTo>
                  <a:lnTo>
                    <a:pt x="16326" y="704"/>
                  </a:lnTo>
                  <a:lnTo>
                    <a:pt x="16074" y="704"/>
                  </a:lnTo>
                  <a:lnTo>
                    <a:pt x="15572" y="587"/>
                  </a:lnTo>
                  <a:lnTo>
                    <a:pt x="6028" y="587"/>
                  </a:lnTo>
                  <a:lnTo>
                    <a:pt x="5526" y="704"/>
                  </a:lnTo>
                  <a:lnTo>
                    <a:pt x="5274" y="704"/>
                  </a:lnTo>
                  <a:lnTo>
                    <a:pt x="5023" y="822"/>
                  </a:lnTo>
                  <a:lnTo>
                    <a:pt x="4772" y="939"/>
                  </a:lnTo>
                  <a:lnTo>
                    <a:pt x="4521" y="1057"/>
                  </a:lnTo>
                  <a:lnTo>
                    <a:pt x="4270" y="1174"/>
                  </a:lnTo>
                  <a:lnTo>
                    <a:pt x="4270" y="1291"/>
                  </a:lnTo>
                  <a:lnTo>
                    <a:pt x="4019" y="1526"/>
                  </a:lnTo>
                  <a:lnTo>
                    <a:pt x="4019" y="5635"/>
                  </a:lnTo>
                  <a:lnTo>
                    <a:pt x="4270" y="5870"/>
                  </a:lnTo>
                  <a:lnTo>
                    <a:pt x="4270" y="5987"/>
                  </a:lnTo>
                  <a:lnTo>
                    <a:pt x="4521" y="6222"/>
                  </a:lnTo>
                  <a:lnTo>
                    <a:pt x="4772" y="6222"/>
                  </a:lnTo>
                  <a:lnTo>
                    <a:pt x="5023" y="6339"/>
                  </a:lnTo>
                  <a:lnTo>
                    <a:pt x="5274" y="6457"/>
                  </a:lnTo>
                  <a:lnTo>
                    <a:pt x="5526" y="6574"/>
                  </a:lnTo>
                  <a:lnTo>
                    <a:pt x="6028" y="6574"/>
                  </a:lnTo>
                  <a:close/>
                </a:path>
                <a:path w="21600" h="21600">
                  <a:moveTo>
                    <a:pt x="6028" y="13617"/>
                  </a:moveTo>
                  <a:lnTo>
                    <a:pt x="15572" y="13617"/>
                  </a:lnTo>
                  <a:lnTo>
                    <a:pt x="16074" y="13617"/>
                  </a:lnTo>
                  <a:lnTo>
                    <a:pt x="16326" y="13617"/>
                  </a:lnTo>
                  <a:lnTo>
                    <a:pt x="16577" y="13500"/>
                  </a:lnTo>
                  <a:lnTo>
                    <a:pt x="16828" y="13383"/>
                  </a:lnTo>
                  <a:lnTo>
                    <a:pt x="17079" y="13265"/>
                  </a:lnTo>
                  <a:lnTo>
                    <a:pt x="17330" y="13148"/>
                  </a:lnTo>
                  <a:lnTo>
                    <a:pt x="17330" y="12913"/>
                  </a:lnTo>
                  <a:lnTo>
                    <a:pt x="17581" y="12796"/>
                  </a:lnTo>
                  <a:lnTo>
                    <a:pt x="17581" y="8687"/>
                  </a:lnTo>
                  <a:lnTo>
                    <a:pt x="17330" y="8452"/>
                  </a:lnTo>
                  <a:lnTo>
                    <a:pt x="17330" y="8335"/>
                  </a:lnTo>
                  <a:lnTo>
                    <a:pt x="17079" y="8217"/>
                  </a:lnTo>
                  <a:lnTo>
                    <a:pt x="16828" y="7983"/>
                  </a:lnTo>
                  <a:lnTo>
                    <a:pt x="16577" y="7983"/>
                  </a:lnTo>
                  <a:lnTo>
                    <a:pt x="16326" y="7865"/>
                  </a:lnTo>
                  <a:lnTo>
                    <a:pt x="16074" y="7865"/>
                  </a:lnTo>
                  <a:lnTo>
                    <a:pt x="15572" y="7748"/>
                  </a:lnTo>
                  <a:lnTo>
                    <a:pt x="6028" y="7748"/>
                  </a:lnTo>
                  <a:lnTo>
                    <a:pt x="5526" y="7865"/>
                  </a:lnTo>
                  <a:lnTo>
                    <a:pt x="5274" y="7865"/>
                  </a:lnTo>
                  <a:lnTo>
                    <a:pt x="5023" y="7983"/>
                  </a:lnTo>
                  <a:lnTo>
                    <a:pt x="4772" y="7983"/>
                  </a:lnTo>
                  <a:lnTo>
                    <a:pt x="4521" y="8217"/>
                  </a:lnTo>
                  <a:lnTo>
                    <a:pt x="4270" y="8335"/>
                  </a:lnTo>
                  <a:lnTo>
                    <a:pt x="4270" y="8452"/>
                  </a:lnTo>
                  <a:lnTo>
                    <a:pt x="4019" y="8687"/>
                  </a:lnTo>
                  <a:lnTo>
                    <a:pt x="4019" y="12796"/>
                  </a:lnTo>
                  <a:lnTo>
                    <a:pt x="4270" y="12913"/>
                  </a:lnTo>
                  <a:lnTo>
                    <a:pt x="4270" y="13148"/>
                  </a:lnTo>
                  <a:lnTo>
                    <a:pt x="4521" y="13265"/>
                  </a:lnTo>
                  <a:lnTo>
                    <a:pt x="4772" y="13383"/>
                  </a:lnTo>
                  <a:lnTo>
                    <a:pt x="5023" y="13500"/>
                  </a:lnTo>
                  <a:lnTo>
                    <a:pt x="5274" y="13617"/>
                  </a:lnTo>
                  <a:lnTo>
                    <a:pt x="5526" y="13617"/>
                  </a:lnTo>
                  <a:lnTo>
                    <a:pt x="6028" y="13617"/>
                  </a:lnTo>
                  <a:close/>
                </a:path>
                <a:path w="21600" h="21600">
                  <a:moveTo>
                    <a:pt x="6028" y="20778"/>
                  </a:moveTo>
                  <a:lnTo>
                    <a:pt x="15572" y="20778"/>
                  </a:lnTo>
                  <a:lnTo>
                    <a:pt x="16074" y="20778"/>
                  </a:lnTo>
                  <a:lnTo>
                    <a:pt x="16326" y="20661"/>
                  </a:lnTo>
                  <a:lnTo>
                    <a:pt x="16577" y="20661"/>
                  </a:lnTo>
                  <a:lnTo>
                    <a:pt x="16828" y="20543"/>
                  </a:lnTo>
                  <a:lnTo>
                    <a:pt x="17079" y="20426"/>
                  </a:lnTo>
                  <a:lnTo>
                    <a:pt x="17330" y="20309"/>
                  </a:lnTo>
                  <a:lnTo>
                    <a:pt x="17330" y="20074"/>
                  </a:lnTo>
                  <a:lnTo>
                    <a:pt x="17581" y="19957"/>
                  </a:lnTo>
                  <a:lnTo>
                    <a:pt x="17581" y="15730"/>
                  </a:lnTo>
                  <a:lnTo>
                    <a:pt x="17330" y="15613"/>
                  </a:lnTo>
                  <a:lnTo>
                    <a:pt x="17330" y="15378"/>
                  </a:lnTo>
                  <a:lnTo>
                    <a:pt x="17079" y="15378"/>
                  </a:lnTo>
                  <a:lnTo>
                    <a:pt x="16828" y="15143"/>
                  </a:lnTo>
                  <a:lnTo>
                    <a:pt x="16577" y="15026"/>
                  </a:lnTo>
                  <a:lnTo>
                    <a:pt x="16326" y="15026"/>
                  </a:lnTo>
                  <a:lnTo>
                    <a:pt x="16074" y="15026"/>
                  </a:lnTo>
                  <a:lnTo>
                    <a:pt x="15572" y="14909"/>
                  </a:lnTo>
                  <a:lnTo>
                    <a:pt x="6028" y="14909"/>
                  </a:lnTo>
                  <a:lnTo>
                    <a:pt x="5526" y="15026"/>
                  </a:lnTo>
                  <a:lnTo>
                    <a:pt x="5274" y="15026"/>
                  </a:lnTo>
                  <a:lnTo>
                    <a:pt x="5023" y="15026"/>
                  </a:lnTo>
                  <a:lnTo>
                    <a:pt x="4772" y="15143"/>
                  </a:lnTo>
                  <a:lnTo>
                    <a:pt x="4521" y="15378"/>
                  </a:lnTo>
                  <a:lnTo>
                    <a:pt x="4270" y="15378"/>
                  </a:lnTo>
                  <a:lnTo>
                    <a:pt x="4270" y="15613"/>
                  </a:lnTo>
                  <a:lnTo>
                    <a:pt x="4019" y="15730"/>
                  </a:lnTo>
                  <a:lnTo>
                    <a:pt x="4019" y="19957"/>
                  </a:lnTo>
                  <a:lnTo>
                    <a:pt x="4270" y="20074"/>
                  </a:lnTo>
                  <a:lnTo>
                    <a:pt x="4270" y="20309"/>
                  </a:lnTo>
                  <a:lnTo>
                    <a:pt x="4521" y="20426"/>
                  </a:lnTo>
                  <a:lnTo>
                    <a:pt x="4772" y="20543"/>
                  </a:lnTo>
                  <a:lnTo>
                    <a:pt x="5023" y="20661"/>
                  </a:lnTo>
                  <a:lnTo>
                    <a:pt x="5274" y="20661"/>
                  </a:lnTo>
                  <a:lnTo>
                    <a:pt x="5526" y="20778"/>
                  </a:lnTo>
                  <a:lnTo>
                    <a:pt x="6028" y="20778"/>
                  </a:lnTo>
                  <a:close/>
                </a:path>
                <a:path w="21600" h="21600">
                  <a:moveTo>
                    <a:pt x="753" y="1291"/>
                  </a:moveTo>
                  <a:lnTo>
                    <a:pt x="2260" y="1291"/>
                  </a:lnTo>
                  <a:lnTo>
                    <a:pt x="2260" y="235"/>
                  </a:lnTo>
                  <a:lnTo>
                    <a:pt x="753" y="235"/>
                  </a:lnTo>
                  <a:lnTo>
                    <a:pt x="753" y="1291"/>
                  </a:lnTo>
                  <a:close/>
                </a:path>
                <a:path w="21600" h="21600">
                  <a:moveTo>
                    <a:pt x="753" y="2700"/>
                  </a:moveTo>
                  <a:lnTo>
                    <a:pt x="2260" y="2700"/>
                  </a:lnTo>
                  <a:lnTo>
                    <a:pt x="2260" y="1643"/>
                  </a:lnTo>
                  <a:lnTo>
                    <a:pt x="753" y="1643"/>
                  </a:lnTo>
                  <a:lnTo>
                    <a:pt x="753" y="2700"/>
                  </a:lnTo>
                  <a:close/>
                </a:path>
                <a:path w="21600" h="21600">
                  <a:moveTo>
                    <a:pt x="753" y="4109"/>
                  </a:moveTo>
                  <a:lnTo>
                    <a:pt x="2260" y="4109"/>
                  </a:lnTo>
                  <a:lnTo>
                    <a:pt x="2260" y="3052"/>
                  </a:lnTo>
                  <a:lnTo>
                    <a:pt x="753" y="3052"/>
                  </a:lnTo>
                  <a:lnTo>
                    <a:pt x="753" y="4109"/>
                  </a:lnTo>
                  <a:close/>
                </a:path>
                <a:path w="21600" h="21600">
                  <a:moveTo>
                    <a:pt x="753" y="5517"/>
                  </a:moveTo>
                  <a:lnTo>
                    <a:pt x="2260" y="5517"/>
                  </a:lnTo>
                  <a:lnTo>
                    <a:pt x="2260" y="4461"/>
                  </a:lnTo>
                  <a:lnTo>
                    <a:pt x="753" y="4461"/>
                  </a:lnTo>
                  <a:lnTo>
                    <a:pt x="753" y="5517"/>
                  </a:lnTo>
                  <a:close/>
                </a:path>
                <a:path w="21600" h="21600">
                  <a:moveTo>
                    <a:pt x="753" y="6926"/>
                  </a:moveTo>
                  <a:lnTo>
                    <a:pt x="2260" y="6926"/>
                  </a:lnTo>
                  <a:lnTo>
                    <a:pt x="2260" y="5870"/>
                  </a:lnTo>
                  <a:lnTo>
                    <a:pt x="753" y="5870"/>
                  </a:lnTo>
                  <a:lnTo>
                    <a:pt x="753" y="6926"/>
                  </a:lnTo>
                  <a:close/>
                </a:path>
                <a:path w="21600" h="21600">
                  <a:moveTo>
                    <a:pt x="753" y="8335"/>
                  </a:moveTo>
                  <a:lnTo>
                    <a:pt x="2260" y="8335"/>
                  </a:lnTo>
                  <a:lnTo>
                    <a:pt x="2260" y="7278"/>
                  </a:lnTo>
                  <a:lnTo>
                    <a:pt x="753" y="7278"/>
                  </a:lnTo>
                  <a:lnTo>
                    <a:pt x="753" y="8335"/>
                  </a:lnTo>
                  <a:close/>
                </a:path>
                <a:path w="21600" h="21600">
                  <a:moveTo>
                    <a:pt x="753" y="9743"/>
                  </a:moveTo>
                  <a:lnTo>
                    <a:pt x="2260" y="9743"/>
                  </a:lnTo>
                  <a:lnTo>
                    <a:pt x="2260" y="8687"/>
                  </a:lnTo>
                  <a:lnTo>
                    <a:pt x="753" y="8687"/>
                  </a:lnTo>
                  <a:lnTo>
                    <a:pt x="753" y="9743"/>
                  </a:lnTo>
                  <a:close/>
                </a:path>
                <a:path w="21600" h="21600">
                  <a:moveTo>
                    <a:pt x="753" y="11152"/>
                  </a:moveTo>
                  <a:lnTo>
                    <a:pt x="2260" y="11152"/>
                  </a:lnTo>
                  <a:lnTo>
                    <a:pt x="2260" y="10096"/>
                  </a:lnTo>
                  <a:lnTo>
                    <a:pt x="753" y="10096"/>
                  </a:lnTo>
                  <a:lnTo>
                    <a:pt x="753" y="11152"/>
                  </a:lnTo>
                  <a:close/>
                </a:path>
                <a:path w="21600" h="21600">
                  <a:moveTo>
                    <a:pt x="753" y="12561"/>
                  </a:moveTo>
                  <a:lnTo>
                    <a:pt x="2260" y="12561"/>
                  </a:lnTo>
                  <a:lnTo>
                    <a:pt x="2260" y="11504"/>
                  </a:lnTo>
                  <a:lnTo>
                    <a:pt x="753" y="11504"/>
                  </a:lnTo>
                  <a:lnTo>
                    <a:pt x="753" y="12561"/>
                  </a:lnTo>
                  <a:close/>
                </a:path>
                <a:path w="21600" h="21600">
                  <a:moveTo>
                    <a:pt x="753" y="13970"/>
                  </a:moveTo>
                  <a:lnTo>
                    <a:pt x="2260" y="13970"/>
                  </a:lnTo>
                  <a:lnTo>
                    <a:pt x="2260" y="12913"/>
                  </a:lnTo>
                  <a:lnTo>
                    <a:pt x="753" y="12913"/>
                  </a:lnTo>
                  <a:lnTo>
                    <a:pt x="753" y="13970"/>
                  </a:lnTo>
                  <a:close/>
                </a:path>
                <a:path w="21600" h="21600">
                  <a:moveTo>
                    <a:pt x="753" y="15378"/>
                  </a:moveTo>
                  <a:lnTo>
                    <a:pt x="2260" y="15378"/>
                  </a:lnTo>
                  <a:lnTo>
                    <a:pt x="2260" y="14322"/>
                  </a:lnTo>
                  <a:lnTo>
                    <a:pt x="753" y="14322"/>
                  </a:lnTo>
                  <a:lnTo>
                    <a:pt x="753" y="15378"/>
                  </a:lnTo>
                  <a:close/>
                </a:path>
                <a:path w="21600" h="21600">
                  <a:moveTo>
                    <a:pt x="753" y="16787"/>
                  </a:moveTo>
                  <a:lnTo>
                    <a:pt x="2260" y="16787"/>
                  </a:lnTo>
                  <a:lnTo>
                    <a:pt x="2260" y="15730"/>
                  </a:lnTo>
                  <a:lnTo>
                    <a:pt x="753" y="15730"/>
                  </a:lnTo>
                  <a:lnTo>
                    <a:pt x="753" y="16787"/>
                  </a:lnTo>
                  <a:close/>
                </a:path>
                <a:path w="21600" h="21600">
                  <a:moveTo>
                    <a:pt x="753" y="18196"/>
                  </a:moveTo>
                  <a:lnTo>
                    <a:pt x="2260" y="18196"/>
                  </a:lnTo>
                  <a:lnTo>
                    <a:pt x="2260" y="17139"/>
                  </a:lnTo>
                  <a:lnTo>
                    <a:pt x="753" y="17139"/>
                  </a:lnTo>
                  <a:lnTo>
                    <a:pt x="753" y="18196"/>
                  </a:lnTo>
                  <a:close/>
                </a:path>
                <a:path w="21600" h="21600">
                  <a:moveTo>
                    <a:pt x="753" y="19604"/>
                  </a:moveTo>
                  <a:lnTo>
                    <a:pt x="2260" y="19604"/>
                  </a:lnTo>
                  <a:lnTo>
                    <a:pt x="2260" y="18548"/>
                  </a:lnTo>
                  <a:lnTo>
                    <a:pt x="753" y="18548"/>
                  </a:lnTo>
                  <a:lnTo>
                    <a:pt x="753" y="19604"/>
                  </a:lnTo>
                  <a:close/>
                </a:path>
                <a:path w="21600" h="21600">
                  <a:moveTo>
                    <a:pt x="753" y="21013"/>
                  </a:moveTo>
                  <a:lnTo>
                    <a:pt x="2260" y="21013"/>
                  </a:lnTo>
                  <a:lnTo>
                    <a:pt x="2260" y="19957"/>
                  </a:lnTo>
                  <a:lnTo>
                    <a:pt x="753" y="19957"/>
                  </a:lnTo>
                  <a:lnTo>
                    <a:pt x="753" y="21013"/>
                  </a:lnTo>
                  <a:close/>
                </a:path>
                <a:path w="21600" h="21600">
                  <a:moveTo>
                    <a:pt x="19340" y="1409"/>
                  </a:moveTo>
                  <a:lnTo>
                    <a:pt x="20595" y="1409"/>
                  </a:lnTo>
                  <a:lnTo>
                    <a:pt x="20595" y="352"/>
                  </a:lnTo>
                  <a:lnTo>
                    <a:pt x="19340" y="352"/>
                  </a:lnTo>
                  <a:lnTo>
                    <a:pt x="19340" y="1409"/>
                  </a:lnTo>
                  <a:close/>
                </a:path>
                <a:path w="21600" h="21600">
                  <a:moveTo>
                    <a:pt x="19340" y="2700"/>
                  </a:moveTo>
                  <a:lnTo>
                    <a:pt x="20595" y="2700"/>
                  </a:lnTo>
                  <a:lnTo>
                    <a:pt x="20595" y="1643"/>
                  </a:lnTo>
                  <a:lnTo>
                    <a:pt x="19340" y="1643"/>
                  </a:lnTo>
                  <a:lnTo>
                    <a:pt x="19340" y="2700"/>
                  </a:lnTo>
                  <a:close/>
                </a:path>
                <a:path w="21600" h="21600">
                  <a:moveTo>
                    <a:pt x="19340" y="4109"/>
                  </a:moveTo>
                  <a:lnTo>
                    <a:pt x="20595" y="4109"/>
                  </a:lnTo>
                  <a:lnTo>
                    <a:pt x="20595" y="3052"/>
                  </a:lnTo>
                  <a:lnTo>
                    <a:pt x="19340" y="3052"/>
                  </a:lnTo>
                  <a:lnTo>
                    <a:pt x="19340" y="4109"/>
                  </a:lnTo>
                  <a:close/>
                </a:path>
                <a:path w="21600" h="21600">
                  <a:moveTo>
                    <a:pt x="19340" y="5517"/>
                  </a:moveTo>
                  <a:lnTo>
                    <a:pt x="20595" y="5517"/>
                  </a:lnTo>
                  <a:lnTo>
                    <a:pt x="20595" y="4461"/>
                  </a:lnTo>
                  <a:lnTo>
                    <a:pt x="19340" y="4461"/>
                  </a:lnTo>
                  <a:lnTo>
                    <a:pt x="19340" y="5517"/>
                  </a:lnTo>
                  <a:close/>
                </a:path>
                <a:path w="21600" h="21600">
                  <a:moveTo>
                    <a:pt x="19340" y="6926"/>
                  </a:moveTo>
                  <a:lnTo>
                    <a:pt x="20595" y="6926"/>
                  </a:lnTo>
                  <a:lnTo>
                    <a:pt x="20595" y="5870"/>
                  </a:lnTo>
                  <a:lnTo>
                    <a:pt x="19340" y="5870"/>
                  </a:lnTo>
                  <a:lnTo>
                    <a:pt x="19340" y="6926"/>
                  </a:lnTo>
                  <a:close/>
                </a:path>
                <a:path w="21600" h="21600">
                  <a:moveTo>
                    <a:pt x="19340" y="8335"/>
                  </a:moveTo>
                  <a:lnTo>
                    <a:pt x="20595" y="8335"/>
                  </a:lnTo>
                  <a:lnTo>
                    <a:pt x="20595" y="7278"/>
                  </a:lnTo>
                  <a:lnTo>
                    <a:pt x="19340" y="7278"/>
                  </a:lnTo>
                  <a:lnTo>
                    <a:pt x="19340" y="8335"/>
                  </a:lnTo>
                  <a:close/>
                </a:path>
                <a:path w="21600" h="21600">
                  <a:moveTo>
                    <a:pt x="19340" y="9743"/>
                  </a:moveTo>
                  <a:lnTo>
                    <a:pt x="20595" y="9743"/>
                  </a:lnTo>
                  <a:lnTo>
                    <a:pt x="20595" y="8687"/>
                  </a:lnTo>
                  <a:lnTo>
                    <a:pt x="19340" y="8687"/>
                  </a:lnTo>
                  <a:lnTo>
                    <a:pt x="19340" y="9743"/>
                  </a:lnTo>
                  <a:close/>
                </a:path>
                <a:path w="21600" h="21600">
                  <a:moveTo>
                    <a:pt x="19340" y="11152"/>
                  </a:moveTo>
                  <a:lnTo>
                    <a:pt x="20595" y="11152"/>
                  </a:lnTo>
                  <a:lnTo>
                    <a:pt x="20595" y="10096"/>
                  </a:lnTo>
                  <a:lnTo>
                    <a:pt x="19340" y="10096"/>
                  </a:lnTo>
                  <a:lnTo>
                    <a:pt x="19340" y="11152"/>
                  </a:lnTo>
                  <a:close/>
                </a:path>
                <a:path w="21600" h="21600">
                  <a:moveTo>
                    <a:pt x="19340" y="12561"/>
                  </a:moveTo>
                  <a:lnTo>
                    <a:pt x="20595" y="12561"/>
                  </a:lnTo>
                  <a:lnTo>
                    <a:pt x="20595" y="11504"/>
                  </a:lnTo>
                  <a:lnTo>
                    <a:pt x="19340" y="11504"/>
                  </a:lnTo>
                  <a:lnTo>
                    <a:pt x="19340" y="12561"/>
                  </a:lnTo>
                  <a:close/>
                </a:path>
                <a:path w="21600" h="21600">
                  <a:moveTo>
                    <a:pt x="19340" y="13970"/>
                  </a:moveTo>
                  <a:lnTo>
                    <a:pt x="20595" y="13970"/>
                  </a:lnTo>
                  <a:lnTo>
                    <a:pt x="20595" y="12913"/>
                  </a:lnTo>
                  <a:lnTo>
                    <a:pt x="19340" y="12913"/>
                  </a:lnTo>
                  <a:lnTo>
                    <a:pt x="19340" y="13970"/>
                  </a:lnTo>
                  <a:close/>
                </a:path>
                <a:path w="21600" h="21600">
                  <a:moveTo>
                    <a:pt x="19340" y="15378"/>
                  </a:moveTo>
                  <a:lnTo>
                    <a:pt x="20595" y="15378"/>
                  </a:lnTo>
                  <a:lnTo>
                    <a:pt x="20595" y="14322"/>
                  </a:lnTo>
                  <a:lnTo>
                    <a:pt x="19340" y="14322"/>
                  </a:lnTo>
                  <a:lnTo>
                    <a:pt x="19340" y="15378"/>
                  </a:lnTo>
                  <a:close/>
                </a:path>
                <a:path w="21600" h="21600">
                  <a:moveTo>
                    <a:pt x="19340" y="16787"/>
                  </a:moveTo>
                  <a:lnTo>
                    <a:pt x="20595" y="16787"/>
                  </a:lnTo>
                  <a:lnTo>
                    <a:pt x="20595" y="15730"/>
                  </a:lnTo>
                  <a:lnTo>
                    <a:pt x="19340" y="15730"/>
                  </a:lnTo>
                  <a:lnTo>
                    <a:pt x="19340" y="16787"/>
                  </a:lnTo>
                  <a:close/>
                </a:path>
                <a:path w="21600" h="21600">
                  <a:moveTo>
                    <a:pt x="19340" y="18196"/>
                  </a:moveTo>
                  <a:lnTo>
                    <a:pt x="20595" y="18196"/>
                  </a:lnTo>
                  <a:lnTo>
                    <a:pt x="20595" y="17139"/>
                  </a:lnTo>
                  <a:lnTo>
                    <a:pt x="19340" y="17139"/>
                  </a:lnTo>
                  <a:lnTo>
                    <a:pt x="19340" y="18196"/>
                  </a:lnTo>
                  <a:close/>
                </a:path>
                <a:path w="21600" h="21600">
                  <a:moveTo>
                    <a:pt x="19340" y="19604"/>
                  </a:moveTo>
                  <a:lnTo>
                    <a:pt x="20595" y="19604"/>
                  </a:lnTo>
                  <a:lnTo>
                    <a:pt x="20595" y="18548"/>
                  </a:lnTo>
                  <a:lnTo>
                    <a:pt x="19340" y="18548"/>
                  </a:lnTo>
                  <a:lnTo>
                    <a:pt x="19340" y="19604"/>
                  </a:lnTo>
                  <a:close/>
                </a:path>
                <a:path w="21600" h="21600">
                  <a:moveTo>
                    <a:pt x="19340" y="21013"/>
                  </a:moveTo>
                  <a:lnTo>
                    <a:pt x="20595" y="21013"/>
                  </a:lnTo>
                  <a:lnTo>
                    <a:pt x="20595" y="19957"/>
                  </a:lnTo>
                  <a:lnTo>
                    <a:pt x="19340" y="19957"/>
                  </a:lnTo>
                  <a:lnTo>
                    <a:pt x="19340" y="21013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666666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4" name="WordArt 21"/>
          <p:cNvSpPr txBox="1"/>
          <p:nvPr/>
        </p:nvSpPr>
        <p:spPr>
          <a:xfrm>
            <a:off x="2362320" y="2971800"/>
            <a:ext cx="4876560" cy="17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Filming</a:t>
            </a:r>
            <a:endParaRPr b="0" lang="en-US" sz="96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advTm="8000">
    <p:cover dir="u"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0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pat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 -1.09827E-006 L -0.31667 -1.09827E-006 E">
                                      <p:cBhvr>
                                        <p:cTn id="305" dur="2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6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.31667 -3.00578E-006 L -3.33333E-006 -3.00578E-006 E">
                                      <p:cBhvr>
                                        <p:cTn id="307" dur="2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13" nodeType="afterEffect" fill="hold" presetClass="exit" presetID="7" presetSubtype="2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4" dur="50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4"/>
          <p:cNvSpPr/>
          <p:nvPr/>
        </p:nvSpPr>
        <p:spPr>
          <a:xfrm>
            <a:off x="4506840" y="2044800"/>
            <a:ext cx="1778040" cy="344160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50000">
                <a:srgbClr val="ddcbba"/>
              </a:gs>
              <a:gs pos="100000">
                <a:srgbClr val="99663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2754360" y="2050920"/>
            <a:ext cx="1771560" cy="342900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50000">
                <a:srgbClr val="ddcbba"/>
              </a:gs>
              <a:gs pos="100000">
                <a:srgbClr val="99663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AutoShape 6"/>
          <p:cNvSpPr/>
          <p:nvPr/>
        </p:nvSpPr>
        <p:spPr>
          <a:xfrm>
            <a:off x="4495680" y="2050920"/>
            <a:ext cx="1771920" cy="342900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8e9ce"/>
              </a:gs>
              <a:gs pos="100000">
                <a:srgbClr val="ebbf6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Flipp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8" name="Group 7"/>
          <p:cNvGrpSpPr/>
          <p:nvPr/>
        </p:nvGrpSpPr>
        <p:grpSpPr>
          <a:xfrm>
            <a:off x="2725560" y="2055960"/>
            <a:ext cx="3534120" cy="3419280"/>
            <a:chOff x="2725560" y="2055960"/>
            <a:chExt cx="3534120" cy="3419280"/>
          </a:xfrm>
        </p:grpSpPr>
        <p:sp>
          <p:nvSpPr>
            <p:cNvPr id="169" name="AutoShape 8"/>
            <p:cNvSpPr/>
            <p:nvPr/>
          </p:nvSpPr>
          <p:spPr>
            <a:xfrm>
              <a:off x="4492800" y="2055960"/>
              <a:ext cx="1766880" cy="341928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8e9ce"/>
                </a:gs>
                <a:gs pos="100000">
                  <a:srgbClr val="ebbf6f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AutoShape 9"/>
            <p:cNvSpPr/>
            <p:nvPr/>
          </p:nvSpPr>
          <p:spPr>
            <a:xfrm>
              <a:off x="2725560" y="2055960"/>
              <a:ext cx="1767240" cy="3419280"/>
            </a:xfrm>
            <a:prstGeom prst="foldedCorner">
              <a:avLst>
                <a:gd name="adj" fmla="val 1250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1" name="AutoShape 10"/>
          <p:cNvSpPr/>
          <p:nvPr/>
        </p:nvSpPr>
        <p:spPr>
          <a:xfrm>
            <a:off x="4495680" y="2050920"/>
            <a:ext cx="1771920" cy="342900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8e9ce"/>
              </a:gs>
              <a:gs pos="100000">
                <a:srgbClr val="ebbf6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Rectangle 12"/>
          <p:cNvSpPr/>
          <p:nvPr/>
        </p:nvSpPr>
        <p:spPr>
          <a:xfrm>
            <a:off x="2735280" y="2050920"/>
            <a:ext cx="1771560" cy="3429000"/>
          </a:xfrm>
          <a:prstGeom prst="rect">
            <a:avLst/>
          </a:prstGeom>
          <a:gradFill rotWithShape="0">
            <a:gsLst>
              <a:gs pos="0">
                <a:srgbClr val="f8e9ce"/>
              </a:gs>
              <a:gs pos="100000">
                <a:srgbClr val="ebbf6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0">
    <p:cover dir="u"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0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8" dur="1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0" repeatCount="100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5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Oval 11"/>
          <p:cNvSpPr/>
          <p:nvPr/>
        </p:nvSpPr>
        <p:spPr>
          <a:xfrm>
            <a:off x="4267080" y="3352680"/>
            <a:ext cx="228600" cy="217440"/>
          </a:xfrm>
          <a:prstGeom prst="ellipse">
            <a:avLst/>
          </a:prstGeom>
          <a:blipFill rotWithShape="0">
            <a:blip r:embed="rId1"/>
            <a:srcRect/>
            <a:stretch/>
          </a:blipFill>
          <a:ln cap="sq"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WordArt 13"/>
          <p:cNvSpPr txBox="1"/>
          <p:nvPr/>
        </p:nvSpPr>
        <p:spPr>
          <a:xfrm>
            <a:off x="1981080" y="2567160"/>
            <a:ext cx="4810320" cy="1723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255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66cc"/>
                    </a:gs>
                    <a:gs pos="50000">
                      <a:srgbClr val="bacbee"/>
                    </a:gs>
                    <a:gs pos="100000">
                      <a:srgbClr val="3366cc"/>
                    </a:gs>
                  </a:gsLst>
                  <a:lin ang="18900000"/>
                </a:gradFill>
                <a:latin typeface="Arial Black"/>
              </a:rPr>
              <a:t>       </a:t>
            </a:r>
            <a:endParaRPr b="0" lang="en-US" sz="9600" spc="1" strike="noStrike">
              <a:ln w="255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66cc"/>
                  </a:gs>
                  <a:gs pos="50000">
                    <a:srgbClr val="bacbee"/>
                  </a:gs>
                  <a:gs pos="100000">
                    <a:srgbClr val="3366cc"/>
                  </a:gs>
                </a:gsLst>
                <a:lin ang="18900000"/>
              </a:gradFill>
              <a:latin typeface="Arial Black"/>
              <a:ea typeface="Arial Black"/>
            </a:endParaRPr>
          </a:p>
        </p:txBody>
      </p:sp>
      <p:sp>
        <p:nvSpPr>
          <p:cNvPr id="176" name="Oval 14"/>
          <p:cNvSpPr/>
          <p:nvPr/>
        </p:nvSpPr>
        <p:spPr>
          <a:xfrm>
            <a:off x="4724280" y="3352680"/>
            <a:ext cx="228600" cy="217440"/>
          </a:xfrm>
          <a:prstGeom prst="ellipse">
            <a:avLst/>
          </a:prstGeom>
          <a:blipFill rotWithShape="0">
            <a:blip r:embed="rId2"/>
            <a:srcRect/>
            <a:stretch/>
          </a:blipFill>
          <a:ln cap="sq"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Oval 15"/>
          <p:cNvSpPr/>
          <p:nvPr/>
        </p:nvSpPr>
        <p:spPr>
          <a:xfrm>
            <a:off x="4495680" y="3352680"/>
            <a:ext cx="228600" cy="217440"/>
          </a:xfrm>
          <a:prstGeom prst="ellipse">
            <a:avLst/>
          </a:prstGeom>
          <a:blipFill rotWithShape="0">
            <a:blip r:embed="rId3"/>
            <a:srcRect/>
            <a:stretch/>
          </a:blipFill>
          <a:ln cap="sq"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Oval 12"/>
          <p:cNvSpPr/>
          <p:nvPr/>
        </p:nvSpPr>
        <p:spPr>
          <a:xfrm>
            <a:off x="5016600" y="2544840"/>
            <a:ext cx="355680" cy="338040"/>
          </a:xfrm>
          <a:prstGeom prst="ellipse">
            <a:avLst/>
          </a:prstGeom>
          <a:gradFill rotWithShape="0">
            <a:gsLst>
              <a:gs pos="0">
                <a:srgbClr val="bacbee"/>
              </a:gs>
              <a:gs pos="100000">
                <a:srgbClr val="3366cc"/>
              </a:gs>
            </a:gsLst>
            <a:lin ang="18900000"/>
          </a:gradFill>
          <a:ln cap="sq"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Oval 16"/>
          <p:cNvSpPr/>
          <p:nvPr/>
        </p:nvSpPr>
        <p:spPr>
          <a:xfrm>
            <a:off x="4038480" y="3352680"/>
            <a:ext cx="228600" cy="217440"/>
          </a:xfrm>
          <a:prstGeom prst="ellipse">
            <a:avLst/>
          </a:prstGeom>
          <a:blipFill rotWithShape="0">
            <a:blip r:embed="rId4"/>
            <a:srcRect/>
            <a:stretch/>
          </a:blipFill>
          <a:ln cap="sq"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0">
    <p:cover dir="u"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0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autoRev="1" nodeType="afterEffect" fill="hold" presetClass="emph" presetID="7" presetSubtype="6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8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9933"/>
                                      </p:to>
                                    </p:animClr>
                                    <p:set>
                                      <p:cBhvr>
                                        <p:cTn id="339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autoRev="1" nodeType="withEffect" fill="hold" presetClass="emph" presetID="7" presetSubtype="2" repeatCount="indefinite">
                                  <p:stCondLst>
                                    <p:cond delay="200"/>
                                  </p:stCondLst>
                                  <p:childTnLst>
                                    <p:animClr clrSpc="rgb">
                                      <p:cBhvr>
                                        <p:cTn id="341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set>
                                      <p:cBhvr>
                                        <p:cTn id="342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autoRev="1" nodeType="withEffect" fill="hold" presetClass="emph" presetID="7" presetSubtype="2" repeatCount="indefinite">
                                  <p:stCondLst>
                                    <p:cond delay="400"/>
                                  </p:stCondLst>
                                  <p:childTnLst>
                                    <p:animClr clrSpc="rgb">
                                      <p:cBhvr>
                                        <p:cTn id="344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  <p:set>
                                      <p:cBhvr>
                                        <p:cTn id="345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autoRev="1" nodeType="withEffect" fill="hold" presetClass="emph" presetID="7" presetSubtype="2" repeatCount="indefinite">
                                  <p:stCondLst>
                                    <p:cond delay="600"/>
                                  </p:stCondLst>
                                  <p:childTnLst>
                                    <p:animClr clrSpc="rgb">
                                      <p:cBhvr>
                                        <p:cTn id="347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348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4600"/>
                            </p:stCondLst>
                            <p:childTnLst>
                              <p:par>
                                <p:cTn id="350" nodeType="after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xit" presetID="10">
                                  <p:stCondLst>
                                    <p:cond delay="4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4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xit" presetID="10">
                                  <p:stCondLst>
                                    <p:cond delay="4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7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xit" presetID="10">
                                  <p:stCondLst>
                                    <p:cond delay="4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0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xit" presetID="10">
                                  <p:stCondLst>
                                    <p:cond delay="4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3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10600"/>
                            </p:stCondLst>
                            <p:childTnLst>
                              <p:par>
                                <p:cTn id="369" autoRev="1" nodeType="afterEffect" fill="hold" presetClass="emph" presetID="7" presetSubtype="2" repeatCount="indefinite">
                                  <p:stCondLst>
                                    <p:cond delay="2000"/>
                                  </p:stCondLst>
                                  <p:childTnLst>
                                    <p:animClr clrSpc="rgb">
                                      <p:cBhvr>
                                        <p:cTn id="370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71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14600"/>
                            </p:stCondLst>
                            <p:childTnLst>
                              <p:par>
                                <p:cTn id="373" autoRev="1" nodeType="afterEffect" fill="hold" presetClass="emph" presetID="7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4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75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6"/>
          <p:cNvSpPr/>
          <p:nvPr/>
        </p:nvSpPr>
        <p:spPr>
          <a:xfrm>
            <a:off x="1763640" y="3357720"/>
            <a:ext cx="5545080" cy="71280"/>
          </a:xfrm>
          <a:prstGeom prst="rect">
            <a:avLst/>
          </a:prstGeom>
          <a:noFill/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Oval 7"/>
          <p:cNvSpPr/>
          <p:nvPr/>
        </p:nvSpPr>
        <p:spPr>
          <a:xfrm>
            <a:off x="4498920" y="-171360"/>
            <a:ext cx="144360" cy="14436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Rectangle 8"/>
          <p:cNvSpPr/>
          <p:nvPr/>
        </p:nvSpPr>
        <p:spPr>
          <a:xfrm>
            <a:off x="1763640" y="3357720"/>
            <a:ext cx="936720" cy="71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Rectangle 9"/>
          <p:cNvSpPr/>
          <p:nvPr/>
        </p:nvSpPr>
        <p:spPr>
          <a:xfrm>
            <a:off x="2700360" y="3357720"/>
            <a:ext cx="1871640" cy="71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92929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Rectangle 10"/>
          <p:cNvSpPr/>
          <p:nvPr/>
        </p:nvSpPr>
        <p:spPr>
          <a:xfrm>
            <a:off x="4568760" y="3357720"/>
            <a:ext cx="46080" cy="71280"/>
          </a:xfrm>
          <a:prstGeom prst="rect">
            <a:avLst/>
          </a:prstGeom>
          <a:solidFill>
            <a:srgbClr val="8e8e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Rectangle 11"/>
          <p:cNvSpPr/>
          <p:nvPr/>
        </p:nvSpPr>
        <p:spPr>
          <a:xfrm>
            <a:off x="5508720" y="3357720"/>
            <a:ext cx="1800000" cy="71280"/>
          </a:xfrm>
          <a:prstGeom prst="rect">
            <a:avLst/>
          </a:prstGeom>
          <a:gradFill rotWithShape="0">
            <a:gsLst>
              <a:gs pos="0">
                <a:srgbClr val="8e8e8e"/>
              </a:gs>
              <a:gs pos="100000">
                <a:srgbClr val="42424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 Box 12"/>
          <p:cNvSpPr/>
          <p:nvPr/>
        </p:nvSpPr>
        <p:spPr>
          <a:xfrm>
            <a:off x="4161960" y="2917800"/>
            <a:ext cx="77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2b2b2"/>
                </a:solidFill>
                <a:latin typeface="Arial"/>
                <a:ea typeface="宋体"/>
              </a:rPr>
              <a:t>Load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Rectangle 13"/>
          <p:cNvSpPr/>
          <p:nvPr/>
        </p:nvSpPr>
        <p:spPr>
          <a:xfrm>
            <a:off x="4613400" y="3357720"/>
            <a:ext cx="895320" cy="71280"/>
          </a:xfrm>
          <a:prstGeom prst="rect">
            <a:avLst/>
          </a:prstGeom>
          <a:solidFill>
            <a:srgbClr val="8e8e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7000">
    <p:cover dir="u"/>
  </p:transition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nodeType="clickEffect" fill="hold">
                      <p:stCondLst>
                        <p:cond delay="0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1.85185E-006 L 3.61111E-006 0.54213 E">
                                      <p:cBhvr>
                                        <p:cTn id="381" dur="1000" fill="hold"/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3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0.54213 L 3.61111E-006 0.50648 E">
                                      <p:cBhvr>
                                        <p:cTn id="384" dur="100" fill="hold"/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38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87" dur="200" fill="hold"/>
                                        <p:tgtEl>
                                          <p:spTgt spid="181"/>
                                        </p:tgtEl>
                                      </p:cBhvr>
                                      <p:to x="4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8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89" dur="500" fill="hold"/>
                                        <p:tgtEl>
                                          <p:spTgt spid="181"/>
                                        </p:tgtEl>
                                      </p:cBhvr>
                                      <p:to x="100000" y="-0"/>
                                    </p:animScale>
                                  </p:childTnLst>
                                </p:cTn>
                              </p:par>
                              <p:par>
                                <p:cTn id="39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39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39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400" nodeType="afterEffect" fill="hold" presetClass="entr" presetID="11">
                                  <p:stCondLst>
                                    <p:cond delay="0"/>
                                  </p:stCondLst>
                                  <p:iterate type="lt">
                                    <p:tmAbs val="42.5"/>
                                  </p:iterate>
                                  <p:childTnLst>
                                    <p:set>
                                      <p:cBhvr>
                                        <p:cTn id="401" dur="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2405"/>
                            </p:stCondLst>
                            <p:childTnLst>
                              <p:par>
                                <p:cTn id="403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discrete" valueType="num">
                                      <p:cBhvr additive="repl">
                                        <p:cTn id="404" dur="8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2645"/>
                            </p:stCondLst>
                            <p:childTnLst>
                              <p:par>
                                <p:cTn id="4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2695"/>
                            </p:stCondLst>
                            <p:childTnLst>
                              <p:par>
                                <p:cTn id="4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3695"/>
                            </p:stCondLst>
                            <p:childTnLst>
                              <p:par>
                                <p:cTn id="4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4195"/>
                            </p:stCondLst>
                            <p:childTnLst>
                              <p:par>
                                <p:cTn id="4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0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nodeType="afterEffect" fill="hold">
                            <p:stCondLst>
                              <p:cond delay="5195"/>
                            </p:stCondLst>
                            <p:childTnLst>
                              <p:par>
                                <p:cTn id="422" nodeType="afterEffect" fill="hold" presetClass="entr" presetID="2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3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Group 4"/>
          <p:cNvGrpSpPr/>
          <p:nvPr/>
        </p:nvGrpSpPr>
        <p:grpSpPr>
          <a:xfrm>
            <a:off x="-36360" y="-71280"/>
            <a:ext cx="9180360" cy="71280"/>
            <a:chOff x="-36360" y="-71280"/>
            <a:chExt cx="9180360" cy="71280"/>
          </a:xfrm>
        </p:grpSpPr>
        <p:sp>
          <p:nvSpPr>
            <p:cNvPr id="189" name="Line 5"/>
            <p:cNvSpPr/>
            <p:nvPr/>
          </p:nvSpPr>
          <p:spPr>
            <a:xfrm>
              <a:off x="0" y="-71280"/>
              <a:ext cx="9144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Line 6"/>
            <p:cNvSpPr/>
            <p:nvPr/>
          </p:nvSpPr>
          <p:spPr>
            <a:xfrm>
              <a:off x="-36360" y="0"/>
              <a:ext cx="9180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1" name="Group 7"/>
          <p:cNvGrpSpPr/>
          <p:nvPr/>
        </p:nvGrpSpPr>
        <p:grpSpPr>
          <a:xfrm>
            <a:off x="0" y="6958080"/>
            <a:ext cx="9180360" cy="71280"/>
            <a:chOff x="0" y="6958080"/>
            <a:chExt cx="9180360" cy="71280"/>
          </a:xfrm>
        </p:grpSpPr>
        <p:sp>
          <p:nvSpPr>
            <p:cNvPr id="192" name="Line 8"/>
            <p:cNvSpPr/>
            <p:nvPr/>
          </p:nvSpPr>
          <p:spPr>
            <a:xfrm>
              <a:off x="36360" y="6958080"/>
              <a:ext cx="9144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Line 9"/>
            <p:cNvSpPr/>
            <p:nvPr/>
          </p:nvSpPr>
          <p:spPr>
            <a:xfrm>
              <a:off x="0" y="7029360"/>
              <a:ext cx="9180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4" name="Group 10"/>
          <p:cNvGrpSpPr/>
          <p:nvPr/>
        </p:nvGrpSpPr>
        <p:grpSpPr>
          <a:xfrm>
            <a:off x="-107640" y="-819360"/>
            <a:ext cx="71280" cy="9180360"/>
            <a:chOff x="-107640" y="-819360"/>
            <a:chExt cx="71280" cy="9180360"/>
          </a:xfrm>
        </p:grpSpPr>
        <p:sp>
          <p:nvSpPr>
            <p:cNvPr id="195" name="Line 11"/>
            <p:cNvSpPr/>
            <p:nvPr/>
          </p:nvSpPr>
          <p:spPr>
            <a:xfrm>
              <a:off x="-36360" y="-783000"/>
              <a:ext cx="0" cy="9144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Line 12"/>
            <p:cNvSpPr/>
            <p:nvPr/>
          </p:nvSpPr>
          <p:spPr>
            <a:xfrm>
              <a:off x="-107640" y="-819360"/>
              <a:ext cx="0" cy="918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7" name="Group 13"/>
          <p:cNvGrpSpPr/>
          <p:nvPr/>
        </p:nvGrpSpPr>
        <p:grpSpPr>
          <a:xfrm>
            <a:off x="9144000" y="-855720"/>
            <a:ext cx="71280" cy="9180360"/>
            <a:chOff x="9144000" y="-855720"/>
            <a:chExt cx="71280" cy="9180360"/>
          </a:xfrm>
        </p:grpSpPr>
        <p:sp>
          <p:nvSpPr>
            <p:cNvPr id="198" name="Line 14"/>
            <p:cNvSpPr/>
            <p:nvPr/>
          </p:nvSpPr>
          <p:spPr>
            <a:xfrm>
              <a:off x="9215280" y="-819360"/>
              <a:ext cx="0" cy="9144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Line 15"/>
            <p:cNvSpPr/>
            <p:nvPr/>
          </p:nvSpPr>
          <p:spPr>
            <a:xfrm>
              <a:off x="9144000" y="-855720"/>
              <a:ext cx="0" cy="918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0" name="WordArt 16"/>
          <p:cNvSpPr txBox="1"/>
          <p:nvPr/>
        </p:nvSpPr>
        <p:spPr>
          <a:xfrm>
            <a:off x="2305080" y="2567160"/>
            <a:ext cx="4533840" cy="1723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Motion</a:t>
            </a:r>
            <a:endParaRPr b="0" lang="en-US" sz="96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advTm="7000">
    <p:cover dir="u"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0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1.48148E-006 L 0.49201 1.48148E-006 E">
                                      <p:cBhvr>
                                        <p:cTn id="430" dur="2000" fill="hold"/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4.44444E-006 L -0.48021 -4.44444E-006 E">
                                      <p:cBhvr>
                                        <p:cTn id="432" dur="2000" fill="hold"/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3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4.07407E-006 L 2.77778E-007 -0.41459 E">
                                      <p:cBhvr>
                                        <p:cTn id="434" dur="200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2.59259E-006 L 3.33333E-006 0.51551 E">
                                      <p:cBhvr>
                                        <p:cTn id="436" dur="2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8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9201 1.48148E-006 L 0.25243 1.48148E-006 E">
                                      <p:cBhvr>
                                        <p:cTn id="439" dur="500" fill="hold"/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0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8021 -4.44444E-006 L -0.24983 -4.44444E-006 E">
                                      <p:cBhvr>
                                        <p:cTn id="441" dur="500" fill="hold"/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3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7 0.51551 L -0.0007 0.55764 E">
                                      <p:cBhvr>
                                        <p:cTn id="444" dur="5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0.41459 L 0 -0.45394 E">
                                      <p:cBhvr>
                                        <p:cTn id="446" dur="50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8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0.55486 L 0.00017 0.36736 E">
                                      <p:cBhvr>
                                        <p:cTn id="449" dur="5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0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35 -0.46991 L 0.00035 -0.38936 E">
                                      <p:cBhvr>
                                        <p:cTn id="451" dur="50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WordArt 4"/>
          <p:cNvSpPr txBox="1"/>
          <p:nvPr/>
        </p:nvSpPr>
        <p:spPr>
          <a:xfrm>
            <a:off x="2166840" y="2567160"/>
            <a:ext cx="4810320" cy="1723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Outline</a:t>
            </a:r>
            <a:endParaRPr b="0" lang="en-US" sz="96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02" name="Oval 5"/>
          <p:cNvSpPr/>
          <p:nvPr/>
        </p:nvSpPr>
        <p:spPr>
          <a:xfrm>
            <a:off x="2139840" y="2558880"/>
            <a:ext cx="971640" cy="17402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Oval 6"/>
          <p:cNvSpPr/>
          <p:nvPr/>
        </p:nvSpPr>
        <p:spPr>
          <a:xfrm>
            <a:off x="2435400" y="2949480"/>
            <a:ext cx="390240" cy="9651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Line 7"/>
          <p:cNvSpPr/>
          <p:nvPr/>
        </p:nvSpPr>
        <p:spPr>
          <a:xfrm flipH="1">
            <a:off x="3654360" y="3051000"/>
            <a:ext cx="2476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Line 8"/>
          <p:cNvSpPr/>
          <p:nvPr/>
        </p:nvSpPr>
        <p:spPr>
          <a:xfrm>
            <a:off x="3651120" y="3051000"/>
            <a:ext cx="0" cy="682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Freeform 12"/>
          <p:cNvSpPr/>
          <p:nvPr/>
        </p:nvSpPr>
        <p:spPr>
          <a:xfrm>
            <a:off x="3556080" y="3736800"/>
            <a:ext cx="95040" cy="193680"/>
          </a:xfrm>
          <a:custGeom>
            <a:avLst/>
            <a:gdLst>
              <a:gd name="textAreaLeft" fmla="*/ 0 w 95040"/>
              <a:gd name="textAreaRight" fmla="*/ 95400 w 95040"/>
              <a:gd name="textAreaTop" fmla="*/ 0 h 193680"/>
              <a:gd name="textAreaBottom" fmla="*/ 194040 h 193680"/>
            </a:gdLst>
            <a:ahLst/>
            <a:rect l="textAreaLeft" t="textAreaTop" r="textAreaRight" b="textAreaBottom"/>
            <a:pathLst>
              <a:path w="60" h="122">
                <a:moveTo>
                  <a:pt x="60" y="0"/>
                </a:moveTo>
                <a:cubicBezTo>
                  <a:pt x="59" y="11"/>
                  <a:pt x="59" y="23"/>
                  <a:pt x="58" y="34"/>
                </a:cubicBezTo>
                <a:cubicBezTo>
                  <a:pt x="54" y="63"/>
                  <a:pt x="34" y="122"/>
                  <a:pt x="0" y="122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Freeform 13"/>
          <p:cNvSpPr/>
          <p:nvPr/>
        </p:nvSpPr>
        <p:spPr>
          <a:xfrm flipH="1">
            <a:off x="3466440" y="3736800"/>
            <a:ext cx="88920" cy="193680"/>
          </a:xfrm>
          <a:custGeom>
            <a:avLst/>
            <a:gdLst>
              <a:gd name="textAreaLeft" fmla="*/ -360 w 88920"/>
              <a:gd name="textAreaRight" fmla="*/ 88920 w 88920"/>
              <a:gd name="textAreaTop" fmla="*/ 0 h 193680"/>
              <a:gd name="textAreaBottom" fmla="*/ 194040 h 193680"/>
            </a:gdLst>
            <a:ahLst/>
            <a:rect l="textAreaLeft" t="textAreaTop" r="textAreaRight" b="textAreaBottom"/>
            <a:pathLst>
              <a:path w="60" h="122">
                <a:moveTo>
                  <a:pt x="60" y="0"/>
                </a:moveTo>
                <a:cubicBezTo>
                  <a:pt x="59" y="11"/>
                  <a:pt x="59" y="23"/>
                  <a:pt x="58" y="34"/>
                </a:cubicBezTo>
                <a:cubicBezTo>
                  <a:pt x="54" y="63"/>
                  <a:pt x="34" y="122"/>
                  <a:pt x="0" y="122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Line 14"/>
          <p:cNvSpPr/>
          <p:nvPr/>
        </p:nvSpPr>
        <p:spPr>
          <a:xfrm>
            <a:off x="3467160" y="3057480"/>
            <a:ext cx="0" cy="682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Line 15"/>
          <p:cNvSpPr/>
          <p:nvPr/>
        </p:nvSpPr>
        <p:spPr>
          <a:xfrm flipH="1">
            <a:off x="3219480" y="3054240"/>
            <a:ext cx="2476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Line 16"/>
          <p:cNvSpPr/>
          <p:nvPr/>
        </p:nvSpPr>
        <p:spPr>
          <a:xfrm>
            <a:off x="3216240" y="3054240"/>
            <a:ext cx="0" cy="84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Freeform 17"/>
          <p:cNvSpPr/>
          <p:nvPr/>
        </p:nvSpPr>
        <p:spPr>
          <a:xfrm flipH="1">
            <a:off x="3215520" y="3902040"/>
            <a:ext cx="206280" cy="384120"/>
          </a:xfrm>
          <a:custGeom>
            <a:avLst/>
            <a:gdLst>
              <a:gd name="textAreaLeft" fmla="*/ -360 w 206280"/>
              <a:gd name="textAreaRight" fmla="*/ 206280 w 206280"/>
              <a:gd name="textAreaTop" fmla="*/ 0 h 384120"/>
              <a:gd name="textAreaBottom" fmla="*/ 384480 h 384120"/>
            </a:gdLst>
            <a:ahLst/>
            <a:rect l="textAreaLeft" t="textAreaTop" r="textAreaRight" b="textAreaBottom"/>
            <a:pathLst>
              <a:path w="60" h="122">
                <a:moveTo>
                  <a:pt x="60" y="0"/>
                </a:moveTo>
                <a:cubicBezTo>
                  <a:pt x="59" y="11"/>
                  <a:pt x="59" y="23"/>
                  <a:pt x="58" y="34"/>
                </a:cubicBezTo>
                <a:cubicBezTo>
                  <a:pt x="54" y="63"/>
                  <a:pt x="34" y="122"/>
                  <a:pt x="0" y="122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Freeform 20"/>
          <p:cNvSpPr/>
          <p:nvPr/>
        </p:nvSpPr>
        <p:spPr>
          <a:xfrm>
            <a:off x="3429000" y="4067280"/>
            <a:ext cx="237960" cy="218880"/>
          </a:xfrm>
          <a:custGeom>
            <a:avLst/>
            <a:gdLst>
              <a:gd name="textAreaLeft" fmla="*/ 0 w 237960"/>
              <a:gd name="textAreaRight" fmla="*/ 238320 w 237960"/>
              <a:gd name="textAreaTop" fmla="*/ 0 h 218880"/>
              <a:gd name="textAreaBottom" fmla="*/ 219240 h 218880"/>
            </a:gdLst>
            <a:ahLst/>
            <a:rect l="textAreaLeft" t="textAreaTop" r="textAreaRight" b="textAreaBottom"/>
            <a:pathLst>
              <a:path w="150" h="138">
                <a:moveTo>
                  <a:pt x="0" y="138"/>
                </a:moveTo>
                <a:lnTo>
                  <a:pt x="18" y="138"/>
                </a:lnTo>
                <a:lnTo>
                  <a:pt x="30" y="136"/>
                </a:lnTo>
                <a:lnTo>
                  <a:pt x="44" y="132"/>
                </a:lnTo>
                <a:lnTo>
                  <a:pt x="58" y="126"/>
                </a:lnTo>
                <a:lnTo>
                  <a:pt x="74" y="116"/>
                </a:lnTo>
                <a:lnTo>
                  <a:pt x="84" y="106"/>
                </a:lnTo>
                <a:lnTo>
                  <a:pt x="96" y="96"/>
                </a:lnTo>
                <a:lnTo>
                  <a:pt x="104" y="86"/>
                </a:lnTo>
                <a:lnTo>
                  <a:pt x="110" y="76"/>
                </a:lnTo>
                <a:lnTo>
                  <a:pt x="118" y="66"/>
                </a:lnTo>
                <a:lnTo>
                  <a:pt x="124" y="54"/>
                </a:lnTo>
                <a:lnTo>
                  <a:pt x="132" y="40"/>
                </a:lnTo>
                <a:lnTo>
                  <a:pt x="142" y="20"/>
                </a:lnTo>
                <a:lnTo>
                  <a:pt x="150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Line 21"/>
          <p:cNvSpPr/>
          <p:nvPr/>
        </p:nvSpPr>
        <p:spPr>
          <a:xfrm>
            <a:off x="3670200" y="4057560"/>
            <a:ext cx="0" cy="203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Line 22"/>
          <p:cNvSpPr/>
          <p:nvPr/>
        </p:nvSpPr>
        <p:spPr>
          <a:xfrm flipH="1">
            <a:off x="3670200" y="4264200"/>
            <a:ext cx="231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Line 23"/>
          <p:cNvSpPr/>
          <p:nvPr/>
        </p:nvSpPr>
        <p:spPr>
          <a:xfrm>
            <a:off x="3902040" y="3051000"/>
            <a:ext cx="0" cy="1206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Line 24"/>
          <p:cNvSpPr/>
          <p:nvPr/>
        </p:nvSpPr>
        <p:spPr>
          <a:xfrm flipH="1">
            <a:off x="4100040" y="2597040"/>
            <a:ext cx="249480" cy="23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Line 26"/>
          <p:cNvSpPr/>
          <p:nvPr/>
        </p:nvSpPr>
        <p:spPr>
          <a:xfrm>
            <a:off x="4098960" y="2836800"/>
            <a:ext cx="0" cy="211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Line 27"/>
          <p:cNvSpPr/>
          <p:nvPr/>
        </p:nvSpPr>
        <p:spPr>
          <a:xfrm flipH="1">
            <a:off x="4011120" y="3052800"/>
            <a:ext cx="87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Line 28"/>
          <p:cNvSpPr/>
          <p:nvPr/>
        </p:nvSpPr>
        <p:spPr>
          <a:xfrm>
            <a:off x="4006800" y="3054240"/>
            <a:ext cx="0" cy="338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Line 29"/>
          <p:cNvSpPr/>
          <p:nvPr/>
        </p:nvSpPr>
        <p:spPr>
          <a:xfrm flipH="1">
            <a:off x="4008600" y="3395520"/>
            <a:ext cx="88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Line 30"/>
          <p:cNvSpPr/>
          <p:nvPr/>
        </p:nvSpPr>
        <p:spPr>
          <a:xfrm>
            <a:off x="4097160" y="3397320"/>
            <a:ext cx="0" cy="525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Freeform 34"/>
          <p:cNvSpPr/>
          <p:nvPr/>
        </p:nvSpPr>
        <p:spPr>
          <a:xfrm>
            <a:off x="4097160" y="3922560"/>
            <a:ext cx="142920" cy="352440"/>
          </a:xfrm>
          <a:custGeom>
            <a:avLst/>
            <a:gdLst>
              <a:gd name="textAreaLeft" fmla="*/ 0 w 142920"/>
              <a:gd name="textAreaRight" fmla="*/ 143280 w 142920"/>
              <a:gd name="textAreaTop" fmla="*/ 0 h 352440"/>
              <a:gd name="textAreaBottom" fmla="*/ 352440 h 352440"/>
            </a:gdLst>
            <a:ahLst/>
            <a:rect l="textAreaLeft" t="textAreaTop" r="textAreaRight" b="textAreaBottom"/>
            <a:pathLst>
              <a:path w="93" h="220">
                <a:moveTo>
                  <a:pt x="0" y="0"/>
                </a:moveTo>
                <a:cubicBezTo>
                  <a:pt x="5" y="60"/>
                  <a:pt x="11" y="120"/>
                  <a:pt x="26" y="157"/>
                </a:cubicBezTo>
                <a:cubicBezTo>
                  <a:pt x="41" y="194"/>
                  <a:pt x="67" y="207"/>
                  <a:pt x="93" y="22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Freeform 35"/>
          <p:cNvSpPr/>
          <p:nvPr/>
        </p:nvSpPr>
        <p:spPr>
          <a:xfrm>
            <a:off x="4238640" y="4255920"/>
            <a:ext cx="257040" cy="38160"/>
          </a:xfrm>
          <a:custGeom>
            <a:avLst/>
            <a:gdLst>
              <a:gd name="textAreaLeft" fmla="*/ 0 w 257040"/>
              <a:gd name="textAreaRight" fmla="*/ 257040 w 25704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162" h="24">
                <a:moveTo>
                  <a:pt x="0" y="12"/>
                </a:moveTo>
                <a:cubicBezTo>
                  <a:pt x="13" y="18"/>
                  <a:pt x="27" y="24"/>
                  <a:pt x="54" y="22"/>
                </a:cubicBezTo>
                <a:cubicBezTo>
                  <a:pt x="81" y="20"/>
                  <a:pt x="121" y="10"/>
                  <a:pt x="162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Line 36"/>
          <p:cNvSpPr/>
          <p:nvPr/>
        </p:nvSpPr>
        <p:spPr>
          <a:xfrm flipH="1" flipV="1">
            <a:off x="4475160" y="3931920"/>
            <a:ext cx="23760" cy="323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Freeform 39"/>
          <p:cNvSpPr/>
          <p:nvPr/>
        </p:nvSpPr>
        <p:spPr>
          <a:xfrm>
            <a:off x="4352760" y="3924360"/>
            <a:ext cx="119160" cy="42840"/>
          </a:xfrm>
          <a:custGeom>
            <a:avLst/>
            <a:gdLst>
              <a:gd name="textAreaLeft" fmla="*/ 0 w 119160"/>
              <a:gd name="textAreaRight" fmla="*/ 119520 w 11916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72" h="20">
                <a:moveTo>
                  <a:pt x="72" y="2"/>
                </a:moveTo>
                <a:cubicBezTo>
                  <a:pt x="53" y="11"/>
                  <a:pt x="35" y="20"/>
                  <a:pt x="23" y="20"/>
                </a:cubicBezTo>
                <a:cubicBezTo>
                  <a:pt x="11" y="20"/>
                  <a:pt x="5" y="10"/>
                  <a:pt x="0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Line 40"/>
          <p:cNvSpPr/>
          <p:nvPr/>
        </p:nvSpPr>
        <p:spPr>
          <a:xfrm>
            <a:off x="4352760" y="3395520"/>
            <a:ext cx="0" cy="525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Line 41"/>
          <p:cNvSpPr/>
          <p:nvPr/>
        </p:nvSpPr>
        <p:spPr>
          <a:xfrm flipH="1">
            <a:off x="4352760" y="3390840"/>
            <a:ext cx="128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Line 42"/>
          <p:cNvSpPr/>
          <p:nvPr/>
        </p:nvSpPr>
        <p:spPr>
          <a:xfrm>
            <a:off x="4484520" y="3051000"/>
            <a:ext cx="0" cy="336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Line 43"/>
          <p:cNvSpPr/>
          <p:nvPr/>
        </p:nvSpPr>
        <p:spPr>
          <a:xfrm flipH="1">
            <a:off x="4354560" y="3051000"/>
            <a:ext cx="125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Line 44"/>
          <p:cNvSpPr/>
          <p:nvPr/>
        </p:nvSpPr>
        <p:spPr>
          <a:xfrm>
            <a:off x="4351320" y="2602080"/>
            <a:ext cx="0" cy="448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Line 46"/>
          <p:cNvSpPr/>
          <p:nvPr/>
        </p:nvSpPr>
        <p:spPr>
          <a:xfrm flipH="1">
            <a:off x="4614840" y="2595600"/>
            <a:ext cx="241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Line 47"/>
          <p:cNvSpPr/>
          <p:nvPr/>
        </p:nvSpPr>
        <p:spPr>
          <a:xfrm>
            <a:off x="4613400" y="2597040"/>
            <a:ext cx="0" cy="1665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Line 48"/>
          <p:cNvSpPr/>
          <p:nvPr/>
        </p:nvSpPr>
        <p:spPr>
          <a:xfrm flipH="1">
            <a:off x="4614480" y="4264200"/>
            <a:ext cx="243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Line 49"/>
          <p:cNvSpPr/>
          <p:nvPr/>
        </p:nvSpPr>
        <p:spPr>
          <a:xfrm>
            <a:off x="4857840" y="2595600"/>
            <a:ext cx="0" cy="1665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Line 50"/>
          <p:cNvSpPr/>
          <p:nvPr/>
        </p:nvSpPr>
        <p:spPr>
          <a:xfrm flipH="1">
            <a:off x="5029200" y="2597040"/>
            <a:ext cx="241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Line 51"/>
          <p:cNvSpPr/>
          <p:nvPr/>
        </p:nvSpPr>
        <p:spPr>
          <a:xfrm>
            <a:off x="5022720" y="2598840"/>
            <a:ext cx="0" cy="307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Line 52"/>
          <p:cNvSpPr/>
          <p:nvPr/>
        </p:nvSpPr>
        <p:spPr>
          <a:xfrm>
            <a:off x="5022720" y="3060720"/>
            <a:ext cx="0" cy="1197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Line 53"/>
          <p:cNvSpPr/>
          <p:nvPr/>
        </p:nvSpPr>
        <p:spPr>
          <a:xfrm flipH="1">
            <a:off x="5024520" y="4259160"/>
            <a:ext cx="24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Line 54"/>
          <p:cNvSpPr/>
          <p:nvPr/>
        </p:nvSpPr>
        <p:spPr>
          <a:xfrm>
            <a:off x="5267160" y="3057480"/>
            <a:ext cx="0" cy="1200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Line 55"/>
          <p:cNvSpPr/>
          <p:nvPr/>
        </p:nvSpPr>
        <p:spPr>
          <a:xfrm flipH="1">
            <a:off x="5024520" y="3057480"/>
            <a:ext cx="241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Line 56"/>
          <p:cNvSpPr/>
          <p:nvPr/>
        </p:nvSpPr>
        <p:spPr>
          <a:xfrm flipH="1">
            <a:off x="5025960" y="2909880"/>
            <a:ext cx="241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Line 57"/>
          <p:cNvSpPr/>
          <p:nvPr/>
        </p:nvSpPr>
        <p:spPr>
          <a:xfrm>
            <a:off x="5270400" y="2602080"/>
            <a:ext cx="0" cy="307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Line 58"/>
          <p:cNvSpPr/>
          <p:nvPr/>
        </p:nvSpPr>
        <p:spPr>
          <a:xfrm>
            <a:off x="6114960" y="3443400"/>
            <a:ext cx="0" cy="814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Freeform 59"/>
          <p:cNvSpPr/>
          <p:nvPr/>
        </p:nvSpPr>
        <p:spPr>
          <a:xfrm>
            <a:off x="6080040" y="3206880"/>
            <a:ext cx="34920" cy="231480"/>
          </a:xfrm>
          <a:custGeom>
            <a:avLst/>
            <a:gdLst>
              <a:gd name="textAreaLeft" fmla="*/ 0 w 34920"/>
              <a:gd name="textAreaRight" fmla="*/ 34920 w 34920"/>
              <a:gd name="textAreaTop" fmla="*/ 0 h 231480"/>
              <a:gd name="textAreaBottom" fmla="*/ 231840 h 231480"/>
            </a:gdLst>
            <a:ahLst/>
            <a:rect l="textAreaLeft" t="textAreaTop" r="textAreaRight" b="textAreaBottom"/>
            <a:pathLst>
              <a:path w="22" h="146">
                <a:moveTo>
                  <a:pt x="22" y="146"/>
                </a:moveTo>
                <a:cubicBezTo>
                  <a:pt x="21" y="123"/>
                  <a:pt x="20" y="101"/>
                  <a:pt x="16" y="77"/>
                </a:cubicBezTo>
                <a:cubicBezTo>
                  <a:pt x="12" y="53"/>
                  <a:pt x="6" y="26"/>
                  <a:pt x="0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Freeform 61"/>
          <p:cNvSpPr/>
          <p:nvPr/>
        </p:nvSpPr>
        <p:spPr>
          <a:xfrm>
            <a:off x="5989680" y="3052800"/>
            <a:ext cx="90360" cy="150840"/>
          </a:xfrm>
          <a:custGeom>
            <a:avLst/>
            <a:gdLst>
              <a:gd name="textAreaLeft" fmla="*/ 0 w 90360"/>
              <a:gd name="textAreaRight" fmla="*/ 90720 w 90360"/>
              <a:gd name="textAreaTop" fmla="*/ 0 h 150840"/>
              <a:gd name="textAreaBottom" fmla="*/ 151200 h 150840"/>
            </a:gdLst>
            <a:ahLst/>
            <a:rect l="textAreaLeft" t="textAreaTop" r="textAreaRight" b="textAreaBottom"/>
            <a:pathLst>
              <a:path w="57" h="95">
                <a:moveTo>
                  <a:pt x="57" y="95"/>
                </a:moveTo>
                <a:cubicBezTo>
                  <a:pt x="53" y="81"/>
                  <a:pt x="49" y="67"/>
                  <a:pt x="40" y="51"/>
                </a:cubicBezTo>
                <a:cubicBezTo>
                  <a:pt x="31" y="35"/>
                  <a:pt x="15" y="17"/>
                  <a:pt x="0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Freeform 62"/>
          <p:cNvSpPr/>
          <p:nvPr/>
        </p:nvSpPr>
        <p:spPr>
          <a:xfrm>
            <a:off x="5794200" y="3022560"/>
            <a:ext cx="190800" cy="33480"/>
          </a:xfrm>
          <a:custGeom>
            <a:avLst/>
            <a:gdLst>
              <a:gd name="textAreaLeft" fmla="*/ 0 w 190800"/>
              <a:gd name="textAreaRight" fmla="*/ 191160 w 190800"/>
              <a:gd name="textAreaTop" fmla="*/ 0 h 33480"/>
              <a:gd name="textAreaBottom" fmla="*/ 33840 h 33480"/>
            </a:gdLst>
            <a:ahLst/>
            <a:rect l="textAreaLeft" t="textAreaTop" r="textAreaRight" b="textAreaBottom"/>
            <a:pathLst>
              <a:path w="120" h="21">
                <a:moveTo>
                  <a:pt x="120" y="18"/>
                </a:moveTo>
                <a:cubicBezTo>
                  <a:pt x="100" y="9"/>
                  <a:pt x="81" y="0"/>
                  <a:pt x="61" y="1"/>
                </a:cubicBezTo>
                <a:cubicBezTo>
                  <a:pt x="41" y="2"/>
                  <a:pt x="20" y="11"/>
                  <a:pt x="0" y="21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Freeform 63"/>
          <p:cNvSpPr/>
          <p:nvPr/>
        </p:nvSpPr>
        <p:spPr>
          <a:xfrm>
            <a:off x="5662440" y="3059280"/>
            <a:ext cx="127080" cy="190440"/>
          </a:xfrm>
          <a:custGeom>
            <a:avLst/>
            <a:gdLst>
              <a:gd name="textAreaLeft" fmla="*/ 0 w 127080"/>
              <a:gd name="textAreaRight" fmla="*/ 127440 w 12708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80" h="120">
                <a:moveTo>
                  <a:pt x="80" y="0"/>
                </a:moveTo>
                <a:cubicBezTo>
                  <a:pt x="65" y="12"/>
                  <a:pt x="51" y="25"/>
                  <a:pt x="38" y="45"/>
                </a:cubicBezTo>
                <a:cubicBezTo>
                  <a:pt x="25" y="65"/>
                  <a:pt x="12" y="92"/>
                  <a:pt x="0" y="12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Line 64"/>
          <p:cNvSpPr/>
          <p:nvPr/>
        </p:nvSpPr>
        <p:spPr>
          <a:xfrm>
            <a:off x="5661000" y="3051000"/>
            <a:ext cx="0" cy="200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Line 65"/>
          <p:cNvSpPr/>
          <p:nvPr/>
        </p:nvSpPr>
        <p:spPr>
          <a:xfrm flipH="1">
            <a:off x="5435640" y="3049560"/>
            <a:ext cx="225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Line 66"/>
          <p:cNvSpPr/>
          <p:nvPr/>
        </p:nvSpPr>
        <p:spPr>
          <a:xfrm>
            <a:off x="5429160" y="3052800"/>
            <a:ext cx="0" cy="1211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Line 67"/>
          <p:cNvSpPr/>
          <p:nvPr/>
        </p:nvSpPr>
        <p:spPr>
          <a:xfrm flipH="1">
            <a:off x="5429160" y="4264200"/>
            <a:ext cx="2462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Line 68"/>
          <p:cNvSpPr/>
          <p:nvPr/>
        </p:nvSpPr>
        <p:spPr>
          <a:xfrm>
            <a:off x="5678640" y="3587760"/>
            <a:ext cx="0" cy="674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Freeform 69"/>
          <p:cNvSpPr/>
          <p:nvPr/>
        </p:nvSpPr>
        <p:spPr>
          <a:xfrm>
            <a:off x="5676840" y="3424320"/>
            <a:ext cx="42840" cy="162000"/>
          </a:xfrm>
          <a:custGeom>
            <a:avLst/>
            <a:gdLst>
              <a:gd name="textAreaLeft" fmla="*/ 0 w 42840"/>
              <a:gd name="textAreaRight" fmla="*/ 43200 w 42840"/>
              <a:gd name="textAreaTop" fmla="*/ 0 h 162000"/>
              <a:gd name="textAreaBottom" fmla="*/ 162360 h 162000"/>
            </a:gdLst>
            <a:ahLst/>
            <a:rect l="textAreaLeft" t="textAreaTop" r="textAreaRight" b="textAreaBottom"/>
            <a:pathLst>
              <a:path w="27" h="102">
                <a:moveTo>
                  <a:pt x="0" y="102"/>
                </a:moveTo>
                <a:cubicBezTo>
                  <a:pt x="2" y="80"/>
                  <a:pt x="4" y="58"/>
                  <a:pt x="8" y="41"/>
                </a:cubicBezTo>
                <a:cubicBezTo>
                  <a:pt x="12" y="24"/>
                  <a:pt x="19" y="12"/>
                  <a:pt x="27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Freeform 70"/>
          <p:cNvSpPr/>
          <p:nvPr/>
        </p:nvSpPr>
        <p:spPr>
          <a:xfrm>
            <a:off x="5718240" y="3386160"/>
            <a:ext cx="100080" cy="38160"/>
          </a:xfrm>
          <a:custGeom>
            <a:avLst/>
            <a:gdLst>
              <a:gd name="textAreaLeft" fmla="*/ 0 w 100080"/>
              <a:gd name="textAreaRight" fmla="*/ 100440 w 10008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63" h="24">
                <a:moveTo>
                  <a:pt x="0" y="24"/>
                </a:moveTo>
                <a:cubicBezTo>
                  <a:pt x="11" y="14"/>
                  <a:pt x="23" y="4"/>
                  <a:pt x="33" y="2"/>
                </a:cubicBezTo>
                <a:cubicBezTo>
                  <a:pt x="43" y="0"/>
                  <a:pt x="53" y="4"/>
                  <a:pt x="63" y="9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Freeform 71"/>
          <p:cNvSpPr/>
          <p:nvPr/>
        </p:nvSpPr>
        <p:spPr>
          <a:xfrm flipH="1">
            <a:off x="5819040" y="3400560"/>
            <a:ext cx="42840" cy="161640"/>
          </a:xfrm>
          <a:custGeom>
            <a:avLst/>
            <a:gdLst>
              <a:gd name="textAreaLeft" fmla="*/ -360 w 42840"/>
              <a:gd name="textAreaRight" fmla="*/ 42840 w 42840"/>
              <a:gd name="textAreaTop" fmla="*/ 0 h 161640"/>
              <a:gd name="textAreaBottom" fmla="*/ 162000 h 161640"/>
            </a:gdLst>
            <a:ahLst/>
            <a:rect l="textAreaLeft" t="textAreaTop" r="textAreaRight" b="textAreaBottom"/>
            <a:pathLst>
              <a:path w="27" h="102">
                <a:moveTo>
                  <a:pt x="0" y="102"/>
                </a:moveTo>
                <a:cubicBezTo>
                  <a:pt x="2" y="80"/>
                  <a:pt x="4" y="58"/>
                  <a:pt x="8" y="41"/>
                </a:cubicBezTo>
                <a:cubicBezTo>
                  <a:pt x="12" y="24"/>
                  <a:pt x="19" y="12"/>
                  <a:pt x="27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Line 72"/>
          <p:cNvSpPr/>
          <p:nvPr/>
        </p:nvSpPr>
        <p:spPr>
          <a:xfrm>
            <a:off x="5862600" y="3564000"/>
            <a:ext cx="0" cy="693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Line 73"/>
          <p:cNvSpPr/>
          <p:nvPr/>
        </p:nvSpPr>
        <p:spPr>
          <a:xfrm flipH="1">
            <a:off x="5869080" y="4255920"/>
            <a:ext cx="24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Line 74"/>
          <p:cNvSpPr/>
          <p:nvPr/>
        </p:nvSpPr>
        <p:spPr>
          <a:xfrm flipH="1">
            <a:off x="6485040" y="3773520"/>
            <a:ext cx="487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Freeform 75"/>
          <p:cNvSpPr/>
          <p:nvPr/>
        </p:nvSpPr>
        <p:spPr>
          <a:xfrm>
            <a:off x="6948360" y="3386160"/>
            <a:ext cx="33480" cy="385920"/>
          </a:xfrm>
          <a:custGeom>
            <a:avLst/>
            <a:gdLst>
              <a:gd name="textAreaLeft" fmla="*/ 0 w 33480"/>
              <a:gd name="textAreaRight" fmla="*/ 33840 w 33480"/>
              <a:gd name="textAreaTop" fmla="*/ 0 h 385920"/>
              <a:gd name="textAreaBottom" fmla="*/ 386280 h 385920"/>
            </a:gdLst>
            <a:ahLst/>
            <a:rect l="textAreaLeft" t="textAreaTop" r="textAreaRight" b="textAreaBottom"/>
            <a:pathLst>
              <a:path w="21" h="243">
                <a:moveTo>
                  <a:pt x="18" y="243"/>
                </a:moveTo>
                <a:cubicBezTo>
                  <a:pt x="19" y="221"/>
                  <a:pt x="21" y="199"/>
                  <a:pt x="18" y="159"/>
                </a:cubicBezTo>
                <a:cubicBezTo>
                  <a:pt x="15" y="119"/>
                  <a:pt x="7" y="59"/>
                  <a:pt x="0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Freeform 77"/>
          <p:cNvSpPr/>
          <p:nvPr/>
        </p:nvSpPr>
        <p:spPr>
          <a:xfrm>
            <a:off x="6800760" y="3092400"/>
            <a:ext cx="146160" cy="290520"/>
          </a:xfrm>
          <a:custGeom>
            <a:avLst/>
            <a:gdLst>
              <a:gd name="textAreaLeft" fmla="*/ 0 w 146160"/>
              <a:gd name="textAreaRight" fmla="*/ 146520 w 146160"/>
              <a:gd name="textAreaTop" fmla="*/ 0 h 290520"/>
              <a:gd name="textAreaBottom" fmla="*/ 290520 h 290520"/>
            </a:gdLst>
            <a:ahLst/>
            <a:rect l="textAreaLeft" t="textAreaTop" r="textAreaRight" b="textAreaBottom"/>
            <a:pathLst>
              <a:path w="92" h="183">
                <a:moveTo>
                  <a:pt x="92" y="183"/>
                </a:moveTo>
                <a:cubicBezTo>
                  <a:pt x="82" y="145"/>
                  <a:pt x="72" y="108"/>
                  <a:pt x="57" y="78"/>
                </a:cubicBezTo>
                <a:cubicBezTo>
                  <a:pt x="42" y="48"/>
                  <a:pt x="21" y="24"/>
                  <a:pt x="0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Freeform 79"/>
          <p:cNvSpPr/>
          <p:nvPr/>
        </p:nvSpPr>
        <p:spPr>
          <a:xfrm>
            <a:off x="6602400" y="3027240"/>
            <a:ext cx="196920" cy="63720"/>
          </a:xfrm>
          <a:custGeom>
            <a:avLst/>
            <a:gdLst>
              <a:gd name="textAreaLeft" fmla="*/ 0 w 196920"/>
              <a:gd name="textAreaRight" fmla="*/ 197280 w 196920"/>
              <a:gd name="textAreaTop" fmla="*/ 0 h 63720"/>
              <a:gd name="textAreaBottom" fmla="*/ 64080 h 63720"/>
            </a:gdLst>
            <a:ahLst/>
            <a:rect l="textAreaLeft" t="textAreaTop" r="textAreaRight" b="textAreaBottom"/>
            <a:pathLst>
              <a:path w="124" h="40">
                <a:moveTo>
                  <a:pt x="124" y="40"/>
                </a:moveTo>
                <a:cubicBezTo>
                  <a:pt x="113" y="30"/>
                  <a:pt x="102" y="20"/>
                  <a:pt x="81" y="13"/>
                </a:cubicBezTo>
                <a:cubicBezTo>
                  <a:pt x="60" y="6"/>
                  <a:pt x="30" y="3"/>
                  <a:pt x="0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Freeform 80"/>
          <p:cNvSpPr/>
          <p:nvPr/>
        </p:nvSpPr>
        <p:spPr>
          <a:xfrm flipH="1">
            <a:off x="6408720" y="3027240"/>
            <a:ext cx="192240" cy="69840"/>
          </a:xfrm>
          <a:custGeom>
            <a:avLst/>
            <a:gdLst>
              <a:gd name="textAreaLeft" fmla="*/ 360 w 192240"/>
              <a:gd name="textAreaRight" fmla="*/ 192960 w 192240"/>
              <a:gd name="textAreaTop" fmla="*/ 0 h 69840"/>
              <a:gd name="textAreaBottom" fmla="*/ 70200 h 69840"/>
            </a:gdLst>
            <a:ahLst/>
            <a:rect l="textAreaLeft" t="textAreaTop" r="textAreaRight" b="textAreaBottom"/>
            <a:pathLst>
              <a:path w="124" h="40">
                <a:moveTo>
                  <a:pt x="124" y="40"/>
                </a:moveTo>
                <a:cubicBezTo>
                  <a:pt x="113" y="30"/>
                  <a:pt x="102" y="20"/>
                  <a:pt x="81" y="13"/>
                </a:cubicBezTo>
                <a:cubicBezTo>
                  <a:pt x="60" y="6"/>
                  <a:pt x="30" y="3"/>
                  <a:pt x="0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Freeform 81"/>
          <p:cNvSpPr/>
          <p:nvPr/>
        </p:nvSpPr>
        <p:spPr>
          <a:xfrm flipH="1">
            <a:off x="6261120" y="3097080"/>
            <a:ext cx="146160" cy="290520"/>
          </a:xfrm>
          <a:custGeom>
            <a:avLst/>
            <a:gdLst>
              <a:gd name="textAreaLeft" fmla="*/ 360 w 146160"/>
              <a:gd name="textAreaRight" fmla="*/ 146880 w 146160"/>
              <a:gd name="textAreaTop" fmla="*/ 0 h 290520"/>
              <a:gd name="textAreaBottom" fmla="*/ 290520 h 290520"/>
            </a:gdLst>
            <a:ahLst/>
            <a:rect l="textAreaLeft" t="textAreaTop" r="textAreaRight" b="textAreaBottom"/>
            <a:pathLst>
              <a:path w="92" h="183">
                <a:moveTo>
                  <a:pt x="92" y="183"/>
                </a:moveTo>
                <a:cubicBezTo>
                  <a:pt x="82" y="145"/>
                  <a:pt x="72" y="108"/>
                  <a:pt x="57" y="78"/>
                </a:cubicBezTo>
                <a:cubicBezTo>
                  <a:pt x="42" y="48"/>
                  <a:pt x="21" y="24"/>
                  <a:pt x="0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Freeform 85"/>
          <p:cNvSpPr/>
          <p:nvPr/>
        </p:nvSpPr>
        <p:spPr>
          <a:xfrm>
            <a:off x="6230880" y="3386160"/>
            <a:ext cx="277920" cy="890640"/>
          </a:xfrm>
          <a:custGeom>
            <a:avLst/>
            <a:gdLst>
              <a:gd name="textAreaLeft" fmla="*/ 0 w 277920"/>
              <a:gd name="textAreaRight" fmla="*/ 278280 w 277920"/>
              <a:gd name="textAreaTop" fmla="*/ 0 h 890640"/>
              <a:gd name="textAreaBottom" fmla="*/ 891000 h 890640"/>
            </a:gdLst>
            <a:ahLst/>
            <a:rect l="textAreaLeft" t="textAreaTop" r="textAreaRight" b="textAreaBottom"/>
            <a:pathLst>
              <a:path w="175" h="561">
                <a:moveTo>
                  <a:pt x="19" y="0"/>
                </a:moveTo>
                <a:cubicBezTo>
                  <a:pt x="15" y="12"/>
                  <a:pt x="12" y="24"/>
                  <a:pt x="9" y="45"/>
                </a:cubicBezTo>
                <a:cubicBezTo>
                  <a:pt x="6" y="66"/>
                  <a:pt x="2" y="104"/>
                  <a:pt x="1" y="129"/>
                </a:cubicBezTo>
                <a:cubicBezTo>
                  <a:pt x="0" y="154"/>
                  <a:pt x="0" y="169"/>
                  <a:pt x="1" y="195"/>
                </a:cubicBezTo>
                <a:cubicBezTo>
                  <a:pt x="2" y="221"/>
                  <a:pt x="3" y="256"/>
                  <a:pt x="7" y="287"/>
                </a:cubicBezTo>
                <a:cubicBezTo>
                  <a:pt x="11" y="318"/>
                  <a:pt x="17" y="351"/>
                  <a:pt x="28" y="383"/>
                </a:cubicBezTo>
                <a:cubicBezTo>
                  <a:pt x="39" y="415"/>
                  <a:pt x="57" y="456"/>
                  <a:pt x="72" y="482"/>
                </a:cubicBezTo>
                <a:cubicBezTo>
                  <a:pt x="87" y="508"/>
                  <a:pt x="101" y="523"/>
                  <a:pt x="118" y="536"/>
                </a:cubicBezTo>
                <a:cubicBezTo>
                  <a:pt x="135" y="549"/>
                  <a:pt x="155" y="555"/>
                  <a:pt x="175" y="561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Freeform 87"/>
          <p:cNvSpPr/>
          <p:nvPr/>
        </p:nvSpPr>
        <p:spPr>
          <a:xfrm>
            <a:off x="6510240" y="4248000"/>
            <a:ext cx="260280" cy="39960"/>
          </a:xfrm>
          <a:custGeom>
            <a:avLst/>
            <a:gdLst>
              <a:gd name="textAreaLeft" fmla="*/ 0 w 260280"/>
              <a:gd name="textAreaRight" fmla="*/ 260640 w 260280"/>
              <a:gd name="textAreaTop" fmla="*/ 0 h 39960"/>
              <a:gd name="textAreaBottom" fmla="*/ 40320 h 39960"/>
            </a:gdLst>
            <a:ahLst/>
            <a:rect l="textAreaLeft" t="textAreaTop" r="textAreaRight" b="textAreaBottom"/>
            <a:pathLst>
              <a:path w="164" h="25">
                <a:moveTo>
                  <a:pt x="0" y="18"/>
                </a:moveTo>
                <a:cubicBezTo>
                  <a:pt x="17" y="21"/>
                  <a:pt x="35" y="25"/>
                  <a:pt x="54" y="25"/>
                </a:cubicBezTo>
                <a:cubicBezTo>
                  <a:pt x="73" y="25"/>
                  <a:pt x="98" y="22"/>
                  <a:pt x="116" y="18"/>
                </a:cubicBezTo>
                <a:cubicBezTo>
                  <a:pt x="134" y="14"/>
                  <a:pt x="149" y="7"/>
                  <a:pt x="164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Freeform 89"/>
          <p:cNvSpPr/>
          <p:nvPr/>
        </p:nvSpPr>
        <p:spPr>
          <a:xfrm>
            <a:off x="6773760" y="3952800"/>
            <a:ext cx="182520" cy="293760"/>
          </a:xfrm>
          <a:custGeom>
            <a:avLst/>
            <a:gdLst>
              <a:gd name="textAreaLeft" fmla="*/ 0 w 182520"/>
              <a:gd name="textAreaRight" fmla="*/ 182520 w 182520"/>
              <a:gd name="textAreaTop" fmla="*/ 0 h 293760"/>
              <a:gd name="textAreaBottom" fmla="*/ 294120 h 293760"/>
            </a:gdLst>
            <a:ahLst/>
            <a:rect l="textAreaLeft" t="textAreaTop" r="textAreaRight" b="textAreaBottom"/>
            <a:pathLst>
              <a:path w="117" h="188">
                <a:moveTo>
                  <a:pt x="0" y="188"/>
                </a:moveTo>
                <a:cubicBezTo>
                  <a:pt x="14" y="179"/>
                  <a:pt x="29" y="171"/>
                  <a:pt x="41" y="158"/>
                </a:cubicBezTo>
                <a:cubicBezTo>
                  <a:pt x="53" y="145"/>
                  <a:pt x="59" y="136"/>
                  <a:pt x="72" y="110"/>
                </a:cubicBezTo>
                <a:cubicBezTo>
                  <a:pt x="85" y="84"/>
                  <a:pt x="101" y="42"/>
                  <a:pt x="117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Line 90"/>
          <p:cNvSpPr/>
          <p:nvPr/>
        </p:nvSpPr>
        <p:spPr>
          <a:xfrm flipH="1" flipV="1">
            <a:off x="6722640" y="3904920"/>
            <a:ext cx="235080" cy="42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Freeform 92"/>
          <p:cNvSpPr/>
          <p:nvPr/>
        </p:nvSpPr>
        <p:spPr>
          <a:xfrm>
            <a:off x="6648480" y="3903840"/>
            <a:ext cx="69840" cy="104760"/>
          </a:xfrm>
          <a:custGeom>
            <a:avLst/>
            <a:gdLst>
              <a:gd name="textAreaLeft" fmla="*/ 0 w 69840"/>
              <a:gd name="textAreaRight" fmla="*/ 70200 w 6984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33" h="57">
                <a:moveTo>
                  <a:pt x="33" y="0"/>
                </a:moveTo>
                <a:cubicBezTo>
                  <a:pt x="31" y="4"/>
                  <a:pt x="30" y="9"/>
                  <a:pt x="27" y="16"/>
                </a:cubicBezTo>
                <a:cubicBezTo>
                  <a:pt x="24" y="23"/>
                  <a:pt x="16" y="35"/>
                  <a:pt x="12" y="42"/>
                </a:cubicBezTo>
                <a:cubicBezTo>
                  <a:pt x="8" y="49"/>
                  <a:pt x="4" y="53"/>
                  <a:pt x="0" y="57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Freeform 95"/>
          <p:cNvSpPr/>
          <p:nvPr/>
        </p:nvSpPr>
        <p:spPr>
          <a:xfrm>
            <a:off x="6553080" y="4003560"/>
            <a:ext cx="93960" cy="15840"/>
          </a:xfrm>
          <a:custGeom>
            <a:avLst/>
            <a:gdLst>
              <a:gd name="textAreaLeft" fmla="*/ 0 w 93960"/>
              <a:gd name="textAreaRight" fmla="*/ 94320 w 9396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59" h="10">
                <a:moveTo>
                  <a:pt x="59" y="3"/>
                </a:moveTo>
                <a:cubicBezTo>
                  <a:pt x="53" y="6"/>
                  <a:pt x="48" y="10"/>
                  <a:pt x="38" y="10"/>
                </a:cubicBezTo>
                <a:cubicBezTo>
                  <a:pt x="28" y="10"/>
                  <a:pt x="14" y="5"/>
                  <a:pt x="0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Freeform 97"/>
          <p:cNvSpPr/>
          <p:nvPr/>
        </p:nvSpPr>
        <p:spPr>
          <a:xfrm>
            <a:off x="6480000" y="3776760"/>
            <a:ext cx="76320" cy="230040"/>
          </a:xfrm>
          <a:custGeom>
            <a:avLst/>
            <a:gdLst>
              <a:gd name="textAreaLeft" fmla="*/ 0 w 76320"/>
              <a:gd name="textAreaRight" fmla="*/ 76680 w 7632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48" h="145">
                <a:moveTo>
                  <a:pt x="48" y="145"/>
                </a:moveTo>
                <a:cubicBezTo>
                  <a:pt x="40" y="139"/>
                  <a:pt x="33" y="133"/>
                  <a:pt x="27" y="121"/>
                </a:cubicBezTo>
                <a:cubicBezTo>
                  <a:pt x="21" y="109"/>
                  <a:pt x="16" y="96"/>
                  <a:pt x="12" y="76"/>
                </a:cubicBezTo>
                <a:cubicBezTo>
                  <a:pt x="8" y="56"/>
                  <a:pt x="4" y="28"/>
                  <a:pt x="0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Line 98"/>
          <p:cNvSpPr/>
          <p:nvPr/>
        </p:nvSpPr>
        <p:spPr>
          <a:xfrm flipH="1">
            <a:off x="6484680" y="3549600"/>
            <a:ext cx="2379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Freeform 100"/>
          <p:cNvSpPr/>
          <p:nvPr/>
        </p:nvSpPr>
        <p:spPr>
          <a:xfrm>
            <a:off x="6478560" y="3322800"/>
            <a:ext cx="69840" cy="228600"/>
          </a:xfrm>
          <a:custGeom>
            <a:avLst/>
            <a:gdLst>
              <a:gd name="textAreaLeft" fmla="*/ 0 w 69840"/>
              <a:gd name="textAreaRight" fmla="*/ 70200 w 6984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44" h="144">
                <a:moveTo>
                  <a:pt x="0" y="144"/>
                </a:moveTo>
                <a:cubicBezTo>
                  <a:pt x="1" y="129"/>
                  <a:pt x="3" y="115"/>
                  <a:pt x="5" y="99"/>
                </a:cubicBezTo>
                <a:cubicBezTo>
                  <a:pt x="7" y="83"/>
                  <a:pt x="9" y="63"/>
                  <a:pt x="15" y="47"/>
                </a:cubicBezTo>
                <a:cubicBezTo>
                  <a:pt x="21" y="31"/>
                  <a:pt x="32" y="15"/>
                  <a:pt x="44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Freeform 101"/>
          <p:cNvSpPr/>
          <p:nvPr/>
        </p:nvSpPr>
        <p:spPr>
          <a:xfrm>
            <a:off x="6550200" y="3303720"/>
            <a:ext cx="50760" cy="17280"/>
          </a:xfrm>
          <a:custGeom>
            <a:avLst/>
            <a:gdLst>
              <a:gd name="textAreaLeft" fmla="*/ 0 w 50760"/>
              <a:gd name="textAreaRight" fmla="*/ 51120 w 50760"/>
              <a:gd name="textAreaTop" fmla="*/ 0 h 17280"/>
              <a:gd name="textAreaBottom" fmla="*/ 17280 h 17280"/>
            </a:gdLst>
            <a:ahLst/>
            <a:rect l="textAreaLeft" t="textAreaTop" r="textAreaRight" b="textAreaBottom"/>
            <a:pathLst>
              <a:path w="32" h="11">
                <a:moveTo>
                  <a:pt x="0" y="11"/>
                </a:moveTo>
                <a:cubicBezTo>
                  <a:pt x="6" y="8"/>
                  <a:pt x="13" y="5"/>
                  <a:pt x="18" y="3"/>
                </a:cubicBezTo>
                <a:cubicBezTo>
                  <a:pt x="23" y="1"/>
                  <a:pt x="27" y="0"/>
                  <a:pt x="32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Freeform 102"/>
          <p:cNvSpPr/>
          <p:nvPr/>
        </p:nvSpPr>
        <p:spPr>
          <a:xfrm flipH="1">
            <a:off x="6653160" y="3319560"/>
            <a:ext cx="69840" cy="228600"/>
          </a:xfrm>
          <a:custGeom>
            <a:avLst/>
            <a:gdLst>
              <a:gd name="textAreaLeft" fmla="*/ 360 w 69840"/>
              <a:gd name="textAreaRight" fmla="*/ 70560 w 6984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44" h="144">
                <a:moveTo>
                  <a:pt x="0" y="144"/>
                </a:moveTo>
                <a:cubicBezTo>
                  <a:pt x="1" y="129"/>
                  <a:pt x="3" y="115"/>
                  <a:pt x="5" y="99"/>
                </a:cubicBezTo>
                <a:cubicBezTo>
                  <a:pt x="7" y="83"/>
                  <a:pt x="9" y="63"/>
                  <a:pt x="15" y="47"/>
                </a:cubicBezTo>
                <a:cubicBezTo>
                  <a:pt x="21" y="31"/>
                  <a:pt x="32" y="15"/>
                  <a:pt x="44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Freeform 103"/>
          <p:cNvSpPr/>
          <p:nvPr/>
        </p:nvSpPr>
        <p:spPr>
          <a:xfrm flipH="1">
            <a:off x="6606360" y="3305160"/>
            <a:ext cx="50760" cy="17640"/>
          </a:xfrm>
          <a:custGeom>
            <a:avLst/>
            <a:gdLst>
              <a:gd name="textAreaLeft" fmla="*/ -360 w 50760"/>
              <a:gd name="textAreaRight" fmla="*/ 50760 w 50760"/>
              <a:gd name="textAreaTop" fmla="*/ 0 h 17640"/>
              <a:gd name="textAreaBottom" fmla="*/ 18000 h 17640"/>
            </a:gdLst>
            <a:ahLst/>
            <a:rect l="textAreaLeft" t="textAreaTop" r="textAreaRight" b="textAreaBottom"/>
            <a:pathLst>
              <a:path w="32" h="11">
                <a:moveTo>
                  <a:pt x="0" y="11"/>
                </a:moveTo>
                <a:cubicBezTo>
                  <a:pt x="6" y="8"/>
                  <a:pt x="13" y="5"/>
                  <a:pt x="18" y="3"/>
                </a:cubicBezTo>
                <a:cubicBezTo>
                  <a:pt x="23" y="1"/>
                  <a:pt x="27" y="0"/>
                  <a:pt x="32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28000">
    <p:cover dir="u"/>
  </p:transition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nodeType="clickEffect" fill="hold">
                      <p:stCondLst>
                        <p:cond delay="0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62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4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66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0" dur="3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4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3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4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8" dur="3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nodeType="afterEffect" fill="hold">
                            <p:stCondLst>
                              <p:cond delay="2900"/>
                            </p:stCondLst>
                            <p:childTnLst>
                              <p:par>
                                <p:cTn id="4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2" dur="3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4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6" dur="3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8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0" dur="3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nodeType="afterEffect" fill="hold">
                            <p:stCondLst>
                              <p:cond delay="3800"/>
                            </p:stCondLst>
                            <p:childTnLst>
                              <p:par>
                                <p:cTn id="4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3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nodeType="afterEffect" fill="hold">
                            <p:stCondLst>
                              <p:cond delay="4100"/>
                            </p:stCondLst>
                            <p:childTnLst>
                              <p:par>
                                <p:cTn id="4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8" dur="3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nodeType="afterEffect" fill="hold">
                            <p:stCondLst>
                              <p:cond delay="4400"/>
                            </p:stCondLst>
                            <p:childTnLst>
                              <p:par>
                                <p:cTn id="5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2" dur="3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nodeType="afterEffect" fill="hold">
                            <p:stCondLst>
                              <p:cond delay="4700"/>
                            </p:stCondLst>
                            <p:childTnLst>
                              <p:par>
                                <p:cTn id="5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6" dur="3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0" dur="3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nodeType="afterEffect" fill="hold">
                            <p:stCondLst>
                              <p:cond delay="5300"/>
                            </p:stCondLst>
                            <p:childTnLst>
                              <p:par>
                                <p:cTn id="5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4" dur="3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nodeType="afterEffect" fill="hold">
                            <p:stCondLst>
                              <p:cond delay="5600"/>
                            </p:stCondLst>
                            <p:childTnLst>
                              <p:par>
                                <p:cTn id="51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18" dur="3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nodeType="afterEffect" fill="hold">
                            <p:stCondLst>
                              <p:cond delay="5900"/>
                            </p:stCondLst>
                            <p:childTnLst>
                              <p:par>
                                <p:cTn id="5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2" dur="3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6200"/>
                            </p:stCondLst>
                            <p:childTnLst>
                              <p:par>
                                <p:cTn id="52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6" dur="3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5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0" dur="3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nodeType="afterEffect" fill="hold">
                            <p:stCondLst>
                              <p:cond delay="6800"/>
                            </p:stCondLst>
                            <p:childTnLst>
                              <p:par>
                                <p:cTn id="5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3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nodeType="afterEffect" fill="hold">
                            <p:stCondLst>
                              <p:cond delay="7100"/>
                            </p:stCondLst>
                            <p:childTnLst>
                              <p:par>
                                <p:cTn id="5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8" dur="3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nodeType="afterEffect" fill="hold">
                            <p:stCondLst>
                              <p:cond delay="7400"/>
                            </p:stCondLst>
                            <p:childTnLst>
                              <p:par>
                                <p:cTn id="5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2" dur="3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nodeType="afterEffect" fill="hold">
                            <p:stCondLst>
                              <p:cond delay="7700"/>
                            </p:stCondLst>
                            <p:childTnLst>
                              <p:par>
                                <p:cTn id="5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6" dur="3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0" dur="3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nodeType="afterEffect" fill="hold">
                            <p:stCondLst>
                              <p:cond delay="8300"/>
                            </p:stCondLst>
                            <p:childTnLst>
                              <p:par>
                                <p:cTn id="55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4" dur="3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nodeType="afterEffect" fill="hold">
                            <p:stCondLst>
                              <p:cond delay="8600"/>
                            </p:stCondLst>
                            <p:childTnLst>
                              <p:par>
                                <p:cTn id="5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8" dur="3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nodeType="afterEffect" fill="hold">
                            <p:stCondLst>
                              <p:cond delay="8900"/>
                            </p:stCondLst>
                            <p:childTnLst>
                              <p:par>
                                <p:cTn id="5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2" dur="3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nodeType="afterEffect" fill="hold">
                            <p:stCondLst>
                              <p:cond delay="9200"/>
                            </p:stCondLst>
                            <p:childTnLst>
                              <p:par>
                                <p:cTn id="5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6" dur="3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56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0" dur="3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nodeType="afterEffect" fill="hold">
                            <p:stCondLst>
                              <p:cond delay="9800"/>
                            </p:stCondLst>
                            <p:childTnLst>
                              <p:par>
                                <p:cTn id="5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4" dur="3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nodeType="afterEffect" fill="hold">
                            <p:stCondLst>
                              <p:cond delay="10100"/>
                            </p:stCondLst>
                            <p:childTnLst>
                              <p:par>
                                <p:cTn id="57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8" dur="3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nodeType="afterEffect" fill="hold">
                            <p:stCondLst>
                              <p:cond delay="10400"/>
                            </p:stCondLst>
                            <p:childTnLst>
                              <p:par>
                                <p:cTn id="5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2" dur="3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nodeType="afterEffect" fill="hold">
                            <p:stCondLst>
                              <p:cond delay="10700"/>
                            </p:stCondLst>
                            <p:childTnLst>
                              <p:par>
                                <p:cTn id="5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6" dur="3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5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0" dur="3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nodeType="afterEffect" fill="hold">
                            <p:stCondLst>
                              <p:cond delay="11300"/>
                            </p:stCondLst>
                            <p:childTnLst>
                              <p:par>
                                <p:cTn id="59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94" dur="3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nodeType="afterEffect" fill="hold">
                            <p:stCondLst>
                              <p:cond delay="11600"/>
                            </p:stCondLst>
                            <p:childTnLst>
                              <p:par>
                                <p:cTn id="5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8" dur="3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nodeType="afterEffect" fill="hold">
                            <p:stCondLst>
                              <p:cond delay="11900"/>
                            </p:stCondLst>
                            <p:childTnLst>
                              <p:par>
                                <p:cTn id="6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2" dur="3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nodeType="afterEffect" fill="hold">
                            <p:stCondLst>
                              <p:cond delay="12200"/>
                            </p:stCondLst>
                            <p:childTnLst>
                              <p:par>
                                <p:cTn id="6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6" dur="3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6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0" dur="3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nodeType="afterEffect" fill="hold">
                            <p:stCondLst>
                              <p:cond delay="12800"/>
                            </p:stCondLst>
                            <p:childTnLst>
                              <p:par>
                                <p:cTn id="6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14" dur="3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nodeType="afterEffect" fill="hold">
                            <p:stCondLst>
                              <p:cond delay="13100"/>
                            </p:stCondLst>
                            <p:childTnLst>
                              <p:par>
                                <p:cTn id="6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8" dur="3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nodeType="afterEffect" fill="hold">
                            <p:stCondLst>
                              <p:cond delay="13400"/>
                            </p:stCondLst>
                            <p:childTnLst>
                              <p:par>
                                <p:cTn id="6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2" dur="3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nodeType="afterEffect" fill="hold">
                            <p:stCondLst>
                              <p:cond delay="13700"/>
                            </p:stCondLst>
                            <p:childTnLst>
                              <p:par>
                                <p:cTn id="6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6" dur="3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6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0" dur="3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nodeType="afterEffect" fill="hold">
                            <p:stCondLst>
                              <p:cond delay="14300"/>
                            </p:stCondLst>
                            <p:childTnLst>
                              <p:par>
                                <p:cTn id="6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4" dur="3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nodeType="afterEffect" fill="hold">
                            <p:stCondLst>
                              <p:cond delay="14600"/>
                            </p:stCondLst>
                            <p:childTnLst>
                              <p:par>
                                <p:cTn id="63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8" dur="3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nodeType="afterEffect" fill="hold">
                            <p:stCondLst>
                              <p:cond delay="14900"/>
                            </p:stCondLst>
                            <p:childTnLst>
                              <p:par>
                                <p:cTn id="6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2" dur="3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nodeType="afterEffect" fill="hold">
                            <p:stCondLst>
                              <p:cond delay="15200"/>
                            </p:stCondLst>
                            <p:childTnLst>
                              <p:par>
                                <p:cTn id="6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6" dur="3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64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0" dur="3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nodeType="afterEffect" fill="hold">
                            <p:stCondLst>
                              <p:cond delay="15800"/>
                            </p:stCondLst>
                            <p:childTnLst>
                              <p:par>
                                <p:cTn id="6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4" dur="3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nodeType="afterEffect" fill="hold">
                            <p:stCondLst>
                              <p:cond delay="16100"/>
                            </p:stCondLst>
                            <p:childTnLst>
                              <p:par>
                                <p:cTn id="6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8" dur="3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nodeType="afterEffect" fill="hold">
                            <p:stCondLst>
                              <p:cond delay="16400"/>
                            </p:stCondLst>
                            <p:childTnLst>
                              <p:par>
                                <p:cTn id="6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2" dur="3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nodeType="afterEffect" fill="hold">
                            <p:stCondLst>
                              <p:cond delay="16700"/>
                            </p:stCondLst>
                            <p:childTnLst>
                              <p:par>
                                <p:cTn id="6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6" dur="3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6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0" dur="3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nodeType="afterEffect" fill="hold">
                            <p:stCondLst>
                              <p:cond delay="17300"/>
                            </p:stCondLst>
                            <p:childTnLst>
                              <p:par>
                                <p:cTn id="6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4" dur="3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nodeType="afterEffect" fill="hold">
                            <p:stCondLst>
                              <p:cond delay="17600"/>
                            </p:stCondLst>
                            <p:childTnLst>
                              <p:par>
                                <p:cTn id="6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8" dur="3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nodeType="afterEffect" fill="hold">
                            <p:stCondLst>
                              <p:cond delay="17900"/>
                            </p:stCondLst>
                            <p:childTnLst>
                              <p:par>
                                <p:cTn id="6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2" dur="3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nodeType="afterEffect" fill="hold">
                            <p:stCondLst>
                              <p:cond delay="18200"/>
                            </p:stCondLst>
                            <p:childTnLst>
                              <p:par>
                                <p:cTn id="6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6" dur="3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6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0" dur="3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nodeType="afterEffect" fill="hold">
                            <p:stCondLst>
                              <p:cond delay="18800"/>
                            </p:stCondLst>
                            <p:childTnLst>
                              <p:par>
                                <p:cTn id="6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4" dur="3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nodeType="afterEffect" fill="hold">
                            <p:stCondLst>
                              <p:cond delay="19100"/>
                            </p:stCondLst>
                            <p:childTnLst>
                              <p:par>
                                <p:cTn id="6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98" dur="3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nodeType="afterEffect" fill="hold">
                            <p:stCondLst>
                              <p:cond delay="19400"/>
                            </p:stCondLst>
                            <p:childTnLst>
                              <p:par>
                                <p:cTn id="70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02" dur="3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nodeType="afterEffect" fill="hold">
                            <p:stCondLst>
                              <p:cond delay="19700"/>
                            </p:stCondLst>
                            <p:childTnLst>
                              <p:par>
                                <p:cTn id="7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6" dur="3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7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0" dur="3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nodeType="afterEffect" fill="hold">
                            <p:stCondLst>
                              <p:cond delay="20300"/>
                            </p:stCondLst>
                            <p:childTnLst>
                              <p:par>
                                <p:cTn id="7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4" dur="3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nodeType="afterEffect" fill="hold">
                            <p:stCondLst>
                              <p:cond delay="20600"/>
                            </p:stCondLst>
                            <p:childTnLst>
                              <p:par>
                                <p:cTn id="7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8" dur="3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nodeType="afterEffect" fill="hold">
                            <p:stCondLst>
                              <p:cond delay="20900"/>
                            </p:stCondLst>
                            <p:childTnLst>
                              <p:par>
                                <p:cTn id="72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2" dur="3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nodeType="afterEffect" fill="hold">
                            <p:stCondLst>
                              <p:cond delay="21200"/>
                            </p:stCondLst>
                            <p:childTnLst>
                              <p:par>
                                <p:cTn id="7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6" dur="3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nodeType="afterEffect" fill="hold">
                            <p:stCondLst>
                              <p:cond delay="21500"/>
                            </p:stCondLst>
                            <p:childTnLst>
                              <p:par>
                                <p:cTn id="72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30" dur="3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nodeType="afterEffect" fill="hold">
                            <p:stCondLst>
                              <p:cond delay="21800"/>
                            </p:stCondLst>
                            <p:childTnLst>
                              <p:par>
                                <p:cTn id="7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4" dur="3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nodeType="afterEffect" fill="hold">
                            <p:stCondLst>
                              <p:cond delay="22100"/>
                            </p:stCondLst>
                            <p:childTnLst>
                              <p:par>
                                <p:cTn id="73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38" dur="3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nodeType="afterEffect" fill="hold">
                            <p:stCondLst>
                              <p:cond delay="22400"/>
                            </p:stCondLst>
                            <p:childTnLst>
                              <p:par>
                                <p:cTn id="7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2" dur="3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nodeType="afterEffect" fill="hold">
                            <p:stCondLst>
                              <p:cond delay="22700"/>
                            </p:stCondLst>
                            <p:childTnLst>
                              <p:par>
                                <p:cTn id="7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6" dur="3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7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0" dur="3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nodeType="afterEffect" fill="hold">
                            <p:stCondLst>
                              <p:cond delay="23300"/>
                            </p:stCondLst>
                            <p:childTnLst>
                              <p:par>
                                <p:cTn id="7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4" dur="3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nodeType="afterEffect" fill="hold">
                            <p:stCondLst>
                              <p:cond delay="23600"/>
                            </p:stCondLst>
                            <p:childTnLst>
                              <p:par>
                                <p:cTn id="7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8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nodeType="afterEffect" fill="hold">
                            <p:stCondLst>
                              <p:cond delay="25600"/>
                            </p:stCondLst>
                            <p:childTnLst>
                              <p:par>
                                <p:cTn id="76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2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0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2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5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8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4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3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9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2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5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8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1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4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7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0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3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6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2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5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8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1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4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WordArt 4"/>
          <p:cNvSpPr txBox="1"/>
          <p:nvPr/>
        </p:nvSpPr>
        <p:spPr>
          <a:xfrm>
            <a:off x="1981080" y="2743200"/>
            <a:ext cx="5010120" cy="17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Raining</a:t>
            </a:r>
            <a:endParaRPr b="0" lang="en-US" sz="96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77" name="Text Box 5"/>
          <p:cNvSpPr/>
          <p:nvPr/>
        </p:nvSpPr>
        <p:spPr>
          <a:xfrm>
            <a:off x="384480" y="-366840"/>
            <a:ext cx="95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Rain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Text Box 8"/>
          <p:cNvSpPr/>
          <p:nvPr/>
        </p:nvSpPr>
        <p:spPr>
          <a:xfrm>
            <a:off x="1451160" y="-914400"/>
            <a:ext cx="95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Rain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Text Box 11"/>
          <p:cNvSpPr/>
          <p:nvPr/>
        </p:nvSpPr>
        <p:spPr>
          <a:xfrm>
            <a:off x="3127680" y="-2590920"/>
            <a:ext cx="95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Rain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Text Box 14"/>
          <p:cNvSpPr/>
          <p:nvPr/>
        </p:nvSpPr>
        <p:spPr>
          <a:xfrm>
            <a:off x="5261040" y="-1828800"/>
            <a:ext cx="95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Rain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Text Box 16"/>
          <p:cNvSpPr/>
          <p:nvPr/>
        </p:nvSpPr>
        <p:spPr>
          <a:xfrm>
            <a:off x="4042080" y="-1219320"/>
            <a:ext cx="95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Rain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Text Box 17"/>
          <p:cNvSpPr/>
          <p:nvPr/>
        </p:nvSpPr>
        <p:spPr>
          <a:xfrm>
            <a:off x="8264880" y="-369720"/>
            <a:ext cx="95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Rain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Text Box 18"/>
          <p:cNvSpPr/>
          <p:nvPr/>
        </p:nvSpPr>
        <p:spPr>
          <a:xfrm>
            <a:off x="4118040" y="-3200400"/>
            <a:ext cx="95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Rain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Text Box 19"/>
          <p:cNvSpPr/>
          <p:nvPr/>
        </p:nvSpPr>
        <p:spPr>
          <a:xfrm>
            <a:off x="6480360" y="-2743200"/>
            <a:ext cx="95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Rain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0">
    <p:cover dir="u"/>
  </p:transition>
  <p:timing>
    <p:tnLst>
      <p:par>
        <p:cTn id="982" dur="indefinite" restart="never" nodeType="tmRoot">
          <p:childTnLst>
            <p:seq>
              <p:cTn id="983" dur="indefinite" nodeType="mainSeq">
                <p:childTnLst>
                  <p:par>
                    <p:cTn id="984" nodeType="clickEffect" fill="hold">
                      <p:stCondLst>
                        <p:cond delay="0"/>
                      </p:stCondLst>
                      <p:childTnLst>
                        <p:par>
                          <p:cTn id="9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after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987" dur="300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8" dur="300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0" nodeType="with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991" dur="30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2" dur="30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4" nodeType="with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995" dur="300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6" dur="300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8" nodeType="with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999" dur="3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0" dur="3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2" nodeType="with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1003" dur="30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4" dur="30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6" nodeType="with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1007" dur="300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8" dur="300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0" nodeType="with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1011" dur="300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2" dur="300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4" nodeType="with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1015" dur="300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6" dur="300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8" nodeType="withEffect" fill="hold" presetClass="exit" presetID="10">
                                  <p:stCondLst>
                                    <p:cond delay="5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019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1" nodeType="withEffect" fill="hold" presetClass="exit" presetID="10">
                                  <p:stCondLst>
                                    <p:cond delay="5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022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4" nodeType="withEffect" fill="hold" presetClass="exit" presetID="10">
                                  <p:stCondLst>
                                    <p:cond delay="5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025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7" nodeType="withEffect" fill="hold" presetClass="exit" presetID="10">
                                  <p:stCondLst>
                                    <p:cond delay="5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028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0" nodeType="withEffect" fill="hold" presetClass="exit" presetID="10">
                                  <p:stCondLst>
                                    <p:cond delay="5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031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3" nodeType="withEffect" fill="hold" presetClass="exit" presetID="10">
                                  <p:stCondLst>
                                    <p:cond delay="5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034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6" nodeType="withEffect" fill="hold" presetClass="exit" presetID="10">
                                  <p:stCondLst>
                                    <p:cond delay="5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037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9" nodeType="withEffect" fill="hold" presetClass="exit" presetID="10">
                                  <p:stCondLst>
                                    <p:cond delay="5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040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7"/>
          <p:cNvSpPr/>
          <p:nvPr/>
        </p:nvSpPr>
        <p:spPr>
          <a:xfrm>
            <a:off x="3279960" y="4876920"/>
            <a:ext cx="277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PowerPoi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8"/>
          <p:cNvSpPr/>
          <p:nvPr/>
        </p:nvSpPr>
        <p:spPr>
          <a:xfrm>
            <a:off x="4651560" y="1447920"/>
            <a:ext cx="269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Animat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 Box 9"/>
          <p:cNvSpPr/>
          <p:nvPr/>
        </p:nvSpPr>
        <p:spPr>
          <a:xfrm>
            <a:off x="2517840" y="3048120"/>
            <a:ext cx="303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Present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Text Box 10"/>
          <p:cNvSpPr/>
          <p:nvPr/>
        </p:nvSpPr>
        <p:spPr>
          <a:xfrm>
            <a:off x="3355200" y="4343400"/>
            <a:ext cx="24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he Power to Anim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0">
    <p:cover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48148E-006 L 0.03958 1.48148E-006 E">
                                      <p:cBhvr>
                                        <p:cTn id="9" dur="2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76 1.48148E-006 L 0.1276 1.48148E-006 E">
                                      <p:cBhvr>
                                        <p:cTn id="19" dur="2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1.85185E-006 L 0.05903 -1.85185E-006 E">
                                      <p:cBhvr>
                                        <p:cTn id="29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39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4"/>
          <p:cNvSpPr/>
          <p:nvPr/>
        </p:nvSpPr>
        <p:spPr>
          <a:xfrm>
            <a:off x="1174680" y="-5237280"/>
            <a:ext cx="7056360" cy="638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6" name="Picture 75" descr=""/>
          <p:cNvPicPr/>
          <p:nvPr/>
        </p:nvPicPr>
        <p:blipFill>
          <a:blip r:embed="rId1"/>
          <a:srcRect l="69" t="0" r="0" b="93048"/>
          <a:stretch/>
        </p:blipFill>
        <p:spPr>
          <a:xfrm>
            <a:off x="0" y="0"/>
            <a:ext cx="9144000" cy="477720"/>
          </a:xfrm>
          <a:prstGeom prst="rect">
            <a:avLst/>
          </a:prstGeom>
          <a:ln w="0">
            <a:noFill/>
          </a:ln>
        </p:spPr>
      </p:pic>
      <p:grpSp>
        <p:nvGrpSpPr>
          <p:cNvPr id="287" name="Group 35"/>
          <p:cNvGrpSpPr/>
          <p:nvPr/>
        </p:nvGrpSpPr>
        <p:grpSpPr>
          <a:xfrm>
            <a:off x="826920" y="0"/>
            <a:ext cx="7821720" cy="982440"/>
            <a:chOff x="826920" y="0"/>
            <a:chExt cx="7821720" cy="982440"/>
          </a:xfrm>
        </p:grpSpPr>
        <p:sp>
          <p:nvSpPr>
            <p:cNvPr id="288" name="Rectangle 36"/>
            <p:cNvSpPr/>
            <p:nvPr/>
          </p:nvSpPr>
          <p:spPr>
            <a:xfrm>
              <a:off x="1042920" y="0"/>
              <a:ext cx="144360" cy="333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7"/>
            <p:cNvSpPr/>
            <p:nvPr/>
          </p:nvSpPr>
          <p:spPr>
            <a:xfrm>
              <a:off x="8243640" y="0"/>
              <a:ext cx="144360" cy="333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0" name="Group 38"/>
            <p:cNvGrpSpPr/>
            <p:nvPr/>
          </p:nvGrpSpPr>
          <p:grpSpPr>
            <a:xfrm>
              <a:off x="826920" y="333360"/>
              <a:ext cx="7821720" cy="649080"/>
              <a:chOff x="826920" y="333360"/>
              <a:chExt cx="7821720" cy="649080"/>
            </a:xfrm>
          </p:grpSpPr>
          <p:sp>
            <p:nvSpPr>
              <p:cNvPr id="291" name="Rectangle 39"/>
              <p:cNvSpPr/>
              <p:nvPr/>
            </p:nvSpPr>
            <p:spPr>
              <a:xfrm>
                <a:off x="971280" y="334800"/>
                <a:ext cx="7561440" cy="64764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cbddff"/>
                  </a:gs>
                  <a:gs pos="100000">
                    <a:srgbClr val="6699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Oval 40"/>
              <p:cNvSpPr/>
              <p:nvPr/>
            </p:nvSpPr>
            <p:spPr>
              <a:xfrm>
                <a:off x="826920" y="334800"/>
                <a:ext cx="288720" cy="6476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ffffff"/>
                  </a:gs>
                  <a:gs pos="100000">
                    <a:srgbClr val="6699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Oval 41"/>
              <p:cNvSpPr/>
              <p:nvPr/>
            </p:nvSpPr>
            <p:spPr>
              <a:xfrm>
                <a:off x="8397720" y="333360"/>
                <a:ext cx="250920" cy="64908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8eb4ff"/>
                  </a:gs>
                  <a:gs pos="100000">
                    <a:srgbClr val="6699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Oval 42"/>
              <p:cNvSpPr/>
              <p:nvPr/>
            </p:nvSpPr>
            <p:spPr>
              <a:xfrm>
                <a:off x="1187280" y="477720"/>
                <a:ext cx="7200720" cy="73080"/>
              </a:xfrm>
              <a:prstGeom prst="ellipse">
                <a:avLst/>
              </a:prstGeom>
              <a:gradFill rotWithShape="0">
                <a:gsLst>
                  <a:gs pos="0">
                    <a:srgbClr val="6699ff">
                      <a:alpha val="60392"/>
                    </a:srgbClr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Oval 43"/>
              <p:cNvSpPr/>
              <p:nvPr/>
            </p:nvSpPr>
            <p:spPr>
              <a:xfrm>
                <a:off x="8435880" y="406080"/>
                <a:ext cx="177840" cy="503280"/>
              </a:xfrm>
              <a:prstGeom prst="ellipse">
                <a:avLst/>
              </a:prstGeom>
              <a:noFill/>
              <a:ln w="9360">
                <a:solidFill>
                  <a:srgbClr val="e7e7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Oval 44"/>
              <p:cNvSpPr/>
              <p:nvPr/>
            </p:nvSpPr>
            <p:spPr>
              <a:xfrm>
                <a:off x="879120" y="399960"/>
                <a:ext cx="177840" cy="503280"/>
              </a:xfrm>
              <a:prstGeom prst="ellipse">
                <a:avLst/>
              </a:prstGeom>
              <a:noFill/>
              <a:ln w="9360">
                <a:solidFill>
                  <a:srgbClr val="f7f7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97" name="Group 46"/>
          <p:cNvGrpSpPr/>
          <p:nvPr/>
        </p:nvGrpSpPr>
        <p:grpSpPr>
          <a:xfrm>
            <a:off x="1047600" y="981000"/>
            <a:ext cx="7277040" cy="215640"/>
            <a:chOff x="1047600" y="981000"/>
            <a:chExt cx="7277040" cy="215640"/>
          </a:xfrm>
        </p:grpSpPr>
        <p:sp>
          <p:nvSpPr>
            <p:cNvPr id="298" name="Rectangle 47"/>
            <p:cNvSpPr/>
            <p:nvPr/>
          </p:nvSpPr>
          <p:spPr>
            <a:xfrm>
              <a:off x="1085760" y="981000"/>
              <a:ext cx="7200720" cy="2156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8"/>
            <p:cNvSpPr/>
            <p:nvPr/>
          </p:nvSpPr>
          <p:spPr>
            <a:xfrm>
              <a:off x="1047600" y="981000"/>
              <a:ext cx="71280" cy="2156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9"/>
            <p:cNvSpPr/>
            <p:nvPr/>
          </p:nvSpPr>
          <p:spPr>
            <a:xfrm>
              <a:off x="8253000" y="981000"/>
              <a:ext cx="71640" cy="215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1" name="Group 50"/>
          <p:cNvGrpSpPr/>
          <p:nvPr/>
        </p:nvGrpSpPr>
        <p:grpSpPr>
          <a:xfrm>
            <a:off x="814320" y="0"/>
            <a:ext cx="7821720" cy="982440"/>
            <a:chOff x="814320" y="0"/>
            <a:chExt cx="7821720" cy="982440"/>
          </a:xfrm>
        </p:grpSpPr>
        <p:sp>
          <p:nvSpPr>
            <p:cNvPr id="302" name="Rectangle 51"/>
            <p:cNvSpPr/>
            <p:nvPr/>
          </p:nvSpPr>
          <p:spPr>
            <a:xfrm>
              <a:off x="1030320" y="0"/>
              <a:ext cx="144360" cy="333360"/>
            </a:xfrm>
            <a:prstGeom prst="rect">
              <a:avLst/>
            </a:prstGeom>
            <a:gradFill rotWithShape="0">
              <a:gsLst>
                <a:gs pos="0">
                  <a:srgbClr val="dcdcdc"/>
                </a:gs>
                <a:gs pos="50000">
                  <a:srgbClr val="ffffff"/>
                </a:gs>
                <a:gs pos="100000">
                  <a:srgbClr val="dcdcd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Rectangle 52"/>
            <p:cNvSpPr/>
            <p:nvPr/>
          </p:nvSpPr>
          <p:spPr>
            <a:xfrm>
              <a:off x="8231040" y="0"/>
              <a:ext cx="144360" cy="333360"/>
            </a:xfrm>
            <a:prstGeom prst="rect">
              <a:avLst/>
            </a:prstGeom>
            <a:gradFill rotWithShape="0">
              <a:gsLst>
                <a:gs pos="0">
                  <a:srgbClr val="dcdcdc"/>
                </a:gs>
                <a:gs pos="50000">
                  <a:srgbClr val="ffffff"/>
                </a:gs>
                <a:gs pos="100000">
                  <a:srgbClr val="dcdcd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04" name="Group 53"/>
            <p:cNvGrpSpPr/>
            <p:nvPr/>
          </p:nvGrpSpPr>
          <p:grpSpPr>
            <a:xfrm>
              <a:off x="814320" y="333360"/>
              <a:ext cx="7821720" cy="649080"/>
              <a:chOff x="814320" y="333360"/>
              <a:chExt cx="7821720" cy="649080"/>
            </a:xfrm>
          </p:grpSpPr>
          <p:sp>
            <p:nvSpPr>
              <p:cNvPr id="305" name="Rectangle 54"/>
              <p:cNvSpPr/>
              <p:nvPr/>
            </p:nvSpPr>
            <p:spPr>
              <a:xfrm>
                <a:off x="958680" y="334800"/>
                <a:ext cx="7561440" cy="647640"/>
              </a:xfrm>
              <a:prstGeom prst="rect">
                <a:avLst/>
              </a:prstGeom>
              <a:gradFill rotWithShape="0">
                <a:gsLst>
                  <a:gs pos="0">
                    <a:srgbClr val="dcdcdc"/>
                  </a:gs>
                  <a:gs pos="50000">
                    <a:srgbClr val="ffffff"/>
                  </a:gs>
                  <a:gs pos="100000">
                    <a:srgbClr val="dcdcd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Oval 55"/>
              <p:cNvSpPr/>
              <p:nvPr/>
            </p:nvSpPr>
            <p:spPr>
              <a:xfrm>
                <a:off x="814320" y="334800"/>
                <a:ext cx="288720" cy="647640"/>
              </a:xfrm>
              <a:prstGeom prst="ellipse">
                <a:avLst/>
              </a:prstGeom>
              <a:gradFill rotWithShape="0">
                <a:gsLst>
                  <a:gs pos="0">
                    <a:srgbClr val="dcdcdc"/>
                  </a:gs>
                  <a:gs pos="50000">
                    <a:srgbClr val="ffffff"/>
                  </a:gs>
                  <a:gs pos="100000">
                    <a:srgbClr val="dcdcd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Oval 56"/>
              <p:cNvSpPr/>
              <p:nvPr/>
            </p:nvSpPr>
            <p:spPr>
              <a:xfrm>
                <a:off x="8385120" y="333360"/>
                <a:ext cx="250920" cy="649080"/>
              </a:xfrm>
              <a:prstGeom prst="ellipse">
                <a:avLst/>
              </a:prstGeom>
              <a:gradFill rotWithShape="0">
                <a:gsLst>
                  <a:gs pos="0">
                    <a:srgbClr val="dcdcdc"/>
                  </a:gs>
                  <a:gs pos="50000">
                    <a:srgbClr val="ffffff"/>
                  </a:gs>
                  <a:gs pos="100000">
                    <a:srgbClr val="dcdcd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Oval 57"/>
              <p:cNvSpPr/>
              <p:nvPr/>
            </p:nvSpPr>
            <p:spPr>
              <a:xfrm>
                <a:off x="1174680" y="477720"/>
                <a:ext cx="7200720" cy="73080"/>
              </a:xfrm>
              <a:prstGeom prst="ellipse">
                <a:avLst/>
              </a:prstGeom>
              <a:gradFill rotWithShape="0">
                <a:gsLst>
                  <a:gs pos="0">
                    <a:srgbClr val="dcdcdc"/>
                  </a:gs>
                  <a:gs pos="5000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Oval 58"/>
              <p:cNvSpPr/>
              <p:nvPr/>
            </p:nvSpPr>
            <p:spPr>
              <a:xfrm>
                <a:off x="8423280" y="406080"/>
                <a:ext cx="177840" cy="503280"/>
              </a:xfrm>
              <a:prstGeom prst="ellipse">
                <a:avLst/>
              </a:prstGeom>
              <a:gradFill rotWithShape="0">
                <a:gsLst>
                  <a:gs pos="0">
                    <a:srgbClr val="dcdcdc"/>
                  </a:gs>
                  <a:gs pos="50000">
                    <a:srgbClr val="ffffff"/>
                  </a:gs>
                  <a:gs pos="100000">
                    <a:srgbClr val="dcdcd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Oval 59"/>
              <p:cNvSpPr/>
              <p:nvPr/>
            </p:nvSpPr>
            <p:spPr>
              <a:xfrm>
                <a:off x="866520" y="399960"/>
                <a:ext cx="177840" cy="503280"/>
              </a:xfrm>
              <a:prstGeom prst="ellipse">
                <a:avLst/>
              </a:prstGeom>
              <a:gradFill rotWithShape="0">
                <a:gsLst>
                  <a:gs pos="0">
                    <a:srgbClr val="dcdcdc"/>
                  </a:gs>
                  <a:gs pos="50000">
                    <a:srgbClr val="ffffff"/>
                  </a:gs>
                  <a:gs pos="100000">
                    <a:srgbClr val="dcdcd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11" name="WordArt 76"/>
          <p:cNvSpPr txBox="1"/>
          <p:nvPr/>
        </p:nvSpPr>
        <p:spPr>
          <a:xfrm>
            <a:off x="2243160" y="2567160"/>
            <a:ext cx="4657680" cy="1723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0">
                  <a:noFill/>
                </a:ln>
                <a:solidFill>
                  <a:srgbClr val="ffffff">
                    <a:alpha val="40000"/>
                  </a:srgbClr>
                </a:solidFill>
                <a:latin typeface="Arial Black"/>
              </a:rPr>
              <a:t>Screen</a:t>
            </a:r>
            <a:endParaRPr b="0" lang="en-US" sz="9600" spc="1" strike="noStrike">
              <a:ln w="0">
                <a:noFill/>
              </a:ln>
              <a:solidFill>
                <a:srgbClr val="ffffff">
                  <a:alpha val="40000"/>
                </a:srgbClr>
              </a:solidFill>
              <a:latin typeface="Arial Black"/>
              <a:ea typeface="Arial Black"/>
            </a:endParaRPr>
          </a:p>
        </p:txBody>
      </p:sp>
    </p:spTree>
  </p:cSld>
  <p:transition advTm="8000">
    <p:cover dir="u"/>
  </p:transition>
  <p:timing>
    <p:tnLst>
      <p:par>
        <p:cTn id="1042" dur="indefinite" restart="never" nodeType="tmRoot">
          <p:childTnLst>
            <p:seq>
              <p:cTn id="1043" dur="indefinite" nodeType="mainSeq">
                <p:childTnLst>
                  <p:par>
                    <p:cTn id="1044" nodeType="clickEffect" fill="hold">
                      <p:stCondLst>
                        <p:cond delay="0"/>
                      </p:stCondLst>
                      <p:childTnLst>
                        <p:par>
                          <p:cTn id="10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8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50" nodeType="afterEffect" fill="hold" presetClass="exit" presetID="10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1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3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5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6" nodeType="afterEffect" fill="hold">
                            <p:stCondLst>
                              <p:cond delay="2800"/>
                            </p:stCondLst>
                            <p:childTnLst>
                              <p:par>
                                <p:cTn id="10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9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0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2" nodeType="afterEffect" fill="hold">
                            <p:stCondLst>
                              <p:cond delay="3800"/>
                            </p:stCondLst>
                            <p:childTnLst>
                              <p:par>
                                <p:cTn id="1063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2.59259E-006 L 2.77778E-006 0.79468 E">
                                      <p:cBhvr>
                                        <p:cTn id="1064" dur="2000" fill="hold"/>
                                        <p:tgtEl>
                                          <p:spTgt spid="2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6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87 3.7037E-006 L -0.00087 0.79259 E">
                                      <p:cBhvr>
                                        <p:cTn id="1066" dur="2000" fill="hold"/>
                                        <p:tgtEl>
                                          <p:spTgt spid="2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7" nodeType="afterEffect" fill="hold">
                            <p:stCondLst>
                              <p:cond delay="5800"/>
                            </p:stCondLst>
                            <p:childTnLst>
                              <p:par>
                                <p:cTn id="10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ext Box 4"/>
          <p:cNvSpPr/>
          <p:nvPr/>
        </p:nvSpPr>
        <p:spPr>
          <a:xfrm>
            <a:off x="2523600" y="2819520"/>
            <a:ext cx="3823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rial Black"/>
                <a:ea typeface="宋体"/>
              </a:rPr>
              <a:t>Shrink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0">
    <p:cover dir="u"/>
  </p:transition>
  <p:timing>
    <p:tnLst>
      <p:par>
        <p:cTn id="1071" dur="indefinite" restart="never" nodeType="tmRoot">
          <p:childTnLst>
            <p:seq>
              <p:cTn id="1072" dur="indefinite" nodeType="mainSeq">
                <p:childTnLst>
                  <p:par>
                    <p:cTn id="1073" nodeType="clickEffect" fill="hold">
                      <p:stCondLst>
                        <p:cond delay="0"/>
                      </p:stCondLst>
                      <p:childTnLst>
                        <p:par>
                          <p:cTn id="10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7" dur="3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3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0" autoRev="1" nodeType="after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1081" dur="300" fill="hold"/>
                                        <p:tgtEl>
                                          <p:spTgt spid="312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2" nodeType="afterEffect" fill="hold">
                            <p:stCondLst>
                              <p:cond delay="4100"/>
                            </p:stCondLst>
                            <p:childTnLst>
                              <p:par>
                                <p:cTn id="108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84" dur="500" fill="hold"/>
                                        <p:tgtEl>
                                          <p:spTgt spid="312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5" nodeType="afterEffect" fill="hold">
                            <p:stCondLst>
                              <p:cond delay="4600"/>
                            </p:stCondLst>
                            <p:childTnLst>
                              <p:par>
                                <p:cTn id="108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87" dur="1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08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89" dur="300" fill="hold"/>
                                        <p:tgtEl>
                                          <p:spTgt spid="312"/>
                                        </p:tgtEl>
                                      </p:cBhvr>
                                      <p:to x="2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09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91" dur="200" fill="hold"/>
                                        <p:tgtEl>
                                          <p:spTgt spid="312"/>
                                        </p:tgtEl>
                                      </p:cBhvr>
                                      <p:to x="100000" y="5000"/>
                                    </p:animScale>
                                  </p:childTnLst>
                                </p:cTn>
                              </p:par>
                              <p:par>
                                <p:cTn id="1092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1093" dur="300" fill="hold"/>
                                        <p:tgtEl>
                                          <p:spTgt spid="312"/>
                                        </p:tgtEl>
                                      </p:cBhvr>
                                      <p:to x="-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4"/>
          <p:cNvSpPr/>
          <p:nvPr/>
        </p:nvSpPr>
        <p:spPr>
          <a:xfrm>
            <a:off x="457200" y="320364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Black"/>
                <a:ea typeface="宋体"/>
              </a:rPr>
              <a:t>Spir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Rectangle 5"/>
          <p:cNvSpPr/>
          <p:nvPr/>
        </p:nvSpPr>
        <p:spPr>
          <a:xfrm>
            <a:off x="457200" y="320040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Black"/>
                <a:ea typeface="宋体"/>
              </a:rPr>
              <a:t>Spir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Rectangle 6"/>
          <p:cNvSpPr/>
          <p:nvPr/>
        </p:nvSpPr>
        <p:spPr>
          <a:xfrm>
            <a:off x="457200" y="320364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Black"/>
                <a:ea typeface="宋体"/>
              </a:rPr>
              <a:t>Spir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Rectangle 7"/>
          <p:cNvSpPr/>
          <p:nvPr/>
        </p:nvSpPr>
        <p:spPr>
          <a:xfrm>
            <a:off x="457200" y="320040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Black"/>
                <a:ea typeface="宋体"/>
              </a:rPr>
              <a:t>Spir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Rectangle 8"/>
          <p:cNvSpPr/>
          <p:nvPr/>
        </p:nvSpPr>
        <p:spPr>
          <a:xfrm>
            <a:off x="457200" y="320040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Black"/>
                <a:ea typeface="宋体"/>
              </a:rPr>
              <a:t>Spir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4000">
    <p:cover dir="u"/>
  </p:transition>
  <p:timing>
    <p:tnLst>
      <p:par>
        <p:cTn id="1094" dur="indefinite" restart="never" nodeType="tmRoot">
          <p:childTnLst>
            <p:seq>
              <p:cTn id="1095" dur="indefinite" nodeType="mainSeq">
                <p:childTnLst>
                  <p:par>
                    <p:cTn id="1096" nodeType="clickEffect" fill="hold">
                      <p:stCondLst>
                        <p:cond delay="0"/>
                      </p:stCondLst>
                      <p:childTnLst>
                        <p:par>
                          <p:cTn id="10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0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43200000">
                                      <p:cBhvr>
                                        <p:cTn id="1103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04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6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8" nodeType="with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-43200000">
                                      <p:cBhvr>
                                        <p:cTn id="1109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10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2" dur="2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2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4" nodeType="withEffect" fill="hold" presetClass="emph" presetID="8">
                                  <p:stCondLst>
                                    <p:cond delay="200"/>
                                  </p:stCondLst>
                                  <p:childTnLst>
                                    <p:animRot by="-43200000">
                                      <p:cBhvr>
                                        <p:cTn id="1115" dur="2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16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8" dur="2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9" dur="2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0" nodeType="withEffect" fill="hold" presetClass="emph" presetID="8">
                                  <p:stCondLst>
                                    <p:cond delay="300"/>
                                  </p:stCondLst>
                                  <p:childTnLst>
                                    <p:animRot by="-43200000">
                                      <p:cBhvr>
                                        <p:cTn id="1121" dur="2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22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4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6" nodeType="withEffect" fill="hold" presetClass="emph" presetID="8">
                                  <p:stCondLst>
                                    <p:cond delay="400"/>
                                  </p:stCondLst>
                                  <p:childTnLst>
                                    <p:animRot by="-43200000">
                                      <p:cBhvr>
                                        <p:cTn id="1127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WordArt 15"/>
          <p:cNvSpPr txBox="1"/>
          <p:nvPr/>
        </p:nvSpPr>
        <p:spPr>
          <a:xfrm>
            <a:off x="6515280" y="2543040"/>
            <a:ext cx="876240" cy="17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P</a:t>
            </a:r>
            <a:endParaRPr b="0" lang="en-US" sz="96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19" name="WordArt 14"/>
          <p:cNvSpPr txBox="1"/>
          <p:nvPr/>
        </p:nvSpPr>
        <p:spPr>
          <a:xfrm>
            <a:off x="5105520" y="2543040"/>
            <a:ext cx="876240" cy="17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M</a:t>
            </a:r>
            <a:endParaRPr b="0" lang="en-US" sz="96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20" name="WordArt 13"/>
          <p:cNvSpPr txBox="1"/>
          <p:nvPr/>
        </p:nvSpPr>
        <p:spPr>
          <a:xfrm>
            <a:off x="3848040" y="2543040"/>
            <a:ext cx="876240" cy="17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A</a:t>
            </a:r>
            <a:endParaRPr b="0" lang="en-US" sz="96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21" name="WordArt 12"/>
          <p:cNvSpPr txBox="1"/>
          <p:nvPr/>
        </p:nvSpPr>
        <p:spPr>
          <a:xfrm>
            <a:off x="2666880" y="2514600"/>
            <a:ext cx="876600" cy="17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T</a:t>
            </a:r>
            <a:endParaRPr b="0" lang="en-US" sz="96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22" name="WordArt 11"/>
          <p:cNvSpPr txBox="1"/>
          <p:nvPr/>
        </p:nvSpPr>
        <p:spPr>
          <a:xfrm>
            <a:off x="1486080" y="2514600"/>
            <a:ext cx="876240" cy="17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S</a:t>
            </a:r>
            <a:endParaRPr b="0" lang="en-US" sz="96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grpSp>
        <p:nvGrpSpPr>
          <p:cNvPr id="323" name="Group 9"/>
          <p:cNvGrpSpPr/>
          <p:nvPr/>
        </p:nvGrpSpPr>
        <p:grpSpPr>
          <a:xfrm>
            <a:off x="1066680" y="-900000"/>
            <a:ext cx="3580920" cy="3566520"/>
            <a:chOff x="1066680" y="-900000"/>
            <a:chExt cx="3580920" cy="3566520"/>
          </a:xfrm>
        </p:grpSpPr>
        <p:sp>
          <p:nvSpPr>
            <p:cNvPr id="324" name="AutoShape 6"/>
            <p:cNvSpPr/>
            <p:nvPr/>
          </p:nvSpPr>
          <p:spPr>
            <a:xfrm>
              <a:off x="1066680" y="-199080"/>
              <a:ext cx="3580920" cy="2865600"/>
            </a:xfrm>
            <a:prstGeom prst="roundRect">
              <a:avLst>
                <a:gd name="adj" fmla="val 16667"/>
              </a:avLst>
            </a:pr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"/>
            <p:cNvSpPr/>
            <p:nvPr/>
          </p:nvSpPr>
          <p:spPr>
            <a:xfrm>
              <a:off x="2467800" y="209520"/>
              <a:ext cx="1557000" cy="1227960"/>
            </a:xfrm>
            <a:prstGeom prst="ellipse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182f7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8"/>
            <p:cNvSpPr/>
            <p:nvPr/>
          </p:nvSpPr>
          <p:spPr>
            <a:xfrm rot="20093400">
              <a:off x="2623680" y="-685800"/>
              <a:ext cx="1557000" cy="2456280"/>
            </a:xfrm>
            <a:prstGeom prst="ellipse">
              <a:avLst/>
            </a:prstGeom>
            <a:gradFill rotWithShape="0">
              <a:gsLst>
                <a:gs pos="0">
                  <a:srgbClr val="182f5e"/>
                </a:gs>
                <a:gs pos="50000">
                  <a:srgbClr val="3366cc"/>
                </a:gs>
                <a:gs pos="100000">
                  <a:srgbClr val="182f5e"/>
                </a:gs>
              </a:gsLst>
              <a:lin ang="4206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WordArt 16"/>
          <p:cNvSpPr txBox="1"/>
          <p:nvPr/>
        </p:nvSpPr>
        <p:spPr>
          <a:xfrm>
            <a:off x="1447920" y="2514600"/>
            <a:ext cx="594360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Stamp</a:t>
            </a:r>
            <a:endParaRPr b="0" lang="en-US" sz="96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28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0">
    <p:cover dir="u"/>
  </p:transition>
  <p:timing>
    <p:tnLst>
      <p:par>
        <p:cTn id="1128" dur="indefinite" restart="never" nodeType="tmRoot">
          <p:childTnLst>
            <p:seq>
              <p:cTn id="1129" dur="indefinite" nodeType="mainSeq">
                <p:childTnLst>
                  <p:par>
                    <p:cTn id="1130" nodeType="clickEffect" fill="hold">
                      <p:stCondLst>
                        <p:cond delay="0"/>
                      </p:stCondLst>
                      <p:childTnLst>
                        <p:par>
                          <p:cTn id="1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33" dur="500" fill="hold"/>
                                        <p:tgtEl>
                                          <p:spTgt spid="323"/>
                                        </p:tgtEl>
                                      </p:cBhvr>
                                      <p:to x="65000" y="65000"/>
                                    </p:animScale>
                                  </p:childTnLst>
                                </p:cTn>
                              </p:par>
                              <p:par>
                                <p:cTn id="113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2.54335E-006 L -0.09583 0.32185 E">
                                      <p:cBhvr>
                                        <p:cTn id="1135" dur="500" fill="hold"/>
                                        <p:tgtEl>
                                          <p:spTgt spid="3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4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41" dur="500" fill="hold"/>
                                        <p:tgtEl>
                                          <p:spTgt spid="32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14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583 0.32145 L 0.14583 0.02209 E">
                                      <p:cBhvr>
                                        <p:cTn id="1143" dur="500" fill="hold"/>
                                        <p:tgtEl>
                                          <p:spTgt spid="3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46" dur="500" fill="hold"/>
                                        <p:tgtEl>
                                          <p:spTgt spid="323"/>
                                        </p:tgtEl>
                                      </p:cBhvr>
                                      <p:to x="65000" y="65000"/>
                                    </p:animScale>
                                  </p:childTnLst>
                                </p:cTn>
                              </p:par>
                              <p:par>
                                <p:cTn id="114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4583 0.02196 L 0.0875 0.31075 E">
                                      <p:cBhvr>
                                        <p:cTn id="1148" dur="500" fill="hold"/>
                                        <p:tgtEl>
                                          <p:spTgt spid="3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5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54" dur="500" fill="hold"/>
                                        <p:tgtEl>
                                          <p:spTgt spid="32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15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75 0.31075 L 0.1875 -0.07769 E">
                                      <p:cBhvr>
                                        <p:cTn id="1156" dur="500" fill="hold"/>
                                        <p:tgtEl>
                                          <p:spTgt spid="3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59" dur="500" fill="hold"/>
                                        <p:tgtEl>
                                          <p:spTgt spid="323"/>
                                        </p:tgtEl>
                                      </p:cBhvr>
                                      <p:to x="65000" y="65000"/>
                                    </p:animScale>
                                  </p:childTnLst>
                                </p:cTn>
                              </p:par>
                              <p:par>
                                <p:cTn id="1160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875 -0.07769 L 0.22083 0.31075 E">
                                      <p:cBhvr>
                                        <p:cTn id="1161" dur="500" fill="hold"/>
                                        <p:tgtEl>
                                          <p:spTgt spid="3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6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67" dur="500" fill="hold"/>
                                        <p:tgtEl>
                                          <p:spTgt spid="32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168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083 0.31075 L 0.27917 -0.06659 E">
                                      <p:cBhvr>
                                        <p:cTn id="1169" dur="500" fill="hold"/>
                                        <p:tgtEl>
                                          <p:spTgt spid="3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7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72" dur="500" fill="hold"/>
                                        <p:tgtEl>
                                          <p:spTgt spid="323"/>
                                        </p:tgtEl>
                                      </p:cBhvr>
                                      <p:to x="65000" y="65000"/>
                                    </p:animScale>
                                  </p:childTnLst>
                                </p:cTn>
                              </p:par>
                              <p:par>
                                <p:cTn id="117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7917 -0.06659 L 0.3375 0.31075 E">
                                      <p:cBhvr>
                                        <p:cTn id="1174" dur="500" fill="hold"/>
                                        <p:tgtEl>
                                          <p:spTgt spid="3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1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17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80" dur="500" fill="hold"/>
                                        <p:tgtEl>
                                          <p:spTgt spid="32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181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375 0.31075 L 0.37917 -0.05549 E">
                                      <p:cBhvr>
                                        <p:cTn id="1182" dur="500" fill="hold"/>
                                        <p:tgtEl>
                                          <p:spTgt spid="3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8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85" dur="500" fill="hold"/>
                                        <p:tgtEl>
                                          <p:spTgt spid="323"/>
                                        </p:tgtEl>
                                      </p:cBhvr>
                                      <p:to x="65000" y="65000"/>
                                    </p:animScale>
                                  </p:childTnLst>
                                </p:cTn>
                              </p:par>
                              <p:par>
                                <p:cTn id="118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7917 -0.05549 L 0.47917 0.32185 E">
                                      <p:cBhvr>
                                        <p:cTn id="1187" dur="500" fill="hold"/>
                                        <p:tgtEl>
                                          <p:spTgt spid="3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1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192" nodeType="after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1193" dur="1000" fill="hold"/>
                                        <p:tgtEl>
                                          <p:spTgt spid="323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1194" nodeType="withEffect" fill="hold" presetClass="path" presetID="64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.47917 0.32185 L 0.97917 -0.79908 E">
                                      <p:cBhvr>
                                        <p:cTn id="1195" dur="1000" fill="hold"/>
                                        <p:tgtEl>
                                          <p:spTgt spid="3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6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19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98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01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04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07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0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4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Group 111"/>
          <p:cNvGrpSpPr/>
          <p:nvPr/>
        </p:nvGrpSpPr>
        <p:grpSpPr>
          <a:xfrm>
            <a:off x="3505320" y="-283680"/>
            <a:ext cx="1828800" cy="6227280"/>
            <a:chOff x="3505320" y="-283680"/>
            <a:chExt cx="1828800" cy="6227280"/>
          </a:xfrm>
        </p:grpSpPr>
        <p:grpSp>
          <p:nvGrpSpPr>
            <p:cNvPr id="330" name="Group 110"/>
            <p:cNvGrpSpPr/>
            <p:nvPr/>
          </p:nvGrpSpPr>
          <p:grpSpPr>
            <a:xfrm>
              <a:off x="3505320" y="-283680"/>
              <a:ext cx="1828800" cy="6227280"/>
              <a:chOff x="3505320" y="-283680"/>
              <a:chExt cx="1828800" cy="6227280"/>
            </a:xfrm>
          </p:grpSpPr>
          <p:grpSp>
            <p:nvGrpSpPr>
              <p:cNvPr id="331" name="Group 101"/>
              <p:cNvGrpSpPr/>
              <p:nvPr/>
            </p:nvGrpSpPr>
            <p:grpSpPr>
              <a:xfrm>
                <a:off x="4390920" y="-283680"/>
                <a:ext cx="103320" cy="406440"/>
                <a:chOff x="4390920" y="-283680"/>
                <a:chExt cx="103320" cy="406440"/>
              </a:xfrm>
            </p:grpSpPr>
            <p:sp>
              <p:nvSpPr>
                <p:cNvPr id="332" name="Oval 102"/>
                <p:cNvSpPr/>
                <p:nvPr/>
              </p:nvSpPr>
              <p:spPr>
                <a:xfrm rot="5400000">
                  <a:off x="4239360" y="-132120"/>
                  <a:ext cx="406440" cy="10332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280" bIns="26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3" name="Oval 103"/>
                <p:cNvSpPr/>
                <p:nvPr/>
              </p:nvSpPr>
              <p:spPr>
                <a:xfrm rot="5400000">
                  <a:off x="4239360" y="-132120"/>
                  <a:ext cx="406440" cy="103320"/>
                </a:xfrm>
                <a:prstGeom prst="ellipse">
                  <a:avLst/>
                </a:prstGeom>
                <a:noFill/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280" bIns="26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4" name="Group 97"/>
              <p:cNvGrpSpPr/>
              <p:nvPr/>
            </p:nvGrpSpPr>
            <p:grpSpPr>
              <a:xfrm>
                <a:off x="4384800" y="77760"/>
                <a:ext cx="102960" cy="406440"/>
                <a:chOff x="4384800" y="77760"/>
                <a:chExt cx="102960" cy="406440"/>
              </a:xfrm>
            </p:grpSpPr>
            <p:sp>
              <p:nvSpPr>
                <p:cNvPr id="335" name="Oval 98"/>
                <p:cNvSpPr/>
                <p:nvPr/>
              </p:nvSpPr>
              <p:spPr>
                <a:xfrm rot="5400000">
                  <a:off x="4232880" y="229320"/>
                  <a:ext cx="406440" cy="10296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920" bIns="25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6" name="Oval 99"/>
                <p:cNvSpPr/>
                <p:nvPr/>
              </p:nvSpPr>
              <p:spPr>
                <a:xfrm rot="5400000">
                  <a:off x="4232880" y="229320"/>
                  <a:ext cx="406440" cy="102960"/>
                </a:xfrm>
                <a:prstGeom prst="ellipse">
                  <a:avLst/>
                </a:prstGeom>
                <a:noFill/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920" bIns="25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7" name="Group 89"/>
              <p:cNvGrpSpPr/>
              <p:nvPr/>
            </p:nvGrpSpPr>
            <p:grpSpPr>
              <a:xfrm>
                <a:off x="4379400" y="436680"/>
                <a:ext cx="103320" cy="406440"/>
                <a:chOff x="4379400" y="436680"/>
                <a:chExt cx="103320" cy="406440"/>
              </a:xfrm>
            </p:grpSpPr>
            <p:sp>
              <p:nvSpPr>
                <p:cNvPr id="338" name="Oval 90"/>
                <p:cNvSpPr/>
                <p:nvPr/>
              </p:nvSpPr>
              <p:spPr>
                <a:xfrm rot="5400000">
                  <a:off x="4227840" y="588240"/>
                  <a:ext cx="406440" cy="10332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280" bIns="26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9" name="Oval 91"/>
                <p:cNvSpPr/>
                <p:nvPr/>
              </p:nvSpPr>
              <p:spPr>
                <a:xfrm rot="5400000">
                  <a:off x="4227840" y="588240"/>
                  <a:ext cx="406440" cy="103320"/>
                </a:xfrm>
                <a:prstGeom prst="ellipse">
                  <a:avLst/>
                </a:prstGeom>
                <a:noFill/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280" bIns="26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0" name="Group 85"/>
              <p:cNvGrpSpPr/>
              <p:nvPr/>
            </p:nvGrpSpPr>
            <p:grpSpPr>
              <a:xfrm>
                <a:off x="4377960" y="803160"/>
                <a:ext cx="103320" cy="406440"/>
                <a:chOff x="4377960" y="803160"/>
                <a:chExt cx="103320" cy="406440"/>
              </a:xfrm>
            </p:grpSpPr>
            <p:sp>
              <p:nvSpPr>
                <p:cNvPr id="341" name="Oval 86"/>
                <p:cNvSpPr/>
                <p:nvPr/>
              </p:nvSpPr>
              <p:spPr>
                <a:xfrm rot="5400000">
                  <a:off x="4226400" y="954720"/>
                  <a:ext cx="406440" cy="10332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280" bIns="26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2" name="Oval 87"/>
                <p:cNvSpPr/>
                <p:nvPr/>
              </p:nvSpPr>
              <p:spPr>
                <a:xfrm rot="5400000">
                  <a:off x="4226400" y="954720"/>
                  <a:ext cx="406440" cy="103320"/>
                </a:xfrm>
                <a:prstGeom prst="ellipse">
                  <a:avLst/>
                </a:prstGeom>
                <a:noFill/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280" bIns="26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3" name="Group 81"/>
              <p:cNvGrpSpPr/>
              <p:nvPr/>
            </p:nvGrpSpPr>
            <p:grpSpPr>
              <a:xfrm>
                <a:off x="4377960" y="1171440"/>
                <a:ext cx="103320" cy="406440"/>
                <a:chOff x="4377960" y="1171440"/>
                <a:chExt cx="103320" cy="406440"/>
              </a:xfrm>
            </p:grpSpPr>
            <p:sp>
              <p:nvSpPr>
                <p:cNvPr id="344" name="Oval 82"/>
                <p:cNvSpPr/>
                <p:nvPr/>
              </p:nvSpPr>
              <p:spPr>
                <a:xfrm rot="5400000">
                  <a:off x="4226400" y="1323000"/>
                  <a:ext cx="406440" cy="10332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280" bIns="26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5" name="Oval 83"/>
                <p:cNvSpPr/>
                <p:nvPr/>
              </p:nvSpPr>
              <p:spPr>
                <a:xfrm rot="5400000">
                  <a:off x="4226400" y="1323000"/>
                  <a:ext cx="406440" cy="103320"/>
                </a:xfrm>
                <a:prstGeom prst="ellipse">
                  <a:avLst/>
                </a:prstGeom>
                <a:noFill/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280" bIns="26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6" name="Group 77"/>
              <p:cNvGrpSpPr/>
              <p:nvPr/>
            </p:nvGrpSpPr>
            <p:grpSpPr>
              <a:xfrm>
                <a:off x="4376880" y="1535040"/>
                <a:ext cx="102960" cy="406440"/>
                <a:chOff x="4376880" y="1535040"/>
                <a:chExt cx="102960" cy="406440"/>
              </a:xfrm>
            </p:grpSpPr>
            <p:sp>
              <p:nvSpPr>
                <p:cNvPr id="347" name="Oval 78"/>
                <p:cNvSpPr/>
                <p:nvPr/>
              </p:nvSpPr>
              <p:spPr>
                <a:xfrm rot="5400000">
                  <a:off x="4224960" y="1686600"/>
                  <a:ext cx="406440" cy="10296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920" bIns="25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8" name="Oval 79"/>
                <p:cNvSpPr/>
                <p:nvPr/>
              </p:nvSpPr>
              <p:spPr>
                <a:xfrm rot="5400000">
                  <a:off x="4224960" y="1686600"/>
                  <a:ext cx="406440" cy="102960"/>
                </a:xfrm>
                <a:prstGeom prst="ellipse">
                  <a:avLst/>
                </a:prstGeom>
                <a:noFill/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920" bIns="25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9" name="Group 73"/>
              <p:cNvGrpSpPr/>
              <p:nvPr/>
            </p:nvGrpSpPr>
            <p:grpSpPr>
              <a:xfrm>
                <a:off x="4379400" y="1897200"/>
                <a:ext cx="103320" cy="406440"/>
                <a:chOff x="4379400" y="1897200"/>
                <a:chExt cx="103320" cy="406440"/>
              </a:xfrm>
            </p:grpSpPr>
            <p:sp>
              <p:nvSpPr>
                <p:cNvPr id="350" name="Oval 74"/>
                <p:cNvSpPr/>
                <p:nvPr/>
              </p:nvSpPr>
              <p:spPr>
                <a:xfrm rot="5400000">
                  <a:off x="4227840" y="2048760"/>
                  <a:ext cx="406440" cy="10332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280" bIns="26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1" name="Oval 75"/>
                <p:cNvSpPr/>
                <p:nvPr/>
              </p:nvSpPr>
              <p:spPr>
                <a:xfrm rot="5400000">
                  <a:off x="4227840" y="2048760"/>
                  <a:ext cx="406440" cy="103320"/>
                </a:xfrm>
                <a:prstGeom prst="ellipse">
                  <a:avLst/>
                </a:prstGeom>
                <a:noFill/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280" bIns="26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2" name="Group 65"/>
              <p:cNvGrpSpPr/>
              <p:nvPr/>
            </p:nvGrpSpPr>
            <p:grpSpPr>
              <a:xfrm>
                <a:off x="4382640" y="2265480"/>
                <a:ext cx="103320" cy="406440"/>
                <a:chOff x="4382640" y="2265480"/>
                <a:chExt cx="103320" cy="406440"/>
              </a:xfrm>
            </p:grpSpPr>
            <p:sp>
              <p:nvSpPr>
                <p:cNvPr id="353" name="Oval 66"/>
                <p:cNvSpPr/>
                <p:nvPr/>
              </p:nvSpPr>
              <p:spPr>
                <a:xfrm rot="5400000">
                  <a:off x="4231080" y="2417040"/>
                  <a:ext cx="406440" cy="10332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280" bIns="26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4" name="Oval 67"/>
                <p:cNvSpPr/>
                <p:nvPr/>
              </p:nvSpPr>
              <p:spPr>
                <a:xfrm rot="5400000">
                  <a:off x="4231080" y="2417040"/>
                  <a:ext cx="406440" cy="103320"/>
                </a:xfrm>
                <a:prstGeom prst="ellipse">
                  <a:avLst/>
                </a:prstGeom>
                <a:noFill/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280" bIns="26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5" name="Group 64"/>
              <p:cNvGrpSpPr/>
              <p:nvPr/>
            </p:nvGrpSpPr>
            <p:grpSpPr>
              <a:xfrm>
                <a:off x="4379400" y="2622600"/>
                <a:ext cx="103320" cy="406440"/>
                <a:chOff x="4379400" y="2622600"/>
                <a:chExt cx="103320" cy="406440"/>
              </a:xfrm>
            </p:grpSpPr>
            <p:sp>
              <p:nvSpPr>
                <p:cNvPr id="356" name="Oval 61"/>
                <p:cNvSpPr/>
                <p:nvPr/>
              </p:nvSpPr>
              <p:spPr>
                <a:xfrm rot="5400000">
                  <a:off x="4227840" y="2774160"/>
                  <a:ext cx="406440" cy="10332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280" bIns="26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7" name="Oval 62"/>
                <p:cNvSpPr/>
                <p:nvPr/>
              </p:nvSpPr>
              <p:spPr>
                <a:xfrm rot="5400000">
                  <a:off x="4227840" y="2774160"/>
                  <a:ext cx="406440" cy="103320"/>
                </a:xfrm>
                <a:prstGeom prst="ellipse">
                  <a:avLst/>
                </a:prstGeom>
                <a:noFill/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280" bIns="26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8" name="Oval 9"/>
              <p:cNvSpPr/>
              <p:nvPr/>
            </p:nvSpPr>
            <p:spPr>
              <a:xfrm>
                <a:off x="3886200" y="3352680"/>
                <a:ext cx="1066680" cy="685800"/>
              </a:xfrm>
              <a:prstGeom prst="ellipse">
                <a:avLst/>
              </a:prstGeom>
              <a:noFill/>
              <a:ln w="57240">
                <a:solidFill>
                  <a:srgbClr val="e6ba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Oval 10"/>
              <p:cNvSpPr/>
              <p:nvPr/>
            </p:nvSpPr>
            <p:spPr>
              <a:xfrm>
                <a:off x="3886200" y="3352680"/>
                <a:ext cx="1066680" cy="6858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Oval 8"/>
              <p:cNvSpPr/>
              <p:nvPr/>
            </p:nvSpPr>
            <p:spPr>
              <a:xfrm>
                <a:off x="4254480" y="3848040"/>
                <a:ext cx="304920" cy="152640"/>
              </a:xfrm>
              <a:prstGeom prst="ellipse">
                <a:avLst/>
              </a:prstGeom>
              <a:gradFill rotWithShape="0">
                <a:gsLst>
                  <a:gs pos="0">
                    <a:srgbClr val="e6ba00"/>
                  </a:gs>
                  <a:gs pos="100000">
                    <a:srgbClr val="6a56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AutoShape 6"/>
              <p:cNvSpPr/>
              <p:nvPr/>
            </p:nvSpPr>
            <p:spPr>
              <a:xfrm>
                <a:off x="4267080" y="4038480"/>
                <a:ext cx="304920" cy="3049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e6ba00"/>
                  </a:gs>
                  <a:gs pos="100000">
                    <a:srgbClr val="6a5600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Oval 4"/>
              <p:cNvSpPr/>
              <p:nvPr/>
            </p:nvSpPr>
            <p:spPr>
              <a:xfrm>
                <a:off x="3505320" y="4267080"/>
                <a:ext cx="1828800" cy="16765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65e00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Oval 5"/>
              <p:cNvSpPr/>
              <p:nvPr/>
            </p:nvSpPr>
            <p:spPr>
              <a:xfrm>
                <a:off x="3606840" y="4343400"/>
                <a:ext cx="1600200" cy="1523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AutoShape 7"/>
              <p:cNvSpPr/>
              <p:nvPr/>
            </p:nvSpPr>
            <p:spPr>
              <a:xfrm>
                <a:off x="4191120" y="3962520"/>
                <a:ext cx="457200" cy="15228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e6ba00"/>
                  </a:gs>
                  <a:gs pos="100000">
                    <a:srgbClr val="6a5600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Oval 27"/>
              <p:cNvSpPr/>
              <p:nvPr/>
            </p:nvSpPr>
            <p:spPr>
              <a:xfrm>
                <a:off x="4386240" y="5567400"/>
                <a:ext cx="42840" cy="42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0000"/>
                  </a:gs>
                </a:gsLst>
                <a:lin ang="189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200" bIns="-16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Line 29"/>
              <p:cNvSpPr/>
              <p:nvPr/>
            </p:nvSpPr>
            <p:spPr>
              <a:xfrm flipH="1" flipV="1">
                <a:off x="4341960" y="5521320"/>
                <a:ext cx="48960" cy="540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Line 30"/>
              <p:cNvSpPr/>
              <p:nvPr/>
            </p:nvSpPr>
            <p:spPr>
              <a:xfrm>
                <a:off x="4410000" y="5611680"/>
                <a:ext cx="9720" cy="85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Oval 44"/>
              <p:cNvSpPr/>
              <p:nvPr/>
            </p:nvSpPr>
            <p:spPr>
              <a:xfrm>
                <a:off x="3755880" y="4479840"/>
                <a:ext cx="1333800" cy="1219320"/>
              </a:xfrm>
              <a:prstGeom prst="ellipse">
                <a:avLst/>
              </a:prstGeom>
              <a:noFill/>
              <a:ln w="2844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Text Box 33"/>
              <p:cNvSpPr/>
              <p:nvPr/>
            </p:nvSpPr>
            <p:spPr>
              <a:xfrm>
                <a:off x="4607280" y="439740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Text Box 34"/>
              <p:cNvSpPr/>
              <p:nvPr/>
            </p:nvSpPr>
            <p:spPr>
              <a:xfrm>
                <a:off x="4826160" y="46069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2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Text Box 40"/>
              <p:cNvSpPr/>
              <p:nvPr/>
            </p:nvSpPr>
            <p:spPr>
              <a:xfrm>
                <a:off x="4834440" y="51814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4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Text Box 41"/>
              <p:cNvSpPr/>
              <p:nvPr/>
            </p:nvSpPr>
            <p:spPr>
              <a:xfrm>
                <a:off x="4578840" y="541980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5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Text Box 38"/>
              <p:cNvSpPr/>
              <p:nvPr/>
            </p:nvSpPr>
            <p:spPr>
              <a:xfrm>
                <a:off x="3883680" y="4381560"/>
                <a:ext cx="433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1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Text Box 39"/>
              <p:cNvSpPr/>
              <p:nvPr/>
            </p:nvSpPr>
            <p:spPr>
              <a:xfrm>
                <a:off x="3634200" y="4608360"/>
                <a:ext cx="433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1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Text Box 42"/>
              <p:cNvSpPr/>
              <p:nvPr/>
            </p:nvSpPr>
            <p:spPr>
              <a:xfrm>
                <a:off x="3689640" y="517860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8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Text Box 43"/>
              <p:cNvSpPr/>
              <p:nvPr/>
            </p:nvSpPr>
            <p:spPr>
              <a:xfrm>
                <a:off x="3921480" y="54007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7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Line 45"/>
              <p:cNvSpPr/>
              <p:nvPr/>
            </p:nvSpPr>
            <p:spPr>
              <a:xfrm flipH="1">
                <a:off x="3655800" y="5062680"/>
                <a:ext cx="88920" cy="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Text Box 36"/>
              <p:cNvSpPr/>
              <p:nvPr/>
            </p:nvSpPr>
            <p:spPr>
              <a:xfrm>
                <a:off x="3602520" y="488304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9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Line 49"/>
              <p:cNvSpPr/>
              <p:nvPr/>
            </p:nvSpPr>
            <p:spPr>
              <a:xfrm flipH="1" flipV="1">
                <a:off x="4416480" y="4393800"/>
                <a:ext cx="1440" cy="8892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Line 50"/>
              <p:cNvSpPr/>
              <p:nvPr/>
            </p:nvSpPr>
            <p:spPr>
              <a:xfrm flipV="1">
                <a:off x="4405320" y="5698800"/>
                <a:ext cx="1440" cy="10332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Line 51"/>
              <p:cNvSpPr/>
              <p:nvPr/>
            </p:nvSpPr>
            <p:spPr>
              <a:xfrm flipH="1">
                <a:off x="5090760" y="5083200"/>
                <a:ext cx="88920" cy="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Text Box 35"/>
              <p:cNvSpPr/>
              <p:nvPr/>
            </p:nvSpPr>
            <p:spPr>
              <a:xfrm>
                <a:off x="4915080" y="490860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3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Oval 26"/>
              <p:cNvSpPr/>
              <p:nvPr/>
            </p:nvSpPr>
            <p:spPr>
              <a:xfrm>
                <a:off x="4255920" y="5440320"/>
                <a:ext cx="301680" cy="289080"/>
              </a:xfrm>
              <a:prstGeom prst="ellipse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Text Box 32"/>
              <p:cNvSpPr/>
              <p:nvPr/>
            </p:nvSpPr>
            <p:spPr>
              <a:xfrm>
                <a:off x="4196160" y="4292640"/>
                <a:ext cx="433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12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Oval 52"/>
              <p:cNvSpPr/>
              <p:nvPr/>
            </p:nvSpPr>
            <p:spPr>
              <a:xfrm rot="5400000">
                <a:off x="4226400" y="3143880"/>
                <a:ext cx="406440" cy="10332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Oval 53"/>
              <p:cNvSpPr/>
              <p:nvPr/>
            </p:nvSpPr>
            <p:spPr>
              <a:xfrm rot="5400000">
                <a:off x="4226400" y="3143880"/>
                <a:ext cx="406440" cy="103320"/>
              </a:xfrm>
              <a:prstGeom prst="ellipse">
                <a:avLst/>
              </a:prstGeom>
              <a:noFill/>
              <a:ln w="1908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Freeform 54"/>
              <p:cNvSpPr/>
              <p:nvPr/>
            </p:nvSpPr>
            <p:spPr>
              <a:xfrm>
                <a:off x="4379760" y="3351240"/>
                <a:ext cx="34920" cy="1440"/>
              </a:xfrm>
              <a:custGeom>
                <a:avLst/>
                <a:gdLst>
                  <a:gd name="textAreaLeft" fmla="*/ 0 w 34920"/>
                  <a:gd name="textAreaRight" fmla="*/ 34920 w 3492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22" h="1">
                    <a:moveTo>
                      <a:pt x="0" y="0"/>
                    </a:moveTo>
                    <a:lnTo>
                      <a:pt x="12" y="1"/>
                    </a:lnTo>
                    <a:lnTo>
                      <a:pt x="22" y="1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Line 56"/>
              <p:cNvSpPr/>
              <p:nvPr/>
            </p:nvSpPr>
            <p:spPr>
              <a:xfrm flipV="1">
                <a:off x="4363920" y="3371400"/>
                <a:ext cx="68400" cy="1800"/>
              </a:xfrm>
              <a:prstGeom prst="line">
                <a:avLst/>
              </a:prstGeom>
              <a:ln w="19080">
                <a:solidFill>
                  <a:srgbClr val="e6ba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Line 57"/>
              <p:cNvSpPr/>
              <p:nvPr/>
            </p:nvSpPr>
            <p:spPr>
              <a:xfrm flipV="1">
                <a:off x="4356000" y="3331800"/>
                <a:ext cx="71640" cy="3240"/>
              </a:xfrm>
              <a:prstGeom prst="line">
                <a:avLst/>
              </a:prstGeom>
              <a:ln w="19080">
                <a:solidFill>
                  <a:srgbClr val="e6ba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Freeform 63"/>
              <p:cNvSpPr/>
              <p:nvPr/>
            </p:nvSpPr>
            <p:spPr>
              <a:xfrm>
                <a:off x="4398840" y="2978280"/>
                <a:ext cx="27000" cy="5220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52200"/>
                  <a:gd name="textAreaBottom" fmla="*/ 52560 h 52200"/>
                </a:gdLst>
                <a:ahLst/>
                <a:rect l="textAreaLeft" t="textAreaTop" r="textAreaRight" b="textAreaBottom"/>
                <a:pathLst>
                  <a:path w="17" h="33">
                    <a:moveTo>
                      <a:pt x="17" y="33"/>
                    </a:moveTo>
                    <a:lnTo>
                      <a:pt x="8" y="18"/>
                    </a:lnTo>
                    <a:lnTo>
                      <a:pt x="0" y="1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Freeform 71"/>
              <p:cNvSpPr/>
              <p:nvPr/>
            </p:nvSpPr>
            <p:spPr>
              <a:xfrm>
                <a:off x="4397400" y="2589120"/>
                <a:ext cx="42840" cy="9072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90720"/>
                  <a:gd name="textAreaBottom" fmla="*/ 91080 h 90720"/>
                </a:gdLst>
                <a:ahLst/>
                <a:rect l="textAreaLeft" t="textAreaTop" r="textAreaRight" b="textAreaBottom"/>
                <a:pathLst>
                  <a:path w="17" h="33">
                    <a:moveTo>
                      <a:pt x="17" y="33"/>
                    </a:moveTo>
                    <a:lnTo>
                      <a:pt x="8" y="18"/>
                    </a:lnTo>
                    <a:lnTo>
                      <a:pt x="0" y="1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Freeform 76"/>
              <p:cNvSpPr/>
              <p:nvPr/>
            </p:nvSpPr>
            <p:spPr>
              <a:xfrm>
                <a:off x="4390920" y="2217600"/>
                <a:ext cx="42840" cy="9072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90720"/>
                  <a:gd name="textAreaBottom" fmla="*/ 91080 h 90720"/>
                </a:gdLst>
                <a:ahLst/>
                <a:rect l="textAreaLeft" t="textAreaTop" r="textAreaRight" b="textAreaBottom"/>
                <a:pathLst>
                  <a:path w="17" h="33">
                    <a:moveTo>
                      <a:pt x="17" y="33"/>
                    </a:moveTo>
                    <a:lnTo>
                      <a:pt x="8" y="18"/>
                    </a:lnTo>
                    <a:lnTo>
                      <a:pt x="0" y="1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Freeform 80"/>
              <p:cNvSpPr/>
              <p:nvPr/>
            </p:nvSpPr>
            <p:spPr>
              <a:xfrm>
                <a:off x="4387680" y="1855800"/>
                <a:ext cx="43200" cy="90360"/>
              </a:xfrm>
              <a:custGeom>
                <a:avLst/>
                <a:gdLst>
                  <a:gd name="textAreaLeft" fmla="*/ 0 w 43200"/>
                  <a:gd name="textAreaRight" fmla="*/ 43560 w 43200"/>
                  <a:gd name="textAreaTop" fmla="*/ 0 h 90360"/>
                  <a:gd name="textAreaBottom" fmla="*/ 90720 h 90360"/>
                </a:gdLst>
                <a:ahLst/>
                <a:rect l="textAreaLeft" t="textAreaTop" r="textAreaRight" b="textAreaBottom"/>
                <a:pathLst>
                  <a:path w="17" h="33">
                    <a:moveTo>
                      <a:pt x="17" y="33"/>
                    </a:moveTo>
                    <a:lnTo>
                      <a:pt x="8" y="18"/>
                    </a:lnTo>
                    <a:lnTo>
                      <a:pt x="0" y="1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Freeform 84"/>
              <p:cNvSpPr/>
              <p:nvPr/>
            </p:nvSpPr>
            <p:spPr>
              <a:xfrm>
                <a:off x="4389480" y="1492200"/>
                <a:ext cx="42840" cy="9036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90360"/>
                  <a:gd name="textAreaBottom" fmla="*/ 90720 h 90360"/>
                </a:gdLst>
                <a:ahLst/>
                <a:rect l="textAreaLeft" t="textAreaTop" r="textAreaRight" b="textAreaBottom"/>
                <a:pathLst>
                  <a:path w="17" h="33">
                    <a:moveTo>
                      <a:pt x="17" y="33"/>
                    </a:moveTo>
                    <a:lnTo>
                      <a:pt x="8" y="18"/>
                    </a:lnTo>
                    <a:lnTo>
                      <a:pt x="0" y="1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Freeform 88"/>
              <p:cNvSpPr/>
              <p:nvPr/>
            </p:nvSpPr>
            <p:spPr>
              <a:xfrm>
                <a:off x="4389480" y="1123920"/>
                <a:ext cx="42840" cy="9036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90360"/>
                  <a:gd name="textAreaBottom" fmla="*/ 90720 h 90360"/>
                </a:gdLst>
                <a:ahLst/>
                <a:rect l="textAreaLeft" t="textAreaTop" r="textAreaRight" b="textAreaBottom"/>
                <a:pathLst>
                  <a:path w="17" h="33">
                    <a:moveTo>
                      <a:pt x="17" y="33"/>
                    </a:moveTo>
                    <a:lnTo>
                      <a:pt x="8" y="18"/>
                    </a:lnTo>
                    <a:lnTo>
                      <a:pt x="0" y="1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Freeform 92"/>
              <p:cNvSpPr/>
              <p:nvPr/>
            </p:nvSpPr>
            <p:spPr>
              <a:xfrm>
                <a:off x="4390920" y="757080"/>
                <a:ext cx="42840" cy="9072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90720"/>
                  <a:gd name="textAreaBottom" fmla="*/ 91080 h 90720"/>
                </a:gdLst>
                <a:ahLst/>
                <a:rect l="textAreaLeft" t="textAreaTop" r="textAreaRight" b="textAreaBottom"/>
                <a:pathLst>
                  <a:path w="17" h="33">
                    <a:moveTo>
                      <a:pt x="17" y="33"/>
                    </a:moveTo>
                    <a:lnTo>
                      <a:pt x="8" y="18"/>
                    </a:lnTo>
                    <a:lnTo>
                      <a:pt x="0" y="1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Freeform 100"/>
              <p:cNvSpPr/>
              <p:nvPr/>
            </p:nvSpPr>
            <p:spPr>
              <a:xfrm>
                <a:off x="4395960" y="398520"/>
                <a:ext cx="42840" cy="9036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90360"/>
                  <a:gd name="textAreaBottom" fmla="*/ 90720 h 90360"/>
                </a:gdLst>
                <a:ahLst/>
                <a:rect l="textAreaLeft" t="textAreaTop" r="textAreaRight" b="textAreaBottom"/>
                <a:pathLst>
                  <a:path w="17" h="33">
                    <a:moveTo>
                      <a:pt x="17" y="33"/>
                    </a:moveTo>
                    <a:lnTo>
                      <a:pt x="8" y="18"/>
                    </a:lnTo>
                    <a:lnTo>
                      <a:pt x="0" y="1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Freeform 104"/>
              <p:cNvSpPr/>
              <p:nvPr/>
            </p:nvSpPr>
            <p:spPr>
              <a:xfrm>
                <a:off x="4402080" y="36360"/>
                <a:ext cx="42840" cy="9072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90720"/>
                  <a:gd name="textAreaBottom" fmla="*/ 91080 h 90720"/>
                </a:gdLst>
                <a:ahLst/>
                <a:rect l="textAreaLeft" t="textAreaTop" r="textAreaRight" b="textAreaBottom"/>
                <a:pathLst>
                  <a:path w="17" h="33">
                    <a:moveTo>
                      <a:pt x="17" y="33"/>
                    </a:moveTo>
                    <a:lnTo>
                      <a:pt x="8" y="18"/>
                    </a:lnTo>
                    <a:lnTo>
                      <a:pt x="0" y="1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99" name="Line 13"/>
            <p:cNvSpPr/>
            <p:nvPr/>
          </p:nvSpPr>
          <p:spPr>
            <a:xfrm flipV="1">
              <a:off x="4470480" y="4927320"/>
              <a:ext cx="304560" cy="152280"/>
            </a:xfrm>
            <a:prstGeom prst="line">
              <a:avLst/>
            </a:prstGeom>
            <a:ln w="28440">
              <a:solidFill>
                <a:srgbClr val="e6ba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Freeform 20"/>
            <p:cNvSpPr/>
            <p:nvPr/>
          </p:nvSpPr>
          <p:spPr>
            <a:xfrm>
              <a:off x="4460760" y="4921200"/>
              <a:ext cx="309600" cy="171360"/>
            </a:xfrm>
            <a:custGeom>
              <a:avLst/>
              <a:gdLst>
                <a:gd name="textAreaLeft" fmla="*/ 0 w 309600"/>
                <a:gd name="textAreaRight" fmla="*/ 309960 w 30960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195" h="108">
                  <a:moveTo>
                    <a:pt x="9" y="88"/>
                  </a:moveTo>
                  <a:lnTo>
                    <a:pt x="142" y="22"/>
                  </a:lnTo>
                  <a:lnTo>
                    <a:pt x="79" y="18"/>
                  </a:lnTo>
                  <a:lnTo>
                    <a:pt x="78" y="7"/>
                  </a:lnTo>
                  <a:lnTo>
                    <a:pt x="87" y="0"/>
                  </a:lnTo>
                  <a:lnTo>
                    <a:pt x="195" y="6"/>
                  </a:lnTo>
                  <a:lnTo>
                    <a:pt x="132" y="102"/>
                  </a:lnTo>
                  <a:lnTo>
                    <a:pt x="123" y="97"/>
                  </a:lnTo>
                  <a:lnTo>
                    <a:pt x="118" y="88"/>
                  </a:lnTo>
                  <a:lnTo>
                    <a:pt x="156" y="37"/>
                  </a:lnTo>
                  <a:lnTo>
                    <a:pt x="10" y="108"/>
                  </a:lnTo>
                  <a:lnTo>
                    <a:pt x="0" y="97"/>
                  </a:lnTo>
                  <a:lnTo>
                    <a:pt x="21" y="8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01" name="Group 109"/>
            <p:cNvGrpSpPr/>
            <p:nvPr/>
          </p:nvGrpSpPr>
          <p:grpSpPr>
            <a:xfrm>
              <a:off x="4451400" y="5156280"/>
              <a:ext cx="404640" cy="353880"/>
              <a:chOff x="4451400" y="5156280"/>
              <a:chExt cx="404640" cy="353880"/>
            </a:xfrm>
          </p:grpSpPr>
          <p:sp>
            <p:nvSpPr>
              <p:cNvPr id="402" name="Line 24"/>
              <p:cNvSpPr/>
              <p:nvPr/>
            </p:nvSpPr>
            <p:spPr>
              <a:xfrm>
                <a:off x="4465800" y="5167440"/>
                <a:ext cx="390240" cy="341280"/>
              </a:xfrm>
              <a:prstGeom prst="line">
                <a:avLst/>
              </a:prstGeom>
              <a:ln w="28440">
                <a:solidFill>
                  <a:srgbClr val="e6ba00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Freeform 25"/>
              <p:cNvSpPr/>
              <p:nvPr/>
            </p:nvSpPr>
            <p:spPr>
              <a:xfrm>
                <a:off x="4451400" y="5156280"/>
                <a:ext cx="401760" cy="353880"/>
              </a:xfrm>
              <a:custGeom>
                <a:avLst/>
                <a:gdLst>
                  <a:gd name="textAreaLeft" fmla="*/ 0 w 401760"/>
                  <a:gd name="textAreaRight" fmla="*/ 402120 w 401760"/>
                  <a:gd name="textAreaTop" fmla="*/ 0 h 353880"/>
                  <a:gd name="textAreaBottom" fmla="*/ 354240 h 353880"/>
                </a:gdLst>
                <a:ahLst/>
                <a:rect l="textAreaLeft" t="textAreaTop" r="textAreaRight" b="textAreaBottom"/>
                <a:pathLst>
                  <a:path w="253" h="223">
                    <a:moveTo>
                      <a:pt x="0" y="16"/>
                    </a:moveTo>
                    <a:lnTo>
                      <a:pt x="207" y="193"/>
                    </a:lnTo>
                    <a:lnTo>
                      <a:pt x="153" y="181"/>
                    </a:lnTo>
                    <a:lnTo>
                      <a:pt x="144" y="193"/>
                    </a:lnTo>
                    <a:lnTo>
                      <a:pt x="160" y="204"/>
                    </a:lnTo>
                    <a:lnTo>
                      <a:pt x="253" y="223"/>
                    </a:lnTo>
                    <a:lnTo>
                      <a:pt x="219" y="115"/>
                    </a:lnTo>
                    <a:lnTo>
                      <a:pt x="204" y="117"/>
                    </a:lnTo>
                    <a:lnTo>
                      <a:pt x="208" y="135"/>
                    </a:lnTo>
                    <a:lnTo>
                      <a:pt x="220" y="178"/>
                    </a:lnTo>
                    <a:lnTo>
                      <a:pt x="13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04" name="Oval 12"/>
            <p:cNvSpPr/>
            <p:nvPr/>
          </p:nvSpPr>
          <p:spPr>
            <a:xfrm>
              <a:off x="4343400" y="5041800"/>
              <a:ext cx="139680" cy="139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89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5" name="Line 112"/>
          <p:cNvSpPr/>
          <p:nvPr/>
        </p:nvSpPr>
        <p:spPr>
          <a:xfrm flipV="1">
            <a:off x="4448160" y="4689000"/>
            <a:ext cx="289080" cy="365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Line 113"/>
          <p:cNvSpPr/>
          <p:nvPr/>
        </p:nvSpPr>
        <p:spPr>
          <a:xfrm flipV="1">
            <a:off x="4479840" y="4832280"/>
            <a:ext cx="39384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Line 114"/>
          <p:cNvSpPr/>
          <p:nvPr/>
        </p:nvSpPr>
        <p:spPr>
          <a:xfrm flipV="1">
            <a:off x="4496040" y="4970160"/>
            <a:ext cx="455400" cy="128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Line 115"/>
          <p:cNvSpPr/>
          <p:nvPr/>
        </p:nvSpPr>
        <p:spPr>
          <a:xfrm>
            <a:off x="4496400" y="5108040"/>
            <a:ext cx="484560" cy="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Line 116"/>
          <p:cNvSpPr/>
          <p:nvPr/>
        </p:nvSpPr>
        <p:spPr>
          <a:xfrm>
            <a:off x="4494240" y="5130360"/>
            <a:ext cx="474480" cy="141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Line 118"/>
          <p:cNvSpPr/>
          <p:nvPr/>
        </p:nvSpPr>
        <p:spPr>
          <a:xfrm>
            <a:off x="4452120" y="5164200"/>
            <a:ext cx="363600" cy="33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WordArt 119"/>
          <p:cNvSpPr txBox="1"/>
          <p:nvPr/>
        </p:nvSpPr>
        <p:spPr>
          <a:xfrm>
            <a:off x="2104920" y="2567160"/>
            <a:ext cx="4934160" cy="1723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Ticking</a:t>
            </a:r>
            <a:endParaRPr b="0" lang="en-US" sz="96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12" name="Line 117"/>
          <p:cNvSpPr/>
          <p:nvPr/>
        </p:nvSpPr>
        <p:spPr>
          <a:xfrm>
            <a:off x="4478760" y="5155200"/>
            <a:ext cx="423000" cy="24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Line 120"/>
          <p:cNvSpPr/>
          <p:nvPr/>
        </p:nvSpPr>
        <p:spPr>
          <a:xfrm>
            <a:off x="4431600" y="5169960"/>
            <a:ext cx="241200" cy="370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Line 121"/>
          <p:cNvSpPr/>
          <p:nvPr/>
        </p:nvSpPr>
        <p:spPr>
          <a:xfrm>
            <a:off x="4429800" y="5189400"/>
            <a:ext cx="124200" cy="40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Line 122"/>
          <p:cNvSpPr/>
          <p:nvPr/>
        </p:nvSpPr>
        <p:spPr>
          <a:xfrm flipH="1">
            <a:off x="4404240" y="5175360"/>
            <a:ext cx="10080" cy="45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0">
    <p:cover dir="u"/>
  </p:transition>
  <p:timing>
    <p:tnLst>
      <p:par>
        <p:cTn id="1215" dur="indefinite" restart="never" nodeType="tmRoot">
          <p:childTnLst>
            <p:seq>
              <p:cTn id="1216" dur="indefinite" nodeType="mainSeq">
                <p:childTnLst>
                  <p:par>
                    <p:cTn id="1217" nodeType="clickEffect" fill="hold">
                      <p:stCondLst>
                        <p:cond delay="0"/>
                      </p:stCondLst>
                      <p:childTnLst>
                        <p:par>
                          <p:cTn id="1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5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1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37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1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2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4" nodeType="with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6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0" nodeType="with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2" nodeType="withEffect" fill="hold" presetClass="exit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4" nodeType="with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6" nodeType="withEffect" fill="hold" presetClass="exit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8" nodeType="with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0" nodeType="withEffect" fill="hold" presetClass="exit" presetID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2" nodeType="withEffect" fill="hold" presetClass="entr" presetID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WordArt 4"/>
          <p:cNvSpPr txBox="1"/>
          <p:nvPr/>
        </p:nvSpPr>
        <p:spPr>
          <a:xfrm>
            <a:off x="1816200" y="2971800"/>
            <a:ext cx="56386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Zooming</a:t>
            </a:r>
            <a:endParaRPr b="0" lang="en-US" sz="96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17" name="WordArt 5"/>
          <p:cNvSpPr txBox="1"/>
          <p:nvPr/>
        </p:nvSpPr>
        <p:spPr>
          <a:xfrm>
            <a:off x="1822320" y="2971800"/>
            <a:ext cx="56390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Zooming</a:t>
            </a:r>
            <a:endParaRPr b="0" lang="en-US" sz="9600" spc="1" strike="noStrike">
              <a:ln w="0">
                <a:noFill/>
              </a:ln>
              <a:solidFill>
                <a:srgbClr val="ffffff">
                  <a:alpha val="80000"/>
                </a:srgbClr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18" name="WordArt 6"/>
          <p:cNvSpPr txBox="1"/>
          <p:nvPr/>
        </p:nvSpPr>
        <p:spPr>
          <a:xfrm>
            <a:off x="1803240" y="2959200"/>
            <a:ext cx="56390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0">
                  <a:noFill/>
                </a:ln>
                <a:solidFill>
                  <a:srgbClr val="ffffff">
                    <a:alpha val="70000"/>
                  </a:srgbClr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Zooming</a:t>
            </a:r>
            <a:endParaRPr b="0" lang="en-US" sz="9600" spc="1" strike="noStrike">
              <a:ln w="0">
                <a:noFill/>
              </a:ln>
              <a:solidFill>
                <a:srgbClr val="ffffff">
                  <a:alpha val="70000"/>
                </a:srgbClr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19" name="WordArt 7"/>
          <p:cNvSpPr txBox="1"/>
          <p:nvPr/>
        </p:nvSpPr>
        <p:spPr>
          <a:xfrm>
            <a:off x="1803240" y="2971800"/>
            <a:ext cx="56390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0">
                  <a:noFill/>
                </a:ln>
                <a:solidFill>
                  <a:srgbClr val="ffffff">
                    <a:alpha val="60000"/>
                  </a:srgbClr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Zooming</a:t>
            </a:r>
            <a:endParaRPr b="0" lang="en-US" sz="9600" spc="1" strike="noStrike">
              <a:ln w="0">
                <a:noFill/>
              </a:ln>
              <a:solidFill>
                <a:srgbClr val="ffffff">
                  <a:alpha val="60000"/>
                </a:srgbClr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0" name="WordArt 8"/>
          <p:cNvSpPr txBox="1"/>
          <p:nvPr/>
        </p:nvSpPr>
        <p:spPr>
          <a:xfrm>
            <a:off x="1809720" y="2959200"/>
            <a:ext cx="56386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0">
                  <a:noFill/>
                </a:ln>
                <a:solidFill>
                  <a:srgbClr val="ffffff">
                    <a:alpha val="50000"/>
                  </a:srgbClr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Zooming</a:t>
            </a:r>
            <a:endParaRPr b="0" lang="en-US" sz="9600" spc="1" strike="noStrike">
              <a:ln w="0">
                <a:noFill/>
              </a:ln>
              <a:solidFill>
                <a:srgbClr val="ffffff">
                  <a:alpha val="50000"/>
                </a:srgbClr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advTm="0">
    <p:cover dir="u"/>
  </p:transition>
  <p:timing>
    <p:tnLst>
      <p:par>
        <p:cTn id="1264" dur="indefinite" restart="never" nodeType="tmRoot">
          <p:childTnLst>
            <p:seq>
              <p:cTn id="1265" dur="indefinite" nodeType="mainSeq">
                <p:childTnLst>
                  <p:par>
                    <p:cTn id="1266" nodeType="clickEffect" fill="hold">
                      <p:stCondLst>
                        <p:cond delay="0"/>
                      </p:stCondLst>
                      <p:childTnLst>
                        <p:par>
                          <p:cTn id="1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0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1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2" nodeType="withEffect" fill="hold" presetClass="entr" presetID="23" presetSubtype="3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4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5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6" nodeType="withEffect" fill="hold" presetClass="entr" presetID="23" presetSubtype="3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8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9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0" nodeType="withEffect" fill="hold" presetClass="entr" presetID="23" presetSubtype="3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2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3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4" nodeType="withEffect" fill="hold" presetClass="entr" presetID="23" presetSubtype="3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6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8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1289" nodeType="afterEffect" fill="hold" presetClass="exit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90" dur="50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1" dur="50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3" nodeType="withEffect" fill="hold" presetClass="exit" presetID="23" presetSubtype="32">
                                  <p:stCondLst>
                                    <p:cond delay="1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94" dur="500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5" dur="500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7" nodeType="withEffect" fill="hold" presetClass="exit" presetID="23" presetSubtype="32">
                                  <p:stCondLst>
                                    <p:cond delay="1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98" dur="50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9" dur="50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1" nodeType="withEffect" fill="hold" presetClass="exit" presetID="23" presetSubtype="32">
                                  <p:stCondLst>
                                    <p:cond delay="1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02" dur="500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3" dur="500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xit" presetID="23" presetSubtype="32">
                                  <p:stCondLst>
                                    <p:cond delay="1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06" dur="500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7" dur="500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Text Box 4"/>
          <p:cNvSpPr/>
          <p:nvPr/>
        </p:nvSpPr>
        <p:spPr>
          <a:xfrm>
            <a:off x="2070000" y="2635200"/>
            <a:ext cx="531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dddddd"/>
                </a:solidFill>
                <a:latin typeface="Arial Black"/>
                <a:ea typeface="宋体"/>
              </a:rPr>
              <a:t>Zooming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Text Box 5"/>
          <p:cNvSpPr/>
          <p:nvPr/>
        </p:nvSpPr>
        <p:spPr>
          <a:xfrm>
            <a:off x="2068200" y="2635200"/>
            <a:ext cx="531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  <a:ea typeface="宋体"/>
              </a:rPr>
              <a:t>Zooming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09" dur="indefinite" restart="never" nodeType="tmRoot">
          <p:childTnLst>
            <p:seq>
              <p:cTn id="1310" dur="indefinite" nodeType="mainSeq">
                <p:childTnLst>
                  <p:par>
                    <p:cTn id="1311" nodeType="clickEffect" fill="hold">
                      <p:stCondLst>
                        <p:cond delay="0"/>
                      </p:stCondLst>
                      <p:childTnLst>
                        <p:par>
                          <p:cTn id="1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5" dur="3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6" dur="3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9" dur="3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0" dur="3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1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132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23" dur="100" fill="hold"/>
                                        <p:tgtEl>
                                          <p:spTgt spid="421"/>
                                        </p:tgtEl>
                                      </p:cBhvr>
                                      <p:to x="250000" y="2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4" nodeType="afterEffect" fill="hold">
                            <p:stCondLst>
                              <p:cond delay="400"/>
                            </p:stCondLst>
                            <p:childTnLst>
                              <p:par>
                                <p:cTn id="132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26" dur="1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27" dur="50" autoRev="1" fill="hold"/>
                                        <p:tgtEl>
                                          <p:spTgt spid="42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2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30" dur="2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33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Picture 4" descr="pptHeaven"/>
          <p:cNvPicPr/>
          <p:nvPr/>
        </p:nvPicPr>
        <p:blipFill>
          <a:blip r:embed="rId1"/>
          <a:stretch/>
        </p:blipFill>
        <p:spPr>
          <a:xfrm>
            <a:off x="3505320" y="1295280"/>
            <a:ext cx="2514600" cy="2184480"/>
          </a:xfrm>
          <a:prstGeom prst="rect">
            <a:avLst/>
          </a:prstGeom>
          <a:ln w="0">
            <a:noFill/>
          </a:ln>
        </p:spPr>
      </p:pic>
      <p:sp>
        <p:nvSpPr>
          <p:cNvPr id="424" name="Text Box 7"/>
          <p:cNvSpPr/>
          <p:nvPr/>
        </p:nvSpPr>
        <p:spPr>
          <a:xfrm>
            <a:off x="0" y="615636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  <a:ea typeface="宋体"/>
              </a:rPr>
              <a:t>Credi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AutoShape 8"/>
          <p:cNvSpPr/>
          <p:nvPr/>
        </p:nvSpPr>
        <p:spPr>
          <a:xfrm>
            <a:off x="1143000" y="4368960"/>
            <a:ext cx="7137360" cy="104112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3366cc">
                  <a:alpha val="50196"/>
                </a:srgbClr>
              </a:gs>
              <a:gs pos="100000">
                <a:srgbClr val="182f5e"/>
              </a:gs>
            </a:gsLst>
            <a:lin ang="2700000"/>
          </a:gradFill>
          <a:ln cap="sq" w="1260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Text Box 9"/>
          <p:cNvSpPr/>
          <p:nvPr/>
        </p:nvSpPr>
        <p:spPr>
          <a:xfrm>
            <a:off x="3048120" y="4708440"/>
            <a:ext cx="36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Presentation Done By: tohl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u"/>
  </p:transition>
  <p:timing>
    <p:tnLst>
      <p:par>
        <p:cTn id="1335" dur="indefinite" restart="never" nodeType="tmRoot">
          <p:childTnLst>
            <p:seq>
              <p:cTn id="1336" dur="indefinite" nodeType="mainSeq">
                <p:childTnLst>
                  <p:par>
                    <p:cTn id="1337" nodeType="clickEffect" fill="hold">
                      <p:stCondLst>
                        <p:cond delay="0"/>
                      </p:stCondLst>
                      <p:childTnLst>
                        <p:par>
                          <p:cTn id="1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1" dur="2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2" dur="2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3" nodeType="with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Rot by="21600000">
                                      <p:cBhvr>
                                        <p:cTn id="1344" dur="2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7" dur="2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8" dur="2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9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13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2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3" nodeType="afterEffect" fill="hold">
                            <p:stCondLst>
                              <p:cond delay="3700"/>
                            </p:stCondLst>
                            <p:childTnLst>
                              <p:par>
                                <p:cTn id="1354" nodeType="afterEffect" fill="hold" presetClass="entr" presetID="1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356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7" nodeType="afterEffect" fill="hold">
                            <p:stCondLst>
                              <p:cond delay="5200"/>
                            </p:stCondLst>
                            <p:childTnLst>
                              <p:par>
                                <p:cTn id="1358" nodeType="afterEffect" fill="hold" presetClass="exit" presetID="12" presetSubtype="8">
                                  <p:stCondLst>
                                    <p:cond delay="2000"/>
                                  </p:stCondLst>
                                  <p:childTnLst>
                                    <p:animEffect filter="slide(fromLeft)" transition="out">
                                      <p:cBhvr additive="repl">
                                        <p:cTn id="1359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1" nodeType="afterEffect" fill="hold">
                            <p:stCondLst>
                              <p:cond delay="7700"/>
                            </p:stCondLst>
                            <p:childTnLst>
                              <p:par>
                                <p:cTn id="1362" nodeType="afterEffect" fill="hold" presetClass="exit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1363" dur="2000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4" dur="2000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6" nodeType="with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Rot by="21600000">
                                      <p:cBhvr>
                                        <p:cTn id="1367" dur="2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68" nodeType="withEffect" fill="hold" presetClass="exit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369" dur="2000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0" dur="2000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0106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 Black"/>
                <a:ea typeface="宋体"/>
              </a:rPr>
              <a:t>About this Presentation</a:t>
            </a: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宋体"/>
              </a:rPr>
              <a:t>This presentation is a showcase for PowerPoint Heav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宋体"/>
              </a:rPr>
              <a:t>In this showcase, you will see a wide variety of anim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宋体"/>
              </a:rPr>
              <a:t>Everything except the ‘PowerPoint Heaven’ logo is entirely done using PowerPoi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宋体"/>
              </a:rPr>
              <a:t>No animated gifs,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宋体"/>
              </a:rPr>
              <a:t>video or flash us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1" name="Group 10"/>
          <p:cNvGrpSpPr/>
          <p:nvPr/>
        </p:nvGrpSpPr>
        <p:grpSpPr>
          <a:xfrm>
            <a:off x="6629400" y="6324480"/>
            <a:ext cx="2209680" cy="381240"/>
            <a:chOff x="6629400" y="6324480"/>
            <a:chExt cx="2209680" cy="381240"/>
          </a:xfrm>
        </p:grpSpPr>
        <p:sp>
          <p:nvSpPr>
            <p:cNvPr id="92" name="Oval 4">
              <a:hlinkClick r:id="" action="ppaction://hlinkshowjump?jump=nextslide"/>
            </p:cNvPr>
            <p:cNvSpPr/>
            <p:nvPr/>
          </p:nvSpPr>
          <p:spPr>
            <a:xfrm>
              <a:off x="6629400" y="6324480"/>
              <a:ext cx="2209680" cy="381240"/>
            </a:xfrm>
            <a:prstGeom prst="ellipse">
              <a:avLst/>
            </a:prstGeom>
            <a:gradFill rotWithShape="0">
              <a:gsLst>
                <a:gs pos="0">
                  <a:srgbClr val="3366cc"/>
                </a:gs>
                <a:gs pos="100000">
                  <a:srgbClr val="182f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WordArt 5"/>
            <p:cNvSpPr txBox="1"/>
            <p:nvPr/>
          </p:nvSpPr>
          <p:spPr>
            <a:xfrm>
              <a:off x="7520040" y="6386400"/>
              <a:ext cx="428400" cy="25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Play</a:t>
              </a:r>
              <a:endPara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</p:spTree>
  </p:cSld>
  <p:transition>
    <p:cover dir="u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6"/>
          <p:cNvSpPr/>
          <p:nvPr/>
        </p:nvSpPr>
        <p:spPr>
          <a:xfrm>
            <a:off x="1796040" y="2590920"/>
            <a:ext cx="6107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  <a:ea typeface="宋体"/>
              </a:rPr>
              <a:t>Animating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1796040" y="2590920"/>
            <a:ext cx="6107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  <a:ea typeface="宋体"/>
              </a:rPr>
              <a:t>Animating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1796040" y="2590920"/>
            <a:ext cx="6107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  <a:ea typeface="宋体"/>
              </a:rPr>
              <a:t>Animating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0">
    <p:cover dir="u"/>
    <p:sndAc>
      <p:stSnd>
        <p:snd r:embed="rId1" name="Enigmate-Asim_Kha-2032.wav"/>
      </p:stSnd>
    </p:sndAc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Clr clrSpc="rgb">
                                      <p:cBhvr>
                                        <p:cTn id="7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1" nodeType="withEffect" fill="hold" presetClass="emph" presetID="3" presetSubtype="2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Clr clrSpc="rgb">
                                      <p:cBhvr>
                                        <p:cTn id="7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2800"/>
                            </p:stCondLst>
                            <p:childTnLst>
                              <p:par>
                                <p:cTn id="74" nodeType="after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280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2800"/>
                            </p:stCondLst>
                            <p:childTnLst>
                              <p:par>
                                <p:cTn id="80" nodeType="afterEffect" fill="hold" presetClass="emph" presetID="3" presetSubtype="2">
                                  <p:stCondLst>
                                    <p:cond delay="100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animClr clrSpc="rgb">
                                      <p:cBhvr>
                                        <p:cTn id="81" dur="3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82" nodeType="withEffect" fill="hold" presetClass="emph" presetID="3" presetSubtype="2">
                                  <p:stCondLst>
                                    <p:cond delay="130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animClr clrSpc="rgb">
                                      <p:cBhvr>
                                        <p:cTn id="83" dur="3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4640"/>
                            </p:stCondLst>
                            <p:childTnLst>
                              <p:par>
                                <p:cTn id="85" nodeType="after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464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4640"/>
                            </p:stCondLst>
                            <p:childTnLst>
                              <p:par>
                                <p:cTn id="91" nodeType="afterEffect" fill="hold" presetClass="emph" presetID="3" presetSubtype="2">
                                  <p:stCondLst>
                                    <p:cond delay="1000"/>
                                  </p:stCondLst>
                                  <p:iterate type="lt">
                                    <p:tmAbs val="10"/>
                                  </p:iterate>
                                  <p:childTnLst>
                                    <p:animClr clrSpc="rgb">
                                      <p:cBhvr>
                                        <p:cTn id="92" dur="1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93" nodeType="withEffect" fill="hold" presetClass="emph" presetID="3" presetSubtype="2">
                                  <p:stCondLst>
                                    <p:cond delay="1100"/>
                                  </p:stCondLst>
                                  <p:iterate type="lt">
                                    <p:tmAbs val="10"/>
                                  </p:iterate>
                                  <p:childTnLst>
                                    <p:animClr clrSpc="rgb">
                                      <p:cBhvr>
                                        <p:cTn id="94" dur="1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4"/>
          <p:cNvSpPr txBox="1"/>
          <p:nvPr/>
        </p:nvSpPr>
        <p:spPr>
          <a:xfrm>
            <a:off x="1371600" y="3124080"/>
            <a:ext cx="6553080" cy="17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Blinking</a:t>
            </a:r>
            <a:endParaRPr b="0" lang="en-US" sz="96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advTm="0">
    <p:cover dir="u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mph" presetID="35" repeatCount="1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8" nodeType="afterEffect" fill="hold" presetClass="emph" presetID="35" repeatCount="2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11" nodeType="afterEffect" fill="hold" presetClass="emph" presetID="35" repeatCount="3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2" dur="2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Group 4"/>
          <p:cNvGrpSpPr/>
          <p:nvPr/>
        </p:nvGrpSpPr>
        <p:grpSpPr>
          <a:xfrm>
            <a:off x="0" y="-54360"/>
            <a:ext cx="88920" cy="1197000"/>
            <a:chOff x="0" y="-54360"/>
            <a:chExt cx="88920" cy="1197000"/>
          </a:xfrm>
        </p:grpSpPr>
        <p:grpSp>
          <p:nvGrpSpPr>
            <p:cNvPr id="100" name="Group 5"/>
            <p:cNvGrpSpPr/>
            <p:nvPr/>
          </p:nvGrpSpPr>
          <p:grpSpPr>
            <a:xfrm>
              <a:off x="0" y="544320"/>
              <a:ext cx="88920" cy="598320"/>
              <a:chOff x="0" y="544320"/>
              <a:chExt cx="88920" cy="598320"/>
            </a:xfrm>
          </p:grpSpPr>
          <p:sp>
            <p:nvSpPr>
              <p:cNvPr id="101" name="AutoShape 6"/>
              <p:cNvSpPr/>
              <p:nvPr/>
            </p:nvSpPr>
            <p:spPr>
              <a:xfrm rot="16200000">
                <a:off x="-254520" y="798840"/>
                <a:ext cx="598320" cy="88920"/>
              </a:xfrm>
              <a:prstGeom prst="flowChartAlternateProcess">
                <a:avLst/>
              </a:prstGeom>
              <a:gradFill rotWithShape="0">
                <a:gsLst>
                  <a:gs pos="0">
                    <a:srgbClr val="996633"/>
                  </a:gs>
                  <a:gs pos="50000">
                    <a:srgbClr val="ddcbba"/>
                  </a:gs>
                  <a:gs pos="100000">
                    <a:srgbClr val="996633"/>
                  </a:gs>
                </a:gsLst>
                <a:lin ang="5400000"/>
              </a:gradFill>
              <a:ln cap="sq" w="1260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Oval 7"/>
              <p:cNvSpPr/>
              <p:nvPr/>
            </p:nvSpPr>
            <p:spPr>
              <a:xfrm rot="16200000">
                <a:off x="0" y="984960"/>
                <a:ext cx="88560" cy="88920"/>
              </a:xfrm>
              <a:prstGeom prst="ellipse">
                <a:avLst/>
              </a:prstGeom>
              <a:gradFill rotWithShape="0">
                <a:gsLst>
                  <a:gs pos="0">
                    <a:srgbClr val="472f18"/>
                  </a:gs>
                  <a:gs pos="50000">
                    <a:srgbClr val="996633"/>
                  </a:gs>
                  <a:gs pos="100000">
                    <a:srgbClr val="472f18"/>
                  </a:gs>
                </a:gsLst>
                <a:lin ang="0"/>
              </a:gradFill>
              <a:ln cap="sq" w="1260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Oval 8"/>
              <p:cNvSpPr/>
              <p:nvPr/>
            </p:nvSpPr>
            <p:spPr>
              <a:xfrm rot="16200000">
                <a:off x="0" y="637560"/>
                <a:ext cx="88920" cy="88920"/>
              </a:xfrm>
              <a:prstGeom prst="ellipse">
                <a:avLst/>
              </a:prstGeom>
              <a:gradFill rotWithShape="0">
                <a:gsLst>
                  <a:gs pos="0">
                    <a:srgbClr val="472f18"/>
                  </a:gs>
                  <a:gs pos="50000">
                    <a:srgbClr val="996633"/>
                  </a:gs>
                  <a:gs pos="100000">
                    <a:srgbClr val="472f18"/>
                  </a:gs>
                </a:gsLst>
                <a:lin ang="0"/>
              </a:gradFill>
              <a:ln cap="sq" w="1260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4" name="Rectangle 9"/>
            <p:cNvSpPr/>
            <p:nvPr/>
          </p:nvSpPr>
          <p:spPr>
            <a:xfrm rot="16200000">
              <a:off x="-254520" y="200160"/>
              <a:ext cx="598320" cy="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5" name="Group 22"/>
          <p:cNvGrpSpPr/>
          <p:nvPr/>
        </p:nvGrpSpPr>
        <p:grpSpPr>
          <a:xfrm>
            <a:off x="0" y="-54360"/>
            <a:ext cx="88920" cy="1197000"/>
            <a:chOff x="0" y="-54360"/>
            <a:chExt cx="88920" cy="1197000"/>
          </a:xfrm>
        </p:grpSpPr>
        <p:grpSp>
          <p:nvGrpSpPr>
            <p:cNvPr id="106" name="Group 23"/>
            <p:cNvGrpSpPr/>
            <p:nvPr/>
          </p:nvGrpSpPr>
          <p:grpSpPr>
            <a:xfrm>
              <a:off x="0" y="544320"/>
              <a:ext cx="88920" cy="598320"/>
              <a:chOff x="0" y="544320"/>
              <a:chExt cx="88920" cy="598320"/>
            </a:xfrm>
          </p:grpSpPr>
          <p:sp>
            <p:nvSpPr>
              <p:cNvPr id="107" name="AutoShape 24"/>
              <p:cNvSpPr/>
              <p:nvPr/>
            </p:nvSpPr>
            <p:spPr>
              <a:xfrm rot="16200000">
                <a:off x="-254520" y="798840"/>
                <a:ext cx="598320" cy="88920"/>
              </a:xfrm>
              <a:prstGeom prst="flowChartAlternateProcess">
                <a:avLst/>
              </a:prstGeom>
              <a:gradFill rotWithShape="0">
                <a:gsLst>
                  <a:gs pos="0">
                    <a:srgbClr val="996633"/>
                  </a:gs>
                  <a:gs pos="50000">
                    <a:srgbClr val="ddcbba"/>
                  </a:gs>
                  <a:gs pos="100000">
                    <a:srgbClr val="996633"/>
                  </a:gs>
                </a:gsLst>
                <a:lin ang="5400000"/>
              </a:gradFill>
              <a:ln cap="sq" w="1260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Oval 25"/>
              <p:cNvSpPr/>
              <p:nvPr/>
            </p:nvSpPr>
            <p:spPr>
              <a:xfrm rot="16200000">
                <a:off x="0" y="984960"/>
                <a:ext cx="88560" cy="88920"/>
              </a:xfrm>
              <a:prstGeom prst="ellipse">
                <a:avLst/>
              </a:prstGeom>
              <a:gradFill rotWithShape="0">
                <a:gsLst>
                  <a:gs pos="0">
                    <a:srgbClr val="472f18"/>
                  </a:gs>
                  <a:gs pos="50000">
                    <a:srgbClr val="996633"/>
                  </a:gs>
                  <a:gs pos="100000">
                    <a:srgbClr val="472f18"/>
                  </a:gs>
                </a:gsLst>
                <a:lin ang="0"/>
              </a:gradFill>
              <a:ln cap="sq" w="1260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Oval 26"/>
              <p:cNvSpPr/>
              <p:nvPr/>
            </p:nvSpPr>
            <p:spPr>
              <a:xfrm rot="16200000">
                <a:off x="0" y="637560"/>
                <a:ext cx="88920" cy="88920"/>
              </a:xfrm>
              <a:prstGeom prst="ellipse">
                <a:avLst/>
              </a:prstGeom>
              <a:gradFill rotWithShape="0">
                <a:gsLst>
                  <a:gs pos="0">
                    <a:srgbClr val="472f18"/>
                  </a:gs>
                  <a:gs pos="50000">
                    <a:srgbClr val="996633"/>
                  </a:gs>
                  <a:gs pos="100000">
                    <a:srgbClr val="472f18"/>
                  </a:gs>
                </a:gsLst>
                <a:lin ang="0"/>
              </a:gradFill>
              <a:ln cap="sq" w="1260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0" name="Rectangle 27"/>
            <p:cNvSpPr/>
            <p:nvPr/>
          </p:nvSpPr>
          <p:spPr>
            <a:xfrm rot="16200000">
              <a:off x="-254520" y="200160"/>
              <a:ext cx="598320" cy="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WordArt 40"/>
          <p:cNvSpPr txBox="1"/>
          <p:nvPr/>
        </p:nvSpPr>
        <p:spPr>
          <a:xfrm>
            <a:off x="2071800" y="2568600"/>
            <a:ext cx="5000400" cy="17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ounce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grpSp>
        <p:nvGrpSpPr>
          <p:cNvPr id="112" name="Group 47"/>
          <p:cNvGrpSpPr/>
          <p:nvPr/>
        </p:nvGrpSpPr>
        <p:grpSpPr>
          <a:xfrm>
            <a:off x="0" y="-54360"/>
            <a:ext cx="88920" cy="1197000"/>
            <a:chOff x="0" y="-54360"/>
            <a:chExt cx="88920" cy="1197000"/>
          </a:xfrm>
        </p:grpSpPr>
        <p:grpSp>
          <p:nvGrpSpPr>
            <p:cNvPr id="113" name="Group 48"/>
            <p:cNvGrpSpPr/>
            <p:nvPr/>
          </p:nvGrpSpPr>
          <p:grpSpPr>
            <a:xfrm>
              <a:off x="0" y="544320"/>
              <a:ext cx="88920" cy="598320"/>
              <a:chOff x="0" y="544320"/>
              <a:chExt cx="88920" cy="598320"/>
            </a:xfrm>
          </p:grpSpPr>
          <p:sp>
            <p:nvSpPr>
              <p:cNvPr id="114" name="AutoShape 49"/>
              <p:cNvSpPr/>
              <p:nvPr/>
            </p:nvSpPr>
            <p:spPr>
              <a:xfrm rot="16200000">
                <a:off x="-254520" y="798840"/>
                <a:ext cx="598320" cy="88920"/>
              </a:xfrm>
              <a:prstGeom prst="flowChartAlternateProcess">
                <a:avLst/>
              </a:prstGeom>
              <a:gradFill rotWithShape="0">
                <a:gsLst>
                  <a:gs pos="0">
                    <a:srgbClr val="996633"/>
                  </a:gs>
                  <a:gs pos="50000">
                    <a:srgbClr val="ddcbba"/>
                  </a:gs>
                  <a:gs pos="100000">
                    <a:srgbClr val="996633"/>
                  </a:gs>
                </a:gsLst>
                <a:lin ang="5400000"/>
              </a:gradFill>
              <a:ln cap="sq" w="1260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Oval 50"/>
              <p:cNvSpPr/>
              <p:nvPr/>
            </p:nvSpPr>
            <p:spPr>
              <a:xfrm rot="16200000">
                <a:off x="0" y="984960"/>
                <a:ext cx="88560" cy="88920"/>
              </a:xfrm>
              <a:prstGeom prst="ellipse">
                <a:avLst/>
              </a:prstGeom>
              <a:gradFill rotWithShape="0">
                <a:gsLst>
                  <a:gs pos="0">
                    <a:srgbClr val="472f18"/>
                  </a:gs>
                  <a:gs pos="50000">
                    <a:srgbClr val="996633"/>
                  </a:gs>
                  <a:gs pos="100000">
                    <a:srgbClr val="472f18"/>
                  </a:gs>
                </a:gsLst>
                <a:lin ang="0"/>
              </a:gradFill>
              <a:ln cap="sq" w="1260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Oval 51"/>
              <p:cNvSpPr/>
              <p:nvPr/>
            </p:nvSpPr>
            <p:spPr>
              <a:xfrm rot="16200000">
                <a:off x="0" y="637560"/>
                <a:ext cx="88920" cy="88920"/>
              </a:xfrm>
              <a:prstGeom prst="ellipse">
                <a:avLst/>
              </a:prstGeom>
              <a:gradFill rotWithShape="0">
                <a:gsLst>
                  <a:gs pos="0">
                    <a:srgbClr val="472f18"/>
                  </a:gs>
                  <a:gs pos="50000">
                    <a:srgbClr val="996633"/>
                  </a:gs>
                  <a:gs pos="100000">
                    <a:srgbClr val="472f18"/>
                  </a:gs>
                </a:gsLst>
                <a:lin ang="0"/>
              </a:gradFill>
              <a:ln cap="sq" w="1260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7" name="Rectangle 52"/>
            <p:cNvSpPr/>
            <p:nvPr/>
          </p:nvSpPr>
          <p:spPr>
            <a:xfrm rot="16200000">
              <a:off x="-254520" y="200160"/>
              <a:ext cx="598320" cy="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advTm="10000">
    <p:cover dir="u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autoRev="1" nodeType="afterEffect" fill="hold" presetClass="path" presetID="63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2.96296E-006 L 0.99514 -2.96296E-006 E">
                                      <p:cBhvr>
                                        <p:cTn id="122" dur="5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3" nodeType="with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autoRev="1" nodeType="afterEffect" fill="hold" presetClass="path" presetID="63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2.96296E-006 L 0.99514 -2.96296E-006 E">
                                      <p:cBhvr>
                                        <p:cTn id="134" dur="5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5" autoRev="1" nodeType="with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45" autoRev="1" nodeType="afterEffect" fill="hold" presetClass="path" presetID="63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2.96296E-006 L 0.99514 -2.96296E-006 E">
                                      <p:cBhvr>
                                        <p:cTn id="146" dur="1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7" autoRev="1" nodeType="with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5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AutoShape 6"/>
          <p:cNvSpPr/>
          <p:nvPr/>
        </p:nvSpPr>
        <p:spPr>
          <a:xfrm>
            <a:off x="1295280" y="2514600"/>
            <a:ext cx="914400" cy="91440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gradFill rotWithShape="0">
            <a:gsLst>
              <a:gs pos="0">
                <a:srgbClr val="3366cc"/>
              </a:gs>
              <a:gs pos="50000">
                <a:srgbClr val="bacbee"/>
              </a:gs>
              <a:gs pos="100000">
                <a:srgbClr val="3366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AutoShape 7">
            <a:hlinkClick r:id="" action="ppaction://hlinkshowjump?jump=nextslide"/>
          </p:cNvPr>
          <p:cNvSpPr/>
          <p:nvPr/>
        </p:nvSpPr>
        <p:spPr>
          <a:xfrm>
            <a:off x="1295280" y="4343400"/>
            <a:ext cx="914400" cy="91440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gradFill rotWithShape="0">
            <a:gsLst>
              <a:gs pos="0">
                <a:srgbClr val="3366cc"/>
              </a:gs>
              <a:gs pos="50000">
                <a:srgbClr val="bacbee"/>
              </a:gs>
              <a:gs pos="100000">
                <a:srgbClr val="3366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AutoShape 8"/>
          <p:cNvSpPr/>
          <p:nvPr/>
        </p:nvSpPr>
        <p:spPr>
          <a:xfrm>
            <a:off x="6781680" y="2514600"/>
            <a:ext cx="914400" cy="91440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1600">
                <a:moveTo>
                  <a:pt x="108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1600">
                <a:moveTo>
                  <a:pt x="8224" y="8224"/>
                </a:moveTo>
                <a:lnTo>
                  <a:pt x="12088" y="8224"/>
                </a:lnTo>
                <a:lnTo>
                  <a:pt x="12088" y="15221"/>
                </a:lnTo>
                <a:lnTo>
                  <a:pt x="13376" y="15221"/>
                </a:lnTo>
                <a:lnTo>
                  <a:pt x="13376" y="16144"/>
                </a:lnTo>
                <a:lnTo>
                  <a:pt x="8224" y="16144"/>
                </a:lnTo>
                <a:lnTo>
                  <a:pt x="8224" y="15221"/>
                </a:lnTo>
                <a:lnTo>
                  <a:pt x="9512" y="15221"/>
                </a:lnTo>
                <a:lnTo>
                  <a:pt x="9512" y="9129"/>
                </a:lnTo>
                <a:lnTo>
                  <a:pt x="8224" y="9129"/>
                </a:lnTo>
                <a:close/>
              </a:path>
            </a:pathLst>
          </a:custGeom>
          <a:gradFill rotWithShape="0">
            <a:gsLst>
              <a:gs pos="0">
                <a:srgbClr val="3366cc"/>
              </a:gs>
              <a:gs pos="50000">
                <a:srgbClr val="bacbee"/>
              </a:gs>
              <a:gs pos="100000">
                <a:srgbClr val="3366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AutoShape 9"/>
          <p:cNvSpPr/>
          <p:nvPr/>
        </p:nvSpPr>
        <p:spPr>
          <a:xfrm>
            <a:off x="3124080" y="2514600"/>
            <a:ext cx="914400" cy="91440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gradFill rotWithShape="0">
            <a:gsLst>
              <a:gs pos="0">
                <a:srgbClr val="3366cc"/>
              </a:gs>
              <a:gs pos="50000">
                <a:srgbClr val="bacbee"/>
              </a:gs>
              <a:gs pos="100000">
                <a:srgbClr val="3366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10"/>
          <p:cNvSpPr/>
          <p:nvPr/>
        </p:nvSpPr>
        <p:spPr>
          <a:xfrm>
            <a:off x="4952880" y="2514600"/>
            <a:ext cx="914400" cy="91440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gradFill rotWithShape="0">
            <a:gsLst>
              <a:gs pos="0">
                <a:srgbClr val="3366cc"/>
              </a:gs>
              <a:gs pos="50000">
                <a:srgbClr val="bacbee"/>
              </a:gs>
              <a:gs pos="100000">
                <a:srgbClr val="3366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AutoShape 11"/>
          <p:cNvSpPr/>
          <p:nvPr/>
        </p:nvSpPr>
        <p:spPr>
          <a:xfrm>
            <a:off x="3124080" y="4343400"/>
            <a:ext cx="914400" cy="91440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gradFill rotWithShape="0">
            <a:gsLst>
              <a:gs pos="0">
                <a:srgbClr val="3366cc"/>
              </a:gs>
              <a:gs pos="50000">
                <a:srgbClr val="bacbee"/>
              </a:gs>
              <a:gs pos="100000">
                <a:srgbClr val="3366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AutoShape 12"/>
          <p:cNvSpPr/>
          <p:nvPr/>
        </p:nvSpPr>
        <p:spPr>
          <a:xfrm>
            <a:off x="4952880" y="4343400"/>
            <a:ext cx="914400" cy="91440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3794" y="17806"/>
                </a:lnTo>
                <a:lnTo>
                  <a:pt x="3794" y="3794"/>
                </a:lnTo>
                <a:close/>
              </a:path>
              <a:path fill="darken" w="21600" h="21600">
                <a:moveTo>
                  <a:pt x="16144" y="3794"/>
                </a:moveTo>
                <a:lnTo>
                  <a:pt x="16144" y="17806"/>
                </a:lnTo>
                <a:lnTo>
                  <a:pt x="17806" y="17806"/>
                </a:lnTo>
                <a:lnTo>
                  <a:pt x="17806" y="3794"/>
                </a:lnTo>
                <a:close/>
              </a:path>
            </a:pathLst>
          </a:custGeom>
          <a:gradFill rotWithShape="0">
            <a:gsLst>
              <a:gs pos="0">
                <a:srgbClr val="3366cc"/>
              </a:gs>
              <a:gs pos="50000">
                <a:srgbClr val="bacbee"/>
              </a:gs>
              <a:gs pos="100000">
                <a:srgbClr val="3366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13"/>
          <p:cNvSpPr/>
          <p:nvPr/>
        </p:nvSpPr>
        <p:spPr>
          <a:xfrm>
            <a:off x="2209680" y="3429000"/>
            <a:ext cx="914400" cy="91440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gradFill rotWithShape="0">
            <a:gsLst>
              <a:gs pos="0">
                <a:srgbClr val="3366cc"/>
              </a:gs>
              <a:gs pos="50000">
                <a:srgbClr val="bacbee"/>
              </a:gs>
              <a:gs pos="100000">
                <a:srgbClr val="3366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AutoShape 14"/>
          <p:cNvSpPr/>
          <p:nvPr/>
        </p:nvSpPr>
        <p:spPr>
          <a:xfrm>
            <a:off x="4038480" y="3429000"/>
            <a:ext cx="914400" cy="91440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1600" h="21600">
                <a:moveTo>
                  <a:pt x="5273" y="3985"/>
                </a:moveTo>
                <a:lnTo>
                  <a:pt x="12271" y="3985"/>
                </a:lnTo>
                <a:lnTo>
                  <a:pt x="16327" y="7484"/>
                </a:lnTo>
                <a:lnTo>
                  <a:pt x="16327" y="17615"/>
                </a:lnTo>
                <a:lnTo>
                  <a:pt x="5273" y="17615"/>
                </a:lnTo>
                <a:close/>
              </a:path>
              <a:path fill="darken" w="21600" h="21600">
                <a:moveTo>
                  <a:pt x="12271" y="3985"/>
                </a:moveTo>
                <a:lnTo>
                  <a:pt x="16327" y="7484"/>
                </a:lnTo>
                <a:lnTo>
                  <a:pt x="12271" y="7484"/>
                </a:lnTo>
                <a:close/>
              </a:path>
            </a:pathLst>
          </a:custGeom>
          <a:gradFill rotWithShape="0">
            <a:gsLst>
              <a:gs pos="0">
                <a:srgbClr val="3366cc"/>
              </a:gs>
              <a:gs pos="50000">
                <a:srgbClr val="bacbee"/>
              </a:gs>
              <a:gs pos="100000">
                <a:srgbClr val="3366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AutoShape 15"/>
          <p:cNvSpPr/>
          <p:nvPr/>
        </p:nvSpPr>
        <p:spPr>
          <a:xfrm>
            <a:off x="5867280" y="3429000"/>
            <a:ext cx="914400" cy="91440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8406"/>
                </a:moveTo>
                <a:lnTo>
                  <a:pt x="8224" y="8406"/>
                </a:lnTo>
                <a:lnTo>
                  <a:pt x="12645" y="3794"/>
                </a:lnTo>
                <a:lnTo>
                  <a:pt x="12645" y="17806"/>
                </a:lnTo>
                <a:lnTo>
                  <a:pt x="8224" y="13194"/>
                </a:lnTo>
                <a:lnTo>
                  <a:pt x="3794" y="13194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17806" y="10800"/>
                </a:lnTo>
              </a:path>
              <a:path fill="darken" w="21600" h="21600">
                <a:moveTo>
                  <a:pt x="14299" y="8406"/>
                </a:moveTo>
                <a:lnTo>
                  <a:pt x="17806" y="5639"/>
                </a:lnTo>
              </a:path>
              <a:path fill="darken" w="21600" h="21600">
                <a:moveTo>
                  <a:pt x="14299" y="13194"/>
                </a:moveTo>
                <a:lnTo>
                  <a:pt x="17806" y="15961"/>
                </a:lnTo>
              </a:path>
            </a:pathLst>
          </a:custGeom>
          <a:gradFill rotWithShape="0">
            <a:gsLst>
              <a:gs pos="0">
                <a:srgbClr val="3366cc"/>
              </a:gs>
              <a:gs pos="50000">
                <a:srgbClr val="bacbee"/>
              </a:gs>
              <a:gs pos="100000">
                <a:srgbClr val="3366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AutoShape 16"/>
          <p:cNvSpPr/>
          <p:nvPr/>
        </p:nvSpPr>
        <p:spPr>
          <a:xfrm>
            <a:off x="6781680" y="4343400"/>
            <a:ext cx="914400" cy="91440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301"/>
                </a:moveTo>
                <a:lnTo>
                  <a:pt x="4707" y="7301"/>
                </a:lnTo>
                <a:lnTo>
                  <a:pt x="5090" y="7667"/>
                </a:lnTo>
                <a:lnTo>
                  <a:pt x="14299" y="7667"/>
                </a:lnTo>
                <a:lnTo>
                  <a:pt x="14856" y="8224"/>
                </a:lnTo>
                <a:lnTo>
                  <a:pt x="14856" y="8772"/>
                </a:lnTo>
                <a:lnTo>
                  <a:pt x="16701" y="8772"/>
                </a:lnTo>
                <a:lnTo>
                  <a:pt x="17067" y="8224"/>
                </a:lnTo>
                <a:lnTo>
                  <a:pt x="17806" y="8224"/>
                </a:lnTo>
                <a:lnTo>
                  <a:pt x="17806" y="13376"/>
                </a:lnTo>
                <a:lnTo>
                  <a:pt x="17067" y="13376"/>
                </a:lnTo>
                <a:lnTo>
                  <a:pt x="16701" y="12828"/>
                </a:lnTo>
                <a:lnTo>
                  <a:pt x="14856" y="12828"/>
                </a:lnTo>
                <a:lnTo>
                  <a:pt x="14856" y="14107"/>
                </a:lnTo>
                <a:lnTo>
                  <a:pt x="5273" y="14107"/>
                </a:lnTo>
                <a:lnTo>
                  <a:pt x="5273" y="9877"/>
                </a:lnTo>
                <a:lnTo>
                  <a:pt x="5090" y="9877"/>
                </a:lnTo>
                <a:lnTo>
                  <a:pt x="4707" y="10243"/>
                </a:lnTo>
                <a:lnTo>
                  <a:pt x="3794" y="10243"/>
                </a:lnTo>
                <a:close/>
              </a:path>
            </a:pathLst>
          </a:custGeom>
          <a:gradFill rotWithShape="0">
            <a:gsLst>
              <a:gs pos="0">
                <a:srgbClr val="3366cc"/>
              </a:gs>
              <a:gs pos="50000">
                <a:srgbClr val="bacbee"/>
              </a:gs>
              <a:gs pos="100000">
                <a:srgbClr val="3366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AutoShape 18"/>
          <p:cNvSpPr/>
          <p:nvPr/>
        </p:nvSpPr>
        <p:spPr>
          <a:xfrm>
            <a:off x="4038480" y="4343400"/>
            <a:ext cx="914400" cy="91440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66cc"/>
              </a:gs>
              <a:gs pos="50000">
                <a:srgbClr val="bacbee"/>
              </a:gs>
              <a:gs pos="100000">
                <a:srgbClr val="3366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AutoShape 57"/>
          <p:cNvSpPr/>
          <p:nvPr/>
        </p:nvSpPr>
        <p:spPr>
          <a:xfrm>
            <a:off x="5854680" y="4343400"/>
            <a:ext cx="914400" cy="91440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66cc"/>
              </a:gs>
              <a:gs pos="50000">
                <a:srgbClr val="bacbee"/>
              </a:gs>
              <a:gs pos="100000">
                <a:srgbClr val="3366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AutoShape 58"/>
          <p:cNvSpPr/>
          <p:nvPr/>
        </p:nvSpPr>
        <p:spPr>
          <a:xfrm>
            <a:off x="2222640" y="4343400"/>
            <a:ext cx="914400" cy="91440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66cc"/>
              </a:gs>
              <a:gs pos="50000">
                <a:srgbClr val="bacbee"/>
              </a:gs>
              <a:gs pos="100000">
                <a:srgbClr val="3366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AutoShape 59"/>
          <p:cNvSpPr/>
          <p:nvPr/>
        </p:nvSpPr>
        <p:spPr>
          <a:xfrm>
            <a:off x="3137040" y="3429000"/>
            <a:ext cx="914400" cy="91440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66cc"/>
              </a:gs>
              <a:gs pos="50000">
                <a:srgbClr val="bacbee"/>
              </a:gs>
              <a:gs pos="100000">
                <a:srgbClr val="3366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60"/>
          <p:cNvSpPr/>
          <p:nvPr/>
        </p:nvSpPr>
        <p:spPr>
          <a:xfrm>
            <a:off x="4952880" y="3429000"/>
            <a:ext cx="914400" cy="91440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66cc"/>
              </a:gs>
              <a:gs pos="50000">
                <a:srgbClr val="bacbee"/>
              </a:gs>
              <a:gs pos="100000">
                <a:srgbClr val="3366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AutoShape 61"/>
          <p:cNvSpPr/>
          <p:nvPr/>
        </p:nvSpPr>
        <p:spPr>
          <a:xfrm>
            <a:off x="6781680" y="3429000"/>
            <a:ext cx="914400" cy="91440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66cc"/>
              </a:gs>
              <a:gs pos="50000">
                <a:srgbClr val="bacbee"/>
              </a:gs>
              <a:gs pos="100000">
                <a:srgbClr val="3366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AutoShape 62"/>
          <p:cNvSpPr/>
          <p:nvPr/>
        </p:nvSpPr>
        <p:spPr>
          <a:xfrm>
            <a:off x="1295280" y="3429000"/>
            <a:ext cx="914400" cy="91440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66cc"/>
              </a:gs>
              <a:gs pos="50000">
                <a:srgbClr val="bacbee"/>
              </a:gs>
              <a:gs pos="100000">
                <a:srgbClr val="3366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AutoShape 63"/>
          <p:cNvSpPr/>
          <p:nvPr/>
        </p:nvSpPr>
        <p:spPr>
          <a:xfrm>
            <a:off x="4051440" y="2514600"/>
            <a:ext cx="914400" cy="91440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66cc"/>
              </a:gs>
              <a:gs pos="50000">
                <a:srgbClr val="bacbee"/>
              </a:gs>
              <a:gs pos="100000">
                <a:srgbClr val="3366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AutoShape 64"/>
          <p:cNvSpPr/>
          <p:nvPr/>
        </p:nvSpPr>
        <p:spPr>
          <a:xfrm>
            <a:off x="5867280" y="2514600"/>
            <a:ext cx="914400" cy="91440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66cc"/>
              </a:gs>
              <a:gs pos="50000">
                <a:srgbClr val="bacbee"/>
              </a:gs>
              <a:gs pos="100000">
                <a:srgbClr val="3366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AutoShape 65"/>
          <p:cNvSpPr/>
          <p:nvPr/>
        </p:nvSpPr>
        <p:spPr>
          <a:xfrm>
            <a:off x="2235240" y="2514600"/>
            <a:ext cx="914400" cy="91440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66cc"/>
              </a:gs>
              <a:gs pos="50000">
                <a:srgbClr val="bacbee"/>
              </a:gs>
              <a:gs pos="100000">
                <a:srgbClr val="3366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WordArt 66"/>
          <p:cNvSpPr txBox="1"/>
          <p:nvPr/>
        </p:nvSpPr>
        <p:spPr>
          <a:xfrm>
            <a:off x="1967040" y="2771640"/>
            <a:ext cx="5209920" cy="17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Arial Black"/>
              </a:rPr>
              <a:t>Buttons</a:t>
            </a:r>
            <a:endParaRPr b="0" lang="en-US" sz="9600" spc="1" strike="noStrike">
              <a:ln w="0">
                <a:noFill/>
              </a:ln>
              <a:solidFill>
                <a:srgbClr val="ffffff">
                  <a:alpha val="80000"/>
                </a:srgbClr>
              </a:solidFill>
              <a:latin typeface="Arial Black"/>
              <a:ea typeface="Arial Black"/>
            </a:endParaRPr>
          </a:p>
        </p:txBody>
      </p:sp>
    </p:spTree>
  </p:cSld>
  <p:transition advTm="10000">
    <p:cover dir="u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0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164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7" nodeType="afterEffect" fill="hold" presetClass="entr" presetID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17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17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3100"/>
                            </p:stCondLst>
                            <p:childTnLst>
                              <p:par>
                                <p:cTn id="17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3600"/>
                            </p:stCondLst>
                            <p:childTnLst>
                              <p:par>
                                <p:cTn id="179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2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4400"/>
                            </p:stCondLst>
                            <p:childTnLst>
                              <p:par>
                                <p:cTn id="185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4700"/>
                            </p:stCondLst>
                            <p:childTnLst>
                              <p:par>
                                <p:cTn id="188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49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5100"/>
                            </p:stCondLst>
                            <p:childTnLst>
                              <p:par>
                                <p:cTn id="194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5300"/>
                            </p:stCondLst>
                            <p:childTnLst>
                              <p:par>
                                <p:cTn id="197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00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5700"/>
                            </p:stCondLst>
                            <p:childTnLst>
                              <p:par>
                                <p:cTn id="203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5900"/>
                            </p:stCondLst>
                            <p:childTnLst>
                              <p:par>
                                <p:cTn id="206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6100"/>
                            </p:stCondLst>
                            <p:childTnLst>
                              <p:par>
                                <p:cTn id="209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6200"/>
                            </p:stCondLst>
                            <p:childTnLst>
                              <p:par>
                                <p:cTn id="212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6300"/>
                            </p:stCondLst>
                            <p:childTnLst>
                              <p:par>
                                <p:cTn id="215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6400"/>
                            </p:stCondLst>
                            <p:childTnLst>
                              <p:par>
                                <p:cTn id="218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oup 9"/>
          <p:cNvGrpSpPr/>
          <p:nvPr/>
        </p:nvGrpSpPr>
        <p:grpSpPr>
          <a:xfrm>
            <a:off x="-3933720" y="2514600"/>
            <a:ext cx="7819920" cy="1828800"/>
            <a:chOff x="-3933720" y="2514600"/>
            <a:chExt cx="7819920" cy="1828800"/>
          </a:xfrm>
        </p:grpSpPr>
        <p:sp>
          <p:nvSpPr>
            <p:cNvPr id="141" name="WordArt 4"/>
            <p:cNvSpPr txBox="1"/>
            <p:nvPr/>
          </p:nvSpPr>
          <p:spPr>
            <a:xfrm>
              <a:off x="-3933720" y="2567160"/>
              <a:ext cx="3857400" cy="1723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6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Crash</a:t>
              </a:r>
              <a:endParaRPr b="0" lang="en-US" sz="96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42" name="Rectangle 5"/>
            <p:cNvSpPr/>
            <p:nvPr/>
          </p:nvSpPr>
          <p:spPr>
            <a:xfrm>
              <a:off x="-76320" y="2514600"/>
              <a:ext cx="3962520" cy="18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advTm="3000">
    <p:cover dir="u"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0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0 L 1.0026 0 E">
                                      <p:cBhvr>
                                        <p:cTn id="232" dur="1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3" autoRev="1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900000">
                                      <p:cBhvr>
                                        <p:cTn id="23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AutoShape 2"/>
          <p:cNvSpPr/>
          <p:nvPr/>
        </p:nvSpPr>
        <p:spPr>
          <a:xfrm>
            <a:off x="558720" y="876240"/>
            <a:ext cx="8039160" cy="598176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AutoShape 3"/>
          <p:cNvSpPr/>
          <p:nvPr/>
        </p:nvSpPr>
        <p:spPr>
          <a:xfrm>
            <a:off x="1434960" y="876240"/>
            <a:ext cx="6286680" cy="598176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WordArt 5"/>
          <p:cNvSpPr txBox="1"/>
          <p:nvPr/>
        </p:nvSpPr>
        <p:spPr>
          <a:xfrm>
            <a:off x="2305080" y="6858000"/>
            <a:ext cx="4533840" cy="17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rive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46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0">
    <p:cover dir="u"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0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44444E-006 L 0 -0.99814 E">
                                      <p:cBhvr>
                                        <p:cTn id="243" dur="8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5" dur="8000" fill="hold"/>
                                        <p:tgtEl>
                                          <p:spTgt spid="145"/>
                                        </p:tgtEl>
                                      </p:cBhvr>
                                      <p:to x="-0" y="-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8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9T20:15:36Z</dcterms:created>
  <dc:creator/>
  <dc:description/>
  <dc:language>en-US</dc:language>
  <cp:lastModifiedBy/>
  <dcterms:modified xsi:type="dcterms:W3CDTF">2016-02-19T03:57:03Z</dcterms:modified>
  <cp:revision>57</cp:revision>
  <dc:subject/>
  <dc:title>Slide 1</dc:title>
</cp:coreProperties>
</file>